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E54D-3672-4174-86D5-F432F05C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65534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09680" y="3904920"/>
            <a:ext cx="65534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8DB9-3FC9-424E-923D-2EB0E067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67760" y="167616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09680" y="390492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67760" y="390492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507C-DF10-487E-B457-E43E9A1F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210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25480" y="1676160"/>
            <a:ext cx="210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41280" y="1676160"/>
            <a:ext cx="210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09680" y="3904920"/>
            <a:ext cx="210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25480" y="3904920"/>
            <a:ext cx="210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41280" y="3904920"/>
            <a:ext cx="210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8619-1D1A-4F10-AA0D-6D7CCAE2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08EE-BBC2-45EA-81DD-E37E566E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09680" y="16761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3C78-816F-4AB4-B5E5-EEA68547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E71F-FC6A-4F24-87E8-FC7E68C6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3197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567760" y="1676160"/>
            <a:ext cx="3197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7E93-25F6-4AEE-87F7-25C6AC2C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8C05-FFFF-4950-A161-643CEB7B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09680" y="533160"/>
            <a:ext cx="65534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480E-DF3D-4908-BDBD-3C66C0A9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67760" y="1676160"/>
            <a:ext cx="3197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09680" y="390492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CBAF-3E1E-49C5-B290-CDFF40D2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09680" y="16761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59C2-8120-4F4F-8865-6F279024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3197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67760" y="167616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67760" y="390492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733E-C408-40F0-B18D-C54795F2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67760" y="167616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09680" y="3904920"/>
            <a:ext cx="65534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4CC8-8269-4E6F-A91C-D58AE016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65534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09680" y="3904920"/>
            <a:ext cx="65534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8B31-DE55-4FDA-A32D-65760C33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67760" y="167616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09680" y="390492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567760" y="390492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8297-0F5B-4E0B-AB97-514FADA3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210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25480" y="1676160"/>
            <a:ext cx="210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41280" y="1676160"/>
            <a:ext cx="210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09680" y="3904920"/>
            <a:ext cx="210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425480" y="3904920"/>
            <a:ext cx="210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41280" y="3904920"/>
            <a:ext cx="210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194F-C6EB-41C9-BA21-6F019BF3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17A6-7EC2-45C5-A19E-CF0A4308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3197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67760" y="1676160"/>
            <a:ext cx="3197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29A6-B574-481B-98F3-C77C1DF1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7D0F-BB18-48A2-9D43-1100DD07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09680" y="533160"/>
            <a:ext cx="65534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64F9-DEE1-41BD-8A1A-D21C055E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67760" y="1676160"/>
            <a:ext cx="3197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09680" y="390492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F6B2-14C3-4607-A236-EF4E3E30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3197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67760" y="167616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67760" y="390492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5D04-63C5-4F0D-9C85-DB816799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67760" y="1676160"/>
            <a:ext cx="319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09680" y="3904920"/>
            <a:ext cx="65534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DAFA-3A9B-4864-9B10-63F65403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01800"/>
                </a:solidFill>
                <a:latin typeface="宋体"/>
              </a:rPr>
              <a:t>Click to edit the title text format</a:t>
            </a: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09680" y="16761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09680" y="6248520"/>
            <a:ext cx="1828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90760" y="6248520"/>
            <a:ext cx="3429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400" y="6248520"/>
            <a:ext cx="990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A91F-0B38-42FC-B739-066A4653D544}" type="slidenum">
              <a:rPr b="0" lang="zh-CN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5" descr="your logo here"/>
          <p:cNvPicPr/>
          <p:nvPr/>
        </p:nvPicPr>
        <p:blipFill>
          <a:blip r:embed="rId3"/>
          <a:stretch/>
        </p:blipFill>
        <p:spPr>
          <a:xfrm>
            <a:off x="762120" y="6172200"/>
            <a:ext cx="857160" cy="4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7" descr="your logo here"/>
          <p:cNvPicPr/>
          <p:nvPr/>
        </p:nvPicPr>
        <p:blipFill>
          <a:blip r:embed="rId3"/>
          <a:stretch/>
        </p:blipFill>
        <p:spPr>
          <a:xfrm>
            <a:off x="762120" y="6172200"/>
            <a:ext cx="857160" cy="428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01800"/>
                </a:solidFill>
                <a:latin typeface="宋体"/>
              </a:rPr>
              <a:t>Click to edit the title text format</a:t>
            </a: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09680" y="16761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Century Gothic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09680" y="6248520"/>
            <a:ext cx="1828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190760" y="6248520"/>
            <a:ext cx="3429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772400" y="6248520"/>
            <a:ext cx="990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6580-ABBA-48D4-B528-93F2F01DDE58}" type="slidenum">
              <a:rPr b="0" lang="zh-CN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560" y="685800"/>
            <a:ext cx="7643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01800"/>
                </a:solidFill>
                <a:latin typeface="宋体"/>
              </a:rPr>
              <a:t>产品概述商务</a:t>
            </a:r>
            <a:r>
              <a:rPr b="1" lang="en-US" sz="4000" spc="-1" strike="noStrike">
                <a:solidFill>
                  <a:srgbClr val="301800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301800"/>
                </a:solidFill>
                <a:latin typeface="宋体"/>
              </a:rPr>
              <a:t>模板完整版下载</a:t>
            </a:r>
            <a:endParaRPr b="1" lang="en-US" sz="4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2438280" y="2286000"/>
            <a:ext cx="4953240" cy="3301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3543480" y="4343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此处插入产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照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01800"/>
                </a:solidFill>
                <a:latin typeface="宋体"/>
              </a:rPr>
              <a:t>概述</a:t>
            </a: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简要描述产品或服务、产品或服务解决的用户问题以及产品或服务面向的用户。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概述可用的不同模型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01800"/>
                </a:solidFill>
                <a:latin typeface="宋体"/>
              </a:rPr>
              <a:t>功能与好处</a:t>
            </a: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使用多张幻灯片概述产品功能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按逻辑分类对功能进行分组（每个类别使用一张幻灯片）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确保陈述每个功能的用户好处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如果合适，每个模型使用一张幻灯片 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01800"/>
                </a:solidFill>
                <a:latin typeface="宋体"/>
              </a:rPr>
              <a:t>应用</a:t>
            </a: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介绍不同的组如何使用产品或服务，并在可能的情况下提供真实的用户示例 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01800"/>
                </a:solidFill>
                <a:latin typeface="宋体"/>
              </a:rPr>
              <a:t>规范</a:t>
            </a: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对于产品，根据需要使用多张幻灯片提供相关的技术规范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对于服务，详细描述提供服务所依据的条款和条件 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01800"/>
                </a:solidFill>
                <a:latin typeface="宋体"/>
              </a:rPr>
              <a:t>定价</a:t>
            </a: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详细描述可用的产品型号并列出每个型号的特定价格和其他选项 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01800"/>
                </a:solidFill>
                <a:latin typeface="宋体"/>
              </a:rPr>
              <a:t>可用性</a:t>
            </a:r>
            <a:endParaRPr b="1" lang="en-US" sz="3000" spc="-1" strike="noStrike">
              <a:solidFill>
                <a:srgbClr val="301800"/>
              </a:solidFill>
              <a:latin typeface="宋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09680" y="16761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列出可用日期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描述购买产品的位置或下订单的位置 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0:26:29Z</dcterms:created>
  <dc:creator>ppt宝藏</dc:creator>
  <dc:description/>
  <dc:language>en-US</dc:language>
  <cp:lastModifiedBy>a</cp:lastModifiedBy>
  <dcterms:modified xsi:type="dcterms:W3CDTF">2015-07-25T06:42:04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502052</vt:lpwstr>
  </property>
</Properties>
</file>