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CD86-9DC9-4816-8D47-B47553DB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F1FE-1F89-4CCD-A1D2-5CB165C7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EC98-9D80-4A04-8471-4E6C5E42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9B80-315E-4AA2-840B-A38DFA796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C58-6705-4FE4-84A1-073F329E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7BBD-7F00-417B-BED6-0B560007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F80F-FEDC-426D-98BE-00ACC4AA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8258-B493-497F-B2BF-829F0C1C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B095-BEF5-478D-B4C4-74EA01FC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EF88-EEB3-498B-9700-E2131A47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FA30-7A05-4887-987E-8CE46050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4598-9169-4318-AB67-397E123D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830E-DEA7-48E0-9FE8-702B8B4FF00A}" type="slidenum">
              <a:rPr b="0" lang="fr-FR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425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橙色淡雅风格商务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4720" y="2349000"/>
            <a:ext cx="4968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宋体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5120" y="615600"/>
            <a:ext cx="7005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Arial"/>
                <a:ea typeface="宋体"/>
              </a:rPr>
              <a:t>Slide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2707920"/>
            <a:ext cx="71391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4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643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4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643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  <a:ea typeface="宋体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4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643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4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643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4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643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560" y="5876640"/>
            <a:ext cx="9109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© 2007 Your compan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3:35:09Z</dcterms:created>
  <dc:creator>ppt宝藏</dc:creator>
  <dc:description/>
  <dc:language>en-US</dc:language>
  <cp:lastModifiedBy>a</cp:lastModifiedBy>
  <dcterms:modified xsi:type="dcterms:W3CDTF">2015-07-25T06:58:47Z</dcterms:modified>
  <cp:revision>8</cp:revision>
  <dc:subject/>
  <dc:title>www.pptbz.com</dc:title>
</cp:coreProperties>
</file>