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E26-A3C7-4522-BF56-E447093F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F89-02F9-4DA8-8465-4920886E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95B-EE36-4248-A204-BBB7E501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F45-3C5D-4F54-8108-45C3AF80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9536-37EF-443D-9549-A7EF4484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BFC1-54D4-4979-BFA1-8EDB1738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63C8-30F3-454E-8CB1-9B4FB214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AD4F-CF6E-4361-A2C7-958C6868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9AC7-6B20-4A8D-AB4E-5B0F5F7A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0BB9-29D7-48D8-96D1-ECEAE871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56A9-93E2-4A58-8979-52353224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2A1-30E6-45EA-80BA-08F2568C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8EBA-9A94-46A1-A6F4-371713D9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AEE1-F2E6-4263-82ED-B509756B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A19C-9E75-4607-B254-37ED191A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629B-A37D-4375-9DB1-C6076BD6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0DCA-8A25-4EDB-A60D-CE094EF4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2C2-3114-4F2F-9A80-7C3B555F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D40-A4DB-44DA-BE8A-038A351A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F30-15C0-408A-BED2-0C8C25CD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669-8B8D-44F0-AED0-9E0C8E82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9DD-1E80-4A5C-A33A-1D913FC6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443-5A73-4933-9EE1-6C780E24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86B-E6D1-498B-B0A0-428BC08D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728C3B-163D-4F26-8163-398B270550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61B4B5-CF41-4A6F-85F8-0FCBDD27F9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0" y="4365720"/>
            <a:ext cx="6192360" cy="1221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ame of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5113440" y="4869000"/>
            <a:ext cx="38509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5 Compan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2353320" y="98064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打电话紫色地球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7080" y="907920"/>
            <a:ext cx="338256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onten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611280" y="2349360"/>
            <a:ext cx="756108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80000"/>
              </a:lnSpc>
              <a:spcBef>
                <a:spcPts val="2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la-VA" sz="1800" spc="-1" strike="noStrike">
                <a:solidFill>
                  <a:srgbClr val="ffffff"/>
                </a:solidFill>
                <a:latin typeface="Verdana"/>
                <a:ea typeface="굴림"/>
              </a:rPr>
              <a:t>Your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la-VA" sz="1800" spc="-1" strike="noStrike">
                <a:solidFill>
                  <a:srgbClr val="ffffff"/>
                </a:solidFill>
                <a:latin typeface="Verdana"/>
                <a:ea typeface="굴림"/>
              </a:rPr>
              <a:t>Lorem ipsum dolor sit amet, consectet adipiscing elit, sed diam nonummy nibh euismod tincidunt ut laoreet dolore aliquam erat volutp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la-VA" sz="1800" spc="-1" strike="noStrike">
                <a:solidFill>
                  <a:srgbClr val="ffffff"/>
                </a:solidFill>
                <a:latin typeface="Verdana"/>
                <a:ea typeface="굴림"/>
              </a:rPr>
              <a:t>Lorem ipsum dolor sit amet, consetetur sadipscing elitr, sed diam nonumy eirmod tempor invidunt ut labore et dolore magna aliquyam erat, sed diam voluptu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la-VA" sz="1800" spc="-1" strike="noStrike">
                <a:solidFill>
                  <a:srgbClr val="ffffff"/>
                </a:solidFill>
                <a:latin typeface="Verdana"/>
                <a:ea typeface="굴림"/>
              </a:rPr>
              <a:t>Lorem ipsum dolor sit amet, consetetur sadipscing elitr, sed diam nonumy eirmod tempor invidunt ut labore et dolo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la-VA" sz="1800" spc="-1" strike="noStrike">
                <a:solidFill>
                  <a:srgbClr val="ffffff"/>
                </a:solidFill>
                <a:latin typeface="Verdana"/>
                <a:ea typeface="굴림"/>
              </a:rPr>
              <a:t>Lorem ipsum dolor sit amet, consetetur sadipscing elitr, sed diam nonumy eirmod tempor invidunt ut labore et dolore magna aliquyam erat, sed diam voluptu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resentation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esentation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esentation</Template>
  <TotalTime>2</TotalTime>
  <Application>LibreOffice/7.4.7.2$Linux_X86_64 LibreOffice_project/40$Build-2</Application>
  <AppVersion>15.0000</AppVersion>
  <Words>123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7:21:21Z</dcterms:created>
  <dc:creator>for_yang@qq.com</dc:creator>
  <dc:description/>
  <dc:language>en-US</dc:language>
  <cp:lastModifiedBy>a</cp:lastModifiedBy>
  <dcterms:modified xsi:type="dcterms:W3CDTF">2015-07-25T07:51:08Z</dcterms:modified>
  <cp:revision>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