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C524A-25B8-475D-8686-76BF022D0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693DC-9F57-48DC-9AFF-165F19200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6A901-ED68-47B7-BA8F-FEF031412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B435B-3CD8-4F15-A5ED-686305B88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4EDAB-E1FB-41B2-855B-F6DAF8B10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BA55D-0CCA-43F8-925D-337C60E93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AC3DE-7D1A-444A-8AFF-C69226201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13210-CB48-4473-8441-F8AE84887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0139F-8566-4C16-A861-A0E8846FD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FBFD2-2223-450D-AAF4-2C23EF23D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076C1-7EDF-41C8-9EB8-7F00D65FF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71381-6959-4F57-B4AD-2321185E7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FE048-7272-475F-9041-F330F4947055}" type="slidenum">
              <a:rPr b="0" lang="fr-CA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00000" y="687240"/>
            <a:ext cx="7391520" cy="101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215968"/>
                </a:solidFill>
                <a:latin typeface="时尚中黑简体"/>
                <a:ea typeface="时尚中黑简体"/>
              </a:rPr>
              <a:t>递进关系台阶金融</a:t>
            </a:r>
            <a:r>
              <a:rPr b="0" lang="en-US" sz="4000" spc="-1" strike="noStrike">
                <a:solidFill>
                  <a:srgbClr val="215968"/>
                </a:solidFill>
                <a:latin typeface="时尚中黑简体"/>
                <a:ea typeface="时尚中黑简体"/>
              </a:rPr>
              <a:t>PPT</a:t>
            </a:r>
            <a:r>
              <a:rPr b="0" lang="zh-CN" sz="4000" spc="-1" strike="noStrike">
                <a:solidFill>
                  <a:srgbClr val="215968"/>
                </a:solidFill>
                <a:latin typeface="时尚中黑简体"/>
                <a:ea typeface="时尚中黑简体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340000" y="1699920"/>
            <a:ext cx="457200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53735"/>
              </a:solidFill>
              <a:latin typeface="微软雅黑"/>
              <a:ea typeface="微软雅黑"/>
            </a:endParaRPr>
          </a:p>
        </p:txBody>
      </p:sp>
      <p:sp>
        <p:nvSpPr>
          <p:cNvPr id="43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071440" y="27432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404040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2071440" y="1600200"/>
            <a:ext cx="6615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404040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404040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矩形 3"/>
          <p:cNvSpPr/>
          <p:nvPr/>
        </p:nvSpPr>
        <p:spPr>
          <a:xfrm>
            <a:off x="4680" y="115920"/>
            <a:ext cx="8636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jiaoan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n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262626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89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404040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832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404040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404040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404040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5T16:02:59Z</dcterms:created>
  <dc:creator>第一PPT模板网-WWW.1PPT.COM</dc:creator>
  <dc:description>第一PPT模板网-WWW.1PPT.COM</dc:description>
  <cp:keywords>第一PPT模板网-WWW.1PPT.COM</cp:keywords>
  <dc:language>en-US</dc:language>
  <cp:lastModifiedBy>王玉清</cp:lastModifiedBy>
  <dcterms:modified xsi:type="dcterms:W3CDTF">2016-02-15T04:58:04Z</dcterms:modified>
  <cp:revision>19</cp:revision>
  <dc:subject/>
  <dc:title>第一PPT模板网-WWW.1PPT.COM</dc:title>
</cp:coreProperties>
</file>