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6C6-CD52-4696-B4ED-93AACA31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440-7D58-4428-BD96-326456EA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643-E989-47E6-A289-97398BB6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D63-4B7F-41CA-9B63-526E9F2F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5C21-AB27-4C8F-8F03-1067CF06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3035-C191-42A2-8C4A-66642BDD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2A96-A28D-4052-B65F-F4F80921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DFF3-95D4-41EF-951F-2F9BB8E8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B191-761C-4943-A571-E661E312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1084-9792-40DF-B160-03E59366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592B-6BC0-4CF3-B147-7F4972C3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CCC-211F-45E3-A013-6A27233C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3D46-7020-4676-B0D9-E4B4430B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15AE-E661-4E1C-AFD6-29425EE0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3EC6-80BE-4BE9-926B-31AEE83E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DF4F-08F9-4DEB-8C02-E0AC1674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2597-E907-4E51-BAEA-19DF0FBD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AFCF-948B-4FD7-AAD0-46CDB7B2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C6F7-4D2A-4894-AD33-A896F8BA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8F47-49E7-49D2-856C-21E2229E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3A20B-D7CD-4C53-BF32-78605905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B8392-CD19-4C8E-BE23-FA0683C2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2AE-9C61-4BB7-8168-9B74B44B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20273-3E1E-4D7F-9A02-DC3D922C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8EDF4-2ED6-44F1-B468-3435C22B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75FD-0423-439D-8A86-C221B42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7004-C1E2-43E4-B7C2-2B58561F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DE6D-AD3C-417B-B83B-1F8FD9C7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0B5A-731D-43EE-B1FE-C233AB55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9FF8-BE25-4BF8-A37E-5A41E7CA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F6A-8E4E-4048-BFA2-E47F30CF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D8D-5B60-4E00-A0A4-FA5D21FB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7D6-F952-443E-945D-BEA3106D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D76-8241-40AF-8629-200254B8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7B2-4608-42B1-A651-AEDEDB0A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D19-F82B-405F-9792-137C8D5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8218F6-2A57-4B66-A3D1-199DC54F6C82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90ADC6-EFEE-4784-9166-1F0A7930C8F6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255240"/>
          </a:xfrm>
          <a:prstGeom prst="rect">
            <a:avLst/>
          </a:prstGeom>
          <a:ln w="0">
            <a:noFill/>
          </a:ln>
        </p:spPr>
      </p:pic>
      <p:sp>
        <p:nvSpPr>
          <p:cNvPr id="45" name="圆角矩形 6"/>
          <p:cNvSpPr/>
          <p:nvPr/>
        </p:nvSpPr>
        <p:spPr>
          <a:xfrm>
            <a:off x="467640" y="915480"/>
            <a:ext cx="8280720" cy="4032000"/>
          </a:xfrm>
          <a:prstGeom prst="roundRect">
            <a:avLst>
              <a:gd name="adj" fmla="val 2090"/>
            </a:avLst>
          </a:prstGeom>
          <a:pattFill prst="openDmnd">
            <a:fgClr>
              <a:srgbClr val="00b050"/>
            </a:fgClr>
            <a:bgClr>
              <a:srgbClr val="ffffff"/>
            </a:bgClr>
          </a:pattFill>
          <a:ln w="762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6" name="圆角矩形 7"/>
          <p:cNvSpPr/>
          <p:nvPr/>
        </p:nvSpPr>
        <p:spPr>
          <a:xfrm>
            <a:off x="615600" y="1023840"/>
            <a:ext cx="7984080" cy="3815640"/>
          </a:xfrm>
          <a:prstGeom prst="roundRect">
            <a:avLst>
              <a:gd name="adj" fmla="val 2090"/>
            </a:avLst>
          </a:prstGeom>
          <a:solidFill>
            <a:schemeClr val="bg1"/>
          </a:solidFill>
          <a:ln w="762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899640" y="555480"/>
            <a:ext cx="2952000" cy="50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B3941E-D286-4A09-82A6-658662A0A6C5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255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280" cy="51429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4860000" y="394920"/>
            <a:ext cx="403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ffffff"/>
                </a:solidFill>
                <a:latin typeface="Impact"/>
                <a:ea typeface="微软雅黑"/>
              </a:rPr>
              <a:t>儿童经济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10"/>
          <p:cNvSpPr/>
          <p:nvPr/>
        </p:nvSpPr>
        <p:spPr>
          <a:xfrm>
            <a:off x="4932000" y="1405080"/>
            <a:ext cx="3960000" cy="3693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Impact"/>
                <a:ea typeface="微软雅黑"/>
              </a:rPr>
              <a:t>跟喜羊羊与灰太狼一起学习学经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1930680" y="180468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Impact"/>
                <a:ea typeface="微软雅黑"/>
              </a:rPr>
              <a:t>儿童经济学金融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Impact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460800" y="48049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1043640" y="1491480"/>
            <a:ext cx="2625480" cy="3050280"/>
          </a:xfrm>
          <a:prstGeom prst="rect">
            <a:avLst/>
          </a:prstGeom>
          <a:ln w="0">
            <a:noFill/>
          </a:ln>
        </p:spPr>
      </p:pic>
      <p:sp>
        <p:nvSpPr>
          <p:cNvPr id="172" name="矩形 11"/>
          <p:cNvSpPr/>
          <p:nvPr/>
        </p:nvSpPr>
        <p:spPr>
          <a:xfrm>
            <a:off x="1447560" y="627480"/>
            <a:ext cx="1704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b050"/>
                </a:solidFill>
                <a:latin typeface="Impact"/>
                <a:ea typeface="微软雅黑"/>
              </a:rPr>
              <a:t>沃伦</a:t>
            </a:r>
            <a:r>
              <a:rPr b="1" lang="en-US" sz="2800" spc="-1" strike="noStrike">
                <a:solidFill>
                  <a:srgbClr val="00b050"/>
                </a:solidFill>
                <a:latin typeface="Impact"/>
                <a:ea typeface="微软雅黑"/>
              </a:rPr>
              <a:t>·  </a:t>
            </a:r>
            <a:r>
              <a:rPr b="1" lang="zh-CN" sz="2800" spc="-1" strike="noStrike">
                <a:solidFill>
                  <a:srgbClr val="00b050"/>
                </a:solidFill>
                <a:latin typeface="Impact"/>
                <a:ea typeface="微软雅黑"/>
              </a:rPr>
              <a:t>巴菲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3" descr=""/>
          <p:cNvPicPr/>
          <p:nvPr/>
        </p:nvPicPr>
        <p:blipFill>
          <a:blip r:embed="rId2"/>
          <a:stretch/>
        </p:blipFill>
        <p:spPr>
          <a:xfrm>
            <a:off x="8028360" y="3723840"/>
            <a:ext cx="994680" cy="12157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4"/>
          <p:cNvSpPr/>
          <p:nvPr/>
        </p:nvSpPr>
        <p:spPr>
          <a:xfrm>
            <a:off x="4130640" y="1309320"/>
            <a:ext cx="43948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Impact"/>
                <a:ea typeface="微软雅黑"/>
              </a:rPr>
              <a:t>全球著名的投资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404040"/>
                </a:solidFill>
                <a:latin typeface="Impact"/>
                <a:ea typeface="微软雅黑"/>
              </a:rPr>
              <a:t>年其财富位居世界第三 净资产</a:t>
            </a:r>
            <a:r>
              <a:rPr b="0" lang="en-US" sz="1600" spc="-1" strike="noStrike">
                <a:solidFill>
                  <a:srgbClr val="404040"/>
                </a:solidFill>
                <a:latin typeface="Impact"/>
                <a:ea typeface="微软雅黑"/>
              </a:rPr>
              <a:t>500</a:t>
            </a:r>
            <a:r>
              <a:rPr b="0" lang="zh-CN" sz="1600" spc="-1" strike="noStrike">
                <a:solidFill>
                  <a:srgbClr val="404040"/>
                </a:solidFill>
                <a:latin typeface="Impact"/>
                <a:ea typeface="微软雅黑"/>
              </a:rPr>
              <a:t>亿美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标注 16"/>
          <p:cNvSpPr/>
          <p:nvPr/>
        </p:nvSpPr>
        <p:spPr>
          <a:xfrm>
            <a:off x="4130640" y="2715840"/>
            <a:ext cx="4027320" cy="638640"/>
          </a:xfrm>
          <a:prstGeom prst="wedgeRoundRectCallout">
            <a:avLst>
              <a:gd name="adj1" fmla="val -83810"/>
              <a:gd name="adj2" fmla="val -60322"/>
              <a:gd name="adj3" fmla="val 16667"/>
            </a:avLst>
          </a:prstGeom>
          <a:noFill/>
          <a:ln w="0">
            <a:solidFill>
              <a:srgbClr val="000000">
                <a:lumMod val="50000"/>
                <a:lumOff val="50000"/>
              </a:srgbClr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我想给子女的，是足以让他们能够一展抱负，而不是多到让他们最后一事无成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2"/>
          <p:cNvSpPr/>
          <p:nvPr/>
        </p:nvSpPr>
        <p:spPr>
          <a:xfrm>
            <a:off x="676800" y="4371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1"/>
          <p:cNvSpPr/>
          <p:nvPr/>
        </p:nvSpPr>
        <p:spPr>
          <a:xfrm>
            <a:off x="5004000" y="2067840"/>
            <a:ext cx="4139640" cy="3075480"/>
          </a:xfrm>
          <a:prstGeom prst="rect">
            <a:avLst/>
          </a:prstGeom>
          <a:solidFill>
            <a:srgbClr val="ffffff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5034960" y="2143800"/>
            <a:ext cx="4108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200" spc="-1" strike="noStrike">
                <a:solidFill>
                  <a:srgbClr val="00b050"/>
                </a:solidFill>
                <a:latin typeface="Impact"/>
                <a:ea typeface="微软雅黑"/>
              </a:rPr>
              <a:t>羊村要组织春游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5167800" y="2973960"/>
            <a:ext cx="3868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zh-CN" sz="2400" spc="-1" strike="noStrike">
                <a:solidFill>
                  <a:srgbClr val="595959"/>
                </a:solidFill>
                <a:latin typeface="Impact"/>
                <a:ea typeface="微软雅黑"/>
              </a:rPr>
              <a:t>我们赶快想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</a:pPr>
            <a:r>
              <a:rPr b="1" lang="zh-CN" sz="2400" spc="-1" strike="noStrike">
                <a:solidFill>
                  <a:srgbClr val="595959"/>
                </a:solidFill>
                <a:latin typeface="Impact"/>
                <a:ea typeface="微软雅黑"/>
              </a:rPr>
              <a:t>要准备哪些东西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1"/>
          <p:cNvSpPr/>
          <p:nvPr/>
        </p:nvSpPr>
        <p:spPr>
          <a:xfrm>
            <a:off x="467640" y="627480"/>
            <a:ext cx="8280720" cy="4320000"/>
          </a:xfrm>
          <a:prstGeom prst="roundRect">
            <a:avLst>
              <a:gd name="adj" fmla="val 2090"/>
            </a:avLst>
          </a:prstGeom>
          <a:pattFill prst="openDmnd">
            <a:fgClr>
              <a:srgbClr val="00b050"/>
            </a:fgClr>
            <a:bgClr>
              <a:srgbClr val="ffffff"/>
            </a:bgClr>
          </a:pattFill>
          <a:ln w="762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81" name="圆角矩形 2"/>
          <p:cNvSpPr/>
          <p:nvPr/>
        </p:nvSpPr>
        <p:spPr>
          <a:xfrm>
            <a:off x="615600" y="751320"/>
            <a:ext cx="7984080" cy="4088160"/>
          </a:xfrm>
          <a:prstGeom prst="roundRect">
            <a:avLst>
              <a:gd name="adj" fmla="val 2090"/>
            </a:avLst>
          </a:prstGeom>
          <a:blipFill rotWithShape="0">
            <a:blip r:embed="rId1"/>
            <a:srcRect/>
            <a:stretch/>
          </a:blipFill>
          <a:ln w="762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pic>
        <p:nvPicPr>
          <p:cNvPr id="182" name="图片 4" descr=""/>
          <p:cNvPicPr/>
          <p:nvPr/>
        </p:nvPicPr>
        <p:blipFill>
          <a:blip r:embed="rId2"/>
          <a:stretch/>
        </p:blipFill>
        <p:spPr>
          <a:xfrm>
            <a:off x="-41040" y="231120"/>
            <a:ext cx="2808000" cy="1790640"/>
          </a:xfrm>
          <a:prstGeom prst="rect">
            <a:avLst/>
          </a:prstGeom>
          <a:ln w="0">
            <a:noFill/>
          </a:ln>
        </p:spPr>
      </p:pic>
      <p:sp>
        <p:nvSpPr>
          <p:cNvPr id="183" name="矩形 6"/>
          <p:cNvSpPr/>
          <p:nvPr/>
        </p:nvSpPr>
        <p:spPr>
          <a:xfrm>
            <a:off x="1013400" y="183240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我的金钱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  <Words>100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yce</dc:creator>
  <dc:description/>
  <dc:language>en-US</dc:language>
  <cp:lastModifiedBy>王玉清</cp:lastModifiedBy>
  <dcterms:modified xsi:type="dcterms:W3CDTF">2016-02-15T04:57:08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6</vt:r8>
  </property>
</Properties>
</file>