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9C8-A4BC-4414-8157-F7B09F4F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96D-05BA-4575-9206-C89F4CF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FDE-14D6-45A5-B9CA-CF73BA24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7E0-6E6B-4D81-9B6B-9BFC57E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84B-4ABC-46B5-A1C1-5FF320C9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BC2-1F4D-41C2-AE4D-F00EC357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A43-1DA1-4979-925E-186559C2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A59-7F02-4573-B1A7-B8E3D5B1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3A3-7DA8-46B4-A07C-DA512E29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22F-7DAE-4971-9748-07C1F65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DA2-7CE8-4154-863E-748A30F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9D5-0876-4B60-AA79-9BD8F2F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6BA7DC-3ED0-4D37-AB13-7C66D6F8D39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362480" y="1714680"/>
            <a:ext cx="11379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465800" y="4572000"/>
            <a:ext cx="89172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072040" y="1571760"/>
            <a:ext cx="73800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文艺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89240" y="2606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复古书本文艺范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67834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854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06872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686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139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7116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0688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997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1404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5686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64040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786040" y="235728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4262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4257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9320" y="6286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2117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9973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164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068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2115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1397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6997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11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9258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497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3545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068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0686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9320" y="6286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  <Words>156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3T03:44:5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