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4.png" ContentType="image/png"/>
  <Override PartName="/ppt/media/image5.png" ContentType="image/png"/>
  <Override PartName="/ppt/media/hdphoto2.wdp" ContentType="image/vnd.ms-photo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Stenci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418F4-F595-4334-94A3-D2E9C737D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9673FE-B205-4A87-BC9D-56A2CE4E42E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478C9-E9B8-47E8-A3AD-F05AA5CD79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2C2-6CD7-4A92-8631-80199F6A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0C2-FDB7-4514-BCB8-99E564AA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178-7233-4F99-A85D-4706FF78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9F2-5DA5-41AB-B03C-DFAF1DDC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5DB-F7BC-4BC0-8279-75C12F0F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024-63B6-4EFF-801C-CB792FE7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D7D-195B-4D7C-8955-A94AE523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651-EFEA-4DF2-B222-61D4F849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960"/>
            <a:ext cx="8229240" cy="44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0F8-0E4B-4CC1-BCAB-7BF84235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CA4-D289-499D-865F-E60CE84F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9FE1-D8F4-4356-B37E-D36C2A32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2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3DE-B9BD-4BF0-8BBA-B4B6E35D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Stencil"/>
                <a:ea typeface="华康俪金黑W8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Stencil"/>
                <a:ea typeface="华康俪金黑W8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Stenci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Stenci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Stenci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Stencil"/>
                <a:ea typeface="华康俪金黑W8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Stenci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ED19BA-A544-459F-B316-94E76B19D0D6}" type="slidenum">
              <a:rPr b="0" lang="en-US" sz="1200" spc="-1" strike="noStrike">
                <a:solidFill>
                  <a:srgbClr val="8b8b8b"/>
                </a:solidFill>
                <a:latin typeface="Stencil"/>
                <a:ea typeface="华康俪金黑W8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11084083\桌面\16432Q032-0.jpg"/>
          <p:cNvPicPr/>
          <p:nvPr/>
        </p:nvPicPr>
        <p:blipFill>
          <a:blip r:embed="rId1"/>
          <a:stretch/>
        </p:blipFill>
        <p:spPr>
          <a:xfrm>
            <a:off x="-77400" y="2929680"/>
            <a:ext cx="2704680" cy="27619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6"/>
          <p:cNvGrpSpPr/>
          <p:nvPr/>
        </p:nvGrpSpPr>
        <p:grpSpPr>
          <a:xfrm>
            <a:off x="6984360" y="547560"/>
            <a:ext cx="1259640" cy="3081960"/>
            <a:chOff x="6984360" y="547560"/>
            <a:chExt cx="1259640" cy="3081960"/>
          </a:xfrm>
        </p:grpSpPr>
        <p:sp>
          <p:nvSpPr>
            <p:cNvPr id="49" name="TextBox 1"/>
            <p:cNvSpPr/>
            <p:nvPr/>
          </p:nvSpPr>
          <p:spPr>
            <a:xfrm>
              <a:off x="7482240" y="553320"/>
              <a:ext cx="761760" cy="30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900" spc="-1" strike="noStrike">
                  <a:solidFill>
                    <a:srgbClr val="2d1410"/>
                  </a:solidFill>
                  <a:latin typeface="华康俪金黑W8"/>
                  <a:ea typeface="华康俪金黑W8"/>
                </a:rPr>
                <a:t>苏东坡传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2"/>
            <p:cNvSpPr/>
            <p:nvPr/>
          </p:nvSpPr>
          <p:spPr>
            <a:xfrm rot="5400000">
              <a:off x="6004080" y="1527480"/>
              <a:ext cx="2415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2d1410"/>
                  </a:solidFill>
                  <a:latin typeface="Bell MT"/>
                  <a:ea typeface="BatangChe"/>
                </a:rPr>
                <a:t>The Gay Geni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5"/>
          <p:cNvGrpSpPr/>
          <p:nvPr/>
        </p:nvGrpSpPr>
        <p:grpSpPr>
          <a:xfrm>
            <a:off x="4298760" y="1777320"/>
            <a:ext cx="560880" cy="3205440"/>
            <a:chOff x="4298760" y="1777320"/>
            <a:chExt cx="560880" cy="3205440"/>
          </a:xfrm>
        </p:grpSpPr>
        <p:sp>
          <p:nvSpPr>
            <p:cNvPr id="52" name="TextBox 3"/>
            <p:cNvSpPr/>
            <p:nvPr/>
          </p:nvSpPr>
          <p:spPr>
            <a:xfrm>
              <a:off x="4298760" y="1777320"/>
              <a:ext cx="56088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林语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6"/>
            <p:cNvSpPr/>
            <p:nvPr/>
          </p:nvSpPr>
          <p:spPr>
            <a:xfrm>
              <a:off x="4460040" y="3341520"/>
              <a:ext cx="238320" cy="16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张振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华文仿宋"/>
                  <a:ea typeface="华文仿宋"/>
                </a:rPr>
                <a:t>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4"/>
          <p:cNvSpPr/>
          <p:nvPr/>
        </p:nvSpPr>
        <p:spPr>
          <a:xfrm>
            <a:off x="1361880" y="0"/>
            <a:ext cx="6195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古朴素雅风的苏东坡传通用</a:t>
            </a:r>
            <a:r>
              <a:rPr b="0" lang="en-US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Stencil"/>
                <a:ea typeface="华康俪金黑W8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347760" y="5376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3"/>
          <p:cNvGrpSpPr/>
          <p:nvPr/>
        </p:nvGrpSpPr>
        <p:grpSpPr>
          <a:xfrm>
            <a:off x="2084040" y="1320120"/>
            <a:ext cx="4510080" cy="3974040"/>
            <a:chOff x="2084040" y="1320120"/>
            <a:chExt cx="4510080" cy="3974040"/>
          </a:xfrm>
        </p:grpSpPr>
        <p:grpSp>
          <p:nvGrpSpPr>
            <p:cNvPr id="160" name="组合 4"/>
            <p:cNvGrpSpPr/>
            <p:nvPr/>
          </p:nvGrpSpPr>
          <p:grpSpPr>
            <a:xfrm>
              <a:off x="2084040" y="1320120"/>
              <a:ext cx="4510080" cy="3974040"/>
              <a:chOff x="2084040" y="1320120"/>
              <a:chExt cx="4510080" cy="3974040"/>
            </a:xfrm>
          </p:grpSpPr>
          <p:pic>
            <p:nvPicPr>
              <p:cNvPr id="161" name="Picture 3" descr="C:\Documents and Settings\11084083\桌面\未标题-1.jpg"/>
              <p:cNvPicPr/>
              <p:nvPr/>
            </p:nvPicPr>
            <p:blipFill>
              <a:blip r:embed="rId1"/>
              <a:stretch/>
            </p:blipFill>
            <p:spPr>
              <a:xfrm>
                <a:off x="2705760" y="1489320"/>
                <a:ext cx="3749400" cy="380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Box 7"/>
              <p:cNvSpPr/>
              <p:nvPr/>
            </p:nvSpPr>
            <p:spPr>
              <a:xfrm rot="1140000">
                <a:off x="2826360" y="3909240"/>
                <a:ext cx="125460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豁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天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8"/>
              <p:cNvSpPr/>
              <p:nvPr/>
            </p:nvSpPr>
            <p:spPr>
              <a:xfrm rot="1123800">
                <a:off x="3996000" y="1837800"/>
                <a:ext cx="2408760" cy="3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作品给人  带来快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9"/>
              <p:cNvSpPr/>
              <p:nvPr/>
            </p:nvSpPr>
            <p:spPr>
              <a:xfrm rot="21540000">
                <a:off x="5661000" y="2564280"/>
                <a:ext cx="7916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坚持己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Box 10"/>
              <p:cNvSpPr/>
              <p:nvPr/>
            </p:nvSpPr>
            <p:spPr>
              <a:xfrm rot="1140000">
                <a:off x="2209680" y="2689200"/>
                <a:ext cx="3113640" cy="98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人格上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的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刚正不阿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Box 11"/>
              <p:cNvSpPr/>
              <p:nvPr/>
            </p:nvSpPr>
            <p:spPr>
              <a:xfrm rot="21540000">
                <a:off x="5663160" y="3727080"/>
                <a:ext cx="65952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平易近人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12"/>
              <p:cNvSpPr/>
              <p:nvPr/>
            </p:nvSpPr>
            <p:spPr>
              <a:xfrm rot="1020000">
                <a:off x="3963600" y="4155480"/>
                <a:ext cx="44028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宠辱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7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不惊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13"/>
              <p:cNvSpPr/>
              <p:nvPr/>
            </p:nvSpPr>
            <p:spPr>
              <a:xfrm rot="1140000">
                <a:off x="2053080" y="2048400"/>
                <a:ext cx="45716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诗文书画艺术上的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卓绝之美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14"/>
              <p:cNvSpPr/>
              <p:nvPr/>
            </p:nvSpPr>
            <p:spPr>
              <a:xfrm rot="21540000">
                <a:off x="4785840" y="2894040"/>
                <a:ext cx="79164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2d1410"/>
                    </a:solidFill>
                    <a:latin typeface="华康俪金黑W8"/>
                    <a:ea typeface="华康俪金黑W8"/>
                  </a:rPr>
                  <a:t>无所畏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Box 5"/>
            <p:cNvSpPr/>
            <p:nvPr/>
          </p:nvSpPr>
          <p:spPr>
            <a:xfrm rot="21540000">
              <a:off x="4821480" y="4088160"/>
              <a:ext cx="79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华康俪金黑W8"/>
                  <a:ea typeface="华康俪金黑W8"/>
                </a:rPr>
                <a:t>浩然正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1"/>
          <p:cNvSpPr/>
          <p:nvPr/>
        </p:nvSpPr>
        <p:spPr>
          <a:xfrm>
            <a:off x="5399640" y="366840"/>
            <a:ext cx="3672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Stencil"/>
                <a:ea typeface="华康俪金黑W8"/>
              </a:rPr>
              <a:t>苏东坡魔方矢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53964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为何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1"/>
          <p:cNvSpPr/>
          <p:nvPr/>
        </p:nvSpPr>
        <p:spPr>
          <a:xfrm>
            <a:off x="270000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所理解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2"/>
          <p:cNvSpPr/>
          <p:nvPr/>
        </p:nvSpPr>
        <p:spPr>
          <a:xfrm>
            <a:off x="486000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式魔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3"/>
          <p:cNvSpPr/>
          <p:nvPr/>
        </p:nvSpPr>
        <p:spPr>
          <a:xfrm>
            <a:off x="7020360" y="2425680"/>
            <a:ext cx="1439640" cy="1871640"/>
          </a:xfrm>
          <a:prstGeom prst="rect">
            <a:avLst/>
          </a:prstGeom>
          <a:solidFill>
            <a:srgbClr val="ecebb5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林语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9d8b67"/>
                </a:solidFill>
                <a:latin typeface="华康俪金黑W8"/>
                <a:ea typeface="华康俪金黑W8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2d1410"/>
                </a:solidFill>
                <a:latin typeface="华康俪金黑W8"/>
                <a:ea typeface="华康俪金黑W8"/>
              </a:rPr>
              <a:t>苏东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61" name="矩形 30"/>
          <p:cNvSpPr/>
          <p:nvPr/>
        </p:nvSpPr>
        <p:spPr>
          <a:xfrm>
            <a:off x="971640" y="337320"/>
            <a:ext cx="161928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62" name="椭圆 33"/>
          <p:cNvSpPr/>
          <p:nvPr/>
        </p:nvSpPr>
        <p:spPr>
          <a:xfrm>
            <a:off x="89964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4"/>
          <p:cNvSpPr/>
          <p:nvPr/>
        </p:nvSpPr>
        <p:spPr>
          <a:xfrm>
            <a:off x="306000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35"/>
          <p:cNvSpPr/>
          <p:nvPr/>
        </p:nvSpPr>
        <p:spPr>
          <a:xfrm>
            <a:off x="522000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6"/>
          <p:cNvSpPr/>
          <p:nvPr/>
        </p:nvSpPr>
        <p:spPr>
          <a:xfrm>
            <a:off x="7380360" y="2083320"/>
            <a:ext cx="719640" cy="71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509040" y="409320"/>
            <a:ext cx="96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ecebb5"/>
                </a:solidFill>
                <a:latin typeface="Stencil"/>
                <a:ea typeface="华康俪金黑W8"/>
              </a:rPr>
              <a:t>目</a:t>
            </a: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  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773000" y="339120"/>
            <a:ext cx="2101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林语堂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为什么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写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2"/>
          <p:cNvSpPr/>
          <p:nvPr/>
        </p:nvSpPr>
        <p:spPr>
          <a:xfrm>
            <a:off x="1332000" y="2497320"/>
            <a:ext cx="2159640" cy="2159640"/>
          </a:xfrm>
          <a:prstGeom prst="ellipse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9600" spc="-1" strike="noStrike">
                <a:solidFill>
                  <a:srgbClr val="ecebb5"/>
                </a:solidFill>
                <a:latin typeface="Stencil"/>
                <a:ea typeface="华康俪金黑W8"/>
              </a:rPr>
              <a:t>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187640" y="1522440"/>
            <a:ext cx="2519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以</a:t>
            </a:r>
            <a:r>
              <a:rPr b="0" lang="zh-CN" sz="4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此</a:t>
            </a:r>
            <a:r>
              <a:rPr b="0" lang="zh-CN" sz="2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2"/>
          <p:cNvSpPr/>
          <p:nvPr/>
        </p:nvSpPr>
        <p:spPr>
          <a:xfrm>
            <a:off x="5652360" y="2497320"/>
            <a:ext cx="2159640" cy="2159640"/>
          </a:xfrm>
          <a:prstGeom prst="ellipse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96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508000" y="2419200"/>
            <a:ext cx="1367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6"/>
          <p:cNvSpPr/>
          <p:nvPr/>
        </p:nvSpPr>
        <p:spPr>
          <a:xfrm>
            <a:off x="6588360" y="3355200"/>
            <a:ext cx="1367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5436000" y="1417320"/>
            <a:ext cx="259200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向人们描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式的迷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77" name="矩形 1"/>
          <p:cNvSpPr/>
          <p:nvPr/>
        </p:nvSpPr>
        <p:spPr>
          <a:xfrm>
            <a:off x="1726200" y="337320"/>
            <a:ext cx="196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5"/>
          <p:cNvSpPr/>
          <p:nvPr/>
        </p:nvSpPr>
        <p:spPr>
          <a:xfrm>
            <a:off x="2411640" y="1201320"/>
            <a:ext cx="4319640" cy="431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cxnSp>
        <p:nvCxnSpPr>
          <p:cNvPr id="80" name="直接连接符 9"/>
          <p:cNvCxnSpPr>
            <a:stCxn id="79" idx="2"/>
            <a:endCxn id="79" idx="6"/>
          </p:cNvCxnSpPr>
          <p:nvPr/>
        </p:nvCxnSpPr>
        <p:spPr>
          <a:xfrm>
            <a:off x="2411640" y="3360960"/>
            <a:ext cx="4320360" cy="3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1" name="直接连接符 31"/>
          <p:cNvCxnSpPr>
            <a:stCxn id="79" idx="0"/>
            <a:endCxn id="79" idx="4"/>
          </p:cNvCxnSpPr>
          <p:nvPr/>
        </p:nvCxnSpPr>
        <p:spPr>
          <a:xfrm>
            <a:off x="4571640" y="1200960"/>
            <a:ext cx="360" cy="43203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2" name="直接连接符 36"/>
          <p:cNvCxnSpPr>
            <a:stCxn id="79" idx="1"/>
            <a:endCxn id="79" idx="5"/>
          </p:cNvCxnSpPr>
          <p:nvPr/>
        </p:nvCxnSpPr>
        <p:spPr>
          <a:xfrm>
            <a:off x="3044160" y="1833840"/>
            <a:ext cx="3054960" cy="30549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cxnSp>
        <p:nvCxnSpPr>
          <p:cNvPr id="83" name="直接连接符 38"/>
          <p:cNvCxnSpPr>
            <a:stCxn id="79" idx="3"/>
            <a:endCxn id="79" idx="7"/>
          </p:cNvCxnSpPr>
          <p:nvPr/>
        </p:nvCxnSpPr>
        <p:spPr>
          <a:xfrm flipV="1">
            <a:off x="3044160" y="1833840"/>
            <a:ext cx="3054960" cy="3054960"/>
          </a:xfrm>
          <a:prstGeom prst="straightConnector1">
            <a:avLst/>
          </a:prstGeom>
          <a:ln>
            <a:solidFill>
              <a:srgbClr val="ecebb5"/>
            </a:solidFill>
            <a:round/>
          </a:ln>
        </p:spPr>
      </p:cxnSp>
      <p:sp>
        <p:nvSpPr>
          <p:cNvPr id="84" name="矩形 39"/>
          <p:cNvSpPr/>
          <p:nvPr/>
        </p:nvSpPr>
        <p:spPr>
          <a:xfrm rot="17640000">
            <a:off x="4644000" y="1373400"/>
            <a:ext cx="1278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秉性难改的乐天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1"/>
          <p:cNvSpPr/>
          <p:nvPr/>
        </p:nvSpPr>
        <p:spPr>
          <a:xfrm rot="19935000">
            <a:off x="5682960" y="2325240"/>
            <a:ext cx="1278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伟大的人道主义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2"/>
          <p:cNvSpPr/>
          <p:nvPr/>
        </p:nvSpPr>
        <p:spPr>
          <a:xfrm rot="4101600">
            <a:off x="3437280" y="1564200"/>
            <a:ext cx="100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百姓的好朋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0"/>
          <p:cNvSpPr/>
          <p:nvPr/>
        </p:nvSpPr>
        <p:spPr>
          <a:xfrm rot="19813800">
            <a:off x="2746440" y="3652200"/>
            <a:ext cx="86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皇帝的秘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士大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5"/>
          <p:cNvSpPr/>
          <p:nvPr/>
        </p:nvSpPr>
        <p:spPr>
          <a:xfrm rot="17404200">
            <a:off x="3574080" y="4483440"/>
            <a:ext cx="1003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月下的漫步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2"/>
          <p:cNvSpPr/>
          <p:nvPr/>
        </p:nvSpPr>
        <p:spPr>
          <a:xfrm rot="2071200">
            <a:off x="-1737000" y="1012320"/>
            <a:ext cx="588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大文豪、大书法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创新的画家、造酒试验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9"/>
          <p:cNvSpPr/>
          <p:nvPr/>
        </p:nvSpPr>
        <p:spPr>
          <a:xfrm rot="3732000">
            <a:off x="4876560" y="4389840"/>
            <a:ext cx="45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诗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饼形 71"/>
          <p:cNvSpPr/>
          <p:nvPr/>
        </p:nvSpPr>
        <p:spPr>
          <a:xfrm>
            <a:off x="2411640" y="1201680"/>
            <a:ext cx="4319640" cy="4319640"/>
          </a:xfrm>
          <a:prstGeom prst="pie">
            <a:avLst>
              <a:gd name="adj1" fmla="val 0"/>
              <a:gd name="adj2" fmla="val 2695827"/>
            </a:avLst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Stencil"/>
              <a:ea typeface="华康俪金黑W8"/>
            </a:endParaRPr>
          </a:p>
        </p:txBody>
      </p:sp>
      <p:sp>
        <p:nvSpPr>
          <p:cNvPr id="92" name="椭圆 73"/>
          <p:cNvSpPr/>
          <p:nvPr/>
        </p:nvSpPr>
        <p:spPr>
          <a:xfrm>
            <a:off x="4034160" y="2821680"/>
            <a:ext cx="1079640" cy="1079640"/>
          </a:xfrm>
          <a:prstGeom prst="ellipse">
            <a:avLst/>
          </a:prstGeom>
          <a:solidFill>
            <a:srgbClr val="ecebb5"/>
          </a:solidFill>
          <a:ln w="19050">
            <a:solidFill>
              <a:srgbClr val="2d141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5148000" y="4875480"/>
            <a:ext cx="453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2d1410"/>
                </a:solidFill>
                <a:latin typeface="Stencil"/>
                <a:ea typeface="华康俪金黑W8"/>
              </a:rPr>
              <a:t>这些都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不足以</a:t>
            </a:r>
            <a:r>
              <a:rPr b="0" lang="zh-CN" sz="1300" spc="-1" strike="noStrike">
                <a:solidFill>
                  <a:srgbClr val="2d1410"/>
                </a:solidFill>
                <a:latin typeface="Stencil"/>
                <a:ea typeface="华康俪金黑W8"/>
              </a:rPr>
              <a:t>勾绘出他的全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5"/>
          <p:cNvSpPr/>
          <p:nvPr/>
        </p:nvSpPr>
        <p:spPr>
          <a:xfrm rot="1850400">
            <a:off x="5183280" y="3960720"/>
            <a:ext cx="1876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更多称呼   </a:t>
            </a:r>
            <a:r>
              <a:rPr b="0" lang="en-US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1886040" y="337320"/>
            <a:ext cx="1644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 flipH="1">
            <a:off x="-27360" y="1561320"/>
            <a:ext cx="135864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ecebb5">
                    <a:alpha val="94000"/>
                  </a:srgbClr>
                </a:solidFill>
                <a:latin typeface="Stencil"/>
                <a:ea typeface="华康俪金黑W8"/>
              </a:rPr>
              <a:t>苏东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1"/>
          <p:cNvGrpSpPr/>
          <p:nvPr/>
        </p:nvGrpSpPr>
        <p:grpSpPr>
          <a:xfrm>
            <a:off x="598680" y="1548720"/>
            <a:ext cx="3180600" cy="3180600"/>
            <a:chOff x="598680" y="1548720"/>
            <a:chExt cx="3180600" cy="3180600"/>
          </a:xfrm>
        </p:grpSpPr>
        <p:sp>
          <p:nvSpPr>
            <p:cNvPr id="100" name="TextBox 17"/>
            <p:cNvSpPr/>
            <p:nvPr/>
          </p:nvSpPr>
          <p:spPr>
            <a:xfrm>
              <a:off x="2267640" y="2632320"/>
              <a:ext cx="71748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诙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7"/>
            <p:cNvSpPr/>
            <p:nvPr/>
          </p:nvSpPr>
          <p:spPr>
            <a:xfrm>
              <a:off x="598680" y="1548720"/>
              <a:ext cx="3180600" cy="3180600"/>
            </a:xfrm>
            <a:prstGeom prst="ellipse">
              <a:avLst/>
            </a:prstGeom>
            <a:solidFill>
              <a:srgbClr val="eceb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02" name="TextBox 9"/>
            <p:cNvSpPr/>
            <p:nvPr/>
          </p:nvSpPr>
          <p:spPr>
            <a:xfrm>
              <a:off x="1333080" y="1983960"/>
              <a:ext cx="172656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多面性的天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5"/>
            <p:cNvSpPr/>
            <p:nvPr/>
          </p:nvSpPr>
          <p:spPr>
            <a:xfrm>
              <a:off x="1117800" y="2632320"/>
              <a:ext cx="71748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深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6"/>
            <p:cNvSpPr/>
            <p:nvPr/>
          </p:nvSpPr>
          <p:spPr>
            <a:xfrm>
              <a:off x="1835640" y="2632320"/>
              <a:ext cx="64620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广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18"/>
            <p:cNvSpPr/>
            <p:nvPr/>
          </p:nvSpPr>
          <p:spPr>
            <a:xfrm>
              <a:off x="1333080" y="3937680"/>
              <a:ext cx="172656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有高度的智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9"/>
            <p:cNvSpPr/>
            <p:nvPr/>
          </p:nvSpPr>
          <p:spPr>
            <a:xfrm>
              <a:off x="720000" y="3289680"/>
              <a:ext cx="2915640" cy="363960"/>
            </a:xfrm>
            <a:prstGeom prst="rect">
              <a:avLst/>
            </a:prstGeom>
            <a:solidFill>
              <a:srgbClr val="ece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有天真烂漫的赤子之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20"/>
          <p:cNvSpPr/>
          <p:nvPr/>
        </p:nvSpPr>
        <p:spPr>
          <a:xfrm>
            <a:off x="2557080" y="2632320"/>
            <a:ext cx="646200" cy="363960"/>
          </a:xfrm>
          <a:prstGeom prst="rect">
            <a:avLst/>
          </a:prstGeom>
          <a:solidFill>
            <a:srgbClr val="eceb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诙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直接连接符 5"/>
          <p:cNvCxnSpPr/>
          <p:nvPr/>
        </p:nvCxnSpPr>
        <p:spPr>
          <a:xfrm>
            <a:off x="755640" y="3105360"/>
            <a:ext cx="288036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cxnSp>
        <p:nvCxnSpPr>
          <p:cNvPr id="109" name="直接连接符 22"/>
          <p:cNvCxnSpPr/>
          <p:nvPr/>
        </p:nvCxnSpPr>
        <p:spPr>
          <a:xfrm>
            <a:off x="1259280" y="2425320"/>
            <a:ext cx="180072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cxnSp>
        <p:nvCxnSpPr>
          <p:cNvPr id="110" name="直接连接符 26"/>
          <p:cNvCxnSpPr/>
          <p:nvPr/>
        </p:nvCxnSpPr>
        <p:spPr>
          <a:xfrm>
            <a:off x="1259280" y="3793320"/>
            <a:ext cx="1800720" cy="360"/>
          </a:xfrm>
          <a:prstGeom prst="straightConnector1">
            <a:avLst/>
          </a:prstGeom>
          <a:ln w="6350">
            <a:solidFill>
              <a:srgbClr val="9d8b67"/>
            </a:solidFill>
            <a:round/>
          </a:ln>
        </p:spPr>
      </p:cxnSp>
      <p:sp>
        <p:nvSpPr>
          <p:cNvPr id="111" name="椭圆 37"/>
          <p:cNvSpPr/>
          <p:nvPr/>
        </p:nvSpPr>
        <p:spPr>
          <a:xfrm>
            <a:off x="7164360" y="2209320"/>
            <a:ext cx="1799640" cy="1799640"/>
          </a:xfrm>
          <a:prstGeom prst="ellipse">
            <a:avLst/>
          </a:prstGeom>
          <a:solidFill>
            <a:srgbClr val="2d141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ecebb5"/>
              </a:solidFill>
              <a:latin typeface="微软雅黑"/>
              <a:ea typeface="微软雅黑"/>
            </a:endParaRPr>
          </a:p>
        </p:txBody>
      </p:sp>
      <p:pic>
        <p:nvPicPr>
          <p:cNvPr id="112" name="Picture 2" descr="C:\Documents and Settings\11084083\桌面\2786001_151105364000_2.jpg"/>
          <p:cNvPicPr/>
          <p:nvPr/>
        </p:nvPicPr>
        <p:blipFill>
          <a:blip r:embed="rId1"/>
          <a:srcRect l="0" t="0" r="0" b="5857"/>
          <a:stretch/>
        </p:blipFill>
        <p:spPr>
          <a:xfrm>
            <a:off x="2195640" y="2236320"/>
            <a:ext cx="6406920" cy="4005360"/>
          </a:xfrm>
          <a:prstGeom prst="rect">
            <a:avLst/>
          </a:prstGeom>
          <a:ln w="0">
            <a:noFill/>
          </a:ln>
        </p:spPr>
      </p:pic>
      <p:cxnSp>
        <p:nvCxnSpPr>
          <p:cNvPr id="113" name="直接连接符 42"/>
          <p:cNvCxnSpPr/>
          <p:nvPr/>
        </p:nvCxnSpPr>
        <p:spPr>
          <a:xfrm>
            <a:off x="7380360" y="3105360"/>
            <a:ext cx="1440360" cy="360"/>
          </a:xfrm>
          <a:prstGeom prst="straightConnector1">
            <a:avLst/>
          </a:prstGeom>
          <a:ln w="6350">
            <a:solidFill>
              <a:srgbClr val="ecebb5"/>
            </a:solidFill>
            <a:round/>
          </a:ln>
        </p:spPr>
      </p:cxnSp>
      <p:sp>
        <p:nvSpPr>
          <p:cNvPr id="114" name="TextBox 2050"/>
          <p:cNvSpPr/>
          <p:nvPr/>
        </p:nvSpPr>
        <p:spPr>
          <a:xfrm>
            <a:off x="7348680" y="2673360"/>
            <a:ext cx="151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ecebb5"/>
                </a:solidFill>
                <a:latin typeface="Stencil"/>
                <a:ea typeface="华康俪金黑W8"/>
              </a:rPr>
              <a:t>耶稣的比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051"/>
          <p:cNvSpPr/>
          <p:nvPr/>
        </p:nvSpPr>
        <p:spPr>
          <a:xfrm>
            <a:off x="7236360" y="3361680"/>
            <a:ext cx="16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蛇的智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5"/>
          <p:cNvSpPr/>
          <p:nvPr/>
        </p:nvSpPr>
        <p:spPr>
          <a:xfrm>
            <a:off x="7236360" y="3145680"/>
            <a:ext cx="1619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300" spc="-1" strike="noStrike">
                <a:solidFill>
                  <a:srgbClr val="ecebb5"/>
                </a:solidFill>
                <a:latin typeface="张海山锐线体简"/>
                <a:ea typeface="张海山锐线体简"/>
              </a:rPr>
              <a:t>鸽子的温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886040" y="337320"/>
            <a:ext cx="1644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怎样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的一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20000" contrast="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203840" y="193680"/>
            <a:ext cx="6194160" cy="5327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835640" y="2065320"/>
            <a:ext cx="5130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在中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一提到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总会引起我们亲切敬佩的   </a:t>
            </a:r>
            <a:r>
              <a:rPr b="0" lang="zh-CN" sz="6600" spc="-1" strike="noStrike">
                <a:solidFill>
                  <a:srgbClr val="2d1410"/>
                </a:solidFill>
                <a:latin typeface="Stencil"/>
                <a:ea typeface="华康俪金黑W8"/>
              </a:rPr>
              <a:t>微笑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23" name="矩形 1"/>
          <p:cNvSpPr/>
          <p:nvPr/>
        </p:nvSpPr>
        <p:spPr>
          <a:xfrm>
            <a:off x="1798920" y="339120"/>
            <a:ext cx="1730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苏东坡的</a:t>
            </a: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式 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</a:t>
            </a:r>
            <a:r>
              <a:rPr b="0" i="1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5"/>
          <p:cNvSpPr/>
          <p:nvPr/>
        </p:nvSpPr>
        <p:spPr>
          <a:xfrm>
            <a:off x="4788000" y="1705320"/>
            <a:ext cx="403200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自有其迷人魔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就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魔力之在女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美丽芬芳之在花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是</a:t>
            </a:r>
            <a:r>
              <a:rPr b="0" lang="zh-CN" sz="2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易于感觉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而难于说明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9"/>
          <p:cNvCxnSpPr/>
          <p:nvPr/>
        </p:nvCxnSpPr>
        <p:spPr>
          <a:xfrm>
            <a:off x="8225640" y="1849320"/>
            <a:ext cx="360" cy="72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  <p:cxnSp>
        <p:nvCxnSpPr>
          <p:cNvPr id="127" name="直接连接符 10"/>
          <p:cNvCxnSpPr/>
          <p:nvPr/>
        </p:nvCxnSpPr>
        <p:spPr>
          <a:xfrm>
            <a:off x="8225640" y="3649320"/>
            <a:ext cx="360" cy="72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  <p:sp>
        <p:nvSpPr>
          <p:cNvPr id="128" name="TextBox 2"/>
          <p:cNvSpPr/>
          <p:nvPr/>
        </p:nvSpPr>
        <p:spPr>
          <a:xfrm>
            <a:off x="7990920" y="2654280"/>
            <a:ext cx="469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林语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54720" y="1345320"/>
            <a:ext cx="4084920" cy="35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0"/>
          <p:cNvSpPr/>
          <p:nvPr/>
        </p:nvSpPr>
        <p:spPr>
          <a:xfrm>
            <a:off x="360000" y="337320"/>
            <a:ext cx="421164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1716480" y="411120"/>
            <a:ext cx="2025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600" spc="-1" strike="noStrike">
                <a:solidFill>
                  <a:srgbClr val="2d1410"/>
                </a:solidFill>
                <a:latin typeface="Stencil"/>
                <a:ea typeface="华康俪金黑W8"/>
              </a:rPr>
              <a:t>林语堂  </a:t>
            </a:r>
            <a:r>
              <a:rPr b="0" lang="zh-CN" sz="1800" spc="-1" strike="noStrike">
                <a:solidFill>
                  <a:srgbClr val="9d8b67"/>
                </a:solidFill>
                <a:latin typeface="Stencil"/>
                <a:ea typeface="华康俪金黑W8"/>
              </a:rPr>
              <a:t>与  </a:t>
            </a:r>
            <a:r>
              <a:rPr b="0" i="1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苏东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8"/>
          <p:cNvSpPr/>
          <p:nvPr/>
        </p:nvSpPr>
        <p:spPr>
          <a:xfrm>
            <a:off x="0" y="3373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600" spc="-1" strike="noStrike">
                <a:solidFill>
                  <a:schemeClr val="lt1"/>
                </a:solidFill>
                <a:latin typeface="Stencil"/>
                <a:ea typeface="华康俪金黑W8"/>
              </a:rPr>
              <a:t>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976320" y="1345320"/>
            <a:ext cx="719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       </a:t>
            </a: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知道一个人，或不知道一个人，于他是否为同代人，没有关系。主要的倒是对他是否有同情的了解。归根结底，我们只能知道自己真正了解的人，我们只能了解我们真正喜欢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755640" y="1345320"/>
            <a:ext cx="64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5940000" y="2137320"/>
            <a:ext cx="647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6"/>
          <p:cNvGrpSpPr/>
          <p:nvPr/>
        </p:nvGrpSpPr>
        <p:grpSpPr>
          <a:xfrm>
            <a:off x="1115640" y="3433680"/>
            <a:ext cx="2736000" cy="1793880"/>
            <a:chOff x="1115640" y="3433680"/>
            <a:chExt cx="2736000" cy="1793880"/>
          </a:xfrm>
        </p:grpSpPr>
        <p:sp>
          <p:nvSpPr>
            <p:cNvPr id="137" name="椭圆 4"/>
            <p:cNvSpPr/>
            <p:nvPr/>
          </p:nvSpPr>
          <p:spPr>
            <a:xfrm>
              <a:off x="1115640" y="3433680"/>
              <a:ext cx="1764000" cy="1764000"/>
            </a:xfrm>
            <a:prstGeom prst="ellipse">
              <a:avLst/>
            </a:prstGeom>
            <a:solidFill>
              <a:srgbClr val="ecebb5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38" name="椭圆 12"/>
            <p:cNvSpPr/>
            <p:nvPr/>
          </p:nvSpPr>
          <p:spPr>
            <a:xfrm>
              <a:off x="2087640" y="3463560"/>
              <a:ext cx="1764000" cy="1764000"/>
            </a:xfrm>
            <a:prstGeom prst="ellipse">
              <a:avLst/>
            </a:prstGeom>
            <a:solidFill>
              <a:srgbClr val="9d8b67">
                <a:alpha val="6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Stencil"/>
                <a:ea typeface="华康俪金黑W8"/>
              </a:endParaRPr>
            </a:p>
          </p:txBody>
        </p:sp>
        <p:sp>
          <p:nvSpPr>
            <p:cNvPr id="139" name="TextBox 5"/>
            <p:cNvSpPr/>
            <p:nvPr/>
          </p:nvSpPr>
          <p:spPr>
            <a:xfrm>
              <a:off x="2879640" y="4009680"/>
              <a:ext cx="719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ecebb5"/>
                  </a:solidFill>
                  <a:latin typeface="Stencil"/>
                  <a:ea typeface="华康俪金黑W8"/>
                </a:rPr>
                <a:t>古代大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"/>
            <p:cNvSpPr/>
            <p:nvPr/>
          </p:nvSpPr>
          <p:spPr>
            <a:xfrm>
              <a:off x="1252800" y="4009680"/>
              <a:ext cx="762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9d8b67"/>
                  </a:solidFill>
                  <a:latin typeface="Stencil"/>
                  <a:ea typeface="华康俪金黑W8"/>
                </a:rPr>
                <a:t>现代大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1"/>
            <p:cNvSpPr/>
            <p:nvPr/>
          </p:nvSpPr>
          <p:spPr>
            <a:xfrm>
              <a:off x="2274480" y="3673440"/>
              <a:ext cx="3888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惺惺相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5"/>
          <p:cNvGrpSpPr/>
          <p:nvPr/>
        </p:nvGrpSpPr>
        <p:grpSpPr>
          <a:xfrm>
            <a:off x="5220000" y="3433680"/>
            <a:ext cx="3048840" cy="1734840"/>
            <a:chOff x="5220000" y="3433680"/>
            <a:chExt cx="3048840" cy="1734840"/>
          </a:xfrm>
        </p:grpSpPr>
        <p:pic>
          <p:nvPicPr>
            <p:cNvPr id="143" name="Picture 2" descr="C:\Documents and Settings\11084083\桌面\79f0f736afc37931919feec2eac4b74542a91161.jpg"/>
            <p:cNvPicPr/>
            <p:nvPr/>
          </p:nvPicPr>
          <p:blipFill>
            <a:blip r:embed="rId1">
              <a:extLst>
                <a:ext uri="{BEBA8EAE-BF5A-486C-A8C5-ECC9F3942E4B}">
                  <a14:imgProps xmlns:a14="http://schemas.microsoft.com/office/drawing/2010/main">
                    <a14:imgLayer r:embed="rId2">
                      <a14:imgEffect>
                        <a14:sharpenSoften amount="-5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271840" y="3505680"/>
              <a:ext cx="293508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圆角矩形 13"/>
            <p:cNvSpPr/>
            <p:nvPr/>
          </p:nvSpPr>
          <p:spPr>
            <a:xfrm>
              <a:off x="5220000" y="3433680"/>
              <a:ext cx="3048840" cy="1734840"/>
            </a:xfrm>
            <a:prstGeom prst="roundRect">
              <a:avLst>
                <a:gd name="adj" fmla="val 16667"/>
              </a:avLst>
            </a:prstGeom>
            <a:solidFill>
              <a:srgbClr val="9d8b67">
                <a:alpha val="82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700" spc="-1" strike="noStrike">
                  <a:solidFill>
                    <a:srgbClr val="2d1410"/>
                  </a:solidFill>
                  <a:latin typeface="Arial"/>
                  <a:ea typeface="华康俪金黑W8"/>
                </a:rPr>
                <a:t>Lin yutang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6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让世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了解了中国的</a:t>
              </a:r>
              <a:r>
                <a:rPr b="0" lang="zh-CN" sz="2000" spc="-1" strike="noStrike">
                  <a:solidFill>
                    <a:srgbClr val="ecebb5"/>
                  </a:solidFill>
                  <a:latin typeface="Stencil"/>
                  <a:ea typeface="华康俪金黑W8"/>
                </a:rPr>
                <a:t>苏东坡</a:t>
              </a:r>
              <a:r>
                <a:rPr b="0" lang="zh-CN" sz="1700" spc="-1" strike="noStrike">
                  <a:solidFill>
                    <a:srgbClr val="2d1410"/>
                  </a:solidFill>
                  <a:latin typeface="Stencil"/>
                  <a:ea typeface="华康俪金黑W8"/>
                </a:rPr>
                <a:t>！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5" name="直接连接符 17"/>
          <p:cNvCxnSpPr/>
          <p:nvPr/>
        </p:nvCxnSpPr>
        <p:spPr>
          <a:xfrm>
            <a:off x="971280" y="1345320"/>
            <a:ext cx="360" cy="1440360"/>
          </a:xfrm>
          <a:prstGeom prst="straightConnector1">
            <a:avLst/>
          </a:prstGeom>
          <a:ln w="6350">
            <a:solidFill>
              <a:srgbClr val="2d141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6" name="直接连接符 5"/>
          <p:cNvCxnSpPr/>
          <p:nvPr/>
        </p:nvCxnSpPr>
        <p:spPr>
          <a:xfrm>
            <a:off x="0" y="2398320"/>
            <a:ext cx="9144360" cy="360"/>
          </a:xfrm>
          <a:prstGeom prst="straightConnector1">
            <a:avLst/>
          </a:prstGeom>
          <a:ln w="19050">
            <a:noFill/>
          </a:ln>
        </p:spPr>
      </p:cxnSp>
      <p:sp>
        <p:nvSpPr>
          <p:cNvPr id="147" name="椭圆 7"/>
          <p:cNvSpPr/>
          <p:nvPr/>
        </p:nvSpPr>
        <p:spPr>
          <a:xfrm>
            <a:off x="53964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为什么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写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传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1"/>
          <p:cNvSpPr/>
          <p:nvPr/>
        </p:nvSpPr>
        <p:spPr>
          <a:xfrm>
            <a:off x="270000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怎样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一个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2"/>
          <p:cNvSpPr/>
          <p:nvPr/>
        </p:nvSpPr>
        <p:spPr>
          <a:xfrm>
            <a:off x="486000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的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式魔力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3"/>
          <p:cNvSpPr/>
          <p:nvPr/>
        </p:nvSpPr>
        <p:spPr>
          <a:xfrm>
            <a:off x="7020360" y="1678320"/>
            <a:ext cx="1439640" cy="1439640"/>
          </a:xfrm>
          <a:prstGeom prst="ellipse">
            <a:avLst/>
          </a:prstGeom>
          <a:solidFill>
            <a:srgbClr val="9d8b67"/>
          </a:solidFill>
          <a:ln w="190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林语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500" spc="-1" strike="noStrike">
                <a:solidFill>
                  <a:srgbClr val="ecebb5"/>
                </a:solidFill>
                <a:latin typeface="华康俪金黑W8"/>
                <a:ea typeface="华康俪金黑W8"/>
              </a:rPr>
              <a:t>苏东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8"/>
          <p:cNvSpPr/>
          <p:nvPr/>
        </p:nvSpPr>
        <p:spPr>
          <a:xfrm>
            <a:off x="8172360" y="358920"/>
            <a:ext cx="971280" cy="719640"/>
          </a:xfrm>
          <a:prstGeom prst="rect">
            <a:avLst/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Stencil"/>
              <a:ea typeface="华康俪金黑W8"/>
            </a:endParaRPr>
          </a:p>
        </p:txBody>
      </p:sp>
      <p:sp>
        <p:nvSpPr>
          <p:cNvPr id="152" name="矩形 30"/>
          <p:cNvSpPr/>
          <p:nvPr/>
        </p:nvSpPr>
        <p:spPr>
          <a:xfrm>
            <a:off x="6552720" y="358920"/>
            <a:ext cx="1619280" cy="719640"/>
          </a:xfrm>
          <a:prstGeom prst="rect">
            <a:avLst/>
          </a:prstGeom>
          <a:solidFill>
            <a:srgbClr val="ecebb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2d1410"/>
              </a:solidFill>
              <a:latin typeface="Stencil"/>
              <a:ea typeface="华康俪金黑W8"/>
            </a:endParaRPr>
          </a:p>
        </p:txBody>
      </p:sp>
      <p:sp>
        <p:nvSpPr>
          <p:cNvPr id="153" name="圆角矩形 1"/>
          <p:cNvSpPr/>
          <p:nvPr/>
        </p:nvSpPr>
        <p:spPr>
          <a:xfrm>
            <a:off x="82764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原因有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14"/>
          <p:cNvSpPr/>
          <p:nvPr/>
        </p:nvSpPr>
        <p:spPr>
          <a:xfrm>
            <a:off x="2988000" y="3028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让人亲切敬佩的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15"/>
          <p:cNvSpPr/>
          <p:nvPr/>
        </p:nvSpPr>
        <p:spPr>
          <a:xfrm>
            <a:off x="514800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需要用心体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圆角矩形 16"/>
          <p:cNvSpPr/>
          <p:nvPr/>
        </p:nvSpPr>
        <p:spPr>
          <a:xfrm>
            <a:off x="7308360" y="3001680"/>
            <a:ext cx="863640" cy="1583640"/>
          </a:xfrm>
          <a:prstGeom prst="roundRect">
            <a:avLst>
              <a:gd name="adj" fmla="val 16667"/>
            </a:avLst>
          </a:prstGeom>
          <a:solidFill>
            <a:srgbClr val="9d8b6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2d1410"/>
                </a:solidFill>
                <a:latin typeface="Stencil"/>
                <a:ea typeface="华康俪金黑W8"/>
              </a:rPr>
              <a:t>应该是同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7"/>
          <p:cNvSpPr/>
          <p:nvPr/>
        </p:nvSpPr>
        <p:spPr>
          <a:xfrm>
            <a:off x="7666920" y="434160"/>
            <a:ext cx="967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2d1410"/>
                </a:solidFill>
                <a:latin typeface="Stencil"/>
                <a:ea typeface="华康俪金黑W8"/>
              </a:rPr>
              <a:t>结</a:t>
            </a:r>
            <a:r>
              <a:rPr b="0" lang="en-US" sz="3600" spc="-1" strike="noStrike">
                <a:solidFill>
                  <a:srgbClr val="ecebb5"/>
                </a:solidFill>
                <a:latin typeface="Stencil"/>
                <a:ea typeface="华康俪金黑W8"/>
              </a:rPr>
              <a:t>  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07640" y="5188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  <Words>358</Word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3T02:43:58Z</dcterms:modified>
  <cp:revision>1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10)</vt:lpwstr>
  </property>
  <property fmtid="{D5CDD505-2E9C-101B-9397-08002B2CF9AE}" pid="4" name="Slides">
    <vt:r8>10</vt:r8>
  </property>
</Properties>
</file>