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4">
  <dgm:title val=""/>
  <dgm:desc val=""/>
  <dgm:catLst>
    <dgm:cat type="accent5" pri="11400"/>
  </dgm:catLst>
  <dgm:styleLbl name="node0">
    <dgm:fillClrLst meth="cycle">
      <a:schemeClr val="accent5">
        <a:shade val="6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cycle">
      <a:schemeClr val="accent5">
        <a:shade val="50000"/>
      </a:schemeClr>
      <a:schemeClr val="accent5">
        <a:tint val="55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/>
    <dgm:txEffectClrLst/>
  </dgm:styleLbl>
  <dgm:styleLbl name="lnNode1">
    <dgm:fillClrLst meth="cycle">
      <a:schemeClr val="accent5">
        <a:shade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cycle">
      <a:schemeClr val="accent5">
        <a:shade val="80000"/>
        <a:alpha val="50000"/>
      </a:schemeClr>
      <a:schemeClr val="accent5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>
        <a:tint val="99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b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fgSibTrans2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/>
    <dgm:txEffectClrLst/>
  </dgm:styleLbl>
  <dgm:styleLbl name="sibTrans1D1">
    <dgm:fillClrLst meth="cycle">
      <a:schemeClr val="accent5">
        <a:shade val="90000"/>
      </a:schemeClr>
      <a:schemeClr val="accent5">
        <a:tint val="50000"/>
      </a:schemeClr>
    </dgm:fillClrLst>
    <dgm:linClrLst meth="cycle">
      <a:schemeClr val="accent5">
        <a:shade val="90000"/>
      </a:schemeClr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5">
        <a:shade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5">
        <a:tint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>
        <a:tint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5">
        <a:shade val="8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>
        <a:tint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>
        <a:tint val="7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55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cycle">
      <a:schemeClr val="accent5">
        <a:shade val="50000"/>
      </a:schemeClr>
      <a:schemeClr val="accent5">
        <a:tint val="55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5">
        <a:alpha val="90000"/>
        <a:tint val="55000"/>
      </a:schemeClr>
    </dgm:fillClrLst>
    <dgm:linClrLst meth="repeat">
      <a:schemeClr val="accent5">
        <a:alpha val="90000"/>
        <a:tint val="55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5">
        <a:alpha val="90000"/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5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5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5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55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55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55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6215A8-69AD-40E5-8456-96418DE2A40E}" type="doc">
      <dgm:prSet loTypeId="urn:microsoft.com/office/officeart/2005/8/layout/hProcess4" loCatId="process" qsTypeId="urn:microsoft.com/office/officeart/2005/8/quickstyle/3d9" qsCatId="3D" csTypeId="urn:microsoft.com/office/officeart/2005/8/colors/accent5_4" csCatId="accent5" phldr="1"/>
      <dgm:spPr/>
      <dgm:t>
        <a:bodyPr/>
        <a:lstStyle/>
        <a:p>
          <a:endParaRPr lang="zh-CN" altLang="en-US"/>
        </a:p>
      </dgm:t>
    </dgm:pt>
    <dgm:pt modelId="{AF1F2C4F-ABA5-4F83-9D71-66B3E3F62438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is a Design Digital Content &amp; Contents mall developed by Guild Design Inc.</a:t>
          </a:r>
          <a:endParaRPr lang="zh-CN" altLang="en-US" dirty="0"/>
        </a:p>
      </dgm:t>
    </dgm:pt>
    <dgm:pt modelId="{DC88FB38-EF9B-46C5-B8AA-6E4F7CE78AD9}" type="par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7F0BA62A-557B-48FA-8619-3ED9E37E60BF}" type="sibTrans" cxnId="{DC70FE6C-0968-462B-9D45-337540433FA6}">
      <dgm:prSet/>
      <dgm:spPr/>
      <dgm:t>
        <a:bodyPr/>
        <a:lstStyle/>
        <a:p>
          <a:endParaRPr lang="zh-CN" altLang="en-US"/>
        </a:p>
      </dgm:t>
    </dgm:pt>
    <dgm:pt modelId="{8367871A-EDCD-4CA6-8EF0-60AA517B3978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</a:p>
      </dgm:t>
    </dgm:pt>
    <dgm:pt modelId="{F048B4E0-B041-42B0-A331-9C90290B10A0}" type="par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2E4D4CE-1AA4-4D52-99F4-DB896DDAFFFA}" type="sibTrans" cxnId="{7D378874-A715-49DA-A946-925C8D3FC6C4}">
      <dgm:prSet/>
      <dgm:spPr/>
      <dgm:t>
        <a:bodyPr/>
        <a:lstStyle/>
        <a:p>
          <a:endParaRPr lang="zh-CN" altLang="en-US"/>
        </a:p>
      </dgm:t>
    </dgm:pt>
    <dgm:pt modelId="{9E89A21A-8EF4-44A0-B841-7968BBDFC9FF}">
      <dgm:prSet phldrT="[文本]"/>
      <dgm:spPr/>
      <dgm:t>
        <a:bodyPr/>
        <a:lstStyle/>
        <a:p>
          <a:r>
            <a:rPr lang="en-US" altLang="zh-CN" b="1" dirty="0" smtClean="0">
              <a:ea typeface="宋体" charset="-122"/>
            </a:rPr>
            <a:t>Title</a:t>
          </a:r>
          <a:endParaRPr lang="zh-CN" altLang="en-US" dirty="0"/>
        </a:p>
      </dgm:t>
    </dgm:pt>
    <dgm:pt modelId="{4710AC8C-E6AF-4CFE-A8ED-8E06A248F65F}" type="par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CBA6F19F-D1DC-4C0E-9223-E11DECFF2DC4}" type="sibTrans" cxnId="{C8D1538E-F56E-4507-968A-F739197C7276}">
      <dgm:prSet/>
      <dgm:spPr/>
      <dgm:t>
        <a:bodyPr/>
        <a:lstStyle/>
        <a:p>
          <a:endParaRPr lang="zh-CN" altLang="en-US"/>
        </a:p>
      </dgm:t>
    </dgm:pt>
    <dgm:pt modelId="{485CBBDC-7747-464B-AE27-6B3085887870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6D1F463D-9488-47CB-A718-16F3F82DEDB5}" type="par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80CE638B-D570-48E0-8994-281F3719A8F0}" type="sibTrans" cxnId="{2A458533-1B5E-41C7-A362-7ACE8957665E}">
      <dgm:prSet/>
      <dgm:spPr/>
      <dgm:t>
        <a:bodyPr/>
        <a:lstStyle/>
        <a:p>
          <a:endParaRPr lang="zh-CN" altLang="en-US"/>
        </a:p>
      </dgm:t>
    </dgm:pt>
    <dgm:pt modelId="{B5640EBF-A38F-4B26-A6B1-C2C83622E08C}">
      <dgm:prSet phldrT="[文本]"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zh-CN" altLang="en-US" dirty="0"/>
        </a:p>
      </dgm:t>
    </dgm:pt>
    <dgm:pt modelId="{DB853BD8-FCC6-45E6-A0F0-8DEEC412AC04}" type="par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F5354FAD-E241-4DAD-AA78-54B15F92E524}" type="sibTrans" cxnId="{6FB9DC06-76C5-489C-B4E4-0516BCB644E3}">
      <dgm:prSet/>
      <dgm:spPr/>
      <dgm:t>
        <a:bodyPr/>
        <a:lstStyle/>
        <a:p>
          <a:endParaRPr lang="zh-CN" altLang="en-US"/>
        </a:p>
      </dgm:t>
    </dgm:pt>
    <dgm:pt modelId="{26C2D5BE-D3B7-4078-8850-D1577E0EAA64}">
      <dgm:prSet/>
      <dgm:spPr/>
      <dgm:t>
        <a:bodyPr/>
        <a:lstStyle/>
        <a:p>
          <a:r>
            <a:rPr lang="en-US" altLang="zh-CN" dirty="0" smtClean="0">
              <a:ea typeface="宋体" charset="-122"/>
            </a:rPr>
            <a:t>Add your text</a:t>
          </a:r>
          <a:endParaRPr lang="en-US" altLang="zh-CN" dirty="0">
            <a:ea typeface="宋体" charset="-122"/>
          </a:endParaRPr>
        </a:p>
      </dgm:t>
    </dgm:pt>
    <dgm:pt modelId="{03FF0331-6288-4A35-91C3-5F2325A9967A}" type="par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60835A32-CB19-4E1B-8A3E-2F2765551AFF}" type="sibTrans" cxnId="{2683DFDA-E311-4BA8-898C-0B5A90296482}">
      <dgm:prSet/>
      <dgm:spPr/>
      <dgm:t>
        <a:bodyPr/>
        <a:lstStyle/>
        <a:p>
          <a:endParaRPr lang="zh-CN" altLang="en-US"/>
        </a:p>
      </dgm:t>
    </dgm:pt>
    <dgm:pt modelId="{31672554-0D19-476A-B7BC-18C88177C059}" type="pres">
      <dgm:prSet presAssocID="{056215A8-69AD-40E5-8456-96418DE2A40E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742B591-10E8-4ED7-A22B-728BD0474B35}" type="pres">
      <dgm:prSet presAssocID="{056215A8-69AD-40E5-8456-96418DE2A40E}" presName="tSp" presStyleCnt="0"/>
      <dgm:spPr/>
    </dgm:pt>
    <dgm:pt modelId="{A56ECD29-B374-4629-B21B-E23A8D6D3FEF}" type="pres">
      <dgm:prSet presAssocID="{056215A8-69AD-40E5-8456-96418DE2A40E}" presName="bSp" presStyleCnt="0"/>
      <dgm:spPr/>
    </dgm:pt>
    <dgm:pt modelId="{8DFC6E79-4DCF-4180-84F5-504313A724AF}" type="pres">
      <dgm:prSet presAssocID="{056215A8-69AD-40E5-8456-96418DE2A40E}" presName="process" presStyleCnt="0"/>
      <dgm:spPr/>
    </dgm:pt>
    <dgm:pt modelId="{2D90EFE3-3538-4E13-8A34-91B866287411}" type="pres">
      <dgm:prSet presAssocID="{AF1F2C4F-ABA5-4F83-9D71-66B3E3F62438}" presName="composite1" presStyleCnt="0"/>
      <dgm:spPr/>
    </dgm:pt>
    <dgm:pt modelId="{B35AEF57-13F9-47EB-9EA8-B89045E288E8}" type="pres">
      <dgm:prSet presAssocID="{AF1F2C4F-ABA5-4F83-9D71-66B3E3F62438}" presName="dummyNode1" presStyleLbl="node1" presStyleIdx="0" presStyleCnt="3"/>
      <dgm:spPr/>
    </dgm:pt>
    <dgm:pt modelId="{03E88B35-7F3C-41D1-8F4E-6C7D6123A4BE}" type="pres">
      <dgm:prSet presAssocID="{AF1F2C4F-ABA5-4F83-9D71-66B3E3F62438}" presName="childNode1" presStyleLbl="bgAcc1" presStyleIdx="0" presStyleCnt="3" custLinFactNeighborY="-2320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F18238D-FC7E-4D9E-91A6-3FA8723FA6F3}" type="pres">
      <dgm:prSet presAssocID="{AF1F2C4F-ABA5-4F83-9D71-66B3E3F62438}" presName="childNode1tx" presStyleLbl="bgAcc1" presStyleIdx="0" presStyleCnt="3">
        <dgm:presLayoutVars>
          <dgm:bulletEnabled val="1"/>
        </dgm:presLayoutVars>
      </dgm:prSet>
      <dgm:spPr/>
    </dgm:pt>
    <dgm:pt modelId="{9E23C27C-2F6B-486A-A68D-A03A32B1239A}" type="pres">
      <dgm:prSet presAssocID="{AF1F2C4F-ABA5-4F83-9D71-66B3E3F62438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D7DC70B-8128-4A4E-9491-B8F080EB3F6D}" type="pres">
      <dgm:prSet presAssocID="{AF1F2C4F-ABA5-4F83-9D71-66B3E3F62438}" presName="connSite1" presStyleCnt="0"/>
      <dgm:spPr/>
    </dgm:pt>
    <dgm:pt modelId="{9BB0DF1C-8119-4D95-8FD1-9A934D11E6BD}" type="pres">
      <dgm:prSet presAssocID="{7F0BA62A-557B-48FA-8619-3ED9E37E60BF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87D069B2-A318-469D-920D-8C8D6360C269}" type="pres">
      <dgm:prSet presAssocID="{8367871A-EDCD-4CA6-8EF0-60AA517B3978}" presName="composite2" presStyleCnt="0"/>
      <dgm:spPr/>
    </dgm:pt>
    <dgm:pt modelId="{D9C54001-D2D4-4735-BB11-90C2AE687347}" type="pres">
      <dgm:prSet presAssocID="{8367871A-EDCD-4CA6-8EF0-60AA517B3978}" presName="dummyNode2" presStyleLbl="node1" presStyleIdx="0" presStyleCnt="3"/>
      <dgm:spPr/>
    </dgm:pt>
    <dgm:pt modelId="{63D14D58-4324-4CD4-91C6-84C9C31952C1}" type="pres">
      <dgm:prSet presAssocID="{8367871A-EDCD-4CA6-8EF0-60AA517B3978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C3F0DFD-E151-48A6-AE4F-C6F354545060}" type="pres">
      <dgm:prSet presAssocID="{8367871A-EDCD-4CA6-8EF0-60AA517B3978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38E120F-788A-4AB6-8C7C-93AD58183F25}" type="pres">
      <dgm:prSet presAssocID="{8367871A-EDCD-4CA6-8EF0-60AA517B3978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422B2A4-9EAC-41F2-8DC8-4055C40D3CD1}" type="pres">
      <dgm:prSet presAssocID="{8367871A-EDCD-4CA6-8EF0-60AA517B3978}" presName="connSite2" presStyleCnt="0"/>
      <dgm:spPr/>
    </dgm:pt>
    <dgm:pt modelId="{5DFF97FA-0CE8-42E3-99F3-6BA9AB47BDE4}" type="pres">
      <dgm:prSet presAssocID="{92E4D4CE-1AA4-4D52-99F4-DB896DDAFFFA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CEB7E3D8-09F7-4230-906C-1376BB2D0E9C}" type="pres">
      <dgm:prSet presAssocID="{9E89A21A-8EF4-44A0-B841-7968BBDFC9FF}" presName="composite1" presStyleCnt="0"/>
      <dgm:spPr/>
    </dgm:pt>
    <dgm:pt modelId="{0EE0EF3F-28A5-4BA3-8A64-E002C7712EC1}" type="pres">
      <dgm:prSet presAssocID="{9E89A21A-8EF4-44A0-B841-7968BBDFC9FF}" presName="dummyNode1" presStyleLbl="node1" presStyleIdx="1" presStyleCnt="3"/>
      <dgm:spPr/>
    </dgm:pt>
    <dgm:pt modelId="{FC50B94C-004B-4787-85D5-3A3E056960FA}" type="pres">
      <dgm:prSet presAssocID="{9E89A21A-8EF4-44A0-B841-7968BBDFC9FF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C9813E-4A7A-4CB0-8296-9B7382C9EE8C}" type="pres">
      <dgm:prSet presAssocID="{9E89A21A-8EF4-44A0-B841-7968BBDFC9FF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BB9E358-5475-4CE7-A9FF-190361B2025F}" type="pres">
      <dgm:prSet presAssocID="{9E89A21A-8EF4-44A0-B841-7968BBDFC9FF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EAB7CF6-379B-40E7-A2EA-7C2D961808DC}" type="pres">
      <dgm:prSet presAssocID="{9E89A21A-8EF4-44A0-B841-7968BBDFC9FF}" presName="connSite1" presStyleCnt="0"/>
      <dgm:spPr/>
    </dgm:pt>
  </dgm:ptLst>
  <dgm:cxnLst>
    <dgm:cxn modelId="{E40E82B3-5728-4C06-8DA3-82949FB3D33A}" type="presOf" srcId="{92E4D4CE-1AA4-4D52-99F4-DB896DDAFFFA}" destId="{5DFF97FA-0CE8-42E3-99F3-6BA9AB47BDE4}" srcOrd="0" destOrd="0" presId="urn:microsoft.com/office/officeart/2005/8/layout/hProcess4"/>
    <dgm:cxn modelId="{A5404E69-AFBA-4891-94A5-B993B5C60EFC}" type="presOf" srcId="{485CBBDC-7747-464B-AE27-6B3085887870}" destId="{4BC9813E-4A7A-4CB0-8296-9B7382C9EE8C}" srcOrd="1" destOrd="0" presId="urn:microsoft.com/office/officeart/2005/8/layout/hProcess4"/>
    <dgm:cxn modelId="{14585ED6-939C-4AA3-9B6A-A63AF5AE0429}" type="presOf" srcId="{9E89A21A-8EF4-44A0-B841-7968BBDFC9FF}" destId="{5BB9E358-5475-4CE7-A9FF-190361B2025F}" srcOrd="0" destOrd="0" presId="urn:microsoft.com/office/officeart/2005/8/layout/hProcess4"/>
    <dgm:cxn modelId="{D6BAC4A3-5B00-481B-BEAB-2FE8030D5FD8}" type="presOf" srcId="{26C2D5BE-D3B7-4078-8850-D1577E0EAA64}" destId="{4C3F0DFD-E151-48A6-AE4F-C6F354545060}" srcOrd="1" destOrd="0" presId="urn:microsoft.com/office/officeart/2005/8/layout/hProcess4"/>
    <dgm:cxn modelId="{DC70FE6C-0968-462B-9D45-337540433FA6}" srcId="{056215A8-69AD-40E5-8456-96418DE2A40E}" destId="{AF1F2C4F-ABA5-4F83-9D71-66B3E3F62438}" srcOrd="0" destOrd="0" parTransId="{DC88FB38-EF9B-46C5-B8AA-6E4F7CE78AD9}" sibTransId="{7F0BA62A-557B-48FA-8619-3ED9E37E60BF}"/>
    <dgm:cxn modelId="{7D378874-A715-49DA-A946-925C8D3FC6C4}" srcId="{056215A8-69AD-40E5-8456-96418DE2A40E}" destId="{8367871A-EDCD-4CA6-8EF0-60AA517B3978}" srcOrd="1" destOrd="0" parTransId="{F048B4E0-B041-42B0-A331-9C90290B10A0}" sibTransId="{92E4D4CE-1AA4-4D52-99F4-DB896DDAFFFA}"/>
    <dgm:cxn modelId="{1341EB1C-03B3-4014-B7C5-9F10246EC48E}" type="presOf" srcId="{7F0BA62A-557B-48FA-8619-3ED9E37E60BF}" destId="{9BB0DF1C-8119-4D95-8FD1-9A934D11E6BD}" srcOrd="0" destOrd="0" presId="urn:microsoft.com/office/officeart/2005/8/layout/hProcess4"/>
    <dgm:cxn modelId="{43B04CD3-60FD-4165-AFBF-E1C70A9194EB}" type="presOf" srcId="{485CBBDC-7747-464B-AE27-6B3085887870}" destId="{FC50B94C-004B-4787-85D5-3A3E056960FA}" srcOrd="0" destOrd="0" presId="urn:microsoft.com/office/officeart/2005/8/layout/hProcess4"/>
    <dgm:cxn modelId="{2818523A-A115-4AC5-9718-7AFB069891A6}" type="presOf" srcId="{056215A8-69AD-40E5-8456-96418DE2A40E}" destId="{31672554-0D19-476A-B7BC-18C88177C059}" srcOrd="0" destOrd="0" presId="urn:microsoft.com/office/officeart/2005/8/layout/hProcess4"/>
    <dgm:cxn modelId="{6FB9DC06-76C5-489C-B4E4-0516BCB644E3}" srcId="{9E89A21A-8EF4-44A0-B841-7968BBDFC9FF}" destId="{B5640EBF-A38F-4B26-A6B1-C2C83622E08C}" srcOrd="1" destOrd="0" parTransId="{DB853BD8-FCC6-45E6-A0F0-8DEEC412AC04}" sibTransId="{F5354FAD-E241-4DAD-AA78-54B15F92E524}"/>
    <dgm:cxn modelId="{C5449E8A-C649-42C3-932F-207B85A2633B}" type="presOf" srcId="{B5640EBF-A38F-4B26-A6B1-C2C83622E08C}" destId="{4BC9813E-4A7A-4CB0-8296-9B7382C9EE8C}" srcOrd="1" destOrd="1" presId="urn:microsoft.com/office/officeart/2005/8/layout/hProcess4"/>
    <dgm:cxn modelId="{9E1488EA-61D7-4451-B66E-B85E287309E4}" type="presOf" srcId="{AF1F2C4F-ABA5-4F83-9D71-66B3E3F62438}" destId="{9E23C27C-2F6B-486A-A68D-A03A32B1239A}" srcOrd="0" destOrd="0" presId="urn:microsoft.com/office/officeart/2005/8/layout/hProcess4"/>
    <dgm:cxn modelId="{2A458533-1B5E-41C7-A362-7ACE8957665E}" srcId="{9E89A21A-8EF4-44A0-B841-7968BBDFC9FF}" destId="{485CBBDC-7747-464B-AE27-6B3085887870}" srcOrd="0" destOrd="0" parTransId="{6D1F463D-9488-47CB-A718-16F3F82DEDB5}" sibTransId="{80CE638B-D570-48E0-8994-281F3719A8F0}"/>
    <dgm:cxn modelId="{7387B803-8A95-4B2F-BBF9-003584AA6C40}" type="presOf" srcId="{26C2D5BE-D3B7-4078-8850-D1577E0EAA64}" destId="{63D14D58-4324-4CD4-91C6-84C9C31952C1}" srcOrd="0" destOrd="0" presId="urn:microsoft.com/office/officeart/2005/8/layout/hProcess4"/>
    <dgm:cxn modelId="{C8D1538E-F56E-4507-968A-F739197C7276}" srcId="{056215A8-69AD-40E5-8456-96418DE2A40E}" destId="{9E89A21A-8EF4-44A0-B841-7968BBDFC9FF}" srcOrd="2" destOrd="0" parTransId="{4710AC8C-E6AF-4CFE-A8ED-8E06A248F65F}" sibTransId="{CBA6F19F-D1DC-4C0E-9223-E11DECFF2DC4}"/>
    <dgm:cxn modelId="{B517A2F9-E006-423A-A229-9C16315C503D}" type="presOf" srcId="{8367871A-EDCD-4CA6-8EF0-60AA517B3978}" destId="{B38E120F-788A-4AB6-8C7C-93AD58183F25}" srcOrd="0" destOrd="0" presId="urn:microsoft.com/office/officeart/2005/8/layout/hProcess4"/>
    <dgm:cxn modelId="{2683DFDA-E311-4BA8-898C-0B5A90296482}" srcId="{8367871A-EDCD-4CA6-8EF0-60AA517B3978}" destId="{26C2D5BE-D3B7-4078-8850-D1577E0EAA64}" srcOrd="0" destOrd="0" parTransId="{03FF0331-6288-4A35-91C3-5F2325A9967A}" sibTransId="{60835A32-CB19-4E1B-8A3E-2F2765551AFF}"/>
    <dgm:cxn modelId="{23359843-8DB3-48BE-A94F-3781D856F325}" type="presOf" srcId="{B5640EBF-A38F-4B26-A6B1-C2C83622E08C}" destId="{FC50B94C-004B-4787-85D5-3A3E056960FA}" srcOrd="0" destOrd="1" presId="urn:microsoft.com/office/officeart/2005/8/layout/hProcess4"/>
    <dgm:cxn modelId="{31D44E9E-451F-4F9B-95A4-21D8D64D2BC9}" type="presParOf" srcId="{31672554-0D19-476A-B7BC-18C88177C059}" destId="{0742B591-10E8-4ED7-A22B-728BD0474B35}" srcOrd="0" destOrd="0" presId="urn:microsoft.com/office/officeart/2005/8/layout/hProcess4"/>
    <dgm:cxn modelId="{8467490A-B6D6-4DB9-80E9-2CC19F6A8614}" type="presParOf" srcId="{31672554-0D19-476A-B7BC-18C88177C059}" destId="{A56ECD29-B374-4629-B21B-E23A8D6D3FEF}" srcOrd="1" destOrd="0" presId="urn:microsoft.com/office/officeart/2005/8/layout/hProcess4"/>
    <dgm:cxn modelId="{36CD78FB-27DC-4511-85DA-AF8673F9D8B3}" type="presParOf" srcId="{31672554-0D19-476A-B7BC-18C88177C059}" destId="{8DFC6E79-4DCF-4180-84F5-504313A724AF}" srcOrd="2" destOrd="0" presId="urn:microsoft.com/office/officeart/2005/8/layout/hProcess4"/>
    <dgm:cxn modelId="{58EB8EEA-2812-47E6-9D9D-9916C3B69228}" type="presParOf" srcId="{8DFC6E79-4DCF-4180-84F5-504313A724AF}" destId="{2D90EFE3-3538-4E13-8A34-91B866287411}" srcOrd="0" destOrd="0" presId="urn:microsoft.com/office/officeart/2005/8/layout/hProcess4"/>
    <dgm:cxn modelId="{F957DAD7-E5D3-4C27-874D-3BF1427E5DC0}" type="presParOf" srcId="{2D90EFE3-3538-4E13-8A34-91B866287411}" destId="{B35AEF57-13F9-47EB-9EA8-B89045E288E8}" srcOrd="0" destOrd="0" presId="urn:microsoft.com/office/officeart/2005/8/layout/hProcess4"/>
    <dgm:cxn modelId="{BF5974B6-737A-4F23-B809-F023328D1865}" type="presParOf" srcId="{2D90EFE3-3538-4E13-8A34-91B866287411}" destId="{03E88B35-7F3C-41D1-8F4E-6C7D6123A4BE}" srcOrd="1" destOrd="0" presId="urn:microsoft.com/office/officeart/2005/8/layout/hProcess4"/>
    <dgm:cxn modelId="{9BB1F54C-1198-446E-9CB4-58B49BBE046F}" type="presParOf" srcId="{2D90EFE3-3538-4E13-8A34-91B866287411}" destId="{3F18238D-FC7E-4D9E-91A6-3FA8723FA6F3}" srcOrd="2" destOrd="0" presId="urn:microsoft.com/office/officeart/2005/8/layout/hProcess4"/>
    <dgm:cxn modelId="{340C258E-2657-48B7-A1F2-0BCEEB8FE1C2}" type="presParOf" srcId="{2D90EFE3-3538-4E13-8A34-91B866287411}" destId="{9E23C27C-2F6B-486A-A68D-A03A32B1239A}" srcOrd="3" destOrd="0" presId="urn:microsoft.com/office/officeart/2005/8/layout/hProcess4"/>
    <dgm:cxn modelId="{6F86F516-33B2-4D4E-8567-04DDDF3ADFDE}" type="presParOf" srcId="{2D90EFE3-3538-4E13-8A34-91B866287411}" destId="{6D7DC70B-8128-4A4E-9491-B8F080EB3F6D}" srcOrd="4" destOrd="0" presId="urn:microsoft.com/office/officeart/2005/8/layout/hProcess4"/>
    <dgm:cxn modelId="{8312FF93-14F5-40F4-8F0A-6160FBC99089}" type="presParOf" srcId="{8DFC6E79-4DCF-4180-84F5-504313A724AF}" destId="{9BB0DF1C-8119-4D95-8FD1-9A934D11E6BD}" srcOrd="1" destOrd="0" presId="urn:microsoft.com/office/officeart/2005/8/layout/hProcess4"/>
    <dgm:cxn modelId="{94CF02CD-4130-4244-89DD-BBB2FF5E45F7}" type="presParOf" srcId="{8DFC6E79-4DCF-4180-84F5-504313A724AF}" destId="{87D069B2-A318-469D-920D-8C8D6360C269}" srcOrd="2" destOrd="0" presId="urn:microsoft.com/office/officeart/2005/8/layout/hProcess4"/>
    <dgm:cxn modelId="{61AD148D-6371-4667-A65C-5DF5D47DD60D}" type="presParOf" srcId="{87D069B2-A318-469D-920D-8C8D6360C269}" destId="{D9C54001-D2D4-4735-BB11-90C2AE687347}" srcOrd="0" destOrd="0" presId="urn:microsoft.com/office/officeart/2005/8/layout/hProcess4"/>
    <dgm:cxn modelId="{16DA3025-8B75-45EA-A0AC-A878DACBC56A}" type="presParOf" srcId="{87D069B2-A318-469D-920D-8C8D6360C269}" destId="{63D14D58-4324-4CD4-91C6-84C9C31952C1}" srcOrd="1" destOrd="0" presId="urn:microsoft.com/office/officeart/2005/8/layout/hProcess4"/>
    <dgm:cxn modelId="{02AC4E1C-C788-4ABD-AD22-94EA7A88B1A6}" type="presParOf" srcId="{87D069B2-A318-469D-920D-8C8D6360C269}" destId="{4C3F0DFD-E151-48A6-AE4F-C6F354545060}" srcOrd="2" destOrd="0" presId="urn:microsoft.com/office/officeart/2005/8/layout/hProcess4"/>
    <dgm:cxn modelId="{25C8C41C-88C1-4A52-A379-DE0BBE15555B}" type="presParOf" srcId="{87D069B2-A318-469D-920D-8C8D6360C269}" destId="{B38E120F-788A-4AB6-8C7C-93AD58183F25}" srcOrd="3" destOrd="0" presId="urn:microsoft.com/office/officeart/2005/8/layout/hProcess4"/>
    <dgm:cxn modelId="{E18C4268-AC8D-47E3-A6BD-FE578B10B011}" type="presParOf" srcId="{87D069B2-A318-469D-920D-8C8D6360C269}" destId="{9422B2A4-9EAC-41F2-8DC8-4055C40D3CD1}" srcOrd="4" destOrd="0" presId="urn:microsoft.com/office/officeart/2005/8/layout/hProcess4"/>
    <dgm:cxn modelId="{27C54F52-184D-4728-A77C-51F06E81D413}" type="presParOf" srcId="{8DFC6E79-4DCF-4180-84F5-504313A724AF}" destId="{5DFF97FA-0CE8-42E3-99F3-6BA9AB47BDE4}" srcOrd="3" destOrd="0" presId="urn:microsoft.com/office/officeart/2005/8/layout/hProcess4"/>
    <dgm:cxn modelId="{858D95DD-BC80-4ADF-92E3-4D3D26AD0469}" type="presParOf" srcId="{8DFC6E79-4DCF-4180-84F5-504313A724AF}" destId="{CEB7E3D8-09F7-4230-906C-1376BB2D0E9C}" srcOrd="4" destOrd="0" presId="urn:microsoft.com/office/officeart/2005/8/layout/hProcess4"/>
    <dgm:cxn modelId="{224D3D66-5F64-4F3C-897A-A0575CF38C21}" type="presParOf" srcId="{CEB7E3D8-09F7-4230-906C-1376BB2D0E9C}" destId="{0EE0EF3F-28A5-4BA3-8A64-E002C7712EC1}" srcOrd="0" destOrd="0" presId="urn:microsoft.com/office/officeart/2005/8/layout/hProcess4"/>
    <dgm:cxn modelId="{637A8FB5-4B62-4208-93B2-1DB805EA56D5}" type="presParOf" srcId="{CEB7E3D8-09F7-4230-906C-1376BB2D0E9C}" destId="{FC50B94C-004B-4787-85D5-3A3E056960FA}" srcOrd="1" destOrd="0" presId="urn:microsoft.com/office/officeart/2005/8/layout/hProcess4"/>
    <dgm:cxn modelId="{DF3283BC-9A69-41B6-879F-FDE14D01F41A}" type="presParOf" srcId="{CEB7E3D8-09F7-4230-906C-1376BB2D0E9C}" destId="{4BC9813E-4A7A-4CB0-8296-9B7382C9EE8C}" srcOrd="2" destOrd="0" presId="urn:microsoft.com/office/officeart/2005/8/layout/hProcess4"/>
    <dgm:cxn modelId="{ED5D2B16-FCC3-4C9F-A17D-8147855BD7CC}" type="presParOf" srcId="{CEB7E3D8-09F7-4230-906C-1376BB2D0E9C}" destId="{5BB9E358-5475-4CE7-A9FF-190361B2025F}" srcOrd="3" destOrd="0" presId="urn:microsoft.com/office/officeart/2005/8/layout/hProcess4"/>
    <dgm:cxn modelId="{B5B9CBF9-87B9-44FF-A610-CB978D73D8DB}" type="presParOf" srcId="{CEB7E3D8-09F7-4230-906C-1376BB2D0E9C}" destId="{EEAB7CF6-379B-40E7-A2EA-7C2D961808DC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B8F2EB7-87A2-43F3-B58F-248EAB3FC864}" type="doc">
      <dgm:prSet loTypeId="urn:microsoft.com/office/officeart/2005/8/layout/cycle8" loCatId="cycle" qsTypeId="urn:microsoft.com/office/officeart/2005/8/quickstyle/3d9" qsCatId="3D" csTypeId="urn:microsoft.com/office/officeart/2005/8/colors/colorful2" csCatId="colorful" phldr="1"/>
      <dgm:spPr/>
    </dgm:pt>
    <dgm:pt modelId="{110555D6-43D3-4D01-871E-4072A02A042A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CEA59F8D-8BAC-4DB1-8EAF-2027290A0DDE}" type="par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66BBAD90-CBC5-4A7F-A64D-8A44CF395D7C}" type="sibTrans" cxnId="{D3BA6218-0762-478C-B39B-3D9B3594D2BF}">
      <dgm:prSet/>
      <dgm:spPr/>
      <dgm:t>
        <a:bodyPr/>
        <a:lstStyle/>
        <a:p>
          <a:endParaRPr lang="zh-CN" altLang="en-US"/>
        </a:p>
      </dgm:t>
    </dgm:pt>
    <dgm:pt modelId="{44A90609-BB3E-480F-AFB3-4030EE69BDE3}">
      <dgm:prSet phldrT="[文本]"/>
      <dgm:spPr/>
      <dgm:t>
        <a:bodyPr/>
        <a:lstStyle/>
        <a:p>
          <a:r>
            <a:rPr lang="en-US" altLang="zh-CN" dirty="0" smtClean="0"/>
            <a:t>Test</a:t>
          </a:r>
          <a:endParaRPr lang="zh-CN" altLang="en-US" dirty="0"/>
        </a:p>
      </dgm:t>
    </dgm:pt>
    <dgm:pt modelId="{D66D9ECD-3201-46D2-A848-DCA169741C6B}" type="par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40C03C0-CFEA-4091-8A04-46A0F6298696}" type="sibTrans" cxnId="{D9EFDDD4-A04D-4D1D-889D-5A87A8B869EB}">
      <dgm:prSet/>
      <dgm:spPr/>
      <dgm:t>
        <a:bodyPr/>
        <a:lstStyle/>
        <a:p>
          <a:endParaRPr lang="zh-CN" altLang="en-US"/>
        </a:p>
      </dgm:t>
    </dgm:pt>
    <dgm:pt modelId="{E764F87A-9F38-4E74-9783-EB2C2D1A56D8}">
      <dgm:prSet phldrT="[文本]"/>
      <dgm:spPr/>
      <dgm:t>
        <a:bodyPr/>
        <a:lstStyle/>
        <a:p>
          <a:r>
            <a:rPr lang="en-US" altLang="zh-CN" dirty="0" smtClean="0"/>
            <a:t>Test</a:t>
          </a:r>
        </a:p>
      </dgm:t>
    </dgm:pt>
    <dgm:pt modelId="{7546A577-6A77-432B-8C9C-BF858DEEA59C}" type="par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55A27A37-9A94-4CF7-BE21-1F4E16339E07}" type="sibTrans" cxnId="{641B1703-D617-49B2-AE4A-6E759C8AA68B}">
      <dgm:prSet/>
      <dgm:spPr/>
      <dgm:t>
        <a:bodyPr/>
        <a:lstStyle/>
        <a:p>
          <a:endParaRPr lang="zh-CN" altLang="en-US"/>
        </a:p>
      </dgm:t>
    </dgm:pt>
    <dgm:pt modelId="{A45B7F23-0F21-4C06-AF0A-CBBBA8690A5F}" type="pres">
      <dgm:prSet presAssocID="{FB8F2EB7-87A2-43F3-B58F-248EAB3FC864}" presName="compositeShape" presStyleCnt="0">
        <dgm:presLayoutVars>
          <dgm:chMax val="7"/>
          <dgm:dir/>
          <dgm:resizeHandles val="exact"/>
        </dgm:presLayoutVars>
      </dgm:prSet>
      <dgm:spPr/>
    </dgm:pt>
    <dgm:pt modelId="{E493F9E3-DAAF-4A13-993B-B812B9596939}" type="pres">
      <dgm:prSet presAssocID="{FB8F2EB7-87A2-43F3-B58F-248EAB3FC864}" presName="wedge1" presStyleLbl="node1" presStyleIdx="0" presStyleCnt="3"/>
      <dgm:spPr/>
      <dgm:t>
        <a:bodyPr/>
        <a:lstStyle/>
        <a:p>
          <a:endParaRPr lang="zh-CN" altLang="en-US"/>
        </a:p>
      </dgm:t>
    </dgm:pt>
    <dgm:pt modelId="{D5ACF9A8-5608-4C14-86A6-0A6071C17D4F}" type="pres">
      <dgm:prSet presAssocID="{FB8F2EB7-87A2-43F3-B58F-248EAB3FC864}" presName="dummy1a" presStyleCnt="0"/>
      <dgm:spPr/>
    </dgm:pt>
    <dgm:pt modelId="{A1538A13-6228-4252-AD9B-57EE81079F3F}" type="pres">
      <dgm:prSet presAssocID="{FB8F2EB7-87A2-43F3-B58F-248EAB3FC864}" presName="dummy1b" presStyleCnt="0"/>
      <dgm:spPr/>
    </dgm:pt>
    <dgm:pt modelId="{8E3D39C8-6AF4-4F0E-93C3-9670CB03196E}" type="pres">
      <dgm:prSet presAssocID="{FB8F2EB7-87A2-43F3-B58F-248EAB3FC864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6FAC3EC-49C4-4B5A-B0A3-DB5DCDE88E3E}" type="pres">
      <dgm:prSet presAssocID="{FB8F2EB7-87A2-43F3-B58F-248EAB3FC864}" presName="wedge2" presStyleLbl="node1" presStyleIdx="1" presStyleCnt="3"/>
      <dgm:spPr/>
      <dgm:t>
        <a:bodyPr/>
        <a:lstStyle/>
        <a:p>
          <a:endParaRPr lang="zh-CN" altLang="en-US"/>
        </a:p>
      </dgm:t>
    </dgm:pt>
    <dgm:pt modelId="{2AA4EE0A-4C4A-4D84-AB12-73572B2BC71A}" type="pres">
      <dgm:prSet presAssocID="{FB8F2EB7-87A2-43F3-B58F-248EAB3FC864}" presName="dummy2a" presStyleCnt="0"/>
      <dgm:spPr/>
    </dgm:pt>
    <dgm:pt modelId="{D2598D74-D251-4214-8C98-67D55D7F86B3}" type="pres">
      <dgm:prSet presAssocID="{FB8F2EB7-87A2-43F3-B58F-248EAB3FC864}" presName="dummy2b" presStyleCnt="0"/>
      <dgm:spPr/>
    </dgm:pt>
    <dgm:pt modelId="{A3DE3145-70E8-4745-9719-D5DE2F3A54F2}" type="pres">
      <dgm:prSet presAssocID="{FB8F2EB7-87A2-43F3-B58F-248EAB3FC864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B2518E15-CB8E-4DD1-8ECA-E912B4C8B840}" type="pres">
      <dgm:prSet presAssocID="{FB8F2EB7-87A2-43F3-B58F-248EAB3FC864}" presName="wedge3" presStyleLbl="node1" presStyleIdx="2" presStyleCnt="3"/>
      <dgm:spPr/>
      <dgm:t>
        <a:bodyPr/>
        <a:lstStyle/>
        <a:p>
          <a:endParaRPr lang="zh-CN" altLang="en-US"/>
        </a:p>
      </dgm:t>
    </dgm:pt>
    <dgm:pt modelId="{3FC5E115-2604-40D3-9C15-E8CE66A86819}" type="pres">
      <dgm:prSet presAssocID="{FB8F2EB7-87A2-43F3-B58F-248EAB3FC864}" presName="dummy3a" presStyleCnt="0"/>
      <dgm:spPr/>
    </dgm:pt>
    <dgm:pt modelId="{507D4A05-B4BA-4FF1-BB33-E8BF7E156836}" type="pres">
      <dgm:prSet presAssocID="{FB8F2EB7-87A2-43F3-B58F-248EAB3FC864}" presName="dummy3b" presStyleCnt="0"/>
      <dgm:spPr/>
    </dgm:pt>
    <dgm:pt modelId="{BC7FD5E8-2D26-4708-A112-F5FCCA1C9986}" type="pres">
      <dgm:prSet presAssocID="{FB8F2EB7-87A2-43F3-B58F-248EAB3FC864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23601F8-2575-4F18-AC70-067D5FDA137D}" type="pres">
      <dgm:prSet presAssocID="{66BBAD90-CBC5-4A7F-A64D-8A44CF395D7C}" presName="arrowWedge1" presStyleLbl="fgSibTrans2D1" presStyleIdx="0" presStyleCnt="3"/>
      <dgm:spPr/>
    </dgm:pt>
    <dgm:pt modelId="{C8BC481C-ED52-4204-A38E-DFD50067CD27}" type="pres">
      <dgm:prSet presAssocID="{E40C03C0-CFEA-4091-8A04-46A0F6298696}" presName="arrowWedge2" presStyleLbl="fgSibTrans2D1" presStyleIdx="1" presStyleCnt="3"/>
      <dgm:spPr/>
    </dgm:pt>
    <dgm:pt modelId="{DF6E342E-C687-4CF8-8285-979F41F7D066}" type="pres">
      <dgm:prSet presAssocID="{55A27A37-9A94-4CF7-BE21-1F4E16339E07}" presName="arrowWedge3" presStyleLbl="fgSibTrans2D1" presStyleIdx="2" presStyleCnt="3"/>
      <dgm:spPr/>
    </dgm:pt>
  </dgm:ptLst>
  <dgm:cxnLst>
    <dgm:cxn modelId="{D3BA6218-0762-478C-B39B-3D9B3594D2BF}" srcId="{FB8F2EB7-87A2-43F3-B58F-248EAB3FC864}" destId="{110555D6-43D3-4D01-871E-4072A02A042A}" srcOrd="0" destOrd="0" parTransId="{CEA59F8D-8BAC-4DB1-8EAF-2027290A0DDE}" sibTransId="{66BBAD90-CBC5-4A7F-A64D-8A44CF395D7C}"/>
    <dgm:cxn modelId="{FA71E825-3D58-4D62-B535-94C5BC65C812}" type="presOf" srcId="{44A90609-BB3E-480F-AFB3-4030EE69BDE3}" destId="{A3DE3145-70E8-4745-9719-D5DE2F3A54F2}" srcOrd="1" destOrd="0" presId="urn:microsoft.com/office/officeart/2005/8/layout/cycle8"/>
    <dgm:cxn modelId="{076778EE-9489-4FEB-B1BA-7594B85D64F8}" type="presOf" srcId="{E764F87A-9F38-4E74-9783-EB2C2D1A56D8}" destId="{B2518E15-CB8E-4DD1-8ECA-E912B4C8B840}" srcOrd="0" destOrd="0" presId="urn:microsoft.com/office/officeart/2005/8/layout/cycle8"/>
    <dgm:cxn modelId="{32F3FF4E-8844-4A39-BF83-14805C8A8B78}" type="presOf" srcId="{110555D6-43D3-4D01-871E-4072A02A042A}" destId="{8E3D39C8-6AF4-4F0E-93C3-9670CB03196E}" srcOrd="1" destOrd="0" presId="urn:microsoft.com/office/officeart/2005/8/layout/cycle8"/>
    <dgm:cxn modelId="{C07BDEDB-7959-4EFE-B3C5-C970C9714E32}" type="presOf" srcId="{E764F87A-9F38-4E74-9783-EB2C2D1A56D8}" destId="{BC7FD5E8-2D26-4708-A112-F5FCCA1C9986}" srcOrd="1" destOrd="0" presId="urn:microsoft.com/office/officeart/2005/8/layout/cycle8"/>
    <dgm:cxn modelId="{D9EFDDD4-A04D-4D1D-889D-5A87A8B869EB}" srcId="{FB8F2EB7-87A2-43F3-B58F-248EAB3FC864}" destId="{44A90609-BB3E-480F-AFB3-4030EE69BDE3}" srcOrd="1" destOrd="0" parTransId="{D66D9ECD-3201-46D2-A848-DCA169741C6B}" sibTransId="{E40C03C0-CFEA-4091-8A04-46A0F6298696}"/>
    <dgm:cxn modelId="{535D86C9-0745-4441-8CE2-C22D94C2A7EE}" type="presOf" srcId="{110555D6-43D3-4D01-871E-4072A02A042A}" destId="{E493F9E3-DAAF-4A13-993B-B812B9596939}" srcOrd="0" destOrd="0" presId="urn:microsoft.com/office/officeart/2005/8/layout/cycle8"/>
    <dgm:cxn modelId="{14B38502-3F84-4CE5-BBB9-53CF47DE6066}" type="presOf" srcId="{44A90609-BB3E-480F-AFB3-4030EE69BDE3}" destId="{C6FAC3EC-49C4-4B5A-B0A3-DB5DCDE88E3E}" srcOrd="0" destOrd="0" presId="urn:microsoft.com/office/officeart/2005/8/layout/cycle8"/>
    <dgm:cxn modelId="{641B1703-D617-49B2-AE4A-6E759C8AA68B}" srcId="{FB8F2EB7-87A2-43F3-B58F-248EAB3FC864}" destId="{E764F87A-9F38-4E74-9783-EB2C2D1A56D8}" srcOrd="2" destOrd="0" parTransId="{7546A577-6A77-432B-8C9C-BF858DEEA59C}" sibTransId="{55A27A37-9A94-4CF7-BE21-1F4E16339E07}"/>
    <dgm:cxn modelId="{105E843A-8B28-4318-8BD7-D136B0A2D949}" type="presOf" srcId="{FB8F2EB7-87A2-43F3-B58F-248EAB3FC864}" destId="{A45B7F23-0F21-4C06-AF0A-CBBBA8690A5F}" srcOrd="0" destOrd="0" presId="urn:microsoft.com/office/officeart/2005/8/layout/cycle8"/>
    <dgm:cxn modelId="{192C6F60-94A3-4BE4-A080-D4CEE22102BE}" type="presParOf" srcId="{A45B7F23-0F21-4C06-AF0A-CBBBA8690A5F}" destId="{E493F9E3-DAAF-4A13-993B-B812B9596939}" srcOrd="0" destOrd="0" presId="urn:microsoft.com/office/officeart/2005/8/layout/cycle8"/>
    <dgm:cxn modelId="{A863D0FC-72E9-42CD-A40C-BB207433AE4E}" type="presParOf" srcId="{A45B7F23-0F21-4C06-AF0A-CBBBA8690A5F}" destId="{D5ACF9A8-5608-4C14-86A6-0A6071C17D4F}" srcOrd="1" destOrd="0" presId="urn:microsoft.com/office/officeart/2005/8/layout/cycle8"/>
    <dgm:cxn modelId="{125A8A66-CA9F-4CCB-9F6A-E0B98FB89F3D}" type="presParOf" srcId="{A45B7F23-0F21-4C06-AF0A-CBBBA8690A5F}" destId="{A1538A13-6228-4252-AD9B-57EE81079F3F}" srcOrd="2" destOrd="0" presId="urn:microsoft.com/office/officeart/2005/8/layout/cycle8"/>
    <dgm:cxn modelId="{37A81CF0-F229-4DBE-883F-FC2AA3F66508}" type="presParOf" srcId="{A45B7F23-0F21-4C06-AF0A-CBBBA8690A5F}" destId="{8E3D39C8-6AF4-4F0E-93C3-9670CB03196E}" srcOrd="3" destOrd="0" presId="urn:microsoft.com/office/officeart/2005/8/layout/cycle8"/>
    <dgm:cxn modelId="{A919C266-23F8-4E7B-809A-0462F8D16821}" type="presParOf" srcId="{A45B7F23-0F21-4C06-AF0A-CBBBA8690A5F}" destId="{C6FAC3EC-49C4-4B5A-B0A3-DB5DCDE88E3E}" srcOrd="4" destOrd="0" presId="urn:microsoft.com/office/officeart/2005/8/layout/cycle8"/>
    <dgm:cxn modelId="{5453EADD-A6A2-4509-A704-C98FC37B0862}" type="presParOf" srcId="{A45B7F23-0F21-4C06-AF0A-CBBBA8690A5F}" destId="{2AA4EE0A-4C4A-4D84-AB12-73572B2BC71A}" srcOrd="5" destOrd="0" presId="urn:microsoft.com/office/officeart/2005/8/layout/cycle8"/>
    <dgm:cxn modelId="{FD6A2949-87FF-43F8-901A-83A8DE8C220A}" type="presParOf" srcId="{A45B7F23-0F21-4C06-AF0A-CBBBA8690A5F}" destId="{D2598D74-D251-4214-8C98-67D55D7F86B3}" srcOrd="6" destOrd="0" presId="urn:microsoft.com/office/officeart/2005/8/layout/cycle8"/>
    <dgm:cxn modelId="{91F66ED1-49BB-4007-84C0-A49C8F272236}" type="presParOf" srcId="{A45B7F23-0F21-4C06-AF0A-CBBBA8690A5F}" destId="{A3DE3145-70E8-4745-9719-D5DE2F3A54F2}" srcOrd="7" destOrd="0" presId="urn:microsoft.com/office/officeart/2005/8/layout/cycle8"/>
    <dgm:cxn modelId="{E9EFA487-8210-4988-8344-1A3F746CE8D2}" type="presParOf" srcId="{A45B7F23-0F21-4C06-AF0A-CBBBA8690A5F}" destId="{B2518E15-CB8E-4DD1-8ECA-E912B4C8B840}" srcOrd="8" destOrd="0" presId="urn:microsoft.com/office/officeart/2005/8/layout/cycle8"/>
    <dgm:cxn modelId="{250FC174-8903-4872-B6D4-9F5FA4B2A754}" type="presParOf" srcId="{A45B7F23-0F21-4C06-AF0A-CBBBA8690A5F}" destId="{3FC5E115-2604-40D3-9C15-E8CE66A86819}" srcOrd="9" destOrd="0" presId="urn:microsoft.com/office/officeart/2005/8/layout/cycle8"/>
    <dgm:cxn modelId="{41E87332-7FBF-45FD-BA90-AF773CF040B8}" type="presParOf" srcId="{A45B7F23-0F21-4C06-AF0A-CBBBA8690A5F}" destId="{507D4A05-B4BA-4FF1-BB33-E8BF7E156836}" srcOrd="10" destOrd="0" presId="urn:microsoft.com/office/officeart/2005/8/layout/cycle8"/>
    <dgm:cxn modelId="{28B833C1-6CFD-45B1-8AB5-0E96ED9F9F0A}" type="presParOf" srcId="{A45B7F23-0F21-4C06-AF0A-CBBBA8690A5F}" destId="{BC7FD5E8-2D26-4708-A112-F5FCCA1C9986}" srcOrd="11" destOrd="0" presId="urn:microsoft.com/office/officeart/2005/8/layout/cycle8"/>
    <dgm:cxn modelId="{344806A9-AAE3-406E-896B-74CA9AAF8821}" type="presParOf" srcId="{A45B7F23-0F21-4C06-AF0A-CBBBA8690A5F}" destId="{123601F8-2575-4F18-AC70-067D5FDA137D}" srcOrd="12" destOrd="0" presId="urn:microsoft.com/office/officeart/2005/8/layout/cycle8"/>
    <dgm:cxn modelId="{E74F9092-303E-4CE9-BDB1-9598148A46C4}" type="presParOf" srcId="{A45B7F23-0F21-4C06-AF0A-CBBBA8690A5F}" destId="{C8BC481C-ED52-4204-A38E-DFD50067CD27}" srcOrd="13" destOrd="0" presId="urn:microsoft.com/office/officeart/2005/8/layout/cycle8"/>
    <dgm:cxn modelId="{E3E4F2AE-2725-4697-8C86-8C47EF281C6E}" type="presParOf" srcId="{A45B7F23-0F21-4C06-AF0A-CBBBA8690A5F}" destId="{DF6E342E-C687-4CF8-8285-979F41F7D066}" srcOrd="14" destOrd="0" presId="urn:microsoft.com/office/officeart/2005/8/layout/cycle8"/>
  </dgm:cxnLst>
  <dgm:bg>
    <a:effectLst>
      <a:outerShdw blurRad="76200" dir="13500000" sy="23000" kx="1200000" algn="br" rotWithShape="0">
        <a:prstClr val="black">
          <a:alpha val="20000"/>
        </a:prstClr>
      </a:outerShdw>
    </a:effectLst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3E88B35-7F3C-41D1-8F4E-6C7D6123A4BE}">
      <dsp:nvSpPr>
        <dsp:cNvPr id="0" name=""/>
        <dsp:cNvSpPr/>
      </dsp:nvSpPr>
      <dsp:spPr>
        <a:xfrm>
          <a:off x="5386" y="1571638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0"/>
              <a:satOff val="0"/>
              <a:lumOff val="0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9BB0DF1C-8119-4D95-8FD1-9A934D11E6BD}">
      <dsp:nvSpPr>
        <dsp:cNvPr id="0" name=""/>
        <dsp:cNvSpPr/>
      </dsp:nvSpPr>
      <dsp:spPr>
        <a:xfrm>
          <a:off x="1104499" y="2432424"/>
          <a:ext cx="1900688" cy="1900688"/>
        </a:xfrm>
        <a:prstGeom prst="leftCircularArrow">
          <a:avLst>
            <a:gd name="adj1" fmla="val 2177"/>
            <a:gd name="adj2" fmla="val 261911"/>
            <a:gd name="adj3" fmla="val 2037422"/>
            <a:gd name="adj4" fmla="val 9024489"/>
            <a:gd name="adj5" fmla="val 2540"/>
          </a:avLst>
        </a:prstGeom>
        <a:solidFill>
          <a:schemeClr val="accent5">
            <a:shade val="9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E23C27C-2F6B-486A-A68D-A03A32B1239A}">
      <dsp:nvSpPr>
        <dsp:cNvPr id="0" name=""/>
        <dsp:cNvSpPr/>
      </dsp:nvSpPr>
      <dsp:spPr>
        <a:xfrm>
          <a:off x="426071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kern="1200" dirty="0" smtClean="0">
              <a:ea typeface="宋体" charset="-122"/>
            </a:rPr>
            <a:t>is a Design Digital Content &amp; Contents mall developed by Guild Design Inc.</a:t>
          </a:r>
          <a:endParaRPr lang="zh-CN" altLang="en-US" sz="1100" kern="1200" dirty="0"/>
        </a:p>
      </dsp:txBody>
      <dsp:txXfrm>
        <a:off x="445670" y="3180356"/>
        <a:ext cx="1643542" cy="629972"/>
      </dsp:txXfrm>
    </dsp:sp>
    <dsp:sp modelId="{63D14D58-4324-4CD4-91C6-84C9C31952C1}">
      <dsp:nvSpPr>
        <dsp:cNvPr id="0" name=""/>
        <dsp:cNvSpPr/>
      </dsp:nvSpPr>
      <dsp:spPr>
        <a:xfrm>
          <a:off x="2305873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en-US" altLang="zh-CN" sz="2100" kern="1200" dirty="0">
            <a:ea typeface="宋体" charset="-122"/>
          </a:endParaRPr>
        </a:p>
      </dsp:txBody>
      <dsp:txXfrm>
        <a:off x="2341805" y="2304462"/>
        <a:ext cx="1821218" cy="1154948"/>
      </dsp:txXfrm>
    </dsp:sp>
    <dsp:sp modelId="{5DFF97FA-0CE8-42E3-99F3-6BA9AB47BDE4}">
      <dsp:nvSpPr>
        <dsp:cNvPr id="0" name=""/>
        <dsp:cNvSpPr/>
      </dsp:nvSpPr>
      <dsp:spPr>
        <a:xfrm>
          <a:off x="3389210" y="1034953"/>
          <a:ext cx="2142582" cy="2142582"/>
        </a:xfrm>
        <a:prstGeom prst="circularArrow">
          <a:avLst>
            <a:gd name="adj1" fmla="val 1931"/>
            <a:gd name="adj2" fmla="val 231038"/>
            <a:gd name="adj3" fmla="val 19593451"/>
            <a:gd name="adj4" fmla="val 12575511"/>
            <a:gd name="adj5" fmla="val 2253"/>
          </a:avLst>
        </a:prstGeom>
        <a:solidFill>
          <a:schemeClr val="accent5">
            <a:shade val="90000"/>
            <a:hueOff val="265828"/>
            <a:satOff val="-6642"/>
            <a:lumOff val="31782"/>
            <a:alphaOff val="0"/>
          </a:schemeClr>
        </a:solidFill>
        <a:ln>
          <a:noFill/>
        </a:ln>
        <a:effectLst/>
        <a:sp3d z="-22735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38E120F-788A-4AB6-8C7C-93AD58183F25}">
      <dsp:nvSpPr>
        <dsp:cNvPr id="0" name=""/>
        <dsp:cNvSpPr/>
      </dsp:nvSpPr>
      <dsp:spPr>
        <a:xfrm>
          <a:off x="2726558" y="1599360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</a:p>
      </dsp:txBody>
      <dsp:txXfrm>
        <a:off x="2746157" y="1618959"/>
        <a:ext cx="1643542" cy="629972"/>
      </dsp:txXfrm>
    </dsp:sp>
    <dsp:sp modelId="{FC50B94C-004B-4787-85D5-3A3E056960FA}">
      <dsp:nvSpPr>
        <dsp:cNvPr id="0" name=""/>
        <dsp:cNvSpPr/>
      </dsp:nvSpPr>
      <dsp:spPr>
        <a:xfrm>
          <a:off x="4606360" y="1933945"/>
          <a:ext cx="1893082" cy="1561397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shade val="50000"/>
              <a:hueOff val="168648"/>
              <a:satOff val="-3730"/>
              <a:lumOff val="27991"/>
              <a:alphaOff val="0"/>
            </a:schemeClr>
          </a:solidFill>
          <a:prstDash val="solid"/>
        </a:ln>
        <a:effectLst/>
        <a:sp3d z="-227350" prstMaterial="matte"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0005" tIns="40005" rIns="40005" bIns="40005" numCol="1" spcCol="1270" anchor="t" anchorCtr="0">
          <a:noAutofit/>
        </a:bodyPr>
        <a:lstStyle/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  <a:p>
          <a:pPr marL="228600" lvl="1" indent="-228600" algn="l" defTabSz="9334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altLang="zh-CN" sz="2100" kern="1200" dirty="0" smtClean="0">
              <a:ea typeface="宋体" charset="-122"/>
            </a:rPr>
            <a:t>Add your text</a:t>
          </a:r>
          <a:endParaRPr lang="zh-CN" altLang="en-US" sz="2100" kern="1200" dirty="0"/>
        </a:p>
      </dsp:txBody>
      <dsp:txXfrm>
        <a:off x="4642292" y="1969877"/>
        <a:ext cx="1821218" cy="1154948"/>
      </dsp:txXfrm>
    </dsp:sp>
    <dsp:sp modelId="{5BB9E358-5475-4CE7-A9FF-190361B2025F}">
      <dsp:nvSpPr>
        <dsp:cNvPr id="0" name=""/>
        <dsp:cNvSpPr/>
      </dsp:nvSpPr>
      <dsp:spPr>
        <a:xfrm>
          <a:off x="5027045" y="3160757"/>
          <a:ext cx="1682740" cy="669170"/>
        </a:xfrm>
        <a:prstGeom prst="roundRect">
          <a:avLst>
            <a:gd name="adj" fmla="val 10000"/>
          </a:avLst>
        </a:prstGeom>
        <a:solidFill>
          <a:schemeClr val="accent5">
            <a:shade val="50000"/>
            <a:hueOff val="168648"/>
            <a:satOff val="-3730"/>
            <a:lumOff val="27991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20955" tIns="13970" rIns="20955" bIns="13970" numCol="1" spcCol="1270" anchor="ctr" anchorCtr="0">
          <a:noAutofit/>
          <a:sp3d extrusionH="28000" prstMaterial="matte"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100" b="1" kern="1200" dirty="0" smtClean="0">
              <a:ea typeface="宋体" charset="-122"/>
            </a:rPr>
            <a:t>Title</a:t>
          </a:r>
          <a:endParaRPr lang="zh-CN" altLang="en-US" sz="1100" kern="1200" dirty="0"/>
        </a:p>
      </dsp:txBody>
      <dsp:txXfrm>
        <a:off x="5046644" y="3180356"/>
        <a:ext cx="1643542" cy="629972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493F9E3-DAAF-4A13-993B-B812B9596939}">
      <dsp:nvSpPr>
        <dsp:cNvPr id="0" name=""/>
        <dsp:cNvSpPr/>
      </dsp:nvSpPr>
      <dsp:spPr>
        <a:xfrm>
          <a:off x="1440195" y="259516"/>
          <a:ext cx="3353752" cy="3353752"/>
        </a:xfrm>
        <a:prstGeom prst="pie">
          <a:avLst>
            <a:gd name="adj1" fmla="val 16200000"/>
            <a:gd name="adj2" fmla="val 180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3207702" y="970192"/>
        <a:ext cx="1197768" cy="998140"/>
      </dsp:txXfrm>
    </dsp:sp>
    <dsp:sp modelId="{C6FAC3EC-49C4-4B5A-B0A3-DB5DCDE88E3E}">
      <dsp:nvSpPr>
        <dsp:cNvPr id="0" name=""/>
        <dsp:cNvSpPr/>
      </dsp:nvSpPr>
      <dsp:spPr>
        <a:xfrm>
          <a:off x="1371123" y="379293"/>
          <a:ext cx="3353752" cy="3353752"/>
        </a:xfrm>
        <a:prstGeom prst="pie">
          <a:avLst>
            <a:gd name="adj1" fmla="val 1800000"/>
            <a:gd name="adj2" fmla="val 9000000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  <a:endParaRPr lang="zh-CN" altLang="en-US" sz="5200" kern="1200" dirty="0"/>
        </a:p>
      </dsp:txBody>
      <dsp:txXfrm>
        <a:off x="2169636" y="2555239"/>
        <a:ext cx="1796652" cy="878363"/>
      </dsp:txXfrm>
    </dsp:sp>
    <dsp:sp modelId="{B2518E15-CB8E-4DD1-8ECA-E912B4C8B840}">
      <dsp:nvSpPr>
        <dsp:cNvPr id="0" name=""/>
        <dsp:cNvSpPr/>
      </dsp:nvSpPr>
      <dsp:spPr>
        <a:xfrm>
          <a:off x="1302052" y="259516"/>
          <a:ext cx="3353752" cy="3353752"/>
        </a:xfrm>
        <a:prstGeom prst="pie">
          <a:avLst>
            <a:gd name="adj1" fmla="val 9000000"/>
            <a:gd name="adj2" fmla="val 16200000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extrusionH="152250" prstMaterial="matte">
          <a:bevelT w="165100" prst="coolSlant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66040" tIns="66040" rIns="66040" bIns="66040" numCol="1" spcCol="1270" anchor="ctr" anchorCtr="0">
          <a:noAutofit/>
          <a:sp3d extrusionH="28000" prstMaterial="matte"/>
        </a:bodyPr>
        <a:lstStyle/>
        <a:p>
          <a:pPr lvl="0" algn="ctr" defTabSz="23114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5200" kern="1200" dirty="0" smtClean="0"/>
            <a:t>Test</a:t>
          </a:r>
        </a:p>
      </dsp:txBody>
      <dsp:txXfrm>
        <a:off x="1690528" y="970192"/>
        <a:ext cx="1197768" cy="998140"/>
      </dsp:txXfrm>
    </dsp:sp>
    <dsp:sp modelId="{123601F8-2575-4F18-AC70-067D5FDA137D}">
      <dsp:nvSpPr>
        <dsp:cNvPr id="0" name=""/>
        <dsp:cNvSpPr/>
      </dsp:nvSpPr>
      <dsp:spPr>
        <a:xfrm>
          <a:off x="1232858" y="51903"/>
          <a:ext cx="3768978" cy="3768978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8BC481C-ED52-4204-A38E-DFD50067CD27}">
      <dsp:nvSpPr>
        <dsp:cNvPr id="0" name=""/>
        <dsp:cNvSpPr/>
      </dsp:nvSpPr>
      <dsp:spPr>
        <a:xfrm>
          <a:off x="1163510" y="171468"/>
          <a:ext cx="3768978" cy="3768978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F6E342E-C687-4CF8-8285-979F41F7D066}">
      <dsp:nvSpPr>
        <dsp:cNvPr id="0" name=""/>
        <dsp:cNvSpPr/>
      </dsp:nvSpPr>
      <dsp:spPr>
        <a:xfrm>
          <a:off x="1094162" y="51903"/>
          <a:ext cx="3768978" cy="3768978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matte"/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9">
  <dgm:title val=""/>
  <dgm:desc val=""/>
  <dgm:catLst>
    <dgm:cat type="3D" pri="11900"/>
  </dgm:catLst>
  <dgm:scene3d>
    <a:camera prst="perspectiveRelaxed">
      <a:rot lat="19149996" lon="20104178" rev="1577324"/>
    </a:camera>
    <a:lightRig rig="soft" dir="t"/>
    <a:backdrop>
      <a:anchor x="0" y="0" z="-210000"/>
      <a:norm dx="0" dy="0" dz="914400"/>
      <a:up dx="0" dy="914400" dz="0"/>
    </a:backdrop>
  </dgm:scene3d>
  <dgm:styleLbl name="node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extrusionH="152250" prstMaterial="matte">
      <a:bevelT w="165100" prst="coolSlant"/>
    </dgm:sp3d>
    <dgm:txPr>
      <a:sp3d extrusionH="28000" prstMaterial="matte"/>
    </dgm:txPr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 z="-22735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extrusionH="152250" prstMaterial="matte">
      <a:bevelT w="165100" prst="coolSlant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22735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22735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>
      <a:sp3d extrusionH="28000" prstMaterial="matte"/>
    </dgm:txPr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481-F68C-4474-BD5B-D4F153BA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E70-C24B-4A66-ACAA-1AF6C8B1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0C8-3D0B-41CE-A7B7-D7485360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2E2-C2F3-48BE-816E-6EF8E224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39C7-E305-49A2-9DC0-549F46D3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386-EEEA-4291-982E-50C94EFF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08E5-1465-4377-8FC5-B50AB188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FC27-880A-4364-B450-8B33BBCB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4DBA-3738-48FA-A20D-5C59CBE6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953A-A47A-48D0-92D5-87E6EC1E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948F-7AC1-4D2F-A063-C9466099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BBC-DD46-41E6-9257-DB86465E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3E12-0DFB-49B1-B397-E019D8D5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C15E-33F1-40F1-AFC6-74520624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434C-1CF5-4A9A-8EE0-959345B3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86B7-2657-4B83-969B-19A6572F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FF50-C672-417E-B152-8233A4B2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225-6E17-4B04-A622-95DDF2A1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673-3175-4F63-AE8C-85D09D19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F72-4E2B-40E4-BE44-7C48B285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E7A-066C-4878-A830-507BA262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B31-EDA2-43FA-AADB-F5CA3F6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318-EC8E-4162-8B8C-505F027D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ADB-3BFC-4EA5-99FE-35BDF095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97272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3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94D1EC-D60C-4090-8957-9EB9A300CA0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97272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chemeClr val="accent3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3d69b"/>
              </a:buClr>
              <a:buFont typeface="Wingdings" charset="2"/>
              <a:buChar char="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c3d69b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3d69b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3d69b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c3d69b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0860BB-3D97-450B-B06F-7347C3D8F4F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0080" y="1714320"/>
            <a:ext cx="521460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Power Point</a:t>
            </a:r>
            <a:br>
              <a:rPr sz="5400"/>
            </a:b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928800" y="3571920"/>
            <a:ext cx="45003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  <a:ea typeface="宋体"/>
              </a:rPr>
              <a:t>Add your company slo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112120" y="548640"/>
            <a:ext cx="41778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理财商务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Arial"/>
              </a:rPr>
              <a:t>Marketing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735804353"/>
              </p:ext>
            </p:extLst>
          </p:nvPr>
        </p:nvGraphicFramePr>
        <p:xfrm>
          <a:off x="1214280" y="785880"/>
          <a:ext cx="6714720" cy="5428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3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74037250"/>
              </p:ext>
            </p:extLst>
          </p:nvPr>
        </p:nvGraphicFramePr>
        <p:xfrm>
          <a:off x="1143000" y="1643040"/>
          <a:ext cx="6095520" cy="399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200" y="2071800"/>
            <a:ext cx="6143400" cy="12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5400" spc="-1" strike="noStrike">
                <a:solidFill>
                  <a:schemeClr val="accent3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85920" y="3500280"/>
            <a:ext cx="450036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Add your company slog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金融4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金融4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金融4</Template>
  <TotalTime>42</TotalTime>
  <Application>LibreOffice/7.4.7.2$Linux_X86_64 LibreOffice_project/40$Build-2</Application>
  <AppVersion>15.0000</AppVersion>
  <Words>56</Words>
  <Paragraphs>17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3:07:30Z</dcterms:created>
  <dc:creator>YlmF</dc:creator>
  <dc:description/>
  <dc:language>en-US</dc:language>
  <cp:lastModifiedBy>王玉清</cp:lastModifiedBy>
  <dcterms:modified xsi:type="dcterms:W3CDTF">2016-02-15T03:47:09Z</dcterms:modified>
  <cp:revision>8</cp:revision>
  <dc:subject/>
  <dc:title>Power Point 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