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5508-3C6D-4804-BAC0-7710E57CA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2300E-842E-4C58-9875-9EE515BAF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A62F-D38D-4BD0-800B-0AE29AC87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B433-14C2-4819-A181-00D458356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BA72-6802-4AB1-A568-3E48AD22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4738-CF98-411B-915C-D18965D1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C33D-5134-4312-819B-7A39F922C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981F-F874-4B2A-B30A-0037458FD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38729-32C1-463D-8F00-BDC9E28CE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30211-C328-4B99-91D9-69D4EFE0E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2164-7A9C-432B-8E08-8E1650958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DF1-3BB5-466C-B1C0-5EBEF294E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03_conew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BBCE-E2D9-4A23-B713-18B8A42EF8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icture 4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1" name="Rectangle 5"/>
          <p:cNvSpPr/>
          <p:nvPr/>
        </p:nvSpPr>
        <p:spPr>
          <a:xfrm>
            <a:off x="108000" y="96192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环保地球金融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微软雅黑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050920" y="2421000"/>
            <a:ext cx="61563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文本内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2"/>
          <p:cNvSpPr/>
          <p:nvPr/>
        </p:nvSpPr>
        <p:spPr>
          <a:xfrm>
            <a:off x="1692360" y="907920"/>
            <a:ext cx="64818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模板的使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3"/>
          <p:cNvSpPr/>
          <p:nvPr/>
        </p:nvSpPr>
        <p:spPr>
          <a:xfrm>
            <a:off x="826920" y="2133720"/>
            <a:ext cx="766764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修改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格式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设计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配色方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编辑配色方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添加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修改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直接选择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go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图片删除或修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字体格式的设置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括标题和文本格式的设置在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视图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--&gt;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母版</a:t>
            </a:r>
            <a:r>
              <a:rPr b="0" lang="en-US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下调整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0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7"/>
          <p:cNvSpPr/>
          <p:nvPr/>
        </p:nvSpPr>
        <p:spPr>
          <a:xfrm>
            <a:off x="5904000" y="4292640"/>
            <a:ext cx="32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观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7T08:54:38Z</dcterms:created>
  <dc:creator>compaq</dc:creator>
  <dc:description/>
  <dc:language>en-US</dc:language>
  <cp:lastModifiedBy>王玉清</cp:lastModifiedBy>
  <dcterms:modified xsi:type="dcterms:W3CDTF">2016-02-15T04:01:19Z</dcterms:modified>
  <cp:revision>6</cp:revision>
  <dc:subject/>
  <dc:title>幻灯片 1</dc:title>
</cp:coreProperties>
</file>