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8328-C5D3-4A35-B0F2-EEC4280E54A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8478-727B-4002-85D3-14EEDA72C8C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4576E-28FB-4ADC-92D8-A121F5AA78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000BE-9FBE-43E6-8642-5BEF993884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AF899-21E9-4E94-A4CB-E722D5B94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49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42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56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49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42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75863-91CF-40E4-A36A-35E8D117E4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F0B5E-A57A-4C89-A10E-4CAB95FE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305B3-7715-401B-92DE-339BC8A8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3A386-4768-410D-BDD9-1ACDC83C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2C1BA-607D-4CAC-9B82-97C6DF1F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12807-D583-4D65-B74A-1ADA5C7A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85400" y="152280"/>
            <a:ext cx="87296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2ACFB-882D-4117-93AE-ED57C5BD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E4F0E-4B13-4C94-9A2B-5F187B55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0FDC0-C9CE-441E-962D-4070961051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1141C-512B-4853-A389-C06FF3AC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D7C69-3A2A-4D00-9D9E-BE9350D3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B23F1-81E1-4F4E-BF79-90BA0643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A1B55-3F91-4D6E-BC3A-0A38E1D6A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49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842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856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49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842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77D7E-41E0-41FA-B915-53589111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14A09-62DE-42A5-85C9-439DAC3CAC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32522-F4AC-4AE9-98BD-92564BAF5B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AAE71-A16C-45B9-A80A-1FFDEBBCDF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85400" y="152280"/>
            <a:ext cx="87296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DB584-7938-42A8-BBAC-723985F713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B99BE-1D2A-4498-B832-AB7B9ECC9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30D5C-4609-4ACD-A5DB-771BA8CADA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420C3-A8BC-4CEB-A982-2009E6B57E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11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5e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d5e4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d5e4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22860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E1AF-4A37-43F4-979A-3E11BC207DE4}" type="slidenum">
              <a:rPr b="0" lang="ko-KR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304"/>
          <p:cNvSpPr/>
          <p:nvPr/>
        </p:nvSpPr>
        <p:spPr>
          <a:xfrm>
            <a:off x="0" y="685800"/>
            <a:ext cx="9144000" cy="231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" name="Rectangle 305"/>
          <p:cNvSpPr/>
          <p:nvPr/>
        </p:nvSpPr>
        <p:spPr>
          <a:xfrm>
            <a:off x="0" y="917640"/>
            <a:ext cx="9144000" cy="122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6" name="AutoShape 309"/>
          <p:cNvSpPr/>
          <p:nvPr/>
        </p:nvSpPr>
        <p:spPr>
          <a:xfrm>
            <a:off x="7750080" y="976320"/>
            <a:ext cx="609840" cy="485640"/>
          </a:xfrm>
          <a:custGeom>
            <a:avLst/>
            <a:gdLst>
              <a:gd name="textAreaLeft" fmla="*/ 0 w 609840"/>
              <a:gd name="textAreaRight" fmla="*/ 610200 w 60984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7" name="AutoShape 310"/>
          <p:cNvSpPr/>
          <p:nvPr/>
        </p:nvSpPr>
        <p:spPr>
          <a:xfrm>
            <a:off x="8424720" y="976320"/>
            <a:ext cx="609840" cy="485640"/>
          </a:xfrm>
          <a:custGeom>
            <a:avLst/>
            <a:gdLst>
              <a:gd name="textAreaLeft" fmla="*/ 0 w 609840"/>
              <a:gd name="textAreaRight" fmla="*/ 610200 w 60984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38"/>
          <p:cNvSpPr/>
          <p:nvPr/>
        </p:nvSpPr>
        <p:spPr>
          <a:xfrm>
            <a:off x="2971800" y="6248520"/>
            <a:ext cx="575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Lucida Sans Unicode"/>
              </a:rPr>
              <a:t>Logo</a:t>
            </a: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46" name="Text Box 2560"/>
          <p:cNvSpPr/>
          <p:nvPr/>
        </p:nvSpPr>
        <p:spPr>
          <a:xfrm>
            <a:off x="514440" y="2286000"/>
            <a:ext cx="638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dd Your Company Slogan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47" name="Rectangle 2784"/>
          <p:cNvSpPr/>
          <p:nvPr/>
        </p:nvSpPr>
        <p:spPr>
          <a:xfrm>
            <a:off x="0" y="3298680"/>
            <a:ext cx="9144000" cy="392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48" name="Rectangle 2787"/>
          <p:cNvSpPr/>
          <p:nvPr/>
        </p:nvSpPr>
        <p:spPr>
          <a:xfrm>
            <a:off x="0" y="3691080"/>
            <a:ext cx="9144000" cy="207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49" name="AutoShape 2788"/>
          <p:cNvSpPr/>
          <p:nvPr/>
        </p:nvSpPr>
        <p:spPr>
          <a:xfrm>
            <a:off x="4952880" y="3857760"/>
            <a:ext cx="954360" cy="741240"/>
          </a:xfrm>
          <a:custGeom>
            <a:avLst/>
            <a:gdLst>
              <a:gd name="textAreaLeft" fmla="*/ 0 w 954360"/>
              <a:gd name="textAreaRight" fmla="*/ 954720 w 954360"/>
              <a:gd name="textAreaTop" fmla="*/ 0 h 741240"/>
              <a:gd name="textAreaBottom" fmla="*/ 741600 h 74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0" name="AutoShape 2792"/>
          <p:cNvSpPr/>
          <p:nvPr/>
        </p:nvSpPr>
        <p:spPr>
          <a:xfrm>
            <a:off x="5857920" y="3857760"/>
            <a:ext cx="954000" cy="741240"/>
          </a:xfrm>
          <a:custGeom>
            <a:avLst/>
            <a:gdLst>
              <a:gd name="textAreaLeft" fmla="*/ 0 w 954000"/>
              <a:gd name="textAreaRight" fmla="*/ 954360 w 954000"/>
              <a:gd name="textAreaTop" fmla="*/ 0 h 741240"/>
              <a:gd name="textAreaBottom" fmla="*/ 741600 h 74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1" name="AutoShape 2793"/>
          <p:cNvSpPr/>
          <p:nvPr/>
        </p:nvSpPr>
        <p:spPr>
          <a:xfrm>
            <a:off x="6742080" y="3857760"/>
            <a:ext cx="954000" cy="741240"/>
          </a:xfrm>
          <a:custGeom>
            <a:avLst/>
            <a:gdLst>
              <a:gd name="textAreaLeft" fmla="*/ 0 w 954000"/>
              <a:gd name="textAreaRight" fmla="*/ 954360 w 954000"/>
              <a:gd name="textAreaTop" fmla="*/ 0 h 741240"/>
              <a:gd name="textAreaBottom" fmla="*/ 741600 h 74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2" name="AutoShape 2794"/>
          <p:cNvSpPr/>
          <p:nvPr/>
        </p:nvSpPr>
        <p:spPr>
          <a:xfrm>
            <a:off x="7656480" y="3857760"/>
            <a:ext cx="954000" cy="741240"/>
          </a:xfrm>
          <a:custGeom>
            <a:avLst/>
            <a:gdLst>
              <a:gd name="textAreaLeft" fmla="*/ 0 w 954000"/>
              <a:gd name="textAreaRight" fmla="*/ 954360 w 954000"/>
              <a:gd name="textAreaTop" fmla="*/ 0 h 741240"/>
              <a:gd name="textAreaBottom" fmla="*/ 741600 h 74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3" name="Rectangle 2795"/>
          <p:cNvSpPr/>
          <p:nvPr/>
        </p:nvSpPr>
        <p:spPr>
          <a:xfrm>
            <a:off x="522360" y="1081080"/>
            <a:ext cx="163440" cy="16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4" name="Rectangle 2796"/>
          <p:cNvSpPr/>
          <p:nvPr/>
        </p:nvSpPr>
        <p:spPr>
          <a:xfrm>
            <a:off x="903240" y="1380960"/>
            <a:ext cx="163440" cy="16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5" name="Rectangle 2797"/>
          <p:cNvSpPr/>
          <p:nvPr/>
        </p:nvSpPr>
        <p:spPr>
          <a:xfrm>
            <a:off x="1447920" y="1217520"/>
            <a:ext cx="163440" cy="16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6" name="Rectangle 2798"/>
          <p:cNvSpPr/>
          <p:nvPr/>
        </p:nvSpPr>
        <p:spPr>
          <a:xfrm>
            <a:off x="1284120" y="1741320"/>
            <a:ext cx="163800" cy="16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7" name="Rectangle 2799"/>
          <p:cNvSpPr/>
          <p:nvPr/>
        </p:nvSpPr>
        <p:spPr>
          <a:xfrm>
            <a:off x="1665360" y="2122560"/>
            <a:ext cx="163440" cy="16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8" name="Rectangle 2800"/>
          <p:cNvSpPr/>
          <p:nvPr/>
        </p:nvSpPr>
        <p:spPr>
          <a:xfrm>
            <a:off x="2046240" y="1741320"/>
            <a:ext cx="163440" cy="16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59" name="Rectangle 2801"/>
          <p:cNvSpPr/>
          <p:nvPr/>
        </p:nvSpPr>
        <p:spPr>
          <a:xfrm>
            <a:off x="820800" y="2038320"/>
            <a:ext cx="163440" cy="16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5e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d5e4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d5e4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4"/>
          </p:nvPr>
        </p:nvSpPr>
        <p:spPr>
          <a:xfrm>
            <a:off x="3200040" y="662904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5"/>
          </p:nvPr>
        </p:nvSpPr>
        <p:spPr>
          <a:xfrm>
            <a:off x="660996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FEA0-0682-4B31-82EA-063987F6E71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Verdana"/>
                <a:ea typeface="굴림"/>
              </a:rPr>
              <a:t>灰色背景橙色条纹商务</a:t>
            </a:r>
            <a:r>
              <a:rPr b="1" lang="en-US" sz="4000" spc="-1" strike="noStrike">
                <a:solidFill>
                  <a:srgbClr val="ffffcc"/>
                </a:solidFill>
                <a:latin typeface="Verdana"/>
                <a:ea typeface="굴림"/>
              </a:rPr>
              <a:t>PPT</a:t>
            </a:r>
            <a:r>
              <a:rPr b="1" lang="zh-CN" sz="4000" spc="-1" strike="noStrike">
                <a:solidFill>
                  <a:srgbClr val="ffffcc"/>
                </a:solidFill>
                <a:latin typeface="Verdana"/>
                <a:ea typeface="굴림"/>
              </a:rPr>
              <a:t>模板</a:t>
            </a:r>
            <a:endParaRPr b="1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206280" y="6553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ffffc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页脚占位符 3"/>
          <p:cNvSpPr/>
          <p:nvPr/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굴림"/>
              </a:rPr>
              <a:t>Chart 2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graphicFrame>
        <p:nvGraphicFramePr>
          <p:cNvPr id="183" name="Object 11"/>
          <p:cNvGraphicFramePr/>
          <p:nvPr/>
        </p:nvGraphicFramePr>
        <p:xfrm>
          <a:off x="380880" y="1371600"/>
          <a:ext cx="84582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4582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Text Box 8"/>
          <p:cNvSpPr/>
          <p:nvPr/>
        </p:nvSpPr>
        <p:spPr>
          <a:xfrm>
            <a:off x="81000" y="64818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d5e494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1" lang="zh-CN" sz="1600" spc="-1" strike="noStrike" u="sng">
                <a:solidFill>
                  <a:srgbClr val="d5e494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ffffc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页脚占位符 3"/>
          <p:cNvSpPr/>
          <p:nvPr/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굴림"/>
              </a:rPr>
              <a:t>Chart 3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graphicFrame>
        <p:nvGraphicFramePr>
          <p:cNvPr id="188" name="Object 5"/>
          <p:cNvGraphicFramePr/>
          <p:nvPr/>
        </p:nvGraphicFramePr>
        <p:xfrm>
          <a:off x="1720800" y="1523880"/>
          <a:ext cx="597852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0800" y="1523880"/>
                    <a:ext cx="597852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486640" cy="16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Verdana"/>
                <a:ea typeface="굴림"/>
              </a:rPr>
              <a:t>Thank you</a:t>
            </a:r>
            <a:endParaRPr b="1" lang="en-US" sz="5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09120" y="480060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000" spc="-1" strike="noStrike">
              <a:solidFill>
                <a:srgbClr val="ffffff"/>
              </a:solidFill>
              <a:latin typeface="Verdana"/>
              <a:ea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3"/>
          <p:cNvSpPr/>
          <p:nvPr/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048120" y="168264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Verdana"/>
                <a:ea typeface="굴림"/>
              </a:rPr>
              <a:t> </a:t>
            </a:r>
            <a:r>
              <a:rPr b="0" lang="en-US" sz="3000" spc="-1" strike="noStrike">
                <a:solidFill>
                  <a:srgbClr val="ff9900"/>
                </a:solidFill>
                <a:latin typeface="Verdana"/>
                <a:ea typeface="굴림"/>
              </a:rPr>
              <a:t>Content </a:t>
            </a:r>
            <a:r>
              <a:rPr b="0" lang="en-US" sz="2800" spc="-1" strike="noStrike">
                <a:solidFill>
                  <a:srgbClr val="ff9900"/>
                </a:solidFill>
                <a:latin typeface="Verdana"/>
                <a:ea typeface="굴림"/>
              </a:rPr>
              <a:t>Title 1</a:t>
            </a:r>
            <a:endParaRPr b="1" lang="en-US" sz="2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068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굴림"/>
              </a:rPr>
              <a:t>Contents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3" name="AutoShape 29"/>
          <p:cNvSpPr/>
          <p:nvPr/>
        </p:nvSpPr>
        <p:spPr>
          <a:xfrm>
            <a:off x="2286000" y="166068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Verdana"/>
                <a:ea typeface="굴림"/>
              </a:rPr>
              <a:t>1</a:t>
            </a:r>
            <a:endParaRPr b="1" lang="en-US" sz="22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14" name="Rectangle 33"/>
          <p:cNvSpPr/>
          <p:nvPr/>
        </p:nvSpPr>
        <p:spPr>
          <a:xfrm>
            <a:off x="3048120" y="25113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Verdana"/>
                <a:ea typeface="굴림"/>
              </a:rPr>
              <a:t> </a:t>
            </a:r>
            <a:r>
              <a:rPr b="0" lang="en-US" sz="3000" spc="-1" strike="noStrike">
                <a:solidFill>
                  <a:srgbClr val="ff9900"/>
                </a:solidFill>
                <a:latin typeface="Verdana"/>
                <a:ea typeface="굴림"/>
              </a:rPr>
              <a:t>Content </a:t>
            </a:r>
            <a:r>
              <a:rPr b="0" lang="en-US" sz="2800" spc="-1" strike="noStrike">
                <a:solidFill>
                  <a:srgbClr val="ff9900"/>
                </a:solidFill>
                <a:latin typeface="Verdana"/>
                <a:ea typeface="굴림"/>
              </a:rPr>
              <a:t>Title 1</a:t>
            </a:r>
            <a:endParaRPr b="1" lang="en-US" sz="2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15" name="AutoShape 34"/>
          <p:cNvSpPr/>
          <p:nvPr/>
        </p:nvSpPr>
        <p:spPr>
          <a:xfrm>
            <a:off x="2286000" y="24890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Verdana"/>
                <a:ea typeface="굴림"/>
              </a:rPr>
              <a:t>2</a:t>
            </a:r>
            <a:endParaRPr b="1" lang="en-US" sz="22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16" name="Rectangle 35"/>
          <p:cNvSpPr/>
          <p:nvPr/>
        </p:nvSpPr>
        <p:spPr>
          <a:xfrm>
            <a:off x="3048120" y="3338640"/>
            <a:ext cx="5410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Verdana"/>
                <a:ea typeface="굴림"/>
              </a:rPr>
              <a:t> </a:t>
            </a:r>
            <a:r>
              <a:rPr b="0" lang="en-US" sz="3000" spc="-1" strike="noStrike">
                <a:solidFill>
                  <a:srgbClr val="ff9900"/>
                </a:solidFill>
                <a:latin typeface="Verdana"/>
                <a:ea typeface="굴림"/>
              </a:rPr>
              <a:t>Content </a:t>
            </a:r>
            <a:r>
              <a:rPr b="0" lang="en-US" sz="2800" spc="-1" strike="noStrike">
                <a:solidFill>
                  <a:srgbClr val="ff9900"/>
                </a:solidFill>
                <a:latin typeface="Verdana"/>
                <a:ea typeface="굴림"/>
              </a:rPr>
              <a:t>Title 1</a:t>
            </a:r>
            <a:endParaRPr b="1" lang="en-US" sz="2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17" name="AutoShape 36"/>
          <p:cNvSpPr/>
          <p:nvPr/>
        </p:nvSpPr>
        <p:spPr>
          <a:xfrm>
            <a:off x="2286000" y="331632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Verdana"/>
                <a:ea typeface="굴림"/>
              </a:rPr>
              <a:t>3</a:t>
            </a:r>
            <a:endParaRPr b="1" lang="en-US" sz="22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18" name="Rectangle 37"/>
          <p:cNvSpPr/>
          <p:nvPr/>
        </p:nvSpPr>
        <p:spPr>
          <a:xfrm>
            <a:off x="3048120" y="41655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Verdana"/>
                <a:ea typeface="굴림"/>
              </a:rPr>
              <a:t> </a:t>
            </a:r>
            <a:r>
              <a:rPr b="0" lang="en-US" sz="3000" spc="-1" strike="noStrike">
                <a:solidFill>
                  <a:srgbClr val="ff9900"/>
                </a:solidFill>
                <a:latin typeface="Verdana"/>
                <a:ea typeface="굴림"/>
              </a:rPr>
              <a:t>Content </a:t>
            </a:r>
            <a:r>
              <a:rPr b="0" lang="en-US" sz="2800" spc="-1" strike="noStrike">
                <a:solidFill>
                  <a:srgbClr val="ff9900"/>
                </a:solidFill>
                <a:latin typeface="Verdana"/>
                <a:ea typeface="굴림"/>
              </a:rPr>
              <a:t>Title 1</a:t>
            </a:r>
            <a:endParaRPr b="1" lang="en-US" sz="2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19" name="AutoShape 38"/>
          <p:cNvSpPr/>
          <p:nvPr/>
        </p:nvSpPr>
        <p:spPr>
          <a:xfrm>
            <a:off x="2286000" y="41432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Verdana"/>
                <a:ea typeface="굴림"/>
              </a:rPr>
              <a:t>4</a:t>
            </a:r>
            <a:endParaRPr b="1" lang="en-US" sz="22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20" name="Rectangle 39"/>
          <p:cNvSpPr/>
          <p:nvPr/>
        </p:nvSpPr>
        <p:spPr>
          <a:xfrm>
            <a:off x="3048120" y="50148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Verdana"/>
                <a:ea typeface="굴림"/>
              </a:rPr>
              <a:t> </a:t>
            </a:r>
            <a:r>
              <a:rPr b="0" lang="en-US" sz="3000" spc="-1" strike="noStrike">
                <a:solidFill>
                  <a:srgbClr val="ff9900"/>
                </a:solidFill>
                <a:latin typeface="Verdana"/>
                <a:ea typeface="굴림"/>
              </a:rPr>
              <a:t>Content </a:t>
            </a:r>
            <a:r>
              <a:rPr b="0" lang="en-US" sz="2800" spc="-1" strike="noStrike">
                <a:solidFill>
                  <a:srgbClr val="ff9900"/>
                </a:solidFill>
                <a:latin typeface="Verdana"/>
                <a:ea typeface="굴림"/>
              </a:rPr>
              <a:t>Title 1</a:t>
            </a:r>
            <a:endParaRPr b="1" lang="en-US" sz="2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21" name="AutoShape 40"/>
          <p:cNvSpPr/>
          <p:nvPr/>
        </p:nvSpPr>
        <p:spPr>
          <a:xfrm>
            <a:off x="2286000" y="49928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Verdana"/>
                <a:ea typeface="굴림"/>
              </a:rPr>
              <a:t>5</a:t>
            </a:r>
            <a:endParaRPr b="1" lang="en-US" sz="2200" spc="-1" strike="noStrike">
              <a:solidFill>
                <a:srgbClr val="ffffc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页脚占位符 3"/>
          <p:cNvSpPr/>
          <p:nvPr/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굴림"/>
              </a:rPr>
              <a:t>Click to edit Master title style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Competitors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You may want to allocate one slide per competi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Strengths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Your strengths relative to competito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Weaknesse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Your weaknesses relative to competi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页脚占位符 3"/>
          <p:cNvSpPr/>
          <p:nvPr/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26" name="Oval 17"/>
          <p:cNvSpPr/>
          <p:nvPr/>
        </p:nvSpPr>
        <p:spPr>
          <a:xfrm>
            <a:off x="3309840" y="2666880"/>
            <a:ext cx="2362320" cy="2362320"/>
          </a:xfrm>
          <a:prstGeom prst="ellipse">
            <a:avLst/>
          </a:prstGeom>
          <a:noFill/>
          <a:ln w="381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27" name="Oval 37"/>
          <p:cNvSpPr/>
          <p:nvPr/>
        </p:nvSpPr>
        <p:spPr>
          <a:xfrm>
            <a:off x="4803840" y="3657600"/>
            <a:ext cx="1447560" cy="14479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5e49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굴림"/>
              </a:rPr>
              <a:t>Diagram 1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9" name="Oval 18"/>
          <p:cNvSpPr/>
          <p:nvPr/>
        </p:nvSpPr>
        <p:spPr>
          <a:xfrm>
            <a:off x="3767040" y="1905120"/>
            <a:ext cx="1447920" cy="14475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30" name="Text Box 21"/>
          <p:cNvSpPr/>
          <p:nvPr/>
        </p:nvSpPr>
        <p:spPr>
          <a:xfrm>
            <a:off x="3943080" y="2376360"/>
            <a:ext cx="111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Diagram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1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2770920" y="42735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Verdana"/>
                <a:ea typeface="굴림"/>
              </a:rPr>
              <a:t>Diagram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Verdana"/>
                <a:ea typeface="굴림"/>
              </a:rPr>
              <a:t> </a:t>
            </a:r>
            <a:r>
              <a:rPr b="1" lang="en-US" sz="1800" spc="-1" strike="noStrike">
                <a:solidFill>
                  <a:srgbClr val="777777"/>
                </a:solidFill>
                <a:latin typeface="Verdana"/>
                <a:ea typeface="굴림"/>
              </a:rPr>
              <a:t>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32" name="Text Box 24"/>
          <p:cNvSpPr/>
          <p:nvPr/>
        </p:nvSpPr>
        <p:spPr>
          <a:xfrm>
            <a:off x="5291280" y="1965240"/>
            <a:ext cx="2895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Diagram 1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sub 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304920" y="480060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Diagram 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sub 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34" name="Text Box 26"/>
          <p:cNvSpPr/>
          <p:nvPr/>
        </p:nvSpPr>
        <p:spPr>
          <a:xfrm>
            <a:off x="6281640" y="472428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Diagram 3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sub 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35" name="Text Box 29"/>
          <p:cNvSpPr/>
          <p:nvPr/>
        </p:nvSpPr>
        <p:spPr>
          <a:xfrm>
            <a:off x="2847240" y="42051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Verdana"/>
                <a:ea typeface="굴림"/>
              </a:rPr>
              <a:t>Diagram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Verdana"/>
                <a:ea typeface="굴림"/>
              </a:rPr>
              <a:t> </a:t>
            </a:r>
            <a:r>
              <a:rPr b="1" lang="en-US" sz="1800" spc="-1" strike="noStrike">
                <a:solidFill>
                  <a:srgbClr val="777777"/>
                </a:solidFill>
                <a:latin typeface="Verdana"/>
                <a:ea typeface="굴림"/>
              </a:rPr>
              <a:t>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5033520" y="4148280"/>
            <a:ext cx="111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Diagram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3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37" name="Oval 35"/>
          <p:cNvSpPr/>
          <p:nvPr/>
        </p:nvSpPr>
        <p:spPr>
          <a:xfrm>
            <a:off x="2700360" y="3657600"/>
            <a:ext cx="1447920" cy="14479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5e49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38" name="Text Box 36"/>
          <p:cNvSpPr/>
          <p:nvPr/>
        </p:nvSpPr>
        <p:spPr>
          <a:xfrm>
            <a:off x="2876040" y="4129200"/>
            <a:ext cx="111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Diagram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3"/>
          <p:cNvSpPr/>
          <p:nvPr/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40" name="Oval 2"/>
          <p:cNvSpPr/>
          <p:nvPr/>
        </p:nvSpPr>
        <p:spPr>
          <a:xfrm>
            <a:off x="2567160" y="1981080"/>
            <a:ext cx="4400280" cy="2122560"/>
          </a:xfrm>
          <a:prstGeom prst="ellipse">
            <a:avLst/>
          </a:prstGeom>
          <a:noFill/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굴림"/>
              </a:rPr>
              <a:t>Diagram 1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2618640" y="465444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Verdana"/>
                <a:ea typeface="굴림"/>
              </a:rPr>
              <a:t>Diagram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Verdana"/>
                <a:ea typeface="굴림"/>
              </a:rPr>
              <a:t> </a:t>
            </a:r>
            <a:r>
              <a:rPr b="1" lang="en-US" sz="1800" spc="-1" strike="noStrike">
                <a:solidFill>
                  <a:srgbClr val="777777"/>
                </a:solidFill>
                <a:latin typeface="Verdana"/>
                <a:ea typeface="굴림"/>
              </a:rPr>
              <a:t>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3429000" y="2727360"/>
            <a:ext cx="2895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Diagram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sub 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429000" y="486900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Diagram 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sub 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6477120" y="417528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Diagram 3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sub 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609480" y="395460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Diagram 1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sub 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47" name="AutoShape 17"/>
          <p:cNvSpPr/>
          <p:nvPr/>
        </p:nvSpPr>
        <p:spPr>
          <a:xfrm rot="2827800">
            <a:off x="2090520" y="3627360"/>
            <a:ext cx="6094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48" name="AutoShape 18"/>
          <p:cNvSpPr/>
          <p:nvPr/>
        </p:nvSpPr>
        <p:spPr>
          <a:xfrm>
            <a:off x="4267080" y="4381560"/>
            <a:ext cx="60984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49" name="AutoShape 19"/>
          <p:cNvSpPr/>
          <p:nvPr/>
        </p:nvSpPr>
        <p:spPr>
          <a:xfrm rot="18767400">
            <a:off x="6553080" y="3657240"/>
            <a:ext cx="60948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页脚占位符 3"/>
          <p:cNvSpPr/>
          <p:nvPr/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51" name="AutoShape 36"/>
          <p:cNvSpPr/>
          <p:nvPr/>
        </p:nvSpPr>
        <p:spPr>
          <a:xfrm>
            <a:off x="3478320" y="2057400"/>
            <a:ext cx="2442960" cy="3962520"/>
          </a:xfrm>
          <a:custGeom>
            <a:avLst/>
            <a:gdLst>
              <a:gd name="textAreaLeft" fmla="*/ 0 w 2442960"/>
              <a:gd name="textAreaRight" fmla="*/ 2443320 w 244296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d5e494"/>
              </a:gs>
              <a:gs pos="50000">
                <a:srgbClr val="e7f9f9"/>
              </a:gs>
              <a:gs pos="100000">
                <a:srgbClr val="d5e4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52" name="AutoShape 37"/>
          <p:cNvSpPr/>
          <p:nvPr/>
        </p:nvSpPr>
        <p:spPr>
          <a:xfrm>
            <a:off x="5683320" y="2057400"/>
            <a:ext cx="2442960" cy="3962520"/>
          </a:xfrm>
          <a:custGeom>
            <a:avLst/>
            <a:gdLst>
              <a:gd name="textAreaLeft" fmla="*/ 0 w 2442960"/>
              <a:gd name="textAreaRight" fmla="*/ 2443320 w 244296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d5e494"/>
              </a:gs>
              <a:gs pos="50000">
                <a:srgbClr val="e7f9f9"/>
              </a:gs>
              <a:gs pos="100000">
                <a:srgbClr val="d5e4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굴림"/>
              </a:rPr>
              <a:t>Diagram 2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4" name="AutoShape 19"/>
          <p:cNvSpPr/>
          <p:nvPr/>
        </p:nvSpPr>
        <p:spPr>
          <a:xfrm>
            <a:off x="1295280" y="20574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d5e494"/>
              </a:gs>
              <a:gs pos="50000">
                <a:srgbClr val="e7f9f9"/>
              </a:gs>
              <a:gs pos="100000">
                <a:srgbClr val="d5e4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114300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Diagram 1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3352680" y="1600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Diagram 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57" name="Text Box 29"/>
          <p:cNvSpPr/>
          <p:nvPr/>
        </p:nvSpPr>
        <p:spPr>
          <a:xfrm>
            <a:off x="5638680" y="1600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Diagram 3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58" name="Text Box 31"/>
          <p:cNvSpPr/>
          <p:nvPr/>
        </p:nvSpPr>
        <p:spPr>
          <a:xfrm>
            <a:off x="1828800" y="2209680"/>
            <a:ext cx="190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1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3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4 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5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6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7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8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9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59" name="Text Box 32"/>
          <p:cNvSpPr/>
          <p:nvPr/>
        </p:nvSpPr>
        <p:spPr>
          <a:xfrm>
            <a:off x="4051440" y="2209680"/>
            <a:ext cx="189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1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3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4 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5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6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7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8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9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6284880" y="2209680"/>
            <a:ext cx="194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1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2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3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4 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5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6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7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8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st 9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3"/>
          <p:cNvSpPr/>
          <p:nvPr/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굴림"/>
              </a:rPr>
              <a:t>Click to edit Master title style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3" name="Text Box 234"/>
          <p:cNvSpPr/>
          <p:nvPr/>
        </p:nvSpPr>
        <p:spPr>
          <a:xfrm>
            <a:off x="1066680" y="138600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ccee8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  <a:ea typeface="굴림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Verdana"/>
                <a:ea typeface="굴림"/>
              </a:rPr>
              <a:t>Chart</a:t>
            </a:r>
            <a:endParaRPr b="1" lang="en-US" sz="2800" spc="-1" strike="noStrike">
              <a:solidFill>
                <a:srgbClr val="ffffcc"/>
              </a:solidFill>
              <a:latin typeface="Lucida Sans Unicode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189080" y="2133720"/>
          <a:ext cx="6708600" cy="3886200"/>
        </p:xfrm>
        <a:graphic>
          <a:graphicData uri="http://schemas.openxmlformats.org/drawingml/2006/table">
            <a:tbl>
              <a:tblPr/>
              <a:tblGrid>
                <a:gridCol w="1119240"/>
                <a:gridCol w="1117440"/>
                <a:gridCol w="1117800"/>
                <a:gridCol w="1117440"/>
                <a:gridCol w="1119240"/>
                <a:gridCol w="1117440"/>
              </a:tblGrid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494"/>
                        </a:gs>
                        <a:gs pos="50000">
                          <a:srgbClr val="777777"/>
                        </a:gs>
                        <a:gs pos="100000">
                          <a:srgbClr val="d5e4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494"/>
                        </a:gs>
                        <a:gs pos="50000">
                          <a:srgbClr val="777777"/>
                        </a:gs>
                        <a:gs pos="100000">
                          <a:srgbClr val="d5e4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494"/>
                        </a:gs>
                        <a:gs pos="50000">
                          <a:srgbClr val="777777"/>
                        </a:gs>
                        <a:gs pos="100000">
                          <a:srgbClr val="d5e4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494"/>
                        </a:gs>
                        <a:gs pos="50000">
                          <a:srgbClr val="777777"/>
                        </a:gs>
                        <a:gs pos="100000">
                          <a:srgbClr val="d5e4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494"/>
                        </a:gs>
                        <a:gs pos="50000">
                          <a:srgbClr val="777777"/>
                        </a:gs>
                        <a:gs pos="100000">
                          <a:srgbClr val="d5e4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5e494"/>
                        </a:gs>
                        <a:gs pos="50000">
                          <a:srgbClr val="777777"/>
                        </a:gs>
                        <a:gs pos="100000">
                          <a:srgbClr val="d5e494"/>
                        </a:gs>
                      </a:gsLst>
                      <a:lin ang="5400000"/>
                    </a:gradFill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ccee8"/>
                        </a:gs>
                        <a:gs pos="50000">
                          <a:srgbClr val="ffffff"/>
                        </a:gs>
                        <a:gs pos="100000">
                          <a:srgbClr val="7ccee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ccee8"/>
                        </a:gs>
                        <a:gs pos="50000">
                          <a:srgbClr val="ffffff"/>
                        </a:gs>
                        <a:gs pos="100000">
                          <a:srgbClr val="7ccee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ccee8"/>
                        </a:gs>
                        <a:gs pos="50000">
                          <a:srgbClr val="ffffff"/>
                        </a:gs>
                        <a:gs pos="100000">
                          <a:srgbClr val="7ccee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ccee8"/>
                        </a:gs>
                        <a:gs pos="50000">
                          <a:srgbClr val="ffffff"/>
                        </a:gs>
                        <a:gs pos="100000">
                          <a:srgbClr val="7ccee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1" lang="en-US" sz="24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ccee8"/>
                        </a:gs>
                        <a:gs pos="50000">
                          <a:srgbClr val="ffffff"/>
                        </a:gs>
                        <a:gs pos="100000">
                          <a:srgbClr val="7ccee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cc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Text Box 763"/>
          <p:cNvSpPr/>
          <p:nvPr/>
        </p:nvSpPr>
        <p:spPr>
          <a:xfrm>
            <a:off x="2727360" y="1866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页脚占位符 3"/>
          <p:cNvSpPr/>
          <p:nvPr/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굴림"/>
              </a:rPr>
              <a:t>Diagram 4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8" name="File"/>
          <p:cNvSpPr/>
          <p:nvPr/>
        </p:nvSpPr>
        <p:spPr>
          <a:xfrm>
            <a:off x="878040" y="1349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69" name="Text Box 32"/>
          <p:cNvSpPr/>
          <p:nvPr/>
        </p:nvSpPr>
        <p:spPr>
          <a:xfrm>
            <a:off x="762120" y="16146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70" name="Text Box 38"/>
          <p:cNvSpPr/>
          <p:nvPr/>
        </p:nvSpPr>
        <p:spPr>
          <a:xfrm>
            <a:off x="4648320" y="2590920"/>
            <a:ext cx="4343400" cy="34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ff99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  <a:ea typeface="굴림"/>
              </a:rPr>
              <a:t>Competitors </a:t>
            </a:r>
            <a:endParaRPr b="1" lang="en-US" sz="25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You may want to allocate one slide per competitor</a:t>
            </a:r>
            <a:endParaRPr b="1" lang="en-US" sz="22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99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  <a:ea typeface="굴림"/>
              </a:rPr>
              <a:t>Strengths </a:t>
            </a:r>
            <a:endParaRPr b="1" lang="en-US" sz="25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Your strengths relative to competitors</a:t>
            </a:r>
            <a:endParaRPr b="1" lang="en-US" sz="2200" spc="-1" strike="noStrike">
              <a:solidFill>
                <a:srgbClr val="ffffcc"/>
              </a:solidFill>
              <a:latin typeface="Lucida Sans Unicode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71" name="Text Box 40"/>
          <p:cNvSpPr/>
          <p:nvPr/>
        </p:nvSpPr>
        <p:spPr>
          <a:xfrm>
            <a:off x="1135080" y="2647800"/>
            <a:ext cx="2911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You may want to allocate one slide per competitor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You may want to allocate one slide per competitor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You may want to allocate one slide per competitor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页脚占位符 3"/>
          <p:cNvSpPr/>
          <p:nvPr/>
        </p:nvSpPr>
        <p:spPr>
          <a:xfrm>
            <a:off x="5148360" y="64771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1" lang="en-US" sz="14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  <a:ea typeface="굴림"/>
              </a:rPr>
              <a:t>Diagram 3</a:t>
            </a:r>
            <a:endParaRPr b="1" lang="en-US" sz="3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4" name="File"/>
          <p:cNvSpPr/>
          <p:nvPr/>
        </p:nvSpPr>
        <p:spPr>
          <a:xfrm>
            <a:off x="649440" y="1349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533520" y="16146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906480" y="2647800"/>
            <a:ext cx="2911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You may want to allocate one slide per competitor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You may want to allocate one slide per competitor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You may want to allocate one slide per competitor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77" name="File"/>
          <p:cNvSpPr/>
          <p:nvPr/>
        </p:nvSpPr>
        <p:spPr>
          <a:xfrm>
            <a:off x="5145120" y="1349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029200" y="16146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xt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5402160" y="2647800"/>
            <a:ext cx="2911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You may want to allocate one slide per competitor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You may want to allocate one slide per competitor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You may want to allocate one slide per competitor</a:t>
            </a: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Lucida Sans Unicode"/>
            </a:endParaRPr>
          </a:p>
        </p:txBody>
      </p:sp>
      <p:sp>
        <p:nvSpPr>
          <p:cNvPr id="180" name="AutoShape 10"/>
          <p:cNvSpPr/>
          <p:nvPr/>
        </p:nvSpPr>
        <p:spPr>
          <a:xfrm rot="16200000">
            <a:off x="4226040" y="3394080"/>
            <a:ext cx="73008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06:55:47Z</dcterms:created>
  <dc:creator>ppt宝藏</dc:creator>
  <dc:description/>
  <dc:language>en-US</dc:language>
  <cp:lastModifiedBy>a</cp:lastModifiedBy>
  <dcterms:modified xsi:type="dcterms:W3CDTF">2015-07-25T12:29:48Z</dcterms:modified>
  <cp:revision>4</cp:revision>
  <dc:subject/>
  <dc:title>www.pptbz.com</dc:title>
</cp:coreProperties>
</file>