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6C9-3AE6-4E04-A998-A0ECC6F3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477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6477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443-EAD2-43AE-AA3D-E9C8D6D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764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8A3-6FFF-4B83-B560-7C882C96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47440" y="129492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7320" y="129492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47440" y="381816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7320" y="381816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0F8-F40E-4D12-9D9F-753246AF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8B30-47FA-4313-BF75-927390DA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1841-23A7-466C-9B71-D9C31DE9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D718-DCD9-409E-BA50-B32A66C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2BFD-F232-4174-A727-D597D441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975F-9FE3-4ADD-BA17-16A945C9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8AF-3FE4-45F5-94DA-D46C607C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B8E1-F143-48F8-8F10-2DBBF1C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93A-AE2A-4DA7-BD55-D585260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764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0517-03CC-4EAD-9627-3CB95F4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6477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C80A-7F55-4615-9DC3-3DD2A71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477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6477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F1D7-38CA-44CB-8267-D8FF9D3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764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BC57-A629-4C45-9A36-40CBF457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47440" y="129492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7320" y="129492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47440" y="381816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7320" y="3818160"/>
            <a:ext cx="2085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194F-B715-44B7-822E-39547DCC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06F-0C98-40F7-8C1D-5D9A811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499-261A-438C-968B-1FD4F6A1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864-A837-48DD-8EC9-3744D2A2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60A-EE33-4D28-B262-125F1773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FDE-703D-4F8C-8C06-44B0DD5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76400" y="381816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752-BF46-43E7-AD1F-85BEA19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76400" y="1294920"/>
            <a:ext cx="316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6477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6FB-AE17-4594-BD32-AAFF466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ead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a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33a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433a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33a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33a3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8953-42FA-4CD0-8A5D-86E522D42F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D83-01BA-4D87-99CB-908D02E9B4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3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37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33a37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33a37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3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33a37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37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33a37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33a37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37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33a37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37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33a37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37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33a3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37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58760" y="4762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化妆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ead9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a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37"/>
                </a:solidFill>
                <a:latin typeface="Times New Roman"/>
                <a:ea typeface="宋体"/>
              </a:rPr>
              <a:t>Your Subtopics Go Here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477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3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213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2952720"/>
            <a:ext cx="63244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3a37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3ead9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3ead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3a37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7E8-B3B4-4A99-914B-3DB7A1939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2:49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57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