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81D9A-7EC4-4F3B-B2E9-11982925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697D38-44BC-4E35-8DAD-5DB6A12957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C44822-A653-4647-89C8-92AD598AE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57B781-3A77-4EA3-8FE0-2182E65076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7B6-E531-414F-BDB5-CC12906C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048-4E67-4537-A691-8F7F4E7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5B1-20B6-4C9C-9378-CA649CC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20C-9467-4761-BD75-10FAFAB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E34-9351-420F-A301-F6780FA8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57D-658E-4213-9D05-F96D70B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485-169F-48AD-BB66-060BEAC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EF5-09BB-422F-997A-14F90EB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B9B-DB06-4F76-AA40-B15E7C3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344-8A64-4567-A1D6-62374C23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5E9-38BD-4AD9-A6D1-7B28C6C5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6B0-895B-4122-B913-755B56FC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CB7-2ADA-40E2-BF84-B38D2797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9568-F07A-4792-99E5-D885A9B0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E31-E22C-4F8C-BFC6-F26A93C1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2A1C-4D19-42FB-BB56-93C9930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DB3-90DD-4FA0-B51C-3011AD2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168D-3EB3-442F-9947-9D5088B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7696-3773-444A-8F81-F0C4F3C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90F2-630E-4482-8B79-2C0C3CFE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7512-C2CE-432C-B8EA-D27B772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0B9E-1DA0-4CBB-9ED7-154B59A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F5F8-E0D8-4DC5-8C13-27081607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304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0" y="69264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16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304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94800" y="3776760"/>
            <a:ext cx="278208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475-8B9B-4969-8102-577CD609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1640" y="116640"/>
            <a:ext cx="864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59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377676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64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692640"/>
            <a:ext cx="42163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640" y="3776760"/>
            <a:ext cx="8640720" cy="28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rcRect l="364" t="1511" r="0" b="0"/>
          <a:stretch/>
        </p:blipFill>
        <p:spPr>
          <a:xfrm>
            <a:off x="0" y="0"/>
            <a:ext cx="9145080" cy="68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640" y="4581000"/>
            <a:ext cx="633636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709000"/>
            <a:ext cx="5400360" cy="677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27640" y="3453480"/>
            <a:ext cx="3456000" cy="335160"/>
          </a:xfrm>
          <a:prstGeom prst="rect">
            <a:avLst/>
          </a:prstGeom>
          <a:gradFill rotWithShape="0">
            <a:gsLst>
              <a:gs pos="0">
                <a:srgbClr val="52879c"/>
              </a:gs>
              <a:gs pos="100000">
                <a:srgbClr val="74c0dd"/>
              </a:gs>
            </a:gsLst>
            <a:lin ang="16200000"/>
          </a:gradFill>
          <a:ln w="28440">
            <a:solidFill>
              <a:srgbClr val="92e1ff"/>
            </a:solidFill>
            <a:round/>
          </a:ln>
        </p:spPr>
        <p:txBody>
          <a:bodyPr numCol="1" spcCol="0" anchor="ctr">
            <a:noAutofit/>
          </a:bodyPr>
          <a:p>
            <a:pPr marL="343080" indent="-343080">
              <a:lnSpc>
                <a:spcPct val="150000"/>
              </a:lnSpc>
              <a:spcBef>
                <a:spcPts val="2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C7547A-65C3-4825-A0F0-E826AD8FB43E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rcRect l="244" t="0" r="0" b="1648"/>
          <a:stretch/>
        </p:blipFill>
        <p:spPr>
          <a:xfrm>
            <a:off x="0" y="-4680"/>
            <a:ext cx="9156240" cy="6862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640" y="116640"/>
            <a:ext cx="8640720" cy="5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1640" y="692640"/>
            <a:ext cx="8640720" cy="59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320"/>
              </a:spcBef>
              <a:buNone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50000"/>
              </a:lnSpc>
              <a:spcBef>
                <a:spcPts val="281"/>
              </a:spcBef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371600" indent="0">
              <a:lnSpc>
                <a:spcPct val="15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8800" indent="0">
              <a:lnSpc>
                <a:spcPct val="150000"/>
              </a:lnSpc>
              <a:spcBef>
                <a:spcPts val="241"/>
              </a:spcBef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d8d8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681818-4E58-4949-8DE9-73A54B6F72A7}" type="slidenum">
              <a:rPr b="0" lang="en-US" sz="1200" spc="-1" strike="noStrike">
                <a:solidFill>
                  <a:srgbClr val="8d8d8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3501000"/>
            <a:ext cx="892872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渐变方块立体视觉蓝色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640" y="2708280"/>
            <a:ext cx="5400360" cy="67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title</a:t>
            </a:r>
            <a:endParaRPr b="0" lang="en-US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7640" y="3453480"/>
            <a:ext cx="3456000" cy="335160"/>
          </a:xfrm>
          <a:prstGeom prst="rect">
            <a:avLst/>
          </a:prstGeom>
          <a:gradFill rotWithShape="0">
            <a:gsLst>
              <a:gs pos="0">
                <a:srgbClr val="52879c"/>
              </a:gs>
              <a:gs pos="100000">
                <a:srgbClr val="74c0dd"/>
              </a:gs>
            </a:gsLst>
            <a:lin ang="16200000"/>
          </a:gradFill>
          <a:ln w="28440">
            <a:solidFill>
              <a:srgbClr val="92e1ff"/>
            </a:solidFill>
            <a:round/>
          </a:ln>
        </p:spPr>
        <p:txBody>
          <a:bodyPr numCol="1" spcCol="0" anchor="ctr">
            <a:noAutofit/>
          </a:bodyPr>
          <a:p>
            <a:pPr indent="0" algn="ctr">
              <a:lnSpc>
                <a:spcPct val="15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Click here to add your subtit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itle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905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 Maste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模板从 www.mysoeasy.com 下载">
  <a:themeElements>
    <a:clrScheme name="office资源宝库-www.mySoEasy.com">
      <a:dk1>
        <a:srgbClr val="262626"/>
      </a:dk1>
      <a:lt1>
        <a:srgbClr val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b8b8b"/>
      </a:dk2>
      <a:lt2>
        <a:srgbClr val="ffffff"/>
      </a:lt2>
      <a:accent1>
        <a:srgbClr val="00adee"/>
      </a:accent1>
      <a:accent2>
        <a:srgbClr val="00adee"/>
      </a:accent2>
      <a:accent3>
        <a:srgbClr val="ffc000"/>
      </a:accent3>
      <a:accent4>
        <a:srgbClr val="eb008b"/>
      </a:accent4>
      <a:accent5>
        <a:srgbClr val="00adef"/>
      </a:accent5>
      <a:accent6>
        <a:srgbClr val="9bbb59"/>
      </a:accent6>
      <a:hlink>
        <a:srgbClr val="76923c"/>
      </a:hlink>
      <a:folHlink>
        <a:srgbClr val="a7a71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  <Words>37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a</cp:lastModifiedBy>
  <dcterms:modified xsi:type="dcterms:W3CDTF">2015-07-25T08:37:29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  <property fmtid="{D5CDD505-2E9C-101B-9397-08002B2CF9AE}" pid="5" name="VIP等级">
    <vt:lpwstr>2</vt:lpwstr>
  </property>
  <property fmtid="{D5CDD505-2E9C-101B-9397-08002B2CF9AE}" pid="6" name="价格">
    <vt:lpwstr>20</vt:lpwstr>
  </property>
  <property fmtid="{D5CDD505-2E9C-101B-9397-08002B2CF9AE}" pid="7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8" name="使用软件">
    <vt:lpwstr>ppt</vt:lpwstr>
  </property>
  <property fmtid="{D5CDD505-2E9C-101B-9397-08002B2CF9AE}" pid="9" name="关键字">
    <vt:lpwstr>PPT背景模板 EN PPT 格式 时尚 方块 蓝 蓝色 绿 绿色 蓝绿 叠加 渐变 光圈 年轻 活力 青春 动感 动态 抽象 简洁 背景 V2</vt:lpwstr>
  </property>
  <property fmtid="{D5CDD505-2E9C-101B-9397-08002B2CF9AE}" pid="10" name="操作代码">
    <vt:lpwstr>2</vt:lpwstr>
  </property>
  <property fmtid="{D5CDD505-2E9C-101B-9397-08002B2CF9AE}" pid="11" name="是否可购买">
    <vt:lpwstr>1</vt:lpwstr>
  </property>
  <property fmtid="{D5CDD505-2E9C-101B-9397-08002B2CF9AE}" pid="12" name="显示VIP等级">
    <vt:lpwstr>2</vt:lpwstr>
  </property>
  <property fmtid="{D5CDD505-2E9C-101B-9397-08002B2CF9AE}" pid="13" name="标题">
    <vt:lpwstr>蓝绿方块叠加</vt:lpwstr>
  </property>
  <property fmtid="{D5CDD505-2E9C-101B-9397-08002B2CF9AE}" pid="14" name="模板ID">
    <vt:lpwstr>A30220130510A06</vt:lpwstr>
  </property>
  <property fmtid="{D5CDD505-2E9C-101B-9397-08002B2CF9AE}" pid="15" name="模板缩略图">
    <vt:lpwstr>A30220130510A06.png</vt:lpwstr>
  </property>
  <property fmtid="{D5CDD505-2E9C-101B-9397-08002B2CF9AE}" pid="16" name="相关案例">
    <vt:lpwstr>854</vt:lpwstr>
  </property>
  <property fmtid="{D5CDD505-2E9C-101B-9397-08002B2CF9AE}" pid="17" name="缩略图标题">
    <vt:lpwstr>蓝绿方块叠加</vt:lpwstr>
  </property>
  <property fmtid="{D5CDD505-2E9C-101B-9397-08002B2CF9AE}" pid="18" name="适用软件">
    <vt:lpwstr>PowerPoint 2007及以上版本</vt:lpwstr>
  </property>
  <property fmtid="{D5CDD505-2E9C-101B-9397-08002B2CF9AE}" pid="19" name="附件ID">
    <vt:lpwstr>A30220130510A0601</vt:lpwstr>
  </property>
  <property fmtid="{D5CDD505-2E9C-101B-9397-08002B2CF9AE}" pid="20" name="附件缩略图">
    <vt:lpwstr>A30220130510A0601.png</vt:lpwstr>
  </property>
  <property fmtid="{D5CDD505-2E9C-101B-9397-08002B2CF9AE}" pid="21" name="附件路径">
    <vt:lpwstr>A30220130510A0601.pptx</vt:lpwstr>
  </property>
</Properties>
</file>