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0D80-8598-41A4-AFCD-22764381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8B39-37D5-4967-A076-AF7A40CA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6FD-747F-4805-A161-ADC10D03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844-E299-4574-9AA9-DC09ECEF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266-CF9A-47D6-A3D9-22050720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103-4009-4CDB-AF02-6BBD09DE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8FEA-A63F-406E-8F30-9413C61C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0A0E-48FC-4ADC-9067-5420A2DA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850F-0720-4208-8F58-3ABF6A65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8CF0-EB1D-4BAA-A452-D3C50444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D053-D451-438C-8BB6-902CAA63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ADFE-9B64-4562-B7B9-143CA112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E:\jll\河山图标.jpg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E:\jll\24\商务\34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F3C4-FF67-467B-BE21-851028E16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交错的键盘与写字楼商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8:34:13Z</dcterms:created>
  <dc:creator>ppt宝藏</dc:creator>
  <dc:description/>
  <dc:language>en-US</dc:language>
  <cp:lastModifiedBy>a</cp:lastModifiedBy>
  <dcterms:modified xsi:type="dcterms:W3CDTF">2015-07-25T07:08:28Z</dcterms:modified>
  <cp:revision>4</cp:revision>
  <dc:subject/>
  <dc:title>www.pptbz.com</dc:title>
</cp:coreProperties>
</file>