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hdphoto1.wdp" ContentType="image/vnd.ms-photo"/>
  <Override PartName="/ppt/media/image8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gradFill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4c4c4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gradFill>
              <a:gsLst>
                <a:gs pos="0">
                  <a:srgbClr val="779637"/>
                </a:gs>
                <a:gs pos="100000">
                  <a:srgbClr val="9bc348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37891442"/>
        <c:axId val="81384576"/>
      </c:barChart>
      <c:catAx>
        <c:axId val="3789144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c4c4c"/>
                </a:solidFill>
                <a:latin typeface="微软雅黑"/>
                <a:ea typeface="微软雅黑"/>
              </a:defRPr>
            </a:pPr>
          </a:p>
        </c:txPr>
        <c:crossAx val="81384576"/>
        <c:crosses val="autoZero"/>
        <c:auto val="1"/>
        <c:lblAlgn val="ctr"/>
        <c:lblOffset val="100"/>
        <c:noMultiLvlLbl val="0"/>
      </c:catAx>
      <c:valAx>
        <c:axId val="81384576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891442"/>
        <c:crossBetween val="between"/>
      </c:valAx>
      <c:spPr>
        <a:noFill/>
        <a:ln w="2556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2">
  <dgm:title val=""/>
  <dgm:desc val=""/>
  <dgm:catLst>
    <dgm:cat type="mainScheme" pri="10200"/>
  </dgm:catLst>
  <dgm:styleLbl name="node0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node1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alignNode1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lnNode1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node3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node4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fgImgPlace1">
    <dgm:fillClrLst meth="repeat">
      <a:schemeClr val="dk2">
        <a:tint val="4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2">
        <a:tint val="4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2">
        <a:tint val="4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dk2"/>
    </dgm:txFillClrLst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dk2"/>
    </dgm:txFillClrLst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dk2"/>
    </dgm:txFillClrLst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asst1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asst2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asst3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asst4">
    <dgm:fillClrLst meth="repeat">
      <a:schemeClr val="lt1"/>
    </dgm:fillClrLst>
    <dgm:linClrLst meth="repeat">
      <a:schemeClr val="dk2">
        <a:shade val="80000"/>
      </a:schemeClr>
    </dgm:linClrLst>
    <dgm:effectClrLst/>
    <dgm:txLinClrLst/>
    <dgm:txFillClrLst meth="repeat">
      <a:schemeClr val="dk2"/>
    </dgm:txFillClrLst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conFgAcc1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alignAcc1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trAlignAcc1">
    <dgm:fillClrLst meth="repeat">
      <a:schemeClr val="dk2">
        <a:alpha val="4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bgAcc1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solidFgAcc1">
    <dgm:fillClrLst meth="repeat">
      <a:schemeClr val="lt1"/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solidAlignAcc1">
    <dgm:fillClrLst meth="repeat">
      <a:schemeClr val="lt1"/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solidBgAcc1">
    <dgm:fillClrLst meth="repeat">
      <a:schemeClr val="lt1"/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2">
        <a:alpha val="90000"/>
      </a:schemeClr>
    </dgm:linClrLst>
    <dgm:effectClrLst/>
    <dgm:txLinClrLst/>
    <dgm:txFillClrLst meth="repeat">
      <a:schemeClr val="dk2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2">
        <a:alpha val="90000"/>
      </a:schemeClr>
    </dgm:linClrLst>
    <dgm:effectClrLst/>
    <dgm:txLinClrLst/>
    <dgm:txFillClrLst meth="repeat">
      <a:schemeClr val="dk2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2">
        <a:alpha val="90000"/>
      </a:schemeClr>
    </dgm:linClrLst>
    <dgm:effectClrLst/>
    <dgm:txLinClrLst/>
    <dgm:txFillClrLst meth="repeat">
      <a:schemeClr val="dk2"/>
    </dgm:txFillClrLst>
    <dgm:txEffectClrLst/>
  </dgm:styleLbl>
  <dgm:styleLbl name="fgAcc0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fgAcc2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fgAcc3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fgAcc4">
    <dgm:fillClrLst meth="repeat">
      <a:schemeClr val="dk2">
        <a:alpha val="90000"/>
        <a:tint val="40000"/>
      </a:schemeClr>
    </dgm:fillClrLst>
    <dgm:linClrLst meth="repeat">
      <a:schemeClr val="dk2"/>
    </dgm:linClrLst>
    <dgm:effectClrLst/>
    <dgm:txLinClrLst/>
    <dgm:txFillClrLst meth="repeat">
      <a:schemeClr val="dk2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1"/>
    </dgm:linClrLst>
    <dgm:effectClrLst/>
    <dgm:txLinClrLst/>
    <dgm:txFillClrLst meth="repeat">
      <a:schemeClr val="dk2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2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8740B8D-FD17-4994-8CAF-0A638181292A}" type="doc">
      <dgm:prSet loTypeId="urn:microsoft.com/office/officeart/2005/8/layout/orgChart1" loCatId="hierarchy" qsTypeId="urn:microsoft.com/office/officeart/2005/8/quickstyle/simple3" qsCatId="simple" csTypeId="urn:microsoft.com/office/officeart/2005/8/colors/accent0_2" csCatId="mainScheme" phldr="1"/>
      <dgm:spPr/>
      <dgm:t>
        <a:bodyPr/>
        <a:lstStyle/>
        <a:p>
          <a:endParaRPr lang="zh-CN" altLang="en-US"/>
        </a:p>
      </dgm:t>
    </dgm:pt>
    <dgm:pt modelId="{7087DA7C-34F9-4472-A302-E55713F85266}" type="asst">
      <dgm:prSet phldrT="[文本]" custT="1"/>
      <dgm:spPr>
        <a:solidFill>
          <a:srgbClr val="57CFFF"/>
        </a:solidFill>
      </dgm:spPr>
      <dgm:t>
        <a:bodyPr/>
        <a:lstStyle/>
        <a:p>
          <a:r>
            <a:rPr lang="zh-CN" altLang="en-US" sz="1800" b="1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营销中心</a:t>
          </a:r>
          <a:endParaRPr lang="zh-CN" altLang="en-US" sz="1800" b="1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01526816-E48F-4581-8A66-48501DB9DD74}" type="parTrans" cxnId="{D599FB1F-E3F6-4DE6-B9D9-C6941316258A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AEB4A630-33A5-4F8C-919B-C3E8B08C129C}" type="sibTrans" cxnId="{D599FB1F-E3F6-4DE6-B9D9-C6941316258A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9648B751-7698-482D-8083-A2A4CC682EE1}">
      <dgm:prSet phldrT="[文本]" custT="1"/>
      <dgm:spPr>
        <a:solidFill>
          <a:srgbClr val="57CFFF"/>
        </a:solidFill>
      </dgm:spPr>
      <dgm:t>
        <a:bodyPr/>
        <a:lstStyle/>
        <a:p>
          <a:r>
            <a:rPr lang="zh-CN" altLang="en-US" sz="14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市场管理部</a:t>
          </a:r>
          <a:endParaRPr lang="zh-CN" altLang="en-US" sz="14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6DE36DDF-8F78-464A-B90F-6BE74CE866C8}" type="parTrans" cxnId="{4620BF46-A4FE-4B79-AD30-94C5070A326C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1D00B2F8-2DCB-4B18-A3B4-FD64636A3EBD}" type="sibTrans" cxnId="{4620BF46-A4FE-4B79-AD30-94C5070A326C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3084ED39-E493-48B6-AE61-982D1C9C2BAA}">
      <dgm:prSet phldrT="[文本]" custT="1"/>
      <dgm:spPr>
        <a:solidFill>
          <a:srgbClr val="57CFFF"/>
        </a:solidFill>
      </dgm:spPr>
      <dgm:t>
        <a:bodyPr/>
        <a:lstStyle/>
        <a:p>
          <a:r>
            <a:rPr lang="zh-CN" altLang="en-US" sz="14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销售管理部</a:t>
          </a:r>
          <a:endParaRPr lang="zh-CN" altLang="en-US" sz="14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B184C8FE-5B59-4A95-99D4-592ADC6F30D5}" type="parTrans" cxnId="{FEE82998-7499-4D86-8F9E-1F200C59C49A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EE17172C-2981-408A-8BF4-68285E6AA06B}" type="sibTrans" cxnId="{FEE82998-7499-4D86-8F9E-1F200C59C49A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2B7F336C-72D5-48F8-9A85-528071A45D97}">
      <dgm:prSet phldrT="[文本]" custT="1"/>
      <dgm:spPr>
        <a:solidFill>
          <a:srgbClr val="57CFFF"/>
        </a:solidFill>
      </dgm:spPr>
      <dgm:t>
        <a:bodyPr/>
        <a:lstStyle/>
        <a:p>
          <a:r>
            <a:rPr lang="zh-CN" altLang="en-US" sz="14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客户服</a:t>
          </a:r>
          <a:endParaRPr lang="zh-CN" altLang="en-US" sz="14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CBE669BB-BAEF-453A-9279-007D91A20D5D}" type="parTrans" cxnId="{1046F5AD-B126-4F07-A715-751E66219CEF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F7672F5D-805C-4567-B649-8C1CE77691EB}" type="sibTrans" cxnId="{1046F5AD-B126-4F07-A715-751E66219CEF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1C0E5180-91D8-4CBF-AB17-7AD6A79B79CE}">
      <dgm:prSet phldrT="[文本]" custT="1"/>
      <dgm:spPr>
        <a:solidFill>
          <a:srgbClr val="57CFFF"/>
        </a:solidFill>
      </dgm:spPr>
      <dgm:t>
        <a:bodyPr/>
        <a:lstStyle/>
        <a:p>
          <a:r>
            <a:rPr lang="zh-CN" altLang="en-US" sz="14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办事处</a:t>
          </a:r>
          <a:endParaRPr lang="zh-CN" altLang="en-US" sz="14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1BACE57B-EBD0-4BD4-AC05-42D3B93E94B9}" type="parTrans" cxnId="{DD919F6A-793B-4B97-A7F4-AC37B4146D93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D6CCD7D1-DB19-4201-AD67-F222E9A3E9F0}" type="sibTrans" cxnId="{DD919F6A-793B-4B97-A7F4-AC37B4146D93}">
      <dgm:prSet/>
      <dgm:spPr/>
      <dgm:t>
        <a:bodyPr/>
        <a:lstStyle/>
        <a:p>
          <a:endParaRPr lang="zh-CN" altLang="en-US" sz="140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gm:t>
    </dgm:pt>
    <dgm:pt modelId="{8D8DC11A-ECAA-44B3-BEF5-91C0C95F2AF6}" type="pres">
      <dgm:prSet presAssocID="{28740B8D-FD17-4994-8CAF-0A638181292A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zh-CN" altLang="en-US"/>
        </a:p>
      </dgm:t>
    </dgm:pt>
    <dgm:pt modelId="{D7E9088C-9903-494A-9C52-C3F4B0BCABE5}" type="pres">
      <dgm:prSet presAssocID="{7087DA7C-34F9-4472-A302-E55713F85266}" presName="hierRoot1" presStyleCnt="0">
        <dgm:presLayoutVars>
          <dgm:hierBranch val="init"/>
        </dgm:presLayoutVars>
      </dgm:prSet>
      <dgm:spPr/>
    </dgm:pt>
    <dgm:pt modelId="{839B48D2-026C-425B-A619-FCB5B87ED26B}" type="pres">
      <dgm:prSet presAssocID="{7087DA7C-34F9-4472-A302-E55713F85266}" presName="rootComposite1" presStyleCnt="0"/>
      <dgm:spPr/>
    </dgm:pt>
    <dgm:pt modelId="{6470813F-BDF7-4C5F-9482-391504CF59BC}" type="pres">
      <dgm:prSet presAssocID="{7087DA7C-34F9-4472-A302-E55713F85266}" presName="rootText1" presStyleLbl="node0" presStyleIdx="0" presStyleCnt="1" custLinFactNeighborX="4344" custLinFactNeighborY="-1844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545900D6-4546-4DAC-8700-56182840DC28}" type="pres">
      <dgm:prSet presAssocID="{7087DA7C-34F9-4472-A302-E55713F85266}" presName="rootConnector1" presStyleLbl="asst0" presStyleIdx="0" presStyleCnt="0"/>
      <dgm:spPr/>
      <dgm:t>
        <a:bodyPr/>
        <a:lstStyle/>
        <a:p>
          <a:endParaRPr lang="zh-CN" altLang="en-US"/>
        </a:p>
      </dgm:t>
    </dgm:pt>
    <dgm:pt modelId="{55EB8DC7-9CB3-4BE1-8FB3-43D004EF822C}" type="pres">
      <dgm:prSet presAssocID="{7087DA7C-34F9-4472-A302-E55713F85266}" presName="hierChild2" presStyleCnt="0"/>
      <dgm:spPr/>
    </dgm:pt>
    <dgm:pt modelId="{C0CE3308-AA48-417D-ADFB-5B985D041523}" type="pres">
      <dgm:prSet presAssocID="{6DE36DDF-8F78-464A-B90F-6BE74CE866C8}" presName="Name37" presStyleLbl="parChTrans1D2" presStyleIdx="0" presStyleCnt="4"/>
      <dgm:spPr/>
      <dgm:t>
        <a:bodyPr/>
        <a:lstStyle/>
        <a:p>
          <a:endParaRPr lang="zh-CN" altLang="en-US"/>
        </a:p>
      </dgm:t>
    </dgm:pt>
    <dgm:pt modelId="{76CF95A1-7D4D-49B7-AE0B-FBD990E004E4}" type="pres">
      <dgm:prSet presAssocID="{9648B751-7698-482D-8083-A2A4CC682EE1}" presName="hierRoot2" presStyleCnt="0">
        <dgm:presLayoutVars>
          <dgm:hierBranch val="init"/>
        </dgm:presLayoutVars>
      </dgm:prSet>
      <dgm:spPr/>
    </dgm:pt>
    <dgm:pt modelId="{A16A5D18-89A7-49BA-8499-31599CD59DDC}" type="pres">
      <dgm:prSet presAssocID="{9648B751-7698-482D-8083-A2A4CC682EE1}" presName="rootComposite" presStyleCnt="0"/>
      <dgm:spPr/>
    </dgm:pt>
    <dgm:pt modelId="{291A0456-F1DA-4B9E-BA31-709ADD0CB6ED}" type="pres">
      <dgm:prSet presAssocID="{9648B751-7698-482D-8083-A2A4CC682EE1}" presName="rootText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AA0784FC-6267-450D-87E1-42FBFFBA9891}" type="pres">
      <dgm:prSet presAssocID="{9648B751-7698-482D-8083-A2A4CC682EE1}" presName="rootConnector" presStyleLbl="node2" presStyleIdx="0" presStyleCnt="4"/>
      <dgm:spPr/>
      <dgm:t>
        <a:bodyPr/>
        <a:lstStyle/>
        <a:p>
          <a:endParaRPr lang="zh-CN" altLang="en-US"/>
        </a:p>
      </dgm:t>
    </dgm:pt>
    <dgm:pt modelId="{5F02E746-CD5C-4D7A-9640-AFCD7D9171B8}" type="pres">
      <dgm:prSet presAssocID="{9648B751-7698-482D-8083-A2A4CC682EE1}" presName="hierChild4" presStyleCnt="0"/>
      <dgm:spPr/>
    </dgm:pt>
    <dgm:pt modelId="{FF7B394C-A82B-4BD7-9FF7-16B12D68158A}" type="pres">
      <dgm:prSet presAssocID="{9648B751-7698-482D-8083-A2A4CC682EE1}" presName="hierChild5" presStyleCnt="0"/>
      <dgm:spPr/>
    </dgm:pt>
    <dgm:pt modelId="{78D67C8E-6792-467E-ABF7-BDECA8098E63}" type="pres">
      <dgm:prSet presAssocID="{B184C8FE-5B59-4A95-99D4-592ADC6F30D5}" presName="Name37" presStyleLbl="parChTrans1D2" presStyleIdx="1" presStyleCnt="4"/>
      <dgm:spPr/>
      <dgm:t>
        <a:bodyPr/>
        <a:lstStyle/>
        <a:p>
          <a:endParaRPr lang="zh-CN" altLang="en-US"/>
        </a:p>
      </dgm:t>
    </dgm:pt>
    <dgm:pt modelId="{24DAC368-DF74-4610-9AC3-51C4F06E51BC}" type="pres">
      <dgm:prSet presAssocID="{3084ED39-E493-48B6-AE61-982D1C9C2BAA}" presName="hierRoot2" presStyleCnt="0">
        <dgm:presLayoutVars>
          <dgm:hierBranch val="init"/>
        </dgm:presLayoutVars>
      </dgm:prSet>
      <dgm:spPr/>
    </dgm:pt>
    <dgm:pt modelId="{D87F9A58-F78F-47F6-8703-D598A1F3FCE3}" type="pres">
      <dgm:prSet presAssocID="{3084ED39-E493-48B6-AE61-982D1C9C2BAA}" presName="rootComposite" presStyleCnt="0"/>
      <dgm:spPr/>
    </dgm:pt>
    <dgm:pt modelId="{D098FE37-B705-425E-83CA-968EA6EE274A}" type="pres">
      <dgm:prSet presAssocID="{3084ED39-E493-48B6-AE61-982D1C9C2BAA}" presName="rootText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EB6929C4-7F31-4D5B-9464-C70A08E0577E}" type="pres">
      <dgm:prSet presAssocID="{3084ED39-E493-48B6-AE61-982D1C9C2BAA}" presName="rootConnector" presStyleLbl="node2" presStyleIdx="1" presStyleCnt="4"/>
      <dgm:spPr/>
      <dgm:t>
        <a:bodyPr/>
        <a:lstStyle/>
        <a:p>
          <a:endParaRPr lang="zh-CN" altLang="en-US"/>
        </a:p>
      </dgm:t>
    </dgm:pt>
    <dgm:pt modelId="{38173725-A3D2-4187-8F20-DE3E6A9FB104}" type="pres">
      <dgm:prSet presAssocID="{3084ED39-E493-48B6-AE61-982D1C9C2BAA}" presName="hierChild4" presStyleCnt="0"/>
      <dgm:spPr/>
    </dgm:pt>
    <dgm:pt modelId="{A25B5363-7569-41E2-B9E3-8729644843BB}" type="pres">
      <dgm:prSet presAssocID="{3084ED39-E493-48B6-AE61-982D1C9C2BAA}" presName="hierChild5" presStyleCnt="0"/>
      <dgm:spPr/>
    </dgm:pt>
    <dgm:pt modelId="{93F779AC-5F2A-4A43-8437-8EA673D5683F}" type="pres">
      <dgm:prSet presAssocID="{CBE669BB-BAEF-453A-9279-007D91A20D5D}" presName="Name37" presStyleLbl="parChTrans1D2" presStyleIdx="2" presStyleCnt="4"/>
      <dgm:spPr/>
      <dgm:t>
        <a:bodyPr/>
        <a:lstStyle/>
        <a:p>
          <a:endParaRPr lang="zh-CN" altLang="en-US"/>
        </a:p>
      </dgm:t>
    </dgm:pt>
    <dgm:pt modelId="{95147EB6-87FE-4468-8E8F-6192375D1B1B}" type="pres">
      <dgm:prSet presAssocID="{2B7F336C-72D5-48F8-9A85-528071A45D97}" presName="hierRoot2" presStyleCnt="0">
        <dgm:presLayoutVars>
          <dgm:hierBranch val="init"/>
        </dgm:presLayoutVars>
      </dgm:prSet>
      <dgm:spPr/>
    </dgm:pt>
    <dgm:pt modelId="{DD046F29-D589-41FA-B8F7-2FEC46869807}" type="pres">
      <dgm:prSet presAssocID="{2B7F336C-72D5-48F8-9A85-528071A45D97}" presName="rootComposite" presStyleCnt="0"/>
      <dgm:spPr/>
    </dgm:pt>
    <dgm:pt modelId="{180485E4-9F2C-4DCC-9F14-739CECD17CD8}" type="pres">
      <dgm:prSet presAssocID="{2B7F336C-72D5-48F8-9A85-528071A45D97}" presName="rootText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453B58EC-D4CE-4DC2-908D-C9BCF66C7C2F}" type="pres">
      <dgm:prSet presAssocID="{2B7F336C-72D5-48F8-9A85-528071A45D97}" presName="rootConnector" presStyleLbl="node2" presStyleIdx="2" presStyleCnt="4"/>
      <dgm:spPr/>
      <dgm:t>
        <a:bodyPr/>
        <a:lstStyle/>
        <a:p>
          <a:endParaRPr lang="zh-CN" altLang="en-US"/>
        </a:p>
      </dgm:t>
    </dgm:pt>
    <dgm:pt modelId="{D4E62672-7919-4187-AA1E-ABE5C3B16816}" type="pres">
      <dgm:prSet presAssocID="{2B7F336C-72D5-48F8-9A85-528071A45D97}" presName="hierChild4" presStyleCnt="0"/>
      <dgm:spPr/>
    </dgm:pt>
    <dgm:pt modelId="{D90F806D-1F80-40BF-AD28-FAF1FF20BABD}" type="pres">
      <dgm:prSet presAssocID="{2B7F336C-72D5-48F8-9A85-528071A45D97}" presName="hierChild5" presStyleCnt="0"/>
      <dgm:spPr/>
    </dgm:pt>
    <dgm:pt modelId="{634CD55E-A8B0-4584-BF3D-1760A170B1FD}" type="pres">
      <dgm:prSet presAssocID="{1BACE57B-EBD0-4BD4-AC05-42D3B93E94B9}" presName="Name37" presStyleLbl="parChTrans1D2" presStyleIdx="3" presStyleCnt="4"/>
      <dgm:spPr/>
      <dgm:t>
        <a:bodyPr/>
        <a:lstStyle/>
        <a:p>
          <a:endParaRPr lang="zh-CN" altLang="en-US"/>
        </a:p>
      </dgm:t>
    </dgm:pt>
    <dgm:pt modelId="{DB40CDB8-457E-4061-A1E5-D205D15CB426}" type="pres">
      <dgm:prSet presAssocID="{1C0E5180-91D8-4CBF-AB17-7AD6A79B79CE}" presName="hierRoot2" presStyleCnt="0">
        <dgm:presLayoutVars>
          <dgm:hierBranch val="init"/>
        </dgm:presLayoutVars>
      </dgm:prSet>
      <dgm:spPr/>
    </dgm:pt>
    <dgm:pt modelId="{E3CA75B3-0CFB-4F91-B9A5-F3C123445AAD}" type="pres">
      <dgm:prSet presAssocID="{1C0E5180-91D8-4CBF-AB17-7AD6A79B79CE}" presName="rootComposite" presStyleCnt="0"/>
      <dgm:spPr/>
    </dgm:pt>
    <dgm:pt modelId="{251590DD-FA51-4082-8534-3EE5FFAF4BC0}" type="pres">
      <dgm:prSet presAssocID="{1C0E5180-91D8-4CBF-AB17-7AD6A79B79CE}" presName="rootText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71142C04-CA42-48E9-9D3D-9317FF286B12}" type="pres">
      <dgm:prSet presAssocID="{1C0E5180-91D8-4CBF-AB17-7AD6A79B79CE}" presName="rootConnector" presStyleLbl="node2" presStyleIdx="3" presStyleCnt="4"/>
      <dgm:spPr/>
      <dgm:t>
        <a:bodyPr/>
        <a:lstStyle/>
        <a:p>
          <a:endParaRPr lang="zh-CN" altLang="en-US"/>
        </a:p>
      </dgm:t>
    </dgm:pt>
    <dgm:pt modelId="{DC57EF3F-E7E2-4D26-A78A-FE91255DD06F}" type="pres">
      <dgm:prSet presAssocID="{1C0E5180-91D8-4CBF-AB17-7AD6A79B79CE}" presName="hierChild4" presStyleCnt="0"/>
      <dgm:spPr/>
    </dgm:pt>
    <dgm:pt modelId="{2919E3B3-40FC-4D88-B2A1-B811E3298794}" type="pres">
      <dgm:prSet presAssocID="{1C0E5180-91D8-4CBF-AB17-7AD6A79B79CE}" presName="hierChild5" presStyleCnt="0"/>
      <dgm:spPr/>
    </dgm:pt>
    <dgm:pt modelId="{8373DAF4-1EB2-4E76-B9AE-F6153AD9FD84}" type="pres">
      <dgm:prSet presAssocID="{7087DA7C-34F9-4472-A302-E55713F85266}" presName="hierChild3" presStyleCnt="0"/>
      <dgm:spPr/>
    </dgm:pt>
  </dgm:ptLst>
  <dgm:cxnLst>
    <dgm:cxn modelId="{7BC6B18D-F773-4305-8B25-52F9FF41ED91}" type="presOf" srcId="{3084ED39-E493-48B6-AE61-982D1C9C2BAA}" destId="{D098FE37-B705-425E-83CA-968EA6EE274A}" srcOrd="0" destOrd="0" presId="urn:microsoft.com/office/officeart/2005/8/layout/orgChart1"/>
    <dgm:cxn modelId="{7AC5887D-9A19-4F12-B8D9-8322650ACBB0}" type="presOf" srcId="{1C0E5180-91D8-4CBF-AB17-7AD6A79B79CE}" destId="{251590DD-FA51-4082-8534-3EE5FFAF4BC0}" srcOrd="0" destOrd="0" presId="urn:microsoft.com/office/officeart/2005/8/layout/orgChart1"/>
    <dgm:cxn modelId="{741D4827-10E4-4C6F-B533-E5D2509CEA45}" type="presOf" srcId="{7087DA7C-34F9-4472-A302-E55713F85266}" destId="{545900D6-4546-4DAC-8700-56182840DC28}" srcOrd="1" destOrd="0" presId="urn:microsoft.com/office/officeart/2005/8/layout/orgChart1"/>
    <dgm:cxn modelId="{4620BF46-A4FE-4B79-AD30-94C5070A326C}" srcId="{7087DA7C-34F9-4472-A302-E55713F85266}" destId="{9648B751-7698-482D-8083-A2A4CC682EE1}" srcOrd="0" destOrd="0" parTransId="{6DE36DDF-8F78-464A-B90F-6BE74CE866C8}" sibTransId="{1D00B2F8-2DCB-4B18-A3B4-FD64636A3EBD}"/>
    <dgm:cxn modelId="{FEE82998-7499-4D86-8F9E-1F200C59C49A}" srcId="{7087DA7C-34F9-4472-A302-E55713F85266}" destId="{3084ED39-E493-48B6-AE61-982D1C9C2BAA}" srcOrd="1" destOrd="0" parTransId="{B184C8FE-5B59-4A95-99D4-592ADC6F30D5}" sibTransId="{EE17172C-2981-408A-8BF4-68285E6AA06B}"/>
    <dgm:cxn modelId="{F7529DD4-1723-4B76-A2CE-335903B1FFE7}" type="presOf" srcId="{9648B751-7698-482D-8083-A2A4CC682EE1}" destId="{AA0784FC-6267-450D-87E1-42FBFFBA9891}" srcOrd="1" destOrd="0" presId="urn:microsoft.com/office/officeart/2005/8/layout/orgChart1"/>
    <dgm:cxn modelId="{6E055CB6-FDAB-47A4-AD4B-5D4B8BA75C60}" type="presOf" srcId="{1C0E5180-91D8-4CBF-AB17-7AD6A79B79CE}" destId="{71142C04-CA42-48E9-9D3D-9317FF286B12}" srcOrd="1" destOrd="0" presId="urn:microsoft.com/office/officeart/2005/8/layout/orgChart1"/>
    <dgm:cxn modelId="{8276CF81-B2FD-456F-A336-5F33EDF98F0C}" type="presOf" srcId="{B184C8FE-5B59-4A95-99D4-592ADC6F30D5}" destId="{78D67C8E-6792-467E-ABF7-BDECA8098E63}" srcOrd="0" destOrd="0" presId="urn:microsoft.com/office/officeart/2005/8/layout/orgChart1"/>
    <dgm:cxn modelId="{5C9E3185-0F2A-47C0-9DD4-7F57FC6086AA}" type="presOf" srcId="{7087DA7C-34F9-4472-A302-E55713F85266}" destId="{6470813F-BDF7-4C5F-9482-391504CF59BC}" srcOrd="0" destOrd="0" presId="urn:microsoft.com/office/officeart/2005/8/layout/orgChart1"/>
    <dgm:cxn modelId="{DD919F6A-793B-4B97-A7F4-AC37B4146D93}" srcId="{7087DA7C-34F9-4472-A302-E55713F85266}" destId="{1C0E5180-91D8-4CBF-AB17-7AD6A79B79CE}" srcOrd="3" destOrd="0" parTransId="{1BACE57B-EBD0-4BD4-AC05-42D3B93E94B9}" sibTransId="{D6CCD7D1-DB19-4201-AD67-F222E9A3E9F0}"/>
    <dgm:cxn modelId="{AE56BD10-3EC4-4D12-A6F7-DA1768AA49BA}" type="presOf" srcId="{3084ED39-E493-48B6-AE61-982D1C9C2BAA}" destId="{EB6929C4-7F31-4D5B-9464-C70A08E0577E}" srcOrd="1" destOrd="0" presId="urn:microsoft.com/office/officeart/2005/8/layout/orgChart1"/>
    <dgm:cxn modelId="{8C74767D-8516-4716-A0F8-5E1C4B6445BA}" type="presOf" srcId="{2B7F336C-72D5-48F8-9A85-528071A45D97}" destId="{180485E4-9F2C-4DCC-9F14-739CECD17CD8}" srcOrd="0" destOrd="0" presId="urn:microsoft.com/office/officeart/2005/8/layout/orgChart1"/>
    <dgm:cxn modelId="{A6C903FE-86A5-4574-972E-974F0BE0D9D7}" type="presOf" srcId="{1BACE57B-EBD0-4BD4-AC05-42D3B93E94B9}" destId="{634CD55E-A8B0-4584-BF3D-1760A170B1FD}" srcOrd="0" destOrd="0" presId="urn:microsoft.com/office/officeart/2005/8/layout/orgChart1"/>
    <dgm:cxn modelId="{7E80BF2F-59B8-4648-A429-8B30178C162E}" type="presOf" srcId="{9648B751-7698-482D-8083-A2A4CC682EE1}" destId="{291A0456-F1DA-4B9E-BA31-709ADD0CB6ED}" srcOrd="0" destOrd="0" presId="urn:microsoft.com/office/officeart/2005/8/layout/orgChart1"/>
    <dgm:cxn modelId="{829D86C0-9DB6-4568-A4AA-955F81EC02FB}" type="presOf" srcId="{2B7F336C-72D5-48F8-9A85-528071A45D97}" destId="{453B58EC-D4CE-4DC2-908D-C9BCF66C7C2F}" srcOrd="1" destOrd="0" presId="urn:microsoft.com/office/officeart/2005/8/layout/orgChart1"/>
    <dgm:cxn modelId="{183572CC-1F56-42AA-BCA9-F34BE18C79AB}" type="presOf" srcId="{CBE669BB-BAEF-453A-9279-007D91A20D5D}" destId="{93F779AC-5F2A-4A43-8437-8EA673D5683F}" srcOrd="0" destOrd="0" presId="urn:microsoft.com/office/officeart/2005/8/layout/orgChart1"/>
    <dgm:cxn modelId="{1046F5AD-B126-4F07-A715-751E66219CEF}" srcId="{7087DA7C-34F9-4472-A302-E55713F85266}" destId="{2B7F336C-72D5-48F8-9A85-528071A45D97}" srcOrd="2" destOrd="0" parTransId="{CBE669BB-BAEF-453A-9279-007D91A20D5D}" sibTransId="{F7672F5D-805C-4567-B649-8C1CE77691EB}"/>
    <dgm:cxn modelId="{3327EE20-B483-4B27-BA5C-69C73C3E2F73}" type="presOf" srcId="{28740B8D-FD17-4994-8CAF-0A638181292A}" destId="{8D8DC11A-ECAA-44B3-BEF5-91C0C95F2AF6}" srcOrd="0" destOrd="0" presId="urn:microsoft.com/office/officeart/2005/8/layout/orgChart1"/>
    <dgm:cxn modelId="{D599FB1F-E3F6-4DE6-B9D9-C6941316258A}" srcId="{28740B8D-FD17-4994-8CAF-0A638181292A}" destId="{7087DA7C-34F9-4472-A302-E55713F85266}" srcOrd="0" destOrd="0" parTransId="{01526816-E48F-4581-8A66-48501DB9DD74}" sibTransId="{AEB4A630-33A5-4F8C-919B-C3E8B08C129C}"/>
    <dgm:cxn modelId="{91FF9EDA-8D44-4944-BF19-B0E4F9647022}" type="presOf" srcId="{6DE36DDF-8F78-464A-B90F-6BE74CE866C8}" destId="{C0CE3308-AA48-417D-ADFB-5B985D041523}" srcOrd="0" destOrd="0" presId="urn:microsoft.com/office/officeart/2005/8/layout/orgChart1"/>
    <dgm:cxn modelId="{2072D63F-A0CD-4891-AD04-F57D72E70790}" type="presParOf" srcId="{8D8DC11A-ECAA-44B3-BEF5-91C0C95F2AF6}" destId="{D7E9088C-9903-494A-9C52-C3F4B0BCABE5}" srcOrd="0" destOrd="0" presId="urn:microsoft.com/office/officeart/2005/8/layout/orgChart1"/>
    <dgm:cxn modelId="{A3BBD19C-7C6A-4DEB-8E9C-28EBD8063522}" type="presParOf" srcId="{D7E9088C-9903-494A-9C52-C3F4B0BCABE5}" destId="{839B48D2-026C-425B-A619-FCB5B87ED26B}" srcOrd="0" destOrd="0" presId="urn:microsoft.com/office/officeart/2005/8/layout/orgChart1"/>
    <dgm:cxn modelId="{90F74648-62C5-4D6B-93E9-BD41A0B18C2E}" type="presParOf" srcId="{839B48D2-026C-425B-A619-FCB5B87ED26B}" destId="{6470813F-BDF7-4C5F-9482-391504CF59BC}" srcOrd="0" destOrd="0" presId="urn:microsoft.com/office/officeart/2005/8/layout/orgChart1"/>
    <dgm:cxn modelId="{A88BEFC1-9D85-4F2F-AB81-346F27996EB6}" type="presParOf" srcId="{839B48D2-026C-425B-A619-FCB5B87ED26B}" destId="{545900D6-4546-4DAC-8700-56182840DC28}" srcOrd="1" destOrd="0" presId="urn:microsoft.com/office/officeart/2005/8/layout/orgChart1"/>
    <dgm:cxn modelId="{27B42DD2-09E7-41C2-B8F0-1BA69F4A592B}" type="presParOf" srcId="{D7E9088C-9903-494A-9C52-C3F4B0BCABE5}" destId="{55EB8DC7-9CB3-4BE1-8FB3-43D004EF822C}" srcOrd="1" destOrd="0" presId="urn:microsoft.com/office/officeart/2005/8/layout/orgChart1"/>
    <dgm:cxn modelId="{08E87CCA-C7A2-4A4C-BC3D-F59C3D68F2F5}" type="presParOf" srcId="{55EB8DC7-9CB3-4BE1-8FB3-43D004EF822C}" destId="{C0CE3308-AA48-417D-ADFB-5B985D041523}" srcOrd="0" destOrd="0" presId="urn:microsoft.com/office/officeart/2005/8/layout/orgChart1"/>
    <dgm:cxn modelId="{10996E5A-04C4-4C67-BBCA-14FC40784BD7}" type="presParOf" srcId="{55EB8DC7-9CB3-4BE1-8FB3-43D004EF822C}" destId="{76CF95A1-7D4D-49B7-AE0B-FBD990E004E4}" srcOrd="1" destOrd="0" presId="urn:microsoft.com/office/officeart/2005/8/layout/orgChart1"/>
    <dgm:cxn modelId="{BFF0F6F0-DF08-41DF-B9BB-FCD387224358}" type="presParOf" srcId="{76CF95A1-7D4D-49B7-AE0B-FBD990E004E4}" destId="{A16A5D18-89A7-49BA-8499-31599CD59DDC}" srcOrd="0" destOrd="0" presId="urn:microsoft.com/office/officeart/2005/8/layout/orgChart1"/>
    <dgm:cxn modelId="{9E729585-37B8-4FD5-AF91-0AC9EB1FB1D7}" type="presParOf" srcId="{A16A5D18-89A7-49BA-8499-31599CD59DDC}" destId="{291A0456-F1DA-4B9E-BA31-709ADD0CB6ED}" srcOrd="0" destOrd="0" presId="urn:microsoft.com/office/officeart/2005/8/layout/orgChart1"/>
    <dgm:cxn modelId="{76F0CE41-793B-4CAD-ACF5-6D85D9E5A763}" type="presParOf" srcId="{A16A5D18-89A7-49BA-8499-31599CD59DDC}" destId="{AA0784FC-6267-450D-87E1-42FBFFBA9891}" srcOrd="1" destOrd="0" presId="urn:microsoft.com/office/officeart/2005/8/layout/orgChart1"/>
    <dgm:cxn modelId="{44A7BD9A-DF0D-440B-9E7A-98B9A58D12B4}" type="presParOf" srcId="{76CF95A1-7D4D-49B7-AE0B-FBD990E004E4}" destId="{5F02E746-CD5C-4D7A-9640-AFCD7D9171B8}" srcOrd="1" destOrd="0" presId="urn:microsoft.com/office/officeart/2005/8/layout/orgChart1"/>
    <dgm:cxn modelId="{7F338E74-FEB7-4545-8834-88C2CE6C39A7}" type="presParOf" srcId="{76CF95A1-7D4D-49B7-AE0B-FBD990E004E4}" destId="{FF7B394C-A82B-4BD7-9FF7-16B12D68158A}" srcOrd="2" destOrd="0" presId="urn:microsoft.com/office/officeart/2005/8/layout/orgChart1"/>
    <dgm:cxn modelId="{66E97BCA-97F4-47EC-84E2-77515973C1B1}" type="presParOf" srcId="{55EB8DC7-9CB3-4BE1-8FB3-43D004EF822C}" destId="{78D67C8E-6792-467E-ABF7-BDECA8098E63}" srcOrd="2" destOrd="0" presId="urn:microsoft.com/office/officeart/2005/8/layout/orgChart1"/>
    <dgm:cxn modelId="{5DE8825B-89F2-401D-98D2-423FEF28BA1F}" type="presParOf" srcId="{55EB8DC7-9CB3-4BE1-8FB3-43D004EF822C}" destId="{24DAC368-DF74-4610-9AC3-51C4F06E51BC}" srcOrd="3" destOrd="0" presId="urn:microsoft.com/office/officeart/2005/8/layout/orgChart1"/>
    <dgm:cxn modelId="{5E9732AC-B232-4B7A-BBF0-C46F1E59F719}" type="presParOf" srcId="{24DAC368-DF74-4610-9AC3-51C4F06E51BC}" destId="{D87F9A58-F78F-47F6-8703-D598A1F3FCE3}" srcOrd="0" destOrd="0" presId="urn:microsoft.com/office/officeart/2005/8/layout/orgChart1"/>
    <dgm:cxn modelId="{DDF107B8-F1BA-4424-937B-FCA691446816}" type="presParOf" srcId="{D87F9A58-F78F-47F6-8703-D598A1F3FCE3}" destId="{D098FE37-B705-425E-83CA-968EA6EE274A}" srcOrd="0" destOrd="0" presId="urn:microsoft.com/office/officeart/2005/8/layout/orgChart1"/>
    <dgm:cxn modelId="{A9B8BB9E-3193-4F73-B5A7-9D4A54911C8D}" type="presParOf" srcId="{D87F9A58-F78F-47F6-8703-D598A1F3FCE3}" destId="{EB6929C4-7F31-4D5B-9464-C70A08E0577E}" srcOrd="1" destOrd="0" presId="urn:microsoft.com/office/officeart/2005/8/layout/orgChart1"/>
    <dgm:cxn modelId="{105CA3BD-AB4C-4156-BDE9-F338A64F742A}" type="presParOf" srcId="{24DAC368-DF74-4610-9AC3-51C4F06E51BC}" destId="{38173725-A3D2-4187-8F20-DE3E6A9FB104}" srcOrd="1" destOrd="0" presId="urn:microsoft.com/office/officeart/2005/8/layout/orgChart1"/>
    <dgm:cxn modelId="{F51C33EC-2C31-4786-B786-26EB79CFC0AF}" type="presParOf" srcId="{24DAC368-DF74-4610-9AC3-51C4F06E51BC}" destId="{A25B5363-7569-41E2-B9E3-8729644843BB}" srcOrd="2" destOrd="0" presId="urn:microsoft.com/office/officeart/2005/8/layout/orgChart1"/>
    <dgm:cxn modelId="{1AB263D0-4E6A-41DE-9F39-1916C7C8DF27}" type="presParOf" srcId="{55EB8DC7-9CB3-4BE1-8FB3-43D004EF822C}" destId="{93F779AC-5F2A-4A43-8437-8EA673D5683F}" srcOrd="4" destOrd="0" presId="urn:microsoft.com/office/officeart/2005/8/layout/orgChart1"/>
    <dgm:cxn modelId="{0512E822-35BF-42D1-B217-961419263F8E}" type="presParOf" srcId="{55EB8DC7-9CB3-4BE1-8FB3-43D004EF822C}" destId="{95147EB6-87FE-4468-8E8F-6192375D1B1B}" srcOrd="5" destOrd="0" presId="urn:microsoft.com/office/officeart/2005/8/layout/orgChart1"/>
    <dgm:cxn modelId="{85281991-2885-4A7B-92E2-DB1381B73F5A}" type="presParOf" srcId="{95147EB6-87FE-4468-8E8F-6192375D1B1B}" destId="{DD046F29-D589-41FA-B8F7-2FEC46869807}" srcOrd="0" destOrd="0" presId="urn:microsoft.com/office/officeart/2005/8/layout/orgChart1"/>
    <dgm:cxn modelId="{46166A41-4ACF-45BB-986D-4A199352FB1D}" type="presParOf" srcId="{DD046F29-D589-41FA-B8F7-2FEC46869807}" destId="{180485E4-9F2C-4DCC-9F14-739CECD17CD8}" srcOrd="0" destOrd="0" presId="urn:microsoft.com/office/officeart/2005/8/layout/orgChart1"/>
    <dgm:cxn modelId="{6C786F92-8F93-4D98-84FD-6AAD533E0411}" type="presParOf" srcId="{DD046F29-D589-41FA-B8F7-2FEC46869807}" destId="{453B58EC-D4CE-4DC2-908D-C9BCF66C7C2F}" srcOrd="1" destOrd="0" presId="urn:microsoft.com/office/officeart/2005/8/layout/orgChart1"/>
    <dgm:cxn modelId="{4EA5D2DC-CEAC-4A23-BABC-AD33FE87AEC8}" type="presParOf" srcId="{95147EB6-87FE-4468-8E8F-6192375D1B1B}" destId="{D4E62672-7919-4187-AA1E-ABE5C3B16816}" srcOrd="1" destOrd="0" presId="urn:microsoft.com/office/officeart/2005/8/layout/orgChart1"/>
    <dgm:cxn modelId="{2C8B2DB8-D132-40A4-97DB-79455B4D4F52}" type="presParOf" srcId="{95147EB6-87FE-4468-8E8F-6192375D1B1B}" destId="{D90F806D-1F80-40BF-AD28-FAF1FF20BABD}" srcOrd="2" destOrd="0" presId="urn:microsoft.com/office/officeart/2005/8/layout/orgChart1"/>
    <dgm:cxn modelId="{93E7D425-BA26-4FC2-8BCE-4BE64121D6F7}" type="presParOf" srcId="{55EB8DC7-9CB3-4BE1-8FB3-43D004EF822C}" destId="{634CD55E-A8B0-4584-BF3D-1760A170B1FD}" srcOrd="6" destOrd="0" presId="urn:microsoft.com/office/officeart/2005/8/layout/orgChart1"/>
    <dgm:cxn modelId="{BB39C1E8-0E06-498A-A45E-7CD136E0623F}" type="presParOf" srcId="{55EB8DC7-9CB3-4BE1-8FB3-43D004EF822C}" destId="{DB40CDB8-457E-4061-A1E5-D205D15CB426}" srcOrd="7" destOrd="0" presId="urn:microsoft.com/office/officeart/2005/8/layout/orgChart1"/>
    <dgm:cxn modelId="{D54CB7C0-074B-4568-83D8-779793B2C1C7}" type="presParOf" srcId="{DB40CDB8-457E-4061-A1E5-D205D15CB426}" destId="{E3CA75B3-0CFB-4F91-B9A5-F3C123445AAD}" srcOrd="0" destOrd="0" presId="urn:microsoft.com/office/officeart/2005/8/layout/orgChart1"/>
    <dgm:cxn modelId="{D82435C3-C2C9-415F-A909-CAEA206000D7}" type="presParOf" srcId="{E3CA75B3-0CFB-4F91-B9A5-F3C123445AAD}" destId="{251590DD-FA51-4082-8534-3EE5FFAF4BC0}" srcOrd="0" destOrd="0" presId="urn:microsoft.com/office/officeart/2005/8/layout/orgChart1"/>
    <dgm:cxn modelId="{77E4C39F-63D7-4F53-97B4-8EC333E9A5C6}" type="presParOf" srcId="{E3CA75B3-0CFB-4F91-B9A5-F3C123445AAD}" destId="{71142C04-CA42-48E9-9D3D-9317FF286B12}" srcOrd="1" destOrd="0" presId="urn:microsoft.com/office/officeart/2005/8/layout/orgChart1"/>
    <dgm:cxn modelId="{192E9A9C-B139-4E05-AF87-B1282C7F07B0}" type="presParOf" srcId="{DB40CDB8-457E-4061-A1E5-D205D15CB426}" destId="{DC57EF3F-E7E2-4D26-A78A-FE91255DD06F}" srcOrd="1" destOrd="0" presId="urn:microsoft.com/office/officeart/2005/8/layout/orgChart1"/>
    <dgm:cxn modelId="{8F3C88C9-77F5-4DE7-9CE6-F030EF7B96ED}" type="presParOf" srcId="{DB40CDB8-457E-4061-A1E5-D205D15CB426}" destId="{2919E3B3-40FC-4D88-B2A1-B811E3298794}" srcOrd="2" destOrd="0" presId="urn:microsoft.com/office/officeart/2005/8/layout/orgChart1"/>
    <dgm:cxn modelId="{DF5C4474-B0A1-4707-8C46-FEC5F299B057}" type="presParOf" srcId="{D7E9088C-9903-494A-9C52-C3F4B0BCABE5}" destId="{8373DAF4-1EB2-4E76-B9AE-F6153AD9FD84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34CD55E-A8B0-4584-BF3D-1760A170B1FD}">
      <dsp:nvSpPr>
        <dsp:cNvPr id="0" name=""/>
        <dsp:cNvSpPr/>
      </dsp:nvSpPr>
      <dsp:spPr>
        <a:xfrm>
          <a:off x="2677559" y="1202604"/>
          <a:ext cx="2009226" cy="248629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29543"/>
              </a:lnTo>
              <a:lnTo>
                <a:pt x="2009226" y="129543"/>
              </a:lnTo>
              <a:lnTo>
                <a:pt x="2009226" y="248629"/>
              </a:lnTo>
            </a:path>
          </a:pathLst>
        </a:custGeom>
        <a:noFill/>
        <a:ln w="254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3F779AC-5F2A-4A43-8437-8EA673D5683F}">
      <dsp:nvSpPr>
        <dsp:cNvPr id="0" name=""/>
        <dsp:cNvSpPr/>
      </dsp:nvSpPr>
      <dsp:spPr>
        <a:xfrm>
          <a:off x="2677559" y="1202604"/>
          <a:ext cx="636897" cy="248629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29543"/>
              </a:lnTo>
              <a:lnTo>
                <a:pt x="636897" y="129543"/>
              </a:lnTo>
              <a:lnTo>
                <a:pt x="636897" y="248629"/>
              </a:lnTo>
            </a:path>
          </a:pathLst>
        </a:custGeom>
        <a:noFill/>
        <a:ln w="254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D67C8E-6792-467E-ABF7-BDECA8098E63}">
      <dsp:nvSpPr>
        <dsp:cNvPr id="0" name=""/>
        <dsp:cNvSpPr/>
      </dsp:nvSpPr>
      <dsp:spPr>
        <a:xfrm>
          <a:off x="1942127" y="1202604"/>
          <a:ext cx="735432" cy="248629"/>
        </a:xfrm>
        <a:custGeom>
          <a:avLst/>
          <a:gdLst/>
          <a:ahLst/>
          <a:cxnLst/>
          <a:rect l="0" t="0" r="0" b="0"/>
          <a:pathLst>
            <a:path>
              <a:moveTo>
                <a:pt x="735432" y="0"/>
              </a:moveTo>
              <a:lnTo>
                <a:pt x="735432" y="129543"/>
              </a:lnTo>
              <a:lnTo>
                <a:pt x="0" y="129543"/>
              </a:lnTo>
              <a:lnTo>
                <a:pt x="0" y="248629"/>
              </a:lnTo>
            </a:path>
          </a:pathLst>
        </a:custGeom>
        <a:noFill/>
        <a:ln w="254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0CE3308-AA48-417D-ADFB-5B985D041523}">
      <dsp:nvSpPr>
        <dsp:cNvPr id="0" name=""/>
        <dsp:cNvSpPr/>
      </dsp:nvSpPr>
      <dsp:spPr>
        <a:xfrm>
          <a:off x="569797" y="1202604"/>
          <a:ext cx="2107762" cy="248629"/>
        </a:xfrm>
        <a:custGeom>
          <a:avLst/>
          <a:gdLst/>
          <a:ahLst/>
          <a:cxnLst/>
          <a:rect l="0" t="0" r="0" b="0"/>
          <a:pathLst>
            <a:path>
              <a:moveTo>
                <a:pt x="2107762" y="0"/>
              </a:moveTo>
              <a:lnTo>
                <a:pt x="2107762" y="129543"/>
              </a:lnTo>
              <a:lnTo>
                <a:pt x="0" y="129543"/>
              </a:lnTo>
              <a:lnTo>
                <a:pt x="0" y="248629"/>
              </a:lnTo>
            </a:path>
          </a:pathLst>
        </a:custGeom>
        <a:noFill/>
        <a:ln w="254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470813F-BDF7-4C5F-9482-391504CF59BC}">
      <dsp:nvSpPr>
        <dsp:cNvPr id="0" name=""/>
        <dsp:cNvSpPr/>
      </dsp:nvSpPr>
      <dsp:spPr>
        <a:xfrm>
          <a:off x="2110481" y="635526"/>
          <a:ext cx="1134156" cy="567078"/>
        </a:xfrm>
        <a:prstGeom prst="rect">
          <a:avLst/>
        </a:prstGeom>
        <a:solidFill>
          <a:srgbClr val="57CFFF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800" b="1" kern="12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营销中心</a:t>
          </a:r>
          <a:endParaRPr lang="zh-CN" altLang="en-US" sz="1800" b="1" kern="12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sp:txBody>
      <dsp:txXfrm>
        <a:off x="2110481" y="635526"/>
        <a:ext cx="1134156" cy="567078"/>
      </dsp:txXfrm>
    </dsp:sp>
    <dsp:sp modelId="{291A0456-F1DA-4B9E-BA31-709ADD0CB6ED}">
      <dsp:nvSpPr>
        <dsp:cNvPr id="0" name=""/>
        <dsp:cNvSpPr/>
      </dsp:nvSpPr>
      <dsp:spPr>
        <a:xfrm>
          <a:off x="2719" y="1451234"/>
          <a:ext cx="1134156" cy="567078"/>
        </a:xfrm>
        <a:prstGeom prst="rect">
          <a:avLst/>
        </a:prstGeom>
        <a:solidFill>
          <a:srgbClr val="57CFFF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400" kern="12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市场管理部</a:t>
          </a:r>
          <a:endParaRPr lang="zh-CN" altLang="en-US" sz="1400" kern="12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sp:txBody>
      <dsp:txXfrm>
        <a:off x="2719" y="1451234"/>
        <a:ext cx="1134156" cy="567078"/>
      </dsp:txXfrm>
    </dsp:sp>
    <dsp:sp modelId="{D098FE37-B705-425E-83CA-968EA6EE274A}">
      <dsp:nvSpPr>
        <dsp:cNvPr id="0" name=""/>
        <dsp:cNvSpPr/>
      </dsp:nvSpPr>
      <dsp:spPr>
        <a:xfrm>
          <a:off x="1375048" y="1451234"/>
          <a:ext cx="1134156" cy="567078"/>
        </a:xfrm>
        <a:prstGeom prst="rect">
          <a:avLst/>
        </a:prstGeom>
        <a:solidFill>
          <a:srgbClr val="57CFFF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400" kern="12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销售管理部</a:t>
          </a:r>
          <a:endParaRPr lang="zh-CN" altLang="en-US" sz="1400" kern="12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sp:txBody>
      <dsp:txXfrm>
        <a:off x="1375048" y="1451234"/>
        <a:ext cx="1134156" cy="567078"/>
      </dsp:txXfrm>
    </dsp:sp>
    <dsp:sp modelId="{180485E4-9F2C-4DCC-9F14-739CECD17CD8}">
      <dsp:nvSpPr>
        <dsp:cNvPr id="0" name=""/>
        <dsp:cNvSpPr/>
      </dsp:nvSpPr>
      <dsp:spPr>
        <a:xfrm>
          <a:off x="2747378" y="1451234"/>
          <a:ext cx="1134156" cy="567078"/>
        </a:xfrm>
        <a:prstGeom prst="rect">
          <a:avLst/>
        </a:prstGeom>
        <a:solidFill>
          <a:srgbClr val="57CFFF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400" kern="12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客户服</a:t>
          </a:r>
          <a:endParaRPr lang="zh-CN" altLang="en-US" sz="1400" kern="12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sp:txBody>
      <dsp:txXfrm>
        <a:off x="2747378" y="1451234"/>
        <a:ext cx="1134156" cy="567078"/>
      </dsp:txXfrm>
    </dsp:sp>
    <dsp:sp modelId="{251590DD-FA51-4082-8534-3EE5FFAF4BC0}">
      <dsp:nvSpPr>
        <dsp:cNvPr id="0" name=""/>
        <dsp:cNvSpPr/>
      </dsp:nvSpPr>
      <dsp:spPr>
        <a:xfrm>
          <a:off x="4119708" y="1451234"/>
          <a:ext cx="1134156" cy="567078"/>
        </a:xfrm>
        <a:prstGeom prst="rect">
          <a:avLst/>
        </a:prstGeom>
        <a:solidFill>
          <a:srgbClr val="57CFFF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400" kern="1200" dirty="0" smtClean="0">
              <a:solidFill>
                <a:srgbClr val="4C4C4C"/>
              </a:solidFill>
              <a:latin typeface="微软雅黑" pitchFamily="34" charset="-122"/>
              <a:ea typeface="微软雅黑" pitchFamily="34" charset="-122"/>
            </a:rPr>
            <a:t>办事处</a:t>
          </a:r>
          <a:endParaRPr lang="zh-CN" altLang="en-US" sz="1400" kern="1200" dirty="0">
            <a:solidFill>
              <a:srgbClr val="4C4C4C"/>
            </a:solidFill>
            <a:latin typeface="微软雅黑" pitchFamily="34" charset="-122"/>
            <a:ea typeface="微软雅黑" pitchFamily="34" charset="-122"/>
          </a:endParaRPr>
        </a:p>
      </dsp:txBody>
      <dsp:txXfrm>
        <a:off x="4119708" y="1451234"/>
        <a:ext cx="1134156" cy="56707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7AB-BCD6-4936-891B-FAD10059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379-E1F7-42E1-9BA9-9E0F9302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F94-A648-4B78-9269-0A3F371A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654-061D-4C02-86CC-4ED2B43F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BF1-39E7-4222-98FC-B45C1C5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6456-00AC-4613-AFCF-B8C9FF0E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A6D1-C027-4FDD-9E81-F138D023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4A67-E0B8-42EA-948D-6C63C1C0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114-2C7E-4CD4-BBE0-A595D166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6098-DA86-413D-830E-0039A10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551-1DAD-4BE3-AFE1-42A7D43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D7A2-E65E-409D-89F1-77F2AA28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951D-B64A-47E1-ADC7-16FB454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A1FF-6F0C-4673-A901-56D953D5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E71B-2CD5-43AC-A98C-87772DA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2849-E6AA-44A5-963E-6917FBB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D9CE-36DC-4405-BAC0-D4C7F463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27A4-BA53-4E68-A525-942A944B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373-1CCA-45DB-BE78-E8CC8166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11F-63CC-4FA6-8D35-DB92A28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276-6B94-4147-ACA4-A07F12FA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A09-2BD1-42D3-B1C7-31D603A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A78-42EF-4333-9CF1-53699A96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E7D-4042-452F-8F6E-FFD0025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202D47-24A1-44FE-8E57-AA0B4A64C8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a6e7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a6e7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a6e7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240" cy="485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a6e7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a6e7"/>
                </a:solidFill>
                <a:latin typeface="微软雅黑"/>
                <a:ea typeface="微软雅黑"/>
              </a:rPr>
              <a:t>第二级</a:t>
            </a:r>
            <a:endParaRPr b="0" lang="en-US" sz="2800" spc="-1" strike="noStrike">
              <a:solidFill>
                <a:srgbClr val="00a6e7"/>
              </a:solidFill>
              <a:latin typeface="微软雅黑"/>
            </a:endParaRPr>
          </a:p>
          <a:p>
            <a:pPr marL="11430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a6e7"/>
                </a:solidFill>
                <a:latin typeface="微软雅黑"/>
                <a:ea typeface="微软雅黑"/>
              </a:rPr>
              <a:t>第三级</a:t>
            </a:r>
            <a:endParaRPr b="0" lang="en-US" sz="2400" spc="-1" strike="noStrike">
              <a:solidFill>
                <a:srgbClr val="00a6e7"/>
              </a:solidFill>
              <a:latin typeface="微软雅黑"/>
            </a:endParaRPr>
          </a:p>
          <a:p>
            <a:pPr marL="16002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a6e7"/>
                </a:solidFill>
                <a:latin typeface="微软雅黑"/>
                <a:ea typeface="微软雅黑"/>
              </a:rPr>
              <a:t>第四级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marL="2057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a6e7"/>
                </a:solidFill>
                <a:latin typeface="微软雅黑"/>
                <a:ea typeface="微软雅黑"/>
              </a:rPr>
              <a:t>第五级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8676360" y="6381000"/>
            <a:ext cx="360000" cy="360000"/>
          </a:xfrm>
          <a:prstGeom prst="ellipse">
            <a:avLst/>
          </a:prstGeom>
          <a:solidFill>
            <a:schemeClr val="tx1">
              <a:lumMod val="95000"/>
              <a:lumOff val="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fld id="{E7A5A3A1-0F01-4736-8E86-22F6A9547518}" type="slidenum">
              <a:rPr b="0" lang="mk-MK" sz="1200" spc="-1" strike="noStrike">
                <a:solidFill>
                  <a:srgbClr val="ffffff"/>
                </a:solidFill>
                <a:latin typeface="League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0" y="260640"/>
            <a:ext cx="395280" cy="719640"/>
          </a:xfrm>
          <a:prstGeom prst="rect">
            <a:avLst/>
          </a:prstGeom>
          <a:solidFill>
            <a:srgbClr val="57cff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a6e7"/>
              </a:solidFill>
              <a:latin typeface="微软雅黑"/>
              <a:ea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8D9FA8-ADF9-4CC8-B049-A8622B8E2A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a6e7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a6e7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a6e7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a6e7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乳白3D世界地图.jpg"/>
          <p:cNvPicPr/>
          <p:nvPr/>
        </p:nvPicPr>
        <p:blipFill>
          <a:blip r:embed="rId1"/>
          <a:stretch/>
        </p:blipFill>
        <p:spPr>
          <a:xfrm>
            <a:off x="611640" y="836640"/>
            <a:ext cx="8066160" cy="4032000"/>
          </a:xfrm>
          <a:prstGeom prst="rect">
            <a:avLst/>
          </a:prstGeom>
          <a:ln w="9525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03560" y="5251320"/>
            <a:ext cx="6400440" cy="84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79640" y="4005000"/>
            <a:ext cx="8064000" cy="1037520"/>
          </a:xfrm>
          <a:prstGeom prst="rect">
            <a:avLst/>
          </a:prstGeom>
          <a:solidFill>
            <a:srgbClr val="d6df29"/>
          </a:solidFill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d6df29"/>
                </a:solidFill>
                <a:latin typeface="微软雅黑"/>
                <a:ea typeface="微软雅黑"/>
              </a:rPr>
              <a:t>简单蓝绿商务风格</a:t>
            </a:r>
            <a:r>
              <a:rPr b="1" lang="en-US" sz="4000" spc="-1" strike="noStrike">
                <a:solidFill>
                  <a:srgbClr val="d6df2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d6df2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5"/>
          <p:cNvSpPr/>
          <p:nvPr/>
        </p:nvSpPr>
        <p:spPr>
          <a:xfrm>
            <a:off x="576000" y="2781000"/>
            <a:ext cx="1979280" cy="1223640"/>
          </a:xfrm>
          <a:custGeom>
            <a:avLst/>
            <a:gdLst>
              <a:gd name="textAreaLeft" fmla="*/ 0 w 1979280"/>
              <a:gd name="textAreaRight" fmla="*/ 1979640 w 197928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1410" h="1224">
                <a:moveTo>
                  <a:pt x="0" y="984"/>
                </a:moveTo>
                <a:lnTo>
                  <a:pt x="0" y="984"/>
                </a:lnTo>
                <a:lnTo>
                  <a:pt x="3" y="997"/>
                </a:lnTo>
                <a:lnTo>
                  <a:pt x="10" y="1010"/>
                </a:lnTo>
                <a:lnTo>
                  <a:pt x="23" y="1016"/>
                </a:lnTo>
                <a:lnTo>
                  <a:pt x="36" y="1019"/>
                </a:lnTo>
                <a:lnTo>
                  <a:pt x="627" y="1019"/>
                </a:lnTo>
                <a:lnTo>
                  <a:pt x="627" y="1019"/>
                </a:lnTo>
                <a:lnTo>
                  <a:pt x="643" y="1023"/>
                </a:lnTo>
                <a:lnTo>
                  <a:pt x="653" y="1029"/>
                </a:lnTo>
                <a:lnTo>
                  <a:pt x="663" y="1042"/>
                </a:lnTo>
                <a:lnTo>
                  <a:pt x="666" y="1055"/>
                </a:lnTo>
                <a:lnTo>
                  <a:pt x="666" y="1205"/>
                </a:lnTo>
                <a:lnTo>
                  <a:pt x="666" y="1205"/>
                </a:lnTo>
                <a:lnTo>
                  <a:pt x="666" y="1214"/>
                </a:lnTo>
                <a:lnTo>
                  <a:pt x="673" y="1221"/>
                </a:lnTo>
                <a:lnTo>
                  <a:pt x="682" y="1224"/>
                </a:lnTo>
                <a:lnTo>
                  <a:pt x="692" y="1218"/>
                </a:lnTo>
                <a:lnTo>
                  <a:pt x="1397" y="633"/>
                </a:lnTo>
                <a:lnTo>
                  <a:pt x="1397" y="633"/>
                </a:lnTo>
                <a:lnTo>
                  <a:pt x="1407" y="623"/>
                </a:lnTo>
                <a:lnTo>
                  <a:pt x="1410" y="610"/>
                </a:lnTo>
                <a:lnTo>
                  <a:pt x="1407" y="597"/>
                </a:lnTo>
                <a:lnTo>
                  <a:pt x="1397" y="588"/>
                </a:lnTo>
                <a:lnTo>
                  <a:pt x="692" y="6"/>
                </a:lnTo>
                <a:lnTo>
                  <a:pt x="692" y="6"/>
                </a:lnTo>
                <a:lnTo>
                  <a:pt x="682" y="0"/>
                </a:lnTo>
                <a:lnTo>
                  <a:pt x="673" y="0"/>
                </a:lnTo>
                <a:lnTo>
                  <a:pt x="666" y="6"/>
                </a:lnTo>
                <a:lnTo>
                  <a:pt x="666" y="19"/>
                </a:lnTo>
                <a:lnTo>
                  <a:pt x="666" y="166"/>
                </a:lnTo>
                <a:lnTo>
                  <a:pt x="666" y="166"/>
                </a:lnTo>
                <a:lnTo>
                  <a:pt x="663" y="179"/>
                </a:lnTo>
                <a:lnTo>
                  <a:pt x="653" y="192"/>
                </a:lnTo>
                <a:lnTo>
                  <a:pt x="643" y="198"/>
                </a:lnTo>
                <a:lnTo>
                  <a:pt x="627" y="201"/>
                </a:lnTo>
                <a:lnTo>
                  <a:pt x="36" y="201"/>
                </a:lnTo>
                <a:lnTo>
                  <a:pt x="36" y="201"/>
                </a:lnTo>
                <a:lnTo>
                  <a:pt x="23" y="205"/>
                </a:lnTo>
                <a:lnTo>
                  <a:pt x="10" y="214"/>
                </a:lnTo>
                <a:lnTo>
                  <a:pt x="3" y="224"/>
                </a:lnTo>
                <a:lnTo>
                  <a:pt x="0" y="240"/>
                </a:lnTo>
                <a:lnTo>
                  <a:pt x="0" y="984"/>
                </a:lnTo>
                <a:close/>
                <a:moveTo>
                  <a:pt x="331" y="1019"/>
                </a:moveTo>
                <a:lnTo>
                  <a:pt x="331" y="1019"/>
                </a:lnTo>
                <a:close/>
                <a:moveTo>
                  <a:pt x="666" y="1130"/>
                </a:moveTo>
                <a:lnTo>
                  <a:pt x="666" y="1130"/>
                </a:lnTo>
                <a:close/>
                <a:moveTo>
                  <a:pt x="1046" y="925"/>
                </a:moveTo>
                <a:lnTo>
                  <a:pt x="1046" y="925"/>
                </a:lnTo>
                <a:close/>
                <a:moveTo>
                  <a:pt x="1046" y="295"/>
                </a:moveTo>
                <a:lnTo>
                  <a:pt x="1046" y="295"/>
                </a:lnTo>
                <a:close/>
                <a:moveTo>
                  <a:pt x="666" y="91"/>
                </a:moveTo>
                <a:lnTo>
                  <a:pt x="666" y="91"/>
                </a:lnTo>
                <a:close/>
                <a:moveTo>
                  <a:pt x="331" y="201"/>
                </a:moveTo>
                <a:lnTo>
                  <a:pt x="331" y="201"/>
                </a:lnTo>
                <a:close/>
                <a:moveTo>
                  <a:pt x="0" y="610"/>
                </a:moveTo>
                <a:lnTo>
                  <a:pt x="0" y="61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客户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6876360" y="2781000"/>
            <a:ext cx="2016000" cy="1223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1410" h="1224">
                <a:moveTo>
                  <a:pt x="0" y="984"/>
                </a:moveTo>
                <a:lnTo>
                  <a:pt x="0" y="984"/>
                </a:lnTo>
                <a:lnTo>
                  <a:pt x="3" y="997"/>
                </a:lnTo>
                <a:lnTo>
                  <a:pt x="10" y="1010"/>
                </a:lnTo>
                <a:lnTo>
                  <a:pt x="23" y="1016"/>
                </a:lnTo>
                <a:lnTo>
                  <a:pt x="36" y="1019"/>
                </a:lnTo>
                <a:lnTo>
                  <a:pt x="627" y="1019"/>
                </a:lnTo>
                <a:lnTo>
                  <a:pt x="627" y="1019"/>
                </a:lnTo>
                <a:lnTo>
                  <a:pt x="643" y="1023"/>
                </a:lnTo>
                <a:lnTo>
                  <a:pt x="653" y="1029"/>
                </a:lnTo>
                <a:lnTo>
                  <a:pt x="663" y="1042"/>
                </a:lnTo>
                <a:lnTo>
                  <a:pt x="666" y="1055"/>
                </a:lnTo>
                <a:lnTo>
                  <a:pt x="666" y="1205"/>
                </a:lnTo>
                <a:lnTo>
                  <a:pt x="666" y="1205"/>
                </a:lnTo>
                <a:lnTo>
                  <a:pt x="666" y="1214"/>
                </a:lnTo>
                <a:lnTo>
                  <a:pt x="673" y="1221"/>
                </a:lnTo>
                <a:lnTo>
                  <a:pt x="682" y="1224"/>
                </a:lnTo>
                <a:lnTo>
                  <a:pt x="692" y="1218"/>
                </a:lnTo>
                <a:lnTo>
                  <a:pt x="1397" y="633"/>
                </a:lnTo>
                <a:lnTo>
                  <a:pt x="1397" y="633"/>
                </a:lnTo>
                <a:lnTo>
                  <a:pt x="1407" y="623"/>
                </a:lnTo>
                <a:lnTo>
                  <a:pt x="1410" y="610"/>
                </a:lnTo>
                <a:lnTo>
                  <a:pt x="1407" y="597"/>
                </a:lnTo>
                <a:lnTo>
                  <a:pt x="1397" y="588"/>
                </a:lnTo>
                <a:lnTo>
                  <a:pt x="692" y="6"/>
                </a:lnTo>
                <a:lnTo>
                  <a:pt x="692" y="6"/>
                </a:lnTo>
                <a:lnTo>
                  <a:pt x="682" y="0"/>
                </a:lnTo>
                <a:lnTo>
                  <a:pt x="673" y="0"/>
                </a:lnTo>
                <a:lnTo>
                  <a:pt x="666" y="6"/>
                </a:lnTo>
                <a:lnTo>
                  <a:pt x="666" y="19"/>
                </a:lnTo>
                <a:lnTo>
                  <a:pt x="666" y="166"/>
                </a:lnTo>
                <a:lnTo>
                  <a:pt x="666" y="166"/>
                </a:lnTo>
                <a:lnTo>
                  <a:pt x="663" y="179"/>
                </a:lnTo>
                <a:lnTo>
                  <a:pt x="653" y="192"/>
                </a:lnTo>
                <a:lnTo>
                  <a:pt x="643" y="198"/>
                </a:lnTo>
                <a:lnTo>
                  <a:pt x="627" y="201"/>
                </a:lnTo>
                <a:lnTo>
                  <a:pt x="36" y="201"/>
                </a:lnTo>
                <a:lnTo>
                  <a:pt x="36" y="201"/>
                </a:lnTo>
                <a:lnTo>
                  <a:pt x="23" y="205"/>
                </a:lnTo>
                <a:lnTo>
                  <a:pt x="10" y="214"/>
                </a:lnTo>
                <a:lnTo>
                  <a:pt x="3" y="224"/>
                </a:lnTo>
                <a:lnTo>
                  <a:pt x="0" y="240"/>
                </a:lnTo>
                <a:lnTo>
                  <a:pt x="0" y="984"/>
                </a:lnTo>
                <a:close/>
                <a:moveTo>
                  <a:pt x="331" y="1019"/>
                </a:moveTo>
                <a:lnTo>
                  <a:pt x="331" y="1019"/>
                </a:lnTo>
                <a:close/>
                <a:moveTo>
                  <a:pt x="666" y="1130"/>
                </a:moveTo>
                <a:lnTo>
                  <a:pt x="666" y="1130"/>
                </a:lnTo>
                <a:close/>
                <a:moveTo>
                  <a:pt x="1046" y="925"/>
                </a:moveTo>
                <a:lnTo>
                  <a:pt x="1046" y="925"/>
                </a:lnTo>
                <a:close/>
                <a:moveTo>
                  <a:pt x="1046" y="295"/>
                </a:moveTo>
                <a:lnTo>
                  <a:pt x="1046" y="295"/>
                </a:lnTo>
                <a:close/>
                <a:moveTo>
                  <a:pt x="666" y="91"/>
                </a:moveTo>
                <a:lnTo>
                  <a:pt x="666" y="91"/>
                </a:lnTo>
                <a:close/>
                <a:moveTo>
                  <a:pt x="331" y="201"/>
                </a:moveTo>
                <a:lnTo>
                  <a:pt x="331" y="201"/>
                </a:lnTo>
                <a:close/>
                <a:moveTo>
                  <a:pt x="0" y="610"/>
                </a:moveTo>
                <a:lnTo>
                  <a:pt x="0" y="61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客户满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星源材质价值链与主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33"/>
          <p:cNvSpPr/>
          <p:nvPr/>
        </p:nvSpPr>
        <p:spPr>
          <a:xfrm>
            <a:off x="3780000" y="2637000"/>
            <a:ext cx="1583640" cy="1583640"/>
          </a:xfrm>
          <a:prstGeom prst="ellipse">
            <a:avLst/>
          </a:prstGeom>
          <a:solidFill>
            <a:schemeClr val="bg1">
              <a:lumMod val="8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星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材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34"/>
          <p:cNvSpPr/>
          <p:nvPr/>
        </p:nvSpPr>
        <p:spPr>
          <a:xfrm>
            <a:off x="2866680" y="1882800"/>
            <a:ext cx="1151640" cy="1151640"/>
          </a:xfrm>
          <a:prstGeom prst="ellipse">
            <a:avLst/>
          </a:prstGeom>
          <a:solidFill>
            <a:srgbClr val="d6df29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产品研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35"/>
          <p:cNvSpPr/>
          <p:nvPr/>
        </p:nvSpPr>
        <p:spPr>
          <a:xfrm>
            <a:off x="5129280" y="1882800"/>
            <a:ext cx="1151640" cy="1151640"/>
          </a:xfrm>
          <a:prstGeom prst="ellipse">
            <a:avLst/>
          </a:prstGeom>
          <a:solidFill>
            <a:srgbClr val="d6df29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生产制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36"/>
          <p:cNvSpPr/>
          <p:nvPr/>
        </p:nvSpPr>
        <p:spPr>
          <a:xfrm>
            <a:off x="2866680" y="4077000"/>
            <a:ext cx="1151640" cy="1151640"/>
          </a:xfrm>
          <a:prstGeom prst="ellipse">
            <a:avLst/>
          </a:prstGeom>
          <a:solidFill>
            <a:srgbClr val="d6df29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37"/>
          <p:cNvSpPr/>
          <p:nvPr/>
        </p:nvSpPr>
        <p:spPr>
          <a:xfrm>
            <a:off x="5129280" y="4077000"/>
            <a:ext cx="1151640" cy="1151640"/>
          </a:xfrm>
          <a:prstGeom prst="ellipse">
            <a:avLst/>
          </a:prstGeom>
          <a:solidFill>
            <a:srgbClr val="d6df29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弧形 38"/>
          <p:cNvSpPr/>
          <p:nvPr/>
        </p:nvSpPr>
        <p:spPr>
          <a:xfrm>
            <a:off x="3276720" y="2133720"/>
            <a:ext cx="2603160" cy="2518920"/>
          </a:xfrm>
          <a:prstGeom prst="arc">
            <a:avLst>
              <a:gd name="adj1" fmla="val 14692732"/>
              <a:gd name="adj2" fmla="val 17679390"/>
            </a:avLst>
          </a:prstGeom>
          <a:noFill/>
          <a:ln w="28575">
            <a:solidFill>
              <a:srgbClr val="ffffff">
                <a:lumMod val="65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4c4c4c"/>
              </a:solidFill>
              <a:latin typeface="微软雅黑"/>
              <a:ea typeface="微软雅黑"/>
            </a:endParaRPr>
          </a:p>
        </p:txBody>
      </p:sp>
      <p:sp>
        <p:nvSpPr>
          <p:cNvPr id="201" name="弧形 39"/>
          <p:cNvSpPr/>
          <p:nvPr/>
        </p:nvSpPr>
        <p:spPr>
          <a:xfrm>
            <a:off x="3270240" y="2205000"/>
            <a:ext cx="2603160" cy="2518920"/>
          </a:xfrm>
          <a:prstGeom prst="arc">
            <a:avLst>
              <a:gd name="adj1" fmla="val 20678056"/>
              <a:gd name="adj2" fmla="val 1576299"/>
            </a:avLst>
          </a:prstGeom>
          <a:noFill/>
          <a:ln w="28575">
            <a:solidFill>
              <a:srgbClr val="ffffff">
                <a:lumMod val="65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4c4c4c"/>
              </a:solidFill>
              <a:latin typeface="微软雅黑"/>
              <a:ea typeface="微软雅黑"/>
            </a:endParaRPr>
          </a:p>
        </p:txBody>
      </p:sp>
      <p:sp>
        <p:nvSpPr>
          <p:cNvPr id="202" name="弧形 40"/>
          <p:cNvSpPr/>
          <p:nvPr/>
        </p:nvSpPr>
        <p:spPr>
          <a:xfrm>
            <a:off x="3276720" y="2133720"/>
            <a:ext cx="2603160" cy="2518920"/>
          </a:xfrm>
          <a:prstGeom prst="arc">
            <a:avLst>
              <a:gd name="adj1" fmla="val 3856586"/>
              <a:gd name="adj2" fmla="val 6795564"/>
            </a:avLst>
          </a:prstGeom>
          <a:noFill/>
          <a:ln w="28575">
            <a:solidFill>
              <a:srgbClr val="ffffff">
                <a:lumMod val="65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4c4c4c"/>
              </a:solidFill>
              <a:latin typeface="微软雅黑"/>
              <a:ea typeface="微软雅黑"/>
            </a:endParaRPr>
          </a:p>
        </p:txBody>
      </p:sp>
      <p:sp>
        <p:nvSpPr>
          <p:cNvPr id="203" name="弧形 41"/>
          <p:cNvSpPr/>
          <p:nvPr/>
        </p:nvSpPr>
        <p:spPr>
          <a:xfrm>
            <a:off x="3276720" y="2133720"/>
            <a:ext cx="2603160" cy="2518920"/>
          </a:xfrm>
          <a:prstGeom prst="arc">
            <a:avLst>
              <a:gd name="adj1" fmla="val 9284265"/>
              <a:gd name="adj2" fmla="val 11549460"/>
            </a:avLst>
          </a:prstGeom>
          <a:noFill/>
          <a:ln w="28575">
            <a:solidFill>
              <a:srgbClr val="ffffff">
                <a:lumMod val="65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4c4c4c"/>
              </a:solidFill>
              <a:latin typeface="微软雅黑"/>
              <a:ea typeface="微软雅黑"/>
            </a:endParaRPr>
          </a:p>
        </p:txBody>
      </p:sp>
      <p:cxnSp>
        <p:nvCxnSpPr>
          <p:cNvPr id="204" name="直接箭头连接符 42"/>
          <p:cNvCxnSpPr/>
          <p:nvPr/>
        </p:nvCxnSpPr>
        <p:spPr>
          <a:xfrm>
            <a:off x="2700000" y="1915920"/>
            <a:ext cx="360" cy="3456360"/>
          </a:xfrm>
          <a:prstGeom prst="straightConnector1">
            <a:avLst/>
          </a:prstGeom>
          <a:ln w="25400">
            <a:solidFill>
              <a:srgbClr val="ffffff">
                <a:lumMod val="65000"/>
              </a:srgbClr>
            </a:solidFill>
            <a:prstDash val="sysDash"/>
            <a:round/>
          </a:ln>
        </p:spPr>
      </p:cxnSp>
      <p:cxnSp>
        <p:nvCxnSpPr>
          <p:cNvPr id="205" name="直接箭头连接符 43"/>
          <p:cNvCxnSpPr/>
          <p:nvPr/>
        </p:nvCxnSpPr>
        <p:spPr>
          <a:xfrm flipH="1">
            <a:off x="6514920" y="1915920"/>
            <a:ext cx="1800" cy="3456360"/>
          </a:xfrm>
          <a:prstGeom prst="straightConnector1">
            <a:avLst/>
          </a:prstGeom>
          <a:ln w="25400">
            <a:solidFill>
              <a:srgbClr val="ffffff">
                <a:lumMod val="65000"/>
              </a:srgbClr>
            </a:solidFill>
            <a:prstDash val="sysDash"/>
            <a:round/>
          </a:ln>
        </p:spPr>
      </p:cxnSp>
      <p:sp>
        <p:nvSpPr>
          <p:cNvPr id="206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公司愿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8"/>
          <p:cNvGrpSpPr/>
          <p:nvPr/>
        </p:nvGrpSpPr>
        <p:grpSpPr>
          <a:xfrm>
            <a:off x="398520" y="-2116080"/>
            <a:ext cx="8205480" cy="7821360"/>
            <a:chOff x="398520" y="-2116080"/>
            <a:chExt cx="8205480" cy="7821360"/>
          </a:xfrm>
        </p:grpSpPr>
        <p:sp>
          <p:nvSpPr>
            <p:cNvPr id="209" name="饼形 9"/>
            <p:cNvSpPr/>
            <p:nvPr/>
          </p:nvSpPr>
          <p:spPr>
            <a:xfrm>
              <a:off x="2968920" y="463320"/>
              <a:ext cx="2531520" cy="2579040"/>
            </a:xfrm>
            <a:prstGeom prst="pie">
              <a:avLst>
                <a:gd name="adj1" fmla="val 5364673"/>
                <a:gd name="adj2" fmla="val 10794811"/>
              </a:avLst>
            </a:prstGeom>
            <a:solidFill>
              <a:srgbClr val="d6df29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-4680" bIns="-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0" name="空心弧 10"/>
            <p:cNvSpPr/>
            <p:nvPr/>
          </p:nvSpPr>
          <p:spPr>
            <a:xfrm>
              <a:off x="1662120" y="-867960"/>
              <a:ext cx="5145120" cy="5241960"/>
            </a:xfrm>
            <a:prstGeom prst="blockArc">
              <a:avLst>
                <a:gd name="adj1" fmla="val 5355874"/>
                <a:gd name="adj2" fmla="val 10837565"/>
                <a:gd name="adj3" fmla="val 23797"/>
              </a:avLst>
            </a:prstGeom>
            <a:solidFill>
              <a:schemeClr val="bg1">
                <a:lumMod val="85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6"/>
            </a:lnRef>
            <a:fillRef idx="3">
              <a:schemeClr val="accent6"/>
            </a:fillRef>
            <a:effectRef idx="3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1" name="空心弧 11"/>
            <p:cNvSpPr/>
            <p:nvPr/>
          </p:nvSpPr>
          <p:spPr>
            <a:xfrm>
              <a:off x="398520" y="-2116080"/>
              <a:ext cx="7677000" cy="7821360"/>
            </a:xfrm>
            <a:prstGeom prst="blockArc">
              <a:avLst>
                <a:gd name="adj1" fmla="val 5355874"/>
                <a:gd name="adj2" fmla="val 10884242"/>
                <a:gd name="adj3" fmla="val 15345"/>
              </a:avLst>
            </a:prstGeom>
            <a:solidFill>
              <a:srgbClr val="00a6e7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6"/>
            </a:lnRef>
            <a:fillRef idx="3">
              <a:schemeClr val="accent6"/>
            </a:fillRef>
            <a:effectRef idx="3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2" name="圆角矩形 12"/>
            <p:cNvSpPr/>
            <p:nvPr/>
          </p:nvSpPr>
          <p:spPr>
            <a:xfrm>
              <a:off x="4521240" y="1795320"/>
              <a:ext cx="4082760" cy="1163160"/>
            </a:xfrm>
            <a:prstGeom prst="roundRect">
              <a:avLst>
                <a:gd name="adj" fmla="val 9108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63500" h="381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全球隔膜制造商前三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3"/>
            <p:cNvSpPr txBox="1"/>
            <p:nvPr/>
          </p:nvSpPr>
          <p:spPr>
            <a:xfrm rot="2695200">
              <a:off x="779040" y="3549960"/>
              <a:ext cx="2767320" cy="6753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ArchDown">
                <a:avLst>
                  <a:gd name="adj" fmla="val 406347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ln w="0">
                    <a:noFill/>
                  </a:ln>
                  <a:solidFill>
                    <a:srgbClr val="000000"/>
                  </a:solidFill>
                  <a:latin typeface="微软雅黑"/>
                  <a:ea typeface="微软雅黑"/>
                </a:rPr>
                <a:t>组织核心能力</a:t>
              </a:r>
              <a:endParaRPr b="0" lang="en-US" sz="32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4"/>
            <p:cNvSpPr txBox="1"/>
            <p:nvPr/>
          </p:nvSpPr>
          <p:spPr>
            <a:xfrm rot="2695200">
              <a:off x="1677600" y="2608200"/>
              <a:ext cx="2767320" cy="6753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ArchDown">
                <a:avLst>
                  <a:gd name="adj" fmla="val 6373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ln w="0">
                    <a:noFill/>
                  </a:ln>
                  <a:solidFill>
                    <a:srgbClr val="000000"/>
                  </a:solidFill>
                  <a:latin typeface="微软雅黑"/>
                  <a:ea typeface="微软雅黑"/>
                </a:rPr>
                <a:t>成功要素</a:t>
              </a:r>
              <a:endParaRPr b="0" lang="en-US" sz="28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5"/>
            <p:cNvSpPr txBox="1"/>
            <p:nvPr/>
          </p:nvSpPr>
          <p:spPr>
            <a:xfrm rot="2695200">
              <a:off x="2472120" y="1859400"/>
              <a:ext cx="2767320" cy="6753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ArchDown">
                <a:avLst>
                  <a:gd name="adj" fmla="val 1777231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ln w="0">
                    <a:noFill/>
                  </a:ln>
                  <a:solidFill>
                    <a:srgbClr val="000000"/>
                  </a:solidFill>
                  <a:latin typeface="微软雅黑"/>
                  <a:ea typeface="微软雅黑"/>
                </a:rPr>
                <a:t>目标</a:t>
              </a:r>
              <a:endParaRPr b="0" lang="en-US" sz="32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圆角矩形 16"/>
            <p:cNvSpPr/>
            <p:nvPr/>
          </p:nvSpPr>
          <p:spPr>
            <a:xfrm>
              <a:off x="4521240" y="3125880"/>
              <a:ext cx="4082760" cy="1164960"/>
            </a:xfrm>
            <a:prstGeom prst="roundRect">
              <a:avLst>
                <a:gd name="adj" fmla="val 9108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63500" h="381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人才、市场、产品、技术、资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角矩形 17"/>
            <p:cNvSpPr/>
            <p:nvPr/>
          </p:nvSpPr>
          <p:spPr>
            <a:xfrm>
              <a:off x="4521240" y="4457880"/>
              <a:ext cx="4082760" cy="1164960"/>
            </a:xfrm>
            <a:prstGeom prst="roundRect">
              <a:avLst>
                <a:gd name="adj" fmla="val 9108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63500" h="381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人力资源管理能力、市场营销能力、产品研发能力、生产制造能力、信息化管理能力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组织设计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8"/>
          <p:cNvGrpSpPr/>
          <p:nvPr/>
        </p:nvGrpSpPr>
        <p:grpSpPr>
          <a:xfrm>
            <a:off x="539640" y="1700280"/>
            <a:ext cx="2303280" cy="4176360"/>
            <a:chOff x="539640" y="1700280"/>
            <a:chExt cx="2303280" cy="4176360"/>
          </a:xfrm>
        </p:grpSpPr>
        <p:sp>
          <p:nvSpPr>
            <p:cNvPr id="220" name="圆角矩形 6"/>
            <p:cNvSpPr/>
            <p:nvPr/>
          </p:nvSpPr>
          <p:spPr>
            <a:xfrm>
              <a:off x="539640" y="1700280"/>
              <a:ext cx="2303280" cy="936360"/>
            </a:xfrm>
            <a:prstGeom prst="roundRect">
              <a:avLst>
                <a:gd name="adj" fmla="val 16667"/>
              </a:avLst>
            </a:prstGeom>
            <a:solidFill>
              <a:srgbClr val="00a6e7"/>
            </a:solidFill>
            <a:ln w="127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0000"/>
                </a:lnSpc>
                <a:spcBef>
                  <a:spcPts val="1199"/>
                </a:spcBef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支持战略原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539640" y="2565360"/>
              <a:ext cx="2303280" cy="3311280"/>
            </a:xfrm>
            <a:prstGeom prst="rect">
              <a:avLst/>
            </a:prstGeom>
            <a:solidFill>
              <a:srgbClr val="d6df29"/>
            </a:solidFill>
            <a:ln w="127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业务板块划分与战略相一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加强战略性业务单元的培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战略管理职能发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9"/>
          <p:cNvGrpSpPr/>
          <p:nvPr/>
        </p:nvGrpSpPr>
        <p:grpSpPr>
          <a:xfrm>
            <a:off x="3419640" y="1700280"/>
            <a:ext cx="2304720" cy="4176360"/>
            <a:chOff x="3419640" y="1700280"/>
            <a:chExt cx="2304720" cy="4176360"/>
          </a:xfrm>
        </p:grpSpPr>
        <p:sp>
          <p:nvSpPr>
            <p:cNvPr id="223" name="圆角矩形 10"/>
            <p:cNvSpPr/>
            <p:nvPr/>
          </p:nvSpPr>
          <p:spPr>
            <a:xfrm>
              <a:off x="3419640" y="1700280"/>
              <a:ext cx="2304720" cy="936360"/>
            </a:xfrm>
            <a:prstGeom prst="roundRect">
              <a:avLst>
                <a:gd name="adj" fmla="val 16667"/>
              </a:avLst>
            </a:prstGeom>
            <a:solidFill>
              <a:srgbClr val="00a6e7"/>
            </a:solidFill>
            <a:ln w="127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0000"/>
                </a:lnSpc>
                <a:spcBef>
                  <a:spcPts val="1199"/>
                </a:spcBef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高效原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11"/>
            <p:cNvSpPr/>
            <p:nvPr/>
          </p:nvSpPr>
          <p:spPr>
            <a:xfrm>
              <a:off x="3419640" y="2565360"/>
              <a:ext cx="2304720" cy="3311280"/>
            </a:xfrm>
            <a:prstGeom prst="rect">
              <a:avLst/>
            </a:prstGeom>
            <a:solidFill>
              <a:srgbClr val="d6df29"/>
            </a:solidFill>
            <a:ln w="127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组织扁平、分工专业与明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组织流程简洁、清晰、高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支持向现代化上市公司迈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12"/>
          <p:cNvGrpSpPr/>
          <p:nvPr/>
        </p:nvGrpSpPr>
        <p:grpSpPr>
          <a:xfrm>
            <a:off x="6300720" y="1700280"/>
            <a:ext cx="2303280" cy="4176360"/>
            <a:chOff x="6300720" y="1700280"/>
            <a:chExt cx="2303280" cy="4176360"/>
          </a:xfrm>
        </p:grpSpPr>
        <p:sp>
          <p:nvSpPr>
            <p:cNvPr id="226" name="圆角矩形 13"/>
            <p:cNvSpPr/>
            <p:nvPr/>
          </p:nvSpPr>
          <p:spPr>
            <a:xfrm>
              <a:off x="6300720" y="1700280"/>
              <a:ext cx="2303280" cy="936360"/>
            </a:xfrm>
            <a:prstGeom prst="roundRect">
              <a:avLst>
                <a:gd name="adj" fmla="val 16667"/>
              </a:avLst>
            </a:prstGeom>
            <a:solidFill>
              <a:srgbClr val="00a6e7"/>
            </a:solidFill>
            <a:ln w="127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0000"/>
                </a:lnSpc>
                <a:spcBef>
                  <a:spcPts val="1199"/>
                </a:spcBef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导向原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4"/>
            <p:cNvSpPr/>
            <p:nvPr/>
          </p:nvSpPr>
          <p:spPr>
            <a:xfrm>
              <a:off x="6300720" y="2565360"/>
              <a:ext cx="2303280" cy="3311280"/>
            </a:xfrm>
            <a:prstGeom prst="rect">
              <a:avLst/>
            </a:prstGeom>
            <a:solidFill>
              <a:srgbClr val="d6df29"/>
            </a:solidFill>
            <a:ln w="127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研究市场、迎合并引领市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面向客户，能够及时快速响应客户的需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10000"/>
                </a:lnSpc>
                <a:spcBef>
                  <a:spcPts val="601"/>
                </a:spcBef>
                <a:buClr>
                  <a:srgbClr val="d6df29"/>
                </a:buClr>
                <a:buSzPct val="75000"/>
                <a:buFont typeface="Wingdings" charset="2"/>
                <a:buChar char=""/>
              </a:pPr>
              <a:r>
                <a:rPr b="0" lang="en-US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4c4c4c"/>
                  </a:solidFill>
                  <a:latin typeface="微软雅黑"/>
                  <a:ea typeface="微软雅黑"/>
                </a:rPr>
                <a:t>加强客户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圆角矩形 10"/>
          <p:cNvSpPr/>
          <p:nvPr/>
        </p:nvSpPr>
        <p:spPr>
          <a:xfrm>
            <a:off x="6228360" y="1484640"/>
            <a:ext cx="2160000" cy="4968360"/>
          </a:xfrm>
          <a:prstGeom prst="roundRect">
            <a:avLst>
              <a:gd name="adj" fmla="val 5673"/>
            </a:avLst>
          </a:prstGeom>
          <a:solidFill>
            <a:schemeClr val="bg1">
              <a:lumMod val="9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a6e7"/>
              </a:solidFill>
              <a:latin typeface="微软雅黑"/>
              <a:ea typeface="微软雅黑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2286000" y="3011400"/>
            <a:ext cx="4571640" cy="62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39640" y="260280"/>
            <a:ext cx="7233840" cy="6854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d6df29"/>
                </a:solidFill>
                <a:latin typeface="微软雅黑"/>
                <a:ea typeface="微软雅黑"/>
              </a:rPr>
              <a:t>营销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371520" y="3870360"/>
            <a:ext cx="1104480" cy="1900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2" name="圆角矩形 18"/>
          <p:cNvSpPr/>
          <p:nvPr/>
        </p:nvSpPr>
        <p:spPr>
          <a:xfrm>
            <a:off x="468360" y="3068640"/>
            <a:ext cx="1150560" cy="3312720"/>
          </a:xfrm>
          <a:prstGeom prst="roundRect">
            <a:avLst>
              <a:gd name="adj" fmla="val 7625"/>
            </a:avLst>
          </a:prstGeom>
          <a:solidFill>
            <a:srgbClr val="d6df29"/>
          </a:solidFill>
          <a:ln w="1270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进行行业市场信息的调研与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协助制定公司市场营销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公司产品的品牌宣传与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组织开展市场营销培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19"/>
          <p:cNvSpPr/>
          <p:nvPr/>
        </p:nvSpPr>
        <p:spPr>
          <a:xfrm>
            <a:off x="1835280" y="3068640"/>
            <a:ext cx="1152000" cy="3312720"/>
          </a:xfrm>
          <a:prstGeom prst="roundRect">
            <a:avLst>
              <a:gd name="adj" fmla="val 7625"/>
            </a:avLst>
          </a:prstGeom>
          <a:solidFill>
            <a:srgbClr val="d6df29"/>
          </a:solidFill>
          <a:ln w="1270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区域客户的开发与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达成区域销售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协助跟进解决客诉问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收集并反馈区域市场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20"/>
          <p:cNvSpPr/>
          <p:nvPr/>
        </p:nvSpPr>
        <p:spPr>
          <a:xfrm>
            <a:off x="3203640" y="3068640"/>
            <a:ext cx="1152000" cy="3312720"/>
          </a:xfrm>
          <a:prstGeom prst="roundRect">
            <a:avLst>
              <a:gd name="adj" fmla="val 7625"/>
            </a:avLst>
          </a:prstGeom>
          <a:solidFill>
            <a:srgbClr val="d6df29"/>
          </a:solidFill>
          <a:ln w="1270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收集并解决客户有关产品品质、技术参数等方面问题咨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协调内部资源，跟进解决客户投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组织开展进行客户满意度调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圆角矩形 21"/>
          <p:cNvSpPr/>
          <p:nvPr/>
        </p:nvSpPr>
        <p:spPr>
          <a:xfrm>
            <a:off x="4572000" y="3068640"/>
            <a:ext cx="1152000" cy="3312720"/>
          </a:xfrm>
          <a:prstGeom prst="roundRect">
            <a:avLst>
              <a:gd name="adj" fmla="val 7625"/>
            </a:avLst>
          </a:prstGeom>
          <a:solidFill>
            <a:srgbClr val="d6df29"/>
          </a:solidFill>
          <a:ln w="1270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制定公司销售计划以及销售数据统计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管理和督导各办事处的销售业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制定产品销售政策，管理办事处的资源与费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大客户开发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4c4c4c"/>
                </a:solidFill>
                <a:latin typeface="微软雅黑"/>
                <a:ea typeface="微软雅黑"/>
              </a:rPr>
              <a:t>销售订单的管理及跟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700186336"/>
              </p:ext>
            </p:extLst>
          </p:nvPr>
        </p:nvGraphicFramePr>
        <p:xfrm>
          <a:off x="467640" y="836280"/>
          <a:ext cx="5256360" cy="266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36" name="矩形 28"/>
          <p:cNvSpPr/>
          <p:nvPr/>
        </p:nvSpPr>
        <p:spPr>
          <a:xfrm>
            <a:off x="6371640" y="1556640"/>
            <a:ext cx="187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"/>
              </a:spcBef>
              <a:spcAft>
                <a:spcPts val="60"/>
              </a:spcAft>
            </a:pPr>
            <a:r>
              <a:rPr b="1" lang="zh-CN" sz="1800" spc="-1" strike="noStrike">
                <a:solidFill>
                  <a:srgbClr val="4c4c4c"/>
                </a:solidFill>
                <a:latin typeface="微软雅黑"/>
                <a:ea typeface="微软雅黑"/>
              </a:rPr>
              <a:t>备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240" cy="143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8000" spc="-1" strike="noStrike">
                <a:solidFill>
                  <a:srgbClr val="d6df29"/>
                </a:solidFill>
                <a:latin typeface="微软雅黑"/>
                <a:ea typeface="微软雅黑"/>
              </a:rPr>
              <a:t> </a:t>
            </a:r>
            <a:r>
              <a:rPr b="1" lang="en-US" sz="8000" spc="-1" strike="noStrike">
                <a:solidFill>
                  <a:srgbClr val="d6df29"/>
                </a:solidFill>
                <a:latin typeface="微软雅黑"/>
                <a:ea typeface="微软雅黑"/>
              </a:rPr>
              <a:t>Thanks</a:t>
            </a:r>
            <a:r>
              <a:rPr b="1" lang="zh-CN" sz="8000" spc="-1" strike="noStrike">
                <a:solidFill>
                  <a:srgbClr val="d6df29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11" descr="手拿卡片.jpg"/>
          <p:cNvPicPr/>
          <p:nvPr/>
        </p:nvPicPr>
        <p:blipFill>
          <a:blip r:embed="rId1"/>
          <a:stretch/>
        </p:blipFill>
        <p:spPr>
          <a:xfrm rot="120000">
            <a:off x="1800720" y="1773000"/>
            <a:ext cx="7342920" cy="5084280"/>
          </a:xfrm>
          <a:prstGeom prst="rect">
            <a:avLst/>
          </a:prstGeom>
          <a:ln w="0">
            <a:noFill/>
          </a:ln>
        </p:spPr>
      </p:pic>
      <p:grpSp>
        <p:nvGrpSpPr>
          <p:cNvPr id="239" name="组合 22"/>
          <p:cNvGrpSpPr/>
          <p:nvPr/>
        </p:nvGrpSpPr>
        <p:grpSpPr>
          <a:xfrm>
            <a:off x="3080520" y="4385160"/>
            <a:ext cx="3457080" cy="394560"/>
            <a:chOff x="3080520" y="4385160"/>
            <a:chExt cx="3457080" cy="394560"/>
          </a:xfrm>
        </p:grpSpPr>
        <p:pic>
          <p:nvPicPr>
            <p:cNvPr id="240" name="图片 15" descr="邮件.png"/>
            <p:cNvPicPr/>
            <p:nvPr/>
          </p:nvPicPr>
          <p:blipFill>
            <a:blip r:embed="rId2"/>
            <a:stretch/>
          </p:blipFill>
          <p:spPr>
            <a:xfrm>
              <a:off x="3080520" y="4405320"/>
              <a:ext cx="3596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16"/>
            <p:cNvSpPr/>
            <p:nvPr/>
          </p:nvSpPr>
          <p:spPr>
            <a:xfrm>
              <a:off x="3513960" y="4385160"/>
              <a:ext cx="3023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4"/>
          <p:cNvGrpSpPr/>
          <p:nvPr/>
        </p:nvGrpSpPr>
        <p:grpSpPr>
          <a:xfrm>
            <a:off x="3080520" y="3861000"/>
            <a:ext cx="2737440" cy="399600"/>
            <a:chOff x="3080520" y="3861000"/>
            <a:chExt cx="2737440" cy="399600"/>
          </a:xfrm>
        </p:grpSpPr>
        <p:sp>
          <p:nvSpPr>
            <p:cNvPr id="243" name="TextBox 12"/>
            <p:cNvSpPr/>
            <p:nvPr/>
          </p:nvSpPr>
          <p:spPr>
            <a:xfrm>
              <a:off x="3513960" y="3861000"/>
              <a:ext cx="230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244" name="图片 14" descr="手机.png"/>
            <p:cNvPicPr/>
            <p:nvPr/>
          </p:nvPicPr>
          <p:blipFill>
            <a:blip r:embed="rId3"/>
            <a:stretch/>
          </p:blipFill>
          <p:spPr>
            <a:xfrm>
              <a:off x="3080520" y="388116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组合 23"/>
          <p:cNvGrpSpPr/>
          <p:nvPr/>
        </p:nvGrpSpPr>
        <p:grpSpPr>
          <a:xfrm>
            <a:off x="5364000" y="3861000"/>
            <a:ext cx="2737440" cy="399600"/>
            <a:chOff x="5364000" y="3861000"/>
            <a:chExt cx="2737440" cy="399600"/>
          </a:xfrm>
        </p:grpSpPr>
        <p:pic>
          <p:nvPicPr>
            <p:cNvPr id="246" name="图片 13" descr="QQ.png"/>
            <p:cNvPicPr/>
            <p:nvPr/>
          </p:nvPicPr>
          <p:blipFill>
            <a:blip r:embed="rId4"/>
            <a:stretch/>
          </p:blipFill>
          <p:spPr>
            <a:xfrm>
              <a:off x="5364000" y="3881160"/>
              <a:ext cx="3596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17"/>
            <p:cNvSpPr/>
            <p:nvPr/>
          </p:nvSpPr>
          <p:spPr>
            <a:xfrm>
              <a:off x="5797440" y="3861000"/>
              <a:ext cx="230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48" name="图片 21" descr="vcard.png"/>
          <p:cNvPicPr/>
          <p:nvPr/>
        </p:nvPicPr>
        <p:blipFill>
          <a:blip r:embed="rId5"/>
          <a:stretch/>
        </p:blipFill>
        <p:spPr>
          <a:xfrm>
            <a:off x="6084000" y="2709000"/>
            <a:ext cx="935640" cy="935640"/>
          </a:xfrm>
          <a:prstGeom prst="rect">
            <a:avLst/>
          </a:prstGeom>
          <a:ln w="0">
            <a:noFill/>
          </a:ln>
        </p:spPr>
      </p:pic>
      <p:grpSp>
        <p:nvGrpSpPr>
          <p:cNvPr id="249" name="组合 18"/>
          <p:cNvGrpSpPr/>
          <p:nvPr/>
        </p:nvGrpSpPr>
        <p:grpSpPr>
          <a:xfrm>
            <a:off x="3080520" y="4909320"/>
            <a:ext cx="4033080" cy="399600"/>
            <a:chOff x="3080520" y="4909320"/>
            <a:chExt cx="4033080" cy="399600"/>
          </a:xfrm>
        </p:grpSpPr>
        <p:pic>
          <p:nvPicPr>
            <p:cNvPr id="250" name="图片 20" descr="邮件.png"/>
            <p:cNvPicPr/>
            <p:nvPr/>
          </p:nvPicPr>
          <p:blipFill>
            <a:blip r:embed="rId6"/>
            <a:stretch/>
          </p:blipFill>
          <p:spPr>
            <a:xfrm>
              <a:off x="3080520" y="4929120"/>
              <a:ext cx="3596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Box 25"/>
            <p:cNvSpPr/>
            <p:nvPr/>
          </p:nvSpPr>
          <p:spPr>
            <a:xfrm>
              <a:off x="3513960" y="4909320"/>
              <a:ext cx="3599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1000"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目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39640" y="1260360"/>
            <a:ext cx="8064000" cy="41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>
              <a:lnSpc>
                <a:spcPct val="100000"/>
              </a:lnSpc>
              <a:spcAft>
                <a:spcPts val="2001"/>
              </a:spcAft>
              <a:buClr>
                <a:srgbClr val="d6df29"/>
              </a:buClr>
              <a:buFont typeface="Wingdings" charset="2"/>
              <a:buChar char=""/>
            </a:pPr>
            <a:r>
              <a:rPr b="1" lang="en-US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背景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buClr>
                <a:srgbClr val="d6df29"/>
              </a:buClr>
              <a:buFont typeface="Wingdings" charset="2"/>
              <a:buChar char=""/>
            </a:pPr>
            <a:r>
              <a:rPr b="1" lang="en-US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现状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buClr>
                <a:srgbClr val="d6df29"/>
              </a:buClr>
              <a:buFont typeface="Wingdings" charset="2"/>
              <a:buChar char=""/>
            </a:pPr>
            <a:r>
              <a:rPr b="1" lang="en-US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组织设计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buClr>
                <a:srgbClr val="d6df29"/>
              </a:buClr>
              <a:buFont typeface="Wingdings" charset="2"/>
              <a:buChar char=""/>
            </a:pPr>
            <a:r>
              <a:rPr b="1" lang="en-US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组织设计方案及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buClr>
                <a:srgbClr val="d6df29"/>
              </a:buClr>
              <a:buFont typeface="Wingdings" charset="2"/>
              <a:buChar char=""/>
            </a:pPr>
            <a:r>
              <a:rPr b="1" lang="en-US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4c4c4c"/>
                </a:solidFill>
                <a:latin typeface="微软雅黑"/>
                <a:ea typeface="微软雅黑"/>
              </a:rPr>
              <a:t>建议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连接符 4"/>
          <p:cNvCxnSpPr/>
          <p:nvPr/>
        </p:nvCxnSpPr>
        <p:spPr>
          <a:xfrm>
            <a:off x="611280" y="198864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29" name="直接连接符 5"/>
          <p:cNvCxnSpPr/>
          <p:nvPr/>
        </p:nvCxnSpPr>
        <p:spPr>
          <a:xfrm>
            <a:off x="611280" y="290664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30" name="直接连接符 6"/>
          <p:cNvCxnSpPr/>
          <p:nvPr/>
        </p:nvCxnSpPr>
        <p:spPr>
          <a:xfrm>
            <a:off x="611280" y="3825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31" name="直接连接符 7"/>
          <p:cNvCxnSpPr/>
          <p:nvPr/>
        </p:nvCxnSpPr>
        <p:spPr>
          <a:xfrm>
            <a:off x="611280" y="4743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32" name="直接连接符 8"/>
          <p:cNvCxnSpPr/>
          <p:nvPr/>
        </p:nvCxnSpPr>
        <p:spPr>
          <a:xfrm>
            <a:off x="611280" y="5661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1000"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目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39640" y="1260360"/>
            <a:ext cx="8064000" cy="41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背景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00a6e7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00a6e7"/>
                </a:solidFill>
                <a:latin typeface="微软雅黑"/>
                <a:ea typeface="微软雅黑"/>
              </a:rPr>
              <a:t>现状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组织设计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组织设计方案及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接连接符 4"/>
          <p:cNvCxnSpPr/>
          <p:nvPr/>
        </p:nvCxnSpPr>
        <p:spPr>
          <a:xfrm>
            <a:off x="611280" y="198864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36" name="直接连接符 5"/>
          <p:cNvCxnSpPr/>
          <p:nvPr/>
        </p:nvCxnSpPr>
        <p:spPr>
          <a:xfrm>
            <a:off x="611280" y="290664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37" name="直接连接符 6"/>
          <p:cNvCxnSpPr/>
          <p:nvPr/>
        </p:nvCxnSpPr>
        <p:spPr>
          <a:xfrm>
            <a:off x="611280" y="3825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38" name="直接连接符 7"/>
          <p:cNvCxnSpPr/>
          <p:nvPr/>
        </p:nvCxnSpPr>
        <p:spPr>
          <a:xfrm>
            <a:off x="611280" y="4743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39" name="直接连接符 8"/>
          <p:cNvCxnSpPr/>
          <p:nvPr/>
        </p:nvCxnSpPr>
        <p:spPr>
          <a:xfrm>
            <a:off x="611280" y="5661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485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Dfjknasgmakfopj</a:t>
            </a: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：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343080" indent="-685800">
              <a:lnSpc>
                <a:spcPct val="100000"/>
              </a:lnSpc>
              <a:spcAft>
                <a:spcPts val="601"/>
              </a:spcAft>
              <a:buClr>
                <a:srgbClr val="00a6e7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343080" indent="-685800">
              <a:lnSpc>
                <a:spcPct val="100000"/>
              </a:lnSpc>
              <a:spcAft>
                <a:spcPts val="601"/>
              </a:spcAft>
              <a:buClr>
                <a:srgbClr val="00a6e7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343080" indent="-685800">
              <a:lnSpc>
                <a:spcPct val="100000"/>
              </a:lnSpc>
              <a:spcAft>
                <a:spcPts val="601"/>
              </a:spcAft>
              <a:buClr>
                <a:srgbClr val="00a6e7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343080" indent="-685800">
              <a:lnSpc>
                <a:spcPct val="100000"/>
              </a:lnSpc>
              <a:spcAft>
                <a:spcPts val="601"/>
              </a:spcAft>
              <a:buClr>
                <a:srgbClr val="00a6e7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343080" indent="-685800">
              <a:lnSpc>
                <a:spcPct val="100000"/>
              </a:lnSpc>
              <a:spcAft>
                <a:spcPts val="601"/>
              </a:spcAft>
              <a:buClr>
                <a:srgbClr val="00a6e7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343080" indent="-685800">
              <a:lnSpc>
                <a:spcPct val="100000"/>
              </a:lnSpc>
              <a:spcAft>
                <a:spcPts val="601"/>
              </a:spcAft>
              <a:buClr>
                <a:srgbClr val="00a6e7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  <a:p>
            <a:pPr marL="343080" indent="-685800">
              <a:lnSpc>
                <a:spcPct val="100000"/>
              </a:lnSpc>
              <a:spcAft>
                <a:spcPts val="601"/>
              </a:spcAft>
              <a:buClr>
                <a:srgbClr val="00a6e7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</a:t>
            </a:r>
            <a:endParaRPr b="0" lang="en-US" sz="3200" spc="-1" strike="noStrike">
              <a:solidFill>
                <a:srgbClr val="00a6e7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图表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内容占位符 3"/>
          <p:cNvGraphicFramePr/>
          <p:nvPr/>
        </p:nvGraphicFramePr>
        <p:xfrm>
          <a:off x="457200" y="1268280"/>
          <a:ext cx="8229240" cy="4857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中国区域图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400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291960" y="1060560"/>
            <a:ext cx="5955840" cy="4882680"/>
          </a:xfrm>
          <a:prstGeom prst="rect">
            <a:avLst/>
          </a:prstGeom>
          <a:ln w="0">
            <a:noFill/>
          </a:ln>
        </p:spPr>
      </p:pic>
      <p:sp>
        <p:nvSpPr>
          <p:cNvPr id="145" name="Oval 6"/>
          <p:cNvSpPr/>
          <p:nvPr/>
        </p:nvSpPr>
        <p:spPr>
          <a:xfrm>
            <a:off x="6004080" y="4264200"/>
            <a:ext cx="993240" cy="993240"/>
          </a:xfrm>
          <a:prstGeom prst="ellipse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b0f0"/>
              </a:solidFill>
              <a:latin typeface="Calibri"/>
              <a:ea typeface="宋体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981760" y="4468680"/>
            <a:ext cx="121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4807080" y="2978280"/>
            <a:ext cx="62640" cy="62640"/>
          </a:xfrm>
          <a:prstGeom prst="ellipse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48" name="Group 23"/>
          <p:cNvGrpSpPr/>
          <p:nvPr/>
        </p:nvGrpSpPr>
        <p:grpSpPr>
          <a:xfrm>
            <a:off x="1031040" y="2084760"/>
            <a:ext cx="5141160" cy="1055880"/>
            <a:chOff x="1031040" y="2084760"/>
            <a:chExt cx="5141160" cy="1055880"/>
          </a:xfrm>
        </p:grpSpPr>
        <p:cxnSp>
          <p:nvCxnSpPr>
            <p:cNvPr id="149" name="Straight Connector 17"/>
            <p:cNvCxnSpPr/>
            <p:nvPr/>
          </p:nvCxnSpPr>
          <p:spPr>
            <a:xfrm flipV="1">
              <a:off x="4870080" y="2904480"/>
              <a:ext cx="264240" cy="928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50" name="Straight Connector 18"/>
            <p:cNvCxnSpPr/>
            <p:nvPr/>
          </p:nvCxnSpPr>
          <p:spPr>
            <a:xfrm flipV="1">
              <a:off x="5133960" y="2084760"/>
              <a:ext cx="1038600" cy="8200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51" name="Straight Connector 44"/>
            <p:cNvCxnSpPr/>
            <p:nvPr/>
          </p:nvCxnSpPr>
          <p:spPr>
            <a:xfrm flipV="1">
              <a:off x="1031040" y="3047760"/>
              <a:ext cx="264600" cy="932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52" name="Oval 4"/>
          <p:cNvSpPr/>
          <p:nvPr/>
        </p:nvSpPr>
        <p:spPr>
          <a:xfrm>
            <a:off x="6105600" y="1295280"/>
            <a:ext cx="993240" cy="993240"/>
          </a:xfrm>
          <a:prstGeom prst="ellipse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b0f0"/>
              </a:solidFill>
              <a:latin typeface="Calibri"/>
              <a:ea typeface="宋体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095880" y="1500120"/>
            <a:ext cx="121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3"/>
          <p:cNvGrpSpPr/>
          <p:nvPr/>
        </p:nvGrpSpPr>
        <p:grpSpPr>
          <a:xfrm>
            <a:off x="5198760" y="4263840"/>
            <a:ext cx="897120" cy="496800"/>
            <a:chOff x="5198760" y="4263840"/>
            <a:chExt cx="897120" cy="496800"/>
          </a:xfrm>
        </p:grpSpPr>
        <p:cxnSp>
          <p:nvCxnSpPr>
            <p:cNvPr id="155" name="Straight Connector 34"/>
            <p:cNvCxnSpPr/>
            <p:nvPr/>
          </p:nvCxnSpPr>
          <p:spPr>
            <a:xfrm>
              <a:off x="5198760" y="4263840"/>
              <a:ext cx="182160" cy="507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56" name="Straight Connector 35"/>
            <p:cNvCxnSpPr/>
            <p:nvPr/>
          </p:nvCxnSpPr>
          <p:spPr>
            <a:xfrm>
              <a:off x="5380560" y="4314240"/>
              <a:ext cx="715680" cy="4467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57" name="Oval 41"/>
          <p:cNvSpPr/>
          <p:nvPr/>
        </p:nvSpPr>
        <p:spPr>
          <a:xfrm>
            <a:off x="5118480" y="4229280"/>
            <a:ext cx="62640" cy="62640"/>
          </a:xfrm>
          <a:prstGeom prst="ellipse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1066680" y="1905120"/>
            <a:ext cx="1361520" cy="1361520"/>
          </a:xfrm>
          <a:prstGeom prst="ellipse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b0f0"/>
              </a:solidFill>
              <a:latin typeface="Calibri"/>
              <a:ea typeface="宋体"/>
            </a:endParaRPr>
          </a:p>
        </p:txBody>
      </p:sp>
      <p:sp>
        <p:nvSpPr>
          <p:cNvPr id="159" name="TextBox 43"/>
          <p:cNvSpPr/>
          <p:nvPr/>
        </p:nvSpPr>
        <p:spPr>
          <a:xfrm>
            <a:off x="1181160" y="2260440"/>
            <a:ext cx="121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5"/>
          <p:cNvSpPr/>
          <p:nvPr/>
        </p:nvSpPr>
        <p:spPr>
          <a:xfrm>
            <a:off x="990720" y="3130920"/>
            <a:ext cx="62640" cy="62640"/>
          </a:xfrm>
          <a:prstGeom prst="ellipse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TextBox 46"/>
          <p:cNvSpPr/>
          <p:nvPr/>
        </p:nvSpPr>
        <p:spPr>
          <a:xfrm>
            <a:off x="7596360" y="1052640"/>
            <a:ext cx="1223640" cy="228204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上广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线城市指标完成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西北，内蒙古，川藏地区指标完成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各省市较去年均有提高北上广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线城市指标完成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西北，内蒙古，川藏地区指标完成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各省市较去年均有提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上广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线城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内容占位符 3" descr="006.png"/>
          <p:cNvPicPr/>
          <p:nvPr/>
        </p:nvPicPr>
        <p:blipFill>
          <a:blip r:embed="rId1"/>
          <a:stretch/>
        </p:blipFill>
        <p:spPr>
          <a:xfrm>
            <a:off x="323640" y="2205000"/>
            <a:ext cx="3661920" cy="2753280"/>
          </a:xfrm>
          <a:prstGeom prst="rect">
            <a:avLst/>
          </a:prstGeom>
          <a:ln w="9525">
            <a:noFill/>
          </a:ln>
        </p:spPr>
      </p:pic>
      <p:sp>
        <p:nvSpPr>
          <p:cNvPr id="165" name="内容占位符 2"/>
          <p:cNvSpPr/>
          <p:nvPr/>
        </p:nvSpPr>
        <p:spPr>
          <a:xfrm>
            <a:off x="4068000" y="1628640"/>
            <a:ext cx="4402440" cy="42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Dfjknasgmakfop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Vhiudshfiohfgioq</a:t>
            </a: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去哦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非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佛配件饿哦配方可为减肥【</a:t>
            </a:r>
            <a:r>
              <a:rPr b="0" lang="en-US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pqwk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1000"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d6df29"/>
                </a:solidFill>
                <a:latin typeface="微软雅黑"/>
                <a:ea typeface="微软雅黑"/>
              </a:rPr>
              <a:t>目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539640" y="1260360"/>
            <a:ext cx="8064000" cy="415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背景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现状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00a6e7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00a6e7"/>
                </a:solidFill>
                <a:latin typeface="微软雅黑"/>
                <a:ea typeface="微软雅黑"/>
              </a:rPr>
              <a:t>组织设计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组织设计方案及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20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直接连接符 4"/>
          <p:cNvCxnSpPr/>
          <p:nvPr/>
        </p:nvCxnSpPr>
        <p:spPr>
          <a:xfrm>
            <a:off x="611280" y="198864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69" name="直接连接符 5"/>
          <p:cNvCxnSpPr/>
          <p:nvPr/>
        </p:nvCxnSpPr>
        <p:spPr>
          <a:xfrm>
            <a:off x="611280" y="290664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70" name="直接连接符 6"/>
          <p:cNvCxnSpPr/>
          <p:nvPr/>
        </p:nvCxnSpPr>
        <p:spPr>
          <a:xfrm>
            <a:off x="611280" y="3825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71" name="直接连接符 7"/>
          <p:cNvCxnSpPr/>
          <p:nvPr/>
        </p:nvCxnSpPr>
        <p:spPr>
          <a:xfrm>
            <a:off x="611280" y="4743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  <p:cxnSp>
        <p:nvCxnSpPr>
          <p:cNvPr id="172" name="直接连接符 8"/>
          <p:cNvCxnSpPr/>
          <p:nvPr/>
        </p:nvCxnSpPr>
        <p:spPr>
          <a:xfrm>
            <a:off x="611280" y="5661000"/>
            <a:ext cx="6697080" cy="360"/>
          </a:xfrm>
          <a:prstGeom prst="straightConnector1">
            <a:avLst/>
          </a:prstGeom>
          <a:ln w="38100">
            <a:solidFill>
              <a:srgbClr val="57cfff"/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等腰三角形 6"/>
          <p:cNvSpPr/>
          <p:nvPr/>
        </p:nvSpPr>
        <p:spPr>
          <a:xfrm>
            <a:off x="3662280" y="2428200"/>
            <a:ext cx="1796400" cy="1468800"/>
          </a:xfrm>
          <a:custGeom>
            <a:avLst/>
            <a:gdLst>
              <a:gd name="textAreaLeft" fmla="*/ 0 w 1796400"/>
              <a:gd name="textAreaRight" fmla="*/ 1796760 w 1796400"/>
              <a:gd name="textAreaTop" fmla="*/ 0 h 1468800"/>
              <a:gd name="textAreaBottom" fmla="*/ 1469160 h 1468800"/>
            </a:gdLst>
            <a:ahLst/>
            <a:rect l="textAreaLeft" t="textAreaTop" r="textAreaRight" b="textAreaBottom"/>
            <a:pathLst>
              <a:path w="1796802" h="1469072">
                <a:moveTo>
                  <a:pt x="898401" y="0"/>
                </a:moveTo>
                <a:lnTo>
                  <a:pt x="1796802" y="1469072"/>
                </a:lnTo>
                <a:lnTo>
                  <a:pt x="1015417" y="1469072"/>
                </a:lnTo>
                <a:lnTo>
                  <a:pt x="1015417" y="1372637"/>
                </a:lnTo>
                <a:lnTo>
                  <a:pt x="1154781" y="1372637"/>
                </a:lnTo>
                <a:lnTo>
                  <a:pt x="876052" y="1125318"/>
                </a:lnTo>
                <a:lnTo>
                  <a:pt x="597323" y="1372637"/>
                </a:lnTo>
                <a:lnTo>
                  <a:pt x="736688" y="1372637"/>
                </a:lnTo>
                <a:lnTo>
                  <a:pt x="736688" y="1469072"/>
                </a:lnTo>
                <a:lnTo>
                  <a:pt x="0" y="1469072"/>
                </a:lnTo>
                <a:close/>
              </a:path>
            </a:pathLst>
          </a:custGeom>
          <a:solidFill>
            <a:srgbClr val="57cfff"/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4" name="等腰三角形 7"/>
          <p:cNvSpPr/>
          <p:nvPr/>
        </p:nvSpPr>
        <p:spPr>
          <a:xfrm>
            <a:off x="4655880" y="4088520"/>
            <a:ext cx="1764720" cy="1500120"/>
          </a:xfrm>
          <a:custGeom>
            <a:avLst/>
            <a:gdLst>
              <a:gd name="textAreaLeft" fmla="*/ 0 w 1764720"/>
              <a:gd name="textAreaRight" fmla="*/ 1765080 w 17647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1765052" h="1500603">
                <a:moveTo>
                  <a:pt x="882526" y="0"/>
                </a:moveTo>
                <a:lnTo>
                  <a:pt x="1765052" y="1500603"/>
                </a:lnTo>
                <a:lnTo>
                  <a:pt x="0" y="1500603"/>
                </a:lnTo>
                <a:lnTo>
                  <a:pt x="375894" y="861452"/>
                </a:lnTo>
                <a:lnTo>
                  <a:pt x="464514" y="915388"/>
                </a:lnTo>
                <a:lnTo>
                  <a:pt x="392059" y="1034436"/>
                </a:lnTo>
                <a:lnTo>
                  <a:pt x="748236" y="924919"/>
                </a:lnTo>
                <a:lnTo>
                  <a:pt x="681880" y="558240"/>
                </a:lnTo>
                <a:lnTo>
                  <a:pt x="609424" y="677289"/>
                </a:lnTo>
                <a:lnTo>
                  <a:pt x="517210" y="621166"/>
                </a:lnTo>
                <a:close/>
              </a:path>
            </a:pathLst>
          </a:custGeom>
          <a:solidFill>
            <a:srgbClr val="d6df29"/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5" name="等腰三角形 6"/>
          <p:cNvSpPr/>
          <p:nvPr/>
        </p:nvSpPr>
        <p:spPr>
          <a:xfrm rot="10800000">
            <a:off x="3627360" y="3986280"/>
            <a:ext cx="1821960" cy="1551240"/>
          </a:xfrm>
          <a:prstGeom prst="triangle">
            <a:avLst>
              <a:gd name="adj" fmla="val 50000"/>
            </a:avLst>
          </a:prstGeom>
          <a:solidFill>
            <a:srgbClr val="4c4c4c"/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等腰三角形 11"/>
          <p:cNvSpPr/>
          <p:nvPr/>
        </p:nvSpPr>
        <p:spPr>
          <a:xfrm>
            <a:off x="2693880" y="4088520"/>
            <a:ext cx="1764720" cy="1500120"/>
          </a:xfrm>
          <a:custGeom>
            <a:avLst/>
            <a:gdLst>
              <a:gd name="textAreaLeft" fmla="*/ 0 w 1764720"/>
              <a:gd name="textAreaRight" fmla="*/ 1765080 w 17647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1765052" h="1500603">
                <a:moveTo>
                  <a:pt x="882526" y="0"/>
                </a:moveTo>
                <a:lnTo>
                  <a:pt x="1236032" y="601083"/>
                </a:lnTo>
                <a:lnTo>
                  <a:pt x="1121186" y="667974"/>
                </a:lnTo>
                <a:lnTo>
                  <a:pt x="1051045" y="547547"/>
                </a:lnTo>
                <a:lnTo>
                  <a:pt x="977616" y="912876"/>
                </a:lnTo>
                <a:lnTo>
                  <a:pt x="1331611" y="1029255"/>
                </a:lnTo>
                <a:lnTo>
                  <a:pt x="1261469" y="908828"/>
                </a:lnTo>
                <a:lnTo>
                  <a:pt x="1377332" y="841344"/>
                </a:lnTo>
                <a:lnTo>
                  <a:pt x="1765052" y="1500603"/>
                </a:lnTo>
                <a:lnTo>
                  <a:pt x="0" y="1500603"/>
                </a:lnTo>
                <a:close/>
              </a:path>
            </a:pathLst>
          </a:custGeom>
          <a:solidFill>
            <a:srgbClr val="d6df29"/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169520" y="4192560"/>
            <a:ext cx="70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5387760" y="4753800"/>
            <a:ext cx="43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324320" y="2949480"/>
            <a:ext cx="43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270240" y="4753800"/>
            <a:ext cx="43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flipH="1">
            <a:off x="889200" y="4606920"/>
            <a:ext cx="20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 flipH="1">
            <a:off x="1287720" y="49762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 flipH="1">
            <a:off x="1287720" y="525312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 flipH="1">
            <a:off x="6156000" y="4606920"/>
            <a:ext cx="20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 flipH="1">
            <a:off x="6554880" y="49762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 flipH="1">
            <a:off x="6554880" y="525312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 flipH="1">
            <a:off x="3499560" y="1489680"/>
            <a:ext cx="20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 flipH="1">
            <a:off x="3898080" y="185904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 flipH="1">
            <a:off x="3898080" y="21358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d6df29"/>
              </a:solidFill>
              <a:latin typeface="微软雅黑"/>
              <a:ea typeface="微软雅黑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  <Words>546</Words>
  <Paragraphs>119</Paragraphs>
  <Company>SENIO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0:48:56Z</dcterms:created>
  <dc:creator>ppt宝藏</dc:creator>
  <dc:description/>
  <dc:language>en-US</dc:language>
  <cp:lastModifiedBy>a</cp:lastModifiedBy>
  <dcterms:modified xsi:type="dcterms:W3CDTF">2015-07-25T12:35:43Z</dcterms:modified>
  <cp:revision>7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4</vt:r8>
  </property>
</Properties>
</file>