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D700-9759-4549-949B-A0669C3DB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DC99-1B4F-4AC4-80FA-F79C8DF87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7A7B-D154-4593-B669-E1FAD5ADC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672D-2FCF-4421-8DEA-2EB820529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289B-0AC2-4945-AC55-946FA42AA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7AD7-0C79-4725-8867-B0C892407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E451-DC5C-4602-95F4-01DBBF671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C3D9-9111-4EA4-A532-882899B8A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BD4A-AE6F-4F61-AE00-CEF608601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B1CF-EC61-46FB-A912-2C7F33F8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3806-3CDC-4139-8FA2-3E0F8E77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6B97-3F74-4FFF-BDD9-1C46A1C7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C0169-140F-4741-B06B-63BF59798B8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E:\amy项目\模板\60周年\1\png\6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圆角矩形 7"/>
          <p:cNvSpPr/>
          <p:nvPr/>
        </p:nvSpPr>
        <p:spPr>
          <a:xfrm>
            <a:off x="247680" y="247680"/>
            <a:ext cx="8667720" cy="6610320"/>
          </a:xfrm>
          <a:prstGeom prst="roundRect">
            <a:avLst>
              <a:gd name="adj" fmla="val 4204"/>
            </a:avLst>
          </a:prstGeom>
          <a:noFill/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8" descr="8.png"/>
          <p:cNvPicPr/>
          <p:nvPr/>
        </p:nvPicPr>
        <p:blipFill>
          <a:blip r:embed="rId3"/>
          <a:stretch/>
        </p:blipFill>
        <p:spPr>
          <a:xfrm>
            <a:off x="0" y="5815080"/>
            <a:ext cx="9144000" cy="1042920"/>
          </a:xfrm>
          <a:prstGeom prst="rect">
            <a:avLst/>
          </a:prstGeom>
          <a:ln w="0">
            <a:noFill/>
          </a:ln>
        </p:spPr>
      </p:pic>
      <p:grpSp>
        <p:nvGrpSpPr>
          <p:cNvPr id="44" name="组合 11"/>
          <p:cNvGrpSpPr/>
          <p:nvPr/>
        </p:nvGrpSpPr>
        <p:grpSpPr>
          <a:xfrm>
            <a:off x="2820960" y="6073920"/>
            <a:ext cx="3502080" cy="782640"/>
            <a:chOff x="2820960" y="6073920"/>
            <a:chExt cx="3502080" cy="782640"/>
          </a:xfrm>
        </p:grpSpPr>
        <p:pic>
          <p:nvPicPr>
            <p:cNvPr id="45" name="图片 10" descr="4.png"/>
            <p:cNvPicPr/>
            <p:nvPr/>
          </p:nvPicPr>
          <p:blipFill>
            <a:blip r:embed="rId4"/>
            <a:stretch/>
          </p:blipFill>
          <p:spPr>
            <a:xfrm>
              <a:off x="4156920" y="6073920"/>
              <a:ext cx="830160" cy="78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图片 11" descr="4.png"/>
            <p:cNvPicPr/>
            <p:nvPr/>
          </p:nvPicPr>
          <p:blipFill>
            <a:blip r:embed="rId5"/>
            <a:stretch/>
          </p:blipFill>
          <p:spPr>
            <a:xfrm>
              <a:off x="5105160" y="6154200"/>
              <a:ext cx="659880" cy="62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图片 12" descr="4.png"/>
            <p:cNvPicPr/>
            <p:nvPr/>
          </p:nvPicPr>
          <p:blipFill>
            <a:blip r:embed="rId6"/>
            <a:stretch/>
          </p:blipFill>
          <p:spPr>
            <a:xfrm>
              <a:off x="5883120" y="6257880"/>
              <a:ext cx="439920" cy="41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图片 13" descr="4.png"/>
            <p:cNvPicPr/>
            <p:nvPr/>
          </p:nvPicPr>
          <p:blipFill>
            <a:blip r:embed="rId7"/>
            <a:stretch/>
          </p:blipFill>
          <p:spPr>
            <a:xfrm>
              <a:off x="3378960" y="6154200"/>
              <a:ext cx="659880" cy="62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图片 14" descr="4.png"/>
            <p:cNvPicPr/>
            <p:nvPr/>
          </p:nvPicPr>
          <p:blipFill>
            <a:blip r:embed="rId8"/>
            <a:stretch/>
          </p:blipFill>
          <p:spPr>
            <a:xfrm>
              <a:off x="2820960" y="6257880"/>
              <a:ext cx="439920" cy="41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7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16" descr="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0480" y="64040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27200" y="6840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军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免费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extBox 30" descr=""/>
          <p:cNvPicPr/>
          <p:nvPr/>
        </p:nvPicPr>
        <p:blipFill>
          <a:blip r:embed="rId1"/>
          <a:stretch/>
        </p:blipFill>
        <p:spPr>
          <a:xfrm>
            <a:off x="274680" y="262080"/>
            <a:ext cx="3327480" cy="920520"/>
          </a:xfrm>
          <a:prstGeom prst="rect">
            <a:avLst/>
          </a:prstGeom>
          <a:ln w="0">
            <a:noFill/>
          </a:ln>
        </p:spPr>
      </p:pic>
      <p:grpSp>
        <p:nvGrpSpPr>
          <p:cNvPr id="92" name="组合 61"/>
          <p:cNvGrpSpPr/>
          <p:nvPr/>
        </p:nvGrpSpPr>
        <p:grpSpPr>
          <a:xfrm>
            <a:off x="1620720" y="1565280"/>
            <a:ext cx="5865840" cy="611280"/>
            <a:chOff x="1620720" y="1565280"/>
            <a:chExt cx="5865840" cy="611280"/>
          </a:xfrm>
        </p:grpSpPr>
        <p:grpSp>
          <p:nvGrpSpPr>
            <p:cNvPr id="93" name="组合 45"/>
            <p:cNvGrpSpPr/>
            <p:nvPr/>
          </p:nvGrpSpPr>
          <p:grpSpPr>
            <a:xfrm>
              <a:off x="1620720" y="1565280"/>
              <a:ext cx="5865840" cy="611280"/>
              <a:chOff x="1620720" y="1565280"/>
              <a:chExt cx="5865840" cy="611280"/>
            </a:xfrm>
          </p:grpSpPr>
          <p:sp>
            <p:nvSpPr>
              <p:cNvPr id="94" name="AutoShape 3"/>
              <p:cNvSpPr/>
              <p:nvPr/>
            </p:nvSpPr>
            <p:spPr>
              <a:xfrm>
                <a:off x="1620720" y="1781280"/>
                <a:ext cx="5865840" cy="395280"/>
              </a:xfrm>
              <a:prstGeom prst="rect">
                <a:avLst/>
              </a:prstGeom>
              <a:solidFill>
                <a:srgbClr val="59595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AutoShape 3"/>
              <p:cNvSpPr/>
              <p:nvPr/>
            </p:nvSpPr>
            <p:spPr>
              <a:xfrm>
                <a:off x="1677960" y="1565280"/>
                <a:ext cx="5751000" cy="540360"/>
              </a:xfrm>
              <a:prstGeom prst="rect">
                <a:avLst/>
              </a:prstGeom>
              <a:solidFill>
                <a:srgbClr val="c00000">
                  <a:alpha val="8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Rectangle 13"/>
            <p:cNvSpPr/>
            <p:nvPr/>
          </p:nvSpPr>
          <p:spPr>
            <a:xfrm>
              <a:off x="3283920" y="1660680"/>
              <a:ext cx="253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组合 62"/>
          <p:cNvGrpSpPr/>
          <p:nvPr/>
        </p:nvGrpSpPr>
        <p:grpSpPr>
          <a:xfrm>
            <a:off x="1620720" y="2541600"/>
            <a:ext cx="5865840" cy="611280"/>
            <a:chOff x="1620720" y="2541600"/>
            <a:chExt cx="5865840" cy="611280"/>
          </a:xfrm>
        </p:grpSpPr>
        <p:grpSp>
          <p:nvGrpSpPr>
            <p:cNvPr id="98" name="组合 49"/>
            <p:cNvGrpSpPr/>
            <p:nvPr/>
          </p:nvGrpSpPr>
          <p:grpSpPr>
            <a:xfrm>
              <a:off x="1620720" y="2541600"/>
              <a:ext cx="5865840" cy="611280"/>
              <a:chOff x="1620720" y="2541600"/>
              <a:chExt cx="5865840" cy="611280"/>
            </a:xfrm>
          </p:grpSpPr>
          <p:sp>
            <p:nvSpPr>
              <p:cNvPr id="99" name="AutoShape 3"/>
              <p:cNvSpPr/>
              <p:nvPr/>
            </p:nvSpPr>
            <p:spPr>
              <a:xfrm>
                <a:off x="1620720" y="2757600"/>
                <a:ext cx="5865840" cy="395280"/>
              </a:xfrm>
              <a:prstGeom prst="rect">
                <a:avLst/>
              </a:prstGeom>
              <a:solidFill>
                <a:srgbClr val="59595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AutoShape 3"/>
              <p:cNvSpPr/>
              <p:nvPr/>
            </p:nvSpPr>
            <p:spPr>
              <a:xfrm>
                <a:off x="1677600" y="2541600"/>
                <a:ext cx="5751720" cy="540000"/>
              </a:xfrm>
              <a:prstGeom prst="rect">
                <a:avLst/>
              </a:prstGeom>
              <a:solidFill>
                <a:srgbClr val="7f7f7f">
                  <a:alpha val="8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Rectangle 13"/>
            <p:cNvSpPr/>
            <p:nvPr/>
          </p:nvSpPr>
          <p:spPr>
            <a:xfrm>
              <a:off x="3283920" y="2637000"/>
              <a:ext cx="253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组合 63"/>
          <p:cNvGrpSpPr/>
          <p:nvPr/>
        </p:nvGrpSpPr>
        <p:grpSpPr>
          <a:xfrm>
            <a:off x="1620720" y="3517920"/>
            <a:ext cx="5865840" cy="611280"/>
            <a:chOff x="1620720" y="3517920"/>
            <a:chExt cx="5865840" cy="611280"/>
          </a:xfrm>
        </p:grpSpPr>
        <p:grpSp>
          <p:nvGrpSpPr>
            <p:cNvPr id="103" name="组合 53"/>
            <p:cNvGrpSpPr/>
            <p:nvPr/>
          </p:nvGrpSpPr>
          <p:grpSpPr>
            <a:xfrm>
              <a:off x="1620720" y="3517920"/>
              <a:ext cx="5865840" cy="611280"/>
              <a:chOff x="1620720" y="3517920"/>
              <a:chExt cx="5865840" cy="611280"/>
            </a:xfrm>
          </p:grpSpPr>
          <p:sp>
            <p:nvSpPr>
              <p:cNvPr id="104" name="AutoShape 3"/>
              <p:cNvSpPr/>
              <p:nvPr/>
            </p:nvSpPr>
            <p:spPr>
              <a:xfrm>
                <a:off x="1620720" y="3733920"/>
                <a:ext cx="5865840" cy="395280"/>
              </a:xfrm>
              <a:prstGeom prst="rect">
                <a:avLst/>
              </a:prstGeom>
              <a:solidFill>
                <a:srgbClr val="59595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AutoShape 3"/>
              <p:cNvSpPr/>
              <p:nvPr/>
            </p:nvSpPr>
            <p:spPr>
              <a:xfrm>
                <a:off x="1677960" y="3517920"/>
                <a:ext cx="5751000" cy="540360"/>
              </a:xfrm>
              <a:prstGeom prst="rect">
                <a:avLst/>
              </a:prstGeom>
              <a:solidFill>
                <a:srgbClr val="c00000">
                  <a:alpha val="8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Rectangle 13"/>
            <p:cNvSpPr/>
            <p:nvPr/>
          </p:nvSpPr>
          <p:spPr>
            <a:xfrm>
              <a:off x="3283920" y="3613320"/>
              <a:ext cx="253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组合 64"/>
          <p:cNvGrpSpPr/>
          <p:nvPr/>
        </p:nvGrpSpPr>
        <p:grpSpPr>
          <a:xfrm>
            <a:off x="1620720" y="4494240"/>
            <a:ext cx="5865840" cy="611280"/>
            <a:chOff x="1620720" y="4494240"/>
            <a:chExt cx="5865840" cy="611280"/>
          </a:xfrm>
        </p:grpSpPr>
        <p:grpSp>
          <p:nvGrpSpPr>
            <p:cNvPr id="108" name="组合 57"/>
            <p:cNvGrpSpPr/>
            <p:nvPr/>
          </p:nvGrpSpPr>
          <p:grpSpPr>
            <a:xfrm>
              <a:off x="1620720" y="4494240"/>
              <a:ext cx="5865840" cy="611280"/>
              <a:chOff x="1620720" y="4494240"/>
              <a:chExt cx="5865840" cy="611280"/>
            </a:xfrm>
          </p:grpSpPr>
          <p:sp>
            <p:nvSpPr>
              <p:cNvPr id="109" name="AutoShape 3"/>
              <p:cNvSpPr/>
              <p:nvPr/>
            </p:nvSpPr>
            <p:spPr>
              <a:xfrm>
                <a:off x="1620720" y="4710240"/>
                <a:ext cx="5865840" cy="395280"/>
              </a:xfrm>
              <a:prstGeom prst="rect">
                <a:avLst/>
              </a:prstGeom>
              <a:solidFill>
                <a:srgbClr val="59595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AutoShape 3"/>
              <p:cNvSpPr/>
              <p:nvPr/>
            </p:nvSpPr>
            <p:spPr>
              <a:xfrm>
                <a:off x="1677600" y="4494240"/>
                <a:ext cx="5751720" cy="540000"/>
              </a:xfrm>
              <a:prstGeom prst="rect">
                <a:avLst/>
              </a:prstGeom>
              <a:solidFill>
                <a:srgbClr val="7f7f7f">
                  <a:alpha val="8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Rectangle 13"/>
            <p:cNvSpPr/>
            <p:nvPr/>
          </p:nvSpPr>
          <p:spPr>
            <a:xfrm>
              <a:off x="3283920" y="4589640"/>
              <a:ext cx="253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组合 10"/>
          <p:cNvGrpSpPr/>
          <p:nvPr/>
        </p:nvGrpSpPr>
        <p:grpSpPr>
          <a:xfrm>
            <a:off x="1620720" y="2765520"/>
            <a:ext cx="5865840" cy="610920"/>
            <a:chOff x="1620720" y="2765520"/>
            <a:chExt cx="5865840" cy="610920"/>
          </a:xfrm>
        </p:grpSpPr>
        <p:grpSp>
          <p:nvGrpSpPr>
            <p:cNvPr id="113" name="组合 5"/>
            <p:cNvGrpSpPr/>
            <p:nvPr/>
          </p:nvGrpSpPr>
          <p:grpSpPr>
            <a:xfrm>
              <a:off x="1620720" y="2765520"/>
              <a:ext cx="5865840" cy="610920"/>
              <a:chOff x="1620720" y="2765520"/>
              <a:chExt cx="5865840" cy="610920"/>
            </a:xfrm>
          </p:grpSpPr>
          <p:sp>
            <p:nvSpPr>
              <p:cNvPr id="114" name="AutoShape 3"/>
              <p:cNvSpPr/>
              <p:nvPr/>
            </p:nvSpPr>
            <p:spPr>
              <a:xfrm>
                <a:off x="1620720" y="2981160"/>
                <a:ext cx="5865840" cy="395280"/>
              </a:xfrm>
              <a:prstGeom prst="rect">
                <a:avLst/>
              </a:prstGeom>
              <a:solidFill>
                <a:srgbClr val="59595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AutoShape 3"/>
              <p:cNvSpPr/>
              <p:nvPr/>
            </p:nvSpPr>
            <p:spPr>
              <a:xfrm>
                <a:off x="1677960" y="2765520"/>
                <a:ext cx="5751000" cy="540000"/>
              </a:xfrm>
              <a:prstGeom prst="rect">
                <a:avLst/>
              </a:prstGeom>
              <a:solidFill>
                <a:srgbClr val="c00000">
                  <a:alpha val="8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Rectangle 13"/>
            <p:cNvSpPr/>
            <p:nvPr/>
          </p:nvSpPr>
          <p:spPr>
            <a:xfrm>
              <a:off x="3283920" y="2860920"/>
              <a:ext cx="253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7" name="TextBox 11" descr=""/>
          <p:cNvPicPr/>
          <p:nvPr/>
        </p:nvPicPr>
        <p:blipFill>
          <a:blip r:embed="rId1"/>
          <a:stretch/>
        </p:blipFill>
        <p:spPr>
          <a:xfrm>
            <a:off x="274680" y="262080"/>
            <a:ext cx="3327480" cy="92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组合 14"/>
          <p:cNvGrpSpPr/>
          <p:nvPr/>
        </p:nvGrpSpPr>
        <p:grpSpPr>
          <a:xfrm>
            <a:off x="3112920" y="1150920"/>
            <a:ext cx="465480" cy="396720"/>
            <a:chOff x="3112920" y="1150920"/>
            <a:chExt cx="465480" cy="396720"/>
          </a:xfrm>
        </p:grpSpPr>
        <p:sp>
          <p:nvSpPr>
            <p:cNvPr id="119" name="燕尾形 15"/>
            <p:cNvSpPr/>
            <p:nvPr/>
          </p:nvSpPr>
          <p:spPr>
            <a:xfrm>
              <a:off x="3112920" y="1150920"/>
              <a:ext cx="179640" cy="39672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396720"/>
                <a:gd name="textAreaBottom" fmla="*/ 397080 h 39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840" y="0"/>
                  </a:lnTo>
                  <a:lnTo>
                    <a:pt x="21600" y="10800"/>
                  </a:lnTo>
                  <a:lnTo>
                    <a:pt x="6840" y="21600"/>
                  </a:lnTo>
                  <a:lnTo>
                    <a:pt x="0" y="21600"/>
                  </a:lnTo>
                  <a:lnTo>
                    <a:pt x="14760" y="10800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燕尾形 16"/>
            <p:cNvSpPr/>
            <p:nvPr/>
          </p:nvSpPr>
          <p:spPr>
            <a:xfrm>
              <a:off x="3255840" y="1150920"/>
              <a:ext cx="179640" cy="39672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396720"/>
                <a:gd name="textAreaBottom" fmla="*/ 397080 h 39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840" y="0"/>
                  </a:lnTo>
                  <a:lnTo>
                    <a:pt x="21600" y="10800"/>
                  </a:lnTo>
                  <a:lnTo>
                    <a:pt x="6840" y="21600"/>
                  </a:lnTo>
                  <a:lnTo>
                    <a:pt x="0" y="21600"/>
                  </a:lnTo>
                  <a:lnTo>
                    <a:pt x="14760" y="10800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燕尾形 17"/>
            <p:cNvSpPr/>
            <p:nvPr/>
          </p:nvSpPr>
          <p:spPr>
            <a:xfrm>
              <a:off x="3398760" y="1150920"/>
              <a:ext cx="179640" cy="39672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396720"/>
                <a:gd name="textAreaBottom" fmla="*/ 397080 h 39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840" y="0"/>
                  </a:lnTo>
                  <a:lnTo>
                    <a:pt x="21600" y="10800"/>
                  </a:lnTo>
                  <a:lnTo>
                    <a:pt x="6840" y="21600"/>
                  </a:lnTo>
                  <a:lnTo>
                    <a:pt x="0" y="21600"/>
                  </a:lnTo>
                  <a:lnTo>
                    <a:pt x="14760" y="10800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组合 34"/>
          <p:cNvGrpSpPr/>
          <p:nvPr/>
        </p:nvGrpSpPr>
        <p:grpSpPr>
          <a:xfrm>
            <a:off x="509760" y="1038240"/>
            <a:ext cx="2519280" cy="4809960"/>
            <a:chOff x="509760" y="1038240"/>
            <a:chExt cx="2519280" cy="4809960"/>
          </a:xfrm>
        </p:grpSpPr>
        <p:grpSp>
          <p:nvGrpSpPr>
            <p:cNvPr id="123" name="组合 33"/>
            <p:cNvGrpSpPr/>
            <p:nvPr/>
          </p:nvGrpSpPr>
          <p:grpSpPr>
            <a:xfrm>
              <a:off x="509760" y="1038240"/>
              <a:ext cx="2519280" cy="4809960"/>
              <a:chOff x="509760" y="1038240"/>
              <a:chExt cx="2519280" cy="4809960"/>
            </a:xfrm>
          </p:grpSpPr>
          <p:sp>
            <p:nvSpPr>
              <p:cNvPr id="124" name="矩形 13"/>
              <p:cNvSpPr/>
              <p:nvPr/>
            </p:nvSpPr>
            <p:spPr>
              <a:xfrm>
                <a:off x="509760" y="1038240"/>
                <a:ext cx="2519280" cy="4809960"/>
              </a:xfrm>
              <a:prstGeom prst="rect">
                <a:avLst/>
              </a:prstGeom>
              <a:solidFill>
                <a:srgbClr val="d9d9d9">
                  <a:alpha val="65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AutoShape 3"/>
              <p:cNvSpPr/>
              <p:nvPr/>
            </p:nvSpPr>
            <p:spPr>
              <a:xfrm>
                <a:off x="617400" y="1655640"/>
                <a:ext cx="2303640" cy="433080"/>
              </a:xfrm>
              <a:prstGeom prst="rect">
                <a:avLst/>
              </a:prstGeom>
              <a:solidFill>
                <a:srgbClr val="7f7f7f">
                  <a:alpha val="8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3"/>
              <p:cNvSpPr/>
              <p:nvPr/>
            </p:nvSpPr>
            <p:spPr>
              <a:xfrm>
                <a:off x="689400" y="1687680"/>
                <a:ext cx="2159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… …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AutoShape 3"/>
              <p:cNvSpPr/>
              <p:nvPr/>
            </p:nvSpPr>
            <p:spPr>
              <a:xfrm>
                <a:off x="617400" y="2179440"/>
                <a:ext cx="2303640" cy="431640"/>
              </a:xfrm>
              <a:prstGeom prst="rect">
                <a:avLst/>
              </a:prstGeom>
              <a:solidFill>
                <a:srgbClr val="7f7f7f">
                  <a:alpha val="8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3"/>
              <p:cNvSpPr/>
              <p:nvPr/>
            </p:nvSpPr>
            <p:spPr>
              <a:xfrm>
                <a:off x="689400" y="2211120"/>
                <a:ext cx="2159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… …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AutoShape 3"/>
              <p:cNvSpPr/>
              <p:nvPr/>
            </p:nvSpPr>
            <p:spPr>
              <a:xfrm>
                <a:off x="617400" y="2703240"/>
                <a:ext cx="2303640" cy="431640"/>
              </a:xfrm>
              <a:prstGeom prst="rect">
                <a:avLst/>
              </a:prstGeom>
              <a:solidFill>
                <a:srgbClr val="7f7f7f">
                  <a:alpha val="8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13"/>
              <p:cNvSpPr/>
              <p:nvPr/>
            </p:nvSpPr>
            <p:spPr>
              <a:xfrm>
                <a:off x="689400" y="2734920"/>
                <a:ext cx="2159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… …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AutoShape 3"/>
              <p:cNvSpPr/>
              <p:nvPr/>
            </p:nvSpPr>
            <p:spPr>
              <a:xfrm>
                <a:off x="617400" y="3227400"/>
                <a:ext cx="2303640" cy="431640"/>
              </a:xfrm>
              <a:prstGeom prst="rect">
                <a:avLst/>
              </a:prstGeom>
              <a:solidFill>
                <a:srgbClr val="7f7f7f">
                  <a:alpha val="8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13"/>
              <p:cNvSpPr/>
              <p:nvPr/>
            </p:nvSpPr>
            <p:spPr>
              <a:xfrm>
                <a:off x="689400" y="3258720"/>
                <a:ext cx="2159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… …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AutoShape 3"/>
              <p:cNvSpPr/>
              <p:nvPr/>
            </p:nvSpPr>
            <p:spPr>
              <a:xfrm>
                <a:off x="617400" y="3751200"/>
                <a:ext cx="2303640" cy="431640"/>
              </a:xfrm>
              <a:prstGeom prst="rect">
                <a:avLst/>
              </a:prstGeom>
              <a:solidFill>
                <a:srgbClr val="7f7f7f">
                  <a:alpha val="8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13"/>
              <p:cNvSpPr/>
              <p:nvPr/>
            </p:nvSpPr>
            <p:spPr>
              <a:xfrm>
                <a:off x="689400" y="3782160"/>
                <a:ext cx="2159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… …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" name="组合 32"/>
            <p:cNvGrpSpPr/>
            <p:nvPr/>
          </p:nvGrpSpPr>
          <p:grpSpPr>
            <a:xfrm>
              <a:off x="617400" y="1132560"/>
              <a:ext cx="2303640" cy="432000"/>
              <a:chOff x="617400" y="1132560"/>
              <a:chExt cx="2303640" cy="432000"/>
            </a:xfrm>
          </p:grpSpPr>
          <p:sp>
            <p:nvSpPr>
              <p:cNvPr id="136" name="AutoShape 3"/>
              <p:cNvSpPr/>
              <p:nvPr/>
            </p:nvSpPr>
            <p:spPr>
              <a:xfrm>
                <a:off x="617400" y="1132560"/>
                <a:ext cx="2303640" cy="432000"/>
              </a:xfrm>
              <a:prstGeom prst="rect">
                <a:avLst/>
              </a:prstGeom>
              <a:solidFill>
                <a:srgbClr val="c00000">
                  <a:alpha val="8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Rectangle 13"/>
              <p:cNvSpPr/>
              <p:nvPr/>
            </p:nvSpPr>
            <p:spPr>
              <a:xfrm>
                <a:off x="689040" y="1163880"/>
                <a:ext cx="2159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8" name="Rectangle 13"/>
          <p:cNvSpPr/>
          <p:nvPr/>
        </p:nvSpPr>
        <p:spPr>
          <a:xfrm>
            <a:off x="3911760" y="1104840"/>
            <a:ext cx="414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火热的军营，铁血的忠诚。“我们是当代革命军人，核心价值观牢记心中，忠诚于党听指挥，热爱人民不忘本，报效国家尽职责，献身使命担重任，崇尚荣誉建功业，人民军队向前进！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TextBox 36" descr=""/>
          <p:cNvPicPr/>
          <p:nvPr/>
        </p:nvPicPr>
        <p:blipFill>
          <a:blip r:embed="rId1"/>
          <a:stretch/>
        </p:blipFill>
        <p:spPr>
          <a:xfrm>
            <a:off x="274680" y="262080"/>
            <a:ext cx="3327480" cy="92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组合 80"/>
          <p:cNvGrpSpPr/>
          <p:nvPr/>
        </p:nvGrpSpPr>
        <p:grpSpPr>
          <a:xfrm>
            <a:off x="988920" y="1243080"/>
            <a:ext cx="1150920" cy="1152360"/>
            <a:chOff x="988920" y="1243080"/>
            <a:chExt cx="1150920" cy="1152360"/>
          </a:xfrm>
        </p:grpSpPr>
        <p:sp>
          <p:nvSpPr>
            <p:cNvPr id="141" name="空心弧 28"/>
            <p:cNvSpPr/>
            <p:nvPr/>
          </p:nvSpPr>
          <p:spPr>
            <a:xfrm>
              <a:off x="988920" y="1243080"/>
              <a:ext cx="1150920" cy="1152360"/>
            </a:xfrm>
            <a:custGeom>
              <a:avLst/>
              <a:gdLst/>
              <a:ahLst/>
              <a:rect l="l" t="t" r="r" b="b"/>
              <a:pathLst>
                <a:path w="1152000" h="1152000">
                  <a:moveTo>
                    <a:pt x="1151999" y="576830"/>
                  </a:moveTo>
                  <a:cubicBezTo>
                    <a:pt x="1151541" y="894810"/>
                    <a:pt x="893498" y="1152266"/>
                    <a:pt x="575518" y="1152000"/>
                  </a:cubicBezTo>
                  <a:cubicBezTo>
                    <a:pt x="257538" y="1151734"/>
                    <a:pt x="-74" y="893847"/>
                    <a:pt x="0" y="575867"/>
                  </a:cubicBezTo>
                  <a:cubicBezTo>
                    <a:pt x="74" y="257887"/>
                    <a:pt x="257805" y="119"/>
                    <a:pt x="575785" y="0"/>
                  </a:cubicBezTo>
                  <a:lnTo>
                    <a:pt x="575893" y="290074"/>
                  </a:lnTo>
                  <a:cubicBezTo>
                    <a:pt x="418048" y="290133"/>
                    <a:pt x="290110" y="418089"/>
                    <a:pt x="290074" y="575934"/>
                  </a:cubicBezTo>
                  <a:cubicBezTo>
                    <a:pt x="290037" y="733779"/>
                    <a:pt x="417916" y="861794"/>
                    <a:pt x="575761" y="861926"/>
                  </a:cubicBezTo>
                  <a:cubicBezTo>
                    <a:pt x="733606" y="862058"/>
                    <a:pt x="861698" y="734257"/>
                    <a:pt x="861926" y="576412"/>
                  </a:cubicBezTo>
                  <a:lnTo>
                    <a:pt x="1151999" y="576830"/>
                  </a:lnTo>
                  <a:close/>
                </a:path>
              </a:pathLst>
            </a:custGeom>
            <a:solidFill>
              <a:srgbClr val="7f7f7f">
                <a:alpha val="80000"/>
              </a:srgbClr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空心弧 29"/>
            <p:cNvSpPr/>
            <p:nvPr/>
          </p:nvSpPr>
          <p:spPr>
            <a:xfrm>
              <a:off x="988920" y="1243080"/>
              <a:ext cx="1150920" cy="1152360"/>
            </a:xfrm>
            <a:custGeom>
              <a:avLst/>
              <a:gdLst/>
              <a:ahLst/>
              <a:rect l="l" t="t" r="r" b="b"/>
              <a:pathLst>
                <a:path w="1152000" h="1152000">
                  <a:moveTo>
                    <a:pt x="577374" y="2"/>
                  </a:moveTo>
                  <a:cubicBezTo>
                    <a:pt x="894953" y="759"/>
                    <a:pt x="1152000" y="258421"/>
                    <a:pt x="1152000" y="576000"/>
                  </a:cubicBezTo>
                  <a:lnTo>
                    <a:pt x="864000" y="576000"/>
                  </a:lnTo>
                  <a:cubicBezTo>
                    <a:pt x="864000" y="417210"/>
                    <a:pt x="735476" y="288379"/>
                    <a:pt x="576687" y="288001"/>
                  </a:cubicBezTo>
                  <a:lnTo>
                    <a:pt x="577374" y="2"/>
                  </a:lnTo>
                  <a:close/>
                </a:path>
              </a:pathLst>
            </a:custGeom>
            <a:solidFill>
              <a:srgbClr val="c00000">
                <a:alpha val="80000"/>
              </a:srgbClr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13"/>
            <p:cNvSpPr/>
            <p:nvPr/>
          </p:nvSpPr>
          <p:spPr>
            <a:xfrm>
              <a:off x="1245960" y="1633320"/>
              <a:ext cx="71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组合 81"/>
          <p:cNvGrpSpPr/>
          <p:nvPr/>
        </p:nvGrpSpPr>
        <p:grpSpPr>
          <a:xfrm>
            <a:off x="2986200" y="1243080"/>
            <a:ext cx="1150920" cy="1152360"/>
            <a:chOff x="2986200" y="1243080"/>
            <a:chExt cx="1150920" cy="1152360"/>
          </a:xfrm>
        </p:grpSpPr>
        <p:sp>
          <p:nvSpPr>
            <p:cNvPr id="145" name="空心弧 31"/>
            <p:cNvSpPr/>
            <p:nvPr/>
          </p:nvSpPr>
          <p:spPr>
            <a:xfrm>
              <a:off x="2986200" y="1243080"/>
              <a:ext cx="1150920" cy="1152360"/>
            </a:xfrm>
            <a:custGeom>
              <a:avLst/>
              <a:gdLst/>
              <a:ahLst/>
              <a:rect l="l" t="t" r="r" b="b"/>
              <a:pathLst>
                <a:path w="1152000" h="1152000">
                  <a:moveTo>
                    <a:pt x="575451" y="1152000"/>
                  </a:moveTo>
                  <a:cubicBezTo>
                    <a:pt x="257484" y="1151697"/>
                    <a:pt x="-93" y="893800"/>
                    <a:pt x="0" y="575833"/>
                  </a:cubicBezTo>
                  <a:cubicBezTo>
                    <a:pt x="92" y="257866"/>
                    <a:pt x="257818" y="118"/>
                    <a:pt x="575785" y="0"/>
                  </a:cubicBezTo>
                  <a:lnTo>
                    <a:pt x="575893" y="290074"/>
                  </a:lnTo>
                  <a:cubicBezTo>
                    <a:pt x="418054" y="290133"/>
                    <a:pt x="290119" y="418079"/>
                    <a:pt x="290074" y="575917"/>
                  </a:cubicBezTo>
                  <a:cubicBezTo>
                    <a:pt x="290028" y="733756"/>
                    <a:pt x="417889" y="861775"/>
                    <a:pt x="575728" y="861926"/>
                  </a:cubicBezTo>
                  <a:cubicBezTo>
                    <a:pt x="575636" y="958617"/>
                    <a:pt x="575543" y="1055309"/>
                    <a:pt x="575451" y="1152000"/>
                  </a:cubicBezTo>
                  <a:close/>
                </a:path>
              </a:pathLst>
            </a:custGeom>
            <a:solidFill>
              <a:srgbClr val="7f7f7f">
                <a:alpha val="80000"/>
              </a:srgbClr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空心弧 45"/>
            <p:cNvSpPr/>
            <p:nvPr/>
          </p:nvSpPr>
          <p:spPr>
            <a:xfrm>
              <a:off x="2986200" y="1243080"/>
              <a:ext cx="1150920" cy="1152360"/>
            </a:xfrm>
            <a:custGeom>
              <a:avLst/>
              <a:gdLst/>
              <a:ahLst/>
              <a:rect l="l" t="t" r="r" b="b"/>
              <a:pathLst>
                <a:path w="1152000" h="1152000">
                  <a:moveTo>
                    <a:pt x="577374" y="2"/>
                  </a:moveTo>
                  <a:cubicBezTo>
                    <a:pt x="894834" y="759"/>
                    <a:pt x="1151832" y="258234"/>
                    <a:pt x="1152000" y="575695"/>
                  </a:cubicBezTo>
                  <a:cubicBezTo>
                    <a:pt x="1152168" y="893155"/>
                    <a:pt x="895443" y="1150903"/>
                    <a:pt x="577985" y="1151997"/>
                  </a:cubicBezTo>
                  <a:lnTo>
                    <a:pt x="576980" y="860485"/>
                  </a:lnTo>
                  <a:cubicBezTo>
                    <a:pt x="733773" y="859945"/>
                    <a:pt x="860569" y="732643"/>
                    <a:pt x="860486" y="575850"/>
                  </a:cubicBezTo>
                  <a:cubicBezTo>
                    <a:pt x="860403" y="419057"/>
                    <a:pt x="733472" y="291890"/>
                    <a:pt x="576678" y="291516"/>
                  </a:cubicBezTo>
                  <a:lnTo>
                    <a:pt x="577374" y="2"/>
                  </a:lnTo>
                  <a:close/>
                </a:path>
              </a:pathLst>
            </a:custGeom>
            <a:solidFill>
              <a:srgbClr val="c00000">
                <a:alpha val="80000"/>
              </a:srgbClr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13"/>
            <p:cNvSpPr/>
            <p:nvPr/>
          </p:nvSpPr>
          <p:spPr>
            <a:xfrm>
              <a:off x="3243240" y="1633320"/>
              <a:ext cx="71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组合 82"/>
          <p:cNvGrpSpPr/>
          <p:nvPr/>
        </p:nvGrpSpPr>
        <p:grpSpPr>
          <a:xfrm>
            <a:off x="4983120" y="1243080"/>
            <a:ext cx="1152720" cy="1152360"/>
            <a:chOff x="4983120" y="1243080"/>
            <a:chExt cx="1152720" cy="1152360"/>
          </a:xfrm>
        </p:grpSpPr>
        <p:sp>
          <p:nvSpPr>
            <p:cNvPr id="149" name="空心弧 46"/>
            <p:cNvSpPr/>
            <p:nvPr/>
          </p:nvSpPr>
          <p:spPr>
            <a:xfrm>
              <a:off x="4983120" y="1243080"/>
              <a:ext cx="1152720" cy="1152360"/>
            </a:xfrm>
            <a:custGeom>
              <a:avLst/>
              <a:gdLst/>
              <a:ahLst/>
              <a:rect l="l" t="t" r="r" b="b"/>
              <a:pathLst>
                <a:path w="1152000" h="1152000">
                  <a:moveTo>
                    <a:pt x="1" y="577221"/>
                  </a:moveTo>
                  <a:cubicBezTo>
                    <a:pt x="-323" y="424282"/>
                    <a:pt x="60189" y="277493"/>
                    <a:pt x="168199" y="169214"/>
                  </a:cubicBezTo>
                  <a:cubicBezTo>
                    <a:pt x="276208" y="60935"/>
                    <a:pt x="422846" y="57"/>
                    <a:pt x="575785" y="0"/>
                  </a:cubicBezTo>
                  <a:lnTo>
                    <a:pt x="575893" y="290074"/>
                  </a:lnTo>
                  <a:cubicBezTo>
                    <a:pt x="499974" y="290102"/>
                    <a:pt x="427183" y="320322"/>
                    <a:pt x="373568" y="374072"/>
                  </a:cubicBezTo>
                  <a:cubicBezTo>
                    <a:pt x="319952" y="427822"/>
                    <a:pt x="289914" y="500688"/>
                    <a:pt x="290075" y="576606"/>
                  </a:cubicBezTo>
                  <a:lnTo>
                    <a:pt x="1" y="577221"/>
                  </a:lnTo>
                  <a:close/>
                </a:path>
              </a:pathLst>
            </a:custGeom>
            <a:solidFill>
              <a:srgbClr val="7f7f7f">
                <a:alpha val="80000"/>
              </a:srgbClr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空心弧 47"/>
            <p:cNvSpPr/>
            <p:nvPr/>
          </p:nvSpPr>
          <p:spPr>
            <a:xfrm>
              <a:off x="4983120" y="1243080"/>
              <a:ext cx="1152720" cy="1152360"/>
            </a:xfrm>
            <a:custGeom>
              <a:avLst/>
              <a:gdLst/>
              <a:ahLst/>
              <a:rect l="l" t="t" r="r" b="b"/>
              <a:pathLst>
                <a:path w="1152000" h="1152000">
                  <a:moveTo>
                    <a:pt x="577374" y="2"/>
                  </a:moveTo>
                  <a:cubicBezTo>
                    <a:pt x="895310" y="760"/>
                    <a:pt x="1152505" y="258979"/>
                    <a:pt x="1152000" y="576916"/>
                  </a:cubicBezTo>
                  <a:cubicBezTo>
                    <a:pt x="1151495" y="894853"/>
                    <a:pt x="893480" y="1152253"/>
                    <a:pt x="575543" y="1152000"/>
                  </a:cubicBezTo>
                  <a:cubicBezTo>
                    <a:pt x="257606" y="1151747"/>
                    <a:pt x="1" y="893937"/>
                    <a:pt x="1" y="576000"/>
                  </a:cubicBezTo>
                  <a:lnTo>
                    <a:pt x="289958" y="576000"/>
                  </a:lnTo>
                  <a:cubicBezTo>
                    <a:pt x="289958" y="733888"/>
                    <a:pt x="417885" y="861916"/>
                    <a:pt x="575773" y="862042"/>
                  </a:cubicBezTo>
                  <a:cubicBezTo>
                    <a:pt x="733661" y="862168"/>
                    <a:pt x="861791" y="734343"/>
                    <a:pt x="862042" y="576455"/>
                  </a:cubicBezTo>
                  <a:cubicBezTo>
                    <a:pt x="862293" y="418567"/>
                    <a:pt x="734570" y="290336"/>
                    <a:pt x="576682" y="289959"/>
                  </a:cubicBezTo>
                  <a:cubicBezTo>
                    <a:pt x="576913" y="193307"/>
                    <a:pt x="577143" y="96654"/>
                    <a:pt x="577374" y="2"/>
                  </a:cubicBezTo>
                  <a:close/>
                </a:path>
              </a:pathLst>
            </a:custGeom>
            <a:solidFill>
              <a:srgbClr val="c00000">
                <a:alpha val="80000"/>
              </a:srgbClr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3"/>
            <p:cNvSpPr/>
            <p:nvPr/>
          </p:nvSpPr>
          <p:spPr>
            <a:xfrm>
              <a:off x="5240160" y="1633320"/>
              <a:ext cx="71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3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组合 83"/>
          <p:cNvGrpSpPr/>
          <p:nvPr/>
        </p:nvGrpSpPr>
        <p:grpSpPr>
          <a:xfrm>
            <a:off x="6980400" y="1243080"/>
            <a:ext cx="1152360" cy="1152360"/>
            <a:chOff x="6980400" y="1243080"/>
            <a:chExt cx="1152360" cy="1152360"/>
          </a:xfrm>
        </p:grpSpPr>
        <p:sp>
          <p:nvSpPr>
            <p:cNvPr id="153" name="同心圆 48"/>
            <p:cNvSpPr/>
            <p:nvPr/>
          </p:nvSpPr>
          <p:spPr>
            <a:xfrm>
              <a:off x="6980400" y="1243080"/>
              <a:ext cx="1152360" cy="1152360"/>
            </a:xfrm>
            <a:custGeom>
              <a:avLst/>
              <a:gdLst/>
              <a:ahLst/>
              <a:rect l="l" t="t" r="r" b="b"/>
              <a:pathLst>
                <a:path w="1152000" h="1152000">
                  <a:moveTo>
                    <a:pt x="0" y="576000"/>
                  </a:moveTo>
                  <a:cubicBezTo>
                    <a:pt x="0" y="257884"/>
                    <a:pt x="257884" y="0"/>
                    <a:pt x="576000" y="0"/>
                  </a:cubicBezTo>
                  <a:cubicBezTo>
                    <a:pt x="894116" y="0"/>
                    <a:pt x="1152000" y="257884"/>
                    <a:pt x="1152000" y="576000"/>
                  </a:cubicBezTo>
                  <a:cubicBezTo>
                    <a:pt x="1152000" y="894116"/>
                    <a:pt x="894116" y="1152000"/>
                    <a:pt x="576000" y="1152000"/>
                  </a:cubicBezTo>
                  <a:cubicBezTo>
                    <a:pt x="257884" y="1152000"/>
                    <a:pt x="0" y="894116"/>
                    <a:pt x="0" y="576000"/>
                  </a:cubicBezTo>
                  <a:close/>
                  <a:moveTo>
                    <a:pt x="288000" y="576000"/>
                  </a:moveTo>
                  <a:cubicBezTo>
                    <a:pt x="288000" y="735058"/>
                    <a:pt x="416942" y="864000"/>
                    <a:pt x="576000" y="864000"/>
                  </a:cubicBezTo>
                  <a:cubicBezTo>
                    <a:pt x="735058" y="864000"/>
                    <a:pt x="864000" y="735058"/>
                    <a:pt x="864000" y="576000"/>
                  </a:cubicBezTo>
                  <a:cubicBezTo>
                    <a:pt x="864000" y="416942"/>
                    <a:pt x="735058" y="288000"/>
                    <a:pt x="576000" y="288000"/>
                  </a:cubicBezTo>
                  <a:cubicBezTo>
                    <a:pt x="416942" y="288000"/>
                    <a:pt x="288000" y="416942"/>
                    <a:pt x="288000" y="576000"/>
                  </a:cubicBezTo>
                  <a:close/>
                </a:path>
              </a:pathLst>
            </a:custGeom>
            <a:solidFill>
              <a:srgbClr val="c00000">
                <a:alpha val="80000"/>
              </a:srgbClr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13"/>
            <p:cNvSpPr/>
            <p:nvPr/>
          </p:nvSpPr>
          <p:spPr>
            <a:xfrm>
              <a:off x="7237440" y="1634040"/>
              <a:ext cx="71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4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组合 53"/>
          <p:cNvGrpSpPr/>
          <p:nvPr/>
        </p:nvGrpSpPr>
        <p:grpSpPr>
          <a:xfrm>
            <a:off x="1275840" y="2446200"/>
            <a:ext cx="576360" cy="385920"/>
            <a:chOff x="1275840" y="2446200"/>
            <a:chExt cx="576360" cy="385920"/>
          </a:xfrm>
        </p:grpSpPr>
        <p:sp>
          <p:nvSpPr>
            <p:cNvPr id="156" name="燕尾形 54"/>
            <p:cNvSpPr/>
            <p:nvPr/>
          </p:nvSpPr>
          <p:spPr>
            <a:xfrm rot="5400000">
              <a:off x="1455840" y="2265840"/>
              <a:ext cx="216000" cy="57636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燕尾形 55"/>
            <p:cNvSpPr/>
            <p:nvPr/>
          </p:nvSpPr>
          <p:spPr>
            <a:xfrm rot="5400000">
              <a:off x="1455840" y="2435760"/>
              <a:ext cx="216000" cy="57636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组合 57"/>
          <p:cNvGrpSpPr/>
          <p:nvPr/>
        </p:nvGrpSpPr>
        <p:grpSpPr>
          <a:xfrm>
            <a:off x="3273120" y="2446200"/>
            <a:ext cx="576360" cy="385920"/>
            <a:chOff x="3273120" y="2446200"/>
            <a:chExt cx="576360" cy="385920"/>
          </a:xfrm>
        </p:grpSpPr>
        <p:sp>
          <p:nvSpPr>
            <p:cNvPr id="159" name="燕尾形 58"/>
            <p:cNvSpPr/>
            <p:nvPr/>
          </p:nvSpPr>
          <p:spPr>
            <a:xfrm rot="5400000">
              <a:off x="3453120" y="2265840"/>
              <a:ext cx="216000" cy="57636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燕尾形 59"/>
            <p:cNvSpPr/>
            <p:nvPr/>
          </p:nvSpPr>
          <p:spPr>
            <a:xfrm rot="5400000">
              <a:off x="3453120" y="2435760"/>
              <a:ext cx="216000" cy="57636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组合 61"/>
          <p:cNvGrpSpPr/>
          <p:nvPr/>
        </p:nvGrpSpPr>
        <p:grpSpPr>
          <a:xfrm>
            <a:off x="5270040" y="2446200"/>
            <a:ext cx="576360" cy="385920"/>
            <a:chOff x="5270040" y="2446200"/>
            <a:chExt cx="576360" cy="385920"/>
          </a:xfrm>
        </p:grpSpPr>
        <p:sp>
          <p:nvSpPr>
            <p:cNvPr id="162" name="燕尾形 62"/>
            <p:cNvSpPr/>
            <p:nvPr/>
          </p:nvSpPr>
          <p:spPr>
            <a:xfrm rot="5400000">
              <a:off x="5450040" y="2265840"/>
              <a:ext cx="216000" cy="57636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燕尾形 63"/>
            <p:cNvSpPr/>
            <p:nvPr/>
          </p:nvSpPr>
          <p:spPr>
            <a:xfrm rot="5400000">
              <a:off x="5450040" y="2435760"/>
              <a:ext cx="216000" cy="57636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组合 65"/>
          <p:cNvGrpSpPr/>
          <p:nvPr/>
        </p:nvGrpSpPr>
        <p:grpSpPr>
          <a:xfrm>
            <a:off x="7267680" y="2446200"/>
            <a:ext cx="576000" cy="385920"/>
            <a:chOff x="7267680" y="2446200"/>
            <a:chExt cx="576000" cy="385920"/>
          </a:xfrm>
        </p:grpSpPr>
        <p:sp>
          <p:nvSpPr>
            <p:cNvPr id="165" name="燕尾形 66"/>
            <p:cNvSpPr/>
            <p:nvPr/>
          </p:nvSpPr>
          <p:spPr>
            <a:xfrm rot="5400000">
              <a:off x="7447680" y="2266200"/>
              <a:ext cx="216000" cy="57600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576000"/>
                <a:gd name="textAreaBottom" fmla="*/ 57600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燕尾形 67"/>
            <p:cNvSpPr/>
            <p:nvPr/>
          </p:nvSpPr>
          <p:spPr>
            <a:xfrm rot="5400000">
              <a:off x="7447680" y="2436120"/>
              <a:ext cx="216000" cy="57600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576000"/>
                <a:gd name="textAreaBottom" fmla="*/ 57600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矩形 27"/>
          <p:cNvSpPr/>
          <p:nvPr/>
        </p:nvSpPr>
        <p:spPr>
          <a:xfrm>
            <a:off x="628560" y="2935440"/>
            <a:ext cx="1871640" cy="2700360"/>
          </a:xfrm>
          <a:prstGeom prst="rect">
            <a:avLst/>
          </a:prstGeom>
          <a:solidFill>
            <a:srgbClr val="a6a6a6">
              <a:alpha val="20000"/>
            </a:srgbClr>
          </a:solidFill>
          <a:ln w="12600">
            <a:solidFill>
              <a:srgbClr val="7f7f7f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46"/>
          <p:cNvSpPr/>
          <p:nvPr/>
        </p:nvSpPr>
        <p:spPr>
          <a:xfrm>
            <a:off x="654120" y="3673440"/>
            <a:ext cx="180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直接连接符 72"/>
          <p:cNvSpPr/>
          <p:nvPr/>
        </p:nvSpPr>
        <p:spPr>
          <a:xfrm>
            <a:off x="700200" y="3530520"/>
            <a:ext cx="1728720" cy="0"/>
          </a:xfrm>
          <a:prstGeom prst="line">
            <a:avLst/>
          </a:prstGeom>
          <a:ln w="190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46"/>
          <p:cNvSpPr/>
          <p:nvPr/>
        </p:nvSpPr>
        <p:spPr>
          <a:xfrm>
            <a:off x="663480" y="307656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56"/>
          <p:cNvSpPr/>
          <p:nvPr/>
        </p:nvSpPr>
        <p:spPr>
          <a:xfrm>
            <a:off x="2625840" y="2935440"/>
            <a:ext cx="1871640" cy="2700360"/>
          </a:xfrm>
          <a:prstGeom prst="rect">
            <a:avLst/>
          </a:prstGeom>
          <a:solidFill>
            <a:srgbClr val="a6a6a6">
              <a:alpha val="20000"/>
            </a:srgbClr>
          </a:solidFill>
          <a:ln w="12600">
            <a:solidFill>
              <a:srgbClr val="7f7f7f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46"/>
          <p:cNvSpPr/>
          <p:nvPr/>
        </p:nvSpPr>
        <p:spPr>
          <a:xfrm>
            <a:off x="2651040" y="3673440"/>
            <a:ext cx="180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直接连接符 74"/>
          <p:cNvSpPr/>
          <p:nvPr/>
        </p:nvSpPr>
        <p:spPr>
          <a:xfrm>
            <a:off x="2697120" y="3530520"/>
            <a:ext cx="1728720" cy="0"/>
          </a:xfrm>
          <a:prstGeom prst="line">
            <a:avLst/>
          </a:prstGeom>
          <a:ln w="190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46"/>
          <p:cNvSpPr/>
          <p:nvPr/>
        </p:nvSpPr>
        <p:spPr>
          <a:xfrm>
            <a:off x="2662200" y="3076560"/>
            <a:ext cx="179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60"/>
          <p:cNvSpPr/>
          <p:nvPr/>
        </p:nvSpPr>
        <p:spPr>
          <a:xfrm>
            <a:off x="4622760" y="2935440"/>
            <a:ext cx="1871640" cy="2700360"/>
          </a:xfrm>
          <a:prstGeom prst="rect">
            <a:avLst/>
          </a:prstGeom>
          <a:solidFill>
            <a:srgbClr val="a6a6a6">
              <a:alpha val="20000"/>
            </a:srgbClr>
          </a:solidFill>
          <a:ln w="12600">
            <a:solidFill>
              <a:srgbClr val="7f7f7f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46"/>
          <p:cNvSpPr/>
          <p:nvPr/>
        </p:nvSpPr>
        <p:spPr>
          <a:xfrm>
            <a:off x="4648320" y="3673440"/>
            <a:ext cx="180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直接连接符 76"/>
          <p:cNvSpPr/>
          <p:nvPr/>
        </p:nvSpPr>
        <p:spPr>
          <a:xfrm>
            <a:off x="4694400" y="3530520"/>
            <a:ext cx="1728720" cy="0"/>
          </a:xfrm>
          <a:prstGeom prst="line">
            <a:avLst/>
          </a:prstGeom>
          <a:ln w="190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46"/>
          <p:cNvSpPr/>
          <p:nvPr/>
        </p:nvSpPr>
        <p:spPr>
          <a:xfrm>
            <a:off x="4659480" y="307656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64"/>
          <p:cNvSpPr/>
          <p:nvPr/>
        </p:nvSpPr>
        <p:spPr>
          <a:xfrm>
            <a:off x="6620040" y="2935440"/>
            <a:ext cx="1871640" cy="2700360"/>
          </a:xfrm>
          <a:prstGeom prst="rect">
            <a:avLst/>
          </a:prstGeom>
          <a:solidFill>
            <a:srgbClr val="a6a6a6">
              <a:alpha val="20000"/>
            </a:srgbClr>
          </a:solidFill>
          <a:ln w="12600">
            <a:solidFill>
              <a:srgbClr val="7f7f7f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46"/>
          <p:cNvSpPr/>
          <p:nvPr/>
        </p:nvSpPr>
        <p:spPr>
          <a:xfrm>
            <a:off x="6645240" y="3673440"/>
            <a:ext cx="180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直接连接符 78"/>
          <p:cNvSpPr/>
          <p:nvPr/>
        </p:nvSpPr>
        <p:spPr>
          <a:xfrm>
            <a:off x="6692760" y="3530520"/>
            <a:ext cx="1727280" cy="0"/>
          </a:xfrm>
          <a:prstGeom prst="line">
            <a:avLst/>
          </a:prstGeom>
          <a:ln w="190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46"/>
          <p:cNvSpPr/>
          <p:nvPr/>
        </p:nvSpPr>
        <p:spPr>
          <a:xfrm>
            <a:off x="6656400" y="307656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TextBox 89" descr=""/>
          <p:cNvPicPr/>
          <p:nvPr/>
        </p:nvPicPr>
        <p:blipFill>
          <a:blip r:embed="rId1"/>
          <a:stretch/>
        </p:blipFill>
        <p:spPr>
          <a:xfrm>
            <a:off x="274680" y="262080"/>
            <a:ext cx="3327480" cy="92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组合 14"/>
          <p:cNvGrpSpPr/>
          <p:nvPr/>
        </p:nvGrpSpPr>
        <p:grpSpPr>
          <a:xfrm>
            <a:off x="4021200" y="1704960"/>
            <a:ext cx="4284720" cy="1800360"/>
            <a:chOff x="4021200" y="1704960"/>
            <a:chExt cx="4284720" cy="1800360"/>
          </a:xfrm>
        </p:grpSpPr>
        <p:sp>
          <p:nvSpPr>
            <p:cNvPr id="185" name="矩形 10"/>
            <p:cNvSpPr/>
            <p:nvPr/>
          </p:nvSpPr>
          <p:spPr>
            <a:xfrm>
              <a:off x="4021200" y="1704960"/>
              <a:ext cx="4284720" cy="1800360"/>
            </a:xfrm>
            <a:prstGeom prst="rect">
              <a:avLst/>
            </a:prstGeom>
            <a:solidFill>
              <a:srgbClr val="ffffff">
                <a:alpha val="64000"/>
              </a:srgbClr>
            </a:solidFill>
            <a:ln w="12600">
              <a:solidFill>
                <a:srgbClr val="7f7f7f">
                  <a:alpha val="5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3"/>
            <p:cNvSpPr/>
            <p:nvPr/>
          </p:nvSpPr>
          <p:spPr>
            <a:xfrm>
              <a:off x="4344840" y="1938240"/>
              <a:ext cx="3465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火热的军营，铁血的忠诚。“我们是当代革命军人，核心价值观牢记心中，忠诚于党听指挥，热爱人民不忘本，报效国家尽职责，献身使命担重任，崇尚荣誉建功业，人民军队向前进！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7" name="TextBox 146" descr=""/>
          <p:cNvPicPr/>
          <p:nvPr/>
        </p:nvPicPr>
        <p:blipFill>
          <a:blip r:embed="rId1"/>
          <a:stretch/>
        </p:blipFill>
        <p:spPr>
          <a:xfrm>
            <a:off x="3876840" y="1182600"/>
            <a:ext cx="3395520" cy="7430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C:\Documents and Settings\Administrator\My Documents\My Pictures\2007115223212381_2.jpg"/>
          <p:cNvPicPr/>
          <p:nvPr/>
        </p:nvPicPr>
        <p:blipFill>
          <a:blip r:embed="rId2"/>
          <a:stretch/>
        </p:blipFill>
        <p:spPr>
          <a:xfrm>
            <a:off x="708120" y="1219320"/>
            <a:ext cx="2911320" cy="44575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89" name="TextBox 15" descr=""/>
          <p:cNvPicPr/>
          <p:nvPr/>
        </p:nvPicPr>
        <p:blipFill>
          <a:blip r:embed="rId3"/>
          <a:stretch/>
        </p:blipFill>
        <p:spPr>
          <a:xfrm>
            <a:off x="274680" y="262080"/>
            <a:ext cx="3327480" cy="9205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743040" y="5745240"/>
            <a:ext cx="5643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图片 16" descr="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2" name="TextBox 25" descr=""/>
          <p:cNvPicPr/>
          <p:nvPr/>
        </p:nvPicPr>
        <p:blipFill>
          <a:blip r:embed="rId2"/>
          <a:stretch/>
        </p:blipFill>
        <p:spPr>
          <a:xfrm>
            <a:off x="2687760" y="4327560"/>
            <a:ext cx="3749400" cy="201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7545-B2D4-447F-B7D0-DD785E6D2E9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9T06:47:0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3:01:22Z</dcterms:modified>
  <cp:revision>3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