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CC8B7-D49C-4B15-863B-A7CDA577C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4360" y="3922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F46A3-FEFF-42DD-927A-AD9D229AA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7040" y="1773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4360" y="3922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7040" y="3922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AAAA6-DED9-4B72-A309-720C4E6B4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2360" y="1773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0000" y="1773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4360" y="3922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2360" y="3922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0000" y="3922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DDB46-D9A2-4415-96A3-3E36DDC2D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83D86-27BA-4CF2-933D-452DD0947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CAE29-D3A5-417D-AD7D-AEBE717E3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BB11D-C034-463B-A026-B25826723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7040" y="1773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E18B7-BF42-4FCE-86FB-94ED1BE8D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DB954-1416-4FA5-A2DE-2CC075143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4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FE817-15F8-45D3-967C-3E7EE6B40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7040" y="1773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4360" y="3922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6E3E4-BF3B-4053-8898-E80181B44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71A7E-7A95-430F-9028-CB37AB647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7040" y="1773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7040" y="3922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A3AA9-3D37-4865-9BBA-A89F8A6B0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7040" y="1773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4360" y="3922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0580C-1D5B-415A-BF5A-8D739B61D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4360" y="3922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63A87-13D9-4D15-8DBB-96592B25D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7040" y="1773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4360" y="3922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7040" y="3922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7C85A-ECF9-48DA-B3C8-ED2E5D331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2360" y="1773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0000" y="1773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4360" y="3922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2360" y="3922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0000" y="3922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04020-0F91-48E0-BFD7-6B287BC26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A4C95-470F-44BC-BDB8-6A65DA237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7040" y="1773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08F03-1FBC-45BB-803B-1A75591FC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30403-9178-4053-8B3D-88D846569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44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5DDB4-1CC1-4885-A48A-558D75CED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7040" y="1773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4360" y="3922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840B8-41F2-42E2-BAF6-C9D533F10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7040" y="1773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7040" y="3922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5BD95-5843-409F-A5CF-B99AB979F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7040" y="1773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4360" y="3922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7632C-7E96-4C26-87E0-642602929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524640"/>
            <a:ext cx="19051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5246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524640"/>
            <a:ext cx="19051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49BB8-8FE4-44F2-8FB5-DCB1BCC8756C}" type="slidenum"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545160"/>
            <a:ext cx="2133720" cy="2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545160"/>
            <a:ext cx="2895840" cy="2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545160"/>
            <a:ext cx="2133720" cy="2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FD843-7FD7-4E6D-836C-D3E8B7F97CAE}" type="slidenum"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8760" y="4220640"/>
            <a:ext cx="7292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汉仪综艺体简"/>
                <a:ea typeface="汉仪综艺体简"/>
              </a:rPr>
              <a:t>菊花通用</a:t>
            </a:r>
            <a:r>
              <a:rPr b="0" lang="en-US" sz="4000" spc="-1" strike="noStrike">
                <a:solidFill>
                  <a:srgbClr val="000000"/>
                </a:solidFill>
                <a:latin typeface="汉仪综艺体简"/>
                <a:ea typeface="汉仪综艺体简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汉仪综艺体简"/>
                <a:ea typeface="汉仪综艺体简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36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3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3T08:16:54Z</dcterms:created>
  <dc:creator/>
  <dc:description/>
  <dc:language>en-US</dc:language>
  <cp:lastModifiedBy>王玉清</cp:lastModifiedBy>
  <dcterms:modified xsi:type="dcterms:W3CDTF">2016-02-22T03:10:51Z</dcterms:modified>
  <cp:revision>5</cp:revision>
  <dc:subject/>
  <dc:title>投影片 </dc:title>
</cp:coreProperties>
</file>