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4CB-FDA1-4895-8C10-4991AE45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664-2E0D-40ED-AFAF-F17B9EBA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149-4745-48CC-9C15-8A4C588A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C26-1206-4F46-A6A5-F4700F76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8A1A2-2E1E-42B6-A12D-EE8C3CC7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949D5-4822-42CF-BB0A-F7B29A67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240B0-3A1B-4598-8037-76EA8F0D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E9889-B471-4F79-B37D-0FBA79AD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5ED5A-FBAE-48AB-BCC1-2EFC4E78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17018-9CC3-411D-B85A-AA995D72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A411D-717F-48E0-B188-F3A4F538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71D-5039-48E0-9DE0-D272A756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B59D8-A738-4565-A2F2-99FD4E24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1D7C9-7392-495E-B093-5F4FD607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6982D-23E3-48B7-9CC9-DF223D7C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83197-F791-491B-8325-78D9631D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52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6448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95800" y="3773160"/>
            <a:ext cx="260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9A8BB-24C8-4F2E-A08F-8A62BC2C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CF1-8055-4C95-B2D7-2E8C54F2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31A-9AA2-4030-A814-F043EB7D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A59-B557-4469-B807-4946FE17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619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CBC-2F20-4BAA-90A1-616A425F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ADA-9319-48E7-9A25-B30A4D6B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080" y="377316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EDA-FE70-4931-94D6-E987EFC1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773160"/>
            <a:ext cx="807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154-9C14-4F3A-9B4A-235DE8C7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990"/>
          <p:cNvSpPr/>
          <p:nvPr/>
        </p:nvSpPr>
        <p:spPr>
          <a:xfrm flipH="1">
            <a:off x="4419000" y="38160"/>
            <a:ext cx="4647960" cy="1181160"/>
          </a:xfrm>
          <a:custGeom>
            <a:avLst/>
            <a:gdLst/>
            <a:ahLst/>
            <a:rect l="l" t="t" r="r" b="b"/>
            <a:pathLst>
              <a:path w="2976" h="744">
                <a:moveTo>
                  <a:pt x="16" y="0"/>
                </a:moveTo>
                <a:lnTo>
                  <a:pt x="0" y="744"/>
                </a:lnTo>
                <a:lnTo>
                  <a:pt x="2976" y="440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" name="Freeform 2988"/>
          <p:cNvSpPr/>
          <p:nvPr/>
        </p:nvSpPr>
        <p:spPr>
          <a:xfrm>
            <a:off x="0" y="0"/>
            <a:ext cx="4533840" cy="1295280"/>
          </a:xfrm>
          <a:custGeom>
            <a:avLst/>
            <a:gdLst/>
            <a:ahLst/>
            <a:rect l="l" t="t" r="r" b="b"/>
            <a:pathLst>
              <a:path w="2856" h="800">
                <a:moveTo>
                  <a:pt x="16" y="0"/>
                </a:moveTo>
                <a:lnTo>
                  <a:pt x="0" y="800"/>
                </a:lnTo>
                <a:lnTo>
                  <a:pt x="2856" y="461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2" name="AutoShape 2629"/>
          <p:cNvSpPr/>
          <p:nvPr/>
        </p:nvSpPr>
        <p:spPr>
          <a:xfrm rot="10800000">
            <a:off x="0" y="-360"/>
            <a:ext cx="9144000" cy="762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3" name="Rectangle 2983"/>
          <p:cNvSpPr/>
          <p:nvPr/>
        </p:nvSpPr>
        <p:spPr>
          <a:xfrm>
            <a:off x="9067680" y="14400"/>
            <a:ext cx="76320" cy="683892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" name="Rectangle 2984"/>
          <p:cNvSpPr/>
          <p:nvPr/>
        </p:nvSpPr>
        <p:spPr>
          <a:xfrm flipH="1">
            <a:off x="12600" y="9360"/>
            <a:ext cx="76320" cy="6848640"/>
          </a:xfrm>
          <a:prstGeom prst="rect">
            <a:avLst/>
          </a:prstGeom>
          <a:solidFill>
            <a:srgbClr val="a8b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7" name="Rectangle 2987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195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265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9432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276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B0BF-3273-4501-A878-A9E1D1B43CC9}" type="slidenum">
              <a:rPr b="0" lang="ko-KR" sz="10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38"/>
          <p:cNvSpPr/>
          <p:nvPr/>
        </p:nvSpPr>
        <p:spPr>
          <a:xfrm flipH="1">
            <a:off x="0" y="9360"/>
            <a:ext cx="3733920" cy="684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5486400" y="4680"/>
            <a:ext cx="3657600" cy="683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49" name="Freeform 1454"/>
          <p:cNvSpPr/>
          <p:nvPr/>
        </p:nvSpPr>
        <p:spPr>
          <a:xfrm flipV="1">
            <a:off x="-104400" y="3276360"/>
            <a:ext cx="9248760" cy="358128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0" name="Freeform 1453"/>
          <p:cNvSpPr/>
          <p:nvPr/>
        </p:nvSpPr>
        <p:spPr>
          <a:xfrm>
            <a:off x="-76320" y="0"/>
            <a:ext cx="9220320" cy="3276720"/>
          </a:xfrm>
          <a:custGeom>
            <a:avLst/>
            <a:gdLst/>
            <a:ahLst/>
            <a:rect l="l" t="t" r="r" b="b"/>
            <a:pathLst>
              <a:path w="5808" h="2352">
                <a:moveTo>
                  <a:pt x="48" y="0"/>
                </a:moveTo>
                <a:lnTo>
                  <a:pt x="2928" y="2352"/>
                </a:lnTo>
                <a:lnTo>
                  <a:pt x="5808" y="0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gradFill rotWithShape="0">
            <a:gsLst>
              <a:gs pos="0">
                <a:srgbClr val="a8babc"/>
              </a:gs>
              <a:gs pos="100000">
                <a:srgbClr val="1952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1" name="AutoShape 2044"/>
          <p:cNvSpPr/>
          <p:nvPr/>
        </p:nvSpPr>
        <p:spPr>
          <a:xfrm>
            <a:off x="1295280" y="152280"/>
            <a:ext cx="6553440" cy="655344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4f7f7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2" name="AutoShape 1456"/>
          <p:cNvSpPr/>
          <p:nvPr/>
        </p:nvSpPr>
        <p:spPr>
          <a:xfrm>
            <a:off x="2362320" y="1143000"/>
            <a:ext cx="4495680" cy="4800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dce3e4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3" name="Text Box 29"/>
          <p:cNvSpPr/>
          <p:nvPr/>
        </p:nvSpPr>
        <p:spPr>
          <a:xfrm>
            <a:off x="3886200" y="1143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LOGO</a:t>
            </a:r>
            <a:endParaRPr b="0" lang="en-US" sz="2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4" name="AutoShape 1455"/>
          <p:cNvSpPr/>
          <p:nvPr/>
        </p:nvSpPr>
        <p:spPr>
          <a:xfrm>
            <a:off x="2819520" y="1733400"/>
            <a:ext cx="3581280" cy="3657600"/>
          </a:xfrm>
          <a:prstGeom prst="diamond">
            <a:avLst/>
          </a:prstGeom>
          <a:gradFill rotWithShape="0">
            <a:gsLst>
              <a:gs pos="0">
                <a:srgbClr val="a8babc"/>
              </a:gs>
              <a:gs pos="50000">
                <a:srgbClr val="ffffff"/>
              </a:gs>
              <a:gs pos="100000">
                <a:srgbClr val="a8ba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5" name="Rectangle 2048"/>
          <p:cNvSpPr/>
          <p:nvPr/>
        </p:nvSpPr>
        <p:spPr>
          <a:xfrm>
            <a:off x="0" y="2971800"/>
            <a:ext cx="9144000" cy="76212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bab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9528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a0b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64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8bab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88584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c3764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4EC6-897F-4F6D-BE2F-BC2E47C03F8B}" type="slidenum">
              <a:rPr b="0" lang="ko-KR" sz="1400" spc="-1" strike="noStrike">
                <a:solidFill>
                  <a:srgbClr val="2c3764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6"/>
          </p:nvPr>
        </p:nvSpPr>
        <p:spPr>
          <a:xfrm>
            <a:off x="304560" y="64767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8babc"/>
                </a:solidFill>
                <a:latin typeface="Verdana"/>
                <a:ea typeface="굴림"/>
              </a:rPr>
              <a:t>简洁经典灰色背景商务</a:t>
            </a:r>
            <a:r>
              <a:rPr b="1" lang="en-US" sz="4000" spc="-1" strike="noStrike">
                <a:solidFill>
                  <a:srgbClr val="a8babc"/>
                </a:solidFill>
                <a:latin typeface="Verdana"/>
                <a:ea typeface="굴림"/>
              </a:rPr>
              <a:t>PPT</a:t>
            </a:r>
            <a:r>
              <a:rPr b="1" lang="zh-CN" sz="4000" spc="-1" strike="noStrike">
                <a:solidFill>
                  <a:srgbClr val="a8babc"/>
                </a:solidFill>
                <a:latin typeface="Verdana"/>
                <a:ea typeface="굴림"/>
              </a:rPr>
              <a:t>模板</a:t>
            </a:r>
            <a:endParaRPr b="1" lang="en-US" sz="40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77777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3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200" name="WordArt 2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528b"/>
                    </a:gs>
                    <a:gs pos="100000">
                      <a:srgbClr val="39b3c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528b"/>
                  </a:gs>
                  <a:gs pos="100000">
                    <a:srgbClr val="39b3c3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Your Company Slogan</a:t>
            </a:r>
            <a:endParaRPr b="0" lang="en-US" sz="14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2125800" y="21049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2e4f"/>
              </a:gs>
              <a:gs pos="50000">
                <a:srgbClr val="2364ab"/>
              </a:gs>
              <a:gs pos="100000">
                <a:srgbClr val="102e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39840" y="296244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a535a"/>
              </a:gs>
              <a:gs pos="50000">
                <a:srgbClr val="39b3c3"/>
              </a:gs>
              <a:gs pos="100000">
                <a:srgbClr val="1a53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2125800" y="381312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640"/>
              </a:gs>
              <a:gs pos="50000">
                <a:srgbClr val="19528b"/>
              </a:gs>
              <a:gs pos="100000">
                <a:srgbClr val="0c26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2125800" y="469116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4a53"/>
              </a:gs>
              <a:gs pos="50000">
                <a:srgbClr val="99a0b3"/>
              </a:gs>
              <a:gs pos="100000">
                <a:srgbClr val="474a5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굴림"/>
              </a:rPr>
              <a:t>Contents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436840" y="2044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Introduction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457360" y="28954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Strategy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448000" y="375444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hallenges Forward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523960" y="462600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onclusion</a:t>
            </a:r>
            <a:endParaRPr b="0" lang="en-US" sz="2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685880" y="1905120"/>
            <a:ext cx="685800" cy="685800"/>
          </a:xfrm>
          <a:prstGeom prst="diamond">
            <a:avLst/>
          </a:prstGeom>
          <a:solidFill>
            <a:srgbClr val="2364a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1685880" y="2743200"/>
            <a:ext cx="685800" cy="685800"/>
          </a:xfrm>
          <a:prstGeom prst="diamond">
            <a:avLst/>
          </a:prstGeom>
          <a:solidFill>
            <a:srgbClr val="39b3c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685880" y="3657600"/>
            <a:ext cx="685800" cy="685800"/>
          </a:xfrm>
          <a:prstGeom prst="diamond">
            <a:avLst/>
          </a:prstGeom>
          <a:solidFill>
            <a:srgbClr val="19528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1685880" y="4495680"/>
            <a:ext cx="685800" cy="685800"/>
          </a:xfrm>
          <a:prstGeom prst="diamond">
            <a:avLst/>
          </a:prstGeom>
          <a:solidFill>
            <a:srgbClr val="99a0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9b3c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b3c3"/>
                </a:solidFill>
                <a:latin typeface="Verdana"/>
                <a:ea typeface="굴림"/>
              </a:rPr>
              <a:t>Strengths</a:t>
            </a: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굴림"/>
              </a:rPr>
              <a:t> 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2c376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3764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19528b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19528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c376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8240" y="1819440"/>
          <a:ext cx="7450200" cy="3458880"/>
        </p:xfrm>
        <a:graphic>
          <a:graphicData uri="http://schemas.openxmlformats.org/drawingml/2006/table">
            <a:tbl>
              <a:tblPr/>
              <a:tblGrid>
                <a:gridCol w="1489320"/>
                <a:gridCol w="1490400"/>
                <a:gridCol w="1490760"/>
                <a:gridCol w="1490760"/>
                <a:gridCol w="14889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02e4f"/>
                        </a:gs>
                        <a:gs pos="100000">
                          <a:srgbClr val="2364ab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2a1c0"/>
                        </a:gs>
                        <a:gs pos="100000">
                          <a:srgbClr val="19528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92ab"/>
                        </a:gs>
                        <a:gs pos="100000">
                          <a:srgbClr val="2c3764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3d6de"/>
                        </a:gs>
                        <a:gs pos="100000">
                          <a:srgbClr val="39b3c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cbd6"/>
                        </a:gs>
                        <a:gs pos="100000">
                          <a:srgbClr val="99a0b3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8bab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6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0" name="Oval 2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1" name="Oval 3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99a0b3"/>
              </a:gs>
              <a:gs pos="100000">
                <a:srgbClr val="3537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2364ab"/>
              </a:gs>
              <a:gs pos="100000">
                <a:srgbClr val="0c23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39b3c3"/>
              </a:gs>
              <a:gs pos="100000">
                <a:srgbClr val="1440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babc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0b3"/>
              </a:gs>
              <a:gs pos="100000">
                <a:srgbClr val="474a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3764"/>
              </a:gs>
              <a:gs pos="100000">
                <a:srgbClr val="13172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b3c3"/>
              </a:gs>
              <a:gs pos="100000">
                <a:srgbClr val="1a535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9b3c3"/>
              </a:gs>
              <a:gs pos="100000">
                <a:srgbClr val="b0e1e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c3764"/>
              </a:gs>
              <a:gs pos="100000">
                <a:srgbClr val="abafc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e3e5ea"/>
              </a:gs>
              <a:gs pos="100000">
                <a:srgbClr val="99a0b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1757520" y="1146240"/>
          <a:ext cx="532908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146240"/>
                    <a:ext cx="53290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8babc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a8bab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a8bab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grpSp>
        <p:nvGrpSpPr>
          <p:cNvPr id="148" name="Group 7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49" name="Rectangle 8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99a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50" name="Group 9"/>
            <p:cNvGrpSpPr/>
            <p:nvPr/>
          </p:nvGrpSpPr>
          <p:grpSpPr>
            <a:xfrm>
              <a:off x="2375280" y="2179080"/>
              <a:ext cx="931680" cy="131400"/>
              <a:chOff x="2375280" y="2179080"/>
              <a:chExt cx="931680" cy="13140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2375280" y="2179080"/>
                <a:ext cx="1569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2" name="Rectangle 11"/>
              <p:cNvSpPr/>
              <p:nvPr/>
            </p:nvSpPr>
            <p:spPr>
              <a:xfrm>
                <a:off x="2464560" y="2180520"/>
                <a:ext cx="7729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3" name="Oval 12"/>
              <p:cNvSpPr/>
              <p:nvPr/>
            </p:nvSpPr>
            <p:spPr>
              <a:xfrm>
                <a:off x="3165840" y="218052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4" name="Oval 13"/>
              <p:cNvSpPr/>
              <p:nvPr/>
            </p:nvSpPr>
            <p:spPr>
              <a:xfrm>
                <a:off x="3243600" y="2221920"/>
                <a:ext cx="3996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Rectangle 14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56" name="Group 15"/>
            <p:cNvGrpSpPr/>
            <p:nvPr/>
          </p:nvGrpSpPr>
          <p:grpSpPr>
            <a:xfrm>
              <a:off x="4096800" y="2179080"/>
              <a:ext cx="931680" cy="131400"/>
              <a:chOff x="4096800" y="2179080"/>
              <a:chExt cx="931680" cy="131400"/>
            </a:xfrm>
          </p:grpSpPr>
          <p:sp>
            <p:nvSpPr>
              <p:cNvPr id="157" name="Oval 16"/>
              <p:cNvSpPr/>
              <p:nvPr/>
            </p:nvSpPr>
            <p:spPr>
              <a:xfrm>
                <a:off x="4096800" y="2179080"/>
                <a:ext cx="1569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8" name="Rectangle 17"/>
              <p:cNvSpPr/>
              <p:nvPr/>
            </p:nvSpPr>
            <p:spPr>
              <a:xfrm>
                <a:off x="4186080" y="2180520"/>
                <a:ext cx="7729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59" name="Oval 18"/>
              <p:cNvSpPr/>
              <p:nvPr/>
            </p:nvSpPr>
            <p:spPr>
              <a:xfrm>
                <a:off x="4887360" y="218052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0" name="Oval 19"/>
              <p:cNvSpPr/>
              <p:nvPr/>
            </p:nvSpPr>
            <p:spPr>
              <a:xfrm>
                <a:off x="4963320" y="2221920"/>
                <a:ext cx="3960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20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99a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grpSp>
          <p:nvGrpSpPr>
            <p:cNvPr id="162" name="Group 21"/>
            <p:cNvGrpSpPr/>
            <p:nvPr/>
          </p:nvGrpSpPr>
          <p:grpSpPr>
            <a:xfrm>
              <a:off x="5817960" y="2179080"/>
              <a:ext cx="1218240" cy="131400"/>
              <a:chOff x="5817960" y="2179080"/>
              <a:chExt cx="1218240" cy="131400"/>
            </a:xfrm>
          </p:grpSpPr>
          <p:sp>
            <p:nvSpPr>
              <p:cNvPr id="163" name="Oval 22"/>
              <p:cNvSpPr/>
              <p:nvPr/>
            </p:nvSpPr>
            <p:spPr>
              <a:xfrm>
                <a:off x="5817960" y="2179080"/>
                <a:ext cx="2055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4" name="Rectangle 23"/>
              <p:cNvSpPr/>
              <p:nvPr/>
            </p:nvSpPr>
            <p:spPr>
              <a:xfrm>
                <a:off x="5934600" y="2180520"/>
                <a:ext cx="101052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5" name="Oval 24"/>
              <p:cNvSpPr/>
              <p:nvPr/>
            </p:nvSpPr>
            <p:spPr>
              <a:xfrm>
                <a:off x="6851520" y="2180520"/>
                <a:ext cx="18468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6950880" y="2221920"/>
                <a:ext cx="5184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8babc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26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2c37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</p:grpSp>
      <p:sp>
        <p:nvSpPr>
          <p:cNvPr id="168" name="AutoShape 27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69" name="AutoShape 28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0" name="AutoShape 29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4"/>
          <p:cNvSpPr/>
          <p:nvPr/>
        </p:nvSpPr>
        <p:spPr>
          <a:xfrm>
            <a:off x="594360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0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3764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2c3764"/>
              </a:solidFill>
              <a:latin typeface="Verdana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a8babc"/>
              </a:gs>
              <a:gs pos="50000">
                <a:srgbClr val="eaeeef"/>
              </a:gs>
              <a:gs pos="100000">
                <a:srgbClr val="a8b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16406d"/>
              </a:gs>
              <a:gs pos="100000">
                <a:srgbClr val="2364ab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7" name="Arc 6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8" name="Arc 7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2c37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79" name="Arc 8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0" name="Arc 9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320"/>
              <a:gd name="textAreaBottom" fmla="*/ 1417680 h 1417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1" name="Arc 10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2" name="Freeform 11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a8ba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grpSp>
        <p:nvGrpSpPr>
          <p:cNvPr id="184" name="Group 13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185" name="Arc 14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sp>
          <p:nvSpPr>
            <p:cNvPr id="186" name="Freeform 15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  <p:sp>
          <p:nvSpPr>
            <p:cNvPr id="187" name="Freeform 16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a8babc"/>
                </a:solidFill>
                <a:latin typeface="Times New Roman"/>
              </a:endParaRPr>
            </a:p>
          </p:txBody>
        </p:sp>
      </p:grpSp>
      <p:sp>
        <p:nvSpPr>
          <p:cNvPr id="188" name="Freeform 17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9fa4b8"/>
              </a:gs>
              <a:gs pos="100000">
                <a:srgbClr val="2c37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89" name="Arc 18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>
              <a:gd name="textAreaLeft" fmla="*/ 0 w 2905200"/>
              <a:gd name="textAreaRight" fmla="*/ 2905200 w 2905200"/>
              <a:gd name="textAreaTop" fmla="*/ 0 h 1397160"/>
              <a:gd name="textAreaBottom" fmla="*/ 1397520 h 1397160"/>
            </a:gdLst>
            <a:ahLst/>
            <a:rect l="textAreaLeft" t="textAreaTop" r="textAreaRight" b="textAreaBottom"/>
            <a:pathLst>
              <a:path fill="none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</a:path>
              <a:path stroke="0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  <a:lnTo>
                  <a:pt x="0" y="0"/>
                </a:ln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1" name="Oval 20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19528b"/>
              </a:gs>
              <a:gs pos="50000">
                <a:srgbClr val="c7d5e3"/>
              </a:gs>
              <a:gs pos="100000">
                <a:srgbClr val="19528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2" name="Oval 21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3" name="AutoShape 22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4" name="AutoShape 23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5" name="AutoShape 24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6" name="AutoShape 25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a8bab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www.pptbz.com</dc:creator>
  <dc:description/>
  <dc:language>en-US</dc:language>
  <cp:lastModifiedBy>a</cp:lastModifiedBy>
  <dcterms:modified xsi:type="dcterms:W3CDTF">2015-07-25T12:05:16Z</dcterms:modified>
  <cp:revision>41</cp:revision>
  <dc:subject/>
  <dc:title>040TGp_time_mono</dc:title>
</cp:coreProperties>
</file>