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6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A7CF-9B28-4482-98BC-9683E940D87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BFF5-9C86-4CB2-8E8B-0C827214733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47A9-BFD2-444B-B29D-65F92168F13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灯片编号占位符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F801-FACB-4A1D-A33C-3B0400E1D74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CAF5-9659-476E-B470-1C2B4222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D5B-5B5D-4327-ADC9-5ED9B25C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2BB-FC81-421A-AA47-7BA1E54B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2200-EE20-4240-ABF3-E162FC35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097C-147C-4D75-A507-D7AB2214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9A7-D785-47E6-8CFE-7919FC86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411-A497-4943-99F4-99B37C9E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A13-D1CC-48B0-B1E3-EF1E743D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721C-7676-4B39-9714-C2B98072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293A-1578-43B0-A0AF-CDE4DF2D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859-1190-44DE-8817-C6B7E126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78C7-3C9D-4078-B67D-A9BB906E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DCAC-2A65-4A80-84F5-093EA0FC95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5"/>
          <p:cNvSpPr/>
          <p:nvPr/>
        </p:nvSpPr>
        <p:spPr>
          <a:xfrm>
            <a:off x="7912080" y="6492960"/>
            <a:ext cx="123840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olas"/>
                <a:ea typeface="微软雅黑"/>
              </a:rPr>
              <a:t>page</a:t>
            </a:r>
            <a:fld id="{4F170E0D-1E05-47B9-A604-BC837E02CCC9}" type="slidenum">
              <a:rPr b="0" lang="zh-CN" sz="1400" spc="-1" strike="noStrike">
                <a:solidFill>
                  <a:srgbClr val="ffffff"/>
                </a:solidFill>
                <a:latin typeface="Consolas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0" y="6492960"/>
            <a:ext cx="6443640" cy="3906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8"/>
          <p:cNvSpPr/>
          <p:nvPr/>
        </p:nvSpPr>
        <p:spPr>
          <a:xfrm>
            <a:off x="-6480" y="189000"/>
            <a:ext cx="54000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6432480" y="642636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Users\dowin\Desktop\stock-proce-toda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5"/>
          <p:cNvSpPr/>
          <p:nvPr/>
        </p:nvSpPr>
        <p:spPr>
          <a:xfrm>
            <a:off x="7912080" y="6492960"/>
            <a:ext cx="123840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olas"/>
                <a:ea typeface="微软雅黑"/>
              </a:rPr>
              <a:t>page</a:t>
            </a:r>
            <a:fld id="{9491CCB0-FE5C-4B21-8711-DF2A3C7F4B65}" type="slidenum">
              <a:rPr b="0" lang="zh-CN" sz="1400" spc="-1" strike="noStrike">
                <a:solidFill>
                  <a:srgbClr val="ffffff"/>
                </a:solidFill>
                <a:latin typeface="Consolas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4"/>
          <p:cNvSpPr/>
          <p:nvPr/>
        </p:nvSpPr>
        <p:spPr>
          <a:xfrm>
            <a:off x="6443640" y="6492960"/>
            <a:ext cx="1468440" cy="39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5"/>
          <p:cNvSpPr/>
          <p:nvPr/>
        </p:nvSpPr>
        <p:spPr>
          <a:xfrm>
            <a:off x="0" y="6492960"/>
            <a:ext cx="6443640" cy="3906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6"/>
          <p:cNvSpPr/>
          <p:nvPr/>
        </p:nvSpPr>
        <p:spPr>
          <a:xfrm>
            <a:off x="-6480" y="189000"/>
            <a:ext cx="54000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3"/>
          <p:cNvSpPr/>
          <p:nvPr/>
        </p:nvSpPr>
        <p:spPr>
          <a:xfrm>
            <a:off x="-6480" y="639720"/>
            <a:ext cx="540000" cy="358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7912080" y="6492960"/>
            <a:ext cx="12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onsolas"/>
                <a:ea typeface="微软雅黑"/>
              </a:rPr>
              <a:t>page</a:t>
            </a:r>
            <a:fld id="{BF85A17F-E1BB-4A83-B72D-8C0DA7E2B171}" type="slidenum">
              <a:rPr b="0" lang="zh-CN" sz="1400" spc="-1" strike="noStrike">
                <a:solidFill>
                  <a:srgbClr val="262626"/>
                </a:solidFill>
                <a:latin typeface="Consolas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-6480" y="6492960"/>
            <a:ext cx="6450120" cy="3906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6432480" y="642636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7912080" y="6492960"/>
            <a:ext cx="123840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olas"/>
                <a:ea typeface="微软雅黑"/>
              </a:rPr>
              <a:t>page</a:t>
            </a:r>
            <a:fld id="{56C2CCA7-910E-40FF-9E1D-8616DEC84F11}" type="slidenum">
              <a:rPr b="0" lang="zh-CN" sz="1400" spc="-1" strike="noStrike">
                <a:solidFill>
                  <a:srgbClr val="ffffff"/>
                </a:solidFill>
                <a:latin typeface="Consolas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4"/>
          <p:cNvSpPr/>
          <p:nvPr/>
        </p:nvSpPr>
        <p:spPr>
          <a:xfrm>
            <a:off x="0" y="6492960"/>
            <a:ext cx="6443640" cy="3906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5"/>
          <p:cNvSpPr/>
          <p:nvPr/>
        </p:nvSpPr>
        <p:spPr>
          <a:xfrm>
            <a:off x="-6480" y="189000"/>
            <a:ext cx="54000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6432480" y="642636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C:\Users\dowin\Desktop\stock-proce-today.jpg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8920" y="981000"/>
            <a:ext cx="7993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洁箭头金融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免费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639360"/>
            <a:ext cx="81532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OUTL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圆角矩形 3"/>
          <p:cNvSpPr/>
          <p:nvPr/>
        </p:nvSpPr>
        <p:spPr>
          <a:xfrm>
            <a:off x="2711520" y="2103480"/>
            <a:ext cx="4680000" cy="676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圆角矩形 4"/>
          <p:cNvSpPr/>
          <p:nvPr/>
        </p:nvSpPr>
        <p:spPr>
          <a:xfrm>
            <a:off x="1547640" y="2847960"/>
            <a:ext cx="648000" cy="673200"/>
          </a:xfrm>
          <a:custGeom>
            <a:avLst/>
            <a:gdLst>
              <a:gd name="textAreaLeft" fmla="*/ 31320 w 648000"/>
              <a:gd name="textAreaRight" fmla="*/ 616680 w 648000"/>
              <a:gd name="textAreaTop" fmla="*/ 31320 h 673200"/>
              <a:gd name="textAreaBottom" fmla="*/ 641880 h 673200"/>
            </a:gdLst>
            <a:ahLst/>
            <a:rect l="textAreaLeft" t="textAreaTop" r="textAreaRight" b="textAreaBottom"/>
            <a:pathLst>
              <a:path w="21600" h="22440">
                <a:moveTo>
                  <a:pt x="3600" y="0"/>
                </a:moveTo>
                <a:arcTo wR="3600" hR="3600" stAng="16200000" swAng="-5400000"/>
                <a:lnTo>
                  <a:pt x="0" y="18840"/>
                </a:lnTo>
                <a:arcTo wR="3600" hR="3600" stAng="10800000" swAng="-5400000"/>
                <a:lnTo>
                  <a:pt x="18000" y="224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圆角矩形 5"/>
          <p:cNvSpPr/>
          <p:nvPr/>
        </p:nvSpPr>
        <p:spPr>
          <a:xfrm>
            <a:off x="2711520" y="2879640"/>
            <a:ext cx="4680000" cy="676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圆角矩形 6"/>
          <p:cNvSpPr/>
          <p:nvPr/>
        </p:nvSpPr>
        <p:spPr>
          <a:xfrm>
            <a:off x="2711520" y="3633840"/>
            <a:ext cx="4680000" cy="6760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圆角矩形 7"/>
          <p:cNvSpPr/>
          <p:nvPr/>
        </p:nvSpPr>
        <p:spPr>
          <a:xfrm>
            <a:off x="1547640" y="2108160"/>
            <a:ext cx="648000" cy="671400"/>
          </a:xfrm>
          <a:custGeom>
            <a:avLst/>
            <a:gdLst>
              <a:gd name="textAreaLeft" fmla="*/ 31320 w 648000"/>
              <a:gd name="textAreaRight" fmla="*/ 616680 w 648000"/>
              <a:gd name="textAreaTop" fmla="*/ 31320 h 671400"/>
              <a:gd name="textAreaBottom" fmla="*/ 640080 h 671400"/>
            </a:gdLst>
            <a:ahLst/>
            <a:rect l="textAreaLeft" t="textAreaTop" r="textAreaRight" b="textAreaBottom"/>
            <a:pathLst>
              <a:path w="21600" h="22380">
                <a:moveTo>
                  <a:pt x="3600" y="0"/>
                </a:moveTo>
                <a:arcTo wR="3600" hR="3600" stAng="16200000" swAng="-5400000"/>
                <a:lnTo>
                  <a:pt x="0" y="18780"/>
                </a:lnTo>
                <a:arcTo wR="3600" hR="3600" stAng="10800000" swAng="-5400000"/>
                <a:lnTo>
                  <a:pt x="18000" y="223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圆角矩形 8"/>
          <p:cNvSpPr/>
          <p:nvPr/>
        </p:nvSpPr>
        <p:spPr>
          <a:xfrm>
            <a:off x="1547640" y="3638520"/>
            <a:ext cx="648000" cy="673200"/>
          </a:xfrm>
          <a:custGeom>
            <a:avLst/>
            <a:gdLst>
              <a:gd name="textAreaLeft" fmla="*/ 31320 w 648000"/>
              <a:gd name="textAreaRight" fmla="*/ 616680 w 648000"/>
              <a:gd name="textAreaTop" fmla="*/ 31320 h 673200"/>
              <a:gd name="textAreaBottom" fmla="*/ 641880 h 673200"/>
            </a:gdLst>
            <a:ahLst/>
            <a:rect l="textAreaLeft" t="textAreaTop" r="textAreaRight" b="textAreaBottom"/>
            <a:pathLst>
              <a:path w="21600" h="22440">
                <a:moveTo>
                  <a:pt x="3600" y="0"/>
                </a:moveTo>
                <a:arcTo wR="3600" hR="3600" stAng="16200000" swAng="-5400000"/>
                <a:lnTo>
                  <a:pt x="0" y="18840"/>
                </a:lnTo>
                <a:arcTo wR="3600" hR="3600" stAng="10800000" swAng="-5400000"/>
                <a:lnTo>
                  <a:pt x="18000" y="224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圆角矩形 9"/>
          <p:cNvSpPr/>
          <p:nvPr/>
        </p:nvSpPr>
        <p:spPr>
          <a:xfrm>
            <a:off x="2697120" y="4424400"/>
            <a:ext cx="4680000" cy="6760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圆角矩形 10"/>
          <p:cNvSpPr/>
          <p:nvPr/>
        </p:nvSpPr>
        <p:spPr>
          <a:xfrm>
            <a:off x="1547640" y="4429080"/>
            <a:ext cx="648000" cy="673200"/>
          </a:xfrm>
          <a:custGeom>
            <a:avLst/>
            <a:gdLst>
              <a:gd name="textAreaLeft" fmla="*/ 31320 w 648000"/>
              <a:gd name="textAreaRight" fmla="*/ 616680 w 648000"/>
              <a:gd name="textAreaTop" fmla="*/ 31320 h 673200"/>
              <a:gd name="textAreaBottom" fmla="*/ 641880 h 673200"/>
            </a:gdLst>
            <a:ahLst/>
            <a:rect l="textAreaLeft" t="textAreaTop" r="textAreaRight" b="textAreaBottom"/>
            <a:pathLst>
              <a:path w="21600" h="22440">
                <a:moveTo>
                  <a:pt x="3600" y="0"/>
                </a:moveTo>
                <a:arcTo wR="3600" hR="3600" stAng="16200000" swAng="-5400000"/>
                <a:lnTo>
                  <a:pt x="0" y="18840"/>
                </a:lnTo>
                <a:arcTo wR="3600" hR="3600" stAng="10800000" swAng="-5400000"/>
                <a:lnTo>
                  <a:pt x="18000" y="224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圆角矩形 11"/>
          <p:cNvSpPr/>
          <p:nvPr/>
        </p:nvSpPr>
        <p:spPr>
          <a:xfrm>
            <a:off x="2711520" y="5199120"/>
            <a:ext cx="4680000" cy="6760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圆角矩形 12"/>
          <p:cNvSpPr/>
          <p:nvPr/>
        </p:nvSpPr>
        <p:spPr>
          <a:xfrm>
            <a:off x="1562040" y="5203800"/>
            <a:ext cx="647640" cy="6732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73200"/>
              <a:gd name="textAreaBottom" fmla="*/ 641880 h 673200"/>
            </a:gdLst>
            <a:ahLst/>
            <a:rect l="textAreaLeft" t="textAreaTop" r="textAreaRight" b="textAreaBottom"/>
            <a:pathLst>
              <a:path w="21600" h="22452">
                <a:moveTo>
                  <a:pt x="3600" y="0"/>
                </a:moveTo>
                <a:arcTo wR="3600" hR="3600" stAng="16200000" swAng="-5400000"/>
                <a:lnTo>
                  <a:pt x="0" y="18852"/>
                </a:lnTo>
                <a:arcTo wR="3600" hR="3600" stAng="10800000" swAng="-5400000"/>
                <a:lnTo>
                  <a:pt x="18000" y="224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椭圆 18"/>
          <p:cNvSpPr/>
          <p:nvPr/>
        </p:nvSpPr>
        <p:spPr>
          <a:xfrm>
            <a:off x="2340000" y="1844640"/>
            <a:ext cx="4608360" cy="41054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4"/>
          <p:cNvSpPr/>
          <p:nvPr/>
        </p:nvSpPr>
        <p:spPr>
          <a:xfrm>
            <a:off x="500040" y="90792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任意多边形 8"/>
          <p:cNvSpPr/>
          <p:nvPr/>
        </p:nvSpPr>
        <p:spPr>
          <a:xfrm>
            <a:off x="3821040" y="1557360"/>
            <a:ext cx="1509840" cy="1517760"/>
          </a:xfrm>
          <a:custGeom>
            <a:avLst/>
            <a:gdLst/>
            <a:ahLst/>
            <a:rect l="l" t="t" r="r" b="b"/>
            <a:pathLst>
              <a:path w="1068585" h="1068585">
                <a:moveTo>
                  <a:pt x="0" y="534293"/>
                </a:moveTo>
                <a:cubicBezTo>
                  <a:pt x="0" y="239211"/>
                  <a:pt x="239211" y="0"/>
                  <a:pt x="534293" y="0"/>
                </a:cubicBezTo>
                <a:cubicBezTo>
                  <a:pt x="829375" y="0"/>
                  <a:pt x="1068586" y="239211"/>
                  <a:pt x="1068586" y="534293"/>
                </a:cubicBezTo>
                <a:cubicBezTo>
                  <a:pt x="1068586" y="829375"/>
                  <a:pt x="829375" y="1068586"/>
                  <a:pt x="534293" y="1068586"/>
                </a:cubicBezTo>
                <a:cubicBezTo>
                  <a:pt x="239211" y="1068586"/>
                  <a:pt x="0" y="829375"/>
                  <a:pt x="0" y="534293"/>
                </a:cubicBez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5400" rIns="185400" tIns="185400" bIns="18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任意多边形 10"/>
          <p:cNvSpPr/>
          <p:nvPr/>
        </p:nvSpPr>
        <p:spPr>
          <a:xfrm>
            <a:off x="5511960" y="2401920"/>
            <a:ext cx="1508040" cy="1519200"/>
          </a:xfrm>
          <a:custGeom>
            <a:avLst/>
            <a:gdLst/>
            <a:ahLst/>
            <a:rect l="l" t="t" r="r" b="b"/>
            <a:pathLst>
              <a:path w="1068585" h="1068585">
                <a:moveTo>
                  <a:pt x="0" y="534293"/>
                </a:moveTo>
                <a:cubicBezTo>
                  <a:pt x="0" y="239211"/>
                  <a:pt x="239211" y="0"/>
                  <a:pt x="534293" y="0"/>
                </a:cubicBezTo>
                <a:cubicBezTo>
                  <a:pt x="829375" y="0"/>
                  <a:pt x="1068586" y="239211"/>
                  <a:pt x="1068586" y="534293"/>
                </a:cubicBezTo>
                <a:cubicBezTo>
                  <a:pt x="1068586" y="829375"/>
                  <a:pt x="829375" y="1068586"/>
                  <a:pt x="534293" y="1068586"/>
                </a:cubicBezTo>
                <a:cubicBezTo>
                  <a:pt x="239211" y="1068586"/>
                  <a:pt x="0" y="829375"/>
                  <a:pt x="0" y="534293"/>
                </a:cubicBez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5400" rIns="185400" tIns="185400" bIns="18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任意多边形 12"/>
          <p:cNvSpPr/>
          <p:nvPr/>
        </p:nvSpPr>
        <p:spPr>
          <a:xfrm>
            <a:off x="3821040" y="4791240"/>
            <a:ext cx="1509840" cy="1517400"/>
          </a:xfrm>
          <a:custGeom>
            <a:avLst/>
            <a:gdLst/>
            <a:ahLst/>
            <a:rect l="l" t="t" r="r" b="b"/>
            <a:pathLst>
              <a:path w="1068585" h="1068585">
                <a:moveTo>
                  <a:pt x="0" y="534293"/>
                </a:moveTo>
                <a:cubicBezTo>
                  <a:pt x="0" y="239211"/>
                  <a:pt x="239211" y="0"/>
                  <a:pt x="534293" y="0"/>
                </a:cubicBezTo>
                <a:cubicBezTo>
                  <a:pt x="829375" y="0"/>
                  <a:pt x="1068586" y="239211"/>
                  <a:pt x="1068586" y="534293"/>
                </a:cubicBezTo>
                <a:cubicBezTo>
                  <a:pt x="1068586" y="829375"/>
                  <a:pt x="829375" y="1068586"/>
                  <a:pt x="534293" y="1068586"/>
                </a:cubicBezTo>
                <a:cubicBezTo>
                  <a:pt x="239211" y="1068586"/>
                  <a:pt x="0" y="829375"/>
                  <a:pt x="0" y="534293"/>
                </a:cubicBez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5400" rIns="185400" tIns="185400" bIns="18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任意多边形 14"/>
          <p:cNvSpPr/>
          <p:nvPr/>
        </p:nvSpPr>
        <p:spPr>
          <a:xfrm>
            <a:off x="2124000" y="2401920"/>
            <a:ext cx="1508040" cy="1519200"/>
          </a:xfrm>
          <a:custGeom>
            <a:avLst/>
            <a:gdLst/>
            <a:ahLst/>
            <a:rect l="l" t="t" r="r" b="b"/>
            <a:pathLst>
              <a:path w="1068585" h="1068585">
                <a:moveTo>
                  <a:pt x="0" y="534293"/>
                </a:moveTo>
                <a:cubicBezTo>
                  <a:pt x="0" y="239211"/>
                  <a:pt x="239211" y="0"/>
                  <a:pt x="534293" y="0"/>
                </a:cubicBezTo>
                <a:cubicBezTo>
                  <a:pt x="829375" y="0"/>
                  <a:pt x="1068586" y="239211"/>
                  <a:pt x="1068586" y="534293"/>
                </a:cubicBezTo>
                <a:cubicBezTo>
                  <a:pt x="1068586" y="829375"/>
                  <a:pt x="829375" y="1068586"/>
                  <a:pt x="534293" y="1068586"/>
                </a:cubicBezTo>
                <a:cubicBezTo>
                  <a:pt x="239211" y="1068586"/>
                  <a:pt x="0" y="829375"/>
                  <a:pt x="0" y="534293"/>
                </a:cubicBez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5400" rIns="185400" tIns="185400" bIns="18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任意多边形 15"/>
          <p:cNvSpPr/>
          <p:nvPr/>
        </p:nvSpPr>
        <p:spPr>
          <a:xfrm>
            <a:off x="5511960" y="4162320"/>
            <a:ext cx="1508040" cy="1517760"/>
          </a:xfrm>
          <a:custGeom>
            <a:avLst/>
            <a:gdLst/>
            <a:ahLst/>
            <a:rect l="l" t="t" r="r" b="b"/>
            <a:pathLst>
              <a:path w="1068585" h="1068585">
                <a:moveTo>
                  <a:pt x="0" y="534293"/>
                </a:moveTo>
                <a:cubicBezTo>
                  <a:pt x="0" y="239211"/>
                  <a:pt x="239211" y="0"/>
                  <a:pt x="534293" y="0"/>
                </a:cubicBezTo>
                <a:cubicBezTo>
                  <a:pt x="829375" y="0"/>
                  <a:pt x="1068586" y="239211"/>
                  <a:pt x="1068586" y="534293"/>
                </a:cubicBezTo>
                <a:cubicBezTo>
                  <a:pt x="1068586" y="829375"/>
                  <a:pt x="829375" y="1068586"/>
                  <a:pt x="534293" y="1068586"/>
                </a:cubicBezTo>
                <a:cubicBezTo>
                  <a:pt x="239211" y="1068586"/>
                  <a:pt x="0" y="829375"/>
                  <a:pt x="0" y="534293"/>
                </a:cubicBez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5400" rIns="185400" tIns="185400" bIns="18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任意多边形 16"/>
          <p:cNvSpPr/>
          <p:nvPr/>
        </p:nvSpPr>
        <p:spPr>
          <a:xfrm>
            <a:off x="2124000" y="4162320"/>
            <a:ext cx="1508040" cy="1517760"/>
          </a:xfrm>
          <a:custGeom>
            <a:avLst/>
            <a:gdLst/>
            <a:ahLst/>
            <a:rect l="l" t="t" r="r" b="b"/>
            <a:pathLst>
              <a:path w="1068585" h="1068585">
                <a:moveTo>
                  <a:pt x="0" y="534293"/>
                </a:moveTo>
                <a:cubicBezTo>
                  <a:pt x="0" y="239211"/>
                  <a:pt x="239211" y="0"/>
                  <a:pt x="534293" y="0"/>
                </a:cubicBezTo>
                <a:cubicBezTo>
                  <a:pt x="829375" y="0"/>
                  <a:pt x="1068586" y="239211"/>
                  <a:pt x="1068586" y="534293"/>
                </a:cubicBezTo>
                <a:cubicBezTo>
                  <a:pt x="1068586" y="829375"/>
                  <a:pt x="829375" y="1068586"/>
                  <a:pt x="534293" y="1068586"/>
                </a:cubicBezTo>
                <a:cubicBezTo>
                  <a:pt x="239211" y="1068586"/>
                  <a:pt x="0" y="829375"/>
                  <a:pt x="0" y="534293"/>
                </a:cubicBez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5400" rIns="185400" tIns="185400" bIns="18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19"/>
          <p:cNvSpPr/>
          <p:nvPr/>
        </p:nvSpPr>
        <p:spPr>
          <a:xfrm>
            <a:off x="3924360" y="37893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08:26:58Z</dcterms:created>
  <dc:creator>Shines</dc:creator>
  <dc:description/>
  <dc:language>en-US</dc:language>
  <cp:lastModifiedBy>王玉清</cp:lastModifiedBy>
  <cp:lastPrinted>2011-09-29T06:35:48Z</cp:lastPrinted>
  <dcterms:modified xsi:type="dcterms:W3CDTF">2016-02-15T03:52:46Z</dcterms:modified>
  <cp:revision>109</cp:revision>
  <dc:subject/>
  <dc:title>中国个人理财发展趋势</dc:title>
</cp:coreProperties>
</file>