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D0A-7CFD-4673-9B45-C3D650F3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074-08D8-4223-A085-9F80B1A3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695-EB24-44B4-BDBF-2833C1A5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6B4-51DD-4343-9D0D-CA839E0F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8DF1-7B35-4A5D-911F-7B5A7B73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A239-B6A7-4B30-8B34-5143FBF9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5DD4-C876-475F-8186-8A857B09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92F7-11AD-4ED7-A6B4-E8C73376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635E-178F-475A-B5DD-24AE2EAE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78280" y="115560"/>
            <a:ext cx="4114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5C14-5C58-4700-99FC-430556CC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E6D1-87A7-403C-81FB-7A2B0010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93F-55A6-46A7-B872-DE36EF89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4435-9D24-486D-A0D0-C029BBA2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8EAF-57A8-4475-8F22-FB6AE792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6908-BA71-406E-89C7-6F28F358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4EE7-885E-4830-97F3-59A50C68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BC63-1069-4801-ACC6-B6576525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FE3-FB7F-4AEE-B0BC-82B0F073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AD4-07EB-422D-A7F5-9EDF9724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565-A988-4045-8ECC-066911AD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778280" y="115560"/>
            <a:ext cx="4114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970-B470-4A90-BF7A-4F35BCEF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ED22-B72A-4BED-9F0C-564E69B6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24C-39D6-4927-9740-E72E916F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CA1-CD10-4D0E-9C4F-0781871C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762B-EC9D-48E0-85A3-A103094FD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963720" y="108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公司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图片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1926-12A6-4BCB-985A-1B774082C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1760" y="404640"/>
            <a:ext cx="8424720" cy="172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精美的互联网主题商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56000" y="3805920"/>
            <a:ext cx="2663640" cy="9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WordArt 4" descr=""/>
          <p:cNvPicPr/>
          <p:nvPr/>
        </p:nvPicPr>
        <p:blipFill>
          <a:blip r:embed="rId1"/>
          <a:stretch/>
        </p:blipFill>
        <p:spPr>
          <a:xfrm>
            <a:off x="2657520" y="3005280"/>
            <a:ext cx="3852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1:56:06Z</dcterms:created>
  <dc:creator>slybyc</dc:creator>
  <dc:description/>
  <dc:language>en-US</dc:language>
  <cp:lastModifiedBy>a</cp:lastModifiedBy>
  <dcterms:modified xsi:type="dcterms:W3CDTF">2015-07-25T08:00:57Z</dcterms:modified>
  <cp:revision>78</cp:revision>
  <dc:subject/>
  <dc:title>幻灯片 1</dc:title>
</cp:coreProperties>
</file>