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745-150B-46B1-B66E-6865CB2A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00F-2277-4314-BA17-FC219C1A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5E9-AA49-493F-BF96-13C7E04E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A14-F990-4CF2-892B-6A8F4F1F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653-41D8-4886-A40E-42D67EE2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6F7-397F-4F85-83CC-4C15C04B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FFB-8CC9-4C3A-A83E-395F1FA3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849-1E02-48CF-A12D-39684453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9BA-09D4-4019-81A9-8B541941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463-E1AD-4AF2-9216-4E25CA0A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FFF-2988-4D45-AC1C-47D9B398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055-A4A0-44C7-9CA9-483F41AF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02D2-DEC4-405F-8BBA-44F9DBB09AC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7374-7F78-4C70-A989-CD16CFBE86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528920"/>
            <a:ext cx="9434520" cy="6564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3822480" cy="4471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-7920" y="-166680"/>
            <a:ext cx="9151920" cy="1508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5"/>
          <a:stretch/>
        </p:blipFill>
        <p:spPr>
          <a:xfrm>
            <a:off x="0" y="-385920"/>
            <a:ext cx="9144000" cy="1710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2870280" y="111456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家庭生活通用</a:t>
            </a:r>
            <a:r>
              <a:rPr b="1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34920" y="-385920"/>
            <a:ext cx="1438200" cy="7243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1528920"/>
            <a:ext cx="9434520" cy="6564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1698480" y="2197080"/>
            <a:ext cx="3822480" cy="447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4"/>
          <a:stretch/>
        </p:blipFill>
        <p:spPr>
          <a:xfrm>
            <a:off x="-7920" y="-166680"/>
            <a:ext cx="9151920" cy="150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6"/>
          <a:stretch/>
        </p:blipFill>
        <p:spPr>
          <a:xfrm>
            <a:off x="0" y="-385920"/>
            <a:ext cx="9144000" cy="1710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31600" y="2062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心家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4432320" y="6292800"/>
            <a:ext cx="11174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34920" y="-385920"/>
            <a:ext cx="1438200" cy="7243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-7920" y="-166680"/>
            <a:ext cx="9151920" cy="1508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0" y="-385920"/>
            <a:ext cx="9144000" cy="1710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831600" y="2062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心家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5"/>
          <a:stretch/>
        </p:blipFill>
        <p:spPr>
          <a:xfrm>
            <a:off x="-52560" y="3216240"/>
            <a:ext cx="9239400" cy="5010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1T03:31:01Z</dcterms:modified>
  <cp:revision>4</cp:revision>
  <dc:subject/>
  <dc:title>www.1ppt.com</dc:title>
</cp:coreProperties>
</file>