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405-AF58-4FA6-97D7-E0E9221D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9FA-C526-4428-9752-F45BAF45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F1A0C-94E5-4A69-A920-170F24EC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C57D0-F254-4DDF-9300-930BFC66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CEB82-2EEB-40DE-B613-A5D7363E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0DD05-38AB-478C-AF57-940033F2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ABFD4-2E76-410C-91F4-4F48DBFD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C871F-2DFC-4D88-894C-40BE5E72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C9AED-8285-424D-A1BC-74832ED6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26A39-C191-48C4-8B56-212E00B0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D4839-76E2-4537-84FF-D2975EF0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19D32-BA05-4AA6-80BC-8F951C27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E38-FFC3-4C9D-892D-01DE1B80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FD18F-9A25-4737-A435-0C7B1659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5887C-C419-4F23-8ADA-C40C4BBB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31DC5-EACF-4982-B094-D4BE84F9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93A38-691E-412E-9D84-F6CA1008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A6768-9FC3-49BE-B692-A4C6277B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6AADF-05F0-440D-B0A8-F58617D9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7B2A0-7A79-48B4-9B69-13781E97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DDF6E-69EE-479E-B9E7-89554614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C6B8E-87FB-4779-8F80-F0654A6E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94059-45B3-47FD-881A-413BEB8A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B0B-C491-4409-8C1A-DF1A722F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2D090-FA31-42C0-AF0C-BF7524D4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9E1A5-4315-460B-80EE-B6677EA5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1B597-94E3-4DDD-BC77-AAA245A6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84602-B3A0-4298-9013-481AC585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B03E7-B6B8-4919-8200-2594525A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EA6D4-AA94-4696-9148-04F0B3F7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E1765-B630-4A7B-8D36-1A2AAA9C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2C580-170A-4A62-824A-E3D8B2B0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25A38-3AB4-4FE3-92C7-1351962A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EB21A-4927-41EA-881D-1C625002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144E-3740-4A32-843A-03AA0F8C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8ECF0-778B-4B7C-B22C-7B9CA4AA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CCF72-81CE-4FC9-9F08-DC9B3B10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906D0-FFEA-4FF3-AE70-E04A2F07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B560A-81C3-4A9A-8C56-7670EDFF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4DADB-83F4-48C6-86ED-047525AD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18EE5-26CE-42B1-B21C-0923AD93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A8D19-A572-4A7C-873C-83249EA4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9921D-789E-4CCA-9689-61942CE7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FE3F2-691A-484A-ACC0-FABA13B6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57299-819F-4A67-85E7-B9D37EB2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E230-E547-4368-80E0-72E0005A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1A690-DC07-4EC9-BC83-2286AA54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AE0C0-93E1-41D6-AAEA-CE8D74D1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DB37A-97C7-4EE3-A0F9-529A2293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2620A-3D06-46BD-A811-26ACA253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09B89-7E88-4089-87A2-98F34AEB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2829D-3895-4482-A8C6-5D0152A4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6EA94-5710-4818-834C-6C71A53D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D3BF7-E771-4C48-BA60-133B0BE4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919D7-E543-4302-B73A-7E73FF9B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E6BEC-019F-4064-8423-227E900A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1B82-2D0B-4DB2-8E91-88FCAD86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4230A-F9DB-496C-B42F-73AD1710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D1EB6-949F-4A7C-B5A0-23324A40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3F173-158B-4BB0-A349-C26AF8D4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69CD8-9BDE-46D1-BA06-53D53AF5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E819E-C393-469B-A0C6-EC057A95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C3E28-B694-4E33-8522-CB549AC2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F5B31-2BF2-4D76-9CBA-BA7642C3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EC7C-D218-427A-B9B0-B8FEA0BA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F5A2-F1CF-4544-A704-636A2A08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EADE-BCA2-433F-AB19-816607DF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5B68-FC9C-417F-A2EA-D31AA5C0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AC6-CCF6-4592-915E-73D66EB5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D89D-BCC5-4120-84C9-4EB704F8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A86B-96C3-4179-BAD6-68879139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173F-90C6-454F-8456-C7CB521F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6766-6D1F-4153-8BA3-6143718A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5F41-A247-407D-9FEB-1024AFB7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13DEE-84AC-4BEB-8AFC-E131D903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3C2B-8C04-41FD-9490-DD611578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4D3C-4D64-44FD-928D-1510B980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2C3A-5D2B-4881-8A2C-CEF783F4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32B4-47D5-4B69-BF2E-57B2FC40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971-95D3-418F-B1A3-D79C9445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1C1F-A122-487E-9A12-B823F71D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5957-6535-46EC-9E2A-B7F7C3F4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5621-F725-4002-B96B-F62F4E57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F5A30-D64B-497B-B959-5A42B100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E481A-EF3F-4CF4-BFD7-A3D96F4C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9F1E4-989B-4ABB-99F3-528BA746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E9EFD-DF1D-4073-8FCC-92B05336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5B390-1F02-422E-97A3-A64801B0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48778-EA62-4858-895C-875EDE16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38973-0E61-4559-81EA-A0701CE7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632-917A-4CC7-B94D-F6655706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EDB49-2043-496A-9500-1EF0ED61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C794F-7975-4F59-9332-712C3CED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BB339-68E8-4C48-A32A-FCFA1B7A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72A4A-E727-4A88-A4C2-B2D943BE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372F7-BA05-416D-ABF1-2CBC66DF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8148E-34CD-4DC7-BA4D-FAD50DDF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B54C-88CA-41AC-B46A-F5728729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51008-2CD3-4C5C-B038-91C0D990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BEB0B-3667-4C10-BF55-0ECC1068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0E975-F980-4EBD-8E75-E16E9233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A1A-2A17-4B58-A070-F05B4DAE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D2C09-3040-4CEB-AFC9-3992DAC5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11A2D-9275-4B5B-9699-50698F60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2EC40-58C6-48A2-ADE0-6839815B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A8AD3-1021-42B3-B341-053525B8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14876-191D-4A9F-9CD0-EC590DD0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10018-9DE0-4032-80FC-6251291B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B4251-DB86-4E22-9933-4781E9EB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ADA11-B8D1-4506-94F0-0149804C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74866-ECAC-40E3-BA6A-5A6BFF39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E1F94-7F1C-4ED7-9F7E-390FB771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B84-1A7F-4774-8C33-7F05D171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562BF-67B2-49B6-8794-8630912F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C5A10-91D9-4740-967B-BF8A4A02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6C14A-E86C-416C-A87E-D705717A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A7C55-E818-404B-9E6F-F754FC15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143F1-3EC4-4152-982C-3DD15C48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603E7-CAAC-4F0B-A129-A3A2C354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384E9-4C17-4FE4-8B17-30C8DB37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8AECD-39C1-4BE5-BE2B-79709949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2FC46-4D51-416F-8420-6DC39A91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D119C-A794-419E-9F14-9EDF7E81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E40-69B0-4E80-BD50-CF3CD351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5147A-3AD8-47DD-88DB-F93E69FE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E977E-42E3-4211-83B7-79109BD9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832DA-2760-4E23-8554-E8C54415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C50B1-0877-4B5B-A966-C09ECCA4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63188-4776-4030-B778-31473767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AEB08-7B8C-4FE3-B991-78C2A42F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1D6A9-92C9-4904-A9D4-E495CF83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059A9-023F-489A-AC50-180A5CEC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DB007-AADF-476F-B1D7-8E8B16AB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5DFE0-C588-4AFF-A124-B2316658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A65-9B13-4A91-8118-7C54DAD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67931-8D87-40E6-99E2-8B3A2450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A90B8-C987-47AB-92AB-4F1F0257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7164D-4617-4605-8961-E46FE98D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2C6A3-F7FC-4AC4-82CD-85FDD07A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1B18F-5C49-45A1-9B63-047D99B8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E3671-4A2E-4C84-BB8B-B845C204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17F2E-126E-422E-A79F-67FE8CC7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F70E3-D00E-4754-BCA9-BF177820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C440A-96C3-4C4D-BC90-7220ED7F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0E4F9-259C-43CA-B6A3-B0191D68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020-C31D-430B-8F58-29D33C08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03B86-D113-4AC7-902B-7CC78D4B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68516-4E88-4CAA-90A7-17F67CA5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477B7-7EC9-49AE-A894-A7B8A20A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0FF68-DCB7-4600-97AB-345E1C09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83057-F2EA-4ED1-88F3-6A90BA46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2B5FB-51F4-4202-9FD8-E4F7E946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0A416-6BB6-43B4-895A-03AC671D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D6CBA-FF80-4C7B-985F-6538C8CB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A851D-FEFA-461D-AEF0-7C2FBB29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4989B-25D1-47A0-8F5F-99BD641B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6330-1C57-499A-BFBE-292A4660CE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2D2A-D09D-40F0-9A2B-304972995C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E4C6-BD38-40E0-B6AF-705CA8CD19C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828A-297E-4453-9AA2-22656965F5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A2FF-4646-41D1-B2B1-595DDD3DED5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DBED-4949-4BE4-A450-4E6C1393AD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3B20-E3C5-4570-9E6B-25EE81FC4DB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AF78-0BF9-4331-ACD5-3C92570127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6B53-430F-455A-836E-8920E632466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3"/>
          <a:srcRect l="0" t="80627" r="0" b="12309"/>
          <a:stretch/>
        </p:blipFill>
        <p:spPr>
          <a:xfrm>
            <a:off x="1440" y="6373800"/>
            <a:ext cx="9144000" cy="484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"/>
          <p:cNvPicPr/>
          <p:nvPr/>
        </p:nvPicPr>
        <p:blipFill>
          <a:blip r:embed="rId4"/>
          <a:srcRect l="0" t="0" r="95087" b="94740"/>
          <a:stretch/>
        </p:blipFill>
        <p:spPr>
          <a:xfrm>
            <a:off x="-30240" y="-23760"/>
            <a:ext cx="444600" cy="3571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5"/>
          <p:cNvGrpSpPr/>
          <p:nvPr/>
        </p:nvGrpSpPr>
        <p:grpSpPr>
          <a:xfrm>
            <a:off x="8518680" y="588960"/>
            <a:ext cx="554040" cy="554040"/>
            <a:chOff x="8518680" y="588960"/>
            <a:chExt cx="554040" cy="554040"/>
          </a:xfrm>
        </p:grpSpPr>
        <p:pic>
          <p:nvPicPr>
            <p:cNvPr id="45" name="图片 10" descr=""/>
            <p:cNvPicPr/>
            <p:nvPr/>
          </p:nvPicPr>
          <p:blipFill>
            <a:blip r:embed="rId5"/>
            <a:stretch/>
          </p:blipFill>
          <p:spPr>
            <a:xfrm>
              <a:off x="8601120" y="671400"/>
              <a:ext cx="3891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1" descr=""/>
            <p:cNvPicPr/>
            <p:nvPr/>
          </p:nvPicPr>
          <p:blipFill>
            <a:blip r:embed="rId6"/>
            <a:stretch/>
          </p:blipFill>
          <p:spPr>
            <a:xfrm>
              <a:off x="8518680" y="588960"/>
              <a:ext cx="55404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Group 8"/>
          <p:cNvGrpSpPr/>
          <p:nvPr/>
        </p:nvGrpSpPr>
        <p:grpSpPr>
          <a:xfrm>
            <a:off x="8663040" y="-198360"/>
            <a:ext cx="725400" cy="722160"/>
            <a:chOff x="8663040" y="-198360"/>
            <a:chExt cx="725400" cy="722160"/>
          </a:xfrm>
        </p:grpSpPr>
        <p:pic>
          <p:nvPicPr>
            <p:cNvPr id="48" name="图片 13" descr=""/>
            <p:cNvPicPr/>
            <p:nvPr/>
          </p:nvPicPr>
          <p:blipFill>
            <a:blip r:embed="rId7"/>
            <a:stretch/>
          </p:blipFill>
          <p:spPr>
            <a:xfrm>
              <a:off x="8800200" y="-64080"/>
              <a:ext cx="45072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14" descr=""/>
            <p:cNvPicPr/>
            <p:nvPr/>
          </p:nvPicPr>
          <p:blipFill>
            <a:blip r:embed="rId8"/>
            <a:stretch/>
          </p:blipFill>
          <p:spPr>
            <a:xfrm>
              <a:off x="8663040" y="-198360"/>
              <a:ext cx="725400" cy="72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Group 11"/>
          <p:cNvGrpSpPr/>
          <p:nvPr/>
        </p:nvGrpSpPr>
        <p:grpSpPr>
          <a:xfrm>
            <a:off x="8055000" y="33480"/>
            <a:ext cx="725400" cy="726840"/>
            <a:chOff x="8055000" y="33480"/>
            <a:chExt cx="725400" cy="726840"/>
          </a:xfrm>
        </p:grpSpPr>
        <p:pic>
          <p:nvPicPr>
            <p:cNvPr id="51" name="图片 16" descr=""/>
            <p:cNvPicPr/>
            <p:nvPr/>
          </p:nvPicPr>
          <p:blipFill>
            <a:blip r:embed="rId9"/>
            <a:stretch/>
          </p:blipFill>
          <p:spPr>
            <a:xfrm>
              <a:off x="8172000" y="147960"/>
              <a:ext cx="491040" cy="49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7" descr=""/>
            <p:cNvPicPr/>
            <p:nvPr/>
          </p:nvPicPr>
          <p:blipFill>
            <a:blip r:embed="rId10"/>
            <a:stretch/>
          </p:blipFill>
          <p:spPr>
            <a:xfrm>
              <a:off x="8055000" y="33480"/>
              <a:ext cx="725400" cy="72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图片 18" descr=""/>
          <p:cNvPicPr/>
          <p:nvPr/>
        </p:nvPicPr>
        <p:blipFill>
          <a:blip r:embed="rId11"/>
          <a:srcRect l="0" t="0" r="0" b="95002"/>
          <a:stretch/>
        </p:blipFill>
        <p:spPr>
          <a:xfrm>
            <a:off x="36360" y="6515280"/>
            <a:ext cx="9144000" cy="3427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9" descr=""/>
          <p:cNvPicPr/>
          <p:nvPr/>
        </p:nvPicPr>
        <p:blipFill>
          <a:blip r:embed="rId12"/>
          <a:srcRect l="4999" t="45430" r="45791" b="37916"/>
          <a:stretch/>
        </p:blipFill>
        <p:spPr>
          <a:xfrm>
            <a:off x="4067280" y="6545160"/>
            <a:ext cx="1234800" cy="312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5825-B224-4B8A-ABC7-9A056FE479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91ED-74AE-44E8-9A70-CC6FC8EFD5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6BB9-6242-4A07-9884-03F68AB883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AC53-0C72-4F90-8381-40564BADF2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AD34-DEE0-438B-9981-6EBB9014EAA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F111-7746-49ED-A8AA-A520D88CA1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5236-4085-4B37-ACDF-60E1AB09C62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00FC-F450-4320-B60C-A2F8E88274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2011-78FB-492C-9F43-6EDA557D61D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FF26-0B46-46FD-9EF9-9E9D85A33C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5506-0DE2-4AFD-A7E6-9D5E9FD4DD0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5084-F213-491D-A27F-AFB7FB3D48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C703-C0A7-4820-9251-CE7C1E3A04E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9A13-0C21-4840-8300-67E4D6C421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3265-C3E7-431D-89A7-782E3F1B2EB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7.png"/><Relationship Id="rId10" Type="http://schemas.openxmlformats.org/officeDocument/2006/relationships/image" Target="../media/image15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hyperlink" Target="http://www.eeppt.com/" TargetMode="External"/><Relationship Id="rId7" Type="http://schemas.openxmlformats.org/officeDocument/2006/relationships/hyperlink" Target="http://www.eeppt.com/" TargetMode="External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6" descr=""/>
          <p:cNvPicPr/>
          <p:nvPr/>
        </p:nvPicPr>
        <p:blipFill>
          <a:blip r:embed="rId2"/>
          <a:srcRect l="47032" t="53548" r="24847" b="35625"/>
          <a:stretch/>
        </p:blipFill>
        <p:spPr>
          <a:xfrm>
            <a:off x="6262560" y="4179960"/>
            <a:ext cx="1636920" cy="4730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7" descr=""/>
          <p:cNvPicPr/>
          <p:nvPr/>
        </p:nvPicPr>
        <p:blipFill>
          <a:blip r:embed="rId3"/>
          <a:srcRect l="47033" t="44170" r="24843" b="44793"/>
          <a:stretch/>
        </p:blipFill>
        <p:spPr>
          <a:xfrm>
            <a:off x="3892680" y="4175280"/>
            <a:ext cx="1635120" cy="4809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8" descr=""/>
          <p:cNvPicPr/>
          <p:nvPr/>
        </p:nvPicPr>
        <p:blipFill>
          <a:blip r:embed="rId4"/>
          <a:srcRect l="4677" t="44948" r="58874" b="37635"/>
          <a:stretch/>
        </p:blipFill>
        <p:spPr>
          <a:xfrm>
            <a:off x="3844800" y="2181240"/>
            <a:ext cx="4687920" cy="1679400"/>
          </a:xfrm>
          <a:prstGeom prst="rect">
            <a:avLst/>
          </a:prstGeom>
          <a:ln w="0">
            <a:noFill/>
          </a:ln>
        </p:spPr>
      </p:pic>
      <p:grpSp>
        <p:nvGrpSpPr>
          <p:cNvPr id="552" name="Group 7"/>
          <p:cNvGrpSpPr/>
          <p:nvPr/>
        </p:nvGrpSpPr>
        <p:grpSpPr>
          <a:xfrm>
            <a:off x="665280" y="3851280"/>
            <a:ext cx="1234800" cy="1233360"/>
            <a:chOff x="665280" y="3851280"/>
            <a:chExt cx="1234800" cy="1233360"/>
          </a:xfrm>
        </p:grpSpPr>
        <p:pic>
          <p:nvPicPr>
            <p:cNvPr id="553" name="图片 10" descr=""/>
            <p:cNvPicPr/>
            <p:nvPr/>
          </p:nvPicPr>
          <p:blipFill>
            <a:blip r:embed="rId5"/>
            <a:stretch/>
          </p:blipFill>
          <p:spPr>
            <a:xfrm>
              <a:off x="848880" y="4034520"/>
              <a:ext cx="86760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图片 11" descr=""/>
            <p:cNvPicPr/>
            <p:nvPr/>
          </p:nvPicPr>
          <p:blipFill>
            <a:blip r:embed="rId6"/>
            <a:stretch/>
          </p:blipFill>
          <p:spPr>
            <a:xfrm>
              <a:off x="665280" y="3851280"/>
              <a:ext cx="1234800" cy="12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Group 10"/>
          <p:cNvGrpSpPr/>
          <p:nvPr/>
        </p:nvGrpSpPr>
        <p:grpSpPr>
          <a:xfrm>
            <a:off x="1079640" y="2016000"/>
            <a:ext cx="1620720" cy="1619280"/>
            <a:chOff x="1079640" y="2016000"/>
            <a:chExt cx="1620720" cy="1619280"/>
          </a:xfrm>
        </p:grpSpPr>
        <p:pic>
          <p:nvPicPr>
            <p:cNvPr id="556" name="图片 13" descr=""/>
            <p:cNvPicPr/>
            <p:nvPr/>
          </p:nvPicPr>
          <p:blipFill>
            <a:blip r:embed="rId7"/>
            <a:stretch/>
          </p:blipFill>
          <p:spPr>
            <a:xfrm>
              <a:off x="1386360" y="2316960"/>
              <a:ext cx="10069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图片 14" descr=""/>
            <p:cNvPicPr/>
            <p:nvPr/>
          </p:nvPicPr>
          <p:blipFill>
            <a:blip r:embed="rId8"/>
            <a:stretch/>
          </p:blipFill>
          <p:spPr>
            <a:xfrm>
              <a:off x="1079640" y="2016000"/>
              <a:ext cx="1620720" cy="16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Group 13"/>
          <p:cNvGrpSpPr/>
          <p:nvPr/>
        </p:nvGrpSpPr>
        <p:grpSpPr>
          <a:xfrm>
            <a:off x="-333360" y="2597040"/>
            <a:ext cx="1616040" cy="1621080"/>
            <a:chOff x="-333360" y="2597040"/>
            <a:chExt cx="1616040" cy="1621080"/>
          </a:xfrm>
        </p:grpSpPr>
        <p:pic>
          <p:nvPicPr>
            <p:cNvPr id="559" name="图片 16" descr=""/>
            <p:cNvPicPr/>
            <p:nvPr/>
          </p:nvPicPr>
          <p:blipFill>
            <a:blip r:embed="rId9"/>
            <a:stretch/>
          </p:blipFill>
          <p:spPr>
            <a:xfrm>
              <a:off x="-72000" y="2852640"/>
              <a:ext cx="109368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图片 17" descr=""/>
            <p:cNvPicPr/>
            <p:nvPr/>
          </p:nvPicPr>
          <p:blipFill>
            <a:blip r:embed="rId10"/>
            <a:stretch/>
          </p:blipFill>
          <p:spPr>
            <a:xfrm>
              <a:off x="-333360" y="2597040"/>
              <a:ext cx="1616040" cy="162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1" name="图片 18" descr=""/>
          <p:cNvPicPr/>
          <p:nvPr/>
        </p:nvPicPr>
        <p:blipFill>
          <a:blip r:embed="rId11"/>
          <a:srcRect l="4677" t="44948" r="58874" b="37635"/>
          <a:stretch/>
        </p:blipFill>
        <p:spPr>
          <a:xfrm>
            <a:off x="3844800" y="2181240"/>
            <a:ext cx="4687920" cy="1679400"/>
          </a:xfrm>
          <a:prstGeom prst="rect">
            <a:avLst/>
          </a:prstGeom>
          <a:ln w="0">
            <a:noFill/>
          </a:ln>
        </p:spPr>
      </p:pic>
      <p:sp>
        <p:nvSpPr>
          <p:cNvPr id="562" name="矩形 1"/>
          <p:cNvSpPr/>
          <p:nvPr/>
        </p:nvSpPr>
        <p:spPr>
          <a:xfrm>
            <a:off x="2146680" y="2016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机械创意酷炫动态</a:t>
            </a: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760">
                                      <p:cBhvr>
                                        <p:cTn id="15" dur="5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760">
                                      <p:cBhvr>
                                        <p:cTn id="19" dur="5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3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2" dur="200" fill="hold"/>
                                        <p:tgtEl>
                                          <p:spTgt spid="551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4" descr=""/>
          <p:cNvPicPr/>
          <p:nvPr/>
        </p:nvPicPr>
        <p:blipFill>
          <a:blip r:embed="rId1"/>
          <a:stretch/>
        </p:blipFill>
        <p:spPr>
          <a:xfrm>
            <a:off x="1757520" y="1959120"/>
            <a:ext cx="998280" cy="998280"/>
          </a:xfrm>
          <a:prstGeom prst="rect">
            <a:avLst/>
          </a:prstGeom>
          <a:ln w="0">
            <a:noFill/>
          </a:ln>
        </p:spPr>
      </p:pic>
      <p:sp>
        <p:nvSpPr>
          <p:cNvPr id="565" name="TextBox 5"/>
          <p:cNvSpPr/>
          <p:nvPr/>
        </p:nvSpPr>
        <p:spPr>
          <a:xfrm>
            <a:off x="2039760" y="207324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图片 6" descr=""/>
          <p:cNvPicPr/>
          <p:nvPr/>
        </p:nvPicPr>
        <p:blipFill>
          <a:blip r:embed="rId2"/>
          <a:stretch/>
        </p:blipFill>
        <p:spPr>
          <a:xfrm>
            <a:off x="1757520" y="3151080"/>
            <a:ext cx="998280" cy="998640"/>
          </a:xfrm>
          <a:prstGeom prst="rect">
            <a:avLst/>
          </a:prstGeom>
          <a:ln w="0">
            <a:noFill/>
          </a:ln>
        </p:spPr>
      </p:pic>
      <p:sp>
        <p:nvSpPr>
          <p:cNvPr id="567" name="TextBox 7"/>
          <p:cNvSpPr/>
          <p:nvPr/>
        </p:nvSpPr>
        <p:spPr>
          <a:xfrm>
            <a:off x="2039760" y="326556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图片 10" descr=""/>
          <p:cNvPicPr/>
          <p:nvPr/>
        </p:nvPicPr>
        <p:blipFill>
          <a:blip r:embed="rId3"/>
          <a:stretch/>
        </p:blipFill>
        <p:spPr>
          <a:xfrm>
            <a:off x="1773360" y="4302000"/>
            <a:ext cx="998280" cy="998640"/>
          </a:xfrm>
          <a:prstGeom prst="rect">
            <a:avLst/>
          </a:prstGeom>
          <a:ln w="0">
            <a:noFill/>
          </a:ln>
        </p:spPr>
      </p:pic>
      <p:sp>
        <p:nvSpPr>
          <p:cNvPr id="569" name="TextBox 11"/>
          <p:cNvSpPr/>
          <p:nvPr/>
        </p:nvSpPr>
        <p:spPr>
          <a:xfrm>
            <a:off x="2055960" y="4416480"/>
            <a:ext cx="4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13"/>
          <p:cNvSpPr/>
          <p:nvPr/>
        </p:nvSpPr>
        <p:spPr>
          <a:xfrm>
            <a:off x="488880" y="217440"/>
            <a:ext cx="17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14"/>
          <p:cNvSpPr/>
          <p:nvPr/>
        </p:nvSpPr>
        <p:spPr>
          <a:xfrm>
            <a:off x="2987640" y="2195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15"/>
          <p:cNvSpPr/>
          <p:nvPr/>
        </p:nvSpPr>
        <p:spPr>
          <a:xfrm>
            <a:off x="2987640" y="33876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6"/>
          <p:cNvSpPr/>
          <p:nvPr/>
        </p:nvSpPr>
        <p:spPr>
          <a:xfrm>
            <a:off x="2987640" y="45385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760">
                                      <p:cBhvr>
                                        <p:cTn id="55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760">
                                      <p:cBhvr>
                                        <p:cTn id="77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5"/>
          <p:cNvSpPr/>
          <p:nvPr/>
        </p:nvSpPr>
        <p:spPr>
          <a:xfrm>
            <a:off x="344520" y="262080"/>
            <a:ext cx="22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图片 6" descr=""/>
          <p:cNvPicPr/>
          <p:nvPr/>
        </p:nvPicPr>
        <p:blipFill>
          <a:blip r:embed="rId1"/>
          <a:stretch/>
        </p:blipFill>
        <p:spPr>
          <a:xfrm>
            <a:off x="2044800" y="3068640"/>
            <a:ext cx="1000080" cy="998640"/>
          </a:xfrm>
          <a:prstGeom prst="rect">
            <a:avLst/>
          </a:prstGeom>
          <a:ln w="0">
            <a:noFill/>
          </a:ln>
        </p:spPr>
      </p:pic>
      <p:sp>
        <p:nvSpPr>
          <p:cNvPr id="576" name="TextBox 7"/>
          <p:cNvSpPr/>
          <p:nvPr/>
        </p:nvSpPr>
        <p:spPr>
          <a:xfrm>
            <a:off x="2328840" y="31827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8"/>
          <p:cNvSpPr/>
          <p:nvPr/>
        </p:nvSpPr>
        <p:spPr>
          <a:xfrm>
            <a:off x="3276720" y="33066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760">
                                      <p:cBhvr>
                                        <p:cTn id="96" dur="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5"/>
          <p:cNvSpPr/>
          <p:nvPr/>
        </p:nvSpPr>
        <p:spPr>
          <a:xfrm>
            <a:off x="344520" y="262080"/>
            <a:ext cx="22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图片 6" descr=""/>
          <p:cNvPicPr/>
          <p:nvPr/>
        </p:nvPicPr>
        <p:blipFill>
          <a:blip r:embed="rId1"/>
          <a:stretch/>
        </p:blipFill>
        <p:spPr>
          <a:xfrm>
            <a:off x="2044800" y="3068640"/>
            <a:ext cx="1000080" cy="9986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7"/>
          <p:cNvSpPr/>
          <p:nvPr/>
        </p:nvSpPr>
        <p:spPr>
          <a:xfrm>
            <a:off x="2328840" y="31827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8"/>
          <p:cNvSpPr/>
          <p:nvPr/>
        </p:nvSpPr>
        <p:spPr>
          <a:xfrm>
            <a:off x="3276720" y="33066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760">
                                      <p:cBhvr>
                                        <p:cTn id="115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1"/>
          <p:cNvSpPr/>
          <p:nvPr/>
        </p:nvSpPr>
        <p:spPr>
          <a:xfrm>
            <a:off x="344520" y="262080"/>
            <a:ext cx="22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2"/>
          <p:cNvSpPr/>
          <p:nvPr/>
        </p:nvSpPr>
        <p:spPr>
          <a:xfrm>
            <a:off x="2343240" y="2239920"/>
            <a:ext cx="48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具体说明            点击添加具体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椭圆 3"/>
          <p:cNvSpPr/>
          <p:nvPr/>
        </p:nvSpPr>
        <p:spPr>
          <a:xfrm>
            <a:off x="2700360" y="1903320"/>
            <a:ext cx="3959280" cy="3961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饼形 4"/>
          <p:cNvSpPr/>
          <p:nvPr/>
        </p:nvSpPr>
        <p:spPr>
          <a:xfrm>
            <a:off x="2700360" y="1903320"/>
            <a:ext cx="3959280" cy="3961080"/>
          </a:xfrm>
          <a:custGeom>
            <a:avLst/>
            <a:gdLst/>
            <a:ahLst/>
            <a:rect l="l" t="t" r="r" b="b"/>
            <a:pathLst>
              <a:path w="3960440" h="3960440">
                <a:moveTo>
                  <a:pt x="108517" y="2626748"/>
                </a:moveTo>
                <a:cubicBezTo>
                  <a:pt x="-76475" y="2091194"/>
                  <a:pt x="-23193" y="1502050"/>
                  <a:pt x="254882" y="1008376"/>
                </a:cubicBezTo>
                <a:cubicBezTo>
                  <a:pt x="532957" y="514702"/>
                  <a:pt x="1009185" y="163793"/>
                  <a:pt x="1563075" y="44435"/>
                </a:cubicBezTo>
                <a:lnTo>
                  <a:pt x="1980220" y="1980220"/>
                </a:lnTo>
                <a:lnTo>
                  <a:pt x="108517" y="2626748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5"/>
          <p:cNvSpPr/>
          <p:nvPr/>
        </p:nvSpPr>
        <p:spPr>
          <a:xfrm>
            <a:off x="344520" y="262080"/>
            <a:ext cx="22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6"/>
          <p:cNvSpPr/>
          <p:nvPr/>
        </p:nvSpPr>
        <p:spPr>
          <a:xfrm>
            <a:off x="742320" y="3164040"/>
            <a:ext cx="1400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矩形 7"/>
          <p:cNvSpPr/>
          <p:nvPr/>
        </p:nvSpPr>
        <p:spPr>
          <a:xfrm>
            <a:off x="7151040" y="3164040"/>
            <a:ext cx="1400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3" descr=""/>
          <p:cNvPicPr/>
          <p:nvPr/>
        </p:nvPicPr>
        <p:blipFill>
          <a:blip r:embed="rId1"/>
          <a:srcRect l="47502" t="38545" r="45626" b="14167"/>
          <a:stretch/>
        </p:blipFill>
        <p:spPr>
          <a:xfrm>
            <a:off x="4427640" y="2133720"/>
            <a:ext cx="628560" cy="324324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4" descr=""/>
          <p:cNvPicPr/>
          <p:nvPr/>
        </p:nvPicPr>
        <p:blipFill>
          <a:blip r:embed="rId2"/>
          <a:srcRect l="47502" t="38545" r="45626" b="14167"/>
          <a:stretch/>
        </p:blipFill>
        <p:spPr>
          <a:xfrm>
            <a:off x="5259240" y="3905280"/>
            <a:ext cx="628920" cy="147168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5" descr=""/>
          <p:cNvPicPr/>
          <p:nvPr/>
        </p:nvPicPr>
        <p:blipFill>
          <a:blip r:embed="rId3"/>
          <a:srcRect l="47502" t="38545" r="45626" b="14167"/>
          <a:stretch/>
        </p:blipFill>
        <p:spPr>
          <a:xfrm>
            <a:off x="6151680" y="2897280"/>
            <a:ext cx="628560" cy="247968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6" descr=""/>
          <p:cNvPicPr/>
          <p:nvPr/>
        </p:nvPicPr>
        <p:blipFill>
          <a:blip r:embed="rId4"/>
          <a:srcRect l="47502" t="38545" r="45626" b="14167"/>
          <a:stretch/>
        </p:blipFill>
        <p:spPr>
          <a:xfrm>
            <a:off x="6932520" y="3618000"/>
            <a:ext cx="628920" cy="175896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7" descr=""/>
          <p:cNvPicPr/>
          <p:nvPr/>
        </p:nvPicPr>
        <p:blipFill>
          <a:blip r:embed="rId5"/>
          <a:srcRect l="47502" t="38545" r="45626" b="14167"/>
          <a:stretch/>
        </p:blipFill>
        <p:spPr>
          <a:xfrm>
            <a:off x="7807320" y="3354480"/>
            <a:ext cx="628560" cy="2022480"/>
          </a:xfrm>
          <a:prstGeom prst="rect">
            <a:avLst/>
          </a:prstGeom>
          <a:ln w="0">
            <a:noFill/>
          </a:ln>
        </p:spPr>
      </p:pic>
      <p:sp>
        <p:nvSpPr>
          <p:cNvPr id="594" name="TextBox 9"/>
          <p:cNvSpPr/>
          <p:nvPr/>
        </p:nvSpPr>
        <p:spPr>
          <a:xfrm>
            <a:off x="344520" y="262080"/>
            <a:ext cx="22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10"/>
          <p:cNvSpPr/>
          <p:nvPr/>
        </p:nvSpPr>
        <p:spPr>
          <a:xfrm>
            <a:off x="1108800" y="305280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说明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358920" y="6435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图片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3"/>
          <p:cNvGrpSpPr/>
          <p:nvPr/>
        </p:nvGrpSpPr>
        <p:grpSpPr>
          <a:xfrm>
            <a:off x="665280" y="3851280"/>
            <a:ext cx="1234800" cy="1233360"/>
            <a:chOff x="665280" y="3851280"/>
            <a:chExt cx="1234800" cy="1233360"/>
          </a:xfrm>
        </p:grpSpPr>
        <p:pic>
          <p:nvPicPr>
            <p:cNvPr id="599" name="图片 10" descr=""/>
            <p:cNvPicPr/>
            <p:nvPr/>
          </p:nvPicPr>
          <p:blipFill>
            <a:blip r:embed="rId2"/>
            <a:stretch/>
          </p:blipFill>
          <p:spPr>
            <a:xfrm>
              <a:off x="848880" y="4034520"/>
              <a:ext cx="86760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图片 11" descr=""/>
            <p:cNvPicPr/>
            <p:nvPr/>
          </p:nvPicPr>
          <p:blipFill>
            <a:blip r:embed="rId3"/>
            <a:stretch/>
          </p:blipFill>
          <p:spPr>
            <a:xfrm>
              <a:off x="665280" y="3851280"/>
              <a:ext cx="1234800" cy="12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1" name="Group 6"/>
          <p:cNvGrpSpPr/>
          <p:nvPr/>
        </p:nvGrpSpPr>
        <p:grpSpPr>
          <a:xfrm>
            <a:off x="1079640" y="2016000"/>
            <a:ext cx="1620720" cy="1619280"/>
            <a:chOff x="1079640" y="2016000"/>
            <a:chExt cx="1620720" cy="1619280"/>
          </a:xfrm>
        </p:grpSpPr>
        <p:pic>
          <p:nvPicPr>
            <p:cNvPr id="602" name="图片 13" descr=""/>
            <p:cNvPicPr/>
            <p:nvPr/>
          </p:nvPicPr>
          <p:blipFill>
            <a:blip r:embed="rId4"/>
            <a:stretch/>
          </p:blipFill>
          <p:spPr>
            <a:xfrm>
              <a:off x="1386360" y="2316960"/>
              <a:ext cx="10069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图片 14" descr=""/>
            <p:cNvPicPr/>
            <p:nvPr/>
          </p:nvPicPr>
          <p:blipFill>
            <a:blip r:embed="rId5"/>
            <a:stretch/>
          </p:blipFill>
          <p:spPr>
            <a:xfrm>
              <a:off x="1079640" y="2016000"/>
              <a:ext cx="1620720" cy="16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9"/>
          <p:cNvGrpSpPr/>
          <p:nvPr/>
        </p:nvGrpSpPr>
        <p:grpSpPr>
          <a:xfrm>
            <a:off x="-333360" y="2597040"/>
            <a:ext cx="1616040" cy="1621080"/>
            <a:chOff x="-333360" y="2597040"/>
            <a:chExt cx="1616040" cy="1621080"/>
          </a:xfrm>
        </p:grpSpPr>
        <p:pic>
          <p:nvPicPr>
            <p:cNvPr id="605" name="图片 16" descr=""/>
            <p:cNvPicPr/>
            <p:nvPr/>
          </p:nvPicPr>
          <p:blipFill>
            <a:blip r:embed="rId6"/>
            <a:stretch/>
          </p:blipFill>
          <p:spPr>
            <a:xfrm>
              <a:off x="-72000" y="2852640"/>
              <a:ext cx="1093680" cy="11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图片 17" descr=""/>
            <p:cNvPicPr/>
            <p:nvPr/>
          </p:nvPicPr>
          <p:blipFill>
            <a:blip r:embed="rId7"/>
            <a:stretch/>
          </p:blipFill>
          <p:spPr>
            <a:xfrm>
              <a:off x="-333360" y="2597040"/>
              <a:ext cx="1616040" cy="162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7" name="图片 1" descr=""/>
          <p:cNvPicPr/>
          <p:nvPr/>
        </p:nvPicPr>
        <p:blipFill>
          <a:blip r:embed="rId8"/>
          <a:srcRect l="5171" t="46592" r="53752" b="38498"/>
          <a:stretch/>
        </p:blipFill>
        <p:spPr>
          <a:xfrm>
            <a:off x="5442120" y="3054240"/>
            <a:ext cx="3395520" cy="102240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18" descr=""/>
          <p:cNvPicPr/>
          <p:nvPr/>
        </p:nvPicPr>
        <p:blipFill>
          <a:blip r:embed="rId9"/>
          <a:srcRect l="5173" t="43578" r="41251" b="38507"/>
          <a:stretch/>
        </p:blipFill>
        <p:spPr>
          <a:xfrm>
            <a:off x="3348000" y="2852640"/>
            <a:ext cx="2082960" cy="52380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19" descr=""/>
          <p:cNvPicPr/>
          <p:nvPr/>
        </p:nvPicPr>
        <p:blipFill>
          <a:blip r:embed="rId10"/>
          <a:srcRect l="5171" t="53014" r="75156" b="31628"/>
          <a:stretch/>
        </p:blipFill>
        <p:spPr>
          <a:xfrm>
            <a:off x="3489480" y="3384720"/>
            <a:ext cx="1800000" cy="83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760">
                                      <p:cBhvr>
                                        <p:cTn id="177" dur="5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5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760">
                                      <p:cBhvr>
                                        <p:cTn id="181" dur="5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8:28:07Z</dcterms:created>
  <dc:creator>Administrator</dc:creator>
  <dc:description/>
  <cp:keywords/>
  <dc:language>en-US</dc:language>
  <cp:lastModifiedBy>王玉清</cp:lastModifiedBy>
  <dcterms:modified xsi:type="dcterms:W3CDTF">2016-02-19T07:11:13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