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45D5-A7BD-422D-B073-6ACE32DD4E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宝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_www.pptbz.com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提供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339-A0B2-4DF5-B563-B8B4844F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A36-8AC8-4969-A10D-9A34EFEB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D0F-7DB7-452F-B27B-2DA29217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D6C-FAE0-444D-82E3-8D487B7F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E4E-711D-4DC0-AC30-8188152F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656-2003-4208-AA01-13DF643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7D8-A7F3-48DA-AB41-2773A997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0EB-EC1E-4830-BFFF-B1CB08A0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609-CE8F-4B24-8386-8F14CC6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B81-965B-4791-880C-5D526DCF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E27-9BBD-45F8-B190-F8815C7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D25-23F2-4839-87C3-4068504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188-32BE-4833-853D-2797CD20F0E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000" y="508428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钥匙地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ppt宝藏</dc:creator>
  <dc:description/>
  <dc:language>en-US</dc:language>
  <cp:lastModifiedBy>a</cp:lastModifiedBy>
  <cp:lastPrinted>1899-12-30T00:00:00Z</cp:lastPrinted>
  <dcterms:modified xsi:type="dcterms:W3CDTF">2015-07-25T03:15:11Z</dcterms:modified>
  <cp:revision>74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