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45AB-7CCC-4572-8C0D-E6CAF402896E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9877-B9F2-4BCD-AE86-BC01376B8DE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F321CB8-FA5E-493A-A280-AA9A9232387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FF33-83D3-4324-BCC5-FE22B87CCC6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31320"/>
            <a:ext cx="85201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31320"/>
            <a:ext cx="85201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ECA7FB85-29DD-418E-932F-CA090E1C14E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1560" y="4547880"/>
            <a:ext cx="79408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Insert the title of your </a:t>
            </a:r>
            <a:br>
              <a:rPr sz="2800"/>
            </a:br>
            <a:r>
              <a:rPr b="1" sz="2800" spc="-1" strike="noStrike">
                <a:solidFill>
                  <a:srgbClr val="000000"/>
                </a:solidFill>
                <a:latin typeface="Arial"/>
              </a:rPr>
              <a:t>presentation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1200" y="5702400"/>
            <a:ext cx="79678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Logo_ptl_für schwarz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6648480" y="316080"/>
            <a:ext cx="2224080" cy="392040"/>
          </a:xfrm>
          <a:prstGeom prst="rect">
            <a:avLst/>
          </a:prstGeom>
          <a:ln w="0">
            <a:noFill/>
          </a:ln>
        </p:spPr>
      </p:pic>
      <p:sp>
        <p:nvSpPr>
          <p:cNvPr id="89" name="矩形 1"/>
          <p:cNvSpPr/>
          <p:nvPr/>
        </p:nvSpPr>
        <p:spPr>
          <a:xfrm>
            <a:off x="1910160" y="227484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创意弧形商务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31320"/>
            <a:ext cx="85201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2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6647040" y="6181560"/>
            <a:ext cx="2225520" cy="392400"/>
            <a:chOff x="6647040" y="6181560"/>
            <a:chExt cx="2225520" cy="392400"/>
          </a:xfrm>
        </p:grpSpPr>
        <p:pic>
          <p:nvPicPr>
            <p:cNvPr id="94" name="Picture 12" descr="Logo_ptl_für schwarz"/>
            <p:cNvPicPr/>
            <p:nvPr/>
          </p:nvPicPr>
          <p:blipFill>
            <a:blip r:embed="rId1"/>
            <a:stretch/>
          </p:blipFill>
          <p:spPr>
            <a:xfrm>
              <a:off x="6647040" y="6181560"/>
              <a:ext cx="2225520" cy="3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2" descr="Logo_ptl_für schwarz"/>
            <p:cNvPicPr/>
            <p:nvPr/>
          </p:nvPicPr>
          <p:blipFill>
            <a:blip r:embed="rId2"/>
            <a:srcRect l="0" t="0" r="30532" b="0"/>
            <a:stretch/>
          </p:blipFill>
          <p:spPr>
            <a:xfrm>
              <a:off x="6647040" y="6181560"/>
              <a:ext cx="1546200" cy="392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www.pptbz.com</dc:creator>
  <dc:description>PresentationLoad.com</dc:description>
  <dc:language>en-US</dc:language>
  <cp:lastModifiedBy>a</cp:lastModifiedBy>
  <dcterms:modified xsi:type="dcterms:W3CDTF">2015-07-25T12:03:20Z</dcterms:modified>
  <cp:revision>69</cp:revision>
  <dc:subject/>
  <dc:title>PowerPoint Template</dc:title>
</cp:coreProperties>
</file>