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4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51.xml" ContentType="application/vnd.openxmlformats-officedocument.theme+xml"/>
  <Override PartName="/ppt/theme/theme50.xml" ContentType="application/vnd.openxmlformats-officedocument.theme+xml"/>
  <Override PartName="/ppt/theme/theme46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9.xml" ContentType="application/vnd.openxmlformats-officedocument.theme+xml"/>
  <Override PartName="/ppt/theme/theme61.xml" ContentType="application/vnd.openxmlformats-officedocument.theme+xml"/>
  <Override PartName="/ppt/theme/theme5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18.xml" ContentType="application/vnd.openxmlformats-officedocument.theme+xml"/>
  <Override PartName="/ppt/theme/theme60.xml" ContentType="application/vnd.openxmlformats-officedocument.theme+xml"/>
  <Override PartName="/ppt/theme/theme4.xml" ContentType="application/vnd.openxmlformats-officedocument.theme+xml"/>
  <Override PartName="/ppt/theme/theme17.xml" ContentType="application/vnd.openxmlformats-officedocument.theme+xml"/>
  <Override PartName="/ppt/theme/theme67.xml" ContentType="application/vnd.openxmlformats-officedocument.theme+xml"/>
  <Override PartName="/ppt/theme/theme30.xml" ContentType="application/vnd.openxmlformats-officedocument.theme+xml"/>
  <Override PartName="/ppt/theme/theme28.xml" ContentType="application/vnd.openxmlformats-officedocument.theme+xml"/>
  <Override PartName="/ppt/theme/theme64.xml" ContentType="application/vnd.openxmlformats-officedocument.theme+xml"/>
  <Override PartName="/ppt/theme/theme66.xml" ContentType="application/vnd.openxmlformats-officedocument.theme+xml"/>
  <Override PartName="/ppt/theme/theme29.xml" ContentType="application/vnd.openxmlformats-officedocument.theme+xml"/>
  <Override PartName="/ppt/theme/theme63.xml" ContentType="application/vnd.openxmlformats-officedocument.theme+xml"/>
  <Override PartName="/ppt/theme/theme65.xml" ContentType="application/vnd.openxmlformats-officedocument.theme+xml"/>
  <Override PartName="/ppt/theme/theme16.xml" ContentType="application/vnd.openxmlformats-officedocument.theme+xml"/>
  <Override PartName="/ppt/theme/theme62.xml" ContentType="application/vnd.openxmlformats-officedocument.theme+xml"/>
  <Override PartName="/ppt/theme/theme1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20.xml" ContentType="application/vnd.openxmlformats-officedocument.theme+xml"/>
  <Override PartName="/ppt/theme/theme5.xml" ContentType="application/vnd.openxmlformats-officedocument.theme+xml"/>
  <Override PartName="/ppt/theme/theme1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263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76.jpeg" ContentType="image/jpe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75.jpeg" ContentType="image/jpeg"/>
  <Override PartName="/ppt/media/image43.png" ContentType="image/png"/>
  <Override PartName="/ppt/media/image42.png" ContentType="image/png"/>
  <Override PartName="/ppt/media/image39.wmf" ContentType="image/x-wmf"/>
  <Override PartName="/ppt/media/image38.wmf" ContentType="image/x-wmf"/>
  <Override PartName="/ppt/media/image37.wmf" ContentType="image/x-wmf"/>
  <Override PartName="/ppt/media/image36.wmf" ContentType="image/x-wmf"/>
  <Override PartName="/ppt/media/image79.png" ContentType="image/png"/>
  <Override PartName="/ppt/media/image35.wmf" ContentType="image/x-wmf"/>
  <Override PartName="/ppt/media/image34.wmf" ContentType="image/x-wmf"/>
  <Override PartName="/ppt/media/image32.png" ContentType="image/png"/>
  <Override PartName="/ppt/media/image31.png" ContentType="image/png"/>
  <Override PartName="/ppt/media/image2.jpeg" ContentType="image/jpeg"/>
  <Override PartName="/ppt/media/image30.png" ContentType="image/png"/>
  <Override PartName="/ppt/media/image14.png" ContentType="image/png"/>
  <Override PartName="/ppt/media/image20.png" ContentType="image/png"/>
  <Override PartName="/ppt/media/image57.png" ContentType="image/png"/>
  <Override PartName="/ppt/media/image22.png" ContentType="image/png"/>
  <Override PartName="/ppt/media/image59.png" ContentType="image/png"/>
  <Override PartName="/ppt/media/image58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63.png" ContentType="image/png"/>
  <Override PartName="/ppt/media/image84.jpeg" ContentType="image/jpeg"/>
  <Override PartName="/ppt/media/image78.jpeg" ContentType="image/jpeg"/>
  <Override PartName="/ppt/media/image72.png" ContentType="image/png"/>
  <Override PartName="/ppt/media/image74.jpeg" ContentType="image/jpeg"/>
  <Override PartName="/ppt/media/image73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67.png" ContentType="image/png"/>
  <Override PartName="/ppt/media/image66.png" ContentType="image/png"/>
  <Override PartName="/ppt/media/image17.png" ContentType="image/png"/>
  <Override PartName="/ppt/media/image82.png" ContentType="image/png"/>
  <Override PartName="/ppt/media/image5.png" ContentType="image/png"/>
  <Override PartName="/ppt/media/image28.png" ContentType="image/png"/>
  <Override PartName="/ppt/media/image70.png" ContentType="image/png"/>
  <Override PartName="/ppt/media/image65.png" ContentType="image/png"/>
  <Override PartName="/ppt/media/image26.png" ContentType="image/png"/>
  <Override PartName="/ppt/media/image77.jpeg" ContentType="image/jpeg"/>
  <Override PartName="/ppt/media/image64.png" ContentType="image/png"/>
  <Override PartName="/ppt/media/image10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25.wmf" ContentType="image/x-wmf"/>
  <Override PartName="/ppt/media/image68.png" ContentType="image/png"/>
  <Override PartName="/ppt/media/image8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9.png" ContentType="image/png"/>
  <Override PartName="/ppt/media/image81.png" ContentType="image/png"/>
  <Override PartName="/ppt/media/image16.png" ContentType="image/png"/>
  <Override PartName="/ppt/media/image4.png" ContentType="image/png"/>
  <Override PartName="/ppt/media/image11.png" ContentType="image/png"/>
  <Override PartName="/ppt/media/image48.png" ContentType="image/png"/>
  <Override PartName="/ppt/media/image18.png" ContentType="image/png"/>
  <Override PartName="/ppt/media/image6.png" ContentType="image/png"/>
  <Override PartName="/ppt/media/image83.png" ContentType="image/png"/>
  <Override PartName="/ppt/media/image40.wmf" ContentType="image/x-wmf"/>
  <Override PartName="/ppt/media/image19.png" ContentType="image/png"/>
  <Override PartName="/ppt/media/image41.wmf" ContentType="image/x-wmf"/>
  <Override PartName="/ppt/media/image7.png" ContentType="image/png"/>
  <Override PartName="/ppt/media/image12.png" ContentType="image/png"/>
  <Override PartName="/ppt/media/image49.png" ContentType="image/png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</p:sldMasterIdLst>
  <p:sldIdLst>
    <p:sldId id="256" r:id="rId69"/>
    <p:sldId id="257" r:id="rId70"/>
    <p:sldId id="258" r:id="rId71"/>
    <p:sldId id="259" r:id="rId72"/>
    <p:sldId id="260" r:id="rId73"/>
    <p:sldId id="261" r:id="rId74"/>
    <p:sldId id="262" r:id="rId75"/>
    <p:sldId id="263" r:id="rId76"/>
    <p:sldId id="264" r:id="rId77"/>
    <p:sldId id="265" r:id="rId78"/>
    <p:sldId id="266" r:id="rId79"/>
    <p:sldId id="267" r:id="rId80"/>
    <p:sldId id="268" r:id="rId81"/>
    <p:sldId id="269" r:id="rId82"/>
    <p:sldId id="270" r:id="rId83"/>
    <p:sldId id="271" r:id="rId84"/>
    <p:sldId id="272" r:id="rId85"/>
    <p:sldId id="273" r:id="rId86"/>
    <p:sldId id="274" r:id="rId87"/>
    <p:sldId id="275" r:id="rId88"/>
    <p:sldId id="276" r:id="rId89"/>
    <p:sldId id="277" r:id="rId90"/>
    <p:sldId id="278" r:id="rId91"/>
    <p:sldId id="279" r:id="rId92"/>
    <p:sldId id="280" r:id="rId93"/>
    <p:sldId id="281" r:id="rId94"/>
    <p:sldId id="282" r:id="rId95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" Target="slides/slide1.xml"/><Relationship Id="rId70" Type="http://schemas.openxmlformats.org/officeDocument/2006/relationships/slide" Target="slides/slide2.xml"/><Relationship Id="rId71" Type="http://schemas.openxmlformats.org/officeDocument/2006/relationships/slide" Target="slides/slide3.xml"/><Relationship Id="rId72" Type="http://schemas.openxmlformats.org/officeDocument/2006/relationships/slide" Target="slides/slide4.xml"/><Relationship Id="rId73" Type="http://schemas.openxmlformats.org/officeDocument/2006/relationships/slide" Target="slides/slide5.xml"/><Relationship Id="rId74" Type="http://schemas.openxmlformats.org/officeDocument/2006/relationships/slide" Target="slides/slide6.xml"/><Relationship Id="rId75" Type="http://schemas.openxmlformats.org/officeDocument/2006/relationships/slide" Target="slides/slide7.xml"/><Relationship Id="rId76" Type="http://schemas.openxmlformats.org/officeDocument/2006/relationships/slide" Target="slides/slide8.xml"/><Relationship Id="rId77" Type="http://schemas.openxmlformats.org/officeDocument/2006/relationships/slide" Target="slides/slide9.xml"/><Relationship Id="rId78" Type="http://schemas.openxmlformats.org/officeDocument/2006/relationships/slide" Target="slides/slide10.xml"/><Relationship Id="rId79" Type="http://schemas.openxmlformats.org/officeDocument/2006/relationships/slide" Target="slides/slide11.xml"/><Relationship Id="rId80" Type="http://schemas.openxmlformats.org/officeDocument/2006/relationships/slide" Target="slides/slide12.xml"/><Relationship Id="rId81" Type="http://schemas.openxmlformats.org/officeDocument/2006/relationships/slide" Target="slides/slide13.xml"/><Relationship Id="rId82" Type="http://schemas.openxmlformats.org/officeDocument/2006/relationships/slide" Target="slides/slide14.xml"/><Relationship Id="rId83" Type="http://schemas.openxmlformats.org/officeDocument/2006/relationships/slide" Target="slides/slide15.xml"/><Relationship Id="rId84" Type="http://schemas.openxmlformats.org/officeDocument/2006/relationships/slide" Target="slides/slide16.xml"/><Relationship Id="rId85" Type="http://schemas.openxmlformats.org/officeDocument/2006/relationships/slide" Target="slides/slide17.xml"/><Relationship Id="rId86" Type="http://schemas.openxmlformats.org/officeDocument/2006/relationships/slide" Target="slides/slide18.xml"/><Relationship Id="rId87" Type="http://schemas.openxmlformats.org/officeDocument/2006/relationships/slide" Target="slides/slide19.xml"/><Relationship Id="rId88" Type="http://schemas.openxmlformats.org/officeDocument/2006/relationships/slide" Target="slides/slide20.xml"/><Relationship Id="rId89" Type="http://schemas.openxmlformats.org/officeDocument/2006/relationships/slide" Target="slides/slide21.xml"/><Relationship Id="rId90" Type="http://schemas.openxmlformats.org/officeDocument/2006/relationships/slide" Target="slides/slide22.xml"/><Relationship Id="rId91" Type="http://schemas.openxmlformats.org/officeDocument/2006/relationships/slide" Target="slides/slide23.xml"/><Relationship Id="rId92" Type="http://schemas.openxmlformats.org/officeDocument/2006/relationships/slide" Target="slides/slide24.xml"/><Relationship Id="rId93" Type="http://schemas.openxmlformats.org/officeDocument/2006/relationships/slide" Target="slides/slide25.xml"/><Relationship Id="rId94" Type="http://schemas.openxmlformats.org/officeDocument/2006/relationships/slide" Target="slides/slide26.xml"/><Relationship Id="rId95" Type="http://schemas.openxmlformats.org/officeDocument/2006/relationships/slide" Target="slides/slide27.xml"/><Relationship Id="rId9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FF8ED-D2AD-4E6F-BAFA-AD8719E8A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0E51A-AE06-4582-8E5C-A2FAFC25B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DFE66-5416-4233-B6BF-899EB5D19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013EC-6FC6-42E1-AE41-2E0BC7861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A9A11-E290-498D-97E5-A691BADBB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315CE-9A04-41E1-8A13-D9BA2BC1D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8B517-C5BE-47EC-854D-1ECEF13B0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AC81E-5B48-4448-BD8C-226C53148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2B8E1-114B-470D-9AA3-824376A76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3D7891-05C4-41EE-9380-9206525E5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5DF33-9C04-4457-B302-BFC4302DA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68284-4853-4984-A1ED-9B84A0D7A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284EE4-889C-4A26-83CC-B82516DF4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53DFBD-6403-4D8D-9DFE-546A800A1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EBEEC-4837-44CF-908B-A0E13042B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8C0C2-CF33-426A-A28F-D293D9904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182C65-4C9B-4C92-BFFF-E067E9772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ABFDBE-B720-4195-8696-22819250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44A52B-BC33-40CB-8A1D-863F541B2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92359A-03F8-4F3C-AAC5-E68326AE7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095F3C-E1AA-4C3C-A2F6-52D300F06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F8E3D7-155C-48CE-AD61-8953A84AED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818FFE-26DF-4DDA-A568-DBE5DD662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0C7725-E641-4498-B378-31AE0EE4E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CC71F2-03AA-45F6-8E83-DFF57DBC5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97AB26-45BB-4422-AA1F-C7F740A95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40093F-9EBD-4010-BD0C-A548F174C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89FC23-FB74-4849-BB92-02221C16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D2448-0D08-4D94-9961-1FD573AA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E8F8B0-AB57-4D3D-B05F-A5A750680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6427E-D0AA-451F-831D-82001EF01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407D1-87D6-4D42-B02F-41D77156D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9AF157-CDAD-4C82-BE57-4D9C660C2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C1C392-C121-423C-A160-7465304B6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4FAEDA-DE6D-4026-B39D-59895C964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4DB613-6BB9-46A7-A294-2E595C247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5628A7-6173-4C58-814D-F28CBE91B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A40826-50C8-4E87-81D5-5D321680F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C2E006-4343-41CE-B4BF-3B76E5455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B03B0-1C6F-4333-9BE2-CE32ACF87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2CA374-7034-4C2E-90E2-9552B9693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30BFB-D6B4-41C9-A8AD-4FB0D4664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D75441-BDA2-4C02-AE47-66577B582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1E8359-A322-44FC-9F78-49C7CDE3F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A8C9E7-757B-4D42-9683-EFFCE704E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DFA3DC-D5D1-47AA-8060-B291EFC42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EAFAEB-59F4-48D8-B429-1D2FB3553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C71B52-03DA-4353-9BED-D7BF58495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CC0744-0D78-4C6C-A41B-71DA3FEE3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B14592-4709-4885-9B0D-39FFCCD5F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AF990B-1599-4054-ACE1-987A37C2D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3ACFC5-7BAD-4536-B206-504FC00BE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675480-EF1F-4D38-98BB-708D0A3FE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BA4242-CAE4-4357-B7FD-BF9403046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6E3273-0C2E-48E1-9DC1-BBE8D8DC4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1B52AE-AFB2-48F6-9ACE-A344D6453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2DC979-6069-4714-B408-63B2D453B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230B5F-4209-4DD1-9813-99D2356AEA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DDF2C6-345C-4C59-A7C5-9FD0DD154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E22D1A-C693-491F-9F21-F60C44420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831430-B0B9-430D-9ACB-44766E3B4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B91DE1-B581-4F54-A1DE-C0E5F5E95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58DE23-A358-4021-8A18-6F0B87B85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9215C4-DC12-46BF-B41B-2B8EC0B93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CBE8EF-4CCF-4FE0-9D85-1D98B0FA5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2AC3C7-F68D-4E4A-95A3-7289AFAD0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CB6C83-B155-4DA6-8A5A-04B285837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C6B563A-6F7F-48BE-87AC-D87EB017B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0912B2-7B47-4428-A103-CEFAA244E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A8D9A2-BCBA-42BD-96E6-2F0BAEE1C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B43BD9-4470-43A6-BCD7-08CA81288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5080BB-3765-4385-8DA4-5D1A84461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28122A7-D740-4952-9093-FE4F4A43E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08DEDE7-13C5-425F-8FA6-A6FE96A12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80BF57-6DB2-4C4E-A288-E3A3CBFC3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BE2A88-6797-47D2-91FD-3DB65A83B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9A44A2-ADB7-4045-88FD-5A0BB1AC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AD6F75-86CA-4F60-A921-6CB815743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FF85AB-2354-44FE-A027-9B4259A5C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791E9F-37F4-4455-B225-64AE33291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AE234B-0D5A-43D8-B284-942652960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570806-0326-44AD-9794-A1124A482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1826B3-8790-40E7-BC84-B6BED1046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C895CD7-B0DD-404D-A6D1-CF9A073AF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1968A5-EC33-4439-A278-E7942CEB7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01B0CC-9CC7-4BB4-81BA-EF0D2AD33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F07188-D885-4FBF-B2CD-C732260B8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BC52C5-A410-400F-A1A9-5B52A3AC6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2079B0-C5F6-4CB0-9581-1840A9A19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68F968-8D6E-477B-94E8-AF8831A6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F21F49-5AC9-4A17-91FD-CA3C258B3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F39D18-601D-42F9-B737-4CE02BD9B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B45FE6-EB98-4D00-87DB-C68E4FF18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169ABD-4FB3-463F-A94C-F8658B5B7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894AA2-AAB1-4301-AFB7-1D51ABF51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6BC12F-D684-4582-BE48-B2DF00F3A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3AA56D-C7E7-40AD-B960-80C2250A6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0A3244-85A5-4783-A116-B91493456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CD1DE8-CCA3-43AE-8D49-7EBAEEE83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6A0F92-F67A-44A0-A5AF-7CDA1D473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18F3F9-8C40-4BAC-89B8-8B4FDA87D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F2E708-CB18-44FA-A561-A9DAB2CC5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B53FEC-339C-4F11-9398-A691DE223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DFDD69-7A74-481C-8880-140D101D3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A272CB-66A6-4D30-8327-8E89A8470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72BCF1-11A2-4A1A-976D-D28F9A782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125D38-AFA1-4C82-91E3-8C692DFD0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005C58-2C25-4117-AF7B-14B1A1F8D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F4439C-283E-469A-BB5F-F360F1228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63E5AF-CE33-4DA7-9859-ED0601CF5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479DB8-4285-4034-8F17-080C7069C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5C0CF3-4C15-41BC-97A6-41CAAFF03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AE9B8B-1A9C-4C2B-87F0-3279FC5B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CE6676-B1DD-4D6B-B47E-E0345242A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7A7348-3DCB-44A1-BE5D-FC5FF0F83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858D7F7-83DB-4125-9177-4E9F54C71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26EE8A-5DC6-48F0-9E09-FFC838DC7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9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7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0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6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2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9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3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1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7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0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6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3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8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6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7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7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4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9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8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5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5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0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2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4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1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7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2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7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0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1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2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3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3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8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1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2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3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7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8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9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0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2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9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7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4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9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2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4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5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3B30-6F3A-4402-9712-9687B85DF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FEA5-D727-4503-A67B-C01E2CAE6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7C17-D12B-4B18-BD0E-B5F8BA134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C32B-1CAE-49A7-9EFB-05529B6A1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6FE3-B655-46A6-9BA7-3B97DB8F0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C246-ED2B-48CD-A189-2E7C6DA56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5CD7B-874D-41B3-85A3-64FC566FD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26DC-B34C-447C-9315-F8D8B52A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66C9F-20D8-4866-8E97-8AC0BD444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C9576-64DF-47DB-9089-9785CA818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BFE4-8E5B-49C0-BA33-DFA1F62D1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17E9-73FF-4CFD-9E6B-C7EBEED59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DF695-7DC2-45A5-9996-73F2A5636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A2A35-F8AD-414C-B8DB-9A7245AD3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2F547-74CF-40C6-A19D-31C7F8334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slideLayout" Target="../slideLayouts/slideLayout733.xml"/><Relationship Id="rId3" Type="http://schemas.openxmlformats.org/officeDocument/2006/relationships/slideLayout" Target="../slideLayouts/slideLayout734.xml"/><Relationship Id="rId4" Type="http://schemas.openxmlformats.org/officeDocument/2006/relationships/slideLayout" Target="../slideLayouts/slideLayout735.xml"/><Relationship Id="rId5" Type="http://schemas.openxmlformats.org/officeDocument/2006/relationships/slideLayout" Target="../slideLayouts/slideLayout736.xml"/><Relationship Id="rId6" Type="http://schemas.openxmlformats.org/officeDocument/2006/relationships/slideLayout" Target="../slideLayouts/slideLayout737.xml"/><Relationship Id="rId7" Type="http://schemas.openxmlformats.org/officeDocument/2006/relationships/slideLayout" Target="../slideLayouts/slideLayout738.xml"/><Relationship Id="rId8" Type="http://schemas.openxmlformats.org/officeDocument/2006/relationships/slideLayout" Target="../slideLayouts/slideLayout739.xml"/><Relationship Id="rId9" Type="http://schemas.openxmlformats.org/officeDocument/2006/relationships/slideLayout" Target="../slideLayouts/slideLayout740.xml"/><Relationship Id="rId10" Type="http://schemas.openxmlformats.org/officeDocument/2006/relationships/slideLayout" Target="../slideLayouts/slideLayout741.xml"/><Relationship Id="rId11" Type="http://schemas.openxmlformats.org/officeDocument/2006/relationships/slideLayout" Target="../slideLayouts/slideLayout742.xml"/><Relationship Id="rId12" Type="http://schemas.openxmlformats.org/officeDocument/2006/relationships/slideLayout" Target="../slideLayouts/slideLayout743.xml"/><Relationship Id="rId13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slideLayout" Target="../slideLayouts/slideLayout745.xml"/><Relationship Id="rId3" Type="http://schemas.openxmlformats.org/officeDocument/2006/relationships/slideLayout" Target="../slideLayouts/slideLayout746.xml"/><Relationship Id="rId4" Type="http://schemas.openxmlformats.org/officeDocument/2006/relationships/slideLayout" Target="../slideLayouts/slideLayout747.xml"/><Relationship Id="rId5" Type="http://schemas.openxmlformats.org/officeDocument/2006/relationships/slideLayout" Target="../slideLayouts/slideLayout748.xml"/><Relationship Id="rId6" Type="http://schemas.openxmlformats.org/officeDocument/2006/relationships/slideLayout" Target="../slideLayouts/slideLayout749.xml"/><Relationship Id="rId7" Type="http://schemas.openxmlformats.org/officeDocument/2006/relationships/slideLayout" Target="../slideLayouts/slideLayout750.xml"/><Relationship Id="rId8" Type="http://schemas.openxmlformats.org/officeDocument/2006/relationships/slideLayout" Target="../slideLayouts/slideLayout751.xml"/><Relationship Id="rId9" Type="http://schemas.openxmlformats.org/officeDocument/2006/relationships/slideLayout" Target="../slideLayouts/slideLayout752.xml"/><Relationship Id="rId10" Type="http://schemas.openxmlformats.org/officeDocument/2006/relationships/slideLayout" Target="../slideLayouts/slideLayout753.xml"/><Relationship Id="rId11" Type="http://schemas.openxmlformats.org/officeDocument/2006/relationships/slideLayout" Target="../slideLayouts/slideLayout754.xml"/><Relationship Id="rId12" Type="http://schemas.openxmlformats.org/officeDocument/2006/relationships/slideLayout" Target="../slideLayouts/slideLayout755.xml"/><Relationship Id="rId13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slideLayout" Target="../slideLayouts/slideLayout757.xml"/><Relationship Id="rId3" Type="http://schemas.openxmlformats.org/officeDocument/2006/relationships/slideLayout" Target="../slideLayouts/slideLayout758.xml"/><Relationship Id="rId4" Type="http://schemas.openxmlformats.org/officeDocument/2006/relationships/slideLayout" Target="../slideLayouts/slideLayout759.xml"/><Relationship Id="rId5" Type="http://schemas.openxmlformats.org/officeDocument/2006/relationships/slideLayout" Target="../slideLayouts/slideLayout760.xml"/><Relationship Id="rId6" Type="http://schemas.openxmlformats.org/officeDocument/2006/relationships/slideLayout" Target="../slideLayouts/slideLayout761.xml"/><Relationship Id="rId7" Type="http://schemas.openxmlformats.org/officeDocument/2006/relationships/slideLayout" Target="../slideLayouts/slideLayout762.xml"/><Relationship Id="rId8" Type="http://schemas.openxmlformats.org/officeDocument/2006/relationships/slideLayout" Target="../slideLayouts/slideLayout763.xml"/><Relationship Id="rId9" Type="http://schemas.openxmlformats.org/officeDocument/2006/relationships/slideLayout" Target="../slideLayouts/slideLayout764.xml"/><Relationship Id="rId10" Type="http://schemas.openxmlformats.org/officeDocument/2006/relationships/slideLayout" Target="../slideLayouts/slideLayout765.xml"/><Relationship Id="rId11" Type="http://schemas.openxmlformats.org/officeDocument/2006/relationships/slideLayout" Target="../slideLayouts/slideLayout766.xml"/><Relationship Id="rId12" Type="http://schemas.openxmlformats.org/officeDocument/2006/relationships/slideLayout" Target="../slideLayouts/slideLayout767.xml"/><Relationship Id="rId13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slideLayout" Target="../slideLayouts/slideLayout769.xml"/><Relationship Id="rId3" Type="http://schemas.openxmlformats.org/officeDocument/2006/relationships/slideLayout" Target="../slideLayouts/slideLayout770.xml"/><Relationship Id="rId4" Type="http://schemas.openxmlformats.org/officeDocument/2006/relationships/slideLayout" Target="../slideLayouts/slideLayout771.xml"/><Relationship Id="rId5" Type="http://schemas.openxmlformats.org/officeDocument/2006/relationships/slideLayout" Target="../slideLayouts/slideLayout772.xml"/><Relationship Id="rId6" Type="http://schemas.openxmlformats.org/officeDocument/2006/relationships/slideLayout" Target="../slideLayouts/slideLayout773.xml"/><Relationship Id="rId7" Type="http://schemas.openxmlformats.org/officeDocument/2006/relationships/slideLayout" Target="../slideLayouts/slideLayout774.xml"/><Relationship Id="rId8" Type="http://schemas.openxmlformats.org/officeDocument/2006/relationships/slideLayout" Target="../slideLayouts/slideLayout775.xml"/><Relationship Id="rId9" Type="http://schemas.openxmlformats.org/officeDocument/2006/relationships/slideLayout" Target="../slideLayouts/slideLayout776.xml"/><Relationship Id="rId10" Type="http://schemas.openxmlformats.org/officeDocument/2006/relationships/slideLayout" Target="../slideLayouts/slideLayout777.xml"/><Relationship Id="rId11" Type="http://schemas.openxmlformats.org/officeDocument/2006/relationships/slideLayout" Target="../slideLayouts/slideLayout778.xml"/><Relationship Id="rId12" Type="http://schemas.openxmlformats.org/officeDocument/2006/relationships/slideLayout" Target="../slideLayouts/slideLayout779.xml"/><Relationship Id="rId13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slideLayout" Target="../slideLayouts/slideLayout781.xml"/><Relationship Id="rId3" Type="http://schemas.openxmlformats.org/officeDocument/2006/relationships/slideLayout" Target="../slideLayouts/slideLayout782.xml"/><Relationship Id="rId4" Type="http://schemas.openxmlformats.org/officeDocument/2006/relationships/slideLayout" Target="../slideLayouts/slideLayout783.xml"/><Relationship Id="rId5" Type="http://schemas.openxmlformats.org/officeDocument/2006/relationships/slideLayout" Target="../slideLayouts/slideLayout784.xml"/><Relationship Id="rId6" Type="http://schemas.openxmlformats.org/officeDocument/2006/relationships/slideLayout" Target="../slideLayouts/slideLayout785.xml"/><Relationship Id="rId7" Type="http://schemas.openxmlformats.org/officeDocument/2006/relationships/slideLayout" Target="../slideLayouts/slideLayout786.xml"/><Relationship Id="rId8" Type="http://schemas.openxmlformats.org/officeDocument/2006/relationships/slideLayout" Target="../slideLayouts/slideLayout787.xml"/><Relationship Id="rId9" Type="http://schemas.openxmlformats.org/officeDocument/2006/relationships/slideLayout" Target="../slideLayouts/slideLayout788.xml"/><Relationship Id="rId10" Type="http://schemas.openxmlformats.org/officeDocument/2006/relationships/slideLayout" Target="../slideLayouts/slideLayout789.xml"/><Relationship Id="rId11" Type="http://schemas.openxmlformats.org/officeDocument/2006/relationships/slideLayout" Target="../slideLayouts/slideLayout790.xml"/><Relationship Id="rId12" Type="http://schemas.openxmlformats.org/officeDocument/2006/relationships/slideLayout" Target="../slideLayouts/slideLayout791.xml"/><Relationship Id="rId13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slideLayout" Target="../slideLayouts/slideLayout793.xml"/><Relationship Id="rId3" Type="http://schemas.openxmlformats.org/officeDocument/2006/relationships/slideLayout" Target="../slideLayouts/slideLayout794.xml"/><Relationship Id="rId4" Type="http://schemas.openxmlformats.org/officeDocument/2006/relationships/slideLayout" Target="../slideLayouts/slideLayout795.xml"/><Relationship Id="rId5" Type="http://schemas.openxmlformats.org/officeDocument/2006/relationships/slideLayout" Target="../slideLayouts/slideLayout796.xml"/><Relationship Id="rId6" Type="http://schemas.openxmlformats.org/officeDocument/2006/relationships/slideLayout" Target="../slideLayouts/slideLayout797.xml"/><Relationship Id="rId7" Type="http://schemas.openxmlformats.org/officeDocument/2006/relationships/slideLayout" Target="../slideLayouts/slideLayout798.xml"/><Relationship Id="rId8" Type="http://schemas.openxmlformats.org/officeDocument/2006/relationships/slideLayout" Target="../slideLayouts/slideLayout799.xml"/><Relationship Id="rId9" Type="http://schemas.openxmlformats.org/officeDocument/2006/relationships/slideLayout" Target="../slideLayouts/slideLayout800.xml"/><Relationship Id="rId10" Type="http://schemas.openxmlformats.org/officeDocument/2006/relationships/slideLayout" Target="../slideLayouts/slideLayout801.xml"/><Relationship Id="rId11" Type="http://schemas.openxmlformats.org/officeDocument/2006/relationships/slideLayout" Target="../slideLayouts/slideLayout802.xml"/><Relationship Id="rId12" Type="http://schemas.openxmlformats.org/officeDocument/2006/relationships/slideLayout" Target="../slideLayouts/slideLayout803.xml"/><Relationship Id="rId13" Type="http://schemas.openxmlformats.org/officeDocument/2006/relationships/slideLayout" Target="../slideLayouts/slideLayout804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dt" idx="7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ftr" idx="8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Num" idx="9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DB3F5-AE04-48AE-9574-5456D0D0C94E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dt" idx="10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ftr" idx="11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 type="sldNum" idx="12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C3EFC-7589-4DA5-B2F4-37A9D23F140D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dt" idx="13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 type="ftr" idx="14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 type="sldNum" idx="15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17F34-2B6B-4DA9-B21E-EA1FBC57AD00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dt" idx="16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ftr" idx="17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sldNum" idx="18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82816-2686-4845-8A8D-0E2209C16678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dt" idx="19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ftr" idx="20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 type="sldNum" idx="21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DA97F-CBFA-4F17-92D7-32CF134B3C4A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dt" idx="22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ftr" idx="23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sldNum" idx="24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E83F5-7DA3-4C2D-9F72-900B8847B951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dt" idx="25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ftr" idx="26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 type="sldNum" idx="27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1A10C-E3D8-4200-AD90-10BEFABFCDBD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dt" idx="28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ftr" idx="29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 type="sldNum" idx="30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5FBCE-9B74-4E98-97C3-DDA83DDFA3BC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dt" idx="3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ftr" idx="3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 type="sldNum" idx="3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DE8DE-4FD1-4047-8E15-67AF196B9E53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Rectangle 2"/>
          <p:cNvSpPr/>
          <p:nvPr/>
        </p:nvSpPr>
        <p:spPr>
          <a:xfrm>
            <a:off x="-733320" y="2205000"/>
            <a:ext cx="9966240" cy="66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Line 4"/>
          <p:cNvSpPr/>
          <p:nvPr/>
        </p:nvSpPr>
        <p:spPr>
          <a:xfrm>
            <a:off x="7920" y="6415200"/>
            <a:ext cx="9906120" cy="0"/>
          </a:xfrm>
          <a:prstGeom prst="line">
            <a:avLst/>
          </a:prstGeom>
          <a:ln w="57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Rectangle 5"/>
          <p:cNvSpPr/>
          <p:nvPr/>
        </p:nvSpPr>
        <p:spPr>
          <a:xfrm>
            <a:off x="75240" y="6462720"/>
            <a:ext cx="270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reat Company  Great Peop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Line 6"/>
          <p:cNvSpPr/>
          <p:nvPr/>
        </p:nvSpPr>
        <p:spPr>
          <a:xfrm>
            <a:off x="0" y="476280"/>
            <a:ext cx="9632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7" descr=""/>
          <p:cNvPicPr/>
          <p:nvPr/>
        </p:nvPicPr>
        <p:blipFill>
          <a:blip r:embed="rId2"/>
          <a:stretch/>
        </p:blipFill>
        <p:spPr>
          <a:xfrm>
            <a:off x="8931240" y="88920"/>
            <a:ext cx="930240" cy="549360"/>
          </a:xfrm>
          <a:prstGeom prst="rect">
            <a:avLst/>
          </a:prstGeom>
          <a:ln w="0">
            <a:noFill/>
          </a:ln>
        </p:spPr>
      </p:pic>
      <p:sp>
        <p:nvSpPr>
          <p:cNvPr id="41" name="Text Box 8"/>
          <p:cNvSpPr/>
          <p:nvPr/>
        </p:nvSpPr>
        <p:spPr>
          <a:xfrm>
            <a:off x="7905600" y="6450120"/>
            <a:ext cx="191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ff"/>
                </a:solidFill>
                <a:latin typeface="Arial"/>
                <a:ea typeface="GulimChe"/>
              </a:rPr>
              <a:t>Customer only you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1160">
              <a:spcBef>
                <a:spcPts val="7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2" marL="1141560" indent="-2271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96960" indent="-2268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2720" indent="-2271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2720" indent="-2271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2720" indent="-2271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Working Draft" hidden="1"/>
          <p:cNvSpPr/>
          <p:nvPr/>
        </p:nvSpPr>
        <p:spPr>
          <a:xfrm rot="5400000">
            <a:off x="8945640" y="2772000"/>
            <a:ext cx="17686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-윤고딕130"/>
              </a:rPr>
              <a:t>Working Draft - Last Modified 8/26/2007 6:19:06 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rinted" hidden="1"/>
          <p:cNvSpPr/>
          <p:nvPr/>
        </p:nvSpPr>
        <p:spPr>
          <a:xfrm rot="5400000">
            <a:off x="9320400" y="4316400"/>
            <a:ext cx="1018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-윤고딕130"/>
              </a:rPr>
              <a:t>Printed 8/24/2007 3:46:45 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4"/>
          <p:cNvSpPr/>
          <p:nvPr/>
        </p:nvSpPr>
        <p:spPr>
          <a:xfrm>
            <a:off x="0" y="447840"/>
            <a:ext cx="990612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15"/>
          <p:cNvSpPr/>
          <p:nvPr/>
        </p:nvSpPr>
        <p:spPr>
          <a:xfrm>
            <a:off x="0" y="6467400"/>
            <a:ext cx="990432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24560" y="6477120"/>
            <a:ext cx="198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People Comp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7"/>
          <p:cNvSpPr/>
          <p:nvPr/>
        </p:nvSpPr>
        <p:spPr>
          <a:xfrm>
            <a:off x="7431120" y="6470640"/>
            <a:ext cx="217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等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G ,1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等 中國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ru 3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Working Draft Text" hidden="1"/>
          <p:cNvSpPr/>
          <p:nvPr/>
        </p:nvSpPr>
        <p:spPr>
          <a:xfrm>
            <a:off x="461880" y="349200"/>
            <a:ext cx="3370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Working Draft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Working Draft" hidden="1"/>
          <p:cNvSpPr/>
          <p:nvPr/>
        </p:nvSpPr>
        <p:spPr>
          <a:xfrm>
            <a:off x="447120" y="604800"/>
            <a:ext cx="3958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-윤고딕130"/>
              </a:rPr>
              <a:t>Last Modified 8/26/2007 6:19:06 PM Korea Standard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rinted" hidden="1"/>
          <p:cNvSpPr/>
          <p:nvPr/>
        </p:nvSpPr>
        <p:spPr>
          <a:xfrm>
            <a:off x="448560" y="826920"/>
            <a:ext cx="353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-윤고딕130"/>
              </a:rPr>
              <a:t>Printed 8/24/2007 3:46:45 PM Korea Standard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Line 14"/>
          <p:cNvSpPr/>
          <p:nvPr/>
        </p:nvSpPr>
        <p:spPr>
          <a:xfrm>
            <a:off x="0" y="447840"/>
            <a:ext cx="990612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Line 15"/>
          <p:cNvSpPr/>
          <p:nvPr/>
        </p:nvSpPr>
        <p:spPr>
          <a:xfrm>
            <a:off x="0" y="6467400"/>
            <a:ext cx="990432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Rectangle 16"/>
          <p:cNvSpPr/>
          <p:nvPr/>
        </p:nvSpPr>
        <p:spPr>
          <a:xfrm>
            <a:off x="124560" y="6477120"/>
            <a:ext cx="198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People Comp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Text Box 17"/>
          <p:cNvSpPr/>
          <p:nvPr/>
        </p:nvSpPr>
        <p:spPr>
          <a:xfrm>
            <a:off x="7431120" y="6470640"/>
            <a:ext cx="217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等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G ,1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等 中國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ru 3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Working Draft" hidden="1"/>
          <p:cNvSpPr/>
          <p:nvPr/>
        </p:nvSpPr>
        <p:spPr>
          <a:xfrm rot="5400000">
            <a:off x="8945640" y="2772000"/>
            <a:ext cx="17686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-윤고딕130"/>
              </a:rPr>
              <a:t>Working Draft - Last Modified 8/26/2007 6:19:06 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rinted" hidden="1"/>
          <p:cNvSpPr/>
          <p:nvPr/>
        </p:nvSpPr>
        <p:spPr>
          <a:xfrm rot="5400000">
            <a:off x="9320400" y="4316400"/>
            <a:ext cx="10188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Arial"/>
                <a:ea typeface="-윤고딕130"/>
              </a:rPr>
              <a:t>Printed 8/24/2007 3:46:45 P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5"/>
          <p:cNvSpPr/>
          <p:nvPr/>
        </p:nvSpPr>
        <p:spPr>
          <a:xfrm>
            <a:off x="0" y="447840"/>
            <a:ext cx="990612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6"/>
          <p:cNvSpPr/>
          <p:nvPr/>
        </p:nvSpPr>
        <p:spPr>
          <a:xfrm>
            <a:off x="0" y="6467400"/>
            <a:ext cx="990432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124560" y="6477120"/>
            <a:ext cx="198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People Comp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7431120" y="6470640"/>
            <a:ext cx="217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等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G ,1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等 中國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ru 3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Working Draft Text" hidden="1"/>
          <p:cNvSpPr/>
          <p:nvPr/>
        </p:nvSpPr>
        <p:spPr>
          <a:xfrm>
            <a:off x="461880" y="349200"/>
            <a:ext cx="33703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Gulim"/>
              </a:rPr>
              <a:t>Working Draft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Working Draft" hidden="1"/>
          <p:cNvSpPr/>
          <p:nvPr/>
        </p:nvSpPr>
        <p:spPr>
          <a:xfrm>
            <a:off x="447120" y="604800"/>
            <a:ext cx="3958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-윤고딕130"/>
              </a:rPr>
              <a:t>Last Modified 8/26/2007 6:19:06 PM Korea Standard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rinted" hidden="1"/>
          <p:cNvSpPr/>
          <p:nvPr/>
        </p:nvSpPr>
        <p:spPr>
          <a:xfrm>
            <a:off x="448560" y="826920"/>
            <a:ext cx="3533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-윤고딕130"/>
              </a:rPr>
              <a:t>Printed 8/24/2007 3:46:45 PM Korea Standard Ti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Line 6"/>
          <p:cNvSpPr/>
          <p:nvPr/>
        </p:nvSpPr>
        <p:spPr>
          <a:xfrm>
            <a:off x="0" y="447840"/>
            <a:ext cx="990612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Line 7"/>
          <p:cNvSpPr/>
          <p:nvPr/>
        </p:nvSpPr>
        <p:spPr>
          <a:xfrm>
            <a:off x="0" y="6467400"/>
            <a:ext cx="9904320" cy="0"/>
          </a:xfrm>
          <a:prstGeom prst="line">
            <a:avLst/>
          </a:prstGeom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Rectangle 8"/>
          <p:cNvSpPr/>
          <p:nvPr/>
        </p:nvSpPr>
        <p:spPr>
          <a:xfrm>
            <a:off x="124560" y="6477120"/>
            <a:ext cx="198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e People Compa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Text Box 9"/>
          <p:cNvSpPr/>
          <p:nvPr/>
        </p:nvSpPr>
        <p:spPr>
          <a:xfrm>
            <a:off x="7431120" y="6470640"/>
            <a:ext cx="217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等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G ,1</a:t>
            </a:r>
            <a:r>
              <a:rPr b="1" lang="ko-KR" sz="1400" spc="-1" strike="noStrike">
                <a:solidFill>
                  <a:srgbClr val="000000"/>
                </a:solidFill>
                <a:latin typeface="Arial"/>
              </a:rPr>
              <a:t>等 中國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hru 3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Line 2"/>
          <p:cNvSpPr/>
          <p:nvPr/>
        </p:nvSpPr>
        <p:spPr>
          <a:xfrm>
            <a:off x="95400" y="6418440"/>
            <a:ext cx="9770760" cy="0"/>
          </a:xfrm>
          <a:prstGeom prst="line">
            <a:avLst/>
          </a:prstGeom>
          <a:ln w="4428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3"/>
          <p:cNvSpPr/>
          <p:nvPr/>
        </p:nvSpPr>
        <p:spPr>
          <a:xfrm>
            <a:off x="95400" y="507960"/>
            <a:ext cx="9770760" cy="0"/>
          </a:xfrm>
          <a:prstGeom prst="line">
            <a:avLst/>
          </a:prstGeom>
          <a:ln w="1260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34200" y="6523200"/>
            <a:ext cx="230976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6000" bIns="36000" anchor="t">
            <a:spAutoFit/>
          </a:bodyPr>
          <a:p>
            <a:pPr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reat Company  Great 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9244080" y="189000"/>
            <a:ext cx="662040" cy="43164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6"/>
          <p:cNvSpPr/>
          <p:nvPr/>
        </p:nvSpPr>
        <p:spPr>
          <a:xfrm>
            <a:off x="7755480" y="6523200"/>
            <a:ext cx="190044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640" rIns="71640" tIns="36000" bIns="36000" anchor="t">
            <a:spAutoFit/>
          </a:bodyPr>
          <a:p>
            <a:pPr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等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G ,1</a:t>
            </a: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等 中</a:t>
            </a:r>
            <a:r>
              <a:rPr b="1" lang="zh-CN" sz="1200" spc="-1" strike="noStrike">
                <a:solidFill>
                  <a:srgbClr val="000000"/>
                </a:solidFill>
                <a:latin typeface="Arial"/>
              </a:rPr>
              <a:t>国</a:t>
            </a: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ru. 3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8" name=""/>
          <p:cNvGrpSpPr/>
          <p:nvPr/>
        </p:nvGrpSpPr>
        <p:grpSpPr>
          <a:xfrm>
            <a:off x="0" y="0"/>
            <a:ext cx="9904320" cy="6858000"/>
            <a:chOff x="0" y="0"/>
            <a:chExt cx="9904320" cy="6858000"/>
          </a:xfrm>
        </p:grpSpPr>
        <p:sp>
          <p:nvSpPr>
            <p:cNvPr id="2089" name="Rectangle 3"/>
            <p:cNvSpPr/>
            <p:nvPr/>
          </p:nvSpPr>
          <p:spPr>
            <a:xfrm>
              <a:off x="0" y="0"/>
              <a:ext cx="9904320" cy="685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spcBef>
                  <a:spcPts val="74"/>
                </a:spcBef>
                <a:spcAft>
                  <a:spcPts val="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0" name="Rectangle 4"/>
            <p:cNvSpPr/>
            <p:nvPr/>
          </p:nvSpPr>
          <p:spPr>
            <a:xfrm>
              <a:off x="0" y="0"/>
              <a:ext cx="3576600" cy="68580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2"/>
    <p:sldLayoutId id="2147484443" r:id="rId3"/>
    <p:sldLayoutId id="2147484444" r:id="rId4"/>
    <p:sldLayoutId id="2147484445" r:id="rId5"/>
    <p:sldLayoutId id="2147484446" r:id="rId6"/>
    <p:sldLayoutId id="2147484447" r:id="rId7"/>
    <p:sldLayoutId id="2147484448" r:id="rId8"/>
    <p:sldLayoutId id="2147484449" r:id="rId9"/>
    <p:sldLayoutId id="2147484450" r:id="rId10"/>
    <p:sldLayoutId id="2147484451" r:id="rId11"/>
    <p:sldLayoutId id="2147484452" r:id="rId12"/>
    <p:sldLayoutId id="2147484453" r:id="rId13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2"/>
    <p:sldLayoutId id="2147484456" r:id="rId3"/>
    <p:sldLayoutId id="2147484457" r:id="rId4"/>
    <p:sldLayoutId id="2147484458" r:id="rId5"/>
    <p:sldLayoutId id="2147484459" r:id="rId6"/>
    <p:sldLayoutId id="2147484460" r:id="rId7"/>
    <p:sldLayoutId id="2147484461" r:id="rId8"/>
    <p:sldLayoutId id="2147484462" r:id="rId9"/>
    <p:sldLayoutId id="2147484463" r:id="rId10"/>
    <p:sldLayoutId id="2147484464" r:id="rId11"/>
    <p:sldLayoutId id="2147484465" r:id="rId12"/>
    <p:sldLayoutId id="2147484466" r:id="rId13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2"/>
    <p:sldLayoutId id="2147484469" r:id="rId3"/>
    <p:sldLayoutId id="2147484470" r:id="rId4"/>
    <p:sldLayoutId id="2147484471" r:id="rId5"/>
    <p:sldLayoutId id="2147484472" r:id="rId6"/>
    <p:sldLayoutId id="2147484473" r:id="rId7"/>
    <p:sldLayoutId id="2147484474" r:id="rId8"/>
    <p:sldLayoutId id="2147484475" r:id="rId9"/>
    <p:sldLayoutId id="2147484476" r:id="rId10"/>
    <p:sldLayoutId id="2147484477" r:id="rId11"/>
    <p:sldLayoutId id="2147484478" r:id="rId12"/>
    <p:sldLayoutId id="2147484479" r:id="rId13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2"/>
    <p:sldLayoutId id="2147484482" r:id="rId3"/>
    <p:sldLayoutId id="2147484483" r:id="rId4"/>
    <p:sldLayoutId id="2147484484" r:id="rId5"/>
    <p:sldLayoutId id="2147484485" r:id="rId6"/>
    <p:sldLayoutId id="2147484486" r:id="rId7"/>
    <p:sldLayoutId id="2147484487" r:id="rId8"/>
    <p:sldLayoutId id="2147484488" r:id="rId9"/>
    <p:sldLayoutId id="2147484489" r:id="rId10"/>
    <p:sldLayoutId id="2147484490" r:id="rId11"/>
    <p:sldLayoutId id="2147484491" r:id="rId12"/>
    <p:sldLayoutId id="2147484492" r:id="rId13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2"/>
    <p:sldLayoutId id="2147484495" r:id="rId3"/>
    <p:sldLayoutId id="2147484496" r:id="rId4"/>
    <p:sldLayoutId id="2147484497" r:id="rId5"/>
    <p:sldLayoutId id="2147484498" r:id="rId6"/>
    <p:sldLayoutId id="2147484499" r:id="rId7"/>
    <p:sldLayoutId id="2147484500" r:id="rId8"/>
    <p:sldLayoutId id="2147484501" r:id="rId9"/>
    <p:sldLayoutId id="2147484502" r:id="rId10"/>
    <p:sldLayoutId id="2147484503" r:id="rId11"/>
    <p:sldLayoutId id="2147484504" r:id="rId12"/>
    <p:sldLayoutId id="2147484505" r:id="rId13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2"/>
    <p:sldLayoutId id="2147484508" r:id="rId3"/>
    <p:sldLayoutId id="2147484509" r:id="rId4"/>
    <p:sldLayoutId id="2147484510" r:id="rId5"/>
    <p:sldLayoutId id="2147484511" r:id="rId6"/>
    <p:sldLayoutId id="2147484512" r:id="rId7"/>
    <p:sldLayoutId id="2147484513" r:id="rId8"/>
    <p:sldLayoutId id="2147484514" r:id="rId9"/>
    <p:sldLayoutId id="2147484515" r:id="rId10"/>
    <p:sldLayoutId id="2147484516" r:id="rId11"/>
    <p:sldLayoutId id="2147484517" r:id="rId12"/>
    <p:sldLayoutId id="2147484518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dt" idx="1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ftr" idx="2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 type="sldNum" idx="3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985C3-B908-4544-B435-4AEAD8D83C4D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dt" idx="4"/>
          </p:nvPr>
        </p:nvSpPr>
        <p:spPr>
          <a:xfrm>
            <a:off x="495360" y="6356520"/>
            <a:ext cx="23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ftr" idx="5"/>
          </p:nvPr>
        </p:nvSpPr>
        <p:spPr>
          <a:xfrm>
            <a:off x="3384360" y="6356520"/>
            <a:ext cx="3136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sldNum" idx="6"/>
          </p:nvPr>
        </p:nvSpPr>
        <p:spPr>
          <a:xfrm>
            <a:off x="7098840" y="6356520"/>
            <a:ext cx="2311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1586F-C361-4019-8B7F-F4DB535CAF18}" type="slidenum"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1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image" Target="../media/image21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21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1.png"/><Relationship Id="rId5" Type="http://schemas.openxmlformats.org/officeDocument/2006/relationships/image" Target="../media/image18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24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18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21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18.png"/><Relationship Id="rId6" Type="http://schemas.openxmlformats.org/officeDocument/2006/relationships/image" Target="../media/image3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21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image" Target="../media/image41.wmf"/><Relationship Id="rId5" Type="http://schemas.openxmlformats.org/officeDocument/2006/relationships/image" Target="../media/image18.png"/><Relationship Id="rId6" Type="http://schemas.openxmlformats.org/officeDocument/2006/relationships/image" Target="../media/image3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25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image" Target="../media/image47.png"/><Relationship Id="rId7" Type="http://schemas.openxmlformats.org/officeDocument/2006/relationships/image" Target="../media/image48.png"/><Relationship Id="rId8" Type="http://schemas.openxmlformats.org/officeDocument/2006/relationships/image" Target="../media/image49.png"/><Relationship Id="rId9" Type="http://schemas.openxmlformats.org/officeDocument/2006/relationships/image" Target="../media/image50.png"/><Relationship Id="rId10" Type="http://schemas.openxmlformats.org/officeDocument/2006/relationships/image" Target="../media/image51.png"/><Relationship Id="rId11" Type="http://schemas.openxmlformats.org/officeDocument/2006/relationships/image" Target="../media/image52.png"/><Relationship Id="rId12" Type="http://schemas.openxmlformats.org/officeDocument/2006/relationships/image" Target="../media/image53.png"/><Relationship Id="rId13" Type="http://schemas.openxmlformats.org/officeDocument/2006/relationships/image" Target="../media/image54.png"/><Relationship Id="rId14" Type="http://schemas.openxmlformats.org/officeDocument/2006/relationships/image" Target="../media/image55.png"/><Relationship Id="rId15" Type="http://schemas.openxmlformats.org/officeDocument/2006/relationships/image" Target="../media/image56.png"/><Relationship Id="rId16" Type="http://schemas.openxmlformats.org/officeDocument/2006/relationships/image" Target="../media/image57.png"/><Relationship Id="rId17" Type="http://schemas.openxmlformats.org/officeDocument/2006/relationships/image" Target="../media/image58.png"/><Relationship Id="rId18" Type="http://schemas.openxmlformats.org/officeDocument/2006/relationships/image" Target="../media/image59.png"/><Relationship Id="rId19" Type="http://schemas.openxmlformats.org/officeDocument/2006/relationships/image" Target="../media/image60.png"/><Relationship Id="rId20" Type="http://schemas.openxmlformats.org/officeDocument/2006/relationships/image" Target="../media/image61.png"/><Relationship Id="rId21" Type="http://schemas.openxmlformats.org/officeDocument/2006/relationships/image" Target="../media/image33.png"/><Relationship Id="rId22" Type="http://schemas.openxmlformats.org/officeDocument/2006/relationships/image" Target="../media/image18.png"/><Relationship Id="rId23" Type="http://schemas.openxmlformats.org/officeDocument/2006/relationships/image" Target="../media/image13.png"/><Relationship Id="rId24" Type="http://schemas.openxmlformats.org/officeDocument/2006/relationships/slideLayout" Target="../slideLayouts/slideLayout22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2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6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18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image" Target="../media/image33.png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22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18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18.png"/><Relationship Id="rId3" Type="http://schemas.openxmlformats.org/officeDocument/2006/relationships/image" Target="../media/image62.png"/><Relationship Id="rId4" Type="http://schemas.openxmlformats.org/officeDocument/2006/relationships/slideLayout" Target="../slideLayouts/slideLayout25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3.png"/><Relationship Id="rId3" Type="http://schemas.openxmlformats.org/officeDocument/2006/relationships/image" Target="../media/image63.png"/><Relationship Id="rId4" Type="http://schemas.openxmlformats.org/officeDocument/2006/relationships/image" Target="../media/image64.png"/><Relationship Id="rId5" Type="http://schemas.openxmlformats.org/officeDocument/2006/relationships/image" Target="../media/image65.png"/><Relationship Id="rId6" Type="http://schemas.openxmlformats.org/officeDocument/2006/relationships/image" Target="../media/image66.png"/><Relationship Id="rId7" Type="http://schemas.openxmlformats.org/officeDocument/2006/relationships/image" Target="../media/image67.png"/><Relationship Id="rId8" Type="http://schemas.openxmlformats.org/officeDocument/2006/relationships/image" Target="../media/image68.png"/><Relationship Id="rId9" Type="http://schemas.openxmlformats.org/officeDocument/2006/relationships/image" Target="../media/image69.png"/><Relationship Id="rId10" Type="http://schemas.openxmlformats.org/officeDocument/2006/relationships/image" Target="../media/image70.png"/><Relationship Id="rId11" Type="http://schemas.openxmlformats.org/officeDocument/2006/relationships/image" Target="../media/image71.png"/><Relationship Id="rId12" Type="http://schemas.openxmlformats.org/officeDocument/2006/relationships/image" Target="../media/image72.png"/><Relationship Id="rId13" Type="http://schemas.openxmlformats.org/officeDocument/2006/relationships/image" Target="../media/image73.png"/><Relationship Id="rId14" Type="http://schemas.openxmlformats.org/officeDocument/2006/relationships/image" Target="../media/image74.jpeg"/><Relationship Id="rId15" Type="http://schemas.openxmlformats.org/officeDocument/2006/relationships/image" Target="../media/image75.jpeg"/><Relationship Id="rId16" Type="http://schemas.openxmlformats.org/officeDocument/2006/relationships/image" Target="../media/image76.jpeg"/><Relationship Id="rId17" Type="http://schemas.openxmlformats.org/officeDocument/2006/relationships/image" Target="../media/image77.jpeg"/><Relationship Id="rId18" Type="http://schemas.openxmlformats.org/officeDocument/2006/relationships/image" Target="../media/image78.jpeg"/><Relationship Id="rId19" Type="http://schemas.openxmlformats.org/officeDocument/2006/relationships/slideLayout" Target="../slideLayouts/slideLayout25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0.png"/><Relationship Id="rId3" Type="http://schemas.openxmlformats.org/officeDocument/2006/relationships/image" Target="../media/image81.png"/><Relationship Id="rId4" Type="http://schemas.openxmlformats.org/officeDocument/2006/relationships/image" Target="../media/image82.png"/><Relationship Id="rId5" Type="http://schemas.openxmlformats.org/officeDocument/2006/relationships/image" Target="../media/image8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25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25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21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3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21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5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1.png"/><Relationship Id="rId5" Type="http://schemas.openxmlformats.org/officeDocument/2006/relationships/image" Target="../media/image18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2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21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矩形 16"/>
          <p:cNvSpPr/>
          <p:nvPr/>
        </p:nvSpPr>
        <p:spPr>
          <a:xfrm>
            <a:off x="1203840" y="6181560"/>
            <a:ext cx="7293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林虎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Text Box 1032"/>
          <p:cNvSpPr/>
          <p:nvPr/>
        </p:nvSpPr>
        <p:spPr>
          <a:xfrm>
            <a:off x="212760" y="658800"/>
            <a:ext cx="9144000" cy="11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000"/>
                </a:solidFill>
                <a:latin typeface="微软雅黑"/>
                <a:ea typeface="微软雅黑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直接连接符 19"/>
          <p:cNvSpPr/>
          <p:nvPr/>
        </p:nvSpPr>
        <p:spPr>
          <a:xfrm>
            <a:off x="498600" y="2357280"/>
            <a:ext cx="8601120" cy="0"/>
          </a:xfrm>
          <a:prstGeom prst="line">
            <a:avLst/>
          </a:prstGeom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0" name="TextBox 21"/>
          <p:cNvSpPr/>
          <p:nvPr/>
        </p:nvSpPr>
        <p:spPr>
          <a:xfrm>
            <a:off x="2646360" y="2417760"/>
            <a:ext cx="52974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c6204"/>
                </a:solidFill>
                <a:latin typeface="微软雅黑"/>
                <a:ea typeface="微软雅黑"/>
              </a:rPr>
              <a:t>献给外资企业和中国企业做经营分析报告的精英们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1" name="" descr=""/>
          <p:cNvPicPr/>
          <p:nvPr/>
        </p:nvPicPr>
        <p:blipFill>
          <a:blip r:embed="rId1"/>
          <a:srcRect l="0" t="17931" r="0" b="5885"/>
          <a:stretch/>
        </p:blipFill>
        <p:spPr>
          <a:xfrm>
            <a:off x="127080" y="1992240"/>
            <a:ext cx="9867960" cy="4826160"/>
          </a:xfrm>
          <a:prstGeom prst="rect">
            <a:avLst/>
          </a:prstGeom>
          <a:ln w="0">
            <a:noFill/>
          </a:ln>
        </p:spPr>
      </p:pic>
      <p:sp>
        <p:nvSpPr>
          <p:cNvPr id="2492" name=""/>
          <p:cNvSpPr/>
          <p:nvPr/>
        </p:nvSpPr>
        <p:spPr>
          <a:xfrm>
            <a:off x="-7920" y="2021040"/>
            <a:ext cx="9937800" cy="27936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3" name=""/>
          <p:cNvSpPr/>
          <p:nvPr/>
        </p:nvSpPr>
        <p:spPr>
          <a:xfrm>
            <a:off x="100080" y="642924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4" name=""/>
          <p:cNvSpPr/>
          <p:nvPr/>
        </p:nvSpPr>
        <p:spPr>
          <a:xfrm>
            <a:off x="2275920" y="40644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Arial"/>
              </a:rPr>
              <a:t>经营分析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1000"/>
                                        <p:tgtEl>
                                          <p:spTgt spid="2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" dur="1000"/>
                                        <p:tgtEl>
                                          <p:spTgt spid="2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5" name="Rectangle 298"/>
          <p:cNvSpPr/>
          <p:nvPr/>
        </p:nvSpPr>
        <p:spPr>
          <a:xfrm>
            <a:off x="6915240" y="2251080"/>
            <a:ext cx="458640" cy="1065240"/>
          </a:xfrm>
          <a:prstGeom prst="rect">
            <a:avLst/>
          </a:prstGeom>
          <a:solidFill>
            <a:srgbClr val="99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6" name="Rectangle 299"/>
          <p:cNvSpPr/>
          <p:nvPr/>
        </p:nvSpPr>
        <p:spPr>
          <a:xfrm>
            <a:off x="5923080" y="2317680"/>
            <a:ext cx="458640" cy="920880"/>
          </a:xfrm>
          <a:prstGeom prst="rect">
            <a:avLst/>
          </a:prstGeom>
          <a:solidFill>
            <a:srgbClr val="99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7" name="Rectangle 300"/>
          <p:cNvSpPr/>
          <p:nvPr/>
        </p:nvSpPr>
        <p:spPr>
          <a:xfrm>
            <a:off x="1883160" y="1244520"/>
            <a:ext cx="144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70c0"/>
                </a:solidFill>
                <a:uFillTx/>
                <a:latin typeface="Arial"/>
              </a:rPr>
              <a:t>MNCs vs Loc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8" name="Rectangle 301"/>
          <p:cNvSpPr/>
          <p:nvPr/>
        </p:nvSpPr>
        <p:spPr>
          <a:xfrm>
            <a:off x="482760" y="1625760"/>
            <a:ext cx="4317840" cy="462564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9" name="Text Box 302"/>
          <p:cNvSpPr/>
          <p:nvPr/>
        </p:nvSpPr>
        <p:spPr>
          <a:xfrm>
            <a:off x="597960" y="1836720"/>
            <a:ext cx="459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 u="sng">
                <a:solidFill>
                  <a:srgbClr val="0070c0"/>
                </a:solidFill>
                <a:uFillTx/>
                <a:latin typeface="Arial"/>
                <a:ea typeface="Gulim"/>
              </a:rPr>
              <a:t>DTV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0" name="Text Box 303"/>
          <p:cNvSpPr/>
          <p:nvPr/>
        </p:nvSpPr>
        <p:spPr>
          <a:xfrm>
            <a:off x="444600" y="6224760"/>
            <a:ext cx="179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Gulim"/>
              </a:rPr>
              <a:t>*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Source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GF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1" name="Line 304"/>
          <p:cNvSpPr/>
          <p:nvPr/>
        </p:nvSpPr>
        <p:spPr>
          <a:xfrm>
            <a:off x="692280" y="5894280"/>
            <a:ext cx="37065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2" name="Text Box 305"/>
          <p:cNvSpPr/>
          <p:nvPr/>
        </p:nvSpPr>
        <p:spPr>
          <a:xfrm>
            <a:off x="653400" y="4175280"/>
            <a:ext cx="381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 u="sng">
                <a:solidFill>
                  <a:srgbClr val="0070c0"/>
                </a:solidFill>
                <a:uFillTx/>
                <a:latin typeface="Arial"/>
                <a:ea typeface="Gulim"/>
              </a:rPr>
              <a:t>A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3" name="Line 306"/>
          <p:cNvSpPr/>
          <p:nvPr/>
        </p:nvSpPr>
        <p:spPr>
          <a:xfrm>
            <a:off x="692280" y="3730680"/>
            <a:ext cx="37065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4" name="Rectangle 308"/>
          <p:cNvSpPr/>
          <p:nvPr/>
        </p:nvSpPr>
        <p:spPr>
          <a:xfrm>
            <a:off x="1278000" y="3220920"/>
            <a:ext cx="458640" cy="497160"/>
          </a:xfrm>
          <a:prstGeom prst="rect">
            <a:avLst/>
          </a:prstGeom>
          <a:solidFill>
            <a:srgbClr val="ffc00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5" name="Rectangle 309"/>
          <p:cNvSpPr/>
          <p:nvPr/>
        </p:nvSpPr>
        <p:spPr>
          <a:xfrm>
            <a:off x="1278000" y="2263680"/>
            <a:ext cx="458640" cy="952560"/>
          </a:xfrm>
          <a:prstGeom prst="rect">
            <a:avLst/>
          </a:prstGeom>
          <a:solidFill>
            <a:srgbClr val="99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6" name="Rectangle 310"/>
          <p:cNvSpPr/>
          <p:nvPr/>
        </p:nvSpPr>
        <p:spPr>
          <a:xfrm>
            <a:off x="1278000" y="2200320"/>
            <a:ext cx="458640" cy="712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7" name="Rectangle 312"/>
          <p:cNvSpPr/>
          <p:nvPr/>
        </p:nvSpPr>
        <p:spPr>
          <a:xfrm>
            <a:off x="2270160" y="3106800"/>
            <a:ext cx="458640" cy="611280"/>
          </a:xfrm>
          <a:prstGeom prst="rect">
            <a:avLst/>
          </a:prstGeom>
          <a:solidFill>
            <a:srgbClr val="ffc000"/>
          </a:solidFill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8" name="Rectangle 313"/>
          <p:cNvSpPr/>
          <p:nvPr/>
        </p:nvSpPr>
        <p:spPr>
          <a:xfrm>
            <a:off x="2270160" y="2254320"/>
            <a:ext cx="458640" cy="860400"/>
          </a:xfrm>
          <a:prstGeom prst="rect">
            <a:avLst/>
          </a:prstGeom>
          <a:solidFill>
            <a:srgbClr val="99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9" name="Rectangle 314"/>
          <p:cNvSpPr/>
          <p:nvPr/>
        </p:nvSpPr>
        <p:spPr>
          <a:xfrm>
            <a:off x="2270160" y="2200320"/>
            <a:ext cx="458640" cy="712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0" name="Rectangle 315"/>
          <p:cNvSpPr/>
          <p:nvPr/>
        </p:nvSpPr>
        <p:spPr>
          <a:xfrm>
            <a:off x="3268800" y="3009960"/>
            <a:ext cx="458640" cy="703080"/>
          </a:xfrm>
          <a:prstGeom prst="rect">
            <a:avLst/>
          </a:prstGeom>
          <a:solidFill>
            <a:srgbClr val="ffc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1" name="Rectangle 316"/>
          <p:cNvSpPr/>
          <p:nvPr/>
        </p:nvSpPr>
        <p:spPr>
          <a:xfrm>
            <a:off x="3268800" y="2263680"/>
            <a:ext cx="458640" cy="760680"/>
          </a:xfrm>
          <a:prstGeom prst="rect">
            <a:avLst/>
          </a:prstGeom>
          <a:solidFill>
            <a:srgbClr val="99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2" name="Rectangle 317"/>
          <p:cNvSpPr/>
          <p:nvPr/>
        </p:nvSpPr>
        <p:spPr>
          <a:xfrm>
            <a:off x="3268800" y="2200320"/>
            <a:ext cx="458640" cy="712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3" name="Rectangle 319"/>
          <p:cNvSpPr/>
          <p:nvPr/>
        </p:nvSpPr>
        <p:spPr>
          <a:xfrm>
            <a:off x="3262320" y="3014640"/>
            <a:ext cx="471600" cy="703440"/>
          </a:xfrm>
          <a:prstGeom prst="rect">
            <a:avLst/>
          </a:prstGeom>
          <a:noFill/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4" name="Line 320"/>
          <p:cNvSpPr/>
          <p:nvPr/>
        </p:nvSpPr>
        <p:spPr>
          <a:xfrm flipV="1">
            <a:off x="1771560" y="5505480"/>
            <a:ext cx="495360" cy="47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5" name="Line 321"/>
          <p:cNvSpPr/>
          <p:nvPr/>
        </p:nvSpPr>
        <p:spPr>
          <a:xfrm flipV="1">
            <a:off x="2743200" y="3029040"/>
            <a:ext cx="504720" cy="85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6" name="Text Box 322"/>
          <p:cNvSpPr/>
          <p:nvPr/>
        </p:nvSpPr>
        <p:spPr>
          <a:xfrm>
            <a:off x="1325520" y="3703680"/>
            <a:ext cx="36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`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7" name="Text Box 323"/>
          <p:cNvSpPr/>
          <p:nvPr/>
        </p:nvSpPr>
        <p:spPr>
          <a:xfrm>
            <a:off x="2317680" y="3703680"/>
            <a:ext cx="36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`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8" name="Text Box 324"/>
          <p:cNvSpPr/>
          <p:nvPr/>
        </p:nvSpPr>
        <p:spPr>
          <a:xfrm>
            <a:off x="3156120" y="3703680"/>
            <a:ext cx="68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`07.1~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9" name="Text Box 328"/>
          <p:cNvSpPr/>
          <p:nvPr/>
        </p:nvSpPr>
        <p:spPr>
          <a:xfrm>
            <a:off x="3564720" y="3236760"/>
            <a:ext cx="11178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4320" indent="-184320"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MNCs(9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0" name="Text Box 329"/>
          <p:cNvSpPr/>
          <p:nvPr/>
        </p:nvSpPr>
        <p:spPr>
          <a:xfrm>
            <a:off x="3565080" y="2503440"/>
            <a:ext cx="11649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4320" indent="-184320"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Local(11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1" name="Text Box 330"/>
          <p:cNvSpPr/>
          <p:nvPr/>
        </p:nvSpPr>
        <p:spPr>
          <a:xfrm>
            <a:off x="3562560" y="2084400"/>
            <a:ext cx="12520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4320" indent="-184320"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Others(34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2" name="Rectangle 331"/>
          <p:cNvSpPr/>
          <p:nvPr/>
        </p:nvSpPr>
        <p:spPr>
          <a:xfrm>
            <a:off x="1278000" y="5583240"/>
            <a:ext cx="458640" cy="287280"/>
          </a:xfrm>
          <a:prstGeom prst="rect">
            <a:avLst/>
          </a:prstGeom>
          <a:solidFill>
            <a:srgbClr val="ffc000"/>
          </a:solidFill>
          <a:ln w="284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3" name="Rectangle 332"/>
          <p:cNvSpPr/>
          <p:nvPr/>
        </p:nvSpPr>
        <p:spPr>
          <a:xfrm>
            <a:off x="1278000" y="4892760"/>
            <a:ext cx="45864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4" name="Rectangle 333"/>
          <p:cNvSpPr/>
          <p:nvPr/>
        </p:nvSpPr>
        <p:spPr>
          <a:xfrm>
            <a:off x="1278000" y="4352760"/>
            <a:ext cx="458640" cy="55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5" name="Text Box 335"/>
          <p:cNvSpPr/>
          <p:nvPr/>
        </p:nvSpPr>
        <p:spPr>
          <a:xfrm>
            <a:off x="1325520" y="5856120"/>
            <a:ext cx="36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`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6" name="Rectangle 337"/>
          <p:cNvSpPr/>
          <p:nvPr/>
        </p:nvSpPr>
        <p:spPr>
          <a:xfrm>
            <a:off x="2270160" y="5532480"/>
            <a:ext cx="458640" cy="338040"/>
          </a:xfrm>
          <a:prstGeom prst="rect">
            <a:avLst/>
          </a:prstGeom>
          <a:solidFill>
            <a:srgbClr val="99ccff"/>
          </a:solidFill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7" name="Rectangle 338"/>
          <p:cNvSpPr/>
          <p:nvPr/>
        </p:nvSpPr>
        <p:spPr>
          <a:xfrm>
            <a:off x="2270160" y="4835520"/>
            <a:ext cx="458640" cy="669960"/>
          </a:xfrm>
          <a:prstGeom prst="rect">
            <a:avLst/>
          </a:prstGeom>
          <a:solidFill>
            <a:srgbClr val="99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8" name="Rectangle 339"/>
          <p:cNvSpPr/>
          <p:nvPr/>
        </p:nvSpPr>
        <p:spPr>
          <a:xfrm>
            <a:off x="2270160" y="4352760"/>
            <a:ext cx="458640" cy="4813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9" name="Text Box 341"/>
          <p:cNvSpPr/>
          <p:nvPr/>
        </p:nvSpPr>
        <p:spPr>
          <a:xfrm>
            <a:off x="2317680" y="5856120"/>
            <a:ext cx="36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`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0" name="Rectangle 343"/>
          <p:cNvSpPr/>
          <p:nvPr/>
        </p:nvSpPr>
        <p:spPr>
          <a:xfrm>
            <a:off x="3268800" y="5581800"/>
            <a:ext cx="458640" cy="284040"/>
          </a:xfrm>
          <a:prstGeom prst="rect">
            <a:avLst/>
          </a:prstGeom>
          <a:solidFill>
            <a:srgbClr val="99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1" name="Rectangle 344"/>
          <p:cNvSpPr/>
          <p:nvPr/>
        </p:nvSpPr>
        <p:spPr>
          <a:xfrm>
            <a:off x="3268800" y="4768920"/>
            <a:ext cx="458640" cy="826920"/>
          </a:xfrm>
          <a:prstGeom prst="rect">
            <a:avLst/>
          </a:prstGeom>
          <a:solidFill>
            <a:srgbClr val="99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2" name="Rectangle 345"/>
          <p:cNvSpPr/>
          <p:nvPr/>
        </p:nvSpPr>
        <p:spPr>
          <a:xfrm>
            <a:off x="3268800" y="4352760"/>
            <a:ext cx="458640" cy="4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3" name="Text Box 347"/>
          <p:cNvSpPr/>
          <p:nvPr/>
        </p:nvSpPr>
        <p:spPr>
          <a:xfrm>
            <a:off x="3156120" y="5856120"/>
            <a:ext cx="68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`07.1~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4" name="Line 349"/>
          <p:cNvSpPr/>
          <p:nvPr/>
        </p:nvSpPr>
        <p:spPr>
          <a:xfrm>
            <a:off x="2743200" y="5505480"/>
            <a:ext cx="523800" cy="572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5" name="Text Box 350"/>
          <p:cNvSpPr/>
          <p:nvPr/>
        </p:nvSpPr>
        <p:spPr>
          <a:xfrm>
            <a:off x="3564720" y="5589720"/>
            <a:ext cx="11955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4320" indent="-184320"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MNCs(13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6" name="Text Box 351"/>
          <p:cNvSpPr/>
          <p:nvPr/>
        </p:nvSpPr>
        <p:spPr>
          <a:xfrm>
            <a:off x="3564720" y="5037120"/>
            <a:ext cx="134352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4320" indent="-184320"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Local(Top3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7" name="Text Box 352"/>
          <p:cNvSpPr/>
          <p:nvPr/>
        </p:nvSpPr>
        <p:spPr>
          <a:xfrm>
            <a:off x="3562560" y="4446720"/>
            <a:ext cx="12520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4320" indent="-184320"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Others(84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8" name="Line 353"/>
          <p:cNvSpPr/>
          <p:nvPr/>
        </p:nvSpPr>
        <p:spPr>
          <a:xfrm flipV="1">
            <a:off x="1762200" y="3106440"/>
            <a:ext cx="527040" cy="9036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9" name="Rectangle 355"/>
          <p:cNvSpPr/>
          <p:nvPr/>
        </p:nvSpPr>
        <p:spPr>
          <a:xfrm>
            <a:off x="5129280" y="1622520"/>
            <a:ext cx="4316400" cy="462600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0" name="Text Box 356"/>
          <p:cNvSpPr/>
          <p:nvPr/>
        </p:nvSpPr>
        <p:spPr>
          <a:xfrm>
            <a:off x="5243760" y="1833480"/>
            <a:ext cx="459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 u="sng">
                <a:solidFill>
                  <a:srgbClr val="0070c0"/>
                </a:solidFill>
                <a:uFillTx/>
                <a:latin typeface="Arial"/>
                <a:ea typeface="Gulim"/>
              </a:rPr>
              <a:t>RE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1" name="Line 357"/>
          <p:cNvSpPr/>
          <p:nvPr/>
        </p:nvSpPr>
        <p:spPr>
          <a:xfrm>
            <a:off x="5335560" y="5891040"/>
            <a:ext cx="3708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2" name="Text Box 358"/>
          <p:cNvSpPr/>
          <p:nvPr/>
        </p:nvSpPr>
        <p:spPr>
          <a:xfrm>
            <a:off x="5275080" y="4172040"/>
            <a:ext cx="4305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 u="sng">
                <a:solidFill>
                  <a:srgbClr val="0070c0"/>
                </a:solidFill>
                <a:uFillTx/>
                <a:latin typeface="Arial"/>
                <a:ea typeface="Gulim"/>
              </a:rPr>
              <a:t>W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3" name="Line 359"/>
          <p:cNvSpPr/>
          <p:nvPr/>
        </p:nvSpPr>
        <p:spPr>
          <a:xfrm>
            <a:off x="5335560" y="3727440"/>
            <a:ext cx="3708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4" name="Rectangle 361"/>
          <p:cNvSpPr/>
          <p:nvPr/>
        </p:nvSpPr>
        <p:spPr>
          <a:xfrm>
            <a:off x="5923080" y="3111480"/>
            <a:ext cx="458640" cy="603360"/>
          </a:xfrm>
          <a:prstGeom prst="rect">
            <a:avLst/>
          </a:prstGeom>
          <a:solidFill>
            <a:srgbClr val="ffc000"/>
          </a:solidFill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5" name="Rectangle 362"/>
          <p:cNvSpPr/>
          <p:nvPr/>
        </p:nvSpPr>
        <p:spPr>
          <a:xfrm>
            <a:off x="5923080" y="2197080"/>
            <a:ext cx="458640" cy="128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6" name="Rectangle 364"/>
          <p:cNvSpPr/>
          <p:nvPr/>
        </p:nvSpPr>
        <p:spPr>
          <a:xfrm>
            <a:off x="6915240" y="3191040"/>
            <a:ext cx="458640" cy="534960"/>
          </a:xfrm>
          <a:prstGeom prst="rect">
            <a:avLst/>
          </a:prstGeom>
          <a:solidFill>
            <a:srgbClr val="ffc000"/>
          </a:solidFill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7" name="Rectangle 365"/>
          <p:cNvSpPr/>
          <p:nvPr/>
        </p:nvSpPr>
        <p:spPr>
          <a:xfrm>
            <a:off x="6915240" y="2197080"/>
            <a:ext cx="458640" cy="712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8" name="Rectangle 366"/>
          <p:cNvSpPr/>
          <p:nvPr/>
        </p:nvSpPr>
        <p:spPr>
          <a:xfrm>
            <a:off x="7915320" y="3262320"/>
            <a:ext cx="457200" cy="458640"/>
          </a:xfrm>
          <a:prstGeom prst="rect">
            <a:avLst/>
          </a:prstGeom>
          <a:solidFill>
            <a:srgbClr val="ffc000"/>
          </a:solidFill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9" name="Rectangle 367"/>
          <p:cNvSpPr/>
          <p:nvPr/>
        </p:nvSpPr>
        <p:spPr>
          <a:xfrm>
            <a:off x="7915320" y="2271600"/>
            <a:ext cx="457200" cy="990720"/>
          </a:xfrm>
          <a:prstGeom prst="rect">
            <a:avLst/>
          </a:prstGeom>
          <a:solidFill>
            <a:srgbClr val="99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0" name="Rectangle 368"/>
          <p:cNvSpPr/>
          <p:nvPr/>
        </p:nvSpPr>
        <p:spPr>
          <a:xfrm>
            <a:off x="7915320" y="2208240"/>
            <a:ext cx="457200" cy="712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1" name="Line 371"/>
          <p:cNvSpPr/>
          <p:nvPr/>
        </p:nvSpPr>
        <p:spPr>
          <a:xfrm flipV="1">
            <a:off x="6416640" y="5245200"/>
            <a:ext cx="495360" cy="4752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2" name="Line 372"/>
          <p:cNvSpPr/>
          <p:nvPr/>
        </p:nvSpPr>
        <p:spPr>
          <a:xfrm>
            <a:off x="7388280" y="3168720"/>
            <a:ext cx="527040" cy="824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3" name="Text Box 373"/>
          <p:cNvSpPr/>
          <p:nvPr/>
        </p:nvSpPr>
        <p:spPr>
          <a:xfrm>
            <a:off x="5970600" y="3700440"/>
            <a:ext cx="36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`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4" name="Text Box 374"/>
          <p:cNvSpPr/>
          <p:nvPr/>
        </p:nvSpPr>
        <p:spPr>
          <a:xfrm>
            <a:off x="6962760" y="3700440"/>
            <a:ext cx="36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`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5" name="Text Box 375"/>
          <p:cNvSpPr/>
          <p:nvPr/>
        </p:nvSpPr>
        <p:spPr>
          <a:xfrm>
            <a:off x="7801200" y="3700440"/>
            <a:ext cx="68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`07.1~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6" name="Text Box 379"/>
          <p:cNvSpPr/>
          <p:nvPr/>
        </p:nvSpPr>
        <p:spPr>
          <a:xfrm>
            <a:off x="8209800" y="3360600"/>
            <a:ext cx="11178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4320" indent="-184320"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MNCs(8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7" name="Text Box 380"/>
          <p:cNvSpPr/>
          <p:nvPr/>
        </p:nvSpPr>
        <p:spPr>
          <a:xfrm>
            <a:off x="8209080" y="2627280"/>
            <a:ext cx="11649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4320" indent="-184320"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Local(12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8" name="Text Box 381"/>
          <p:cNvSpPr/>
          <p:nvPr/>
        </p:nvSpPr>
        <p:spPr>
          <a:xfrm>
            <a:off x="8207640" y="2081160"/>
            <a:ext cx="12520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4320" indent="-184320"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Others(69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9" name="Rectangle 382"/>
          <p:cNvSpPr/>
          <p:nvPr/>
        </p:nvSpPr>
        <p:spPr>
          <a:xfrm>
            <a:off x="5923080" y="5313240"/>
            <a:ext cx="458640" cy="554040"/>
          </a:xfrm>
          <a:prstGeom prst="rect">
            <a:avLst/>
          </a:prstGeom>
          <a:solidFill>
            <a:srgbClr val="ffc000"/>
          </a:solidFill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0" name="Rectangle 383"/>
          <p:cNvSpPr/>
          <p:nvPr/>
        </p:nvSpPr>
        <p:spPr>
          <a:xfrm>
            <a:off x="5923080" y="4518000"/>
            <a:ext cx="458640" cy="771480"/>
          </a:xfrm>
          <a:prstGeom prst="rect">
            <a:avLst/>
          </a:prstGeom>
          <a:solidFill>
            <a:srgbClr val="99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1" name="Rectangle 384"/>
          <p:cNvSpPr/>
          <p:nvPr/>
        </p:nvSpPr>
        <p:spPr>
          <a:xfrm>
            <a:off x="5923080" y="4349880"/>
            <a:ext cx="458640" cy="16956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2" name="Text Box 386"/>
          <p:cNvSpPr/>
          <p:nvPr/>
        </p:nvSpPr>
        <p:spPr>
          <a:xfrm>
            <a:off x="5970600" y="5853240"/>
            <a:ext cx="36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`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3" name="Rectangle 388"/>
          <p:cNvSpPr/>
          <p:nvPr/>
        </p:nvSpPr>
        <p:spPr>
          <a:xfrm>
            <a:off x="6915240" y="5253120"/>
            <a:ext cx="458640" cy="614160"/>
          </a:xfrm>
          <a:prstGeom prst="rect">
            <a:avLst/>
          </a:prstGeom>
          <a:solidFill>
            <a:srgbClr val="ffc000"/>
          </a:solidFill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4" name="Rectangle 389"/>
          <p:cNvSpPr/>
          <p:nvPr/>
        </p:nvSpPr>
        <p:spPr>
          <a:xfrm>
            <a:off x="6915240" y="4479840"/>
            <a:ext cx="458640" cy="765360"/>
          </a:xfrm>
          <a:prstGeom prst="rect">
            <a:avLst/>
          </a:prstGeom>
          <a:solidFill>
            <a:srgbClr val="99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5" name="Rectangle 390"/>
          <p:cNvSpPr/>
          <p:nvPr/>
        </p:nvSpPr>
        <p:spPr>
          <a:xfrm>
            <a:off x="6915240" y="4349880"/>
            <a:ext cx="458640" cy="1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6" name="Text Box 392"/>
          <p:cNvSpPr/>
          <p:nvPr/>
        </p:nvSpPr>
        <p:spPr>
          <a:xfrm>
            <a:off x="6962760" y="5853240"/>
            <a:ext cx="36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`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7" name="Rectangle 394"/>
          <p:cNvSpPr/>
          <p:nvPr/>
        </p:nvSpPr>
        <p:spPr>
          <a:xfrm>
            <a:off x="7915320" y="5254560"/>
            <a:ext cx="457200" cy="608040"/>
          </a:xfrm>
          <a:prstGeom prst="rect">
            <a:avLst/>
          </a:prstGeom>
          <a:solidFill>
            <a:srgbClr val="ffc000"/>
          </a:solidFill>
          <a:ln w="381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8" name="Rectangle 395"/>
          <p:cNvSpPr/>
          <p:nvPr/>
        </p:nvSpPr>
        <p:spPr>
          <a:xfrm>
            <a:off x="7915320" y="4451400"/>
            <a:ext cx="457200" cy="770040"/>
          </a:xfrm>
          <a:prstGeom prst="rect">
            <a:avLst/>
          </a:prstGeom>
          <a:solidFill>
            <a:srgbClr val="99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9" name="Rectangle 396"/>
          <p:cNvSpPr/>
          <p:nvPr/>
        </p:nvSpPr>
        <p:spPr>
          <a:xfrm>
            <a:off x="7915320" y="4349880"/>
            <a:ext cx="457200" cy="11880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0" name="Text Box 398"/>
          <p:cNvSpPr/>
          <p:nvPr/>
        </p:nvSpPr>
        <p:spPr>
          <a:xfrm>
            <a:off x="7801200" y="5853240"/>
            <a:ext cx="68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`07.1~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1" name="Line 400"/>
          <p:cNvSpPr/>
          <p:nvPr/>
        </p:nvSpPr>
        <p:spPr>
          <a:xfrm>
            <a:off x="7388280" y="5245200"/>
            <a:ext cx="52704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2" name="Text Box 401"/>
          <p:cNvSpPr/>
          <p:nvPr/>
        </p:nvSpPr>
        <p:spPr>
          <a:xfrm>
            <a:off x="8209800" y="5421240"/>
            <a:ext cx="111780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4320" indent="-184320"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MNCs(7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3" name="Text Box 402"/>
          <p:cNvSpPr/>
          <p:nvPr/>
        </p:nvSpPr>
        <p:spPr>
          <a:xfrm>
            <a:off x="8209800" y="4703760"/>
            <a:ext cx="134352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4320" indent="-184320"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Local(Top3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4" name="Text Box 403"/>
          <p:cNvSpPr/>
          <p:nvPr/>
        </p:nvSpPr>
        <p:spPr>
          <a:xfrm>
            <a:off x="8207640" y="4278240"/>
            <a:ext cx="125208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4320" indent="-184320"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Others(94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5" name="Line 404"/>
          <p:cNvSpPr/>
          <p:nvPr/>
        </p:nvSpPr>
        <p:spPr>
          <a:xfrm>
            <a:off x="6408720" y="3102120"/>
            <a:ext cx="496800" cy="680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6" name="Text Box 405"/>
          <p:cNvSpPr/>
          <p:nvPr/>
        </p:nvSpPr>
        <p:spPr>
          <a:xfrm>
            <a:off x="5800680" y="6004080"/>
            <a:ext cx="288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Gulim"/>
              </a:rPr>
              <a:t>*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WM local top3: Haier, Little Swan, Rongshi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7" name="Text Box 406"/>
          <p:cNvSpPr/>
          <p:nvPr/>
        </p:nvSpPr>
        <p:spPr>
          <a:xfrm>
            <a:off x="1157400" y="6008760"/>
            <a:ext cx="333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Gulim"/>
              </a:rPr>
              <a:t>*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AC local top3: Haier, Midea, Gr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8" name="Text Box 407"/>
          <p:cNvSpPr/>
          <p:nvPr/>
        </p:nvSpPr>
        <p:spPr>
          <a:xfrm>
            <a:off x="454320" y="622440"/>
            <a:ext cx="780336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TV : MNC brands are growing fast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A : Few major local brands are getting stronger in product competitive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9" name="Rectangle 4" descr=""/>
          <p:cNvPicPr/>
          <p:nvPr/>
        </p:nvPicPr>
        <p:blipFill>
          <a:blip r:embed="rId1"/>
          <a:stretch/>
        </p:blipFill>
        <p:spPr>
          <a:xfrm>
            <a:off x="109440" y="85680"/>
            <a:ext cx="951120" cy="566640"/>
          </a:xfrm>
          <a:prstGeom prst="rect">
            <a:avLst/>
          </a:prstGeom>
          <a:ln w="0">
            <a:noFill/>
          </a:ln>
        </p:spPr>
      </p:pic>
      <p:sp>
        <p:nvSpPr>
          <p:cNvPr id="2890" name="直接连接符 101"/>
          <p:cNvSpPr/>
          <p:nvPr/>
        </p:nvSpPr>
        <p:spPr>
          <a:xfrm>
            <a:off x="965160" y="214200"/>
            <a:ext cx="0" cy="214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1" name="标题 2"/>
          <p:cNvSpPr/>
          <p:nvPr/>
        </p:nvSpPr>
        <p:spPr>
          <a:xfrm>
            <a:off x="950760" y="166680"/>
            <a:ext cx="1555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经营分析报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2" name="矩形 103" descr=""/>
          <p:cNvPicPr/>
          <p:nvPr/>
        </p:nvPicPr>
        <p:blipFill>
          <a:blip r:embed="rId2"/>
          <a:stretch/>
        </p:blipFill>
        <p:spPr>
          <a:xfrm>
            <a:off x="6566040" y="115920"/>
            <a:ext cx="3352680" cy="1133280"/>
          </a:xfrm>
          <a:prstGeom prst="rect">
            <a:avLst/>
          </a:prstGeom>
          <a:ln w="0">
            <a:noFill/>
          </a:ln>
        </p:spPr>
      </p:pic>
      <p:sp>
        <p:nvSpPr>
          <p:cNvPr id="2893" name="Rectangle 265"/>
          <p:cNvSpPr/>
          <p:nvPr/>
        </p:nvSpPr>
        <p:spPr>
          <a:xfrm>
            <a:off x="6741000" y="136440"/>
            <a:ext cx="30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바탕"/>
              </a:rPr>
              <a:t> Ⅱ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바탕"/>
              </a:rPr>
              <a:t>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바탕"/>
              </a:rPr>
              <a:t>Market understan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4" name="Rectangle 408"/>
          <p:cNvSpPr/>
          <p:nvPr/>
        </p:nvSpPr>
        <p:spPr>
          <a:xfrm>
            <a:off x="7135920" y="398520"/>
            <a:ext cx="1201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bfbfbf"/>
                </a:solidFill>
                <a:latin typeface="Arial"/>
              </a:rPr>
              <a:t>Competi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5" name=""/>
          <p:cNvGrpSpPr/>
          <p:nvPr/>
        </p:nvGrpSpPr>
        <p:grpSpPr>
          <a:xfrm>
            <a:off x="0" y="6407280"/>
            <a:ext cx="9918720" cy="237960"/>
            <a:chOff x="0" y="6407280"/>
            <a:chExt cx="9918720" cy="237960"/>
          </a:xfrm>
        </p:grpSpPr>
        <p:pic>
          <p:nvPicPr>
            <p:cNvPr id="2896" name="矩形 104" descr=""/>
            <p:cNvPicPr/>
            <p:nvPr/>
          </p:nvPicPr>
          <p:blipFill>
            <a:blip r:embed="rId3"/>
            <a:stretch/>
          </p:blipFill>
          <p:spPr>
            <a:xfrm>
              <a:off x="0" y="6407280"/>
              <a:ext cx="991728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7" name=""/>
            <p:cNvSpPr/>
            <p:nvPr/>
          </p:nvSpPr>
          <p:spPr>
            <a:xfrm>
              <a:off x="0" y="6408720"/>
              <a:ext cx="99187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98" name="灯片编号占位符 5"/>
          <p:cNvSpPr/>
          <p:nvPr/>
        </p:nvSpPr>
        <p:spPr>
          <a:xfrm>
            <a:off x="7397640" y="6364440"/>
            <a:ext cx="1486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ge   </a:t>
            </a:r>
            <a:fld id="{879AF604-9E8E-490A-9AD0-7CB28D8068FA}" type="slidenum">
              <a:rPr b="0" lang="zh-CN" sz="1000" spc="-1" strike="noStrike">
                <a:solidFill>
                  <a:srgbClr val="ffffff"/>
                </a:solidFill>
                <a:latin typeface="华文宋体"/>
                <a:ea typeface="华文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99" name="Object 214"/>
          <p:cNvGraphicFramePr/>
          <p:nvPr/>
        </p:nvGraphicFramePr>
        <p:xfrm>
          <a:off x="5416560" y="1460520"/>
          <a:ext cx="4056120" cy="469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0" name="Object 2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6560" y="1460520"/>
                    <a:ext cx="4056120" cy="469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01" name="Freeform 215"/>
          <p:cNvSpPr/>
          <p:nvPr/>
        </p:nvSpPr>
        <p:spPr>
          <a:xfrm>
            <a:off x="831960" y="4260960"/>
            <a:ext cx="480960" cy="639720"/>
          </a:xfrm>
          <a:custGeom>
            <a:avLst/>
            <a:gdLst>
              <a:gd name="textAreaLeft" fmla="*/ 0 w 480960"/>
              <a:gd name="textAreaRight" fmla="*/ 481320 w 480960"/>
              <a:gd name="textAreaTop" fmla="*/ 0 h 639720"/>
              <a:gd name="textAreaBottom" fmla="*/ 640080 h 639720"/>
            </a:gdLst>
            <a:ahLst/>
            <a:rect l="textAreaLeft" t="textAreaTop" r="textAreaRight" b="textAreaBottom"/>
            <a:pathLst>
              <a:path w="303" h="403">
                <a:moveTo>
                  <a:pt x="0" y="0"/>
                </a:moveTo>
                <a:lnTo>
                  <a:pt x="32" y="1"/>
                </a:lnTo>
                <a:lnTo>
                  <a:pt x="78" y="47"/>
                </a:lnTo>
                <a:lnTo>
                  <a:pt x="72" y="69"/>
                </a:lnTo>
                <a:lnTo>
                  <a:pt x="99" y="85"/>
                </a:lnTo>
                <a:lnTo>
                  <a:pt x="114" y="111"/>
                </a:lnTo>
                <a:lnTo>
                  <a:pt x="138" y="97"/>
                </a:lnTo>
                <a:lnTo>
                  <a:pt x="125" y="75"/>
                </a:lnTo>
                <a:lnTo>
                  <a:pt x="147" y="75"/>
                </a:lnTo>
                <a:lnTo>
                  <a:pt x="162" y="90"/>
                </a:lnTo>
                <a:lnTo>
                  <a:pt x="177" y="90"/>
                </a:lnTo>
                <a:lnTo>
                  <a:pt x="177" y="69"/>
                </a:lnTo>
                <a:lnTo>
                  <a:pt x="206" y="69"/>
                </a:lnTo>
                <a:lnTo>
                  <a:pt x="230" y="28"/>
                </a:lnTo>
                <a:lnTo>
                  <a:pt x="275" y="54"/>
                </a:lnTo>
                <a:lnTo>
                  <a:pt x="275" y="103"/>
                </a:lnTo>
                <a:lnTo>
                  <a:pt x="297" y="141"/>
                </a:lnTo>
                <a:lnTo>
                  <a:pt x="284" y="163"/>
                </a:lnTo>
                <a:lnTo>
                  <a:pt x="303" y="196"/>
                </a:lnTo>
                <a:lnTo>
                  <a:pt x="303" y="385"/>
                </a:lnTo>
                <a:lnTo>
                  <a:pt x="272" y="393"/>
                </a:lnTo>
                <a:lnTo>
                  <a:pt x="284" y="347"/>
                </a:lnTo>
                <a:lnTo>
                  <a:pt x="284" y="315"/>
                </a:lnTo>
                <a:lnTo>
                  <a:pt x="258" y="330"/>
                </a:lnTo>
                <a:lnTo>
                  <a:pt x="254" y="315"/>
                </a:lnTo>
                <a:lnTo>
                  <a:pt x="242" y="322"/>
                </a:lnTo>
                <a:lnTo>
                  <a:pt x="233" y="354"/>
                </a:lnTo>
                <a:lnTo>
                  <a:pt x="243" y="372"/>
                </a:lnTo>
                <a:lnTo>
                  <a:pt x="224" y="391"/>
                </a:lnTo>
                <a:lnTo>
                  <a:pt x="207" y="381"/>
                </a:lnTo>
                <a:lnTo>
                  <a:pt x="213" y="403"/>
                </a:lnTo>
                <a:lnTo>
                  <a:pt x="195" y="403"/>
                </a:lnTo>
                <a:lnTo>
                  <a:pt x="192" y="390"/>
                </a:lnTo>
                <a:lnTo>
                  <a:pt x="170" y="403"/>
                </a:lnTo>
                <a:lnTo>
                  <a:pt x="82" y="379"/>
                </a:lnTo>
                <a:lnTo>
                  <a:pt x="82" y="364"/>
                </a:lnTo>
                <a:lnTo>
                  <a:pt x="105" y="351"/>
                </a:lnTo>
                <a:lnTo>
                  <a:pt x="113" y="338"/>
                </a:lnTo>
                <a:lnTo>
                  <a:pt x="90" y="325"/>
                </a:lnTo>
                <a:lnTo>
                  <a:pt x="102" y="313"/>
                </a:lnTo>
                <a:lnTo>
                  <a:pt x="84" y="282"/>
                </a:lnTo>
                <a:lnTo>
                  <a:pt x="63" y="303"/>
                </a:lnTo>
                <a:lnTo>
                  <a:pt x="38" y="303"/>
                </a:lnTo>
                <a:lnTo>
                  <a:pt x="3" y="324"/>
                </a:lnTo>
                <a:lnTo>
                  <a:pt x="0" y="0"/>
                </a:lnTo>
                <a:close/>
              </a:path>
            </a:pathLst>
          </a:custGeom>
          <a:solidFill>
            <a:srgbClr val="ffff99"/>
          </a:solidFill>
          <a:ln cap="rnd" w="126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2" name="Freeform 216"/>
          <p:cNvSpPr/>
          <p:nvPr/>
        </p:nvSpPr>
        <p:spPr>
          <a:xfrm>
            <a:off x="831960" y="2486160"/>
            <a:ext cx="434880" cy="712800"/>
          </a:xfrm>
          <a:custGeom>
            <a:avLst/>
            <a:gdLst>
              <a:gd name="textAreaLeft" fmla="*/ 0 w 434880"/>
              <a:gd name="textAreaRight" fmla="*/ 435240 w 434880"/>
              <a:gd name="textAreaTop" fmla="*/ 0 h 712800"/>
              <a:gd name="textAreaBottom" fmla="*/ 713160 h 712800"/>
            </a:gdLst>
            <a:ahLst/>
            <a:rect l="textAreaLeft" t="textAreaTop" r="textAreaRight" b="textAreaBottom"/>
            <a:pathLst>
              <a:path w="274" h="449">
                <a:moveTo>
                  <a:pt x="0" y="0"/>
                </a:moveTo>
                <a:lnTo>
                  <a:pt x="20" y="8"/>
                </a:lnTo>
                <a:lnTo>
                  <a:pt x="67" y="8"/>
                </a:lnTo>
                <a:lnTo>
                  <a:pt x="95" y="24"/>
                </a:lnTo>
                <a:lnTo>
                  <a:pt x="147" y="38"/>
                </a:lnTo>
                <a:lnTo>
                  <a:pt x="186" y="105"/>
                </a:lnTo>
                <a:lnTo>
                  <a:pt x="213" y="98"/>
                </a:lnTo>
                <a:lnTo>
                  <a:pt x="223" y="135"/>
                </a:lnTo>
                <a:lnTo>
                  <a:pt x="274" y="224"/>
                </a:lnTo>
                <a:lnTo>
                  <a:pt x="244" y="276"/>
                </a:lnTo>
                <a:lnTo>
                  <a:pt x="238" y="298"/>
                </a:lnTo>
                <a:lnTo>
                  <a:pt x="219" y="331"/>
                </a:lnTo>
                <a:lnTo>
                  <a:pt x="160" y="331"/>
                </a:lnTo>
                <a:lnTo>
                  <a:pt x="132" y="359"/>
                </a:lnTo>
                <a:lnTo>
                  <a:pt x="85" y="372"/>
                </a:lnTo>
                <a:lnTo>
                  <a:pt x="45" y="412"/>
                </a:lnTo>
                <a:lnTo>
                  <a:pt x="26" y="407"/>
                </a:lnTo>
                <a:lnTo>
                  <a:pt x="2" y="449"/>
                </a:lnTo>
                <a:lnTo>
                  <a:pt x="0" y="0"/>
                </a:lnTo>
                <a:close/>
              </a:path>
            </a:pathLst>
          </a:custGeom>
          <a:solidFill>
            <a:srgbClr val="ffff99"/>
          </a:solidFill>
          <a:ln cap="rnd" w="126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3" name="Freeform 217"/>
          <p:cNvSpPr/>
          <p:nvPr/>
        </p:nvSpPr>
        <p:spPr>
          <a:xfrm>
            <a:off x="831960" y="3319560"/>
            <a:ext cx="928440" cy="1103040"/>
          </a:xfrm>
          <a:custGeom>
            <a:avLst/>
            <a:gdLst>
              <a:gd name="textAreaLeft" fmla="*/ 0 w 928440"/>
              <a:gd name="textAreaRight" fmla="*/ 928800 w 928440"/>
              <a:gd name="textAreaTop" fmla="*/ 0 h 1103040"/>
              <a:gd name="textAreaBottom" fmla="*/ 1103400 h 1103040"/>
            </a:gdLst>
            <a:ahLst/>
            <a:rect l="textAreaLeft" t="textAreaTop" r="textAreaRight" b="textAreaBottom"/>
            <a:pathLst>
              <a:path w="585" h="695">
                <a:moveTo>
                  <a:pt x="0" y="8"/>
                </a:moveTo>
                <a:lnTo>
                  <a:pt x="32" y="0"/>
                </a:lnTo>
                <a:lnTo>
                  <a:pt x="159" y="34"/>
                </a:lnTo>
                <a:lnTo>
                  <a:pt x="225" y="100"/>
                </a:lnTo>
                <a:lnTo>
                  <a:pt x="252" y="53"/>
                </a:lnTo>
                <a:lnTo>
                  <a:pt x="291" y="75"/>
                </a:lnTo>
                <a:lnTo>
                  <a:pt x="360" y="75"/>
                </a:lnTo>
                <a:lnTo>
                  <a:pt x="380" y="110"/>
                </a:lnTo>
                <a:lnTo>
                  <a:pt x="435" y="142"/>
                </a:lnTo>
                <a:lnTo>
                  <a:pt x="518" y="215"/>
                </a:lnTo>
                <a:lnTo>
                  <a:pt x="528" y="197"/>
                </a:lnTo>
                <a:lnTo>
                  <a:pt x="572" y="273"/>
                </a:lnTo>
                <a:lnTo>
                  <a:pt x="585" y="322"/>
                </a:lnTo>
                <a:lnTo>
                  <a:pt x="585" y="359"/>
                </a:lnTo>
                <a:lnTo>
                  <a:pt x="576" y="375"/>
                </a:lnTo>
                <a:lnTo>
                  <a:pt x="560" y="384"/>
                </a:lnTo>
                <a:lnTo>
                  <a:pt x="549" y="426"/>
                </a:lnTo>
                <a:lnTo>
                  <a:pt x="507" y="437"/>
                </a:lnTo>
                <a:lnTo>
                  <a:pt x="507" y="465"/>
                </a:lnTo>
                <a:lnTo>
                  <a:pt x="526" y="476"/>
                </a:lnTo>
                <a:lnTo>
                  <a:pt x="497" y="493"/>
                </a:lnTo>
                <a:lnTo>
                  <a:pt x="459" y="483"/>
                </a:lnTo>
                <a:lnTo>
                  <a:pt x="440" y="483"/>
                </a:lnTo>
                <a:lnTo>
                  <a:pt x="440" y="507"/>
                </a:lnTo>
                <a:lnTo>
                  <a:pt x="457" y="536"/>
                </a:lnTo>
                <a:lnTo>
                  <a:pt x="494" y="557"/>
                </a:lnTo>
                <a:lnTo>
                  <a:pt x="491" y="568"/>
                </a:lnTo>
                <a:lnTo>
                  <a:pt x="533" y="592"/>
                </a:lnTo>
                <a:lnTo>
                  <a:pt x="497" y="602"/>
                </a:lnTo>
                <a:lnTo>
                  <a:pt x="480" y="631"/>
                </a:lnTo>
                <a:lnTo>
                  <a:pt x="419" y="631"/>
                </a:lnTo>
                <a:lnTo>
                  <a:pt x="395" y="607"/>
                </a:lnTo>
                <a:lnTo>
                  <a:pt x="395" y="630"/>
                </a:lnTo>
                <a:lnTo>
                  <a:pt x="379" y="626"/>
                </a:lnTo>
                <a:lnTo>
                  <a:pt x="344" y="591"/>
                </a:lnTo>
                <a:lnTo>
                  <a:pt x="332" y="591"/>
                </a:lnTo>
                <a:lnTo>
                  <a:pt x="332" y="570"/>
                </a:lnTo>
                <a:lnTo>
                  <a:pt x="302" y="518"/>
                </a:lnTo>
                <a:lnTo>
                  <a:pt x="271" y="500"/>
                </a:lnTo>
                <a:lnTo>
                  <a:pt x="257" y="492"/>
                </a:lnTo>
                <a:lnTo>
                  <a:pt x="238" y="525"/>
                </a:lnTo>
                <a:lnTo>
                  <a:pt x="246" y="539"/>
                </a:lnTo>
                <a:lnTo>
                  <a:pt x="216" y="591"/>
                </a:lnTo>
                <a:lnTo>
                  <a:pt x="233" y="621"/>
                </a:lnTo>
                <a:lnTo>
                  <a:pt x="221" y="633"/>
                </a:lnTo>
                <a:lnTo>
                  <a:pt x="204" y="663"/>
                </a:lnTo>
                <a:lnTo>
                  <a:pt x="179" y="663"/>
                </a:lnTo>
                <a:lnTo>
                  <a:pt x="170" y="678"/>
                </a:lnTo>
                <a:lnTo>
                  <a:pt x="153" y="668"/>
                </a:lnTo>
                <a:lnTo>
                  <a:pt x="120" y="668"/>
                </a:lnTo>
                <a:lnTo>
                  <a:pt x="131" y="687"/>
                </a:lnTo>
                <a:lnTo>
                  <a:pt x="118" y="695"/>
                </a:lnTo>
                <a:lnTo>
                  <a:pt x="102" y="679"/>
                </a:lnTo>
                <a:lnTo>
                  <a:pt x="80" y="666"/>
                </a:lnTo>
                <a:lnTo>
                  <a:pt x="80" y="635"/>
                </a:lnTo>
                <a:lnTo>
                  <a:pt x="30" y="585"/>
                </a:lnTo>
                <a:lnTo>
                  <a:pt x="2" y="596"/>
                </a:lnTo>
                <a:lnTo>
                  <a:pt x="0" y="8"/>
                </a:lnTo>
                <a:close/>
              </a:path>
            </a:pathLst>
          </a:custGeom>
          <a:solidFill>
            <a:srgbClr val="ffff99"/>
          </a:solidFill>
          <a:ln cap="rnd" w="1260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4" name="Text Box 218"/>
          <p:cNvSpPr/>
          <p:nvPr/>
        </p:nvSpPr>
        <p:spPr>
          <a:xfrm>
            <a:off x="293760" y="6216480"/>
            <a:ext cx="45752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603360" indent="-603360">
              <a:spcBef>
                <a:spcPts val="249"/>
              </a:spcBef>
              <a:tabLst>
                <a:tab algn="l" pos="0"/>
                <a:tab algn="r" pos="55872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华文楷体"/>
              </a:rPr>
              <a:t>Source: GFK (`07.1~10) , Circle size means relative Market Size by bra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spcBef>
                <a:spcPts val="249"/>
              </a:spcBef>
              <a:tabLst>
                <a:tab algn="l" pos="0"/>
                <a:tab algn="r" pos="55872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华文楷体"/>
              </a:rPr>
              <a:t>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5" name=""/>
          <p:cNvGrpSpPr/>
          <p:nvPr/>
        </p:nvGrpSpPr>
        <p:grpSpPr>
          <a:xfrm>
            <a:off x="1005480" y="1542960"/>
            <a:ext cx="1518480" cy="538200"/>
            <a:chOff x="1005480" y="1542960"/>
            <a:chExt cx="1518480" cy="538200"/>
          </a:xfrm>
        </p:grpSpPr>
        <p:sp>
          <p:nvSpPr>
            <p:cNvPr id="2906" name="Oval 220"/>
            <p:cNvSpPr/>
            <p:nvPr/>
          </p:nvSpPr>
          <p:spPr>
            <a:xfrm>
              <a:off x="1568160" y="1549440"/>
              <a:ext cx="421920" cy="422280"/>
            </a:xfrm>
            <a:prstGeom prst="ellipse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spcBef>
                  <a:spcPts val="74"/>
                </a:spcBef>
                <a:spcAft>
                  <a:spcPts val="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7" name="Arc 221"/>
            <p:cNvSpPr/>
            <p:nvPr/>
          </p:nvSpPr>
          <p:spPr>
            <a:xfrm>
              <a:off x="1766520" y="1558800"/>
              <a:ext cx="228240" cy="279360"/>
            </a:xfrm>
            <a:custGeom>
              <a:avLst/>
              <a:gdLst>
                <a:gd name="textAreaLeft" fmla="*/ 0 w 228240"/>
                <a:gd name="textAreaRight" fmla="*/ 228600 w 228240"/>
                <a:gd name="textAreaTop" fmla="*/ 0 h 279360"/>
                <a:gd name="textAreaBottom" fmla="*/ 279720 h 279360"/>
              </a:gdLst>
              <a:ahLst/>
              <a:rect l="textAreaLeft" t="textAreaTop" r="textAreaRight" b="textAreaBottom"/>
              <a:pathLst>
                <a:path fill="none" w="21600" h="28884">
                  <a:moveTo>
                    <a:pt x="1657" y="-1"/>
                  </a:moveTo>
                  <a:cubicBezTo>
                    <a:pt x="12910" y="865"/>
                    <a:pt x="21600" y="10249"/>
                    <a:pt x="21600" y="21536"/>
                  </a:cubicBezTo>
                  <a:cubicBezTo>
                    <a:pt x="21600" y="24041"/>
                    <a:pt x="21164" y="26527"/>
                    <a:pt x="20311" y="28883"/>
                  </a:cubicBezTo>
                </a:path>
                <a:path stroke="0" w="21600" h="28884">
                  <a:moveTo>
                    <a:pt x="1657" y="-1"/>
                  </a:moveTo>
                  <a:cubicBezTo>
                    <a:pt x="12910" y="865"/>
                    <a:pt x="21600" y="10249"/>
                    <a:pt x="21600" y="21536"/>
                  </a:cubicBezTo>
                  <a:cubicBezTo>
                    <a:pt x="21600" y="24041"/>
                    <a:pt x="21164" y="26527"/>
                    <a:pt x="20311" y="28883"/>
                  </a:cubicBezTo>
                  <a:lnTo>
                    <a:pt x="0" y="21536"/>
                  </a:lnTo>
                  <a:lnTo>
                    <a:pt x="1657" y="-1"/>
                  </a:lnTo>
                  <a:close/>
                </a:path>
              </a:pathLst>
            </a:custGeom>
            <a:solidFill>
              <a:srgbClr val="9fadc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8" name="Text Box 222"/>
            <p:cNvSpPr/>
            <p:nvPr/>
          </p:nvSpPr>
          <p:spPr>
            <a:xfrm>
              <a:off x="1902960" y="1542960"/>
              <a:ext cx="621000" cy="24480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001f3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cc0000"/>
                  </a:solidFill>
                  <a:latin typeface="Arial"/>
                </a:rPr>
                <a:t>LG M/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9" name="Text Box 223"/>
            <p:cNvSpPr/>
            <p:nvPr/>
          </p:nvSpPr>
          <p:spPr>
            <a:xfrm>
              <a:off x="1005480" y="1682640"/>
              <a:ext cx="1060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arket siz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333399"/>
                  </a:solidFill>
                  <a:latin typeface="Arial"/>
                </a:rPr>
                <a:t>Market por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0" name="Freeform 224"/>
          <p:cNvSpPr/>
          <p:nvPr/>
        </p:nvSpPr>
        <p:spPr>
          <a:xfrm>
            <a:off x="1847880" y="5173560"/>
            <a:ext cx="858960" cy="657360"/>
          </a:xfrm>
          <a:custGeom>
            <a:avLst/>
            <a:gdLst>
              <a:gd name="textAreaLeft" fmla="*/ 0 w 858960"/>
              <a:gd name="textAreaRight" fmla="*/ 859320 w 858960"/>
              <a:gd name="textAreaTop" fmla="*/ 0 h 657360"/>
              <a:gd name="textAreaBottom" fmla="*/ 657720 h 657360"/>
            </a:gdLst>
            <a:ahLst/>
            <a:rect l="textAreaLeft" t="textAreaTop" r="textAreaRight" b="textAreaBottom"/>
            <a:pathLst>
              <a:path w="458" h="359">
                <a:moveTo>
                  <a:pt x="307" y="349"/>
                </a:moveTo>
                <a:lnTo>
                  <a:pt x="323" y="325"/>
                </a:lnTo>
                <a:lnTo>
                  <a:pt x="340" y="325"/>
                </a:lnTo>
                <a:lnTo>
                  <a:pt x="381" y="275"/>
                </a:lnTo>
                <a:lnTo>
                  <a:pt x="406" y="258"/>
                </a:lnTo>
                <a:lnTo>
                  <a:pt x="415" y="225"/>
                </a:lnTo>
                <a:lnTo>
                  <a:pt x="415" y="199"/>
                </a:lnTo>
                <a:lnTo>
                  <a:pt x="448" y="174"/>
                </a:lnTo>
                <a:lnTo>
                  <a:pt x="448" y="158"/>
                </a:lnTo>
                <a:lnTo>
                  <a:pt x="457" y="150"/>
                </a:lnTo>
                <a:lnTo>
                  <a:pt x="448" y="142"/>
                </a:lnTo>
                <a:lnTo>
                  <a:pt x="448" y="117"/>
                </a:lnTo>
                <a:lnTo>
                  <a:pt x="423" y="117"/>
                </a:lnTo>
                <a:lnTo>
                  <a:pt x="423" y="92"/>
                </a:lnTo>
                <a:lnTo>
                  <a:pt x="415" y="92"/>
                </a:lnTo>
                <a:lnTo>
                  <a:pt x="406" y="108"/>
                </a:lnTo>
                <a:lnTo>
                  <a:pt x="398" y="108"/>
                </a:lnTo>
                <a:lnTo>
                  <a:pt x="398" y="100"/>
                </a:lnTo>
                <a:lnTo>
                  <a:pt x="406" y="66"/>
                </a:lnTo>
                <a:lnTo>
                  <a:pt x="406" y="50"/>
                </a:lnTo>
                <a:lnTo>
                  <a:pt x="415" y="41"/>
                </a:lnTo>
                <a:lnTo>
                  <a:pt x="415" y="8"/>
                </a:lnTo>
                <a:lnTo>
                  <a:pt x="398" y="0"/>
                </a:lnTo>
                <a:lnTo>
                  <a:pt x="381" y="8"/>
                </a:lnTo>
                <a:lnTo>
                  <a:pt x="365" y="8"/>
                </a:lnTo>
                <a:lnTo>
                  <a:pt x="348" y="25"/>
                </a:lnTo>
                <a:lnTo>
                  <a:pt x="340" y="25"/>
                </a:lnTo>
                <a:lnTo>
                  <a:pt x="331" y="16"/>
                </a:lnTo>
                <a:lnTo>
                  <a:pt x="323" y="25"/>
                </a:lnTo>
                <a:lnTo>
                  <a:pt x="299" y="25"/>
                </a:lnTo>
                <a:lnTo>
                  <a:pt x="282" y="41"/>
                </a:lnTo>
                <a:lnTo>
                  <a:pt x="274" y="66"/>
                </a:lnTo>
                <a:lnTo>
                  <a:pt x="249" y="58"/>
                </a:lnTo>
                <a:lnTo>
                  <a:pt x="241" y="66"/>
                </a:lnTo>
                <a:lnTo>
                  <a:pt x="215" y="66"/>
                </a:lnTo>
                <a:lnTo>
                  <a:pt x="207" y="92"/>
                </a:lnTo>
                <a:lnTo>
                  <a:pt x="190" y="92"/>
                </a:lnTo>
                <a:lnTo>
                  <a:pt x="165" y="83"/>
                </a:lnTo>
                <a:lnTo>
                  <a:pt x="157" y="58"/>
                </a:lnTo>
                <a:lnTo>
                  <a:pt x="149" y="66"/>
                </a:lnTo>
                <a:lnTo>
                  <a:pt x="149" y="83"/>
                </a:lnTo>
                <a:lnTo>
                  <a:pt x="132" y="83"/>
                </a:lnTo>
                <a:lnTo>
                  <a:pt x="99" y="108"/>
                </a:lnTo>
                <a:lnTo>
                  <a:pt x="83" y="125"/>
                </a:lnTo>
                <a:lnTo>
                  <a:pt x="41" y="108"/>
                </a:lnTo>
                <a:lnTo>
                  <a:pt x="25" y="108"/>
                </a:lnTo>
                <a:lnTo>
                  <a:pt x="16" y="108"/>
                </a:lnTo>
                <a:lnTo>
                  <a:pt x="0" y="117"/>
                </a:lnTo>
                <a:lnTo>
                  <a:pt x="0" y="133"/>
                </a:lnTo>
                <a:lnTo>
                  <a:pt x="25" y="133"/>
                </a:lnTo>
                <a:lnTo>
                  <a:pt x="33" y="158"/>
                </a:lnTo>
                <a:lnTo>
                  <a:pt x="83" y="158"/>
                </a:lnTo>
                <a:lnTo>
                  <a:pt x="91" y="166"/>
                </a:lnTo>
                <a:lnTo>
                  <a:pt x="91" y="199"/>
                </a:lnTo>
                <a:lnTo>
                  <a:pt x="58" y="199"/>
                </a:lnTo>
                <a:lnTo>
                  <a:pt x="50" y="208"/>
                </a:lnTo>
                <a:lnTo>
                  <a:pt x="58" y="225"/>
                </a:lnTo>
                <a:lnTo>
                  <a:pt x="83" y="233"/>
                </a:lnTo>
                <a:lnTo>
                  <a:pt x="124" y="250"/>
                </a:lnTo>
                <a:lnTo>
                  <a:pt x="124" y="258"/>
                </a:lnTo>
                <a:lnTo>
                  <a:pt x="115" y="275"/>
                </a:lnTo>
                <a:lnTo>
                  <a:pt x="124" y="283"/>
                </a:lnTo>
                <a:lnTo>
                  <a:pt x="124" y="308"/>
                </a:lnTo>
                <a:lnTo>
                  <a:pt x="190" y="342"/>
                </a:lnTo>
                <a:lnTo>
                  <a:pt x="207" y="342"/>
                </a:lnTo>
                <a:lnTo>
                  <a:pt x="232" y="342"/>
                </a:lnTo>
                <a:lnTo>
                  <a:pt x="241" y="349"/>
                </a:lnTo>
                <a:lnTo>
                  <a:pt x="232" y="325"/>
                </a:lnTo>
                <a:lnTo>
                  <a:pt x="266" y="333"/>
                </a:lnTo>
                <a:lnTo>
                  <a:pt x="274" y="349"/>
                </a:lnTo>
                <a:lnTo>
                  <a:pt x="291" y="358"/>
                </a:lnTo>
                <a:lnTo>
                  <a:pt x="307" y="349"/>
                </a:lnTo>
              </a:path>
            </a:pathLst>
          </a:custGeom>
          <a:solidFill>
            <a:srgbClr val="66ff66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1" name="Freeform 225"/>
          <p:cNvSpPr/>
          <p:nvPr/>
        </p:nvSpPr>
        <p:spPr>
          <a:xfrm>
            <a:off x="1146240" y="4091040"/>
            <a:ext cx="1342800" cy="1082520"/>
          </a:xfrm>
          <a:custGeom>
            <a:avLst/>
            <a:gdLst>
              <a:gd name="textAreaLeft" fmla="*/ 0 w 1342800"/>
              <a:gd name="textAreaRight" fmla="*/ 1343160 w 1342800"/>
              <a:gd name="textAreaTop" fmla="*/ 0 h 1082520"/>
              <a:gd name="textAreaBottom" fmla="*/ 1082880 h 1082520"/>
            </a:gdLst>
            <a:ahLst/>
            <a:rect l="textAreaLeft" t="textAreaTop" r="textAreaRight" b="textAreaBottom"/>
            <a:pathLst>
              <a:path w="717" h="592">
                <a:moveTo>
                  <a:pt x="658" y="449"/>
                </a:moveTo>
                <a:lnTo>
                  <a:pt x="650" y="466"/>
                </a:lnTo>
                <a:lnTo>
                  <a:pt x="633" y="466"/>
                </a:lnTo>
                <a:lnTo>
                  <a:pt x="633" y="458"/>
                </a:lnTo>
                <a:lnTo>
                  <a:pt x="616" y="458"/>
                </a:lnTo>
                <a:lnTo>
                  <a:pt x="599" y="399"/>
                </a:lnTo>
                <a:lnTo>
                  <a:pt x="574" y="399"/>
                </a:lnTo>
                <a:lnTo>
                  <a:pt x="566" y="391"/>
                </a:lnTo>
                <a:lnTo>
                  <a:pt x="557" y="399"/>
                </a:lnTo>
                <a:lnTo>
                  <a:pt x="549" y="424"/>
                </a:lnTo>
                <a:lnTo>
                  <a:pt x="524" y="416"/>
                </a:lnTo>
                <a:lnTo>
                  <a:pt x="524" y="433"/>
                </a:lnTo>
                <a:lnTo>
                  <a:pt x="507" y="441"/>
                </a:lnTo>
                <a:lnTo>
                  <a:pt x="499" y="433"/>
                </a:lnTo>
                <a:lnTo>
                  <a:pt x="482" y="433"/>
                </a:lnTo>
                <a:lnTo>
                  <a:pt x="466" y="424"/>
                </a:lnTo>
                <a:lnTo>
                  <a:pt x="450" y="441"/>
                </a:lnTo>
                <a:lnTo>
                  <a:pt x="458" y="458"/>
                </a:lnTo>
                <a:lnTo>
                  <a:pt x="482" y="466"/>
                </a:lnTo>
                <a:lnTo>
                  <a:pt x="482" y="491"/>
                </a:lnTo>
                <a:lnTo>
                  <a:pt x="433" y="491"/>
                </a:lnTo>
                <a:lnTo>
                  <a:pt x="416" y="466"/>
                </a:lnTo>
                <a:lnTo>
                  <a:pt x="391" y="483"/>
                </a:lnTo>
                <a:lnTo>
                  <a:pt x="374" y="466"/>
                </a:lnTo>
                <a:lnTo>
                  <a:pt x="366" y="424"/>
                </a:lnTo>
                <a:lnTo>
                  <a:pt x="341" y="433"/>
                </a:lnTo>
                <a:lnTo>
                  <a:pt x="341" y="449"/>
                </a:lnTo>
                <a:lnTo>
                  <a:pt x="324" y="458"/>
                </a:lnTo>
                <a:lnTo>
                  <a:pt x="324" y="474"/>
                </a:lnTo>
                <a:lnTo>
                  <a:pt x="299" y="499"/>
                </a:lnTo>
                <a:lnTo>
                  <a:pt x="274" y="499"/>
                </a:lnTo>
                <a:lnTo>
                  <a:pt x="282" y="591"/>
                </a:lnTo>
                <a:lnTo>
                  <a:pt x="257" y="591"/>
                </a:lnTo>
                <a:lnTo>
                  <a:pt x="250" y="582"/>
                </a:lnTo>
                <a:lnTo>
                  <a:pt x="233" y="591"/>
                </a:lnTo>
                <a:lnTo>
                  <a:pt x="199" y="591"/>
                </a:lnTo>
                <a:lnTo>
                  <a:pt x="199" y="582"/>
                </a:lnTo>
                <a:lnTo>
                  <a:pt x="191" y="574"/>
                </a:lnTo>
                <a:lnTo>
                  <a:pt x="191" y="541"/>
                </a:lnTo>
                <a:lnTo>
                  <a:pt x="158" y="466"/>
                </a:lnTo>
                <a:lnTo>
                  <a:pt x="141" y="458"/>
                </a:lnTo>
                <a:lnTo>
                  <a:pt x="141" y="466"/>
                </a:lnTo>
                <a:lnTo>
                  <a:pt x="124" y="449"/>
                </a:lnTo>
                <a:lnTo>
                  <a:pt x="124" y="441"/>
                </a:lnTo>
                <a:lnTo>
                  <a:pt x="99" y="399"/>
                </a:lnTo>
                <a:lnTo>
                  <a:pt x="82" y="399"/>
                </a:lnTo>
                <a:lnTo>
                  <a:pt x="74" y="433"/>
                </a:lnTo>
                <a:lnTo>
                  <a:pt x="57" y="441"/>
                </a:lnTo>
                <a:lnTo>
                  <a:pt x="74" y="233"/>
                </a:lnTo>
                <a:lnTo>
                  <a:pt x="49" y="208"/>
                </a:lnTo>
                <a:lnTo>
                  <a:pt x="65" y="199"/>
                </a:lnTo>
                <a:lnTo>
                  <a:pt x="33" y="142"/>
                </a:lnTo>
                <a:lnTo>
                  <a:pt x="40" y="125"/>
                </a:lnTo>
                <a:lnTo>
                  <a:pt x="16" y="100"/>
                </a:lnTo>
                <a:lnTo>
                  <a:pt x="8" y="100"/>
                </a:lnTo>
                <a:lnTo>
                  <a:pt x="0" y="83"/>
                </a:lnTo>
                <a:lnTo>
                  <a:pt x="8" y="58"/>
                </a:lnTo>
                <a:lnTo>
                  <a:pt x="25" y="41"/>
                </a:lnTo>
                <a:lnTo>
                  <a:pt x="16" y="25"/>
                </a:lnTo>
                <a:lnTo>
                  <a:pt x="16" y="0"/>
                </a:lnTo>
                <a:lnTo>
                  <a:pt x="33" y="0"/>
                </a:lnTo>
                <a:lnTo>
                  <a:pt x="40" y="8"/>
                </a:lnTo>
                <a:lnTo>
                  <a:pt x="65" y="8"/>
                </a:lnTo>
                <a:lnTo>
                  <a:pt x="82" y="33"/>
                </a:lnTo>
                <a:lnTo>
                  <a:pt x="91" y="75"/>
                </a:lnTo>
                <a:lnTo>
                  <a:pt x="99" y="75"/>
                </a:lnTo>
                <a:lnTo>
                  <a:pt x="124" y="108"/>
                </a:lnTo>
                <a:lnTo>
                  <a:pt x="141" y="108"/>
                </a:lnTo>
                <a:lnTo>
                  <a:pt x="141" y="92"/>
                </a:lnTo>
                <a:lnTo>
                  <a:pt x="158" y="100"/>
                </a:lnTo>
                <a:lnTo>
                  <a:pt x="166" y="117"/>
                </a:lnTo>
                <a:lnTo>
                  <a:pt x="208" y="117"/>
                </a:lnTo>
                <a:lnTo>
                  <a:pt x="216" y="83"/>
                </a:lnTo>
                <a:lnTo>
                  <a:pt x="241" y="83"/>
                </a:lnTo>
                <a:lnTo>
                  <a:pt x="274" y="92"/>
                </a:lnTo>
                <a:lnTo>
                  <a:pt x="291" y="66"/>
                </a:lnTo>
                <a:lnTo>
                  <a:pt x="282" y="41"/>
                </a:lnTo>
                <a:lnTo>
                  <a:pt x="282" y="25"/>
                </a:lnTo>
                <a:lnTo>
                  <a:pt x="299" y="25"/>
                </a:lnTo>
                <a:lnTo>
                  <a:pt x="316" y="16"/>
                </a:lnTo>
                <a:lnTo>
                  <a:pt x="332" y="41"/>
                </a:lnTo>
                <a:lnTo>
                  <a:pt x="358" y="58"/>
                </a:lnTo>
                <a:lnTo>
                  <a:pt x="374" y="66"/>
                </a:lnTo>
                <a:lnTo>
                  <a:pt x="383" y="83"/>
                </a:lnTo>
                <a:lnTo>
                  <a:pt x="399" y="125"/>
                </a:lnTo>
                <a:lnTo>
                  <a:pt x="416" y="142"/>
                </a:lnTo>
                <a:lnTo>
                  <a:pt x="450" y="142"/>
                </a:lnTo>
                <a:lnTo>
                  <a:pt x="466" y="117"/>
                </a:lnTo>
                <a:lnTo>
                  <a:pt x="482" y="125"/>
                </a:lnTo>
                <a:lnTo>
                  <a:pt x="490" y="133"/>
                </a:lnTo>
                <a:lnTo>
                  <a:pt x="524" y="133"/>
                </a:lnTo>
                <a:lnTo>
                  <a:pt x="566" y="167"/>
                </a:lnTo>
                <a:lnTo>
                  <a:pt x="591" y="167"/>
                </a:lnTo>
                <a:lnTo>
                  <a:pt x="616" y="175"/>
                </a:lnTo>
                <a:lnTo>
                  <a:pt x="666" y="208"/>
                </a:lnTo>
                <a:lnTo>
                  <a:pt x="683" y="208"/>
                </a:lnTo>
                <a:lnTo>
                  <a:pt x="716" y="241"/>
                </a:lnTo>
                <a:lnTo>
                  <a:pt x="716" y="275"/>
                </a:lnTo>
                <a:lnTo>
                  <a:pt x="699" y="275"/>
                </a:lnTo>
                <a:lnTo>
                  <a:pt x="675" y="291"/>
                </a:lnTo>
                <a:lnTo>
                  <a:pt x="624" y="291"/>
                </a:lnTo>
                <a:lnTo>
                  <a:pt x="616" y="300"/>
                </a:lnTo>
                <a:lnTo>
                  <a:pt x="616" y="316"/>
                </a:lnTo>
                <a:lnTo>
                  <a:pt x="624" y="325"/>
                </a:lnTo>
                <a:lnTo>
                  <a:pt x="624" y="342"/>
                </a:lnTo>
                <a:lnTo>
                  <a:pt x="608" y="350"/>
                </a:lnTo>
                <a:lnTo>
                  <a:pt x="624" y="350"/>
                </a:lnTo>
                <a:lnTo>
                  <a:pt x="658" y="399"/>
                </a:lnTo>
                <a:lnTo>
                  <a:pt x="666" y="433"/>
                </a:lnTo>
                <a:lnTo>
                  <a:pt x="658" y="449"/>
                </a:lnTo>
              </a:path>
            </a:pathLst>
          </a:custGeom>
          <a:solidFill>
            <a:srgbClr val="ffff99"/>
          </a:solidFill>
          <a:ln cap="rnd" w="1260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2" name="Freeform 226"/>
          <p:cNvSpPr/>
          <p:nvPr/>
        </p:nvSpPr>
        <p:spPr>
          <a:xfrm>
            <a:off x="2023920" y="3433680"/>
            <a:ext cx="576360" cy="1054080"/>
          </a:xfrm>
          <a:custGeom>
            <a:avLst/>
            <a:gdLst>
              <a:gd name="textAreaLeft" fmla="*/ 0 w 576360"/>
              <a:gd name="textAreaRight" fmla="*/ 576720 w 5763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308" h="575">
                <a:moveTo>
                  <a:pt x="298" y="457"/>
                </a:moveTo>
                <a:lnTo>
                  <a:pt x="281" y="466"/>
                </a:lnTo>
                <a:lnTo>
                  <a:pt x="265" y="457"/>
                </a:lnTo>
                <a:lnTo>
                  <a:pt x="216" y="466"/>
                </a:lnTo>
                <a:lnTo>
                  <a:pt x="231" y="491"/>
                </a:lnTo>
                <a:lnTo>
                  <a:pt x="216" y="533"/>
                </a:lnTo>
                <a:lnTo>
                  <a:pt x="216" y="574"/>
                </a:lnTo>
                <a:lnTo>
                  <a:pt x="191" y="565"/>
                </a:lnTo>
                <a:lnTo>
                  <a:pt x="149" y="533"/>
                </a:lnTo>
                <a:lnTo>
                  <a:pt x="90" y="524"/>
                </a:lnTo>
                <a:lnTo>
                  <a:pt x="57" y="491"/>
                </a:lnTo>
                <a:lnTo>
                  <a:pt x="15" y="491"/>
                </a:lnTo>
                <a:lnTo>
                  <a:pt x="15" y="483"/>
                </a:lnTo>
                <a:lnTo>
                  <a:pt x="0" y="474"/>
                </a:lnTo>
                <a:lnTo>
                  <a:pt x="15" y="466"/>
                </a:lnTo>
                <a:lnTo>
                  <a:pt x="15" y="449"/>
                </a:lnTo>
                <a:lnTo>
                  <a:pt x="7" y="441"/>
                </a:lnTo>
                <a:lnTo>
                  <a:pt x="15" y="424"/>
                </a:lnTo>
                <a:lnTo>
                  <a:pt x="49" y="432"/>
                </a:lnTo>
                <a:lnTo>
                  <a:pt x="49" y="325"/>
                </a:lnTo>
                <a:lnTo>
                  <a:pt x="82" y="325"/>
                </a:lnTo>
                <a:lnTo>
                  <a:pt x="90" y="341"/>
                </a:lnTo>
                <a:lnTo>
                  <a:pt x="107" y="333"/>
                </a:lnTo>
                <a:lnTo>
                  <a:pt x="107" y="308"/>
                </a:lnTo>
                <a:lnTo>
                  <a:pt x="149" y="308"/>
                </a:lnTo>
                <a:lnTo>
                  <a:pt x="157" y="266"/>
                </a:lnTo>
                <a:lnTo>
                  <a:pt x="157" y="233"/>
                </a:lnTo>
                <a:lnTo>
                  <a:pt x="140" y="216"/>
                </a:lnTo>
                <a:lnTo>
                  <a:pt x="107" y="199"/>
                </a:lnTo>
                <a:lnTo>
                  <a:pt x="90" y="174"/>
                </a:lnTo>
                <a:lnTo>
                  <a:pt x="99" y="142"/>
                </a:lnTo>
                <a:lnTo>
                  <a:pt x="115" y="117"/>
                </a:lnTo>
                <a:lnTo>
                  <a:pt x="140" y="142"/>
                </a:lnTo>
                <a:lnTo>
                  <a:pt x="166" y="142"/>
                </a:lnTo>
                <a:lnTo>
                  <a:pt x="174" y="117"/>
                </a:lnTo>
                <a:lnTo>
                  <a:pt x="191" y="117"/>
                </a:lnTo>
                <a:lnTo>
                  <a:pt x="182" y="83"/>
                </a:lnTo>
                <a:lnTo>
                  <a:pt x="231" y="33"/>
                </a:lnTo>
                <a:lnTo>
                  <a:pt x="231" y="8"/>
                </a:lnTo>
                <a:lnTo>
                  <a:pt x="265" y="8"/>
                </a:lnTo>
                <a:lnTo>
                  <a:pt x="273" y="25"/>
                </a:lnTo>
                <a:lnTo>
                  <a:pt x="273" y="8"/>
                </a:lnTo>
                <a:lnTo>
                  <a:pt x="290" y="0"/>
                </a:lnTo>
                <a:lnTo>
                  <a:pt x="307" y="16"/>
                </a:lnTo>
                <a:lnTo>
                  <a:pt x="307" y="33"/>
                </a:lnTo>
                <a:lnTo>
                  <a:pt x="265" y="100"/>
                </a:lnTo>
                <a:lnTo>
                  <a:pt x="281" y="117"/>
                </a:lnTo>
                <a:lnTo>
                  <a:pt x="265" y="174"/>
                </a:lnTo>
                <a:lnTo>
                  <a:pt x="256" y="233"/>
                </a:lnTo>
                <a:lnTo>
                  <a:pt x="273" y="274"/>
                </a:lnTo>
                <a:lnTo>
                  <a:pt x="248" y="341"/>
                </a:lnTo>
                <a:lnTo>
                  <a:pt x="256" y="357"/>
                </a:lnTo>
                <a:lnTo>
                  <a:pt x="273" y="407"/>
                </a:lnTo>
                <a:lnTo>
                  <a:pt x="298" y="457"/>
                </a:lnTo>
              </a:path>
            </a:pathLst>
          </a:custGeom>
          <a:solidFill>
            <a:srgbClr val="ffff99"/>
          </a:solidFill>
          <a:ln cap="rnd" w="1260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3" name="Freeform 227"/>
          <p:cNvSpPr/>
          <p:nvPr/>
        </p:nvSpPr>
        <p:spPr>
          <a:xfrm>
            <a:off x="1930320" y="3448080"/>
            <a:ext cx="314280" cy="550800"/>
          </a:xfrm>
          <a:custGeom>
            <a:avLst/>
            <a:gdLst>
              <a:gd name="textAreaLeft" fmla="*/ 0 w 314280"/>
              <a:gd name="textAreaRight" fmla="*/ 314640 w 314280"/>
              <a:gd name="textAreaTop" fmla="*/ 0 h 550800"/>
              <a:gd name="textAreaBottom" fmla="*/ 551160 h 550800"/>
            </a:gdLst>
            <a:ahLst/>
            <a:rect l="textAreaLeft" t="textAreaTop" r="textAreaRight" b="textAreaBottom"/>
            <a:pathLst>
              <a:path w="167" h="300">
                <a:moveTo>
                  <a:pt x="166" y="116"/>
                </a:moveTo>
                <a:lnTo>
                  <a:pt x="149" y="91"/>
                </a:lnTo>
                <a:lnTo>
                  <a:pt x="115" y="83"/>
                </a:lnTo>
                <a:lnTo>
                  <a:pt x="132" y="25"/>
                </a:lnTo>
                <a:lnTo>
                  <a:pt x="115" y="0"/>
                </a:lnTo>
                <a:lnTo>
                  <a:pt x="65" y="50"/>
                </a:lnTo>
                <a:lnTo>
                  <a:pt x="65" y="108"/>
                </a:lnTo>
                <a:lnTo>
                  <a:pt x="41" y="108"/>
                </a:lnTo>
                <a:lnTo>
                  <a:pt x="8" y="133"/>
                </a:lnTo>
                <a:lnTo>
                  <a:pt x="0" y="158"/>
                </a:lnTo>
                <a:lnTo>
                  <a:pt x="41" y="182"/>
                </a:lnTo>
                <a:lnTo>
                  <a:pt x="41" y="207"/>
                </a:lnTo>
                <a:lnTo>
                  <a:pt x="50" y="223"/>
                </a:lnTo>
                <a:lnTo>
                  <a:pt x="41" y="248"/>
                </a:lnTo>
                <a:lnTo>
                  <a:pt x="41" y="257"/>
                </a:lnTo>
                <a:lnTo>
                  <a:pt x="90" y="299"/>
                </a:lnTo>
                <a:lnTo>
                  <a:pt x="107" y="290"/>
                </a:lnTo>
                <a:lnTo>
                  <a:pt x="107" y="273"/>
                </a:lnTo>
                <a:lnTo>
                  <a:pt x="124" y="257"/>
                </a:lnTo>
                <a:lnTo>
                  <a:pt x="115" y="223"/>
                </a:lnTo>
                <a:lnTo>
                  <a:pt x="107" y="223"/>
                </a:lnTo>
                <a:lnTo>
                  <a:pt x="99" y="198"/>
                </a:lnTo>
                <a:lnTo>
                  <a:pt x="107" y="198"/>
                </a:lnTo>
                <a:lnTo>
                  <a:pt x="115" y="165"/>
                </a:lnTo>
                <a:lnTo>
                  <a:pt x="124" y="165"/>
                </a:lnTo>
                <a:lnTo>
                  <a:pt x="140" y="173"/>
                </a:lnTo>
                <a:lnTo>
                  <a:pt x="149" y="133"/>
                </a:lnTo>
                <a:lnTo>
                  <a:pt x="166" y="116"/>
                </a:lnTo>
              </a:path>
            </a:pathLst>
          </a:custGeom>
          <a:solidFill>
            <a:srgbClr val="ffff99"/>
          </a:solidFill>
          <a:ln cap="rnd" w="1260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4" name="Freeform 228"/>
          <p:cNvSpPr/>
          <p:nvPr/>
        </p:nvSpPr>
        <p:spPr>
          <a:xfrm>
            <a:off x="2427120" y="5297400"/>
            <a:ext cx="893880" cy="657360"/>
          </a:xfrm>
          <a:custGeom>
            <a:avLst/>
            <a:gdLst>
              <a:gd name="textAreaLeft" fmla="*/ 0 w 893880"/>
              <a:gd name="textAreaRight" fmla="*/ 894240 w 893880"/>
              <a:gd name="textAreaTop" fmla="*/ 0 h 657360"/>
              <a:gd name="textAreaBottom" fmla="*/ 657720 h 657360"/>
            </a:gdLst>
            <a:ahLst/>
            <a:rect l="textAreaLeft" t="textAreaTop" r="textAreaRight" b="textAreaBottom"/>
            <a:pathLst>
              <a:path w="477" h="358">
                <a:moveTo>
                  <a:pt x="476" y="124"/>
                </a:moveTo>
                <a:lnTo>
                  <a:pt x="476" y="90"/>
                </a:lnTo>
                <a:lnTo>
                  <a:pt x="450" y="41"/>
                </a:lnTo>
                <a:lnTo>
                  <a:pt x="409" y="41"/>
                </a:lnTo>
                <a:lnTo>
                  <a:pt x="401" y="33"/>
                </a:lnTo>
                <a:lnTo>
                  <a:pt x="392" y="58"/>
                </a:lnTo>
                <a:lnTo>
                  <a:pt x="376" y="58"/>
                </a:lnTo>
                <a:lnTo>
                  <a:pt x="367" y="41"/>
                </a:lnTo>
                <a:lnTo>
                  <a:pt x="308" y="58"/>
                </a:lnTo>
                <a:lnTo>
                  <a:pt x="300" y="50"/>
                </a:lnTo>
                <a:lnTo>
                  <a:pt x="325" y="8"/>
                </a:lnTo>
                <a:lnTo>
                  <a:pt x="300" y="8"/>
                </a:lnTo>
                <a:lnTo>
                  <a:pt x="283" y="16"/>
                </a:lnTo>
                <a:lnTo>
                  <a:pt x="275" y="0"/>
                </a:lnTo>
                <a:lnTo>
                  <a:pt x="258" y="8"/>
                </a:lnTo>
                <a:lnTo>
                  <a:pt x="209" y="8"/>
                </a:lnTo>
                <a:lnTo>
                  <a:pt x="217" y="41"/>
                </a:lnTo>
                <a:lnTo>
                  <a:pt x="200" y="41"/>
                </a:lnTo>
                <a:lnTo>
                  <a:pt x="175" y="16"/>
                </a:lnTo>
                <a:lnTo>
                  <a:pt x="167" y="25"/>
                </a:lnTo>
                <a:lnTo>
                  <a:pt x="158" y="50"/>
                </a:lnTo>
                <a:lnTo>
                  <a:pt x="141" y="50"/>
                </a:lnTo>
                <a:lnTo>
                  <a:pt x="141" y="75"/>
                </a:lnTo>
                <a:lnTo>
                  <a:pt x="150" y="83"/>
                </a:lnTo>
                <a:lnTo>
                  <a:pt x="141" y="90"/>
                </a:lnTo>
                <a:lnTo>
                  <a:pt x="141" y="107"/>
                </a:lnTo>
                <a:lnTo>
                  <a:pt x="108" y="132"/>
                </a:lnTo>
                <a:lnTo>
                  <a:pt x="108" y="157"/>
                </a:lnTo>
                <a:lnTo>
                  <a:pt x="99" y="191"/>
                </a:lnTo>
                <a:lnTo>
                  <a:pt x="74" y="216"/>
                </a:lnTo>
                <a:lnTo>
                  <a:pt x="49" y="241"/>
                </a:lnTo>
                <a:lnTo>
                  <a:pt x="32" y="257"/>
                </a:lnTo>
                <a:lnTo>
                  <a:pt x="15" y="257"/>
                </a:lnTo>
                <a:lnTo>
                  <a:pt x="0" y="281"/>
                </a:lnTo>
                <a:lnTo>
                  <a:pt x="15" y="290"/>
                </a:lnTo>
                <a:lnTo>
                  <a:pt x="7" y="298"/>
                </a:lnTo>
                <a:lnTo>
                  <a:pt x="7" y="331"/>
                </a:lnTo>
                <a:lnTo>
                  <a:pt x="15" y="340"/>
                </a:lnTo>
                <a:lnTo>
                  <a:pt x="24" y="357"/>
                </a:lnTo>
                <a:lnTo>
                  <a:pt x="57" y="357"/>
                </a:lnTo>
                <a:lnTo>
                  <a:pt x="57" y="340"/>
                </a:lnTo>
                <a:lnTo>
                  <a:pt x="40" y="323"/>
                </a:lnTo>
                <a:lnTo>
                  <a:pt x="49" y="290"/>
                </a:lnTo>
                <a:lnTo>
                  <a:pt x="83" y="281"/>
                </a:lnTo>
                <a:lnTo>
                  <a:pt x="108" y="290"/>
                </a:lnTo>
                <a:lnTo>
                  <a:pt x="150" y="257"/>
                </a:lnTo>
                <a:lnTo>
                  <a:pt x="183" y="257"/>
                </a:lnTo>
                <a:lnTo>
                  <a:pt x="192" y="274"/>
                </a:lnTo>
                <a:lnTo>
                  <a:pt x="209" y="249"/>
                </a:lnTo>
                <a:lnTo>
                  <a:pt x="233" y="232"/>
                </a:lnTo>
                <a:lnTo>
                  <a:pt x="241" y="216"/>
                </a:lnTo>
                <a:lnTo>
                  <a:pt x="258" y="224"/>
                </a:lnTo>
                <a:lnTo>
                  <a:pt x="266" y="224"/>
                </a:lnTo>
                <a:lnTo>
                  <a:pt x="250" y="199"/>
                </a:lnTo>
                <a:lnTo>
                  <a:pt x="258" y="174"/>
                </a:lnTo>
                <a:lnTo>
                  <a:pt x="275" y="199"/>
                </a:lnTo>
                <a:lnTo>
                  <a:pt x="283" y="224"/>
                </a:lnTo>
                <a:lnTo>
                  <a:pt x="317" y="216"/>
                </a:lnTo>
                <a:lnTo>
                  <a:pt x="308" y="199"/>
                </a:lnTo>
                <a:lnTo>
                  <a:pt x="325" y="182"/>
                </a:lnTo>
                <a:lnTo>
                  <a:pt x="342" y="199"/>
                </a:lnTo>
                <a:lnTo>
                  <a:pt x="359" y="182"/>
                </a:lnTo>
                <a:lnTo>
                  <a:pt x="376" y="182"/>
                </a:lnTo>
                <a:lnTo>
                  <a:pt x="376" y="191"/>
                </a:lnTo>
                <a:lnTo>
                  <a:pt x="384" y="191"/>
                </a:lnTo>
                <a:lnTo>
                  <a:pt x="384" y="174"/>
                </a:lnTo>
                <a:lnTo>
                  <a:pt x="401" y="182"/>
                </a:lnTo>
                <a:lnTo>
                  <a:pt x="435" y="165"/>
                </a:lnTo>
                <a:lnTo>
                  <a:pt x="450" y="157"/>
                </a:lnTo>
                <a:lnTo>
                  <a:pt x="459" y="124"/>
                </a:lnTo>
                <a:lnTo>
                  <a:pt x="476" y="124"/>
                </a:lnTo>
              </a:path>
            </a:pathLst>
          </a:custGeom>
          <a:solidFill>
            <a:srgbClr val="66ff66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5" name="Freeform 229"/>
          <p:cNvSpPr/>
          <p:nvPr/>
        </p:nvSpPr>
        <p:spPr>
          <a:xfrm>
            <a:off x="2900520" y="4665600"/>
            <a:ext cx="531720" cy="752400"/>
          </a:xfrm>
          <a:custGeom>
            <a:avLst/>
            <a:gdLst>
              <a:gd name="textAreaLeft" fmla="*/ 0 w 531720"/>
              <a:gd name="textAreaRight" fmla="*/ 532080 w 531720"/>
              <a:gd name="textAreaTop" fmla="*/ 0 h 752400"/>
              <a:gd name="textAreaBottom" fmla="*/ 752760 h 752400"/>
            </a:gdLst>
            <a:ahLst/>
            <a:rect l="textAreaLeft" t="textAreaTop" r="textAreaRight" b="textAreaBottom"/>
            <a:pathLst>
              <a:path w="284" h="410">
                <a:moveTo>
                  <a:pt x="257" y="41"/>
                </a:moveTo>
                <a:lnTo>
                  <a:pt x="257" y="66"/>
                </a:lnTo>
                <a:lnTo>
                  <a:pt x="283" y="91"/>
                </a:lnTo>
                <a:lnTo>
                  <a:pt x="283" y="133"/>
                </a:lnTo>
                <a:lnTo>
                  <a:pt x="257" y="141"/>
                </a:lnTo>
                <a:lnTo>
                  <a:pt x="249" y="149"/>
                </a:lnTo>
                <a:lnTo>
                  <a:pt x="224" y="149"/>
                </a:lnTo>
                <a:lnTo>
                  <a:pt x="207" y="166"/>
                </a:lnTo>
                <a:lnTo>
                  <a:pt x="207" y="191"/>
                </a:lnTo>
                <a:lnTo>
                  <a:pt x="216" y="200"/>
                </a:lnTo>
                <a:lnTo>
                  <a:pt x="191" y="225"/>
                </a:lnTo>
                <a:lnTo>
                  <a:pt x="183" y="225"/>
                </a:lnTo>
                <a:lnTo>
                  <a:pt x="183" y="266"/>
                </a:lnTo>
                <a:lnTo>
                  <a:pt x="175" y="266"/>
                </a:lnTo>
                <a:lnTo>
                  <a:pt x="175" y="291"/>
                </a:lnTo>
                <a:lnTo>
                  <a:pt x="158" y="308"/>
                </a:lnTo>
                <a:lnTo>
                  <a:pt x="158" y="341"/>
                </a:lnTo>
                <a:lnTo>
                  <a:pt x="142" y="367"/>
                </a:lnTo>
                <a:lnTo>
                  <a:pt x="150" y="375"/>
                </a:lnTo>
                <a:lnTo>
                  <a:pt x="142" y="400"/>
                </a:lnTo>
                <a:lnTo>
                  <a:pt x="125" y="400"/>
                </a:lnTo>
                <a:lnTo>
                  <a:pt x="116" y="383"/>
                </a:lnTo>
                <a:lnTo>
                  <a:pt x="58" y="409"/>
                </a:lnTo>
                <a:lnTo>
                  <a:pt x="50" y="392"/>
                </a:lnTo>
                <a:lnTo>
                  <a:pt x="75" y="350"/>
                </a:lnTo>
                <a:lnTo>
                  <a:pt x="50" y="341"/>
                </a:lnTo>
                <a:lnTo>
                  <a:pt x="33" y="350"/>
                </a:lnTo>
                <a:lnTo>
                  <a:pt x="16" y="341"/>
                </a:lnTo>
                <a:lnTo>
                  <a:pt x="16" y="308"/>
                </a:lnTo>
                <a:lnTo>
                  <a:pt x="33" y="299"/>
                </a:lnTo>
                <a:lnTo>
                  <a:pt x="41" y="299"/>
                </a:lnTo>
                <a:lnTo>
                  <a:pt x="41" y="274"/>
                </a:lnTo>
                <a:lnTo>
                  <a:pt x="25" y="274"/>
                </a:lnTo>
                <a:lnTo>
                  <a:pt x="25" y="257"/>
                </a:lnTo>
                <a:lnTo>
                  <a:pt x="8" y="249"/>
                </a:lnTo>
                <a:lnTo>
                  <a:pt x="8" y="208"/>
                </a:lnTo>
                <a:lnTo>
                  <a:pt x="0" y="191"/>
                </a:lnTo>
                <a:lnTo>
                  <a:pt x="8" y="166"/>
                </a:lnTo>
                <a:lnTo>
                  <a:pt x="25" y="141"/>
                </a:lnTo>
                <a:lnTo>
                  <a:pt x="33" y="124"/>
                </a:lnTo>
                <a:lnTo>
                  <a:pt x="16" y="116"/>
                </a:lnTo>
                <a:lnTo>
                  <a:pt x="25" y="108"/>
                </a:lnTo>
                <a:lnTo>
                  <a:pt x="8" y="74"/>
                </a:lnTo>
                <a:lnTo>
                  <a:pt x="25" y="57"/>
                </a:lnTo>
                <a:lnTo>
                  <a:pt x="50" y="57"/>
                </a:lnTo>
                <a:lnTo>
                  <a:pt x="100" y="25"/>
                </a:lnTo>
                <a:lnTo>
                  <a:pt x="133" y="16"/>
                </a:lnTo>
                <a:lnTo>
                  <a:pt x="158" y="16"/>
                </a:lnTo>
                <a:lnTo>
                  <a:pt x="167" y="0"/>
                </a:lnTo>
                <a:lnTo>
                  <a:pt x="183" y="16"/>
                </a:lnTo>
                <a:lnTo>
                  <a:pt x="175" y="16"/>
                </a:lnTo>
                <a:lnTo>
                  <a:pt x="175" y="33"/>
                </a:lnTo>
                <a:lnTo>
                  <a:pt x="191" y="33"/>
                </a:lnTo>
                <a:lnTo>
                  <a:pt x="191" y="16"/>
                </a:lnTo>
                <a:lnTo>
                  <a:pt x="199" y="8"/>
                </a:lnTo>
                <a:lnTo>
                  <a:pt x="216" y="25"/>
                </a:lnTo>
                <a:lnTo>
                  <a:pt x="224" y="33"/>
                </a:lnTo>
                <a:lnTo>
                  <a:pt x="249" y="33"/>
                </a:lnTo>
                <a:lnTo>
                  <a:pt x="257" y="41"/>
                </a:lnTo>
              </a:path>
            </a:pathLst>
          </a:custGeom>
          <a:solidFill>
            <a:srgbClr val="66ff66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6" name="Freeform 230"/>
          <p:cNvSpPr/>
          <p:nvPr/>
        </p:nvSpPr>
        <p:spPr>
          <a:xfrm>
            <a:off x="2347920" y="4672080"/>
            <a:ext cx="625320" cy="717480"/>
          </a:xfrm>
          <a:custGeom>
            <a:avLst/>
            <a:gdLst>
              <a:gd name="textAreaLeft" fmla="*/ 0 w 625320"/>
              <a:gd name="textAreaRight" fmla="*/ 625320 w 625320"/>
              <a:gd name="textAreaTop" fmla="*/ 0 h 717480"/>
              <a:gd name="textAreaBottom" fmla="*/ 717840 h 717480"/>
            </a:gdLst>
            <a:ahLst/>
            <a:rect l="textAreaLeft" t="textAreaTop" r="textAreaRight" b="textAreaBottom"/>
            <a:pathLst>
              <a:path w="335" h="392">
                <a:moveTo>
                  <a:pt x="300" y="74"/>
                </a:moveTo>
                <a:lnTo>
                  <a:pt x="317" y="107"/>
                </a:lnTo>
                <a:lnTo>
                  <a:pt x="308" y="116"/>
                </a:lnTo>
                <a:lnTo>
                  <a:pt x="325" y="124"/>
                </a:lnTo>
                <a:lnTo>
                  <a:pt x="317" y="149"/>
                </a:lnTo>
                <a:lnTo>
                  <a:pt x="300" y="166"/>
                </a:lnTo>
                <a:lnTo>
                  <a:pt x="291" y="191"/>
                </a:lnTo>
                <a:lnTo>
                  <a:pt x="300" y="208"/>
                </a:lnTo>
                <a:lnTo>
                  <a:pt x="300" y="241"/>
                </a:lnTo>
                <a:lnTo>
                  <a:pt x="300" y="248"/>
                </a:lnTo>
                <a:lnTo>
                  <a:pt x="317" y="257"/>
                </a:lnTo>
                <a:lnTo>
                  <a:pt x="317" y="273"/>
                </a:lnTo>
                <a:lnTo>
                  <a:pt x="334" y="273"/>
                </a:lnTo>
                <a:lnTo>
                  <a:pt x="334" y="299"/>
                </a:lnTo>
                <a:lnTo>
                  <a:pt x="325" y="299"/>
                </a:lnTo>
                <a:lnTo>
                  <a:pt x="317" y="307"/>
                </a:lnTo>
                <a:lnTo>
                  <a:pt x="308" y="340"/>
                </a:lnTo>
                <a:lnTo>
                  <a:pt x="300" y="349"/>
                </a:lnTo>
                <a:lnTo>
                  <a:pt x="251" y="349"/>
                </a:lnTo>
                <a:lnTo>
                  <a:pt x="259" y="374"/>
                </a:lnTo>
                <a:lnTo>
                  <a:pt x="242" y="374"/>
                </a:lnTo>
                <a:lnTo>
                  <a:pt x="209" y="357"/>
                </a:lnTo>
                <a:lnTo>
                  <a:pt x="209" y="365"/>
                </a:lnTo>
                <a:lnTo>
                  <a:pt x="209" y="391"/>
                </a:lnTo>
                <a:lnTo>
                  <a:pt x="183" y="391"/>
                </a:lnTo>
                <a:lnTo>
                  <a:pt x="158" y="391"/>
                </a:lnTo>
                <a:lnTo>
                  <a:pt x="158" y="365"/>
                </a:lnTo>
                <a:lnTo>
                  <a:pt x="150" y="365"/>
                </a:lnTo>
                <a:lnTo>
                  <a:pt x="141" y="382"/>
                </a:lnTo>
                <a:lnTo>
                  <a:pt x="133" y="382"/>
                </a:lnTo>
                <a:lnTo>
                  <a:pt x="141" y="340"/>
                </a:lnTo>
                <a:lnTo>
                  <a:pt x="150" y="315"/>
                </a:lnTo>
                <a:lnTo>
                  <a:pt x="150" y="290"/>
                </a:lnTo>
                <a:lnTo>
                  <a:pt x="141" y="282"/>
                </a:lnTo>
                <a:lnTo>
                  <a:pt x="133" y="273"/>
                </a:lnTo>
                <a:lnTo>
                  <a:pt x="91" y="282"/>
                </a:lnTo>
                <a:lnTo>
                  <a:pt x="91" y="299"/>
                </a:lnTo>
                <a:lnTo>
                  <a:pt x="66" y="299"/>
                </a:lnTo>
                <a:lnTo>
                  <a:pt x="66" y="290"/>
                </a:lnTo>
                <a:lnTo>
                  <a:pt x="57" y="299"/>
                </a:lnTo>
                <a:lnTo>
                  <a:pt x="33" y="299"/>
                </a:lnTo>
                <a:lnTo>
                  <a:pt x="33" y="282"/>
                </a:lnTo>
                <a:lnTo>
                  <a:pt x="25" y="282"/>
                </a:lnTo>
                <a:lnTo>
                  <a:pt x="25" y="273"/>
                </a:lnTo>
                <a:lnTo>
                  <a:pt x="16" y="248"/>
                </a:lnTo>
                <a:lnTo>
                  <a:pt x="33" y="241"/>
                </a:lnTo>
                <a:lnTo>
                  <a:pt x="25" y="224"/>
                </a:lnTo>
                <a:lnTo>
                  <a:pt x="0" y="224"/>
                </a:lnTo>
                <a:lnTo>
                  <a:pt x="0" y="208"/>
                </a:lnTo>
                <a:lnTo>
                  <a:pt x="25" y="182"/>
                </a:lnTo>
                <a:lnTo>
                  <a:pt x="25" y="157"/>
                </a:lnTo>
                <a:lnTo>
                  <a:pt x="33" y="149"/>
                </a:lnTo>
                <a:lnTo>
                  <a:pt x="25" y="132"/>
                </a:lnTo>
                <a:lnTo>
                  <a:pt x="16" y="132"/>
                </a:lnTo>
                <a:lnTo>
                  <a:pt x="25" y="116"/>
                </a:lnTo>
                <a:lnTo>
                  <a:pt x="16" y="82"/>
                </a:lnTo>
                <a:lnTo>
                  <a:pt x="49" y="33"/>
                </a:lnTo>
                <a:lnTo>
                  <a:pt x="82" y="33"/>
                </a:lnTo>
                <a:lnTo>
                  <a:pt x="99" y="41"/>
                </a:lnTo>
                <a:lnTo>
                  <a:pt x="91" y="16"/>
                </a:lnTo>
                <a:lnTo>
                  <a:pt x="108" y="0"/>
                </a:lnTo>
                <a:lnTo>
                  <a:pt x="141" y="16"/>
                </a:lnTo>
                <a:lnTo>
                  <a:pt x="175" y="16"/>
                </a:lnTo>
                <a:lnTo>
                  <a:pt x="200" y="41"/>
                </a:lnTo>
                <a:lnTo>
                  <a:pt x="234" y="41"/>
                </a:lnTo>
                <a:lnTo>
                  <a:pt x="242" y="50"/>
                </a:lnTo>
                <a:lnTo>
                  <a:pt x="275" y="33"/>
                </a:lnTo>
                <a:lnTo>
                  <a:pt x="291" y="33"/>
                </a:lnTo>
                <a:lnTo>
                  <a:pt x="283" y="74"/>
                </a:lnTo>
                <a:lnTo>
                  <a:pt x="300" y="74"/>
                </a:lnTo>
              </a:path>
            </a:pathLst>
          </a:custGeom>
          <a:solidFill>
            <a:srgbClr val="66ff66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7" name="Freeform 231"/>
          <p:cNvSpPr/>
          <p:nvPr/>
        </p:nvSpPr>
        <p:spPr>
          <a:xfrm>
            <a:off x="2301840" y="5997600"/>
            <a:ext cx="312840" cy="274680"/>
          </a:xfrm>
          <a:custGeom>
            <a:avLst/>
            <a:gdLst>
              <a:gd name="textAreaLeft" fmla="*/ 0 w 312840"/>
              <a:gd name="textAreaRight" fmla="*/ 313200 w 31284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67" h="150">
                <a:moveTo>
                  <a:pt x="50" y="8"/>
                </a:moveTo>
                <a:lnTo>
                  <a:pt x="58" y="16"/>
                </a:lnTo>
                <a:lnTo>
                  <a:pt x="74" y="8"/>
                </a:lnTo>
                <a:lnTo>
                  <a:pt x="90" y="8"/>
                </a:lnTo>
                <a:lnTo>
                  <a:pt x="107" y="0"/>
                </a:lnTo>
                <a:lnTo>
                  <a:pt x="140" y="0"/>
                </a:lnTo>
                <a:lnTo>
                  <a:pt x="157" y="0"/>
                </a:lnTo>
                <a:lnTo>
                  <a:pt x="166" y="33"/>
                </a:lnTo>
                <a:lnTo>
                  <a:pt x="149" y="50"/>
                </a:lnTo>
                <a:lnTo>
                  <a:pt x="132" y="98"/>
                </a:lnTo>
                <a:lnTo>
                  <a:pt x="124" y="107"/>
                </a:lnTo>
                <a:lnTo>
                  <a:pt x="124" y="132"/>
                </a:lnTo>
                <a:lnTo>
                  <a:pt x="99" y="132"/>
                </a:lnTo>
                <a:lnTo>
                  <a:pt x="90" y="132"/>
                </a:lnTo>
                <a:lnTo>
                  <a:pt x="90" y="149"/>
                </a:lnTo>
                <a:lnTo>
                  <a:pt x="74" y="149"/>
                </a:lnTo>
                <a:lnTo>
                  <a:pt x="50" y="132"/>
                </a:lnTo>
                <a:lnTo>
                  <a:pt x="8" y="123"/>
                </a:lnTo>
                <a:lnTo>
                  <a:pt x="0" y="82"/>
                </a:lnTo>
                <a:lnTo>
                  <a:pt x="0" y="58"/>
                </a:lnTo>
                <a:lnTo>
                  <a:pt x="41" y="25"/>
                </a:lnTo>
                <a:lnTo>
                  <a:pt x="50" y="8"/>
                </a:lnTo>
              </a:path>
            </a:pathLst>
          </a:custGeom>
          <a:solidFill>
            <a:srgbClr val="969696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8" name="Freeform 232"/>
          <p:cNvSpPr/>
          <p:nvPr/>
        </p:nvSpPr>
        <p:spPr>
          <a:xfrm>
            <a:off x="2301840" y="5997600"/>
            <a:ext cx="312840" cy="274680"/>
          </a:xfrm>
          <a:custGeom>
            <a:avLst/>
            <a:gdLst>
              <a:gd name="textAreaLeft" fmla="*/ 0 w 312840"/>
              <a:gd name="textAreaRight" fmla="*/ 313200 w 312840"/>
              <a:gd name="textAreaTop" fmla="*/ 0 h 274680"/>
              <a:gd name="textAreaBottom" fmla="*/ 275040 h 274680"/>
            </a:gdLst>
            <a:ahLst/>
            <a:rect l="textAreaLeft" t="textAreaTop" r="textAreaRight" b="textAreaBottom"/>
            <a:pathLst>
              <a:path w="167" h="150">
                <a:moveTo>
                  <a:pt x="50" y="8"/>
                </a:moveTo>
                <a:lnTo>
                  <a:pt x="58" y="16"/>
                </a:lnTo>
                <a:lnTo>
                  <a:pt x="74" y="8"/>
                </a:lnTo>
                <a:lnTo>
                  <a:pt x="90" y="8"/>
                </a:lnTo>
                <a:lnTo>
                  <a:pt x="107" y="0"/>
                </a:lnTo>
                <a:lnTo>
                  <a:pt x="140" y="0"/>
                </a:lnTo>
                <a:lnTo>
                  <a:pt x="157" y="0"/>
                </a:lnTo>
                <a:lnTo>
                  <a:pt x="166" y="33"/>
                </a:lnTo>
                <a:lnTo>
                  <a:pt x="149" y="50"/>
                </a:lnTo>
                <a:lnTo>
                  <a:pt x="132" y="98"/>
                </a:lnTo>
                <a:lnTo>
                  <a:pt x="124" y="107"/>
                </a:lnTo>
                <a:lnTo>
                  <a:pt x="124" y="132"/>
                </a:lnTo>
                <a:lnTo>
                  <a:pt x="99" y="132"/>
                </a:lnTo>
                <a:lnTo>
                  <a:pt x="90" y="132"/>
                </a:lnTo>
                <a:lnTo>
                  <a:pt x="90" y="149"/>
                </a:lnTo>
                <a:lnTo>
                  <a:pt x="74" y="149"/>
                </a:lnTo>
                <a:lnTo>
                  <a:pt x="50" y="132"/>
                </a:lnTo>
                <a:lnTo>
                  <a:pt x="8" y="123"/>
                </a:lnTo>
                <a:lnTo>
                  <a:pt x="0" y="82"/>
                </a:lnTo>
                <a:lnTo>
                  <a:pt x="0" y="58"/>
                </a:lnTo>
                <a:lnTo>
                  <a:pt x="41" y="25"/>
                </a:lnTo>
                <a:lnTo>
                  <a:pt x="50" y="8"/>
                </a:lnTo>
              </a:path>
            </a:pathLst>
          </a:custGeom>
          <a:solidFill>
            <a:srgbClr val="66ff66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9" name="Freeform 233"/>
          <p:cNvSpPr/>
          <p:nvPr/>
        </p:nvSpPr>
        <p:spPr>
          <a:xfrm>
            <a:off x="3646440" y="5187960"/>
            <a:ext cx="217440" cy="446040"/>
          </a:xfrm>
          <a:custGeom>
            <a:avLst/>
            <a:gdLst>
              <a:gd name="textAreaLeft" fmla="*/ 0 w 217440"/>
              <a:gd name="textAreaRight" fmla="*/ 217800 w 217440"/>
              <a:gd name="textAreaTop" fmla="*/ 0 h 446040"/>
              <a:gd name="textAreaBottom" fmla="*/ 446400 h 446040"/>
            </a:gdLst>
            <a:ahLst/>
            <a:rect l="textAreaLeft" t="textAreaTop" r="textAreaRight" b="textAreaBottom"/>
            <a:pathLst>
              <a:path w="116" h="243">
                <a:moveTo>
                  <a:pt x="23" y="225"/>
                </a:moveTo>
                <a:lnTo>
                  <a:pt x="32" y="233"/>
                </a:lnTo>
                <a:lnTo>
                  <a:pt x="48" y="242"/>
                </a:lnTo>
                <a:lnTo>
                  <a:pt x="56" y="216"/>
                </a:lnTo>
                <a:lnTo>
                  <a:pt x="98" y="183"/>
                </a:lnTo>
                <a:lnTo>
                  <a:pt x="98" y="125"/>
                </a:lnTo>
                <a:lnTo>
                  <a:pt x="115" y="92"/>
                </a:lnTo>
                <a:lnTo>
                  <a:pt x="115" y="75"/>
                </a:lnTo>
                <a:lnTo>
                  <a:pt x="106" y="50"/>
                </a:lnTo>
                <a:lnTo>
                  <a:pt x="90" y="0"/>
                </a:lnTo>
                <a:lnTo>
                  <a:pt x="56" y="25"/>
                </a:lnTo>
                <a:lnTo>
                  <a:pt x="48" y="25"/>
                </a:lnTo>
                <a:lnTo>
                  <a:pt x="48" y="41"/>
                </a:lnTo>
                <a:lnTo>
                  <a:pt x="15" y="67"/>
                </a:lnTo>
                <a:lnTo>
                  <a:pt x="15" y="108"/>
                </a:lnTo>
                <a:lnTo>
                  <a:pt x="0" y="134"/>
                </a:lnTo>
                <a:lnTo>
                  <a:pt x="7" y="166"/>
                </a:lnTo>
                <a:lnTo>
                  <a:pt x="7" y="216"/>
                </a:lnTo>
                <a:lnTo>
                  <a:pt x="23" y="225"/>
                </a:lnTo>
              </a:path>
            </a:pathLst>
          </a:custGeom>
          <a:solidFill>
            <a:srgbClr val="969696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0" name="Freeform 234"/>
          <p:cNvSpPr/>
          <p:nvPr/>
        </p:nvSpPr>
        <p:spPr>
          <a:xfrm>
            <a:off x="3646440" y="5187960"/>
            <a:ext cx="217440" cy="446040"/>
          </a:xfrm>
          <a:custGeom>
            <a:avLst/>
            <a:gdLst>
              <a:gd name="textAreaLeft" fmla="*/ 0 w 217440"/>
              <a:gd name="textAreaRight" fmla="*/ 217800 w 217440"/>
              <a:gd name="textAreaTop" fmla="*/ 0 h 446040"/>
              <a:gd name="textAreaBottom" fmla="*/ 446400 h 446040"/>
            </a:gdLst>
            <a:ahLst/>
            <a:rect l="textAreaLeft" t="textAreaTop" r="textAreaRight" b="textAreaBottom"/>
            <a:pathLst>
              <a:path w="116" h="243">
                <a:moveTo>
                  <a:pt x="23" y="225"/>
                </a:moveTo>
                <a:lnTo>
                  <a:pt x="32" y="233"/>
                </a:lnTo>
                <a:lnTo>
                  <a:pt x="48" y="242"/>
                </a:lnTo>
                <a:lnTo>
                  <a:pt x="56" y="216"/>
                </a:lnTo>
                <a:lnTo>
                  <a:pt x="98" y="183"/>
                </a:lnTo>
                <a:lnTo>
                  <a:pt x="98" y="125"/>
                </a:lnTo>
                <a:lnTo>
                  <a:pt x="115" y="92"/>
                </a:lnTo>
                <a:lnTo>
                  <a:pt x="115" y="75"/>
                </a:lnTo>
                <a:lnTo>
                  <a:pt x="106" y="50"/>
                </a:lnTo>
                <a:lnTo>
                  <a:pt x="90" y="0"/>
                </a:lnTo>
                <a:lnTo>
                  <a:pt x="56" y="25"/>
                </a:lnTo>
                <a:lnTo>
                  <a:pt x="48" y="25"/>
                </a:lnTo>
                <a:lnTo>
                  <a:pt x="48" y="41"/>
                </a:lnTo>
                <a:lnTo>
                  <a:pt x="15" y="67"/>
                </a:lnTo>
                <a:lnTo>
                  <a:pt x="15" y="108"/>
                </a:lnTo>
                <a:lnTo>
                  <a:pt x="0" y="134"/>
                </a:lnTo>
                <a:lnTo>
                  <a:pt x="7" y="166"/>
                </a:lnTo>
                <a:lnTo>
                  <a:pt x="7" y="216"/>
                </a:lnTo>
                <a:lnTo>
                  <a:pt x="23" y="225"/>
                </a:lnTo>
              </a:path>
            </a:pathLst>
          </a:custGeom>
          <a:solidFill>
            <a:srgbClr val="66ff66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1" name="Freeform 235"/>
          <p:cNvSpPr/>
          <p:nvPr/>
        </p:nvSpPr>
        <p:spPr>
          <a:xfrm>
            <a:off x="3548160" y="5143680"/>
            <a:ext cx="54000" cy="45720"/>
          </a:xfrm>
          <a:custGeom>
            <a:avLst/>
            <a:gdLst>
              <a:gd name="textAreaLeft" fmla="*/ 0 w 54000"/>
              <a:gd name="textAreaRight" fmla="*/ 54360 w 54000"/>
              <a:gd name="textAreaTop" fmla="*/ 0 h 45720"/>
              <a:gd name="textAreaBottom" fmla="*/ 46080 h 45720"/>
            </a:gdLst>
            <a:ahLst/>
            <a:rect l="textAreaLeft" t="textAreaTop" r="textAreaRight" b="textAreaBottom"/>
            <a:pathLst>
              <a:path w="28" h="25">
                <a:moveTo>
                  <a:pt x="18" y="0"/>
                </a:moveTo>
                <a:lnTo>
                  <a:pt x="0" y="24"/>
                </a:lnTo>
                <a:lnTo>
                  <a:pt x="27" y="24"/>
                </a:lnTo>
                <a:lnTo>
                  <a:pt x="18" y="0"/>
                </a:lnTo>
              </a:path>
            </a:pathLst>
          </a:custGeom>
          <a:solidFill>
            <a:srgbClr val="969696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2" name="Freeform 236"/>
          <p:cNvSpPr/>
          <p:nvPr/>
        </p:nvSpPr>
        <p:spPr>
          <a:xfrm>
            <a:off x="3548160" y="5143680"/>
            <a:ext cx="54000" cy="45720"/>
          </a:xfrm>
          <a:custGeom>
            <a:avLst/>
            <a:gdLst>
              <a:gd name="textAreaLeft" fmla="*/ 0 w 54000"/>
              <a:gd name="textAreaRight" fmla="*/ 54360 w 54000"/>
              <a:gd name="textAreaTop" fmla="*/ 0 h 45720"/>
              <a:gd name="textAreaBottom" fmla="*/ 46080 h 45720"/>
            </a:gdLst>
            <a:ahLst/>
            <a:rect l="textAreaLeft" t="textAreaTop" r="textAreaRight" b="textAreaBottom"/>
            <a:pathLst>
              <a:path w="28" h="25">
                <a:moveTo>
                  <a:pt x="18" y="0"/>
                </a:moveTo>
                <a:lnTo>
                  <a:pt x="0" y="24"/>
                </a:lnTo>
                <a:lnTo>
                  <a:pt x="27" y="24"/>
                </a:lnTo>
                <a:lnTo>
                  <a:pt x="18" y="0"/>
                </a:lnTo>
              </a:path>
            </a:pathLst>
          </a:custGeom>
          <a:solidFill>
            <a:srgbClr val="969696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3" name="Freeform 238"/>
          <p:cNvSpPr/>
          <p:nvPr/>
        </p:nvSpPr>
        <p:spPr>
          <a:xfrm>
            <a:off x="3392640" y="1528920"/>
            <a:ext cx="1249200" cy="1187280"/>
          </a:xfrm>
          <a:custGeom>
            <a:avLst/>
            <a:gdLst/>
            <a:ahLst/>
            <a:rect l="l" t="t" r="r" b="b"/>
            <a:pathLst>
              <a:path w="667" h="648">
                <a:moveTo>
                  <a:pt x="8" y="25"/>
                </a:moveTo>
                <a:lnTo>
                  <a:pt x="16" y="58"/>
                </a:lnTo>
                <a:lnTo>
                  <a:pt x="0" y="83"/>
                </a:lnTo>
                <a:lnTo>
                  <a:pt x="33" y="90"/>
                </a:lnTo>
                <a:lnTo>
                  <a:pt x="41" y="75"/>
                </a:lnTo>
                <a:lnTo>
                  <a:pt x="66" y="99"/>
                </a:lnTo>
                <a:lnTo>
                  <a:pt x="83" y="132"/>
                </a:lnTo>
                <a:lnTo>
                  <a:pt x="100" y="157"/>
                </a:lnTo>
                <a:lnTo>
                  <a:pt x="133" y="140"/>
                </a:lnTo>
                <a:lnTo>
                  <a:pt x="157" y="140"/>
                </a:lnTo>
                <a:lnTo>
                  <a:pt x="182" y="107"/>
                </a:lnTo>
                <a:lnTo>
                  <a:pt x="216" y="149"/>
                </a:lnTo>
                <a:lnTo>
                  <a:pt x="199" y="232"/>
                </a:lnTo>
                <a:lnTo>
                  <a:pt x="199" y="281"/>
                </a:lnTo>
                <a:lnTo>
                  <a:pt x="182" y="306"/>
                </a:lnTo>
                <a:lnTo>
                  <a:pt x="182" y="365"/>
                </a:lnTo>
                <a:lnTo>
                  <a:pt x="166" y="340"/>
                </a:lnTo>
                <a:lnTo>
                  <a:pt x="100" y="432"/>
                </a:lnTo>
                <a:lnTo>
                  <a:pt x="125" y="464"/>
                </a:lnTo>
                <a:lnTo>
                  <a:pt x="149" y="448"/>
                </a:lnTo>
                <a:lnTo>
                  <a:pt x="157" y="464"/>
                </a:lnTo>
                <a:lnTo>
                  <a:pt x="133" y="481"/>
                </a:lnTo>
                <a:lnTo>
                  <a:pt x="133" y="506"/>
                </a:lnTo>
                <a:lnTo>
                  <a:pt x="166" y="506"/>
                </a:lnTo>
                <a:lnTo>
                  <a:pt x="182" y="497"/>
                </a:lnTo>
                <a:lnTo>
                  <a:pt x="182" y="539"/>
                </a:lnTo>
                <a:lnTo>
                  <a:pt x="216" y="556"/>
                </a:lnTo>
                <a:lnTo>
                  <a:pt x="266" y="547"/>
                </a:lnTo>
                <a:lnTo>
                  <a:pt x="274" y="564"/>
                </a:lnTo>
                <a:lnTo>
                  <a:pt x="308" y="547"/>
                </a:lnTo>
                <a:lnTo>
                  <a:pt x="341" y="589"/>
                </a:lnTo>
                <a:lnTo>
                  <a:pt x="365" y="589"/>
                </a:lnTo>
                <a:lnTo>
                  <a:pt x="382" y="622"/>
                </a:lnTo>
                <a:lnTo>
                  <a:pt x="399" y="622"/>
                </a:lnTo>
                <a:lnTo>
                  <a:pt x="399" y="589"/>
                </a:lnTo>
                <a:lnTo>
                  <a:pt x="407" y="572"/>
                </a:lnTo>
                <a:lnTo>
                  <a:pt x="407" y="622"/>
                </a:lnTo>
                <a:lnTo>
                  <a:pt x="449" y="647"/>
                </a:lnTo>
                <a:lnTo>
                  <a:pt x="457" y="622"/>
                </a:lnTo>
                <a:lnTo>
                  <a:pt x="466" y="639"/>
                </a:lnTo>
                <a:lnTo>
                  <a:pt x="499" y="606"/>
                </a:lnTo>
                <a:lnTo>
                  <a:pt x="524" y="631"/>
                </a:lnTo>
                <a:lnTo>
                  <a:pt x="566" y="631"/>
                </a:lnTo>
                <a:lnTo>
                  <a:pt x="558" y="589"/>
                </a:lnTo>
                <a:lnTo>
                  <a:pt x="533" y="531"/>
                </a:lnTo>
                <a:lnTo>
                  <a:pt x="566" y="489"/>
                </a:lnTo>
                <a:lnTo>
                  <a:pt x="599" y="481"/>
                </a:lnTo>
                <a:lnTo>
                  <a:pt x="624" y="497"/>
                </a:lnTo>
                <a:lnTo>
                  <a:pt x="649" y="390"/>
                </a:lnTo>
                <a:lnTo>
                  <a:pt x="640" y="315"/>
                </a:lnTo>
                <a:lnTo>
                  <a:pt x="649" y="306"/>
                </a:lnTo>
                <a:lnTo>
                  <a:pt x="649" y="273"/>
                </a:lnTo>
                <a:lnTo>
                  <a:pt x="640" y="266"/>
                </a:lnTo>
                <a:lnTo>
                  <a:pt x="666" y="232"/>
                </a:lnTo>
                <a:lnTo>
                  <a:pt x="640" y="241"/>
                </a:lnTo>
                <a:lnTo>
                  <a:pt x="573" y="290"/>
                </a:lnTo>
                <a:lnTo>
                  <a:pt x="573" y="315"/>
                </a:lnTo>
                <a:lnTo>
                  <a:pt x="524" y="331"/>
                </a:lnTo>
                <a:lnTo>
                  <a:pt x="491" y="331"/>
                </a:lnTo>
                <a:lnTo>
                  <a:pt x="457" y="281"/>
                </a:lnTo>
                <a:lnTo>
                  <a:pt x="457" y="257"/>
                </a:lnTo>
                <a:lnTo>
                  <a:pt x="416" y="257"/>
                </a:lnTo>
                <a:lnTo>
                  <a:pt x="391" y="232"/>
                </a:lnTo>
                <a:lnTo>
                  <a:pt x="357" y="232"/>
                </a:lnTo>
                <a:lnTo>
                  <a:pt x="357" y="224"/>
                </a:lnTo>
                <a:lnTo>
                  <a:pt x="341" y="224"/>
                </a:lnTo>
                <a:lnTo>
                  <a:pt x="341" y="232"/>
                </a:lnTo>
                <a:lnTo>
                  <a:pt x="316" y="232"/>
                </a:lnTo>
                <a:lnTo>
                  <a:pt x="283" y="157"/>
                </a:lnTo>
                <a:lnTo>
                  <a:pt x="249" y="107"/>
                </a:lnTo>
                <a:lnTo>
                  <a:pt x="233" y="90"/>
                </a:lnTo>
                <a:lnTo>
                  <a:pt x="233" y="75"/>
                </a:lnTo>
                <a:lnTo>
                  <a:pt x="191" y="16"/>
                </a:lnTo>
                <a:lnTo>
                  <a:pt x="133" y="16"/>
                </a:lnTo>
                <a:lnTo>
                  <a:pt x="100" y="0"/>
                </a:lnTo>
                <a:lnTo>
                  <a:pt x="16" y="8"/>
                </a:lnTo>
                <a:lnTo>
                  <a:pt x="8" y="25"/>
                </a:lnTo>
              </a:path>
            </a:pathLst>
          </a:custGeom>
          <a:solidFill>
            <a:srgbClr val="ffcc66"/>
          </a:solidFill>
          <a:ln cap="rnd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4" name="Freeform 239"/>
          <p:cNvSpPr/>
          <p:nvPr/>
        </p:nvSpPr>
        <p:spPr>
          <a:xfrm>
            <a:off x="3317760" y="2838600"/>
            <a:ext cx="662040" cy="658800"/>
          </a:xfrm>
          <a:custGeom>
            <a:avLst/>
            <a:gdLst>
              <a:gd name="textAreaLeft" fmla="*/ 0 w 662040"/>
              <a:gd name="textAreaRight" fmla="*/ 662400 w 662040"/>
              <a:gd name="textAreaTop" fmla="*/ 0 h 658800"/>
              <a:gd name="textAreaBottom" fmla="*/ 659160 h 658800"/>
            </a:gdLst>
            <a:ahLst/>
            <a:rect l="textAreaLeft" t="textAreaTop" r="textAreaRight" b="textAreaBottom"/>
            <a:pathLst>
              <a:path w="354" h="359">
                <a:moveTo>
                  <a:pt x="353" y="158"/>
                </a:moveTo>
                <a:lnTo>
                  <a:pt x="319" y="108"/>
                </a:lnTo>
                <a:lnTo>
                  <a:pt x="327" y="83"/>
                </a:lnTo>
                <a:lnTo>
                  <a:pt x="293" y="25"/>
                </a:lnTo>
                <a:lnTo>
                  <a:pt x="268" y="0"/>
                </a:lnTo>
                <a:lnTo>
                  <a:pt x="260" y="33"/>
                </a:lnTo>
                <a:lnTo>
                  <a:pt x="251" y="0"/>
                </a:lnTo>
                <a:lnTo>
                  <a:pt x="218" y="0"/>
                </a:lnTo>
                <a:lnTo>
                  <a:pt x="226" y="16"/>
                </a:lnTo>
                <a:lnTo>
                  <a:pt x="184" y="50"/>
                </a:lnTo>
                <a:lnTo>
                  <a:pt x="160" y="41"/>
                </a:lnTo>
                <a:lnTo>
                  <a:pt x="42" y="124"/>
                </a:lnTo>
                <a:lnTo>
                  <a:pt x="25" y="100"/>
                </a:lnTo>
                <a:lnTo>
                  <a:pt x="8" y="100"/>
                </a:lnTo>
                <a:lnTo>
                  <a:pt x="16" y="124"/>
                </a:lnTo>
                <a:lnTo>
                  <a:pt x="16" y="141"/>
                </a:lnTo>
                <a:lnTo>
                  <a:pt x="16" y="166"/>
                </a:lnTo>
                <a:lnTo>
                  <a:pt x="0" y="166"/>
                </a:lnTo>
                <a:lnTo>
                  <a:pt x="0" y="199"/>
                </a:lnTo>
                <a:lnTo>
                  <a:pt x="0" y="216"/>
                </a:lnTo>
                <a:lnTo>
                  <a:pt x="25" y="225"/>
                </a:lnTo>
                <a:lnTo>
                  <a:pt x="59" y="266"/>
                </a:lnTo>
                <a:lnTo>
                  <a:pt x="101" y="216"/>
                </a:lnTo>
                <a:lnTo>
                  <a:pt x="109" y="191"/>
                </a:lnTo>
                <a:lnTo>
                  <a:pt x="151" y="183"/>
                </a:lnTo>
                <a:lnTo>
                  <a:pt x="168" y="199"/>
                </a:lnTo>
                <a:lnTo>
                  <a:pt x="168" y="208"/>
                </a:lnTo>
                <a:lnTo>
                  <a:pt x="184" y="208"/>
                </a:lnTo>
                <a:lnTo>
                  <a:pt x="151" y="258"/>
                </a:lnTo>
                <a:lnTo>
                  <a:pt x="143" y="258"/>
                </a:lnTo>
                <a:lnTo>
                  <a:pt x="143" y="283"/>
                </a:lnTo>
                <a:lnTo>
                  <a:pt x="143" y="300"/>
                </a:lnTo>
                <a:lnTo>
                  <a:pt x="160" y="300"/>
                </a:lnTo>
                <a:lnTo>
                  <a:pt x="126" y="349"/>
                </a:lnTo>
                <a:lnTo>
                  <a:pt x="134" y="358"/>
                </a:lnTo>
                <a:lnTo>
                  <a:pt x="151" y="349"/>
                </a:lnTo>
                <a:lnTo>
                  <a:pt x="151" y="324"/>
                </a:lnTo>
                <a:lnTo>
                  <a:pt x="175" y="324"/>
                </a:lnTo>
                <a:lnTo>
                  <a:pt x="184" y="307"/>
                </a:lnTo>
                <a:lnTo>
                  <a:pt x="184" y="292"/>
                </a:lnTo>
                <a:lnTo>
                  <a:pt x="234" y="258"/>
                </a:lnTo>
                <a:lnTo>
                  <a:pt x="285" y="241"/>
                </a:lnTo>
                <a:lnTo>
                  <a:pt x="293" y="208"/>
                </a:lnTo>
                <a:lnTo>
                  <a:pt x="319" y="183"/>
                </a:lnTo>
                <a:lnTo>
                  <a:pt x="344" y="174"/>
                </a:lnTo>
                <a:lnTo>
                  <a:pt x="353" y="158"/>
                </a:lnTo>
              </a:path>
            </a:pathLst>
          </a:custGeom>
          <a:solidFill>
            <a:srgbClr val="ffcc66"/>
          </a:solidFill>
          <a:ln cap="rnd" w="1260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5" name="Freeform 240"/>
          <p:cNvSpPr/>
          <p:nvPr/>
        </p:nvSpPr>
        <p:spPr>
          <a:xfrm>
            <a:off x="3497400" y="2436840"/>
            <a:ext cx="944280" cy="671400"/>
          </a:xfrm>
          <a:custGeom>
            <a:avLst/>
            <a:gdLst>
              <a:gd name="textAreaLeft" fmla="*/ 0 w 944280"/>
              <a:gd name="textAreaRight" fmla="*/ 944640 w 944280"/>
              <a:gd name="textAreaTop" fmla="*/ 0 h 671400"/>
              <a:gd name="textAreaBottom" fmla="*/ 671760 h 671400"/>
            </a:gdLst>
            <a:ahLst/>
            <a:rect l="textAreaLeft" t="textAreaTop" r="textAreaRight" b="textAreaBottom"/>
            <a:pathLst>
              <a:path w="608" h="444">
                <a:moveTo>
                  <a:pt x="84" y="12"/>
                </a:moveTo>
                <a:lnTo>
                  <a:pt x="122" y="14"/>
                </a:lnTo>
                <a:lnTo>
                  <a:pt x="140" y="0"/>
                </a:lnTo>
                <a:lnTo>
                  <a:pt x="140" y="56"/>
                </a:lnTo>
                <a:lnTo>
                  <a:pt x="182" y="76"/>
                </a:lnTo>
                <a:lnTo>
                  <a:pt x="242" y="62"/>
                </a:lnTo>
                <a:lnTo>
                  <a:pt x="256" y="86"/>
                </a:lnTo>
                <a:lnTo>
                  <a:pt x="296" y="62"/>
                </a:lnTo>
                <a:lnTo>
                  <a:pt x="338" y="118"/>
                </a:lnTo>
                <a:lnTo>
                  <a:pt x="368" y="118"/>
                </a:lnTo>
                <a:lnTo>
                  <a:pt x="384" y="154"/>
                </a:lnTo>
                <a:lnTo>
                  <a:pt x="406" y="154"/>
                </a:lnTo>
                <a:lnTo>
                  <a:pt x="406" y="110"/>
                </a:lnTo>
                <a:lnTo>
                  <a:pt x="422" y="92"/>
                </a:lnTo>
                <a:cubicBezTo>
                  <a:pt x="421" y="113"/>
                  <a:pt x="420" y="154"/>
                  <a:pt x="420" y="154"/>
                </a:cubicBezTo>
                <a:lnTo>
                  <a:pt x="470" y="182"/>
                </a:lnTo>
                <a:lnTo>
                  <a:pt x="478" y="152"/>
                </a:lnTo>
                <a:lnTo>
                  <a:pt x="488" y="176"/>
                </a:lnTo>
                <a:lnTo>
                  <a:pt x="532" y="134"/>
                </a:lnTo>
                <a:lnTo>
                  <a:pt x="564" y="168"/>
                </a:lnTo>
                <a:lnTo>
                  <a:pt x="606" y="170"/>
                </a:lnTo>
                <a:lnTo>
                  <a:pt x="608" y="216"/>
                </a:lnTo>
                <a:lnTo>
                  <a:pt x="580" y="212"/>
                </a:lnTo>
                <a:lnTo>
                  <a:pt x="568" y="238"/>
                </a:lnTo>
                <a:lnTo>
                  <a:pt x="586" y="260"/>
                </a:lnTo>
                <a:lnTo>
                  <a:pt x="550" y="248"/>
                </a:lnTo>
                <a:lnTo>
                  <a:pt x="544" y="214"/>
                </a:lnTo>
                <a:lnTo>
                  <a:pt x="528" y="212"/>
                </a:lnTo>
                <a:lnTo>
                  <a:pt x="518" y="282"/>
                </a:lnTo>
                <a:lnTo>
                  <a:pt x="494" y="280"/>
                </a:lnTo>
                <a:lnTo>
                  <a:pt x="510" y="314"/>
                </a:lnTo>
                <a:lnTo>
                  <a:pt x="430" y="334"/>
                </a:lnTo>
                <a:lnTo>
                  <a:pt x="442" y="388"/>
                </a:lnTo>
                <a:lnTo>
                  <a:pt x="374" y="394"/>
                </a:lnTo>
                <a:lnTo>
                  <a:pt x="376" y="380"/>
                </a:lnTo>
                <a:lnTo>
                  <a:pt x="366" y="370"/>
                </a:lnTo>
                <a:lnTo>
                  <a:pt x="342" y="372"/>
                </a:lnTo>
                <a:lnTo>
                  <a:pt x="322" y="440"/>
                </a:lnTo>
                <a:lnTo>
                  <a:pt x="302" y="444"/>
                </a:lnTo>
                <a:lnTo>
                  <a:pt x="270" y="398"/>
                </a:lnTo>
                <a:lnTo>
                  <a:pt x="278" y="368"/>
                </a:lnTo>
                <a:lnTo>
                  <a:pt x="236" y="292"/>
                </a:lnTo>
                <a:lnTo>
                  <a:pt x="208" y="266"/>
                </a:lnTo>
                <a:lnTo>
                  <a:pt x="196" y="300"/>
                </a:lnTo>
                <a:lnTo>
                  <a:pt x="184" y="266"/>
                </a:lnTo>
                <a:lnTo>
                  <a:pt x="144" y="264"/>
                </a:lnTo>
                <a:lnTo>
                  <a:pt x="130" y="250"/>
                </a:lnTo>
                <a:lnTo>
                  <a:pt x="134" y="212"/>
                </a:lnTo>
                <a:lnTo>
                  <a:pt x="112" y="156"/>
                </a:lnTo>
                <a:lnTo>
                  <a:pt x="62" y="196"/>
                </a:lnTo>
                <a:lnTo>
                  <a:pt x="30" y="130"/>
                </a:lnTo>
                <a:lnTo>
                  <a:pt x="38" y="102"/>
                </a:lnTo>
                <a:lnTo>
                  <a:pt x="0" y="62"/>
                </a:lnTo>
                <a:lnTo>
                  <a:pt x="12" y="46"/>
                </a:lnTo>
                <a:lnTo>
                  <a:pt x="48" y="68"/>
                </a:lnTo>
                <a:lnTo>
                  <a:pt x="84" y="68"/>
                </a:lnTo>
                <a:lnTo>
                  <a:pt x="84" y="12"/>
                </a:lnTo>
                <a:close/>
              </a:path>
            </a:pathLst>
          </a:custGeom>
          <a:solidFill>
            <a:srgbClr val="ffcc66"/>
          </a:solidFill>
          <a:ln w="9360">
            <a:solidFill>
              <a:srgbClr val="ffff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6" name="Freeform 241"/>
          <p:cNvSpPr/>
          <p:nvPr/>
        </p:nvSpPr>
        <p:spPr>
          <a:xfrm>
            <a:off x="1023840" y="4764240"/>
            <a:ext cx="998640" cy="1049040"/>
          </a:xfrm>
          <a:custGeom>
            <a:avLst/>
            <a:gdLst>
              <a:gd name="textAreaLeft" fmla="*/ 0 w 998640"/>
              <a:gd name="textAreaRight" fmla="*/ 999000 w 998640"/>
              <a:gd name="textAreaTop" fmla="*/ 0 h 1049040"/>
              <a:gd name="textAreaBottom" fmla="*/ 1049400 h 1049040"/>
            </a:gdLst>
            <a:ahLst/>
            <a:rect l="textAreaLeft" t="textAreaTop" r="textAreaRight" b="textAreaBottom"/>
            <a:pathLst>
              <a:path w="533" h="574">
                <a:moveTo>
                  <a:pt x="490" y="431"/>
                </a:moveTo>
                <a:lnTo>
                  <a:pt x="498" y="423"/>
                </a:lnTo>
                <a:lnTo>
                  <a:pt x="532" y="423"/>
                </a:lnTo>
                <a:lnTo>
                  <a:pt x="532" y="390"/>
                </a:lnTo>
                <a:lnTo>
                  <a:pt x="523" y="381"/>
                </a:lnTo>
                <a:lnTo>
                  <a:pt x="498" y="381"/>
                </a:lnTo>
                <a:lnTo>
                  <a:pt x="473" y="381"/>
                </a:lnTo>
                <a:lnTo>
                  <a:pt x="465" y="357"/>
                </a:lnTo>
                <a:lnTo>
                  <a:pt x="440" y="357"/>
                </a:lnTo>
                <a:lnTo>
                  <a:pt x="440" y="340"/>
                </a:lnTo>
                <a:lnTo>
                  <a:pt x="440" y="324"/>
                </a:lnTo>
                <a:lnTo>
                  <a:pt x="448" y="299"/>
                </a:lnTo>
                <a:lnTo>
                  <a:pt x="423" y="265"/>
                </a:lnTo>
                <a:lnTo>
                  <a:pt x="448" y="232"/>
                </a:lnTo>
                <a:lnTo>
                  <a:pt x="448" y="198"/>
                </a:lnTo>
                <a:lnTo>
                  <a:pt x="398" y="207"/>
                </a:lnTo>
                <a:lnTo>
                  <a:pt x="398" y="166"/>
                </a:lnTo>
                <a:lnTo>
                  <a:pt x="390" y="157"/>
                </a:lnTo>
                <a:lnTo>
                  <a:pt x="406" y="149"/>
                </a:lnTo>
                <a:lnTo>
                  <a:pt x="423" y="157"/>
                </a:lnTo>
                <a:lnTo>
                  <a:pt x="440" y="141"/>
                </a:lnTo>
                <a:lnTo>
                  <a:pt x="481" y="149"/>
                </a:lnTo>
                <a:lnTo>
                  <a:pt x="498" y="124"/>
                </a:lnTo>
                <a:lnTo>
                  <a:pt x="481" y="99"/>
                </a:lnTo>
                <a:lnTo>
                  <a:pt x="456" y="116"/>
                </a:lnTo>
                <a:lnTo>
                  <a:pt x="440" y="99"/>
                </a:lnTo>
                <a:lnTo>
                  <a:pt x="431" y="57"/>
                </a:lnTo>
                <a:lnTo>
                  <a:pt x="406" y="57"/>
                </a:lnTo>
                <a:lnTo>
                  <a:pt x="398" y="82"/>
                </a:lnTo>
                <a:lnTo>
                  <a:pt x="381" y="90"/>
                </a:lnTo>
                <a:lnTo>
                  <a:pt x="381" y="107"/>
                </a:lnTo>
                <a:lnTo>
                  <a:pt x="365" y="132"/>
                </a:lnTo>
                <a:lnTo>
                  <a:pt x="348" y="132"/>
                </a:lnTo>
                <a:lnTo>
                  <a:pt x="340" y="223"/>
                </a:lnTo>
                <a:lnTo>
                  <a:pt x="323" y="223"/>
                </a:lnTo>
                <a:lnTo>
                  <a:pt x="316" y="207"/>
                </a:lnTo>
                <a:lnTo>
                  <a:pt x="299" y="223"/>
                </a:lnTo>
                <a:lnTo>
                  <a:pt x="274" y="223"/>
                </a:lnTo>
                <a:lnTo>
                  <a:pt x="266" y="215"/>
                </a:lnTo>
                <a:lnTo>
                  <a:pt x="257" y="207"/>
                </a:lnTo>
                <a:lnTo>
                  <a:pt x="257" y="174"/>
                </a:lnTo>
                <a:lnTo>
                  <a:pt x="224" y="99"/>
                </a:lnTo>
                <a:lnTo>
                  <a:pt x="207" y="90"/>
                </a:lnTo>
                <a:lnTo>
                  <a:pt x="207" y="99"/>
                </a:lnTo>
                <a:lnTo>
                  <a:pt x="190" y="82"/>
                </a:lnTo>
                <a:lnTo>
                  <a:pt x="199" y="65"/>
                </a:lnTo>
                <a:lnTo>
                  <a:pt x="165" y="32"/>
                </a:lnTo>
                <a:lnTo>
                  <a:pt x="149" y="32"/>
                </a:lnTo>
                <a:lnTo>
                  <a:pt x="140" y="74"/>
                </a:lnTo>
                <a:lnTo>
                  <a:pt x="124" y="74"/>
                </a:lnTo>
                <a:lnTo>
                  <a:pt x="132" y="57"/>
                </a:lnTo>
                <a:lnTo>
                  <a:pt x="132" y="0"/>
                </a:lnTo>
                <a:lnTo>
                  <a:pt x="115" y="15"/>
                </a:lnTo>
                <a:lnTo>
                  <a:pt x="107" y="0"/>
                </a:lnTo>
                <a:lnTo>
                  <a:pt x="91" y="7"/>
                </a:lnTo>
                <a:lnTo>
                  <a:pt x="91" y="24"/>
                </a:lnTo>
                <a:lnTo>
                  <a:pt x="100" y="57"/>
                </a:lnTo>
                <a:lnTo>
                  <a:pt x="83" y="65"/>
                </a:lnTo>
                <a:lnTo>
                  <a:pt x="66" y="57"/>
                </a:lnTo>
                <a:lnTo>
                  <a:pt x="75" y="90"/>
                </a:lnTo>
                <a:lnTo>
                  <a:pt x="83" y="107"/>
                </a:lnTo>
                <a:lnTo>
                  <a:pt x="100" y="99"/>
                </a:lnTo>
                <a:lnTo>
                  <a:pt x="100" y="157"/>
                </a:lnTo>
                <a:lnTo>
                  <a:pt x="83" y="223"/>
                </a:lnTo>
                <a:lnTo>
                  <a:pt x="41" y="257"/>
                </a:lnTo>
                <a:lnTo>
                  <a:pt x="25" y="257"/>
                </a:lnTo>
                <a:lnTo>
                  <a:pt x="16" y="273"/>
                </a:lnTo>
                <a:lnTo>
                  <a:pt x="8" y="299"/>
                </a:lnTo>
                <a:lnTo>
                  <a:pt x="8" y="340"/>
                </a:lnTo>
                <a:lnTo>
                  <a:pt x="0" y="349"/>
                </a:lnTo>
                <a:lnTo>
                  <a:pt x="33" y="349"/>
                </a:lnTo>
                <a:lnTo>
                  <a:pt x="50" y="340"/>
                </a:lnTo>
                <a:lnTo>
                  <a:pt x="83" y="349"/>
                </a:lnTo>
                <a:lnTo>
                  <a:pt x="83" y="365"/>
                </a:lnTo>
                <a:lnTo>
                  <a:pt x="75" y="374"/>
                </a:lnTo>
                <a:lnTo>
                  <a:pt x="83" y="381"/>
                </a:lnTo>
                <a:lnTo>
                  <a:pt x="75" y="406"/>
                </a:lnTo>
                <a:lnTo>
                  <a:pt x="91" y="423"/>
                </a:lnTo>
                <a:lnTo>
                  <a:pt x="107" y="423"/>
                </a:lnTo>
                <a:lnTo>
                  <a:pt x="115" y="431"/>
                </a:lnTo>
                <a:lnTo>
                  <a:pt x="100" y="440"/>
                </a:lnTo>
                <a:lnTo>
                  <a:pt x="107" y="473"/>
                </a:lnTo>
                <a:lnTo>
                  <a:pt x="91" y="473"/>
                </a:lnTo>
                <a:lnTo>
                  <a:pt x="100" y="498"/>
                </a:lnTo>
                <a:lnTo>
                  <a:pt x="140" y="498"/>
                </a:lnTo>
                <a:lnTo>
                  <a:pt x="140" y="523"/>
                </a:lnTo>
                <a:lnTo>
                  <a:pt x="149" y="540"/>
                </a:lnTo>
                <a:lnTo>
                  <a:pt x="190" y="540"/>
                </a:lnTo>
                <a:lnTo>
                  <a:pt x="207" y="523"/>
                </a:lnTo>
                <a:lnTo>
                  <a:pt x="215" y="532"/>
                </a:lnTo>
                <a:lnTo>
                  <a:pt x="207" y="557"/>
                </a:lnTo>
                <a:lnTo>
                  <a:pt x="215" y="565"/>
                </a:lnTo>
                <a:lnTo>
                  <a:pt x="249" y="573"/>
                </a:lnTo>
                <a:lnTo>
                  <a:pt x="249" y="557"/>
                </a:lnTo>
                <a:lnTo>
                  <a:pt x="249" y="490"/>
                </a:lnTo>
                <a:lnTo>
                  <a:pt x="257" y="482"/>
                </a:lnTo>
                <a:lnTo>
                  <a:pt x="299" y="482"/>
                </a:lnTo>
                <a:lnTo>
                  <a:pt x="307" y="473"/>
                </a:lnTo>
                <a:lnTo>
                  <a:pt x="323" y="473"/>
                </a:lnTo>
                <a:lnTo>
                  <a:pt x="331" y="482"/>
                </a:lnTo>
                <a:lnTo>
                  <a:pt x="356" y="473"/>
                </a:lnTo>
                <a:lnTo>
                  <a:pt x="365" y="482"/>
                </a:lnTo>
                <a:lnTo>
                  <a:pt x="373" y="473"/>
                </a:lnTo>
                <a:lnTo>
                  <a:pt x="390" y="490"/>
                </a:lnTo>
                <a:lnTo>
                  <a:pt x="398" y="473"/>
                </a:lnTo>
                <a:lnTo>
                  <a:pt x="415" y="473"/>
                </a:lnTo>
                <a:lnTo>
                  <a:pt x="448" y="465"/>
                </a:lnTo>
                <a:lnTo>
                  <a:pt x="456" y="440"/>
                </a:lnTo>
                <a:lnTo>
                  <a:pt x="473" y="431"/>
                </a:lnTo>
                <a:lnTo>
                  <a:pt x="490" y="431"/>
                </a:lnTo>
              </a:path>
            </a:pathLst>
          </a:custGeom>
          <a:solidFill>
            <a:srgbClr val="ffff99"/>
          </a:solidFill>
          <a:ln cap="rnd" w="1260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7" name="Freeform 242"/>
          <p:cNvSpPr/>
          <p:nvPr/>
        </p:nvSpPr>
        <p:spPr>
          <a:xfrm>
            <a:off x="817560" y="2892600"/>
            <a:ext cx="1501920" cy="1458720"/>
          </a:xfrm>
          <a:custGeom>
            <a:avLst/>
            <a:gdLst>
              <a:gd name="textAreaLeft" fmla="*/ 0 w 1501920"/>
              <a:gd name="textAreaRight" fmla="*/ 1502280 w 1501920"/>
              <a:gd name="textAreaTop" fmla="*/ 0 h 1458720"/>
              <a:gd name="textAreaBottom" fmla="*/ 1459080 h 1458720"/>
            </a:gdLst>
            <a:ahLst/>
            <a:rect l="textAreaLeft" t="textAreaTop" r="textAreaRight" b="textAreaBottom"/>
            <a:pathLst>
              <a:path w="801" h="795">
                <a:moveTo>
                  <a:pt x="600" y="434"/>
                </a:moveTo>
                <a:lnTo>
                  <a:pt x="591" y="460"/>
                </a:lnTo>
                <a:lnTo>
                  <a:pt x="633" y="484"/>
                </a:lnTo>
                <a:lnTo>
                  <a:pt x="633" y="509"/>
                </a:lnTo>
                <a:lnTo>
                  <a:pt x="642" y="517"/>
                </a:lnTo>
                <a:lnTo>
                  <a:pt x="633" y="542"/>
                </a:lnTo>
                <a:lnTo>
                  <a:pt x="633" y="568"/>
                </a:lnTo>
                <a:lnTo>
                  <a:pt x="682" y="601"/>
                </a:lnTo>
                <a:lnTo>
                  <a:pt x="699" y="593"/>
                </a:lnTo>
                <a:lnTo>
                  <a:pt x="699" y="568"/>
                </a:lnTo>
                <a:lnTo>
                  <a:pt x="716" y="559"/>
                </a:lnTo>
                <a:lnTo>
                  <a:pt x="707" y="526"/>
                </a:lnTo>
                <a:lnTo>
                  <a:pt x="691" y="526"/>
                </a:lnTo>
                <a:lnTo>
                  <a:pt x="691" y="500"/>
                </a:lnTo>
                <a:lnTo>
                  <a:pt x="707" y="500"/>
                </a:lnTo>
                <a:lnTo>
                  <a:pt x="707" y="467"/>
                </a:lnTo>
                <a:lnTo>
                  <a:pt x="733" y="467"/>
                </a:lnTo>
                <a:lnTo>
                  <a:pt x="749" y="492"/>
                </a:lnTo>
                <a:lnTo>
                  <a:pt x="783" y="509"/>
                </a:lnTo>
                <a:lnTo>
                  <a:pt x="800" y="526"/>
                </a:lnTo>
                <a:lnTo>
                  <a:pt x="791" y="601"/>
                </a:lnTo>
                <a:lnTo>
                  <a:pt x="749" y="601"/>
                </a:lnTo>
                <a:lnTo>
                  <a:pt x="749" y="627"/>
                </a:lnTo>
                <a:lnTo>
                  <a:pt x="733" y="635"/>
                </a:lnTo>
                <a:lnTo>
                  <a:pt x="724" y="618"/>
                </a:lnTo>
                <a:lnTo>
                  <a:pt x="691" y="618"/>
                </a:lnTo>
                <a:lnTo>
                  <a:pt x="691" y="726"/>
                </a:lnTo>
                <a:lnTo>
                  <a:pt x="666" y="718"/>
                </a:lnTo>
                <a:lnTo>
                  <a:pt x="649" y="735"/>
                </a:lnTo>
                <a:lnTo>
                  <a:pt x="657" y="743"/>
                </a:lnTo>
                <a:lnTo>
                  <a:pt x="657" y="760"/>
                </a:lnTo>
                <a:lnTo>
                  <a:pt x="642" y="768"/>
                </a:lnTo>
                <a:lnTo>
                  <a:pt x="625" y="794"/>
                </a:lnTo>
                <a:lnTo>
                  <a:pt x="591" y="794"/>
                </a:lnTo>
                <a:lnTo>
                  <a:pt x="566" y="777"/>
                </a:lnTo>
                <a:lnTo>
                  <a:pt x="550" y="726"/>
                </a:lnTo>
                <a:lnTo>
                  <a:pt x="550" y="718"/>
                </a:lnTo>
                <a:lnTo>
                  <a:pt x="541" y="709"/>
                </a:lnTo>
                <a:lnTo>
                  <a:pt x="508" y="701"/>
                </a:lnTo>
                <a:lnTo>
                  <a:pt x="491" y="667"/>
                </a:lnTo>
                <a:lnTo>
                  <a:pt x="483" y="676"/>
                </a:lnTo>
                <a:lnTo>
                  <a:pt x="466" y="676"/>
                </a:lnTo>
                <a:lnTo>
                  <a:pt x="458" y="676"/>
                </a:lnTo>
                <a:lnTo>
                  <a:pt x="458" y="693"/>
                </a:lnTo>
                <a:lnTo>
                  <a:pt x="458" y="709"/>
                </a:lnTo>
                <a:lnTo>
                  <a:pt x="449" y="743"/>
                </a:lnTo>
                <a:lnTo>
                  <a:pt x="417" y="735"/>
                </a:lnTo>
                <a:lnTo>
                  <a:pt x="432" y="709"/>
                </a:lnTo>
                <a:lnTo>
                  <a:pt x="417" y="701"/>
                </a:lnTo>
                <a:lnTo>
                  <a:pt x="392" y="693"/>
                </a:lnTo>
                <a:lnTo>
                  <a:pt x="375" y="667"/>
                </a:lnTo>
                <a:lnTo>
                  <a:pt x="375" y="651"/>
                </a:lnTo>
                <a:lnTo>
                  <a:pt x="392" y="651"/>
                </a:lnTo>
                <a:lnTo>
                  <a:pt x="425" y="667"/>
                </a:lnTo>
                <a:lnTo>
                  <a:pt x="449" y="651"/>
                </a:lnTo>
                <a:lnTo>
                  <a:pt x="458" y="643"/>
                </a:lnTo>
                <a:lnTo>
                  <a:pt x="432" y="635"/>
                </a:lnTo>
                <a:lnTo>
                  <a:pt x="432" y="610"/>
                </a:lnTo>
                <a:lnTo>
                  <a:pt x="466" y="601"/>
                </a:lnTo>
                <a:lnTo>
                  <a:pt x="474" y="568"/>
                </a:lnTo>
                <a:lnTo>
                  <a:pt x="491" y="568"/>
                </a:lnTo>
                <a:lnTo>
                  <a:pt x="499" y="542"/>
                </a:lnTo>
                <a:lnTo>
                  <a:pt x="491" y="460"/>
                </a:lnTo>
                <a:lnTo>
                  <a:pt x="449" y="392"/>
                </a:lnTo>
                <a:lnTo>
                  <a:pt x="449" y="418"/>
                </a:lnTo>
                <a:lnTo>
                  <a:pt x="375" y="350"/>
                </a:lnTo>
                <a:lnTo>
                  <a:pt x="367" y="359"/>
                </a:lnTo>
                <a:lnTo>
                  <a:pt x="325" y="325"/>
                </a:lnTo>
                <a:lnTo>
                  <a:pt x="308" y="291"/>
                </a:lnTo>
                <a:lnTo>
                  <a:pt x="258" y="300"/>
                </a:lnTo>
                <a:lnTo>
                  <a:pt x="209" y="275"/>
                </a:lnTo>
                <a:lnTo>
                  <a:pt x="192" y="325"/>
                </a:lnTo>
                <a:lnTo>
                  <a:pt x="125" y="267"/>
                </a:lnTo>
                <a:lnTo>
                  <a:pt x="41" y="234"/>
                </a:lnTo>
                <a:lnTo>
                  <a:pt x="0" y="242"/>
                </a:lnTo>
                <a:lnTo>
                  <a:pt x="8" y="158"/>
                </a:lnTo>
                <a:lnTo>
                  <a:pt x="16" y="141"/>
                </a:lnTo>
                <a:lnTo>
                  <a:pt x="41" y="150"/>
                </a:lnTo>
                <a:lnTo>
                  <a:pt x="66" y="116"/>
                </a:lnTo>
                <a:lnTo>
                  <a:pt x="100" y="99"/>
                </a:lnTo>
                <a:lnTo>
                  <a:pt x="125" y="75"/>
                </a:lnTo>
                <a:lnTo>
                  <a:pt x="125" y="67"/>
                </a:lnTo>
                <a:lnTo>
                  <a:pt x="184" y="67"/>
                </a:lnTo>
                <a:lnTo>
                  <a:pt x="200" y="42"/>
                </a:lnTo>
                <a:lnTo>
                  <a:pt x="200" y="16"/>
                </a:lnTo>
                <a:lnTo>
                  <a:pt x="209" y="0"/>
                </a:lnTo>
                <a:lnTo>
                  <a:pt x="249" y="16"/>
                </a:lnTo>
                <a:lnTo>
                  <a:pt x="266" y="75"/>
                </a:lnTo>
                <a:lnTo>
                  <a:pt x="266" y="99"/>
                </a:lnTo>
                <a:lnTo>
                  <a:pt x="275" y="124"/>
                </a:lnTo>
                <a:lnTo>
                  <a:pt x="291" y="150"/>
                </a:lnTo>
                <a:lnTo>
                  <a:pt x="291" y="166"/>
                </a:lnTo>
                <a:lnTo>
                  <a:pt x="300" y="183"/>
                </a:lnTo>
                <a:lnTo>
                  <a:pt x="316" y="192"/>
                </a:lnTo>
                <a:lnTo>
                  <a:pt x="316" y="166"/>
                </a:lnTo>
                <a:lnTo>
                  <a:pt x="383" y="175"/>
                </a:lnTo>
                <a:lnTo>
                  <a:pt x="383" y="200"/>
                </a:lnTo>
                <a:lnTo>
                  <a:pt x="375" y="209"/>
                </a:lnTo>
                <a:lnTo>
                  <a:pt x="358" y="234"/>
                </a:lnTo>
                <a:lnTo>
                  <a:pt x="358" y="242"/>
                </a:lnTo>
                <a:lnTo>
                  <a:pt x="408" y="291"/>
                </a:lnTo>
                <a:lnTo>
                  <a:pt x="408" y="317"/>
                </a:lnTo>
                <a:lnTo>
                  <a:pt x="458" y="342"/>
                </a:lnTo>
                <a:lnTo>
                  <a:pt x="466" y="333"/>
                </a:lnTo>
                <a:lnTo>
                  <a:pt x="458" y="300"/>
                </a:lnTo>
                <a:lnTo>
                  <a:pt x="491" y="300"/>
                </a:lnTo>
                <a:lnTo>
                  <a:pt x="499" y="308"/>
                </a:lnTo>
                <a:lnTo>
                  <a:pt x="541" y="308"/>
                </a:lnTo>
                <a:lnTo>
                  <a:pt x="575" y="300"/>
                </a:lnTo>
                <a:lnTo>
                  <a:pt x="583" y="317"/>
                </a:lnTo>
                <a:lnTo>
                  <a:pt x="550" y="359"/>
                </a:lnTo>
                <a:lnTo>
                  <a:pt x="541" y="375"/>
                </a:lnTo>
                <a:lnTo>
                  <a:pt x="533" y="401"/>
                </a:lnTo>
                <a:lnTo>
                  <a:pt x="566" y="443"/>
                </a:lnTo>
                <a:lnTo>
                  <a:pt x="600" y="434"/>
                </a:lnTo>
              </a:path>
            </a:pathLst>
          </a:custGeom>
          <a:solidFill>
            <a:srgbClr val="ffff99"/>
          </a:solidFill>
          <a:ln cap="rnd" w="1260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8" name="Freeform 243"/>
          <p:cNvSpPr/>
          <p:nvPr/>
        </p:nvSpPr>
        <p:spPr>
          <a:xfrm>
            <a:off x="1278000" y="1550880"/>
            <a:ext cx="2530440" cy="2140200"/>
          </a:xfrm>
          <a:custGeom>
            <a:avLst/>
            <a:gdLst>
              <a:gd name="textAreaLeft" fmla="*/ 0 w 2530440"/>
              <a:gd name="textAreaRight" fmla="*/ 2530800 w 2530440"/>
              <a:gd name="textAreaTop" fmla="*/ 0 h 2140200"/>
              <a:gd name="textAreaBottom" fmla="*/ 2140560 h 2140200"/>
            </a:gdLst>
            <a:ahLst/>
            <a:rect l="textAreaLeft" t="textAreaTop" r="textAreaRight" b="textAreaBottom"/>
            <a:pathLst>
              <a:path w="1351" h="1167">
                <a:moveTo>
                  <a:pt x="0" y="741"/>
                </a:moveTo>
                <a:lnTo>
                  <a:pt x="16" y="799"/>
                </a:lnTo>
                <a:lnTo>
                  <a:pt x="25" y="840"/>
                </a:lnTo>
                <a:lnTo>
                  <a:pt x="41" y="873"/>
                </a:lnTo>
                <a:lnTo>
                  <a:pt x="50" y="915"/>
                </a:lnTo>
                <a:lnTo>
                  <a:pt x="66" y="915"/>
                </a:lnTo>
                <a:lnTo>
                  <a:pt x="58" y="882"/>
                </a:lnTo>
                <a:lnTo>
                  <a:pt x="133" y="899"/>
                </a:lnTo>
                <a:lnTo>
                  <a:pt x="133" y="924"/>
                </a:lnTo>
                <a:lnTo>
                  <a:pt x="125" y="932"/>
                </a:lnTo>
                <a:lnTo>
                  <a:pt x="108" y="957"/>
                </a:lnTo>
                <a:lnTo>
                  <a:pt x="108" y="974"/>
                </a:lnTo>
                <a:lnTo>
                  <a:pt x="159" y="1015"/>
                </a:lnTo>
                <a:lnTo>
                  <a:pt x="159" y="1040"/>
                </a:lnTo>
                <a:lnTo>
                  <a:pt x="199" y="1065"/>
                </a:lnTo>
                <a:lnTo>
                  <a:pt x="216" y="1057"/>
                </a:lnTo>
                <a:lnTo>
                  <a:pt x="208" y="1023"/>
                </a:lnTo>
                <a:lnTo>
                  <a:pt x="241" y="1023"/>
                </a:lnTo>
                <a:lnTo>
                  <a:pt x="250" y="1032"/>
                </a:lnTo>
                <a:lnTo>
                  <a:pt x="325" y="1023"/>
                </a:lnTo>
                <a:lnTo>
                  <a:pt x="333" y="1040"/>
                </a:lnTo>
                <a:lnTo>
                  <a:pt x="300" y="1082"/>
                </a:lnTo>
                <a:lnTo>
                  <a:pt x="283" y="1124"/>
                </a:lnTo>
                <a:lnTo>
                  <a:pt x="317" y="1166"/>
                </a:lnTo>
                <a:lnTo>
                  <a:pt x="350" y="1157"/>
                </a:lnTo>
                <a:lnTo>
                  <a:pt x="384" y="1132"/>
                </a:lnTo>
                <a:lnTo>
                  <a:pt x="408" y="1132"/>
                </a:lnTo>
                <a:lnTo>
                  <a:pt x="408" y="1073"/>
                </a:lnTo>
                <a:lnTo>
                  <a:pt x="466" y="1023"/>
                </a:lnTo>
                <a:lnTo>
                  <a:pt x="475" y="1048"/>
                </a:lnTo>
                <a:lnTo>
                  <a:pt x="458" y="1107"/>
                </a:lnTo>
                <a:lnTo>
                  <a:pt x="491" y="1115"/>
                </a:lnTo>
                <a:lnTo>
                  <a:pt x="533" y="1157"/>
                </a:lnTo>
                <a:lnTo>
                  <a:pt x="550" y="1157"/>
                </a:lnTo>
                <a:lnTo>
                  <a:pt x="558" y="1157"/>
                </a:lnTo>
                <a:lnTo>
                  <a:pt x="567" y="1132"/>
                </a:lnTo>
                <a:lnTo>
                  <a:pt x="583" y="1132"/>
                </a:lnTo>
                <a:lnTo>
                  <a:pt x="575" y="1099"/>
                </a:lnTo>
                <a:lnTo>
                  <a:pt x="624" y="1040"/>
                </a:lnTo>
                <a:lnTo>
                  <a:pt x="624" y="1023"/>
                </a:lnTo>
                <a:lnTo>
                  <a:pt x="658" y="1023"/>
                </a:lnTo>
                <a:lnTo>
                  <a:pt x="666" y="1032"/>
                </a:lnTo>
                <a:lnTo>
                  <a:pt x="675" y="1015"/>
                </a:lnTo>
                <a:lnTo>
                  <a:pt x="683" y="1015"/>
                </a:lnTo>
                <a:lnTo>
                  <a:pt x="691" y="1032"/>
                </a:lnTo>
                <a:lnTo>
                  <a:pt x="700" y="1006"/>
                </a:lnTo>
                <a:lnTo>
                  <a:pt x="716" y="1015"/>
                </a:lnTo>
                <a:lnTo>
                  <a:pt x="758" y="966"/>
                </a:lnTo>
                <a:lnTo>
                  <a:pt x="792" y="957"/>
                </a:lnTo>
                <a:lnTo>
                  <a:pt x="800" y="940"/>
                </a:lnTo>
                <a:lnTo>
                  <a:pt x="817" y="949"/>
                </a:lnTo>
                <a:lnTo>
                  <a:pt x="849" y="940"/>
                </a:lnTo>
                <a:lnTo>
                  <a:pt x="825" y="873"/>
                </a:lnTo>
                <a:lnTo>
                  <a:pt x="841" y="865"/>
                </a:lnTo>
                <a:lnTo>
                  <a:pt x="849" y="832"/>
                </a:lnTo>
                <a:lnTo>
                  <a:pt x="874" y="823"/>
                </a:lnTo>
                <a:lnTo>
                  <a:pt x="891" y="857"/>
                </a:lnTo>
                <a:lnTo>
                  <a:pt x="933" y="832"/>
                </a:lnTo>
                <a:lnTo>
                  <a:pt x="941" y="840"/>
                </a:lnTo>
                <a:lnTo>
                  <a:pt x="950" y="823"/>
                </a:lnTo>
                <a:lnTo>
                  <a:pt x="983" y="823"/>
                </a:lnTo>
                <a:lnTo>
                  <a:pt x="983" y="791"/>
                </a:lnTo>
                <a:lnTo>
                  <a:pt x="1025" y="774"/>
                </a:lnTo>
                <a:lnTo>
                  <a:pt x="1049" y="808"/>
                </a:lnTo>
                <a:lnTo>
                  <a:pt x="1049" y="848"/>
                </a:lnTo>
                <a:lnTo>
                  <a:pt x="1066" y="865"/>
                </a:lnTo>
                <a:lnTo>
                  <a:pt x="1099" y="857"/>
                </a:lnTo>
                <a:lnTo>
                  <a:pt x="1108" y="857"/>
                </a:lnTo>
                <a:lnTo>
                  <a:pt x="1108" y="840"/>
                </a:lnTo>
                <a:lnTo>
                  <a:pt x="1108" y="808"/>
                </a:lnTo>
                <a:lnTo>
                  <a:pt x="1099" y="782"/>
                </a:lnTo>
                <a:lnTo>
                  <a:pt x="1116" y="791"/>
                </a:lnTo>
                <a:lnTo>
                  <a:pt x="1133" y="823"/>
                </a:lnTo>
                <a:lnTo>
                  <a:pt x="1250" y="732"/>
                </a:lnTo>
                <a:lnTo>
                  <a:pt x="1274" y="741"/>
                </a:lnTo>
                <a:lnTo>
                  <a:pt x="1316" y="707"/>
                </a:lnTo>
                <a:lnTo>
                  <a:pt x="1308" y="690"/>
                </a:lnTo>
                <a:lnTo>
                  <a:pt x="1299" y="682"/>
                </a:lnTo>
                <a:lnTo>
                  <a:pt x="1299" y="648"/>
                </a:lnTo>
                <a:lnTo>
                  <a:pt x="1283" y="599"/>
                </a:lnTo>
                <a:lnTo>
                  <a:pt x="1242" y="632"/>
                </a:lnTo>
                <a:lnTo>
                  <a:pt x="1217" y="583"/>
                </a:lnTo>
                <a:lnTo>
                  <a:pt x="1225" y="557"/>
                </a:lnTo>
                <a:lnTo>
                  <a:pt x="1191" y="524"/>
                </a:lnTo>
                <a:lnTo>
                  <a:pt x="1200" y="507"/>
                </a:lnTo>
                <a:lnTo>
                  <a:pt x="1233" y="524"/>
                </a:lnTo>
                <a:lnTo>
                  <a:pt x="1258" y="524"/>
                </a:lnTo>
                <a:lnTo>
                  <a:pt x="1258" y="482"/>
                </a:lnTo>
                <a:lnTo>
                  <a:pt x="1258" y="457"/>
                </a:lnTo>
                <a:lnTo>
                  <a:pt x="1283" y="440"/>
                </a:lnTo>
                <a:lnTo>
                  <a:pt x="1274" y="424"/>
                </a:lnTo>
                <a:lnTo>
                  <a:pt x="1250" y="440"/>
                </a:lnTo>
                <a:lnTo>
                  <a:pt x="1225" y="399"/>
                </a:lnTo>
                <a:lnTo>
                  <a:pt x="1291" y="316"/>
                </a:lnTo>
                <a:lnTo>
                  <a:pt x="1308" y="341"/>
                </a:lnTo>
                <a:lnTo>
                  <a:pt x="1308" y="282"/>
                </a:lnTo>
                <a:lnTo>
                  <a:pt x="1324" y="257"/>
                </a:lnTo>
                <a:lnTo>
                  <a:pt x="1324" y="208"/>
                </a:lnTo>
                <a:lnTo>
                  <a:pt x="1350" y="124"/>
                </a:lnTo>
                <a:lnTo>
                  <a:pt x="1308" y="82"/>
                </a:lnTo>
                <a:lnTo>
                  <a:pt x="1283" y="116"/>
                </a:lnTo>
                <a:lnTo>
                  <a:pt x="1266" y="116"/>
                </a:lnTo>
                <a:lnTo>
                  <a:pt x="1225" y="132"/>
                </a:lnTo>
                <a:lnTo>
                  <a:pt x="1208" y="107"/>
                </a:lnTo>
                <a:lnTo>
                  <a:pt x="1191" y="74"/>
                </a:lnTo>
                <a:lnTo>
                  <a:pt x="1166" y="50"/>
                </a:lnTo>
                <a:lnTo>
                  <a:pt x="1158" y="65"/>
                </a:lnTo>
                <a:lnTo>
                  <a:pt x="1125" y="58"/>
                </a:lnTo>
                <a:lnTo>
                  <a:pt x="1141" y="25"/>
                </a:lnTo>
                <a:lnTo>
                  <a:pt x="1133" y="0"/>
                </a:lnTo>
                <a:lnTo>
                  <a:pt x="1108" y="0"/>
                </a:lnTo>
                <a:lnTo>
                  <a:pt x="1066" y="41"/>
                </a:lnTo>
                <a:lnTo>
                  <a:pt x="1066" y="58"/>
                </a:lnTo>
                <a:lnTo>
                  <a:pt x="1099" y="58"/>
                </a:lnTo>
                <a:lnTo>
                  <a:pt x="1099" y="82"/>
                </a:lnTo>
                <a:lnTo>
                  <a:pt x="1074" y="124"/>
                </a:lnTo>
                <a:lnTo>
                  <a:pt x="1066" y="158"/>
                </a:lnTo>
                <a:lnTo>
                  <a:pt x="1049" y="191"/>
                </a:lnTo>
                <a:lnTo>
                  <a:pt x="1049" y="216"/>
                </a:lnTo>
                <a:lnTo>
                  <a:pt x="1058" y="225"/>
                </a:lnTo>
                <a:lnTo>
                  <a:pt x="1000" y="274"/>
                </a:lnTo>
                <a:lnTo>
                  <a:pt x="958" y="257"/>
                </a:lnTo>
                <a:lnTo>
                  <a:pt x="941" y="257"/>
                </a:lnTo>
                <a:lnTo>
                  <a:pt x="891" y="391"/>
                </a:lnTo>
                <a:lnTo>
                  <a:pt x="908" y="408"/>
                </a:lnTo>
                <a:lnTo>
                  <a:pt x="933" y="408"/>
                </a:lnTo>
                <a:lnTo>
                  <a:pt x="975" y="408"/>
                </a:lnTo>
                <a:lnTo>
                  <a:pt x="983" y="408"/>
                </a:lnTo>
                <a:lnTo>
                  <a:pt x="992" y="391"/>
                </a:lnTo>
                <a:lnTo>
                  <a:pt x="1017" y="383"/>
                </a:lnTo>
                <a:lnTo>
                  <a:pt x="1049" y="391"/>
                </a:lnTo>
                <a:lnTo>
                  <a:pt x="1074" y="424"/>
                </a:lnTo>
                <a:lnTo>
                  <a:pt x="1099" y="449"/>
                </a:lnTo>
                <a:lnTo>
                  <a:pt x="1099" y="482"/>
                </a:lnTo>
                <a:lnTo>
                  <a:pt x="1074" y="474"/>
                </a:lnTo>
                <a:lnTo>
                  <a:pt x="1025" y="490"/>
                </a:lnTo>
                <a:lnTo>
                  <a:pt x="983" y="490"/>
                </a:lnTo>
                <a:lnTo>
                  <a:pt x="983" y="507"/>
                </a:lnTo>
                <a:lnTo>
                  <a:pt x="958" y="507"/>
                </a:lnTo>
                <a:lnTo>
                  <a:pt x="941" y="524"/>
                </a:lnTo>
                <a:lnTo>
                  <a:pt x="933" y="557"/>
                </a:lnTo>
                <a:lnTo>
                  <a:pt x="916" y="566"/>
                </a:lnTo>
                <a:lnTo>
                  <a:pt x="866" y="574"/>
                </a:lnTo>
                <a:lnTo>
                  <a:pt x="817" y="623"/>
                </a:lnTo>
                <a:lnTo>
                  <a:pt x="758" y="623"/>
                </a:lnTo>
                <a:lnTo>
                  <a:pt x="741" y="608"/>
                </a:lnTo>
                <a:lnTo>
                  <a:pt x="716" y="616"/>
                </a:lnTo>
                <a:lnTo>
                  <a:pt x="708" y="632"/>
                </a:lnTo>
                <a:lnTo>
                  <a:pt x="691" y="657"/>
                </a:lnTo>
                <a:lnTo>
                  <a:pt x="725" y="707"/>
                </a:lnTo>
                <a:lnTo>
                  <a:pt x="683" y="741"/>
                </a:lnTo>
                <a:lnTo>
                  <a:pt x="658" y="774"/>
                </a:lnTo>
                <a:lnTo>
                  <a:pt x="609" y="799"/>
                </a:lnTo>
                <a:lnTo>
                  <a:pt x="525" y="799"/>
                </a:lnTo>
                <a:lnTo>
                  <a:pt x="475" y="815"/>
                </a:lnTo>
                <a:lnTo>
                  <a:pt x="433" y="823"/>
                </a:lnTo>
                <a:lnTo>
                  <a:pt x="392" y="857"/>
                </a:lnTo>
                <a:lnTo>
                  <a:pt x="367" y="857"/>
                </a:lnTo>
                <a:lnTo>
                  <a:pt x="333" y="832"/>
                </a:lnTo>
                <a:lnTo>
                  <a:pt x="300" y="832"/>
                </a:lnTo>
                <a:lnTo>
                  <a:pt x="266" y="815"/>
                </a:lnTo>
                <a:lnTo>
                  <a:pt x="241" y="808"/>
                </a:lnTo>
                <a:lnTo>
                  <a:pt x="208" y="774"/>
                </a:lnTo>
                <a:lnTo>
                  <a:pt x="159" y="766"/>
                </a:lnTo>
                <a:lnTo>
                  <a:pt x="100" y="766"/>
                </a:lnTo>
                <a:lnTo>
                  <a:pt x="66" y="749"/>
                </a:lnTo>
                <a:lnTo>
                  <a:pt x="0" y="741"/>
                </a:lnTo>
              </a:path>
            </a:pathLst>
          </a:custGeom>
          <a:solidFill>
            <a:srgbClr val="ff7c8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9" name="Freeform 244"/>
          <p:cNvSpPr/>
          <p:nvPr/>
        </p:nvSpPr>
        <p:spPr>
          <a:xfrm>
            <a:off x="2805120" y="2971800"/>
            <a:ext cx="627120" cy="901800"/>
          </a:xfrm>
          <a:custGeom>
            <a:avLst/>
            <a:gdLst>
              <a:gd name="textAreaLeft" fmla="*/ 0 w 627120"/>
              <a:gd name="textAreaRight" fmla="*/ 627480 w 627120"/>
              <a:gd name="textAreaTop" fmla="*/ 0 h 901800"/>
              <a:gd name="textAreaBottom" fmla="*/ 902160 h 901800"/>
            </a:gdLst>
            <a:ahLst/>
            <a:rect l="textAreaLeft" t="textAreaTop" r="textAreaRight" b="textAreaBottom"/>
            <a:pathLst>
              <a:path w="335" h="492">
                <a:moveTo>
                  <a:pt x="334" y="191"/>
                </a:moveTo>
                <a:lnTo>
                  <a:pt x="300" y="141"/>
                </a:lnTo>
                <a:lnTo>
                  <a:pt x="275" y="132"/>
                </a:lnTo>
                <a:lnTo>
                  <a:pt x="275" y="82"/>
                </a:lnTo>
                <a:lnTo>
                  <a:pt x="249" y="91"/>
                </a:lnTo>
                <a:lnTo>
                  <a:pt x="233" y="74"/>
                </a:lnTo>
                <a:lnTo>
                  <a:pt x="233" y="33"/>
                </a:lnTo>
                <a:lnTo>
                  <a:pt x="209" y="0"/>
                </a:lnTo>
                <a:lnTo>
                  <a:pt x="167" y="16"/>
                </a:lnTo>
                <a:lnTo>
                  <a:pt x="167" y="49"/>
                </a:lnTo>
                <a:lnTo>
                  <a:pt x="133" y="49"/>
                </a:lnTo>
                <a:lnTo>
                  <a:pt x="124" y="65"/>
                </a:lnTo>
                <a:lnTo>
                  <a:pt x="108" y="57"/>
                </a:lnTo>
                <a:lnTo>
                  <a:pt x="74" y="91"/>
                </a:lnTo>
                <a:lnTo>
                  <a:pt x="57" y="40"/>
                </a:lnTo>
                <a:lnTo>
                  <a:pt x="32" y="57"/>
                </a:lnTo>
                <a:lnTo>
                  <a:pt x="24" y="99"/>
                </a:lnTo>
                <a:lnTo>
                  <a:pt x="8" y="99"/>
                </a:lnTo>
                <a:lnTo>
                  <a:pt x="24" y="166"/>
                </a:lnTo>
                <a:lnTo>
                  <a:pt x="49" y="183"/>
                </a:lnTo>
                <a:lnTo>
                  <a:pt x="32" y="199"/>
                </a:lnTo>
                <a:lnTo>
                  <a:pt x="24" y="208"/>
                </a:lnTo>
                <a:lnTo>
                  <a:pt x="49" y="216"/>
                </a:lnTo>
                <a:lnTo>
                  <a:pt x="57" y="249"/>
                </a:lnTo>
                <a:lnTo>
                  <a:pt x="49" y="282"/>
                </a:lnTo>
                <a:lnTo>
                  <a:pt x="32" y="265"/>
                </a:lnTo>
                <a:lnTo>
                  <a:pt x="15" y="282"/>
                </a:lnTo>
                <a:lnTo>
                  <a:pt x="15" y="299"/>
                </a:lnTo>
                <a:lnTo>
                  <a:pt x="0" y="324"/>
                </a:lnTo>
                <a:lnTo>
                  <a:pt x="32" y="366"/>
                </a:lnTo>
                <a:lnTo>
                  <a:pt x="8" y="457"/>
                </a:lnTo>
                <a:lnTo>
                  <a:pt x="15" y="474"/>
                </a:lnTo>
                <a:lnTo>
                  <a:pt x="66" y="474"/>
                </a:lnTo>
                <a:lnTo>
                  <a:pt x="82" y="491"/>
                </a:lnTo>
                <a:lnTo>
                  <a:pt x="124" y="491"/>
                </a:lnTo>
                <a:lnTo>
                  <a:pt x="108" y="474"/>
                </a:lnTo>
                <a:lnTo>
                  <a:pt x="108" y="449"/>
                </a:lnTo>
                <a:lnTo>
                  <a:pt x="141" y="391"/>
                </a:lnTo>
                <a:lnTo>
                  <a:pt x="183" y="358"/>
                </a:lnTo>
                <a:lnTo>
                  <a:pt x="217" y="349"/>
                </a:lnTo>
                <a:lnTo>
                  <a:pt x="233" y="332"/>
                </a:lnTo>
                <a:lnTo>
                  <a:pt x="225" y="316"/>
                </a:lnTo>
                <a:lnTo>
                  <a:pt x="217" y="291"/>
                </a:lnTo>
                <a:lnTo>
                  <a:pt x="183" y="299"/>
                </a:lnTo>
                <a:lnTo>
                  <a:pt x="167" y="282"/>
                </a:lnTo>
                <a:lnTo>
                  <a:pt x="175" y="265"/>
                </a:lnTo>
                <a:lnTo>
                  <a:pt x="175" y="232"/>
                </a:lnTo>
                <a:lnTo>
                  <a:pt x="150" y="240"/>
                </a:lnTo>
                <a:lnTo>
                  <a:pt x="124" y="232"/>
                </a:lnTo>
                <a:lnTo>
                  <a:pt x="99" y="232"/>
                </a:lnTo>
                <a:lnTo>
                  <a:pt x="99" y="208"/>
                </a:lnTo>
                <a:lnTo>
                  <a:pt x="124" y="149"/>
                </a:lnTo>
                <a:lnTo>
                  <a:pt x="141" y="149"/>
                </a:lnTo>
                <a:lnTo>
                  <a:pt x="150" y="124"/>
                </a:lnTo>
                <a:lnTo>
                  <a:pt x="167" y="124"/>
                </a:lnTo>
                <a:lnTo>
                  <a:pt x="183" y="141"/>
                </a:lnTo>
                <a:lnTo>
                  <a:pt x="200" y="141"/>
                </a:lnTo>
                <a:lnTo>
                  <a:pt x="192" y="166"/>
                </a:lnTo>
                <a:lnTo>
                  <a:pt x="200" y="183"/>
                </a:lnTo>
                <a:lnTo>
                  <a:pt x="217" y="183"/>
                </a:lnTo>
                <a:lnTo>
                  <a:pt x="217" y="216"/>
                </a:lnTo>
                <a:lnTo>
                  <a:pt x="241" y="232"/>
                </a:lnTo>
                <a:lnTo>
                  <a:pt x="241" y="257"/>
                </a:lnTo>
                <a:lnTo>
                  <a:pt x="258" y="257"/>
                </a:lnTo>
                <a:lnTo>
                  <a:pt x="291" y="232"/>
                </a:lnTo>
                <a:lnTo>
                  <a:pt x="308" y="191"/>
                </a:lnTo>
                <a:lnTo>
                  <a:pt x="334" y="191"/>
                </a:lnTo>
              </a:path>
            </a:pathLst>
          </a:custGeom>
          <a:solidFill>
            <a:srgbClr val="ff7c8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0" name="Freeform 245"/>
          <p:cNvSpPr/>
          <p:nvPr/>
        </p:nvSpPr>
        <p:spPr>
          <a:xfrm>
            <a:off x="2979720" y="3570120"/>
            <a:ext cx="763560" cy="503280"/>
          </a:xfrm>
          <a:custGeom>
            <a:avLst/>
            <a:gdLst>
              <a:gd name="textAreaLeft" fmla="*/ 0 w 763560"/>
              <a:gd name="textAreaRight" fmla="*/ 763920 w 76356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408" h="275">
                <a:moveTo>
                  <a:pt x="140" y="8"/>
                </a:moveTo>
                <a:lnTo>
                  <a:pt x="125" y="25"/>
                </a:lnTo>
                <a:lnTo>
                  <a:pt x="91" y="33"/>
                </a:lnTo>
                <a:lnTo>
                  <a:pt x="50" y="75"/>
                </a:lnTo>
                <a:lnTo>
                  <a:pt x="16" y="124"/>
                </a:lnTo>
                <a:lnTo>
                  <a:pt x="16" y="149"/>
                </a:lnTo>
                <a:lnTo>
                  <a:pt x="33" y="166"/>
                </a:lnTo>
                <a:lnTo>
                  <a:pt x="41" y="166"/>
                </a:lnTo>
                <a:lnTo>
                  <a:pt x="66" y="166"/>
                </a:lnTo>
                <a:lnTo>
                  <a:pt x="8" y="208"/>
                </a:lnTo>
                <a:lnTo>
                  <a:pt x="0" y="233"/>
                </a:lnTo>
                <a:lnTo>
                  <a:pt x="16" y="241"/>
                </a:lnTo>
                <a:lnTo>
                  <a:pt x="41" y="274"/>
                </a:lnTo>
                <a:lnTo>
                  <a:pt x="75" y="274"/>
                </a:lnTo>
                <a:lnTo>
                  <a:pt x="91" y="258"/>
                </a:lnTo>
                <a:lnTo>
                  <a:pt x="91" y="241"/>
                </a:lnTo>
                <a:lnTo>
                  <a:pt x="108" y="241"/>
                </a:lnTo>
                <a:lnTo>
                  <a:pt x="116" y="258"/>
                </a:lnTo>
                <a:lnTo>
                  <a:pt x="140" y="274"/>
                </a:lnTo>
                <a:lnTo>
                  <a:pt x="157" y="258"/>
                </a:lnTo>
                <a:lnTo>
                  <a:pt x="174" y="258"/>
                </a:lnTo>
                <a:lnTo>
                  <a:pt x="174" y="266"/>
                </a:lnTo>
                <a:lnTo>
                  <a:pt x="190" y="266"/>
                </a:lnTo>
                <a:lnTo>
                  <a:pt x="224" y="224"/>
                </a:lnTo>
                <a:lnTo>
                  <a:pt x="241" y="216"/>
                </a:lnTo>
                <a:lnTo>
                  <a:pt x="274" y="157"/>
                </a:lnTo>
                <a:lnTo>
                  <a:pt x="274" y="141"/>
                </a:lnTo>
                <a:lnTo>
                  <a:pt x="282" y="124"/>
                </a:lnTo>
                <a:lnTo>
                  <a:pt x="291" y="141"/>
                </a:lnTo>
                <a:lnTo>
                  <a:pt x="324" y="90"/>
                </a:lnTo>
                <a:lnTo>
                  <a:pt x="349" y="75"/>
                </a:lnTo>
                <a:lnTo>
                  <a:pt x="356" y="83"/>
                </a:lnTo>
                <a:lnTo>
                  <a:pt x="373" y="58"/>
                </a:lnTo>
                <a:lnTo>
                  <a:pt x="390" y="66"/>
                </a:lnTo>
                <a:lnTo>
                  <a:pt x="407" y="25"/>
                </a:lnTo>
                <a:lnTo>
                  <a:pt x="398" y="16"/>
                </a:lnTo>
                <a:lnTo>
                  <a:pt x="373" y="16"/>
                </a:lnTo>
                <a:lnTo>
                  <a:pt x="365" y="25"/>
                </a:lnTo>
                <a:lnTo>
                  <a:pt x="324" y="25"/>
                </a:lnTo>
                <a:lnTo>
                  <a:pt x="307" y="0"/>
                </a:lnTo>
                <a:lnTo>
                  <a:pt x="257" y="41"/>
                </a:lnTo>
                <a:lnTo>
                  <a:pt x="249" y="66"/>
                </a:lnTo>
                <a:lnTo>
                  <a:pt x="232" y="66"/>
                </a:lnTo>
                <a:lnTo>
                  <a:pt x="190" y="58"/>
                </a:lnTo>
                <a:lnTo>
                  <a:pt x="190" y="50"/>
                </a:lnTo>
                <a:lnTo>
                  <a:pt x="199" y="25"/>
                </a:lnTo>
                <a:lnTo>
                  <a:pt x="190" y="0"/>
                </a:lnTo>
                <a:lnTo>
                  <a:pt x="165" y="0"/>
                </a:lnTo>
                <a:lnTo>
                  <a:pt x="157" y="0"/>
                </a:lnTo>
                <a:lnTo>
                  <a:pt x="149" y="16"/>
                </a:lnTo>
                <a:lnTo>
                  <a:pt x="140" y="8"/>
                </a:lnTo>
              </a:path>
            </a:pathLst>
          </a:custGeom>
          <a:solidFill>
            <a:srgbClr val="ff7c8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1" name="Freeform 246"/>
          <p:cNvSpPr/>
          <p:nvPr/>
        </p:nvSpPr>
        <p:spPr>
          <a:xfrm>
            <a:off x="2496960" y="3278160"/>
            <a:ext cx="425520" cy="795240"/>
          </a:xfrm>
          <a:custGeom>
            <a:avLst/>
            <a:gdLst>
              <a:gd name="textAreaLeft" fmla="*/ 0 w 425520"/>
              <a:gd name="textAreaRight" fmla="*/ 425880 w 425520"/>
              <a:gd name="textAreaTop" fmla="*/ 0 h 795240"/>
              <a:gd name="textAreaBottom" fmla="*/ 795600 h 795240"/>
            </a:gdLst>
            <a:ahLst/>
            <a:rect l="textAreaLeft" t="textAreaTop" r="textAreaRight" b="textAreaBottom"/>
            <a:pathLst>
              <a:path w="227" h="433">
                <a:moveTo>
                  <a:pt x="192" y="315"/>
                </a:moveTo>
                <a:lnTo>
                  <a:pt x="183" y="357"/>
                </a:lnTo>
                <a:lnTo>
                  <a:pt x="159" y="382"/>
                </a:lnTo>
                <a:lnTo>
                  <a:pt x="126" y="382"/>
                </a:lnTo>
                <a:lnTo>
                  <a:pt x="75" y="407"/>
                </a:lnTo>
                <a:lnTo>
                  <a:pt x="25" y="432"/>
                </a:lnTo>
                <a:lnTo>
                  <a:pt x="0" y="432"/>
                </a:lnTo>
                <a:lnTo>
                  <a:pt x="0" y="416"/>
                </a:lnTo>
                <a:lnTo>
                  <a:pt x="8" y="366"/>
                </a:lnTo>
                <a:lnTo>
                  <a:pt x="16" y="349"/>
                </a:lnTo>
                <a:lnTo>
                  <a:pt x="0" y="307"/>
                </a:lnTo>
                <a:lnTo>
                  <a:pt x="8" y="248"/>
                </a:lnTo>
                <a:lnTo>
                  <a:pt x="16" y="216"/>
                </a:lnTo>
                <a:lnTo>
                  <a:pt x="25" y="191"/>
                </a:lnTo>
                <a:lnTo>
                  <a:pt x="8" y="174"/>
                </a:lnTo>
                <a:lnTo>
                  <a:pt x="25" y="149"/>
                </a:lnTo>
                <a:lnTo>
                  <a:pt x="50" y="107"/>
                </a:lnTo>
                <a:lnTo>
                  <a:pt x="50" y="74"/>
                </a:lnTo>
                <a:lnTo>
                  <a:pt x="67" y="74"/>
                </a:lnTo>
                <a:lnTo>
                  <a:pt x="109" y="25"/>
                </a:lnTo>
                <a:lnTo>
                  <a:pt x="134" y="16"/>
                </a:lnTo>
                <a:lnTo>
                  <a:pt x="151" y="0"/>
                </a:lnTo>
                <a:lnTo>
                  <a:pt x="168" y="8"/>
                </a:lnTo>
                <a:lnTo>
                  <a:pt x="192" y="0"/>
                </a:lnTo>
                <a:lnTo>
                  <a:pt x="217" y="16"/>
                </a:lnTo>
                <a:lnTo>
                  <a:pt x="200" y="33"/>
                </a:lnTo>
                <a:lnTo>
                  <a:pt x="192" y="41"/>
                </a:lnTo>
                <a:lnTo>
                  <a:pt x="217" y="50"/>
                </a:lnTo>
                <a:lnTo>
                  <a:pt x="226" y="82"/>
                </a:lnTo>
                <a:lnTo>
                  <a:pt x="217" y="116"/>
                </a:lnTo>
                <a:lnTo>
                  <a:pt x="200" y="99"/>
                </a:lnTo>
                <a:lnTo>
                  <a:pt x="176" y="116"/>
                </a:lnTo>
                <a:lnTo>
                  <a:pt x="183" y="132"/>
                </a:lnTo>
                <a:lnTo>
                  <a:pt x="168" y="157"/>
                </a:lnTo>
                <a:lnTo>
                  <a:pt x="200" y="199"/>
                </a:lnTo>
                <a:lnTo>
                  <a:pt x="176" y="290"/>
                </a:lnTo>
                <a:lnTo>
                  <a:pt x="192" y="315"/>
                </a:lnTo>
              </a:path>
            </a:pathLst>
          </a:custGeom>
          <a:solidFill>
            <a:srgbClr val="ff7c80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2" name="Freeform 247"/>
          <p:cNvSpPr/>
          <p:nvPr/>
        </p:nvSpPr>
        <p:spPr>
          <a:xfrm>
            <a:off x="2989440" y="3203640"/>
            <a:ext cx="263520" cy="309600"/>
          </a:xfrm>
          <a:custGeom>
            <a:avLst/>
            <a:gdLst>
              <a:gd name="textAreaLeft" fmla="*/ 0 w 263520"/>
              <a:gd name="textAreaRight" fmla="*/ 263880 w 263520"/>
              <a:gd name="textAreaTop" fmla="*/ 0 h 309600"/>
              <a:gd name="textAreaBottom" fmla="*/ 309960 h 309600"/>
            </a:gdLst>
            <a:ahLst/>
            <a:rect l="textAreaLeft" t="textAreaTop" r="textAreaRight" b="textAreaBottom"/>
            <a:pathLst>
              <a:path w="174" h="209">
                <a:moveTo>
                  <a:pt x="36" y="29"/>
                </a:moveTo>
                <a:cubicBezTo>
                  <a:pt x="42" y="32"/>
                  <a:pt x="52" y="33"/>
                  <a:pt x="57" y="30"/>
                </a:cubicBezTo>
                <a:lnTo>
                  <a:pt x="69" y="0"/>
                </a:lnTo>
                <a:lnTo>
                  <a:pt x="87" y="2"/>
                </a:lnTo>
                <a:lnTo>
                  <a:pt x="104" y="26"/>
                </a:lnTo>
                <a:lnTo>
                  <a:pt x="120" y="23"/>
                </a:lnTo>
                <a:lnTo>
                  <a:pt x="110" y="45"/>
                </a:lnTo>
                <a:lnTo>
                  <a:pt x="125" y="75"/>
                </a:lnTo>
                <a:lnTo>
                  <a:pt x="144" y="74"/>
                </a:lnTo>
                <a:lnTo>
                  <a:pt x="146" y="114"/>
                </a:lnTo>
                <a:lnTo>
                  <a:pt x="171" y="135"/>
                </a:lnTo>
                <a:lnTo>
                  <a:pt x="174" y="150"/>
                </a:lnTo>
                <a:lnTo>
                  <a:pt x="140" y="159"/>
                </a:lnTo>
                <a:lnTo>
                  <a:pt x="128" y="191"/>
                </a:lnTo>
                <a:lnTo>
                  <a:pt x="137" y="204"/>
                </a:lnTo>
                <a:lnTo>
                  <a:pt x="108" y="209"/>
                </a:lnTo>
                <a:lnTo>
                  <a:pt x="89" y="191"/>
                </a:lnTo>
                <a:lnTo>
                  <a:pt x="101" y="168"/>
                </a:lnTo>
                <a:lnTo>
                  <a:pt x="98" y="126"/>
                </a:lnTo>
                <a:lnTo>
                  <a:pt x="66" y="138"/>
                </a:lnTo>
                <a:lnTo>
                  <a:pt x="35" y="126"/>
                </a:lnTo>
                <a:lnTo>
                  <a:pt x="0" y="126"/>
                </a:lnTo>
                <a:lnTo>
                  <a:pt x="2" y="92"/>
                </a:lnTo>
                <a:lnTo>
                  <a:pt x="36" y="29"/>
                </a:lnTo>
                <a:close/>
              </a:path>
            </a:pathLst>
          </a:custGeom>
          <a:solidFill>
            <a:srgbClr val="ff7c80"/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3" name="Freeform 248"/>
          <p:cNvSpPr/>
          <p:nvPr/>
        </p:nvSpPr>
        <p:spPr>
          <a:xfrm>
            <a:off x="2293920" y="3844800"/>
            <a:ext cx="862200" cy="955800"/>
          </a:xfrm>
          <a:custGeom>
            <a:avLst/>
            <a:gdLst>
              <a:gd name="textAreaLeft" fmla="*/ 0 w 862200"/>
              <a:gd name="textAreaRight" fmla="*/ 862560 w 862200"/>
              <a:gd name="textAreaTop" fmla="*/ 0 h 955800"/>
              <a:gd name="textAreaBottom" fmla="*/ 956160 h 955800"/>
            </a:gdLst>
            <a:ahLst/>
            <a:rect l="textAreaLeft" t="textAreaTop" r="textAreaRight" b="textAreaBottom"/>
            <a:pathLst>
              <a:path w="570" h="644">
                <a:moveTo>
                  <a:pt x="142" y="276"/>
                </a:moveTo>
                <a:lnTo>
                  <a:pt x="166" y="288"/>
                </a:lnTo>
                <a:lnTo>
                  <a:pt x="184" y="272"/>
                </a:lnTo>
                <a:lnTo>
                  <a:pt x="128" y="142"/>
                </a:lnTo>
                <a:lnTo>
                  <a:pt x="170" y="156"/>
                </a:lnTo>
                <a:lnTo>
                  <a:pt x="294" y="86"/>
                </a:lnTo>
                <a:lnTo>
                  <a:pt x="334" y="90"/>
                </a:lnTo>
                <a:lnTo>
                  <a:pt x="362" y="60"/>
                </a:lnTo>
                <a:lnTo>
                  <a:pt x="376" y="0"/>
                </a:lnTo>
                <a:lnTo>
                  <a:pt x="420" y="0"/>
                </a:lnTo>
                <a:lnTo>
                  <a:pt x="442" y="22"/>
                </a:lnTo>
                <a:lnTo>
                  <a:pt x="530" y="24"/>
                </a:lnTo>
                <a:lnTo>
                  <a:pt x="462" y="74"/>
                </a:lnTo>
                <a:lnTo>
                  <a:pt x="458" y="108"/>
                </a:lnTo>
                <a:lnTo>
                  <a:pt x="476" y="114"/>
                </a:lnTo>
                <a:lnTo>
                  <a:pt x="510" y="156"/>
                </a:lnTo>
                <a:lnTo>
                  <a:pt x="538" y="154"/>
                </a:lnTo>
                <a:lnTo>
                  <a:pt x="570" y="180"/>
                </a:lnTo>
                <a:lnTo>
                  <a:pt x="562" y="196"/>
                </a:lnTo>
                <a:lnTo>
                  <a:pt x="538" y="208"/>
                </a:lnTo>
                <a:lnTo>
                  <a:pt x="500" y="174"/>
                </a:lnTo>
                <a:lnTo>
                  <a:pt x="494" y="242"/>
                </a:lnTo>
                <a:lnTo>
                  <a:pt x="486" y="272"/>
                </a:lnTo>
                <a:lnTo>
                  <a:pt x="454" y="276"/>
                </a:lnTo>
                <a:lnTo>
                  <a:pt x="442" y="296"/>
                </a:lnTo>
                <a:lnTo>
                  <a:pt x="476" y="296"/>
                </a:lnTo>
                <a:lnTo>
                  <a:pt x="486" y="322"/>
                </a:lnTo>
                <a:lnTo>
                  <a:pt x="514" y="338"/>
                </a:lnTo>
                <a:lnTo>
                  <a:pt x="534" y="322"/>
                </a:lnTo>
                <a:lnTo>
                  <a:pt x="538" y="402"/>
                </a:lnTo>
                <a:lnTo>
                  <a:pt x="488" y="416"/>
                </a:lnTo>
                <a:lnTo>
                  <a:pt x="532" y="454"/>
                </a:lnTo>
                <a:lnTo>
                  <a:pt x="548" y="486"/>
                </a:lnTo>
                <a:lnTo>
                  <a:pt x="554" y="560"/>
                </a:lnTo>
                <a:lnTo>
                  <a:pt x="518" y="570"/>
                </a:lnTo>
                <a:lnTo>
                  <a:pt x="452" y="606"/>
                </a:lnTo>
                <a:lnTo>
                  <a:pt x="416" y="608"/>
                </a:lnTo>
                <a:lnTo>
                  <a:pt x="406" y="636"/>
                </a:lnTo>
                <a:lnTo>
                  <a:pt x="374" y="632"/>
                </a:lnTo>
                <a:lnTo>
                  <a:pt x="386" y="582"/>
                </a:lnTo>
                <a:lnTo>
                  <a:pt x="370" y="586"/>
                </a:lnTo>
                <a:lnTo>
                  <a:pt x="328" y="604"/>
                </a:lnTo>
                <a:lnTo>
                  <a:pt x="316" y="590"/>
                </a:lnTo>
                <a:lnTo>
                  <a:pt x="276" y="592"/>
                </a:lnTo>
                <a:lnTo>
                  <a:pt x="242" y="562"/>
                </a:lnTo>
                <a:lnTo>
                  <a:pt x="200" y="560"/>
                </a:lnTo>
                <a:lnTo>
                  <a:pt x="162" y="542"/>
                </a:lnTo>
                <a:lnTo>
                  <a:pt x="142" y="562"/>
                </a:lnTo>
                <a:lnTo>
                  <a:pt x="152" y="594"/>
                </a:lnTo>
                <a:lnTo>
                  <a:pt x="130" y="582"/>
                </a:lnTo>
                <a:lnTo>
                  <a:pt x="86" y="584"/>
                </a:lnTo>
                <a:lnTo>
                  <a:pt x="48" y="644"/>
                </a:lnTo>
                <a:lnTo>
                  <a:pt x="2" y="576"/>
                </a:lnTo>
                <a:lnTo>
                  <a:pt x="8" y="550"/>
                </a:lnTo>
                <a:lnTo>
                  <a:pt x="0" y="540"/>
                </a:lnTo>
                <a:lnTo>
                  <a:pt x="2" y="518"/>
                </a:lnTo>
                <a:lnTo>
                  <a:pt x="74" y="512"/>
                </a:lnTo>
                <a:lnTo>
                  <a:pt x="100" y="492"/>
                </a:lnTo>
                <a:lnTo>
                  <a:pt x="128" y="492"/>
                </a:lnTo>
                <a:lnTo>
                  <a:pt x="122" y="444"/>
                </a:lnTo>
                <a:lnTo>
                  <a:pt x="86" y="412"/>
                </a:lnTo>
                <a:lnTo>
                  <a:pt x="90" y="364"/>
                </a:lnTo>
                <a:lnTo>
                  <a:pt x="104" y="314"/>
                </a:lnTo>
                <a:lnTo>
                  <a:pt x="90" y="286"/>
                </a:lnTo>
                <a:lnTo>
                  <a:pt x="142" y="276"/>
                </a:lnTo>
                <a:close/>
              </a:path>
            </a:pathLst>
          </a:custGeom>
          <a:solidFill>
            <a:srgbClr val="ffff99"/>
          </a:solidFill>
          <a:ln cap="rnd" w="12600">
            <a:solidFill>
              <a:srgbClr val="b2b2b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34" name=""/>
          <p:cNvGrpSpPr/>
          <p:nvPr/>
        </p:nvGrpSpPr>
        <p:grpSpPr>
          <a:xfrm>
            <a:off x="2975040" y="3984480"/>
            <a:ext cx="844560" cy="1022040"/>
            <a:chOff x="2975040" y="3984480"/>
            <a:chExt cx="844560" cy="1022040"/>
          </a:xfrm>
        </p:grpSpPr>
        <p:sp>
          <p:nvSpPr>
            <p:cNvPr id="2935" name="Freeform 250"/>
            <p:cNvSpPr/>
            <p:nvPr/>
          </p:nvSpPr>
          <p:spPr>
            <a:xfrm>
              <a:off x="3145680" y="3984480"/>
              <a:ext cx="637200" cy="550800"/>
            </a:xfrm>
            <a:custGeom>
              <a:avLst/>
              <a:gdLst>
                <a:gd name="textAreaLeft" fmla="*/ 0 w 637200"/>
                <a:gd name="textAreaRight" fmla="*/ 637560 w 637200"/>
                <a:gd name="textAreaTop" fmla="*/ 0 h 550800"/>
                <a:gd name="textAreaBottom" fmla="*/ 551160 h 550800"/>
              </a:gdLst>
              <a:ahLst/>
              <a:rect l="textAreaLeft" t="textAreaTop" r="textAreaRight" b="textAreaBottom"/>
              <a:pathLst>
                <a:path w="340" h="301">
                  <a:moveTo>
                    <a:pt x="148" y="0"/>
                  </a:moveTo>
                  <a:lnTo>
                    <a:pt x="140" y="0"/>
                  </a:lnTo>
                  <a:lnTo>
                    <a:pt x="107" y="50"/>
                  </a:lnTo>
                  <a:lnTo>
                    <a:pt x="90" y="50"/>
                  </a:lnTo>
                  <a:lnTo>
                    <a:pt x="90" y="33"/>
                  </a:lnTo>
                  <a:lnTo>
                    <a:pt x="73" y="33"/>
                  </a:lnTo>
                  <a:lnTo>
                    <a:pt x="57" y="50"/>
                  </a:lnTo>
                  <a:lnTo>
                    <a:pt x="24" y="41"/>
                  </a:lnTo>
                  <a:lnTo>
                    <a:pt x="16" y="25"/>
                  </a:lnTo>
                  <a:lnTo>
                    <a:pt x="8" y="25"/>
                  </a:lnTo>
                  <a:lnTo>
                    <a:pt x="0" y="41"/>
                  </a:lnTo>
                  <a:lnTo>
                    <a:pt x="0" y="50"/>
                  </a:lnTo>
                  <a:lnTo>
                    <a:pt x="24" y="57"/>
                  </a:lnTo>
                  <a:lnTo>
                    <a:pt x="33" y="74"/>
                  </a:lnTo>
                  <a:lnTo>
                    <a:pt x="49" y="74"/>
                  </a:lnTo>
                  <a:lnTo>
                    <a:pt x="73" y="108"/>
                  </a:lnTo>
                  <a:lnTo>
                    <a:pt x="90" y="99"/>
                  </a:lnTo>
                  <a:lnTo>
                    <a:pt x="98" y="141"/>
                  </a:lnTo>
                  <a:lnTo>
                    <a:pt x="123" y="175"/>
                  </a:lnTo>
                  <a:lnTo>
                    <a:pt x="132" y="175"/>
                  </a:lnTo>
                  <a:lnTo>
                    <a:pt x="148" y="158"/>
                  </a:lnTo>
                  <a:lnTo>
                    <a:pt x="165" y="183"/>
                  </a:lnTo>
                  <a:lnTo>
                    <a:pt x="157" y="191"/>
                  </a:lnTo>
                  <a:lnTo>
                    <a:pt x="148" y="191"/>
                  </a:lnTo>
                  <a:lnTo>
                    <a:pt x="132" y="183"/>
                  </a:lnTo>
                  <a:lnTo>
                    <a:pt x="132" y="217"/>
                  </a:lnTo>
                  <a:lnTo>
                    <a:pt x="123" y="225"/>
                  </a:lnTo>
                  <a:lnTo>
                    <a:pt x="148" y="258"/>
                  </a:lnTo>
                  <a:lnTo>
                    <a:pt x="148" y="283"/>
                  </a:lnTo>
                  <a:lnTo>
                    <a:pt x="181" y="283"/>
                  </a:lnTo>
                  <a:lnTo>
                    <a:pt x="198" y="291"/>
                  </a:lnTo>
                  <a:lnTo>
                    <a:pt x="223" y="291"/>
                  </a:lnTo>
                  <a:lnTo>
                    <a:pt x="248" y="300"/>
                  </a:lnTo>
                  <a:lnTo>
                    <a:pt x="272" y="283"/>
                  </a:lnTo>
                  <a:lnTo>
                    <a:pt x="297" y="242"/>
                  </a:lnTo>
                  <a:lnTo>
                    <a:pt x="265" y="225"/>
                  </a:lnTo>
                  <a:lnTo>
                    <a:pt x="297" y="217"/>
                  </a:lnTo>
                  <a:lnTo>
                    <a:pt x="305" y="225"/>
                  </a:lnTo>
                  <a:lnTo>
                    <a:pt x="339" y="225"/>
                  </a:lnTo>
                  <a:lnTo>
                    <a:pt x="330" y="217"/>
                  </a:lnTo>
                  <a:lnTo>
                    <a:pt x="297" y="191"/>
                  </a:lnTo>
                  <a:lnTo>
                    <a:pt x="297" y="175"/>
                  </a:lnTo>
                  <a:lnTo>
                    <a:pt x="280" y="166"/>
                  </a:lnTo>
                  <a:lnTo>
                    <a:pt x="265" y="158"/>
                  </a:lnTo>
                  <a:lnTo>
                    <a:pt x="256" y="124"/>
                  </a:lnTo>
                  <a:lnTo>
                    <a:pt x="215" y="57"/>
                  </a:lnTo>
                  <a:lnTo>
                    <a:pt x="215" y="41"/>
                  </a:lnTo>
                  <a:lnTo>
                    <a:pt x="181" y="33"/>
                  </a:lnTo>
                  <a:lnTo>
                    <a:pt x="157" y="25"/>
                  </a:lnTo>
                  <a:lnTo>
                    <a:pt x="148" y="0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6" name="Freeform 251"/>
            <p:cNvSpPr/>
            <p:nvPr/>
          </p:nvSpPr>
          <p:spPr>
            <a:xfrm>
              <a:off x="3378960" y="4504320"/>
              <a:ext cx="440640" cy="502200"/>
            </a:xfrm>
            <a:custGeom>
              <a:avLst/>
              <a:gdLst>
                <a:gd name="textAreaLeft" fmla="*/ 0 w 440640"/>
                <a:gd name="textAreaRight" fmla="*/ 441000 w 440640"/>
                <a:gd name="textAreaTop" fmla="*/ 0 h 502200"/>
                <a:gd name="textAreaBottom" fmla="*/ 502560 h 502200"/>
              </a:gdLst>
              <a:ahLst/>
              <a:rect l="textAreaLeft" t="textAreaTop" r="textAreaRight" b="textAreaBottom"/>
              <a:pathLst>
                <a:path w="235" h="275">
                  <a:moveTo>
                    <a:pt x="175" y="16"/>
                  </a:moveTo>
                  <a:lnTo>
                    <a:pt x="150" y="0"/>
                  </a:lnTo>
                  <a:lnTo>
                    <a:pt x="125" y="16"/>
                  </a:lnTo>
                  <a:lnTo>
                    <a:pt x="100" y="8"/>
                  </a:lnTo>
                  <a:lnTo>
                    <a:pt x="75" y="8"/>
                  </a:lnTo>
                  <a:lnTo>
                    <a:pt x="67" y="25"/>
                  </a:lnTo>
                  <a:lnTo>
                    <a:pt x="58" y="41"/>
                  </a:lnTo>
                  <a:lnTo>
                    <a:pt x="67" y="66"/>
                  </a:lnTo>
                  <a:lnTo>
                    <a:pt x="50" y="66"/>
                  </a:lnTo>
                  <a:lnTo>
                    <a:pt x="50" y="58"/>
                  </a:lnTo>
                  <a:lnTo>
                    <a:pt x="41" y="58"/>
                  </a:lnTo>
                  <a:lnTo>
                    <a:pt x="33" y="75"/>
                  </a:lnTo>
                  <a:lnTo>
                    <a:pt x="41" y="91"/>
                  </a:lnTo>
                  <a:lnTo>
                    <a:pt x="33" y="91"/>
                  </a:lnTo>
                  <a:lnTo>
                    <a:pt x="33" y="100"/>
                  </a:lnTo>
                  <a:lnTo>
                    <a:pt x="8" y="125"/>
                  </a:lnTo>
                  <a:lnTo>
                    <a:pt x="0" y="133"/>
                  </a:lnTo>
                  <a:lnTo>
                    <a:pt x="0" y="157"/>
                  </a:lnTo>
                  <a:lnTo>
                    <a:pt x="25" y="182"/>
                  </a:lnTo>
                  <a:lnTo>
                    <a:pt x="25" y="215"/>
                  </a:lnTo>
                  <a:lnTo>
                    <a:pt x="41" y="215"/>
                  </a:lnTo>
                  <a:lnTo>
                    <a:pt x="41" y="232"/>
                  </a:lnTo>
                  <a:lnTo>
                    <a:pt x="58" y="248"/>
                  </a:lnTo>
                  <a:lnTo>
                    <a:pt x="58" y="274"/>
                  </a:lnTo>
                  <a:lnTo>
                    <a:pt x="83" y="274"/>
                  </a:lnTo>
                  <a:lnTo>
                    <a:pt x="100" y="248"/>
                  </a:lnTo>
                  <a:lnTo>
                    <a:pt x="109" y="248"/>
                  </a:lnTo>
                  <a:lnTo>
                    <a:pt x="109" y="265"/>
                  </a:lnTo>
                  <a:lnTo>
                    <a:pt x="117" y="274"/>
                  </a:lnTo>
                  <a:lnTo>
                    <a:pt x="125" y="265"/>
                  </a:lnTo>
                  <a:lnTo>
                    <a:pt x="134" y="257"/>
                  </a:lnTo>
                  <a:lnTo>
                    <a:pt x="142" y="257"/>
                  </a:lnTo>
                  <a:lnTo>
                    <a:pt x="150" y="274"/>
                  </a:lnTo>
                  <a:lnTo>
                    <a:pt x="158" y="274"/>
                  </a:lnTo>
                  <a:lnTo>
                    <a:pt x="166" y="274"/>
                  </a:lnTo>
                  <a:lnTo>
                    <a:pt x="175" y="240"/>
                  </a:lnTo>
                  <a:lnTo>
                    <a:pt x="175" y="215"/>
                  </a:lnTo>
                  <a:lnTo>
                    <a:pt x="192" y="215"/>
                  </a:lnTo>
                  <a:lnTo>
                    <a:pt x="192" y="207"/>
                  </a:lnTo>
                  <a:lnTo>
                    <a:pt x="192" y="190"/>
                  </a:lnTo>
                  <a:lnTo>
                    <a:pt x="200" y="198"/>
                  </a:lnTo>
                  <a:lnTo>
                    <a:pt x="225" y="182"/>
                  </a:lnTo>
                  <a:lnTo>
                    <a:pt x="208" y="165"/>
                  </a:lnTo>
                  <a:lnTo>
                    <a:pt x="208" y="157"/>
                  </a:lnTo>
                  <a:lnTo>
                    <a:pt x="217" y="148"/>
                  </a:lnTo>
                  <a:lnTo>
                    <a:pt x="217" y="125"/>
                  </a:lnTo>
                  <a:lnTo>
                    <a:pt x="208" y="125"/>
                  </a:lnTo>
                  <a:lnTo>
                    <a:pt x="234" y="125"/>
                  </a:lnTo>
                  <a:lnTo>
                    <a:pt x="234" y="100"/>
                  </a:lnTo>
                  <a:lnTo>
                    <a:pt x="208" y="108"/>
                  </a:lnTo>
                  <a:lnTo>
                    <a:pt x="234" y="75"/>
                  </a:lnTo>
                  <a:lnTo>
                    <a:pt x="192" y="50"/>
                  </a:lnTo>
                  <a:lnTo>
                    <a:pt x="166" y="50"/>
                  </a:lnTo>
                  <a:lnTo>
                    <a:pt x="150" y="66"/>
                  </a:lnTo>
                  <a:lnTo>
                    <a:pt x="142" y="41"/>
                  </a:lnTo>
                  <a:lnTo>
                    <a:pt x="158" y="41"/>
                  </a:lnTo>
                  <a:lnTo>
                    <a:pt x="175" y="16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7" name="Freeform 252"/>
            <p:cNvSpPr/>
            <p:nvPr/>
          </p:nvSpPr>
          <p:spPr>
            <a:xfrm>
              <a:off x="2975040" y="4059720"/>
              <a:ext cx="565560" cy="688680"/>
            </a:xfrm>
            <a:custGeom>
              <a:avLst/>
              <a:gdLst>
                <a:gd name="textAreaLeft" fmla="*/ 0 w 565560"/>
                <a:gd name="textAreaRight" fmla="*/ 565920 w 565560"/>
                <a:gd name="textAreaTop" fmla="*/ 0 h 688680"/>
                <a:gd name="textAreaBottom" fmla="*/ 689040 h 688680"/>
              </a:gdLst>
              <a:ahLst/>
              <a:rect l="textAreaLeft" t="textAreaTop" r="textAreaRight" b="textAreaBottom"/>
              <a:pathLst>
                <a:path w="302" h="377">
                  <a:moveTo>
                    <a:pt x="75" y="8"/>
                  </a:moveTo>
                  <a:lnTo>
                    <a:pt x="83" y="0"/>
                  </a:lnTo>
                  <a:lnTo>
                    <a:pt x="117" y="15"/>
                  </a:lnTo>
                  <a:lnTo>
                    <a:pt x="125" y="32"/>
                  </a:lnTo>
                  <a:lnTo>
                    <a:pt x="142" y="40"/>
                  </a:lnTo>
                  <a:lnTo>
                    <a:pt x="166" y="57"/>
                  </a:lnTo>
                  <a:lnTo>
                    <a:pt x="183" y="57"/>
                  </a:lnTo>
                  <a:lnTo>
                    <a:pt x="191" y="99"/>
                  </a:lnTo>
                  <a:lnTo>
                    <a:pt x="217" y="133"/>
                  </a:lnTo>
                  <a:lnTo>
                    <a:pt x="233" y="133"/>
                  </a:lnTo>
                  <a:lnTo>
                    <a:pt x="242" y="116"/>
                  </a:lnTo>
                  <a:lnTo>
                    <a:pt x="259" y="141"/>
                  </a:lnTo>
                  <a:lnTo>
                    <a:pt x="250" y="150"/>
                  </a:lnTo>
                  <a:lnTo>
                    <a:pt x="242" y="141"/>
                  </a:lnTo>
                  <a:lnTo>
                    <a:pt x="225" y="141"/>
                  </a:lnTo>
                  <a:lnTo>
                    <a:pt x="225" y="166"/>
                  </a:lnTo>
                  <a:lnTo>
                    <a:pt x="217" y="183"/>
                  </a:lnTo>
                  <a:lnTo>
                    <a:pt x="233" y="216"/>
                  </a:lnTo>
                  <a:lnTo>
                    <a:pt x="242" y="241"/>
                  </a:lnTo>
                  <a:lnTo>
                    <a:pt x="284" y="241"/>
                  </a:lnTo>
                  <a:lnTo>
                    <a:pt x="301" y="249"/>
                  </a:lnTo>
                  <a:lnTo>
                    <a:pt x="284" y="283"/>
                  </a:lnTo>
                  <a:lnTo>
                    <a:pt x="284" y="308"/>
                  </a:lnTo>
                  <a:lnTo>
                    <a:pt x="275" y="308"/>
                  </a:lnTo>
                  <a:lnTo>
                    <a:pt x="267" y="300"/>
                  </a:lnTo>
                  <a:lnTo>
                    <a:pt x="259" y="300"/>
                  </a:lnTo>
                  <a:lnTo>
                    <a:pt x="250" y="317"/>
                  </a:lnTo>
                  <a:lnTo>
                    <a:pt x="259" y="333"/>
                  </a:lnTo>
                  <a:lnTo>
                    <a:pt x="250" y="333"/>
                  </a:lnTo>
                  <a:lnTo>
                    <a:pt x="250" y="350"/>
                  </a:lnTo>
                  <a:lnTo>
                    <a:pt x="225" y="367"/>
                  </a:lnTo>
                  <a:lnTo>
                    <a:pt x="217" y="376"/>
                  </a:lnTo>
                  <a:lnTo>
                    <a:pt x="208" y="367"/>
                  </a:lnTo>
                  <a:lnTo>
                    <a:pt x="175" y="367"/>
                  </a:lnTo>
                  <a:lnTo>
                    <a:pt x="158" y="342"/>
                  </a:lnTo>
                  <a:lnTo>
                    <a:pt x="149" y="350"/>
                  </a:lnTo>
                  <a:lnTo>
                    <a:pt x="149" y="367"/>
                  </a:lnTo>
                  <a:lnTo>
                    <a:pt x="125" y="376"/>
                  </a:lnTo>
                  <a:lnTo>
                    <a:pt x="125" y="350"/>
                  </a:lnTo>
                  <a:lnTo>
                    <a:pt x="134" y="350"/>
                  </a:lnTo>
                  <a:lnTo>
                    <a:pt x="125" y="333"/>
                  </a:lnTo>
                  <a:lnTo>
                    <a:pt x="117" y="350"/>
                  </a:lnTo>
                  <a:lnTo>
                    <a:pt x="92" y="350"/>
                  </a:lnTo>
                  <a:lnTo>
                    <a:pt x="83" y="300"/>
                  </a:lnTo>
                  <a:lnTo>
                    <a:pt x="83" y="283"/>
                  </a:lnTo>
                  <a:lnTo>
                    <a:pt x="67" y="258"/>
                  </a:lnTo>
                  <a:lnTo>
                    <a:pt x="33" y="233"/>
                  </a:lnTo>
                  <a:lnTo>
                    <a:pt x="75" y="216"/>
                  </a:lnTo>
                  <a:lnTo>
                    <a:pt x="75" y="207"/>
                  </a:lnTo>
                  <a:lnTo>
                    <a:pt x="75" y="158"/>
                  </a:lnTo>
                  <a:lnTo>
                    <a:pt x="50" y="166"/>
                  </a:lnTo>
                  <a:lnTo>
                    <a:pt x="33" y="150"/>
                  </a:lnTo>
                  <a:lnTo>
                    <a:pt x="25" y="133"/>
                  </a:lnTo>
                  <a:lnTo>
                    <a:pt x="0" y="133"/>
                  </a:lnTo>
                  <a:lnTo>
                    <a:pt x="8" y="116"/>
                  </a:lnTo>
                  <a:lnTo>
                    <a:pt x="33" y="116"/>
                  </a:lnTo>
                  <a:lnTo>
                    <a:pt x="41" y="91"/>
                  </a:lnTo>
                  <a:lnTo>
                    <a:pt x="41" y="40"/>
                  </a:lnTo>
                  <a:lnTo>
                    <a:pt x="50" y="40"/>
                  </a:lnTo>
                  <a:lnTo>
                    <a:pt x="75" y="57"/>
                  </a:lnTo>
                  <a:lnTo>
                    <a:pt x="75" y="66"/>
                  </a:lnTo>
                  <a:lnTo>
                    <a:pt x="100" y="49"/>
                  </a:lnTo>
                  <a:lnTo>
                    <a:pt x="100" y="32"/>
                  </a:lnTo>
                  <a:lnTo>
                    <a:pt x="83" y="24"/>
                  </a:lnTo>
                  <a:lnTo>
                    <a:pt x="75" y="8"/>
                  </a:lnTo>
                </a:path>
              </a:pathLst>
            </a:custGeom>
            <a:solidFill>
              <a:srgbClr val="c0c0c0"/>
            </a:solidFill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8" name="Freeform 253"/>
            <p:cNvSpPr/>
            <p:nvPr/>
          </p:nvSpPr>
          <p:spPr>
            <a:xfrm>
              <a:off x="3660480" y="4440600"/>
              <a:ext cx="99720" cy="74160"/>
            </a:xfrm>
            <a:custGeom>
              <a:avLst/>
              <a:gdLst>
                <a:gd name="textAreaLeft" fmla="*/ 0 w 99720"/>
                <a:gd name="textAreaRight" fmla="*/ 100080 w 99720"/>
                <a:gd name="textAreaTop" fmla="*/ 0 h 74160"/>
                <a:gd name="textAreaBottom" fmla="*/ 74160 h 74160"/>
              </a:gdLst>
              <a:ahLst/>
              <a:rect l="textAreaLeft" t="textAreaTop" r="textAreaRight" b="textAreaBottom"/>
              <a:pathLst>
                <a:path w="66" h="50">
                  <a:moveTo>
                    <a:pt x="30" y="0"/>
                  </a:moveTo>
                  <a:lnTo>
                    <a:pt x="66" y="26"/>
                  </a:lnTo>
                  <a:lnTo>
                    <a:pt x="14" y="50"/>
                  </a:lnTo>
                  <a:lnTo>
                    <a:pt x="0" y="38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c0c0c0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360" bIns="273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9" name="Rectangle 254"/>
          <p:cNvSpPr/>
          <p:nvPr/>
        </p:nvSpPr>
        <p:spPr>
          <a:xfrm>
            <a:off x="2786040" y="4057560"/>
            <a:ext cx="32868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0" name="Rectangle 255"/>
          <p:cNvSpPr/>
          <p:nvPr/>
        </p:nvSpPr>
        <p:spPr>
          <a:xfrm>
            <a:off x="1344600" y="4351320"/>
            <a:ext cx="328680" cy="1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1" name="Text Box 256"/>
          <p:cNvSpPr/>
          <p:nvPr/>
        </p:nvSpPr>
        <p:spPr>
          <a:xfrm>
            <a:off x="1716120" y="4514760"/>
            <a:ext cx="86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2" name="Text Box 257"/>
          <p:cNvSpPr/>
          <p:nvPr/>
        </p:nvSpPr>
        <p:spPr>
          <a:xfrm>
            <a:off x="2398680" y="3409920"/>
            <a:ext cx="6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BJ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3" name="Text Box 258"/>
          <p:cNvSpPr/>
          <p:nvPr/>
        </p:nvSpPr>
        <p:spPr>
          <a:xfrm>
            <a:off x="3144960" y="4348080"/>
            <a:ext cx="74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4" name="Text Box 259"/>
          <p:cNvSpPr/>
          <p:nvPr/>
        </p:nvSpPr>
        <p:spPr>
          <a:xfrm>
            <a:off x="3583080" y="2492280"/>
            <a:ext cx="69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Y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5" name="Oval 260"/>
          <p:cNvSpPr/>
          <p:nvPr/>
        </p:nvSpPr>
        <p:spPr>
          <a:xfrm>
            <a:off x="3632040" y="4049640"/>
            <a:ext cx="789120" cy="789120"/>
          </a:xfrm>
          <a:prstGeom prst="ellipse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6" name="Arc 261"/>
          <p:cNvSpPr/>
          <p:nvPr/>
        </p:nvSpPr>
        <p:spPr>
          <a:xfrm>
            <a:off x="3633840" y="4059360"/>
            <a:ext cx="782640" cy="765000"/>
          </a:xfrm>
          <a:custGeom>
            <a:avLst/>
            <a:gdLst>
              <a:gd name="textAreaLeft" fmla="*/ 0 w 782640"/>
              <a:gd name="textAreaRight" fmla="*/ 783000 w 782640"/>
              <a:gd name="textAreaTop" fmla="*/ 0 h 765000"/>
              <a:gd name="textAreaBottom" fmla="*/ 765360 h 765000"/>
            </a:gdLst>
            <a:ahLst/>
            <a:rect l="textAreaLeft" t="textAreaTop" r="textAreaRight" b="textAreaBottom"/>
            <a:pathLst>
              <a:path fill="none" w="43200" h="43184">
                <a:moveTo>
                  <a:pt x="28852" y="1237"/>
                </a:moveTo>
                <a:cubicBezTo>
                  <a:pt x="37455" y="4304"/>
                  <a:pt x="43200" y="12450"/>
                  <a:pt x="43200" y="21584"/>
                </a:cubicBezTo>
                <a:cubicBezTo>
                  <a:pt x="43200" y="33513"/>
                  <a:pt x="33529" y="43184"/>
                  <a:pt x="21600" y="43184"/>
                </a:cubicBezTo>
                <a:cubicBezTo>
                  <a:pt x="9670" y="43184"/>
                  <a:pt x="0" y="33513"/>
                  <a:pt x="0" y="21584"/>
                </a:cubicBezTo>
                <a:cubicBezTo>
                  <a:pt x="-1" y="9979"/>
                  <a:pt x="9169" y="448"/>
                  <a:pt x="20766" y="0"/>
                </a:cubicBezTo>
              </a:path>
              <a:path stroke="0" w="43200" h="43184">
                <a:moveTo>
                  <a:pt x="28852" y="1237"/>
                </a:moveTo>
                <a:cubicBezTo>
                  <a:pt x="37455" y="4304"/>
                  <a:pt x="43200" y="12450"/>
                  <a:pt x="43200" y="21584"/>
                </a:cubicBezTo>
                <a:cubicBezTo>
                  <a:pt x="43200" y="33513"/>
                  <a:pt x="33529" y="43184"/>
                  <a:pt x="21600" y="43184"/>
                </a:cubicBezTo>
                <a:cubicBezTo>
                  <a:pt x="9670" y="43184"/>
                  <a:pt x="0" y="33513"/>
                  <a:pt x="0" y="21584"/>
                </a:cubicBezTo>
                <a:cubicBezTo>
                  <a:pt x="-1" y="9979"/>
                  <a:pt x="9169" y="448"/>
                  <a:pt x="20766" y="0"/>
                </a:cubicBezTo>
                <a:lnTo>
                  <a:pt x="21600" y="21584"/>
                </a:lnTo>
                <a:lnTo>
                  <a:pt x="28852" y="123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7" name="Text Box 262"/>
          <p:cNvSpPr/>
          <p:nvPr/>
        </p:nvSpPr>
        <p:spPr>
          <a:xfrm>
            <a:off x="3881160" y="4411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8" name="Text Box 263"/>
          <p:cNvSpPr/>
          <p:nvPr/>
        </p:nvSpPr>
        <p:spPr>
          <a:xfrm>
            <a:off x="3916440" y="4124160"/>
            <a:ext cx="627120" cy="2448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1f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Arial"/>
              </a:rPr>
              <a:t>5.1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9" name="Oval 264"/>
          <p:cNvSpPr/>
          <p:nvPr/>
        </p:nvSpPr>
        <p:spPr>
          <a:xfrm>
            <a:off x="2755800" y="3468600"/>
            <a:ext cx="641520" cy="642960"/>
          </a:xfrm>
          <a:prstGeom prst="ellipse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0" name="Arc 265"/>
          <p:cNvSpPr/>
          <p:nvPr/>
        </p:nvSpPr>
        <p:spPr>
          <a:xfrm>
            <a:off x="2755800" y="3487680"/>
            <a:ext cx="641520" cy="615960"/>
          </a:xfrm>
          <a:custGeom>
            <a:avLst/>
            <a:gdLst>
              <a:gd name="textAreaLeft" fmla="*/ 0 w 641520"/>
              <a:gd name="textAreaRight" fmla="*/ 641880 w 641520"/>
              <a:gd name="textAreaTop" fmla="*/ 0 h 615960"/>
              <a:gd name="textAreaBottom" fmla="*/ 616320 h 615960"/>
            </a:gdLst>
            <a:ahLst/>
            <a:rect l="textAreaLeft" t="textAreaTop" r="textAreaRight" b="textAreaBottom"/>
            <a:pathLst>
              <a:path fill="none" w="43200" h="43184">
                <a:moveTo>
                  <a:pt x="30248" y="1791"/>
                </a:moveTo>
                <a:cubicBezTo>
                  <a:pt x="38115" y="5228"/>
                  <a:pt x="43200" y="12998"/>
                  <a:pt x="43200" y="21584"/>
                </a:cubicBezTo>
                <a:cubicBezTo>
                  <a:pt x="43200" y="33513"/>
                  <a:pt x="33529" y="43184"/>
                  <a:pt x="21600" y="43184"/>
                </a:cubicBezTo>
                <a:cubicBezTo>
                  <a:pt x="9670" y="43184"/>
                  <a:pt x="0" y="33513"/>
                  <a:pt x="0" y="21584"/>
                </a:cubicBezTo>
                <a:cubicBezTo>
                  <a:pt x="-1" y="9979"/>
                  <a:pt x="9169" y="448"/>
                  <a:pt x="20766" y="0"/>
                </a:cubicBezTo>
              </a:path>
              <a:path stroke="0" w="43200" h="43184">
                <a:moveTo>
                  <a:pt x="30248" y="1791"/>
                </a:moveTo>
                <a:cubicBezTo>
                  <a:pt x="38115" y="5228"/>
                  <a:pt x="43200" y="12998"/>
                  <a:pt x="43200" y="21584"/>
                </a:cubicBezTo>
                <a:cubicBezTo>
                  <a:pt x="43200" y="33513"/>
                  <a:pt x="33529" y="43184"/>
                  <a:pt x="21600" y="43184"/>
                </a:cubicBezTo>
                <a:cubicBezTo>
                  <a:pt x="9670" y="43184"/>
                  <a:pt x="0" y="33513"/>
                  <a:pt x="0" y="21584"/>
                </a:cubicBezTo>
                <a:cubicBezTo>
                  <a:pt x="-1" y="9979"/>
                  <a:pt x="9169" y="448"/>
                  <a:pt x="20766" y="0"/>
                </a:cubicBezTo>
                <a:lnTo>
                  <a:pt x="21600" y="21584"/>
                </a:lnTo>
                <a:lnTo>
                  <a:pt x="30248" y="1791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1" name="Text Box 266"/>
          <p:cNvSpPr/>
          <p:nvPr/>
        </p:nvSpPr>
        <p:spPr>
          <a:xfrm>
            <a:off x="2882880" y="37036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2" name="Text Box 267"/>
          <p:cNvSpPr/>
          <p:nvPr/>
        </p:nvSpPr>
        <p:spPr>
          <a:xfrm>
            <a:off x="2940120" y="3473280"/>
            <a:ext cx="473040" cy="2448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1f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Arial"/>
              </a:rPr>
              <a:t>5.5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3" name="Oval 268"/>
          <p:cNvSpPr/>
          <p:nvPr/>
        </p:nvSpPr>
        <p:spPr>
          <a:xfrm>
            <a:off x="2394000" y="5392800"/>
            <a:ext cx="547560" cy="544320"/>
          </a:xfrm>
          <a:prstGeom prst="ellipse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4" name="Arc 269"/>
          <p:cNvSpPr/>
          <p:nvPr/>
        </p:nvSpPr>
        <p:spPr>
          <a:xfrm rot="19374600">
            <a:off x="2390760" y="5400720"/>
            <a:ext cx="561960" cy="520560"/>
          </a:xfrm>
          <a:custGeom>
            <a:avLst/>
            <a:gdLst>
              <a:gd name="textAreaLeft" fmla="*/ 0 w 561960"/>
              <a:gd name="textAreaRight" fmla="*/ 562320 w 561960"/>
              <a:gd name="textAreaTop" fmla="*/ 0 h 520560"/>
              <a:gd name="textAreaBottom" fmla="*/ 520920 h 520560"/>
            </a:gdLst>
            <a:ahLst/>
            <a:rect l="textAreaLeft" t="textAreaTop" r="textAreaRight" b="textAreaBottom"/>
            <a:pathLst>
              <a:path fill="none" w="43200" h="43200">
                <a:moveTo>
                  <a:pt x="42269" y="15330"/>
                </a:moveTo>
                <a:cubicBezTo>
                  <a:pt x="42886" y="17362"/>
                  <a:pt x="43200" y="19475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26091" y="-1"/>
                  <a:pt x="30470" y="1399"/>
                  <a:pt x="34129" y="4004"/>
                </a:cubicBezTo>
              </a:path>
              <a:path stroke="0" w="43200" h="43200">
                <a:moveTo>
                  <a:pt x="42269" y="15330"/>
                </a:moveTo>
                <a:cubicBezTo>
                  <a:pt x="42886" y="17362"/>
                  <a:pt x="43200" y="19475"/>
                  <a:pt x="43200" y="21600"/>
                </a:cubicBezTo>
                <a:cubicBezTo>
                  <a:pt x="43200" y="33529"/>
                  <a:pt x="33529" y="43200"/>
                  <a:pt x="21600" y="43200"/>
                </a:cubicBezTo>
                <a:cubicBezTo>
                  <a:pt x="9670" y="43200"/>
                  <a:pt x="0" y="33529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26091" y="-1"/>
                  <a:pt x="30470" y="1399"/>
                  <a:pt x="34129" y="4004"/>
                </a:cubicBezTo>
                <a:lnTo>
                  <a:pt x="21600" y="21600"/>
                </a:lnTo>
                <a:lnTo>
                  <a:pt x="42269" y="1533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5" name="Text Box 270"/>
          <p:cNvSpPr/>
          <p:nvPr/>
        </p:nvSpPr>
        <p:spPr>
          <a:xfrm>
            <a:off x="2678040" y="5497560"/>
            <a:ext cx="511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Arial"/>
              </a:rPr>
              <a:t>5.8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6" name="Text Box 271"/>
          <p:cNvSpPr/>
          <p:nvPr/>
        </p:nvSpPr>
        <p:spPr>
          <a:xfrm>
            <a:off x="2611440" y="5764320"/>
            <a:ext cx="16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7" name="Oval 272"/>
          <p:cNvSpPr/>
          <p:nvPr/>
        </p:nvSpPr>
        <p:spPr>
          <a:xfrm>
            <a:off x="3832200" y="2770200"/>
            <a:ext cx="395280" cy="4046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8" name="Arc 273"/>
          <p:cNvSpPr/>
          <p:nvPr/>
        </p:nvSpPr>
        <p:spPr>
          <a:xfrm>
            <a:off x="4010040" y="2771640"/>
            <a:ext cx="158760" cy="198720"/>
          </a:xfrm>
          <a:custGeom>
            <a:avLst/>
            <a:gdLst>
              <a:gd name="textAreaLeft" fmla="*/ 0 w 158760"/>
              <a:gd name="textAreaRight" fmla="*/ 159120 w 158760"/>
              <a:gd name="textAreaTop" fmla="*/ 0 h 198720"/>
              <a:gd name="textAreaBottom" fmla="*/ 199080 h 198720"/>
            </a:gdLst>
            <a:ahLst/>
            <a:rect l="textAreaLeft" t="textAreaTop" r="textAreaRight" b="textAreaBottom"/>
            <a:pathLst>
              <a:path fill="none" w="16334" h="21536">
                <a:moveTo>
                  <a:pt x="1657" y="-1"/>
                </a:moveTo>
                <a:cubicBezTo>
                  <a:pt x="7333" y="436"/>
                  <a:pt x="12608" y="3096"/>
                  <a:pt x="16333" y="7402"/>
                </a:cubicBezTo>
              </a:path>
              <a:path stroke="0" w="16334" h="21536">
                <a:moveTo>
                  <a:pt x="1657" y="-1"/>
                </a:moveTo>
                <a:cubicBezTo>
                  <a:pt x="7333" y="436"/>
                  <a:pt x="12608" y="3096"/>
                  <a:pt x="16333" y="7402"/>
                </a:cubicBezTo>
                <a:lnTo>
                  <a:pt x="0" y="21536"/>
                </a:lnTo>
                <a:lnTo>
                  <a:pt x="1657" y="-1"/>
                </a:lnTo>
                <a:close/>
              </a:path>
            </a:pathLst>
          </a:custGeom>
          <a:solidFill>
            <a:srgbClr val="9fadc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9" name="Text Box 274"/>
          <p:cNvSpPr/>
          <p:nvPr/>
        </p:nvSpPr>
        <p:spPr>
          <a:xfrm>
            <a:off x="4029840" y="2590920"/>
            <a:ext cx="473040" cy="2448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1f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Arial"/>
              </a:rPr>
              <a:t>9.3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0" name="Text Box 275"/>
          <p:cNvSpPr/>
          <p:nvPr/>
        </p:nvSpPr>
        <p:spPr>
          <a:xfrm>
            <a:off x="3913200" y="294156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1" name="Oval 276"/>
          <p:cNvSpPr/>
          <p:nvPr/>
        </p:nvSpPr>
        <p:spPr>
          <a:xfrm>
            <a:off x="1285920" y="4357800"/>
            <a:ext cx="496800" cy="496800"/>
          </a:xfrm>
          <a:prstGeom prst="ellipse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2" name="Arc 277"/>
          <p:cNvSpPr/>
          <p:nvPr/>
        </p:nvSpPr>
        <p:spPr>
          <a:xfrm>
            <a:off x="1292400" y="4368960"/>
            <a:ext cx="469800" cy="482400"/>
          </a:xfrm>
          <a:custGeom>
            <a:avLst/>
            <a:gdLst>
              <a:gd name="textAreaLeft" fmla="*/ 0 w 469800"/>
              <a:gd name="textAreaRight" fmla="*/ 470160 w 469800"/>
              <a:gd name="textAreaTop" fmla="*/ 0 h 482400"/>
              <a:gd name="textAreaBottom" fmla="*/ 482760 h 482400"/>
            </a:gdLst>
            <a:ahLst/>
            <a:rect l="textAreaLeft" t="textAreaTop" r="textAreaRight" b="textAreaBottom"/>
            <a:pathLst>
              <a:path fill="none" w="43200" h="43184">
                <a:moveTo>
                  <a:pt x="31360" y="2315"/>
                </a:moveTo>
                <a:cubicBezTo>
                  <a:pt x="38623" y="5993"/>
                  <a:pt x="43200" y="13443"/>
                  <a:pt x="43200" y="21584"/>
                </a:cubicBezTo>
                <a:cubicBezTo>
                  <a:pt x="43200" y="33513"/>
                  <a:pt x="33529" y="43184"/>
                  <a:pt x="21600" y="43184"/>
                </a:cubicBezTo>
                <a:cubicBezTo>
                  <a:pt x="9670" y="43184"/>
                  <a:pt x="0" y="33513"/>
                  <a:pt x="0" y="21584"/>
                </a:cubicBezTo>
                <a:cubicBezTo>
                  <a:pt x="-1" y="9979"/>
                  <a:pt x="9169" y="448"/>
                  <a:pt x="20766" y="0"/>
                </a:cubicBezTo>
              </a:path>
              <a:path stroke="0" w="43200" h="43184">
                <a:moveTo>
                  <a:pt x="31360" y="2315"/>
                </a:moveTo>
                <a:cubicBezTo>
                  <a:pt x="38623" y="5993"/>
                  <a:pt x="43200" y="13443"/>
                  <a:pt x="43200" y="21584"/>
                </a:cubicBezTo>
                <a:cubicBezTo>
                  <a:pt x="43200" y="33513"/>
                  <a:pt x="33529" y="43184"/>
                  <a:pt x="21600" y="43184"/>
                </a:cubicBezTo>
                <a:cubicBezTo>
                  <a:pt x="9670" y="43184"/>
                  <a:pt x="0" y="33513"/>
                  <a:pt x="0" y="21584"/>
                </a:cubicBezTo>
                <a:cubicBezTo>
                  <a:pt x="-1" y="9979"/>
                  <a:pt x="9169" y="448"/>
                  <a:pt x="20766" y="0"/>
                </a:cubicBezTo>
                <a:lnTo>
                  <a:pt x="21600" y="21584"/>
                </a:lnTo>
                <a:lnTo>
                  <a:pt x="31360" y="231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3" name="Text Box 278"/>
          <p:cNvSpPr/>
          <p:nvPr/>
        </p:nvSpPr>
        <p:spPr>
          <a:xfrm>
            <a:off x="1369440" y="4361040"/>
            <a:ext cx="473040" cy="2448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1f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Arial"/>
              </a:rPr>
              <a:t>5.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4" name="Text Box 279"/>
          <p:cNvSpPr/>
          <p:nvPr/>
        </p:nvSpPr>
        <p:spPr>
          <a:xfrm>
            <a:off x="1369800" y="467028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5" name="Text Box 280"/>
          <p:cNvSpPr/>
          <p:nvPr/>
        </p:nvSpPr>
        <p:spPr>
          <a:xfrm>
            <a:off x="3044880" y="4073400"/>
            <a:ext cx="56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Gulim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6" name="Text Box 281"/>
          <p:cNvSpPr/>
          <p:nvPr/>
        </p:nvSpPr>
        <p:spPr>
          <a:xfrm>
            <a:off x="1744560" y="4227480"/>
            <a:ext cx="567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Gulim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7" name="Freeform 282"/>
          <p:cNvSpPr/>
          <p:nvPr/>
        </p:nvSpPr>
        <p:spPr>
          <a:xfrm>
            <a:off x="1765440" y="4842000"/>
            <a:ext cx="641160" cy="554040"/>
          </a:xfrm>
          <a:custGeom>
            <a:avLst/>
            <a:gdLst>
              <a:gd name="textAreaLeft" fmla="*/ 0 w 641160"/>
              <a:gd name="textAreaRight" fmla="*/ 641520 w 641160"/>
              <a:gd name="textAreaTop" fmla="*/ 0 h 554040"/>
              <a:gd name="textAreaBottom" fmla="*/ 554040 h 554040"/>
            </a:gdLst>
            <a:ahLst/>
            <a:rect l="textAreaLeft" t="textAreaTop" r="textAreaRight" b="textAreaBottom"/>
            <a:pathLst>
              <a:path w="356" h="307">
                <a:moveTo>
                  <a:pt x="50" y="300"/>
                </a:moveTo>
                <a:lnTo>
                  <a:pt x="56" y="277"/>
                </a:lnTo>
                <a:lnTo>
                  <a:pt x="35" y="241"/>
                </a:lnTo>
                <a:lnTo>
                  <a:pt x="54" y="208"/>
                </a:lnTo>
                <a:lnTo>
                  <a:pt x="54" y="168"/>
                </a:lnTo>
                <a:lnTo>
                  <a:pt x="6" y="168"/>
                </a:lnTo>
                <a:lnTo>
                  <a:pt x="6" y="135"/>
                </a:lnTo>
                <a:lnTo>
                  <a:pt x="0" y="124"/>
                </a:lnTo>
                <a:lnTo>
                  <a:pt x="11" y="118"/>
                </a:lnTo>
                <a:lnTo>
                  <a:pt x="25" y="126"/>
                </a:lnTo>
                <a:lnTo>
                  <a:pt x="48" y="113"/>
                </a:lnTo>
                <a:lnTo>
                  <a:pt x="87" y="113"/>
                </a:lnTo>
                <a:lnTo>
                  <a:pt x="105" y="95"/>
                </a:lnTo>
                <a:lnTo>
                  <a:pt x="153" y="95"/>
                </a:lnTo>
                <a:lnTo>
                  <a:pt x="158" y="77"/>
                </a:lnTo>
                <a:lnTo>
                  <a:pt x="136" y="55"/>
                </a:lnTo>
                <a:lnTo>
                  <a:pt x="129" y="43"/>
                </a:lnTo>
                <a:lnTo>
                  <a:pt x="146" y="33"/>
                </a:lnTo>
                <a:lnTo>
                  <a:pt x="157" y="36"/>
                </a:lnTo>
                <a:lnTo>
                  <a:pt x="183" y="43"/>
                </a:lnTo>
                <a:lnTo>
                  <a:pt x="200" y="33"/>
                </a:lnTo>
                <a:lnTo>
                  <a:pt x="204" y="18"/>
                </a:lnTo>
                <a:lnTo>
                  <a:pt x="218" y="22"/>
                </a:lnTo>
                <a:lnTo>
                  <a:pt x="240" y="0"/>
                </a:lnTo>
                <a:lnTo>
                  <a:pt x="254" y="0"/>
                </a:lnTo>
                <a:lnTo>
                  <a:pt x="281" y="0"/>
                </a:lnTo>
                <a:lnTo>
                  <a:pt x="293" y="46"/>
                </a:lnTo>
                <a:lnTo>
                  <a:pt x="311" y="56"/>
                </a:lnTo>
                <a:lnTo>
                  <a:pt x="325" y="64"/>
                </a:lnTo>
                <a:lnTo>
                  <a:pt x="342" y="54"/>
                </a:lnTo>
                <a:lnTo>
                  <a:pt x="348" y="64"/>
                </a:lnTo>
                <a:lnTo>
                  <a:pt x="341" y="76"/>
                </a:lnTo>
                <a:lnTo>
                  <a:pt x="344" y="87"/>
                </a:lnTo>
                <a:lnTo>
                  <a:pt x="323" y="123"/>
                </a:lnTo>
                <a:lnTo>
                  <a:pt x="323" y="142"/>
                </a:lnTo>
                <a:lnTo>
                  <a:pt x="347" y="142"/>
                </a:lnTo>
                <a:lnTo>
                  <a:pt x="354" y="154"/>
                </a:lnTo>
                <a:lnTo>
                  <a:pt x="338" y="163"/>
                </a:lnTo>
                <a:lnTo>
                  <a:pt x="356" y="195"/>
                </a:lnTo>
                <a:lnTo>
                  <a:pt x="350" y="219"/>
                </a:lnTo>
                <a:lnTo>
                  <a:pt x="338" y="231"/>
                </a:lnTo>
                <a:lnTo>
                  <a:pt x="332" y="254"/>
                </a:lnTo>
                <a:lnTo>
                  <a:pt x="312" y="249"/>
                </a:lnTo>
                <a:lnTo>
                  <a:pt x="300" y="256"/>
                </a:lnTo>
                <a:lnTo>
                  <a:pt x="266" y="256"/>
                </a:lnTo>
                <a:lnTo>
                  <a:pt x="261" y="274"/>
                </a:lnTo>
                <a:lnTo>
                  <a:pt x="226" y="274"/>
                </a:lnTo>
                <a:lnTo>
                  <a:pt x="210" y="258"/>
                </a:lnTo>
                <a:lnTo>
                  <a:pt x="198" y="270"/>
                </a:lnTo>
                <a:lnTo>
                  <a:pt x="134" y="307"/>
                </a:lnTo>
                <a:lnTo>
                  <a:pt x="89" y="295"/>
                </a:lnTo>
                <a:lnTo>
                  <a:pt x="50" y="300"/>
                </a:lnTo>
                <a:close/>
              </a:path>
            </a:pathLst>
          </a:custGeom>
          <a:solidFill>
            <a:srgbClr val="66ff66"/>
          </a:solidFill>
          <a:ln cap="rnd"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8" name="Text Box 283"/>
          <p:cNvSpPr/>
          <p:nvPr/>
        </p:nvSpPr>
        <p:spPr>
          <a:xfrm>
            <a:off x="1995480" y="5361120"/>
            <a:ext cx="82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GZ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9" name="Text Box 284"/>
          <p:cNvSpPr/>
          <p:nvPr/>
        </p:nvSpPr>
        <p:spPr>
          <a:xfrm>
            <a:off x="3939120" y="4826160"/>
            <a:ext cx="541800" cy="305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1f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3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0" name="Text Box 285"/>
          <p:cNvSpPr/>
          <p:nvPr/>
        </p:nvSpPr>
        <p:spPr>
          <a:xfrm>
            <a:off x="3228840" y="3321000"/>
            <a:ext cx="541800" cy="305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1f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2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1" name="Text Box 286"/>
          <p:cNvSpPr/>
          <p:nvPr/>
        </p:nvSpPr>
        <p:spPr>
          <a:xfrm>
            <a:off x="3982680" y="3114720"/>
            <a:ext cx="442440" cy="305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1f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8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2" name="Text Box 287"/>
          <p:cNvSpPr/>
          <p:nvPr/>
        </p:nvSpPr>
        <p:spPr>
          <a:xfrm>
            <a:off x="1185480" y="4843440"/>
            <a:ext cx="541800" cy="305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1f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17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3" name="Text Box 288"/>
          <p:cNvSpPr/>
          <p:nvPr/>
        </p:nvSpPr>
        <p:spPr>
          <a:xfrm>
            <a:off x="2747160" y="5845320"/>
            <a:ext cx="541800" cy="3056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001f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</a:rPr>
              <a:t>19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4" name="Rectangle 289"/>
          <p:cNvSpPr/>
          <p:nvPr/>
        </p:nvSpPr>
        <p:spPr>
          <a:xfrm>
            <a:off x="1811880" y="1082520"/>
            <a:ext cx="201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70c0"/>
                </a:solidFill>
                <a:uFillTx/>
                <a:latin typeface="Arial"/>
              </a:rPr>
              <a:t>Regional  Market Si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5" name="Rectangle 290"/>
          <p:cNvSpPr/>
          <p:nvPr/>
        </p:nvSpPr>
        <p:spPr>
          <a:xfrm>
            <a:off x="5999400" y="10825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70c0"/>
                </a:solidFill>
                <a:uFillTx/>
                <a:latin typeface="Arial"/>
              </a:rPr>
              <a:t>P1(15 Cities) Market Size &amp; M/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6" name="Text Box 292"/>
          <p:cNvSpPr/>
          <p:nvPr/>
        </p:nvSpPr>
        <p:spPr>
          <a:xfrm>
            <a:off x="4764600" y="2844720"/>
            <a:ext cx="578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32.3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7" name="Line 293"/>
          <p:cNvSpPr/>
          <p:nvPr/>
        </p:nvSpPr>
        <p:spPr>
          <a:xfrm>
            <a:off x="4824360" y="3073320"/>
            <a:ext cx="4572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8" name="Text Box 294"/>
          <p:cNvSpPr/>
          <p:nvPr/>
        </p:nvSpPr>
        <p:spPr>
          <a:xfrm>
            <a:off x="4764600" y="3971880"/>
            <a:ext cx="578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15.4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9" name="Line 295"/>
          <p:cNvSpPr/>
          <p:nvPr/>
        </p:nvSpPr>
        <p:spPr>
          <a:xfrm>
            <a:off x="4824360" y="4210200"/>
            <a:ext cx="4572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0" name="Text Box 296"/>
          <p:cNvSpPr/>
          <p:nvPr/>
        </p:nvSpPr>
        <p:spPr>
          <a:xfrm>
            <a:off x="4764600" y="5118120"/>
            <a:ext cx="578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10.3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1" name="Line 297"/>
          <p:cNvSpPr/>
          <p:nvPr/>
        </p:nvSpPr>
        <p:spPr>
          <a:xfrm>
            <a:off x="4824360" y="5356080"/>
            <a:ext cx="457200" cy="0"/>
          </a:xfrm>
          <a:prstGeom prst="line">
            <a:avLst/>
          </a:prstGeom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2" name="Text Box 298"/>
          <p:cNvSpPr/>
          <p:nvPr/>
        </p:nvSpPr>
        <p:spPr>
          <a:xfrm>
            <a:off x="5149800" y="1844640"/>
            <a:ext cx="49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Gulim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3" name="Text Box 299"/>
          <p:cNvSpPr/>
          <p:nvPr/>
        </p:nvSpPr>
        <p:spPr>
          <a:xfrm>
            <a:off x="5149800" y="4575240"/>
            <a:ext cx="49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Gulim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4" name="Text Box 300"/>
          <p:cNvSpPr/>
          <p:nvPr/>
        </p:nvSpPr>
        <p:spPr>
          <a:xfrm>
            <a:off x="5149800" y="3670200"/>
            <a:ext cx="49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Gulim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5" name="Text Box 301"/>
          <p:cNvSpPr/>
          <p:nvPr/>
        </p:nvSpPr>
        <p:spPr>
          <a:xfrm>
            <a:off x="5149800" y="3203640"/>
            <a:ext cx="49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Gulim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6" name="Text Box 302"/>
          <p:cNvSpPr/>
          <p:nvPr/>
        </p:nvSpPr>
        <p:spPr>
          <a:xfrm>
            <a:off x="5149800" y="2530440"/>
            <a:ext cx="498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Gulim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7" name="AutoShape 303"/>
          <p:cNvSpPr/>
          <p:nvPr/>
        </p:nvSpPr>
        <p:spPr>
          <a:xfrm>
            <a:off x="6224760" y="6205680"/>
            <a:ext cx="233280" cy="144360"/>
          </a:xfrm>
          <a:custGeom>
            <a:avLst/>
            <a:gdLst>
              <a:gd name="textAreaLeft" fmla="*/ 9000 w 233280"/>
              <a:gd name="textAreaRight" fmla="*/ 224280 w 233280"/>
              <a:gd name="textAreaTop" fmla="*/ 9000 h 144360"/>
              <a:gd name="textAreaBottom" fmla="*/ 135360 h 144360"/>
            </a:gdLst>
            <a:ahLst/>
            <a:rect l="textAreaLeft" t="textAreaTop" r="textAreaRight" b="textAreaBottom"/>
            <a:pathLst>
              <a:path w="34872" h="21600">
                <a:moveTo>
                  <a:pt x="0" y="0"/>
                </a:moveTo>
                <a:lnTo>
                  <a:pt x="34872" y="0"/>
                </a:lnTo>
                <a:lnTo>
                  <a:pt x="34872" y="21600"/>
                </a:lnTo>
                <a:lnTo>
                  <a:pt x="0" y="21600"/>
                </a:lnTo>
                <a:close/>
              </a:path>
              <a:path fill="lightenLess" w="34872" h="21600">
                <a:moveTo>
                  <a:pt x="0" y="0"/>
                </a:moveTo>
                <a:lnTo>
                  <a:pt x="34872" y="0"/>
                </a:lnTo>
                <a:lnTo>
                  <a:pt x="33522" y="1350"/>
                </a:lnTo>
                <a:lnTo>
                  <a:pt x="1350" y="1350"/>
                </a:lnTo>
                <a:close/>
              </a:path>
              <a:path fill="darken" w="34872" h="21600">
                <a:moveTo>
                  <a:pt x="34872" y="0"/>
                </a:moveTo>
                <a:lnTo>
                  <a:pt x="34872" y="21600"/>
                </a:lnTo>
                <a:lnTo>
                  <a:pt x="33522" y="20250"/>
                </a:lnTo>
                <a:lnTo>
                  <a:pt x="33522" y="1350"/>
                </a:lnTo>
                <a:close/>
              </a:path>
              <a:path fill="darkenLess" w="34872" h="21600">
                <a:moveTo>
                  <a:pt x="34872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3522" y="20250"/>
                </a:lnTo>
                <a:close/>
              </a:path>
              <a:path fill="lighten" w="34872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4872" h="21600">
                <a:moveTo>
                  <a:pt x="10392" y="3756"/>
                </a:moveTo>
                <a:lnTo>
                  <a:pt x="24480" y="10800"/>
                </a:lnTo>
                <a:lnTo>
                  <a:pt x="10392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8" name="Text Box 304"/>
          <p:cNvSpPr/>
          <p:nvPr/>
        </p:nvSpPr>
        <p:spPr>
          <a:xfrm>
            <a:off x="5653440" y="6153120"/>
            <a:ext cx="496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L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9" name="AutoShape 305"/>
          <p:cNvSpPr/>
          <p:nvPr/>
        </p:nvSpPr>
        <p:spPr>
          <a:xfrm>
            <a:off x="7165800" y="6205680"/>
            <a:ext cx="233640" cy="144360"/>
          </a:xfrm>
          <a:custGeom>
            <a:avLst/>
            <a:gdLst>
              <a:gd name="textAreaLeft" fmla="*/ 9000 w 233640"/>
              <a:gd name="textAreaRight" fmla="*/ 224640 w 233640"/>
              <a:gd name="textAreaTop" fmla="*/ 9000 h 144360"/>
              <a:gd name="textAreaBottom" fmla="*/ 135360 h 144360"/>
            </a:gdLst>
            <a:ahLst/>
            <a:rect l="textAreaLeft" t="textAreaTop" r="textAreaRight" b="textAreaBottom"/>
            <a:pathLst>
              <a:path w="34925" h="21600">
                <a:moveTo>
                  <a:pt x="0" y="0"/>
                </a:moveTo>
                <a:lnTo>
                  <a:pt x="34925" y="0"/>
                </a:lnTo>
                <a:lnTo>
                  <a:pt x="34925" y="21600"/>
                </a:lnTo>
                <a:lnTo>
                  <a:pt x="0" y="21600"/>
                </a:lnTo>
                <a:close/>
              </a:path>
              <a:path fill="lightenLess" w="34925" h="21600">
                <a:moveTo>
                  <a:pt x="0" y="0"/>
                </a:moveTo>
                <a:lnTo>
                  <a:pt x="34925" y="0"/>
                </a:lnTo>
                <a:lnTo>
                  <a:pt x="33575" y="1350"/>
                </a:lnTo>
                <a:lnTo>
                  <a:pt x="1350" y="1350"/>
                </a:lnTo>
                <a:close/>
              </a:path>
              <a:path fill="darken" w="34925" h="21600">
                <a:moveTo>
                  <a:pt x="34925" y="0"/>
                </a:moveTo>
                <a:lnTo>
                  <a:pt x="34925" y="21600"/>
                </a:lnTo>
                <a:lnTo>
                  <a:pt x="33575" y="20250"/>
                </a:lnTo>
                <a:lnTo>
                  <a:pt x="33575" y="1350"/>
                </a:lnTo>
                <a:close/>
              </a:path>
              <a:path fill="darkenLess" w="34925" h="21600">
                <a:moveTo>
                  <a:pt x="34925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3575" y="20250"/>
                </a:lnTo>
                <a:close/>
              </a:path>
              <a:path fill="lighten" w="34925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4925" h="21600">
                <a:moveTo>
                  <a:pt x="10419" y="3756"/>
                </a:moveTo>
                <a:lnTo>
                  <a:pt x="24506" y="10800"/>
                </a:lnTo>
                <a:lnTo>
                  <a:pt x="10419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0" name="Text Box 306"/>
          <p:cNvSpPr/>
          <p:nvPr/>
        </p:nvSpPr>
        <p:spPr>
          <a:xfrm>
            <a:off x="6532560" y="6153120"/>
            <a:ext cx="5569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D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1" name="AutoShape 307"/>
          <p:cNvSpPr/>
          <p:nvPr/>
        </p:nvSpPr>
        <p:spPr>
          <a:xfrm>
            <a:off x="8190000" y="6205680"/>
            <a:ext cx="233280" cy="144360"/>
          </a:xfrm>
          <a:custGeom>
            <a:avLst/>
            <a:gdLst>
              <a:gd name="textAreaLeft" fmla="*/ 9000 w 233280"/>
              <a:gd name="textAreaRight" fmla="*/ 224280 w 233280"/>
              <a:gd name="textAreaTop" fmla="*/ 9000 h 144360"/>
              <a:gd name="textAreaBottom" fmla="*/ 135360 h 144360"/>
            </a:gdLst>
            <a:ahLst/>
            <a:rect l="textAreaLeft" t="textAreaTop" r="textAreaRight" b="textAreaBottom"/>
            <a:pathLst>
              <a:path w="34872" h="21600">
                <a:moveTo>
                  <a:pt x="0" y="0"/>
                </a:moveTo>
                <a:lnTo>
                  <a:pt x="34872" y="0"/>
                </a:lnTo>
                <a:lnTo>
                  <a:pt x="34872" y="21600"/>
                </a:lnTo>
                <a:lnTo>
                  <a:pt x="0" y="21600"/>
                </a:lnTo>
                <a:close/>
              </a:path>
              <a:path fill="lightenLess" w="34872" h="21600">
                <a:moveTo>
                  <a:pt x="0" y="0"/>
                </a:moveTo>
                <a:lnTo>
                  <a:pt x="34872" y="0"/>
                </a:lnTo>
                <a:lnTo>
                  <a:pt x="33522" y="1350"/>
                </a:lnTo>
                <a:lnTo>
                  <a:pt x="1350" y="1350"/>
                </a:lnTo>
                <a:close/>
              </a:path>
              <a:path fill="darken" w="34872" h="21600">
                <a:moveTo>
                  <a:pt x="34872" y="0"/>
                </a:moveTo>
                <a:lnTo>
                  <a:pt x="34872" y="21600"/>
                </a:lnTo>
                <a:lnTo>
                  <a:pt x="33522" y="20250"/>
                </a:lnTo>
                <a:lnTo>
                  <a:pt x="33522" y="1350"/>
                </a:lnTo>
                <a:close/>
              </a:path>
              <a:path fill="darkenLess" w="34872" h="21600">
                <a:moveTo>
                  <a:pt x="34872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3522" y="20250"/>
                </a:lnTo>
                <a:close/>
              </a:path>
              <a:path fill="lighten" w="34872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4872" h="21600">
                <a:moveTo>
                  <a:pt x="10392" y="3756"/>
                </a:moveTo>
                <a:lnTo>
                  <a:pt x="24480" y="10800"/>
                </a:lnTo>
                <a:lnTo>
                  <a:pt x="10392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2" name="Text Box 308"/>
          <p:cNvSpPr/>
          <p:nvPr/>
        </p:nvSpPr>
        <p:spPr>
          <a:xfrm>
            <a:off x="7473960" y="6153120"/>
            <a:ext cx="6393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D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3" name="AutoShape 309"/>
          <p:cNvSpPr/>
          <p:nvPr/>
        </p:nvSpPr>
        <p:spPr>
          <a:xfrm>
            <a:off x="9078840" y="6205680"/>
            <a:ext cx="233280" cy="144360"/>
          </a:xfrm>
          <a:custGeom>
            <a:avLst/>
            <a:gdLst>
              <a:gd name="textAreaLeft" fmla="*/ 9000 w 233280"/>
              <a:gd name="textAreaRight" fmla="*/ 224280 w 233280"/>
              <a:gd name="textAreaTop" fmla="*/ 9000 h 144360"/>
              <a:gd name="textAreaBottom" fmla="*/ 135360 h 144360"/>
            </a:gdLst>
            <a:ahLst/>
            <a:rect l="textAreaLeft" t="textAreaTop" r="textAreaRight" b="textAreaBottom"/>
            <a:pathLst>
              <a:path w="34872" h="21600">
                <a:moveTo>
                  <a:pt x="0" y="0"/>
                </a:moveTo>
                <a:lnTo>
                  <a:pt x="34872" y="0"/>
                </a:lnTo>
                <a:lnTo>
                  <a:pt x="34872" y="21600"/>
                </a:lnTo>
                <a:lnTo>
                  <a:pt x="0" y="21600"/>
                </a:lnTo>
                <a:close/>
              </a:path>
              <a:path fill="lightenLess" w="34872" h="21600">
                <a:moveTo>
                  <a:pt x="0" y="0"/>
                </a:moveTo>
                <a:lnTo>
                  <a:pt x="34872" y="0"/>
                </a:lnTo>
                <a:lnTo>
                  <a:pt x="33522" y="1350"/>
                </a:lnTo>
                <a:lnTo>
                  <a:pt x="1350" y="1350"/>
                </a:lnTo>
                <a:close/>
              </a:path>
              <a:path fill="darken" w="34872" h="21600">
                <a:moveTo>
                  <a:pt x="34872" y="0"/>
                </a:moveTo>
                <a:lnTo>
                  <a:pt x="34872" y="21600"/>
                </a:lnTo>
                <a:lnTo>
                  <a:pt x="33522" y="20250"/>
                </a:lnTo>
                <a:lnTo>
                  <a:pt x="33522" y="1350"/>
                </a:lnTo>
                <a:close/>
              </a:path>
              <a:path fill="darkenLess" w="34872" h="21600">
                <a:moveTo>
                  <a:pt x="34872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3522" y="20250"/>
                </a:lnTo>
                <a:close/>
              </a:path>
              <a:path fill="lighten" w="34872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4872" h="21600">
                <a:moveTo>
                  <a:pt x="10392" y="3756"/>
                </a:moveTo>
                <a:lnTo>
                  <a:pt x="24480" y="10800"/>
                </a:lnTo>
                <a:lnTo>
                  <a:pt x="10392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4" name="Text Box 310"/>
          <p:cNvSpPr/>
          <p:nvPr/>
        </p:nvSpPr>
        <p:spPr>
          <a:xfrm>
            <a:off x="8497800" y="6153120"/>
            <a:ext cx="50508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P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5" name="Text Box 312"/>
          <p:cNvSpPr/>
          <p:nvPr/>
        </p:nvSpPr>
        <p:spPr>
          <a:xfrm>
            <a:off x="4178880" y="1450800"/>
            <a:ext cx="8830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 u="sng">
                <a:solidFill>
                  <a:srgbClr val="000099"/>
                </a:solidFill>
                <a:uFillTx/>
                <a:latin typeface="Arial"/>
                <a:ea typeface="Arial"/>
              </a:rPr>
              <a:t>Unit : B RM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6" name="Text Box 316"/>
          <p:cNvSpPr/>
          <p:nvPr/>
        </p:nvSpPr>
        <p:spPr>
          <a:xfrm>
            <a:off x="2367000" y="3110040"/>
            <a:ext cx="56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Gulim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7" name="Text Box 317"/>
          <p:cNvSpPr/>
          <p:nvPr/>
        </p:nvSpPr>
        <p:spPr>
          <a:xfrm>
            <a:off x="447840" y="557280"/>
            <a:ext cx="628092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Market size : Shanghai area &gt; Beijing area &gt; Guangzhou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LG is weak in Shanghai are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8" name="Rectangle 4" descr=""/>
          <p:cNvPicPr/>
          <p:nvPr/>
        </p:nvPicPr>
        <p:blipFill>
          <a:blip r:embed="rId3"/>
          <a:stretch/>
        </p:blipFill>
        <p:spPr>
          <a:xfrm>
            <a:off x="109440" y="85680"/>
            <a:ext cx="951120" cy="566640"/>
          </a:xfrm>
          <a:prstGeom prst="rect">
            <a:avLst/>
          </a:prstGeom>
          <a:ln w="0">
            <a:noFill/>
          </a:ln>
        </p:spPr>
      </p:pic>
      <p:sp>
        <p:nvSpPr>
          <p:cNvPr id="2999" name="直接连接符 103"/>
          <p:cNvSpPr/>
          <p:nvPr/>
        </p:nvSpPr>
        <p:spPr>
          <a:xfrm>
            <a:off x="965160" y="214200"/>
            <a:ext cx="0" cy="214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0" name="标题 2"/>
          <p:cNvSpPr/>
          <p:nvPr/>
        </p:nvSpPr>
        <p:spPr>
          <a:xfrm>
            <a:off x="950760" y="166680"/>
            <a:ext cx="1555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经营分析报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1" name="矩形 105" descr=""/>
          <p:cNvPicPr/>
          <p:nvPr/>
        </p:nvPicPr>
        <p:blipFill>
          <a:blip r:embed="rId4"/>
          <a:stretch/>
        </p:blipFill>
        <p:spPr>
          <a:xfrm>
            <a:off x="6566040" y="115920"/>
            <a:ext cx="3352680" cy="1133280"/>
          </a:xfrm>
          <a:prstGeom prst="rect">
            <a:avLst/>
          </a:prstGeom>
          <a:ln w="0">
            <a:noFill/>
          </a:ln>
        </p:spPr>
      </p:pic>
      <p:sp>
        <p:nvSpPr>
          <p:cNvPr id="3002" name="Rectangle 265"/>
          <p:cNvSpPr/>
          <p:nvPr/>
        </p:nvSpPr>
        <p:spPr>
          <a:xfrm>
            <a:off x="6741000" y="136440"/>
            <a:ext cx="30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바탕"/>
              </a:rPr>
              <a:t> Ⅱ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바탕"/>
              </a:rPr>
              <a:t>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바탕"/>
              </a:rPr>
              <a:t>Market understan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3" name="Rectangle 311"/>
          <p:cNvSpPr/>
          <p:nvPr/>
        </p:nvSpPr>
        <p:spPr>
          <a:xfrm>
            <a:off x="7107840" y="409680"/>
            <a:ext cx="1998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bfbfbf"/>
                </a:solidFill>
                <a:latin typeface="Arial"/>
              </a:rPr>
              <a:t>HE Market by Reg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4" name="矩形 7"/>
          <p:cNvSpPr/>
          <p:nvPr/>
        </p:nvSpPr>
        <p:spPr>
          <a:xfrm>
            <a:off x="179280" y="6431040"/>
            <a:ext cx="567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06360"/>
                <a:tab algn="l" pos="2413080"/>
                <a:tab algn="l" pos="3619440"/>
                <a:tab algn="l" pos="4826160"/>
                <a:tab algn="l" pos="6032520"/>
                <a:tab algn="l" pos="7238880"/>
                <a:tab algn="l" pos="8445600"/>
                <a:tab algn="l" pos="9651960"/>
                <a:tab algn="l" pos="10858680"/>
              </a:tabLst>
            </a:pPr>
            <a:r>
              <a:rPr b="0" lang="en-US" sz="1000" spc="-1" strike="noStrike">
                <a:solidFill>
                  <a:srgbClr val="a6a6a6"/>
                </a:solidFill>
                <a:latin typeface="微软雅黑"/>
                <a:ea typeface="微软雅黑"/>
              </a:rPr>
              <a:t>© </a:t>
            </a:r>
            <a:r>
              <a:rPr b="0" lang="zh-CN" sz="1000" spc="-1" strike="noStrike">
                <a:solidFill>
                  <a:srgbClr val="a6a6a6"/>
                </a:solidFill>
                <a:latin typeface="微软雅黑"/>
                <a:ea typeface="微软雅黑"/>
              </a:rPr>
              <a:t>林虎哲制作</a:t>
            </a:r>
            <a:r>
              <a:rPr b="0" lang="en-US" sz="1000" spc="-1" strike="noStrike">
                <a:solidFill>
                  <a:srgbClr val="d9d9d9"/>
                </a:solidFill>
                <a:latin typeface="微软雅黑"/>
                <a:ea typeface="微软雅黑"/>
              </a:rPr>
              <a:t>.  Weibo: @</a:t>
            </a:r>
            <a:r>
              <a:rPr b="0" lang="zh-CN" sz="1000" spc="-1" strike="noStrike">
                <a:solidFill>
                  <a:srgbClr val="d9d9d9"/>
                </a:solidFill>
                <a:latin typeface="微软雅黑"/>
                <a:ea typeface="微软雅黑"/>
              </a:rPr>
              <a:t>乌拉拉</a:t>
            </a:r>
            <a:r>
              <a:rPr b="0" lang="en-US" sz="1000" spc="-1" strike="noStrike">
                <a:solidFill>
                  <a:srgbClr val="d9d9d9"/>
                </a:solidFill>
                <a:latin typeface="微软雅黑"/>
                <a:ea typeface="微软雅黑"/>
              </a:rPr>
              <a:t>80  qq:47828100  mail: lin__hz@bankcomm.co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5" name="灯片编号占位符 5"/>
          <p:cNvSpPr/>
          <p:nvPr/>
        </p:nvSpPr>
        <p:spPr>
          <a:xfrm>
            <a:off x="7397640" y="6399360"/>
            <a:ext cx="1486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ge   </a:t>
            </a:r>
            <a:fld id="{1FE5CF43-E879-4314-ADC1-E0BA55084851}" type="slidenum">
              <a:rPr b="0" lang="zh-CN" sz="1000" spc="-1" strike="noStrike">
                <a:solidFill>
                  <a:srgbClr val="ffffff"/>
                </a:solidFill>
                <a:latin typeface="华文宋体"/>
                <a:ea typeface="华文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6" name="Rectangle 3" hidden="1"/>
          <p:cNvSpPr/>
          <p:nvPr/>
        </p:nvSpPr>
        <p:spPr>
          <a:xfrm>
            <a:off x="0" y="0"/>
            <a:ext cx="176040" cy="16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9800" rIns="19800" tIns="0" bIns="0" anchor="ctr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华文楷体"/>
              </a:rPr>
              <a:t>7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7" name="Rectangle 334"/>
          <p:cNvSpPr/>
          <p:nvPr/>
        </p:nvSpPr>
        <p:spPr>
          <a:xfrm>
            <a:off x="5207040" y="1496880"/>
            <a:ext cx="901800" cy="2620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8" name="Rectangle 335"/>
          <p:cNvSpPr/>
          <p:nvPr/>
        </p:nvSpPr>
        <p:spPr>
          <a:xfrm>
            <a:off x="5224320" y="3611520"/>
            <a:ext cx="901800" cy="2620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9" name="Rectangle 336"/>
          <p:cNvSpPr/>
          <p:nvPr/>
        </p:nvSpPr>
        <p:spPr>
          <a:xfrm>
            <a:off x="1079640" y="2583000"/>
            <a:ext cx="39672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I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0" name="Rectangle 337"/>
          <p:cNvSpPr/>
          <p:nvPr/>
        </p:nvSpPr>
        <p:spPr>
          <a:xfrm>
            <a:off x="1079640" y="4033800"/>
            <a:ext cx="3920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ff"/>
                </a:solidFill>
                <a:latin typeface="Arial"/>
                <a:ea typeface="宋体"/>
              </a:rPr>
              <a:t>*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1" name="Rectangle 338"/>
          <p:cNvSpPr/>
          <p:nvPr/>
        </p:nvSpPr>
        <p:spPr>
          <a:xfrm>
            <a:off x="1079640" y="3243240"/>
            <a:ext cx="35532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H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2" name="Rectangle 339"/>
          <p:cNvSpPr/>
          <p:nvPr/>
        </p:nvSpPr>
        <p:spPr>
          <a:xfrm>
            <a:off x="6296040" y="3840120"/>
            <a:ext cx="57456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3" name="Rectangle 340"/>
          <p:cNvSpPr/>
          <p:nvPr/>
        </p:nvSpPr>
        <p:spPr>
          <a:xfrm>
            <a:off x="5727600" y="4718160"/>
            <a:ext cx="96228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H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4" name="Rectangle 341"/>
          <p:cNvSpPr/>
          <p:nvPr/>
        </p:nvSpPr>
        <p:spPr>
          <a:xfrm>
            <a:off x="5727600" y="4191120"/>
            <a:ext cx="932040" cy="37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I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5" name="Rectangle 342"/>
          <p:cNvSpPr/>
          <p:nvPr/>
        </p:nvSpPr>
        <p:spPr>
          <a:xfrm>
            <a:off x="6815160" y="4164120"/>
            <a:ext cx="38268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6640" rIns="26640" tIns="0" bIns="0" anchor="b">
            <a:noAutofit/>
          </a:bodyPr>
          <a:p>
            <a:pPr marL="343080" indent="-343080"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6" name="Rectangle 343"/>
          <p:cNvSpPr/>
          <p:nvPr/>
        </p:nvSpPr>
        <p:spPr>
          <a:xfrm>
            <a:off x="7523280" y="4164120"/>
            <a:ext cx="379440" cy="18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26640" rIns="26640" tIns="0" bIns="0" anchor="b">
            <a:noAutofit/>
          </a:bodyPr>
          <a:p>
            <a:pPr marL="343080" indent="-343080"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7" name="Rectangle 344" descr=""/>
          <p:cNvPicPr/>
          <p:nvPr/>
        </p:nvPicPr>
        <p:blipFill>
          <a:blip r:embed="rId1"/>
          <a:stretch/>
        </p:blipFill>
        <p:spPr>
          <a:xfrm>
            <a:off x="5407200" y="1487520"/>
            <a:ext cx="615600" cy="341280"/>
          </a:xfrm>
          <a:prstGeom prst="rect">
            <a:avLst/>
          </a:prstGeom>
          <a:ln w="0">
            <a:noFill/>
          </a:ln>
        </p:spPr>
      </p:pic>
      <p:pic>
        <p:nvPicPr>
          <p:cNvPr id="3018" name="Rectangle 345" descr=""/>
          <p:cNvPicPr/>
          <p:nvPr/>
        </p:nvPicPr>
        <p:blipFill>
          <a:blip r:embed="rId2"/>
          <a:stretch/>
        </p:blipFill>
        <p:spPr>
          <a:xfrm>
            <a:off x="5467320" y="3565440"/>
            <a:ext cx="409680" cy="366840"/>
          </a:xfrm>
          <a:prstGeom prst="rect">
            <a:avLst/>
          </a:prstGeom>
          <a:ln w="0">
            <a:noFill/>
          </a:ln>
        </p:spPr>
      </p:pic>
      <p:sp>
        <p:nvSpPr>
          <p:cNvPr id="3019" name="Line 346"/>
          <p:cNvSpPr/>
          <p:nvPr/>
        </p:nvSpPr>
        <p:spPr>
          <a:xfrm>
            <a:off x="5238720" y="3614760"/>
            <a:ext cx="4079880" cy="0"/>
          </a:xfrm>
          <a:prstGeom prst="line">
            <a:avLst/>
          </a:prstGeom>
          <a:ln w="9360">
            <a:solidFill>
              <a:srgbClr val="dddddd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0" name="Rectangle 347"/>
          <p:cNvSpPr/>
          <p:nvPr/>
        </p:nvSpPr>
        <p:spPr>
          <a:xfrm>
            <a:off x="1927800" y="1062000"/>
            <a:ext cx="167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70c0"/>
                </a:solidFill>
                <a:uFillTx/>
                <a:latin typeface="Arial"/>
              </a:rPr>
              <a:t>Sales by channe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1" name="Rectangle 348"/>
          <p:cNvSpPr/>
          <p:nvPr/>
        </p:nvSpPr>
        <p:spPr>
          <a:xfrm>
            <a:off x="5803920" y="1906560"/>
            <a:ext cx="4269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I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2" name="Rectangle 349"/>
          <p:cNvSpPr/>
          <p:nvPr/>
        </p:nvSpPr>
        <p:spPr>
          <a:xfrm>
            <a:off x="5803920" y="2376360"/>
            <a:ext cx="485640" cy="27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H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3" name="Line 350"/>
          <p:cNvSpPr/>
          <p:nvPr/>
        </p:nvSpPr>
        <p:spPr>
          <a:xfrm>
            <a:off x="6688080" y="3316320"/>
            <a:ext cx="1954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4" name="Rectangle 351"/>
          <p:cNvSpPr/>
          <p:nvPr/>
        </p:nvSpPr>
        <p:spPr>
          <a:xfrm>
            <a:off x="568440" y="1474920"/>
            <a:ext cx="4165560" cy="435132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5" name="Rectangle 352"/>
          <p:cNvSpPr/>
          <p:nvPr/>
        </p:nvSpPr>
        <p:spPr>
          <a:xfrm>
            <a:off x="5207040" y="1500120"/>
            <a:ext cx="4127400" cy="435132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6" name="Rectangle 353"/>
          <p:cNvSpPr/>
          <p:nvPr/>
        </p:nvSpPr>
        <p:spPr>
          <a:xfrm>
            <a:off x="577800" y="1495440"/>
            <a:ext cx="1066680" cy="2746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7" name="Rectangle 354" descr=""/>
          <p:cNvPicPr/>
          <p:nvPr/>
        </p:nvPicPr>
        <p:blipFill>
          <a:blip r:embed="rId3"/>
          <a:stretch/>
        </p:blipFill>
        <p:spPr>
          <a:xfrm>
            <a:off x="560520" y="1474920"/>
            <a:ext cx="1244520" cy="341280"/>
          </a:xfrm>
          <a:prstGeom prst="rect">
            <a:avLst/>
          </a:prstGeom>
          <a:ln w="0">
            <a:noFill/>
          </a:ln>
        </p:spPr>
      </p:pic>
      <p:sp>
        <p:nvSpPr>
          <p:cNvPr id="3028" name="McK Footnote"/>
          <p:cNvSpPr/>
          <p:nvPr/>
        </p:nvSpPr>
        <p:spPr>
          <a:xfrm>
            <a:off x="671400" y="5625000"/>
            <a:ext cx="4159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603360" indent="-603360">
              <a:spcBef>
                <a:spcPts val="275"/>
              </a:spcBef>
              <a:tabLst>
                <a:tab algn="l" pos="0"/>
                <a:tab algn="r" pos="55872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100" spc="-1" strike="noStrike">
                <a:solidFill>
                  <a:srgbClr val="969696"/>
                </a:solidFill>
                <a:latin typeface="Arial"/>
                <a:ea typeface="华文楷体"/>
              </a:rPr>
              <a:t>*</a:t>
            </a:r>
            <a:r>
              <a:rPr b="0" lang="en-US" sz="1100" spc="-1" strike="noStrike">
                <a:solidFill>
                  <a:srgbClr val="969696"/>
                </a:solidFill>
                <a:latin typeface="Arial"/>
                <a:ea typeface="华文楷体"/>
              </a:rPr>
              <a:t>	</a:t>
            </a:r>
            <a:r>
              <a:rPr b="0" lang="en-US" sz="1100" spc="-1" strike="noStrike">
                <a:solidFill>
                  <a:srgbClr val="969696"/>
                </a:solidFill>
                <a:latin typeface="Arial"/>
                <a:ea typeface="华文楷体"/>
              </a:rPr>
              <a:t>Source:</a:t>
            </a:r>
            <a:r>
              <a:rPr b="0" lang="en-US" sz="1100" spc="-1" strike="noStrike">
                <a:solidFill>
                  <a:srgbClr val="969696"/>
                </a:solidFill>
                <a:latin typeface="Arial"/>
                <a:ea typeface="华文楷体"/>
              </a:rPr>
              <a:t>	</a:t>
            </a:r>
            <a:r>
              <a:rPr b="0" lang="en-US" sz="1100" spc="-1" strike="noStrike">
                <a:solidFill>
                  <a:srgbClr val="969696"/>
                </a:solidFill>
                <a:latin typeface="Arial"/>
                <a:ea typeface="华文楷体"/>
              </a:rPr>
              <a:t>GFK (based on DTV 100 </a:t>
            </a:r>
            <a:r>
              <a:rPr b="0" lang="en-US" sz="1100" spc="-1" strike="noStrike">
                <a:solidFill>
                  <a:srgbClr val="969696"/>
                </a:solidFill>
                <a:latin typeface="Arial"/>
                <a:ea typeface="Gulim"/>
              </a:rPr>
              <a:t>cities, DA 65 citie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9" name="Rectangle 359"/>
          <p:cNvSpPr/>
          <p:nvPr/>
        </p:nvSpPr>
        <p:spPr>
          <a:xfrm>
            <a:off x="5803920" y="2843280"/>
            <a:ext cx="392040" cy="2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ff"/>
                </a:solidFill>
                <a:latin typeface="Arial"/>
                <a:ea typeface="宋体"/>
              </a:rPr>
              <a:t>*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0" name="Rectangle 360"/>
          <p:cNvSpPr/>
          <p:nvPr/>
        </p:nvSpPr>
        <p:spPr>
          <a:xfrm>
            <a:off x="5727600" y="5014800"/>
            <a:ext cx="39204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ff"/>
                </a:solidFill>
                <a:latin typeface="Arial"/>
                <a:ea typeface="宋体"/>
              </a:rPr>
              <a:t>*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1" name="Text Box 361"/>
          <p:cNvSpPr/>
          <p:nvPr/>
        </p:nvSpPr>
        <p:spPr>
          <a:xfrm>
            <a:off x="1780200" y="497052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Gulim"/>
              </a:rPr>
              <a:t>`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2" name="Text Box 362"/>
          <p:cNvSpPr/>
          <p:nvPr/>
        </p:nvSpPr>
        <p:spPr>
          <a:xfrm>
            <a:off x="2667600" y="497052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Gulim"/>
              </a:rPr>
              <a:t>`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3" name="Text Box 363"/>
          <p:cNvSpPr/>
          <p:nvPr/>
        </p:nvSpPr>
        <p:spPr>
          <a:xfrm>
            <a:off x="3365640" y="4970520"/>
            <a:ext cx="78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Gulim"/>
              </a:rPr>
              <a:t>`07 1~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4" name="Text Box 364"/>
          <p:cNvSpPr/>
          <p:nvPr/>
        </p:nvSpPr>
        <p:spPr>
          <a:xfrm>
            <a:off x="6814440" y="336060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Gulim"/>
              </a:rPr>
              <a:t>`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5" name="Text Box 365"/>
          <p:cNvSpPr/>
          <p:nvPr/>
        </p:nvSpPr>
        <p:spPr>
          <a:xfrm>
            <a:off x="7458840" y="336060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Gulim"/>
              </a:rPr>
              <a:t>`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6" name="Text Box 366"/>
          <p:cNvSpPr/>
          <p:nvPr/>
        </p:nvSpPr>
        <p:spPr>
          <a:xfrm>
            <a:off x="7962120" y="3360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Gulim"/>
              </a:rPr>
              <a:t>`07. 1~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7" name="Rectangle 367"/>
          <p:cNvSpPr/>
          <p:nvPr/>
        </p:nvSpPr>
        <p:spPr>
          <a:xfrm>
            <a:off x="5803920" y="2070000"/>
            <a:ext cx="4269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D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8" name="Rectangle 368"/>
          <p:cNvSpPr/>
          <p:nvPr/>
        </p:nvSpPr>
        <p:spPr>
          <a:xfrm>
            <a:off x="1079640" y="2930400"/>
            <a:ext cx="396720" cy="2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D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9" name="Rectangle 369"/>
          <p:cNvSpPr/>
          <p:nvPr/>
        </p:nvSpPr>
        <p:spPr>
          <a:xfrm>
            <a:off x="5727600" y="4432320"/>
            <a:ext cx="426960" cy="3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D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0" name="Rectangle 370"/>
          <p:cNvSpPr/>
          <p:nvPr/>
        </p:nvSpPr>
        <p:spPr>
          <a:xfrm>
            <a:off x="1731960" y="2793960"/>
            <a:ext cx="563400" cy="48744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1" name="Rectangle 371"/>
          <p:cNvSpPr/>
          <p:nvPr/>
        </p:nvSpPr>
        <p:spPr>
          <a:xfrm>
            <a:off x="1731960" y="2533680"/>
            <a:ext cx="563400" cy="33804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2" name="Rectangle 372"/>
          <p:cNvSpPr/>
          <p:nvPr/>
        </p:nvSpPr>
        <p:spPr>
          <a:xfrm>
            <a:off x="1731960" y="3276720"/>
            <a:ext cx="563400" cy="169920"/>
          </a:xfrm>
          <a:prstGeom prst="rect">
            <a:avLst/>
          </a:prstGeom>
          <a:solidFill>
            <a:srgbClr val="ffff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3" name="Rectangle 373"/>
          <p:cNvSpPr/>
          <p:nvPr/>
        </p:nvSpPr>
        <p:spPr>
          <a:xfrm>
            <a:off x="1731960" y="3443400"/>
            <a:ext cx="563400" cy="1455480"/>
          </a:xfrm>
          <a:prstGeom prst="rect">
            <a:avLst/>
          </a:prstGeom>
          <a:solidFill>
            <a:srgbClr val="99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4" name="Rectangle 374"/>
          <p:cNvSpPr/>
          <p:nvPr/>
        </p:nvSpPr>
        <p:spPr>
          <a:xfrm>
            <a:off x="1724040" y="3441600"/>
            <a:ext cx="574560" cy="147168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5" name="Rectangle 375"/>
          <p:cNvSpPr/>
          <p:nvPr/>
        </p:nvSpPr>
        <p:spPr>
          <a:xfrm>
            <a:off x="2655720" y="2774880"/>
            <a:ext cx="563760" cy="29700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6" name="Rectangle 376"/>
          <p:cNvSpPr/>
          <p:nvPr/>
        </p:nvSpPr>
        <p:spPr>
          <a:xfrm>
            <a:off x="2655720" y="2533680"/>
            <a:ext cx="563760" cy="2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7" name="Rectangle 377"/>
          <p:cNvSpPr/>
          <p:nvPr/>
        </p:nvSpPr>
        <p:spPr>
          <a:xfrm>
            <a:off x="2655720" y="3067200"/>
            <a:ext cx="563760" cy="169560"/>
          </a:xfrm>
          <a:prstGeom prst="rect">
            <a:avLst/>
          </a:prstGeom>
          <a:solidFill>
            <a:srgbClr val="ffff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8" name="Rectangle 378"/>
          <p:cNvSpPr/>
          <p:nvPr/>
        </p:nvSpPr>
        <p:spPr>
          <a:xfrm>
            <a:off x="2655720" y="3233880"/>
            <a:ext cx="563760" cy="1674720"/>
          </a:xfrm>
          <a:prstGeom prst="rect">
            <a:avLst/>
          </a:prstGeom>
          <a:solidFill>
            <a:srgbClr val="99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9" name="Rectangle 379"/>
          <p:cNvSpPr/>
          <p:nvPr/>
        </p:nvSpPr>
        <p:spPr>
          <a:xfrm>
            <a:off x="2646360" y="3232080"/>
            <a:ext cx="576360" cy="16909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0" name="Rectangle 380"/>
          <p:cNvSpPr/>
          <p:nvPr/>
        </p:nvSpPr>
        <p:spPr>
          <a:xfrm>
            <a:off x="3522600" y="2689200"/>
            <a:ext cx="563760" cy="27612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1" name="Rectangle 381"/>
          <p:cNvSpPr/>
          <p:nvPr/>
        </p:nvSpPr>
        <p:spPr>
          <a:xfrm>
            <a:off x="3522600" y="2533680"/>
            <a:ext cx="563760" cy="1540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2" name="Rectangle 382"/>
          <p:cNvSpPr/>
          <p:nvPr/>
        </p:nvSpPr>
        <p:spPr>
          <a:xfrm>
            <a:off x="3522600" y="2962440"/>
            <a:ext cx="563760" cy="169560"/>
          </a:xfrm>
          <a:prstGeom prst="rect">
            <a:avLst/>
          </a:prstGeom>
          <a:solidFill>
            <a:srgbClr val="ffff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3" name="Rectangle 383"/>
          <p:cNvSpPr/>
          <p:nvPr/>
        </p:nvSpPr>
        <p:spPr>
          <a:xfrm>
            <a:off x="3522600" y="3110040"/>
            <a:ext cx="563760" cy="1798560"/>
          </a:xfrm>
          <a:prstGeom prst="rect">
            <a:avLst/>
          </a:prstGeom>
          <a:solidFill>
            <a:srgbClr val="99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4" name="Rectangle 384"/>
          <p:cNvSpPr/>
          <p:nvPr/>
        </p:nvSpPr>
        <p:spPr>
          <a:xfrm>
            <a:off x="3513240" y="3108240"/>
            <a:ext cx="576000" cy="18147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5" name="Line 385"/>
          <p:cNvSpPr/>
          <p:nvPr/>
        </p:nvSpPr>
        <p:spPr>
          <a:xfrm>
            <a:off x="1576440" y="4919760"/>
            <a:ext cx="264168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6" name="Line 387"/>
          <p:cNvSpPr/>
          <p:nvPr/>
        </p:nvSpPr>
        <p:spPr>
          <a:xfrm flipV="1">
            <a:off x="2313000" y="3227400"/>
            <a:ext cx="334800" cy="2080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7" name="Line 388"/>
          <p:cNvSpPr/>
          <p:nvPr/>
        </p:nvSpPr>
        <p:spPr>
          <a:xfrm flipV="1">
            <a:off x="3235320" y="3114360"/>
            <a:ext cx="277920" cy="1112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8" name="Rectangle 389"/>
          <p:cNvSpPr/>
          <p:nvPr/>
        </p:nvSpPr>
        <p:spPr>
          <a:xfrm>
            <a:off x="6813720" y="2263680"/>
            <a:ext cx="401400" cy="25560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9" name="Rectangle 390"/>
          <p:cNvSpPr/>
          <p:nvPr/>
        </p:nvSpPr>
        <p:spPr>
          <a:xfrm>
            <a:off x="6813720" y="2066760"/>
            <a:ext cx="401400" cy="2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0" name="Rectangle 391"/>
          <p:cNvSpPr/>
          <p:nvPr/>
        </p:nvSpPr>
        <p:spPr>
          <a:xfrm>
            <a:off x="6813720" y="2519280"/>
            <a:ext cx="401400" cy="69840"/>
          </a:xfrm>
          <a:prstGeom prst="rect">
            <a:avLst/>
          </a:prstGeom>
          <a:solidFill>
            <a:srgbClr val="ffff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 algn="ctr"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1" name="Rectangle 392"/>
          <p:cNvSpPr/>
          <p:nvPr/>
        </p:nvSpPr>
        <p:spPr>
          <a:xfrm>
            <a:off x="6813720" y="2608200"/>
            <a:ext cx="40140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2" name="Rectangle 393"/>
          <p:cNvSpPr/>
          <p:nvPr/>
        </p:nvSpPr>
        <p:spPr>
          <a:xfrm>
            <a:off x="6808680" y="2597040"/>
            <a:ext cx="411120" cy="7160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3" name="Rectangle 394"/>
          <p:cNvSpPr/>
          <p:nvPr/>
        </p:nvSpPr>
        <p:spPr>
          <a:xfrm>
            <a:off x="7499520" y="2209680"/>
            <a:ext cx="401400" cy="16992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4" name="Rectangle 395"/>
          <p:cNvSpPr/>
          <p:nvPr/>
        </p:nvSpPr>
        <p:spPr>
          <a:xfrm>
            <a:off x="7499520" y="2066760"/>
            <a:ext cx="401400" cy="14796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5" name="Rectangle 396"/>
          <p:cNvSpPr/>
          <p:nvPr/>
        </p:nvSpPr>
        <p:spPr>
          <a:xfrm>
            <a:off x="7499520" y="2382840"/>
            <a:ext cx="401400" cy="69840"/>
          </a:xfrm>
          <a:prstGeom prst="rect">
            <a:avLst/>
          </a:prstGeom>
          <a:solidFill>
            <a:srgbClr val="ffff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 algn="ctr"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6" name="Rectangle 397"/>
          <p:cNvSpPr/>
          <p:nvPr/>
        </p:nvSpPr>
        <p:spPr>
          <a:xfrm>
            <a:off x="7499520" y="2492280"/>
            <a:ext cx="401400" cy="809640"/>
          </a:xfrm>
          <a:prstGeom prst="rect">
            <a:avLst/>
          </a:prstGeom>
          <a:solidFill>
            <a:srgbClr val="99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7" name="Rectangle 398"/>
          <p:cNvSpPr/>
          <p:nvPr/>
        </p:nvSpPr>
        <p:spPr>
          <a:xfrm>
            <a:off x="7494480" y="2476440"/>
            <a:ext cx="411120" cy="84132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8" name="Rectangle 399"/>
          <p:cNvSpPr/>
          <p:nvPr/>
        </p:nvSpPr>
        <p:spPr>
          <a:xfrm>
            <a:off x="8156520" y="2228760"/>
            <a:ext cx="401760" cy="16992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9" name="Rectangle 400"/>
          <p:cNvSpPr/>
          <p:nvPr/>
        </p:nvSpPr>
        <p:spPr>
          <a:xfrm>
            <a:off x="8156520" y="2066760"/>
            <a:ext cx="401760" cy="1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0" name="Rectangle 401"/>
          <p:cNvSpPr/>
          <p:nvPr/>
        </p:nvSpPr>
        <p:spPr>
          <a:xfrm>
            <a:off x="8156520" y="2398680"/>
            <a:ext cx="401760" cy="69840"/>
          </a:xfrm>
          <a:prstGeom prst="rect">
            <a:avLst/>
          </a:prstGeom>
          <a:solidFill>
            <a:srgbClr val="ffff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 algn="ctr"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1" name="Rectangle 402"/>
          <p:cNvSpPr/>
          <p:nvPr/>
        </p:nvSpPr>
        <p:spPr>
          <a:xfrm>
            <a:off x="8156520" y="2487600"/>
            <a:ext cx="401760" cy="814320"/>
          </a:xfrm>
          <a:prstGeom prst="rect">
            <a:avLst/>
          </a:prstGeom>
          <a:solidFill>
            <a:srgbClr val="99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2" name="Rectangle 403"/>
          <p:cNvSpPr/>
          <p:nvPr/>
        </p:nvSpPr>
        <p:spPr>
          <a:xfrm>
            <a:off x="8151840" y="2486160"/>
            <a:ext cx="411120" cy="8301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3" name="Line 404"/>
          <p:cNvSpPr/>
          <p:nvPr/>
        </p:nvSpPr>
        <p:spPr>
          <a:xfrm>
            <a:off x="6688080" y="5484960"/>
            <a:ext cx="1954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4" name="Text Box 405"/>
          <p:cNvSpPr/>
          <p:nvPr/>
        </p:nvSpPr>
        <p:spPr>
          <a:xfrm>
            <a:off x="6814440" y="552924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Gulim"/>
              </a:rPr>
              <a:t>`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5" name="Text Box 406"/>
          <p:cNvSpPr/>
          <p:nvPr/>
        </p:nvSpPr>
        <p:spPr>
          <a:xfrm>
            <a:off x="7458840" y="552924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Gulim"/>
              </a:rPr>
              <a:t>`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6" name="Text Box 407"/>
          <p:cNvSpPr/>
          <p:nvPr/>
        </p:nvSpPr>
        <p:spPr>
          <a:xfrm>
            <a:off x="7962120" y="5529240"/>
            <a:ext cx="78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Gulim"/>
              </a:rPr>
              <a:t>`07 1~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7" name="Rectangle 408"/>
          <p:cNvSpPr/>
          <p:nvPr/>
        </p:nvSpPr>
        <p:spPr>
          <a:xfrm>
            <a:off x="6813720" y="4432320"/>
            <a:ext cx="401400" cy="25560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8" name="Rectangle 409"/>
          <p:cNvSpPr/>
          <p:nvPr/>
        </p:nvSpPr>
        <p:spPr>
          <a:xfrm>
            <a:off x="6813720" y="4235400"/>
            <a:ext cx="401400" cy="20484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9" name="Rectangle 410"/>
          <p:cNvSpPr/>
          <p:nvPr/>
        </p:nvSpPr>
        <p:spPr>
          <a:xfrm>
            <a:off x="6813720" y="4687920"/>
            <a:ext cx="401400" cy="69840"/>
          </a:xfrm>
          <a:prstGeom prst="rect">
            <a:avLst/>
          </a:prstGeom>
          <a:solidFill>
            <a:srgbClr val="ffff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 algn="ctr"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0" name="Rectangle 411"/>
          <p:cNvSpPr/>
          <p:nvPr/>
        </p:nvSpPr>
        <p:spPr>
          <a:xfrm>
            <a:off x="6813720" y="4776840"/>
            <a:ext cx="40140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1" name="Rectangle 412"/>
          <p:cNvSpPr/>
          <p:nvPr/>
        </p:nvSpPr>
        <p:spPr>
          <a:xfrm>
            <a:off x="6808680" y="4765680"/>
            <a:ext cx="411120" cy="71604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2" name="Rectangle 413"/>
          <p:cNvSpPr/>
          <p:nvPr/>
        </p:nvSpPr>
        <p:spPr>
          <a:xfrm>
            <a:off x="7499520" y="4378320"/>
            <a:ext cx="401400" cy="16992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3" name="Rectangle 414"/>
          <p:cNvSpPr/>
          <p:nvPr/>
        </p:nvSpPr>
        <p:spPr>
          <a:xfrm>
            <a:off x="7499520" y="4235400"/>
            <a:ext cx="401400" cy="14760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4" name="Rectangle 415"/>
          <p:cNvSpPr/>
          <p:nvPr/>
        </p:nvSpPr>
        <p:spPr>
          <a:xfrm>
            <a:off x="7499520" y="4538520"/>
            <a:ext cx="401400" cy="69840"/>
          </a:xfrm>
          <a:prstGeom prst="rect">
            <a:avLst/>
          </a:prstGeom>
          <a:solidFill>
            <a:srgbClr val="ffff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 algn="ctr"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5" name="Rectangle 416"/>
          <p:cNvSpPr/>
          <p:nvPr/>
        </p:nvSpPr>
        <p:spPr>
          <a:xfrm>
            <a:off x="7499520" y="4608360"/>
            <a:ext cx="401400" cy="862200"/>
          </a:xfrm>
          <a:prstGeom prst="rect">
            <a:avLst/>
          </a:prstGeom>
          <a:solidFill>
            <a:srgbClr val="99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6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6" name="Rectangle 417"/>
          <p:cNvSpPr/>
          <p:nvPr/>
        </p:nvSpPr>
        <p:spPr>
          <a:xfrm>
            <a:off x="7494480" y="4597560"/>
            <a:ext cx="411120" cy="8874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7" name="Rectangle 418"/>
          <p:cNvSpPr/>
          <p:nvPr/>
        </p:nvSpPr>
        <p:spPr>
          <a:xfrm>
            <a:off x="8156520" y="4330800"/>
            <a:ext cx="401760" cy="12204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8" name="Rectangle 419"/>
          <p:cNvSpPr/>
          <p:nvPr/>
        </p:nvSpPr>
        <p:spPr>
          <a:xfrm>
            <a:off x="8156520" y="4235400"/>
            <a:ext cx="401760" cy="1000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9" name="Rectangle 420"/>
          <p:cNvSpPr/>
          <p:nvPr/>
        </p:nvSpPr>
        <p:spPr>
          <a:xfrm>
            <a:off x="8156520" y="4443480"/>
            <a:ext cx="401760" cy="69840"/>
          </a:xfrm>
          <a:prstGeom prst="rect">
            <a:avLst/>
          </a:prstGeom>
          <a:solidFill>
            <a:srgbClr val="ffff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pPr algn="ctr"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0" name="Rectangle 421"/>
          <p:cNvSpPr/>
          <p:nvPr/>
        </p:nvSpPr>
        <p:spPr>
          <a:xfrm>
            <a:off x="8156520" y="4503600"/>
            <a:ext cx="401760" cy="966960"/>
          </a:xfrm>
          <a:prstGeom prst="rect">
            <a:avLst/>
          </a:prstGeom>
          <a:solidFill>
            <a:srgbClr val="99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7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1" name="Rectangle 422"/>
          <p:cNvSpPr/>
          <p:nvPr/>
        </p:nvSpPr>
        <p:spPr>
          <a:xfrm>
            <a:off x="8151840" y="4502160"/>
            <a:ext cx="411120" cy="98280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2" name="Line 423"/>
          <p:cNvSpPr/>
          <p:nvPr/>
        </p:nvSpPr>
        <p:spPr>
          <a:xfrm flipV="1">
            <a:off x="7237440" y="4598640"/>
            <a:ext cx="277920" cy="1602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3" name="Line 424"/>
          <p:cNvSpPr/>
          <p:nvPr/>
        </p:nvSpPr>
        <p:spPr>
          <a:xfrm flipV="1">
            <a:off x="7218360" y="2436480"/>
            <a:ext cx="277920" cy="1602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4" name="Line 425"/>
          <p:cNvSpPr/>
          <p:nvPr/>
        </p:nvSpPr>
        <p:spPr>
          <a:xfrm>
            <a:off x="7923240" y="2467080"/>
            <a:ext cx="249120" cy="5868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5" name="Line 426"/>
          <p:cNvSpPr/>
          <p:nvPr/>
        </p:nvSpPr>
        <p:spPr>
          <a:xfrm flipV="1">
            <a:off x="7923240" y="4522320"/>
            <a:ext cx="220680" cy="558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6" name="Text Box 438"/>
          <p:cNvSpPr/>
          <p:nvPr/>
        </p:nvSpPr>
        <p:spPr>
          <a:xfrm>
            <a:off x="8674560" y="1487520"/>
            <a:ext cx="6116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 u="sng">
                <a:solidFill>
                  <a:srgbClr val="0070c0"/>
                </a:solidFill>
                <a:uFillTx/>
                <a:latin typeface="Arial"/>
                <a:ea typeface="Arial"/>
              </a:rPr>
              <a:t>Unit : 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7" name="Text Box 439"/>
          <p:cNvSpPr/>
          <p:nvPr/>
        </p:nvSpPr>
        <p:spPr>
          <a:xfrm>
            <a:off x="4043880" y="1488960"/>
            <a:ext cx="6116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 u="sng">
                <a:solidFill>
                  <a:srgbClr val="0070c0"/>
                </a:solidFill>
                <a:uFillTx/>
                <a:latin typeface="Arial"/>
                <a:ea typeface="Arial"/>
              </a:rPr>
              <a:t>Unit : %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8" name="Text Box 443"/>
          <p:cNvSpPr/>
          <p:nvPr/>
        </p:nvSpPr>
        <p:spPr>
          <a:xfrm>
            <a:off x="595800" y="5867280"/>
            <a:ext cx="4688280" cy="5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1" lang="en-US" sz="10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*  ESS = NESS + RESS</a:t>
            </a:r>
            <a:br>
              <a:rPr sz="1000"/>
            </a:b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    NESS : Nationwide electronic specialty store ( </a:t>
            </a:r>
            <a:r>
              <a:rPr b="0" lang="zh-CN" sz="1000" spc="-1" strike="noStrike">
                <a:solidFill>
                  <a:srgbClr val="969696"/>
                </a:solidFill>
                <a:latin typeface="Arial"/>
              </a:rPr>
              <a:t>国美</a:t>
            </a: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, </a:t>
            </a:r>
            <a:r>
              <a:rPr b="0" lang="zh-CN" sz="1000" spc="-1" strike="noStrike">
                <a:solidFill>
                  <a:srgbClr val="969696"/>
                </a:solidFill>
                <a:latin typeface="Arial"/>
              </a:rPr>
              <a:t>苏宁</a:t>
            </a:r>
            <a:r>
              <a:rPr b="0" lang="ko-KR" sz="1000" spc="-1" strike="noStrike">
                <a:solidFill>
                  <a:srgbClr val="96969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)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06560"/>
                <a:tab algn="l" pos="2013120"/>
                <a:tab algn="l" pos="3019320"/>
                <a:tab algn="l" pos="4025880"/>
                <a:tab algn="l" pos="5032440"/>
                <a:tab algn="l" pos="6039000"/>
                <a:tab algn="l" pos="7045200"/>
                <a:tab algn="l" pos="8051760"/>
                <a:tab algn="l" pos="9058320"/>
                <a:tab algn="l" pos="10064880"/>
              </a:tabLst>
            </a:pP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RESS :  Regional electronic specialty store (</a:t>
            </a:r>
            <a:r>
              <a:rPr b="0" lang="zh-CN" sz="1000" spc="-1" strike="noStrike">
                <a:solidFill>
                  <a:srgbClr val="969696"/>
                </a:solidFill>
                <a:latin typeface="Arial"/>
              </a:rPr>
              <a:t>大中</a:t>
            </a: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, </a:t>
            </a:r>
            <a:r>
              <a:rPr b="0" lang="zh-CN" sz="1000" spc="-1" strike="noStrike">
                <a:solidFill>
                  <a:srgbClr val="969696"/>
                </a:solidFill>
                <a:latin typeface="Arial"/>
              </a:rPr>
              <a:t>顺电</a:t>
            </a: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,</a:t>
            </a:r>
            <a:r>
              <a:rPr b="0" lang="zh-CN" sz="1000" spc="-1" strike="noStrike">
                <a:solidFill>
                  <a:srgbClr val="969696"/>
                </a:solidFill>
                <a:latin typeface="Arial"/>
              </a:rPr>
              <a:t>工贸</a:t>
            </a:r>
            <a:r>
              <a:rPr b="0" lang="en-US" sz="1000" spc="-1" strike="noStrike">
                <a:solidFill>
                  <a:srgbClr val="969696"/>
                </a:solidFill>
                <a:latin typeface="Arial"/>
              </a:rPr>
              <a:t>, Department store 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9" name="AutoShape 442"/>
          <p:cNvSpPr/>
          <p:nvPr/>
        </p:nvSpPr>
        <p:spPr>
          <a:xfrm>
            <a:off x="4259160" y="5923080"/>
            <a:ext cx="190440" cy="190440"/>
          </a:xfrm>
          <a:custGeom>
            <a:avLst/>
            <a:gdLst>
              <a:gd name="textAreaLeft" fmla="*/ 11880 w 190440"/>
              <a:gd name="textAreaRight" fmla="*/ 178560 w 190440"/>
              <a:gd name="textAreaTop" fmla="*/ 11880 h 190440"/>
              <a:gd name="textAreaBottom" fmla="*/ 178560 h 190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10800" y="3756"/>
                </a:moveTo>
                <a:arcTo wR="7044" hR="7044" stAng="16200000" swAng="-5400000"/>
                <a:arcTo wR="7044" hR="7044" stAng="10800000" swAng="-5400000"/>
                <a:arcTo wR="7044" hR="7044" stAng="5400000" swAng="-5400000"/>
                <a:arcTo wR="7044" hR="7044" stAng="0" swAng="-5400000"/>
                <a:close/>
              </a:path>
              <a:path fill="lighten" w="21600" h="21600">
                <a:moveTo>
                  <a:pt x="10800" y="4133"/>
                </a:moveTo>
                <a:arcTo wR="1803" hR="1803" stAng="16200000" swAng="-5400000"/>
                <a:arcTo wR="1803" hR="1803" stAng="10800000" swAng="-5400000"/>
                <a:arcTo wR="1803" hR="1803" stAng="5400000" swAng="-5400000"/>
                <a:arcTo wR="1803" hR="1803" stAng="0" swAng="-5400000"/>
                <a:close/>
              </a:path>
              <a:path fill="lighten" w="21600" h="21600">
                <a:moveTo>
                  <a:pt x="8210" y="8210"/>
                </a:moveTo>
                <a:lnTo>
                  <a:pt x="12095" y="8210"/>
                </a:lnTo>
                <a:lnTo>
                  <a:pt x="12095" y="15245"/>
                </a:lnTo>
                <a:lnTo>
                  <a:pt x="13390" y="15245"/>
                </a:lnTo>
                <a:lnTo>
                  <a:pt x="13390" y="16173"/>
                </a:lnTo>
                <a:lnTo>
                  <a:pt x="8210" y="16173"/>
                </a:lnTo>
                <a:lnTo>
                  <a:pt x="8210" y="15245"/>
                </a:lnTo>
                <a:lnTo>
                  <a:pt x="9505" y="15245"/>
                </a:lnTo>
                <a:lnTo>
                  <a:pt x="9505" y="9120"/>
                </a:lnTo>
                <a:lnTo>
                  <a:pt x="8210" y="9120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0" name="Text Box 444"/>
          <p:cNvSpPr/>
          <p:nvPr/>
        </p:nvSpPr>
        <p:spPr>
          <a:xfrm>
            <a:off x="446760" y="635040"/>
            <a:ext cx="50054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ESS (Electronic Specialty Store) is growing fa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1" name="Rectangle 4" descr=""/>
          <p:cNvPicPr/>
          <p:nvPr/>
        </p:nvPicPr>
        <p:blipFill>
          <a:blip r:embed="rId4"/>
          <a:stretch/>
        </p:blipFill>
        <p:spPr>
          <a:xfrm>
            <a:off x="109440" y="85680"/>
            <a:ext cx="951120" cy="566640"/>
          </a:xfrm>
          <a:prstGeom prst="rect">
            <a:avLst/>
          </a:prstGeom>
          <a:ln w="0">
            <a:noFill/>
          </a:ln>
        </p:spPr>
      </p:pic>
      <p:sp>
        <p:nvSpPr>
          <p:cNvPr id="3102" name="直接连接符 101"/>
          <p:cNvSpPr/>
          <p:nvPr/>
        </p:nvSpPr>
        <p:spPr>
          <a:xfrm>
            <a:off x="965160" y="214200"/>
            <a:ext cx="0" cy="214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3" name="标题 2"/>
          <p:cNvSpPr/>
          <p:nvPr/>
        </p:nvSpPr>
        <p:spPr>
          <a:xfrm>
            <a:off x="950760" y="166680"/>
            <a:ext cx="1555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经营分析报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4" name="矩形 103" descr=""/>
          <p:cNvPicPr/>
          <p:nvPr/>
        </p:nvPicPr>
        <p:blipFill>
          <a:blip r:embed="rId5"/>
          <a:stretch/>
        </p:blipFill>
        <p:spPr>
          <a:xfrm>
            <a:off x="6566040" y="115920"/>
            <a:ext cx="3352680" cy="1133280"/>
          </a:xfrm>
          <a:prstGeom prst="rect">
            <a:avLst/>
          </a:prstGeom>
          <a:ln w="0">
            <a:noFill/>
          </a:ln>
        </p:spPr>
      </p:pic>
      <p:sp>
        <p:nvSpPr>
          <p:cNvPr id="3105" name="Rectangle 265"/>
          <p:cNvSpPr/>
          <p:nvPr/>
        </p:nvSpPr>
        <p:spPr>
          <a:xfrm>
            <a:off x="6741000" y="136440"/>
            <a:ext cx="30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바탕"/>
              </a:rPr>
              <a:t> Ⅱ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바탕"/>
              </a:rPr>
              <a:t>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바탕"/>
              </a:rPr>
              <a:t>Market understan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6" name="Rectangle 234"/>
          <p:cNvSpPr/>
          <p:nvPr/>
        </p:nvSpPr>
        <p:spPr>
          <a:xfrm>
            <a:off x="7188840" y="401760"/>
            <a:ext cx="893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bfbfbf"/>
                </a:solidFill>
                <a:latin typeface="Arial"/>
              </a:rPr>
              <a:t>Chann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07" name=""/>
          <p:cNvGrpSpPr/>
          <p:nvPr/>
        </p:nvGrpSpPr>
        <p:grpSpPr>
          <a:xfrm>
            <a:off x="0" y="6443640"/>
            <a:ext cx="9918720" cy="237960"/>
            <a:chOff x="0" y="6443640"/>
            <a:chExt cx="9918720" cy="237960"/>
          </a:xfrm>
        </p:grpSpPr>
        <p:pic>
          <p:nvPicPr>
            <p:cNvPr id="3108" name="矩形 105" descr=""/>
            <p:cNvPicPr/>
            <p:nvPr/>
          </p:nvPicPr>
          <p:blipFill>
            <a:blip r:embed="rId6"/>
            <a:stretch/>
          </p:blipFill>
          <p:spPr>
            <a:xfrm>
              <a:off x="0" y="6443640"/>
              <a:ext cx="991728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9" name=""/>
            <p:cNvSpPr/>
            <p:nvPr/>
          </p:nvSpPr>
          <p:spPr>
            <a:xfrm>
              <a:off x="0" y="6445080"/>
              <a:ext cx="991872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10" name="灯片编号占位符 5"/>
          <p:cNvSpPr/>
          <p:nvPr/>
        </p:nvSpPr>
        <p:spPr>
          <a:xfrm>
            <a:off x="7397640" y="6399360"/>
            <a:ext cx="1486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ge   </a:t>
            </a:r>
            <a:fld id="{E5A75CDD-3055-40A7-93FC-8E2A5977D008}" type="slidenum">
              <a:rPr b="0" lang="zh-CN" sz="1000" spc="-1" strike="noStrike">
                <a:solidFill>
                  <a:srgbClr val="ffffff"/>
                </a:solidFill>
                <a:latin typeface="华文宋体"/>
                <a:ea typeface="华文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1" name="Text Box 242"/>
          <p:cNvSpPr/>
          <p:nvPr/>
        </p:nvSpPr>
        <p:spPr>
          <a:xfrm>
            <a:off x="434880" y="6211800"/>
            <a:ext cx="3273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Gulim"/>
              </a:rPr>
              <a:t>*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Source: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GFK Estimation (Total China Retail Marke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2" name="Rectangle 243"/>
          <p:cNvSpPr/>
          <p:nvPr/>
        </p:nvSpPr>
        <p:spPr>
          <a:xfrm>
            <a:off x="8249400" y="1108080"/>
            <a:ext cx="8510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 u="sng">
                <a:solidFill>
                  <a:srgbClr val="0070c0"/>
                </a:solidFill>
                <a:uFillTx/>
                <a:latin typeface="Arial"/>
                <a:ea typeface="Arial"/>
              </a:rPr>
              <a:t>Unit: B RM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3" name="Line 244"/>
          <p:cNvSpPr/>
          <p:nvPr/>
        </p:nvSpPr>
        <p:spPr>
          <a:xfrm>
            <a:off x="968400" y="3630600"/>
            <a:ext cx="8032680" cy="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4" name="Line 245"/>
          <p:cNvSpPr/>
          <p:nvPr/>
        </p:nvSpPr>
        <p:spPr>
          <a:xfrm>
            <a:off x="4946760" y="1298520"/>
            <a:ext cx="0" cy="469908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5" name="AutoShape 246" descr=""/>
          <p:cNvPicPr/>
          <p:nvPr/>
        </p:nvPicPr>
        <p:blipFill>
          <a:blip r:embed="rId1"/>
          <a:stretch/>
        </p:blipFill>
        <p:spPr>
          <a:xfrm>
            <a:off x="884160" y="927000"/>
            <a:ext cx="957240" cy="420840"/>
          </a:xfrm>
          <a:prstGeom prst="rect">
            <a:avLst/>
          </a:prstGeom>
          <a:ln w="0">
            <a:noFill/>
          </a:ln>
        </p:spPr>
      </p:pic>
      <p:pic>
        <p:nvPicPr>
          <p:cNvPr id="3116" name="AutoShape 247" descr=""/>
          <p:cNvPicPr/>
          <p:nvPr/>
        </p:nvPicPr>
        <p:blipFill>
          <a:blip r:embed="rId2"/>
          <a:stretch/>
        </p:blipFill>
        <p:spPr>
          <a:xfrm>
            <a:off x="5121360" y="927000"/>
            <a:ext cx="955440" cy="420840"/>
          </a:xfrm>
          <a:prstGeom prst="rect">
            <a:avLst/>
          </a:prstGeom>
          <a:ln w="0">
            <a:noFill/>
          </a:ln>
        </p:spPr>
      </p:pic>
      <p:pic>
        <p:nvPicPr>
          <p:cNvPr id="3117" name="AutoShape 248" descr=""/>
          <p:cNvPicPr/>
          <p:nvPr/>
        </p:nvPicPr>
        <p:blipFill>
          <a:blip r:embed="rId3"/>
          <a:stretch/>
        </p:blipFill>
        <p:spPr>
          <a:xfrm>
            <a:off x="884160" y="3760920"/>
            <a:ext cx="963720" cy="426960"/>
          </a:xfrm>
          <a:prstGeom prst="rect">
            <a:avLst/>
          </a:prstGeom>
          <a:ln w="0">
            <a:noFill/>
          </a:ln>
        </p:spPr>
      </p:pic>
      <p:pic>
        <p:nvPicPr>
          <p:cNvPr id="3118" name="AutoShape 249" descr=""/>
          <p:cNvPicPr/>
          <p:nvPr/>
        </p:nvPicPr>
        <p:blipFill>
          <a:blip r:embed="rId4"/>
          <a:stretch/>
        </p:blipFill>
        <p:spPr>
          <a:xfrm>
            <a:off x="5121360" y="3760920"/>
            <a:ext cx="961920" cy="426960"/>
          </a:xfrm>
          <a:prstGeom prst="rect">
            <a:avLst/>
          </a:prstGeom>
          <a:ln w="0">
            <a:noFill/>
          </a:ln>
        </p:spPr>
      </p:pic>
      <p:sp>
        <p:nvSpPr>
          <p:cNvPr id="3119" name="Rectangle 250"/>
          <p:cNvSpPr/>
          <p:nvPr/>
        </p:nvSpPr>
        <p:spPr>
          <a:xfrm>
            <a:off x="1878120" y="2898720"/>
            <a:ext cx="407880" cy="295200"/>
          </a:xfrm>
          <a:prstGeom prst="rect">
            <a:avLst/>
          </a:prstGeom>
          <a:solidFill>
            <a:srgbClr val="99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8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0" name="Rectangle 251"/>
          <p:cNvSpPr/>
          <p:nvPr/>
        </p:nvSpPr>
        <p:spPr>
          <a:xfrm>
            <a:off x="1878120" y="2697120"/>
            <a:ext cx="407880" cy="19836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1" name="Line 252"/>
          <p:cNvSpPr/>
          <p:nvPr/>
        </p:nvSpPr>
        <p:spPr>
          <a:xfrm>
            <a:off x="1255680" y="3193920"/>
            <a:ext cx="32925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2" name="Text Box 253"/>
          <p:cNvSpPr/>
          <p:nvPr/>
        </p:nvSpPr>
        <p:spPr>
          <a:xfrm>
            <a:off x="1904040" y="323532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Gulim"/>
              </a:rPr>
              <a:t>`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3" name="Text Box 254"/>
          <p:cNvSpPr/>
          <p:nvPr/>
        </p:nvSpPr>
        <p:spPr>
          <a:xfrm>
            <a:off x="2956680" y="323532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Gulim"/>
              </a:rPr>
              <a:t>`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4" name="Text Box 255"/>
          <p:cNvSpPr/>
          <p:nvPr/>
        </p:nvSpPr>
        <p:spPr>
          <a:xfrm>
            <a:off x="4007520" y="323532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Gulim"/>
              </a:rPr>
              <a:t>`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5" name="Text Box 256"/>
          <p:cNvSpPr/>
          <p:nvPr/>
        </p:nvSpPr>
        <p:spPr>
          <a:xfrm>
            <a:off x="1275840" y="293364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Gulim"/>
              </a:rPr>
              <a:t>L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6" name="Text Box 257"/>
          <p:cNvSpPr/>
          <p:nvPr/>
        </p:nvSpPr>
        <p:spPr>
          <a:xfrm>
            <a:off x="1275120" y="2674800"/>
            <a:ext cx="49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Gulim"/>
              </a:rPr>
              <a:t>PD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7" name="Rectangle 258"/>
          <p:cNvSpPr/>
          <p:nvPr/>
        </p:nvSpPr>
        <p:spPr>
          <a:xfrm>
            <a:off x="2930400" y="2540160"/>
            <a:ext cx="408240" cy="653760"/>
          </a:xfrm>
          <a:prstGeom prst="rect">
            <a:avLst/>
          </a:prstGeom>
          <a:solidFill>
            <a:srgbClr val="99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6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8" name="Rectangle 259"/>
          <p:cNvSpPr/>
          <p:nvPr/>
        </p:nvSpPr>
        <p:spPr>
          <a:xfrm>
            <a:off x="2930400" y="2405160"/>
            <a:ext cx="408240" cy="1411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9" name="Rectangle 260"/>
          <p:cNvSpPr/>
          <p:nvPr/>
        </p:nvSpPr>
        <p:spPr>
          <a:xfrm>
            <a:off x="3981600" y="2198520"/>
            <a:ext cx="407880" cy="995400"/>
          </a:xfrm>
          <a:prstGeom prst="rect">
            <a:avLst/>
          </a:prstGeom>
          <a:solidFill>
            <a:srgbClr val="99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15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0" name="Rectangle 261"/>
          <p:cNvSpPr/>
          <p:nvPr/>
        </p:nvSpPr>
        <p:spPr>
          <a:xfrm>
            <a:off x="3981600" y="2021040"/>
            <a:ext cx="407880" cy="1825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1" name="Text Box 262"/>
          <p:cNvSpPr/>
          <p:nvPr/>
        </p:nvSpPr>
        <p:spPr>
          <a:xfrm>
            <a:off x="1842120" y="154944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Gulim"/>
              </a:rPr>
              <a:t>45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2" name="Text Box 263"/>
          <p:cNvSpPr/>
          <p:nvPr/>
        </p:nvSpPr>
        <p:spPr>
          <a:xfrm>
            <a:off x="2894760" y="154944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Gulim"/>
              </a:rPr>
              <a:t>80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3" name="Text Box 264"/>
          <p:cNvSpPr/>
          <p:nvPr/>
        </p:nvSpPr>
        <p:spPr>
          <a:xfrm>
            <a:off x="3863880" y="1549440"/>
            <a:ext cx="56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Gulim"/>
              </a:rPr>
              <a:t>120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4" name="Text Box 265"/>
          <p:cNvSpPr/>
          <p:nvPr/>
        </p:nvSpPr>
        <p:spPr>
          <a:xfrm>
            <a:off x="938160" y="1549440"/>
            <a:ext cx="66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  <a:ea typeface="Gulim"/>
              </a:rPr>
              <a:t>TTL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5" name="Rectangle 266"/>
          <p:cNvSpPr/>
          <p:nvPr/>
        </p:nvSpPr>
        <p:spPr>
          <a:xfrm>
            <a:off x="6022800" y="2397240"/>
            <a:ext cx="408240" cy="64440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6" name="Rectangle 267"/>
          <p:cNvSpPr/>
          <p:nvPr/>
        </p:nvSpPr>
        <p:spPr>
          <a:xfrm>
            <a:off x="6022800" y="3035160"/>
            <a:ext cx="408240" cy="157320"/>
          </a:xfrm>
          <a:prstGeom prst="rect">
            <a:avLst/>
          </a:prstGeom>
          <a:solidFill>
            <a:srgbClr val="99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7" name="Line 268"/>
          <p:cNvSpPr/>
          <p:nvPr/>
        </p:nvSpPr>
        <p:spPr>
          <a:xfrm>
            <a:off x="5400720" y="3193920"/>
            <a:ext cx="32925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8" name="Text Box 269"/>
          <p:cNvSpPr/>
          <p:nvPr/>
        </p:nvSpPr>
        <p:spPr>
          <a:xfrm>
            <a:off x="6047640" y="323532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Gulim"/>
              </a:rPr>
              <a:t>`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9" name="Text Box 270"/>
          <p:cNvSpPr/>
          <p:nvPr/>
        </p:nvSpPr>
        <p:spPr>
          <a:xfrm>
            <a:off x="7101720" y="323532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Gulim"/>
              </a:rPr>
              <a:t>`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0" name="Text Box 271"/>
          <p:cNvSpPr/>
          <p:nvPr/>
        </p:nvSpPr>
        <p:spPr>
          <a:xfrm>
            <a:off x="8152560" y="323532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Gulim"/>
              </a:rPr>
              <a:t>`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1" name="Text Box 272"/>
          <p:cNvSpPr/>
          <p:nvPr/>
        </p:nvSpPr>
        <p:spPr>
          <a:xfrm>
            <a:off x="5407200" y="292896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2" name="Text Box 273"/>
          <p:cNvSpPr/>
          <p:nvPr/>
        </p:nvSpPr>
        <p:spPr>
          <a:xfrm>
            <a:off x="5421240" y="2986200"/>
            <a:ext cx="470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Gulim"/>
              </a:rPr>
              <a:t>Sx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3" name="Rectangle 274"/>
          <p:cNvSpPr/>
          <p:nvPr/>
        </p:nvSpPr>
        <p:spPr>
          <a:xfrm>
            <a:off x="7075440" y="2211480"/>
            <a:ext cx="407880" cy="79200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4" name="Rectangle 275"/>
          <p:cNvSpPr/>
          <p:nvPr/>
        </p:nvSpPr>
        <p:spPr>
          <a:xfrm>
            <a:off x="7075440" y="3002040"/>
            <a:ext cx="407880" cy="190440"/>
          </a:xfrm>
          <a:prstGeom prst="rect">
            <a:avLst/>
          </a:prstGeom>
          <a:solidFill>
            <a:srgbClr val="99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5" name="Rectangle 276"/>
          <p:cNvSpPr/>
          <p:nvPr/>
        </p:nvSpPr>
        <p:spPr>
          <a:xfrm>
            <a:off x="8126280" y="1976400"/>
            <a:ext cx="408240" cy="97956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6" name="Rectangle 277"/>
          <p:cNvSpPr/>
          <p:nvPr/>
        </p:nvSpPr>
        <p:spPr>
          <a:xfrm>
            <a:off x="8126280" y="2954160"/>
            <a:ext cx="408240" cy="238320"/>
          </a:xfrm>
          <a:prstGeom prst="rect">
            <a:avLst/>
          </a:prstGeom>
          <a:solidFill>
            <a:srgbClr val="99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7" name="Text Box 278"/>
          <p:cNvSpPr/>
          <p:nvPr/>
        </p:nvSpPr>
        <p:spPr>
          <a:xfrm>
            <a:off x="5983200" y="154944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Gulim"/>
              </a:rPr>
              <a:t>30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8" name="Text Box 279"/>
          <p:cNvSpPr/>
          <p:nvPr/>
        </p:nvSpPr>
        <p:spPr>
          <a:xfrm>
            <a:off x="7037280" y="154944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Gulim"/>
              </a:rPr>
              <a:t>36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9" name="Text Box 280"/>
          <p:cNvSpPr/>
          <p:nvPr/>
        </p:nvSpPr>
        <p:spPr>
          <a:xfrm>
            <a:off x="8095320" y="154944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Gulim"/>
              </a:rPr>
              <a:t>42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0" name="Text Box 281"/>
          <p:cNvSpPr/>
          <p:nvPr/>
        </p:nvSpPr>
        <p:spPr>
          <a:xfrm>
            <a:off x="5168880" y="1549440"/>
            <a:ext cx="66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  <a:ea typeface="Gulim"/>
              </a:rPr>
              <a:t>TTL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1" name="Rectangle 282"/>
          <p:cNvSpPr/>
          <p:nvPr/>
        </p:nvSpPr>
        <p:spPr>
          <a:xfrm>
            <a:off x="6022800" y="5129280"/>
            <a:ext cx="408240" cy="49824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2" name="Rectangle 283"/>
          <p:cNvSpPr/>
          <p:nvPr/>
        </p:nvSpPr>
        <p:spPr>
          <a:xfrm>
            <a:off x="6022800" y="5618160"/>
            <a:ext cx="408240" cy="239760"/>
          </a:xfrm>
          <a:prstGeom prst="rect">
            <a:avLst/>
          </a:prstGeom>
          <a:solidFill>
            <a:srgbClr val="99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5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3" name="Line 284"/>
          <p:cNvSpPr/>
          <p:nvPr/>
        </p:nvSpPr>
        <p:spPr>
          <a:xfrm>
            <a:off x="5400720" y="5856120"/>
            <a:ext cx="32925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4" name="Text Box 285"/>
          <p:cNvSpPr/>
          <p:nvPr/>
        </p:nvSpPr>
        <p:spPr>
          <a:xfrm>
            <a:off x="6047640" y="589752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Gulim"/>
              </a:rPr>
              <a:t>`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5" name="Text Box 286"/>
          <p:cNvSpPr/>
          <p:nvPr/>
        </p:nvSpPr>
        <p:spPr>
          <a:xfrm>
            <a:off x="7101720" y="589752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Gulim"/>
              </a:rPr>
              <a:t>`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6" name="Text Box 287"/>
          <p:cNvSpPr/>
          <p:nvPr/>
        </p:nvSpPr>
        <p:spPr>
          <a:xfrm>
            <a:off x="8152560" y="589752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Gulim"/>
              </a:rPr>
              <a:t>`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7" name="Text Box 288"/>
          <p:cNvSpPr/>
          <p:nvPr/>
        </p:nvSpPr>
        <p:spPr>
          <a:xfrm>
            <a:off x="5420880" y="561672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Gulim"/>
              </a:rPr>
              <a:t>P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8" name="Rectangle 289"/>
          <p:cNvSpPr/>
          <p:nvPr/>
        </p:nvSpPr>
        <p:spPr>
          <a:xfrm>
            <a:off x="7075440" y="4994280"/>
            <a:ext cx="407880" cy="59544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9" name="Rectangle 290"/>
          <p:cNvSpPr/>
          <p:nvPr/>
        </p:nvSpPr>
        <p:spPr>
          <a:xfrm>
            <a:off x="7075440" y="5580000"/>
            <a:ext cx="407880" cy="277920"/>
          </a:xfrm>
          <a:prstGeom prst="rect">
            <a:avLst/>
          </a:prstGeom>
          <a:solidFill>
            <a:srgbClr val="99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5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0" name="Rectangle 291"/>
          <p:cNvSpPr/>
          <p:nvPr/>
        </p:nvSpPr>
        <p:spPr>
          <a:xfrm>
            <a:off x="8126280" y="4797360"/>
            <a:ext cx="408240" cy="7351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1" name="Rectangle 292"/>
          <p:cNvSpPr/>
          <p:nvPr/>
        </p:nvSpPr>
        <p:spPr>
          <a:xfrm>
            <a:off x="8126280" y="5537160"/>
            <a:ext cx="408240" cy="320760"/>
          </a:xfrm>
          <a:prstGeom prst="rect">
            <a:avLst/>
          </a:prstGeom>
          <a:solidFill>
            <a:srgbClr val="99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6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2" name="Text Box 293"/>
          <p:cNvSpPr/>
          <p:nvPr/>
        </p:nvSpPr>
        <p:spPr>
          <a:xfrm>
            <a:off x="5983200" y="43909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Gulim"/>
              </a:rPr>
              <a:t>42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3" name="Text Box 294"/>
          <p:cNvSpPr/>
          <p:nvPr/>
        </p:nvSpPr>
        <p:spPr>
          <a:xfrm>
            <a:off x="7037280" y="43909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Gulim"/>
              </a:rPr>
              <a:t>46.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4" name="Text Box 295"/>
          <p:cNvSpPr/>
          <p:nvPr/>
        </p:nvSpPr>
        <p:spPr>
          <a:xfrm>
            <a:off x="8095320" y="43909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Gulim"/>
              </a:rPr>
              <a:t>5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5" name="Rectangle 296"/>
          <p:cNvSpPr/>
          <p:nvPr/>
        </p:nvSpPr>
        <p:spPr>
          <a:xfrm>
            <a:off x="1878120" y="5192640"/>
            <a:ext cx="407880" cy="47304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6" name="Rectangle 297"/>
          <p:cNvSpPr/>
          <p:nvPr/>
        </p:nvSpPr>
        <p:spPr>
          <a:xfrm>
            <a:off x="1878120" y="5664240"/>
            <a:ext cx="407880" cy="198360"/>
          </a:xfrm>
          <a:prstGeom prst="rect">
            <a:avLst/>
          </a:prstGeom>
          <a:solidFill>
            <a:srgbClr val="99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7" name="Line 298"/>
          <p:cNvSpPr/>
          <p:nvPr/>
        </p:nvSpPr>
        <p:spPr>
          <a:xfrm>
            <a:off x="1255680" y="5856120"/>
            <a:ext cx="32925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8" name="Text Box 299"/>
          <p:cNvSpPr/>
          <p:nvPr/>
        </p:nvSpPr>
        <p:spPr>
          <a:xfrm>
            <a:off x="1904040" y="589752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Gulim"/>
              </a:rPr>
              <a:t>`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9" name="Text Box 300"/>
          <p:cNvSpPr/>
          <p:nvPr/>
        </p:nvSpPr>
        <p:spPr>
          <a:xfrm>
            <a:off x="2956680" y="589752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Gulim"/>
              </a:rPr>
              <a:t>`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0" name="Text Box 301"/>
          <p:cNvSpPr/>
          <p:nvPr/>
        </p:nvSpPr>
        <p:spPr>
          <a:xfrm>
            <a:off x="4007520" y="589752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Gulim"/>
              </a:rPr>
              <a:t>`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1" name="Text Box 302"/>
          <p:cNvSpPr/>
          <p:nvPr/>
        </p:nvSpPr>
        <p:spPr>
          <a:xfrm>
            <a:off x="1260360" y="5591160"/>
            <a:ext cx="18576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2" name="Text Box 303"/>
          <p:cNvSpPr/>
          <p:nvPr/>
        </p:nvSpPr>
        <p:spPr>
          <a:xfrm>
            <a:off x="1275480" y="5611680"/>
            <a:ext cx="63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ff"/>
                </a:solidFill>
                <a:latin typeface="Arial"/>
                <a:ea typeface="Gulim"/>
              </a:rPr>
              <a:t>D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3" name="Rectangle 304"/>
          <p:cNvSpPr/>
          <p:nvPr/>
        </p:nvSpPr>
        <p:spPr>
          <a:xfrm>
            <a:off x="2930400" y="5019840"/>
            <a:ext cx="408240" cy="57924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4" name="Rectangle 305"/>
          <p:cNvSpPr/>
          <p:nvPr/>
        </p:nvSpPr>
        <p:spPr>
          <a:xfrm>
            <a:off x="2930400" y="5602320"/>
            <a:ext cx="408240" cy="260280"/>
          </a:xfrm>
          <a:prstGeom prst="rect">
            <a:avLst/>
          </a:prstGeom>
          <a:solidFill>
            <a:srgbClr val="99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.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5" name="Rectangle 306"/>
          <p:cNvSpPr/>
          <p:nvPr/>
        </p:nvSpPr>
        <p:spPr>
          <a:xfrm>
            <a:off x="3981600" y="4890960"/>
            <a:ext cx="407880" cy="67968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6" name="Rectangle 307"/>
          <p:cNvSpPr/>
          <p:nvPr/>
        </p:nvSpPr>
        <p:spPr>
          <a:xfrm>
            <a:off x="3981600" y="5575320"/>
            <a:ext cx="407880" cy="287280"/>
          </a:xfrm>
          <a:prstGeom prst="rect">
            <a:avLst/>
          </a:prstGeom>
          <a:solidFill>
            <a:srgbClr val="99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.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7" name="Text Box 308"/>
          <p:cNvSpPr/>
          <p:nvPr/>
        </p:nvSpPr>
        <p:spPr>
          <a:xfrm>
            <a:off x="1842120" y="43909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Gulim"/>
              </a:rPr>
              <a:t>23.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8" name="Text Box 309"/>
          <p:cNvSpPr/>
          <p:nvPr/>
        </p:nvSpPr>
        <p:spPr>
          <a:xfrm>
            <a:off x="2894760" y="43909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Gulim"/>
              </a:rPr>
              <a:t>27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9" name="Text Box 310"/>
          <p:cNvSpPr/>
          <p:nvPr/>
        </p:nvSpPr>
        <p:spPr>
          <a:xfrm>
            <a:off x="3949560" y="4390920"/>
            <a:ext cx="47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  <a:ea typeface="Gulim"/>
              </a:rPr>
              <a:t>30.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0" name="Line 311"/>
          <p:cNvSpPr/>
          <p:nvPr/>
        </p:nvSpPr>
        <p:spPr>
          <a:xfrm flipV="1">
            <a:off x="2289240" y="2534760"/>
            <a:ext cx="652320" cy="358920"/>
          </a:xfrm>
          <a:prstGeom prst="line">
            <a:avLst/>
          </a:prstGeom>
          <a:ln w="64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1" name="Line 312"/>
          <p:cNvSpPr/>
          <p:nvPr/>
        </p:nvSpPr>
        <p:spPr>
          <a:xfrm flipV="1">
            <a:off x="2289240" y="2397240"/>
            <a:ext cx="652320" cy="301680"/>
          </a:xfrm>
          <a:prstGeom prst="line">
            <a:avLst/>
          </a:prstGeom>
          <a:ln w="64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2" name="Line 313"/>
          <p:cNvSpPr/>
          <p:nvPr/>
        </p:nvSpPr>
        <p:spPr>
          <a:xfrm flipV="1">
            <a:off x="3346560" y="2014200"/>
            <a:ext cx="650880" cy="374760"/>
          </a:xfrm>
          <a:prstGeom prst="line">
            <a:avLst/>
          </a:prstGeom>
          <a:ln w="64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3" name="Line 314"/>
          <p:cNvSpPr/>
          <p:nvPr/>
        </p:nvSpPr>
        <p:spPr>
          <a:xfrm flipV="1">
            <a:off x="3346560" y="2193840"/>
            <a:ext cx="650880" cy="341280"/>
          </a:xfrm>
          <a:prstGeom prst="line">
            <a:avLst/>
          </a:prstGeom>
          <a:ln w="64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4" name="Line 315"/>
          <p:cNvSpPr/>
          <p:nvPr/>
        </p:nvSpPr>
        <p:spPr>
          <a:xfrm flipV="1">
            <a:off x="6451560" y="3003120"/>
            <a:ext cx="612720" cy="34920"/>
          </a:xfrm>
          <a:prstGeom prst="line">
            <a:avLst/>
          </a:prstGeom>
          <a:ln w="64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5" name="Line 316"/>
          <p:cNvSpPr/>
          <p:nvPr/>
        </p:nvSpPr>
        <p:spPr>
          <a:xfrm flipV="1">
            <a:off x="7481880" y="2957400"/>
            <a:ext cx="633600" cy="38160"/>
          </a:xfrm>
          <a:prstGeom prst="line">
            <a:avLst/>
          </a:prstGeom>
          <a:ln w="64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6" name="Line 317"/>
          <p:cNvSpPr/>
          <p:nvPr/>
        </p:nvSpPr>
        <p:spPr>
          <a:xfrm flipV="1">
            <a:off x="6434280" y="2233080"/>
            <a:ext cx="650880" cy="155880"/>
          </a:xfrm>
          <a:prstGeom prst="line">
            <a:avLst/>
          </a:prstGeom>
          <a:ln w="64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7" name="Line 318"/>
          <p:cNvSpPr/>
          <p:nvPr/>
        </p:nvSpPr>
        <p:spPr>
          <a:xfrm flipV="1">
            <a:off x="7491240" y="2006640"/>
            <a:ext cx="635040" cy="210960"/>
          </a:xfrm>
          <a:prstGeom prst="line">
            <a:avLst/>
          </a:prstGeom>
          <a:ln w="64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8" name="Line 319"/>
          <p:cNvSpPr/>
          <p:nvPr/>
        </p:nvSpPr>
        <p:spPr>
          <a:xfrm flipV="1">
            <a:off x="2297160" y="5600520"/>
            <a:ext cx="631800" cy="52200"/>
          </a:xfrm>
          <a:prstGeom prst="line">
            <a:avLst/>
          </a:prstGeom>
          <a:ln w="64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9" name="Line 320"/>
          <p:cNvSpPr/>
          <p:nvPr/>
        </p:nvSpPr>
        <p:spPr>
          <a:xfrm flipV="1">
            <a:off x="3354480" y="5572080"/>
            <a:ext cx="625320" cy="22320"/>
          </a:xfrm>
          <a:prstGeom prst="line">
            <a:avLst/>
          </a:prstGeom>
          <a:ln w="64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0" name="Line 321"/>
          <p:cNvSpPr/>
          <p:nvPr/>
        </p:nvSpPr>
        <p:spPr>
          <a:xfrm flipV="1">
            <a:off x="3321000" y="4896000"/>
            <a:ext cx="668520" cy="123840"/>
          </a:xfrm>
          <a:prstGeom prst="line">
            <a:avLst/>
          </a:prstGeom>
          <a:ln w="64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1" name="Line 322"/>
          <p:cNvSpPr/>
          <p:nvPr/>
        </p:nvSpPr>
        <p:spPr>
          <a:xfrm flipV="1">
            <a:off x="2301840" y="5019480"/>
            <a:ext cx="649440" cy="174600"/>
          </a:xfrm>
          <a:prstGeom prst="line">
            <a:avLst/>
          </a:prstGeom>
          <a:ln w="64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2" name="Line 323"/>
          <p:cNvSpPr/>
          <p:nvPr/>
        </p:nvSpPr>
        <p:spPr>
          <a:xfrm flipV="1">
            <a:off x="6434280" y="5576400"/>
            <a:ext cx="634680" cy="33480"/>
          </a:xfrm>
          <a:prstGeom prst="line">
            <a:avLst/>
          </a:prstGeom>
          <a:ln w="64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3" name="Line 324"/>
          <p:cNvSpPr/>
          <p:nvPr/>
        </p:nvSpPr>
        <p:spPr>
          <a:xfrm flipV="1">
            <a:off x="7481880" y="5530680"/>
            <a:ext cx="662040" cy="51120"/>
          </a:xfrm>
          <a:prstGeom prst="line">
            <a:avLst/>
          </a:prstGeom>
          <a:ln w="64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4" name="Line 325"/>
          <p:cNvSpPr/>
          <p:nvPr/>
        </p:nvSpPr>
        <p:spPr>
          <a:xfrm flipV="1">
            <a:off x="6424560" y="4978080"/>
            <a:ext cx="671400" cy="150840"/>
          </a:xfrm>
          <a:prstGeom prst="line">
            <a:avLst/>
          </a:prstGeom>
          <a:ln w="64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5" name="Line 326"/>
          <p:cNvSpPr/>
          <p:nvPr/>
        </p:nvSpPr>
        <p:spPr>
          <a:xfrm flipV="1">
            <a:off x="7481880" y="4830840"/>
            <a:ext cx="619200" cy="154080"/>
          </a:xfrm>
          <a:prstGeom prst="line">
            <a:avLst/>
          </a:prstGeom>
          <a:ln w="648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6" name="Text Box 327"/>
          <p:cNvSpPr/>
          <p:nvPr/>
        </p:nvSpPr>
        <p:spPr>
          <a:xfrm>
            <a:off x="2282400" y="294012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  <a:ea typeface="Gulim"/>
              </a:rPr>
              <a:t>85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7" name="Text Box 328"/>
          <p:cNvSpPr/>
          <p:nvPr/>
        </p:nvSpPr>
        <p:spPr>
          <a:xfrm>
            <a:off x="3347640" y="275904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  <a:ea typeface="Gulim"/>
              </a:rPr>
              <a:t>94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8" name="Text Box 329"/>
          <p:cNvSpPr/>
          <p:nvPr/>
        </p:nvSpPr>
        <p:spPr>
          <a:xfrm>
            <a:off x="6441840" y="3006720"/>
            <a:ext cx="36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  <a:ea typeface="Gulim"/>
              </a:rPr>
              <a:t>7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9" name="Text Box 330"/>
          <p:cNvSpPr/>
          <p:nvPr/>
        </p:nvSpPr>
        <p:spPr>
          <a:xfrm>
            <a:off x="4387680" y="258768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  <a:ea typeface="Gulim"/>
              </a:rPr>
              <a:t>95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0" name="Text Box 331"/>
          <p:cNvSpPr/>
          <p:nvPr/>
        </p:nvSpPr>
        <p:spPr>
          <a:xfrm>
            <a:off x="7489800" y="2987640"/>
            <a:ext cx="36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  <a:ea typeface="Gulim"/>
              </a:rPr>
              <a:t>8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1" name="Text Box 332"/>
          <p:cNvSpPr/>
          <p:nvPr/>
        </p:nvSpPr>
        <p:spPr>
          <a:xfrm>
            <a:off x="8546760" y="294948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  <a:ea typeface="Gulim"/>
              </a:rPr>
              <a:t>1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2" name="Text Box 333"/>
          <p:cNvSpPr/>
          <p:nvPr/>
        </p:nvSpPr>
        <p:spPr>
          <a:xfrm>
            <a:off x="2282400" y="563580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  <a:ea typeface="Gulim"/>
              </a:rPr>
              <a:t>27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3" name="Text Box 334"/>
          <p:cNvSpPr/>
          <p:nvPr/>
        </p:nvSpPr>
        <p:spPr>
          <a:xfrm>
            <a:off x="3357360" y="561672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  <a:ea typeface="Gulim"/>
              </a:rPr>
              <a:t>29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4" name="Text Box 335"/>
          <p:cNvSpPr/>
          <p:nvPr/>
        </p:nvSpPr>
        <p:spPr>
          <a:xfrm>
            <a:off x="4377960" y="560700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  <a:ea typeface="Gulim"/>
              </a:rPr>
              <a:t>29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5" name="Text Box 336"/>
          <p:cNvSpPr/>
          <p:nvPr/>
        </p:nvSpPr>
        <p:spPr>
          <a:xfrm>
            <a:off x="6435360" y="562608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  <a:ea typeface="Gulim"/>
              </a:rPr>
              <a:t>36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6" name="Text Box 337"/>
          <p:cNvSpPr/>
          <p:nvPr/>
        </p:nvSpPr>
        <p:spPr>
          <a:xfrm>
            <a:off x="7483320" y="560700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  <a:ea typeface="Gulim"/>
              </a:rPr>
              <a:t>34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7" name="Text Box 338"/>
          <p:cNvSpPr/>
          <p:nvPr/>
        </p:nvSpPr>
        <p:spPr>
          <a:xfrm>
            <a:off x="8550000" y="558792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Arial"/>
                <a:ea typeface="Gulim"/>
              </a:rPr>
              <a:t>32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8" name="Text Box 341"/>
          <p:cNvSpPr/>
          <p:nvPr/>
        </p:nvSpPr>
        <p:spPr>
          <a:xfrm>
            <a:off x="957240" y="4390920"/>
            <a:ext cx="66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  <a:ea typeface="Gulim"/>
              </a:rPr>
              <a:t>TTL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9" name="Text Box 343"/>
          <p:cNvSpPr/>
          <p:nvPr/>
        </p:nvSpPr>
        <p:spPr>
          <a:xfrm>
            <a:off x="5157720" y="4390920"/>
            <a:ext cx="66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 u="sng">
                <a:solidFill>
                  <a:srgbClr val="000000"/>
                </a:solidFill>
                <a:uFillTx/>
                <a:latin typeface="Arial"/>
                <a:ea typeface="Gulim"/>
              </a:rPr>
              <a:t>TTL(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0" name="Oval 357"/>
          <p:cNvSpPr/>
          <p:nvPr/>
        </p:nvSpPr>
        <p:spPr>
          <a:xfrm>
            <a:off x="2413080" y="2617920"/>
            <a:ext cx="406440" cy="231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98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1" name="Oval 358"/>
          <p:cNvSpPr/>
          <p:nvPr/>
        </p:nvSpPr>
        <p:spPr>
          <a:xfrm>
            <a:off x="3498840" y="2293920"/>
            <a:ext cx="406440" cy="231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51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2" name="Oval 359"/>
          <p:cNvSpPr/>
          <p:nvPr/>
        </p:nvSpPr>
        <p:spPr>
          <a:xfrm>
            <a:off x="6575400" y="2817720"/>
            <a:ext cx="406440" cy="231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45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3" name="Oval 360"/>
          <p:cNvSpPr/>
          <p:nvPr/>
        </p:nvSpPr>
        <p:spPr>
          <a:xfrm>
            <a:off x="7605720" y="2798640"/>
            <a:ext cx="404640" cy="231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41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4" name="Oval 361"/>
          <p:cNvSpPr/>
          <p:nvPr/>
        </p:nvSpPr>
        <p:spPr>
          <a:xfrm>
            <a:off x="2405160" y="5465880"/>
            <a:ext cx="404640" cy="231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26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5" name="Oval 362"/>
          <p:cNvSpPr/>
          <p:nvPr/>
        </p:nvSpPr>
        <p:spPr>
          <a:xfrm>
            <a:off x="3451320" y="5437080"/>
            <a:ext cx="406440" cy="231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14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6" name="Oval 363"/>
          <p:cNvSpPr/>
          <p:nvPr/>
        </p:nvSpPr>
        <p:spPr>
          <a:xfrm>
            <a:off x="6575400" y="5427720"/>
            <a:ext cx="406440" cy="231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2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7" name="Oval 364"/>
          <p:cNvSpPr/>
          <p:nvPr/>
        </p:nvSpPr>
        <p:spPr>
          <a:xfrm>
            <a:off x="7623000" y="5418000"/>
            <a:ext cx="406440" cy="231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+5%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8" name="Rectangle 4" descr=""/>
          <p:cNvPicPr/>
          <p:nvPr/>
        </p:nvPicPr>
        <p:blipFill>
          <a:blip r:embed="rId5"/>
          <a:stretch/>
        </p:blipFill>
        <p:spPr>
          <a:xfrm>
            <a:off x="109440" y="109440"/>
            <a:ext cx="951120" cy="567000"/>
          </a:xfrm>
          <a:prstGeom prst="rect">
            <a:avLst/>
          </a:prstGeom>
          <a:ln w="0">
            <a:noFill/>
          </a:ln>
        </p:spPr>
      </p:pic>
      <p:sp>
        <p:nvSpPr>
          <p:cNvPr id="3219" name="直接连接符 112"/>
          <p:cNvSpPr/>
          <p:nvPr/>
        </p:nvSpPr>
        <p:spPr>
          <a:xfrm>
            <a:off x="965160" y="237960"/>
            <a:ext cx="0" cy="214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0" name="标题 2"/>
          <p:cNvSpPr/>
          <p:nvPr/>
        </p:nvSpPr>
        <p:spPr>
          <a:xfrm>
            <a:off x="950760" y="190440"/>
            <a:ext cx="1555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经营分析报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1" name="矩形 114" descr=""/>
          <p:cNvPicPr/>
          <p:nvPr/>
        </p:nvPicPr>
        <p:blipFill>
          <a:blip r:embed="rId6"/>
          <a:stretch/>
        </p:blipFill>
        <p:spPr>
          <a:xfrm>
            <a:off x="6566040" y="115920"/>
            <a:ext cx="3352680" cy="1133280"/>
          </a:xfrm>
          <a:prstGeom prst="rect">
            <a:avLst/>
          </a:prstGeom>
          <a:ln w="0">
            <a:noFill/>
          </a:ln>
        </p:spPr>
      </p:pic>
      <p:sp>
        <p:nvSpPr>
          <p:cNvPr id="3222" name="Rectangle 265"/>
          <p:cNvSpPr/>
          <p:nvPr/>
        </p:nvSpPr>
        <p:spPr>
          <a:xfrm>
            <a:off x="6741000" y="136440"/>
            <a:ext cx="30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바탕"/>
              </a:rPr>
              <a:t> Ⅱ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바탕"/>
              </a:rPr>
              <a:t>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바탕"/>
              </a:rPr>
              <a:t>Market understan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3" name="Rectangle 125"/>
          <p:cNvSpPr/>
          <p:nvPr/>
        </p:nvSpPr>
        <p:spPr>
          <a:xfrm>
            <a:off x="7126920" y="398520"/>
            <a:ext cx="15112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bfbfbf"/>
                </a:solidFill>
                <a:latin typeface="Arial"/>
              </a:rPr>
              <a:t>Market deman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4" name=""/>
          <p:cNvGrpSpPr/>
          <p:nvPr/>
        </p:nvGrpSpPr>
        <p:grpSpPr>
          <a:xfrm>
            <a:off x="0" y="6443640"/>
            <a:ext cx="9918720" cy="237960"/>
            <a:chOff x="0" y="6443640"/>
            <a:chExt cx="9918720" cy="237960"/>
          </a:xfrm>
        </p:grpSpPr>
        <p:pic>
          <p:nvPicPr>
            <p:cNvPr id="3225" name="矩形 116" descr=""/>
            <p:cNvPicPr/>
            <p:nvPr/>
          </p:nvPicPr>
          <p:blipFill>
            <a:blip r:embed="rId7"/>
            <a:stretch/>
          </p:blipFill>
          <p:spPr>
            <a:xfrm>
              <a:off x="0" y="6443640"/>
              <a:ext cx="991728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26" name=""/>
            <p:cNvSpPr/>
            <p:nvPr/>
          </p:nvSpPr>
          <p:spPr>
            <a:xfrm>
              <a:off x="0" y="6445080"/>
              <a:ext cx="991872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7" name="灯片编号占位符 5"/>
          <p:cNvSpPr/>
          <p:nvPr/>
        </p:nvSpPr>
        <p:spPr>
          <a:xfrm>
            <a:off x="7397640" y="6399360"/>
            <a:ext cx="1486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ge   </a:t>
            </a:r>
            <a:fld id="{CE988C04-C6BA-40C2-A1F3-3528932D6B55}" type="slidenum">
              <a:rPr b="0" lang="zh-CN" sz="1000" spc="-1" strike="noStrike">
                <a:solidFill>
                  <a:srgbClr val="ffffff"/>
                </a:solidFill>
                <a:latin typeface="华文宋体"/>
                <a:ea typeface="华文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8" name="Line 117"/>
          <p:cNvSpPr/>
          <p:nvPr/>
        </p:nvSpPr>
        <p:spPr>
          <a:xfrm>
            <a:off x="857160" y="3419640"/>
            <a:ext cx="8112240" cy="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9" name="Line 118"/>
          <p:cNvSpPr/>
          <p:nvPr/>
        </p:nvSpPr>
        <p:spPr>
          <a:xfrm>
            <a:off x="4981680" y="1068480"/>
            <a:ext cx="0" cy="473868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0" name="AutoShape 119"/>
          <p:cNvSpPr/>
          <p:nvPr/>
        </p:nvSpPr>
        <p:spPr>
          <a:xfrm>
            <a:off x="792000" y="973800"/>
            <a:ext cx="725760" cy="366480"/>
          </a:xfrm>
          <a:prstGeom prst="roundRect">
            <a:avLst>
              <a:gd name="adj" fmla="val 50000"/>
            </a:avLst>
          </a:prstGeom>
          <a:solidFill>
            <a:srgbClr val="ffc000"/>
          </a:solidFill>
          <a:ln w="38160">
            <a:solidFill>
              <a:srgbClr val="0070c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HY헤드라인M"/>
              </a:rPr>
              <a:t>LC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1" name="AutoShape 120"/>
          <p:cNvSpPr/>
          <p:nvPr/>
        </p:nvSpPr>
        <p:spPr>
          <a:xfrm>
            <a:off x="5133960" y="973800"/>
            <a:ext cx="723960" cy="366480"/>
          </a:xfrm>
          <a:prstGeom prst="roundRect">
            <a:avLst>
              <a:gd name="adj" fmla="val 50000"/>
            </a:avLst>
          </a:prstGeom>
          <a:solidFill>
            <a:srgbClr val="ffc000"/>
          </a:solidFill>
          <a:ln w="38160">
            <a:solidFill>
              <a:srgbClr val="0070c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HY헤드라인M"/>
              </a:rPr>
              <a:t>Sx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2" name="AutoShape 121"/>
          <p:cNvSpPr/>
          <p:nvPr/>
        </p:nvSpPr>
        <p:spPr>
          <a:xfrm>
            <a:off x="795240" y="3574080"/>
            <a:ext cx="719280" cy="366480"/>
          </a:xfrm>
          <a:prstGeom prst="roundRect">
            <a:avLst>
              <a:gd name="adj" fmla="val 50000"/>
            </a:avLst>
          </a:prstGeom>
          <a:solidFill>
            <a:srgbClr val="ffc000"/>
          </a:solidFill>
          <a:ln w="38160">
            <a:solidFill>
              <a:srgbClr val="0070c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HY헤드라인M"/>
              </a:rPr>
              <a:t>DRU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3" name="AutoShape 122"/>
          <p:cNvSpPr/>
          <p:nvPr/>
        </p:nvSpPr>
        <p:spPr>
          <a:xfrm>
            <a:off x="5133960" y="3574080"/>
            <a:ext cx="722160" cy="366480"/>
          </a:xfrm>
          <a:prstGeom prst="roundRect">
            <a:avLst>
              <a:gd name="adj" fmla="val 50000"/>
            </a:avLst>
          </a:prstGeom>
          <a:solidFill>
            <a:srgbClr val="ffc000"/>
          </a:solidFill>
          <a:ln w="38160">
            <a:solidFill>
              <a:srgbClr val="0070c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HY헤드라인M"/>
              </a:rPr>
              <a:t>PA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4" name="Object 123" descr=""/>
          <p:cNvPicPr/>
          <p:nvPr/>
        </p:nvPicPr>
        <p:blipFill>
          <a:blip r:embed="rId1"/>
          <a:stretch/>
        </p:blipFill>
        <p:spPr>
          <a:xfrm>
            <a:off x="1076400" y="1517760"/>
            <a:ext cx="3774960" cy="1822320"/>
          </a:xfrm>
          <a:prstGeom prst="rect">
            <a:avLst/>
          </a:prstGeom>
          <a:ln w="0">
            <a:noFill/>
          </a:ln>
        </p:spPr>
      </p:pic>
      <p:sp>
        <p:nvSpPr>
          <p:cNvPr id="3235" name="Text Box 124"/>
          <p:cNvSpPr/>
          <p:nvPr/>
        </p:nvSpPr>
        <p:spPr>
          <a:xfrm>
            <a:off x="1463400" y="1417680"/>
            <a:ext cx="32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Gulim"/>
              </a:rPr>
              <a:t>L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6" name="Text Box 125"/>
          <p:cNvSpPr/>
          <p:nvPr/>
        </p:nvSpPr>
        <p:spPr>
          <a:xfrm>
            <a:off x="1726920" y="1417680"/>
            <a:ext cx="317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Gulim"/>
              </a:rPr>
              <a:t>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7" name="Text Box 126"/>
          <p:cNvSpPr/>
          <p:nvPr/>
        </p:nvSpPr>
        <p:spPr>
          <a:xfrm>
            <a:off x="1982520" y="1417680"/>
            <a:ext cx="43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Gulim"/>
              </a:rPr>
              <a:t>Son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8" name="Text Box 127"/>
          <p:cNvSpPr/>
          <p:nvPr/>
        </p:nvSpPr>
        <p:spPr>
          <a:xfrm>
            <a:off x="2302560" y="1417680"/>
            <a:ext cx="470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Gulim"/>
              </a:rPr>
              <a:t>Shar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9" name="Text Box 128"/>
          <p:cNvSpPr/>
          <p:nvPr/>
        </p:nvSpPr>
        <p:spPr>
          <a:xfrm>
            <a:off x="2699640" y="1417680"/>
            <a:ext cx="517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Gulim"/>
              </a:rPr>
              <a:t>Philip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0" name="Object 130" descr=""/>
          <p:cNvPicPr/>
          <p:nvPr/>
        </p:nvPicPr>
        <p:blipFill>
          <a:blip r:embed="rId2"/>
          <a:stretch/>
        </p:blipFill>
        <p:spPr>
          <a:xfrm>
            <a:off x="5380200" y="1517760"/>
            <a:ext cx="3776400" cy="1822320"/>
          </a:xfrm>
          <a:prstGeom prst="rect">
            <a:avLst/>
          </a:prstGeom>
          <a:ln w="0">
            <a:noFill/>
          </a:ln>
        </p:spPr>
      </p:pic>
      <p:pic>
        <p:nvPicPr>
          <p:cNvPr id="3241" name="Object 131" descr=""/>
          <p:cNvPicPr/>
          <p:nvPr/>
        </p:nvPicPr>
        <p:blipFill>
          <a:blip r:embed="rId3"/>
          <a:stretch/>
        </p:blipFill>
        <p:spPr>
          <a:xfrm>
            <a:off x="5380200" y="4122720"/>
            <a:ext cx="3776400" cy="1824120"/>
          </a:xfrm>
          <a:prstGeom prst="rect">
            <a:avLst/>
          </a:prstGeom>
          <a:ln w="0">
            <a:noFill/>
          </a:ln>
        </p:spPr>
      </p:pic>
      <p:pic>
        <p:nvPicPr>
          <p:cNvPr id="3242" name="Object 132" descr=""/>
          <p:cNvPicPr/>
          <p:nvPr/>
        </p:nvPicPr>
        <p:blipFill>
          <a:blip r:embed="rId4"/>
          <a:stretch/>
        </p:blipFill>
        <p:spPr>
          <a:xfrm>
            <a:off x="1076400" y="4122720"/>
            <a:ext cx="3774960" cy="1824120"/>
          </a:xfrm>
          <a:prstGeom prst="rect">
            <a:avLst/>
          </a:prstGeom>
          <a:ln w="0">
            <a:noFill/>
          </a:ln>
        </p:spPr>
      </p:pic>
      <p:sp>
        <p:nvSpPr>
          <p:cNvPr id="3243" name="Text Box 133"/>
          <p:cNvSpPr/>
          <p:nvPr/>
        </p:nvSpPr>
        <p:spPr>
          <a:xfrm>
            <a:off x="6194160" y="1417680"/>
            <a:ext cx="32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Gulim"/>
              </a:rPr>
              <a:t>L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4" name="Text Box 134"/>
          <p:cNvSpPr/>
          <p:nvPr/>
        </p:nvSpPr>
        <p:spPr>
          <a:xfrm>
            <a:off x="7338960" y="1417680"/>
            <a:ext cx="317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Gulim"/>
              </a:rPr>
              <a:t>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5" name="Text Box 135"/>
          <p:cNvSpPr/>
          <p:nvPr/>
        </p:nvSpPr>
        <p:spPr>
          <a:xfrm>
            <a:off x="7910640" y="1417680"/>
            <a:ext cx="60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Gulim"/>
              </a:rPr>
              <a:t>Sieme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6" name="Text Box 136"/>
          <p:cNvSpPr/>
          <p:nvPr/>
        </p:nvSpPr>
        <p:spPr>
          <a:xfrm>
            <a:off x="8399880" y="1417680"/>
            <a:ext cx="43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Gulim"/>
              </a:rPr>
              <a:t>Hai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7" name="Text Box 138"/>
          <p:cNvSpPr/>
          <p:nvPr/>
        </p:nvSpPr>
        <p:spPr>
          <a:xfrm>
            <a:off x="1539720" y="4005360"/>
            <a:ext cx="32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Gulim"/>
              </a:rPr>
              <a:t>L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8" name="Text Box 139"/>
          <p:cNvSpPr/>
          <p:nvPr/>
        </p:nvSpPr>
        <p:spPr>
          <a:xfrm>
            <a:off x="1849320" y="4005360"/>
            <a:ext cx="317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Gulim"/>
              </a:rPr>
              <a:t>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9" name="Text Box 140"/>
          <p:cNvSpPr/>
          <p:nvPr/>
        </p:nvSpPr>
        <p:spPr>
          <a:xfrm>
            <a:off x="2478240" y="4005360"/>
            <a:ext cx="6012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Gulim"/>
              </a:rPr>
              <a:t>Sieme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0" name="Text Box 141"/>
          <p:cNvSpPr/>
          <p:nvPr/>
        </p:nvSpPr>
        <p:spPr>
          <a:xfrm>
            <a:off x="3702600" y="4005360"/>
            <a:ext cx="43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Gulim"/>
              </a:rPr>
              <a:t>Hai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1" name="Text Box 142"/>
          <p:cNvSpPr/>
          <p:nvPr/>
        </p:nvSpPr>
        <p:spPr>
          <a:xfrm>
            <a:off x="3858120" y="5786280"/>
            <a:ext cx="42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Gulim"/>
              </a:rPr>
              <a:t>Pa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2" name="Text Box 144"/>
          <p:cNvSpPr/>
          <p:nvPr/>
        </p:nvSpPr>
        <p:spPr>
          <a:xfrm>
            <a:off x="5811840" y="4005360"/>
            <a:ext cx="32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Gulim"/>
              </a:rPr>
              <a:t>L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3" name="Text Box 145"/>
          <p:cNvSpPr/>
          <p:nvPr/>
        </p:nvSpPr>
        <p:spPr>
          <a:xfrm>
            <a:off x="6179760" y="4005360"/>
            <a:ext cx="317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Gulim"/>
              </a:rPr>
              <a:t>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4" name="Text Box 146"/>
          <p:cNvSpPr/>
          <p:nvPr/>
        </p:nvSpPr>
        <p:spPr>
          <a:xfrm>
            <a:off x="6991920" y="4005360"/>
            <a:ext cx="43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Gulim"/>
              </a:rPr>
              <a:t>Hai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5" name="Text Box 147"/>
          <p:cNvSpPr/>
          <p:nvPr/>
        </p:nvSpPr>
        <p:spPr>
          <a:xfrm>
            <a:off x="7795080" y="4005360"/>
            <a:ext cx="4244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Gulim"/>
              </a:rPr>
              <a:t>Pa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6" name="Text Box 148"/>
          <p:cNvSpPr/>
          <p:nvPr/>
        </p:nvSpPr>
        <p:spPr>
          <a:xfrm>
            <a:off x="8116200" y="4005360"/>
            <a:ext cx="44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Gulim"/>
              </a:rPr>
              <a:t>Mits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7" name="Text Box 150"/>
          <p:cNvSpPr/>
          <p:nvPr/>
        </p:nvSpPr>
        <p:spPr>
          <a:xfrm>
            <a:off x="6054840" y="958680"/>
            <a:ext cx="32842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emens became major brand in Sx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8" name="Text Box 151"/>
          <p:cNvSpPr/>
          <p:nvPr/>
        </p:nvSpPr>
        <p:spPr>
          <a:xfrm>
            <a:off x="4157640" y="5796000"/>
            <a:ext cx="547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  <a:ea typeface="Gulim"/>
              </a:rPr>
              <a:t>BOS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9" name="Text Box 152"/>
          <p:cNvSpPr/>
          <p:nvPr/>
        </p:nvSpPr>
        <p:spPr>
          <a:xfrm>
            <a:off x="1700280" y="3583080"/>
            <a:ext cx="28004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osch and Panasonic is emerg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0" name="Text Box 153"/>
          <p:cNvSpPr/>
          <p:nvPr/>
        </p:nvSpPr>
        <p:spPr>
          <a:xfrm>
            <a:off x="6054840" y="3583080"/>
            <a:ext cx="3243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tsubishi is the only growing b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1" name="Text Box 154"/>
          <p:cNvSpPr/>
          <p:nvPr/>
        </p:nvSpPr>
        <p:spPr>
          <a:xfrm>
            <a:off x="1700280" y="958680"/>
            <a:ext cx="28004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 MNC brands are growing fa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2" name="Text Box 155"/>
          <p:cNvSpPr/>
          <p:nvPr/>
        </p:nvSpPr>
        <p:spPr>
          <a:xfrm>
            <a:off x="469800" y="6175440"/>
            <a:ext cx="30355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6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* Based on GFK (Amount)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3" name="Text Box 158"/>
          <p:cNvSpPr/>
          <p:nvPr/>
        </p:nvSpPr>
        <p:spPr>
          <a:xfrm>
            <a:off x="3932280" y="1290600"/>
            <a:ext cx="95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70c0"/>
                </a:solidFill>
                <a:latin typeface="Arial"/>
              </a:rPr>
              <a:t>LG : 9</a:t>
            </a:r>
            <a:r>
              <a:rPr b="1" lang="en-US" sz="1000" spc="-1" strike="noStrike" baseline="30000">
                <a:solidFill>
                  <a:srgbClr val="0070c0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0070c0"/>
                </a:solidFill>
                <a:latin typeface="Arial"/>
              </a:rPr>
              <a:t> Ra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4" name="Text Box 159"/>
          <p:cNvSpPr/>
          <p:nvPr/>
        </p:nvSpPr>
        <p:spPr>
          <a:xfrm>
            <a:off x="3932640" y="3830760"/>
            <a:ext cx="95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LG : 3</a:t>
            </a:r>
            <a:r>
              <a:rPr b="1" lang="en-US" sz="1000" spc="-1" strike="noStrike" baseline="30000">
                <a:solidFill>
                  <a:srgbClr val="333399"/>
                </a:solidFill>
                <a:latin typeface="Arial"/>
              </a:rPr>
              <a:t>rd</a:t>
            </a: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 Ra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5" name="Text Box 160"/>
          <p:cNvSpPr/>
          <p:nvPr/>
        </p:nvSpPr>
        <p:spPr>
          <a:xfrm>
            <a:off x="8277120" y="3830760"/>
            <a:ext cx="95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LG : 5</a:t>
            </a:r>
            <a:r>
              <a:rPr b="1" lang="en-US" sz="1000" spc="-1" strike="noStrike" baseline="30000">
                <a:solidFill>
                  <a:srgbClr val="333399"/>
                </a:solidFill>
                <a:latin typeface="Arial"/>
              </a:rPr>
              <a:t>th</a:t>
            </a: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 Ra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6" name="Text Box 161"/>
          <p:cNvSpPr/>
          <p:nvPr/>
        </p:nvSpPr>
        <p:spPr>
          <a:xfrm>
            <a:off x="8279280" y="1227240"/>
            <a:ext cx="97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70c0"/>
                </a:solidFill>
                <a:latin typeface="Arial"/>
              </a:rPr>
              <a:t>LG : 2</a:t>
            </a:r>
            <a:r>
              <a:rPr b="1" lang="en-US" sz="1000" spc="-1" strike="noStrike" baseline="30000">
                <a:solidFill>
                  <a:srgbClr val="0070c0"/>
                </a:solidFill>
                <a:latin typeface="Arial"/>
              </a:rPr>
              <a:t>nd</a:t>
            </a:r>
            <a:r>
              <a:rPr b="1" lang="en-US" sz="1000" spc="-1" strike="noStrike">
                <a:solidFill>
                  <a:srgbClr val="0070c0"/>
                </a:solidFill>
                <a:latin typeface="Arial"/>
              </a:rPr>
              <a:t> Ra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7" name="矩形 43" descr=""/>
          <p:cNvPicPr/>
          <p:nvPr/>
        </p:nvPicPr>
        <p:blipFill>
          <a:blip r:embed="rId5"/>
          <a:stretch/>
        </p:blipFill>
        <p:spPr>
          <a:xfrm>
            <a:off x="6566040" y="115920"/>
            <a:ext cx="3352680" cy="1133280"/>
          </a:xfrm>
          <a:prstGeom prst="rect">
            <a:avLst/>
          </a:prstGeom>
          <a:ln w="0">
            <a:noFill/>
          </a:ln>
        </p:spPr>
      </p:pic>
      <p:sp>
        <p:nvSpPr>
          <p:cNvPr id="3268" name="Rectangle 265"/>
          <p:cNvSpPr/>
          <p:nvPr/>
        </p:nvSpPr>
        <p:spPr>
          <a:xfrm>
            <a:off x="6741000" y="136440"/>
            <a:ext cx="30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바탕"/>
              </a:rPr>
              <a:t> Ⅱ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바탕"/>
              </a:rPr>
              <a:t>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바탕"/>
              </a:rPr>
              <a:t>Market understan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9" name="Rectangle 116"/>
          <p:cNvSpPr/>
          <p:nvPr/>
        </p:nvSpPr>
        <p:spPr>
          <a:xfrm>
            <a:off x="7133760" y="387360"/>
            <a:ext cx="17154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bfbfbf"/>
                </a:solidFill>
                <a:latin typeface="Arial"/>
              </a:rPr>
              <a:t>Brand share tren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0" name="Rectangle 4" descr=""/>
          <p:cNvPicPr/>
          <p:nvPr/>
        </p:nvPicPr>
        <p:blipFill>
          <a:blip r:embed="rId6"/>
          <a:stretch/>
        </p:blipFill>
        <p:spPr>
          <a:xfrm>
            <a:off x="109440" y="109440"/>
            <a:ext cx="951120" cy="567000"/>
          </a:xfrm>
          <a:prstGeom prst="rect">
            <a:avLst/>
          </a:prstGeom>
          <a:ln w="0">
            <a:noFill/>
          </a:ln>
        </p:spPr>
      </p:pic>
      <p:sp>
        <p:nvSpPr>
          <p:cNvPr id="3271" name="直接连接符 46"/>
          <p:cNvSpPr/>
          <p:nvPr/>
        </p:nvSpPr>
        <p:spPr>
          <a:xfrm>
            <a:off x="965160" y="237960"/>
            <a:ext cx="0" cy="214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2" name="标题 2"/>
          <p:cNvSpPr/>
          <p:nvPr/>
        </p:nvSpPr>
        <p:spPr>
          <a:xfrm>
            <a:off x="950760" y="190440"/>
            <a:ext cx="1555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经营分析报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3" name=""/>
          <p:cNvGrpSpPr/>
          <p:nvPr/>
        </p:nvGrpSpPr>
        <p:grpSpPr>
          <a:xfrm>
            <a:off x="0" y="6443640"/>
            <a:ext cx="9918720" cy="237960"/>
            <a:chOff x="0" y="6443640"/>
            <a:chExt cx="9918720" cy="237960"/>
          </a:xfrm>
        </p:grpSpPr>
        <p:pic>
          <p:nvPicPr>
            <p:cNvPr id="3274" name="矩形 48" descr=""/>
            <p:cNvPicPr/>
            <p:nvPr/>
          </p:nvPicPr>
          <p:blipFill>
            <a:blip r:embed="rId7"/>
            <a:stretch/>
          </p:blipFill>
          <p:spPr>
            <a:xfrm>
              <a:off x="0" y="6443640"/>
              <a:ext cx="991728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5" name=""/>
            <p:cNvSpPr/>
            <p:nvPr/>
          </p:nvSpPr>
          <p:spPr>
            <a:xfrm>
              <a:off x="0" y="6445080"/>
              <a:ext cx="991872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6" name="灯片编号占位符 5"/>
          <p:cNvSpPr/>
          <p:nvPr/>
        </p:nvSpPr>
        <p:spPr>
          <a:xfrm>
            <a:off x="7397640" y="6399360"/>
            <a:ext cx="1486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ge   </a:t>
            </a:r>
            <a:fld id="{0B36E720-BE3C-4713-9E12-3DCB2EE35EF3}" type="slidenum">
              <a:rPr b="0" lang="zh-CN" sz="1000" spc="-1" strike="noStrike">
                <a:solidFill>
                  <a:srgbClr val="ffffff"/>
                </a:solidFill>
                <a:latin typeface="华文宋体"/>
                <a:ea typeface="华文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7" name="Line 5"/>
          <p:cNvSpPr/>
          <p:nvPr/>
        </p:nvSpPr>
        <p:spPr>
          <a:xfrm>
            <a:off x="968400" y="3503520"/>
            <a:ext cx="8032680" cy="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8" name="Line 6"/>
          <p:cNvSpPr/>
          <p:nvPr/>
        </p:nvSpPr>
        <p:spPr>
          <a:xfrm>
            <a:off x="4946760" y="1171440"/>
            <a:ext cx="0" cy="469908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9" name="Object 7" descr=""/>
          <p:cNvPicPr/>
          <p:nvPr/>
        </p:nvPicPr>
        <p:blipFill>
          <a:blip r:embed="rId1"/>
          <a:stretch/>
        </p:blipFill>
        <p:spPr>
          <a:xfrm>
            <a:off x="1447920" y="1542960"/>
            <a:ext cx="3381120" cy="1866960"/>
          </a:xfrm>
          <a:prstGeom prst="rect">
            <a:avLst/>
          </a:prstGeom>
          <a:ln w="0">
            <a:noFill/>
          </a:ln>
        </p:spPr>
      </p:pic>
      <p:sp>
        <p:nvSpPr>
          <p:cNvPr id="3280" name="AutoShape 8"/>
          <p:cNvSpPr/>
          <p:nvPr/>
        </p:nvSpPr>
        <p:spPr>
          <a:xfrm>
            <a:off x="792000" y="999360"/>
            <a:ext cx="725760" cy="366480"/>
          </a:xfrm>
          <a:prstGeom prst="roundRect">
            <a:avLst>
              <a:gd name="adj" fmla="val 50000"/>
            </a:avLst>
          </a:prstGeom>
          <a:solidFill>
            <a:srgbClr val="ffc000"/>
          </a:solidFill>
          <a:ln w="38160">
            <a:solidFill>
              <a:srgbClr val="0070c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HY헤드라인M"/>
              </a:rPr>
              <a:t>LC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1" name="AutoShape 9"/>
          <p:cNvSpPr/>
          <p:nvPr/>
        </p:nvSpPr>
        <p:spPr>
          <a:xfrm>
            <a:off x="5133960" y="999360"/>
            <a:ext cx="723960" cy="366480"/>
          </a:xfrm>
          <a:prstGeom prst="roundRect">
            <a:avLst>
              <a:gd name="adj" fmla="val 50000"/>
            </a:avLst>
          </a:prstGeom>
          <a:solidFill>
            <a:srgbClr val="ffc000"/>
          </a:solidFill>
          <a:ln w="38160">
            <a:solidFill>
              <a:srgbClr val="0070c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HY헤드라인M"/>
              </a:rPr>
              <a:t>DIO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2" name="AutoShape 10"/>
          <p:cNvSpPr/>
          <p:nvPr/>
        </p:nvSpPr>
        <p:spPr>
          <a:xfrm>
            <a:off x="795240" y="3701160"/>
            <a:ext cx="719280" cy="366480"/>
          </a:xfrm>
          <a:prstGeom prst="roundRect">
            <a:avLst>
              <a:gd name="adj" fmla="val 50000"/>
            </a:avLst>
          </a:prstGeom>
          <a:solidFill>
            <a:srgbClr val="ffc000"/>
          </a:solidFill>
          <a:ln w="38160">
            <a:solidFill>
              <a:srgbClr val="0070c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HY헤드라인M"/>
              </a:rPr>
              <a:t>DRU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3" name="AutoShape 11"/>
          <p:cNvSpPr/>
          <p:nvPr/>
        </p:nvSpPr>
        <p:spPr>
          <a:xfrm>
            <a:off x="5133960" y="3701160"/>
            <a:ext cx="722160" cy="366480"/>
          </a:xfrm>
          <a:prstGeom prst="roundRect">
            <a:avLst>
              <a:gd name="adj" fmla="val 50000"/>
            </a:avLst>
          </a:prstGeom>
          <a:solidFill>
            <a:srgbClr val="ffc000"/>
          </a:solidFill>
          <a:ln w="38160">
            <a:solidFill>
              <a:srgbClr val="0070c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HY헤드라인M"/>
              </a:rPr>
              <a:t>PA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4" name="Text Box 12"/>
          <p:cNvSpPr/>
          <p:nvPr/>
        </p:nvSpPr>
        <p:spPr>
          <a:xfrm>
            <a:off x="1135440" y="2201760"/>
            <a:ext cx="339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Arial"/>
                <a:ea typeface="Gulim"/>
              </a:rPr>
              <a:t>L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5" name="Text Box 13"/>
          <p:cNvSpPr/>
          <p:nvPr/>
        </p:nvSpPr>
        <p:spPr>
          <a:xfrm>
            <a:off x="1103400" y="1744560"/>
            <a:ext cx="40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ff"/>
                </a:solidFill>
                <a:latin typeface="Arial"/>
                <a:ea typeface="Gulim"/>
              </a:rPr>
              <a:t>S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6" name="Text Box 14"/>
          <p:cNvSpPr/>
          <p:nvPr/>
        </p:nvSpPr>
        <p:spPr>
          <a:xfrm>
            <a:off x="1080720" y="1496880"/>
            <a:ext cx="461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9900"/>
                </a:solidFill>
                <a:latin typeface="Arial"/>
                <a:ea typeface="Gulim"/>
              </a:rPr>
              <a:t>Son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7" name="Text Box 15"/>
          <p:cNvSpPr/>
          <p:nvPr/>
        </p:nvSpPr>
        <p:spPr>
          <a:xfrm>
            <a:off x="1059840" y="2077920"/>
            <a:ext cx="505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Gulim"/>
              </a:rPr>
              <a:t>Sharp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8" name="Text Box 16"/>
          <p:cNvSpPr/>
          <p:nvPr/>
        </p:nvSpPr>
        <p:spPr>
          <a:xfrm>
            <a:off x="1037520" y="2363760"/>
            <a:ext cx="557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9999ff"/>
                </a:solidFill>
                <a:latin typeface="Arial"/>
                <a:ea typeface="Gulim"/>
              </a:rPr>
              <a:t>Philip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9" name="Object 17" descr=""/>
          <p:cNvPicPr/>
          <p:nvPr/>
        </p:nvPicPr>
        <p:blipFill>
          <a:blip r:embed="rId2"/>
          <a:stretch/>
        </p:blipFill>
        <p:spPr>
          <a:xfrm>
            <a:off x="5791320" y="1542960"/>
            <a:ext cx="3381120" cy="1866960"/>
          </a:xfrm>
          <a:prstGeom prst="rect">
            <a:avLst/>
          </a:prstGeom>
          <a:ln w="0">
            <a:noFill/>
          </a:ln>
        </p:spPr>
      </p:pic>
      <p:sp>
        <p:nvSpPr>
          <p:cNvPr id="3290" name="Text Box 18"/>
          <p:cNvSpPr/>
          <p:nvPr/>
        </p:nvSpPr>
        <p:spPr>
          <a:xfrm>
            <a:off x="5399280" y="2144880"/>
            <a:ext cx="339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Arial"/>
                <a:ea typeface="Gulim"/>
              </a:rPr>
              <a:t>L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1" name="Text Box 19"/>
          <p:cNvSpPr/>
          <p:nvPr/>
        </p:nvSpPr>
        <p:spPr>
          <a:xfrm>
            <a:off x="5365800" y="1963800"/>
            <a:ext cx="40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ff"/>
                </a:solidFill>
                <a:latin typeface="Arial"/>
                <a:ea typeface="Gulim"/>
              </a:rPr>
              <a:t>S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2" name="Text Box 20"/>
          <p:cNvSpPr/>
          <p:nvPr/>
        </p:nvSpPr>
        <p:spPr>
          <a:xfrm>
            <a:off x="5256720" y="1601640"/>
            <a:ext cx="65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9900"/>
                </a:solidFill>
                <a:latin typeface="Arial"/>
                <a:ea typeface="Gulim"/>
              </a:rPr>
              <a:t>Sieme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3" name="Text Box 21"/>
          <p:cNvSpPr/>
          <p:nvPr/>
        </p:nvSpPr>
        <p:spPr>
          <a:xfrm>
            <a:off x="5340960" y="2563920"/>
            <a:ext cx="467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Gulim"/>
              </a:rPr>
              <a:t>Hai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4" name="Object 22" descr=""/>
          <p:cNvPicPr/>
          <p:nvPr/>
        </p:nvPicPr>
        <p:blipFill>
          <a:blip r:embed="rId3"/>
          <a:stretch/>
        </p:blipFill>
        <p:spPr>
          <a:xfrm>
            <a:off x="1447920" y="3990960"/>
            <a:ext cx="3381120" cy="1866960"/>
          </a:xfrm>
          <a:prstGeom prst="rect">
            <a:avLst/>
          </a:prstGeom>
          <a:ln w="0">
            <a:noFill/>
          </a:ln>
        </p:spPr>
      </p:pic>
      <p:sp>
        <p:nvSpPr>
          <p:cNvPr id="3295" name="Text Box 23"/>
          <p:cNvSpPr/>
          <p:nvPr/>
        </p:nvSpPr>
        <p:spPr>
          <a:xfrm>
            <a:off x="1135440" y="4851360"/>
            <a:ext cx="339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Arial"/>
                <a:ea typeface="Gulim"/>
              </a:rPr>
              <a:t>L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6" name="Text Box 24"/>
          <p:cNvSpPr/>
          <p:nvPr/>
        </p:nvSpPr>
        <p:spPr>
          <a:xfrm>
            <a:off x="1103400" y="5211720"/>
            <a:ext cx="40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ff"/>
                </a:solidFill>
                <a:latin typeface="Arial"/>
                <a:ea typeface="Gulim"/>
              </a:rPr>
              <a:t>S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7" name="Text Box 25"/>
          <p:cNvSpPr/>
          <p:nvPr/>
        </p:nvSpPr>
        <p:spPr>
          <a:xfrm>
            <a:off x="993960" y="4497480"/>
            <a:ext cx="653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9900"/>
                </a:solidFill>
                <a:latin typeface="Arial"/>
                <a:ea typeface="Gulim"/>
              </a:rPr>
              <a:t>Sieme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8" name="Text Box 26"/>
          <p:cNvSpPr/>
          <p:nvPr/>
        </p:nvSpPr>
        <p:spPr>
          <a:xfrm>
            <a:off x="1077480" y="5049720"/>
            <a:ext cx="467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Gulim"/>
              </a:rPr>
              <a:t>Hai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9" name="Object 27" descr=""/>
          <p:cNvPicPr/>
          <p:nvPr/>
        </p:nvPicPr>
        <p:blipFill>
          <a:blip r:embed="rId4"/>
          <a:stretch/>
        </p:blipFill>
        <p:spPr>
          <a:xfrm>
            <a:off x="5791320" y="3990960"/>
            <a:ext cx="3381120" cy="1866960"/>
          </a:xfrm>
          <a:prstGeom prst="rect">
            <a:avLst/>
          </a:prstGeom>
          <a:ln w="0">
            <a:noFill/>
          </a:ln>
        </p:spPr>
      </p:pic>
      <p:sp>
        <p:nvSpPr>
          <p:cNvPr id="3300" name="Text Box 28"/>
          <p:cNvSpPr/>
          <p:nvPr/>
        </p:nvSpPr>
        <p:spPr>
          <a:xfrm>
            <a:off x="5399280" y="5027760"/>
            <a:ext cx="3391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Arial"/>
                <a:ea typeface="Gulim"/>
              </a:rPr>
              <a:t>L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1" name="Text Box 29"/>
          <p:cNvSpPr/>
          <p:nvPr/>
        </p:nvSpPr>
        <p:spPr>
          <a:xfrm>
            <a:off x="5365800" y="4664160"/>
            <a:ext cx="409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ff"/>
                </a:solidFill>
                <a:latin typeface="Arial"/>
                <a:ea typeface="Gulim"/>
              </a:rPr>
              <a:t>SS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2" name="Text Box 30"/>
          <p:cNvSpPr/>
          <p:nvPr/>
        </p:nvSpPr>
        <p:spPr>
          <a:xfrm>
            <a:off x="5340960" y="5254560"/>
            <a:ext cx="467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9900"/>
                </a:solidFill>
                <a:latin typeface="Arial"/>
                <a:ea typeface="宋体"/>
              </a:rPr>
              <a:t>Hai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3" name="Text Box 31"/>
          <p:cNvSpPr/>
          <p:nvPr/>
        </p:nvSpPr>
        <p:spPr>
          <a:xfrm>
            <a:off x="5216400" y="4378320"/>
            <a:ext cx="7552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Panason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4" name="Rectangle 34"/>
          <p:cNvSpPr/>
          <p:nvPr/>
        </p:nvSpPr>
        <p:spPr>
          <a:xfrm>
            <a:off x="8249400" y="1108080"/>
            <a:ext cx="8902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buClr>
                <a:srgbClr val="0070c0"/>
              </a:buClr>
              <a:buFont typeface="Arial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 u="sng">
                <a:solidFill>
                  <a:srgbClr val="0070c0"/>
                </a:solidFill>
                <a:uFillTx/>
                <a:latin typeface="Arial"/>
                <a:ea typeface="Arial"/>
              </a:rPr>
              <a:t>Unit: K RM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5" name="矩形 32" descr=""/>
          <p:cNvPicPr/>
          <p:nvPr/>
        </p:nvPicPr>
        <p:blipFill>
          <a:blip r:embed="rId5"/>
          <a:stretch/>
        </p:blipFill>
        <p:spPr>
          <a:xfrm>
            <a:off x="6566040" y="115920"/>
            <a:ext cx="3352680" cy="1133280"/>
          </a:xfrm>
          <a:prstGeom prst="rect">
            <a:avLst/>
          </a:prstGeom>
          <a:ln w="0">
            <a:noFill/>
          </a:ln>
        </p:spPr>
      </p:pic>
      <p:sp>
        <p:nvSpPr>
          <p:cNvPr id="3306" name="Rectangle 265"/>
          <p:cNvSpPr/>
          <p:nvPr/>
        </p:nvSpPr>
        <p:spPr>
          <a:xfrm>
            <a:off x="6741000" y="136440"/>
            <a:ext cx="30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바탕"/>
              </a:rPr>
              <a:t> Ⅱ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바탕"/>
              </a:rPr>
              <a:t>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바탕"/>
              </a:rPr>
              <a:t>Market understan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7" name="Rectangle 3"/>
          <p:cNvSpPr/>
          <p:nvPr/>
        </p:nvSpPr>
        <p:spPr>
          <a:xfrm>
            <a:off x="7137000" y="422280"/>
            <a:ext cx="1113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bfbfbf"/>
                </a:solidFill>
                <a:latin typeface="Arial"/>
              </a:rPr>
              <a:t>ASP Tren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8" name="Rectangle 4" descr=""/>
          <p:cNvPicPr/>
          <p:nvPr/>
        </p:nvPicPr>
        <p:blipFill>
          <a:blip r:embed="rId6"/>
          <a:stretch/>
        </p:blipFill>
        <p:spPr>
          <a:xfrm>
            <a:off x="109440" y="109440"/>
            <a:ext cx="951120" cy="567000"/>
          </a:xfrm>
          <a:prstGeom prst="rect">
            <a:avLst/>
          </a:prstGeom>
          <a:ln w="0">
            <a:noFill/>
          </a:ln>
        </p:spPr>
      </p:pic>
      <p:sp>
        <p:nvSpPr>
          <p:cNvPr id="3309" name="直接连接符 35"/>
          <p:cNvSpPr/>
          <p:nvPr/>
        </p:nvSpPr>
        <p:spPr>
          <a:xfrm>
            <a:off x="965160" y="237960"/>
            <a:ext cx="0" cy="214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0" name="标题 2"/>
          <p:cNvSpPr/>
          <p:nvPr/>
        </p:nvSpPr>
        <p:spPr>
          <a:xfrm>
            <a:off x="950760" y="190440"/>
            <a:ext cx="1555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经营分析报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1" name=""/>
          <p:cNvGrpSpPr/>
          <p:nvPr/>
        </p:nvGrpSpPr>
        <p:grpSpPr>
          <a:xfrm>
            <a:off x="0" y="6443640"/>
            <a:ext cx="9918720" cy="237960"/>
            <a:chOff x="0" y="6443640"/>
            <a:chExt cx="9918720" cy="237960"/>
          </a:xfrm>
        </p:grpSpPr>
        <p:pic>
          <p:nvPicPr>
            <p:cNvPr id="3312" name="矩形 37" descr=""/>
            <p:cNvPicPr/>
            <p:nvPr/>
          </p:nvPicPr>
          <p:blipFill>
            <a:blip r:embed="rId7"/>
            <a:stretch/>
          </p:blipFill>
          <p:spPr>
            <a:xfrm>
              <a:off x="0" y="6443640"/>
              <a:ext cx="991728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3" name=""/>
            <p:cNvSpPr/>
            <p:nvPr/>
          </p:nvSpPr>
          <p:spPr>
            <a:xfrm>
              <a:off x="0" y="6445080"/>
              <a:ext cx="991872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4" name="灯片编号占位符 5"/>
          <p:cNvSpPr/>
          <p:nvPr/>
        </p:nvSpPr>
        <p:spPr>
          <a:xfrm>
            <a:off x="7397640" y="6399360"/>
            <a:ext cx="1486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ge   </a:t>
            </a:r>
            <a:fld id="{2ADD70FA-0F5F-45F5-A9F3-975EC8BC0DEA}" type="slidenum">
              <a:rPr b="0" lang="zh-CN" sz="1000" spc="-1" strike="noStrike">
                <a:solidFill>
                  <a:srgbClr val="ffffff"/>
                </a:solidFill>
                <a:latin typeface="华文宋体"/>
                <a:ea typeface="华文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5" name="Rectangle 191"/>
          <p:cNvSpPr/>
          <p:nvPr/>
        </p:nvSpPr>
        <p:spPr>
          <a:xfrm>
            <a:off x="385920" y="3522600"/>
            <a:ext cx="4622760" cy="21081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6" name="Rectangle 190"/>
          <p:cNvSpPr/>
          <p:nvPr/>
        </p:nvSpPr>
        <p:spPr>
          <a:xfrm>
            <a:off x="368280" y="2031840"/>
            <a:ext cx="4622760" cy="13971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7" name="Text Box 102"/>
          <p:cNvSpPr/>
          <p:nvPr/>
        </p:nvSpPr>
        <p:spPr>
          <a:xfrm>
            <a:off x="6788160" y="75240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70c0"/>
                </a:solidFill>
                <a:uFillTx/>
                <a:latin typeface="Arial"/>
              </a:rPr>
              <a:t>Activ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8" name="Text Box 103"/>
          <p:cNvSpPr/>
          <p:nvPr/>
        </p:nvSpPr>
        <p:spPr>
          <a:xfrm>
            <a:off x="5169240" y="3024360"/>
            <a:ext cx="4522320" cy="10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odel mix improvement (Drop low tier models)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   - RAC : 2.3/4.3KW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- REF :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/F Mechanical &amp; Simple Micom :12MDL </a:t>
            </a: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5MD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- WM  : Pulsator models under 5Kg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9" name="Text Box 106"/>
          <p:cNvSpPr/>
          <p:nvPr/>
        </p:nvSpPr>
        <p:spPr>
          <a:xfrm>
            <a:off x="5178960" y="2155680"/>
            <a:ext cx="331992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CD TV model mix improvement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   - Step-up portion : `06 13% </a:t>
            </a:r>
            <a:r>
              <a:rPr b="1" lang="en-US" sz="13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`07 27%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0" name="TextBox 22"/>
          <p:cNvSpPr/>
          <p:nvPr/>
        </p:nvSpPr>
        <p:spPr>
          <a:xfrm>
            <a:off x="3341160" y="1192320"/>
            <a:ext cx="122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’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07 Foreca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1" name="Rectangle 113"/>
          <p:cNvSpPr/>
          <p:nvPr/>
        </p:nvSpPr>
        <p:spPr>
          <a:xfrm>
            <a:off x="1352520" y="5776920"/>
            <a:ext cx="539640" cy="212760"/>
          </a:xfrm>
          <a:prstGeom prst="rect">
            <a:avLst/>
          </a:prstGeom>
          <a:solidFill>
            <a:srgbClr val="433f97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182520" indent="-182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,1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2" name="Text Box 114"/>
          <p:cNvSpPr/>
          <p:nvPr/>
        </p:nvSpPr>
        <p:spPr>
          <a:xfrm>
            <a:off x="571680" y="5720760"/>
            <a:ext cx="57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3" name="Line 115"/>
          <p:cNvSpPr/>
          <p:nvPr/>
        </p:nvSpPr>
        <p:spPr>
          <a:xfrm>
            <a:off x="426960" y="3470400"/>
            <a:ext cx="4451400" cy="0"/>
          </a:xfrm>
          <a:prstGeom prst="line">
            <a:avLst/>
          </a:prstGeom>
          <a:ln w="648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4" name="Line 116"/>
          <p:cNvSpPr/>
          <p:nvPr/>
        </p:nvSpPr>
        <p:spPr>
          <a:xfrm>
            <a:off x="426960" y="5673600"/>
            <a:ext cx="453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5" name="TextBox 22"/>
          <p:cNvSpPr/>
          <p:nvPr/>
        </p:nvSpPr>
        <p:spPr>
          <a:xfrm>
            <a:off x="1506240" y="11923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’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06 Act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6" name="Text Box 118"/>
          <p:cNvSpPr/>
          <p:nvPr/>
        </p:nvSpPr>
        <p:spPr>
          <a:xfrm>
            <a:off x="1964160" y="5749200"/>
            <a:ext cx="9439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marL="182520" indent="-182520" algn="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11.6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7" name="Oval 119"/>
          <p:cNvSpPr/>
          <p:nvPr/>
        </p:nvSpPr>
        <p:spPr>
          <a:xfrm>
            <a:off x="1219320" y="1569960"/>
            <a:ext cx="720720" cy="289080"/>
          </a:xfrm>
          <a:prstGeom prst="ellipse">
            <a:avLst/>
          </a:prstGeom>
          <a:solidFill>
            <a:srgbClr val="ffc00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8" name="Oval 120"/>
          <p:cNvSpPr/>
          <p:nvPr/>
        </p:nvSpPr>
        <p:spPr>
          <a:xfrm>
            <a:off x="2082960" y="1569960"/>
            <a:ext cx="720720" cy="289080"/>
          </a:xfrm>
          <a:prstGeom prst="ellipse">
            <a:avLst/>
          </a:prstGeom>
          <a:solidFill>
            <a:srgbClr val="ffc00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9" name="Oval 121"/>
          <p:cNvSpPr/>
          <p:nvPr/>
        </p:nvSpPr>
        <p:spPr>
          <a:xfrm>
            <a:off x="3164040" y="1569960"/>
            <a:ext cx="720720" cy="289080"/>
          </a:xfrm>
          <a:prstGeom prst="ellipse">
            <a:avLst/>
          </a:prstGeom>
          <a:solidFill>
            <a:srgbClr val="ffc00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0" name="Oval 122"/>
          <p:cNvSpPr/>
          <p:nvPr/>
        </p:nvSpPr>
        <p:spPr>
          <a:xfrm>
            <a:off x="4205160" y="1569960"/>
            <a:ext cx="720720" cy="289080"/>
          </a:xfrm>
          <a:prstGeom prst="ellipse">
            <a:avLst/>
          </a:prstGeom>
          <a:solidFill>
            <a:srgbClr val="ffc00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1" name="Rectangle 123"/>
          <p:cNvSpPr/>
          <p:nvPr/>
        </p:nvSpPr>
        <p:spPr>
          <a:xfrm>
            <a:off x="3213000" y="5783400"/>
            <a:ext cx="540000" cy="212760"/>
          </a:xfrm>
          <a:prstGeom prst="rect">
            <a:avLst/>
          </a:prstGeom>
          <a:solidFill>
            <a:srgbClr val="433f97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182520" indent="-182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,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2" name="Text Box 124"/>
          <p:cNvSpPr/>
          <p:nvPr/>
        </p:nvSpPr>
        <p:spPr>
          <a:xfrm>
            <a:off x="4175280" y="5755320"/>
            <a:ext cx="8661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marL="182520" indent="-182520" algn="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333399"/>
                </a:solidFill>
                <a:latin typeface="Arial"/>
              </a:rPr>
              <a:t>△</a:t>
            </a:r>
            <a:r>
              <a:rPr b="1" i="1" lang="en-US" sz="1100" spc="-1" strike="noStrike">
                <a:solidFill>
                  <a:srgbClr val="333399"/>
                </a:solidFill>
                <a:latin typeface="Arial"/>
              </a:rPr>
              <a:t>4.9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3" name="Text Box 125"/>
          <p:cNvSpPr/>
          <p:nvPr/>
        </p:nvSpPr>
        <p:spPr>
          <a:xfrm>
            <a:off x="3713040" y="1878120"/>
            <a:ext cx="625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(Growth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4" name="Rectangle 126" descr=""/>
          <p:cNvPicPr/>
          <p:nvPr/>
        </p:nvPicPr>
        <p:blipFill>
          <a:blip r:embed="rId1"/>
          <a:stretch/>
        </p:blipFill>
        <p:spPr>
          <a:xfrm>
            <a:off x="1322280" y="2365200"/>
            <a:ext cx="622440" cy="371520"/>
          </a:xfrm>
          <a:prstGeom prst="rect">
            <a:avLst/>
          </a:prstGeom>
          <a:ln w="0">
            <a:noFill/>
          </a:ln>
        </p:spPr>
      </p:pic>
      <p:pic>
        <p:nvPicPr>
          <p:cNvPr id="3335" name="Rectangle 127" descr=""/>
          <p:cNvPicPr/>
          <p:nvPr/>
        </p:nvPicPr>
        <p:blipFill>
          <a:blip r:embed="rId2"/>
          <a:stretch/>
        </p:blipFill>
        <p:spPr>
          <a:xfrm>
            <a:off x="1322280" y="2036880"/>
            <a:ext cx="622440" cy="377640"/>
          </a:xfrm>
          <a:prstGeom prst="rect">
            <a:avLst/>
          </a:prstGeom>
          <a:ln w="0">
            <a:noFill/>
          </a:ln>
        </p:spPr>
      </p:pic>
      <p:sp>
        <p:nvSpPr>
          <p:cNvPr id="3336" name="Text Box 128"/>
          <p:cNvSpPr/>
          <p:nvPr/>
        </p:nvSpPr>
        <p:spPr>
          <a:xfrm>
            <a:off x="456120" y="2420280"/>
            <a:ext cx="73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CD T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7" name="Text Box 129"/>
          <p:cNvSpPr/>
          <p:nvPr/>
        </p:nvSpPr>
        <p:spPr>
          <a:xfrm>
            <a:off x="577800" y="209484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T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8" name="Text Box 130"/>
          <p:cNvSpPr/>
          <p:nvPr/>
        </p:nvSpPr>
        <p:spPr>
          <a:xfrm>
            <a:off x="1964160" y="2421720"/>
            <a:ext cx="9439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marL="182520" indent="-182520" algn="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12.4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9" name="Text Box 131"/>
          <p:cNvSpPr/>
          <p:nvPr/>
        </p:nvSpPr>
        <p:spPr>
          <a:xfrm>
            <a:off x="1964160" y="2096280"/>
            <a:ext cx="9439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marL="182520" indent="-182520" algn="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14.3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0" name="Rectangle 132" descr=""/>
          <p:cNvPicPr/>
          <p:nvPr/>
        </p:nvPicPr>
        <p:blipFill>
          <a:blip r:embed="rId3"/>
          <a:stretch/>
        </p:blipFill>
        <p:spPr>
          <a:xfrm>
            <a:off x="3181320" y="2365200"/>
            <a:ext cx="628560" cy="371520"/>
          </a:xfrm>
          <a:prstGeom prst="rect">
            <a:avLst/>
          </a:prstGeom>
          <a:ln w="0">
            <a:noFill/>
          </a:ln>
        </p:spPr>
      </p:pic>
      <p:pic>
        <p:nvPicPr>
          <p:cNvPr id="3341" name="Rectangle 133" descr=""/>
          <p:cNvPicPr/>
          <p:nvPr/>
        </p:nvPicPr>
        <p:blipFill>
          <a:blip r:embed="rId4"/>
          <a:stretch/>
        </p:blipFill>
        <p:spPr>
          <a:xfrm>
            <a:off x="3181320" y="2036880"/>
            <a:ext cx="628560" cy="377640"/>
          </a:xfrm>
          <a:prstGeom prst="rect">
            <a:avLst/>
          </a:prstGeom>
          <a:ln w="0">
            <a:noFill/>
          </a:ln>
        </p:spPr>
      </p:pic>
      <p:sp>
        <p:nvSpPr>
          <p:cNvPr id="3342" name="Text Box 134"/>
          <p:cNvSpPr/>
          <p:nvPr/>
        </p:nvSpPr>
        <p:spPr>
          <a:xfrm>
            <a:off x="4175280" y="2421720"/>
            <a:ext cx="8661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marL="182520" indent="-182520" algn="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333399"/>
                </a:solidFill>
                <a:latin typeface="Arial"/>
              </a:rPr>
              <a:t>△</a:t>
            </a:r>
            <a:r>
              <a:rPr b="1" i="1" lang="en-US" sz="1100" spc="-1" strike="noStrike">
                <a:solidFill>
                  <a:srgbClr val="333399"/>
                </a:solidFill>
                <a:latin typeface="Arial"/>
              </a:rPr>
              <a:t>3.4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3" name="Text Box 135"/>
          <p:cNvSpPr/>
          <p:nvPr/>
        </p:nvSpPr>
        <p:spPr>
          <a:xfrm>
            <a:off x="4298040" y="2096280"/>
            <a:ext cx="7578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marL="182520" indent="-182520" algn="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333399"/>
                </a:solidFill>
                <a:latin typeface="Arial"/>
              </a:rPr>
              <a:t>0.9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4" name="Text Box 136"/>
          <p:cNvSpPr/>
          <p:nvPr/>
        </p:nvSpPr>
        <p:spPr>
          <a:xfrm>
            <a:off x="3865320" y="209556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61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5" name="Text Box 137"/>
          <p:cNvSpPr/>
          <p:nvPr/>
        </p:nvSpPr>
        <p:spPr>
          <a:xfrm>
            <a:off x="3795480" y="2421000"/>
            <a:ext cx="50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11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6" name="Rectangle 138" descr=""/>
          <p:cNvPicPr/>
          <p:nvPr/>
        </p:nvPicPr>
        <p:blipFill>
          <a:blip r:embed="rId5"/>
          <a:stretch/>
        </p:blipFill>
        <p:spPr>
          <a:xfrm>
            <a:off x="1359000" y="2693880"/>
            <a:ext cx="555480" cy="378000"/>
          </a:xfrm>
          <a:prstGeom prst="rect">
            <a:avLst/>
          </a:prstGeom>
          <a:ln w="0">
            <a:noFill/>
          </a:ln>
        </p:spPr>
      </p:pic>
      <p:sp>
        <p:nvSpPr>
          <p:cNvPr id="3347" name="Text Box 139"/>
          <p:cNvSpPr/>
          <p:nvPr/>
        </p:nvSpPr>
        <p:spPr>
          <a:xfrm>
            <a:off x="456840" y="275184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DP T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8" name="Text Box 140"/>
          <p:cNvSpPr/>
          <p:nvPr/>
        </p:nvSpPr>
        <p:spPr>
          <a:xfrm>
            <a:off x="1964160" y="2753280"/>
            <a:ext cx="9439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marL="182520" indent="-182520" algn="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19.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9" name="Rectangle 141" descr=""/>
          <p:cNvPicPr/>
          <p:nvPr/>
        </p:nvPicPr>
        <p:blipFill>
          <a:blip r:embed="rId6"/>
          <a:stretch/>
        </p:blipFill>
        <p:spPr>
          <a:xfrm>
            <a:off x="3219480" y="2693880"/>
            <a:ext cx="560520" cy="378000"/>
          </a:xfrm>
          <a:prstGeom prst="rect">
            <a:avLst/>
          </a:prstGeom>
          <a:ln w="0">
            <a:noFill/>
          </a:ln>
        </p:spPr>
      </p:pic>
      <p:sp>
        <p:nvSpPr>
          <p:cNvPr id="3350" name="Text Box 142"/>
          <p:cNvSpPr/>
          <p:nvPr/>
        </p:nvSpPr>
        <p:spPr>
          <a:xfrm>
            <a:off x="4220280" y="2753280"/>
            <a:ext cx="8355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marL="182520" indent="-182520" algn="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50.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1" name="Text Box 143"/>
          <p:cNvSpPr/>
          <p:nvPr/>
        </p:nvSpPr>
        <p:spPr>
          <a:xfrm>
            <a:off x="3647880" y="2752560"/>
            <a:ext cx="63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   △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54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2" name="Text Box 144"/>
          <p:cNvSpPr/>
          <p:nvPr/>
        </p:nvSpPr>
        <p:spPr>
          <a:xfrm>
            <a:off x="2018160" y="735120"/>
            <a:ext cx="161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70c0"/>
                </a:solidFill>
                <a:uFillTx/>
                <a:latin typeface="Arial"/>
              </a:rPr>
              <a:t>Consolidated 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3" name="Text Box 145"/>
          <p:cNvSpPr/>
          <p:nvPr/>
        </p:nvSpPr>
        <p:spPr>
          <a:xfrm>
            <a:off x="3865320" y="576576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4" name="Rectangle 146" descr=""/>
          <p:cNvPicPr/>
          <p:nvPr/>
        </p:nvPicPr>
        <p:blipFill>
          <a:blip r:embed="rId7"/>
          <a:stretch/>
        </p:blipFill>
        <p:spPr>
          <a:xfrm>
            <a:off x="1352520" y="3932280"/>
            <a:ext cx="555480" cy="377640"/>
          </a:xfrm>
          <a:prstGeom prst="rect">
            <a:avLst/>
          </a:prstGeom>
          <a:ln w="0">
            <a:noFill/>
          </a:ln>
        </p:spPr>
      </p:pic>
      <p:pic>
        <p:nvPicPr>
          <p:cNvPr id="3355" name="Rectangle 147" descr=""/>
          <p:cNvPicPr/>
          <p:nvPr/>
        </p:nvPicPr>
        <p:blipFill>
          <a:blip r:embed="rId8"/>
          <a:stretch/>
        </p:blipFill>
        <p:spPr>
          <a:xfrm>
            <a:off x="1316160" y="3578400"/>
            <a:ext cx="628560" cy="377640"/>
          </a:xfrm>
          <a:prstGeom prst="rect">
            <a:avLst/>
          </a:prstGeom>
          <a:ln w="0">
            <a:noFill/>
          </a:ln>
        </p:spPr>
      </p:pic>
      <p:sp>
        <p:nvSpPr>
          <p:cNvPr id="3356" name="Text Box 148"/>
          <p:cNvSpPr/>
          <p:nvPr/>
        </p:nvSpPr>
        <p:spPr>
          <a:xfrm>
            <a:off x="571320" y="39888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7" name="Text Box 149"/>
          <p:cNvSpPr/>
          <p:nvPr/>
        </p:nvSpPr>
        <p:spPr>
          <a:xfrm>
            <a:off x="614160" y="3637800"/>
            <a:ext cx="40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8" name="Text Box 150"/>
          <p:cNvSpPr/>
          <p:nvPr/>
        </p:nvSpPr>
        <p:spPr>
          <a:xfrm>
            <a:off x="2041920" y="3990240"/>
            <a:ext cx="8661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marL="182520" indent="-182520" algn="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5.7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9" name="Text Box 151"/>
          <p:cNvSpPr/>
          <p:nvPr/>
        </p:nvSpPr>
        <p:spPr>
          <a:xfrm>
            <a:off x="1964160" y="3639240"/>
            <a:ext cx="9439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marL="182520" indent="-182520" algn="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10.0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0" name="Rectangle 152" descr=""/>
          <p:cNvPicPr/>
          <p:nvPr/>
        </p:nvPicPr>
        <p:blipFill>
          <a:blip r:embed="rId9"/>
          <a:stretch/>
        </p:blipFill>
        <p:spPr>
          <a:xfrm>
            <a:off x="3176640" y="3932280"/>
            <a:ext cx="627120" cy="377640"/>
          </a:xfrm>
          <a:prstGeom prst="rect">
            <a:avLst/>
          </a:prstGeom>
          <a:ln w="0">
            <a:noFill/>
          </a:ln>
        </p:spPr>
      </p:pic>
      <p:pic>
        <p:nvPicPr>
          <p:cNvPr id="3361" name="Rectangle 153" descr=""/>
          <p:cNvPicPr/>
          <p:nvPr/>
        </p:nvPicPr>
        <p:blipFill>
          <a:blip r:embed="rId10"/>
          <a:stretch/>
        </p:blipFill>
        <p:spPr>
          <a:xfrm>
            <a:off x="3176640" y="3578400"/>
            <a:ext cx="627120" cy="377640"/>
          </a:xfrm>
          <a:prstGeom prst="rect">
            <a:avLst/>
          </a:prstGeom>
          <a:ln w="0">
            <a:noFill/>
          </a:ln>
        </p:spPr>
      </p:pic>
      <p:sp>
        <p:nvSpPr>
          <p:cNvPr id="3362" name="Text Box 154"/>
          <p:cNvSpPr/>
          <p:nvPr/>
        </p:nvSpPr>
        <p:spPr>
          <a:xfrm>
            <a:off x="4175280" y="3990240"/>
            <a:ext cx="8661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marL="182520" indent="-182520" algn="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333399"/>
                </a:solidFill>
                <a:latin typeface="Arial"/>
              </a:rPr>
              <a:t>△</a:t>
            </a:r>
            <a:r>
              <a:rPr b="1" i="1" lang="en-US" sz="11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i="1" lang="en-US" sz="1100" spc="-1" strike="noStrike">
                <a:solidFill>
                  <a:srgbClr val="333399"/>
                </a:solidFill>
                <a:latin typeface="Arial"/>
                <a:ea typeface="宋体"/>
              </a:rPr>
              <a:t>.3</a:t>
            </a:r>
            <a:r>
              <a:rPr b="1" i="1" lang="en-US" sz="1100" spc="-1" strike="noStrike">
                <a:solidFill>
                  <a:srgbClr val="333399"/>
                </a:solidFill>
                <a:latin typeface="Arial"/>
              </a:rPr>
              <a:t>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3" name="Text Box 155"/>
          <p:cNvSpPr/>
          <p:nvPr/>
        </p:nvSpPr>
        <p:spPr>
          <a:xfrm>
            <a:off x="4097520" y="3639240"/>
            <a:ext cx="9439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marL="182520" indent="-182520" algn="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10.8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4" name="Text Box 156"/>
          <p:cNvSpPr/>
          <p:nvPr/>
        </p:nvSpPr>
        <p:spPr>
          <a:xfrm>
            <a:off x="3718080" y="363852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4.7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5" name="Text Box 157"/>
          <p:cNvSpPr/>
          <p:nvPr/>
        </p:nvSpPr>
        <p:spPr>
          <a:xfrm>
            <a:off x="3935160" y="3989520"/>
            <a:ext cx="36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9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6" name="Rectangle 158" descr=""/>
          <p:cNvPicPr/>
          <p:nvPr/>
        </p:nvPicPr>
        <p:blipFill>
          <a:blip r:embed="rId11"/>
          <a:stretch/>
        </p:blipFill>
        <p:spPr>
          <a:xfrm>
            <a:off x="1352520" y="4254480"/>
            <a:ext cx="561960" cy="378000"/>
          </a:xfrm>
          <a:prstGeom prst="rect">
            <a:avLst/>
          </a:prstGeom>
          <a:ln w="0">
            <a:noFill/>
          </a:ln>
        </p:spPr>
      </p:pic>
      <p:sp>
        <p:nvSpPr>
          <p:cNvPr id="3367" name="Text Box 159"/>
          <p:cNvSpPr/>
          <p:nvPr/>
        </p:nvSpPr>
        <p:spPr>
          <a:xfrm>
            <a:off x="570240" y="431100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/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8" name="Text Box 160"/>
          <p:cNvSpPr/>
          <p:nvPr/>
        </p:nvSpPr>
        <p:spPr>
          <a:xfrm>
            <a:off x="2164320" y="4312440"/>
            <a:ext cx="7578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marL="182520" indent="-182520" algn="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1.4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9" name="Rectangle 161" descr=""/>
          <p:cNvPicPr/>
          <p:nvPr/>
        </p:nvPicPr>
        <p:blipFill>
          <a:blip r:embed="rId12"/>
          <a:stretch/>
        </p:blipFill>
        <p:spPr>
          <a:xfrm>
            <a:off x="3213000" y="4254480"/>
            <a:ext cx="560520" cy="378000"/>
          </a:xfrm>
          <a:prstGeom prst="rect">
            <a:avLst/>
          </a:prstGeom>
          <a:ln w="0">
            <a:noFill/>
          </a:ln>
        </p:spPr>
      </p:pic>
      <p:sp>
        <p:nvSpPr>
          <p:cNvPr id="3370" name="Text Box 162"/>
          <p:cNvSpPr/>
          <p:nvPr/>
        </p:nvSpPr>
        <p:spPr>
          <a:xfrm>
            <a:off x="4175280" y="4312440"/>
            <a:ext cx="8661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marL="182520" indent="-182520" algn="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333399"/>
                </a:solidFill>
                <a:latin typeface="Arial"/>
                <a:ea typeface="Gulim"/>
              </a:rPr>
              <a:t>△</a:t>
            </a:r>
            <a:r>
              <a:rPr b="1" i="1" lang="en-US" sz="1100" spc="-1" strike="noStrike">
                <a:solidFill>
                  <a:srgbClr val="333399"/>
                </a:solidFill>
                <a:latin typeface="Arial"/>
                <a:ea typeface="宋体"/>
              </a:rPr>
              <a:t>1.4</a:t>
            </a:r>
            <a:r>
              <a:rPr b="1" i="1" lang="en-US" sz="1100" spc="-1" strike="noStrike">
                <a:solidFill>
                  <a:srgbClr val="333399"/>
                </a:solidFill>
                <a:latin typeface="Arial"/>
              </a:rPr>
              <a:t>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1" name="Text Box 163"/>
          <p:cNvSpPr/>
          <p:nvPr/>
        </p:nvSpPr>
        <p:spPr>
          <a:xfrm>
            <a:off x="3935160" y="4311720"/>
            <a:ext cx="36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9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2" name="Rectangle 164" descr=""/>
          <p:cNvPicPr/>
          <p:nvPr/>
        </p:nvPicPr>
        <p:blipFill>
          <a:blip r:embed="rId13"/>
          <a:stretch/>
        </p:blipFill>
        <p:spPr>
          <a:xfrm>
            <a:off x="1359000" y="4595760"/>
            <a:ext cx="555480" cy="378000"/>
          </a:xfrm>
          <a:prstGeom prst="rect">
            <a:avLst/>
          </a:prstGeom>
          <a:ln w="0">
            <a:noFill/>
          </a:ln>
        </p:spPr>
      </p:pic>
      <p:sp>
        <p:nvSpPr>
          <p:cNvPr id="3373" name="Text Box 165"/>
          <p:cNvSpPr/>
          <p:nvPr/>
        </p:nvSpPr>
        <p:spPr>
          <a:xfrm>
            <a:off x="600120" y="4653720"/>
            <a:ext cx="44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/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4" name="Text Box 166"/>
          <p:cNvSpPr/>
          <p:nvPr/>
        </p:nvSpPr>
        <p:spPr>
          <a:xfrm>
            <a:off x="1964160" y="4655160"/>
            <a:ext cx="9439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marL="182520" indent="-182520" algn="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19.5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5" name="Rectangle 167" descr=""/>
          <p:cNvPicPr/>
          <p:nvPr/>
        </p:nvPicPr>
        <p:blipFill>
          <a:blip r:embed="rId14"/>
          <a:stretch/>
        </p:blipFill>
        <p:spPr>
          <a:xfrm>
            <a:off x="3219480" y="4595760"/>
            <a:ext cx="560520" cy="378000"/>
          </a:xfrm>
          <a:prstGeom prst="rect">
            <a:avLst/>
          </a:prstGeom>
          <a:ln w="0">
            <a:noFill/>
          </a:ln>
        </p:spPr>
      </p:pic>
      <p:sp>
        <p:nvSpPr>
          <p:cNvPr id="3376" name="Text Box 168"/>
          <p:cNvSpPr/>
          <p:nvPr/>
        </p:nvSpPr>
        <p:spPr>
          <a:xfrm>
            <a:off x="4097520" y="4655160"/>
            <a:ext cx="9439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marL="182520" indent="-182520" algn="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34.1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7" name="Text Box 169"/>
          <p:cNvSpPr/>
          <p:nvPr/>
        </p:nvSpPr>
        <p:spPr>
          <a:xfrm>
            <a:off x="3753000" y="465444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29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8" name="Rectangle 170" descr=""/>
          <p:cNvPicPr/>
          <p:nvPr/>
        </p:nvPicPr>
        <p:blipFill>
          <a:blip r:embed="rId15"/>
          <a:stretch/>
        </p:blipFill>
        <p:spPr>
          <a:xfrm>
            <a:off x="1359000" y="4937040"/>
            <a:ext cx="555480" cy="378000"/>
          </a:xfrm>
          <a:prstGeom prst="rect">
            <a:avLst/>
          </a:prstGeom>
          <a:ln w="0">
            <a:noFill/>
          </a:ln>
        </p:spPr>
      </p:pic>
      <p:sp>
        <p:nvSpPr>
          <p:cNvPr id="3379" name="Text Box 171"/>
          <p:cNvSpPr/>
          <p:nvPr/>
        </p:nvSpPr>
        <p:spPr>
          <a:xfrm>
            <a:off x="537480" y="4996800"/>
            <a:ext cx="56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M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0" name="Text Box 172"/>
          <p:cNvSpPr/>
          <p:nvPr/>
        </p:nvSpPr>
        <p:spPr>
          <a:xfrm>
            <a:off x="1964160" y="4998240"/>
            <a:ext cx="9439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marL="182520" indent="-182520" algn="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30.4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1" name="Rectangle 173" descr=""/>
          <p:cNvPicPr/>
          <p:nvPr/>
        </p:nvPicPr>
        <p:blipFill>
          <a:blip r:embed="rId16"/>
          <a:stretch/>
        </p:blipFill>
        <p:spPr>
          <a:xfrm>
            <a:off x="3219480" y="4937040"/>
            <a:ext cx="560520" cy="378000"/>
          </a:xfrm>
          <a:prstGeom prst="rect">
            <a:avLst/>
          </a:prstGeom>
          <a:ln w="0">
            <a:noFill/>
          </a:ln>
        </p:spPr>
      </p:pic>
      <p:sp>
        <p:nvSpPr>
          <p:cNvPr id="3382" name="Text Box 174"/>
          <p:cNvSpPr/>
          <p:nvPr/>
        </p:nvSpPr>
        <p:spPr>
          <a:xfrm>
            <a:off x="4097520" y="4998240"/>
            <a:ext cx="9439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marL="182520" indent="-182520" algn="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333399"/>
                </a:solidFill>
                <a:latin typeface="Arial"/>
              </a:rPr>
              <a:t>△</a:t>
            </a:r>
            <a:r>
              <a:rPr b="1" i="1" lang="en-US" sz="1100" spc="-1" strike="noStrike">
                <a:solidFill>
                  <a:srgbClr val="333399"/>
                </a:solidFill>
                <a:latin typeface="Arial"/>
              </a:rPr>
              <a:t>16.5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3" name="Text Box 175"/>
          <p:cNvSpPr/>
          <p:nvPr/>
        </p:nvSpPr>
        <p:spPr>
          <a:xfrm>
            <a:off x="3935160" y="4997520"/>
            <a:ext cx="36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4" name="Rectangle 176" descr=""/>
          <p:cNvPicPr/>
          <p:nvPr/>
        </p:nvPicPr>
        <p:blipFill>
          <a:blip r:embed="rId17"/>
          <a:stretch/>
        </p:blipFill>
        <p:spPr>
          <a:xfrm>
            <a:off x="1359000" y="5284800"/>
            <a:ext cx="555480" cy="372960"/>
          </a:xfrm>
          <a:prstGeom prst="rect">
            <a:avLst/>
          </a:prstGeom>
          <a:ln w="0">
            <a:noFill/>
          </a:ln>
        </p:spPr>
      </p:pic>
      <p:sp>
        <p:nvSpPr>
          <p:cNvPr id="3385" name="Text Box 177"/>
          <p:cNvSpPr/>
          <p:nvPr/>
        </p:nvSpPr>
        <p:spPr>
          <a:xfrm>
            <a:off x="627480" y="5339520"/>
            <a:ext cx="3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V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6" name="Text Box 178"/>
          <p:cNvSpPr/>
          <p:nvPr/>
        </p:nvSpPr>
        <p:spPr>
          <a:xfrm>
            <a:off x="1964160" y="5340960"/>
            <a:ext cx="9439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marL="182520" indent="-182520" algn="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28.2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7" name="Rectangle 179" descr=""/>
          <p:cNvPicPr/>
          <p:nvPr/>
        </p:nvPicPr>
        <p:blipFill>
          <a:blip r:embed="rId18"/>
          <a:stretch/>
        </p:blipFill>
        <p:spPr>
          <a:xfrm>
            <a:off x="3219480" y="5284800"/>
            <a:ext cx="560520" cy="372960"/>
          </a:xfrm>
          <a:prstGeom prst="rect">
            <a:avLst/>
          </a:prstGeom>
          <a:ln w="0">
            <a:noFill/>
          </a:ln>
        </p:spPr>
      </p:pic>
      <p:sp>
        <p:nvSpPr>
          <p:cNvPr id="3388" name="Text Box 180"/>
          <p:cNvSpPr/>
          <p:nvPr/>
        </p:nvSpPr>
        <p:spPr>
          <a:xfrm>
            <a:off x="4175280" y="5340960"/>
            <a:ext cx="8661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marL="182520" indent="-182520" algn="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333399"/>
                </a:solidFill>
                <a:latin typeface="Arial"/>
              </a:rPr>
              <a:t>△</a:t>
            </a:r>
            <a:r>
              <a:rPr b="1" i="1" lang="en-US" sz="1100" spc="-1" strike="noStrike">
                <a:solidFill>
                  <a:srgbClr val="333399"/>
                </a:solidFill>
                <a:latin typeface="Arial"/>
              </a:rPr>
              <a:t>1.5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9" name="Text Box 181"/>
          <p:cNvSpPr/>
          <p:nvPr/>
        </p:nvSpPr>
        <p:spPr>
          <a:xfrm>
            <a:off x="3830400" y="5340240"/>
            <a:ext cx="4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21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0" name="Rectangle 182" descr=""/>
          <p:cNvPicPr/>
          <p:nvPr/>
        </p:nvPicPr>
        <p:blipFill>
          <a:blip r:embed="rId19"/>
          <a:stretch/>
        </p:blipFill>
        <p:spPr>
          <a:xfrm>
            <a:off x="1359000" y="3048120"/>
            <a:ext cx="555480" cy="377640"/>
          </a:xfrm>
          <a:prstGeom prst="rect">
            <a:avLst/>
          </a:prstGeom>
          <a:ln w="0">
            <a:noFill/>
          </a:ln>
        </p:spPr>
      </p:pic>
      <p:sp>
        <p:nvSpPr>
          <p:cNvPr id="3391" name="Text Box 183"/>
          <p:cNvSpPr/>
          <p:nvPr/>
        </p:nvSpPr>
        <p:spPr>
          <a:xfrm>
            <a:off x="581040" y="310428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2" name="Text Box 184"/>
          <p:cNvSpPr/>
          <p:nvPr/>
        </p:nvSpPr>
        <p:spPr>
          <a:xfrm>
            <a:off x="1964160" y="3105720"/>
            <a:ext cx="9439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marL="182520" indent="-182520" algn="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95.9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3" name="Rectangle 185" descr=""/>
          <p:cNvPicPr/>
          <p:nvPr/>
        </p:nvPicPr>
        <p:blipFill>
          <a:blip r:embed="rId20"/>
          <a:stretch/>
        </p:blipFill>
        <p:spPr>
          <a:xfrm>
            <a:off x="3219480" y="3048120"/>
            <a:ext cx="560520" cy="377640"/>
          </a:xfrm>
          <a:prstGeom prst="rect">
            <a:avLst/>
          </a:prstGeom>
          <a:ln w="0">
            <a:noFill/>
          </a:ln>
        </p:spPr>
      </p:pic>
      <p:sp>
        <p:nvSpPr>
          <p:cNvPr id="3394" name="Text Box 186"/>
          <p:cNvSpPr/>
          <p:nvPr/>
        </p:nvSpPr>
        <p:spPr>
          <a:xfrm>
            <a:off x="4298040" y="3105720"/>
            <a:ext cx="7578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marL="182520" indent="-182520" algn="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9.7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5" name="Text Box 187"/>
          <p:cNvSpPr/>
          <p:nvPr/>
        </p:nvSpPr>
        <p:spPr>
          <a:xfrm>
            <a:off x="3690360" y="3105000"/>
            <a:ext cx="609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13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6" name="Text Box 192"/>
          <p:cNvSpPr/>
          <p:nvPr/>
        </p:nvSpPr>
        <p:spPr>
          <a:xfrm>
            <a:off x="2259000" y="955800"/>
            <a:ext cx="12016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( Unit : M RMB, % 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7" name="AutoShape 195"/>
          <p:cNvSpPr/>
          <p:nvPr/>
        </p:nvSpPr>
        <p:spPr>
          <a:xfrm>
            <a:off x="5099040" y="5783400"/>
            <a:ext cx="190440" cy="190440"/>
          </a:xfrm>
          <a:custGeom>
            <a:avLst/>
            <a:gdLst>
              <a:gd name="textAreaLeft" fmla="*/ 11880 w 190440"/>
              <a:gd name="textAreaRight" fmla="*/ 178560 w 190440"/>
              <a:gd name="textAreaTop" fmla="*/ 11880 h 190440"/>
              <a:gd name="textAreaBottom" fmla="*/ 178560 h 190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10800" y="3756"/>
                </a:moveTo>
                <a:arcTo wR="7044" hR="7044" stAng="16200000" swAng="-5400000"/>
                <a:arcTo wR="7044" hR="7044" stAng="10800000" swAng="-5400000"/>
                <a:arcTo wR="7044" hR="7044" stAng="5400000" swAng="-5400000"/>
                <a:arcTo wR="7044" hR="7044" stAng="0" swAng="-5400000"/>
                <a:close/>
              </a:path>
              <a:path fill="lighten" w="21600" h="21600">
                <a:moveTo>
                  <a:pt x="10800" y="4133"/>
                </a:moveTo>
                <a:arcTo wR="1803" hR="1803" stAng="16200000" swAng="-5400000"/>
                <a:arcTo wR="1803" hR="1803" stAng="10800000" swAng="-5400000"/>
                <a:arcTo wR="1803" hR="1803" stAng="5400000" swAng="-5400000"/>
                <a:arcTo wR="1803" hR="1803" stAng="0" swAng="-5400000"/>
                <a:close/>
              </a:path>
              <a:path fill="lighten" w="21600" h="21600">
                <a:moveTo>
                  <a:pt x="8210" y="8210"/>
                </a:moveTo>
                <a:lnTo>
                  <a:pt x="12095" y="8210"/>
                </a:lnTo>
                <a:lnTo>
                  <a:pt x="12095" y="15245"/>
                </a:lnTo>
                <a:lnTo>
                  <a:pt x="13390" y="15245"/>
                </a:lnTo>
                <a:lnTo>
                  <a:pt x="13390" y="16173"/>
                </a:lnTo>
                <a:lnTo>
                  <a:pt x="8210" y="16173"/>
                </a:lnTo>
                <a:lnTo>
                  <a:pt x="8210" y="15245"/>
                </a:lnTo>
                <a:lnTo>
                  <a:pt x="9505" y="15245"/>
                </a:lnTo>
                <a:lnTo>
                  <a:pt x="9505" y="9120"/>
                </a:lnTo>
                <a:lnTo>
                  <a:pt x="8210" y="9120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8" name="Text Box 197"/>
          <p:cNvSpPr/>
          <p:nvPr/>
        </p:nvSpPr>
        <p:spPr>
          <a:xfrm>
            <a:off x="4367160" y="2589120"/>
            <a:ext cx="32076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9" name="Text Box 198"/>
          <p:cNvSpPr/>
          <p:nvPr/>
        </p:nvSpPr>
        <p:spPr>
          <a:xfrm>
            <a:off x="2276280" y="4143240"/>
            <a:ext cx="32076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0" name="Text Box 199"/>
          <p:cNvSpPr/>
          <p:nvPr/>
        </p:nvSpPr>
        <p:spPr>
          <a:xfrm>
            <a:off x="366120" y="6040440"/>
            <a:ext cx="2401200" cy="43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1) Division funded $12M to LGENP (0%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2) Division funded $6M to LGEPN (△5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  <a:ea typeface="宋体"/>
              </a:rPr>
              <a:t>.0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%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1" name="Text Box 200"/>
          <p:cNvSpPr/>
          <p:nvPr/>
        </p:nvSpPr>
        <p:spPr>
          <a:xfrm>
            <a:off x="5178240" y="4276800"/>
            <a:ext cx="340236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Loss by Fixed margin to NESS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   - GOME (12M RMB), SUNING (4M RMB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2" name="Text Box 201"/>
          <p:cNvSpPr/>
          <p:nvPr/>
        </p:nvSpPr>
        <p:spPr>
          <a:xfrm>
            <a:off x="5178240" y="4898880"/>
            <a:ext cx="2652480" cy="5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/C Return loss</a:t>
            </a:r>
            <a:br>
              <a:rPr sz="1300"/>
            </a:b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   - $12M (Defective return $7M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3" name="Rectangle 4" descr=""/>
          <p:cNvPicPr/>
          <p:nvPr/>
        </p:nvPicPr>
        <p:blipFill>
          <a:blip r:embed="rId21"/>
          <a:stretch/>
        </p:blipFill>
        <p:spPr>
          <a:xfrm>
            <a:off x="109440" y="109440"/>
            <a:ext cx="951120" cy="567000"/>
          </a:xfrm>
          <a:prstGeom prst="rect">
            <a:avLst/>
          </a:prstGeom>
          <a:ln w="0">
            <a:noFill/>
          </a:ln>
        </p:spPr>
      </p:pic>
      <p:sp>
        <p:nvSpPr>
          <p:cNvPr id="3404" name="直接连接符 93"/>
          <p:cNvSpPr/>
          <p:nvPr/>
        </p:nvSpPr>
        <p:spPr>
          <a:xfrm>
            <a:off x="965160" y="237960"/>
            <a:ext cx="0" cy="214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5" name="标题 2"/>
          <p:cNvSpPr/>
          <p:nvPr/>
        </p:nvSpPr>
        <p:spPr>
          <a:xfrm>
            <a:off x="950760" y="190440"/>
            <a:ext cx="1555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经营分析报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6" name="矩形 95" descr=""/>
          <p:cNvPicPr/>
          <p:nvPr/>
        </p:nvPicPr>
        <p:blipFill>
          <a:blip r:embed="rId22"/>
          <a:stretch/>
        </p:blipFill>
        <p:spPr>
          <a:xfrm>
            <a:off x="6566040" y="115920"/>
            <a:ext cx="3352680" cy="1133280"/>
          </a:xfrm>
          <a:prstGeom prst="rect">
            <a:avLst/>
          </a:prstGeom>
          <a:ln w="0">
            <a:noFill/>
          </a:ln>
        </p:spPr>
      </p:pic>
      <p:sp>
        <p:nvSpPr>
          <p:cNvPr id="3407" name="Rectangle 196"/>
          <p:cNvSpPr/>
          <p:nvPr/>
        </p:nvSpPr>
        <p:spPr>
          <a:xfrm>
            <a:off x="6600960" y="100080"/>
            <a:ext cx="31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바탕"/>
              </a:rPr>
              <a:t> Ⅲ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바탕"/>
              </a:rPr>
              <a:t>. ’07 BIZ Performa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8" name="Rectangle 111"/>
          <p:cNvSpPr/>
          <p:nvPr/>
        </p:nvSpPr>
        <p:spPr>
          <a:xfrm>
            <a:off x="7119720" y="374760"/>
            <a:ext cx="627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bfbfbf"/>
                </a:solidFill>
                <a:latin typeface="Arial"/>
              </a:rPr>
              <a:t>Profi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9" name=""/>
          <p:cNvGrpSpPr/>
          <p:nvPr/>
        </p:nvGrpSpPr>
        <p:grpSpPr>
          <a:xfrm>
            <a:off x="0" y="6443640"/>
            <a:ext cx="9918720" cy="237960"/>
            <a:chOff x="0" y="6443640"/>
            <a:chExt cx="9918720" cy="237960"/>
          </a:xfrm>
        </p:grpSpPr>
        <p:pic>
          <p:nvPicPr>
            <p:cNvPr id="3410" name="矩形 97" descr=""/>
            <p:cNvPicPr/>
            <p:nvPr/>
          </p:nvPicPr>
          <p:blipFill>
            <a:blip r:embed="rId23"/>
            <a:stretch/>
          </p:blipFill>
          <p:spPr>
            <a:xfrm>
              <a:off x="0" y="6443640"/>
              <a:ext cx="991728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1" name=""/>
            <p:cNvSpPr/>
            <p:nvPr/>
          </p:nvSpPr>
          <p:spPr>
            <a:xfrm>
              <a:off x="0" y="6445080"/>
              <a:ext cx="991872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2" name="灯片编号占位符 5"/>
          <p:cNvSpPr/>
          <p:nvPr/>
        </p:nvSpPr>
        <p:spPr>
          <a:xfrm>
            <a:off x="7397640" y="6399360"/>
            <a:ext cx="1486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ge   </a:t>
            </a:r>
            <a:fld id="{649D356C-232D-4615-93A2-627B8EF8916F}" type="slidenum">
              <a:rPr b="0" lang="zh-CN" sz="1000" spc="-1" strike="noStrike">
                <a:solidFill>
                  <a:srgbClr val="ffffff"/>
                </a:solidFill>
                <a:latin typeface="华文宋体"/>
                <a:ea typeface="华文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3" name="Rectangle 7"/>
          <p:cNvSpPr/>
          <p:nvPr/>
        </p:nvSpPr>
        <p:spPr>
          <a:xfrm>
            <a:off x="3860640" y="1341360"/>
            <a:ext cx="3329280" cy="5040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4" name="Text Box 8"/>
          <p:cNvSpPr/>
          <p:nvPr/>
        </p:nvSpPr>
        <p:spPr>
          <a:xfrm>
            <a:off x="1744560" y="915840"/>
            <a:ext cx="138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70c0"/>
                </a:solidFill>
                <a:uFillTx/>
                <a:latin typeface="Arial"/>
              </a:rPr>
              <a:t>Key Initiati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5" name="AutoShape 10"/>
          <p:cNvSpPr/>
          <p:nvPr/>
        </p:nvSpPr>
        <p:spPr>
          <a:xfrm>
            <a:off x="193680" y="1477440"/>
            <a:ext cx="1089000" cy="30384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844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6" name="Text Box 11"/>
          <p:cNvSpPr/>
          <p:nvPr/>
        </p:nvSpPr>
        <p:spPr>
          <a:xfrm>
            <a:off x="1371600" y="1424160"/>
            <a:ext cx="229572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ime to Mar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spcAft>
                <a:spcPts val="74"/>
              </a:spcAft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70c0"/>
                </a:solidFill>
                <a:latin typeface="Arial"/>
              </a:rPr>
              <a:t>Optimize Product Portfol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7" name="AutoShape 12"/>
          <p:cNvSpPr/>
          <p:nvPr/>
        </p:nvSpPr>
        <p:spPr>
          <a:xfrm>
            <a:off x="193680" y="2474280"/>
            <a:ext cx="1089000" cy="30384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844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8" name="Text Box 13"/>
          <p:cNvSpPr/>
          <p:nvPr/>
        </p:nvSpPr>
        <p:spPr>
          <a:xfrm>
            <a:off x="1370160" y="2521080"/>
            <a:ext cx="12031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fit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9" name="AutoShape 14"/>
          <p:cNvSpPr/>
          <p:nvPr/>
        </p:nvSpPr>
        <p:spPr>
          <a:xfrm>
            <a:off x="193680" y="3277800"/>
            <a:ext cx="1089000" cy="30384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844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0" name="Text Box 15"/>
          <p:cNvSpPr/>
          <p:nvPr/>
        </p:nvSpPr>
        <p:spPr>
          <a:xfrm>
            <a:off x="1369080" y="3224160"/>
            <a:ext cx="1830960" cy="6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lect &amp; Foc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spcAft>
                <a:spcPts val="74"/>
              </a:spcAft>
              <a:buClr>
                <a:srgbClr val="0070c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70c0"/>
                </a:solidFill>
                <a:latin typeface="Arial"/>
              </a:rPr>
              <a:t>Deepen cooperation</a:t>
            </a:r>
            <a:br>
              <a:rPr sz="1200"/>
            </a:br>
            <a:r>
              <a:rPr b="1" lang="en-US" sz="1200" spc="-1" strike="noStrike">
                <a:solidFill>
                  <a:srgbClr val="0070c0"/>
                </a:solidFill>
                <a:latin typeface="Arial"/>
              </a:rPr>
              <a:t>     with 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1" name="AutoShape 16"/>
          <p:cNvSpPr/>
          <p:nvPr/>
        </p:nvSpPr>
        <p:spPr>
          <a:xfrm>
            <a:off x="193680" y="4141440"/>
            <a:ext cx="1092240" cy="30384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844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mo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2" name="Text Box 17"/>
          <p:cNvSpPr/>
          <p:nvPr/>
        </p:nvSpPr>
        <p:spPr>
          <a:xfrm>
            <a:off x="1367640" y="4057560"/>
            <a:ext cx="214488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comotive strate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spcAft>
                <a:spcPts val="74"/>
              </a:spcAft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Boost ATL effectiv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spcAft>
                <a:spcPts val="74"/>
              </a:spcAft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Improve POS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3" name="AutoShape 18"/>
          <p:cNvSpPr/>
          <p:nvPr/>
        </p:nvSpPr>
        <p:spPr>
          <a:xfrm>
            <a:off x="193680" y="4980960"/>
            <a:ext cx="1092240" cy="30384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844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4" name="Text Box 19"/>
          <p:cNvSpPr/>
          <p:nvPr/>
        </p:nvSpPr>
        <p:spPr>
          <a:xfrm>
            <a:off x="1370880" y="4927680"/>
            <a:ext cx="184752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ogistics Inno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5" name="AutoShape 20"/>
          <p:cNvSpPr/>
          <p:nvPr/>
        </p:nvSpPr>
        <p:spPr>
          <a:xfrm>
            <a:off x="193680" y="5771520"/>
            <a:ext cx="1092240" cy="30384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844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eo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6" name="Text Box 21"/>
          <p:cNvSpPr/>
          <p:nvPr/>
        </p:nvSpPr>
        <p:spPr>
          <a:xfrm>
            <a:off x="1369080" y="5759280"/>
            <a:ext cx="17042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moter level-up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7" name="Text Box 22"/>
          <p:cNvSpPr/>
          <p:nvPr/>
        </p:nvSpPr>
        <p:spPr>
          <a:xfrm>
            <a:off x="3865320" y="1409760"/>
            <a:ext cx="2923200" cy="9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10000"/>
              </a:lnSpc>
              <a:spcBef>
                <a:spcPts val="62"/>
              </a:spcBef>
              <a:spcAft>
                <a:spcPts val="62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mium product launching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(80 Model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 Revenue ratio = 6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4"/>
              </a:spcBef>
              <a:spcAft>
                <a:spcPts val="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emium product sales portion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- `05: 44%</a:t>
            </a:r>
            <a:r>
              <a:rPr b="0" lang="en-US" sz="1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`06: 54%</a:t>
            </a:r>
            <a:r>
              <a:rPr b="0" lang="en-US" sz="1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`07: 6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8" name="Text Box 23"/>
          <p:cNvSpPr/>
          <p:nvPr/>
        </p:nvSpPr>
        <p:spPr>
          <a:xfrm>
            <a:off x="3863160" y="2521080"/>
            <a:ext cx="29570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74"/>
              </a:spcBef>
              <a:spcAft>
                <a:spcPts val="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ginning of Profitability-oriented poli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9" name="Text Box 24"/>
          <p:cNvSpPr/>
          <p:nvPr/>
        </p:nvSpPr>
        <p:spPr>
          <a:xfrm>
            <a:off x="3865320" y="4073400"/>
            <a:ext cx="2608200" cy="5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10000"/>
              </a:lnSpc>
              <a:spcBef>
                <a:spcPts val="74"/>
              </a:spcBef>
              <a:spcAft>
                <a:spcPts val="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aided awareness impr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4"/>
              </a:spcBef>
              <a:spcAft>
                <a:spcPts val="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op Identity improvement in DT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0" name="Text Box 25"/>
          <p:cNvSpPr/>
          <p:nvPr/>
        </p:nvSpPr>
        <p:spPr>
          <a:xfrm>
            <a:off x="3866040" y="4927680"/>
            <a:ext cx="3005640" cy="5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ventory Consolidation, Home Delive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t up B2Bi with SU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1" name="Text Box 26"/>
          <p:cNvSpPr/>
          <p:nvPr/>
        </p:nvSpPr>
        <p:spPr>
          <a:xfrm>
            <a:off x="3864600" y="5789520"/>
            <a:ext cx="214776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74"/>
              </a:spcBef>
              <a:spcAft>
                <a:spcPts val="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provement in productivity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&amp; cost efficienc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2" name="Text Box 27"/>
          <p:cNvSpPr/>
          <p:nvPr/>
        </p:nvSpPr>
        <p:spPr>
          <a:xfrm>
            <a:off x="7225920" y="4076640"/>
            <a:ext cx="178056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eed to improve D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ffective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3" name="Text Box 28"/>
          <p:cNvSpPr/>
          <p:nvPr/>
        </p:nvSpPr>
        <p:spPr>
          <a:xfrm>
            <a:off x="7227360" y="5788080"/>
            <a:ext cx="16358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ing from Ju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4" name="Line 29"/>
          <p:cNvSpPr/>
          <p:nvPr/>
        </p:nvSpPr>
        <p:spPr>
          <a:xfrm>
            <a:off x="193680" y="2362320"/>
            <a:ext cx="9441000" cy="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5" name="Line 30"/>
          <p:cNvSpPr/>
          <p:nvPr/>
        </p:nvSpPr>
        <p:spPr>
          <a:xfrm>
            <a:off x="193680" y="3124080"/>
            <a:ext cx="9441000" cy="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6" name="Line 31"/>
          <p:cNvSpPr/>
          <p:nvPr/>
        </p:nvSpPr>
        <p:spPr>
          <a:xfrm>
            <a:off x="193680" y="4019400"/>
            <a:ext cx="9441000" cy="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7" name="Line 32"/>
          <p:cNvSpPr/>
          <p:nvPr/>
        </p:nvSpPr>
        <p:spPr>
          <a:xfrm>
            <a:off x="193680" y="4854600"/>
            <a:ext cx="9441000" cy="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8" name="Line 33"/>
          <p:cNvSpPr/>
          <p:nvPr/>
        </p:nvSpPr>
        <p:spPr>
          <a:xfrm>
            <a:off x="193680" y="5661000"/>
            <a:ext cx="9441000" cy="0"/>
          </a:xfrm>
          <a:prstGeom prst="line">
            <a:avLst/>
          </a:prstGeom>
          <a:ln w="12600">
            <a:solidFill>
              <a:srgbClr val="3333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9" name="Text Box 34"/>
          <p:cNvSpPr/>
          <p:nvPr/>
        </p:nvSpPr>
        <p:spPr>
          <a:xfrm>
            <a:off x="3909600" y="3224160"/>
            <a:ext cx="2428200" cy="5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cus on P1 market &amp; 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g growth in NESS (GR : 46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0" name="Text Box 35"/>
          <p:cNvSpPr/>
          <p:nvPr/>
        </p:nvSpPr>
        <p:spPr>
          <a:xfrm>
            <a:off x="4753800" y="915840"/>
            <a:ext cx="128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70c0"/>
                </a:solidFill>
                <a:uFillTx/>
                <a:latin typeface="Arial"/>
              </a:rPr>
              <a:t>Achiev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1" name="Text Box 37"/>
          <p:cNvSpPr/>
          <p:nvPr/>
        </p:nvSpPr>
        <p:spPr>
          <a:xfrm>
            <a:off x="7885800" y="903240"/>
            <a:ext cx="104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70c0"/>
                </a:solidFill>
                <a:uFillTx/>
                <a:latin typeface="Arial"/>
              </a:rPr>
              <a:t>Refl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2" name="Text Box 45"/>
          <p:cNvSpPr/>
          <p:nvPr/>
        </p:nvSpPr>
        <p:spPr>
          <a:xfrm>
            <a:off x="7227000" y="2521080"/>
            <a:ext cx="1805040" cy="47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ce match issu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 big promo seas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3" name="Text Box 46"/>
          <p:cNvSpPr/>
          <p:nvPr/>
        </p:nvSpPr>
        <p:spPr>
          <a:xfrm>
            <a:off x="7226640" y="1424160"/>
            <a:ext cx="25135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duction delay (1~2 month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4" name="Text Box 47"/>
          <p:cNvSpPr/>
          <p:nvPr/>
        </p:nvSpPr>
        <p:spPr>
          <a:xfrm>
            <a:off x="7225920" y="3249720"/>
            <a:ext cx="239940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hind competition &amp; market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expanding into P2/P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5" name="Text Box 48"/>
          <p:cNvSpPr/>
          <p:nvPr/>
        </p:nvSpPr>
        <p:spPr>
          <a:xfrm>
            <a:off x="7224120" y="4927680"/>
            <a:ext cx="20030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mprove SCM efficiency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GSCP, Hi-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epare entry in P2/P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6" name="Rectangle 4" descr=""/>
          <p:cNvPicPr/>
          <p:nvPr/>
        </p:nvPicPr>
        <p:blipFill>
          <a:blip r:embed="rId1"/>
          <a:stretch/>
        </p:blipFill>
        <p:spPr>
          <a:xfrm>
            <a:off x="109440" y="109440"/>
            <a:ext cx="951120" cy="567000"/>
          </a:xfrm>
          <a:prstGeom prst="rect">
            <a:avLst/>
          </a:prstGeom>
          <a:ln w="0">
            <a:noFill/>
          </a:ln>
        </p:spPr>
      </p:pic>
      <p:sp>
        <p:nvSpPr>
          <p:cNvPr id="3447" name="直接连接符 38"/>
          <p:cNvSpPr/>
          <p:nvPr/>
        </p:nvSpPr>
        <p:spPr>
          <a:xfrm>
            <a:off x="965160" y="237960"/>
            <a:ext cx="0" cy="214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8" name="标题 2"/>
          <p:cNvSpPr/>
          <p:nvPr/>
        </p:nvSpPr>
        <p:spPr>
          <a:xfrm>
            <a:off x="950760" y="190440"/>
            <a:ext cx="1555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经营分析报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9" name="矩形 40" descr=""/>
          <p:cNvPicPr/>
          <p:nvPr/>
        </p:nvPicPr>
        <p:blipFill>
          <a:blip r:embed="rId2"/>
          <a:stretch/>
        </p:blipFill>
        <p:spPr>
          <a:xfrm>
            <a:off x="6566040" y="115920"/>
            <a:ext cx="3352680" cy="1133280"/>
          </a:xfrm>
          <a:prstGeom prst="rect">
            <a:avLst/>
          </a:prstGeom>
          <a:ln w="0">
            <a:noFill/>
          </a:ln>
        </p:spPr>
      </p:pic>
      <p:sp>
        <p:nvSpPr>
          <p:cNvPr id="3450" name="Rectangle 196"/>
          <p:cNvSpPr/>
          <p:nvPr/>
        </p:nvSpPr>
        <p:spPr>
          <a:xfrm>
            <a:off x="6600960" y="100080"/>
            <a:ext cx="316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바탕"/>
              </a:rPr>
              <a:t> Ⅲ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바탕"/>
              </a:rPr>
              <a:t>. ’07 BIZ Performanc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1" name="Rectangle 111"/>
          <p:cNvSpPr/>
          <p:nvPr/>
        </p:nvSpPr>
        <p:spPr>
          <a:xfrm>
            <a:off x="7119720" y="374760"/>
            <a:ext cx="627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bfbfbf"/>
                </a:solidFill>
                <a:latin typeface="Arial"/>
              </a:rPr>
              <a:t>Profi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2" name="矩形 7"/>
          <p:cNvSpPr/>
          <p:nvPr/>
        </p:nvSpPr>
        <p:spPr>
          <a:xfrm>
            <a:off x="179280" y="6431040"/>
            <a:ext cx="567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06360"/>
                <a:tab algn="l" pos="2413080"/>
                <a:tab algn="l" pos="3619440"/>
                <a:tab algn="l" pos="4826160"/>
                <a:tab algn="l" pos="6032520"/>
                <a:tab algn="l" pos="7238880"/>
                <a:tab algn="l" pos="8445600"/>
                <a:tab algn="l" pos="9651960"/>
                <a:tab algn="l" pos="10858680"/>
              </a:tabLst>
            </a:pPr>
            <a:r>
              <a:rPr b="0" lang="en-US" sz="1000" spc="-1" strike="noStrike">
                <a:solidFill>
                  <a:srgbClr val="a6a6a6"/>
                </a:solidFill>
                <a:latin typeface="微软雅黑"/>
                <a:ea typeface="微软雅黑"/>
              </a:rPr>
              <a:t>© </a:t>
            </a:r>
            <a:r>
              <a:rPr b="0" lang="zh-CN" sz="1000" spc="-1" strike="noStrike">
                <a:solidFill>
                  <a:srgbClr val="a6a6a6"/>
                </a:solidFill>
                <a:latin typeface="微软雅黑"/>
                <a:ea typeface="微软雅黑"/>
              </a:rPr>
              <a:t>林虎哲制作</a:t>
            </a:r>
            <a:r>
              <a:rPr b="0" lang="en-US" sz="1000" spc="-1" strike="noStrike">
                <a:solidFill>
                  <a:srgbClr val="d9d9d9"/>
                </a:solidFill>
                <a:latin typeface="微软雅黑"/>
                <a:ea typeface="微软雅黑"/>
              </a:rPr>
              <a:t>.  Weibo: @</a:t>
            </a:r>
            <a:r>
              <a:rPr b="0" lang="zh-CN" sz="1000" spc="-1" strike="noStrike">
                <a:solidFill>
                  <a:srgbClr val="d9d9d9"/>
                </a:solidFill>
                <a:latin typeface="微软雅黑"/>
                <a:ea typeface="微软雅黑"/>
              </a:rPr>
              <a:t>乌拉拉</a:t>
            </a:r>
            <a:r>
              <a:rPr b="0" lang="en-US" sz="1000" spc="-1" strike="noStrike">
                <a:solidFill>
                  <a:srgbClr val="d9d9d9"/>
                </a:solidFill>
                <a:latin typeface="微软雅黑"/>
                <a:ea typeface="微软雅黑"/>
              </a:rPr>
              <a:t>80  qq:47828100  mail: lin__hz@bankcomm.co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3" name="灯片编号占位符 5"/>
          <p:cNvSpPr/>
          <p:nvPr/>
        </p:nvSpPr>
        <p:spPr>
          <a:xfrm>
            <a:off x="7397640" y="6399360"/>
            <a:ext cx="1486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ge   </a:t>
            </a:r>
            <a:fld id="{AA642B6F-78BB-4D8D-970E-620B2D443119}" type="slidenum">
              <a:rPr b="0" lang="zh-CN" sz="1000" spc="-1" strike="noStrike">
                <a:solidFill>
                  <a:srgbClr val="ffffff"/>
                </a:solidFill>
                <a:latin typeface="华文宋体"/>
                <a:ea typeface="华文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54" name="矩形 118" descr=""/>
          <p:cNvPicPr/>
          <p:nvPr/>
        </p:nvPicPr>
        <p:blipFill>
          <a:blip r:embed="rId1"/>
          <a:stretch/>
        </p:blipFill>
        <p:spPr>
          <a:xfrm>
            <a:off x="6566040" y="115920"/>
            <a:ext cx="3352680" cy="1133280"/>
          </a:xfrm>
          <a:prstGeom prst="rect">
            <a:avLst/>
          </a:prstGeom>
          <a:ln w="0">
            <a:noFill/>
          </a:ln>
        </p:spPr>
      </p:pic>
      <p:sp>
        <p:nvSpPr>
          <p:cNvPr id="3455" name="Rectangle 88"/>
          <p:cNvSpPr/>
          <p:nvPr/>
        </p:nvSpPr>
        <p:spPr>
          <a:xfrm>
            <a:off x="6619320" y="95400"/>
            <a:ext cx="212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바탕"/>
              </a:rPr>
              <a:t> Ⅳ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바탕"/>
              </a:rPr>
              <a:t>. `08 BIZ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6" name="Text Box 181"/>
          <p:cNvSpPr/>
          <p:nvPr/>
        </p:nvSpPr>
        <p:spPr>
          <a:xfrm>
            <a:off x="7007400" y="961920"/>
            <a:ext cx="1130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70c0"/>
                </a:solidFill>
                <a:uFillTx/>
                <a:latin typeface="Arial"/>
              </a:rPr>
              <a:t>By Prod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7" name="AutoShape 184"/>
          <p:cNvSpPr/>
          <p:nvPr/>
        </p:nvSpPr>
        <p:spPr>
          <a:xfrm>
            <a:off x="5646600" y="2243160"/>
            <a:ext cx="1014480" cy="237960"/>
          </a:xfrm>
          <a:custGeom>
            <a:avLst/>
            <a:gdLst>
              <a:gd name="textAreaLeft" fmla="*/ 0 w 1014480"/>
              <a:gd name="textAreaRight" fmla="*/ 1014840 w 1014480"/>
              <a:gd name="textAreaTop" fmla="*/ 0 h 237960"/>
              <a:gd name="textAreaBottom" fmla="*/ 238320 h 23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42" y="0"/>
                </a:lnTo>
                <a:lnTo>
                  <a:pt x="21600" y="10800"/>
                </a:lnTo>
                <a:lnTo>
                  <a:pt x="1834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5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D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8" name="AutoShape 185"/>
          <p:cNvSpPr/>
          <p:nvPr/>
        </p:nvSpPr>
        <p:spPr>
          <a:xfrm>
            <a:off x="5646600" y="2638440"/>
            <a:ext cx="1014480" cy="237960"/>
          </a:xfrm>
          <a:custGeom>
            <a:avLst/>
            <a:gdLst>
              <a:gd name="textAreaLeft" fmla="*/ 0 w 1014480"/>
              <a:gd name="textAreaRight" fmla="*/ 1014840 w 1014480"/>
              <a:gd name="textAreaTop" fmla="*/ 0 h 237960"/>
              <a:gd name="textAreaBottom" fmla="*/ 238320 h 23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82" y="0"/>
                </a:lnTo>
                <a:lnTo>
                  <a:pt x="21600" y="10800"/>
                </a:lnTo>
                <a:lnTo>
                  <a:pt x="1848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030a0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9" name="AutoShape 186"/>
          <p:cNvSpPr/>
          <p:nvPr/>
        </p:nvSpPr>
        <p:spPr>
          <a:xfrm>
            <a:off x="5646600" y="3033720"/>
            <a:ext cx="1014480" cy="237960"/>
          </a:xfrm>
          <a:custGeom>
            <a:avLst/>
            <a:gdLst>
              <a:gd name="textAreaLeft" fmla="*/ 0 w 1014480"/>
              <a:gd name="textAreaRight" fmla="*/ 1014840 w 1014480"/>
              <a:gd name="textAreaTop" fmla="*/ 0 h 237960"/>
              <a:gd name="textAreaBottom" fmla="*/ 238320 h 23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42" y="0"/>
                </a:lnTo>
                <a:lnTo>
                  <a:pt x="21600" y="10800"/>
                </a:lnTo>
                <a:lnTo>
                  <a:pt x="1834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5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B/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0" name="AutoShape 187"/>
          <p:cNvSpPr/>
          <p:nvPr/>
        </p:nvSpPr>
        <p:spPr>
          <a:xfrm>
            <a:off x="5646600" y="3429000"/>
            <a:ext cx="1014480" cy="237960"/>
          </a:xfrm>
          <a:custGeom>
            <a:avLst/>
            <a:gdLst>
              <a:gd name="textAreaLeft" fmla="*/ 0 w 1014480"/>
              <a:gd name="textAreaRight" fmla="*/ 1014840 w 1014480"/>
              <a:gd name="textAreaTop" fmla="*/ 0 h 237960"/>
              <a:gd name="textAreaBottom" fmla="*/ 238320 h 23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82" y="0"/>
                </a:lnTo>
                <a:lnTo>
                  <a:pt x="21600" y="10800"/>
                </a:lnTo>
                <a:lnTo>
                  <a:pt x="1848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030a0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D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1" name="AutoShape 188"/>
          <p:cNvSpPr/>
          <p:nvPr/>
        </p:nvSpPr>
        <p:spPr>
          <a:xfrm>
            <a:off x="5646600" y="3824280"/>
            <a:ext cx="1014480" cy="237960"/>
          </a:xfrm>
          <a:custGeom>
            <a:avLst/>
            <a:gdLst>
              <a:gd name="textAreaLeft" fmla="*/ 0 w 1014480"/>
              <a:gd name="textAreaRight" fmla="*/ 1014840 w 1014480"/>
              <a:gd name="textAreaTop" fmla="*/ 0 h 237960"/>
              <a:gd name="textAreaBottom" fmla="*/ 238320 h 23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42" y="0"/>
                </a:lnTo>
                <a:lnTo>
                  <a:pt x="21600" y="10800"/>
                </a:lnTo>
                <a:lnTo>
                  <a:pt x="1834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5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U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2" name="AutoShape 189"/>
          <p:cNvSpPr/>
          <p:nvPr/>
        </p:nvSpPr>
        <p:spPr>
          <a:xfrm>
            <a:off x="5646600" y="4219560"/>
            <a:ext cx="1014480" cy="237960"/>
          </a:xfrm>
          <a:custGeom>
            <a:avLst/>
            <a:gdLst>
              <a:gd name="textAreaLeft" fmla="*/ 0 w 1014480"/>
              <a:gd name="textAreaRight" fmla="*/ 1014840 w 1014480"/>
              <a:gd name="textAreaTop" fmla="*/ 0 h 237960"/>
              <a:gd name="textAreaBottom" fmla="*/ 238320 h 23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82" y="0"/>
                </a:lnTo>
                <a:lnTo>
                  <a:pt x="21600" y="10800"/>
                </a:lnTo>
                <a:lnTo>
                  <a:pt x="1848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030a0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P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3" name="AutoShape 190"/>
          <p:cNvSpPr/>
          <p:nvPr/>
        </p:nvSpPr>
        <p:spPr>
          <a:xfrm>
            <a:off x="5646600" y="1847880"/>
            <a:ext cx="1014480" cy="237960"/>
          </a:xfrm>
          <a:custGeom>
            <a:avLst/>
            <a:gdLst>
              <a:gd name="textAreaLeft" fmla="*/ 0 w 1014480"/>
              <a:gd name="textAreaRight" fmla="*/ 1014840 w 1014480"/>
              <a:gd name="textAreaTop" fmla="*/ 0 h 237960"/>
              <a:gd name="textAreaBottom" fmla="*/ 238320 h 23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482" y="0"/>
                </a:lnTo>
                <a:lnTo>
                  <a:pt x="21600" y="10800"/>
                </a:lnTo>
                <a:lnTo>
                  <a:pt x="1848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7030a0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C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4" name="Text Box 191"/>
          <p:cNvSpPr/>
          <p:nvPr/>
        </p:nvSpPr>
        <p:spPr>
          <a:xfrm>
            <a:off x="6946200" y="1487520"/>
            <a:ext cx="5065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`07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5" name="Text Box 192"/>
          <p:cNvSpPr/>
          <p:nvPr/>
        </p:nvSpPr>
        <p:spPr>
          <a:xfrm>
            <a:off x="7785720" y="1487520"/>
            <a:ext cx="770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`08 Pl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6" name="Text Box 193"/>
          <p:cNvSpPr/>
          <p:nvPr/>
        </p:nvSpPr>
        <p:spPr>
          <a:xfrm>
            <a:off x="8730720" y="1487520"/>
            <a:ext cx="7171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Grow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7" name="Rectangle 194"/>
          <p:cNvSpPr/>
          <p:nvPr/>
        </p:nvSpPr>
        <p:spPr>
          <a:xfrm>
            <a:off x="6829560" y="1865160"/>
            <a:ext cx="741240" cy="216000"/>
          </a:xfrm>
          <a:prstGeom prst="rect">
            <a:avLst/>
          </a:prstGeom>
          <a:solidFill>
            <a:srgbClr val="fef5e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2520" indent="-18252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,2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8" name="Rectangle 195"/>
          <p:cNvSpPr/>
          <p:nvPr/>
        </p:nvSpPr>
        <p:spPr>
          <a:xfrm>
            <a:off x="7797960" y="1865160"/>
            <a:ext cx="741240" cy="216000"/>
          </a:xfrm>
          <a:prstGeom prst="rect">
            <a:avLst/>
          </a:prstGeom>
          <a:solidFill>
            <a:srgbClr val="fef5e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2520" indent="-18252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,6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9" name="Rectangle 196"/>
          <p:cNvSpPr/>
          <p:nvPr/>
        </p:nvSpPr>
        <p:spPr>
          <a:xfrm>
            <a:off x="8717040" y="1865160"/>
            <a:ext cx="741240" cy="216000"/>
          </a:xfrm>
          <a:prstGeom prst="rect">
            <a:avLst/>
          </a:prstGeom>
          <a:solidFill>
            <a:srgbClr val="fef5e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2520" indent="-18252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0" name="Rectangle 197"/>
          <p:cNvSpPr/>
          <p:nvPr/>
        </p:nvSpPr>
        <p:spPr>
          <a:xfrm>
            <a:off x="6829560" y="2260440"/>
            <a:ext cx="741240" cy="216000"/>
          </a:xfrm>
          <a:prstGeom prst="rect">
            <a:avLst/>
          </a:prstGeom>
          <a:solidFill>
            <a:srgbClr val="fef5e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2520" indent="-18252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1" name="Rectangle 198"/>
          <p:cNvSpPr/>
          <p:nvPr/>
        </p:nvSpPr>
        <p:spPr>
          <a:xfrm>
            <a:off x="7797960" y="2260440"/>
            <a:ext cx="741240" cy="216000"/>
          </a:xfrm>
          <a:prstGeom prst="rect">
            <a:avLst/>
          </a:prstGeom>
          <a:solidFill>
            <a:srgbClr val="fef5e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2520" indent="-18252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2" name="Rectangle 199"/>
          <p:cNvSpPr/>
          <p:nvPr/>
        </p:nvSpPr>
        <p:spPr>
          <a:xfrm>
            <a:off x="8717040" y="2260440"/>
            <a:ext cx="741240" cy="216000"/>
          </a:xfrm>
          <a:prstGeom prst="rect">
            <a:avLst/>
          </a:prstGeom>
          <a:solidFill>
            <a:srgbClr val="fef5e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2520" indent="-18252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3" name="Rectangle 200"/>
          <p:cNvSpPr/>
          <p:nvPr/>
        </p:nvSpPr>
        <p:spPr>
          <a:xfrm>
            <a:off x="6829560" y="2655720"/>
            <a:ext cx="741240" cy="216000"/>
          </a:xfrm>
          <a:prstGeom prst="rect">
            <a:avLst/>
          </a:prstGeom>
          <a:solidFill>
            <a:srgbClr val="fef5e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2520" indent="-18252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4" name="Rectangle 201"/>
          <p:cNvSpPr/>
          <p:nvPr/>
        </p:nvSpPr>
        <p:spPr>
          <a:xfrm>
            <a:off x="7797960" y="2655720"/>
            <a:ext cx="741240" cy="216000"/>
          </a:xfrm>
          <a:prstGeom prst="rect">
            <a:avLst/>
          </a:prstGeom>
          <a:solidFill>
            <a:srgbClr val="fef5e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2520" indent="-18252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5" name="Rectangle 202"/>
          <p:cNvSpPr/>
          <p:nvPr/>
        </p:nvSpPr>
        <p:spPr>
          <a:xfrm>
            <a:off x="8717040" y="2655720"/>
            <a:ext cx="741240" cy="216000"/>
          </a:xfrm>
          <a:prstGeom prst="rect">
            <a:avLst/>
          </a:prstGeom>
          <a:solidFill>
            <a:srgbClr val="fef5e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2520" indent="-18252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6" name="Rectangle 203"/>
          <p:cNvSpPr/>
          <p:nvPr/>
        </p:nvSpPr>
        <p:spPr>
          <a:xfrm>
            <a:off x="6829560" y="3446640"/>
            <a:ext cx="741240" cy="215640"/>
          </a:xfrm>
          <a:prstGeom prst="rect">
            <a:avLst/>
          </a:prstGeom>
          <a:solidFill>
            <a:srgbClr val="fef5e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2520" indent="-18252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8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7" name="Rectangle 204"/>
          <p:cNvSpPr/>
          <p:nvPr/>
        </p:nvSpPr>
        <p:spPr>
          <a:xfrm>
            <a:off x="7797960" y="3446640"/>
            <a:ext cx="741240" cy="215640"/>
          </a:xfrm>
          <a:prstGeom prst="rect">
            <a:avLst/>
          </a:prstGeom>
          <a:solidFill>
            <a:srgbClr val="fef5e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2520" indent="-18252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8" name="Rectangle 205"/>
          <p:cNvSpPr/>
          <p:nvPr/>
        </p:nvSpPr>
        <p:spPr>
          <a:xfrm>
            <a:off x="8717040" y="3446640"/>
            <a:ext cx="741240" cy="215640"/>
          </a:xfrm>
          <a:prstGeom prst="rect">
            <a:avLst/>
          </a:prstGeom>
          <a:solidFill>
            <a:srgbClr val="fef5e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2520" indent="-18252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9" name="Rectangle 206"/>
          <p:cNvSpPr/>
          <p:nvPr/>
        </p:nvSpPr>
        <p:spPr>
          <a:xfrm>
            <a:off x="6829560" y="3841920"/>
            <a:ext cx="741240" cy="215640"/>
          </a:xfrm>
          <a:prstGeom prst="rect">
            <a:avLst/>
          </a:prstGeom>
          <a:solidFill>
            <a:srgbClr val="fef5e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2520" indent="-18252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0" name="Rectangle 207"/>
          <p:cNvSpPr/>
          <p:nvPr/>
        </p:nvSpPr>
        <p:spPr>
          <a:xfrm>
            <a:off x="7797960" y="3841920"/>
            <a:ext cx="741240" cy="215640"/>
          </a:xfrm>
          <a:prstGeom prst="rect">
            <a:avLst/>
          </a:prstGeom>
          <a:solidFill>
            <a:srgbClr val="fef5e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2520" indent="-18252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6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1" name="Rectangle 208"/>
          <p:cNvSpPr/>
          <p:nvPr/>
        </p:nvSpPr>
        <p:spPr>
          <a:xfrm>
            <a:off x="8717040" y="3841920"/>
            <a:ext cx="741240" cy="215640"/>
          </a:xfrm>
          <a:prstGeom prst="rect">
            <a:avLst/>
          </a:prstGeom>
          <a:solidFill>
            <a:srgbClr val="fef5e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2520" indent="-18252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2" name="Rectangle 209"/>
          <p:cNvSpPr/>
          <p:nvPr/>
        </p:nvSpPr>
        <p:spPr>
          <a:xfrm>
            <a:off x="6829560" y="4237200"/>
            <a:ext cx="741240" cy="215640"/>
          </a:xfrm>
          <a:prstGeom prst="rect">
            <a:avLst/>
          </a:prstGeom>
          <a:solidFill>
            <a:srgbClr val="fef5e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2520" indent="-18252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3" name="Rectangle 210"/>
          <p:cNvSpPr/>
          <p:nvPr/>
        </p:nvSpPr>
        <p:spPr>
          <a:xfrm>
            <a:off x="7797960" y="4237200"/>
            <a:ext cx="741240" cy="215640"/>
          </a:xfrm>
          <a:prstGeom prst="rect">
            <a:avLst/>
          </a:prstGeom>
          <a:solidFill>
            <a:srgbClr val="fef5e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2520" indent="-18252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4" name="Rectangle 211"/>
          <p:cNvSpPr/>
          <p:nvPr/>
        </p:nvSpPr>
        <p:spPr>
          <a:xfrm>
            <a:off x="8717040" y="4237200"/>
            <a:ext cx="741240" cy="215640"/>
          </a:xfrm>
          <a:prstGeom prst="rect">
            <a:avLst/>
          </a:prstGeom>
          <a:solidFill>
            <a:srgbClr val="fef5e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2520" indent="-18252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5" name="Rectangle 212"/>
          <p:cNvSpPr/>
          <p:nvPr/>
        </p:nvSpPr>
        <p:spPr>
          <a:xfrm>
            <a:off x="6829560" y="5029200"/>
            <a:ext cx="741240" cy="216000"/>
          </a:xfrm>
          <a:prstGeom prst="rect">
            <a:avLst/>
          </a:prstGeom>
          <a:solidFill>
            <a:srgbClr val="fef5e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2520" indent="-18252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6" name="Rectangle 213"/>
          <p:cNvSpPr/>
          <p:nvPr/>
        </p:nvSpPr>
        <p:spPr>
          <a:xfrm>
            <a:off x="7797960" y="5029200"/>
            <a:ext cx="741240" cy="216000"/>
          </a:xfrm>
          <a:prstGeom prst="rect">
            <a:avLst/>
          </a:prstGeom>
          <a:solidFill>
            <a:srgbClr val="fef5e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2520" indent="-18252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7" name="Rectangle 214"/>
          <p:cNvSpPr/>
          <p:nvPr/>
        </p:nvSpPr>
        <p:spPr>
          <a:xfrm>
            <a:off x="8717040" y="5029200"/>
            <a:ext cx="741240" cy="216000"/>
          </a:xfrm>
          <a:prstGeom prst="rect">
            <a:avLst/>
          </a:prstGeom>
          <a:solidFill>
            <a:srgbClr val="fef5e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2520" indent="-18252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8" name="AutoShape 215"/>
          <p:cNvSpPr/>
          <p:nvPr/>
        </p:nvSpPr>
        <p:spPr>
          <a:xfrm>
            <a:off x="6251400" y="5702400"/>
            <a:ext cx="233640" cy="144360"/>
          </a:xfrm>
          <a:custGeom>
            <a:avLst/>
            <a:gdLst>
              <a:gd name="textAreaLeft" fmla="*/ 9000 w 233640"/>
              <a:gd name="textAreaRight" fmla="*/ 224640 w 233640"/>
              <a:gd name="textAreaTop" fmla="*/ 9000 h 144360"/>
              <a:gd name="textAreaBottom" fmla="*/ 135360 h 144360"/>
            </a:gdLst>
            <a:ahLst/>
            <a:rect l="textAreaLeft" t="textAreaTop" r="textAreaRight" b="textAreaBottom"/>
            <a:pathLst>
              <a:path w="34925" h="21600">
                <a:moveTo>
                  <a:pt x="0" y="0"/>
                </a:moveTo>
                <a:lnTo>
                  <a:pt x="34925" y="0"/>
                </a:lnTo>
                <a:lnTo>
                  <a:pt x="34925" y="21600"/>
                </a:lnTo>
                <a:lnTo>
                  <a:pt x="0" y="21600"/>
                </a:lnTo>
                <a:close/>
              </a:path>
              <a:path fill="lightenLess" w="34925" h="21600">
                <a:moveTo>
                  <a:pt x="0" y="0"/>
                </a:moveTo>
                <a:lnTo>
                  <a:pt x="34925" y="0"/>
                </a:lnTo>
                <a:lnTo>
                  <a:pt x="33575" y="1350"/>
                </a:lnTo>
                <a:lnTo>
                  <a:pt x="1350" y="1350"/>
                </a:lnTo>
                <a:close/>
              </a:path>
              <a:path fill="darken" w="34925" h="21600">
                <a:moveTo>
                  <a:pt x="34925" y="0"/>
                </a:moveTo>
                <a:lnTo>
                  <a:pt x="34925" y="21600"/>
                </a:lnTo>
                <a:lnTo>
                  <a:pt x="33575" y="20250"/>
                </a:lnTo>
                <a:lnTo>
                  <a:pt x="33575" y="1350"/>
                </a:lnTo>
                <a:close/>
              </a:path>
              <a:path fill="darkenLess" w="34925" h="21600">
                <a:moveTo>
                  <a:pt x="34925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3575" y="20250"/>
                </a:lnTo>
                <a:close/>
              </a:path>
              <a:path fill="lighten" w="34925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4925" h="21600">
                <a:moveTo>
                  <a:pt x="10419" y="3756"/>
                </a:moveTo>
                <a:lnTo>
                  <a:pt x="24506" y="10800"/>
                </a:lnTo>
                <a:lnTo>
                  <a:pt x="10419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9" name="Text Box 216"/>
          <p:cNvSpPr/>
          <p:nvPr/>
        </p:nvSpPr>
        <p:spPr>
          <a:xfrm>
            <a:off x="5819760" y="5649840"/>
            <a:ext cx="4885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DT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0" name="AutoShape 217"/>
          <p:cNvSpPr/>
          <p:nvPr/>
        </p:nvSpPr>
        <p:spPr>
          <a:xfrm>
            <a:off x="7343640" y="5702400"/>
            <a:ext cx="233640" cy="144360"/>
          </a:xfrm>
          <a:custGeom>
            <a:avLst/>
            <a:gdLst>
              <a:gd name="textAreaLeft" fmla="*/ 9000 w 233640"/>
              <a:gd name="textAreaRight" fmla="*/ 224640 w 233640"/>
              <a:gd name="textAreaTop" fmla="*/ 9000 h 144360"/>
              <a:gd name="textAreaBottom" fmla="*/ 135360 h 144360"/>
            </a:gdLst>
            <a:ahLst/>
            <a:rect l="textAreaLeft" t="textAreaTop" r="textAreaRight" b="textAreaBottom"/>
            <a:pathLst>
              <a:path w="34925" h="21600">
                <a:moveTo>
                  <a:pt x="0" y="0"/>
                </a:moveTo>
                <a:lnTo>
                  <a:pt x="34925" y="0"/>
                </a:lnTo>
                <a:lnTo>
                  <a:pt x="34925" y="21600"/>
                </a:lnTo>
                <a:lnTo>
                  <a:pt x="0" y="21600"/>
                </a:lnTo>
                <a:close/>
              </a:path>
              <a:path fill="lightenLess" w="34925" h="21600">
                <a:moveTo>
                  <a:pt x="0" y="0"/>
                </a:moveTo>
                <a:lnTo>
                  <a:pt x="34925" y="0"/>
                </a:lnTo>
                <a:lnTo>
                  <a:pt x="33575" y="1350"/>
                </a:lnTo>
                <a:lnTo>
                  <a:pt x="1350" y="1350"/>
                </a:lnTo>
                <a:close/>
              </a:path>
              <a:path fill="darken" w="34925" h="21600">
                <a:moveTo>
                  <a:pt x="34925" y="0"/>
                </a:moveTo>
                <a:lnTo>
                  <a:pt x="34925" y="21600"/>
                </a:lnTo>
                <a:lnTo>
                  <a:pt x="33575" y="20250"/>
                </a:lnTo>
                <a:lnTo>
                  <a:pt x="33575" y="1350"/>
                </a:lnTo>
                <a:close/>
              </a:path>
              <a:path fill="darkenLess" w="34925" h="21600">
                <a:moveTo>
                  <a:pt x="34925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3575" y="20250"/>
                </a:lnTo>
                <a:close/>
              </a:path>
              <a:path fill="lighten" w="34925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4925" h="21600">
                <a:moveTo>
                  <a:pt x="10419" y="3756"/>
                </a:moveTo>
                <a:lnTo>
                  <a:pt x="24506" y="10800"/>
                </a:lnTo>
                <a:lnTo>
                  <a:pt x="10419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1" name="Text Box 218"/>
          <p:cNvSpPr/>
          <p:nvPr/>
        </p:nvSpPr>
        <p:spPr>
          <a:xfrm>
            <a:off x="6913800" y="5649840"/>
            <a:ext cx="4885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R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2" name="AutoShape 219"/>
          <p:cNvSpPr/>
          <p:nvPr/>
        </p:nvSpPr>
        <p:spPr>
          <a:xfrm>
            <a:off x="8415360" y="5702400"/>
            <a:ext cx="233280" cy="144360"/>
          </a:xfrm>
          <a:custGeom>
            <a:avLst/>
            <a:gdLst>
              <a:gd name="textAreaLeft" fmla="*/ 9000 w 233280"/>
              <a:gd name="textAreaRight" fmla="*/ 224280 w 233280"/>
              <a:gd name="textAreaTop" fmla="*/ 9000 h 144360"/>
              <a:gd name="textAreaBottom" fmla="*/ 135360 h 144360"/>
            </a:gdLst>
            <a:ahLst/>
            <a:rect l="textAreaLeft" t="textAreaTop" r="textAreaRight" b="textAreaBottom"/>
            <a:pathLst>
              <a:path w="34872" h="21600">
                <a:moveTo>
                  <a:pt x="0" y="0"/>
                </a:moveTo>
                <a:lnTo>
                  <a:pt x="34872" y="0"/>
                </a:lnTo>
                <a:lnTo>
                  <a:pt x="34872" y="21600"/>
                </a:lnTo>
                <a:lnTo>
                  <a:pt x="0" y="21600"/>
                </a:lnTo>
                <a:close/>
              </a:path>
              <a:path fill="lightenLess" w="34872" h="21600">
                <a:moveTo>
                  <a:pt x="0" y="0"/>
                </a:moveTo>
                <a:lnTo>
                  <a:pt x="34872" y="0"/>
                </a:lnTo>
                <a:lnTo>
                  <a:pt x="33522" y="1350"/>
                </a:lnTo>
                <a:lnTo>
                  <a:pt x="1350" y="1350"/>
                </a:lnTo>
                <a:close/>
              </a:path>
              <a:path fill="darken" w="34872" h="21600">
                <a:moveTo>
                  <a:pt x="34872" y="0"/>
                </a:moveTo>
                <a:lnTo>
                  <a:pt x="34872" y="21600"/>
                </a:lnTo>
                <a:lnTo>
                  <a:pt x="33522" y="20250"/>
                </a:lnTo>
                <a:lnTo>
                  <a:pt x="33522" y="1350"/>
                </a:lnTo>
                <a:close/>
              </a:path>
              <a:path fill="darkenLess" w="34872" h="21600">
                <a:moveTo>
                  <a:pt x="34872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3522" y="20250"/>
                </a:lnTo>
                <a:close/>
              </a:path>
              <a:path fill="lighten" w="34872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4872" h="21600">
                <a:moveTo>
                  <a:pt x="10392" y="3756"/>
                </a:moveTo>
                <a:lnTo>
                  <a:pt x="24480" y="10800"/>
                </a:lnTo>
                <a:lnTo>
                  <a:pt x="10392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3" name="Text Box 220"/>
          <p:cNvSpPr/>
          <p:nvPr/>
        </p:nvSpPr>
        <p:spPr>
          <a:xfrm>
            <a:off x="8002080" y="5649840"/>
            <a:ext cx="4532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W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4" name="AutoShape 221"/>
          <p:cNvSpPr/>
          <p:nvPr/>
        </p:nvSpPr>
        <p:spPr>
          <a:xfrm>
            <a:off x="9244080" y="5702400"/>
            <a:ext cx="233280" cy="144360"/>
          </a:xfrm>
          <a:custGeom>
            <a:avLst/>
            <a:gdLst>
              <a:gd name="textAreaLeft" fmla="*/ 9000 w 233280"/>
              <a:gd name="textAreaRight" fmla="*/ 224280 w 233280"/>
              <a:gd name="textAreaTop" fmla="*/ 9000 h 144360"/>
              <a:gd name="textAreaBottom" fmla="*/ 135360 h 144360"/>
            </a:gdLst>
            <a:ahLst/>
            <a:rect l="textAreaLeft" t="textAreaTop" r="textAreaRight" b="textAreaBottom"/>
            <a:pathLst>
              <a:path w="34872" h="21600">
                <a:moveTo>
                  <a:pt x="0" y="0"/>
                </a:moveTo>
                <a:lnTo>
                  <a:pt x="34872" y="0"/>
                </a:lnTo>
                <a:lnTo>
                  <a:pt x="34872" y="21600"/>
                </a:lnTo>
                <a:lnTo>
                  <a:pt x="0" y="21600"/>
                </a:lnTo>
                <a:close/>
              </a:path>
              <a:path fill="lightenLess" w="34872" h="21600">
                <a:moveTo>
                  <a:pt x="0" y="0"/>
                </a:moveTo>
                <a:lnTo>
                  <a:pt x="34872" y="0"/>
                </a:lnTo>
                <a:lnTo>
                  <a:pt x="33522" y="1350"/>
                </a:lnTo>
                <a:lnTo>
                  <a:pt x="1350" y="1350"/>
                </a:lnTo>
                <a:close/>
              </a:path>
              <a:path fill="darken" w="34872" h="21600">
                <a:moveTo>
                  <a:pt x="34872" y="0"/>
                </a:moveTo>
                <a:lnTo>
                  <a:pt x="34872" y="21600"/>
                </a:lnTo>
                <a:lnTo>
                  <a:pt x="33522" y="20250"/>
                </a:lnTo>
                <a:lnTo>
                  <a:pt x="33522" y="1350"/>
                </a:lnTo>
                <a:close/>
              </a:path>
              <a:path fill="darkenLess" w="34872" h="21600">
                <a:moveTo>
                  <a:pt x="34872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3522" y="20250"/>
                </a:lnTo>
                <a:close/>
              </a:path>
              <a:path fill="lighten" w="34872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4872" h="21600">
                <a:moveTo>
                  <a:pt x="10392" y="3756"/>
                </a:moveTo>
                <a:lnTo>
                  <a:pt x="24480" y="10800"/>
                </a:lnTo>
                <a:lnTo>
                  <a:pt x="10392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5" name="Text Box 222"/>
          <p:cNvSpPr/>
          <p:nvPr/>
        </p:nvSpPr>
        <p:spPr>
          <a:xfrm>
            <a:off x="8856720" y="5649840"/>
            <a:ext cx="4032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808080"/>
                </a:solidFill>
                <a:latin typeface="Arial"/>
              </a:rPr>
              <a:t>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6" name="Rectangle 223"/>
          <p:cNvSpPr/>
          <p:nvPr/>
        </p:nvSpPr>
        <p:spPr>
          <a:xfrm>
            <a:off x="557280" y="1641600"/>
            <a:ext cx="4314600" cy="4227480"/>
          </a:xfrm>
          <a:prstGeom prst="rect">
            <a:avLst/>
          </a:prstGeom>
          <a:noFill/>
          <a:ln w="381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7" name="Text Box 224"/>
          <p:cNvSpPr/>
          <p:nvPr/>
        </p:nvSpPr>
        <p:spPr>
          <a:xfrm>
            <a:off x="2460960" y="961920"/>
            <a:ext cx="64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70c0"/>
                </a:solidFill>
                <a:uFillTx/>
                <a:latin typeface="Arial"/>
              </a:rPr>
              <a:t>Sa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8" name="Text Box 225"/>
          <p:cNvSpPr/>
          <p:nvPr/>
        </p:nvSpPr>
        <p:spPr>
          <a:xfrm>
            <a:off x="3858480" y="1600200"/>
            <a:ext cx="105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Unit : M RM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9" name="Text Box 230"/>
          <p:cNvSpPr/>
          <p:nvPr/>
        </p:nvSpPr>
        <p:spPr>
          <a:xfrm>
            <a:off x="1297800" y="5527800"/>
            <a:ext cx="40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`0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0" name="Text Box 231"/>
          <p:cNvSpPr/>
          <p:nvPr/>
        </p:nvSpPr>
        <p:spPr>
          <a:xfrm>
            <a:off x="2457720" y="5527800"/>
            <a:ext cx="50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`0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1" name="Text Box 232"/>
          <p:cNvSpPr/>
          <p:nvPr/>
        </p:nvSpPr>
        <p:spPr>
          <a:xfrm>
            <a:off x="3668760" y="5527800"/>
            <a:ext cx="56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08B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2" name="Text Box 233"/>
          <p:cNvSpPr/>
          <p:nvPr/>
        </p:nvSpPr>
        <p:spPr>
          <a:xfrm>
            <a:off x="1998720" y="4834080"/>
            <a:ext cx="48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  <a:ea typeface="宋体"/>
              </a:rPr>
              <a:t>61</a:t>
            </a: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3" name="Text Box 234"/>
          <p:cNvSpPr/>
          <p:nvPr/>
        </p:nvSpPr>
        <p:spPr>
          <a:xfrm>
            <a:off x="3149280" y="4518000"/>
            <a:ext cx="433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  <a:ea typeface="宋体"/>
              </a:rPr>
              <a:t>12</a:t>
            </a: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4" name="Rectangle 235"/>
          <p:cNvSpPr/>
          <p:nvPr/>
        </p:nvSpPr>
        <p:spPr>
          <a:xfrm>
            <a:off x="3619440" y="3929040"/>
            <a:ext cx="595440" cy="1590840"/>
          </a:xfrm>
          <a:prstGeom prst="rect">
            <a:avLst/>
          </a:prstGeom>
          <a:solidFill>
            <a:srgbClr val="ffc000"/>
          </a:solidFill>
          <a:ln w="2844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,80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5" name="Rectangle 236"/>
          <p:cNvSpPr/>
          <p:nvPr/>
        </p:nvSpPr>
        <p:spPr>
          <a:xfrm>
            <a:off x="1298520" y="4915080"/>
            <a:ext cx="592200" cy="604800"/>
          </a:xfrm>
          <a:prstGeom prst="rect">
            <a:avLst/>
          </a:prstGeom>
          <a:solidFill>
            <a:srgbClr val="ffc000"/>
          </a:solidFill>
          <a:ln w="2844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1,54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6" name="Rectangle 237"/>
          <p:cNvSpPr/>
          <p:nvPr/>
        </p:nvSpPr>
        <p:spPr>
          <a:xfrm>
            <a:off x="2463840" y="4214880"/>
            <a:ext cx="592200" cy="1305000"/>
          </a:xfrm>
          <a:prstGeom prst="rect">
            <a:avLst/>
          </a:prstGeom>
          <a:solidFill>
            <a:srgbClr val="ffc000"/>
          </a:solidFill>
          <a:ln w="2844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2,49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7" name="Text Box 241"/>
          <p:cNvSpPr/>
          <p:nvPr/>
        </p:nvSpPr>
        <p:spPr>
          <a:xfrm>
            <a:off x="650880" y="5025960"/>
            <a:ext cx="4885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T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8" name="Text Box 242"/>
          <p:cNvSpPr/>
          <p:nvPr/>
        </p:nvSpPr>
        <p:spPr>
          <a:xfrm>
            <a:off x="1235160" y="3154320"/>
            <a:ext cx="71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  <a:ea typeface="宋体"/>
              </a:rPr>
              <a:t>4,16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9" name="Text Box 243"/>
          <p:cNvSpPr/>
          <p:nvPr/>
        </p:nvSpPr>
        <p:spPr>
          <a:xfrm>
            <a:off x="1847880" y="277164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  <a:ea typeface="宋体"/>
              </a:rPr>
              <a:t>20</a:t>
            </a: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0" name="Text Box 244"/>
          <p:cNvSpPr/>
          <p:nvPr/>
        </p:nvSpPr>
        <p:spPr>
          <a:xfrm>
            <a:off x="3147840" y="210492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99"/>
                </a:solidFill>
                <a:latin typeface="Arial"/>
              </a:rPr>
              <a:t>1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1" name="Line 245"/>
          <p:cNvSpPr/>
          <p:nvPr/>
        </p:nvSpPr>
        <p:spPr>
          <a:xfrm flipH="1">
            <a:off x="3035160" y="3287880"/>
            <a:ext cx="601920" cy="347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2" name="Line 246"/>
          <p:cNvSpPr/>
          <p:nvPr/>
        </p:nvSpPr>
        <p:spPr>
          <a:xfrm flipH="1">
            <a:off x="3021120" y="3995640"/>
            <a:ext cx="581040" cy="255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3" name="Line 247"/>
          <p:cNvSpPr/>
          <p:nvPr/>
        </p:nvSpPr>
        <p:spPr>
          <a:xfrm flipH="1">
            <a:off x="1874520" y="3632040"/>
            <a:ext cx="593640" cy="82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4" name="Line 248"/>
          <p:cNvSpPr/>
          <p:nvPr/>
        </p:nvSpPr>
        <p:spPr>
          <a:xfrm flipH="1">
            <a:off x="1878120" y="4251240"/>
            <a:ext cx="568080" cy="603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5" name="Text Box 249"/>
          <p:cNvSpPr/>
          <p:nvPr/>
        </p:nvSpPr>
        <p:spPr>
          <a:xfrm>
            <a:off x="3149280" y="312120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1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6" name="Rectangle 250"/>
          <p:cNvSpPr/>
          <p:nvPr/>
        </p:nvSpPr>
        <p:spPr>
          <a:xfrm>
            <a:off x="3619440" y="3294000"/>
            <a:ext cx="595440" cy="677880"/>
          </a:xfrm>
          <a:prstGeom prst="rect">
            <a:avLst/>
          </a:prstGeom>
          <a:solidFill>
            <a:srgbClr val="ffffcc"/>
          </a:solidFill>
          <a:ln w="2844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1,19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7" name="Rectangle 251"/>
          <p:cNvSpPr/>
          <p:nvPr/>
        </p:nvSpPr>
        <p:spPr>
          <a:xfrm>
            <a:off x="3619440" y="2760840"/>
            <a:ext cx="595440" cy="529920"/>
          </a:xfrm>
          <a:prstGeom prst="rect">
            <a:avLst/>
          </a:prstGeom>
          <a:solidFill>
            <a:srgbClr val="eaeaea"/>
          </a:solidFill>
          <a:ln w="2844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8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8" name="Rectangle 252"/>
          <p:cNvSpPr/>
          <p:nvPr/>
        </p:nvSpPr>
        <p:spPr>
          <a:xfrm>
            <a:off x="1298520" y="4438800"/>
            <a:ext cx="592200" cy="449280"/>
          </a:xfrm>
          <a:prstGeom prst="rect">
            <a:avLst/>
          </a:prstGeom>
          <a:solidFill>
            <a:srgbClr val="ffffcc"/>
          </a:solidFill>
          <a:ln w="2844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93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9" name="Rectangle 253"/>
          <p:cNvSpPr/>
          <p:nvPr/>
        </p:nvSpPr>
        <p:spPr>
          <a:xfrm>
            <a:off x="1298520" y="4095720"/>
            <a:ext cx="592200" cy="338040"/>
          </a:xfrm>
          <a:prstGeom prst="rect">
            <a:avLst/>
          </a:prstGeom>
          <a:solidFill>
            <a:srgbClr val="eaeaea"/>
          </a:solidFill>
          <a:ln w="2844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66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0" name="Rectangle 254"/>
          <p:cNvSpPr/>
          <p:nvPr/>
        </p:nvSpPr>
        <p:spPr>
          <a:xfrm>
            <a:off x="2475000" y="3645000"/>
            <a:ext cx="592200" cy="598320"/>
          </a:xfrm>
          <a:prstGeom prst="rect">
            <a:avLst/>
          </a:prstGeom>
          <a:solidFill>
            <a:srgbClr val="ffffcc"/>
          </a:solidFill>
          <a:ln w="2844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1,01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1" name="Rectangle 255"/>
          <p:cNvSpPr/>
          <p:nvPr/>
        </p:nvSpPr>
        <p:spPr>
          <a:xfrm>
            <a:off x="2475000" y="3203640"/>
            <a:ext cx="590400" cy="431640"/>
          </a:xfrm>
          <a:prstGeom prst="rect">
            <a:avLst/>
          </a:prstGeom>
          <a:solidFill>
            <a:srgbClr val="eaeaea"/>
          </a:solidFill>
          <a:ln w="2844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72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2" name="Text Box 256"/>
          <p:cNvSpPr/>
          <p:nvPr/>
        </p:nvSpPr>
        <p:spPr>
          <a:xfrm>
            <a:off x="3149280" y="365292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18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3" name="Line 257"/>
          <p:cNvSpPr/>
          <p:nvPr/>
        </p:nvSpPr>
        <p:spPr>
          <a:xfrm flipH="1">
            <a:off x="1883880" y="3209760"/>
            <a:ext cx="574920" cy="855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4" name="Line 258"/>
          <p:cNvSpPr/>
          <p:nvPr/>
        </p:nvSpPr>
        <p:spPr>
          <a:xfrm flipH="1">
            <a:off x="3071520" y="2754360"/>
            <a:ext cx="531720" cy="430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5" name="Text Box 259"/>
          <p:cNvSpPr/>
          <p:nvPr/>
        </p:nvSpPr>
        <p:spPr>
          <a:xfrm>
            <a:off x="2000160" y="4202280"/>
            <a:ext cx="36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  <a:ea typeface="宋体"/>
              </a:rPr>
              <a:t>9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6" name="Rectangle 260"/>
          <p:cNvSpPr/>
          <p:nvPr/>
        </p:nvSpPr>
        <p:spPr>
          <a:xfrm>
            <a:off x="1297080" y="3605040"/>
            <a:ext cx="598320" cy="490680"/>
          </a:xfrm>
          <a:prstGeom prst="rect">
            <a:avLst/>
          </a:prstGeom>
          <a:solidFill>
            <a:srgbClr val="ffffff"/>
          </a:solidFill>
          <a:ln w="2844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91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7" name="Rectangle 261"/>
          <p:cNvSpPr/>
          <p:nvPr/>
        </p:nvSpPr>
        <p:spPr>
          <a:xfrm>
            <a:off x="2471760" y="2895480"/>
            <a:ext cx="593640" cy="309600"/>
          </a:xfrm>
          <a:prstGeom prst="rect">
            <a:avLst/>
          </a:prstGeom>
          <a:solidFill>
            <a:srgbClr val="ffffff"/>
          </a:solidFill>
          <a:ln w="2844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65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8" name="Rectangle 262"/>
          <p:cNvSpPr/>
          <p:nvPr/>
        </p:nvSpPr>
        <p:spPr>
          <a:xfrm>
            <a:off x="3622680" y="2284560"/>
            <a:ext cx="590400" cy="47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e6e6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83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9" name="Line 263"/>
          <p:cNvSpPr/>
          <p:nvPr/>
        </p:nvSpPr>
        <p:spPr>
          <a:xfrm flipH="1">
            <a:off x="1863360" y="2906640"/>
            <a:ext cx="593640" cy="677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0" name="Line 264"/>
          <p:cNvSpPr/>
          <p:nvPr/>
        </p:nvSpPr>
        <p:spPr>
          <a:xfrm flipH="1">
            <a:off x="3076200" y="2276640"/>
            <a:ext cx="538200" cy="60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1" name="Text Box 265"/>
          <p:cNvSpPr/>
          <p:nvPr/>
        </p:nvSpPr>
        <p:spPr>
          <a:xfrm>
            <a:off x="650880" y="4552920"/>
            <a:ext cx="4885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2" name="Text Box 266"/>
          <p:cNvSpPr/>
          <p:nvPr/>
        </p:nvSpPr>
        <p:spPr>
          <a:xfrm>
            <a:off x="651960" y="4102200"/>
            <a:ext cx="45324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3" name="Text Box 267"/>
          <p:cNvSpPr/>
          <p:nvPr/>
        </p:nvSpPr>
        <p:spPr>
          <a:xfrm>
            <a:off x="650880" y="3670200"/>
            <a:ext cx="4032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4" name="Text Box 268"/>
          <p:cNvSpPr/>
          <p:nvPr/>
        </p:nvSpPr>
        <p:spPr>
          <a:xfrm>
            <a:off x="2409840" y="235728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808080"/>
                </a:solidFill>
                <a:uFillTx/>
                <a:latin typeface="Arial"/>
                <a:ea typeface="宋体"/>
              </a:rPr>
              <a:t>4,9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5" name="Text Box 269"/>
          <p:cNvSpPr/>
          <p:nvPr/>
        </p:nvSpPr>
        <p:spPr>
          <a:xfrm>
            <a:off x="3541680" y="1820880"/>
            <a:ext cx="71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  <a:ea typeface="宋体"/>
              </a:rPr>
              <a:t>5,76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6" name="Text Box 270"/>
          <p:cNvSpPr/>
          <p:nvPr/>
        </p:nvSpPr>
        <p:spPr>
          <a:xfrm>
            <a:off x="1816200" y="3384720"/>
            <a:ext cx="531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宋体"/>
              </a:rPr>
              <a:t>△</a:t>
            </a:r>
            <a:r>
              <a:rPr b="1" lang="en-US" sz="1000" spc="-1" strike="noStrike">
                <a:solidFill>
                  <a:srgbClr val="ff0000"/>
                </a:solidFill>
                <a:latin typeface="Arial"/>
                <a:ea typeface="宋体"/>
              </a:rPr>
              <a:t>29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7" name="Text Box 271"/>
          <p:cNvSpPr/>
          <p:nvPr/>
        </p:nvSpPr>
        <p:spPr>
          <a:xfrm>
            <a:off x="3150000" y="261288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28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8" name="Text Box 272"/>
          <p:cNvSpPr/>
          <p:nvPr/>
        </p:nvSpPr>
        <p:spPr>
          <a:xfrm>
            <a:off x="2000160" y="3724200"/>
            <a:ext cx="363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  <a:ea typeface="宋体"/>
              </a:rPr>
              <a:t>9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9" name="AutoShape 275"/>
          <p:cNvSpPr/>
          <p:nvPr/>
        </p:nvSpPr>
        <p:spPr>
          <a:xfrm>
            <a:off x="5646600" y="4614840"/>
            <a:ext cx="1014480" cy="237960"/>
          </a:xfrm>
          <a:custGeom>
            <a:avLst/>
            <a:gdLst>
              <a:gd name="textAreaLeft" fmla="*/ 0 w 1014480"/>
              <a:gd name="textAreaRight" fmla="*/ 1014840 w 1014480"/>
              <a:gd name="textAreaTop" fmla="*/ 0 h 237960"/>
              <a:gd name="textAreaBottom" fmla="*/ 238320 h 23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42" y="0"/>
                </a:lnTo>
                <a:lnTo>
                  <a:pt x="21600" y="10800"/>
                </a:lnTo>
                <a:lnTo>
                  <a:pt x="1834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5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0" name="AutoShape 276"/>
          <p:cNvSpPr/>
          <p:nvPr/>
        </p:nvSpPr>
        <p:spPr>
          <a:xfrm>
            <a:off x="5646600" y="5011560"/>
            <a:ext cx="1014480" cy="237960"/>
          </a:xfrm>
          <a:custGeom>
            <a:avLst/>
            <a:gdLst>
              <a:gd name="textAreaLeft" fmla="*/ 0 w 1014480"/>
              <a:gd name="textAreaRight" fmla="*/ 1014840 w 1014480"/>
              <a:gd name="textAreaTop" fmla="*/ 0 h 237960"/>
              <a:gd name="textAreaBottom" fmla="*/ 238320 h 23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42" y="0"/>
                </a:lnTo>
                <a:lnTo>
                  <a:pt x="21600" y="10800"/>
                </a:lnTo>
                <a:lnTo>
                  <a:pt x="18342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5e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C&amp;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1" name="Rectangle 277"/>
          <p:cNvSpPr/>
          <p:nvPr/>
        </p:nvSpPr>
        <p:spPr>
          <a:xfrm>
            <a:off x="6829560" y="3051000"/>
            <a:ext cx="741240" cy="216000"/>
          </a:xfrm>
          <a:prstGeom prst="rect">
            <a:avLst/>
          </a:prstGeom>
          <a:solidFill>
            <a:srgbClr val="fef5e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2520" indent="-18252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2" name="Rectangle 278"/>
          <p:cNvSpPr/>
          <p:nvPr/>
        </p:nvSpPr>
        <p:spPr>
          <a:xfrm>
            <a:off x="7797960" y="3051000"/>
            <a:ext cx="741240" cy="216000"/>
          </a:xfrm>
          <a:prstGeom prst="rect">
            <a:avLst/>
          </a:prstGeom>
          <a:solidFill>
            <a:srgbClr val="fef5e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2520" indent="-18252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7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3" name="Rectangle 279"/>
          <p:cNvSpPr/>
          <p:nvPr/>
        </p:nvSpPr>
        <p:spPr>
          <a:xfrm>
            <a:off x="8717040" y="3051000"/>
            <a:ext cx="741240" cy="216000"/>
          </a:xfrm>
          <a:prstGeom prst="rect">
            <a:avLst/>
          </a:prstGeom>
          <a:solidFill>
            <a:srgbClr val="fef5e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2520" indent="-18252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4" name="Rectangle 280"/>
          <p:cNvSpPr/>
          <p:nvPr/>
        </p:nvSpPr>
        <p:spPr>
          <a:xfrm>
            <a:off x="6829560" y="4632480"/>
            <a:ext cx="741240" cy="215640"/>
          </a:xfrm>
          <a:prstGeom prst="rect">
            <a:avLst/>
          </a:prstGeom>
          <a:solidFill>
            <a:srgbClr val="fef5e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2520" indent="-18252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5" name="Rectangle 281"/>
          <p:cNvSpPr/>
          <p:nvPr/>
        </p:nvSpPr>
        <p:spPr>
          <a:xfrm>
            <a:off x="7797960" y="4632480"/>
            <a:ext cx="741240" cy="215640"/>
          </a:xfrm>
          <a:prstGeom prst="rect">
            <a:avLst/>
          </a:prstGeom>
          <a:solidFill>
            <a:srgbClr val="fef5e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2520" indent="-18252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3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6" name="Rectangle 282"/>
          <p:cNvSpPr/>
          <p:nvPr/>
        </p:nvSpPr>
        <p:spPr>
          <a:xfrm>
            <a:off x="8717040" y="4632480"/>
            <a:ext cx="741240" cy="215640"/>
          </a:xfrm>
          <a:prstGeom prst="rect">
            <a:avLst/>
          </a:prstGeom>
          <a:solidFill>
            <a:srgbClr val="fef5e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2520" indent="-18252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7" name="Line 283"/>
          <p:cNvSpPr/>
          <p:nvPr/>
        </p:nvSpPr>
        <p:spPr>
          <a:xfrm>
            <a:off x="851040" y="5524560"/>
            <a:ext cx="3771720" cy="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8" name="Text Box 286"/>
          <p:cNvSpPr/>
          <p:nvPr/>
        </p:nvSpPr>
        <p:spPr>
          <a:xfrm>
            <a:off x="8139600" y="2014560"/>
            <a:ext cx="47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450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9" name="Text Box 287"/>
          <p:cNvSpPr/>
          <p:nvPr/>
        </p:nvSpPr>
        <p:spPr>
          <a:xfrm>
            <a:off x="8139600" y="2814480"/>
            <a:ext cx="47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100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0" name="Text Box 288"/>
          <p:cNvSpPr/>
          <p:nvPr/>
        </p:nvSpPr>
        <p:spPr>
          <a:xfrm>
            <a:off x="8190000" y="2421000"/>
            <a:ext cx="40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30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1" name="Text Box 289"/>
          <p:cNvSpPr/>
          <p:nvPr/>
        </p:nvSpPr>
        <p:spPr>
          <a:xfrm>
            <a:off x="8139600" y="3220920"/>
            <a:ext cx="47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180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2" name="Text Box 290"/>
          <p:cNvSpPr/>
          <p:nvPr/>
        </p:nvSpPr>
        <p:spPr>
          <a:xfrm>
            <a:off x="8139600" y="3614760"/>
            <a:ext cx="47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203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3" name="Text Box 291"/>
          <p:cNvSpPr/>
          <p:nvPr/>
        </p:nvSpPr>
        <p:spPr>
          <a:xfrm>
            <a:off x="8139600" y="4008600"/>
            <a:ext cx="47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233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4" name="Text Box 292"/>
          <p:cNvSpPr/>
          <p:nvPr/>
        </p:nvSpPr>
        <p:spPr>
          <a:xfrm>
            <a:off x="8139600" y="4402080"/>
            <a:ext cx="47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106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5" name="Text Box 293"/>
          <p:cNvSpPr/>
          <p:nvPr/>
        </p:nvSpPr>
        <p:spPr>
          <a:xfrm>
            <a:off x="8139600" y="4795920"/>
            <a:ext cx="47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179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6" name="Text Box 294"/>
          <p:cNvSpPr/>
          <p:nvPr/>
        </p:nvSpPr>
        <p:spPr>
          <a:xfrm>
            <a:off x="8139600" y="5202360"/>
            <a:ext cx="47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300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7" name="Text Box 295"/>
          <p:cNvSpPr/>
          <p:nvPr/>
        </p:nvSpPr>
        <p:spPr>
          <a:xfrm>
            <a:off x="7186320" y="2014560"/>
            <a:ext cx="47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316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8" name="Text Box 296"/>
          <p:cNvSpPr/>
          <p:nvPr/>
        </p:nvSpPr>
        <p:spPr>
          <a:xfrm>
            <a:off x="7237440" y="2814480"/>
            <a:ext cx="40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67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9" name="Text Box 297"/>
          <p:cNvSpPr/>
          <p:nvPr/>
        </p:nvSpPr>
        <p:spPr>
          <a:xfrm>
            <a:off x="7237440" y="2421000"/>
            <a:ext cx="40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30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0" name="Text Box 298"/>
          <p:cNvSpPr/>
          <p:nvPr/>
        </p:nvSpPr>
        <p:spPr>
          <a:xfrm>
            <a:off x="7186320" y="3220920"/>
            <a:ext cx="47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238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1" name="Text Box 299"/>
          <p:cNvSpPr/>
          <p:nvPr/>
        </p:nvSpPr>
        <p:spPr>
          <a:xfrm>
            <a:off x="7186320" y="3614760"/>
            <a:ext cx="47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153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2" name="Text Box 300"/>
          <p:cNvSpPr/>
          <p:nvPr/>
        </p:nvSpPr>
        <p:spPr>
          <a:xfrm>
            <a:off x="7186320" y="4008600"/>
            <a:ext cx="47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260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3" name="Text Box 301"/>
          <p:cNvSpPr/>
          <p:nvPr/>
        </p:nvSpPr>
        <p:spPr>
          <a:xfrm>
            <a:off x="7237440" y="4402080"/>
            <a:ext cx="404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79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4" name="Text Box 302"/>
          <p:cNvSpPr/>
          <p:nvPr/>
        </p:nvSpPr>
        <p:spPr>
          <a:xfrm>
            <a:off x="7186320" y="4795920"/>
            <a:ext cx="47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202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5" name="Text Box 303"/>
          <p:cNvSpPr/>
          <p:nvPr/>
        </p:nvSpPr>
        <p:spPr>
          <a:xfrm>
            <a:off x="7186320" y="5202360"/>
            <a:ext cx="474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252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6" name="Rectangle 4" descr=""/>
          <p:cNvPicPr/>
          <p:nvPr/>
        </p:nvPicPr>
        <p:blipFill>
          <a:blip r:embed="rId2"/>
          <a:stretch/>
        </p:blipFill>
        <p:spPr>
          <a:xfrm>
            <a:off x="109440" y="109440"/>
            <a:ext cx="951120" cy="567000"/>
          </a:xfrm>
          <a:prstGeom prst="rect">
            <a:avLst/>
          </a:prstGeom>
          <a:ln w="0">
            <a:noFill/>
          </a:ln>
        </p:spPr>
      </p:pic>
      <p:sp>
        <p:nvSpPr>
          <p:cNvPr id="3567" name="直接连接符 121"/>
          <p:cNvSpPr/>
          <p:nvPr/>
        </p:nvSpPr>
        <p:spPr>
          <a:xfrm>
            <a:off x="965160" y="237960"/>
            <a:ext cx="0" cy="214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8" name="标题 2"/>
          <p:cNvSpPr/>
          <p:nvPr/>
        </p:nvSpPr>
        <p:spPr>
          <a:xfrm>
            <a:off x="950760" y="190440"/>
            <a:ext cx="1555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经营分析报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9" name="Rectangle 79"/>
          <p:cNvSpPr/>
          <p:nvPr/>
        </p:nvSpPr>
        <p:spPr>
          <a:xfrm>
            <a:off x="7159680" y="398520"/>
            <a:ext cx="1203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bfbfbf"/>
                </a:solidFill>
                <a:latin typeface="Arial"/>
              </a:rPr>
              <a:t>Sales targe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0" name=""/>
          <p:cNvGrpSpPr/>
          <p:nvPr/>
        </p:nvGrpSpPr>
        <p:grpSpPr>
          <a:xfrm>
            <a:off x="0" y="6443640"/>
            <a:ext cx="9918720" cy="237960"/>
            <a:chOff x="0" y="6443640"/>
            <a:chExt cx="9918720" cy="237960"/>
          </a:xfrm>
        </p:grpSpPr>
        <p:pic>
          <p:nvPicPr>
            <p:cNvPr id="3571" name="矩形 123" descr=""/>
            <p:cNvPicPr/>
            <p:nvPr/>
          </p:nvPicPr>
          <p:blipFill>
            <a:blip r:embed="rId3"/>
            <a:stretch/>
          </p:blipFill>
          <p:spPr>
            <a:xfrm>
              <a:off x="0" y="6443640"/>
              <a:ext cx="991728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72" name=""/>
            <p:cNvSpPr/>
            <p:nvPr/>
          </p:nvSpPr>
          <p:spPr>
            <a:xfrm>
              <a:off x="0" y="6445080"/>
              <a:ext cx="991872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3" name="灯片编号占位符 5"/>
          <p:cNvSpPr/>
          <p:nvPr/>
        </p:nvSpPr>
        <p:spPr>
          <a:xfrm>
            <a:off x="7397640" y="6399360"/>
            <a:ext cx="1486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ge   </a:t>
            </a:r>
            <a:fld id="{F4AC1A08-C6A2-4859-8092-2332C02E42DA}" type="slidenum">
              <a:rPr b="0" lang="zh-CN" sz="1000" spc="-1" strike="noStrike">
                <a:solidFill>
                  <a:srgbClr val="ffffff"/>
                </a:solidFill>
                <a:latin typeface="华文宋体"/>
                <a:ea typeface="华文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4" name="Text Box 73"/>
          <p:cNvSpPr/>
          <p:nvPr/>
        </p:nvSpPr>
        <p:spPr>
          <a:xfrm>
            <a:off x="6816600" y="849240"/>
            <a:ext cx="1160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70c0"/>
                </a:solidFill>
                <a:uFillTx/>
                <a:latin typeface="Arial"/>
              </a:rPr>
              <a:t>Action 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5" name="Text Box 118"/>
          <p:cNvSpPr/>
          <p:nvPr/>
        </p:nvSpPr>
        <p:spPr>
          <a:xfrm>
            <a:off x="5502240" y="1544760"/>
            <a:ext cx="23796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 : Focus on step-up z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6" name="Text Box 119"/>
          <p:cNvSpPr/>
          <p:nvPr/>
        </p:nvSpPr>
        <p:spPr>
          <a:xfrm>
            <a:off x="5502240" y="3616200"/>
            <a:ext cx="40986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D : Focus on step-up zone (FHD, Art Design, DV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77" name=""/>
          <p:cNvGraphicFramePr/>
          <p:nvPr/>
        </p:nvGraphicFramePr>
        <p:xfrm>
          <a:off x="5869080" y="2108160"/>
          <a:ext cx="3198600" cy="1450800"/>
        </p:xfrm>
        <a:graphic>
          <a:graphicData uri="http://schemas.openxmlformats.org/drawingml/2006/table">
            <a:tbl>
              <a:tblPr/>
              <a:tblGrid>
                <a:gridCol w="701280"/>
                <a:gridCol w="833400"/>
                <a:gridCol w="831960"/>
                <a:gridCol w="831960"/>
              </a:tblGrid>
              <a:tr h="51840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Dotum"/>
                        </a:rPr>
                        <a:t>`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d0d0d"/>
                          </a:solidFill>
                          <a:latin typeface="Arial"/>
                          <a:ea typeface="Dotum"/>
                        </a:rPr>
                        <a:t>`08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Dotum"/>
                        </a:rPr>
                        <a:t>G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Dotum"/>
                        </a:rPr>
                        <a:t>D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Dotum"/>
                        </a:rPr>
                        <a:t>6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d0d0d"/>
                          </a:solidFill>
                          <a:latin typeface="Arial"/>
                          <a:ea typeface="Dotum"/>
                        </a:rPr>
                        <a:t>8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Dotum"/>
                        </a:rPr>
                        <a:t>+1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Dotum"/>
                        </a:rPr>
                        <a:t>Dru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Dotum"/>
                        </a:rPr>
                        <a:t>5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d0d0d"/>
                          </a:solidFill>
                          <a:latin typeface="Arial"/>
                          <a:ea typeface="Dotum"/>
                        </a:rPr>
                        <a:t>6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Dotum"/>
                        </a:rPr>
                        <a:t>+1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32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Dotum"/>
                        </a:rPr>
                        <a:t>A/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0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Dotum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d0d0d"/>
                          </a:solidFill>
                          <a:latin typeface="Arial"/>
                          <a:ea typeface="宋体"/>
                        </a:rPr>
                        <a:t>22</a:t>
                      </a:r>
                      <a:r>
                        <a:rPr b="1" lang="en-US" sz="1200" spc="-1" strike="noStrike">
                          <a:solidFill>
                            <a:srgbClr val="0d0d0d"/>
                          </a:solidFill>
                          <a:latin typeface="Arial"/>
                          <a:ea typeface="Dotum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Dotum"/>
                        </a:rPr>
                        <a:t>+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2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Dotum"/>
                        </a:rPr>
                        <a:t>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78" name="Text Box 148"/>
          <p:cNvSpPr/>
          <p:nvPr/>
        </p:nvSpPr>
        <p:spPr>
          <a:xfrm>
            <a:off x="6064560" y="1833480"/>
            <a:ext cx="14835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ep-up zone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79" name=""/>
          <p:cNvGraphicFramePr/>
          <p:nvPr/>
        </p:nvGraphicFramePr>
        <p:xfrm>
          <a:off x="5869080" y="4010040"/>
          <a:ext cx="3198600" cy="933480"/>
        </p:xfrm>
        <a:graphic>
          <a:graphicData uri="http://schemas.openxmlformats.org/drawingml/2006/table">
            <a:tbl>
              <a:tblPr/>
              <a:tblGrid>
                <a:gridCol w="701280"/>
                <a:gridCol w="835200"/>
                <a:gridCol w="830160"/>
                <a:gridCol w="831960"/>
              </a:tblGrid>
              <a:tr h="31104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Dotum"/>
                        </a:rPr>
                        <a:t>LC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Dotum"/>
                        </a:rPr>
                        <a:t>`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d0d0d"/>
                          </a:solidFill>
                          <a:latin typeface="Arial"/>
                          <a:ea typeface="Dotum"/>
                        </a:rPr>
                        <a:t>`08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Dotum"/>
                        </a:rPr>
                        <a:t>Gap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40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Dotum"/>
                        </a:rPr>
                        <a:t>TT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Dotum"/>
                        </a:rPr>
                        <a:t>27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d0d0d"/>
                          </a:solidFill>
                          <a:latin typeface="Arial"/>
                          <a:ea typeface="Dotum"/>
                        </a:rPr>
                        <a:t>60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Dotum"/>
                        </a:rPr>
                        <a:t>+33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104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Dotum"/>
                        </a:rPr>
                        <a:t>42”↑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Dotum"/>
                        </a:rPr>
                        <a:t>36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d0d0d"/>
                          </a:solidFill>
                          <a:latin typeface="Arial"/>
                          <a:ea typeface="Dotum"/>
                        </a:rPr>
                        <a:t>75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Dotum"/>
                        </a:rPr>
                        <a:t>+39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80" name="Rectangle 314"/>
          <p:cNvSpPr/>
          <p:nvPr/>
        </p:nvSpPr>
        <p:spPr>
          <a:xfrm>
            <a:off x="385920" y="3535200"/>
            <a:ext cx="4622760" cy="21085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1" name="Rectangle 315"/>
          <p:cNvSpPr/>
          <p:nvPr/>
        </p:nvSpPr>
        <p:spPr>
          <a:xfrm>
            <a:off x="368280" y="2044800"/>
            <a:ext cx="4622760" cy="13968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2" name="TextBox 22"/>
          <p:cNvSpPr/>
          <p:nvPr/>
        </p:nvSpPr>
        <p:spPr>
          <a:xfrm>
            <a:off x="3440520" y="12049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’</a:t>
            </a: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08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3" name="Text Box 318"/>
          <p:cNvSpPr/>
          <p:nvPr/>
        </p:nvSpPr>
        <p:spPr>
          <a:xfrm>
            <a:off x="571680" y="5733360"/>
            <a:ext cx="57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4" name="Line 319"/>
          <p:cNvSpPr/>
          <p:nvPr/>
        </p:nvSpPr>
        <p:spPr>
          <a:xfrm>
            <a:off x="426960" y="3483000"/>
            <a:ext cx="4451400" cy="0"/>
          </a:xfrm>
          <a:prstGeom prst="line">
            <a:avLst/>
          </a:prstGeom>
          <a:ln w="6480">
            <a:solidFill>
              <a:srgbClr val="c0c0c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5" name="Line 320"/>
          <p:cNvSpPr/>
          <p:nvPr/>
        </p:nvSpPr>
        <p:spPr>
          <a:xfrm>
            <a:off x="426960" y="5686560"/>
            <a:ext cx="4537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6" name="TextBox 22"/>
          <p:cNvSpPr/>
          <p:nvPr/>
        </p:nvSpPr>
        <p:spPr>
          <a:xfrm>
            <a:off x="1400040" y="1204920"/>
            <a:ext cx="1230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`07 Foreca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7" name="Oval 323"/>
          <p:cNvSpPr/>
          <p:nvPr/>
        </p:nvSpPr>
        <p:spPr>
          <a:xfrm>
            <a:off x="1219320" y="1582560"/>
            <a:ext cx="720720" cy="289080"/>
          </a:xfrm>
          <a:prstGeom prst="ellipse">
            <a:avLst/>
          </a:prstGeom>
          <a:solidFill>
            <a:srgbClr val="0070c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8" name="Oval 324"/>
          <p:cNvSpPr/>
          <p:nvPr/>
        </p:nvSpPr>
        <p:spPr>
          <a:xfrm>
            <a:off x="2082960" y="1582560"/>
            <a:ext cx="720720" cy="289080"/>
          </a:xfrm>
          <a:prstGeom prst="ellipse">
            <a:avLst/>
          </a:prstGeom>
          <a:solidFill>
            <a:srgbClr val="0070c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9" name="Oval 325"/>
          <p:cNvSpPr/>
          <p:nvPr/>
        </p:nvSpPr>
        <p:spPr>
          <a:xfrm>
            <a:off x="3164040" y="1582560"/>
            <a:ext cx="720720" cy="289080"/>
          </a:xfrm>
          <a:prstGeom prst="ellipse">
            <a:avLst/>
          </a:prstGeom>
          <a:solidFill>
            <a:srgbClr val="ffc00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0" name="Oval 326"/>
          <p:cNvSpPr/>
          <p:nvPr/>
        </p:nvSpPr>
        <p:spPr>
          <a:xfrm>
            <a:off x="4205160" y="1582560"/>
            <a:ext cx="720720" cy="289080"/>
          </a:xfrm>
          <a:prstGeom prst="ellipse">
            <a:avLst/>
          </a:prstGeom>
          <a:solidFill>
            <a:srgbClr val="ffc000"/>
          </a:solidFill>
          <a:ln w="93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1" name="Rectangle 327"/>
          <p:cNvSpPr/>
          <p:nvPr/>
        </p:nvSpPr>
        <p:spPr>
          <a:xfrm>
            <a:off x="3213000" y="5796000"/>
            <a:ext cx="540000" cy="212760"/>
          </a:xfrm>
          <a:prstGeom prst="rect">
            <a:avLst/>
          </a:prstGeom>
          <a:solidFill>
            <a:srgbClr val="ffc000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182520" indent="-182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,76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2" name="Text Box 328"/>
          <p:cNvSpPr/>
          <p:nvPr/>
        </p:nvSpPr>
        <p:spPr>
          <a:xfrm>
            <a:off x="4133520" y="5760360"/>
            <a:ext cx="90396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marL="182520" indent="-18252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△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1.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3" name="Text Box 329"/>
          <p:cNvSpPr/>
          <p:nvPr/>
        </p:nvSpPr>
        <p:spPr>
          <a:xfrm>
            <a:off x="3713040" y="1890720"/>
            <a:ext cx="625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(Growth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4" name="Text Box 332"/>
          <p:cNvSpPr/>
          <p:nvPr/>
        </p:nvSpPr>
        <p:spPr>
          <a:xfrm>
            <a:off x="456120" y="2432880"/>
            <a:ext cx="73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CD T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5" name="Text Box 333"/>
          <p:cNvSpPr/>
          <p:nvPr/>
        </p:nvSpPr>
        <p:spPr>
          <a:xfrm>
            <a:off x="611280" y="2107080"/>
            <a:ext cx="418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f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6" name="Rectangle 336"/>
          <p:cNvSpPr/>
          <p:nvPr/>
        </p:nvSpPr>
        <p:spPr>
          <a:xfrm>
            <a:off x="3218040" y="2433600"/>
            <a:ext cx="539640" cy="212760"/>
          </a:xfrm>
          <a:prstGeom prst="rect">
            <a:avLst/>
          </a:prstGeom>
          <a:solidFill>
            <a:srgbClr val="fef5e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2520" indent="-182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,65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7" name="Rectangle 337"/>
          <p:cNvSpPr/>
          <p:nvPr/>
        </p:nvSpPr>
        <p:spPr>
          <a:xfrm>
            <a:off x="3218040" y="2108160"/>
            <a:ext cx="539640" cy="211320"/>
          </a:xfrm>
          <a:prstGeom prst="rect">
            <a:avLst/>
          </a:prstGeom>
          <a:solidFill>
            <a:srgbClr val="fef5e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2520" indent="-182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,8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8" name="Text Box 338"/>
          <p:cNvSpPr/>
          <p:nvPr/>
        </p:nvSpPr>
        <p:spPr>
          <a:xfrm>
            <a:off x="4133520" y="2426760"/>
            <a:ext cx="90396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marL="182520" indent="-18252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△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1.6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9" name="Text Box 339"/>
          <p:cNvSpPr/>
          <p:nvPr/>
        </p:nvSpPr>
        <p:spPr>
          <a:xfrm>
            <a:off x="4133520" y="2101320"/>
            <a:ext cx="90396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marL="182520" indent="-18252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△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1.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0" name="Text Box 340"/>
          <p:cNvSpPr/>
          <p:nvPr/>
        </p:nvSpPr>
        <p:spPr>
          <a:xfrm>
            <a:off x="3850200" y="210816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12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1" name="Text Box 341"/>
          <p:cNvSpPr/>
          <p:nvPr/>
        </p:nvSpPr>
        <p:spPr>
          <a:xfrm>
            <a:off x="3850200" y="243360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15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2" name="Text Box 343"/>
          <p:cNvSpPr/>
          <p:nvPr/>
        </p:nvSpPr>
        <p:spPr>
          <a:xfrm>
            <a:off x="456840" y="276480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DP T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3" name="Rectangle 345"/>
          <p:cNvSpPr/>
          <p:nvPr/>
        </p:nvSpPr>
        <p:spPr>
          <a:xfrm>
            <a:off x="3219480" y="2765520"/>
            <a:ext cx="539640" cy="212760"/>
          </a:xfrm>
          <a:prstGeom prst="rect">
            <a:avLst/>
          </a:prstGeom>
          <a:solidFill>
            <a:srgbClr val="fef5e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2520" indent="-182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5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4" name="Text Box 346"/>
          <p:cNvSpPr/>
          <p:nvPr/>
        </p:nvSpPr>
        <p:spPr>
          <a:xfrm>
            <a:off x="4267440" y="2758680"/>
            <a:ext cx="78660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marL="182520" indent="-18252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1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Text Box 347"/>
          <p:cNvSpPr/>
          <p:nvPr/>
        </p:nvSpPr>
        <p:spPr>
          <a:xfrm>
            <a:off x="3632040" y="2765520"/>
            <a:ext cx="636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   △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22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6" name="Text Box 348"/>
          <p:cNvSpPr/>
          <p:nvPr/>
        </p:nvSpPr>
        <p:spPr>
          <a:xfrm>
            <a:off x="2018160" y="849240"/>
            <a:ext cx="1614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70c0"/>
                </a:solidFill>
                <a:uFillTx/>
                <a:latin typeface="Arial"/>
              </a:rPr>
              <a:t>Consolidated 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7" name="Text Box 349"/>
          <p:cNvSpPr/>
          <p:nvPr/>
        </p:nvSpPr>
        <p:spPr>
          <a:xfrm>
            <a:off x="3850200" y="577836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16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8" name="Text Box 352"/>
          <p:cNvSpPr/>
          <p:nvPr/>
        </p:nvSpPr>
        <p:spPr>
          <a:xfrm>
            <a:off x="571320" y="400140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9" name="Text Box 353"/>
          <p:cNvSpPr/>
          <p:nvPr/>
        </p:nvSpPr>
        <p:spPr>
          <a:xfrm>
            <a:off x="614160" y="3650400"/>
            <a:ext cx="40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0" name="Rectangle 356"/>
          <p:cNvSpPr/>
          <p:nvPr/>
        </p:nvSpPr>
        <p:spPr>
          <a:xfrm>
            <a:off x="3213000" y="4002120"/>
            <a:ext cx="540000" cy="212760"/>
          </a:xfrm>
          <a:prstGeom prst="rect">
            <a:avLst/>
          </a:prstGeom>
          <a:solidFill>
            <a:srgbClr val="fef5e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2520" indent="-182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,1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1" name="Rectangle 357"/>
          <p:cNvSpPr/>
          <p:nvPr/>
        </p:nvSpPr>
        <p:spPr>
          <a:xfrm>
            <a:off x="3213000" y="3651120"/>
            <a:ext cx="540000" cy="211320"/>
          </a:xfrm>
          <a:prstGeom prst="rect">
            <a:avLst/>
          </a:prstGeom>
          <a:solidFill>
            <a:srgbClr val="fef5e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2520" indent="-182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,9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2" name="Text Box 358"/>
          <p:cNvSpPr/>
          <p:nvPr/>
        </p:nvSpPr>
        <p:spPr>
          <a:xfrm>
            <a:off x="4267440" y="3995280"/>
            <a:ext cx="78660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marL="182520" indent="-18252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1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3" name="Text Box 359"/>
          <p:cNvSpPr/>
          <p:nvPr/>
        </p:nvSpPr>
        <p:spPr>
          <a:xfrm>
            <a:off x="4133520" y="3644280"/>
            <a:ext cx="90432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marL="182520" indent="-18252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△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0.6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4" name="Text Box 360"/>
          <p:cNvSpPr/>
          <p:nvPr/>
        </p:nvSpPr>
        <p:spPr>
          <a:xfrm>
            <a:off x="3850200" y="365112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5" name="Text Box 361"/>
          <p:cNvSpPr/>
          <p:nvPr/>
        </p:nvSpPr>
        <p:spPr>
          <a:xfrm>
            <a:off x="3850200" y="400212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18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6" name="Text Box 363"/>
          <p:cNvSpPr/>
          <p:nvPr/>
        </p:nvSpPr>
        <p:spPr>
          <a:xfrm>
            <a:off x="570240" y="4323600"/>
            <a:ext cx="49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/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7" name="Rectangle 365"/>
          <p:cNvSpPr/>
          <p:nvPr/>
        </p:nvSpPr>
        <p:spPr>
          <a:xfrm>
            <a:off x="3214800" y="4324320"/>
            <a:ext cx="539640" cy="212760"/>
          </a:xfrm>
          <a:prstGeom prst="rect">
            <a:avLst/>
          </a:prstGeom>
          <a:solidFill>
            <a:srgbClr val="fef5e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2520" indent="-182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8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8" name="Text Box 366"/>
          <p:cNvSpPr/>
          <p:nvPr/>
        </p:nvSpPr>
        <p:spPr>
          <a:xfrm>
            <a:off x="4267440" y="4317480"/>
            <a:ext cx="78696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marL="182520" indent="-18252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  <a:ea typeface="Gulim"/>
              </a:rPr>
              <a:t>3.4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9" name="Text Box 367"/>
          <p:cNvSpPr/>
          <p:nvPr/>
        </p:nvSpPr>
        <p:spPr>
          <a:xfrm>
            <a:off x="3850200" y="432432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11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0" name="Text Box 369"/>
          <p:cNvSpPr/>
          <p:nvPr/>
        </p:nvSpPr>
        <p:spPr>
          <a:xfrm>
            <a:off x="600120" y="4666320"/>
            <a:ext cx="44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/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1" name="Rectangle 371"/>
          <p:cNvSpPr/>
          <p:nvPr/>
        </p:nvSpPr>
        <p:spPr>
          <a:xfrm>
            <a:off x="3219480" y="4667400"/>
            <a:ext cx="539640" cy="212400"/>
          </a:xfrm>
          <a:prstGeom prst="rect">
            <a:avLst/>
          </a:prstGeom>
          <a:solidFill>
            <a:srgbClr val="fef5e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2520" indent="-182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2" name="Text Box 372"/>
          <p:cNvSpPr/>
          <p:nvPr/>
        </p:nvSpPr>
        <p:spPr>
          <a:xfrm>
            <a:off x="4133520" y="4660560"/>
            <a:ext cx="90396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marL="182520" indent="-18252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△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7.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3" name="Text Box 373"/>
          <p:cNvSpPr/>
          <p:nvPr/>
        </p:nvSpPr>
        <p:spPr>
          <a:xfrm>
            <a:off x="3850200" y="466740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28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4" name="Text Box 375"/>
          <p:cNvSpPr/>
          <p:nvPr/>
        </p:nvSpPr>
        <p:spPr>
          <a:xfrm>
            <a:off x="537480" y="5009400"/>
            <a:ext cx="56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M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5" name="Rectangle 377"/>
          <p:cNvSpPr/>
          <p:nvPr/>
        </p:nvSpPr>
        <p:spPr>
          <a:xfrm>
            <a:off x="3219480" y="5010120"/>
            <a:ext cx="539640" cy="212760"/>
          </a:xfrm>
          <a:prstGeom prst="rect">
            <a:avLst/>
          </a:prstGeom>
          <a:solidFill>
            <a:srgbClr val="fef5e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2520" indent="-182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6" name="Text Box 378"/>
          <p:cNvSpPr/>
          <p:nvPr/>
        </p:nvSpPr>
        <p:spPr>
          <a:xfrm>
            <a:off x="4133520" y="5003280"/>
            <a:ext cx="90396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marL="182520" indent="-18252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△</a:t>
            </a: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6.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7" name="Text Box 379"/>
          <p:cNvSpPr/>
          <p:nvPr/>
        </p:nvSpPr>
        <p:spPr>
          <a:xfrm>
            <a:off x="3850200" y="5010120"/>
            <a:ext cx="4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8" name="Text Box 381"/>
          <p:cNvSpPr/>
          <p:nvPr/>
        </p:nvSpPr>
        <p:spPr>
          <a:xfrm>
            <a:off x="627480" y="5352120"/>
            <a:ext cx="39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V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9" name="Rectangle 383"/>
          <p:cNvSpPr/>
          <p:nvPr/>
        </p:nvSpPr>
        <p:spPr>
          <a:xfrm>
            <a:off x="3219480" y="5353200"/>
            <a:ext cx="539640" cy="212400"/>
          </a:xfrm>
          <a:prstGeom prst="rect">
            <a:avLst/>
          </a:prstGeom>
          <a:solidFill>
            <a:srgbClr val="fef5e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2520" indent="-182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0" name="Text Box 384"/>
          <p:cNvSpPr/>
          <p:nvPr/>
        </p:nvSpPr>
        <p:spPr>
          <a:xfrm>
            <a:off x="4267440" y="5346360"/>
            <a:ext cx="78660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marL="182520" indent="-18252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8.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1" name="Text Box 385"/>
          <p:cNvSpPr/>
          <p:nvPr/>
        </p:nvSpPr>
        <p:spPr>
          <a:xfrm>
            <a:off x="3814560" y="5353200"/>
            <a:ext cx="4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2" name="Text Box 387"/>
          <p:cNvSpPr/>
          <p:nvPr/>
        </p:nvSpPr>
        <p:spPr>
          <a:xfrm>
            <a:off x="581040" y="3117240"/>
            <a:ext cx="48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3" name="Rectangle 389"/>
          <p:cNvSpPr/>
          <p:nvPr/>
        </p:nvSpPr>
        <p:spPr>
          <a:xfrm>
            <a:off x="3219480" y="3117960"/>
            <a:ext cx="539640" cy="212760"/>
          </a:xfrm>
          <a:prstGeom prst="rect">
            <a:avLst/>
          </a:prstGeom>
          <a:solidFill>
            <a:srgbClr val="fef5e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2520" indent="-182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4" name="Text Box 390"/>
          <p:cNvSpPr/>
          <p:nvPr/>
        </p:nvSpPr>
        <p:spPr>
          <a:xfrm>
            <a:off x="4267440" y="3111120"/>
            <a:ext cx="786600" cy="2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marL="182520" indent="-182520" algn="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ffffff"/>
                </a:solidFill>
                <a:latin typeface="Arial"/>
              </a:rPr>
              <a:t>2.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5" name="Text Box 391"/>
          <p:cNvSpPr/>
          <p:nvPr/>
        </p:nvSpPr>
        <p:spPr>
          <a:xfrm>
            <a:off x="3527280" y="3117960"/>
            <a:ext cx="74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     △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1.1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6" name="Rectangle 392"/>
          <p:cNvSpPr/>
          <p:nvPr/>
        </p:nvSpPr>
        <p:spPr>
          <a:xfrm>
            <a:off x="1332000" y="2451240"/>
            <a:ext cx="538200" cy="212760"/>
          </a:xfrm>
          <a:prstGeom prst="rect">
            <a:avLst/>
          </a:prstGeom>
          <a:solidFill>
            <a:srgbClr val="fef5e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2520" indent="-182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,2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7" name="Rectangle 393"/>
          <p:cNvSpPr/>
          <p:nvPr/>
        </p:nvSpPr>
        <p:spPr>
          <a:xfrm>
            <a:off x="1332000" y="2125800"/>
            <a:ext cx="538200" cy="210960"/>
          </a:xfrm>
          <a:prstGeom prst="rect">
            <a:avLst/>
          </a:prstGeom>
          <a:solidFill>
            <a:srgbClr val="fef5e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2520" indent="-182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,4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8" name="Rectangle 394"/>
          <p:cNvSpPr/>
          <p:nvPr/>
        </p:nvSpPr>
        <p:spPr>
          <a:xfrm>
            <a:off x="1332000" y="2782800"/>
            <a:ext cx="539640" cy="212760"/>
          </a:xfrm>
          <a:prstGeom prst="rect">
            <a:avLst/>
          </a:prstGeom>
          <a:solidFill>
            <a:srgbClr val="fef5e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2520" indent="-182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9" name="Rectangle 395"/>
          <p:cNvSpPr/>
          <p:nvPr/>
        </p:nvSpPr>
        <p:spPr>
          <a:xfrm>
            <a:off x="1325520" y="4019400"/>
            <a:ext cx="539640" cy="212760"/>
          </a:xfrm>
          <a:prstGeom prst="rect">
            <a:avLst/>
          </a:prstGeom>
          <a:solidFill>
            <a:srgbClr val="fef5e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2520" indent="-182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1,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0" name="Rectangle 396"/>
          <p:cNvSpPr/>
          <p:nvPr/>
        </p:nvSpPr>
        <p:spPr>
          <a:xfrm>
            <a:off x="1325520" y="3668760"/>
            <a:ext cx="539640" cy="210960"/>
          </a:xfrm>
          <a:prstGeom prst="rect">
            <a:avLst/>
          </a:prstGeom>
          <a:solidFill>
            <a:srgbClr val="fef5e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2520" indent="-182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2,48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1" name="Rectangle 397"/>
          <p:cNvSpPr/>
          <p:nvPr/>
        </p:nvSpPr>
        <p:spPr>
          <a:xfrm>
            <a:off x="1327320" y="4341960"/>
            <a:ext cx="541080" cy="212400"/>
          </a:xfrm>
          <a:prstGeom prst="rect">
            <a:avLst/>
          </a:prstGeom>
          <a:solidFill>
            <a:srgbClr val="fef5e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2520" indent="-182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7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2" name="Rectangle 398"/>
          <p:cNvSpPr/>
          <p:nvPr/>
        </p:nvSpPr>
        <p:spPr>
          <a:xfrm>
            <a:off x="1332000" y="4684680"/>
            <a:ext cx="539640" cy="212760"/>
          </a:xfrm>
          <a:prstGeom prst="rect">
            <a:avLst/>
          </a:prstGeom>
          <a:solidFill>
            <a:srgbClr val="fef5e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2520" indent="-182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5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3" name="Rectangle 399"/>
          <p:cNvSpPr/>
          <p:nvPr/>
        </p:nvSpPr>
        <p:spPr>
          <a:xfrm>
            <a:off x="1332000" y="5027760"/>
            <a:ext cx="539640" cy="212400"/>
          </a:xfrm>
          <a:prstGeom prst="rect">
            <a:avLst/>
          </a:prstGeom>
          <a:solidFill>
            <a:srgbClr val="fef5e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2520" indent="-182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4" name="Rectangle 400"/>
          <p:cNvSpPr/>
          <p:nvPr/>
        </p:nvSpPr>
        <p:spPr>
          <a:xfrm>
            <a:off x="1332000" y="5370480"/>
            <a:ext cx="539640" cy="212760"/>
          </a:xfrm>
          <a:prstGeom prst="rect">
            <a:avLst/>
          </a:prstGeom>
          <a:solidFill>
            <a:srgbClr val="fef5e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2520" indent="-182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5" name="Rectangle 401"/>
          <p:cNvSpPr/>
          <p:nvPr/>
        </p:nvSpPr>
        <p:spPr>
          <a:xfrm>
            <a:off x="1332000" y="3135240"/>
            <a:ext cx="539640" cy="212760"/>
          </a:xfrm>
          <a:prstGeom prst="rect">
            <a:avLst/>
          </a:prstGeom>
          <a:solidFill>
            <a:srgbClr val="fef5e8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182520" indent="-182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6" name="Rectangle 402"/>
          <p:cNvSpPr/>
          <p:nvPr/>
        </p:nvSpPr>
        <p:spPr>
          <a:xfrm>
            <a:off x="1376280" y="5788080"/>
            <a:ext cx="540000" cy="21276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182520" indent="-18252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4,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7" name="Text Box 403"/>
          <p:cNvSpPr/>
          <p:nvPr/>
        </p:nvSpPr>
        <p:spPr>
          <a:xfrm>
            <a:off x="1935360" y="5761800"/>
            <a:ext cx="8661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marL="182520" indent="-182520" algn="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△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4.9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8" name="Text Box 404"/>
          <p:cNvSpPr/>
          <p:nvPr/>
        </p:nvSpPr>
        <p:spPr>
          <a:xfrm>
            <a:off x="1970280" y="2439000"/>
            <a:ext cx="8661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marL="182520" indent="-182520" algn="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ffff"/>
                </a:solidFill>
                <a:latin typeface="Arial"/>
              </a:rPr>
              <a:t>△</a:t>
            </a:r>
            <a:r>
              <a:rPr b="1" i="1" lang="en-US" sz="1100" spc="-1" strike="noStrike">
                <a:solidFill>
                  <a:srgbClr val="ffffff"/>
                </a:solidFill>
                <a:latin typeface="Arial"/>
              </a:rPr>
              <a:t>3.4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9" name="Text Box 405"/>
          <p:cNvSpPr/>
          <p:nvPr/>
        </p:nvSpPr>
        <p:spPr>
          <a:xfrm>
            <a:off x="2093040" y="2113560"/>
            <a:ext cx="7578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marL="182520" indent="-182520" algn="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ffff"/>
                </a:solidFill>
                <a:latin typeface="Arial"/>
              </a:rPr>
              <a:t>0.9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0" name="Text Box 406"/>
          <p:cNvSpPr/>
          <p:nvPr/>
        </p:nvSpPr>
        <p:spPr>
          <a:xfrm>
            <a:off x="2014920" y="2770920"/>
            <a:ext cx="8355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marL="182520" indent="-182520" algn="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ffff"/>
                </a:solidFill>
                <a:latin typeface="Arial"/>
              </a:rPr>
              <a:t>50.0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1" name="Text Box 407"/>
          <p:cNvSpPr/>
          <p:nvPr/>
        </p:nvSpPr>
        <p:spPr>
          <a:xfrm>
            <a:off x="1970280" y="4007520"/>
            <a:ext cx="8661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marL="182520" indent="-182520" algn="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ffff"/>
                </a:solidFill>
                <a:latin typeface="Arial"/>
              </a:rPr>
              <a:t>△</a:t>
            </a:r>
            <a:r>
              <a:rPr b="1" i="1" lang="en-US" sz="11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1" i="1" lang="en-US" sz="1100" spc="-1" strike="noStrike">
                <a:solidFill>
                  <a:srgbClr val="ffffff"/>
                </a:solidFill>
                <a:latin typeface="Arial"/>
                <a:ea typeface="宋体"/>
              </a:rPr>
              <a:t>.3</a:t>
            </a:r>
            <a:r>
              <a:rPr b="1" i="1" lang="en-US" sz="11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2" name="Text Box 408"/>
          <p:cNvSpPr/>
          <p:nvPr/>
        </p:nvSpPr>
        <p:spPr>
          <a:xfrm>
            <a:off x="1892520" y="3656880"/>
            <a:ext cx="9439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marL="182520" indent="-182520" algn="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ffff"/>
                </a:solidFill>
                <a:latin typeface="Arial"/>
              </a:rPr>
              <a:t>△</a:t>
            </a:r>
            <a:r>
              <a:rPr b="1" i="1" lang="en-US" sz="1100" spc="-1" strike="noStrike">
                <a:solidFill>
                  <a:srgbClr val="ffffff"/>
                </a:solidFill>
                <a:latin typeface="Arial"/>
                <a:ea typeface="宋体"/>
              </a:rPr>
              <a:t>10.8</a:t>
            </a:r>
            <a:r>
              <a:rPr b="1" i="1" lang="en-US" sz="11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3" name="Text Box 409"/>
          <p:cNvSpPr/>
          <p:nvPr/>
        </p:nvSpPr>
        <p:spPr>
          <a:xfrm>
            <a:off x="1970280" y="4329720"/>
            <a:ext cx="8661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marL="182520" indent="-182520" algn="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ffff"/>
                </a:solidFill>
                <a:latin typeface="Arial"/>
                <a:ea typeface="Gulim"/>
              </a:rPr>
              <a:t>△</a:t>
            </a:r>
            <a:r>
              <a:rPr b="1" i="1" lang="en-US" sz="1100" spc="-1" strike="noStrike">
                <a:solidFill>
                  <a:srgbClr val="ffffff"/>
                </a:solidFill>
                <a:latin typeface="Arial"/>
                <a:ea typeface="宋体"/>
              </a:rPr>
              <a:t>1.4</a:t>
            </a:r>
            <a:r>
              <a:rPr b="1" i="1" lang="en-US" sz="11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4" name="Text Box 410"/>
          <p:cNvSpPr/>
          <p:nvPr/>
        </p:nvSpPr>
        <p:spPr>
          <a:xfrm>
            <a:off x="1892520" y="4672800"/>
            <a:ext cx="9439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marL="182520" indent="-182520" algn="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ffff"/>
                </a:solidFill>
                <a:latin typeface="Arial"/>
              </a:rPr>
              <a:t>△</a:t>
            </a:r>
            <a:r>
              <a:rPr b="1" i="1" lang="en-US" sz="1100" spc="-1" strike="noStrike">
                <a:solidFill>
                  <a:srgbClr val="ffffff"/>
                </a:solidFill>
                <a:latin typeface="Arial"/>
              </a:rPr>
              <a:t>34.1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5" name="Text Box 411"/>
          <p:cNvSpPr/>
          <p:nvPr/>
        </p:nvSpPr>
        <p:spPr>
          <a:xfrm>
            <a:off x="1892520" y="5015520"/>
            <a:ext cx="94392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marL="182520" indent="-182520" algn="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ffff"/>
                </a:solidFill>
                <a:latin typeface="Arial"/>
              </a:rPr>
              <a:t>△</a:t>
            </a:r>
            <a:r>
              <a:rPr b="1" i="1" lang="en-US" sz="1100" spc="-1" strike="noStrike">
                <a:solidFill>
                  <a:srgbClr val="ffffff"/>
                </a:solidFill>
                <a:latin typeface="Arial"/>
              </a:rPr>
              <a:t>16.5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6" name="Text Box 412"/>
          <p:cNvSpPr/>
          <p:nvPr/>
        </p:nvSpPr>
        <p:spPr>
          <a:xfrm>
            <a:off x="1970280" y="5358600"/>
            <a:ext cx="8661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marL="182520" indent="-182520" algn="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ffff"/>
                </a:solidFill>
                <a:latin typeface="Arial"/>
              </a:rPr>
              <a:t>△</a:t>
            </a:r>
            <a:r>
              <a:rPr b="1" i="1" lang="en-US" sz="1100" spc="-1" strike="noStrike">
                <a:solidFill>
                  <a:srgbClr val="ffffff"/>
                </a:solidFill>
                <a:latin typeface="Arial"/>
              </a:rPr>
              <a:t>1.5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7" name="Text Box 413"/>
          <p:cNvSpPr/>
          <p:nvPr/>
        </p:nvSpPr>
        <p:spPr>
          <a:xfrm>
            <a:off x="2093040" y="3123360"/>
            <a:ext cx="7578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ctr">
            <a:spAutoFit/>
          </a:bodyPr>
          <a:p>
            <a:pPr marL="182520" indent="-182520" algn="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ffffff"/>
                </a:solidFill>
                <a:latin typeface="Arial"/>
              </a:rPr>
              <a:t>9.7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8" name="Text Box 414"/>
          <p:cNvSpPr/>
          <p:nvPr/>
        </p:nvSpPr>
        <p:spPr>
          <a:xfrm>
            <a:off x="2259000" y="1057320"/>
            <a:ext cx="120168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( Unit : M RMB, % 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9" name="Text Box 419"/>
          <p:cNvSpPr/>
          <p:nvPr/>
        </p:nvSpPr>
        <p:spPr>
          <a:xfrm>
            <a:off x="2145240" y="2589120"/>
            <a:ext cx="32076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(1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0" name="Text Box 420"/>
          <p:cNvSpPr/>
          <p:nvPr/>
        </p:nvSpPr>
        <p:spPr>
          <a:xfrm>
            <a:off x="290160" y="6022800"/>
            <a:ext cx="228096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1) Division funded $12M to LGENP (0%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1" name="Text Box 421"/>
          <p:cNvSpPr/>
          <p:nvPr/>
        </p:nvSpPr>
        <p:spPr>
          <a:xfrm>
            <a:off x="5496480" y="5203800"/>
            <a:ext cx="391248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Terms : Reduce Fixed Margin risk of N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duce Return : A/C TDR (till May ’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2" name="Rectangle 4" descr=""/>
          <p:cNvPicPr/>
          <p:nvPr/>
        </p:nvPicPr>
        <p:blipFill>
          <a:blip r:embed="rId1"/>
          <a:stretch/>
        </p:blipFill>
        <p:spPr>
          <a:xfrm>
            <a:off x="109440" y="109440"/>
            <a:ext cx="951120" cy="567000"/>
          </a:xfrm>
          <a:prstGeom prst="rect">
            <a:avLst/>
          </a:prstGeom>
          <a:ln w="0">
            <a:noFill/>
          </a:ln>
        </p:spPr>
      </p:pic>
      <p:sp>
        <p:nvSpPr>
          <p:cNvPr id="3663" name="直接连接符 93"/>
          <p:cNvSpPr/>
          <p:nvPr/>
        </p:nvSpPr>
        <p:spPr>
          <a:xfrm>
            <a:off x="965160" y="237960"/>
            <a:ext cx="0" cy="214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4" name="标题 2"/>
          <p:cNvSpPr/>
          <p:nvPr/>
        </p:nvSpPr>
        <p:spPr>
          <a:xfrm>
            <a:off x="950760" y="190440"/>
            <a:ext cx="1555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经营分析报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5" name="矩形 95" descr=""/>
          <p:cNvPicPr/>
          <p:nvPr/>
        </p:nvPicPr>
        <p:blipFill>
          <a:blip r:embed="rId2"/>
          <a:stretch/>
        </p:blipFill>
        <p:spPr>
          <a:xfrm>
            <a:off x="6566040" y="115920"/>
            <a:ext cx="3352680" cy="1133280"/>
          </a:xfrm>
          <a:prstGeom prst="rect">
            <a:avLst/>
          </a:prstGeom>
          <a:ln w="0">
            <a:noFill/>
          </a:ln>
        </p:spPr>
      </p:pic>
      <p:sp>
        <p:nvSpPr>
          <p:cNvPr id="3666" name="Rectangle 88"/>
          <p:cNvSpPr/>
          <p:nvPr/>
        </p:nvSpPr>
        <p:spPr>
          <a:xfrm>
            <a:off x="6619320" y="95400"/>
            <a:ext cx="212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바탕"/>
              </a:rPr>
              <a:t> Ⅳ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바탕"/>
              </a:rPr>
              <a:t>. `08 BIZ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7" name="Rectangle 174"/>
          <p:cNvSpPr/>
          <p:nvPr/>
        </p:nvSpPr>
        <p:spPr>
          <a:xfrm>
            <a:off x="7167600" y="374760"/>
            <a:ext cx="627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bfbfbf"/>
                </a:solidFill>
                <a:latin typeface="Arial"/>
              </a:rPr>
              <a:t>Profit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68" name=""/>
          <p:cNvGrpSpPr/>
          <p:nvPr/>
        </p:nvGrpSpPr>
        <p:grpSpPr>
          <a:xfrm>
            <a:off x="0" y="6443640"/>
            <a:ext cx="9918720" cy="237960"/>
            <a:chOff x="0" y="6443640"/>
            <a:chExt cx="9918720" cy="237960"/>
          </a:xfrm>
        </p:grpSpPr>
        <p:pic>
          <p:nvPicPr>
            <p:cNvPr id="3669" name="矩形 98" descr=""/>
            <p:cNvPicPr/>
            <p:nvPr/>
          </p:nvPicPr>
          <p:blipFill>
            <a:blip r:embed="rId3"/>
            <a:stretch/>
          </p:blipFill>
          <p:spPr>
            <a:xfrm>
              <a:off x="0" y="6443640"/>
              <a:ext cx="991728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70" name=""/>
            <p:cNvSpPr/>
            <p:nvPr/>
          </p:nvSpPr>
          <p:spPr>
            <a:xfrm>
              <a:off x="0" y="6445080"/>
              <a:ext cx="991872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71" name="灯片编号占位符 5"/>
          <p:cNvSpPr/>
          <p:nvPr/>
        </p:nvSpPr>
        <p:spPr>
          <a:xfrm>
            <a:off x="7397640" y="6399360"/>
            <a:ext cx="1486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ge   </a:t>
            </a:r>
            <a:fld id="{66FBD9A6-063E-43EF-B676-F0A826038046}" type="slidenum">
              <a:rPr b="0" lang="zh-CN" sz="1000" spc="-1" strike="noStrike">
                <a:solidFill>
                  <a:srgbClr val="ffffff"/>
                </a:solidFill>
                <a:latin typeface="华文宋体"/>
                <a:ea typeface="华文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5" name=""/>
          <p:cNvGrpSpPr/>
          <p:nvPr/>
        </p:nvGrpSpPr>
        <p:grpSpPr>
          <a:xfrm>
            <a:off x="0" y="1782720"/>
            <a:ext cx="9882360" cy="3924360"/>
            <a:chOff x="0" y="1782720"/>
            <a:chExt cx="9882360" cy="3924360"/>
          </a:xfrm>
        </p:grpSpPr>
        <p:sp>
          <p:nvSpPr>
            <p:cNvPr id="2496" name="矩形 3"/>
            <p:cNvSpPr/>
            <p:nvPr/>
          </p:nvSpPr>
          <p:spPr>
            <a:xfrm>
              <a:off x="0" y="1782720"/>
              <a:ext cx="9882360" cy="257184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97" name="Picture 6" descr="C:\Users\x201i\Desktop\未标题-2.png"/>
            <p:cNvPicPr/>
            <p:nvPr/>
          </p:nvPicPr>
          <p:blipFill>
            <a:blip r:embed="rId1"/>
            <a:stretch/>
          </p:blipFill>
          <p:spPr>
            <a:xfrm>
              <a:off x="0" y="4619160"/>
              <a:ext cx="9882360" cy="4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98" name="Picture 6" descr="C:\Users\x201i\Desktop\未标题-2.png"/>
            <p:cNvPicPr/>
            <p:nvPr/>
          </p:nvPicPr>
          <p:blipFill>
            <a:blip r:embed="rId2"/>
            <a:stretch/>
          </p:blipFill>
          <p:spPr>
            <a:xfrm>
              <a:off x="0" y="5661360"/>
              <a:ext cx="9882360" cy="45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99" name="Text Box 1032"/>
          <p:cNvSpPr/>
          <p:nvPr/>
        </p:nvSpPr>
        <p:spPr>
          <a:xfrm>
            <a:off x="1000080" y="4616640"/>
            <a:ext cx="807264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b0f0"/>
                </a:solidFill>
                <a:latin typeface="微软雅黑"/>
                <a:ea typeface="微软雅黑"/>
              </a:rPr>
              <a:t>中国地区经营报告</a:t>
            </a:r>
            <a:r>
              <a:rPr b="1" lang="zh-CN" sz="3200" spc="-1" strike="noStrike">
                <a:solidFill>
                  <a:srgbClr val="a6a6a6"/>
                </a:solidFill>
                <a:latin typeface="微软雅黑"/>
                <a:ea typeface="微软雅黑"/>
              </a:rPr>
              <a:t>及</a:t>
            </a:r>
            <a:r>
              <a:rPr b="1" lang="zh-CN" sz="4800" spc="-1" strike="noStrike">
                <a:solidFill>
                  <a:srgbClr val="ffc000"/>
                </a:solidFill>
                <a:latin typeface="微软雅黑"/>
                <a:ea typeface="微软雅黑"/>
              </a:rPr>
              <a:t>销售计划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0" name="组合 11" descr=""/>
          <p:cNvPicPr/>
          <p:nvPr/>
        </p:nvPicPr>
        <p:blipFill>
          <a:blip r:embed="rId3"/>
          <a:stretch/>
        </p:blipFill>
        <p:spPr>
          <a:xfrm>
            <a:off x="3078000" y="1779480"/>
            <a:ext cx="3341880" cy="26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2" name="矩形 57" descr=""/>
          <p:cNvPicPr/>
          <p:nvPr/>
        </p:nvPicPr>
        <p:blipFill>
          <a:blip r:embed="rId1"/>
          <a:stretch/>
        </p:blipFill>
        <p:spPr>
          <a:xfrm>
            <a:off x="6566040" y="115920"/>
            <a:ext cx="3352680" cy="1133280"/>
          </a:xfrm>
          <a:prstGeom prst="rect">
            <a:avLst/>
          </a:prstGeom>
          <a:ln w="0">
            <a:noFill/>
          </a:ln>
        </p:spPr>
      </p:pic>
      <p:sp>
        <p:nvSpPr>
          <p:cNvPr id="3673" name="Rectangle 88"/>
          <p:cNvSpPr/>
          <p:nvPr/>
        </p:nvSpPr>
        <p:spPr>
          <a:xfrm>
            <a:off x="6619320" y="95400"/>
            <a:ext cx="212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바탕"/>
              </a:rPr>
              <a:t> Ⅳ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바탕"/>
              </a:rPr>
              <a:t>. `08 BIZ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4" name="Text Box 8"/>
          <p:cNvSpPr/>
          <p:nvPr/>
        </p:nvSpPr>
        <p:spPr>
          <a:xfrm>
            <a:off x="6872760" y="1055520"/>
            <a:ext cx="115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ccff"/>
                </a:solidFill>
                <a:uFillTx/>
                <a:latin typeface="Arial"/>
              </a:rPr>
              <a:t>Action</a:t>
            </a:r>
            <a:r>
              <a:rPr b="1" lang="en-US" sz="1400" spc="-1" strike="noStrike" u="sng">
                <a:solidFill>
                  <a:srgbClr val="00b0f0"/>
                </a:solidFill>
                <a:uFillTx/>
                <a:latin typeface="Arial"/>
              </a:rPr>
              <a:t> 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5" name="Text Box 10"/>
          <p:cNvSpPr/>
          <p:nvPr/>
        </p:nvSpPr>
        <p:spPr>
          <a:xfrm>
            <a:off x="5412600" y="1860480"/>
            <a:ext cx="377388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gital FHD DVR (52”/47”/42”), Scarlet(47”/42”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large P2 &amp; RESS coverage : 530 </a:t>
            </a:r>
            <a:r>
              <a:rPr b="1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900 sh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Olympic ambassador “</a:t>
            </a:r>
            <a:r>
              <a:rPr b="1" lang="ko-KR" sz="1200" spc="-1" strike="noStrike">
                <a:solidFill>
                  <a:srgbClr val="000000"/>
                </a:solidFill>
                <a:latin typeface="Arial"/>
              </a:rPr>
              <a:t>楊蘭”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elebr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6" name="Text Box 11"/>
          <p:cNvSpPr/>
          <p:nvPr/>
        </p:nvSpPr>
        <p:spPr>
          <a:xfrm>
            <a:off x="5417280" y="2892600"/>
            <a:ext cx="363384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and Art design model by oriental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`07 1 MDL </a:t>
            </a:r>
            <a:r>
              <a:rPr b="0" lang="en-US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5 MDL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inforce promotion in 10000RMB~15000RM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7" name="Text Box 12"/>
          <p:cNvSpPr/>
          <p:nvPr/>
        </p:nvSpPr>
        <p:spPr>
          <a:xfrm>
            <a:off x="5419080" y="3884760"/>
            <a:ext cx="2696760" cy="8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hance competitivenes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NPI (Dry+DD), Reposition (Stea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pand shop display spa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M Dedicated promo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8" name="Rectangle 266"/>
          <p:cNvSpPr/>
          <p:nvPr/>
        </p:nvSpPr>
        <p:spPr>
          <a:xfrm>
            <a:off x="1442880" y="1889280"/>
            <a:ext cx="858960" cy="28872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9" name="Text Box 267"/>
          <p:cNvSpPr/>
          <p:nvPr/>
        </p:nvSpPr>
        <p:spPr>
          <a:xfrm>
            <a:off x="2575800" y="156852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0" name="Text Box 268"/>
          <p:cNvSpPr/>
          <p:nvPr/>
        </p:nvSpPr>
        <p:spPr>
          <a:xfrm>
            <a:off x="3374280" y="156852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1" name="Text Box 269"/>
          <p:cNvSpPr/>
          <p:nvPr/>
        </p:nvSpPr>
        <p:spPr>
          <a:xfrm>
            <a:off x="4242960" y="156852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2" name="Rectangle 270"/>
          <p:cNvSpPr/>
          <p:nvPr/>
        </p:nvSpPr>
        <p:spPr>
          <a:xfrm>
            <a:off x="2455920" y="1889280"/>
            <a:ext cx="701640" cy="288720"/>
          </a:xfrm>
          <a:prstGeom prst="rect">
            <a:avLst/>
          </a:prstGeom>
          <a:solidFill>
            <a:srgbClr val="d9d9d9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4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3" name="Rectangle 271"/>
          <p:cNvSpPr/>
          <p:nvPr/>
        </p:nvSpPr>
        <p:spPr>
          <a:xfrm>
            <a:off x="3301920" y="1889280"/>
            <a:ext cx="701640" cy="288720"/>
          </a:xfrm>
          <a:prstGeom prst="rect">
            <a:avLst/>
          </a:prstGeom>
          <a:solidFill>
            <a:srgbClr val="ff99ff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.3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4" name="Rectangle 272"/>
          <p:cNvSpPr/>
          <p:nvPr/>
        </p:nvSpPr>
        <p:spPr>
          <a:xfrm>
            <a:off x="4172040" y="1889280"/>
            <a:ext cx="701640" cy="28872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9.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5" name="Rectangle 273"/>
          <p:cNvSpPr/>
          <p:nvPr/>
        </p:nvSpPr>
        <p:spPr>
          <a:xfrm>
            <a:off x="1442880" y="2249640"/>
            <a:ext cx="858960" cy="28872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6" name="Rectangle 274"/>
          <p:cNvSpPr/>
          <p:nvPr/>
        </p:nvSpPr>
        <p:spPr>
          <a:xfrm>
            <a:off x="2455920" y="2249640"/>
            <a:ext cx="701640" cy="288720"/>
          </a:xfrm>
          <a:prstGeom prst="rect">
            <a:avLst/>
          </a:prstGeom>
          <a:solidFill>
            <a:srgbClr val="d9d9d9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7" name="Rectangle 275"/>
          <p:cNvSpPr/>
          <p:nvPr/>
        </p:nvSpPr>
        <p:spPr>
          <a:xfrm>
            <a:off x="3301920" y="2249640"/>
            <a:ext cx="701640" cy="288720"/>
          </a:xfrm>
          <a:prstGeom prst="rect">
            <a:avLst/>
          </a:prstGeom>
          <a:solidFill>
            <a:srgbClr val="ff99ff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8" name="Rectangle 276"/>
          <p:cNvSpPr/>
          <p:nvPr/>
        </p:nvSpPr>
        <p:spPr>
          <a:xfrm>
            <a:off x="4172040" y="2249640"/>
            <a:ext cx="701640" cy="28872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9" name="Oval 277"/>
          <p:cNvSpPr/>
          <p:nvPr/>
        </p:nvSpPr>
        <p:spPr>
          <a:xfrm>
            <a:off x="271440" y="1890720"/>
            <a:ext cx="1014480" cy="503280"/>
          </a:xfrm>
          <a:prstGeom prst="ellipse">
            <a:avLst/>
          </a:prstGeom>
          <a:solidFill>
            <a:srgbClr val="00a7e2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CD T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0" name="Rectangle 278"/>
          <p:cNvSpPr/>
          <p:nvPr/>
        </p:nvSpPr>
        <p:spPr>
          <a:xfrm>
            <a:off x="1442880" y="2906640"/>
            <a:ext cx="858960" cy="28908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1" name="Rectangle 279"/>
          <p:cNvSpPr/>
          <p:nvPr/>
        </p:nvSpPr>
        <p:spPr>
          <a:xfrm>
            <a:off x="2455920" y="2906640"/>
            <a:ext cx="701640" cy="289080"/>
          </a:xfrm>
          <a:prstGeom prst="rect">
            <a:avLst/>
          </a:prstGeom>
          <a:solidFill>
            <a:srgbClr val="d9d9d9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8.8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2" name="Rectangle 280"/>
          <p:cNvSpPr/>
          <p:nvPr/>
        </p:nvSpPr>
        <p:spPr>
          <a:xfrm>
            <a:off x="3301920" y="2906640"/>
            <a:ext cx="701640" cy="289080"/>
          </a:xfrm>
          <a:prstGeom prst="rect">
            <a:avLst/>
          </a:prstGeom>
          <a:solidFill>
            <a:srgbClr val="ff99ff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6.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3" name="Rectangle 281"/>
          <p:cNvSpPr/>
          <p:nvPr/>
        </p:nvSpPr>
        <p:spPr>
          <a:xfrm>
            <a:off x="4172040" y="2906640"/>
            <a:ext cx="701640" cy="28908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7.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4" name="Rectangle 282"/>
          <p:cNvSpPr/>
          <p:nvPr/>
        </p:nvSpPr>
        <p:spPr>
          <a:xfrm>
            <a:off x="1442880" y="3267000"/>
            <a:ext cx="858960" cy="28908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5" name="Rectangle 283"/>
          <p:cNvSpPr/>
          <p:nvPr/>
        </p:nvSpPr>
        <p:spPr>
          <a:xfrm>
            <a:off x="2455920" y="3267000"/>
            <a:ext cx="701640" cy="289080"/>
          </a:xfrm>
          <a:prstGeom prst="rect">
            <a:avLst/>
          </a:prstGeom>
          <a:solidFill>
            <a:srgbClr val="d9d9d9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6" name="Rectangle 284"/>
          <p:cNvSpPr/>
          <p:nvPr/>
        </p:nvSpPr>
        <p:spPr>
          <a:xfrm>
            <a:off x="3301920" y="3267000"/>
            <a:ext cx="701640" cy="289080"/>
          </a:xfrm>
          <a:prstGeom prst="rect">
            <a:avLst/>
          </a:prstGeom>
          <a:solidFill>
            <a:srgbClr val="ff99ff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7" name="Rectangle 285"/>
          <p:cNvSpPr/>
          <p:nvPr/>
        </p:nvSpPr>
        <p:spPr>
          <a:xfrm>
            <a:off x="4172040" y="3267000"/>
            <a:ext cx="701640" cy="28908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8" name="Oval 286"/>
          <p:cNvSpPr/>
          <p:nvPr/>
        </p:nvSpPr>
        <p:spPr>
          <a:xfrm>
            <a:off x="271440" y="2908440"/>
            <a:ext cx="1014480" cy="502920"/>
          </a:xfrm>
          <a:prstGeom prst="ellipse">
            <a:avLst/>
          </a:prstGeom>
          <a:solidFill>
            <a:srgbClr val="00a7e2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x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9" name="Rectangle 287"/>
          <p:cNvSpPr/>
          <p:nvPr/>
        </p:nvSpPr>
        <p:spPr>
          <a:xfrm>
            <a:off x="1442880" y="3978360"/>
            <a:ext cx="858960" cy="28872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0" name="Rectangle 288"/>
          <p:cNvSpPr/>
          <p:nvPr/>
        </p:nvSpPr>
        <p:spPr>
          <a:xfrm>
            <a:off x="2455920" y="3978360"/>
            <a:ext cx="701640" cy="288720"/>
          </a:xfrm>
          <a:prstGeom prst="rect">
            <a:avLst/>
          </a:prstGeom>
          <a:solidFill>
            <a:srgbClr val="d9d9d9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2.7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1" name="Rectangle 289"/>
          <p:cNvSpPr/>
          <p:nvPr/>
        </p:nvSpPr>
        <p:spPr>
          <a:xfrm>
            <a:off x="3301920" y="3978360"/>
            <a:ext cx="701640" cy="288720"/>
          </a:xfrm>
          <a:prstGeom prst="rect">
            <a:avLst/>
          </a:prstGeom>
          <a:solidFill>
            <a:srgbClr val="ff99ff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2" name="Rectangle 290"/>
          <p:cNvSpPr/>
          <p:nvPr/>
        </p:nvSpPr>
        <p:spPr>
          <a:xfrm>
            <a:off x="4172040" y="3978360"/>
            <a:ext cx="701640" cy="28872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3.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3" name="Rectangle 291"/>
          <p:cNvSpPr/>
          <p:nvPr/>
        </p:nvSpPr>
        <p:spPr>
          <a:xfrm>
            <a:off x="1442880" y="4338720"/>
            <a:ext cx="858960" cy="28872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4" name="Rectangle 292"/>
          <p:cNvSpPr/>
          <p:nvPr/>
        </p:nvSpPr>
        <p:spPr>
          <a:xfrm>
            <a:off x="2455920" y="4338720"/>
            <a:ext cx="701640" cy="288720"/>
          </a:xfrm>
          <a:prstGeom prst="rect">
            <a:avLst/>
          </a:prstGeom>
          <a:solidFill>
            <a:srgbClr val="d9d9d9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5" name="Rectangle 293"/>
          <p:cNvSpPr/>
          <p:nvPr/>
        </p:nvSpPr>
        <p:spPr>
          <a:xfrm>
            <a:off x="3301920" y="4338720"/>
            <a:ext cx="701640" cy="288720"/>
          </a:xfrm>
          <a:prstGeom prst="rect">
            <a:avLst/>
          </a:prstGeom>
          <a:solidFill>
            <a:srgbClr val="ff99ff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6" name="Rectangle 294"/>
          <p:cNvSpPr/>
          <p:nvPr/>
        </p:nvSpPr>
        <p:spPr>
          <a:xfrm>
            <a:off x="4172040" y="4338720"/>
            <a:ext cx="701640" cy="28872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7" name="Oval 295"/>
          <p:cNvSpPr/>
          <p:nvPr/>
        </p:nvSpPr>
        <p:spPr>
          <a:xfrm>
            <a:off x="271440" y="3979800"/>
            <a:ext cx="1014480" cy="503280"/>
          </a:xfrm>
          <a:prstGeom prst="ellipse">
            <a:avLst/>
          </a:prstGeom>
          <a:solidFill>
            <a:srgbClr val="00a7e2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Dr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8" name="Rectangle 296"/>
          <p:cNvSpPr/>
          <p:nvPr/>
        </p:nvSpPr>
        <p:spPr>
          <a:xfrm>
            <a:off x="1442880" y="5091120"/>
            <a:ext cx="858960" cy="28908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9" name="Rectangle 297"/>
          <p:cNvSpPr/>
          <p:nvPr/>
        </p:nvSpPr>
        <p:spPr>
          <a:xfrm>
            <a:off x="2455920" y="5091120"/>
            <a:ext cx="701640" cy="289080"/>
          </a:xfrm>
          <a:prstGeom prst="rect">
            <a:avLst/>
          </a:prstGeom>
          <a:solidFill>
            <a:srgbClr val="d9d9d9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0" name="Rectangle 298"/>
          <p:cNvSpPr/>
          <p:nvPr/>
        </p:nvSpPr>
        <p:spPr>
          <a:xfrm>
            <a:off x="3301920" y="5091120"/>
            <a:ext cx="701640" cy="289080"/>
          </a:xfrm>
          <a:prstGeom prst="rect">
            <a:avLst/>
          </a:prstGeom>
          <a:solidFill>
            <a:srgbClr val="ff99ff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.2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1" name="Rectangle 299"/>
          <p:cNvSpPr/>
          <p:nvPr/>
        </p:nvSpPr>
        <p:spPr>
          <a:xfrm>
            <a:off x="4172040" y="5091120"/>
            <a:ext cx="701640" cy="28908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6.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2" name="Rectangle 300"/>
          <p:cNvSpPr/>
          <p:nvPr/>
        </p:nvSpPr>
        <p:spPr>
          <a:xfrm>
            <a:off x="1442880" y="5451480"/>
            <a:ext cx="858960" cy="289080"/>
          </a:xfrm>
          <a:prstGeom prst="rect">
            <a:avLst/>
          </a:prstGeom>
          <a:solidFill>
            <a:srgbClr val="ffff66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3" name="Rectangle 301"/>
          <p:cNvSpPr/>
          <p:nvPr/>
        </p:nvSpPr>
        <p:spPr>
          <a:xfrm>
            <a:off x="2455920" y="5451480"/>
            <a:ext cx="701640" cy="289080"/>
          </a:xfrm>
          <a:prstGeom prst="rect">
            <a:avLst/>
          </a:prstGeom>
          <a:solidFill>
            <a:srgbClr val="d9d9d9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4" name="Rectangle 302"/>
          <p:cNvSpPr/>
          <p:nvPr/>
        </p:nvSpPr>
        <p:spPr>
          <a:xfrm>
            <a:off x="3301920" y="5451480"/>
            <a:ext cx="701640" cy="289080"/>
          </a:xfrm>
          <a:prstGeom prst="rect">
            <a:avLst/>
          </a:prstGeom>
          <a:solidFill>
            <a:srgbClr val="ff99ff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5" name="Rectangle 303"/>
          <p:cNvSpPr/>
          <p:nvPr/>
        </p:nvSpPr>
        <p:spPr>
          <a:xfrm>
            <a:off x="4172040" y="5451480"/>
            <a:ext cx="701640" cy="28908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6" name="Oval 304"/>
          <p:cNvSpPr/>
          <p:nvPr/>
        </p:nvSpPr>
        <p:spPr>
          <a:xfrm>
            <a:off x="271440" y="5092560"/>
            <a:ext cx="1014480" cy="503280"/>
          </a:xfrm>
          <a:prstGeom prst="ellipse">
            <a:avLst/>
          </a:prstGeom>
          <a:solidFill>
            <a:srgbClr val="00a7e2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A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7" name="Text Box 305"/>
          <p:cNvSpPr/>
          <p:nvPr/>
        </p:nvSpPr>
        <p:spPr>
          <a:xfrm>
            <a:off x="2582280" y="1055520"/>
            <a:ext cx="109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b0f0"/>
                </a:solidFill>
                <a:uFillTx/>
                <a:latin typeface="Arial"/>
              </a:rPr>
              <a:t>Target M/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8" name="Text Box 307"/>
          <p:cNvSpPr/>
          <p:nvPr/>
        </p:nvSpPr>
        <p:spPr>
          <a:xfrm>
            <a:off x="455760" y="2414520"/>
            <a:ext cx="60732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40”↑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9" name="Text Box 309"/>
          <p:cNvSpPr/>
          <p:nvPr/>
        </p:nvSpPr>
        <p:spPr>
          <a:xfrm>
            <a:off x="5421600" y="5130720"/>
            <a:ext cx="434088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fferentiation : Art flower, TFT LCD, Robot clea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xtend modern flower product line to better grade(PW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ocus in big capacity market : BJ / S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0" name=""/>
          <p:cNvGrpSpPr/>
          <p:nvPr/>
        </p:nvGrpSpPr>
        <p:grpSpPr>
          <a:xfrm>
            <a:off x="0" y="6443640"/>
            <a:ext cx="9918720" cy="237960"/>
            <a:chOff x="0" y="6443640"/>
            <a:chExt cx="9918720" cy="237960"/>
          </a:xfrm>
        </p:grpSpPr>
        <p:pic>
          <p:nvPicPr>
            <p:cNvPr id="3721" name="矩形 51" descr=""/>
            <p:cNvPicPr/>
            <p:nvPr/>
          </p:nvPicPr>
          <p:blipFill>
            <a:blip r:embed="rId2"/>
            <a:stretch/>
          </p:blipFill>
          <p:spPr>
            <a:xfrm>
              <a:off x="0" y="6443640"/>
              <a:ext cx="991728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2" name=""/>
            <p:cNvSpPr/>
            <p:nvPr/>
          </p:nvSpPr>
          <p:spPr>
            <a:xfrm>
              <a:off x="0" y="6445080"/>
              <a:ext cx="991872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23" name="灯片编号占位符 5"/>
          <p:cNvSpPr/>
          <p:nvPr/>
        </p:nvSpPr>
        <p:spPr>
          <a:xfrm>
            <a:off x="7397640" y="6399360"/>
            <a:ext cx="1486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ge   </a:t>
            </a:r>
            <a:fld id="{D01120FC-9552-4BA1-AD34-358AF9F19FCA}" type="slidenum">
              <a:rPr b="0" lang="zh-CN" sz="1000" spc="-1" strike="noStrike">
                <a:solidFill>
                  <a:srgbClr val="ffffff"/>
                </a:solidFill>
                <a:latin typeface="华文宋体"/>
                <a:ea typeface="华文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24" name="Rectangle 4" descr=""/>
          <p:cNvPicPr/>
          <p:nvPr/>
        </p:nvPicPr>
        <p:blipFill>
          <a:blip r:embed="rId3"/>
          <a:stretch/>
        </p:blipFill>
        <p:spPr>
          <a:xfrm>
            <a:off x="109440" y="109440"/>
            <a:ext cx="951120" cy="567000"/>
          </a:xfrm>
          <a:prstGeom prst="rect">
            <a:avLst/>
          </a:prstGeom>
          <a:ln w="0">
            <a:noFill/>
          </a:ln>
        </p:spPr>
      </p:pic>
      <p:sp>
        <p:nvSpPr>
          <p:cNvPr id="3725" name="直接连接符 55"/>
          <p:cNvSpPr/>
          <p:nvPr/>
        </p:nvSpPr>
        <p:spPr>
          <a:xfrm>
            <a:off x="965160" y="237960"/>
            <a:ext cx="0" cy="214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6" name="标题 2"/>
          <p:cNvSpPr/>
          <p:nvPr/>
        </p:nvSpPr>
        <p:spPr>
          <a:xfrm>
            <a:off x="950760" y="190440"/>
            <a:ext cx="1555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经营分析报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7" name="Rectangle 75"/>
          <p:cNvSpPr/>
          <p:nvPr/>
        </p:nvSpPr>
        <p:spPr>
          <a:xfrm>
            <a:off x="7159320" y="374760"/>
            <a:ext cx="1299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bfbfbf"/>
                </a:solidFill>
                <a:latin typeface="Arial"/>
              </a:rPr>
              <a:t>Market shar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8" name=""/>
          <p:cNvSpPr/>
          <p:nvPr/>
        </p:nvSpPr>
        <p:spPr>
          <a:xfrm>
            <a:off x="1127160" y="682560"/>
            <a:ext cx="443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免费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9" name="AutoShape 8"/>
          <p:cNvSpPr/>
          <p:nvPr/>
        </p:nvSpPr>
        <p:spPr>
          <a:xfrm rot="5400000">
            <a:off x="4394520" y="3864600"/>
            <a:ext cx="1584360" cy="312840"/>
          </a:xfrm>
          <a:prstGeom prst="triangle">
            <a:avLst>
              <a:gd name="adj" fmla="val 5000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0" name="Text Box 9"/>
          <p:cNvSpPr/>
          <p:nvPr/>
        </p:nvSpPr>
        <p:spPr>
          <a:xfrm>
            <a:off x="2798640" y="1093680"/>
            <a:ext cx="390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『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ifferentiated Business model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』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Focus, Specialization, GlocaliZ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1" name="Text Box 10"/>
          <p:cNvSpPr/>
          <p:nvPr/>
        </p:nvSpPr>
        <p:spPr>
          <a:xfrm>
            <a:off x="6916680" y="1797120"/>
            <a:ext cx="128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70c0"/>
                </a:solidFill>
                <a:uFillTx/>
                <a:latin typeface="Arial"/>
              </a:rPr>
              <a:t>Key Initi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2" name="Line 11"/>
          <p:cNvSpPr/>
          <p:nvPr/>
        </p:nvSpPr>
        <p:spPr>
          <a:xfrm flipV="1">
            <a:off x="584280" y="2293920"/>
            <a:ext cx="0" cy="3240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3" name="Line 12"/>
          <p:cNvSpPr/>
          <p:nvPr/>
        </p:nvSpPr>
        <p:spPr>
          <a:xfrm>
            <a:off x="584280" y="5533920"/>
            <a:ext cx="4289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4" name="Oval 13"/>
          <p:cNvSpPr/>
          <p:nvPr/>
        </p:nvSpPr>
        <p:spPr>
          <a:xfrm>
            <a:off x="895320" y="4954680"/>
            <a:ext cx="165240" cy="218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5" name="Line 14"/>
          <p:cNvSpPr/>
          <p:nvPr/>
        </p:nvSpPr>
        <p:spPr>
          <a:xfrm>
            <a:off x="1052640" y="5064120"/>
            <a:ext cx="13255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6" name="Line 15"/>
          <p:cNvSpPr/>
          <p:nvPr/>
        </p:nvSpPr>
        <p:spPr>
          <a:xfrm flipV="1">
            <a:off x="2378160" y="3805200"/>
            <a:ext cx="0" cy="1224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7" name="Line 16"/>
          <p:cNvSpPr/>
          <p:nvPr/>
        </p:nvSpPr>
        <p:spPr>
          <a:xfrm>
            <a:off x="2384280" y="3733920"/>
            <a:ext cx="1398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8" name="Line 17"/>
          <p:cNvSpPr/>
          <p:nvPr/>
        </p:nvSpPr>
        <p:spPr>
          <a:xfrm flipV="1">
            <a:off x="3782880" y="2652840"/>
            <a:ext cx="0" cy="1008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9" name="Rectangle 18"/>
          <p:cNvSpPr/>
          <p:nvPr/>
        </p:nvSpPr>
        <p:spPr>
          <a:xfrm>
            <a:off x="-45000" y="4879800"/>
            <a:ext cx="1214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tar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0" name="Rectangle 19"/>
          <p:cNvSpPr/>
          <p:nvPr/>
        </p:nvSpPr>
        <p:spPr>
          <a:xfrm>
            <a:off x="1135080" y="4664160"/>
            <a:ext cx="1477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Build prem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trate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1" name="Rectangle 20"/>
          <p:cNvSpPr/>
          <p:nvPr/>
        </p:nvSpPr>
        <p:spPr>
          <a:xfrm>
            <a:off x="2521080" y="3348000"/>
            <a:ext cx="1508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Build prem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In new cit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2" name="Rectangle 21"/>
          <p:cNvSpPr/>
          <p:nvPr/>
        </p:nvSpPr>
        <p:spPr>
          <a:xfrm>
            <a:off x="3515040" y="2870280"/>
            <a:ext cx="141696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Invest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build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eg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3" name="Rectangle 22"/>
          <p:cNvSpPr/>
          <p:nvPr/>
        </p:nvSpPr>
        <p:spPr>
          <a:xfrm>
            <a:off x="2117160" y="4122720"/>
            <a:ext cx="147780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Incr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Geograph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re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4" name="Text Box 24"/>
          <p:cNvSpPr/>
          <p:nvPr/>
        </p:nvSpPr>
        <p:spPr>
          <a:xfrm>
            <a:off x="2094840" y="510228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Gulim"/>
              </a:rPr>
              <a:t>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5" name="Text Box 25"/>
          <p:cNvSpPr/>
          <p:nvPr/>
        </p:nvSpPr>
        <p:spPr>
          <a:xfrm>
            <a:off x="3549240" y="3746520"/>
            <a:ext cx="52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027080"/>
                <a:tab algn="l" pos="2054160"/>
                <a:tab algn="l" pos="3081240"/>
                <a:tab algn="l" pos="4108320"/>
                <a:tab algn="l" pos="5135400"/>
                <a:tab algn="l" pos="6162840"/>
                <a:tab algn="l" pos="7189920"/>
                <a:tab algn="l" pos="8217000"/>
                <a:tab algn="l" pos="9244080"/>
                <a:tab algn="l" pos="1027116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Gulim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6" name="Freeform 26"/>
          <p:cNvSpPr/>
          <p:nvPr/>
        </p:nvSpPr>
        <p:spPr>
          <a:xfrm rot="5400000">
            <a:off x="1344240" y="4805280"/>
            <a:ext cx="273240" cy="1793880"/>
          </a:xfrm>
          <a:custGeom>
            <a:avLst/>
            <a:gdLst>
              <a:gd name="textAreaLeft" fmla="*/ 0 w 273240"/>
              <a:gd name="textAreaRight" fmla="*/ 273600 w 273240"/>
              <a:gd name="textAreaTop" fmla="*/ 0 h 1793880"/>
              <a:gd name="textAreaBottom" fmla="*/ 1794240 h 1793880"/>
            </a:gdLst>
            <a:ahLst/>
            <a:rect l="textAreaLeft" t="textAreaTop" r="textAreaRight" b="textAreaBottom"/>
            <a:pathLst>
              <a:path w="115" h="1152">
                <a:moveTo>
                  <a:pt x="0" y="0"/>
                </a:moveTo>
                <a:lnTo>
                  <a:pt x="65" y="0"/>
                </a:lnTo>
                <a:lnTo>
                  <a:pt x="65" y="528"/>
                </a:lnTo>
                <a:lnTo>
                  <a:pt x="115" y="576"/>
                </a:lnTo>
                <a:lnTo>
                  <a:pt x="65" y="624"/>
                </a:lnTo>
                <a:lnTo>
                  <a:pt x="65" y="1152"/>
                </a:lnTo>
                <a:lnTo>
                  <a:pt x="0" y="11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7" name="Rectangle 27"/>
          <p:cNvSpPr/>
          <p:nvPr/>
        </p:nvSpPr>
        <p:spPr>
          <a:xfrm>
            <a:off x="513360" y="5927760"/>
            <a:ext cx="1958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Transformation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8" name="Freeform 28"/>
          <p:cNvSpPr/>
          <p:nvPr/>
        </p:nvSpPr>
        <p:spPr>
          <a:xfrm rot="5400000">
            <a:off x="3529440" y="4493160"/>
            <a:ext cx="273240" cy="2417760"/>
          </a:xfrm>
          <a:custGeom>
            <a:avLst/>
            <a:gdLst>
              <a:gd name="textAreaLeft" fmla="*/ 0 w 273240"/>
              <a:gd name="textAreaRight" fmla="*/ 273600 w 273240"/>
              <a:gd name="textAreaTop" fmla="*/ 0 h 2417760"/>
              <a:gd name="textAreaBottom" fmla="*/ 2418120 h 2417760"/>
            </a:gdLst>
            <a:ahLst/>
            <a:rect l="textAreaLeft" t="textAreaTop" r="textAreaRight" b="textAreaBottom"/>
            <a:pathLst>
              <a:path w="115" h="1152">
                <a:moveTo>
                  <a:pt x="0" y="0"/>
                </a:moveTo>
                <a:lnTo>
                  <a:pt x="65" y="0"/>
                </a:lnTo>
                <a:lnTo>
                  <a:pt x="65" y="528"/>
                </a:lnTo>
                <a:lnTo>
                  <a:pt x="115" y="576"/>
                </a:lnTo>
                <a:lnTo>
                  <a:pt x="65" y="624"/>
                </a:lnTo>
                <a:lnTo>
                  <a:pt x="65" y="1152"/>
                </a:lnTo>
                <a:lnTo>
                  <a:pt x="0" y="11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9" name="Rectangle 29"/>
          <p:cNvSpPr/>
          <p:nvPr/>
        </p:nvSpPr>
        <p:spPr>
          <a:xfrm>
            <a:off x="3041640" y="5927760"/>
            <a:ext cx="1229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Grow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0" name="Rectangle 30"/>
          <p:cNvSpPr/>
          <p:nvPr/>
        </p:nvSpPr>
        <p:spPr>
          <a:xfrm>
            <a:off x="4952880" y="5318280"/>
            <a:ext cx="9399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Br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tr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1" name="Rectangle 31"/>
          <p:cNvSpPr/>
          <p:nvPr/>
        </p:nvSpPr>
        <p:spPr>
          <a:xfrm>
            <a:off x="351000" y="2038320"/>
            <a:ext cx="939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Sa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2" name="Rectangle 32"/>
          <p:cNvSpPr/>
          <p:nvPr/>
        </p:nvSpPr>
        <p:spPr>
          <a:xfrm>
            <a:off x="6045120" y="2415960"/>
            <a:ext cx="311400" cy="304920"/>
          </a:xfrm>
          <a:prstGeom prst="rect">
            <a:avLst/>
          </a:prstGeom>
          <a:solidFill>
            <a:srgbClr val="7030a0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3" name="Text Box 33"/>
          <p:cNvSpPr/>
          <p:nvPr/>
        </p:nvSpPr>
        <p:spPr>
          <a:xfrm>
            <a:off x="6409440" y="2416320"/>
            <a:ext cx="1686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xpand Co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4" name="Rectangle 34"/>
          <p:cNvSpPr/>
          <p:nvPr/>
        </p:nvSpPr>
        <p:spPr>
          <a:xfrm>
            <a:off x="6045120" y="3153960"/>
            <a:ext cx="311400" cy="304920"/>
          </a:xfrm>
          <a:prstGeom prst="rect">
            <a:avLst/>
          </a:prstGeom>
          <a:solidFill>
            <a:srgbClr val="7030a0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5" name="Text Box 35"/>
          <p:cNvSpPr/>
          <p:nvPr/>
        </p:nvSpPr>
        <p:spPr>
          <a:xfrm>
            <a:off x="6408720" y="3154320"/>
            <a:ext cx="2417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Account manag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6" name="Rectangle 36"/>
          <p:cNvSpPr/>
          <p:nvPr/>
        </p:nvSpPr>
        <p:spPr>
          <a:xfrm>
            <a:off x="6045120" y="3893760"/>
            <a:ext cx="311400" cy="304920"/>
          </a:xfrm>
          <a:prstGeom prst="rect">
            <a:avLst/>
          </a:prstGeom>
          <a:solidFill>
            <a:srgbClr val="7030a0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7" name="Text Box 37"/>
          <p:cNvSpPr/>
          <p:nvPr/>
        </p:nvSpPr>
        <p:spPr>
          <a:xfrm>
            <a:off x="6409080" y="3900600"/>
            <a:ext cx="1441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OS exec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8" name="Rectangle 38"/>
          <p:cNvSpPr/>
          <p:nvPr/>
        </p:nvSpPr>
        <p:spPr>
          <a:xfrm>
            <a:off x="6045120" y="4632120"/>
            <a:ext cx="311400" cy="304920"/>
          </a:xfrm>
          <a:prstGeom prst="rect">
            <a:avLst/>
          </a:prstGeom>
          <a:solidFill>
            <a:srgbClr val="7030a0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9" name="Text Box 39"/>
          <p:cNvSpPr/>
          <p:nvPr/>
        </p:nvSpPr>
        <p:spPr>
          <a:xfrm>
            <a:off x="6409080" y="4638600"/>
            <a:ext cx="1667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PI Manage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0" name="Rectangle 40"/>
          <p:cNvSpPr/>
          <p:nvPr/>
        </p:nvSpPr>
        <p:spPr>
          <a:xfrm>
            <a:off x="6045120" y="5371920"/>
            <a:ext cx="311400" cy="304920"/>
          </a:xfrm>
          <a:prstGeom prst="rect">
            <a:avLst/>
          </a:prstGeom>
          <a:solidFill>
            <a:srgbClr val="7030a0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1" name="Text Box 41"/>
          <p:cNvSpPr/>
          <p:nvPr/>
        </p:nvSpPr>
        <p:spPr>
          <a:xfrm>
            <a:off x="6408000" y="5372280"/>
            <a:ext cx="1660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ffective Mar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2" name="AutoShape 44"/>
          <p:cNvSpPr/>
          <p:nvPr/>
        </p:nvSpPr>
        <p:spPr>
          <a:xfrm>
            <a:off x="1052640" y="3932280"/>
            <a:ext cx="1249200" cy="647640"/>
          </a:xfrm>
          <a:prstGeom prst="rightArrow">
            <a:avLst>
              <a:gd name="adj1" fmla="val 69611"/>
              <a:gd name="adj2" fmla="val 34978"/>
            </a:avLst>
          </a:prstGeom>
          <a:solidFill>
            <a:srgbClr val="00a7e2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g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3" name="AutoShape 45"/>
          <p:cNvSpPr/>
          <p:nvPr/>
        </p:nvSpPr>
        <p:spPr>
          <a:xfrm>
            <a:off x="2457360" y="2708280"/>
            <a:ext cx="1249560" cy="647640"/>
          </a:xfrm>
          <a:prstGeom prst="rightArrow">
            <a:avLst>
              <a:gd name="adj1" fmla="val 69611"/>
              <a:gd name="adj2" fmla="val 37605"/>
            </a:avLst>
          </a:prstGeom>
          <a:solidFill>
            <a:srgbClr val="ffc000"/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g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4" name="Rectangle 4" descr=""/>
          <p:cNvPicPr/>
          <p:nvPr/>
        </p:nvPicPr>
        <p:blipFill>
          <a:blip r:embed="rId1"/>
          <a:stretch/>
        </p:blipFill>
        <p:spPr>
          <a:xfrm>
            <a:off x="109440" y="109440"/>
            <a:ext cx="951120" cy="567000"/>
          </a:xfrm>
          <a:prstGeom prst="rect">
            <a:avLst/>
          </a:prstGeom>
          <a:ln w="0">
            <a:noFill/>
          </a:ln>
        </p:spPr>
      </p:pic>
      <p:sp>
        <p:nvSpPr>
          <p:cNvPr id="3765" name="直接连接符 42"/>
          <p:cNvSpPr/>
          <p:nvPr/>
        </p:nvSpPr>
        <p:spPr>
          <a:xfrm>
            <a:off x="965160" y="237960"/>
            <a:ext cx="0" cy="214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6" name="标题 2"/>
          <p:cNvSpPr/>
          <p:nvPr/>
        </p:nvSpPr>
        <p:spPr>
          <a:xfrm>
            <a:off x="950760" y="190440"/>
            <a:ext cx="1555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经营分析报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7" name="矩形 44" descr=""/>
          <p:cNvPicPr/>
          <p:nvPr/>
        </p:nvPicPr>
        <p:blipFill>
          <a:blip r:embed="rId2"/>
          <a:stretch/>
        </p:blipFill>
        <p:spPr>
          <a:xfrm>
            <a:off x="6566040" y="115920"/>
            <a:ext cx="3352680" cy="1133280"/>
          </a:xfrm>
          <a:prstGeom prst="rect">
            <a:avLst/>
          </a:prstGeom>
          <a:ln w="0">
            <a:noFill/>
          </a:ln>
        </p:spPr>
      </p:pic>
      <p:sp>
        <p:nvSpPr>
          <p:cNvPr id="3768" name="Rectangle 46"/>
          <p:cNvSpPr/>
          <p:nvPr/>
        </p:nvSpPr>
        <p:spPr>
          <a:xfrm>
            <a:off x="6657120" y="119160"/>
            <a:ext cx="28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바탕"/>
              </a:rPr>
              <a:t> Ⅴ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바탕"/>
              </a:rPr>
              <a:t>. `08 Key initiativ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9" name="Rectangle 47"/>
          <p:cNvSpPr/>
          <p:nvPr/>
        </p:nvSpPr>
        <p:spPr>
          <a:xfrm>
            <a:off x="7199280" y="411120"/>
            <a:ext cx="9367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bfbfbf"/>
                </a:solidFill>
                <a:latin typeface="Arial"/>
              </a:rPr>
              <a:t>Direction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0" name=""/>
          <p:cNvGrpSpPr/>
          <p:nvPr/>
        </p:nvGrpSpPr>
        <p:grpSpPr>
          <a:xfrm>
            <a:off x="0" y="6443640"/>
            <a:ext cx="9918720" cy="237960"/>
            <a:chOff x="0" y="6443640"/>
            <a:chExt cx="9918720" cy="237960"/>
          </a:xfrm>
        </p:grpSpPr>
        <p:pic>
          <p:nvPicPr>
            <p:cNvPr id="3771" name="矩形 48" descr=""/>
            <p:cNvPicPr/>
            <p:nvPr/>
          </p:nvPicPr>
          <p:blipFill>
            <a:blip r:embed="rId3"/>
            <a:stretch/>
          </p:blipFill>
          <p:spPr>
            <a:xfrm>
              <a:off x="0" y="6443640"/>
              <a:ext cx="991728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72" name=""/>
            <p:cNvSpPr/>
            <p:nvPr/>
          </p:nvSpPr>
          <p:spPr>
            <a:xfrm>
              <a:off x="0" y="6445080"/>
              <a:ext cx="991872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3" name="灯片编号占位符 5"/>
          <p:cNvSpPr/>
          <p:nvPr/>
        </p:nvSpPr>
        <p:spPr>
          <a:xfrm>
            <a:off x="7397640" y="6399360"/>
            <a:ext cx="1486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ge   </a:t>
            </a:r>
            <a:fld id="{A313E072-0588-466C-8E7F-24B3CB384198}" type="slidenum">
              <a:rPr b="0" lang="zh-CN" sz="1000" spc="-1" strike="noStrike">
                <a:solidFill>
                  <a:srgbClr val="ffffff"/>
                </a:solidFill>
                <a:latin typeface="华文宋体"/>
                <a:ea typeface="华文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4" name="Rectangle 143"/>
          <p:cNvSpPr/>
          <p:nvPr/>
        </p:nvSpPr>
        <p:spPr>
          <a:xfrm>
            <a:off x="353880" y="1125360"/>
            <a:ext cx="410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99"/>
                </a:solidFill>
                <a:uFillTx/>
                <a:latin typeface="Arial"/>
                <a:ea typeface="Gulim"/>
              </a:rPr>
              <a:t>Market Segme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5" name="Line 144"/>
          <p:cNvSpPr/>
          <p:nvPr/>
        </p:nvSpPr>
        <p:spPr>
          <a:xfrm>
            <a:off x="395280" y="2219400"/>
            <a:ext cx="0" cy="2798640"/>
          </a:xfrm>
          <a:prstGeom prst="line">
            <a:avLst/>
          </a:prstGeom>
          <a:ln w="12600">
            <a:solidFill>
              <a:srgbClr val="80808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6" name="Rectangle 145"/>
          <p:cNvSpPr/>
          <p:nvPr/>
        </p:nvSpPr>
        <p:spPr>
          <a:xfrm>
            <a:off x="204840" y="1770120"/>
            <a:ext cx="387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240" rIns="57240" tIns="28440" bIns="28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돋움,Arial"/>
                <a:ea typeface="돋움,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7" name="Rectangle 146"/>
          <p:cNvSpPr/>
          <p:nvPr/>
        </p:nvSpPr>
        <p:spPr>
          <a:xfrm>
            <a:off x="233280" y="5267160"/>
            <a:ext cx="387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7240" rIns="57240" tIns="28440" bIns="284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287280"/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돋움,Arial"/>
                <a:ea typeface="돋움,Arial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8" name="Text Box 147"/>
          <p:cNvSpPr/>
          <p:nvPr/>
        </p:nvSpPr>
        <p:spPr>
          <a:xfrm rot="16200000">
            <a:off x="-453600" y="3399840"/>
            <a:ext cx="1670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돋움,Arial"/>
                <a:ea typeface="돋움,Arial"/>
              </a:rPr>
              <a:t>Premium siz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9" name="Text Box 148"/>
          <p:cNvSpPr/>
          <p:nvPr/>
        </p:nvSpPr>
        <p:spPr>
          <a:xfrm>
            <a:off x="703080" y="5586480"/>
            <a:ext cx="8636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:Market s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0" name="Text Box 149"/>
          <p:cNvSpPr/>
          <p:nvPr/>
        </p:nvSpPr>
        <p:spPr>
          <a:xfrm>
            <a:off x="627120" y="5856120"/>
            <a:ext cx="1966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 marL="603360" indent="-603360">
              <a:spcBef>
                <a:spcPts val="249"/>
              </a:spcBef>
              <a:tabLst>
                <a:tab algn="l" pos="0"/>
                <a:tab algn="r" pos="55872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华文楷体"/>
              </a:rPr>
              <a:t>* Source: GFK data, 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1" name="AutoShape 150"/>
          <p:cNvSpPr/>
          <p:nvPr/>
        </p:nvSpPr>
        <p:spPr>
          <a:xfrm>
            <a:off x="1886040" y="1754280"/>
            <a:ext cx="2306520" cy="2679480"/>
          </a:xfrm>
          <a:prstGeom prst="upArrow">
            <a:avLst>
              <a:gd name="adj1" fmla="val 79019"/>
              <a:gd name="adj2" fmla="val 30172"/>
            </a:avLst>
          </a:prstGeom>
          <a:gradFill rotWithShape="0">
            <a:gsLst>
              <a:gs pos="0">
                <a:srgbClr val="fcc8f1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2" name="Line 151"/>
          <p:cNvSpPr/>
          <p:nvPr/>
        </p:nvSpPr>
        <p:spPr>
          <a:xfrm>
            <a:off x="641520" y="4272120"/>
            <a:ext cx="3394080" cy="0"/>
          </a:xfrm>
          <a:prstGeom prst="line">
            <a:avLst/>
          </a:prstGeom>
          <a:ln cap="rnd" w="64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3" name="Line 152"/>
          <p:cNvSpPr/>
          <p:nvPr/>
        </p:nvSpPr>
        <p:spPr>
          <a:xfrm flipV="1">
            <a:off x="2297160" y="1834920"/>
            <a:ext cx="0" cy="3306600"/>
          </a:xfrm>
          <a:prstGeom prst="line">
            <a:avLst/>
          </a:prstGeom>
          <a:ln cap="rnd" w="64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4" name="Rectangle 153"/>
          <p:cNvSpPr/>
          <p:nvPr/>
        </p:nvSpPr>
        <p:spPr>
          <a:xfrm>
            <a:off x="636480" y="1859040"/>
            <a:ext cx="3421080" cy="33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5" name="Rectangle 154"/>
          <p:cNvSpPr/>
          <p:nvPr/>
        </p:nvSpPr>
        <p:spPr>
          <a:xfrm>
            <a:off x="636480" y="1859040"/>
            <a:ext cx="3421080" cy="3355920"/>
          </a:xfrm>
          <a:prstGeom prst="rect">
            <a:avLst/>
          </a:prstGeom>
          <a:noFill/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6" name="Line 155"/>
          <p:cNvSpPr/>
          <p:nvPr/>
        </p:nvSpPr>
        <p:spPr>
          <a:xfrm>
            <a:off x="636480" y="5214960"/>
            <a:ext cx="3421080" cy="1440"/>
          </a:xfrm>
          <a:prstGeom prst="line">
            <a:avLst/>
          </a:prstGeom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7" name="Oval 156"/>
          <p:cNvSpPr/>
          <p:nvPr/>
        </p:nvSpPr>
        <p:spPr>
          <a:xfrm>
            <a:off x="2647800" y="2335320"/>
            <a:ext cx="552600" cy="485640"/>
          </a:xfrm>
          <a:prstGeom prst="ellipse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8" name="Oval 157"/>
          <p:cNvSpPr/>
          <p:nvPr/>
        </p:nvSpPr>
        <p:spPr>
          <a:xfrm>
            <a:off x="2494080" y="1792440"/>
            <a:ext cx="600120" cy="515880"/>
          </a:xfrm>
          <a:prstGeom prst="ellipse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9" name="Oval 158"/>
          <p:cNvSpPr/>
          <p:nvPr/>
        </p:nvSpPr>
        <p:spPr>
          <a:xfrm>
            <a:off x="2962440" y="3156120"/>
            <a:ext cx="401400" cy="333360"/>
          </a:xfrm>
          <a:prstGeom prst="ellipse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0" name="Oval 159"/>
          <p:cNvSpPr/>
          <p:nvPr/>
        </p:nvSpPr>
        <p:spPr>
          <a:xfrm>
            <a:off x="2508120" y="3355920"/>
            <a:ext cx="354240" cy="304920"/>
          </a:xfrm>
          <a:prstGeom prst="ellipse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1" name="Oval 160"/>
          <p:cNvSpPr/>
          <p:nvPr/>
        </p:nvSpPr>
        <p:spPr>
          <a:xfrm>
            <a:off x="1446120" y="3575160"/>
            <a:ext cx="352440" cy="323640"/>
          </a:xfrm>
          <a:prstGeom prst="ellipse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2" name="Oval 161"/>
          <p:cNvSpPr/>
          <p:nvPr/>
        </p:nvSpPr>
        <p:spPr>
          <a:xfrm>
            <a:off x="2130480" y="3613320"/>
            <a:ext cx="287280" cy="285480"/>
          </a:xfrm>
          <a:prstGeom prst="ellipse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3" name="Oval 162"/>
          <p:cNvSpPr/>
          <p:nvPr/>
        </p:nvSpPr>
        <p:spPr>
          <a:xfrm>
            <a:off x="1881360" y="3651120"/>
            <a:ext cx="371160" cy="343080"/>
          </a:xfrm>
          <a:prstGeom prst="ellipse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4" name="Oval 163"/>
          <p:cNvSpPr/>
          <p:nvPr/>
        </p:nvSpPr>
        <p:spPr>
          <a:xfrm>
            <a:off x="2763720" y="3670200"/>
            <a:ext cx="387360" cy="390600"/>
          </a:xfrm>
          <a:prstGeom prst="ellipse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5" name="Oval 164"/>
          <p:cNvSpPr/>
          <p:nvPr/>
        </p:nvSpPr>
        <p:spPr>
          <a:xfrm>
            <a:off x="3648240" y="3774960"/>
            <a:ext cx="334800" cy="314280"/>
          </a:xfrm>
          <a:prstGeom prst="ellipse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6" name="Oval 165"/>
          <p:cNvSpPr/>
          <p:nvPr/>
        </p:nvSpPr>
        <p:spPr>
          <a:xfrm>
            <a:off x="2508120" y="3898800"/>
            <a:ext cx="354240" cy="343080"/>
          </a:xfrm>
          <a:prstGeom prst="ellipse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7" name="Oval 166"/>
          <p:cNvSpPr/>
          <p:nvPr/>
        </p:nvSpPr>
        <p:spPr>
          <a:xfrm>
            <a:off x="2004840" y="3994200"/>
            <a:ext cx="271800" cy="314280"/>
          </a:xfrm>
          <a:prstGeom prst="ellipse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8" name="Oval 167"/>
          <p:cNvSpPr/>
          <p:nvPr/>
        </p:nvSpPr>
        <p:spPr>
          <a:xfrm>
            <a:off x="2730600" y="4098960"/>
            <a:ext cx="387360" cy="333360"/>
          </a:xfrm>
          <a:prstGeom prst="ellipse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9" name="Oval 168"/>
          <p:cNvSpPr/>
          <p:nvPr/>
        </p:nvSpPr>
        <p:spPr>
          <a:xfrm>
            <a:off x="2409840" y="4108320"/>
            <a:ext cx="271440" cy="314280"/>
          </a:xfrm>
          <a:prstGeom prst="ellipse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0" name="Oval 169"/>
          <p:cNvSpPr/>
          <p:nvPr/>
        </p:nvSpPr>
        <p:spPr>
          <a:xfrm>
            <a:off x="2004840" y="4222800"/>
            <a:ext cx="271800" cy="314280"/>
          </a:xfrm>
          <a:prstGeom prst="ellipse">
            <a:avLst/>
          </a:prstGeom>
          <a:solidFill>
            <a:srgbClr val="cc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1" name="Oval 170"/>
          <p:cNvSpPr/>
          <p:nvPr/>
        </p:nvSpPr>
        <p:spPr>
          <a:xfrm>
            <a:off x="2846520" y="4299120"/>
            <a:ext cx="223560" cy="257040"/>
          </a:xfrm>
          <a:prstGeom prst="ellipse">
            <a:avLst/>
          </a:prstGeom>
          <a:solidFill>
            <a:srgbClr val="eaeaea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2" name="Oval 171"/>
          <p:cNvSpPr/>
          <p:nvPr/>
        </p:nvSpPr>
        <p:spPr>
          <a:xfrm>
            <a:off x="2475000" y="4098960"/>
            <a:ext cx="222120" cy="257040"/>
          </a:xfrm>
          <a:prstGeom prst="ellipse">
            <a:avLst/>
          </a:prstGeom>
          <a:solidFill>
            <a:srgbClr val="66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3" name="Oval 172"/>
          <p:cNvSpPr/>
          <p:nvPr/>
        </p:nvSpPr>
        <p:spPr>
          <a:xfrm>
            <a:off x="1996920" y="4156200"/>
            <a:ext cx="290520" cy="333360"/>
          </a:xfrm>
          <a:prstGeom prst="ellipse">
            <a:avLst/>
          </a:prstGeom>
          <a:solidFill>
            <a:srgbClr val="66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4" name="Oval 173"/>
          <p:cNvSpPr/>
          <p:nvPr/>
        </p:nvSpPr>
        <p:spPr>
          <a:xfrm>
            <a:off x="1865160" y="4194000"/>
            <a:ext cx="273240" cy="314640"/>
          </a:xfrm>
          <a:prstGeom prst="ellipse">
            <a:avLst/>
          </a:prstGeom>
          <a:solidFill>
            <a:srgbClr val="66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5" name="Oval 174"/>
          <p:cNvSpPr/>
          <p:nvPr/>
        </p:nvSpPr>
        <p:spPr>
          <a:xfrm>
            <a:off x="1562040" y="4299120"/>
            <a:ext cx="271440" cy="314280"/>
          </a:xfrm>
          <a:prstGeom prst="ellipse">
            <a:avLst/>
          </a:prstGeom>
          <a:solidFill>
            <a:srgbClr val="66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6" name="Oval 175"/>
          <p:cNvSpPr/>
          <p:nvPr/>
        </p:nvSpPr>
        <p:spPr>
          <a:xfrm>
            <a:off x="1262160" y="4327560"/>
            <a:ext cx="242640" cy="276120"/>
          </a:xfrm>
          <a:prstGeom prst="ellipse">
            <a:avLst/>
          </a:prstGeom>
          <a:solidFill>
            <a:srgbClr val="66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7" name="Oval 176"/>
          <p:cNvSpPr/>
          <p:nvPr/>
        </p:nvSpPr>
        <p:spPr>
          <a:xfrm>
            <a:off x="1057320" y="4375080"/>
            <a:ext cx="239760" cy="276120"/>
          </a:xfrm>
          <a:prstGeom prst="ellipse">
            <a:avLst/>
          </a:prstGeom>
          <a:solidFill>
            <a:srgbClr val="66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8" name="Oval 177"/>
          <p:cNvSpPr/>
          <p:nvPr/>
        </p:nvSpPr>
        <p:spPr>
          <a:xfrm>
            <a:off x="1230480" y="4403880"/>
            <a:ext cx="239400" cy="276120"/>
          </a:xfrm>
          <a:prstGeom prst="ellipse">
            <a:avLst/>
          </a:prstGeom>
          <a:solidFill>
            <a:srgbClr val="66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9" name="Oval 178"/>
          <p:cNvSpPr/>
          <p:nvPr/>
        </p:nvSpPr>
        <p:spPr>
          <a:xfrm>
            <a:off x="2846520" y="4422600"/>
            <a:ext cx="223560" cy="257400"/>
          </a:xfrm>
          <a:prstGeom prst="ellipse">
            <a:avLst/>
          </a:prstGeom>
          <a:solidFill>
            <a:srgbClr val="66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0" name="Oval 179"/>
          <p:cNvSpPr/>
          <p:nvPr/>
        </p:nvSpPr>
        <p:spPr>
          <a:xfrm>
            <a:off x="2063880" y="4394160"/>
            <a:ext cx="287280" cy="333360"/>
          </a:xfrm>
          <a:prstGeom prst="ellipse">
            <a:avLst/>
          </a:prstGeom>
          <a:solidFill>
            <a:srgbClr val="66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1" name="Oval 180"/>
          <p:cNvSpPr/>
          <p:nvPr/>
        </p:nvSpPr>
        <p:spPr>
          <a:xfrm>
            <a:off x="1197000" y="4460760"/>
            <a:ext cx="241200" cy="276480"/>
          </a:xfrm>
          <a:prstGeom prst="ellipse">
            <a:avLst/>
          </a:prstGeom>
          <a:solidFill>
            <a:srgbClr val="66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2" name="Oval 181"/>
          <p:cNvSpPr/>
          <p:nvPr/>
        </p:nvSpPr>
        <p:spPr>
          <a:xfrm>
            <a:off x="1452600" y="4527720"/>
            <a:ext cx="209520" cy="237960"/>
          </a:xfrm>
          <a:prstGeom prst="ellipse">
            <a:avLst/>
          </a:prstGeom>
          <a:solidFill>
            <a:srgbClr val="66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3" name="Oval 182"/>
          <p:cNvSpPr/>
          <p:nvPr/>
        </p:nvSpPr>
        <p:spPr>
          <a:xfrm>
            <a:off x="3622680" y="4565520"/>
            <a:ext cx="189000" cy="220680"/>
          </a:xfrm>
          <a:prstGeom prst="ellipse">
            <a:avLst/>
          </a:prstGeom>
          <a:solidFill>
            <a:srgbClr val="66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4" name="Oval 183"/>
          <p:cNvSpPr/>
          <p:nvPr/>
        </p:nvSpPr>
        <p:spPr>
          <a:xfrm>
            <a:off x="1287360" y="4546440"/>
            <a:ext cx="257400" cy="297000"/>
          </a:xfrm>
          <a:prstGeom prst="ellipse">
            <a:avLst/>
          </a:prstGeom>
          <a:solidFill>
            <a:srgbClr val="66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5" name="Oval 184"/>
          <p:cNvSpPr/>
          <p:nvPr/>
        </p:nvSpPr>
        <p:spPr>
          <a:xfrm>
            <a:off x="1974960" y="4565520"/>
            <a:ext cx="253800" cy="297000"/>
          </a:xfrm>
          <a:prstGeom prst="ellipse">
            <a:avLst/>
          </a:prstGeom>
          <a:solidFill>
            <a:srgbClr val="66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6" name="Oval 185"/>
          <p:cNvSpPr/>
          <p:nvPr/>
        </p:nvSpPr>
        <p:spPr>
          <a:xfrm>
            <a:off x="1405080" y="4594320"/>
            <a:ext cx="239400" cy="277560"/>
          </a:xfrm>
          <a:prstGeom prst="ellipse">
            <a:avLst/>
          </a:prstGeom>
          <a:solidFill>
            <a:srgbClr val="66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7" name="Oval 186"/>
          <p:cNvSpPr/>
          <p:nvPr/>
        </p:nvSpPr>
        <p:spPr>
          <a:xfrm>
            <a:off x="1758960" y="4660920"/>
            <a:ext cx="204840" cy="239760"/>
          </a:xfrm>
          <a:prstGeom prst="ellipse">
            <a:avLst/>
          </a:prstGeom>
          <a:solidFill>
            <a:srgbClr val="66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8" name="Oval 187"/>
          <p:cNvSpPr/>
          <p:nvPr/>
        </p:nvSpPr>
        <p:spPr>
          <a:xfrm>
            <a:off x="2030400" y="4746600"/>
            <a:ext cx="222120" cy="258840"/>
          </a:xfrm>
          <a:prstGeom prst="ellipse">
            <a:avLst/>
          </a:prstGeom>
          <a:solidFill>
            <a:srgbClr val="66ffff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9" name="Oval 188"/>
          <p:cNvSpPr/>
          <p:nvPr/>
        </p:nvSpPr>
        <p:spPr>
          <a:xfrm>
            <a:off x="1090440" y="4403880"/>
            <a:ext cx="254160" cy="295200"/>
          </a:xfrm>
          <a:prstGeom prst="ellipse">
            <a:avLst/>
          </a:prstGeom>
          <a:solidFill>
            <a:srgbClr val="66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0" name="Oval 189"/>
          <p:cNvSpPr/>
          <p:nvPr/>
        </p:nvSpPr>
        <p:spPr>
          <a:xfrm>
            <a:off x="2417760" y="4699080"/>
            <a:ext cx="189000" cy="220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1" name="Oval 190"/>
          <p:cNvSpPr/>
          <p:nvPr/>
        </p:nvSpPr>
        <p:spPr>
          <a:xfrm>
            <a:off x="942840" y="4718160"/>
            <a:ext cx="206640" cy="239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2" name="Oval 191"/>
          <p:cNvSpPr/>
          <p:nvPr/>
        </p:nvSpPr>
        <p:spPr>
          <a:xfrm>
            <a:off x="1328760" y="4765680"/>
            <a:ext cx="176040" cy="201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3" name="Oval 192"/>
          <p:cNvSpPr/>
          <p:nvPr/>
        </p:nvSpPr>
        <p:spPr>
          <a:xfrm>
            <a:off x="819000" y="4775040"/>
            <a:ext cx="171720" cy="201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4" name="Oval 193"/>
          <p:cNvSpPr/>
          <p:nvPr/>
        </p:nvSpPr>
        <p:spPr>
          <a:xfrm>
            <a:off x="3051000" y="4805280"/>
            <a:ext cx="155880" cy="1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5" name="Oval 194"/>
          <p:cNvSpPr/>
          <p:nvPr/>
        </p:nvSpPr>
        <p:spPr>
          <a:xfrm>
            <a:off x="851040" y="4824360"/>
            <a:ext cx="174600" cy="200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6" name="Oval 195"/>
          <p:cNvSpPr/>
          <p:nvPr/>
        </p:nvSpPr>
        <p:spPr>
          <a:xfrm>
            <a:off x="754200" y="4824360"/>
            <a:ext cx="171360" cy="200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7" name="Oval 196"/>
          <p:cNvSpPr/>
          <p:nvPr/>
        </p:nvSpPr>
        <p:spPr>
          <a:xfrm>
            <a:off x="1363680" y="4853160"/>
            <a:ext cx="189000" cy="218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8" name="Oval 197"/>
          <p:cNvSpPr/>
          <p:nvPr/>
        </p:nvSpPr>
        <p:spPr>
          <a:xfrm>
            <a:off x="1230480" y="4871880"/>
            <a:ext cx="174600" cy="200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9" name="Oval 198"/>
          <p:cNvSpPr/>
          <p:nvPr/>
        </p:nvSpPr>
        <p:spPr>
          <a:xfrm>
            <a:off x="1297080" y="4900680"/>
            <a:ext cx="172800" cy="199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0" name="Oval 199"/>
          <p:cNvSpPr/>
          <p:nvPr/>
        </p:nvSpPr>
        <p:spPr>
          <a:xfrm>
            <a:off x="874800" y="4929120"/>
            <a:ext cx="12384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1" name="Oval 200"/>
          <p:cNvSpPr/>
          <p:nvPr/>
        </p:nvSpPr>
        <p:spPr>
          <a:xfrm>
            <a:off x="1386000" y="4938840"/>
            <a:ext cx="141120" cy="161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2" name="Oval 201"/>
          <p:cNvSpPr/>
          <p:nvPr/>
        </p:nvSpPr>
        <p:spPr>
          <a:xfrm>
            <a:off x="1504800" y="4919760"/>
            <a:ext cx="171720" cy="199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3" name="Oval 202"/>
          <p:cNvSpPr/>
          <p:nvPr/>
        </p:nvSpPr>
        <p:spPr>
          <a:xfrm>
            <a:off x="1839960" y="4957920"/>
            <a:ext cx="123840" cy="142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4" name="Oval 203"/>
          <p:cNvSpPr/>
          <p:nvPr/>
        </p:nvSpPr>
        <p:spPr>
          <a:xfrm>
            <a:off x="868320" y="4948200"/>
            <a:ext cx="139680" cy="16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5" name="Oval 204"/>
          <p:cNvSpPr/>
          <p:nvPr/>
        </p:nvSpPr>
        <p:spPr>
          <a:xfrm>
            <a:off x="1692360" y="4948200"/>
            <a:ext cx="141120" cy="16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6" name="Oval 205"/>
          <p:cNvSpPr/>
          <p:nvPr/>
        </p:nvSpPr>
        <p:spPr>
          <a:xfrm>
            <a:off x="603360" y="4967280"/>
            <a:ext cx="12384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7" name="Oval 206"/>
          <p:cNvSpPr/>
          <p:nvPr/>
        </p:nvSpPr>
        <p:spPr>
          <a:xfrm>
            <a:off x="1428840" y="4967280"/>
            <a:ext cx="12384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8" name="Oval 207"/>
          <p:cNvSpPr/>
          <p:nvPr/>
        </p:nvSpPr>
        <p:spPr>
          <a:xfrm>
            <a:off x="1015920" y="5014800"/>
            <a:ext cx="12384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9" name="Oval 208"/>
          <p:cNvSpPr/>
          <p:nvPr/>
        </p:nvSpPr>
        <p:spPr>
          <a:xfrm>
            <a:off x="1303200" y="5005440"/>
            <a:ext cx="158760" cy="181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0" name="Oval 209"/>
          <p:cNvSpPr/>
          <p:nvPr/>
        </p:nvSpPr>
        <p:spPr>
          <a:xfrm>
            <a:off x="868320" y="5024520"/>
            <a:ext cx="139680" cy="16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1" name="Oval 210"/>
          <p:cNvSpPr/>
          <p:nvPr/>
        </p:nvSpPr>
        <p:spPr>
          <a:xfrm>
            <a:off x="2443320" y="5062680"/>
            <a:ext cx="72720" cy="8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2" name="Oval 211"/>
          <p:cNvSpPr/>
          <p:nvPr/>
        </p:nvSpPr>
        <p:spPr>
          <a:xfrm>
            <a:off x="2327400" y="5043600"/>
            <a:ext cx="106200" cy="123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3" name="Oval 212"/>
          <p:cNvSpPr/>
          <p:nvPr/>
        </p:nvSpPr>
        <p:spPr>
          <a:xfrm>
            <a:off x="2590920" y="4995720"/>
            <a:ext cx="188640" cy="2192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4" name="Oval 213"/>
          <p:cNvSpPr/>
          <p:nvPr/>
        </p:nvSpPr>
        <p:spPr>
          <a:xfrm>
            <a:off x="736560" y="5024520"/>
            <a:ext cx="138240" cy="16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5" name="Oval 214"/>
          <p:cNvSpPr/>
          <p:nvPr/>
        </p:nvSpPr>
        <p:spPr>
          <a:xfrm>
            <a:off x="1684440" y="5072040"/>
            <a:ext cx="90360" cy="104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6" name="Oval 215"/>
          <p:cNvSpPr/>
          <p:nvPr/>
        </p:nvSpPr>
        <p:spPr>
          <a:xfrm>
            <a:off x="2425680" y="5062680"/>
            <a:ext cx="108000" cy="123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7" name="Oval 216"/>
          <p:cNvSpPr/>
          <p:nvPr/>
        </p:nvSpPr>
        <p:spPr>
          <a:xfrm>
            <a:off x="1114560" y="5052960"/>
            <a:ext cx="12384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8" name="Oval 217"/>
          <p:cNvSpPr/>
          <p:nvPr/>
        </p:nvSpPr>
        <p:spPr>
          <a:xfrm>
            <a:off x="1849320" y="5081760"/>
            <a:ext cx="106560" cy="1234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9" name="Oval 218"/>
          <p:cNvSpPr/>
          <p:nvPr/>
        </p:nvSpPr>
        <p:spPr>
          <a:xfrm>
            <a:off x="685800" y="5100480"/>
            <a:ext cx="92160" cy="104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0" name="Oval 219"/>
          <p:cNvSpPr/>
          <p:nvPr/>
        </p:nvSpPr>
        <p:spPr>
          <a:xfrm>
            <a:off x="1544760" y="5110200"/>
            <a:ext cx="90360" cy="104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1" name="Oval 220"/>
          <p:cNvSpPr/>
          <p:nvPr/>
        </p:nvSpPr>
        <p:spPr>
          <a:xfrm>
            <a:off x="1932120" y="5138640"/>
            <a:ext cx="72720" cy="85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4400" bIns="144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2" name="Rectangle 221"/>
          <p:cNvSpPr/>
          <p:nvPr/>
        </p:nvSpPr>
        <p:spPr>
          <a:xfrm>
            <a:off x="536760" y="534816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Gulim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3" name="Rectangle 222"/>
          <p:cNvSpPr/>
          <p:nvPr/>
        </p:nvSpPr>
        <p:spPr>
          <a:xfrm>
            <a:off x="2251440" y="5348160"/>
            <a:ext cx="22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Gulim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4" name="Rectangle 223"/>
          <p:cNvSpPr/>
          <p:nvPr/>
        </p:nvSpPr>
        <p:spPr>
          <a:xfrm>
            <a:off x="3720960" y="5334120"/>
            <a:ext cx="3070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Gulim"/>
              </a:rPr>
              <a:t>1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5" name="Freeform 224"/>
          <p:cNvSpPr/>
          <p:nvPr/>
        </p:nvSpPr>
        <p:spPr>
          <a:xfrm>
            <a:off x="644400" y="4648320"/>
            <a:ext cx="1227240" cy="509400"/>
          </a:xfrm>
          <a:custGeom>
            <a:avLst/>
            <a:gdLst>
              <a:gd name="textAreaLeft" fmla="*/ 0 w 1227240"/>
              <a:gd name="textAreaRight" fmla="*/ 1227600 w 1227240"/>
              <a:gd name="textAreaTop" fmla="*/ 0 h 509400"/>
              <a:gd name="textAreaBottom" fmla="*/ 509760 h 509400"/>
            </a:gdLst>
            <a:ahLst/>
            <a:rect l="textAreaLeft" t="textAreaTop" r="textAreaRight" b="textAreaBottom"/>
            <a:pathLst>
              <a:path w="2484" h="569">
                <a:moveTo>
                  <a:pt x="0" y="0"/>
                </a:moveTo>
                <a:cubicBezTo>
                  <a:pt x="631" y="27"/>
                  <a:pt x="1262" y="55"/>
                  <a:pt x="1676" y="150"/>
                </a:cubicBezTo>
                <a:cubicBezTo>
                  <a:pt x="2090" y="245"/>
                  <a:pt x="2287" y="407"/>
                  <a:pt x="2484" y="569"/>
                </a:cubicBezTo>
              </a:path>
            </a:pathLst>
          </a:custGeom>
          <a:noFill/>
          <a:ln w="28440">
            <a:solidFill>
              <a:srgbClr val="00296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6" name="Rectangle 225"/>
          <p:cNvSpPr/>
          <p:nvPr/>
        </p:nvSpPr>
        <p:spPr>
          <a:xfrm>
            <a:off x="754920" y="4807080"/>
            <a:ext cx="860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Below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P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7" name="Oval 226"/>
          <p:cNvSpPr/>
          <p:nvPr/>
        </p:nvSpPr>
        <p:spPr>
          <a:xfrm>
            <a:off x="668160" y="1622520"/>
            <a:ext cx="123840" cy="129960"/>
          </a:xfrm>
          <a:prstGeom prst="ellipse">
            <a:avLst/>
          </a:prstGeom>
          <a:solidFill>
            <a:srgbClr val="eaeaea"/>
          </a:solidFill>
          <a:ln w="15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8" name="Text Box 227"/>
          <p:cNvSpPr/>
          <p:nvPr/>
        </p:nvSpPr>
        <p:spPr>
          <a:xfrm>
            <a:off x="747000" y="1563840"/>
            <a:ext cx="334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9" name="Text Box 228"/>
          <p:cNvSpPr/>
          <p:nvPr/>
        </p:nvSpPr>
        <p:spPr>
          <a:xfrm>
            <a:off x="1180440" y="1563840"/>
            <a:ext cx="334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0" name="Oval 229"/>
          <p:cNvSpPr/>
          <p:nvPr/>
        </p:nvSpPr>
        <p:spPr>
          <a:xfrm>
            <a:off x="1104840" y="1622520"/>
            <a:ext cx="123840" cy="129960"/>
          </a:xfrm>
          <a:prstGeom prst="ellipse">
            <a:avLst/>
          </a:prstGeom>
          <a:solidFill>
            <a:srgbClr val="66ffff"/>
          </a:solidFill>
          <a:ln w="15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1" name="Oval 230"/>
          <p:cNvSpPr/>
          <p:nvPr/>
        </p:nvSpPr>
        <p:spPr>
          <a:xfrm flipH="1">
            <a:off x="1527120" y="1622520"/>
            <a:ext cx="123840" cy="1332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2" name="Text Box 231"/>
          <p:cNvSpPr/>
          <p:nvPr/>
        </p:nvSpPr>
        <p:spPr>
          <a:xfrm>
            <a:off x="1630440" y="1563840"/>
            <a:ext cx="3348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3" name="Rectangle 232"/>
          <p:cNvSpPr/>
          <p:nvPr/>
        </p:nvSpPr>
        <p:spPr>
          <a:xfrm>
            <a:off x="2694960" y="2467080"/>
            <a:ext cx="41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eij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4" name="Rectangle 233"/>
          <p:cNvSpPr/>
          <p:nvPr/>
        </p:nvSpPr>
        <p:spPr>
          <a:xfrm>
            <a:off x="2499480" y="1932120"/>
            <a:ext cx="5904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hangha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5" name="Text Box 234"/>
          <p:cNvSpPr/>
          <p:nvPr/>
        </p:nvSpPr>
        <p:spPr>
          <a:xfrm>
            <a:off x="3070080" y="2143080"/>
            <a:ext cx="99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3600" indent="-93600" algn="ctr">
              <a:tabLst>
                <a:tab algn="l" pos="0"/>
                <a:tab algn="l" pos="987480"/>
                <a:tab algn="l" pos="1184400"/>
                <a:tab algn="l" pos="2368440"/>
                <a:tab algn="l" pos="3552840"/>
                <a:tab algn="l" pos="4737240"/>
                <a:tab algn="l" pos="5921280"/>
                <a:tab algn="l" pos="7105680"/>
                <a:tab algn="l" pos="8290080"/>
                <a:tab algn="l" pos="9474120"/>
                <a:tab algn="l" pos="106585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hase 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6" name="Oval 235"/>
          <p:cNvSpPr/>
          <p:nvPr/>
        </p:nvSpPr>
        <p:spPr>
          <a:xfrm>
            <a:off x="874800" y="3976560"/>
            <a:ext cx="2373120" cy="1041480"/>
          </a:xfrm>
          <a:prstGeom prst="ellipse">
            <a:avLst/>
          </a:prstGeom>
          <a:noFill/>
          <a:ln w="28440">
            <a:solidFill>
              <a:srgbClr val="0066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7" name="Freeform 236"/>
          <p:cNvSpPr/>
          <p:nvPr/>
        </p:nvSpPr>
        <p:spPr>
          <a:xfrm>
            <a:off x="2860560" y="3068640"/>
            <a:ext cx="1336680" cy="965160"/>
          </a:xfrm>
          <a:custGeom>
            <a:avLst/>
            <a:gdLst>
              <a:gd name="textAreaLeft" fmla="*/ 0 w 1336680"/>
              <a:gd name="textAreaRight" fmla="*/ 1337040 w 1336680"/>
              <a:gd name="textAreaTop" fmla="*/ 0 h 965160"/>
              <a:gd name="textAreaBottom" fmla="*/ 965520 h 965160"/>
            </a:gdLst>
            <a:ahLst/>
            <a:rect l="textAreaLeft" t="textAreaTop" r="textAreaRight" b="textAreaBottom"/>
            <a:pathLst>
              <a:path w="584" h="672">
                <a:moveTo>
                  <a:pt x="8" y="672"/>
                </a:moveTo>
                <a:lnTo>
                  <a:pt x="0" y="0"/>
                </a:lnTo>
                <a:lnTo>
                  <a:pt x="584" y="0"/>
                </a:lnTo>
              </a:path>
            </a:pathLst>
          </a:custGeom>
          <a:noFill/>
          <a:ln w="57240">
            <a:solidFill>
              <a:srgbClr val="3399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8" name="Text Box 237"/>
          <p:cNvSpPr/>
          <p:nvPr/>
        </p:nvSpPr>
        <p:spPr>
          <a:xfrm>
            <a:off x="721080" y="3933720"/>
            <a:ext cx="105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3600" indent="-93600" algn="ctr">
              <a:tabLst>
                <a:tab algn="l" pos="0"/>
                <a:tab algn="l" pos="987480"/>
                <a:tab algn="l" pos="1184400"/>
                <a:tab algn="l" pos="2368440"/>
                <a:tab algn="l" pos="3552840"/>
                <a:tab algn="l" pos="4737240"/>
                <a:tab algn="l" pos="5921280"/>
                <a:tab algn="l" pos="7105680"/>
                <a:tab algn="l" pos="8290080"/>
                <a:tab algn="l" pos="9474120"/>
                <a:tab algn="l" pos="106585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Phase Ⅱ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9" name="Rectangle 238"/>
          <p:cNvSpPr/>
          <p:nvPr/>
        </p:nvSpPr>
        <p:spPr>
          <a:xfrm>
            <a:off x="4202280" y="1322280"/>
            <a:ext cx="1244520" cy="438156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0" name="Text Box 239"/>
          <p:cNvSpPr/>
          <p:nvPr/>
        </p:nvSpPr>
        <p:spPr>
          <a:xfrm>
            <a:off x="4200480" y="1035000"/>
            <a:ext cx="1246320" cy="2462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Select &amp; Foc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1" name=""/>
          <p:cNvGrpSpPr/>
          <p:nvPr/>
        </p:nvGrpSpPr>
        <p:grpSpPr>
          <a:xfrm>
            <a:off x="4208400" y="1347840"/>
            <a:ext cx="275760" cy="307080"/>
            <a:chOff x="4208400" y="1347840"/>
            <a:chExt cx="275760" cy="307080"/>
          </a:xfrm>
        </p:grpSpPr>
        <p:sp>
          <p:nvSpPr>
            <p:cNvPr id="3872" name="Oval 241"/>
            <p:cNvSpPr/>
            <p:nvPr/>
          </p:nvSpPr>
          <p:spPr>
            <a:xfrm>
              <a:off x="4242600" y="1386000"/>
              <a:ext cx="241560" cy="241200"/>
            </a:xfrm>
            <a:prstGeom prst="ellipse">
              <a:avLst/>
            </a:prstGeom>
            <a:solidFill>
              <a:srgbClr val="333399"/>
            </a:solidFill>
            <a:ln w="28440">
              <a:solidFill>
                <a:srgbClr val="91b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spcBef>
                  <a:spcPts val="74"/>
                </a:spcBef>
                <a:spcAft>
                  <a:spcPts val="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3" name="Text Box 242"/>
            <p:cNvSpPr/>
            <p:nvPr/>
          </p:nvSpPr>
          <p:spPr>
            <a:xfrm>
              <a:off x="4208400" y="1347840"/>
              <a:ext cx="27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Gulim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74" name=""/>
          <p:cNvGrpSpPr/>
          <p:nvPr/>
        </p:nvGrpSpPr>
        <p:grpSpPr>
          <a:xfrm>
            <a:off x="4192560" y="2936880"/>
            <a:ext cx="277560" cy="307080"/>
            <a:chOff x="4192560" y="2936880"/>
            <a:chExt cx="277560" cy="307080"/>
          </a:xfrm>
        </p:grpSpPr>
        <p:sp>
          <p:nvSpPr>
            <p:cNvPr id="3875" name="Oval 244"/>
            <p:cNvSpPr/>
            <p:nvPr/>
          </p:nvSpPr>
          <p:spPr>
            <a:xfrm>
              <a:off x="4226760" y="2975040"/>
              <a:ext cx="243360" cy="241200"/>
            </a:xfrm>
            <a:prstGeom prst="ellipse">
              <a:avLst/>
            </a:prstGeom>
            <a:solidFill>
              <a:srgbClr val="333399"/>
            </a:solidFill>
            <a:ln w="28440">
              <a:solidFill>
                <a:srgbClr val="91b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spcBef>
                  <a:spcPts val="74"/>
                </a:spcBef>
                <a:spcAft>
                  <a:spcPts val="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6" name="Text Box 245"/>
            <p:cNvSpPr/>
            <p:nvPr/>
          </p:nvSpPr>
          <p:spPr>
            <a:xfrm>
              <a:off x="4192560" y="2936880"/>
              <a:ext cx="272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Gulim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77" name="Text Box 246"/>
          <p:cNvSpPr/>
          <p:nvPr/>
        </p:nvSpPr>
        <p:spPr>
          <a:xfrm>
            <a:off x="4497480" y="135252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1 H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8" name="Text Box 247"/>
          <p:cNvSpPr/>
          <p:nvPr/>
        </p:nvSpPr>
        <p:spPr>
          <a:xfrm>
            <a:off x="4532400" y="2935440"/>
            <a:ext cx="82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2 H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9" name="Text Box 248"/>
          <p:cNvSpPr/>
          <p:nvPr/>
        </p:nvSpPr>
        <p:spPr>
          <a:xfrm>
            <a:off x="605160" y="6012000"/>
            <a:ext cx="1610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* HPC: High Potential c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0" name="Text Box 249"/>
          <p:cNvSpPr/>
          <p:nvPr/>
        </p:nvSpPr>
        <p:spPr>
          <a:xfrm>
            <a:off x="5611680" y="1125360"/>
            <a:ext cx="377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99"/>
                </a:solidFill>
                <a:uFillTx/>
                <a:latin typeface="Arial"/>
                <a:ea typeface="Gulim"/>
              </a:rPr>
              <a:t>Acton </a:t>
            </a:r>
            <a:r>
              <a:rPr b="1" lang="en-US" sz="1400" spc="-1" strike="noStrike" u="sng">
                <a:solidFill>
                  <a:srgbClr val="333399"/>
                </a:solidFill>
                <a:uFillTx/>
                <a:latin typeface="Arial"/>
                <a:ea typeface="宋体"/>
              </a:rPr>
              <a:t>Pl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1" name="Text Box 250"/>
          <p:cNvSpPr/>
          <p:nvPr/>
        </p:nvSpPr>
        <p:spPr>
          <a:xfrm>
            <a:off x="4084920" y="5783400"/>
            <a:ext cx="2341440" cy="6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PC selection based on 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Big Market Siz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- High market growth 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2" name="Text Box 251"/>
          <p:cNvSpPr/>
          <p:nvPr/>
        </p:nvSpPr>
        <p:spPr>
          <a:xfrm>
            <a:off x="4791240" y="1614600"/>
            <a:ext cx="711000" cy="2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( LG M/S 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3" name="AutoShape 252"/>
          <p:cNvSpPr/>
          <p:nvPr/>
        </p:nvSpPr>
        <p:spPr>
          <a:xfrm>
            <a:off x="5608800" y="1843200"/>
            <a:ext cx="2008080" cy="336600"/>
          </a:xfrm>
          <a:custGeom>
            <a:avLst/>
            <a:gdLst>
              <a:gd name="textAreaLeft" fmla="*/ 0 w 2008080"/>
              <a:gd name="textAreaRight" fmla="*/ 2008440 w 2008080"/>
              <a:gd name="textAreaTop" fmla="*/ 0 h 336600"/>
              <a:gd name="textAreaBottom" fmla="*/ 336960 h 336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61" y="0"/>
                </a:lnTo>
                <a:lnTo>
                  <a:pt x="21600" y="10800"/>
                </a:lnTo>
                <a:lnTo>
                  <a:pt x="1966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7e0fb"/>
          </a:solidFill>
          <a:ln w="648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4" name="AutoShape 253"/>
          <p:cNvSpPr/>
          <p:nvPr/>
        </p:nvSpPr>
        <p:spPr>
          <a:xfrm>
            <a:off x="7672320" y="1843200"/>
            <a:ext cx="1971720" cy="336600"/>
          </a:xfrm>
          <a:custGeom>
            <a:avLst/>
            <a:gdLst>
              <a:gd name="textAreaLeft" fmla="*/ 0 w 1971720"/>
              <a:gd name="textAreaRight" fmla="*/ 1972080 w 1971720"/>
              <a:gd name="textAreaTop" fmla="*/ 0 h 336600"/>
              <a:gd name="textAreaBottom" fmla="*/ 336960 h 336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671" y="0"/>
                </a:lnTo>
                <a:lnTo>
                  <a:pt x="21600" y="10800"/>
                </a:lnTo>
                <a:lnTo>
                  <a:pt x="1967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7e0fb"/>
          </a:solidFill>
          <a:ln w="6480">
            <a:solidFill>
              <a:srgbClr val="0066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5" name="Text Box 254"/>
          <p:cNvSpPr/>
          <p:nvPr/>
        </p:nvSpPr>
        <p:spPr>
          <a:xfrm>
            <a:off x="5856480" y="1865160"/>
            <a:ext cx="143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3600" indent="-93600" algn="ctr">
              <a:tabLst>
                <a:tab algn="l" pos="0"/>
                <a:tab algn="l" pos="987480"/>
                <a:tab algn="l" pos="1184400"/>
                <a:tab algn="l" pos="2368440"/>
                <a:tab algn="l" pos="3552840"/>
                <a:tab algn="l" pos="4737240"/>
                <a:tab algn="l" pos="5921280"/>
                <a:tab algn="l" pos="7105680"/>
                <a:tab algn="l" pos="8290080"/>
                <a:tab algn="l" pos="9474120"/>
                <a:tab algn="l" pos="106585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st Half 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6" name="Text Box 255"/>
          <p:cNvSpPr/>
          <p:nvPr/>
        </p:nvSpPr>
        <p:spPr>
          <a:xfrm>
            <a:off x="5557320" y="2879640"/>
            <a:ext cx="1866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Gulim"/>
              </a:rPr>
              <a:t>Select 5 cities in P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In-store M/S improve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7" name="Text Box 256"/>
          <p:cNvSpPr/>
          <p:nvPr/>
        </p:nvSpPr>
        <p:spPr>
          <a:xfrm>
            <a:off x="7846560" y="1865160"/>
            <a:ext cx="148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3600" indent="-93600" algn="ctr">
              <a:tabLst>
                <a:tab algn="l" pos="0"/>
                <a:tab algn="l" pos="987480"/>
                <a:tab algn="l" pos="1184400"/>
                <a:tab algn="l" pos="2368440"/>
                <a:tab algn="l" pos="3552840"/>
                <a:tab algn="l" pos="4737240"/>
                <a:tab algn="l" pos="5921280"/>
                <a:tab algn="l" pos="7105680"/>
                <a:tab algn="l" pos="8290080"/>
                <a:tab algn="l" pos="9474120"/>
                <a:tab algn="l" pos="106585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nd Half 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8" name="Text Box 257"/>
          <p:cNvSpPr/>
          <p:nvPr/>
        </p:nvSpPr>
        <p:spPr>
          <a:xfrm>
            <a:off x="5583240" y="2317680"/>
            <a:ext cx="2951280" cy="3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buClr>
                <a:srgbClr val="333399"/>
              </a:buClr>
              <a:buFont typeface="Arial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Gulim"/>
              </a:rPr>
              <a:t> </a:t>
            </a: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Gulim"/>
              </a:rPr>
              <a:t>Task force activities by bran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9" name="Line 258"/>
          <p:cNvSpPr/>
          <p:nvPr/>
        </p:nvSpPr>
        <p:spPr>
          <a:xfrm>
            <a:off x="5710320" y="2684520"/>
            <a:ext cx="38034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0" name="Rectangle 259"/>
          <p:cNvSpPr/>
          <p:nvPr/>
        </p:nvSpPr>
        <p:spPr>
          <a:xfrm>
            <a:off x="5969160" y="3487680"/>
            <a:ext cx="322560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Gulim"/>
              </a:rPr>
              <a:t>Promotion enhanc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Gulim"/>
              </a:rPr>
              <a:t>Focus premium product displa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Gulim"/>
              </a:rPr>
              <a:t>Invest Ad. (e.x. newspaper, magazine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91" name=""/>
          <p:cNvGrpSpPr/>
          <p:nvPr/>
        </p:nvGrpSpPr>
        <p:grpSpPr>
          <a:xfrm>
            <a:off x="5713560" y="3579840"/>
            <a:ext cx="253440" cy="307080"/>
            <a:chOff x="5713560" y="3579840"/>
            <a:chExt cx="253440" cy="307080"/>
          </a:xfrm>
        </p:grpSpPr>
        <p:sp>
          <p:nvSpPr>
            <p:cNvPr id="3892" name="Oval 261"/>
            <p:cNvSpPr/>
            <p:nvPr/>
          </p:nvSpPr>
          <p:spPr>
            <a:xfrm>
              <a:off x="5744880" y="3618000"/>
              <a:ext cx="222120" cy="241200"/>
            </a:xfrm>
            <a:prstGeom prst="ellipse">
              <a:avLst/>
            </a:prstGeom>
            <a:solidFill>
              <a:srgbClr val="333399"/>
            </a:solidFill>
            <a:ln w="28440">
              <a:solidFill>
                <a:srgbClr val="91b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spcBef>
                  <a:spcPts val="74"/>
                </a:spcBef>
                <a:spcAft>
                  <a:spcPts val="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3" name="Text Box 262"/>
            <p:cNvSpPr/>
            <p:nvPr/>
          </p:nvSpPr>
          <p:spPr>
            <a:xfrm>
              <a:off x="5713560" y="3579840"/>
              <a:ext cx="24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Gulim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4" name=""/>
          <p:cNvGrpSpPr/>
          <p:nvPr/>
        </p:nvGrpSpPr>
        <p:grpSpPr>
          <a:xfrm>
            <a:off x="5713560" y="4627440"/>
            <a:ext cx="253440" cy="307080"/>
            <a:chOff x="5713560" y="4627440"/>
            <a:chExt cx="253440" cy="307080"/>
          </a:xfrm>
        </p:grpSpPr>
        <p:sp>
          <p:nvSpPr>
            <p:cNvPr id="3895" name="Oval 264"/>
            <p:cNvSpPr/>
            <p:nvPr/>
          </p:nvSpPr>
          <p:spPr>
            <a:xfrm>
              <a:off x="5744880" y="4665600"/>
              <a:ext cx="222120" cy="241200"/>
            </a:xfrm>
            <a:prstGeom prst="ellipse">
              <a:avLst/>
            </a:prstGeom>
            <a:solidFill>
              <a:srgbClr val="333399"/>
            </a:solidFill>
            <a:ln w="28440">
              <a:solidFill>
                <a:srgbClr val="91b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20000"/>
                </a:lnSpc>
                <a:spcBef>
                  <a:spcPts val="74"/>
                </a:spcBef>
                <a:spcAft>
                  <a:spcPts val="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6" name="Text Box 265"/>
            <p:cNvSpPr/>
            <p:nvPr/>
          </p:nvSpPr>
          <p:spPr>
            <a:xfrm>
              <a:off x="5713560" y="4627440"/>
              <a:ext cx="24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77760"/>
                  <a:tab algn="l" pos="1955880"/>
                  <a:tab algn="l" pos="2933640"/>
                  <a:tab algn="l" pos="3911760"/>
                  <a:tab algn="l" pos="4889520"/>
                  <a:tab algn="l" pos="5867280"/>
                  <a:tab algn="l" pos="6845400"/>
                  <a:tab algn="l" pos="7823160"/>
                  <a:tab algn="l" pos="8801280"/>
                  <a:tab algn="l" pos="9779040"/>
                  <a:tab algn="l" pos="107568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  <a:ea typeface="Gulim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7" name="Rectangle 266"/>
          <p:cNvSpPr/>
          <p:nvPr/>
        </p:nvSpPr>
        <p:spPr>
          <a:xfrm>
            <a:off x="5969160" y="4518000"/>
            <a:ext cx="228600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Gulim"/>
              </a:rPr>
              <a:t>Increase display s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Gulim"/>
              </a:rPr>
              <a:t>Promoter 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Gulim"/>
              </a:rPr>
              <a:t>Shop display impro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8" name="AutoShape 267"/>
          <p:cNvSpPr/>
          <p:nvPr/>
        </p:nvSpPr>
        <p:spPr>
          <a:xfrm>
            <a:off x="5710320" y="3570120"/>
            <a:ext cx="3776760" cy="1930680"/>
          </a:xfrm>
          <a:custGeom>
            <a:avLst/>
            <a:gdLst>
              <a:gd name="textAreaLeft" fmla="*/ 0 w 3776760"/>
              <a:gd name="textAreaRight" fmla="*/ 3777120 w 3776760"/>
              <a:gd name="textAreaTop" fmla="*/ 0 h 1930680"/>
              <a:gd name="textAreaBottom" fmla="*/ 1931040 h 1930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9267" y="0"/>
                </a:lnTo>
                <a:lnTo>
                  <a:pt x="21600" y="10800"/>
                </a:lnTo>
                <a:lnTo>
                  <a:pt x="19267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9" name="Text Box 268"/>
          <p:cNvSpPr/>
          <p:nvPr/>
        </p:nvSpPr>
        <p:spPr>
          <a:xfrm>
            <a:off x="7641720" y="2879640"/>
            <a:ext cx="1766880" cy="51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Gulim"/>
              </a:rPr>
              <a:t>Select 10 cities in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P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0" name="Oval 269"/>
          <p:cNvSpPr/>
          <p:nvPr/>
        </p:nvSpPr>
        <p:spPr>
          <a:xfrm>
            <a:off x="9137520" y="4183200"/>
            <a:ext cx="693720" cy="758520"/>
          </a:xfrm>
          <a:prstGeom prst="ellipse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1" name="Text Box 270"/>
          <p:cNvSpPr/>
          <p:nvPr/>
        </p:nvSpPr>
        <p:spPr>
          <a:xfrm>
            <a:off x="9196560" y="4280040"/>
            <a:ext cx="637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4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2" name="Text Box 271"/>
          <p:cNvSpPr/>
          <p:nvPr/>
        </p:nvSpPr>
        <p:spPr>
          <a:xfrm>
            <a:off x="438480" y="644400"/>
            <a:ext cx="35881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pand coverage to P2, P3 cit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3" name="Text Box 272"/>
          <p:cNvSpPr/>
          <p:nvPr/>
        </p:nvSpPr>
        <p:spPr>
          <a:xfrm>
            <a:off x="4227480" y="1720800"/>
            <a:ext cx="1300320" cy="373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Ningbo </a:t>
            </a: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(2.8%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Dalian </a:t>
            </a: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(8.8%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Fuzhou </a:t>
            </a: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(3.2%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Zhengzhou </a:t>
            </a: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(2.7%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Qingdao </a:t>
            </a: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(3.5%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Kunming </a:t>
            </a: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(2.0%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Tangshan </a:t>
            </a: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(5.1%)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Xuzhou </a:t>
            </a: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(3.0%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Lanzhou </a:t>
            </a: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(1.9%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Nanchang </a:t>
            </a: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(2.6%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Nantong </a:t>
            </a: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(7.2%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Guiyang </a:t>
            </a: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(0.5%)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Urumqi </a:t>
            </a: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(4.6%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Baoding </a:t>
            </a: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(4.9%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Anshan </a:t>
            </a:r>
            <a:r>
              <a:rPr b="1" lang="en-US" sz="800" spc="-1" strike="noStrike">
                <a:solidFill>
                  <a:srgbClr val="333399"/>
                </a:solidFill>
                <a:latin typeface="Arial"/>
              </a:rPr>
              <a:t>(8.3%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4" name="矩形 134" descr=""/>
          <p:cNvPicPr/>
          <p:nvPr/>
        </p:nvPicPr>
        <p:blipFill>
          <a:blip r:embed="rId1"/>
          <a:stretch/>
        </p:blipFill>
        <p:spPr>
          <a:xfrm>
            <a:off x="6566040" y="115920"/>
            <a:ext cx="3352680" cy="1133280"/>
          </a:xfrm>
          <a:prstGeom prst="rect">
            <a:avLst/>
          </a:prstGeom>
          <a:ln w="0">
            <a:noFill/>
          </a:ln>
        </p:spPr>
      </p:pic>
      <p:sp>
        <p:nvSpPr>
          <p:cNvPr id="3905" name="Rectangle 46"/>
          <p:cNvSpPr/>
          <p:nvPr/>
        </p:nvSpPr>
        <p:spPr>
          <a:xfrm>
            <a:off x="6657120" y="119160"/>
            <a:ext cx="28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바탕"/>
              </a:rPr>
              <a:t> Ⅴ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바탕"/>
              </a:rPr>
              <a:t>. `08 Key initiativ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6" name="Text Box 7"/>
          <p:cNvSpPr/>
          <p:nvPr/>
        </p:nvSpPr>
        <p:spPr>
          <a:xfrm>
            <a:off x="7094880" y="401760"/>
            <a:ext cx="1767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bfbfbf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bfbfbf"/>
                </a:solidFill>
                <a:latin typeface="Arial"/>
              </a:rPr>
              <a:t>Expand Coverag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7" name="Rectangle 4" descr=""/>
          <p:cNvPicPr/>
          <p:nvPr/>
        </p:nvPicPr>
        <p:blipFill>
          <a:blip r:embed="rId2"/>
          <a:stretch/>
        </p:blipFill>
        <p:spPr>
          <a:xfrm>
            <a:off x="109440" y="109440"/>
            <a:ext cx="951120" cy="567000"/>
          </a:xfrm>
          <a:prstGeom prst="rect">
            <a:avLst/>
          </a:prstGeom>
          <a:ln w="0">
            <a:noFill/>
          </a:ln>
        </p:spPr>
      </p:pic>
      <p:sp>
        <p:nvSpPr>
          <p:cNvPr id="3908" name="直接连接符 137"/>
          <p:cNvSpPr/>
          <p:nvPr/>
        </p:nvSpPr>
        <p:spPr>
          <a:xfrm>
            <a:off x="965160" y="237960"/>
            <a:ext cx="0" cy="214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9" name="标题 2"/>
          <p:cNvSpPr/>
          <p:nvPr/>
        </p:nvSpPr>
        <p:spPr>
          <a:xfrm>
            <a:off x="950760" y="190440"/>
            <a:ext cx="1555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经营分析报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0" name=""/>
          <p:cNvGrpSpPr/>
          <p:nvPr/>
        </p:nvGrpSpPr>
        <p:grpSpPr>
          <a:xfrm>
            <a:off x="0" y="6443640"/>
            <a:ext cx="9918720" cy="237960"/>
            <a:chOff x="0" y="6443640"/>
            <a:chExt cx="9918720" cy="237960"/>
          </a:xfrm>
        </p:grpSpPr>
        <p:pic>
          <p:nvPicPr>
            <p:cNvPr id="3911" name="矩形 139" descr=""/>
            <p:cNvPicPr/>
            <p:nvPr/>
          </p:nvPicPr>
          <p:blipFill>
            <a:blip r:embed="rId3"/>
            <a:stretch/>
          </p:blipFill>
          <p:spPr>
            <a:xfrm>
              <a:off x="0" y="6443640"/>
              <a:ext cx="991728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12" name=""/>
            <p:cNvSpPr/>
            <p:nvPr/>
          </p:nvSpPr>
          <p:spPr>
            <a:xfrm>
              <a:off x="0" y="6445080"/>
              <a:ext cx="991872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13" name="灯片编号占位符 5"/>
          <p:cNvSpPr/>
          <p:nvPr/>
        </p:nvSpPr>
        <p:spPr>
          <a:xfrm>
            <a:off x="7397640" y="6399360"/>
            <a:ext cx="1486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ge   </a:t>
            </a:r>
            <a:fld id="{6D14077D-2EA3-4897-AA85-8953759AE66A}" type="slidenum">
              <a:rPr b="0" lang="zh-CN" sz="1000" spc="-1" strike="noStrike">
                <a:solidFill>
                  <a:srgbClr val="ffffff"/>
                </a:solidFill>
                <a:latin typeface="华文宋体"/>
                <a:ea typeface="华文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4" name="Rectangle 2"/>
          <p:cNvSpPr/>
          <p:nvPr/>
        </p:nvSpPr>
        <p:spPr>
          <a:xfrm>
            <a:off x="5111640" y="5283360"/>
            <a:ext cx="111240" cy="11880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5" name="Rectangle 3"/>
          <p:cNvSpPr/>
          <p:nvPr/>
        </p:nvSpPr>
        <p:spPr>
          <a:xfrm>
            <a:off x="5111640" y="6070680"/>
            <a:ext cx="235080" cy="1141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6" name="Line 4"/>
          <p:cNvSpPr/>
          <p:nvPr/>
        </p:nvSpPr>
        <p:spPr>
          <a:xfrm>
            <a:off x="5227560" y="5275440"/>
            <a:ext cx="0" cy="285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7" name="Line 5"/>
          <p:cNvSpPr/>
          <p:nvPr/>
        </p:nvSpPr>
        <p:spPr>
          <a:xfrm>
            <a:off x="5322960" y="5576760"/>
            <a:ext cx="7920" cy="701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8" name="Line 6"/>
          <p:cNvSpPr/>
          <p:nvPr/>
        </p:nvSpPr>
        <p:spPr>
          <a:xfrm>
            <a:off x="5832360" y="6269040"/>
            <a:ext cx="0" cy="241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9" name="Line 7"/>
          <p:cNvSpPr/>
          <p:nvPr/>
        </p:nvSpPr>
        <p:spPr>
          <a:xfrm flipV="1">
            <a:off x="5316480" y="6275520"/>
            <a:ext cx="515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0" name="Rectangle 8"/>
          <p:cNvSpPr/>
          <p:nvPr/>
        </p:nvSpPr>
        <p:spPr>
          <a:xfrm>
            <a:off x="6108840" y="893880"/>
            <a:ext cx="2173320" cy="568944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1" name="Rectangle 9"/>
          <p:cNvSpPr/>
          <p:nvPr/>
        </p:nvSpPr>
        <p:spPr>
          <a:xfrm>
            <a:off x="2489040" y="893880"/>
            <a:ext cx="2038680" cy="5689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2" name="Text Box 10"/>
          <p:cNvSpPr/>
          <p:nvPr/>
        </p:nvSpPr>
        <p:spPr>
          <a:xfrm>
            <a:off x="1169280" y="942840"/>
            <a:ext cx="113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ff"/>
                </a:solidFill>
                <a:uFillTx/>
                <a:latin typeface="Arial"/>
              </a:rPr>
              <a:t>NPI Proje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3" name="Text Box 11"/>
          <p:cNvSpPr/>
          <p:nvPr/>
        </p:nvSpPr>
        <p:spPr>
          <a:xfrm>
            <a:off x="3284640" y="928800"/>
            <a:ext cx="5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Wh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4" name="Text Box 12"/>
          <p:cNvSpPr/>
          <p:nvPr/>
        </p:nvSpPr>
        <p:spPr>
          <a:xfrm>
            <a:off x="4671720" y="942840"/>
            <a:ext cx="110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ff"/>
                </a:solidFill>
                <a:uFillTx/>
                <a:latin typeface="Arial"/>
              </a:rPr>
              <a:t>Target Se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5" name="Text Box 13"/>
          <p:cNvSpPr/>
          <p:nvPr/>
        </p:nvSpPr>
        <p:spPr>
          <a:xfrm>
            <a:off x="6711840" y="928800"/>
            <a:ext cx="55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H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6" name="Text Box 14"/>
          <p:cNvSpPr/>
          <p:nvPr/>
        </p:nvSpPr>
        <p:spPr>
          <a:xfrm>
            <a:off x="8451360" y="942840"/>
            <a:ext cx="724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3333ff"/>
                </a:solidFill>
                <a:uFillTx/>
                <a:latin typeface="Arial"/>
              </a:rPr>
              <a:t>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7" name="Line 15"/>
          <p:cNvSpPr/>
          <p:nvPr/>
        </p:nvSpPr>
        <p:spPr>
          <a:xfrm>
            <a:off x="399960" y="1251000"/>
            <a:ext cx="8920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8" name="Text Box 22"/>
          <p:cNvSpPr/>
          <p:nvPr/>
        </p:nvSpPr>
        <p:spPr>
          <a:xfrm>
            <a:off x="1316880" y="1628640"/>
            <a:ext cx="85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rien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9" name="Text Box 23"/>
          <p:cNvSpPr/>
          <p:nvPr/>
        </p:nvSpPr>
        <p:spPr>
          <a:xfrm>
            <a:off x="1171440" y="3373560"/>
            <a:ext cx="11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-five lig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0" name="Text Box 24"/>
          <p:cNvSpPr/>
          <p:nvPr/>
        </p:nvSpPr>
        <p:spPr>
          <a:xfrm>
            <a:off x="2523960" y="1845000"/>
            <a:ext cx="211788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eoccupy potential premium market on newly discovered customer segme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1" name="Text Box 25"/>
          <p:cNvSpPr/>
          <p:nvPr/>
        </p:nvSpPr>
        <p:spPr>
          <a:xfrm>
            <a:off x="2523960" y="3572280"/>
            <a:ext cx="196056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Enhancing produc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leadership and premiu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image in which LG has less M/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2" name="Text Box 26"/>
          <p:cNvSpPr/>
          <p:nvPr/>
        </p:nvSpPr>
        <p:spPr>
          <a:xfrm>
            <a:off x="6100200" y="1441800"/>
            <a:ext cx="2268360" cy="17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Design (Luxury &amp; Trendy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- Trim kit Door &amp; 2 Colo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- Art Flower patter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- Swarovski (Handle, Door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Features (Differentiated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- Full Drawer ( Inside Freezer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- LED Lighting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- Vita Ligh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3" name="Text Box 27"/>
          <p:cNvSpPr/>
          <p:nvPr/>
        </p:nvSpPr>
        <p:spPr>
          <a:xfrm>
            <a:off x="6107760" y="3304440"/>
            <a:ext cx="149112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Design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- Luxurious Col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- Decoration Loo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Featur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- Mix Was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- Calm Cyc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- Iron D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- Big Capacit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4" name="Line 28"/>
          <p:cNvSpPr/>
          <p:nvPr/>
        </p:nvSpPr>
        <p:spPr>
          <a:xfrm>
            <a:off x="399960" y="3160800"/>
            <a:ext cx="892008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5" name="Line 29"/>
          <p:cNvSpPr/>
          <p:nvPr/>
        </p:nvSpPr>
        <p:spPr>
          <a:xfrm>
            <a:off x="407880" y="4960800"/>
            <a:ext cx="891864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6" name="Oval 31"/>
          <p:cNvSpPr/>
          <p:nvPr/>
        </p:nvSpPr>
        <p:spPr>
          <a:xfrm>
            <a:off x="279360" y="1995480"/>
            <a:ext cx="701640" cy="431640"/>
          </a:xfrm>
          <a:prstGeom prst="ellipse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7" name="Text Box 32"/>
          <p:cNvSpPr/>
          <p:nvPr/>
        </p:nvSpPr>
        <p:spPr>
          <a:xfrm>
            <a:off x="298440" y="2085840"/>
            <a:ext cx="66204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Gulim"/>
              </a:rPr>
              <a:t>R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8" name="Oval 34"/>
          <p:cNvSpPr/>
          <p:nvPr/>
        </p:nvSpPr>
        <p:spPr>
          <a:xfrm>
            <a:off x="279360" y="3797280"/>
            <a:ext cx="701640" cy="4320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9" name="Text Box 35"/>
          <p:cNvSpPr/>
          <p:nvPr/>
        </p:nvSpPr>
        <p:spPr>
          <a:xfrm>
            <a:off x="298440" y="3887640"/>
            <a:ext cx="66204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Gulim"/>
              </a:rPr>
              <a:t>W/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0" name="Text Box 36"/>
          <p:cNvSpPr/>
          <p:nvPr/>
        </p:nvSpPr>
        <p:spPr>
          <a:xfrm>
            <a:off x="4418280" y="1622520"/>
            <a:ext cx="7596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GulimChe"/>
              </a:rPr>
              <a:t>Premiu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GulimChe"/>
              </a:rPr>
              <a:t>Seek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1" name="Text Box 37"/>
          <p:cNvSpPr/>
          <p:nvPr/>
        </p:nvSpPr>
        <p:spPr>
          <a:xfrm>
            <a:off x="4581720" y="2127240"/>
            <a:ext cx="5965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GulimChe"/>
              </a:rPr>
              <a:t>Sty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GulimChe"/>
              </a:rPr>
              <a:t>Seek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2" name="Text Box 38"/>
          <p:cNvSpPr/>
          <p:nvPr/>
        </p:nvSpPr>
        <p:spPr>
          <a:xfrm>
            <a:off x="4581720" y="3832200"/>
            <a:ext cx="5965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GulimChe"/>
              </a:rPr>
              <a:t>Sty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GulimChe"/>
              </a:rPr>
              <a:t>Seek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3" name="Rectangle 39"/>
          <p:cNvSpPr/>
          <p:nvPr/>
        </p:nvSpPr>
        <p:spPr>
          <a:xfrm>
            <a:off x="5137200" y="1700280"/>
            <a:ext cx="95040" cy="115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4" name="Rectangle 40"/>
          <p:cNvSpPr/>
          <p:nvPr/>
        </p:nvSpPr>
        <p:spPr>
          <a:xfrm>
            <a:off x="5199120" y="1971720"/>
            <a:ext cx="137880" cy="115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5" name="Rectangle 41"/>
          <p:cNvSpPr/>
          <p:nvPr/>
        </p:nvSpPr>
        <p:spPr>
          <a:xfrm>
            <a:off x="5137200" y="2502000"/>
            <a:ext cx="455400" cy="1141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6" name="Rectangle 42"/>
          <p:cNvSpPr/>
          <p:nvPr/>
        </p:nvSpPr>
        <p:spPr>
          <a:xfrm>
            <a:off x="5137200" y="2754360"/>
            <a:ext cx="679320" cy="1141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7" name="Rectangle 43"/>
          <p:cNvSpPr/>
          <p:nvPr/>
        </p:nvSpPr>
        <p:spPr>
          <a:xfrm>
            <a:off x="5253480" y="2208240"/>
            <a:ext cx="7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Dotum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8" name="Rectangle 44"/>
          <p:cNvSpPr/>
          <p:nvPr/>
        </p:nvSpPr>
        <p:spPr>
          <a:xfrm>
            <a:off x="5315760" y="19526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Dotum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9" name="Rectangle 45"/>
          <p:cNvSpPr/>
          <p:nvPr/>
        </p:nvSpPr>
        <p:spPr>
          <a:xfrm>
            <a:off x="5743080" y="27385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Dotum"/>
              </a:rPr>
              <a:t>5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0" name="Rectangle 46"/>
          <p:cNvSpPr/>
          <p:nvPr/>
        </p:nvSpPr>
        <p:spPr>
          <a:xfrm>
            <a:off x="5666040" y="247968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Dotum"/>
              </a:rPr>
              <a:t>3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1" name="Rectangle 47"/>
          <p:cNvSpPr/>
          <p:nvPr/>
        </p:nvSpPr>
        <p:spPr>
          <a:xfrm>
            <a:off x="5294520" y="1682640"/>
            <a:ext cx="7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Dotum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2" name="Line 48"/>
          <p:cNvSpPr/>
          <p:nvPr/>
        </p:nvSpPr>
        <p:spPr>
          <a:xfrm>
            <a:off x="5184720" y="1647720"/>
            <a:ext cx="0" cy="285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3" name="Line 49"/>
          <p:cNvSpPr/>
          <p:nvPr/>
        </p:nvSpPr>
        <p:spPr>
          <a:xfrm>
            <a:off x="5410080" y="1933560"/>
            <a:ext cx="0" cy="28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4" name="Line 50"/>
          <p:cNvSpPr/>
          <p:nvPr/>
        </p:nvSpPr>
        <p:spPr>
          <a:xfrm>
            <a:off x="5184720" y="2220840"/>
            <a:ext cx="0" cy="2397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5" name="Line 51"/>
          <p:cNvSpPr/>
          <p:nvPr/>
        </p:nvSpPr>
        <p:spPr>
          <a:xfrm>
            <a:off x="5392800" y="2460600"/>
            <a:ext cx="0" cy="241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6" name="Line 52"/>
          <p:cNvSpPr/>
          <p:nvPr/>
        </p:nvSpPr>
        <p:spPr>
          <a:xfrm>
            <a:off x="5502240" y="2701800"/>
            <a:ext cx="0" cy="314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7" name="Line 53"/>
          <p:cNvSpPr/>
          <p:nvPr/>
        </p:nvSpPr>
        <p:spPr>
          <a:xfrm>
            <a:off x="5184720" y="1933560"/>
            <a:ext cx="225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8" name="Line 54"/>
          <p:cNvSpPr/>
          <p:nvPr/>
        </p:nvSpPr>
        <p:spPr>
          <a:xfrm>
            <a:off x="5184720" y="2217600"/>
            <a:ext cx="225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9" name="Line 55"/>
          <p:cNvSpPr/>
          <p:nvPr/>
        </p:nvSpPr>
        <p:spPr>
          <a:xfrm>
            <a:off x="5219640" y="5567400"/>
            <a:ext cx="1159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0" name="Line 56"/>
          <p:cNvSpPr/>
          <p:nvPr/>
        </p:nvSpPr>
        <p:spPr>
          <a:xfrm>
            <a:off x="5392800" y="2700360"/>
            <a:ext cx="109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1" name="Line 57"/>
          <p:cNvSpPr/>
          <p:nvPr/>
        </p:nvSpPr>
        <p:spPr>
          <a:xfrm>
            <a:off x="5102280" y="1676520"/>
            <a:ext cx="0" cy="1199880"/>
          </a:xfrm>
          <a:prstGeom prst="line">
            <a:avLst/>
          </a:prstGeom>
          <a:ln w="15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2" name="Rectangle 58"/>
          <p:cNvSpPr/>
          <p:nvPr/>
        </p:nvSpPr>
        <p:spPr>
          <a:xfrm>
            <a:off x="5100480" y="2158920"/>
            <a:ext cx="951120" cy="238320"/>
          </a:xfrm>
          <a:prstGeom prst="rect">
            <a:avLst/>
          </a:prstGeom>
          <a:noFill/>
          <a:ln w="2844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3" name="Text Box 59"/>
          <p:cNvSpPr/>
          <p:nvPr/>
        </p:nvSpPr>
        <p:spPr>
          <a:xfrm>
            <a:off x="5265720" y="2949480"/>
            <a:ext cx="55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Che"/>
              </a:rPr>
              <a:t>LG(%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4" name=""/>
          <p:cNvGrpSpPr/>
          <p:nvPr/>
        </p:nvGrpSpPr>
        <p:grpSpPr>
          <a:xfrm>
            <a:off x="5110200" y="3449520"/>
            <a:ext cx="790200" cy="1366560"/>
            <a:chOff x="5110200" y="3449520"/>
            <a:chExt cx="790200" cy="1366560"/>
          </a:xfrm>
        </p:grpSpPr>
        <p:sp>
          <p:nvSpPr>
            <p:cNvPr id="3965" name="Rectangle 61"/>
            <p:cNvSpPr/>
            <p:nvPr/>
          </p:nvSpPr>
          <p:spPr>
            <a:xfrm>
              <a:off x="5136840" y="3512880"/>
              <a:ext cx="543600" cy="1144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74"/>
                </a:spcBef>
                <a:spcAft>
                  <a:spcPts val="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6" name="Rectangle 62"/>
            <p:cNvSpPr/>
            <p:nvPr/>
          </p:nvSpPr>
          <p:spPr>
            <a:xfrm>
              <a:off x="5136840" y="3782880"/>
              <a:ext cx="315360" cy="112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74"/>
                </a:spcBef>
                <a:spcAft>
                  <a:spcPts val="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7" name="Rectangle 63"/>
            <p:cNvSpPr/>
            <p:nvPr/>
          </p:nvSpPr>
          <p:spPr>
            <a:xfrm>
              <a:off x="5136840" y="4054320"/>
              <a:ext cx="267480" cy="1144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74"/>
                </a:spcBef>
                <a:spcAft>
                  <a:spcPts val="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8" name="Rectangle 64"/>
            <p:cNvSpPr/>
            <p:nvPr/>
          </p:nvSpPr>
          <p:spPr>
            <a:xfrm>
              <a:off x="5136840" y="4306680"/>
              <a:ext cx="320040" cy="1144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74"/>
                </a:spcBef>
                <a:spcAft>
                  <a:spcPts val="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9" name="Rectangle 65"/>
            <p:cNvSpPr/>
            <p:nvPr/>
          </p:nvSpPr>
          <p:spPr>
            <a:xfrm>
              <a:off x="5136840" y="4557600"/>
              <a:ext cx="320040" cy="112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20000"/>
                </a:lnSpc>
                <a:spcBef>
                  <a:spcPts val="74"/>
                </a:spcBef>
                <a:spcAft>
                  <a:spcPts val="7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0" name="Rectangle 66"/>
            <p:cNvSpPr/>
            <p:nvPr/>
          </p:nvSpPr>
          <p:spPr>
            <a:xfrm>
              <a:off x="5455440" y="403200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Dotum"/>
                </a:rPr>
                <a:t>1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1" name="Rectangle 67"/>
            <p:cNvSpPr/>
            <p:nvPr/>
          </p:nvSpPr>
          <p:spPr>
            <a:xfrm>
              <a:off x="5502960" y="376056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Dotum"/>
                </a:rPr>
                <a:t>1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2" name="Rectangle 68"/>
            <p:cNvSpPr/>
            <p:nvPr/>
          </p:nvSpPr>
          <p:spPr>
            <a:xfrm>
              <a:off x="5502960" y="453996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Dotum"/>
                </a:rPr>
                <a:t>1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3" name="Rectangle 69"/>
            <p:cNvSpPr/>
            <p:nvPr/>
          </p:nvSpPr>
          <p:spPr>
            <a:xfrm>
              <a:off x="5483880" y="428472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Dotum"/>
                </a:rPr>
                <a:t>1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4" name="Rectangle 70"/>
            <p:cNvSpPr/>
            <p:nvPr/>
          </p:nvSpPr>
          <p:spPr>
            <a:xfrm>
              <a:off x="5724000" y="3493800"/>
              <a:ext cx="14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Dotum"/>
                </a:rPr>
                <a:t>3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5" name="Line 71"/>
            <p:cNvSpPr/>
            <p:nvPr/>
          </p:nvSpPr>
          <p:spPr>
            <a:xfrm>
              <a:off x="5328720" y="3985920"/>
              <a:ext cx="0" cy="250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76" name=""/>
            <p:cNvGrpSpPr/>
            <p:nvPr/>
          </p:nvGrpSpPr>
          <p:grpSpPr>
            <a:xfrm>
              <a:off x="5186160" y="3449520"/>
              <a:ext cx="714240" cy="1366560"/>
              <a:chOff x="5186160" y="3449520"/>
              <a:chExt cx="714240" cy="1366560"/>
            </a:xfrm>
          </p:grpSpPr>
          <p:sp>
            <p:nvSpPr>
              <p:cNvPr id="3977" name="Line 73"/>
              <p:cNvSpPr/>
              <p:nvPr/>
            </p:nvSpPr>
            <p:spPr>
              <a:xfrm>
                <a:off x="5281200" y="3687840"/>
                <a:ext cx="0" cy="2919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78" name=""/>
              <p:cNvGrpSpPr/>
              <p:nvPr/>
            </p:nvGrpSpPr>
            <p:grpSpPr>
              <a:xfrm>
                <a:off x="5186160" y="3449520"/>
                <a:ext cx="714240" cy="1366560"/>
                <a:chOff x="5186160" y="3449520"/>
                <a:chExt cx="714240" cy="1366560"/>
              </a:xfrm>
            </p:grpSpPr>
            <p:sp>
              <p:nvSpPr>
                <p:cNvPr id="3979" name="Line 75"/>
                <p:cNvSpPr/>
                <p:nvPr/>
              </p:nvSpPr>
              <p:spPr>
                <a:xfrm>
                  <a:off x="5186160" y="3449520"/>
                  <a:ext cx="0" cy="2368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0" name="Line 76"/>
                <p:cNvSpPr/>
                <p:nvPr/>
              </p:nvSpPr>
              <p:spPr>
                <a:xfrm>
                  <a:off x="5900400" y="4236840"/>
                  <a:ext cx="0" cy="251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1" name="Line 77"/>
                <p:cNvSpPr/>
                <p:nvPr/>
              </p:nvSpPr>
              <p:spPr>
                <a:xfrm>
                  <a:off x="5424120" y="4488840"/>
                  <a:ext cx="0" cy="3272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2" name="Line 78"/>
                <p:cNvSpPr/>
                <p:nvPr/>
              </p:nvSpPr>
              <p:spPr>
                <a:xfrm>
                  <a:off x="5186160" y="3686400"/>
                  <a:ext cx="9504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3" name="Line 79"/>
                <p:cNvSpPr/>
                <p:nvPr/>
              </p:nvSpPr>
              <p:spPr>
                <a:xfrm>
                  <a:off x="5285520" y="3984120"/>
                  <a:ext cx="378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4" name="Line 80"/>
                <p:cNvSpPr/>
                <p:nvPr/>
              </p:nvSpPr>
              <p:spPr>
                <a:xfrm>
                  <a:off x="5328720" y="4236840"/>
                  <a:ext cx="5713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5" name="Line 81"/>
                <p:cNvSpPr/>
                <p:nvPr/>
              </p:nvSpPr>
              <p:spPr>
                <a:xfrm>
                  <a:off x="5424120" y="4485960"/>
                  <a:ext cx="4759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986" name="Line 82"/>
            <p:cNvSpPr/>
            <p:nvPr/>
          </p:nvSpPr>
          <p:spPr>
            <a:xfrm>
              <a:off x="5110200" y="3492360"/>
              <a:ext cx="0" cy="1189080"/>
            </a:xfrm>
            <a:prstGeom prst="line">
              <a:avLst/>
            </a:prstGeom>
            <a:ln w="158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87" name="Rectangle 83"/>
          <p:cNvSpPr/>
          <p:nvPr/>
        </p:nvSpPr>
        <p:spPr>
          <a:xfrm>
            <a:off x="5102280" y="3735360"/>
            <a:ext cx="952560" cy="504720"/>
          </a:xfrm>
          <a:prstGeom prst="rect">
            <a:avLst/>
          </a:prstGeom>
          <a:noFill/>
          <a:ln w="2844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8" name="Text Box 84"/>
          <p:cNvSpPr/>
          <p:nvPr/>
        </p:nvSpPr>
        <p:spPr>
          <a:xfrm>
            <a:off x="8218440" y="1965240"/>
            <a:ext cx="12589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28M$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10K uni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9" name="Text Box 85"/>
          <p:cNvSpPr/>
          <p:nvPr/>
        </p:nvSpPr>
        <p:spPr>
          <a:xfrm>
            <a:off x="8218440" y="3841920"/>
            <a:ext cx="12589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40M$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52K uni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0" name="Oval 88"/>
          <p:cNvSpPr/>
          <p:nvPr/>
        </p:nvSpPr>
        <p:spPr>
          <a:xfrm>
            <a:off x="289080" y="5692680"/>
            <a:ext cx="701640" cy="4320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1" name="Text Box 89"/>
          <p:cNvSpPr/>
          <p:nvPr/>
        </p:nvSpPr>
        <p:spPr>
          <a:xfrm>
            <a:off x="307800" y="5783400"/>
            <a:ext cx="662040" cy="2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7120" rIns="87120" tIns="43560" bIns="43560" anchor="t">
            <a:sp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Gulim"/>
              </a:rPr>
              <a:t>A/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2" name="Text Box 90"/>
          <p:cNvSpPr/>
          <p:nvPr/>
        </p:nvSpPr>
        <p:spPr>
          <a:xfrm>
            <a:off x="1457640" y="5032440"/>
            <a:ext cx="52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3" name="Text Box 91"/>
          <p:cNvSpPr/>
          <p:nvPr/>
        </p:nvSpPr>
        <p:spPr>
          <a:xfrm>
            <a:off x="4393080" y="5208480"/>
            <a:ext cx="7596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GulimChe"/>
              </a:rPr>
              <a:t>Premiu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GulimChe"/>
              </a:rPr>
              <a:t>Seek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4" name="Text Box 92"/>
          <p:cNvSpPr/>
          <p:nvPr/>
        </p:nvSpPr>
        <p:spPr>
          <a:xfrm>
            <a:off x="4556160" y="5632560"/>
            <a:ext cx="59652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GulimChe"/>
              </a:rPr>
              <a:t>Sty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GulimChe"/>
              </a:rPr>
              <a:t>Seek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5" name="Rectangle 93"/>
          <p:cNvSpPr/>
          <p:nvPr/>
        </p:nvSpPr>
        <p:spPr>
          <a:xfrm>
            <a:off x="5118120" y="5710320"/>
            <a:ext cx="171360" cy="1141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6" name="Rectangle 94"/>
          <p:cNvSpPr/>
          <p:nvPr/>
        </p:nvSpPr>
        <p:spPr>
          <a:xfrm>
            <a:off x="5111640" y="6357960"/>
            <a:ext cx="679680" cy="1141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7" name="Rectangle 95"/>
          <p:cNvSpPr/>
          <p:nvPr/>
        </p:nvSpPr>
        <p:spPr>
          <a:xfrm>
            <a:off x="5428800" y="568008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Dotum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8" name="Rectangle 96"/>
          <p:cNvSpPr/>
          <p:nvPr/>
        </p:nvSpPr>
        <p:spPr>
          <a:xfrm>
            <a:off x="5893920" y="632952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Dotum"/>
              </a:rPr>
              <a:t>6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9" name="Rectangle 97"/>
          <p:cNvSpPr/>
          <p:nvPr/>
        </p:nvSpPr>
        <p:spPr>
          <a:xfrm>
            <a:off x="5350680" y="6040440"/>
            <a:ext cx="144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Dotum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0" name="Rectangle 98"/>
          <p:cNvSpPr/>
          <p:nvPr/>
        </p:nvSpPr>
        <p:spPr>
          <a:xfrm>
            <a:off x="5424840" y="5248440"/>
            <a:ext cx="72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Dotum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1" name="Line 99"/>
          <p:cNvSpPr/>
          <p:nvPr/>
        </p:nvSpPr>
        <p:spPr>
          <a:xfrm>
            <a:off x="5076720" y="5262480"/>
            <a:ext cx="0" cy="1200240"/>
          </a:xfrm>
          <a:prstGeom prst="line">
            <a:avLst/>
          </a:prstGeom>
          <a:ln w="158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2" name="Text Box 100"/>
          <p:cNvSpPr/>
          <p:nvPr/>
        </p:nvSpPr>
        <p:spPr>
          <a:xfrm>
            <a:off x="6112800" y="5115960"/>
            <a:ext cx="173988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Design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- Art flow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- Swarovsk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Featur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- TF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- Clean bo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- Plasm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- three way of air flow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3" name="Text Box 101"/>
          <p:cNvSpPr/>
          <p:nvPr/>
        </p:nvSpPr>
        <p:spPr>
          <a:xfrm>
            <a:off x="8290080" y="5519880"/>
            <a:ext cx="125856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13M$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10K unit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4" name="Text Box 102"/>
          <p:cNvSpPr/>
          <p:nvPr/>
        </p:nvSpPr>
        <p:spPr>
          <a:xfrm>
            <a:off x="2523960" y="5029920"/>
            <a:ext cx="1960560" cy="12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LG has advantage in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Premium and style marke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-Premium and style market have more profit potential than other marke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5" name="Rectangle 106"/>
          <p:cNvSpPr/>
          <p:nvPr/>
        </p:nvSpPr>
        <p:spPr>
          <a:xfrm>
            <a:off x="5102280" y="5248440"/>
            <a:ext cx="952560" cy="649080"/>
          </a:xfrm>
          <a:prstGeom prst="rect">
            <a:avLst/>
          </a:prstGeom>
          <a:noFill/>
          <a:ln w="2844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6" name="Rectangle 4" descr=""/>
          <p:cNvPicPr/>
          <p:nvPr/>
        </p:nvPicPr>
        <p:blipFill>
          <a:blip r:embed="rId1"/>
          <a:stretch/>
        </p:blipFill>
        <p:spPr>
          <a:xfrm>
            <a:off x="109440" y="109440"/>
            <a:ext cx="951120" cy="567000"/>
          </a:xfrm>
          <a:prstGeom prst="rect">
            <a:avLst/>
          </a:prstGeom>
          <a:ln w="0">
            <a:noFill/>
          </a:ln>
        </p:spPr>
      </p:pic>
      <p:sp>
        <p:nvSpPr>
          <p:cNvPr id="4007" name="直接连接符 109"/>
          <p:cNvSpPr/>
          <p:nvPr/>
        </p:nvSpPr>
        <p:spPr>
          <a:xfrm>
            <a:off x="965160" y="237960"/>
            <a:ext cx="0" cy="214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8" name="标题 2"/>
          <p:cNvSpPr/>
          <p:nvPr/>
        </p:nvSpPr>
        <p:spPr>
          <a:xfrm>
            <a:off x="950760" y="190440"/>
            <a:ext cx="1555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经营分析报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9" name="矩形 111" descr=""/>
          <p:cNvPicPr/>
          <p:nvPr/>
        </p:nvPicPr>
        <p:blipFill>
          <a:blip r:embed="rId2"/>
          <a:stretch/>
        </p:blipFill>
        <p:spPr>
          <a:xfrm>
            <a:off x="6566040" y="115920"/>
            <a:ext cx="3352680" cy="1133280"/>
          </a:xfrm>
          <a:prstGeom prst="rect">
            <a:avLst/>
          </a:prstGeom>
          <a:ln w="0">
            <a:noFill/>
          </a:ln>
        </p:spPr>
      </p:pic>
      <p:sp>
        <p:nvSpPr>
          <p:cNvPr id="4010" name="Rectangle 46"/>
          <p:cNvSpPr/>
          <p:nvPr/>
        </p:nvSpPr>
        <p:spPr>
          <a:xfrm>
            <a:off x="6657120" y="119160"/>
            <a:ext cx="28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바탕"/>
              </a:rPr>
              <a:t> Ⅴ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바탕"/>
              </a:rPr>
              <a:t>. `08 Key initiativ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1" name="Text Box 108"/>
          <p:cNvSpPr/>
          <p:nvPr/>
        </p:nvSpPr>
        <p:spPr>
          <a:xfrm>
            <a:off x="7146000" y="378000"/>
            <a:ext cx="8146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bfbfbf"/>
                </a:solidFill>
                <a:latin typeface="Arial"/>
              </a:rPr>
              <a:t>DA NP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12" name=""/>
          <p:cNvGrpSpPr/>
          <p:nvPr/>
        </p:nvGrpSpPr>
        <p:grpSpPr>
          <a:xfrm>
            <a:off x="0" y="6589800"/>
            <a:ext cx="9918720" cy="231840"/>
            <a:chOff x="0" y="6589800"/>
            <a:chExt cx="9918720" cy="231840"/>
          </a:xfrm>
        </p:grpSpPr>
        <p:pic>
          <p:nvPicPr>
            <p:cNvPr id="4013" name="矩形 113" descr=""/>
            <p:cNvPicPr/>
            <p:nvPr/>
          </p:nvPicPr>
          <p:blipFill>
            <a:blip r:embed="rId3"/>
            <a:stretch/>
          </p:blipFill>
          <p:spPr>
            <a:xfrm>
              <a:off x="0" y="6592680"/>
              <a:ext cx="9917280" cy="22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4" name=""/>
            <p:cNvSpPr/>
            <p:nvPr/>
          </p:nvSpPr>
          <p:spPr>
            <a:xfrm>
              <a:off x="0" y="6589800"/>
              <a:ext cx="9918720" cy="23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5" name="灯片编号占位符 5"/>
          <p:cNvSpPr/>
          <p:nvPr/>
        </p:nvSpPr>
        <p:spPr>
          <a:xfrm>
            <a:off x="7397640" y="6541920"/>
            <a:ext cx="1486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ge   </a:t>
            </a:r>
            <a:fld id="{3AA792EB-FC13-4E55-B98B-CA957657C0D9}" type="slidenum">
              <a:rPr b="0" lang="zh-CN" sz="1000" spc="-1" strike="noStrike">
                <a:solidFill>
                  <a:srgbClr val="ffffff"/>
                </a:solidFill>
                <a:latin typeface="华文宋体"/>
                <a:ea typeface="华文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6" name="AutoShape 4"/>
          <p:cNvSpPr/>
          <p:nvPr/>
        </p:nvSpPr>
        <p:spPr>
          <a:xfrm>
            <a:off x="1612800" y="3529080"/>
            <a:ext cx="1854360" cy="1717560"/>
          </a:xfrm>
          <a:custGeom>
            <a:avLst/>
            <a:gdLst>
              <a:gd name="textAreaLeft" fmla="*/ 271440 w 1854360"/>
              <a:gd name="textAreaRight" fmla="*/ 1582920 w 1854360"/>
              <a:gd name="textAreaTop" fmla="*/ 251280 h 1717560"/>
              <a:gd name="textAreaBottom" fmla="*/ 1466280 h 1717560"/>
            </a:gdLst>
            <a:ahLst/>
            <a:rect l="textAreaLeft" t="textAreaTop" r="textAreaRight" b="textAreaBottom"/>
            <a:pathLst>
              <a:path w="21600" h="24201">
                <a:moveTo>
                  <a:pt x="10277" y="15107"/>
                </a:moveTo>
                <a:cubicBezTo>
                  <a:pt x="10450" y="15128"/>
                  <a:pt x="10625" y="15139"/>
                  <a:pt x="10800" y="15139"/>
                </a:cubicBezTo>
                <a:cubicBezTo>
                  <a:pt x="13196" y="15139"/>
                  <a:pt x="15139" y="13196"/>
                  <a:pt x="15139" y="10800"/>
                </a:cubicBezTo>
                <a:cubicBezTo>
                  <a:pt x="15139" y="8403"/>
                  <a:pt x="13196" y="6461"/>
                  <a:pt x="10800" y="6461"/>
                </a:cubicBezTo>
                <a:cubicBezTo>
                  <a:pt x="8403" y="6461"/>
                  <a:pt x="6461" y="8403"/>
                  <a:pt x="6461" y="10800"/>
                </a:cubicBezTo>
                <a:cubicBezTo>
                  <a:pt x="6460" y="11785"/>
                  <a:pt x="6796" y="12740"/>
                  <a:pt x="7411" y="13510"/>
                </a:cubicBezTo>
                <a:lnTo>
                  <a:pt x="2365" y="17545"/>
                </a:lnTo>
                <a:cubicBezTo>
                  <a:pt x="834" y="15630"/>
                  <a:pt x="0" y="13251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6764"/>
                  <a:pt x="16764" y="21600"/>
                  <a:pt x="10800" y="21600"/>
                </a:cubicBezTo>
                <a:cubicBezTo>
                  <a:pt x="10364" y="21600"/>
                  <a:pt x="9930" y="21573"/>
                  <a:pt x="9498" y="21521"/>
                </a:cubicBezTo>
                <a:lnTo>
                  <a:pt x="9173" y="24201"/>
                </a:lnTo>
                <a:lnTo>
                  <a:pt x="4000" y="17599"/>
                </a:lnTo>
                <a:lnTo>
                  <a:pt x="10602" y="12427"/>
                </a:lnTo>
                <a:lnTo>
                  <a:pt x="10277" y="15107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767676"/>
              </a:gs>
              <a:gs pos="100000">
                <a:srgbClr val="ffffff"/>
              </a:gs>
            </a:gsLst>
            <a:lin ang="8100000"/>
          </a:gradFill>
          <a:ln w="19080">
            <a:solidFill>
              <a:srgbClr val="808080"/>
            </a:solidFill>
            <a:round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7" name="AutoShape 5"/>
          <p:cNvSpPr/>
          <p:nvPr/>
        </p:nvSpPr>
        <p:spPr>
          <a:xfrm>
            <a:off x="843120" y="2590920"/>
            <a:ext cx="3423960" cy="2862000"/>
          </a:xfrm>
          <a:prstGeom prst="triangle">
            <a:avLst>
              <a:gd name="adj" fmla="val 50000"/>
            </a:avLst>
          </a:prstGeom>
          <a:solidFill>
            <a:srgbClr val="ffffff">
              <a:alpha val="25000"/>
            </a:srgbClr>
          </a:solidFill>
          <a:ln w="38160">
            <a:solidFill>
              <a:srgbClr val="969696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8" name="AutoShape 6"/>
          <p:cNvSpPr/>
          <p:nvPr/>
        </p:nvSpPr>
        <p:spPr>
          <a:xfrm flipV="1" rot="5400000">
            <a:off x="2315160" y="3258720"/>
            <a:ext cx="513000" cy="380880"/>
          </a:xfrm>
          <a:prstGeom prst="leftArrow">
            <a:avLst>
              <a:gd name="adj1" fmla="val 50157"/>
              <a:gd name="adj2" fmla="val 51188"/>
            </a:avLst>
          </a:prstGeom>
          <a:solidFill>
            <a:srgbClr val="3333cc"/>
          </a:solidFill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9" name="AutoShape 7"/>
          <p:cNvSpPr/>
          <p:nvPr/>
        </p:nvSpPr>
        <p:spPr>
          <a:xfrm flipH="1" flipV="1" rot="9079800">
            <a:off x="1413720" y="4752000"/>
            <a:ext cx="401760" cy="475920"/>
          </a:xfrm>
          <a:prstGeom prst="leftArrow">
            <a:avLst>
              <a:gd name="adj1" fmla="val 50157"/>
              <a:gd name="adj2" fmla="val 38005"/>
            </a:avLst>
          </a:prstGeom>
          <a:solidFill>
            <a:srgbClr val="3333cc"/>
          </a:solidFill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0" name="AutoShape 8"/>
          <p:cNvSpPr/>
          <p:nvPr/>
        </p:nvSpPr>
        <p:spPr>
          <a:xfrm flipH="1" flipV="1" rot="2100000">
            <a:off x="3397680" y="4777200"/>
            <a:ext cx="401760" cy="474840"/>
          </a:xfrm>
          <a:prstGeom prst="leftArrow">
            <a:avLst>
              <a:gd name="adj1" fmla="val 50157"/>
              <a:gd name="adj2" fmla="val 38005"/>
            </a:avLst>
          </a:prstGeom>
          <a:solidFill>
            <a:srgbClr val="3333cc"/>
          </a:solidFill>
          <a:ln w="1908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1" name=""/>
          <p:cNvGrpSpPr/>
          <p:nvPr/>
        </p:nvGrpSpPr>
        <p:grpSpPr>
          <a:xfrm>
            <a:off x="1860120" y="2014560"/>
            <a:ext cx="1421280" cy="1225440"/>
            <a:chOff x="1860120" y="2014560"/>
            <a:chExt cx="1421280" cy="1225440"/>
          </a:xfrm>
        </p:grpSpPr>
        <p:pic>
          <p:nvPicPr>
            <p:cNvPr id="4022" name="Picture 10" descr="13-1"/>
            <p:cNvPicPr/>
            <p:nvPr/>
          </p:nvPicPr>
          <p:blipFill>
            <a:blip r:embed="rId1">
              <a:lum bright="-6000"/>
            </a:blip>
            <a:srcRect l="32548" t="0" r="32548" b="52258"/>
            <a:stretch/>
          </p:blipFill>
          <p:spPr>
            <a:xfrm>
              <a:off x="1989720" y="2014560"/>
              <a:ext cx="127908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3" name="Rectangle 11"/>
            <p:cNvSpPr/>
            <p:nvPr/>
          </p:nvSpPr>
          <p:spPr>
            <a:xfrm>
              <a:off x="1860120" y="2408040"/>
              <a:ext cx="1421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HY헤드라인M"/>
                </a:rPr>
                <a:t>Info &amp; Comm.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4" name=""/>
          <p:cNvGrpSpPr/>
          <p:nvPr/>
        </p:nvGrpSpPr>
        <p:grpSpPr>
          <a:xfrm>
            <a:off x="378720" y="4813200"/>
            <a:ext cx="1229040" cy="1190880"/>
            <a:chOff x="378720" y="4813200"/>
            <a:chExt cx="1229040" cy="1190880"/>
          </a:xfrm>
        </p:grpSpPr>
        <p:pic>
          <p:nvPicPr>
            <p:cNvPr id="4025" name="Picture 13" descr="13-1"/>
            <p:cNvPicPr/>
            <p:nvPr/>
          </p:nvPicPr>
          <p:blipFill>
            <a:blip r:embed="rId2">
              <a:lum bright="-6000"/>
            </a:blip>
            <a:srcRect l="6970" t="44362" r="60487" b="7896"/>
            <a:stretch/>
          </p:blipFill>
          <p:spPr>
            <a:xfrm>
              <a:off x="416520" y="4813200"/>
              <a:ext cx="1191240" cy="119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6" name="Rectangle 14"/>
            <p:cNvSpPr/>
            <p:nvPr/>
          </p:nvSpPr>
          <p:spPr>
            <a:xfrm>
              <a:off x="378720" y="5193720"/>
              <a:ext cx="116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HY헤드라인M"/>
                </a:rPr>
                <a:t>Multimedi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7" name=""/>
          <p:cNvGrpSpPr/>
          <p:nvPr/>
        </p:nvGrpSpPr>
        <p:grpSpPr>
          <a:xfrm>
            <a:off x="3722760" y="4843440"/>
            <a:ext cx="1247760" cy="1160640"/>
            <a:chOff x="3722760" y="4843440"/>
            <a:chExt cx="1247760" cy="1160640"/>
          </a:xfrm>
        </p:grpSpPr>
        <p:pic>
          <p:nvPicPr>
            <p:cNvPr id="4028" name="Picture 16" descr="13-1"/>
            <p:cNvPicPr/>
            <p:nvPr/>
          </p:nvPicPr>
          <p:blipFill>
            <a:blip r:embed="rId3">
              <a:lum bright="-6000"/>
            </a:blip>
            <a:srcRect l="61562" t="45421" r="4406" b="7447"/>
            <a:stretch/>
          </p:blipFill>
          <p:spPr>
            <a:xfrm>
              <a:off x="3722760" y="4843440"/>
              <a:ext cx="1247760" cy="116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29" name="Rectangle 17"/>
            <p:cNvSpPr/>
            <p:nvPr/>
          </p:nvSpPr>
          <p:spPr>
            <a:xfrm>
              <a:off x="4097880" y="5190480"/>
              <a:ext cx="360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HY헤드라인M"/>
                </a:rPr>
                <a:t>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0" name="Oval 18"/>
          <p:cNvSpPr/>
          <p:nvPr/>
        </p:nvSpPr>
        <p:spPr>
          <a:xfrm>
            <a:off x="1536840" y="4056120"/>
            <a:ext cx="655560" cy="695160"/>
          </a:xfrm>
          <a:prstGeom prst="ellipse">
            <a:avLst/>
          </a:prstGeom>
          <a:solidFill>
            <a:srgbClr val="66ffff">
              <a:alpha val="50000"/>
            </a:srgbClr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1" name="Oval 19"/>
          <p:cNvSpPr/>
          <p:nvPr/>
        </p:nvSpPr>
        <p:spPr>
          <a:xfrm>
            <a:off x="2649600" y="3573360"/>
            <a:ext cx="655560" cy="693720"/>
          </a:xfrm>
          <a:prstGeom prst="ellipse">
            <a:avLst/>
          </a:prstGeom>
          <a:solidFill>
            <a:srgbClr val="66ff33">
              <a:alpha val="50000"/>
            </a:srgbClr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2" name="Oval 20"/>
          <p:cNvSpPr/>
          <p:nvPr/>
        </p:nvSpPr>
        <p:spPr>
          <a:xfrm>
            <a:off x="2509920" y="4656240"/>
            <a:ext cx="657000" cy="693720"/>
          </a:xfrm>
          <a:prstGeom prst="ellipse">
            <a:avLst/>
          </a:prstGeom>
          <a:solidFill>
            <a:srgbClr val="ffff00">
              <a:alpha val="50000"/>
            </a:srgbClr>
          </a:solidFill>
          <a:ln w="284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3" name="Text Box 21"/>
          <p:cNvSpPr/>
          <p:nvPr/>
        </p:nvSpPr>
        <p:spPr>
          <a:xfrm>
            <a:off x="1238400" y="4267080"/>
            <a:ext cx="123480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1760" bIns="4176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Connectiv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4" name="Text Box 22"/>
          <p:cNvSpPr/>
          <p:nvPr/>
        </p:nvSpPr>
        <p:spPr>
          <a:xfrm>
            <a:off x="2405160" y="3774960"/>
            <a:ext cx="113976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1760" bIns="4176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De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5" name="Text Box 23"/>
          <p:cNvSpPr/>
          <p:nvPr/>
        </p:nvSpPr>
        <p:spPr>
          <a:xfrm>
            <a:off x="2262240" y="4879800"/>
            <a:ext cx="1138320" cy="2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3880" rIns="83880" tIns="41760" bIns="4176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838080"/>
                <a:tab algn="l" pos="1676520"/>
                <a:tab algn="l" pos="2514600"/>
                <a:tab algn="l" pos="3352680"/>
                <a:tab algn="l" pos="4191120"/>
                <a:tab algn="l" pos="5029200"/>
                <a:tab algn="l" pos="5867280"/>
                <a:tab algn="l" pos="6705720"/>
                <a:tab algn="l" pos="7543800"/>
                <a:tab algn="l" pos="8381880"/>
                <a:tab algn="l" pos="9220320"/>
                <a:tab algn="l" pos="10058400"/>
                <a:tab algn="l" pos="10896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Gulim"/>
              </a:rPr>
              <a:t>Appl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6" name="Freeform 25"/>
          <p:cNvSpPr/>
          <p:nvPr/>
        </p:nvSpPr>
        <p:spPr>
          <a:xfrm>
            <a:off x="6916680" y="2624040"/>
            <a:ext cx="2473560" cy="3175200"/>
          </a:xfrm>
          <a:custGeom>
            <a:avLst/>
            <a:gdLst>
              <a:gd name="textAreaLeft" fmla="*/ 0 w 2473560"/>
              <a:gd name="textAreaRight" fmla="*/ 2473560 w 2473560"/>
              <a:gd name="textAreaTop" fmla="*/ 0 h 3175200"/>
              <a:gd name="textAreaBottom" fmla="*/ 3175560 h 3175200"/>
            </a:gdLst>
            <a:ahLst/>
            <a:rect l="textAreaLeft" t="textAreaTop" r="textAreaRight" b="textAreaBottom"/>
            <a:pathLst>
              <a:path w="1595" h="1599">
                <a:moveTo>
                  <a:pt x="964" y="819"/>
                </a:moveTo>
                <a:cubicBezTo>
                  <a:pt x="891" y="887"/>
                  <a:pt x="762" y="963"/>
                  <a:pt x="668" y="1011"/>
                </a:cubicBezTo>
                <a:cubicBezTo>
                  <a:pt x="574" y="1059"/>
                  <a:pt x="491" y="1078"/>
                  <a:pt x="396" y="1107"/>
                </a:cubicBezTo>
                <a:cubicBezTo>
                  <a:pt x="301" y="1136"/>
                  <a:pt x="165" y="1136"/>
                  <a:pt x="100" y="1187"/>
                </a:cubicBezTo>
                <a:cubicBezTo>
                  <a:pt x="35" y="1238"/>
                  <a:pt x="0" y="1347"/>
                  <a:pt x="4" y="1411"/>
                </a:cubicBezTo>
                <a:cubicBezTo>
                  <a:pt x="8" y="1475"/>
                  <a:pt x="56" y="1543"/>
                  <a:pt x="124" y="1571"/>
                </a:cubicBezTo>
                <a:cubicBezTo>
                  <a:pt x="192" y="1599"/>
                  <a:pt x="311" y="1596"/>
                  <a:pt x="412" y="1579"/>
                </a:cubicBezTo>
                <a:cubicBezTo>
                  <a:pt x="513" y="1562"/>
                  <a:pt x="636" y="1508"/>
                  <a:pt x="732" y="1467"/>
                </a:cubicBezTo>
                <a:cubicBezTo>
                  <a:pt x="828" y="1426"/>
                  <a:pt x="908" y="1378"/>
                  <a:pt x="988" y="1331"/>
                </a:cubicBezTo>
                <a:cubicBezTo>
                  <a:pt x="1068" y="1284"/>
                  <a:pt x="1151" y="1232"/>
                  <a:pt x="1212" y="1187"/>
                </a:cubicBezTo>
                <a:cubicBezTo>
                  <a:pt x="1273" y="1142"/>
                  <a:pt x="1311" y="1111"/>
                  <a:pt x="1356" y="1059"/>
                </a:cubicBezTo>
                <a:cubicBezTo>
                  <a:pt x="1401" y="1007"/>
                  <a:pt x="1448" y="943"/>
                  <a:pt x="1484" y="875"/>
                </a:cubicBezTo>
                <a:cubicBezTo>
                  <a:pt x="1520" y="807"/>
                  <a:pt x="1556" y="734"/>
                  <a:pt x="1572" y="651"/>
                </a:cubicBezTo>
                <a:cubicBezTo>
                  <a:pt x="1588" y="568"/>
                  <a:pt x="1595" y="474"/>
                  <a:pt x="1580" y="379"/>
                </a:cubicBezTo>
                <a:cubicBezTo>
                  <a:pt x="1565" y="284"/>
                  <a:pt x="1535" y="145"/>
                  <a:pt x="1484" y="83"/>
                </a:cubicBezTo>
                <a:cubicBezTo>
                  <a:pt x="1433" y="21"/>
                  <a:pt x="1341" y="0"/>
                  <a:pt x="1276" y="3"/>
                </a:cubicBezTo>
                <a:cubicBezTo>
                  <a:pt x="1211" y="6"/>
                  <a:pt x="1129" y="60"/>
                  <a:pt x="1092" y="99"/>
                </a:cubicBezTo>
                <a:cubicBezTo>
                  <a:pt x="1055" y="138"/>
                  <a:pt x="1057" y="188"/>
                  <a:pt x="1052" y="235"/>
                </a:cubicBezTo>
                <a:cubicBezTo>
                  <a:pt x="1047" y="282"/>
                  <a:pt x="1051" y="318"/>
                  <a:pt x="1060" y="379"/>
                </a:cubicBezTo>
                <a:cubicBezTo>
                  <a:pt x="1069" y="440"/>
                  <a:pt x="1124" y="530"/>
                  <a:pt x="1108" y="603"/>
                </a:cubicBezTo>
                <a:cubicBezTo>
                  <a:pt x="1092" y="676"/>
                  <a:pt x="1035" y="754"/>
                  <a:pt x="964" y="819"/>
                </a:cubicBezTo>
                <a:close/>
              </a:path>
            </a:pathLst>
          </a:custGeom>
          <a:noFill/>
          <a:ln w="28440">
            <a:solidFill>
              <a:srgbClr val="00b0f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7" name="Freeform 26"/>
          <p:cNvSpPr/>
          <p:nvPr/>
        </p:nvSpPr>
        <p:spPr>
          <a:xfrm>
            <a:off x="5232240" y="4371840"/>
            <a:ext cx="1643400" cy="1276560"/>
          </a:xfrm>
          <a:custGeom>
            <a:avLst/>
            <a:gdLst>
              <a:gd name="textAreaLeft" fmla="*/ 0 w 1643400"/>
              <a:gd name="textAreaRight" fmla="*/ 1643760 w 1643400"/>
              <a:gd name="textAreaTop" fmla="*/ 0 h 1276560"/>
              <a:gd name="textAreaBottom" fmla="*/ 1276920 h 1276560"/>
            </a:gdLst>
            <a:ahLst/>
            <a:rect l="textAreaLeft" t="textAreaTop" r="textAreaRight" b="textAreaBottom"/>
            <a:pathLst>
              <a:path w="1061" h="686">
                <a:moveTo>
                  <a:pt x="588" y="155"/>
                </a:moveTo>
                <a:cubicBezTo>
                  <a:pt x="533" y="131"/>
                  <a:pt x="511" y="84"/>
                  <a:pt x="460" y="59"/>
                </a:cubicBezTo>
                <a:cubicBezTo>
                  <a:pt x="409" y="34"/>
                  <a:pt x="348" y="6"/>
                  <a:pt x="284" y="3"/>
                </a:cubicBezTo>
                <a:cubicBezTo>
                  <a:pt x="220" y="0"/>
                  <a:pt x="123" y="12"/>
                  <a:pt x="76" y="43"/>
                </a:cubicBezTo>
                <a:cubicBezTo>
                  <a:pt x="29" y="74"/>
                  <a:pt x="0" y="119"/>
                  <a:pt x="4" y="187"/>
                </a:cubicBezTo>
                <a:cubicBezTo>
                  <a:pt x="8" y="255"/>
                  <a:pt x="28" y="382"/>
                  <a:pt x="100" y="451"/>
                </a:cubicBezTo>
                <a:cubicBezTo>
                  <a:pt x="172" y="520"/>
                  <a:pt x="327" y="564"/>
                  <a:pt x="436" y="603"/>
                </a:cubicBezTo>
                <a:cubicBezTo>
                  <a:pt x="545" y="642"/>
                  <a:pt x="672" y="680"/>
                  <a:pt x="756" y="683"/>
                </a:cubicBezTo>
                <a:cubicBezTo>
                  <a:pt x="840" y="686"/>
                  <a:pt x="892" y="650"/>
                  <a:pt x="940" y="619"/>
                </a:cubicBezTo>
                <a:cubicBezTo>
                  <a:pt x="988" y="588"/>
                  <a:pt x="1027" y="546"/>
                  <a:pt x="1044" y="499"/>
                </a:cubicBezTo>
                <a:cubicBezTo>
                  <a:pt x="1061" y="452"/>
                  <a:pt x="1059" y="384"/>
                  <a:pt x="1044" y="339"/>
                </a:cubicBezTo>
                <a:cubicBezTo>
                  <a:pt x="1029" y="294"/>
                  <a:pt x="999" y="250"/>
                  <a:pt x="956" y="227"/>
                </a:cubicBezTo>
                <a:cubicBezTo>
                  <a:pt x="913" y="204"/>
                  <a:pt x="849" y="215"/>
                  <a:pt x="788" y="203"/>
                </a:cubicBezTo>
                <a:cubicBezTo>
                  <a:pt x="727" y="191"/>
                  <a:pt x="641" y="183"/>
                  <a:pt x="588" y="155"/>
                </a:cubicBezTo>
                <a:close/>
              </a:path>
            </a:pathLst>
          </a:custGeom>
          <a:noFill/>
          <a:ln w="28440">
            <a:solidFill>
              <a:srgbClr val="00b0f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8" name="Freeform 27"/>
          <p:cNvSpPr/>
          <p:nvPr/>
        </p:nvSpPr>
        <p:spPr>
          <a:xfrm>
            <a:off x="5070600" y="2109960"/>
            <a:ext cx="3456000" cy="2201760"/>
          </a:xfrm>
          <a:custGeom>
            <a:avLst/>
            <a:gdLst>
              <a:gd name="textAreaLeft" fmla="*/ 0 w 3456000"/>
              <a:gd name="textAreaRight" fmla="*/ 3456360 w 3456000"/>
              <a:gd name="textAreaTop" fmla="*/ 0 h 2201760"/>
              <a:gd name="textAreaBottom" fmla="*/ 2202120 h 2201760"/>
            </a:gdLst>
            <a:ahLst/>
            <a:rect l="textAreaLeft" t="textAreaTop" r="textAreaRight" b="textAreaBottom"/>
            <a:pathLst>
              <a:path w="2230" h="1109">
                <a:moveTo>
                  <a:pt x="920" y="131"/>
                </a:moveTo>
                <a:cubicBezTo>
                  <a:pt x="859" y="158"/>
                  <a:pt x="725" y="200"/>
                  <a:pt x="636" y="242"/>
                </a:cubicBezTo>
                <a:cubicBezTo>
                  <a:pt x="547" y="284"/>
                  <a:pt x="466" y="323"/>
                  <a:pt x="384" y="384"/>
                </a:cubicBezTo>
                <a:cubicBezTo>
                  <a:pt x="302" y="445"/>
                  <a:pt x="208" y="532"/>
                  <a:pt x="147" y="605"/>
                </a:cubicBezTo>
                <a:cubicBezTo>
                  <a:pt x="86" y="678"/>
                  <a:pt x="40" y="764"/>
                  <a:pt x="20" y="822"/>
                </a:cubicBezTo>
                <a:cubicBezTo>
                  <a:pt x="0" y="880"/>
                  <a:pt x="1" y="906"/>
                  <a:pt x="28" y="950"/>
                </a:cubicBezTo>
                <a:cubicBezTo>
                  <a:pt x="55" y="994"/>
                  <a:pt x="115" y="1063"/>
                  <a:pt x="180" y="1086"/>
                </a:cubicBezTo>
                <a:cubicBezTo>
                  <a:pt x="245" y="1109"/>
                  <a:pt x="367" y="1106"/>
                  <a:pt x="420" y="1086"/>
                </a:cubicBezTo>
                <a:cubicBezTo>
                  <a:pt x="473" y="1066"/>
                  <a:pt x="475" y="1006"/>
                  <a:pt x="500" y="966"/>
                </a:cubicBezTo>
                <a:cubicBezTo>
                  <a:pt x="525" y="926"/>
                  <a:pt x="508" y="903"/>
                  <a:pt x="572" y="846"/>
                </a:cubicBezTo>
                <a:cubicBezTo>
                  <a:pt x="636" y="789"/>
                  <a:pt x="796" y="673"/>
                  <a:pt x="884" y="622"/>
                </a:cubicBezTo>
                <a:cubicBezTo>
                  <a:pt x="972" y="571"/>
                  <a:pt x="1029" y="565"/>
                  <a:pt x="1100" y="542"/>
                </a:cubicBezTo>
                <a:cubicBezTo>
                  <a:pt x="1171" y="519"/>
                  <a:pt x="1237" y="499"/>
                  <a:pt x="1308" y="486"/>
                </a:cubicBezTo>
                <a:cubicBezTo>
                  <a:pt x="1379" y="473"/>
                  <a:pt x="1455" y="467"/>
                  <a:pt x="1524" y="462"/>
                </a:cubicBezTo>
                <a:cubicBezTo>
                  <a:pt x="1593" y="457"/>
                  <a:pt x="1667" y="454"/>
                  <a:pt x="1724" y="454"/>
                </a:cubicBezTo>
                <a:cubicBezTo>
                  <a:pt x="1781" y="454"/>
                  <a:pt x="1805" y="465"/>
                  <a:pt x="1868" y="462"/>
                </a:cubicBezTo>
                <a:cubicBezTo>
                  <a:pt x="1931" y="459"/>
                  <a:pt x="2042" y="470"/>
                  <a:pt x="2100" y="438"/>
                </a:cubicBezTo>
                <a:cubicBezTo>
                  <a:pt x="2158" y="406"/>
                  <a:pt x="2198" y="321"/>
                  <a:pt x="2214" y="273"/>
                </a:cubicBezTo>
                <a:cubicBezTo>
                  <a:pt x="2230" y="225"/>
                  <a:pt x="2211" y="178"/>
                  <a:pt x="2198" y="147"/>
                </a:cubicBezTo>
                <a:cubicBezTo>
                  <a:pt x="2185" y="116"/>
                  <a:pt x="2177" y="105"/>
                  <a:pt x="2135" y="84"/>
                </a:cubicBezTo>
                <a:cubicBezTo>
                  <a:pt x="2093" y="63"/>
                  <a:pt x="2012" y="34"/>
                  <a:pt x="1946" y="21"/>
                </a:cubicBezTo>
                <a:cubicBezTo>
                  <a:pt x="1880" y="8"/>
                  <a:pt x="1812" y="8"/>
                  <a:pt x="1741" y="5"/>
                </a:cubicBezTo>
                <a:cubicBezTo>
                  <a:pt x="1670" y="2"/>
                  <a:pt x="1588" y="0"/>
                  <a:pt x="1520" y="5"/>
                </a:cubicBezTo>
                <a:cubicBezTo>
                  <a:pt x="1452" y="10"/>
                  <a:pt x="1393" y="23"/>
                  <a:pt x="1330" y="36"/>
                </a:cubicBezTo>
                <a:cubicBezTo>
                  <a:pt x="1267" y="49"/>
                  <a:pt x="1209" y="68"/>
                  <a:pt x="1141" y="84"/>
                </a:cubicBezTo>
                <a:cubicBezTo>
                  <a:pt x="1073" y="100"/>
                  <a:pt x="966" y="121"/>
                  <a:pt x="920" y="131"/>
                </a:cubicBezTo>
                <a:close/>
              </a:path>
            </a:pathLst>
          </a:custGeom>
          <a:noFill/>
          <a:ln w="28440">
            <a:solidFill>
              <a:srgbClr val="00b0f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9" name="Oval 28"/>
          <p:cNvSpPr/>
          <p:nvPr/>
        </p:nvSpPr>
        <p:spPr>
          <a:xfrm rot="20845200">
            <a:off x="5511600" y="2795760"/>
            <a:ext cx="3422520" cy="2568240"/>
          </a:xfrm>
          <a:prstGeom prst="ellipse">
            <a:avLst/>
          </a:prstGeom>
          <a:noFill/>
          <a:ln w="381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0" name="Text Box 29"/>
          <p:cNvSpPr/>
          <p:nvPr/>
        </p:nvSpPr>
        <p:spPr>
          <a:xfrm>
            <a:off x="7195680" y="2208240"/>
            <a:ext cx="6850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-Audi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1" name="Text Box 30"/>
          <p:cNvSpPr/>
          <p:nvPr/>
        </p:nvSpPr>
        <p:spPr>
          <a:xfrm>
            <a:off x="8445600" y="2697120"/>
            <a:ext cx="10443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M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2" name="Text Box 31"/>
          <p:cNvSpPr/>
          <p:nvPr/>
        </p:nvSpPr>
        <p:spPr>
          <a:xfrm>
            <a:off x="6689880" y="2281320"/>
            <a:ext cx="5569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TV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3" name="Text Box 32"/>
          <p:cNvSpPr/>
          <p:nvPr/>
        </p:nvSpPr>
        <p:spPr>
          <a:xfrm>
            <a:off x="8519760" y="3851280"/>
            <a:ext cx="8971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obile A/V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4" name="Text Box 33"/>
          <p:cNvSpPr/>
          <p:nvPr/>
        </p:nvSpPr>
        <p:spPr>
          <a:xfrm>
            <a:off x="7915680" y="2398680"/>
            <a:ext cx="5144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VD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5" name="Rectangle 34"/>
          <p:cNvSpPr/>
          <p:nvPr/>
        </p:nvSpPr>
        <p:spPr>
          <a:xfrm>
            <a:off x="8127720" y="4316400"/>
            <a:ext cx="4813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64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Dotum"/>
              </a:rPr>
              <a:t>DV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6" name="Rectangle 35"/>
          <p:cNvSpPr/>
          <p:nvPr/>
        </p:nvSpPr>
        <p:spPr>
          <a:xfrm>
            <a:off x="7848360" y="4541760"/>
            <a:ext cx="4813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64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Dotum"/>
              </a:rPr>
              <a:t>DS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7" name="Text Box 36"/>
          <p:cNvSpPr/>
          <p:nvPr/>
        </p:nvSpPr>
        <p:spPr>
          <a:xfrm>
            <a:off x="7301880" y="4730760"/>
            <a:ext cx="6393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able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8" name="Text Box 37"/>
          <p:cNvSpPr/>
          <p:nvPr/>
        </p:nvSpPr>
        <p:spPr>
          <a:xfrm>
            <a:off x="6183360" y="2575080"/>
            <a:ext cx="55728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T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9" name="Text Box 38"/>
          <p:cNvSpPr/>
          <p:nvPr/>
        </p:nvSpPr>
        <p:spPr>
          <a:xfrm>
            <a:off x="5545080" y="2643120"/>
            <a:ext cx="6858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TP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0" name="Text Box 39"/>
          <p:cNvSpPr/>
          <p:nvPr/>
        </p:nvSpPr>
        <p:spPr>
          <a:xfrm>
            <a:off x="6027120" y="4838760"/>
            <a:ext cx="8024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ar Audi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1" name="Text Box 40"/>
          <p:cNvSpPr/>
          <p:nvPr/>
        </p:nvSpPr>
        <p:spPr>
          <a:xfrm>
            <a:off x="5112360" y="5337000"/>
            <a:ext cx="5418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404040"/>
                </a:solidFill>
                <a:latin typeface="Arial"/>
                <a:ea typeface="HY견고딕"/>
              </a:rPr>
              <a:t>Car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2" name="Text Box 41"/>
          <p:cNvSpPr/>
          <p:nvPr/>
        </p:nvSpPr>
        <p:spPr>
          <a:xfrm>
            <a:off x="8522640" y="5095800"/>
            <a:ext cx="7981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404040"/>
                </a:solidFill>
                <a:latin typeface="Arial"/>
                <a:ea typeface="HY견고딕"/>
              </a:rPr>
              <a:t>Mobile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3" name="Text Box 42"/>
          <p:cNvSpPr/>
          <p:nvPr/>
        </p:nvSpPr>
        <p:spPr>
          <a:xfrm>
            <a:off x="5257440" y="4359240"/>
            <a:ext cx="8575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elematic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4" name="Text Box 43"/>
          <p:cNvSpPr/>
          <p:nvPr/>
        </p:nvSpPr>
        <p:spPr>
          <a:xfrm>
            <a:off x="6908760" y="4905360"/>
            <a:ext cx="56016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TP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5" name="Text Box 44"/>
          <p:cNvSpPr/>
          <p:nvPr/>
        </p:nvSpPr>
        <p:spPr>
          <a:xfrm>
            <a:off x="8712720" y="3227400"/>
            <a:ext cx="86364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ell Phon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6" name="Picture 45" descr=""/>
          <p:cNvPicPr/>
          <p:nvPr/>
        </p:nvPicPr>
        <p:blipFill>
          <a:blip r:embed="rId4"/>
          <a:stretch/>
        </p:blipFill>
        <p:spPr>
          <a:xfrm>
            <a:off x="7916760" y="2709720"/>
            <a:ext cx="520920" cy="211320"/>
          </a:xfrm>
          <a:prstGeom prst="rect">
            <a:avLst/>
          </a:prstGeom>
          <a:ln w="0">
            <a:noFill/>
          </a:ln>
        </p:spPr>
      </p:pic>
      <p:pic>
        <p:nvPicPr>
          <p:cNvPr id="4057" name="Picture 46" descr=""/>
          <p:cNvPicPr/>
          <p:nvPr/>
        </p:nvPicPr>
        <p:blipFill>
          <a:blip r:embed="rId5"/>
          <a:stretch/>
        </p:blipFill>
        <p:spPr>
          <a:xfrm>
            <a:off x="6750000" y="2614680"/>
            <a:ext cx="522360" cy="333360"/>
          </a:xfrm>
          <a:prstGeom prst="rect">
            <a:avLst/>
          </a:prstGeom>
          <a:ln w="0">
            <a:noFill/>
          </a:ln>
        </p:spPr>
      </p:pic>
      <p:pic>
        <p:nvPicPr>
          <p:cNvPr id="4058" name="Picture 47" descr=""/>
          <p:cNvPicPr/>
          <p:nvPr/>
        </p:nvPicPr>
        <p:blipFill>
          <a:blip r:embed="rId6"/>
          <a:stretch/>
        </p:blipFill>
        <p:spPr>
          <a:xfrm>
            <a:off x="6253200" y="2900520"/>
            <a:ext cx="550800" cy="285480"/>
          </a:xfrm>
          <a:prstGeom prst="rect">
            <a:avLst/>
          </a:prstGeom>
          <a:ln w="0">
            <a:noFill/>
          </a:ln>
        </p:spPr>
      </p:pic>
      <p:pic>
        <p:nvPicPr>
          <p:cNvPr id="4059" name="Picture 48" descr=""/>
          <p:cNvPicPr/>
          <p:nvPr/>
        </p:nvPicPr>
        <p:blipFill>
          <a:blip r:embed="rId7"/>
          <a:stretch/>
        </p:blipFill>
        <p:spPr>
          <a:xfrm>
            <a:off x="5721480" y="2994120"/>
            <a:ext cx="558720" cy="627120"/>
          </a:xfrm>
          <a:prstGeom prst="rect">
            <a:avLst/>
          </a:prstGeom>
          <a:ln w="0">
            <a:noFill/>
          </a:ln>
        </p:spPr>
      </p:pic>
      <p:pic>
        <p:nvPicPr>
          <p:cNvPr id="4060" name="Picture 49" descr=""/>
          <p:cNvPicPr/>
          <p:nvPr/>
        </p:nvPicPr>
        <p:blipFill>
          <a:blip r:embed="rId8"/>
          <a:stretch/>
        </p:blipFill>
        <p:spPr>
          <a:xfrm>
            <a:off x="5437080" y="3773520"/>
            <a:ext cx="274680" cy="477720"/>
          </a:xfrm>
          <a:prstGeom prst="rect">
            <a:avLst/>
          </a:prstGeom>
          <a:ln w="0">
            <a:noFill/>
          </a:ln>
        </p:spPr>
      </p:pic>
      <p:pic>
        <p:nvPicPr>
          <p:cNvPr id="4061" name="Picture 50" descr=""/>
          <p:cNvPicPr/>
          <p:nvPr/>
        </p:nvPicPr>
        <p:blipFill>
          <a:blip r:embed="rId9"/>
          <a:stretch/>
        </p:blipFill>
        <p:spPr>
          <a:xfrm>
            <a:off x="6291360" y="5172120"/>
            <a:ext cx="446040" cy="312840"/>
          </a:xfrm>
          <a:prstGeom prst="rect">
            <a:avLst/>
          </a:prstGeom>
          <a:ln w="0">
            <a:noFill/>
          </a:ln>
        </p:spPr>
      </p:pic>
      <p:pic>
        <p:nvPicPr>
          <p:cNvPr id="4062" name="Picture 51" descr=""/>
          <p:cNvPicPr/>
          <p:nvPr/>
        </p:nvPicPr>
        <p:blipFill>
          <a:blip r:embed="rId10"/>
          <a:stretch/>
        </p:blipFill>
        <p:spPr>
          <a:xfrm>
            <a:off x="7927920" y="4886280"/>
            <a:ext cx="374760" cy="333360"/>
          </a:xfrm>
          <a:prstGeom prst="rect">
            <a:avLst/>
          </a:prstGeom>
          <a:ln w="0">
            <a:noFill/>
          </a:ln>
        </p:spPr>
      </p:pic>
      <p:pic>
        <p:nvPicPr>
          <p:cNvPr id="4063" name="Picture 52" descr=""/>
          <p:cNvPicPr/>
          <p:nvPr/>
        </p:nvPicPr>
        <p:blipFill>
          <a:blip r:embed="rId11"/>
          <a:stretch/>
        </p:blipFill>
        <p:spPr>
          <a:xfrm>
            <a:off x="8339040" y="4616280"/>
            <a:ext cx="370080" cy="368640"/>
          </a:xfrm>
          <a:prstGeom prst="rect">
            <a:avLst/>
          </a:prstGeom>
          <a:ln w="0">
            <a:noFill/>
          </a:ln>
        </p:spPr>
      </p:pic>
      <p:pic>
        <p:nvPicPr>
          <p:cNvPr id="4064" name="Picture 53" descr=""/>
          <p:cNvPicPr/>
          <p:nvPr/>
        </p:nvPicPr>
        <p:blipFill>
          <a:blip r:embed="rId12"/>
          <a:stretch/>
        </p:blipFill>
        <p:spPr>
          <a:xfrm>
            <a:off x="8845560" y="3551400"/>
            <a:ext cx="190440" cy="380880"/>
          </a:xfrm>
          <a:prstGeom prst="rect">
            <a:avLst/>
          </a:prstGeom>
          <a:ln w="0">
            <a:noFill/>
          </a:ln>
        </p:spPr>
      </p:pic>
      <p:sp>
        <p:nvSpPr>
          <p:cNvPr id="4065" name="Rectangle 54"/>
          <p:cNvSpPr/>
          <p:nvPr/>
        </p:nvSpPr>
        <p:spPr>
          <a:xfrm>
            <a:off x="4826160" y="3419640"/>
            <a:ext cx="88200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64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Dotum"/>
              </a:rPr>
              <a:t>Home G/W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6" name="Text Box 55"/>
          <p:cNvSpPr/>
          <p:nvPr/>
        </p:nvSpPr>
        <p:spPr>
          <a:xfrm>
            <a:off x="5932800" y="2057400"/>
            <a:ext cx="689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404040"/>
                </a:solidFill>
                <a:latin typeface="Arial"/>
                <a:ea typeface="HY견고딕"/>
              </a:rPr>
              <a:t>Hom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7" name="Picture 56" descr=""/>
          <p:cNvPicPr/>
          <p:nvPr/>
        </p:nvPicPr>
        <p:blipFill>
          <a:blip r:embed="rId13"/>
          <a:stretch/>
        </p:blipFill>
        <p:spPr>
          <a:xfrm>
            <a:off x="8564400" y="4113360"/>
            <a:ext cx="595440" cy="452160"/>
          </a:xfrm>
          <a:prstGeom prst="rect">
            <a:avLst/>
          </a:prstGeom>
          <a:ln w="0">
            <a:noFill/>
          </a:ln>
        </p:spPr>
      </p:pic>
      <p:pic>
        <p:nvPicPr>
          <p:cNvPr id="4068" name="Picture 57" descr=""/>
          <p:cNvPicPr/>
          <p:nvPr/>
        </p:nvPicPr>
        <p:blipFill>
          <a:blip r:embed="rId14"/>
          <a:stretch/>
        </p:blipFill>
        <p:spPr>
          <a:xfrm>
            <a:off x="8739360" y="2987640"/>
            <a:ext cx="453960" cy="257040"/>
          </a:xfrm>
          <a:prstGeom prst="rect">
            <a:avLst/>
          </a:prstGeom>
          <a:ln w="0">
            <a:noFill/>
          </a:ln>
        </p:spPr>
      </p:pic>
      <p:pic>
        <p:nvPicPr>
          <p:cNvPr id="4069" name="Picture 58" descr=""/>
          <p:cNvPicPr/>
          <p:nvPr/>
        </p:nvPicPr>
        <p:blipFill>
          <a:blip r:embed="rId15"/>
          <a:stretch/>
        </p:blipFill>
        <p:spPr>
          <a:xfrm>
            <a:off x="5484960" y="4711680"/>
            <a:ext cx="520560" cy="316080"/>
          </a:xfrm>
          <a:prstGeom prst="rect">
            <a:avLst/>
          </a:prstGeom>
          <a:ln w="0">
            <a:noFill/>
          </a:ln>
        </p:spPr>
      </p:pic>
      <p:pic>
        <p:nvPicPr>
          <p:cNvPr id="4070" name="Picture 59" descr=""/>
          <p:cNvPicPr/>
          <p:nvPr/>
        </p:nvPicPr>
        <p:blipFill>
          <a:blip r:embed="rId16"/>
          <a:stretch/>
        </p:blipFill>
        <p:spPr>
          <a:xfrm>
            <a:off x="7507440" y="5156280"/>
            <a:ext cx="371160" cy="285840"/>
          </a:xfrm>
          <a:prstGeom prst="rect">
            <a:avLst/>
          </a:prstGeom>
          <a:ln w="0">
            <a:noFill/>
          </a:ln>
        </p:spPr>
      </p:pic>
      <p:pic>
        <p:nvPicPr>
          <p:cNvPr id="4071" name="Picture 60" descr=""/>
          <p:cNvPicPr/>
          <p:nvPr/>
        </p:nvPicPr>
        <p:blipFill>
          <a:blip r:embed="rId17"/>
          <a:stretch/>
        </p:blipFill>
        <p:spPr>
          <a:xfrm>
            <a:off x="7334280" y="2583000"/>
            <a:ext cx="444600" cy="322200"/>
          </a:xfrm>
          <a:prstGeom prst="rect">
            <a:avLst/>
          </a:prstGeom>
          <a:ln w="0">
            <a:noFill/>
          </a:ln>
        </p:spPr>
      </p:pic>
      <p:pic>
        <p:nvPicPr>
          <p:cNvPr id="4072" name="Picture 61" descr=""/>
          <p:cNvPicPr/>
          <p:nvPr/>
        </p:nvPicPr>
        <p:blipFill>
          <a:blip r:embed="rId18"/>
          <a:stretch/>
        </p:blipFill>
        <p:spPr>
          <a:xfrm>
            <a:off x="7012080" y="5219640"/>
            <a:ext cx="369720" cy="407880"/>
          </a:xfrm>
          <a:prstGeom prst="rect">
            <a:avLst/>
          </a:prstGeom>
          <a:ln w="0">
            <a:noFill/>
          </a:ln>
        </p:spPr>
      </p:pic>
      <p:sp>
        <p:nvSpPr>
          <p:cNvPr id="4073" name="Text Box 62"/>
          <p:cNvSpPr/>
          <p:nvPr/>
        </p:nvSpPr>
        <p:spPr>
          <a:xfrm>
            <a:off x="1184400" y="1400040"/>
            <a:ext cx="274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030a0"/>
                </a:solidFill>
                <a:uFillTx/>
                <a:latin typeface="Arial"/>
                <a:ea typeface="Gulim"/>
              </a:rPr>
              <a:t>Digital Converg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4" name="Text Box 63"/>
          <p:cNvSpPr/>
          <p:nvPr/>
        </p:nvSpPr>
        <p:spPr>
          <a:xfrm>
            <a:off x="5848200" y="1400040"/>
            <a:ext cx="274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7030a0"/>
                </a:solidFill>
                <a:uFillTx/>
                <a:latin typeface="Arial"/>
                <a:ea typeface="Gulim"/>
              </a:rPr>
              <a:t>Ubiquitous Networ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5" name="矩形 61"/>
          <p:cNvSpPr/>
          <p:nvPr/>
        </p:nvSpPr>
        <p:spPr>
          <a:xfrm>
            <a:off x="497160" y="345960"/>
            <a:ext cx="788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바탕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바탕"/>
              </a:rPr>
              <a:t>Attach : Virtuous Spiral of Digital Convergence &amp; U Networ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6" name="矩形 7"/>
          <p:cNvSpPr/>
          <p:nvPr/>
        </p:nvSpPr>
        <p:spPr>
          <a:xfrm>
            <a:off x="179280" y="6431040"/>
            <a:ext cx="567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06360"/>
                <a:tab algn="l" pos="2413080"/>
                <a:tab algn="l" pos="3619440"/>
                <a:tab algn="l" pos="4826160"/>
                <a:tab algn="l" pos="6032520"/>
                <a:tab algn="l" pos="7238880"/>
                <a:tab algn="l" pos="8445600"/>
                <a:tab algn="l" pos="9651960"/>
                <a:tab algn="l" pos="10858680"/>
              </a:tabLst>
            </a:pPr>
            <a:r>
              <a:rPr b="0" lang="en-US" sz="1000" spc="-1" strike="noStrike">
                <a:solidFill>
                  <a:srgbClr val="a6a6a6"/>
                </a:solidFill>
                <a:latin typeface="微软雅黑"/>
                <a:ea typeface="微软雅黑"/>
              </a:rPr>
              <a:t>© </a:t>
            </a:r>
            <a:r>
              <a:rPr b="0" lang="zh-CN" sz="1000" spc="-1" strike="noStrike">
                <a:solidFill>
                  <a:srgbClr val="a6a6a6"/>
                </a:solidFill>
                <a:latin typeface="微软雅黑"/>
                <a:ea typeface="微软雅黑"/>
              </a:rPr>
              <a:t>林虎哲制作</a:t>
            </a:r>
            <a:r>
              <a:rPr b="0" lang="en-US" sz="1000" spc="-1" strike="noStrike">
                <a:solidFill>
                  <a:srgbClr val="d9d9d9"/>
                </a:solidFill>
                <a:latin typeface="微软雅黑"/>
                <a:ea typeface="微软雅黑"/>
              </a:rPr>
              <a:t>.  Weibo: @</a:t>
            </a:r>
            <a:r>
              <a:rPr b="0" lang="zh-CN" sz="1000" spc="-1" strike="noStrike">
                <a:solidFill>
                  <a:srgbClr val="d9d9d9"/>
                </a:solidFill>
                <a:latin typeface="微软雅黑"/>
                <a:ea typeface="微软雅黑"/>
              </a:rPr>
              <a:t>乌拉拉</a:t>
            </a:r>
            <a:r>
              <a:rPr b="0" lang="en-US" sz="1000" spc="-1" strike="noStrike">
                <a:solidFill>
                  <a:srgbClr val="d9d9d9"/>
                </a:solidFill>
                <a:latin typeface="微软雅黑"/>
                <a:ea typeface="微软雅黑"/>
              </a:rPr>
              <a:t>80  qq:47828100  mail: lin__hz@bankcomm.co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7" name="灯片编号占位符 5"/>
          <p:cNvSpPr/>
          <p:nvPr/>
        </p:nvSpPr>
        <p:spPr>
          <a:xfrm>
            <a:off x="7397640" y="6399360"/>
            <a:ext cx="1486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ge   </a:t>
            </a:r>
            <a:fld id="{E1F7C54E-BBCE-49EA-81BB-4D3C5B36A251}" type="slidenum">
              <a:rPr b="0" lang="zh-CN" sz="1000" spc="-1" strike="noStrike">
                <a:solidFill>
                  <a:srgbClr val="ffffff"/>
                </a:solidFill>
                <a:latin typeface="华文宋体"/>
                <a:ea typeface="华文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8" name="AutoShape 2"/>
          <p:cNvSpPr/>
          <p:nvPr/>
        </p:nvSpPr>
        <p:spPr>
          <a:xfrm>
            <a:off x="6353280" y="2457360"/>
            <a:ext cx="2752560" cy="3009960"/>
          </a:xfrm>
          <a:custGeom>
            <a:avLst/>
            <a:gdLst>
              <a:gd name="textAreaLeft" fmla="*/ 46080 w 2752560"/>
              <a:gd name="textAreaRight" fmla="*/ 2706480 w 2752560"/>
              <a:gd name="textAreaTop" fmla="*/ 46080 h 3009960"/>
              <a:gd name="textAreaBottom" fmla="*/ 2963880 h 3009960"/>
            </a:gdLst>
            <a:ahLst/>
            <a:rect l="textAreaLeft" t="textAreaTop" r="textAreaRight" b="textAreaBottom"/>
            <a:pathLst>
              <a:path w="21600" h="23620">
                <a:moveTo>
                  <a:pt x="1235" y="0"/>
                </a:moveTo>
                <a:arcTo wR="1235" hR="1235" stAng="16200000" swAng="-5400000"/>
                <a:lnTo>
                  <a:pt x="0" y="22385"/>
                </a:lnTo>
                <a:arcTo wR="1235" hR="1235" stAng="10800000" swAng="-5400000"/>
                <a:lnTo>
                  <a:pt x="20365" y="23620"/>
                </a:lnTo>
                <a:arcTo wR="1235" hR="1235" stAng="5400000" swAng="-5400000"/>
                <a:lnTo>
                  <a:pt x="21600" y="1235"/>
                </a:lnTo>
                <a:arcTo wR="1235" hR="1235" stAng="0" swAng="-5400000"/>
                <a:close/>
              </a:path>
            </a:pathLst>
          </a:custGeom>
          <a:solidFill>
            <a:srgbClr val="ffc000"/>
          </a:solidFill>
          <a:ln w="381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9" name=""/>
          <p:cNvGrpSpPr/>
          <p:nvPr/>
        </p:nvGrpSpPr>
        <p:grpSpPr>
          <a:xfrm>
            <a:off x="1666800" y="2678040"/>
            <a:ext cx="2338200" cy="563760"/>
            <a:chOff x="1666800" y="2678040"/>
            <a:chExt cx="2338200" cy="563760"/>
          </a:xfrm>
        </p:grpSpPr>
        <p:sp>
          <p:nvSpPr>
            <p:cNvPr id="4080" name="AutoShape 5"/>
            <p:cNvSpPr/>
            <p:nvPr/>
          </p:nvSpPr>
          <p:spPr>
            <a:xfrm>
              <a:off x="1666800" y="2678040"/>
              <a:ext cx="633960" cy="563760"/>
            </a:xfrm>
            <a:custGeom>
              <a:avLst/>
              <a:gdLst>
                <a:gd name="textAreaLeft" fmla="*/ 0 w 633960"/>
                <a:gd name="textAreaRight" fmla="*/ 634320 w 633960"/>
                <a:gd name="textAreaTop" fmla="*/ 0 h 563760"/>
                <a:gd name="textAreaBottom" fmla="*/ 564120 h 56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614" y="0"/>
                  </a:lnTo>
                  <a:lnTo>
                    <a:pt x="21600" y="10800"/>
                  </a:lnTo>
                  <a:lnTo>
                    <a:pt x="1761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08120"/>
                  <a:tab algn="l" pos="1415880"/>
                  <a:tab algn="l" pos="2124000"/>
                  <a:tab algn="l" pos="2832120"/>
                  <a:tab algn="l" pos="3540240"/>
                  <a:tab algn="l" pos="4248000"/>
                  <a:tab algn="l" pos="4956120"/>
                  <a:tab algn="l" pos="5664240"/>
                  <a:tab algn="l" pos="6372360"/>
                  <a:tab algn="l" pos="7080120"/>
                  <a:tab algn="l" pos="7788240"/>
                  <a:tab algn="l" pos="8496360"/>
                  <a:tab algn="l" pos="9204480"/>
                  <a:tab algn="l" pos="9912240"/>
                  <a:tab algn="l" pos="10620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1" name="AutoShape 6"/>
            <p:cNvSpPr/>
            <p:nvPr/>
          </p:nvSpPr>
          <p:spPr>
            <a:xfrm>
              <a:off x="2235600" y="2678040"/>
              <a:ext cx="633960" cy="563760"/>
            </a:xfrm>
            <a:custGeom>
              <a:avLst/>
              <a:gdLst>
                <a:gd name="textAreaLeft" fmla="*/ 0 w 633960"/>
                <a:gd name="textAreaRight" fmla="*/ 634320 w 633960"/>
                <a:gd name="textAreaTop" fmla="*/ 0 h 563760"/>
                <a:gd name="textAreaBottom" fmla="*/ 564120 h 56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621" y="0"/>
                  </a:lnTo>
                  <a:lnTo>
                    <a:pt x="21600" y="10800"/>
                  </a:lnTo>
                  <a:lnTo>
                    <a:pt x="17621" y="21600"/>
                  </a:lnTo>
                  <a:lnTo>
                    <a:pt x="0" y="21600"/>
                  </a:lnTo>
                  <a:lnTo>
                    <a:pt x="3979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2000" rIns="36000" tIns="46800" bIns="46800" anchor="ctr">
              <a:noAutofit/>
            </a:bodyPr>
            <a:p>
              <a:pPr algn="ctr">
                <a:tabLst>
                  <a:tab algn="l" pos="0"/>
                  <a:tab algn="l" pos="708120"/>
                  <a:tab algn="l" pos="1415880"/>
                  <a:tab algn="l" pos="2124000"/>
                  <a:tab algn="l" pos="2832120"/>
                  <a:tab algn="l" pos="3540240"/>
                  <a:tab algn="l" pos="4248000"/>
                  <a:tab algn="l" pos="4956120"/>
                  <a:tab algn="l" pos="5664240"/>
                  <a:tab algn="l" pos="6372360"/>
                  <a:tab algn="l" pos="7080120"/>
                  <a:tab algn="l" pos="7788240"/>
                  <a:tab algn="l" pos="8496360"/>
                  <a:tab algn="l" pos="9204480"/>
                  <a:tab algn="l" pos="9912240"/>
                  <a:tab algn="l" pos="10620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2" name="AutoShape 7"/>
            <p:cNvSpPr/>
            <p:nvPr/>
          </p:nvSpPr>
          <p:spPr>
            <a:xfrm>
              <a:off x="2803320" y="2678040"/>
              <a:ext cx="633960" cy="563760"/>
            </a:xfrm>
            <a:custGeom>
              <a:avLst/>
              <a:gdLst>
                <a:gd name="textAreaLeft" fmla="*/ 0 w 633960"/>
                <a:gd name="textAreaRight" fmla="*/ 634320 w 633960"/>
                <a:gd name="textAreaTop" fmla="*/ 0 h 563760"/>
                <a:gd name="textAreaBottom" fmla="*/ 564120 h 56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621" y="0"/>
                  </a:lnTo>
                  <a:lnTo>
                    <a:pt x="21600" y="10800"/>
                  </a:lnTo>
                  <a:lnTo>
                    <a:pt x="17621" y="21600"/>
                  </a:lnTo>
                  <a:lnTo>
                    <a:pt x="0" y="21600"/>
                  </a:lnTo>
                  <a:lnTo>
                    <a:pt x="3979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2000" rIns="36000" tIns="46800" bIns="46800" anchor="ctr">
              <a:noAutofit/>
            </a:bodyPr>
            <a:p>
              <a:pPr algn="ctr">
                <a:tabLst>
                  <a:tab algn="l" pos="0"/>
                  <a:tab algn="l" pos="708120"/>
                  <a:tab algn="l" pos="1415880"/>
                  <a:tab algn="l" pos="2124000"/>
                  <a:tab algn="l" pos="2832120"/>
                  <a:tab algn="l" pos="3540240"/>
                  <a:tab algn="l" pos="4248000"/>
                  <a:tab algn="l" pos="4956120"/>
                  <a:tab algn="l" pos="5664240"/>
                  <a:tab algn="l" pos="6372360"/>
                  <a:tab algn="l" pos="7080120"/>
                  <a:tab algn="l" pos="7788240"/>
                  <a:tab algn="l" pos="8496360"/>
                  <a:tab algn="l" pos="9204480"/>
                  <a:tab algn="l" pos="9912240"/>
                  <a:tab algn="l" pos="10620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3" name="AutoShape 8"/>
            <p:cNvSpPr/>
            <p:nvPr/>
          </p:nvSpPr>
          <p:spPr>
            <a:xfrm>
              <a:off x="3371040" y="2678040"/>
              <a:ext cx="633960" cy="563760"/>
            </a:xfrm>
            <a:custGeom>
              <a:avLst/>
              <a:gdLst>
                <a:gd name="textAreaLeft" fmla="*/ 0 w 633960"/>
                <a:gd name="textAreaRight" fmla="*/ 634320 w 633960"/>
                <a:gd name="textAreaTop" fmla="*/ 0 h 563760"/>
                <a:gd name="textAreaBottom" fmla="*/ 564120 h 56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621" y="0"/>
                  </a:lnTo>
                  <a:lnTo>
                    <a:pt x="21600" y="10800"/>
                  </a:lnTo>
                  <a:lnTo>
                    <a:pt x="17621" y="21600"/>
                  </a:lnTo>
                  <a:lnTo>
                    <a:pt x="0" y="21600"/>
                  </a:lnTo>
                  <a:lnTo>
                    <a:pt x="3979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2000" rIns="36000" tIns="46800" bIns="46800" anchor="ctr">
              <a:noAutofit/>
            </a:bodyPr>
            <a:p>
              <a:pPr algn="ctr">
                <a:tabLst>
                  <a:tab algn="l" pos="0"/>
                  <a:tab algn="l" pos="708120"/>
                  <a:tab algn="l" pos="1415880"/>
                  <a:tab algn="l" pos="2124000"/>
                  <a:tab algn="l" pos="2832120"/>
                  <a:tab algn="l" pos="3540240"/>
                  <a:tab algn="l" pos="4248000"/>
                  <a:tab algn="l" pos="4956120"/>
                  <a:tab algn="l" pos="5664240"/>
                  <a:tab algn="l" pos="6372360"/>
                  <a:tab algn="l" pos="7080120"/>
                  <a:tab algn="l" pos="7788240"/>
                  <a:tab algn="l" pos="8496360"/>
                  <a:tab algn="l" pos="9204480"/>
                  <a:tab algn="l" pos="9912240"/>
                  <a:tab algn="l" pos="10620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4" name="Oval 9"/>
          <p:cNvSpPr/>
          <p:nvPr/>
        </p:nvSpPr>
        <p:spPr>
          <a:xfrm>
            <a:off x="506520" y="2624040"/>
            <a:ext cx="1025280" cy="625680"/>
          </a:xfrm>
          <a:prstGeom prst="ellipse">
            <a:avLst/>
          </a:prstGeom>
          <a:noFill/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HY태고딕"/>
              </a:rPr>
              <a:t>Industry 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5" name=""/>
          <p:cNvGrpSpPr/>
          <p:nvPr/>
        </p:nvGrpSpPr>
        <p:grpSpPr>
          <a:xfrm>
            <a:off x="1666800" y="4335480"/>
            <a:ext cx="2338200" cy="561960"/>
            <a:chOff x="1666800" y="4335480"/>
            <a:chExt cx="2338200" cy="561960"/>
          </a:xfrm>
        </p:grpSpPr>
        <p:sp>
          <p:nvSpPr>
            <p:cNvPr id="4086" name="AutoShape 11"/>
            <p:cNvSpPr/>
            <p:nvPr/>
          </p:nvSpPr>
          <p:spPr>
            <a:xfrm>
              <a:off x="1666800" y="4335480"/>
              <a:ext cx="633960" cy="561960"/>
            </a:xfrm>
            <a:custGeom>
              <a:avLst/>
              <a:gdLst>
                <a:gd name="textAreaLeft" fmla="*/ 0 w 633960"/>
                <a:gd name="textAreaRight" fmla="*/ 634320 w 633960"/>
                <a:gd name="textAreaTop" fmla="*/ 0 h 561960"/>
                <a:gd name="textAreaBottom" fmla="*/ 562320 h 56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614" y="0"/>
                  </a:lnTo>
                  <a:lnTo>
                    <a:pt x="21600" y="10800"/>
                  </a:lnTo>
                  <a:lnTo>
                    <a:pt x="17614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708120"/>
                  <a:tab algn="l" pos="1415880"/>
                  <a:tab algn="l" pos="2124000"/>
                  <a:tab algn="l" pos="2832120"/>
                  <a:tab algn="l" pos="3540240"/>
                  <a:tab algn="l" pos="4248000"/>
                  <a:tab algn="l" pos="4956120"/>
                  <a:tab algn="l" pos="5664240"/>
                  <a:tab algn="l" pos="6372360"/>
                  <a:tab algn="l" pos="7080120"/>
                  <a:tab algn="l" pos="7788240"/>
                  <a:tab algn="l" pos="8496360"/>
                  <a:tab algn="l" pos="9204480"/>
                  <a:tab algn="l" pos="9912240"/>
                  <a:tab algn="l" pos="10620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7" name="AutoShape 12"/>
            <p:cNvSpPr/>
            <p:nvPr/>
          </p:nvSpPr>
          <p:spPr>
            <a:xfrm>
              <a:off x="2235600" y="4335480"/>
              <a:ext cx="633960" cy="561960"/>
            </a:xfrm>
            <a:custGeom>
              <a:avLst/>
              <a:gdLst>
                <a:gd name="textAreaLeft" fmla="*/ 0 w 633960"/>
                <a:gd name="textAreaRight" fmla="*/ 634320 w 633960"/>
                <a:gd name="textAreaTop" fmla="*/ 0 h 561960"/>
                <a:gd name="textAreaBottom" fmla="*/ 562320 h 56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621" y="0"/>
                  </a:lnTo>
                  <a:lnTo>
                    <a:pt x="21600" y="10800"/>
                  </a:lnTo>
                  <a:lnTo>
                    <a:pt x="17621" y="21600"/>
                  </a:lnTo>
                  <a:lnTo>
                    <a:pt x="0" y="21600"/>
                  </a:lnTo>
                  <a:lnTo>
                    <a:pt x="3979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2000" rIns="36000" tIns="46800" bIns="46800" anchor="ctr">
              <a:noAutofit/>
            </a:bodyPr>
            <a:p>
              <a:pPr algn="ctr">
                <a:tabLst>
                  <a:tab algn="l" pos="0"/>
                  <a:tab algn="l" pos="708120"/>
                  <a:tab algn="l" pos="1415880"/>
                  <a:tab algn="l" pos="2124000"/>
                  <a:tab algn="l" pos="2832120"/>
                  <a:tab algn="l" pos="3540240"/>
                  <a:tab algn="l" pos="4248000"/>
                  <a:tab algn="l" pos="4956120"/>
                  <a:tab algn="l" pos="5664240"/>
                  <a:tab algn="l" pos="6372360"/>
                  <a:tab algn="l" pos="7080120"/>
                  <a:tab algn="l" pos="7788240"/>
                  <a:tab algn="l" pos="8496360"/>
                  <a:tab algn="l" pos="9204480"/>
                  <a:tab algn="l" pos="9912240"/>
                  <a:tab algn="l" pos="10620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8" name="AutoShape 13"/>
            <p:cNvSpPr/>
            <p:nvPr/>
          </p:nvSpPr>
          <p:spPr>
            <a:xfrm>
              <a:off x="2803320" y="4335480"/>
              <a:ext cx="633960" cy="561960"/>
            </a:xfrm>
            <a:custGeom>
              <a:avLst/>
              <a:gdLst>
                <a:gd name="textAreaLeft" fmla="*/ 0 w 633960"/>
                <a:gd name="textAreaRight" fmla="*/ 634320 w 633960"/>
                <a:gd name="textAreaTop" fmla="*/ 0 h 561960"/>
                <a:gd name="textAreaBottom" fmla="*/ 562320 h 56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621" y="0"/>
                  </a:lnTo>
                  <a:lnTo>
                    <a:pt x="21600" y="10800"/>
                  </a:lnTo>
                  <a:lnTo>
                    <a:pt x="17621" y="21600"/>
                  </a:lnTo>
                  <a:lnTo>
                    <a:pt x="0" y="21600"/>
                  </a:lnTo>
                  <a:lnTo>
                    <a:pt x="3979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2000" rIns="36000" tIns="46800" bIns="46800" anchor="ctr">
              <a:noAutofit/>
            </a:bodyPr>
            <a:p>
              <a:pPr algn="ctr">
                <a:tabLst>
                  <a:tab algn="l" pos="0"/>
                  <a:tab algn="l" pos="708120"/>
                  <a:tab algn="l" pos="1415880"/>
                  <a:tab algn="l" pos="2124000"/>
                  <a:tab algn="l" pos="2832120"/>
                  <a:tab algn="l" pos="3540240"/>
                  <a:tab algn="l" pos="4248000"/>
                  <a:tab algn="l" pos="4956120"/>
                  <a:tab algn="l" pos="5664240"/>
                  <a:tab algn="l" pos="6372360"/>
                  <a:tab algn="l" pos="7080120"/>
                  <a:tab algn="l" pos="7788240"/>
                  <a:tab algn="l" pos="8496360"/>
                  <a:tab algn="l" pos="9204480"/>
                  <a:tab algn="l" pos="9912240"/>
                  <a:tab algn="l" pos="10620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9" name="AutoShape 14"/>
            <p:cNvSpPr/>
            <p:nvPr/>
          </p:nvSpPr>
          <p:spPr>
            <a:xfrm>
              <a:off x="3371040" y="4335480"/>
              <a:ext cx="633960" cy="561960"/>
            </a:xfrm>
            <a:custGeom>
              <a:avLst/>
              <a:gdLst>
                <a:gd name="textAreaLeft" fmla="*/ 0 w 633960"/>
                <a:gd name="textAreaRight" fmla="*/ 634320 w 633960"/>
                <a:gd name="textAreaTop" fmla="*/ 0 h 561960"/>
                <a:gd name="textAreaBottom" fmla="*/ 562320 h 561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621" y="0"/>
                  </a:lnTo>
                  <a:lnTo>
                    <a:pt x="21600" y="10800"/>
                  </a:lnTo>
                  <a:lnTo>
                    <a:pt x="17621" y="21600"/>
                  </a:lnTo>
                  <a:lnTo>
                    <a:pt x="0" y="21600"/>
                  </a:lnTo>
                  <a:lnTo>
                    <a:pt x="3979" y="1080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62000" rIns="36000" tIns="46800" bIns="46800" anchor="ctr">
              <a:noAutofit/>
            </a:bodyPr>
            <a:p>
              <a:pPr algn="ctr">
                <a:tabLst>
                  <a:tab algn="l" pos="0"/>
                  <a:tab algn="l" pos="708120"/>
                  <a:tab algn="l" pos="1415880"/>
                  <a:tab algn="l" pos="2124000"/>
                  <a:tab algn="l" pos="2832120"/>
                  <a:tab algn="l" pos="3540240"/>
                  <a:tab algn="l" pos="4248000"/>
                  <a:tab algn="l" pos="4956120"/>
                  <a:tab algn="l" pos="5664240"/>
                  <a:tab algn="l" pos="6372360"/>
                  <a:tab algn="l" pos="7080120"/>
                  <a:tab algn="l" pos="7788240"/>
                  <a:tab algn="l" pos="8496360"/>
                  <a:tab algn="l" pos="9204480"/>
                  <a:tab algn="l" pos="9912240"/>
                  <a:tab algn="l" pos="1062036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90" name="Oval 15"/>
          <p:cNvSpPr/>
          <p:nvPr/>
        </p:nvSpPr>
        <p:spPr>
          <a:xfrm>
            <a:off x="506520" y="4280040"/>
            <a:ext cx="1025280" cy="625320"/>
          </a:xfrm>
          <a:prstGeom prst="ellipse">
            <a:avLst/>
          </a:prstGeom>
          <a:noFill/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HY태고딕"/>
              </a:rPr>
              <a:t>Industry 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1" name="AutoShape 16"/>
          <p:cNvSpPr/>
          <p:nvPr/>
        </p:nvSpPr>
        <p:spPr>
          <a:xfrm>
            <a:off x="1666800" y="3508200"/>
            <a:ext cx="631800" cy="559080"/>
          </a:xfrm>
          <a:custGeom>
            <a:avLst/>
            <a:gdLst>
              <a:gd name="textAreaLeft" fmla="*/ 0 w 631800"/>
              <a:gd name="textAreaRight" fmla="*/ 632160 w 631800"/>
              <a:gd name="textAreaTop" fmla="*/ 0 h 559080"/>
              <a:gd name="textAreaBottom" fmla="*/ 559440 h 55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398" y="0"/>
                </a:lnTo>
                <a:lnTo>
                  <a:pt x="21600" y="10800"/>
                </a:lnTo>
                <a:lnTo>
                  <a:pt x="1539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2" name="AutoShape 17"/>
          <p:cNvSpPr/>
          <p:nvPr/>
        </p:nvSpPr>
        <p:spPr>
          <a:xfrm>
            <a:off x="2235240" y="3508200"/>
            <a:ext cx="631800" cy="559080"/>
          </a:xfrm>
          <a:custGeom>
            <a:avLst/>
            <a:gdLst>
              <a:gd name="textAreaLeft" fmla="*/ 0 w 631800"/>
              <a:gd name="textAreaRight" fmla="*/ 632160 w 631800"/>
              <a:gd name="textAreaTop" fmla="*/ 0 h 559080"/>
              <a:gd name="textAreaBottom" fmla="*/ 559440 h 55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08" y="0"/>
                </a:lnTo>
                <a:lnTo>
                  <a:pt x="21600" y="10800"/>
                </a:lnTo>
                <a:lnTo>
                  <a:pt x="15408" y="21600"/>
                </a:lnTo>
                <a:lnTo>
                  <a:pt x="0" y="21600"/>
                </a:lnTo>
                <a:lnTo>
                  <a:pt x="6192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2000" rIns="36000" tIns="46800" bIns="46800" anchor="ctr">
            <a:noAutofit/>
          </a:bodyPr>
          <a:p>
            <a:pPr algn="ctr"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3" name="AutoShape 18"/>
          <p:cNvSpPr/>
          <p:nvPr/>
        </p:nvSpPr>
        <p:spPr>
          <a:xfrm>
            <a:off x="2801880" y="3508200"/>
            <a:ext cx="631800" cy="559080"/>
          </a:xfrm>
          <a:custGeom>
            <a:avLst/>
            <a:gdLst>
              <a:gd name="textAreaLeft" fmla="*/ 0 w 631800"/>
              <a:gd name="textAreaRight" fmla="*/ 632160 w 631800"/>
              <a:gd name="textAreaTop" fmla="*/ 0 h 559080"/>
              <a:gd name="textAreaBottom" fmla="*/ 559440 h 55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08" y="0"/>
                </a:lnTo>
                <a:lnTo>
                  <a:pt x="21600" y="10800"/>
                </a:lnTo>
                <a:lnTo>
                  <a:pt x="15408" y="21600"/>
                </a:lnTo>
                <a:lnTo>
                  <a:pt x="0" y="21600"/>
                </a:lnTo>
                <a:lnTo>
                  <a:pt x="6192" y="108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2000" rIns="36000" tIns="46800" bIns="46800" anchor="ctr">
            <a:noAutofit/>
          </a:bodyPr>
          <a:p>
            <a:pPr algn="ctr"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4" name="AutoShape 19"/>
          <p:cNvSpPr/>
          <p:nvPr/>
        </p:nvSpPr>
        <p:spPr>
          <a:xfrm>
            <a:off x="3368520" y="3508200"/>
            <a:ext cx="633600" cy="559080"/>
          </a:xfrm>
          <a:custGeom>
            <a:avLst/>
            <a:gdLst>
              <a:gd name="textAreaLeft" fmla="*/ 0 w 633600"/>
              <a:gd name="textAreaRight" fmla="*/ 633960 w 633600"/>
              <a:gd name="textAreaTop" fmla="*/ 0 h 559080"/>
              <a:gd name="textAreaBottom" fmla="*/ 559440 h 55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08" y="0"/>
                </a:lnTo>
                <a:lnTo>
                  <a:pt x="21600" y="10800"/>
                </a:lnTo>
                <a:lnTo>
                  <a:pt x="15408" y="21600"/>
                </a:lnTo>
                <a:lnTo>
                  <a:pt x="0" y="21600"/>
                </a:lnTo>
                <a:lnTo>
                  <a:pt x="6192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2000" rIns="36000" tIns="46800" bIns="46800" anchor="ctr">
            <a:noAutofit/>
          </a:bodyPr>
          <a:p>
            <a:pPr algn="ctr"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5" name="Oval 20"/>
          <p:cNvSpPr/>
          <p:nvPr/>
        </p:nvSpPr>
        <p:spPr>
          <a:xfrm>
            <a:off x="506520" y="3451320"/>
            <a:ext cx="1025280" cy="627120"/>
          </a:xfrm>
          <a:prstGeom prst="ellipse">
            <a:avLst/>
          </a:prstGeom>
          <a:noFill/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HY태고딕"/>
              </a:rPr>
              <a:t>Industry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6" name="Rectangle 21"/>
          <p:cNvSpPr/>
          <p:nvPr/>
        </p:nvSpPr>
        <p:spPr>
          <a:xfrm>
            <a:off x="1616040" y="3376440"/>
            <a:ext cx="2433600" cy="8352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7" name="Text Box 22"/>
          <p:cNvSpPr/>
          <p:nvPr/>
        </p:nvSpPr>
        <p:spPr>
          <a:xfrm>
            <a:off x="4943520" y="2603520"/>
            <a:ext cx="125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  <a:ea typeface="HY태고딕"/>
              </a:rPr>
              <a:t>New Value Ch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8" name="Line 23"/>
          <p:cNvSpPr/>
          <p:nvPr/>
        </p:nvSpPr>
        <p:spPr>
          <a:xfrm>
            <a:off x="6054840" y="2943360"/>
            <a:ext cx="368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9" name="AutoShape 25"/>
          <p:cNvSpPr/>
          <p:nvPr/>
        </p:nvSpPr>
        <p:spPr>
          <a:xfrm>
            <a:off x="6516720" y="2828880"/>
            <a:ext cx="665280" cy="515880"/>
          </a:xfrm>
          <a:custGeom>
            <a:avLst/>
            <a:gdLst>
              <a:gd name="textAreaLeft" fmla="*/ 0 w 665280"/>
              <a:gd name="textAreaRight" fmla="*/ 665280 w 665280"/>
              <a:gd name="textAreaTop" fmla="*/ 0 h 515880"/>
              <a:gd name="textAreaBottom" fmla="*/ 516240 h 515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614" y="0"/>
                </a:lnTo>
                <a:lnTo>
                  <a:pt x="21600" y="10800"/>
                </a:lnTo>
                <a:lnTo>
                  <a:pt x="1761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0" name="AutoShape 26"/>
          <p:cNvSpPr/>
          <p:nvPr/>
        </p:nvSpPr>
        <p:spPr>
          <a:xfrm>
            <a:off x="7113600" y="2830680"/>
            <a:ext cx="665280" cy="519120"/>
          </a:xfrm>
          <a:custGeom>
            <a:avLst/>
            <a:gdLst>
              <a:gd name="textAreaLeft" fmla="*/ 0 w 665280"/>
              <a:gd name="textAreaRight" fmla="*/ 665280 w 665280"/>
              <a:gd name="textAreaTop" fmla="*/ 0 h 519120"/>
              <a:gd name="textAreaBottom" fmla="*/ 519480 h 51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621" y="0"/>
                </a:lnTo>
                <a:lnTo>
                  <a:pt x="21600" y="10800"/>
                </a:lnTo>
                <a:lnTo>
                  <a:pt x="17621" y="21600"/>
                </a:lnTo>
                <a:lnTo>
                  <a:pt x="0" y="21600"/>
                </a:lnTo>
                <a:lnTo>
                  <a:pt x="3979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2000" rIns="36000" tIns="46800" bIns="46800" anchor="ctr">
            <a:noAutofit/>
          </a:bodyPr>
          <a:p>
            <a:pPr algn="ctr"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1" name="AutoShape 27"/>
          <p:cNvSpPr/>
          <p:nvPr/>
        </p:nvSpPr>
        <p:spPr>
          <a:xfrm>
            <a:off x="7707240" y="2830680"/>
            <a:ext cx="665280" cy="519120"/>
          </a:xfrm>
          <a:custGeom>
            <a:avLst/>
            <a:gdLst>
              <a:gd name="textAreaLeft" fmla="*/ 0 w 665280"/>
              <a:gd name="textAreaRight" fmla="*/ 665280 w 665280"/>
              <a:gd name="textAreaTop" fmla="*/ 0 h 519120"/>
              <a:gd name="textAreaBottom" fmla="*/ 519480 h 51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621" y="0"/>
                </a:lnTo>
                <a:lnTo>
                  <a:pt x="21600" y="10800"/>
                </a:lnTo>
                <a:lnTo>
                  <a:pt x="17621" y="21600"/>
                </a:lnTo>
                <a:lnTo>
                  <a:pt x="0" y="21600"/>
                </a:lnTo>
                <a:lnTo>
                  <a:pt x="3979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2000" rIns="36000" tIns="46800" bIns="46800" anchor="ctr">
            <a:noAutofit/>
          </a:bodyPr>
          <a:p>
            <a:pPr algn="ctr"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2" name="AutoShape 28"/>
          <p:cNvSpPr/>
          <p:nvPr/>
        </p:nvSpPr>
        <p:spPr>
          <a:xfrm>
            <a:off x="8304120" y="2830680"/>
            <a:ext cx="663840" cy="519120"/>
          </a:xfrm>
          <a:custGeom>
            <a:avLst/>
            <a:gdLst>
              <a:gd name="textAreaLeft" fmla="*/ 0 w 663840"/>
              <a:gd name="textAreaRight" fmla="*/ 664200 w 663840"/>
              <a:gd name="textAreaTop" fmla="*/ 0 h 519120"/>
              <a:gd name="textAreaBottom" fmla="*/ 519480 h 51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621" y="0"/>
                </a:lnTo>
                <a:lnTo>
                  <a:pt x="21600" y="10800"/>
                </a:lnTo>
                <a:lnTo>
                  <a:pt x="17621" y="21600"/>
                </a:lnTo>
                <a:lnTo>
                  <a:pt x="0" y="21600"/>
                </a:lnTo>
                <a:lnTo>
                  <a:pt x="3979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2000" rIns="36000" tIns="46800" bIns="46800" anchor="ctr">
            <a:noAutofit/>
          </a:bodyPr>
          <a:p>
            <a:pPr algn="ctr"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3" name="AutoShape 29"/>
          <p:cNvSpPr/>
          <p:nvPr/>
        </p:nvSpPr>
        <p:spPr>
          <a:xfrm>
            <a:off x="7707240" y="4309920"/>
            <a:ext cx="665280" cy="519120"/>
          </a:xfrm>
          <a:custGeom>
            <a:avLst/>
            <a:gdLst>
              <a:gd name="textAreaLeft" fmla="*/ 0 w 665280"/>
              <a:gd name="textAreaRight" fmla="*/ 665280 w 665280"/>
              <a:gd name="textAreaTop" fmla="*/ 0 h 519120"/>
              <a:gd name="textAreaBottom" fmla="*/ 519480 h 51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621" y="0"/>
                </a:lnTo>
                <a:lnTo>
                  <a:pt x="21600" y="10800"/>
                </a:lnTo>
                <a:lnTo>
                  <a:pt x="17621" y="21600"/>
                </a:lnTo>
                <a:lnTo>
                  <a:pt x="0" y="21600"/>
                </a:lnTo>
                <a:lnTo>
                  <a:pt x="3979" y="108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2000" rIns="36000" tIns="46800" bIns="46800" anchor="ctr">
            <a:noAutofit/>
          </a:bodyPr>
          <a:p>
            <a:pPr algn="ctr"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4" name="AutoShape 30"/>
          <p:cNvSpPr/>
          <p:nvPr/>
        </p:nvSpPr>
        <p:spPr>
          <a:xfrm>
            <a:off x="6516720" y="4309920"/>
            <a:ext cx="665280" cy="519120"/>
          </a:xfrm>
          <a:custGeom>
            <a:avLst/>
            <a:gdLst>
              <a:gd name="textAreaLeft" fmla="*/ 0 w 665280"/>
              <a:gd name="textAreaRight" fmla="*/ 665280 w 665280"/>
              <a:gd name="textAreaTop" fmla="*/ 0 h 519120"/>
              <a:gd name="textAreaBottom" fmla="*/ 519480 h 51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614" y="0"/>
                </a:lnTo>
                <a:lnTo>
                  <a:pt x="21600" y="10800"/>
                </a:lnTo>
                <a:lnTo>
                  <a:pt x="1761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5" name="AutoShape 31"/>
          <p:cNvSpPr/>
          <p:nvPr/>
        </p:nvSpPr>
        <p:spPr>
          <a:xfrm>
            <a:off x="7113600" y="4309920"/>
            <a:ext cx="665280" cy="519120"/>
          </a:xfrm>
          <a:custGeom>
            <a:avLst/>
            <a:gdLst>
              <a:gd name="textAreaLeft" fmla="*/ 0 w 665280"/>
              <a:gd name="textAreaRight" fmla="*/ 665280 w 665280"/>
              <a:gd name="textAreaTop" fmla="*/ 0 h 519120"/>
              <a:gd name="textAreaBottom" fmla="*/ 519480 h 51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621" y="0"/>
                </a:lnTo>
                <a:lnTo>
                  <a:pt x="21600" y="10800"/>
                </a:lnTo>
                <a:lnTo>
                  <a:pt x="17621" y="21600"/>
                </a:lnTo>
                <a:lnTo>
                  <a:pt x="0" y="21600"/>
                </a:lnTo>
                <a:lnTo>
                  <a:pt x="3979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2000" rIns="36000" tIns="46800" bIns="46800" anchor="ctr">
            <a:noAutofit/>
          </a:bodyPr>
          <a:p>
            <a:pPr algn="ctr"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6" name="AutoShape 32"/>
          <p:cNvSpPr/>
          <p:nvPr/>
        </p:nvSpPr>
        <p:spPr>
          <a:xfrm>
            <a:off x="8304120" y="4309920"/>
            <a:ext cx="663840" cy="519120"/>
          </a:xfrm>
          <a:custGeom>
            <a:avLst/>
            <a:gdLst>
              <a:gd name="textAreaLeft" fmla="*/ 0 w 663840"/>
              <a:gd name="textAreaRight" fmla="*/ 664200 w 663840"/>
              <a:gd name="textAreaTop" fmla="*/ 0 h 519120"/>
              <a:gd name="textAreaBottom" fmla="*/ 519480 h 519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621" y="0"/>
                </a:lnTo>
                <a:lnTo>
                  <a:pt x="21600" y="10800"/>
                </a:lnTo>
                <a:lnTo>
                  <a:pt x="17621" y="21600"/>
                </a:lnTo>
                <a:lnTo>
                  <a:pt x="0" y="21600"/>
                </a:lnTo>
                <a:lnTo>
                  <a:pt x="3979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2000" rIns="36000" tIns="46800" bIns="46800" anchor="ctr">
            <a:noAutofit/>
          </a:bodyPr>
          <a:p>
            <a:pPr algn="ctr"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7" name="AutoShape 33"/>
          <p:cNvSpPr/>
          <p:nvPr/>
        </p:nvSpPr>
        <p:spPr>
          <a:xfrm>
            <a:off x="6516720" y="3570120"/>
            <a:ext cx="665280" cy="516240"/>
          </a:xfrm>
          <a:custGeom>
            <a:avLst/>
            <a:gdLst>
              <a:gd name="textAreaLeft" fmla="*/ 0 w 665280"/>
              <a:gd name="textAreaRight" fmla="*/ 665280 w 665280"/>
              <a:gd name="textAreaTop" fmla="*/ 0 h 516240"/>
              <a:gd name="textAreaBottom" fmla="*/ 516600 h 516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614" y="0"/>
                </a:lnTo>
                <a:lnTo>
                  <a:pt x="21600" y="10800"/>
                </a:lnTo>
                <a:lnTo>
                  <a:pt x="17614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8" name="AutoShape 34"/>
          <p:cNvSpPr/>
          <p:nvPr/>
        </p:nvSpPr>
        <p:spPr>
          <a:xfrm>
            <a:off x="7113600" y="3570120"/>
            <a:ext cx="665280" cy="516240"/>
          </a:xfrm>
          <a:custGeom>
            <a:avLst/>
            <a:gdLst>
              <a:gd name="textAreaLeft" fmla="*/ 0 w 665280"/>
              <a:gd name="textAreaRight" fmla="*/ 665280 w 665280"/>
              <a:gd name="textAreaTop" fmla="*/ 0 h 516240"/>
              <a:gd name="textAreaBottom" fmla="*/ 516600 h 516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621" y="0"/>
                </a:lnTo>
                <a:lnTo>
                  <a:pt x="21600" y="10800"/>
                </a:lnTo>
                <a:lnTo>
                  <a:pt x="17621" y="21600"/>
                </a:lnTo>
                <a:lnTo>
                  <a:pt x="0" y="21600"/>
                </a:lnTo>
                <a:lnTo>
                  <a:pt x="3979" y="108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2000" rIns="36000" tIns="46800" bIns="46800" anchor="ctr">
            <a:noAutofit/>
          </a:bodyPr>
          <a:p>
            <a:pPr algn="ctr"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9" name="AutoShape 35"/>
          <p:cNvSpPr/>
          <p:nvPr/>
        </p:nvSpPr>
        <p:spPr>
          <a:xfrm>
            <a:off x="7709040" y="3570120"/>
            <a:ext cx="663480" cy="516240"/>
          </a:xfrm>
          <a:custGeom>
            <a:avLst/>
            <a:gdLst>
              <a:gd name="textAreaLeft" fmla="*/ 0 w 663480"/>
              <a:gd name="textAreaRight" fmla="*/ 663840 w 663480"/>
              <a:gd name="textAreaTop" fmla="*/ 0 h 516240"/>
              <a:gd name="textAreaBottom" fmla="*/ 516600 h 516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621" y="0"/>
                </a:lnTo>
                <a:lnTo>
                  <a:pt x="21600" y="10800"/>
                </a:lnTo>
                <a:lnTo>
                  <a:pt x="17621" y="21600"/>
                </a:lnTo>
                <a:lnTo>
                  <a:pt x="0" y="21600"/>
                </a:lnTo>
                <a:lnTo>
                  <a:pt x="3979" y="108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2000" rIns="36000" tIns="46800" bIns="46800" anchor="ctr">
            <a:noAutofit/>
          </a:bodyPr>
          <a:p>
            <a:pPr algn="ctr"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0" name="AutoShape 36"/>
          <p:cNvSpPr/>
          <p:nvPr/>
        </p:nvSpPr>
        <p:spPr>
          <a:xfrm>
            <a:off x="8304120" y="3570120"/>
            <a:ext cx="663840" cy="516240"/>
          </a:xfrm>
          <a:custGeom>
            <a:avLst/>
            <a:gdLst>
              <a:gd name="textAreaLeft" fmla="*/ 0 w 663840"/>
              <a:gd name="textAreaRight" fmla="*/ 664200 w 663840"/>
              <a:gd name="textAreaTop" fmla="*/ 0 h 516240"/>
              <a:gd name="textAreaBottom" fmla="*/ 516600 h 516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621" y="0"/>
                </a:lnTo>
                <a:lnTo>
                  <a:pt x="21600" y="10800"/>
                </a:lnTo>
                <a:lnTo>
                  <a:pt x="17621" y="21600"/>
                </a:lnTo>
                <a:lnTo>
                  <a:pt x="0" y="21600"/>
                </a:lnTo>
                <a:lnTo>
                  <a:pt x="3979" y="1080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62000" rIns="36000" tIns="46800" bIns="46800" anchor="ctr">
            <a:noAutofit/>
          </a:bodyPr>
          <a:p>
            <a:pPr algn="ctr"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1" name="AutoShape 37"/>
          <p:cNvSpPr/>
          <p:nvPr/>
        </p:nvSpPr>
        <p:spPr>
          <a:xfrm flipV="1" rot="5400000">
            <a:off x="7572960" y="2979360"/>
            <a:ext cx="307800" cy="1697040"/>
          </a:xfrm>
          <a:prstGeom prst="upDownArrow">
            <a:avLst>
              <a:gd name="adj1" fmla="val 67713"/>
              <a:gd name="adj2" fmla="val 37318"/>
            </a:avLst>
          </a:prstGeom>
          <a:solidFill>
            <a:srgbClr val="00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2" name="AutoShape 38"/>
          <p:cNvSpPr/>
          <p:nvPr/>
        </p:nvSpPr>
        <p:spPr>
          <a:xfrm flipV="1">
            <a:off x="7867800" y="3982320"/>
            <a:ext cx="282600" cy="460440"/>
          </a:xfrm>
          <a:prstGeom prst="upArrow">
            <a:avLst>
              <a:gd name="adj1" fmla="val 60417"/>
              <a:gd name="adj2" fmla="val 40732"/>
            </a:avLst>
          </a:prstGeom>
          <a:solidFill>
            <a:srgbClr val="00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3" name="AutoShape 39"/>
          <p:cNvSpPr/>
          <p:nvPr/>
        </p:nvSpPr>
        <p:spPr>
          <a:xfrm>
            <a:off x="6665760" y="3211560"/>
            <a:ext cx="282600" cy="463680"/>
          </a:xfrm>
          <a:prstGeom prst="upArrow">
            <a:avLst>
              <a:gd name="adj1" fmla="val 60417"/>
              <a:gd name="adj2" fmla="val 41019"/>
            </a:avLst>
          </a:prstGeom>
          <a:solidFill>
            <a:srgbClr val="0066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4" name="Line 40"/>
          <p:cNvSpPr/>
          <p:nvPr/>
        </p:nvSpPr>
        <p:spPr>
          <a:xfrm>
            <a:off x="6423120" y="4208400"/>
            <a:ext cx="12016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5" name="Line 41"/>
          <p:cNvSpPr/>
          <p:nvPr/>
        </p:nvSpPr>
        <p:spPr>
          <a:xfrm>
            <a:off x="8400960" y="4208400"/>
            <a:ext cx="638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6" name="Line 42"/>
          <p:cNvSpPr/>
          <p:nvPr/>
        </p:nvSpPr>
        <p:spPr>
          <a:xfrm>
            <a:off x="6423120" y="2747880"/>
            <a:ext cx="0" cy="1460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7" name="Line 43"/>
          <p:cNvSpPr/>
          <p:nvPr/>
        </p:nvSpPr>
        <p:spPr>
          <a:xfrm>
            <a:off x="6423120" y="2747880"/>
            <a:ext cx="812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8" name="Line 44"/>
          <p:cNvSpPr/>
          <p:nvPr/>
        </p:nvSpPr>
        <p:spPr>
          <a:xfrm>
            <a:off x="7624800" y="4208400"/>
            <a:ext cx="0" cy="731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9" name="Line 45"/>
          <p:cNvSpPr/>
          <p:nvPr/>
        </p:nvSpPr>
        <p:spPr>
          <a:xfrm>
            <a:off x="7236000" y="2747880"/>
            <a:ext cx="0" cy="692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0" name="Line 46"/>
          <p:cNvSpPr/>
          <p:nvPr/>
        </p:nvSpPr>
        <p:spPr>
          <a:xfrm>
            <a:off x="7236000" y="3440160"/>
            <a:ext cx="1803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1" name="Line 47"/>
          <p:cNvSpPr/>
          <p:nvPr/>
        </p:nvSpPr>
        <p:spPr>
          <a:xfrm>
            <a:off x="7624800" y="4943520"/>
            <a:ext cx="7779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2" name="Line 48"/>
          <p:cNvSpPr/>
          <p:nvPr/>
        </p:nvSpPr>
        <p:spPr>
          <a:xfrm>
            <a:off x="8402760" y="4208400"/>
            <a:ext cx="0" cy="731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3" name="Line 49"/>
          <p:cNvSpPr/>
          <p:nvPr/>
        </p:nvSpPr>
        <p:spPr>
          <a:xfrm>
            <a:off x="9039240" y="3440160"/>
            <a:ext cx="0" cy="7682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4" name="Oval 50"/>
          <p:cNvSpPr/>
          <p:nvPr/>
        </p:nvSpPr>
        <p:spPr>
          <a:xfrm>
            <a:off x="5222880" y="3456000"/>
            <a:ext cx="1077840" cy="654120"/>
          </a:xfrm>
          <a:prstGeom prst="ellipse">
            <a:avLst/>
          </a:prstGeom>
          <a:noFill/>
          <a:ln w="9360">
            <a:solidFill>
              <a:srgbClr val="7777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 anchorCtr="1">
            <a:noAutofit/>
          </a:bodyPr>
          <a:p>
            <a:pPr algn="ctr">
              <a:spcBef>
                <a:spcPts val="624"/>
              </a:spcBef>
              <a:tabLst>
                <a:tab algn="l" pos="0"/>
                <a:tab algn="l" pos="708120"/>
                <a:tab algn="l" pos="1415880"/>
                <a:tab algn="l" pos="2124000"/>
                <a:tab algn="l" pos="2832120"/>
                <a:tab algn="l" pos="3540240"/>
                <a:tab algn="l" pos="4248000"/>
                <a:tab algn="l" pos="4956120"/>
                <a:tab algn="l" pos="5664240"/>
                <a:tab algn="l" pos="6372360"/>
                <a:tab algn="l" pos="7080120"/>
                <a:tab algn="l" pos="7788240"/>
                <a:tab algn="l" pos="8496360"/>
                <a:tab algn="l" pos="9204480"/>
                <a:tab algn="l" pos="9912240"/>
                <a:tab algn="l" pos="1062036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  <a:ea typeface="HY태고딕"/>
              </a:rPr>
              <a:t>Industry 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5" name="AutoShape 51"/>
          <p:cNvSpPr/>
          <p:nvPr/>
        </p:nvSpPr>
        <p:spPr>
          <a:xfrm rot="16200000">
            <a:off x="4313880" y="3332880"/>
            <a:ext cx="735120" cy="942840"/>
          </a:xfrm>
          <a:prstGeom prst="downArrow">
            <a:avLst>
              <a:gd name="adj1" fmla="val 62426"/>
              <a:gd name="adj2" fmla="val 71473"/>
            </a:avLst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6" name="Text Box 52"/>
          <p:cNvSpPr/>
          <p:nvPr/>
        </p:nvSpPr>
        <p:spPr>
          <a:xfrm>
            <a:off x="6134040" y="1841400"/>
            <a:ext cx="30783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ea typeface="휴먼세모음T"/>
              </a:rPr>
              <a:t>Cross Industrial Value Ch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7" name="Text Box 53"/>
          <p:cNvSpPr/>
          <p:nvPr/>
        </p:nvSpPr>
        <p:spPr>
          <a:xfrm>
            <a:off x="1006560" y="1841400"/>
            <a:ext cx="323064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  <a:ea typeface="휴먼세모음T"/>
              </a:rPr>
              <a:t>Conventional Value Cha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8" name="Text Box 56"/>
          <p:cNvSpPr/>
          <p:nvPr/>
        </p:nvSpPr>
        <p:spPr>
          <a:xfrm>
            <a:off x="6620040" y="5048280"/>
            <a:ext cx="228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Arial"/>
                <a:ea typeface="DotumChe"/>
              </a:rPr>
              <a:t>U – Networking 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9" name="Rectangle 63"/>
          <p:cNvSpPr/>
          <p:nvPr/>
        </p:nvSpPr>
        <p:spPr>
          <a:xfrm>
            <a:off x="209160" y="504720"/>
            <a:ext cx="404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바탕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바탕"/>
              </a:rPr>
              <a:t>Attach : Change of Value Ch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30" name=""/>
          <p:cNvGrpSpPr/>
          <p:nvPr/>
        </p:nvGrpSpPr>
        <p:grpSpPr>
          <a:xfrm>
            <a:off x="0" y="6443640"/>
            <a:ext cx="9918720" cy="237960"/>
            <a:chOff x="0" y="6443640"/>
            <a:chExt cx="9918720" cy="237960"/>
          </a:xfrm>
        </p:grpSpPr>
        <p:pic>
          <p:nvPicPr>
            <p:cNvPr id="4131" name="矩形 55" descr=""/>
            <p:cNvPicPr/>
            <p:nvPr/>
          </p:nvPicPr>
          <p:blipFill>
            <a:blip r:embed="rId1"/>
            <a:stretch/>
          </p:blipFill>
          <p:spPr>
            <a:xfrm>
              <a:off x="0" y="6443640"/>
              <a:ext cx="991728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32" name=""/>
            <p:cNvSpPr/>
            <p:nvPr/>
          </p:nvSpPr>
          <p:spPr>
            <a:xfrm>
              <a:off x="0" y="6445080"/>
              <a:ext cx="991872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33" name="灯片编号占位符 5"/>
          <p:cNvSpPr/>
          <p:nvPr/>
        </p:nvSpPr>
        <p:spPr>
          <a:xfrm>
            <a:off x="7397640" y="6399360"/>
            <a:ext cx="1486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ge   </a:t>
            </a:r>
            <a:fld id="{1C445841-ACBF-4435-AC0B-9634F357A09F}" type="slidenum">
              <a:rPr b="0" lang="zh-CN" sz="1000" spc="-1" strike="noStrike">
                <a:solidFill>
                  <a:srgbClr val="ffffff"/>
                </a:solidFill>
                <a:latin typeface="华文宋体"/>
                <a:ea typeface="华文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4" name="Rectangle 63"/>
          <p:cNvSpPr/>
          <p:nvPr/>
        </p:nvSpPr>
        <p:spPr>
          <a:xfrm>
            <a:off x="-48240" y="41400"/>
            <a:ext cx="43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바탕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바탕"/>
              </a:rPr>
              <a:t>Attach : LG organization in china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5" name="AutoShape 227"/>
          <p:cNvSpPr/>
          <p:nvPr/>
        </p:nvSpPr>
        <p:spPr>
          <a:xfrm>
            <a:off x="8989920" y="6143760"/>
            <a:ext cx="228600" cy="190440"/>
          </a:xfrm>
          <a:custGeom>
            <a:avLst/>
            <a:gdLst>
              <a:gd name="textAreaLeft" fmla="*/ 11880 w 228600"/>
              <a:gd name="textAreaRight" fmla="*/ 216720 w 228600"/>
              <a:gd name="textAreaTop" fmla="*/ 11880 h 190440"/>
              <a:gd name="textAreaBottom" fmla="*/ 178560 h 190440"/>
            </a:gdLst>
            <a:ahLst/>
            <a:rect l="textAreaLeft" t="textAreaTop" r="textAreaRight" b="textAreaBottom"/>
            <a:pathLst>
              <a:path w="25920" h="21600">
                <a:moveTo>
                  <a:pt x="0" y="0"/>
                </a:moveTo>
                <a:lnTo>
                  <a:pt x="25920" y="0"/>
                </a:lnTo>
                <a:lnTo>
                  <a:pt x="25920" y="21600"/>
                </a:lnTo>
                <a:lnTo>
                  <a:pt x="0" y="21600"/>
                </a:lnTo>
                <a:close/>
              </a:path>
              <a:path fill="lightenLess" w="25920" h="21600">
                <a:moveTo>
                  <a:pt x="0" y="0"/>
                </a:moveTo>
                <a:lnTo>
                  <a:pt x="25920" y="0"/>
                </a:lnTo>
                <a:lnTo>
                  <a:pt x="24570" y="1350"/>
                </a:lnTo>
                <a:lnTo>
                  <a:pt x="1350" y="1350"/>
                </a:lnTo>
                <a:close/>
              </a:path>
              <a:path fill="darken" w="25920" h="21600">
                <a:moveTo>
                  <a:pt x="25920" y="0"/>
                </a:moveTo>
                <a:lnTo>
                  <a:pt x="25920" y="21600"/>
                </a:lnTo>
                <a:lnTo>
                  <a:pt x="24570" y="20250"/>
                </a:lnTo>
                <a:lnTo>
                  <a:pt x="24570" y="1350"/>
                </a:lnTo>
                <a:close/>
              </a:path>
              <a:path fill="darkenLess" w="25920" h="21600">
                <a:moveTo>
                  <a:pt x="2592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4570" y="20250"/>
                </a:lnTo>
                <a:close/>
              </a:path>
              <a:path fill="lighten" w="2592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5920" h="21600">
                <a:moveTo>
                  <a:pt x="5916" y="10800"/>
                </a:moveTo>
                <a:lnTo>
                  <a:pt x="20004" y="3756"/>
                </a:lnTo>
                <a:lnTo>
                  <a:pt x="20004" y="1784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6" name="Freeform 306"/>
          <p:cNvSpPr/>
          <p:nvPr/>
        </p:nvSpPr>
        <p:spPr>
          <a:xfrm>
            <a:off x="4648320" y="4611600"/>
            <a:ext cx="946080" cy="743040"/>
          </a:xfrm>
          <a:custGeom>
            <a:avLst/>
            <a:gdLst>
              <a:gd name="textAreaLeft" fmla="*/ 0 w 946080"/>
              <a:gd name="textAreaRight" fmla="*/ 946440 w 946080"/>
              <a:gd name="textAreaTop" fmla="*/ 0 h 743040"/>
              <a:gd name="textAreaBottom" fmla="*/ 743400 h 743040"/>
            </a:gdLst>
            <a:ahLst/>
            <a:rect l="textAreaLeft" t="textAreaTop" r="textAreaRight" b="textAreaBottom"/>
            <a:pathLst>
              <a:path w="427" h="384">
                <a:moveTo>
                  <a:pt x="57" y="375"/>
                </a:moveTo>
                <a:lnTo>
                  <a:pt x="57" y="354"/>
                </a:lnTo>
                <a:lnTo>
                  <a:pt x="72" y="332"/>
                </a:lnTo>
                <a:lnTo>
                  <a:pt x="43" y="289"/>
                </a:lnTo>
                <a:lnTo>
                  <a:pt x="64" y="246"/>
                </a:lnTo>
                <a:lnTo>
                  <a:pt x="72" y="210"/>
                </a:lnTo>
                <a:lnTo>
                  <a:pt x="7" y="217"/>
                </a:lnTo>
                <a:lnTo>
                  <a:pt x="7" y="174"/>
                </a:lnTo>
                <a:lnTo>
                  <a:pt x="0" y="166"/>
                </a:lnTo>
                <a:lnTo>
                  <a:pt x="21" y="152"/>
                </a:lnTo>
                <a:lnTo>
                  <a:pt x="43" y="152"/>
                </a:lnTo>
                <a:lnTo>
                  <a:pt x="57" y="145"/>
                </a:lnTo>
                <a:lnTo>
                  <a:pt x="108" y="152"/>
                </a:lnTo>
                <a:lnTo>
                  <a:pt x="122" y="130"/>
                </a:lnTo>
                <a:lnTo>
                  <a:pt x="129" y="123"/>
                </a:lnTo>
                <a:lnTo>
                  <a:pt x="201" y="123"/>
                </a:lnTo>
                <a:lnTo>
                  <a:pt x="187" y="87"/>
                </a:lnTo>
                <a:lnTo>
                  <a:pt x="158" y="87"/>
                </a:lnTo>
                <a:lnTo>
                  <a:pt x="151" y="58"/>
                </a:lnTo>
                <a:lnTo>
                  <a:pt x="165" y="44"/>
                </a:lnTo>
                <a:lnTo>
                  <a:pt x="194" y="51"/>
                </a:lnTo>
                <a:lnTo>
                  <a:pt x="216" y="44"/>
                </a:lnTo>
                <a:lnTo>
                  <a:pt x="223" y="66"/>
                </a:lnTo>
                <a:lnTo>
                  <a:pt x="237" y="51"/>
                </a:lnTo>
                <a:lnTo>
                  <a:pt x="237" y="28"/>
                </a:lnTo>
                <a:lnTo>
                  <a:pt x="266" y="36"/>
                </a:lnTo>
                <a:lnTo>
                  <a:pt x="282" y="7"/>
                </a:lnTo>
                <a:lnTo>
                  <a:pt x="289" y="0"/>
                </a:lnTo>
                <a:lnTo>
                  <a:pt x="303" y="14"/>
                </a:lnTo>
                <a:lnTo>
                  <a:pt x="332" y="14"/>
                </a:lnTo>
                <a:lnTo>
                  <a:pt x="361" y="80"/>
                </a:lnTo>
                <a:lnTo>
                  <a:pt x="375" y="80"/>
                </a:lnTo>
                <a:lnTo>
                  <a:pt x="382" y="94"/>
                </a:lnTo>
                <a:lnTo>
                  <a:pt x="404" y="94"/>
                </a:lnTo>
                <a:lnTo>
                  <a:pt x="404" y="73"/>
                </a:lnTo>
                <a:lnTo>
                  <a:pt x="411" y="73"/>
                </a:lnTo>
                <a:lnTo>
                  <a:pt x="418" y="94"/>
                </a:lnTo>
                <a:lnTo>
                  <a:pt x="411" y="102"/>
                </a:lnTo>
                <a:lnTo>
                  <a:pt x="411" y="123"/>
                </a:lnTo>
                <a:lnTo>
                  <a:pt x="418" y="138"/>
                </a:lnTo>
                <a:lnTo>
                  <a:pt x="390" y="166"/>
                </a:lnTo>
                <a:lnTo>
                  <a:pt x="390" y="181"/>
                </a:lnTo>
                <a:lnTo>
                  <a:pt x="418" y="181"/>
                </a:lnTo>
                <a:lnTo>
                  <a:pt x="426" y="202"/>
                </a:lnTo>
                <a:lnTo>
                  <a:pt x="411" y="217"/>
                </a:lnTo>
                <a:lnTo>
                  <a:pt x="418" y="231"/>
                </a:lnTo>
                <a:lnTo>
                  <a:pt x="411" y="253"/>
                </a:lnTo>
                <a:lnTo>
                  <a:pt x="426" y="253"/>
                </a:lnTo>
                <a:lnTo>
                  <a:pt x="426" y="274"/>
                </a:lnTo>
                <a:lnTo>
                  <a:pt x="397" y="289"/>
                </a:lnTo>
                <a:lnTo>
                  <a:pt x="404" y="296"/>
                </a:lnTo>
                <a:lnTo>
                  <a:pt x="397" y="310"/>
                </a:lnTo>
                <a:lnTo>
                  <a:pt x="368" y="303"/>
                </a:lnTo>
                <a:lnTo>
                  <a:pt x="361" y="318"/>
                </a:lnTo>
                <a:lnTo>
                  <a:pt x="325" y="318"/>
                </a:lnTo>
                <a:lnTo>
                  <a:pt x="310" y="346"/>
                </a:lnTo>
                <a:lnTo>
                  <a:pt x="289" y="354"/>
                </a:lnTo>
                <a:lnTo>
                  <a:pt x="266" y="332"/>
                </a:lnTo>
                <a:lnTo>
                  <a:pt x="259" y="310"/>
                </a:lnTo>
                <a:lnTo>
                  <a:pt x="237" y="318"/>
                </a:lnTo>
                <a:lnTo>
                  <a:pt x="244" y="339"/>
                </a:lnTo>
                <a:lnTo>
                  <a:pt x="223" y="332"/>
                </a:lnTo>
                <a:lnTo>
                  <a:pt x="172" y="361"/>
                </a:lnTo>
                <a:lnTo>
                  <a:pt x="165" y="383"/>
                </a:lnTo>
                <a:lnTo>
                  <a:pt x="108" y="361"/>
                </a:lnTo>
                <a:lnTo>
                  <a:pt x="93" y="361"/>
                </a:lnTo>
                <a:lnTo>
                  <a:pt x="57" y="375"/>
                </a:lnTo>
              </a:path>
            </a:pathLst>
          </a:custGeom>
          <a:solidFill>
            <a:srgbClr val="ccccff"/>
          </a:solidFill>
          <a:ln cap="rnd"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7" name="Freeform 307"/>
          <p:cNvSpPr/>
          <p:nvPr/>
        </p:nvSpPr>
        <p:spPr>
          <a:xfrm>
            <a:off x="3773520" y="3722760"/>
            <a:ext cx="1938240" cy="1365120"/>
          </a:xfrm>
          <a:custGeom>
            <a:avLst/>
            <a:gdLst>
              <a:gd name="textAreaLeft" fmla="*/ 0 w 1938240"/>
              <a:gd name="textAreaRight" fmla="*/ 1938600 w 1938240"/>
              <a:gd name="textAreaTop" fmla="*/ 0 h 1365120"/>
              <a:gd name="textAreaBottom" fmla="*/ 1365480 h 1365120"/>
            </a:gdLst>
            <a:ahLst/>
            <a:rect l="textAreaLeft" t="textAreaTop" r="textAreaRight" b="textAreaBottom"/>
            <a:pathLst>
              <a:path w="875" h="707">
                <a:moveTo>
                  <a:pt x="809" y="533"/>
                </a:moveTo>
                <a:lnTo>
                  <a:pt x="801" y="533"/>
                </a:lnTo>
                <a:lnTo>
                  <a:pt x="801" y="554"/>
                </a:lnTo>
                <a:lnTo>
                  <a:pt x="780" y="554"/>
                </a:lnTo>
                <a:lnTo>
                  <a:pt x="773" y="540"/>
                </a:lnTo>
                <a:lnTo>
                  <a:pt x="758" y="540"/>
                </a:lnTo>
                <a:lnTo>
                  <a:pt x="729" y="474"/>
                </a:lnTo>
                <a:lnTo>
                  <a:pt x="701" y="474"/>
                </a:lnTo>
                <a:lnTo>
                  <a:pt x="686" y="460"/>
                </a:lnTo>
                <a:lnTo>
                  <a:pt x="679" y="467"/>
                </a:lnTo>
                <a:lnTo>
                  <a:pt x="672" y="496"/>
                </a:lnTo>
                <a:lnTo>
                  <a:pt x="635" y="489"/>
                </a:lnTo>
                <a:lnTo>
                  <a:pt x="635" y="511"/>
                </a:lnTo>
                <a:lnTo>
                  <a:pt x="620" y="526"/>
                </a:lnTo>
                <a:lnTo>
                  <a:pt x="613" y="511"/>
                </a:lnTo>
                <a:lnTo>
                  <a:pt x="591" y="511"/>
                </a:lnTo>
                <a:lnTo>
                  <a:pt x="563" y="504"/>
                </a:lnTo>
                <a:lnTo>
                  <a:pt x="548" y="519"/>
                </a:lnTo>
                <a:lnTo>
                  <a:pt x="555" y="547"/>
                </a:lnTo>
                <a:lnTo>
                  <a:pt x="584" y="554"/>
                </a:lnTo>
                <a:lnTo>
                  <a:pt x="591" y="583"/>
                </a:lnTo>
                <a:lnTo>
                  <a:pt x="527" y="583"/>
                </a:lnTo>
                <a:lnTo>
                  <a:pt x="512" y="554"/>
                </a:lnTo>
                <a:lnTo>
                  <a:pt x="483" y="569"/>
                </a:lnTo>
                <a:lnTo>
                  <a:pt x="455" y="554"/>
                </a:lnTo>
                <a:lnTo>
                  <a:pt x="455" y="504"/>
                </a:lnTo>
                <a:lnTo>
                  <a:pt x="418" y="504"/>
                </a:lnTo>
                <a:lnTo>
                  <a:pt x="411" y="533"/>
                </a:lnTo>
                <a:lnTo>
                  <a:pt x="397" y="547"/>
                </a:lnTo>
                <a:lnTo>
                  <a:pt x="390" y="562"/>
                </a:lnTo>
                <a:lnTo>
                  <a:pt x="368" y="590"/>
                </a:lnTo>
                <a:lnTo>
                  <a:pt x="339" y="590"/>
                </a:lnTo>
                <a:lnTo>
                  <a:pt x="339" y="691"/>
                </a:lnTo>
                <a:lnTo>
                  <a:pt x="310" y="698"/>
                </a:lnTo>
                <a:lnTo>
                  <a:pt x="310" y="684"/>
                </a:lnTo>
                <a:lnTo>
                  <a:pt x="289" y="706"/>
                </a:lnTo>
                <a:lnTo>
                  <a:pt x="253" y="698"/>
                </a:lnTo>
                <a:lnTo>
                  <a:pt x="253" y="691"/>
                </a:lnTo>
                <a:lnTo>
                  <a:pt x="238" y="677"/>
                </a:lnTo>
                <a:lnTo>
                  <a:pt x="231" y="641"/>
                </a:lnTo>
                <a:lnTo>
                  <a:pt x="187" y="547"/>
                </a:lnTo>
                <a:lnTo>
                  <a:pt x="172" y="547"/>
                </a:lnTo>
                <a:lnTo>
                  <a:pt x="172" y="554"/>
                </a:lnTo>
                <a:lnTo>
                  <a:pt x="151" y="526"/>
                </a:lnTo>
                <a:lnTo>
                  <a:pt x="158" y="519"/>
                </a:lnTo>
                <a:lnTo>
                  <a:pt x="122" y="467"/>
                </a:lnTo>
                <a:lnTo>
                  <a:pt x="108" y="474"/>
                </a:lnTo>
                <a:lnTo>
                  <a:pt x="93" y="519"/>
                </a:lnTo>
                <a:lnTo>
                  <a:pt x="79" y="519"/>
                </a:lnTo>
                <a:lnTo>
                  <a:pt x="93" y="273"/>
                </a:lnTo>
                <a:lnTo>
                  <a:pt x="64" y="244"/>
                </a:lnTo>
                <a:lnTo>
                  <a:pt x="86" y="237"/>
                </a:lnTo>
                <a:lnTo>
                  <a:pt x="50" y="172"/>
                </a:lnTo>
                <a:lnTo>
                  <a:pt x="50" y="143"/>
                </a:lnTo>
                <a:lnTo>
                  <a:pt x="21" y="122"/>
                </a:lnTo>
                <a:lnTo>
                  <a:pt x="7" y="115"/>
                </a:lnTo>
                <a:lnTo>
                  <a:pt x="0" y="100"/>
                </a:lnTo>
                <a:lnTo>
                  <a:pt x="14" y="64"/>
                </a:lnTo>
                <a:lnTo>
                  <a:pt x="28" y="50"/>
                </a:lnTo>
                <a:lnTo>
                  <a:pt x="21" y="35"/>
                </a:lnTo>
                <a:lnTo>
                  <a:pt x="21" y="0"/>
                </a:lnTo>
                <a:lnTo>
                  <a:pt x="43" y="0"/>
                </a:lnTo>
                <a:lnTo>
                  <a:pt x="50" y="14"/>
                </a:lnTo>
                <a:lnTo>
                  <a:pt x="79" y="14"/>
                </a:lnTo>
                <a:lnTo>
                  <a:pt x="108" y="43"/>
                </a:lnTo>
                <a:lnTo>
                  <a:pt x="108" y="86"/>
                </a:lnTo>
                <a:lnTo>
                  <a:pt x="122" y="86"/>
                </a:lnTo>
                <a:lnTo>
                  <a:pt x="151" y="129"/>
                </a:lnTo>
                <a:lnTo>
                  <a:pt x="180" y="122"/>
                </a:lnTo>
                <a:lnTo>
                  <a:pt x="172" y="107"/>
                </a:lnTo>
                <a:lnTo>
                  <a:pt x="194" y="122"/>
                </a:lnTo>
                <a:lnTo>
                  <a:pt x="210" y="143"/>
                </a:lnTo>
                <a:lnTo>
                  <a:pt x="253" y="143"/>
                </a:lnTo>
                <a:lnTo>
                  <a:pt x="267" y="100"/>
                </a:lnTo>
                <a:lnTo>
                  <a:pt x="303" y="100"/>
                </a:lnTo>
                <a:lnTo>
                  <a:pt x="339" y="107"/>
                </a:lnTo>
                <a:lnTo>
                  <a:pt x="354" y="79"/>
                </a:lnTo>
                <a:lnTo>
                  <a:pt x="346" y="50"/>
                </a:lnTo>
                <a:lnTo>
                  <a:pt x="346" y="35"/>
                </a:lnTo>
                <a:lnTo>
                  <a:pt x="375" y="28"/>
                </a:lnTo>
                <a:lnTo>
                  <a:pt x="390" y="21"/>
                </a:lnTo>
                <a:lnTo>
                  <a:pt x="404" y="57"/>
                </a:lnTo>
                <a:lnTo>
                  <a:pt x="440" y="71"/>
                </a:lnTo>
                <a:lnTo>
                  <a:pt x="462" y="79"/>
                </a:lnTo>
                <a:lnTo>
                  <a:pt x="469" y="100"/>
                </a:lnTo>
                <a:lnTo>
                  <a:pt x="483" y="143"/>
                </a:lnTo>
                <a:lnTo>
                  <a:pt x="505" y="172"/>
                </a:lnTo>
                <a:lnTo>
                  <a:pt x="548" y="172"/>
                </a:lnTo>
                <a:lnTo>
                  <a:pt x="570" y="143"/>
                </a:lnTo>
                <a:lnTo>
                  <a:pt x="591" y="151"/>
                </a:lnTo>
                <a:lnTo>
                  <a:pt x="599" y="165"/>
                </a:lnTo>
                <a:lnTo>
                  <a:pt x="642" y="158"/>
                </a:lnTo>
                <a:lnTo>
                  <a:pt x="686" y="194"/>
                </a:lnTo>
                <a:lnTo>
                  <a:pt x="722" y="201"/>
                </a:lnTo>
                <a:lnTo>
                  <a:pt x="758" y="208"/>
                </a:lnTo>
                <a:lnTo>
                  <a:pt x="809" y="244"/>
                </a:lnTo>
                <a:lnTo>
                  <a:pt x="837" y="251"/>
                </a:lnTo>
                <a:lnTo>
                  <a:pt x="874" y="287"/>
                </a:lnTo>
                <a:lnTo>
                  <a:pt x="874" y="323"/>
                </a:lnTo>
                <a:lnTo>
                  <a:pt x="852" y="323"/>
                </a:lnTo>
                <a:lnTo>
                  <a:pt x="823" y="345"/>
                </a:lnTo>
                <a:lnTo>
                  <a:pt x="765" y="345"/>
                </a:lnTo>
                <a:lnTo>
                  <a:pt x="751" y="359"/>
                </a:lnTo>
                <a:lnTo>
                  <a:pt x="751" y="373"/>
                </a:lnTo>
                <a:lnTo>
                  <a:pt x="765" y="381"/>
                </a:lnTo>
                <a:lnTo>
                  <a:pt x="758" y="402"/>
                </a:lnTo>
                <a:lnTo>
                  <a:pt x="744" y="417"/>
                </a:lnTo>
                <a:lnTo>
                  <a:pt x="765" y="417"/>
                </a:lnTo>
                <a:lnTo>
                  <a:pt x="801" y="474"/>
                </a:lnTo>
                <a:lnTo>
                  <a:pt x="809" y="504"/>
                </a:lnTo>
                <a:lnTo>
                  <a:pt x="809" y="533"/>
                </a:lnTo>
              </a:path>
            </a:pathLst>
          </a:custGeom>
          <a:solidFill>
            <a:srgbClr val="ff99ff"/>
          </a:solidFill>
          <a:ln cap="rnd" w="93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8" name="Freeform 308"/>
          <p:cNvSpPr/>
          <p:nvPr/>
        </p:nvSpPr>
        <p:spPr>
          <a:xfrm>
            <a:off x="5519880" y="4460760"/>
            <a:ext cx="880920" cy="897120"/>
          </a:xfrm>
          <a:custGeom>
            <a:avLst/>
            <a:gdLst>
              <a:gd name="textAreaLeft" fmla="*/ 0 w 880920"/>
              <a:gd name="textAreaRight" fmla="*/ 881280 w 880920"/>
              <a:gd name="textAreaTop" fmla="*/ 0 h 897120"/>
              <a:gd name="textAreaBottom" fmla="*/ 897480 h 897120"/>
            </a:gdLst>
            <a:ahLst/>
            <a:rect l="textAreaLeft" t="textAreaTop" r="textAreaRight" b="textAreaBottom"/>
            <a:pathLst>
              <a:path w="398" h="463">
                <a:moveTo>
                  <a:pt x="361" y="86"/>
                </a:moveTo>
                <a:lnTo>
                  <a:pt x="382" y="115"/>
                </a:lnTo>
                <a:lnTo>
                  <a:pt x="375" y="130"/>
                </a:lnTo>
                <a:lnTo>
                  <a:pt x="389" y="145"/>
                </a:lnTo>
                <a:lnTo>
                  <a:pt x="375" y="166"/>
                </a:lnTo>
                <a:lnTo>
                  <a:pt x="353" y="188"/>
                </a:lnTo>
                <a:lnTo>
                  <a:pt x="346" y="224"/>
                </a:lnTo>
                <a:lnTo>
                  <a:pt x="361" y="238"/>
                </a:lnTo>
                <a:lnTo>
                  <a:pt x="368" y="274"/>
                </a:lnTo>
                <a:lnTo>
                  <a:pt x="368" y="289"/>
                </a:lnTo>
                <a:lnTo>
                  <a:pt x="382" y="296"/>
                </a:lnTo>
                <a:lnTo>
                  <a:pt x="375" y="318"/>
                </a:lnTo>
                <a:lnTo>
                  <a:pt x="397" y="318"/>
                </a:lnTo>
                <a:lnTo>
                  <a:pt x="397" y="346"/>
                </a:lnTo>
                <a:lnTo>
                  <a:pt x="389" y="346"/>
                </a:lnTo>
                <a:lnTo>
                  <a:pt x="375" y="354"/>
                </a:lnTo>
                <a:lnTo>
                  <a:pt x="375" y="397"/>
                </a:lnTo>
                <a:lnTo>
                  <a:pt x="368" y="404"/>
                </a:lnTo>
                <a:lnTo>
                  <a:pt x="295" y="404"/>
                </a:lnTo>
                <a:lnTo>
                  <a:pt x="309" y="440"/>
                </a:lnTo>
                <a:lnTo>
                  <a:pt x="287" y="440"/>
                </a:lnTo>
                <a:lnTo>
                  <a:pt x="251" y="418"/>
                </a:lnTo>
                <a:lnTo>
                  <a:pt x="244" y="426"/>
                </a:lnTo>
                <a:lnTo>
                  <a:pt x="244" y="454"/>
                </a:lnTo>
                <a:lnTo>
                  <a:pt x="223" y="454"/>
                </a:lnTo>
                <a:lnTo>
                  <a:pt x="223" y="462"/>
                </a:lnTo>
                <a:lnTo>
                  <a:pt x="187" y="454"/>
                </a:lnTo>
                <a:lnTo>
                  <a:pt x="187" y="426"/>
                </a:lnTo>
                <a:lnTo>
                  <a:pt x="172" y="426"/>
                </a:lnTo>
                <a:lnTo>
                  <a:pt x="172" y="440"/>
                </a:lnTo>
                <a:lnTo>
                  <a:pt x="158" y="440"/>
                </a:lnTo>
                <a:lnTo>
                  <a:pt x="165" y="390"/>
                </a:lnTo>
                <a:lnTo>
                  <a:pt x="172" y="368"/>
                </a:lnTo>
                <a:lnTo>
                  <a:pt x="179" y="339"/>
                </a:lnTo>
                <a:lnTo>
                  <a:pt x="172" y="332"/>
                </a:lnTo>
                <a:lnTo>
                  <a:pt x="158" y="325"/>
                </a:lnTo>
                <a:lnTo>
                  <a:pt x="107" y="332"/>
                </a:lnTo>
                <a:lnTo>
                  <a:pt x="100" y="346"/>
                </a:lnTo>
                <a:lnTo>
                  <a:pt x="79" y="346"/>
                </a:lnTo>
                <a:lnTo>
                  <a:pt x="79" y="339"/>
                </a:lnTo>
                <a:lnTo>
                  <a:pt x="64" y="346"/>
                </a:lnTo>
                <a:lnTo>
                  <a:pt x="35" y="346"/>
                </a:lnTo>
                <a:lnTo>
                  <a:pt x="35" y="332"/>
                </a:lnTo>
                <a:lnTo>
                  <a:pt x="21" y="332"/>
                </a:lnTo>
                <a:lnTo>
                  <a:pt x="28" y="318"/>
                </a:lnTo>
                <a:lnTo>
                  <a:pt x="21" y="289"/>
                </a:lnTo>
                <a:lnTo>
                  <a:pt x="35" y="282"/>
                </a:lnTo>
                <a:lnTo>
                  <a:pt x="28" y="260"/>
                </a:lnTo>
                <a:lnTo>
                  <a:pt x="0" y="260"/>
                </a:lnTo>
                <a:lnTo>
                  <a:pt x="0" y="246"/>
                </a:lnTo>
                <a:lnTo>
                  <a:pt x="28" y="217"/>
                </a:lnTo>
                <a:lnTo>
                  <a:pt x="21" y="181"/>
                </a:lnTo>
                <a:lnTo>
                  <a:pt x="35" y="174"/>
                </a:lnTo>
                <a:lnTo>
                  <a:pt x="21" y="152"/>
                </a:lnTo>
                <a:lnTo>
                  <a:pt x="14" y="152"/>
                </a:lnTo>
                <a:lnTo>
                  <a:pt x="21" y="130"/>
                </a:lnTo>
                <a:lnTo>
                  <a:pt x="14" y="86"/>
                </a:lnTo>
                <a:lnTo>
                  <a:pt x="57" y="36"/>
                </a:lnTo>
                <a:lnTo>
                  <a:pt x="93" y="36"/>
                </a:lnTo>
                <a:lnTo>
                  <a:pt x="115" y="43"/>
                </a:lnTo>
                <a:lnTo>
                  <a:pt x="107" y="7"/>
                </a:lnTo>
                <a:lnTo>
                  <a:pt x="122" y="0"/>
                </a:lnTo>
                <a:lnTo>
                  <a:pt x="172" y="14"/>
                </a:lnTo>
                <a:lnTo>
                  <a:pt x="208" y="14"/>
                </a:lnTo>
                <a:lnTo>
                  <a:pt x="237" y="43"/>
                </a:lnTo>
                <a:lnTo>
                  <a:pt x="280" y="36"/>
                </a:lnTo>
                <a:lnTo>
                  <a:pt x="295" y="57"/>
                </a:lnTo>
                <a:lnTo>
                  <a:pt x="323" y="28"/>
                </a:lnTo>
                <a:lnTo>
                  <a:pt x="346" y="36"/>
                </a:lnTo>
                <a:lnTo>
                  <a:pt x="346" y="86"/>
                </a:lnTo>
                <a:lnTo>
                  <a:pt x="361" y="86"/>
                </a:lnTo>
              </a:path>
            </a:pathLst>
          </a:custGeom>
          <a:solidFill>
            <a:srgbClr val="ccffcc"/>
          </a:solidFill>
          <a:ln cap="rnd" w="1260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9" name="Freeform 309"/>
          <p:cNvSpPr/>
          <p:nvPr/>
        </p:nvSpPr>
        <p:spPr>
          <a:xfrm>
            <a:off x="7023240" y="550800"/>
            <a:ext cx="1792080" cy="1497240"/>
          </a:xfrm>
          <a:custGeom>
            <a:avLst/>
            <a:gdLst>
              <a:gd name="textAreaLeft" fmla="*/ 0 w 1792080"/>
              <a:gd name="textAreaRight" fmla="*/ 1792440 w 1792080"/>
              <a:gd name="textAreaTop" fmla="*/ 0 h 1497240"/>
              <a:gd name="textAreaBottom" fmla="*/ 1497600 h 1497240"/>
            </a:gdLst>
            <a:ahLst/>
            <a:rect l="textAreaLeft" t="textAreaTop" r="textAreaRight" b="textAreaBottom"/>
            <a:pathLst>
              <a:path w="810" h="773">
                <a:moveTo>
                  <a:pt x="7" y="36"/>
                </a:moveTo>
                <a:lnTo>
                  <a:pt x="14" y="72"/>
                </a:lnTo>
                <a:lnTo>
                  <a:pt x="0" y="100"/>
                </a:lnTo>
                <a:lnTo>
                  <a:pt x="36" y="115"/>
                </a:lnTo>
                <a:lnTo>
                  <a:pt x="50" y="93"/>
                </a:lnTo>
                <a:lnTo>
                  <a:pt x="79" y="115"/>
                </a:lnTo>
                <a:lnTo>
                  <a:pt x="93" y="165"/>
                </a:lnTo>
                <a:lnTo>
                  <a:pt x="115" y="187"/>
                </a:lnTo>
                <a:lnTo>
                  <a:pt x="159" y="172"/>
                </a:lnTo>
                <a:lnTo>
                  <a:pt x="188" y="172"/>
                </a:lnTo>
                <a:lnTo>
                  <a:pt x="224" y="136"/>
                </a:lnTo>
                <a:lnTo>
                  <a:pt x="260" y="180"/>
                </a:lnTo>
                <a:lnTo>
                  <a:pt x="238" y="273"/>
                </a:lnTo>
                <a:lnTo>
                  <a:pt x="246" y="346"/>
                </a:lnTo>
                <a:lnTo>
                  <a:pt x="224" y="368"/>
                </a:lnTo>
                <a:lnTo>
                  <a:pt x="224" y="433"/>
                </a:lnTo>
                <a:lnTo>
                  <a:pt x="195" y="411"/>
                </a:lnTo>
                <a:lnTo>
                  <a:pt x="115" y="512"/>
                </a:lnTo>
                <a:lnTo>
                  <a:pt x="145" y="555"/>
                </a:lnTo>
                <a:lnTo>
                  <a:pt x="174" y="541"/>
                </a:lnTo>
                <a:lnTo>
                  <a:pt x="188" y="555"/>
                </a:lnTo>
                <a:lnTo>
                  <a:pt x="152" y="577"/>
                </a:lnTo>
                <a:lnTo>
                  <a:pt x="152" y="606"/>
                </a:lnTo>
                <a:lnTo>
                  <a:pt x="202" y="606"/>
                </a:lnTo>
                <a:lnTo>
                  <a:pt x="217" y="591"/>
                </a:lnTo>
                <a:lnTo>
                  <a:pt x="224" y="642"/>
                </a:lnTo>
                <a:lnTo>
                  <a:pt x="267" y="663"/>
                </a:lnTo>
                <a:lnTo>
                  <a:pt x="325" y="649"/>
                </a:lnTo>
                <a:lnTo>
                  <a:pt x="325" y="671"/>
                </a:lnTo>
                <a:lnTo>
                  <a:pt x="368" y="656"/>
                </a:lnTo>
                <a:lnTo>
                  <a:pt x="418" y="707"/>
                </a:lnTo>
                <a:lnTo>
                  <a:pt x="440" y="707"/>
                </a:lnTo>
                <a:lnTo>
                  <a:pt x="462" y="743"/>
                </a:lnTo>
                <a:lnTo>
                  <a:pt x="483" y="735"/>
                </a:lnTo>
                <a:lnTo>
                  <a:pt x="483" y="699"/>
                </a:lnTo>
                <a:lnTo>
                  <a:pt x="490" y="685"/>
                </a:lnTo>
                <a:lnTo>
                  <a:pt x="498" y="735"/>
                </a:lnTo>
                <a:lnTo>
                  <a:pt x="548" y="772"/>
                </a:lnTo>
                <a:lnTo>
                  <a:pt x="555" y="743"/>
                </a:lnTo>
                <a:lnTo>
                  <a:pt x="562" y="757"/>
                </a:lnTo>
                <a:lnTo>
                  <a:pt x="607" y="721"/>
                </a:lnTo>
                <a:lnTo>
                  <a:pt x="636" y="750"/>
                </a:lnTo>
                <a:lnTo>
                  <a:pt x="686" y="750"/>
                </a:lnTo>
                <a:lnTo>
                  <a:pt x="679" y="699"/>
                </a:lnTo>
                <a:lnTo>
                  <a:pt x="650" y="635"/>
                </a:lnTo>
                <a:lnTo>
                  <a:pt x="686" y="584"/>
                </a:lnTo>
                <a:lnTo>
                  <a:pt x="722" y="577"/>
                </a:lnTo>
                <a:lnTo>
                  <a:pt x="765" y="599"/>
                </a:lnTo>
                <a:lnTo>
                  <a:pt x="787" y="469"/>
                </a:lnTo>
                <a:lnTo>
                  <a:pt x="780" y="382"/>
                </a:lnTo>
                <a:lnTo>
                  <a:pt x="794" y="368"/>
                </a:lnTo>
                <a:lnTo>
                  <a:pt x="794" y="332"/>
                </a:lnTo>
                <a:lnTo>
                  <a:pt x="780" y="318"/>
                </a:lnTo>
                <a:lnTo>
                  <a:pt x="809" y="280"/>
                </a:lnTo>
                <a:lnTo>
                  <a:pt x="780" y="288"/>
                </a:lnTo>
                <a:lnTo>
                  <a:pt x="693" y="354"/>
                </a:lnTo>
                <a:lnTo>
                  <a:pt x="693" y="375"/>
                </a:lnTo>
                <a:lnTo>
                  <a:pt x="643" y="397"/>
                </a:lnTo>
                <a:lnTo>
                  <a:pt x="592" y="397"/>
                </a:lnTo>
                <a:lnTo>
                  <a:pt x="555" y="339"/>
                </a:lnTo>
                <a:lnTo>
                  <a:pt x="555" y="310"/>
                </a:lnTo>
                <a:lnTo>
                  <a:pt x="505" y="310"/>
                </a:lnTo>
                <a:lnTo>
                  <a:pt x="476" y="280"/>
                </a:lnTo>
                <a:lnTo>
                  <a:pt x="433" y="280"/>
                </a:lnTo>
                <a:lnTo>
                  <a:pt x="433" y="266"/>
                </a:lnTo>
                <a:lnTo>
                  <a:pt x="411" y="266"/>
                </a:lnTo>
                <a:lnTo>
                  <a:pt x="411" y="280"/>
                </a:lnTo>
                <a:lnTo>
                  <a:pt x="390" y="273"/>
                </a:lnTo>
                <a:lnTo>
                  <a:pt x="339" y="194"/>
                </a:lnTo>
                <a:lnTo>
                  <a:pt x="296" y="136"/>
                </a:lnTo>
                <a:lnTo>
                  <a:pt x="282" y="115"/>
                </a:lnTo>
                <a:lnTo>
                  <a:pt x="282" y="93"/>
                </a:lnTo>
                <a:lnTo>
                  <a:pt x="231" y="28"/>
                </a:lnTo>
                <a:lnTo>
                  <a:pt x="159" y="21"/>
                </a:lnTo>
                <a:lnTo>
                  <a:pt x="122" y="0"/>
                </a:lnTo>
                <a:lnTo>
                  <a:pt x="21" y="14"/>
                </a:lnTo>
                <a:lnTo>
                  <a:pt x="7" y="36"/>
                </a:lnTo>
              </a:path>
            </a:pathLst>
          </a:custGeom>
          <a:solidFill>
            <a:srgbClr val="d9d9d9"/>
          </a:solidFill>
          <a:ln cap="rnd" w="93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0" name="Freeform 310"/>
          <p:cNvSpPr/>
          <p:nvPr/>
        </p:nvSpPr>
        <p:spPr>
          <a:xfrm>
            <a:off x="6924600" y="2154240"/>
            <a:ext cx="965160" cy="839880"/>
          </a:xfrm>
          <a:custGeom>
            <a:avLst/>
            <a:gdLst>
              <a:gd name="textAreaLeft" fmla="*/ 0 w 965160"/>
              <a:gd name="textAreaRight" fmla="*/ 965520 w 965160"/>
              <a:gd name="textAreaTop" fmla="*/ 0 h 839880"/>
              <a:gd name="textAreaBottom" fmla="*/ 840240 h 839880"/>
            </a:gdLst>
            <a:ahLst/>
            <a:rect l="textAreaLeft" t="textAreaTop" r="textAreaRight" b="textAreaBottom"/>
            <a:pathLst>
              <a:path w="434" h="434">
                <a:moveTo>
                  <a:pt x="433" y="188"/>
                </a:moveTo>
                <a:lnTo>
                  <a:pt x="382" y="130"/>
                </a:lnTo>
                <a:lnTo>
                  <a:pt x="397" y="101"/>
                </a:lnTo>
                <a:lnTo>
                  <a:pt x="353" y="35"/>
                </a:lnTo>
                <a:lnTo>
                  <a:pt x="325" y="7"/>
                </a:lnTo>
                <a:lnTo>
                  <a:pt x="317" y="43"/>
                </a:lnTo>
                <a:lnTo>
                  <a:pt x="303" y="0"/>
                </a:lnTo>
                <a:lnTo>
                  <a:pt x="267" y="0"/>
                </a:lnTo>
                <a:lnTo>
                  <a:pt x="267" y="28"/>
                </a:lnTo>
                <a:lnTo>
                  <a:pt x="224" y="57"/>
                </a:lnTo>
                <a:lnTo>
                  <a:pt x="195" y="57"/>
                </a:lnTo>
                <a:lnTo>
                  <a:pt x="57" y="159"/>
                </a:lnTo>
                <a:lnTo>
                  <a:pt x="28" y="123"/>
                </a:lnTo>
                <a:lnTo>
                  <a:pt x="7" y="116"/>
                </a:lnTo>
                <a:lnTo>
                  <a:pt x="21" y="152"/>
                </a:lnTo>
                <a:lnTo>
                  <a:pt x="21" y="173"/>
                </a:lnTo>
                <a:lnTo>
                  <a:pt x="21" y="202"/>
                </a:lnTo>
                <a:lnTo>
                  <a:pt x="7" y="209"/>
                </a:lnTo>
                <a:lnTo>
                  <a:pt x="0" y="238"/>
                </a:lnTo>
                <a:lnTo>
                  <a:pt x="0" y="260"/>
                </a:lnTo>
                <a:lnTo>
                  <a:pt x="28" y="267"/>
                </a:lnTo>
                <a:lnTo>
                  <a:pt x="64" y="325"/>
                </a:lnTo>
                <a:lnTo>
                  <a:pt x="115" y="260"/>
                </a:lnTo>
                <a:lnTo>
                  <a:pt x="136" y="231"/>
                </a:lnTo>
                <a:lnTo>
                  <a:pt x="181" y="217"/>
                </a:lnTo>
                <a:lnTo>
                  <a:pt x="209" y="238"/>
                </a:lnTo>
                <a:lnTo>
                  <a:pt x="202" y="253"/>
                </a:lnTo>
                <a:lnTo>
                  <a:pt x="217" y="253"/>
                </a:lnTo>
                <a:lnTo>
                  <a:pt x="188" y="303"/>
                </a:lnTo>
                <a:lnTo>
                  <a:pt x="173" y="310"/>
                </a:lnTo>
                <a:lnTo>
                  <a:pt x="173" y="339"/>
                </a:lnTo>
                <a:lnTo>
                  <a:pt x="173" y="353"/>
                </a:lnTo>
                <a:lnTo>
                  <a:pt x="195" y="353"/>
                </a:lnTo>
                <a:lnTo>
                  <a:pt x="151" y="411"/>
                </a:lnTo>
                <a:lnTo>
                  <a:pt x="165" y="433"/>
                </a:lnTo>
                <a:lnTo>
                  <a:pt x="181" y="411"/>
                </a:lnTo>
                <a:lnTo>
                  <a:pt x="188" y="389"/>
                </a:lnTo>
                <a:lnTo>
                  <a:pt x="209" y="389"/>
                </a:lnTo>
                <a:lnTo>
                  <a:pt x="224" y="375"/>
                </a:lnTo>
                <a:lnTo>
                  <a:pt x="231" y="346"/>
                </a:lnTo>
                <a:lnTo>
                  <a:pt x="289" y="310"/>
                </a:lnTo>
                <a:lnTo>
                  <a:pt x="346" y="296"/>
                </a:lnTo>
                <a:lnTo>
                  <a:pt x="353" y="253"/>
                </a:lnTo>
                <a:lnTo>
                  <a:pt x="389" y="224"/>
                </a:lnTo>
                <a:lnTo>
                  <a:pt x="418" y="217"/>
                </a:lnTo>
                <a:lnTo>
                  <a:pt x="433" y="188"/>
                </a:lnTo>
              </a:path>
            </a:pathLst>
          </a:custGeom>
          <a:solidFill>
            <a:srgbClr val="d9d9d9"/>
          </a:solidFill>
          <a:ln cap="rnd" w="93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1" name="Freeform 311"/>
          <p:cNvSpPr/>
          <p:nvPr/>
        </p:nvSpPr>
        <p:spPr>
          <a:xfrm>
            <a:off x="6415200" y="3090960"/>
            <a:ext cx="1106280" cy="633240"/>
          </a:xfrm>
          <a:custGeom>
            <a:avLst/>
            <a:gdLst>
              <a:gd name="textAreaLeft" fmla="*/ 0 w 1106280"/>
              <a:gd name="textAreaRight" fmla="*/ 1106640 w 1106280"/>
              <a:gd name="textAreaTop" fmla="*/ 0 h 633240"/>
              <a:gd name="textAreaBottom" fmla="*/ 633600 h 633240"/>
            </a:gdLst>
            <a:ahLst/>
            <a:rect l="textAreaLeft" t="textAreaTop" r="textAreaRight" b="textAreaBottom"/>
            <a:pathLst>
              <a:path w="500" h="327">
                <a:moveTo>
                  <a:pt x="187" y="7"/>
                </a:moveTo>
                <a:lnTo>
                  <a:pt x="165" y="28"/>
                </a:lnTo>
                <a:lnTo>
                  <a:pt x="115" y="36"/>
                </a:lnTo>
                <a:lnTo>
                  <a:pt x="72" y="86"/>
                </a:lnTo>
                <a:lnTo>
                  <a:pt x="28" y="144"/>
                </a:lnTo>
                <a:lnTo>
                  <a:pt x="28" y="180"/>
                </a:lnTo>
                <a:lnTo>
                  <a:pt x="43" y="202"/>
                </a:lnTo>
                <a:lnTo>
                  <a:pt x="57" y="194"/>
                </a:lnTo>
                <a:lnTo>
                  <a:pt x="86" y="194"/>
                </a:lnTo>
                <a:lnTo>
                  <a:pt x="21" y="253"/>
                </a:lnTo>
                <a:lnTo>
                  <a:pt x="0" y="282"/>
                </a:lnTo>
                <a:lnTo>
                  <a:pt x="28" y="289"/>
                </a:lnTo>
                <a:lnTo>
                  <a:pt x="64" y="326"/>
                </a:lnTo>
                <a:lnTo>
                  <a:pt x="101" y="326"/>
                </a:lnTo>
                <a:lnTo>
                  <a:pt x="115" y="311"/>
                </a:lnTo>
                <a:lnTo>
                  <a:pt x="115" y="289"/>
                </a:lnTo>
                <a:lnTo>
                  <a:pt x="137" y="297"/>
                </a:lnTo>
                <a:lnTo>
                  <a:pt x="144" y="304"/>
                </a:lnTo>
                <a:lnTo>
                  <a:pt x="180" y="326"/>
                </a:lnTo>
                <a:lnTo>
                  <a:pt x="202" y="304"/>
                </a:lnTo>
                <a:lnTo>
                  <a:pt x="223" y="304"/>
                </a:lnTo>
                <a:lnTo>
                  <a:pt x="223" y="326"/>
                </a:lnTo>
                <a:lnTo>
                  <a:pt x="245" y="318"/>
                </a:lnTo>
                <a:lnTo>
                  <a:pt x="281" y="268"/>
                </a:lnTo>
                <a:lnTo>
                  <a:pt x="295" y="261"/>
                </a:lnTo>
                <a:lnTo>
                  <a:pt x="339" y="187"/>
                </a:lnTo>
                <a:lnTo>
                  <a:pt x="346" y="166"/>
                </a:lnTo>
                <a:lnTo>
                  <a:pt x="360" y="151"/>
                </a:lnTo>
                <a:lnTo>
                  <a:pt x="367" y="173"/>
                </a:lnTo>
                <a:lnTo>
                  <a:pt x="405" y="115"/>
                </a:lnTo>
                <a:lnTo>
                  <a:pt x="434" y="93"/>
                </a:lnTo>
                <a:lnTo>
                  <a:pt x="441" y="101"/>
                </a:lnTo>
                <a:lnTo>
                  <a:pt x="470" y="72"/>
                </a:lnTo>
                <a:lnTo>
                  <a:pt x="491" y="86"/>
                </a:lnTo>
                <a:lnTo>
                  <a:pt x="499" y="28"/>
                </a:lnTo>
                <a:lnTo>
                  <a:pt x="491" y="21"/>
                </a:lnTo>
                <a:lnTo>
                  <a:pt x="462" y="21"/>
                </a:lnTo>
                <a:lnTo>
                  <a:pt x="455" y="28"/>
                </a:lnTo>
                <a:lnTo>
                  <a:pt x="405" y="36"/>
                </a:lnTo>
                <a:lnTo>
                  <a:pt x="382" y="7"/>
                </a:lnTo>
                <a:lnTo>
                  <a:pt x="317" y="50"/>
                </a:lnTo>
                <a:lnTo>
                  <a:pt x="317" y="79"/>
                </a:lnTo>
                <a:lnTo>
                  <a:pt x="288" y="79"/>
                </a:lnTo>
                <a:lnTo>
                  <a:pt x="238" y="72"/>
                </a:lnTo>
                <a:lnTo>
                  <a:pt x="238" y="57"/>
                </a:lnTo>
                <a:lnTo>
                  <a:pt x="252" y="36"/>
                </a:lnTo>
                <a:lnTo>
                  <a:pt x="238" y="0"/>
                </a:lnTo>
                <a:lnTo>
                  <a:pt x="209" y="0"/>
                </a:lnTo>
                <a:lnTo>
                  <a:pt x="202" y="0"/>
                </a:lnTo>
                <a:lnTo>
                  <a:pt x="194" y="21"/>
                </a:lnTo>
                <a:lnTo>
                  <a:pt x="187" y="7"/>
                </a:lnTo>
              </a:path>
            </a:pathLst>
          </a:custGeom>
          <a:solidFill>
            <a:srgbClr val="9ed3d7"/>
          </a:solidFill>
          <a:ln cap="rnd" w="93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2" name="Freeform 312"/>
          <p:cNvSpPr/>
          <p:nvPr/>
        </p:nvSpPr>
        <p:spPr>
          <a:xfrm>
            <a:off x="6993000" y="4235400"/>
            <a:ext cx="627120" cy="633600"/>
          </a:xfrm>
          <a:custGeom>
            <a:avLst/>
            <a:gdLst>
              <a:gd name="textAreaLeft" fmla="*/ 0 w 627120"/>
              <a:gd name="textAreaRight" fmla="*/ 627480 w 627120"/>
              <a:gd name="textAreaTop" fmla="*/ 0 h 633600"/>
              <a:gd name="textAreaBottom" fmla="*/ 633960 h 633600"/>
            </a:gdLst>
            <a:ahLst/>
            <a:rect l="textAreaLeft" t="textAreaTop" r="textAreaRight" b="textAreaBottom"/>
            <a:pathLst>
              <a:path w="283" h="326">
                <a:moveTo>
                  <a:pt x="210" y="14"/>
                </a:moveTo>
                <a:lnTo>
                  <a:pt x="188" y="0"/>
                </a:lnTo>
                <a:lnTo>
                  <a:pt x="159" y="21"/>
                </a:lnTo>
                <a:lnTo>
                  <a:pt x="122" y="7"/>
                </a:lnTo>
                <a:lnTo>
                  <a:pt x="100" y="14"/>
                </a:lnTo>
                <a:lnTo>
                  <a:pt x="86" y="35"/>
                </a:lnTo>
                <a:lnTo>
                  <a:pt x="79" y="50"/>
                </a:lnTo>
                <a:lnTo>
                  <a:pt x="86" y="79"/>
                </a:lnTo>
                <a:lnTo>
                  <a:pt x="72" y="79"/>
                </a:lnTo>
                <a:lnTo>
                  <a:pt x="64" y="71"/>
                </a:lnTo>
                <a:lnTo>
                  <a:pt x="50" y="71"/>
                </a:lnTo>
                <a:lnTo>
                  <a:pt x="50" y="86"/>
                </a:lnTo>
                <a:lnTo>
                  <a:pt x="57" y="107"/>
                </a:lnTo>
                <a:lnTo>
                  <a:pt x="43" y="107"/>
                </a:lnTo>
                <a:lnTo>
                  <a:pt x="43" y="122"/>
                </a:lnTo>
                <a:lnTo>
                  <a:pt x="14" y="151"/>
                </a:lnTo>
                <a:lnTo>
                  <a:pt x="0" y="151"/>
                </a:lnTo>
                <a:lnTo>
                  <a:pt x="0" y="187"/>
                </a:lnTo>
                <a:lnTo>
                  <a:pt x="28" y="208"/>
                </a:lnTo>
                <a:lnTo>
                  <a:pt x="28" y="253"/>
                </a:lnTo>
                <a:lnTo>
                  <a:pt x="57" y="253"/>
                </a:lnTo>
                <a:lnTo>
                  <a:pt x="57" y="274"/>
                </a:lnTo>
                <a:lnTo>
                  <a:pt x="72" y="296"/>
                </a:lnTo>
                <a:lnTo>
                  <a:pt x="79" y="317"/>
                </a:lnTo>
                <a:lnTo>
                  <a:pt x="100" y="317"/>
                </a:lnTo>
                <a:lnTo>
                  <a:pt x="122" y="289"/>
                </a:lnTo>
                <a:lnTo>
                  <a:pt x="129" y="289"/>
                </a:lnTo>
                <a:lnTo>
                  <a:pt x="129" y="310"/>
                </a:lnTo>
                <a:lnTo>
                  <a:pt x="145" y="317"/>
                </a:lnTo>
                <a:lnTo>
                  <a:pt x="159" y="317"/>
                </a:lnTo>
                <a:lnTo>
                  <a:pt x="159" y="303"/>
                </a:lnTo>
                <a:lnTo>
                  <a:pt x="181" y="303"/>
                </a:lnTo>
                <a:lnTo>
                  <a:pt x="181" y="317"/>
                </a:lnTo>
                <a:lnTo>
                  <a:pt x="195" y="325"/>
                </a:lnTo>
                <a:lnTo>
                  <a:pt x="210" y="317"/>
                </a:lnTo>
                <a:lnTo>
                  <a:pt x="210" y="281"/>
                </a:lnTo>
                <a:lnTo>
                  <a:pt x="217" y="253"/>
                </a:lnTo>
                <a:lnTo>
                  <a:pt x="231" y="245"/>
                </a:lnTo>
                <a:lnTo>
                  <a:pt x="231" y="238"/>
                </a:lnTo>
                <a:lnTo>
                  <a:pt x="231" y="223"/>
                </a:lnTo>
                <a:lnTo>
                  <a:pt x="246" y="238"/>
                </a:lnTo>
                <a:lnTo>
                  <a:pt x="267" y="215"/>
                </a:lnTo>
                <a:lnTo>
                  <a:pt x="253" y="194"/>
                </a:lnTo>
                <a:lnTo>
                  <a:pt x="253" y="187"/>
                </a:lnTo>
                <a:lnTo>
                  <a:pt x="267" y="172"/>
                </a:lnTo>
                <a:lnTo>
                  <a:pt x="260" y="151"/>
                </a:lnTo>
                <a:lnTo>
                  <a:pt x="253" y="143"/>
                </a:lnTo>
                <a:lnTo>
                  <a:pt x="282" y="143"/>
                </a:lnTo>
                <a:lnTo>
                  <a:pt x="282" y="115"/>
                </a:lnTo>
                <a:lnTo>
                  <a:pt x="253" y="129"/>
                </a:lnTo>
                <a:lnTo>
                  <a:pt x="282" y="86"/>
                </a:lnTo>
                <a:lnTo>
                  <a:pt x="231" y="64"/>
                </a:lnTo>
                <a:lnTo>
                  <a:pt x="202" y="57"/>
                </a:lnTo>
                <a:lnTo>
                  <a:pt x="188" y="71"/>
                </a:lnTo>
                <a:lnTo>
                  <a:pt x="174" y="50"/>
                </a:lnTo>
                <a:lnTo>
                  <a:pt x="195" y="43"/>
                </a:lnTo>
                <a:lnTo>
                  <a:pt x="210" y="14"/>
                </a:lnTo>
              </a:path>
            </a:pathLst>
          </a:custGeom>
          <a:solidFill>
            <a:srgbClr val="6699ff"/>
          </a:solidFill>
          <a:ln cap="rnd" w="93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3" name="Freeform 313"/>
          <p:cNvSpPr/>
          <p:nvPr/>
        </p:nvSpPr>
        <p:spPr>
          <a:xfrm>
            <a:off x="6688080" y="4724280"/>
            <a:ext cx="709560" cy="798480"/>
          </a:xfrm>
          <a:custGeom>
            <a:avLst/>
            <a:gdLst>
              <a:gd name="textAreaLeft" fmla="*/ 0 w 709560"/>
              <a:gd name="textAreaRight" fmla="*/ 709920 w 709560"/>
              <a:gd name="textAreaTop" fmla="*/ 0 h 798480"/>
              <a:gd name="textAreaBottom" fmla="*/ 798840 h 798480"/>
            </a:gdLst>
            <a:ahLst/>
            <a:rect l="textAreaLeft" t="textAreaTop" r="textAreaRight" b="textAreaBottom"/>
            <a:pathLst>
              <a:path w="319" h="412">
                <a:moveTo>
                  <a:pt x="318" y="64"/>
                </a:moveTo>
                <a:lnTo>
                  <a:pt x="318" y="50"/>
                </a:lnTo>
                <a:lnTo>
                  <a:pt x="296" y="50"/>
                </a:lnTo>
                <a:lnTo>
                  <a:pt x="296" y="64"/>
                </a:lnTo>
                <a:lnTo>
                  <a:pt x="282" y="64"/>
                </a:lnTo>
                <a:lnTo>
                  <a:pt x="266" y="57"/>
                </a:lnTo>
                <a:lnTo>
                  <a:pt x="266" y="36"/>
                </a:lnTo>
                <a:lnTo>
                  <a:pt x="259" y="36"/>
                </a:lnTo>
                <a:lnTo>
                  <a:pt x="237" y="64"/>
                </a:lnTo>
                <a:lnTo>
                  <a:pt x="216" y="64"/>
                </a:lnTo>
                <a:lnTo>
                  <a:pt x="208" y="43"/>
                </a:lnTo>
                <a:lnTo>
                  <a:pt x="194" y="21"/>
                </a:lnTo>
                <a:lnTo>
                  <a:pt x="194" y="0"/>
                </a:lnTo>
                <a:lnTo>
                  <a:pt x="165" y="0"/>
                </a:lnTo>
                <a:lnTo>
                  <a:pt x="165" y="14"/>
                </a:lnTo>
                <a:lnTo>
                  <a:pt x="136" y="21"/>
                </a:lnTo>
                <a:lnTo>
                  <a:pt x="129" y="36"/>
                </a:lnTo>
                <a:lnTo>
                  <a:pt x="93" y="36"/>
                </a:lnTo>
                <a:lnTo>
                  <a:pt x="79" y="57"/>
                </a:lnTo>
                <a:lnTo>
                  <a:pt x="79" y="79"/>
                </a:lnTo>
                <a:lnTo>
                  <a:pt x="86" y="93"/>
                </a:lnTo>
                <a:lnTo>
                  <a:pt x="64" y="122"/>
                </a:lnTo>
                <a:lnTo>
                  <a:pt x="43" y="122"/>
                </a:lnTo>
                <a:lnTo>
                  <a:pt x="43" y="165"/>
                </a:lnTo>
                <a:lnTo>
                  <a:pt x="36" y="173"/>
                </a:lnTo>
                <a:lnTo>
                  <a:pt x="36" y="201"/>
                </a:lnTo>
                <a:lnTo>
                  <a:pt x="14" y="223"/>
                </a:lnTo>
                <a:lnTo>
                  <a:pt x="14" y="245"/>
                </a:lnTo>
                <a:lnTo>
                  <a:pt x="0" y="288"/>
                </a:lnTo>
                <a:lnTo>
                  <a:pt x="14" y="302"/>
                </a:lnTo>
                <a:lnTo>
                  <a:pt x="72" y="310"/>
                </a:lnTo>
                <a:lnTo>
                  <a:pt x="93" y="367"/>
                </a:lnTo>
                <a:lnTo>
                  <a:pt x="100" y="411"/>
                </a:lnTo>
                <a:lnTo>
                  <a:pt x="129" y="367"/>
                </a:lnTo>
                <a:lnTo>
                  <a:pt x="144" y="374"/>
                </a:lnTo>
                <a:lnTo>
                  <a:pt x="180" y="338"/>
                </a:lnTo>
                <a:lnTo>
                  <a:pt x="180" y="317"/>
                </a:lnTo>
                <a:lnTo>
                  <a:pt x="216" y="310"/>
                </a:lnTo>
                <a:lnTo>
                  <a:pt x="237" y="259"/>
                </a:lnTo>
                <a:lnTo>
                  <a:pt x="252" y="252"/>
                </a:lnTo>
                <a:lnTo>
                  <a:pt x="252" y="223"/>
                </a:lnTo>
                <a:lnTo>
                  <a:pt x="282" y="223"/>
                </a:lnTo>
                <a:lnTo>
                  <a:pt x="289" y="173"/>
                </a:lnTo>
                <a:lnTo>
                  <a:pt x="282" y="144"/>
                </a:lnTo>
                <a:lnTo>
                  <a:pt x="289" y="137"/>
                </a:lnTo>
                <a:lnTo>
                  <a:pt x="266" y="115"/>
                </a:lnTo>
                <a:lnTo>
                  <a:pt x="282" y="108"/>
                </a:lnTo>
                <a:lnTo>
                  <a:pt x="296" y="115"/>
                </a:lnTo>
                <a:lnTo>
                  <a:pt x="318" y="86"/>
                </a:lnTo>
                <a:lnTo>
                  <a:pt x="318" y="64"/>
                </a:lnTo>
              </a:path>
            </a:pathLst>
          </a:custGeom>
          <a:solidFill>
            <a:srgbClr val="ccffcc"/>
          </a:solidFill>
          <a:ln cap="rnd" w="93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4" name="Freeform 314"/>
          <p:cNvSpPr/>
          <p:nvPr/>
        </p:nvSpPr>
        <p:spPr>
          <a:xfrm>
            <a:off x="5630760" y="5221440"/>
            <a:ext cx="1282680" cy="823680"/>
          </a:xfrm>
          <a:custGeom>
            <a:avLst/>
            <a:gdLst>
              <a:gd name="textAreaLeft" fmla="*/ 0 w 1282680"/>
              <a:gd name="textAreaRight" fmla="*/ 1283040 w 1282680"/>
              <a:gd name="textAreaTop" fmla="*/ 0 h 823680"/>
              <a:gd name="textAreaBottom" fmla="*/ 824040 h 823680"/>
            </a:gdLst>
            <a:ahLst/>
            <a:rect l="textAreaLeft" t="textAreaTop" r="textAreaRight" b="textAreaBottom"/>
            <a:pathLst>
              <a:path w="579" h="427">
                <a:moveTo>
                  <a:pt x="578" y="144"/>
                </a:moveTo>
                <a:lnTo>
                  <a:pt x="570" y="108"/>
                </a:lnTo>
                <a:lnTo>
                  <a:pt x="549" y="50"/>
                </a:lnTo>
                <a:lnTo>
                  <a:pt x="491" y="43"/>
                </a:lnTo>
                <a:lnTo>
                  <a:pt x="484" y="36"/>
                </a:lnTo>
                <a:lnTo>
                  <a:pt x="469" y="64"/>
                </a:lnTo>
                <a:lnTo>
                  <a:pt x="455" y="64"/>
                </a:lnTo>
                <a:lnTo>
                  <a:pt x="441" y="50"/>
                </a:lnTo>
                <a:lnTo>
                  <a:pt x="368" y="72"/>
                </a:lnTo>
                <a:lnTo>
                  <a:pt x="361" y="57"/>
                </a:lnTo>
                <a:lnTo>
                  <a:pt x="390" y="7"/>
                </a:lnTo>
                <a:lnTo>
                  <a:pt x="361" y="7"/>
                </a:lnTo>
                <a:lnTo>
                  <a:pt x="340" y="14"/>
                </a:lnTo>
                <a:lnTo>
                  <a:pt x="325" y="0"/>
                </a:lnTo>
                <a:lnTo>
                  <a:pt x="311" y="7"/>
                </a:lnTo>
                <a:lnTo>
                  <a:pt x="252" y="7"/>
                </a:lnTo>
                <a:lnTo>
                  <a:pt x="259" y="43"/>
                </a:lnTo>
                <a:lnTo>
                  <a:pt x="237" y="43"/>
                </a:lnTo>
                <a:lnTo>
                  <a:pt x="209" y="21"/>
                </a:lnTo>
                <a:lnTo>
                  <a:pt x="194" y="28"/>
                </a:lnTo>
                <a:lnTo>
                  <a:pt x="194" y="57"/>
                </a:lnTo>
                <a:lnTo>
                  <a:pt x="173" y="57"/>
                </a:lnTo>
                <a:lnTo>
                  <a:pt x="165" y="86"/>
                </a:lnTo>
                <a:lnTo>
                  <a:pt x="180" y="100"/>
                </a:lnTo>
                <a:lnTo>
                  <a:pt x="173" y="108"/>
                </a:lnTo>
                <a:lnTo>
                  <a:pt x="173" y="129"/>
                </a:lnTo>
                <a:lnTo>
                  <a:pt x="129" y="158"/>
                </a:lnTo>
                <a:lnTo>
                  <a:pt x="129" y="187"/>
                </a:lnTo>
                <a:lnTo>
                  <a:pt x="122" y="223"/>
                </a:lnTo>
                <a:lnTo>
                  <a:pt x="86" y="252"/>
                </a:lnTo>
                <a:lnTo>
                  <a:pt x="57" y="280"/>
                </a:lnTo>
                <a:lnTo>
                  <a:pt x="36" y="302"/>
                </a:lnTo>
                <a:lnTo>
                  <a:pt x="14" y="309"/>
                </a:lnTo>
                <a:lnTo>
                  <a:pt x="0" y="331"/>
                </a:lnTo>
                <a:lnTo>
                  <a:pt x="14" y="338"/>
                </a:lnTo>
                <a:lnTo>
                  <a:pt x="7" y="346"/>
                </a:lnTo>
                <a:lnTo>
                  <a:pt x="7" y="390"/>
                </a:lnTo>
                <a:lnTo>
                  <a:pt x="21" y="397"/>
                </a:lnTo>
                <a:lnTo>
                  <a:pt x="21" y="426"/>
                </a:lnTo>
                <a:lnTo>
                  <a:pt x="64" y="426"/>
                </a:lnTo>
                <a:lnTo>
                  <a:pt x="64" y="404"/>
                </a:lnTo>
                <a:lnTo>
                  <a:pt x="50" y="382"/>
                </a:lnTo>
                <a:lnTo>
                  <a:pt x="57" y="346"/>
                </a:lnTo>
                <a:lnTo>
                  <a:pt x="93" y="338"/>
                </a:lnTo>
                <a:lnTo>
                  <a:pt x="122" y="338"/>
                </a:lnTo>
                <a:lnTo>
                  <a:pt x="180" y="309"/>
                </a:lnTo>
                <a:lnTo>
                  <a:pt x="216" y="309"/>
                </a:lnTo>
                <a:lnTo>
                  <a:pt x="223" y="324"/>
                </a:lnTo>
                <a:lnTo>
                  <a:pt x="245" y="295"/>
                </a:lnTo>
                <a:lnTo>
                  <a:pt x="281" y="273"/>
                </a:lnTo>
                <a:lnTo>
                  <a:pt x="288" y="252"/>
                </a:lnTo>
                <a:lnTo>
                  <a:pt x="311" y="266"/>
                </a:lnTo>
                <a:lnTo>
                  <a:pt x="318" y="266"/>
                </a:lnTo>
                <a:lnTo>
                  <a:pt x="304" y="237"/>
                </a:lnTo>
                <a:lnTo>
                  <a:pt x="304" y="201"/>
                </a:lnTo>
                <a:lnTo>
                  <a:pt x="325" y="230"/>
                </a:lnTo>
                <a:lnTo>
                  <a:pt x="340" y="259"/>
                </a:lnTo>
                <a:lnTo>
                  <a:pt x="383" y="259"/>
                </a:lnTo>
                <a:lnTo>
                  <a:pt x="368" y="237"/>
                </a:lnTo>
                <a:lnTo>
                  <a:pt x="390" y="216"/>
                </a:lnTo>
                <a:lnTo>
                  <a:pt x="412" y="230"/>
                </a:lnTo>
                <a:lnTo>
                  <a:pt x="433" y="208"/>
                </a:lnTo>
                <a:lnTo>
                  <a:pt x="448" y="208"/>
                </a:lnTo>
                <a:lnTo>
                  <a:pt x="448" y="223"/>
                </a:lnTo>
                <a:lnTo>
                  <a:pt x="469" y="223"/>
                </a:lnTo>
                <a:lnTo>
                  <a:pt x="469" y="208"/>
                </a:lnTo>
                <a:lnTo>
                  <a:pt x="484" y="216"/>
                </a:lnTo>
                <a:lnTo>
                  <a:pt x="520" y="194"/>
                </a:lnTo>
                <a:lnTo>
                  <a:pt x="549" y="187"/>
                </a:lnTo>
                <a:lnTo>
                  <a:pt x="549" y="144"/>
                </a:lnTo>
                <a:lnTo>
                  <a:pt x="578" y="144"/>
                </a:lnTo>
              </a:path>
            </a:pathLst>
          </a:custGeom>
          <a:solidFill>
            <a:srgbClr val="ccffcc"/>
          </a:solidFill>
          <a:ln cap="rnd" w="93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5" name="Freeform 315"/>
          <p:cNvSpPr/>
          <p:nvPr/>
        </p:nvSpPr>
        <p:spPr>
          <a:xfrm>
            <a:off x="4784760" y="5067360"/>
            <a:ext cx="1249200" cy="823680"/>
          </a:xfrm>
          <a:custGeom>
            <a:avLst/>
            <a:gdLst>
              <a:gd name="textAreaLeft" fmla="*/ 0 w 1249200"/>
              <a:gd name="textAreaRight" fmla="*/ 1249560 w 1249200"/>
              <a:gd name="textAreaTop" fmla="*/ 0 h 823680"/>
              <a:gd name="textAreaBottom" fmla="*/ 824040 h 823680"/>
            </a:gdLst>
            <a:ahLst/>
            <a:rect l="textAreaLeft" t="textAreaTop" r="textAreaRight" b="textAreaBottom"/>
            <a:pathLst>
              <a:path w="563" h="427">
                <a:moveTo>
                  <a:pt x="382" y="410"/>
                </a:moveTo>
                <a:lnTo>
                  <a:pt x="396" y="381"/>
                </a:lnTo>
                <a:lnTo>
                  <a:pt x="418" y="381"/>
                </a:lnTo>
                <a:lnTo>
                  <a:pt x="475" y="324"/>
                </a:lnTo>
                <a:lnTo>
                  <a:pt x="504" y="302"/>
                </a:lnTo>
                <a:lnTo>
                  <a:pt x="511" y="259"/>
                </a:lnTo>
                <a:lnTo>
                  <a:pt x="511" y="237"/>
                </a:lnTo>
                <a:lnTo>
                  <a:pt x="554" y="208"/>
                </a:lnTo>
                <a:lnTo>
                  <a:pt x="554" y="180"/>
                </a:lnTo>
                <a:lnTo>
                  <a:pt x="562" y="180"/>
                </a:lnTo>
                <a:lnTo>
                  <a:pt x="547" y="165"/>
                </a:lnTo>
                <a:lnTo>
                  <a:pt x="554" y="144"/>
                </a:lnTo>
                <a:lnTo>
                  <a:pt x="526" y="144"/>
                </a:lnTo>
                <a:lnTo>
                  <a:pt x="518" y="108"/>
                </a:lnTo>
                <a:lnTo>
                  <a:pt x="504" y="108"/>
                </a:lnTo>
                <a:lnTo>
                  <a:pt x="504" y="122"/>
                </a:lnTo>
                <a:lnTo>
                  <a:pt x="490" y="122"/>
                </a:lnTo>
                <a:lnTo>
                  <a:pt x="482" y="115"/>
                </a:lnTo>
                <a:lnTo>
                  <a:pt x="497" y="72"/>
                </a:lnTo>
                <a:lnTo>
                  <a:pt x="504" y="57"/>
                </a:lnTo>
                <a:lnTo>
                  <a:pt x="511" y="43"/>
                </a:lnTo>
                <a:lnTo>
                  <a:pt x="504" y="14"/>
                </a:lnTo>
                <a:lnTo>
                  <a:pt x="497" y="0"/>
                </a:lnTo>
                <a:lnTo>
                  <a:pt x="468" y="7"/>
                </a:lnTo>
                <a:lnTo>
                  <a:pt x="446" y="14"/>
                </a:lnTo>
                <a:lnTo>
                  <a:pt x="432" y="28"/>
                </a:lnTo>
                <a:lnTo>
                  <a:pt x="411" y="36"/>
                </a:lnTo>
                <a:lnTo>
                  <a:pt x="411" y="21"/>
                </a:lnTo>
                <a:lnTo>
                  <a:pt x="396" y="28"/>
                </a:lnTo>
                <a:lnTo>
                  <a:pt x="367" y="28"/>
                </a:lnTo>
                <a:lnTo>
                  <a:pt x="346" y="50"/>
                </a:lnTo>
                <a:lnTo>
                  <a:pt x="331" y="72"/>
                </a:lnTo>
                <a:lnTo>
                  <a:pt x="310" y="64"/>
                </a:lnTo>
                <a:lnTo>
                  <a:pt x="303" y="79"/>
                </a:lnTo>
                <a:lnTo>
                  <a:pt x="267" y="79"/>
                </a:lnTo>
                <a:lnTo>
                  <a:pt x="260" y="108"/>
                </a:lnTo>
                <a:lnTo>
                  <a:pt x="231" y="115"/>
                </a:lnTo>
                <a:lnTo>
                  <a:pt x="208" y="93"/>
                </a:lnTo>
                <a:lnTo>
                  <a:pt x="201" y="64"/>
                </a:lnTo>
                <a:lnTo>
                  <a:pt x="179" y="79"/>
                </a:lnTo>
                <a:lnTo>
                  <a:pt x="179" y="100"/>
                </a:lnTo>
                <a:lnTo>
                  <a:pt x="165" y="100"/>
                </a:lnTo>
                <a:lnTo>
                  <a:pt x="122" y="122"/>
                </a:lnTo>
                <a:lnTo>
                  <a:pt x="107" y="144"/>
                </a:lnTo>
                <a:lnTo>
                  <a:pt x="57" y="129"/>
                </a:lnTo>
                <a:lnTo>
                  <a:pt x="35" y="122"/>
                </a:lnTo>
                <a:lnTo>
                  <a:pt x="21" y="129"/>
                </a:lnTo>
                <a:lnTo>
                  <a:pt x="0" y="136"/>
                </a:lnTo>
                <a:lnTo>
                  <a:pt x="0" y="158"/>
                </a:lnTo>
                <a:lnTo>
                  <a:pt x="35" y="158"/>
                </a:lnTo>
                <a:lnTo>
                  <a:pt x="43" y="180"/>
                </a:lnTo>
                <a:lnTo>
                  <a:pt x="100" y="180"/>
                </a:lnTo>
                <a:lnTo>
                  <a:pt x="115" y="201"/>
                </a:lnTo>
                <a:lnTo>
                  <a:pt x="115" y="230"/>
                </a:lnTo>
                <a:lnTo>
                  <a:pt x="79" y="230"/>
                </a:lnTo>
                <a:lnTo>
                  <a:pt x="64" y="252"/>
                </a:lnTo>
                <a:lnTo>
                  <a:pt x="71" y="266"/>
                </a:lnTo>
                <a:lnTo>
                  <a:pt x="100" y="273"/>
                </a:lnTo>
                <a:lnTo>
                  <a:pt x="158" y="288"/>
                </a:lnTo>
                <a:lnTo>
                  <a:pt x="150" y="309"/>
                </a:lnTo>
                <a:lnTo>
                  <a:pt x="143" y="324"/>
                </a:lnTo>
                <a:lnTo>
                  <a:pt x="158" y="338"/>
                </a:lnTo>
                <a:lnTo>
                  <a:pt x="158" y="360"/>
                </a:lnTo>
                <a:lnTo>
                  <a:pt x="238" y="396"/>
                </a:lnTo>
                <a:lnTo>
                  <a:pt x="252" y="403"/>
                </a:lnTo>
                <a:lnTo>
                  <a:pt x="281" y="403"/>
                </a:lnTo>
                <a:lnTo>
                  <a:pt x="295" y="410"/>
                </a:lnTo>
                <a:lnTo>
                  <a:pt x="288" y="381"/>
                </a:lnTo>
                <a:lnTo>
                  <a:pt x="331" y="388"/>
                </a:lnTo>
                <a:lnTo>
                  <a:pt x="339" y="417"/>
                </a:lnTo>
                <a:lnTo>
                  <a:pt x="360" y="426"/>
                </a:lnTo>
                <a:lnTo>
                  <a:pt x="382" y="410"/>
                </a:lnTo>
              </a:path>
            </a:pathLst>
          </a:custGeom>
          <a:solidFill>
            <a:srgbClr val="ccffcc"/>
          </a:solidFill>
          <a:ln cap="rnd" w="93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6" name="Freeform 316"/>
          <p:cNvSpPr/>
          <p:nvPr/>
        </p:nvSpPr>
        <p:spPr>
          <a:xfrm>
            <a:off x="3594240" y="4545000"/>
            <a:ext cx="1441440" cy="1330200"/>
          </a:xfrm>
          <a:custGeom>
            <a:avLst/>
            <a:gdLst>
              <a:gd name="textAreaLeft" fmla="*/ 0 w 1441440"/>
              <a:gd name="textAreaRight" fmla="*/ 1441800 w 1441440"/>
              <a:gd name="textAreaTop" fmla="*/ 0 h 1330200"/>
              <a:gd name="textAreaBottom" fmla="*/ 1330560 h 1330200"/>
            </a:gdLst>
            <a:ahLst/>
            <a:rect l="textAreaLeft" t="textAreaTop" r="textAreaRight" b="textAreaBottom"/>
            <a:pathLst>
              <a:path w="650" h="686">
                <a:moveTo>
                  <a:pt x="598" y="512"/>
                </a:moveTo>
                <a:lnTo>
                  <a:pt x="613" y="497"/>
                </a:lnTo>
                <a:lnTo>
                  <a:pt x="649" y="497"/>
                </a:lnTo>
                <a:lnTo>
                  <a:pt x="649" y="461"/>
                </a:lnTo>
                <a:lnTo>
                  <a:pt x="634" y="447"/>
                </a:lnTo>
                <a:lnTo>
                  <a:pt x="605" y="447"/>
                </a:lnTo>
                <a:lnTo>
                  <a:pt x="577" y="447"/>
                </a:lnTo>
                <a:lnTo>
                  <a:pt x="569" y="425"/>
                </a:lnTo>
                <a:lnTo>
                  <a:pt x="533" y="425"/>
                </a:lnTo>
                <a:lnTo>
                  <a:pt x="541" y="404"/>
                </a:lnTo>
                <a:lnTo>
                  <a:pt x="533" y="382"/>
                </a:lnTo>
                <a:lnTo>
                  <a:pt x="555" y="361"/>
                </a:lnTo>
                <a:lnTo>
                  <a:pt x="519" y="317"/>
                </a:lnTo>
                <a:lnTo>
                  <a:pt x="548" y="274"/>
                </a:lnTo>
                <a:lnTo>
                  <a:pt x="548" y="238"/>
                </a:lnTo>
                <a:lnTo>
                  <a:pt x="483" y="245"/>
                </a:lnTo>
                <a:lnTo>
                  <a:pt x="490" y="202"/>
                </a:lnTo>
                <a:lnTo>
                  <a:pt x="476" y="195"/>
                </a:lnTo>
                <a:lnTo>
                  <a:pt x="497" y="173"/>
                </a:lnTo>
                <a:lnTo>
                  <a:pt x="519" y="181"/>
                </a:lnTo>
                <a:lnTo>
                  <a:pt x="533" y="173"/>
                </a:lnTo>
                <a:lnTo>
                  <a:pt x="591" y="181"/>
                </a:lnTo>
                <a:lnTo>
                  <a:pt x="605" y="152"/>
                </a:lnTo>
                <a:lnTo>
                  <a:pt x="591" y="123"/>
                </a:lnTo>
                <a:lnTo>
                  <a:pt x="562" y="137"/>
                </a:lnTo>
                <a:lnTo>
                  <a:pt x="533" y="123"/>
                </a:lnTo>
                <a:lnTo>
                  <a:pt x="533" y="73"/>
                </a:lnTo>
                <a:lnTo>
                  <a:pt x="497" y="73"/>
                </a:lnTo>
                <a:lnTo>
                  <a:pt x="490" y="101"/>
                </a:lnTo>
                <a:lnTo>
                  <a:pt x="469" y="109"/>
                </a:lnTo>
                <a:lnTo>
                  <a:pt x="469" y="130"/>
                </a:lnTo>
                <a:lnTo>
                  <a:pt x="447" y="159"/>
                </a:lnTo>
                <a:lnTo>
                  <a:pt x="425" y="159"/>
                </a:lnTo>
                <a:lnTo>
                  <a:pt x="418" y="260"/>
                </a:lnTo>
                <a:lnTo>
                  <a:pt x="389" y="267"/>
                </a:lnTo>
                <a:lnTo>
                  <a:pt x="389" y="253"/>
                </a:lnTo>
                <a:lnTo>
                  <a:pt x="368" y="274"/>
                </a:lnTo>
                <a:lnTo>
                  <a:pt x="332" y="274"/>
                </a:lnTo>
                <a:lnTo>
                  <a:pt x="332" y="260"/>
                </a:lnTo>
                <a:lnTo>
                  <a:pt x="317" y="245"/>
                </a:lnTo>
                <a:lnTo>
                  <a:pt x="310" y="209"/>
                </a:lnTo>
                <a:lnTo>
                  <a:pt x="266" y="116"/>
                </a:lnTo>
                <a:lnTo>
                  <a:pt x="251" y="116"/>
                </a:lnTo>
                <a:lnTo>
                  <a:pt x="251" y="123"/>
                </a:lnTo>
                <a:lnTo>
                  <a:pt x="230" y="94"/>
                </a:lnTo>
                <a:lnTo>
                  <a:pt x="237" y="87"/>
                </a:lnTo>
                <a:lnTo>
                  <a:pt x="201" y="35"/>
                </a:lnTo>
                <a:lnTo>
                  <a:pt x="179" y="43"/>
                </a:lnTo>
                <a:lnTo>
                  <a:pt x="172" y="87"/>
                </a:lnTo>
                <a:lnTo>
                  <a:pt x="158" y="87"/>
                </a:lnTo>
                <a:lnTo>
                  <a:pt x="158" y="64"/>
                </a:lnTo>
                <a:lnTo>
                  <a:pt x="158" y="7"/>
                </a:lnTo>
                <a:lnTo>
                  <a:pt x="136" y="21"/>
                </a:lnTo>
                <a:lnTo>
                  <a:pt x="129" y="0"/>
                </a:lnTo>
                <a:lnTo>
                  <a:pt x="115" y="14"/>
                </a:lnTo>
                <a:lnTo>
                  <a:pt x="115" y="35"/>
                </a:lnTo>
                <a:lnTo>
                  <a:pt x="122" y="73"/>
                </a:lnTo>
                <a:lnTo>
                  <a:pt x="107" y="73"/>
                </a:lnTo>
                <a:lnTo>
                  <a:pt x="86" y="64"/>
                </a:lnTo>
                <a:lnTo>
                  <a:pt x="86" y="109"/>
                </a:lnTo>
                <a:lnTo>
                  <a:pt x="93" y="130"/>
                </a:lnTo>
                <a:lnTo>
                  <a:pt x="122" y="123"/>
                </a:lnTo>
                <a:lnTo>
                  <a:pt x="122" y="188"/>
                </a:lnTo>
                <a:lnTo>
                  <a:pt x="100" y="267"/>
                </a:lnTo>
                <a:lnTo>
                  <a:pt x="50" y="303"/>
                </a:lnTo>
                <a:lnTo>
                  <a:pt x="28" y="310"/>
                </a:lnTo>
                <a:lnTo>
                  <a:pt x="14" y="325"/>
                </a:lnTo>
                <a:lnTo>
                  <a:pt x="7" y="353"/>
                </a:lnTo>
                <a:lnTo>
                  <a:pt x="14" y="404"/>
                </a:lnTo>
                <a:lnTo>
                  <a:pt x="0" y="418"/>
                </a:lnTo>
                <a:lnTo>
                  <a:pt x="35" y="418"/>
                </a:lnTo>
                <a:lnTo>
                  <a:pt x="57" y="411"/>
                </a:lnTo>
                <a:lnTo>
                  <a:pt x="100" y="418"/>
                </a:lnTo>
                <a:lnTo>
                  <a:pt x="100" y="433"/>
                </a:lnTo>
                <a:lnTo>
                  <a:pt x="86" y="440"/>
                </a:lnTo>
                <a:lnTo>
                  <a:pt x="100" y="454"/>
                </a:lnTo>
                <a:lnTo>
                  <a:pt x="93" y="483"/>
                </a:lnTo>
                <a:lnTo>
                  <a:pt x="107" y="497"/>
                </a:lnTo>
                <a:lnTo>
                  <a:pt x="136" y="497"/>
                </a:lnTo>
                <a:lnTo>
                  <a:pt x="143" y="512"/>
                </a:lnTo>
                <a:lnTo>
                  <a:pt x="129" y="526"/>
                </a:lnTo>
                <a:lnTo>
                  <a:pt x="129" y="562"/>
                </a:lnTo>
                <a:lnTo>
                  <a:pt x="115" y="562"/>
                </a:lnTo>
                <a:lnTo>
                  <a:pt x="115" y="584"/>
                </a:lnTo>
                <a:lnTo>
                  <a:pt x="165" y="591"/>
                </a:lnTo>
                <a:lnTo>
                  <a:pt x="172" y="620"/>
                </a:lnTo>
                <a:lnTo>
                  <a:pt x="179" y="634"/>
                </a:lnTo>
                <a:lnTo>
                  <a:pt x="230" y="641"/>
                </a:lnTo>
                <a:lnTo>
                  <a:pt x="251" y="620"/>
                </a:lnTo>
                <a:lnTo>
                  <a:pt x="259" y="627"/>
                </a:lnTo>
                <a:lnTo>
                  <a:pt x="251" y="656"/>
                </a:lnTo>
                <a:lnTo>
                  <a:pt x="266" y="670"/>
                </a:lnTo>
                <a:lnTo>
                  <a:pt x="303" y="685"/>
                </a:lnTo>
                <a:lnTo>
                  <a:pt x="303" y="656"/>
                </a:lnTo>
                <a:lnTo>
                  <a:pt x="303" y="577"/>
                </a:lnTo>
                <a:lnTo>
                  <a:pt x="317" y="569"/>
                </a:lnTo>
                <a:lnTo>
                  <a:pt x="368" y="569"/>
                </a:lnTo>
                <a:lnTo>
                  <a:pt x="382" y="555"/>
                </a:lnTo>
                <a:lnTo>
                  <a:pt x="397" y="562"/>
                </a:lnTo>
                <a:lnTo>
                  <a:pt x="411" y="569"/>
                </a:lnTo>
                <a:lnTo>
                  <a:pt x="433" y="555"/>
                </a:lnTo>
                <a:lnTo>
                  <a:pt x="440" y="569"/>
                </a:lnTo>
                <a:lnTo>
                  <a:pt x="454" y="562"/>
                </a:lnTo>
                <a:lnTo>
                  <a:pt x="476" y="584"/>
                </a:lnTo>
                <a:lnTo>
                  <a:pt x="483" y="555"/>
                </a:lnTo>
                <a:lnTo>
                  <a:pt x="505" y="562"/>
                </a:lnTo>
                <a:lnTo>
                  <a:pt x="555" y="555"/>
                </a:lnTo>
                <a:lnTo>
                  <a:pt x="555" y="526"/>
                </a:lnTo>
                <a:lnTo>
                  <a:pt x="577" y="512"/>
                </a:lnTo>
                <a:lnTo>
                  <a:pt x="598" y="512"/>
                </a:lnTo>
              </a:path>
            </a:pathLst>
          </a:custGeom>
          <a:solidFill>
            <a:srgbClr val="ff99ff"/>
          </a:solidFill>
          <a:ln cap="rnd"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7" name="Freeform 317"/>
          <p:cNvSpPr/>
          <p:nvPr/>
        </p:nvSpPr>
        <p:spPr>
          <a:xfrm>
            <a:off x="6288120" y="4444920"/>
            <a:ext cx="770040" cy="924120"/>
          </a:xfrm>
          <a:custGeom>
            <a:avLst/>
            <a:gdLst>
              <a:gd name="textAreaLeft" fmla="*/ 0 w 770040"/>
              <a:gd name="textAreaRight" fmla="*/ 770400 w 770040"/>
              <a:gd name="textAreaTop" fmla="*/ 0 h 924120"/>
              <a:gd name="textAreaBottom" fmla="*/ 924480 h 924120"/>
            </a:gdLst>
            <a:ahLst/>
            <a:rect l="textAreaLeft" t="textAreaTop" r="textAreaRight" b="textAreaBottom"/>
            <a:pathLst>
              <a:path w="347" h="477">
                <a:moveTo>
                  <a:pt x="317" y="43"/>
                </a:moveTo>
                <a:lnTo>
                  <a:pt x="317" y="79"/>
                </a:lnTo>
                <a:lnTo>
                  <a:pt x="346" y="100"/>
                </a:lnTo>
                <a:lnTo>
                  <a:pt x="346" y="159"/>
                </a:lnTo>
                <a:lnTo>
                  <a:pt x="317" y="173"/>
                </a:lnTo>
                <a:lnTo>
                  <a:pt x="309" y="181"/>
                </a:lnTo>
                <a:lnTo>
                  <a:pt x="273" y="181"/>
                </a:lnTo>
                <a:lnTo>
                  <a:pt x="252" y="202"/>
                </a:lnTo>
                <a:lnTo>
                  <a:pt x="259" y="231"/>
                </a:lnTo>
                <a:lnTo>
                  <a:pt x="266" y="238"/>
                </a:lnTo>
                <a:lnTo>
                  <a:pt x="245" y="267"/>
                </a:lnTo>
                <a:lnTo>
                  <a:pt x="223" y="267"/>
                </a:lnTo>
                <a:lnTo>
                  <a:pt x="223" y="310"/>
                </a:lnTo>
                <a:lnTo>
                  <a:pt x="216" y="317"/>
                </a:lnTo>
                <a:lnTo>
                  <a:pt x="216" y="346"/>
                </a:lnTo>
                <a:lnTo>
                  <a:pt x="201" y="368"/>
                </a:lnTo>
                <a:lnTo>
                  <a:pt x="194" y="404"/>
                </a:lnTo>
                <a:lnTo>
                  <a:pt x="180" y="432"/>
                </a:lnTo>
                <a:lnTo>
                  <a:pt x="187" y="440"/>
                </a:lnTo>
                <a:lnTo>
                  <a:pt x="173" y="468"/>
                </a:lnTo>
                <a:lnTo>
                  <a:pt x="158" y="468"/>
                </a:lnTo>
                <a:lnTo>
                  <a:pt x="144" y="454"/>
                </a:lnTo>
                <a:lnTo>
                  <a:pt x="72" y="476"/>
                </a:lnTo>
                <a:lnTo>
                  <a:pt x="64" y="461"/>
                </a:lnTo>
                <a:lnTo>
                  <a:pt x="93" y="411"/>
                </a:lnTo>
                <a:lnTo>
                  <a:pt x="64" y="404"/>
                </a:lnTo>
                <a:lnTo>
                  <a:pt x="43" y="418"/>
                </a:lnTo>
                <a:lnTo>
                  <a:pt x="28" y="404"/>
                </a:lnTo>
                <a:lnTo>
                  <a:pt x="28" y="368"/>
                </a:lnTo>
                <a:lnTo>
                  <a:pt x="43" y="353"/>
                </a:lnTo>
                <a:lnTo>
                  <a:pt x="57" y="346"/>
                </a:lnTo>
                <a:lnTo>
                  <a:pt x="50" y="324"/>
                </a:lnTo>
                <a:lnTo>
                  <a:pt x="36" y="324"/>
                </a:lnTo>
                <a:lnTo>
                  <a:pt x="36" y="310"/>
                </a:lnTo>
                <a:lnTo>
                  <a:pt x="21" y="296"/>
                </a:lnTo>
                <a:lnTo>
                  <a:pt x="14" y="245"/>
                </a:lnTo>
                <a:lnTo>
                  <a:pt x="0" y="231"/>
                </a:lnTo>
                <a:lnTo>
                  <a:pt x="7" y="202"/>
                </a:lnTo>
                <a:lnTo>
                  <a:pt x="36" y="173"/>
                </a:lnTo>
                <a:lnTo>
                  <a:pt x="43" y="152"/>
                </a:lnTo>
                <a:lnTo>
                  <a:pt x="28" y="137"/>
                </a:lnTo>
                <a:lnTo>
                  <a:pt x="36" y="122"/>
                </a:lnTo>
                <a:lnTo>
                  <a:pt x="14" y="93"/>
                </a:lnTo>
                <a:lnTo>
                  <a:pt x="36" y="71"/>
                </a:lnTo>
                <a:lnTo>
                  <a:pt x="72" y="71"/>
                </a:lnTo>
                <a:lnTo>
                  <a:pt x="129" y="28"/>
                </a:lnTo>
                <a:lnTo>
                  <a:pt x="173" y="14"/>
                </a:lnTo>
                <a:lnTo>
                  <a:pt x="194" y="14"/>
                </a:lnTo>
                <a:lnTo>
                  <a:pt x="209" y="0"/>
                </a:lnTo>
                <a:lnTo>
                  <a:pt x="223" y="14"/>
                </a:lnTo>
                <a:lnTo>
                  <a:pt x="216" y="21"/>
                </a:lnTo>
                <a:lnTo>
                  <a:pt x="216" y="43"/>
                </a:lnTo>
                <a:lnTo>
                  <a:pt x="237" y="43"/>
                </a:lnTo>
                <a:lnTo>
                  <a:pt x="237" y="21"/>
                </a:lnTo>
                <a:lnTo>
                  <a:pt x="252" y="7"/>
                </a:lnTo>
                <a:lnTo>
                  <a:pt x="266" y="28"/>
                </a:lnTo>
                <a:lnTo>
                  <a:pt x="273" y="35"/>
                </a:lnTo>
                <a:lnTo>
                  <a:pt x="309" y="35"/>
                </a:lnTo>
                <a:lnTo>
                  <a:pt x="317" y="43"/>
                </a:lnTo>
              </a:path>
            </a:pathLst>
          </a:custGeom>
          <a:solidFill>
            <a:srgbClr val="ccffcc"/>
          </a:solidFill>
          <a:ln cap="rnd" w="93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8" name="Freeform 318"/>
          <p:cNvSpPr/>
          <p:nvPr/>
        </p:nvSpPr>
        <p:spPr>
          <a:xfrm>
            <a:off x="3305160" y="2259000"/>
            <a:ext cx="2178000" cy="1805040"/>
          </a:xfrm>
          <a:custGeom>
            <a:avLst/>
            <a:gdLst>
              <a:gd name="textAreaLeft" fmla="*/ 0 w 2178000"/>
              <a:gd name="textAreaRight" fmla="*/ 2178360 w 2178000"/>
              <a:gd name="textAreaTop" fmla="*/ 0 h 1805040"/>
              <a:gd name="textAreaBottom" fmla="*/ 1805400 h 1805040"/>
            </a:gdLst>
            <a:ahLst/>
            <a:rect l="textAreaLeft" t="textAreaTop" r="textAreaRight" b="textAreaBottom"/>
            <a:pathLst>
              <a:path w="983" h="933">
                <a:moveTo>
                  <a:pt x="735" y="505"/>
                </a:moveTo>
                <a:lnTo>
                  <a:pt x="728" y="534"/>
                </a:lnTo>
                <a:lnTo>
                  <a:pt x="779" y="563"/>
                </a:lnTo>
                <a:lnTo>
                  <a:pt x="771" y="592"/>
                </a:lnTo>
                <a:lnTo>
                  <a:pt x="786" y="606"/>
                </a:lnTo>
                <a:lnTo>
                  <a:pt x="771" y="635"/>
                </a:lnTo>
                <a:lnTo>
                  <a:pt x="779" y="658"/>
                </a:lnTo>
                <a:lnTo>
                  <a:pt x="843" y="701"/>
                </a:lnTo>
                <a:lnTo>
                  <a:pt x="851" y="694"/>
                </a:lnTo>
                <a:lnTo>
                  <a:pt x="858" y="665"/>
                </a:lnTo>
                <a:lnTo>
                  <a:pt x="872" y="658"/>
                </a:lnTo>
                <a:lnTo>
                  <a:pt x="865" y="613"/>
                </a:lnTo>
                <a:lnTo>
                  <a:pt x="851" y="606"/>
                </a:lnTo>
                <a:lnTo>
                  <a:pt x="851" y="577"/>
                </a:lnTo>
                <a:lnTo>
                  <a:pt x="865" y="577"/>
                </a:lnTo>
                <a:lnTo>
                  <a:pt x="865" y="541"/>
                </a:lnTo>
                <a:lnTo>
                  <a:pt x="902" y="548"/>
                </a:lnTo>
                <a:lnTo>
                  <a:pt x="917" y="570"/>
                </a:lnTo>
                <a:lnTo>
                  <a:pt x="960" y="592"/>
                </a:lnTo>
                <a:lnTo>
                  <a:pt x="982" y="613"/>
                </a:lnTo>
                <a:lnTo>
                  <a:pt x="974" y="701"/>
                </a:lnTo>
                <a:lnTo>
                  <a:pt x="917" y="701"/>
                </a:lnTo>
                <a:lnTo>
                  <a:pt x="924" y="737"/>
                </a:lnTo>
                <a:lnTo>
                  <a:pt x="895" y="737"/>
                </a:lnTo>
                <a:lnTo>
                  <a:pt x="888" y="723"/>
                </a:lnTo>
                <a:lnTo>
                  <a:pt x="843" y="723"/>
                </a:lnTo>
                <a:lnTo>
                  <a:pt x="843" y="852"/>
                </a:lnTo>
                <a:lnTo>
                  <a:pt x="815" y="838"/>
                </a:lnTo>
                <a:lnTo>
                  <a:pt x="793" y="859"/>
                </a:lnTo>
                <a:lnTo>
                  <a:pt x="800" y="867"/>
                </a:lnTo>
                <a:lnTo>
                  <a:pt x="807" y="888"/>
                </a:lnTo>
                <a:lnTo>
                  <a:pt x="786" y="895"/>
                </a:lnTo>
                <a:lnTo>
                  <a:pt x="764" y="932"/>
                </a:lnTo>
                <a:lnTo>
                  <a:pt x="721" y="932"/>
                </a:lnTo>
                <a:lnTo>
                  <a:pt x="699" y="903"/>
                </a:lnTo>
                <a:lnTo>
                  <a:pt x="678" y="845"/>
                </a:lnTo>
                <a:lnTo>
                  <a:pt x="678" y="838"/>
                </a:lnTo>
                <a:lnTo>
                  <a:pt x="656" y="838"/>
                </a:lnTo>
                <a:lnTo>
                  <a:pt x="620" y="816"/>
                </a:lnTo>
                <a:lnTo>
                  <a:pt x="606" y="780"/>
                </a:lnTo>
                <a:lnTo>
                  <a:pt x="591" y="787"/>
                </a:lnTo>
                <a:lnTo>
                  <a:pt x="570" y="795"/>
                </a:lnTo>
                <a:lnTo>
                  <a:pt x="563" y="795"/>
                </a:lnTo>
                <a:lnTo>
                  <a:pt x="563" y="809"/>
                </a:lnTo>
                <a:lnTo>
                  <a:pt x="570" y="831"/>
                </a:lnTo>
                <a:lnTo>
                  <a:pt x="555" y="867"/>
                </a:lnTo>
                <a:lnTo>
                  <a:pt x="519" y="859"/>
                </a:lnTo>
                <a:lnTo>
                  <a:pt x="534" y="831"/>
                </a:lnTo>
                <a:lnTo>
                  <a:pt x="519" y="816"/>
                </a:lnTo>
                <a:lnTo>
                  <a:pt x="483" y="809"/>
                </a:lnTo>
                <a:lnTo>
                  <a:pt x="462" y="780"/>
                </a:lnTo>
                <a:lnTo>
                  <a:pt x="469" y="766"/>
                </a:lnTo>
                <a:lnTo>
                  <a:pt x="483" y="766"/>
                </a:lnTo>
                <a:lnTo>
                  <a:pt x="527" y="773"/>
                </a:lnTo>
                <a:lnTo>
                  <a:pt x="555" y="759"/>
                </a:lnTo>
                <a:lnTo>
                  <a:pt x="563" y="744"/>
                </a:lnTo>
                <a:lnTo>
                  <a:pt x="534" y="737"/>
                </a:lnTo>
                <a:lnTo>
                  <a:pt x="534" y="715"/>
                </a:lnTo>
                <a:lnTo>
                  <a:pt x="577" y="701"/>
                </a:lnTo>
                <a:lnTo>
                  <a:pt x="584" y="665"/>
                </a:lnTo>
                <a:lnTo>
                  <a:pt x="606" y="665"/>
                </a:lnTo>
                <a:lnTo>
                  <a:pt x="620" y="635"/>
                </a:lnTo>
                <a:lnTo>
                  <a:pt x="599" y="534"/>
                </a:lnTo>
                <a:lnTo>
                  <a:pt x="555" y="455"/>
                </a:lnTo>
                <a:lnTo>
                  <a:pt x="548" y="484"/>
                </a:lnTo>
                <a:lnTo>
                  <a:pt x="469" y="404"/>
                </a:lnTo>
                <a:lnTo>
                  <a:pt x="447" y="411"/>
                </a:lnTo>
                <a:lnTo>
                  <a:pt x="396" y="375"/>
                </a:lnTo>
                <a:lnTo>
                  <a:pt x="381" y="339"/>
                </a:lnTo>
                <a:lnTo>
                  <a:pt x="324" y="347"/>
                </a:lnTo>
                <a:lnTo>
                  <a:pt x="259" y="318"/>
                </a:lnTo>
                <a:lnTo>
                  <a:pt x="244" y="375"/>
                </a:lnTo>
                <a:lnTo>
                  <a:pt x="158" y="311"/>
                </a:lnTo>
                <a:lnTo>
                  <a:pt x="57" y="267"/>
                </a:lnTo>
                <a:lnTo>
                  <a:pt x="0" y="275"/>
                </a:lnTo>
                <a:lnTo>
                  <a:pt x="14" y="181"/>
                </a:lnTo>
                <a:lnTo>
                  <a:pt x="28" y="159"/>
                </a:lnTo>
                <a:lnTo>
                  <a:pt x="50" y="166"/>
                </a:lnTo>
                <a:lnTo>
                  <a:pt x="79" y="130"/>
                </a:lnTo>
                <a:lnTo>
                  <a:pt x="129" y="109"/>
                </a:lnTo>
                <a:lnTo>
                  <a:pt x="158" y="87"/>
                </a:lnTo>
                <a:lnTo>
                  <a:pt x="158" y="73"/>
                </a:lnTo>
                <a:lnTo>
                  <a:pt x="223" y="73"/>
                </a:lnTo>
                <a:lnTo>
                  <a:pt x="244" y="44"/>
                </a:lnTo>
                <a:lnTo>
                  <a:pt x="244" y="7"/>
                </a:lnTo>
                <a:lnTo>
                  <a:pt x="266" y="0"/>
                </a:lnTo>
                <a:lnTo>
                  <a:pt x="309" y="14"/>
                </a:lnTo>
                <a:lnTo>
                  <a:pt x="331" y="80"/>
                </a:lnTo>
                <a:lnTo>
                  <a:pt x="331" y="116"/>
                </a:lnTo>
                <a:lnTo>
                  <a:pt x="338" y="138"/>
                </a:lnTo>
                <a:lnTo>
                  <a:pt x="360" y="174"/>
                </a:lnTo>
                <a:lnTo>
                  <a:pt x="360" y="195"/>
                </a:lnTo>
                <a:lnTo>
                  <a:pt x="367" y="217"/>
                </a:lnTo>
                <a:lnTo>
                  <a:pt x="381" y="217"/>
                </a:lnTo>
                <a:lnTo>
                  <a:pt x="381" y="188"/>
                </a:lnTo>
                <a:lnTo>
                  <a:pt x="469" y="195"/>
                </a:lnTo>
                <a:lnTo>
                  <a:pt x="476" y="224"/>
                </a:lnTo>
                <a:lnTo>
                  <a:pt x="469" y="246"/>
                </a:lnTo>
                <a:lnTo>
                  <a:pt x="440" y="275"/>
                </a:lnTo>
                <a:lnTo>
                  <a:pt x="440" y="282"/>
                </a:lnTo>
                <a:lnTo>
                  <a:pt x="498" y="332"/>
                </a:lnTo>
                <a:lnTo>
                  <a:pt x="498" y="361"/>
                </a:lnTo>
                <a:lnTo>
                  <a:pt x="563" y="397"/>
                </a:lnTo>
                <a:lnTo>
                  <a:pt x="570" y="383"/>
                </a:lnTo>
                <a:lnTo>
                  <a:pt x="563" y="354"/>
                </a:lnTo>
                <a:lnTo>
                  <a:pt x="606" y="354"/>
                </a:lnTo>
                <a:lnTo>
                  <a:pt x="613" y="361"/>
                </a:lnTo>
                <a:lnTo>
                  <a:pt x="671" y="354"/>
                </a:lnTo>
                <a:lnTo>
                  <a:pt x="699" y="347"/>
                </a:lnTo>
                <a:lnTo>
                  <a:pt x="721" y="368"/>
                </a:lnTo>
                <a:lnTo>
                  <a:pt x="671" y="411"/>
                </a:lnTo>
                <a:lnTo>
                  <a:pt x="663" y="440"/>
                </a:lnTo>
                <a:lnTo>
                  <a:pt x="656" y="469"/>
                </a:lnTo>
                <a:lnTo>
                  <a:pt x="692" y="512"/>
                </a:lnTo>
                <a:lnTo>
                  <a:pt x="735" y="505"/>
                </a:lnTo>
              </a:path>
            </a:pathLst>
          </a:custGeom>
          <a:solidFill>
            <a:srgbClr val="ff99ff"/>
          </a:solidFill>
          <a:ln cap="rnd"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9" name="Freeform 319"/>
          <p:cNvSpPr/>
          <p:nvPr/>
        </p:nvSpPr>
        <p:spPr>
          <a:xfrm>
            <a:off x="3983040" y="619200"/>
            <a:ext cx="3635280" cy="2652480"/>
          </a:xfrm>
          <a:custGeom>
            <a:avLst/>
            <a:gdLst>
              <a:gd name="textAreaLeft" fmla="*/ 0 w 3635280"/>
              <a:gd name="textAreaRight" fmla="*/ 3635640 w 3635280"/>
              <a:gd name="textAreaTop" fmla="*/ 0 h 2652480"/>
              <a:gd name="textAreaBottom" fmla="*/ 2652840 h 2652480"/>
            </a:gdLst>
            <a:ahLst/>
            <a:rect l="textAreaLeft" t="textAreaTop" r="textAreaRight" b="textAreaBottom"/>
            <a:pathLst>
              <a:path w="1641" h="1371">
                <a:moveTo>
                  <a:pt x="0" y="872"/>
                </a:moveTo>
                <a:lnTo>
                  <a:pt x="21" y="938"/>
                </a:lnTo>
                <a:lnTo>
                  <a:pt x="28" y="988"/>
                </a:lnTo>
                <a:lnTo>
                  <a:pt x="50" y="1031"/>
                </a:lnTo>
                <a:lnTo>
                  <a:pt x="64" y="1074"/>
                </a:lnTo>
                <a:lnTo>
                  <a:pt x="79" y="1074"/>
                </a:lnTo>
                <a:lnTo>
                  <a:pt x="72" y="1046"/>
                </a:lnTo>
                <a:lnTo>
                  <a:pt x="159" y="1060"/>
                </a:lnTo>
                <a:lnTo>
                  <a:pt x="159" y="1082"/>
                </a:lnTo>
                <a:lnTo>
                  <a:pt x="159" y="1103"/>
                </a:lnTo>
                <a:lnTo>
                  <a:pt x="130" y="1125"/>
                </a:lnTo>
                <a:lnTo>
                  <a:pt x="130" y="1146"/>
                </a:lnTo>
                <a:lnTo>
                  <a:pt x="188" y="1190"/>
                </a:lnTo>
                <a:lnTo>
                  <a:pt x="188" y="1226"/>
                </a:lnTo>
                <a:lnTo>
                  <a:pt x="246" y="1254"/>
                </a:lnTo>
                <a:lnTo>
                  <a:pt x="260" y="1247"/>
                </a:lnTo>
                <a:lnTo>
                  <a:pt x="253" y="1204"/>
                </a:lnTo>
                <a:lnTo>
                  <a:pt x="296" y="1211"/>
                </a:lnTo>
                <a:lnTo>
                  <a:pt x="303" y="1218"/>
                </a:lnTo>
                <a:lnTo>
                  <a:pt x="390" y="1204"/>
                </a:lnTo>
                <a:lnTo>
                  <a:pt x="411" y="1226"/>
                </a:lnTo>
                <a:lnTo>
                  <a:pt x="361" y="1269"/>
                </a:lnTo>
                <a:lnTo>
                  <a:pt x="346" y="1326"/>
                </a:lnTo>
                <a:lnTo>
                  <a:pt x="382" y="1370"/>
                </a:lnTo>
                <a:lnTo>
                  <a:pt x="433" y="1362"/>
                </a:lnTo>
                <a:lnTo>
                  <a:pt x="462" y="1334"/>
                </a:lnTo>
                <a:lnTo>
                  <a:pt x="491" y="1326"/>
                </a:lnTo>
                <a:lnTo>
                  <a:pt x="498" y="1262"/>
                </a:lnTo>
                <a:lnTo>
                  <a:pt x="563" y="1204"/>
                </a:lnTo>
                <a:lnTo>
                  <a:pt x="570" y="1233"/>
                </a:lnTo>
                <a:lnTo>
                  <a:pt x="555" y="1305"/>
                </a:lnTo>
                <a:lnTo>
                  <a:pt x="600" y="1319"/>
                </a:lnTo>
                <a:lnTo>
                  <a:pt x="643" y="1355"/>
                </a:lnTo>
                <a:lnTo>
                  <a:pt x="665" y="1362"/>
                </a:lnTo>
                <a:lnTo>
                  <a:pt x="686" y="1362"/>
                </a:lnTo>
                <a:lnTo>
                  <a:pt x="693" y="1334"/>
                </a:lnTo>
                <a:lnTo>
                  <a:pt x="708" y="1334"/>
                </a:lnTo>
                <a:lnTo>
                  <a:pt x="701" y="1290"/>
                </a:lnTo>
                <a:lnTo>
                  <a:pt x="765" y="1233"/>
                </a:lnTo>
                <a:lnTo>
                  <a:pt x="765" y="1211"/>
                </a:lnTo>
                <a:lnTo>
                  <a:pt x="801" y="1211"/>
                </a:lnTo>
                <a:lnTo>
                  <a:pt x="809" y="1218"/>
                </a:lnTo>
                <a:lnTo>
                  <a:pt x="816" y="1197"/>
                </a:lnTo>
                <a:lnTo>
                  <a:pt x="830" y="1197"/>
                </a:lnTo>
                <a:lnTo>
                  <a:pt x="845" y="1218"/>
                </a:lnTo>
                <a:lnTo>
                  <a:pt x="852" y="1190"/>
                </a:lnTo>
                <a:lnTo>
                  <a:pt x="874" y="1190"/>
                </a:lnTo>
                <a:lnTo>
                  <a:pt x="917" y="1132"/>
                </a:lnTo>
                <a:lnTo>
                  <a:pt x="960" y="1125"/>
                </a:lnTo>
                <a:lnTo>
                  <a:pt x="974" y="1110"/>
                </a:lnTo>
                <a:lnTo>
                  <a:pt x="989" y="1118"/>
                </a:lnTo>
                <a:lnTo>
                  <a:pt x="1032" y="1103"/>
                </a:lnTo>
                <a:lnTo>
                  <a:pt x="1010" y="1024"/>
                </a:lnTo>
                <a:lnTo>
                  <a:pt x="1025" y="1017"/>
                </a:lnTo>
                <a:lnTo>
                  <a:pt x="1032" y="981"/>
                </a:lnTo>
                <a:lnTo>
                  <a:pt x="1062" y="966"/>
                </a:lnTo>
                <a:lnTo>
                  <a:pt x="1091" y="1017"/>
                </a:lnTo>
                <a:lnTo>
                  <a:pt x="1134" y="981"/>
                </a:lnTo>
                <a:lnTo>
                  <a:pt x="1148" y="988"/>
                </a:lnTo>
                <a:lnTo>
                  <a:pt x="1156" y="966"/>
                </a:lnTo>
                <a:lnTo>
                  <a:pt x="1199" y="974"/>
                </a:lnTo>
                <a:lnTo>
                  <a:pt x="1199" y="930"/>
                </a:lnTo>
                <a:lnTo>
                  <a:pt x="1249" y="909"/>
                </a:lnTo>
                <a:lnTo>
                  <a:pt x="1278" y="952"/>
                </a:lnTo>
                <a:lnTo>
                  <a:pt x="1278" y="1002"/>
                </a:lnTo>
                <a:lnTo>
                  <a:pt x="1300" y="1017"/>
                </a:lnTo>
                <a:lnTo>
                  <a:pt x="1336" y="1010"/>
                </a:lnTo>
                <a:lnTo>
                  <a:pt x="1350" y="1010"/>
                </a:lnTo>
                <a:lnTo>
                  <a:pt x="1350" y="988"/>
                </a:lnTo>
                <a:lnTo>
                  <a:pt x="1350" y="952"/>
                </a:lnTo>
                <a:lnTo>
                  <a:pt x="1336" y="923"/>
                </a:lnTo>
                <a:lnTo>
                  <a:pt x="1357" y="930"/>
                </a:lnTo>
                <a:lnTo>
                  <a:pt x="1386" y="966"/>
                </a:lnTo>
                <a:lnTo>
                  <a:pt x="1524" y="864"/>
                </a:lnTo>
                <a:lnTo>
                  <a:pt x="1553" y="864"/>
                </a:lnTo>
                <a:lnTo>
                  <a:pt x="1603" y="836"/>
                </a:lnTo>
                <a:lnTo>
                  <a:pt x="1596" y="807"/>
                </a:lnTo>
                <a:lnTo>
                  <a:pt x="1582" y="807"/>
                </a:lnTo>
                <a:lnTo>
                  <a:pt x="1582" y="764"/>
                </a:lnTo>
                <a:lnTo>
                  <a:pt x="1560" y="706"/>
                </a:lnTo>
                <a:lnTo>
                  <a:pt x="1510" y="742"/>
                </a:lnTo>
                <a:lnTo>
                  <a:pt x="1480" y="685"/>
                </a:lnTo>
                <a:lnTo>
                  <a:pt x="1494" y="656"/>
                </a:lnTo>
                <a:lnTo>
                  <a:pt x="1451" y="620"/>
                </a:lnTo>
                <a:lnTo>
                  <a:pt x="1458" y="591"/>
                </a:lnTo>
                <a:lnTo>
                  <a:pt x="1503" y="620"/>
                </a:lnTo>
                <a:lnTo>
                  <a:pt x="1539" y="620"/>
                </a:lnTo>
                <a:lnTo>
                  <a:pt x="1524" y="569"/>
                </a:lnTo>
                <a:lnTo>
                  <a:pt x="1524" y="541"/>
                </a:lnTo>
                <a:lnTo>
                  <a:pt x="1560" y="519"/>
                </a:lnTo>
                <a:lnTo>
                  <a:pt x="1553" y="505"/>
                </a:lnTo>
                <a:lnTo>
                  <a:pt x="1517" y="519"/>
                </a:lnTo>
                <a:lnTo>
                  <a:pt x="1487" y="476"/>
                </a:lnTo>
                <a:lnTo>
                  <a:pt x="1575" y="375"/>
                </a:lnTo>
                <a:lnTo>
                  <a:pt x="1596" y="397"/>
                </a:lnTo>
                <a:lnTo>
                  <a:pt x="1596" y="332"/>
                </a:lnTo>
                <a:lnTo>
                  <a:pt x="1618" y="303"/>
                </a:lnTo>
                <a:lnTo>
                  <a:pt x="1611" y="237"/>
                </a:lnTo>
                <a:lnTo>
                  <a:pt x="1640" y="143"/>
                </a:lnTo>
                <a:lnTo>
                  <a:pt x="1596" y="93"/>
                </a:lnTo>
                <a:lnTo>
                  <a:pt x="1560" y="136"/>
                </a:lnTo>
                <a:lnTo>
                  <a:pt x="1539" y="136"/>
                </a:lnTo>
                <a:lnTo>
                  <a:pt x="1494" y="151"/>
                </a:lnTo>
                <a:lnTo>
                  <a:pt x="1465" y="129"/>
                </a:lnTo>
                <a:lnTo>
                  <a:pt x="1451" y="79"/>
                </a:lnTo>
                <a:lnTo>
                  <a:pt x="1422" y="57"/>
                </a:lnTo>
                <a:lnTo>
                  <a:pt x="1408" y="79"/>
                </a:lnTo>
                <a:lnTo>
                  <a:pt x="1372" y="64"/>
                </a:lnTo>
                <a:lnTo>
                  <a:pt x="1386" y="28"/>
                </a:lnTo>
                <a:lnTo>
                  <a:pt x="1379" y="0"/>
                </a:lnTo>
                <a:lnTo>
                  <a:pt x="1343" y="0"/>
                </a:lnTo>
                <a:lnTo>
                  <a:pt x="1300" y="43"/>
                </a:lnTo>
                <a:lnTo>
                  <a:pt x="1300" y="64"/>
                </a:lnTo>
                <a:lnTo>
                  <a:pt x="1336" y="64"/>
                </a:lnTo>
                <a:lnTo>
                  <a:pt x="1343" y="93"/>
                </a:lnTo>
                <a:lnTo>
                  <a:pt x="1307" y="151"/>
                </a:lnTo>
                <a:lnTo>
                  <a:pt x="1300" y="187"/>
                </a:lnTo>
                <a:lnTo>
                  <a:pt x="1278" y="223"/>
                </a:lnTo>
                <a:lnTo>
                  <a:pt x="1278" y="251"/>
                </a:lnTo>
                <a:lnTo>
                  <a:pt x="1285" y="266"/>
                </a:lnTo>
                <a:lnTo>
                  <a:pt x="1213" y="325"/>
                </a:lnTo>
                <a:lnTo>
                  <a:pt x="1170" y="310"/>
                </a:lnTo>
                <a:lnTo>
                  <a:pt x="1141" y="303"/>
                </a:lnTo>
                <a:lnTo>
                  <a:pt x="1091" y="454"/>
                </a:lnTo>
                <a:lnTo>
                  <a:pt x="1105" y="483"/>
                </a:lnTo>
                <a:lnTo>
                  <a:pt x="1141" y="476"/>
                </a:lnTo>
                <a:lnTo>
                  <a:pt x="1192" y="476"/>
                </a:lnTo>
                <a:lnTo>
                  <a:pt x="1192" y="483"/>
                </a:lnTo>
                <a:lnTo>
                  <a:pt x="1213" y="461"/>
                </a:lnTo>
                <a:lnTo>
                  <a:pt x="1242" y="454"/>
                </a:lnTo>
                <a:lnTo>
                  <a:pt x="1271" y="461"/>
                </a:lnTo>
                <a:lnTo>
                  <a:pt x="1307" y="497"/>
                </a:lnTo>
                <a:lnTo>
                  <a:pt x="1336" y="533"/>
                </a:lnTo>
                <a:lnTo>
                  <a:pt x="1336" y="562"/>
                </a:lnTo>
                <a:lnTo>
                  <a:pt x="1307" y="562"/>
                </a:lnTo>
                <a:lnTo>
                  <a:pt x="1249" y="577"/>
                </a:lnTo>
                <a:lnTo>
                  <a:pt x="1199" y="577"/>
                </a:lnTo>
                <a:lnTo>
                  <a:pt x="1199" y="591"/>
                </a:lnTo>
                <a:lnTo>
                  <a:pt x="1170" y="598"/>
                </a:lnTo>
                <a:lnTo>
                  <a:pt x="1141" y="620"/>
                </a:lnTo>
                <a:lnTo>
                  <a:pt x="1141" y="656"/>
                </a:lnTo>
                <a:lnTo>
                  <a:pt x="1112" y="670"/>
                </a:lnTo>
                <a:lnTo>
                  <a:pt x="1048" y="677"/>
                </a:lnTo>
                <a:lnTo>
                  <a:pt x="996" y="735"/>
                </a:lnTo>
                <a:lnTo>
                  <a:pt x="917" y="735"/>
                </a:lnTo>
                <a:lnTo>
                  <a:pt x="902" y="713"/>
                </a:lnTo>
                <a:lnTo>
                  <a:pt x="874" y="720"/>
                </a:lnTo>
                <a:lnTo>
                  <a:pt x="866" y="749"/>
                </a:lnTo>
                <a:lnTo>
                  <a:pt x="845" y="778"/>
                </a:lnTo>
                <a:lnTo>
                  <a:pt x="881" y="828"/>
                </a:lnTo>
                <a:lnTo>
                  <a:pt x="830" y="872"/>
                </a:lnTo>
                <a:lnTo>
                  <a:pt x="801" y="909"/>
                </a:lnTo>
                <a:lnTo>
                  <a:pt x="737" y="945"/>
                </a:lnTo>
                <a:lnTo>
                  <a:pt x="643" y="945"/>
                </a:lnTo>
                <a:lnTo>
                  <a:pt x="578" y="959"/>
                </a:lnTo>
                <a:lnTo>
                  <a:pt x="527" y="974"/>
                </a:lnTo>
                <a:lnTo>
                  <a:pt x="476" y="1010"/>
                </a:lnTo>
                <a:lnTo>
                  <a:pt x="440" y="1010"/>
                </a:lnTo>
                <a:lnTo>
                  <a:pt x="411" y="981"/>
                </a:lnTo>
                <a:lnTo>
                  <a:pt x="361" y="981"/>
                </a:lnTo>
                <a:lnTo>
                  <a:pt x="318" y="959"/>
                </a:lnTo>
                <a:lnTo>
                  <a:pt x="289" y="952"/>
                </a:lnTo>
                <a:lnTo>
                  <a:pt x="260" y="916"/>
                </a:lnTo>
                <a:lnTo>
                  <a:pt x="188" y="902"/>
                </a:lnTo>
                <a:lnTo>
                  <a:pt x="116" y="902"/>
                </a:lnTo>
                <a:lnTo>
                  <a:pt x="79" y="879"/>
                </a:lnTo>
                <a:lnTo>
                  <a:pt x="0" y="872"/>
                </a:lnTo>
              </a:path>
            </a:pathLst>
          </a:custGeom>
          <a:solidFill>
            <a:srgbClr val="9ed3d7"/>
          </a:solidFill>
          <a:ln cap="rnd"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0" name="Freeform 320"/>
          <p:cNvSpPr/>
          <p:nvPr/>
        </p:nvSpPr>
        <p:spPr>
          <a:xfrm>
            <a:off x="668160" y="1057320"/>
            <a:ext cx="3232440" cy="2208240"/>
          </a:xfrm>
          <a:custGeom>
            <a:avLst/>
            <a:gdLst>
              <a:gd name="textAreaLeft" fmla="*/ 0 w 3232440"/>
              <a:gd name="textAreaRight" fmla="*/ 3232800 w 3232440"/>
              <a:gd name="textAreaTop" fmla="*/ 0 h 2208240"/>
              <a:gd name="textAreaBottom" fmla="*/ 2208600 h 2208240"/>
            </a:gdLst>
            <a:ahLst/>
            <a:rect l="textAreaLeft" t="textAreaTop" r="textAreaRight" b="textAreaBottom"/>
            <a:pathLst>
              <a:path w="1459" h="1141">
                <a:moveTo>
                  <a:pt x="1458" y="627"/>
                </a:moveTo>
                <a:lnTo>
                  <a:pt x="1436" y="642"/>
                </a:lnTo>
                <a:lnTo>
                  <a:pt x="1436" y="664"/>
                </a:lnTo>
                <a:lnTo>
                  <a:pt x="1422" y="700"/>
                </a:lnTo>
                <a:lnTo>
                  <a:pt x="1386" y="700"/>
                </a:lnTo>
                <a:lnTo>
                  <a:pt x="1350" y="700"/>
                </a:lnTo>
                <a:lnTo>
                  <a:pt x="1350" y="715"/>
                </a:lnTo>
                <a:lnTo>
                  <a:pt x="1321" y="736"/>
                </a:lnTo>
                <a:lnTo>
                  <a:pt x="1278" y="751"/>
                </a:lnTo>
                <a:lnTo>
                  <a:pt x="1242" y="794"/>
                </a:lnTo>
                <a:lnTo>
                  <a:pt x="1220" y="787"/>
                </a:lnTo>
                <a:lnTo>
                  <a:pt x="1206" y="808"/>
                </a:lnTo>
                <a:lnTo>
                  <a:pt x="1191" y="902"/>
                </a:lnTo>
                <a:lnTo>
                  <a:pt x="1075" y="916"/>
                </a:lnTo>
                <a:lnTo>
                  <a:pt x="1017" y="931"/>
                </a:lnTo>
                <a:lnTo>
                  <a:pt x="1010" y="981"/>
                </a:lnTo>
                <a:lnTo>
                  <a:pt x="1053" y="1024"/>
                </a:lnTo>
                <a:lnTo>
                  <a:pt x="1053" y="1046"/>
                </a:lnTo>
                <a:lnTo>
                  <a:pt x="1017" y="1068"/>
                </a:lnTo>
                <a:lnTo>
                  <a:pt x="1017" y="1096"/>
                </a:lnTo>
                <a:lnTo>
                  <a:pt x="1032" y="1104"/>
                </a:lnTo>
                <a:lnTo>
                  <a:pt x="1024" y="1140"/>
                </a:lnTo>
                <a:lnTo>
                  <a:pt x="967" y="1118"/>
                </a:lnTo>
                <a:lnTo>
                  <a:pt x="960" y="1125"/>
                </a:lnTo>
                <a:lnTo>
                  <a:pt x="931" y="1125"/>
                </a:lnTo>
                <a:lnTo>
                  <a:pt x="931" y="1104"/>
                </a:lnTo>
                <a:lnTo>
                  <a:pt x="873" y="1082"/>
                </a:lnTo>
                <a:lnTo>
                  <a:pt x="844" y="1060"/>
                </a:lnTo>
                <a:lnTo>
                  <a:pt x="715" y="1068"/>
                </a:lnTo>
                <a:lnTo>
                  <a:pt x="693" y="1096"/>
                </a:lnTo>
                <a:lnTo>
                  <a:pt x="606" y="1089"/>
                </a:lnTo>
                <a:lnTo>
                  <a:pt x="584" y="1104"/>
                </a:lnTo>
                <a:lnTo>
                  <a:pt x="505" y="1089"/>
                </a:lnTo>
                <a:lnTo>
                  <a:pt x="490" y="1053"/>
                </a:lnTo>
                <a:lnTo>
                  <a:pt x="440" y="1046"/>
                </a:lnTo>
                <a:lnTo>
                  <a:pt x="418" y="1060"/>
                </a:lnTo>
                <a:lnTo>
                  <a:pt x="346" y="1032"/>
                </a:lnTo>
                <a:lnTo>
                  <a:pt x="318" y="1032"/>
                </a:lnTo>
                <a:lnTo>
                  <a:pt x="289" y="1068"/>
                </a:lnTo>
                <a:lnTo>
                  <a:pt x="246" y="1096"/>
                </a:lnTo>
                <a:lnTo>
                  <a:pt x="201" y="1082"/>
                </a:lnTo>
                <a:lnTo>
                  <a:pt x="172" y="1046"/>
                </a:lnTo>
                <a:lnTo>
                  <a:pt x="172" y="967"/>
                </a:lnTo>
                <a:lnTo>
                  <a:pt x="122" y="952"/>
                </a:lnTo>
                <a:lnTo>
                  <a:pt x="79" y="902"/>
                </a:lnTo>
                <a:lnTo>
                  <a:pt x="64" y="888"/>
                </a:lnTo>
                <a:lnTo>
                  <a:pt x="57" y="866"/>
                </a:lnTo>
                <a:lnTo>
                  <a:pt x="72" y="866"/>
                </a:lnTo>
                <a:lnTo>
                  <a:pt x="72" y="830"/>
                </a:lnTo>
                <a:lnTo>
                  <a:pt x="43" y="787"/>
                </a:lnTo>
                <a:lnTo>
                  <a:pt x="14" y="787"/>
                </a:lnTo>
                <a:lnTo>
                  <a:pt x="7" y="765"/>
                </a:lnTo>
                <a:lnTo>
                  <a:pt x="14" y="751"/>
                </a:lnTo>
                <a:lnTo>
                  <a:pt x="36" y="758"/>
                </a:lnTo>
                <a:lnTo>
                  <a:pt x="50" y="744"/>
                </a:lnTo>
                <a:lnTo>
                  <a:pt x="43" y="679"/>
                </a:lnTo>
                <a:lnTo>
                  <a:pt x="57" y="656"/>
                </a:lnTo>
                <a:lnTo>
                  <a:pt x="28" y="627"/>
                </a:lnTo>
                <a:lnTo>
                  <a:pt x="7" y="627"/>
                </a:lnTo>
                <a:lnTo>
                  <a:pt x="0" y="577"/>
                </a:lnTo>
                <a:lnTo>
                  <a:pt x="57" y="512"/>
                </a:lnTo>
                <a:lnTo>
                  <a:pt x="100" y="512"/>
                </a:lnTo>
                <a:lnTo>
                  <a:pt x="129" y="498"/>
                </a:lnTo>
                <a:lnTo>
                  <a:pt x="151" y="505"/>
                </a:lnTo>
                <a:lnTo>
                  <a:pt x="158" y="498"/>
                </a:lnTo>
                <a:lnTo>
                  <a:pt x="172" y="526"/>
                </a:lnTo>
                <a:lnTo>
                  <a:pt x="194" y="519"/>
                </a:lnTo>
                <a:lnTo>
                  <a:pt x="231" y="534"/>
                </a:lnTo>
                <a:lnTo>
                  <a:pt x="238" y="498"/>
                </a:lnTo>
                <a:lnTo>
                  <a:pt x="346" y="505"/>
                </a:lnTo>
                <a:lnTo>
                  <a:pt x="368" y="476"/>
                </a:lnTo>
                <a:lnTo>
                  <a:pt x="476" y="469"/>
                </a:lnTo>
                <a:lnTo>
                  <a:pt x="490" y="454"/>
                </a:lnTo>
                <a:lnTo>
                  <a:pt x="490" y="418"/>
                </a:lnTo>
                <a:lnTo>
                  <a:pt x="526" y="390"/>
                </a:lnTo>
                <a:lnTo>
                  <a:pt x="541" y="260"/>
                </a:lnTo>
                <a:lnTo>
                  <a:pt x="526" y="253"/>
                </a:lnTo>
                <a:lnTo>
                  <a:pt x="526" y="224"/>
                </a:lnTo>
                <a:lnTo>
                  <a:pt x="663" y="231"/>
                </a:lnTo>
                <a:lnTo>
                  <a:pt x="678" y="246"/>
                </a:lnTo>
                <a:lnTo>
                  <a:pt x="693" y="195"/>
                </a:lnTo>
                <a:lnTo>
                  <a:pt x="758" y="109"/>
                </a:lnTo>
                <a:lnTo>
                  <a:pt x="859" y="145"/>
                </a:lnTo>
                <a:lnTo>
                  <a:pt x="902" y="145"/>
                </a:lnTo>
                <a:lnTo>
                  <a:pt x="909" y="116"/>
                </a:lnTo>
                <a:lnTo>
                  <a:pt x="902" y="87"/>
                </a:lnTo>
                <a:lnTo>
                  <a:pt x="931" y="51"/>
                </a:lnTo>
                <a:lnTo>
                  <a:pt x="967" y="44"/>
                </a:lnTo>
                <a:lnTo>
                  <a:pt x="1003" y="21"/>
                </a:lnTo>
                <a:lnTo>
                  <a:pt x="1010" y="0"/>
                </a:lnTo>
                <a:lnTo>
                  <a:pt x="1060" y="0"/>
                </a:lnTo>
                <a:lnTo>
                  <a:pt x="1060" y="14"/>
                </a:lnTo>
                <a:lnTo>
                  <a:pt x="1046" y="28"/>
                </a:lnTo>
                <a:lnTo>
                  <a:pt x="1060" y="51"/>
                </a:lnTo>
                <a:lnTo>
                  <a:pt x="1068" y="80"/>
                </a:lnTo>
                <a:lnTo>
                  <a:pt x="1104" y="123"/>
                </a:lnTo>
                <a:lnTo>
                  <a:pt x="1132" y="130"/>
                </a:lnTo>
                <a:lnTo>
                  <a:pt x="1177" y="159"/>
                </a:lnTo>
                <a:lnTo>
                  <a:pt x="1177" y="224"/>
                </a:lnTo>
                <a:lnTo>
                  <a:pt x="1191" y="274"/>
                </a:lnTo>
                <a:lnTo>
                  <a:pt x="1155" y="332"/>
                </a:lnTo>
                <a:lnTo>
                  <a:pt x="1162" y="375"/>
                </a:lnTo>
                <a:lnTo>
                  <a:pt x="1206" y="397"/>
                </a:lnTo>
                <a:lnTo>
                  <a:pt x="1278" y="411"/>
                </a:lnTo>
                <a:lnTo>
                  <a:pt x="1335" y="433"/>
                </a:lnTo>
                <a:lnTo>
                  <a:pt x="1378" y="490"/>
                </a:lnTo>
                <a:lnTo>
                  <a:pt x="1414" y="490"/>
                </a:lnTo>
                <a:lnTo>
                  <a:pt x="1407" y="534"/>
                </a:lnTo>
                <a:lnTo>
                  <a:pt x="1429" y="570"/>
                </a:lnTo>
                <a:lnTo>
                  <a:pt x="1458" y="627"/>
                </a:lnTo>
              </a:path>
            </a:pathLst>
          </a:custGeom>
          <a:solidFill>
            <a:srgbClr val="ff99ff"/>
          </a:solidFill>
          <a:ln cap="rnd"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1" name="Freeform 321"/>
          <p:cNvSpPr/>
          <p:nvPr/>
        </p:nvSpPr>
        <p:spPr>
          <a:xfrm>
            <a:off x="5440320" y="6094440"/>
            <a:ext cx="463680" cy="349200"/>
          </a:xfrm>
          <a:custGeom>
            <a:avLst/>
            <a:gdLst>
              <a:gd name="textAreaLeft" fmla="*/ 0 w 463680"/>
              <a:gd name="textAreaRight" fmla="*/ 464040 w 46368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210" h="181">
                <a:moveTo>
                  <a:pt x="57" y="14"/>
                </a:moveTo>
                <a:lnTo>
                  <a:pt x="72" y="21"/>
                </a:lnTo>
                <a:lnTo>
                  <a:pt x="93" y="7"/>
                </a:lnTo>
                <a:lnTo>
                  <a:pt x="115" y="14"/>
                </a:lnTo>
                <a:lnTo>
                  <a:pt x="136" y="0"/>
                </a:lnTo>
                <a:lnTo>
                  <a:pt x="180" y="7"/>
                </a:lnTo>
                <a:lnTo>
                  <a:pt x="201" y="0"/>
                </a:lnTo>
                <a:lnTo>
                  <a:pt x="209" y="43"/>
                </a:lnTo>
                <a:lnTo>
                  <a:pt x="180" y="57"/>
                </a:lnTo>
                <a:lnTo>
                  <a:pt x="165" y="115"/>
                </a:lnTo>
                <a:lnTo>
                  <a:pt x="151" y="129"/>
                </a:lnTo>
                <a:lnTo>
                  <a:pt x="151" y="158"/>
                </a:lnTo>
                <a:lnTo>
                  <a:pt x="122" y="158"/>
                </a:lnTo>
                <a:lnTo>
                  <a:pt x="115" y="165"/>
                </a:lnTo>
                <a:lnTo>
                  <a:pt x="115" y="180"/>
                </a:lnTo>
                <a:lnTo>
                  <a:pt x="93" y="180"/>
                </a:lnTo>
                <a:lnTo>
                  <a:pt x="57" y="165"/>
                </a:lnTo>
                <a:lnTo>
                  <a:pt x="14" y="151"/>
                </a:lnTo>
                <a:lnTo>
                  <a:pt x="0" y="100"/>
                </a:lnTo>
                <a:lnTo>
                  <a:pt x="0" y="79"/>
                </a:lnTo>
                <a:lnTo>
                  <a:pt x="50" y="36"/>
                </a:lnTo>
                <a:lnTo>
                  <a:pt x="57" y="14"/>
                </a:lnTo>
              </a:path>
            </a:pathLst>
          </a:custGeom>
          <a:solidFill>
            <a:srgbClr val="ff99ff"/>
          </a:solidFill>
          <a:ln cap="rnd" w="93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2" name="Freeform 322"/>
          <p:cNvSpPr/>
          <p:nvPr/>
        </p:nvSpPr>
        <p:spPr>
          <a:xfrm>
            <a:off x="7197840" y="1693800"/>
            <a:ext cx="1346040" cy="868320"/>
          </a:xfrm>
          <a:custGeom>
            <a:avLst/>
            <a:gdLst>
              <a:gd name="textAreaLeft" fmla="*/ 0 w 1346040"/>
              <a:gd name="textAreaRight" fmla="*/ 1346400 w 1346040"/>
              <a:gd name="textAreaTop" fmla="*/ 0 h 868320"/>
              <a:gd name="textAreaBottom" fmla="*/ 868680 h 868320"/>
            </a:gdLst>
            <a:ahLst/>
            <a:rect l="textAreaLeft" t="textAreaTop" r="textAreaRight" b="textAreaBottom"/>
            <a:pathLst>
              <a:path w="609" h="448">
                <a:moveTo>
                  <a:pt x="608" y="158"/>
                </a:moveTo>
                <a:lnTo>
                  <a:pt x="557" y="158"/>
                </a:lnTo>
                <a:lnTo>
                  <a:pt x="528" y="129"/>
                </a:lnTo>
                <a:lnTo>
                  <a:pt x="491" y="165"/>
                </a:lnTo>
                <a:lnTo>
                  <a:pt x="477" y="150"/>
                </a:lnTo>
                <a:lnTo>
                  <a:pt x="469" y="179"/>
                </a:lnTo>
                <a:lnTo>
                  <a:pt x="419" y="143"/>
                </a:lnTo>
                <a:lnTo>
                  <a:pt x="412" y="93"/>
                </a:lnTo>
                <a:lnTo>
                  <a:pt x="404" y="107"/>
                </a:lnTo>
                <a:lnTo>
                  <a:pt x="404" y="143"/>
                </a:lnTo>
                <a:lnTo>
                  <a:pt x="383" y="143"/>
                </a:lnTo>
                <a:lnTo>
                  <a:pt x="361" y="115"/>
                </a:lnTo>
                <a:lnTo>
                  <a:pt x="340" y="115"/>
                </a:lnTo>
                <a:lnTo>
                  <a:pt x="289" y="64"/>
                </a:lnTo>
                <a:lnTo>
                  <a:pt x="253" y="79"/>
                </a:lnTo>
                <a:lnTo>
                  <a:pt x="246" y="57"/>
                </a:lnTo>
                <a:lnTo>
                  <a:pt x="188" y="71"/>
                </a:lnTo>
                <a:lnTo>
                  <a:pt x="138" y="50"/>
                </a:lnTo>
                <a:lnTo>
                  <a:pt x="138" y="0"/>
                </a:lnTo>
                <a:lnTo>
                  <a:pt x="123" y="14"/>
                </a:lnTo>
                <a:lnTo>
                  <a:pt x="73" y="14"/>
                </a:lnTo>
                <a:lnTo>
                  <a:pt x="80" y="64"/>
                </a:lnTo>
                <a:lnTo>
                  <a:pt x="51" y="64"/>
                </a:lnTo>
                <a:lnTo>
                  <a:pt x="7" y="35"/>
                </a:lnTo>
                <a:lnTo>
                  <a:pt x="0" y="64"/>
                </a:lnTo>
                <a:lnTo>
                  <a:pt x="43" y="100"/>
                </a:lnTo>
                <a:lnTo>
                  <a:pt x="28" y="129"/>
                </a:lnTo>
                <a:lnTo>
                  <a:pt x="58" y="179"/>
                </a:lnTo>
                <a:lnTo>
                  <a:pt x="109" y="150"/>
                </a:lnTo>
                <a:lnTo>
                  <a:pt x="130" y="208"/>
                </a:lnTo>
                <a:lnTo>
                  <a:pt x="138" y="251"/>
                </a:lnTo>
                <a:lnTo>
                  <a:pt x="174" y="251"/>
                </a:lnTo>
                <a:lnTo>
                  <a:pt x="195" y="294"/>
                </a:lnTo>
                <a:lnTo>
                  <a:pt x="203" y="258"/>
                </a:lnTo>
                <a:lnTo>
                  <a:pt x="246" y="309"/>
                </a:lnTo>
                <a:lnTo>
                  <a:pt x="267" y="353"/>
                </a:lnTo>
                <a:lnTo>
                  <a:pt x="267" y="382"/>
                </a:lnTo>
                <a:lnTo>
                  <a:pt x="311" y="447"/>
                </a:lnTo>
                <a:lnTo>
                  <a:pt x="332" y="418"/>
                </a:lnTo>
                <a:lnTo>
                  <a:pt x="354" y="360"/>
                </a:lnTo>
                <a:lnTo>
                  <a:pt x="376" y="353"/>
                </a:lnTo>
                <a:lnTo>
                  <a:pt x="383" y="367"/>
                </a:lnTo>
                <a:lnTo>
                  <a:pt x="383" y="382"/>
                </a:lnTo>
                <a:lnTo>
                  <a:pt x="433" y="382"/>
                </a:lnTo>
                <a:lnTo>
                  <a:pt x="448" y="367"/>
                </a:lnTo>
                <a:lnTo>
                  <a:pt x="448" y="346"/>
                </a:lnTo>
                <a:lnTo>
                  <a:pt x="440" y="323"/>
                </a:lnTo>
                <a:lnTo>
                  <a:pt x="491" y="301"/>
                </a:lnTo>
                <a:lnTo>
                  <a:pt x="514" y="294"/>
                </a:lnTo>
                <a:lnTo>
                  <a:pt x="505" y="273"/>
                </a:lnTo>
                <a:lnTo>
                  <a:pt x="528" y="266"/>
                </a:lnTo>
                <a:lnTo>
                  <a:pt x="528" y="215"/>
                </a:lnTo>
                <a:lnTo>
                  <a:pt x="543" y="215"/>
                </a:lnTo>
                <a:lnTo>
                  <a:pt x="550" y="237"/>
                </a:lnTo>
                <a:lnTo>
                  <a:pt x="579" y="258"/>
                </a:lnTo>
                <a:lnTo>
                  <a:pt x="593" y="251"/>
                </a:lnTo>
                <a:lnTo>
                  <a:pt x="579" y="230"/>
                </a:lnTo>
                <a:lnTo>
                  <a:pt x="586" y="215"/>
                </a:lnTo>
                <a:lnTo>
                  <a:pt x="608" y="208"/>
                </a:lnTo>
                <a:lnTo>
                  <a:pt x="608" y="158"/>
                </a:lnTo>
              </a:path>
            </a:pathLst>
          </a:custGeom>
          <a:solidFill>
            <a:srgbClr val="d9d9d9"/>
          </a:solidFill>
          <a:ln cap="rnd" w="93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3" name="Freeform 323"/>
          <p:cNvSpPr/>
          <p:nvPr/>
        </p:nvSpPr>
        <p:spPr>
          <a:xfrm>
            <a:off x="6192720" y="2349360"/>
            <a:ext cx="881280" cy="1132200"/>
          </a:xfrm>
          <a:custGeom>
            <a:avLst/>
            <a:gdLst>
              <a:gd name="textAreaLeft" fmla="*/ 0 w 881280"/>
              <a:gd name="textAreaRight" fmla="*/ 881640 w 881280"/>
              <a:gd name="textAreaTop" fmla="*/ 0 h 1132200"/>
              <a:gd name="textAreaBottom" fmla="*/ 1132560 h 1132200"/>
            </a:gdLst>
            <a:ahLst/>
            <a:rect l="textAreaLeft" t="textAreaTop" r="textAreaRight" b="textAreaBottom"/>
            <a:pathLst>
              <a:path w="399" h="584">
                <a:moveTo>
                  <a:pt x="398" y="223"/>
                </a:moveTo>
                <a:lnTo>
                  <a:pt x="361" y="165"/>
                </a:lnTo>
                <a:lnTo>
                  <a:pt x="333" y="158"/>
                </a:lnTo>
                <a:lnTo>
                  <a:pt x="340" y="100"/>
                </a:lnTo>
                <a:lnTo>
                  <a:pt x="304" y="107"/>
                </a:lnTo>
                <a:lnTo>
                  <a:pt x="282" y="93"/>
                </a:lnTo>
                <a:lnTo>
                  <a:pt x="282" y="43"/>
                </a:lnTo>
                <a:lnTo>
                  <a:pt x="253" y="0"/>
                </a:lnTo>
                <a:lnTo>
                  <a:pt x="203" y="21"/>
                </a:lnTo>
                <a:lnTo>
                  <a:pt x="195" y="64"/>
                </a:lnTo>
                <a:lnTo>
                  <a:pt x="159" y="57"/>
                </a:lnTo>
                <a:lnTo>
                  <a:pt x="152" y="79"/>
                </a:lnTo>
                <a:lnTo>
                  <a:pt x="131" y="71"/>
                </a:lnTo>
                <a:lnTo>
                  <a:pt x="94" y="107"/>
                </a:lnTo>
                <a:lnTo>
                  <a:pt x="66" y="57"/>
                </a:lnTo>
                <a:lnTo>
                  <a:pt x="36" y="71"/>
                </a:lnTo>
                <a:lnTo>
                  <a:pt x="28" y="115"/>
                </a:lnTo>
                <a:lnTo>
                  <a:pt x="14" y="122"/>
                </a:lnTo>
                <a:lnTo>
                  <a:pt x="28" y="201"/>
                </a:lnTo>
                <a:lnTo>
                  <a:pt x="58" y="223"/>
                </a:lnTo>
                <a:lnTo>
                  <a:pt x="36" y="230"/>
                </a:lnTo>
                <a:lnTo>
                  <a:pt x="21" y="251"/>
                </a:lnTo>
                <a:lnTo>
                  <a:pt x="58" y="259"/>
                </a:lnTo>
                <a:lnTo>
                  <a:pt x="66" y="302"/>
                </a:lnTo>
                <a:lnTo>
                  <a:pt x="58" y="331"/>
                </a:lnTo>
                <a:lnTo>
                  <a:pt x="36" y="316"/>
                </a:lnTo>
                <a:lnTo>
                  <a:pt x="14" y="331"/>
                </a:lnTo>
                <a:lnTo>
                  <a:pt x="14" y="352"/>
                </a:lnTo>
                <a:lnTo>
                  <a:pt x="0" y="381"/>
                </a:lnTo>
                <a:lnTo>
                  <a:pt x="36" y="431"/>
                </a:lnTo>
                <a:lnTo>
                  <a:pt x="7" y="539"/>
                </a:lnTo>
                <a:lnTo>
                  <a:pt x="21" y="568"/>
                </a:lnTo>
                <a:lnTo>
                  <a:pt x="80" y="568"/>
                </a:lnTo>
                <a:lnTo>
                  <a:pt x="102" y="583"/>
                </a:lnTo>
                <a:lnTo>
                  <a:pt x="145" y="583"/>
                </a:lnTo>
                <a:lnTo>
                  <a:pt x="131" y="561"/>
                </a:lnTo>
                <a:lnTo>
                  <a:pt x="131" y="525"/>
                </a:lnTo>
                <a:lnTo>
                  <a:pt x="174" y="467"/>
                </a:lnTo>
                <a:lnTo>
                  <a:pt x="217" y="417"/>
                </a:lnTo>
                <a:lnTo>
                  <a:pt x="268" y="410"/>
                </a:lnTo>
                <a:lnTo>
                  <a:pt x="289" y="395"/>
                </a:lnTo>
                <a:lnTo>
                  <a:pt x="268" y="374"/>
                </a:lnTo>
                <a:lnTo>
                  <a:pt x="260" y="345"/>
                </a:lnTo>
                <a:lnTo>
                  <a:pt x="224" y="352"/>
                </a:lnTo>
                <a:lnTo>
                  <a:pt x="203" y="338"/>
                </a:lnTo>
                <a:lnTo>
                  <a:pt x="210" y="309"/>
                </a:lnTo>
                <a:lnTo>
                  <a:pt x="210" y="273"/>
                </a:lnTo>
                <a:lnTo>
                  <a:pt x="181" y="287"/>
                </a:lnTo>
                <a:lnTo>
                  <a:pt x="145" y="273"/>
                </a:lnTo>
                <a:lnTo>
                  <a:pt x="123" y="273"/>
                </a:lnTo>
                <a:lnTo>
                  <a:pt x="123" y="244"/>
                </a:lnTo>
                <a:lnTo>
                  <a:pt x="152" y="179"/>
                </a:lnTo>
                <a:lnTo>
                  <a:pt x="174" y="179"/>
                </a:lnTo>
                <a:lnTo>
                  <a:pt x="181" y="143"/>
                </a:lnTo>
                <a:lnTo>
                  <a:pt x="203" y="151"/>
                </a:lnTo>
                <a:lnTo>
                  <a:pt x="217" y="165"/>
                </a:lnTo>
                <a:lnTo>
                  <a:pt x="246" y="165"/>
                </a:lnTo>
                <a:lnTo>
                  <a:pt x="232" y="194"/>
                </a:lnTo>
                <a:lnTo>
                  <a:pt x="239" y="215"/>
                </a:lnTo>
                <a:lnTo>
                  <a:pt x="260" y="223"/>
                </a:lnTo>
                <a:lnTo>
                  <a:pt x="260" y="259"/>
                </a:lnTo>
                <a:lnTo>
                  <a:pt x="296" y="280"/>
                </a:lnTo>
                <a:lnTo>
                  <a:pt x="296" y="302"/>
                </a:lnTo>
                <a:lnTo>
                  <a:pt x="311" y="309"/>
                </a:lnTo>
                <a:lnTo>
                  <a:pt x="354" y="280"/>
                </a:lnTo>
                <a:lnTo>
                  <a:pt x="376" y="230"/>
                </a:lnTo>
                <a:lnTo>
                  <a:pt x="398" y="223"/>
                </a:lnTo>
              </a:path>
            </a:pathLst>
          </a:custGeom>
          <a:solidFill>
            <a:srgbClr val="9ed3d7"/>
          </a:solidFill>
          <a:ln cap="rnd" w="1260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4" name="Freeform 324"/>
          <p:cNvSpPr/>
          <p:nvPr/>
        </p:nvSpPr>
        <p:spPr>
          <a:xfrm>
            <a:off x="5418000" y="3943440"/>
            <a:ext cx="1247760" cy="698400"/>
          </a:xfrm>
          <a:custGeom>
            <a:avLst/>
            <a:gdLst>
              <a:gd name="textAreaLeft" fmla="*/ 0 w 1247760"/>
              <a:gd name="textAreaRight" fmla="*/ 1248120 w 1247760"/>
              <a:gd name="textAreaTop" fmla="*/ 0 h 698400"/>
              <a:gd name="textAreaBottom" fmla="*/ 698760 h 698400"/>
            </a:gdLst>
            <a:ahLst/>
            <a:rect l="textAreaLeft" t="textAreaTop" r="textAreaRight" b="textAreaBottom"/>
            <a:pathLst>
              <a:path w="564" h="361">
                <a:moveTo>
                  <a:pt x="563" y="280"/>
                </a:moveTo>
                <a:lnTo>
                  <a:pt x="512" y="288"/>
                </a:lnTo>
                <a:lnTo>
                  <a:pt x="462" y="331"/>
                </a:lnTo>
                <a:lnTo>
                  <a:pt x="426" y="331"/>
                </a:lnTo>
                <a:lnTo>
                  <a:pt x="411" y="352"/>
                </a:lnTo>
                <a:lnTo>
                  <a:pt x="381" y="352"/>
                </a:lnTo>
                <a:lnTo>
                  <a:pt x="390" y="302"/>
                </a:lnTo>
                <a:lnTo>
                  <a:pt x="367" y="295"/>
                </a:lnTo>
                <a:lnTo>
                  <a:pt x="338" y="316"/>
                </a:lnTo>
                <a:lnTo>
                  <a:pt x="324" y="302"/>
                </a:lnTo>
                <a:lnTo>
                  <a:pt x="280" y="309"/>
                </a:lnTo>
                <a:lnTo>
                  <a:pt x="259" y="280"/>
                </a:lnTo>
                <a:lnTo>
                  <a:pt x="216" y="280"/>
                </a:lnTo>
                <a:lnTo>
                  <a:pt x="172" y="266"/>
                </a:lnTo>
                <a:lnTo>
                  <a:pt x="158" y="273"/>
                </a:lnTo>
                <a:lnTo>
                  <a:pt x="158" y="309"/>
                </a:lnTo>
                <a:lnTo>
                  <a:pt x="129" y="302"/>
                </a:lnTo>
                <a:lnTo>
                  <a:pt x="100" y="302"/>
                </a:lnTo>
                <a:lnTo>
                  <a:pt x="57" y="360"/>
                </a:lnTo>
                <a:lnTo>
                  <a:pt x="14" y="302"/>
                </a:lnTo>
                <a:lnTo>
                  <a:pt x="0" y="295"/>
                </a:lnTo>
                <a:lnTo>
                  <a:pt x="14" y="280"/>
                </a:lnTo>
                <a:lnTo>
                  <a:pt x="21" y="273"/>
                </a:lnTo>
                <a:lnTo>
                  <a:pt x="7" y="259"/>
                </a:lnTo>
                <a:lnTo>
                  <a:pt x="7" y="244"/>
                </a:lnTo>
                <a:lnTo>
                  <a:pt x="21" y="230"/>
                </a:lnTo>
                <a:lnTo>
                  <a:pt x="86" y="230"/>
                </a:lnTo>
                <a:lnTo>
                  <a:pt x="115" y="208"/>
                </a:lnTo>
                <a:lnTo>
                  <a:pt x="136" y="208"/>
                </a:lnTo>
                <a:lnTo>
                  <a:pt x="129" y="172"/>
                </a:lnTo>
                <a:lnTo>
                  <a:pt x="93" y="136"/>
                </a:lnTo>
                <a:lnTo>
                  <a:pt x="93" y="86"/>
                </a:lnTo>
                <a:lnTo>
                  <a:pt x="100" y="57"/>
                </a:lnTo>
                <a:lnTo>
                  <a:pt x="108" y="43"/>
                </a:lnTo>
                <a:lnTo>
                  <a:pt x="86" y="7"/>
                </a:lnTo>
                <a:lnTo>
                  <a:pt x="151" y="7"/>
                </a:lnTo>
                <a:lnTo>
                  <a:pt x="165" y="14"/>
                </a:lnTo>
                <a:lnTo>
                  <a:pt x="194" y="0"/>
                </a:lnTo>
                <a:lnTo>
                  <a:pt x="244" y="72"/>
                </a:lnTo>
                <a:lnTo>
                  <a:pt x="324" y="72"/>
                </a:lnTo>
                <a:lnTo>
                  <a:pt x="345" y="86"/>
                </a:lnTo>
                <a:lnTo>
                  <a:pt x="367" y="72"/>
                </a:lnTo>
                <a:lnTo>
                  <a:pt x="390" y="100"/>
                </a:lnTo>
                <a:lnTo>
                  <a:pt x="390" y="122"/>
                </a:lnTo>
                <a:lnTo>
                  <a:pt x="411" y="136"/>
                </a:lnTo>
                <a:lnTo>
                  <a:pt x="418" y="129"/>
                </a:lnTo>
                <a:lnTo>
                  <a:pt x="440" y="136"/>
                </a:lnTo>
                <a:lnTo>
                  <a:pt x="469" y="144"/>
                </a:lnTo>
                <a:lnTo>
                  <a:pt x="483" y="136"/>
                </a:lnTo>
                <a:lnTo>
                  <a:pt x="534" y="165"/>
                </a:lnTo>
                <a:lnTo>
                  <a:pt x="548" y="208"/>
                </a:lnTo>
                <a:lnTo>
                  <a:pt x="548" y="237"/>
                </a:lnTo>
                <a:lnTo>
                  <a:pt x="563" y="280"/>
                </a:lnTo>
              </a:path>
            </a:pathLst>
          </a:custGeom>
          <a:solidFill>
            <a:srgbClr val="ff99ff"/>
          </a:solidFill>
          <a:ln cap="rnd" w="1260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5" name="Freeform 325"/>
          <p:cNvSpPr/>
          <p:nvPr/>
        </p:nvSpPr>
        <p:spPr>
          <a:xfrm>
            <a:off x="5729400" y="2741760"/>
            <a:ext cx="612720" cy="982440"/>
          </a:xfrm>
          <a:custGeom>
            <a:avLst/>
            <a:gdLst>
              <a:gd name="textAreaLeft" fmla="*/ 0 w 612720"/>
              <a:gd name="textAreaRight" fmla="*/ 613080 w 612720"/>
              <a:gd name="textAreaTop" fmla="*/ 0 h 982440"/>
              <a:gd name="textAreaBottom" fmla="*/ 982800 h 982440"/>
            </a:gdLst>
            <a:ahLst/>
            <a:rect l="textAreaLeft" t="textAreaTop" r="textAreaRight" b="textAreaBottom"/>
            <a:pathLst>
              <a:path w="275" h="507">
                <a:moveTo>
                  <a:pt x="236" y="367"/>
                </a:moveTo>
                <a:lnTo>
                  <a:pt x="222" y="419"/>
                </a:lnTo>
                <a:lnTo>
                  <a:pt x="193" y="448"/>
                </a:lnTo>
                <a:lnTo>
                  <a:pt x="157" y="448"/>
                </a:lnTo>
                <a:lnTo>
                  <a:pt x="93" y="477"/>
                </a:lnTo>
                <a:lnTo>
                  <a:pt x="35" y="506"/>
                </a:lnTo>
                <a:lnTo>
                  <a:pt x="7" y="506"/>
                </a:lnTo>
                <a:lnTo>
                  <a:pt x="0" y="491"/>
                </a:lnTo>
                <a:lnTo>
                  <a:pt x="14" y="426"/>
                </a:lnTo>
                <a:lnTo>
                  <a:pt x="21" y="405"/>
                </a:lnTo>
                <a:lnTo>
                  <a:pt x="7" y="360"/>
                </a:lnTo>
                <a:lnTo>
                  <a:pt x="14" y="295"/>
                </a:lnTo>
                <a:lnTo>
                  <a:pt x="28" y="252"/>
                </a:lnTo>
                <a:lnTo>
                  <a:pt x="28" y="223"/>
                </a:lnTo>
                <a:lnTo>
                  <a:pt x="21" y="209"/>
                </a:lnTo>
                <a:lnTo>
                  <a:pt x="35" y="173"/>
                </a:lnTo>
                <a:lnTo>
                  <a:pt x="57" y="122"/>
                </a:lnTo>
                <a:lnTo>
                  <a:pt x="57" y="79"/>
                </a:lnTo>
                <a:lnTo>
                  <a:pt x="86" y="79"/>
                </a:lnTo>
                <a:lnTo>
                  <a:pt x="129" y="21"/>
                </a:lnTo>
                <a:lnTo>
                  <a:pt x="165" y="14"/>
                </a:lnTo>
                <a:lnTo>
                  <a:pt x="186" y="0"/>
                </a:lnTo>
                <a:lnTo>
                  <a:pt x="201" y="7"/>
                </a:lnTo>
                <a:lnTo>
                  <a:pt x="236" y="0"/>
                </a:lnTo>
                <a:lnTo>
                  <a:pt x="266" y="21"/>
                </a:lnTo>
                <a:lnTo>
                  <a:pt x="244" y="28"/>
                </a:lnTo>
                <a:lnTo>
                  <a:pt x="236" y="50"/>
                </a:lnTo>
                <a:lnTo>
                  <a:pt x="266" y="57"/>
                </a:lnTo>
                <a:lnTo>
                  <a:pt x="274" y="100"/>
                </a:lnTo>
                <a:lnTo>
                  <a:pt x="266" y="137"/>
                </a:lnTo>
                <a:lnTo>
                  <a:pt x="244" y="108"/>
                </a:lnTo>
                <a:lnTo>
                  <a:pt x="215" y="137"/>
                </a:lnTo>
                <a:lnTo>
                  <a:pt x="222" y="151"/>
                </a:lnTo>
                <a:lnTo>
                  <a:pt x="208" y="180"/>
                </a:lnTo>
                <a:lnTo>
                  <a:pt x="244" y="230"/>
                </a:lnTo>
                <a:lnTo>
                  <a:pt x="215" y="338"/>
                </a:lnTo>
                <a:lnTo>
                  <a:pt x="236" y="367"/>
                </a:lnTo>
              </a:path>
            </a:pathLst>
          </a:custGeom>
          <a:solidFill>
            <a:srgbClr val="9ed3d7"/>
          </a:solidFill>
          <a:ln cap="rnd" w="93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6" name="Freeform 326"/>
          <p:cNvSpPr/>
          <p:nvPr/>
        </p:nvSpPr>
        <p:spPr>
          <a:xfrm>
            <a:off x="5043600" y="2919240"/>
            <a:ext cx="812520" cy="1301760"/>
          </a:xfrm>
          <a:custGeom>
            <a:avLst/>
            <a:gdLst>
              <a:gd name="textAreaLeft" fmla="*/ 0 w 812520"/>
              <a:gd name="textAreaRight" fmla="*/ 812880 w 812520"/>
              <a:gd name="textAreaTop" fmla="*/ 0 h 1301760"/>
              <a:gd name="textAreaBottom" fmla="*/ 1302120 h 1301760"/>
            </a:gdLst>
            <a:ahLst/>
            <a:rect l="textAreaLeft" t="textAreaTop" r="textAreaRight" b="textAreaBottom"/>
            <a:pathLst>
              <a:path w="369" h="672">
                <a:moveTo>
                  <a:pt x="368" y="534"/>
                </a:moveTo>
                <a:lnTo>
                  <a:pt x="339" y="548"/>
                </a:lnTo>
                <a:lnTo>
                  <a:pt x="324" y="541"/>
                </a:lnTo>
                <a:lnTo>
                  <a:pt x="267" y="541"/>
                </a:lnTo>
                <a:lnTo>
                  <a:pt x="281" y="577"/>
                </a:lnTo>
                <a:lnTo>
                  <a:pt x="267" y="620"/>
                </a:lnTo>
                <a:lnTo>
                  <a:pt x="267" y="671"/>
                </a:lnTo>
                <a:lnTo>
                  <a:pt x="238" y="671"/>
                </a:lnTo>
                <a:lnTo>
                  <a:pt x="181" y="627"/>
                </a:lnTo>
                <a:lnTo>
                  <a:pt x="116" y="613"/>
                </a:lnTo>
                <a:lnTo>
                  <a:pt x="71" y="577"/>
                </a:lnTo>
                <a:lnTo>
                  <a:pt x="21" y="577"/>
                </a:lnTo>
                <a:lnTo>
                  <a:pt x="21" y="570"/>
                </a:lnTo>
                <a:lnTo>
                  <a:pt x="0" y="555"/>
                </a:lnTo>
                <a:lnTo>
                  <a:pt x="14" y="548"/>
                </a:lnTo>
                <a:lnTo>
                  <a:pt x="14" y="526"/>
                </a:lnTo>
                <a:lnTo>
                  <a:pt x="7" y="512"/>
                </a:lnTo>
                <a:lnTo>
                  <a:pt x="21" y="505"/>
                </a:lnTo>
                <a:lnTo>
                  <a:pt x="57" y="512"/>
                </a:lnTo>
                <a:lnTo>
                  <a:pt x="57" y="382"/>
                </a:lnTo>
                <a:lnTo>
                  <a:pt x="101" y="382"/>
                </a:lnTo>
                <a:lnTo>
                  <a:pt x="109" y="397"/>
                </a:lnTo>
                <a:lnTo>
                  <a:pt x="137" y="397"/>
                </a:lnTo>
                <a:lnTo>
                  <a:pt x="130" y="361"/>
                </a:lnTo>
                <a:lnTo>
                  <a:pt x="188" y="368"/>
                </a:lnTo>
                <a:lnTo>
                  <a:pt x="195" y="310"/>
                </a:lnTo>
                <a:lnTo>
                  <a:pt x="195" y="273"/>
                </a:lnTo>
                <a:lnTo>
                  <a:pt x="173" y="252"/>
                </a:lnTo>
                <a:lnTo>
                  <a:pt x="130" y="230"/>
                </a:lnTo>
                <a:lnTo>
                  <a:pt x="116" y="208"/>
                </a:lnTo>
                <a:lnTo>
                  <a:pt x="123" y="158"/>
                </a:lnTo>
                <a:lnTo>
                  <a:pt x="145" y="136"/>
                </a:lnTo>
                <a:lnTo>
                  <a:pt x="166" y="158"/>
                </a:lnTo>
                <a:lnTo>
                  <a:pt x="209" y="165"/>
                </a:lnTo>
                <a:lnTo>
                  <a:pt x="216" y="136"/>
                </a:lnTo>
                <a:lnTo>
                  <a:pt x="231" y="129"/>
                </a:lnTo>
                <a:lnTo>
                  <a:pt x="224" y="93"/>
                </a:lnTo>
                <a:lnTo>
                  <a:pt x="288" y="36"/>
                </a:lnTo>
                <a:lnTo>
                  <a:pt x="288" y="14"/>
                </a:lnTo>
                <a:lnTo>
                  <a:pt x="324" y="14"/>
                </a:lnTo>
                <a:lnTo>
                  <a:pt x="332" y="21"/>
                </a:lnTo>
                <a:lnTo>
                  <a:pt x="339" y="7"/>
                </a:lnTo>
                <a:lnTo>
                  <a:pt x="353" y="0"/>
                </a:lnTo>
                <a:lnTo>
                  <a:pt x="368" y="21"/>
                </a:lnTo>
                <a:lnTo>
                  <a:pt x="368" y="36"/>
                </a:lnTo>
                <a:lnTo>
                  <a:pt x="324" y="122"/>
                </a:lnTo>
                <a:lnTo>
                  <a:pt x="339" y="136"/>
                </a:lnTo>
                <a:lnTo>
                  <a:pt x="324" y="208"/>
                </a:lnTo>
                <a:lnTo>
                  <a:pt x="317" y="273"/>
                </a:lnTo>
                <a:lnTo>
                  <a:pt x="332" y="325"/>
                </a:lnTo>
                <a:lnTo>
                  <a:pt x="310" y="404"/>
                </a:lnTo>
                <a:lnTo>
                  <a:pt x="317" y="418"/>
                </a:lnTo>
                <a:lnTo>
                  <a:pt x="332" y="476"/>
                </a:lnTo>
                <a:lnTo>
                  <a:pt x="368" y="534"/>
                </a:lnTo>
              </a:path>
            </a:pathLst>
          </a:custGeom>
          <a:solidFill>
            <a:srgbClr val="ff99ff"/>
          </a:solidFill>
          <a:ln cap="rnd" w="936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7" name="Freeform 327"/>
          <p:cNvSpPr/>
          <p:nvPr/>
        </p:nvSpPr>
        <p:spPr>
          <a:xfrm>
            <a:off x="4921200" y="2924280"/>
            <a:ext cx="449280" cy="685800"/>
          </a:xfrm>
          <a:custGeom>
            <a:avLst/>
            <a:gdLst>
              <a:gd name="textAreaLeft" fmla="*/ 0 w 449280"/>
              <a:gd name="textAreaRight" fmla="*/ 449640 w 449280"/>
              <a:gd name="textAreaTop" fmla="*/ 0 h 685800"/>
              <a:gd name="textAreaBottom" fmla="*/ 686160 h 685800"/>
            </a:gdLst>
            <a:ahLst/>
            <a:rect l="textAreaLeft" t="textAreaTop" r="textAreaRight" b="textAreaBottom"/>
            <a:pathLst>
              <a:path w="204" h="355">
                <a:moveTo>
                  <a:pt x="203" y="136"/>
                </a:moveTo>
                <a:lnTo>
                  <a:pt x="181" y="115"/>
                </a:lnTo>
                <a:lnTo>
                  <a:pt x="136" y="100"/>
                </a:lnTo>
                <a:lnTo>
                  <a:pt x="159" y="36"/>
                </a:lnTo>
                <a:lnTo>
                  <a:pt x="144" y="0"/>
                </a:lnTo>
                <a:lnTo>
                  <a:pt x="79" y="64"/>
                </a:lnTo>
                <a:lnTo>
                  <a:pt x="72" y="122"/>
                </a:lnTo>
                <a:lnTo>
                  <a:pt x="43" y="129"/>
                </a:lnTo>
                <a:lnTo>
                  <a:pt x="7" y="158"/>
                </a:lnTo>
                <a:lnTo>
                  <a:pt x="0" y="187"/>
                </a:lnTo>
                <a:lnTo>
                  <a:pt x="50" y="216"/>
                </a:lnTo>
                <a:lnTo>
                  <a:pt x="43" y="244"/>
                </a:lnTo>
                <a:lnTo>
                  <a:pt x="57" y="266"/>
                </a:lnTo>
                <a:lnTo>
                  <a:pt x="43" y="295"/>
                </a:lnTo>
                <a:lnTo>
                  <a:pt x="50" y="310"/>
                </a:lnTo>
                <a:lnTo>
                  <a:pt x="108" y="354"/>
                </a:lnTo>
                <a:lnTo>
                  <a:pt x="122" y="346"/>
                </a:lnTo>
                <a:lnTo>
                  <a:pt x="129" y="325"/>
                </a:lnTo>
                <a:lnTo>
                  <a:pt x="144" y="303"/>
                </a:lnTo>
                <a:lnTo>
                  <a:pt x="136" y="266"/>
                </a:lnTo>
                <a:lnTo>
                  <a:pt x="122" y="266"/>
                </a:lnTo>
                <a:lnTo>
                  <a:pt x="122" y="237"/>
                </a:lnTo>
                <a:lnTo>
                  <a:pt x="129" y="230"/>
                </a:lnTo>
                <a:lnTo>
                  <a:pt x="136" y="194"/>
                </a:lnTo>
                <a:lnTo>
                  <a:pt x="151" y="201"/>
                </a:lnTo>
                <a:lnTo>
                  <a:pt x="174" y="201"/>
                </a:lnTo>
                <a:lnTo>
                  <a:pt x="181" y="151"/>
                </a:lnTo>
                <a:lnTo>
                  <a:pt x="203" y="136"/>
                </a:lnTo>
              </a:path>
            </a:pathLst>
          </a:custGeom>
          <a:solidFill>
            <a:srgbClr val="ccccff"/>
          </a:solidFill>
          <a:ln cap="rnd"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8" name="Freeform 328"/>
          <p:cNvSpPr/>
          <p:nvPr/>
        </p:nvSpPr>
        <p:spPr>
          <a:xfrm>
            <a:off x="6654960" y="3597120"/>
            <a:ext cx="914400" cy="682920"/>
          </a:xfrm>
          <a:custGeom>
            <a:avLst/>
            <a:gdLst>
              <a:gd name="textAreaLeft" fmla="*/ 0 w 914400"/>
              <a:gd name="textAreaRight" fmla="*/ 914760 w 914400"/>
              <a:gd name="textAreaTop" fmla="*/ 0 h 682920"/>
              <a:gd name="textAreaBottom" fmla="*/ 683280 h 682920"/>
            </a:gdLst>
            <a:ahLst/>
            <a:rect l="textAreaLeft" t="textAreaTop" r="textAreaRight" b="textAreaBottom"/>
            <a:pathLst>
              <a:path w="413" h="354">
                <a:moveTo>
                  <a:pt x="187" y="0"/>
                </a:moveTo>
                <a:lnTo>
                  <a:pt x="172" y="0"/>
                </a:lnTo>
                <a:lnTo>
                  <a:pt x="136" y="57"/>
                </a:lnTo>
                <a:lnTo>
                  <a:pt x="115" y="64"/>
                </a:lnTo>
                <a:lnTo>
                  <a:pt x="115" y="43"/>
                </a:lnTo>
                <a:lnTo>
                  <a:pt x="93" y="43"/>
                </a:lnTo>
                <a:lnTo>
                  <a:pt x="72" y="64"/>
                </a:lnTo>
                <a:lnTo>
                  <a:pt x="36" y="43"/>
                </a:lnTo>
                <a:lnTo>
                  <a:pt x="28" y="36"/>
                </a:lnTo>
                <a:lnTo>
                  <a:pt x="14" y="28"/>
                </a:lnTo>
                <a:lnTo>
                  <a:pt x="7" y="50"/>
                </a:lnTo>
                <a:lnTo>
                  <a:pt x="0" y="57"/>
                </a:lnTo>
                <a:lnTo>
                  <a:pt x="36" y="64"/>
                </a:lnTo>
                <a:lnTo>
                  <a:pt x="43" y="93"/>
                </a:lnTo>
                <a:lnTo>
                  <a:pt x="64" y="93"/>
                </a:lnTo>
                <a:lnTo>
                  <a:pt x="93" y="122"/>
                </a:lnTo>
                <a:lnTo>
                  <a:pt x="115" y="122"/>
                </a:lnTo>
                <a:lnTo>
                  <a:pt x="122" y="165"/>
                </a:lnTo>
                <a:lnTo>
                  <a:pt x="151" y="201"/>
                </a:lnTo>
                <a:lnTo>
                  <a:pt x="172" y="201"/>
                </a:lnTo>
                <a:lnTo>
                  <a:pt x="187" y="187"/>
                </a:lnTo>
                <a:lnTo>
                  <a:pt x="209" y="208"/>
                </a:lnTo>
                <a:lnTo>
                  <a:pt x="194" y="230"/>
                </a:lnTo>
                <a:lnTo>
                  <a:pt x="180" y="216"/>
                </a:lnTo>
                <a:lnTo>
                  <a:pt x="165" y="216"/>
                </a:lnTo>
                <a:lnTo>
                  <a:pt x="165" y="252"/>
                </a:lnTo>
                <a:lnTo>
                  <a:pt x="151" y="266"/>
                </a:lnTo>
                <a:lnTo>
                  <a:pt x="180" y="302"/>
                </a:lnTo>
                <a:lnTo>
                  <a:pt x="180" y="331"/>
                </a:lnTo>
                <a:lnTo>
                  <a:pt x="230" y="324"/>
                </a:lnTo>
                <a:lnTo>
                  <a:pt x="245" y="345"/>
                </a:lnTo>
                <a:lnTo>
                  <a:pt x="273" y="338"/>
                </a:lnTo>
                <a:lnTo>
                  <a:pt x="311" y="353"/>
                </a:lnTo>
                <a:lnTo>
                  <a:pt x="339" y="331"/>
                </a:lnTo>
                <a:lnTo>
                  <a:pt x="368" y="280"/>
                </a:lnTo>
                <a:lnTo>
                  <a:pt x="325" y="266"/>
                </a:lnTo>
                <a:lnTo>
                  <a:pt x="368" y="259"/>
                </a:lnTo>
                <a:lnTo>
                  <a:pt x="383" y="266"/>
                </a:lnTo>
                <a:lnTo>
                  <a:pt x="412" y="259"/>
                </a:lnTo>
                <a:lnTo>
                  <a:pt x="412" y="252"/>
                </a:lnTo>
                <a:lnTo>
                  <a:pt x="368" y="223"/>
                </a:lnTo>
                <a:lnTo>
                  <a:pt x="361" y="201"/>
                </a:lnTo>
                <a:lnTo>
                  <a:pt x="347" y="201"/>
                </a:lnTo>
                <a:lnTo>
                  <a:pt x="325" y="187"/>
                </a:lnTo>
                <a:lnTo>
                  <a:pt x="318" y="144"/>
                </a:lnTo>
                <a:lnTo>
                  <a:pt x="266" y="72"/>
                </a:lnTo>
                <a:lnTo>
                  <a:pt x="266" y="50"/>
                </a:lnTo>
                <a:lnTo>
                  <a:pt x="223" y="43"/>
                </a:lnTo>
                <a:lnTo>
                  <a:pt x="194" y="28"/>
                </a:lnTo>
                <a:lnTo>
                  <a:pt x="187" y="0"/>
                </a:lnTo>
              </a:path>
            </a:pathLst>
          </a:custGeom>
          <a:solidFill>
            <a:srgbClr val="6699ff"/>
          </a:solidFill>
          <a:ln cap="rnd" w="1260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9" name="Freeform 329"/>
          <p:cNvSpPr/>
          <p:nvPr/>
        </p:nvSpPr>
        <p:spPr>
          <a:xfrm>
            <a:off x="925560" y="3036960"/>
            <a:ext cx="3058920" cy="1655640"/>
          </a:xfrm>
          <a:custGeom>
            <a:avLst/>
            <a:gdLst>
              <a:gd name="textAreaLeft" fmla="*/ 0 w 3058920"/>
              <a:gd name="textAreaRight" fmla="*/ 3059280 w 3058920"/>
              <a:gd name="textAreaTop" fmla="*/ 0 h 1655640"/>
              <a:gd name="textAreaBottom" fmla="*/ 1656000 h 1655640"/>
            </a:gdLst>
            <a:ahLst/>
            <a:rect l="textAreaLeft" t="textAreaTop" r="textAreaRight" b="textAreaBottom"/>
            <a:pathLst>
              <a:path w="1387" h="868">
                <a:moveTo>
                  <a:pt x="1371" y="786"/>
                </a:moveTo>
                <a:lnTo>
                  <a:pt x="1350" y="808"/>
                </a:lnTo>
                <a:lnTo>
                  <a:pt x="1342" y="786"/>
                </a:lnTo>
                <a:lnTo>
                  <a:pt x="1328" y="800"/>
                </a:lnTo>
                <a:lnTo>
                  <a:pt x="1335" y="859"/>
                </a:lnTo>
                <a:lnTo>
                  <a:pt x="1321" y="867"/>
                </a:lnTo>
                <a:lnTo>
                  <a:pt x="1292" y="851"/>
                </a:lnTo>
                <a:lnTo>
                  <a:pt x="1270" y="836"/>
                </a:lnTo>
                <a:lnTo>
                  <a:pt x="1270" y="829"/>
                </a:lnTo>
                <a:lnTo>
                  <a:pt x="1249" y="836"/>
                </a:lnTo>
                <a:lnTo>
                  <a:pt x="1170" y="808"/>
                </a:lnTo>
                <a:lnTo>
                  <a:pt x="1162" y="793"/>
                </a:lnTo>
                <a:lnTo>
                  <a:pt x="1191" y="786"/>
                </a:lnTo>
                <a:lnTo>
                  <a:pt x="1191" y="772"/>
                </a:lnTo>
                <a:lnTo>
                  <a:pt x="1162" y="757"/>
                </a:lnTo>
                <a:lnTo>
                  <a:pt x="1177" y="750"/>
                </a:lnTo>
                <a:lnTo>
                  <a:pt x="1162" y="721"/>
                </a:lnTo>
                <a:lnTo>
                  <a:pt x="1141" y="736"/>
                </a:lnTo>
                <a:lnTo>
                  <a:pt x="1126" y="743"/>
                </a:lnTo>
                <a:lnTo>
                  <a:pt x="1112" y="750"/>
                </a:lnTo>
                <a:lnTo>
                  <a:pt x="1098" y="757"/>
                </a:lnTo>
                <a:lnTo>
                  <a:pt x="1054" y="721"/>
                </a:lnTo>
                <a:lnTo>
                  <a:pt x="988" y="764"/>
                </a:lnTo>
                <a:lnTo>
                  <a:pt x="952" y="772"/>
                </a:lnTo>
                <a:lnTo>
                  <a:pt x="938" y="793"/>
                </a:lnTo>
                <a:lnTo>
                  <a:pt x="916" y="800"/>
                </a:lnTo>
                <a:lnTo>
                  <a:pt x="873" y="822"/>
                </a:lnTo>
                <a:lnTo>
                  <a:pt x="837" y="815"/>
                </a:lnTo>
                <a:lnTo>
                  <a:pt x="808" y="793"/>
                </a:lnTo>
                <a:lnTo>
                  <a:pt x="751" y="786"/>
                </a:lnTo>
                <a:lnTo>
                  <a:pt x="751" y="764"/>
                </a:lnTo>
                <a:lnTo>
                  <a:pt x="722" y="750"/>
                </a:lnTo>
                <a:lnTo>
                  <a:pt x="679" y="757"/>
                </a:lnTo>
                <a:lnTo>
                  <a:pt x="672" y="779"/>
                </a:lnTo>
                <a:lnTo>
                  <a:pt x="628" y="808"/>
                </a:lnTo>
                <a:lnTo>
                  <a:pt x="614" y="808"/>
                </a:lnTo>
                <a:lnTo>
                  <a:pt x="614" y="750"/>
                </a:lnTo>
                <a:lnTo>
                  <a:pt x="512" y="750"/>
                </a:lnTo>
                <a:lnTo>
                  <a:pt x="476" y="707"/>
                </a:lnTo>
                <a:lnTo>
                  <a:pt x="462" y="707"/>
                </a:lnTo>
                <a:lnTo>
                  <a:pt x="440" y="721"/>
                </a:lnTo>
                <a:lnTo>
                  <a:pt x="411" y="692"/>
                </a:lnTo>
                <a:lnTo>
                  <a:pt x="382" y="664"/>
                </a:lnTo>
                <a:lnTo>
                  <a:pt x="368" y="649"/>
                </a:lnTo>
                <a:lnTo>
                  <a:pt x="318" y="599"/>
                </a:lnTo>
                <a:lnTo>
                  <a:pt x="310" y="577"/>
                </a:lnTo>
                <a:lnTo>
                  <a:pt x="296" y="563"/>
                </a:lnTo>
                <a:lnTo>
                  <a:pt x="282" y="563"/>
                </a:lnTo>
                <a:lnTo>
                  <a:pt x="253" y="512"/>
                </a:lnTo>
                <a:lnTo>
                  <a:pt x="231" y="505"/>
                </a:lnTo>
                <a:lnTo>
                  <a:pt x="210" y="469"/>
                </a:lnTo>
                <a:lnTo>
                  <a:pt x="181" y="426"/>
                </a:lnTo>
                <a:lnTo>
                  <a:pt x="159" y="426"/>
                </a:lnTo>
                <a:lnTo>
                  <a:pt x="138" y="447"/>
                </a:lnTo>
                <a:lnTo>
                  <a:pt x="108" y="419"/>
                </a:lnTo>
                <a:lnTo>
                  <a:pt x="64" y="361"/>
                </a:lnTo>
                <a:lnTo>
                  <a:pt x="36" y="332"/>
                </a:lnTo>
                <a:lnTo>
                  <a:pt x="28" y="303"/>
                </a:lnTo>
                <a:lnTo>
                  <a:pt x="7" y="303"/>
                </a:lnTo>
                <a:lnTo>
                  <a:pt x="0" y="282"/>
                </a:lnTo>
                <a:lnTo>
                  <a:pt x="7" y="274"/>
                </a:lnTo>
                <a:lnTo>
                  <a:pt x="7" y="187"/>
                </a:lnTo>
                <a:lnTo>
                  <a:pt x="28" y="180"/>
                </a:lnTo>
                <a:lnTo>
                  <a:pt x="43" y="216"/>
                </a:lnTo>
                <a:lnTo>
                  <a:pt x="64" y="201"/>
                </a:lnTo>
                <a:lnTo>
                  <a:pt x="86" y="201"/>
                </a:lnTo>
                <a:lnTo>
                  <a:pt x="79" y="158"/>
                </a:lnTo>
                <a:lnTo>
                  <a:pt x="86" y="136"/>
                </a:lnTo>
                <a:lnTo>
                  <a:pt x="57" y="129"/>
                </a:lnTo>
                <a:lnTo>
                  <a:pt x="57" y="100"/>
                </a:lnTo>
                <a:lnTo>
                  <a:pt x="64" y="64"/>
                </a:lnTo>
                <a:lnTo>
                  <a:pt x="86" y="50"/>
                </a:lnTo>
                <a:lnTo>
                  <a:pt x="130" y="64"/>
                </a:lnTo>
                <a:lnTo>
                  <a:pt x="174" y="36"/>
                </a:lnTo>
                <a:lnTo>
                  <a:pt x="202" y="0"/>
                </a:lnTo>
                <a:lnTo>
                  <a:pt x="231" y="0"/>
                </a:lnTo>
                <a:lnTo>
                  <a:pt x="303" y="28"/>
                </a:lnTo>
                <a:lnTo>
                  <a:pt x="325" y="14"/>
                </a:lnTo>
                <a:lnTo>
                  <a:pt x="375" y="21"/>
                </a:lnTo>
                <a:lnTo>
                  <a:pt x="390" y="57"/>
                </a:lnTo>
                <a:lnTo>
                  <a:pt x="469" y="72"/>
                </a:lnTo>
                <a:lnTo>
                  <a:pt x="490" y="57"/>
                </a:lnTo>
                <a:lnTo>
                  <a:pt x="570" y="57"/>
                </a:lnTo>
                <a:lnTo>
                  <a:pt x="600" y="36"/>
                </a:lnTo>
                <a:lnTo>
                  <a:pt x="729" y="28"/>
                </a:lnTo>
                <a:lnTo>
                  <a:pt x="758" y="57"/>
                </a:lnTo>
                <a:lnTo>
                  <a:pt x="794" y="64"/>
                </a:lnTo>
                <a:lnTo>
                  <a:pt x="816" y="72"/>
                </a:lnTo>
                <a:lnTo>
                  <a:pt x="816" y="93"/>
                </a:lnTo>
                <a:lnTo>
                  <a:pt x="808" y="108"/>
                </a:lnTo>
                <a:lnTo>
                  <a:pt x="830" y="115"/>
                </a:lnTo>
                <a:lnTo>
                  <a:pt x="823" y="144"/>
                </a:lnTo>
                <a:lnTo>
                  <a:pt x="801" y="180"/>
                </a:lnTo>
                <a:lnTo>
                  <a:pt x="808" y="194"/>
                </a:lnTo>
                <a:lnTo>
                  <a:pt x="801" y="253"/>
                </a:lnTo>
                <a:lnTo>
                  <a:pt x="794" y="274"/>
                </a:lnTo>
                <a:lnTo>
                  <a:pt x="808" y="325"/>
                </a:lnTo>
                <a:lnTo>
                  <a:pt x="844" y="354"/>
                </a:lnTo>
                <a:lnTo>
                  <a:pt x="895" y="354"/>
                </a:lnTo>
                <a:lnTo>
                  <a:pt x="945" y="411"/>
                </a:lnTo>
                <a:lnTo>
                  <a:pt x="988" y="411"/>
                </a:lnTo>
                <a:lnTo>
                  <a:pt x="1062" y="455"/>
                </a:lnTo>
                <a:lnTo>
                  <a:pt x="1105" y="447"/>
                </a:lnTo>
                <a:lnTo>
                  <a:pt x="1134" y="469"/>
                </a:lnTo>
                <a:lnTo>
                  <a:pt x="1162" y="491"/>
                </a:lnTo>
                <a:lnTo>
                  <a:pt x="1148" y="527"/>
                </a:lnTo>
                <a:lnTo>
                  <a:pt x="1184" y="527"/>
                </a:lnTo>
                <a:lnTo>
                  <a:pt x="1191" y="548"/>
                </a:lnTo>
                <a:lnTo>
                  <a:pt x="1213" y="541"/>
                </a:lnTo>
                <a:lnTo>
                  <a:pt x="1206" y="519"/>
                </a:lnTo>
                <a:lnTo>
                  <a:pt x="1227" y="519"/>
                </a:lnTo>
                <a:lnTo>
                  <a:pt x="1234" y="534"/>
                </a:lnTo>
                <a:lnTo>
                  <a:pt x="1249" y="534"/>
                </a:lnTo>
                <a:lnTo>
                  <a:pt x="1256" y="512"/>
                </a:lnTo>
                <a:lnTo>
                  <a:pt x="1278" y="512"/>
                </a:lnTo>
                <a:lnTo>
                  <a:pt x="1299" y="483"/>
                </a:lnTo>
                <a:lnTo>
                  <a:pt x="1314" y="476"/>
                </a:lnTo>
                <a:lnTo>
                  <a:pt x="1342" y="498"/>
                </a:lnTo>
                <a:lnTo>
                  <a:pt x="1342" y="527"/>
                </a:lnTo>
                <a:lnTo>
                  <a:pt x="1378" y="592"/>
                </a:lnTo>
                <a:lnTo>
                  <a:pt x="1357" y="599"/>
                </a:lnTo>
                <a:lnTo>
                  <a:pt x="1386" y="635"/>
                </a:lnTo>
                <a:lnTo>
                  <a:pt x="1378" y="671"/>
                </a:lnTo>
                <a:lnTo>
                  <a:pt x="1371" y="786"/>
                </a:lnTo>
              </a:path>
            </a:pathLst>
          </a:custGeom>
          <a:solidFill>
            <a:srgbClr val="ff99ff"/>
          </a:solidFill>
          <a:ln cap="rnd"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0" name="Freeform 330"/>
          <p:cNvSpPr/>
          <p:nvPr/>
        </p:nvSpPr>
        <p:spPr>
          <a:xfrm>
            <a:off x="2664000" y="2770200"/>
            <a:ext cx="2017440" cy="1326960"/>
          </a:xfrm>
          <a:custGeom>
            <a:avLst/>
            <a:gdLst>
              <a:gd name="textAreaLeft" fmla="*/ 0 w 2017440"/>
              <a:gd name="textAreaRight" fmla="*/ 2017800 w 2017440"/>
              <a:gd name="textAreaTop" fmla="*/ 0 h 1326960"/>
              <a:gd name="textAreaBottom" fmla="*/ 1327320 h 1326960"/>
            </a:gdLst>
            <a:ahLst/>
            <a:rect l="textAreaLeft" t="textAreaTop" r="textAreaRight" b="textAreaBottom"/>
            <a:pathLst>
              <a:path w="911" h="686">
                <a:moveTo>
                  <a:pt x="809" y="591"/>
                </a:moveTo>
                <a:lnTo>
                  <a:pt x="773" y="591"/>
                </a:lnTo>
                <a:lnTo>
                  <a:pt x="758" y="627"/>
                </a:lnTo>
                <a:lnTo>
                  <a:pt x="715" y="634"/>
                </a:lnTo>
                <a:lnTo>
                  <a:pt x="699" y="613"/>
                </a:lnTo>
                <a:lnTo>
                  <a:pt x="678" y="598"/>
                </a:lnTo>
                <a:lnTo>
                  <a:pt x="678" y="620"/>
                </a:lnTo>
                <a:lnTo>
                  <a:pt x="656" y="620"/>
                </a:lnTo>
                <a:lnTo>
                  <a:pt x="627" y="577"/>
                </a:lnTo>
                <a:lnTo>
                  <a:pt x="613" y="577"/>
                </a:lnTo>
                <a:lnTo>
                  <a:pt x="613" y="533"/>
                </a:lnTo>
                <a:lnTo>
                  <a:pt x="584" y="505"/>
                </a:lnTo>
                <a:lnTo>
                  <a:pt x="563" y="505"/>
                </a:lnTo>
                <a:lnTo>
                  <a:pt x="548" y="490"/>
                </a:lnTo>
                <a:lnTo>
                  <a:pt x="534" y="490"/>
                </a:lnTo>
                <a:lnTo>
                  <a:pt x="527" y="505"/>
                </a:lnTo>
                <a:lnTo>
                  <a:pt x="534" y="526"/>
                </a:lnTo>
                <a:lnTo>
                  <a:pt x="534" y="533"/>
                </a:lnTo>
                <a:lnTo>
                  <a:pt x="519" y="555"/>
                </a:lnTo>
                <a:lnTo>
                  <a:pt x="505" y="591"/>
                </a:lnTo>
                <a:lnTo>
                  <a:pt x="519" y="613"/>
                </a:lnTo>
                <a:lnTo>
                  <a:pt x="534" y="613"/>
                </a:lnTo>
                <a:lnTo>
                  <a:pt x="512" y="627"/>
                </a:lnTo>
                <a:lnTo>
                  <a:pt x="491" y="649"/>
                </a:lnTo>
                <a:lnTo>
                  <a:pt x="469" y="649"/>
                </a:lnTo>
                <a:lnTo>
                  <a:pt x="462" y="670"/>
                </a:lnTo>
                <a:lnTo>
                  <a:pt x="447" y="670"/>
                </a:lnTo>
                <a:lnTo>
                  <a:pt x="440" y="656"/>
                </a:lnTo>
                <a:lnTo>
                  <a:pt x="418" y="663"/>
                </a:lnTo>
                <a:lnTo>
                  <a:pt x="426" y="677"/>
                </a:lnTo>
                <a:lnTo>
                  <a:pt x="404" y="685"/>
                </a:lnTo>
                <a:lnTo>
                  <a:pt x="397" y="670"/>
                </a:lnTo>
                <a:lnTo>
                  <a:pt x="361" y="663"/>
                </a:lnTo>
                <a:lnTo>
                  <a:pt x="375" y="627"/>
                </a:lnTo>
                <a:lnTo>
                  <a:pt x="310" y="584"/>
                </a:lnTo>
                <a:lnTo>
                  <a:pt x="274" y="591"/>
                </a:lnTo>
                <a:lnTo>
                  <a:pt x="201" y="548"/>
                </a:lnTo>
                <a:lnTo>
                  <a:pt x="158" y="548"/>
                </a:lnTo>
                <a:lnTo>
                  <a:pt x="108" y="490"/>
                </a:lnTo>
                <a:lnTo>
                  <a:pt x="57" y="490"/>
                </a:lnTo>
                <a:lnTo>
                  <a:pt x="21" y="461"/>
                </a:lnTo>
                <a:lnTo>
                  <a:pt x="0" y="404"/>
                </a:lnTo>
                <a:lnTo>
                  <a:pt x="14" y="389"/>
                </a:lnTo>
                <a:lnTo>
                  <a:pt x="21" y="331"/>
                </a:lnTo>
                <a:lnTo>
                  <a:pt x="14" y="316"/>
                </a:lnTo>
                <a:lnTo>
                  <a:pt x="36" y="280"/>
                </a:lnTo>
                <a:lnTo>
                  <a:pt x="36" y="251"/>
                </a:lnTo>
                <a:lnTo>
                  <a:pt x="14" y="237"/>
                </a:lnTo>
                <a:lnTo>
                  <a:pt x="28" y="230"/>
                </a:lnTo>
                <a:lnTo>
                  <a:pt x="57" y="230"/>
                </a:lnTo>
                <a:lnTo>
                  <a:pt x="64" y="223"/>
                </a:lnTo>
                <a:lnTo>
                  <a:pt x="122" y="244"/>
                </a:lnTo>
                <a:lnTo>
                  <a:pt x="129" y="208"/>
                </a:lnTo>
                <a:lnTo>
                  <a:pt x="115" y="201"/>
                </a:lnTo>
                <a:lnTo>
                  <a:pt x="115" y="179"/>
                </a:lnTo>
                <a:lnTo>
                  <a:pt x="151" y="151"/>
                </a:lnTo>
                <a:lnTo>
                  <a:pt x="144" y="129"/>
                </a:lnTo>
                <a:lnTo>
                  <a:pt x="108" y="86"/>
                </a:lnTo>
                <a:lnTo>
                  <a:pt x="115" y="35"/>
                </a:lnTo>
                <a:lnTo>
                  <a:pt x="187" y="21"/>
                </a:lnTo>
                <a:lnTo>
                  <a:pt x="296" y="7"/>
                </a:lnTo>
                <a:lnTo>
                  <a:pt x="339" y="0"/>
                </a:lnTo>
                <a:lnTo>
                  <a:pt x="397" y="21"/>
                </a:lnTo>
                <a:lnTo>
                  <a:pt x="447" y="43"/>
                </a:lnTo>
                <a:lnTo>
                  <a:pt x="491" y="71"/>
                </a:lnTo>
                <a:lnTo>
                  <a:pt x="534" y="115"/>
                </a:lnTo>
                <a:lnTo>
                  <a:pt x="548" y="64"/>
                </a:lnTo>
                <a:lnTo>
                  <a:pt x="548" y="50"/>
                </a:lnTo>
                <a:lnTo>
                  <a:pt x="584" y="71"/>
                </a:lnTo>
                <a:lnTo>
                  <a:pt x="613" y="79"/>
                </a:lnTo>
                <a:lnTo>
                  <a:pt x="671" y="71"/>
                </a:lnTo>
                <a:lnTo>
                  <a:pt x="685" y="107"/>
                </a:lnTo>
                <a:lnTo>
                  <a:pt x="737" y="143"/>
                </a:lnTo>
                <a:lnTo>
                  <a:pt x="758" y="136"/>
                </a:lnTo>
                <a:lnTo>
                  <a:pt x="837" y="215"/>
                </a:lnTo>
                <a:lnTo>
                  <a:pt x="845" y="194"/>
                </a:lnTo>
                <a:lnTo>
                  <a:pt x="873" y="237"/>
                </a:lnTo>
                <a:lnTo>
                  <a:pt x="888" y="259"/>
                </a:lnTo>
                <a:lnTo>
                  <a:pt x="895" y="316"/>
                </a:lnTo>
                <a:lnTo>
                  <a:pt x="910" y="367"/>
                </a:lnTo>
                <a:lnTo>
                  <a:pt x="895" y="397"/>
                </a:lnTo>
                <a:lnTo>
                  <a:pt x="873" y="397"/>
                </a:lnTo>
                <a:lnTo>
                  <a:pt x="866" y="440"/>
                </a:lnTo>
                <a:lnTo>
                  <a:pt x="823" y="447"/>
                </a:lnTo>
                <a:lnTo>
                  <a:pt x="830" y="469"/>
                </a:lnTo>
                <a:lnTo>
                  <a:pt x="852" y="483"/>
                </a:lnTo>
                <a:lnTo>
                  <a:pt x="845" y="490"/>
                </a:lnTo>
                <a:lnTo>
                  <a:pt x="809" y="512"/>
                </a:lnTo>
                <a:lnTo>
                  <a:pt x="773" y="497"/>
                </a:lnTo>
                <a:lnTo>
                  <a:pt x="758" y="497"/>
                </a:lnTo>
                <a:lnTo>
                  <a:pt x="751" y="519"/>
                </a:lnTo>
                <a:lnTo>
                  <a:pt x="773" y="541"/>
                </a:lnTo>
                <a:lnTo>
                  <a:pt x="801" y="548"/>
                </a:lnTo>
                <a:lnTo>
                  <a:pt x="823" y="562"/>
                </a:lnTo>
                <a:lnTo>
                  <a:pt x="809" y="591"/>
                </a:lnTo>
              </a:path>
            </a:pathLst>
          </a:custGeom>
          <a:solidFill>
            <a:srgbClr val="ff99ff"/>
          </a:solidFill>
          <a:ln cap="rnd"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1" name="Freeform 331"/>
          <p:cNvSpPr/>
          <p:nvPr/>
        </p:nvSpPr>
        <p:spPr>
          <a:xfrm>
            <a:off x="5748480" y="3452760"/>
            <a:ext cx="941400" cy="773280"/>
          </a:xfrm>
          <a:custGeom>
            <a:avLst/>
            <a:gdLst>
              <a:gd name="textAreaLeft" fmla="*/ 0 w 941400"/>
              <a:gd name="textAreaRight" fmla="*/ 941760 w 941400"/>
              <a:gd name="textAreaTop" fmla="*/ 0 h 773280"/>
              <a:gd name="textAreaBottom" fmla="*/ 773640 h 773280"/>
            </a:gdLst>
            <a:ahLst/>
            <a:rect l="textAreaLeft" t="textAreaTop" r="textAreaRight" b="textAreaBottom"/>
            <a:pathLst>
              <a:path w="427" h="399">
                <a:moveTo>
                  <a:pt x="230" y="0"/>
                </a:moveTo>
                <a:lnTo>
                  <a:pt x="289" y="0"/>
                </a:lnTo>
                <a:lnTo>
                  <a:pt x="296" y="14"/>
                </a:lnTo>
                <a:lnTo>
                  <a:pt x="346" y="14"/>
                </a:lnTo>
                <a:lnTo>
                  <a:pt x="361" y="7"/>
                </a:lnTo>
                <a:lnTo>
                  <a:pt x="390" y="7"/>
                </a:lnTo>
                <a:lnTo>
                  <a:pt x="325" y="66"/>
                </a:lnTo>
                <a:lnTo>
                  <a:pt x="303" y="94"/>
                </a:lnTo>
                <a:lnTo>
                  <a:pt x="318" y="102"/>
                </a:lnTo>
                <a:lnTo>
                  <a:pt x="332" y="102"/>
                </a:lnTo>
                <a:lnTo>
                  <a:pt x="368" y="138"/>
                </a:lnTo>
                <a:lnTo>
                  <a:pt x="404" y="138"/>
                </a:lnTo>
                <a:lnTo>
                  <a:pt x="404" y="152"/>
                </a:lnTo>
                <a:lnTo>
                  <a:pt x="426" y="167"/>
                </a:lnTo>
                <a:lnTo>
                  <a:pt x="426" y="181"/>
                </a:lnTo>
                <a:lnTo>
                  <a:pt x="404" y="203"/>
                </a:lnTo>
                <a:lnTo>
                  <a:pt x="397" y="188"/>
                </a:lnTo>
                <a:lnTo>
                  <a:pt x="368" y="174"/>
                </a:lnTo>
                <a:lnTo>
                  <a:pt x="361" y="174"/>
                </a:lnTo>
                <a:lnTo>
                  <a:pt x="354" y="232"/>
                </a:lnTo>
                <a:lnTo>
                  <a:pt x="346" y="260"/>
                </a:lnTo>
                <a:lnTo>
                  <a:pt x="318" y="260"/>
                </a:lnTo>
                <a:lnTo>
                  <a:pt x="310" y="275"/>
                </a:lnTo>
                <a:lnTo>
                  <a:pt x="332" y="275"/>
                </a:lnTo>
                <a:lnTo>
                  <a:pt x="339" y="296"/>
                </a:lnTo>
                <a:lnTo>
                  <a:pt x="361" y="311"/>
                </a:lnTo>
                <a:lnTo>
                  <a:pt x="397" y="311"/>
                </a:lnTo>
                <a:lnTo>
                  <a:pt x="397" y="369"/>
                </a:lnTo>
                <a:lnTo>
                  <a:pt x="346" y="390"/>
                </a:lnTo>
                <a:lnTo>
                  <a:pt x="339" y="390"/>
                </a:lnTo>
                <a:lnTo>
                  <a:pt x="332" y="398"/>
                </a:lnTo>
                <a:lnTo>
                  <a:pt x="289" y="390"/>
                </a:lnTo>
                <a:lnTo>
                  <a:pt x="274" y="376"/>
                </a:lnTo>
                <a:lnTo>
                  <a:pt x="267" y="390"/>
                </a:lnTo>
                <a:lnTo>
                  <a:pt x="246" y="376"/>
                </a:lnTo>
                <a:lnTo>
                  <a:pt x="246" y="354"/>
                </a:lnTo>
                <a:lnTo>
                  <a:pt x="216" y="325"/>
                </a:lnTo>
                <a:lnTo>
                  <a:pt x="201" y="340"/>
                </a:lnTo>
                <a:lnTo>
                  <a:pt x="180" y="325"/>
                </a:lnTo>
                <a:lnTo>
                  <a:pt x="100" y="325"/>
                </a:lnTo>
                <a:lnTo>
                  <a:pt x="50" y="253"/>
                </a:lnTo>
                <a:lnTo>
                  <a:pt x="14" y="203"/>
                </a:lnTo>
                <a:lnTo>
                  <a:pt x="0" y="138"/>
                </a:lnTo>
                <a:lnTo>
                  <a:pt x="36" y="138"/>
                </a:lnTo>
                <a:lnTo>
                  <a:pt x="129" y="87"/>
                </a:lnTo>
                <a:lnTo>
                  <a:pt x="151" y="80"/>
                </a:lnTo>
                <a:lnTo>
                  <a:pt x="194" y="80"/>
                </a:lnTo>
                <a:lnTo>
                  <a:pt x="216" y="51"/>
                </a:lnTo>
                <a:lnTo>
                  <a:pt x="230" y="0"/>
                </a:lnTo>
              </a:path>
            </a:pathLst>
          </a:custGeom>
          <a:solidFill>
            <a:srgbClr val="9ed3d7"/>
          </a:solidFill>
          <a:ln cap="rnd" w="1260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2" name="Freeform 332"/>
          <p:cNvSpPr/>
          <p:nvPr/>
        </p:nvSpPr>
        <p:spPr>
          <a:xfrm>
            <a:off x="6432480" y="3691080"/>
            <a:ext cx="784440" cy="838080"/>
          </a:xfrm>
          <a:custGeom>
            <a:avLst/>
            <a:gdLst>
              <a:gd name="textAreaLeft" fmla="*/ 0 w 784440"/>
              <a:gd name="textAreaRight" fmla="*/ 784800 w 784440"/>
              <a:gd name="textAreaTop" fmla="*/ 0 h 838080"/>
              <a:gd name="textAreaBottom" fmla="*/ 838440 h 838080"/>
            </a:gdLst>
            <a:ahLst/>
            <a:rect l="textAreaLeft" t="textAreaTop" r="textAreaRight" b="textAreaBottom"/>
            <a:pathLst>
              <a:path w="354" h="433">
                <a:moveTo>
                  <a:pt x="93" y="14"/>
                </a:moveTo>
                <a:lnTo>
                  <a:pt x="100" y="0"/>
                </a:lnTo>
                <a:lnTo>
                  <a:pt x="136" y="14"/>
                </a:lnTo>
                <a:lnTo>
                  <a:pt x="144" y="36"/>
                </a:lnTo>
                <a:lnTo>
                  <a:pt x="172" y="43"/>
                </a:lnTo>
                <a:lnTo>
                  <a:pt x="194" y="72"/>
                </a:lnTo>
                <a:lnTo>
                  <a:pt x="216" y="72"/>
                </a:lnTo>
                <a:lnTo>
                  <a:pt x="223" y="108"/>
                </a:lnTo>
                <a:lnTo>
                  <a:pt x="252" y="151"/>
                </a:lnTo>
                <a:lnTo>
                  <a:pt x="273" y="151"/>
                </a:lnTo>
                <a:lnTo>
                  <a:pt x="288" y="136"/>
                </a:lnTo>
                <a:lnTo>
                  <a:pt x="309" y="158"/>
                </a:lnTo>
                <a:lnTo>
                  <a:pt x="295" y="180"/>
                </a:lnTo>
                <a:lnTo>
                  <a:pt x="280" y="165"/>
                </a:lnTo>
                <a:lnTo>
                  <a:pt x="266" y="165"/>
                </a:lnTo>
                <a:lnTo>
                  <a:pt x="266" y="194"/>
                </a:lnTo>
                <a:lnTo>
                  <a:pt x="252" y="216"/>
                </a:lnTo>
                <a:lnTo>
                  <a:pt x="280" y="252"/>
                </a:lnTo>
                <a:lnTo>
                  <a:pt x="280" y="280"/>
                </a:lnTo>
                <a:lnTo>
                  <a:pt x="331" y="273"/>
                </a:lnTo>
                <a:lnTo>
                  <a:pt x="353" y="295"/>
                </a:lnTo>
                <a:lnTo>
                  <a:pt x="331" y="331"/>
                </a:lnTo>
                <a:lnTo>
                  <a:pt x="338" y="360"/>
                </a:lnTo>
                <a:lnTo>
                  <a:pt x="324" y="360"/>
                </a:lnTo>
                <a:lnTo>
                  <a:pt x="316" y="352"/>
                </a:lnTo>
                <a:lnTo>
                  <a:pt x="302" y="352"/>
                </a:lnTo>
                <a:lnTo>
                  <a:pt x="302" y="367"/>
                </a:lnTo>
                <a:lnTo>
                  <a:pt x="309" y="388"/>
                </a:lnTo>
                <a:lnTo>
                  <a:pt x="295" y="381"/>
                </a:lnTo>
                <a:lnTo>
                  <a:pt x="302" y="403"/>
                </a:lnTo>
                <a:lnTo>
                  <a:pt x="266" y="432"/>
                </a:lnTo>
                <a:lnTo>
                  <a:pt x="252" y="432"/>
                </a:lnTo>
                <a:lnTo>
                  <a:pt x="244" y="424"/>
                </a:lnTo>
                <a:lnTo>
                  <a:pt x="208" y="424"/>
                </a:lnTo>
                <a:lnTo>
                  <a:pt x="187" y="396"/>
                </a:lnTo>
                <a:lnTo>
                  <a:pt x="172" y="410"/>
                </a:lnTo>
                <a:lnTo>
                  <a:pt x="172" y="432"/>
                </a:lnTo>
                <a:lnTo>
                  <a:pt x="151" y="432"/>
                </a:lnTo>
                <a:lnTo>
                  <a:pt x="144" y="410"/>
                </a:lnTo>
                <a:lnTo>
                  <a:pt x="158" y="403"/>
                </a:lnTo>
                <a:lnTo>
                  <a:pt x="144" y="388"/>
                </a:lnTo>
                <a:lnTo>
                  <a:pt x="136" y="410"/>
                </a:lnTo>
                <a:lnTo>
                  <a:pt x="100" y="403"/>
                </a:lnTo>
                <a:lnTo>
                  <a:pt x="93" y="352"/>
                </a:lnTo>
                <a:lnTo>
                  <a:pt x="93" y="331"/>
                </a:lnTo>
                <a:lnTo>
                  <a:pt x="79" y="295"/>
                </a:lnTo>
                <a:lnTo>
                  <a:pt x="36" y="273"/>
                </a:lnTo>
                <a:lnTo>
                  <a:pt x="86" y="244"/>
                </a:lnTo>
                <a:lnTo>
                  <a:pt x="93" y="244"/>
                </a:lnTo>
                <a:lnTo>
                  <a:pt x="86" y="187"/>
                </a:lnTo>
                <a:lnTo>
                  <a:pt x="50" y="187"/>
                </a:lnTo>
                <a:lnTo>
                  <a:pt x="28" y="172"/>
                </a:lnTo>
                <a:lnTo>
                  <a:pt x="21" y="151"/>
                </a:lnTo>
                <a:lnTo>
                  <a:pt x="0" y="151"/>
                </a:lnTo>
                <a:lnTo>
                  <a:pt x="7" y="136"/>
                </a:lnTo>
                <a:lnTo>
                  <a:pt x="36" y="136"/>
                </a:lnTo>
                <a:lnTo>
                  <a:pt x="43" y="100"/>
                </a:lnTo>
                <a:lnTo>
                  <a:pt x="50" y="43"/>
                </a:lnTo>
                <a:lnTo>
                  <a:pt x="57" y="50"/>
                </a:lnTo>
                <a:lnTo>
                  <a:pt x="86" y="64"/>
                </a:lnTo>
                <a:lnTo>
                  <a:pt x="93" y="79"/>
                </a:lnTo>
                <a:lnTo>
                  <a:pt x="115" y="50"/>
                </a:lnTo>
                <a:lnTo>
                  <a:pt x="122" y="43"/>
                </a:lnTo>
                <a:lnTo>
                  <a:pt x="93" y="28"/>
                </a:lnTo>
                <a:lnTo>
                  <a:pt x="93" y="14"/>
                </a:lnTo>
              </a:path>
            </a:pathLst>
          </a:custGeom>
          <a:solidFill>
            <a:srgbClr val="6699ff"/>
          </a:solidFill>
          <a:ln cap="rnd" w="1260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3" name="Freeform 333"/>
          <p:cNvSpPr/>
          <p:nvPr/>
        </p:nvSpPr>
        <p:spPr>
          <a:xfrm>
            <a:off x="6446880" y="2629080"/>
            <a:ext cx="287280" cy="285480"/>
          </a:xfrm>
          <a:custGeom>
            <a:avLst/>
            <a:gdLst>
              <a:gd name="textAreaLeft" fmla="*/ 0 w 287280"/>
              <a:gd name="textAreaRight" fmla="*/ 287640 w 287280"/>
              <a:gd name="textAreaTop" fmla="*/ 0 h 285480"/>
              <a:gd name="textAreaBottom" fmla="*/ 285840 h 285480"/>
            </a:gdLst>
            <a:ahLst/>
            <a:rect l="textAreaLeft" t="textAreaTop" r="textAreaRight" b="textAreaBottom"/>
            <a:pathLst>
              <a:path w="130" h="145">
                <a:moveTo>
                  <a:pt x="129" y="72"/>
                </a:moveTo>
                <a:lnTo>
                  <a:pt x="114" y="50"/>
                </a:lnTo>
                <a:lnTo>
                  <a:pt x="129" y="21"/>
                </a:lnTo>
                <a:lnTo>
                  <a:pt x="100" y="21"/>
                </a:lnTo>
                <a:lnTo>
                  <a:pt x="86" y="0"/>
                </a:lnTo>
                <a:lnTo>
                  <a:pt x="64" y="0"/>
                </a:lnTo>
                <a:lnTo>
                  <a:pt x="57" y="36"/>
                </a:lnTo>
                <a:lnTo>
                  <a:pt x="35" y="36"/>
                </a:lnTo>
                <a:lnTo>
                  <a:pt x="0" y="100"/>
                </a:lnTo>
                <a:lnTo>
                  <a:pt x="7" y="129"/>
                </a:lnTo>
                <a:lnTo>
                  <a:pt x="35" y="129"/>
                </a:lnTo>
                <a:lnTo>
                  <a:pt x="57" y="144"/>
                </a:lnTo>
                <a:lnTo>
                  <a:pt x="93" y="129"/>
                </a:lnTo>
                <a:lnTo>
                  <a:pt x="93" y="108"/>
                </a:lnTo>
                <a:lnTo>
                  <a:pt x="86" y="86"/>
                </a:lnTo>
                <a:lnTo>
                  <a:pt x="107" y="86"/>
                </a:lnTo>
                <a:lnTo>
                  <a:pt x="129" y="72"/>
                </a:lnTo>
              </a:path>
            </a:pathLst>
          </a:custGeom>
          <a:solidFill>
            <a:srgbClr val="9ed3d7"/>
          </a:solidFill>
          <a:ln cap="rnd" w="12600">
            <a:solidFill>
              <a:srgbClr val="cc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4" name="Oval 334" descr=""/>
          <p:cNvPicPr/>
          <p:nvPr/>
        </p:nvPicPr>
        <p:blipFill>
          <a:blip r:embed="rId1"/>
          <a:stretch/>
        </p:blipFill>
        <p:spPr>
          <a:xfrm>
            <a:off x="5888160" y="3230640"/>
            <a:ext cx="609480" cy="384120"/>
          </a:xfrm>
          <a:prstGeom prst="rect">
            <a:avLst/>
          </a:prstGeom>
          <a:ln w="0">
            <a:noFill/>
          </a:ln>
        </p:spPr>
      </p:pic>
      <p:pic>
        <p:nvPicPr>
          <p:cNvPr id="4165" name="Oval 335" descr=""/>
          <p:cNvPicPr/>
          <p:nvPr/>
        </p:nvPicPr>
        <p:blipFill>
          <a:blip r:embed="rId2"/>
          <a:stretch/>
        </p:blipFill>
        <p:spPr>
          <a:xfrm>
            <a:off x="6357960" y="3767040"/>
            <a:ext cx="609480" cy="384120"/>
          </a:xfrm>
          <a:prstGeom prst="rect">
            <a:avLst/>
          </a:prstGeom>
          <a:ln w="0">
            <a:noFill/>
          </a:ln>
        </p:spPr>
      </p:pic>
      <p:pic>
        <p:nvPicPr>
          <p:cNvPr id="4166" name="Oval 336" descr=""/>
          <p:cNvPicPr/>
          <p:nvPr/>
        </p:nvPicPr>
        <p:blipFill>
          <a:blip r:embed="rId3"/>
          <a:stretch/>
        </p:blipFill>
        <p:spPr>
          <a:xfrm>
            <a:off x="5572080" y="5121360"/>
            <a:ext cx="609480" cy="384120"/>
          </a:xfrm>
          <a:prstGeom prst="rect">
            <a:avLst/>
          </a:prstGeom>
          <a:ln w="0">
            <a:noFill/>
          </a:ln>
        </p:spPr>
      </p:pic>
      <p:pic>
        <p:nvPicPr>
          <p:cNvPr id="4167" name="Oval 337" descr=""/>
          <p:cNvPicPr/>
          <p:nvPr/>
        </p:nvPicPr>
        <p:blipFill>
          <a:blip r:embed="rId4"/>
          <a:stretch/>
        </p:blipFill>
        <p:spPr>
          <a:xfrm>
            <a:off x="3932280" y="3906720"/>
            <a:ext cx="609480" cy="384120"/>
          </a:xfrm>
          <a:prstGeom prst="rect">
            <a:avLst/>
          </a:prstGeom>
          <a:ln w="0">
            <a:noFill/>
          </a:ln>
        </p:spPr>
      </p:pic>
      <p:sp>
        <p:nvSpPr>
          <p:cNvPr id="4168" name="Text Box 338"/>
          <p:cNvSpPr/>
          <p:nvPr/>
        </p:nvSpPr>
        <p:spPr>
          <a:xfrm>
            <a:off x="6800040" y="2917800"/>
            <a:ext cx="162396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7030a0"/>
                </a:solidFill>
                <a:latin typeface="Arial"/>
                <a:ea typeface="태-헤드라인티B"/>
              </a:rPr>
              <a:t>LGETA (</a:t>
            </a:r>
            <a:r>
              <a:rPr b="0" lang="zh-CN" sz="900" spc="-1" strike="noStrike">
                <a:solidFill>
                  <a:srgbClr val="7030a0"/>
                </a:solidFill>
                <a:latin typeface="Arial"/>
                <a:ea typeface="宋体"/>
              </a:rPr>
              <a:t>天津</a:t>
            </a:r>
            <a:r>
              <a:rPr b="0" lang="en-US" sz="900" spc="-1" strike="noStrike">
                <a:solidFill>
                  <a:srgbClr val="7030a0"/>
                </a:solidFill>
                <a:latin typeface="Arial"/>
                <a:ea typeface="宋体"/>
              </a:rPr>
              <a:t>, AC MWO V/C</a:t>
            </a:r>
            <a:r>
              <a:rPr b="0" lang="en-US" sz="900" spc="-1" strike="noStrike">
                <a:solidFill>
                  <a:srgbClr val="7030a0"/>
                </a:solidFill>
                <a:latin typeface="Arial"/>
                <a:ea typeface="태-헤드라인티B"/>
              </a:rPr>
              <a:t>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9" name="Text Box 339"/>
          <p:cNvSpPr/>
          <p:nvPr/>
        </p:nvSpPr>
        <p:spPr>
          <a:xfrm>
            <a:off x="7123680" y="3537000"/>
            <a:ext cx="1128600" cy="1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7030a0"/>
                </a:solidFill>
                <a:latin typeface="Arial"/>
                <a:ea typeface="태-헤드라인티B"/>
              </a:rPr>
              <a:t>LGETR (</a:t>
            </a:r>
            <a:r>
              <a:rPr b="1" lang="ko-KR" sz="900" spc="-1" strike="noStrike">
                <a:solidFill>
                  <a:srgbClr val="7030a0"/>
                </a:solidFill>
                <a:latin typeface="Arial"/>
                <a:ea typeface="태-헤드라인티B"/>
              </a:rPr>
              <a:t>泰州</a:t>
            </a:r>
            <a:r>
              <a:rPr b="1" lang="en-US" sz="900" spc="-1" strike="noStrike">
                <a:solidFill>
                  <a:srgbClr val="7030a0"/>
                </a:solidFill>
                <a:latin typeface="Arial"/>
                <a:ea typeface="태-헤드라인티B"/>
              </a:rPr>
              <a:t>,REF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0" name="Text Box 340"/>
          <p:cNvSpPr/>
          <p:nvPr/>
        </p:nvSpPr>
        <p:spPr>
          <a:xfrm>
            <a:off x="8181360" y="3807000"/>
            <a:ext cx="1140840" cy="1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7030a0"/>
                </a:solidFill>
                <a:latin typeface="Arial"/>
                <a:ea typeface="태-헤드라인티B"/>
              </a:rPr>
              <a:t>LGEPN (</a:t>
            </a:r>
            <a:r>
              <a:rPr b="1" lang="ko-KR" sz="900" spc="-1" strike="noStrike">
                <a:solidFill>
                  <a:srgbClr val="7030a0"/>
                </a:solidFill>
                <a:latin typeface="Arial"/>
                <a:ea typeface="태-헤드라인티B"/>
              </a:rPr>
              <a:t>南京</a:t>
            </a:r>
            <a:r>
              <a:rPr b="1" lang="en-US" sz="900" spc="-1" strike="noStrike">
                <a:solidFill>
                  <a:srgbClr val="7030a0"/>
                </a:solidFill>
                <a:latin typeface="Arial"/>
                <a:ea typeface="태-헤드라인티B"/>
              </a:rPr>
              <a:t>,W/M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1" name="Text Box 341"/>
          <p:cNvSpPr/>
          <p:nvPr/>
        </p:nvSpPr>
        <p:spPr>
          <a:xfrm>
            <a:off x="8178840" y="4111560"/>
            <a:ext cx="1140840" cy="1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7030a0"/>
                </a:solidFill>
                <a:latin typeface="Arial"/>
                <a:ea typeface="태-헤드라인티B"/>
              </a:rPr>
              <a:t>LGENP (</a:t>
            </a:r>
            <a:r>
              <a:rPr b="1" lang="ko-KR" sz="900" spc="-1" strike="noStrike">
                <a:solidFill>
                  <a:srgbClr val="7030a0"/>
                </a:solidFill>
                <a:latin typeface="Arial"/>
                <a:ea typeface="태-헤드라인티B"/>
              </a:rPr>
              <a:t>南京</a:t>
            </a:r>
            <a:r>
              <a:rPr b="1" lang="en-US" sz="900" spc="-1" strike="noStrike">
                <a:solidFill>
                  <a:srgbClr val="7030a0"/>
                </a:solidFill>
                <a:latin typeface="Arial"/>
                <a:ea typeface="태-헤드라인티B"/>
              </a:rPr>
              <a:t>,PDP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2" name="Text Box 342"/>
          <p:cNvSpPr/>
          <p:nvPr/>
        </p:nvSpPr>
        <p:spPr>
          <a:xfrm>
            <a:off x="8180640" y="3959280"/>
            <a:ext cx="1146960" cy="1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7030a0"/>
                </a:solidFill>
                <a:latin typeface="Arial"/>
                <a:ea typeface="태-헤드라인티B"/>
              </a:rPr>
              <a:t>LGEND (</a:t>
            </a:r>
            <a:r>
              <a:rPr b="1" lang="ko-KR" sz="900" spc="-1" strike="noStrike">
                <a:solidFill>
                  <a:srgbClr val="7030a0"/>
                </a:solidFill>
                <a:latin typeface="Arial"/>
                <a:ea typeface="태-헤드라인티B"/>
              </a:rPr>
              <a:t>南京</a:t>
            </a:r>
            <a:r>
              <a:rPr b="1" lang="en-US" sz="900" spc="-1" strike="noStrike">
                <a:solidFill>
                  <a:srgbClr val="7030a0"/>
                </a:solidFill>
                <a:latin typeface="Arial"/>
                <a:ea typeface="태-헤드라인티B"/>
              </a:rPr>
              <a:t>,LCD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3" name="Text Box 343"/>
          <p:cNvSpPr/>
          <p:nvPr/>
        </p:nvSpPr>
        <p:spPr>
          <a:xfrm>
            <a:off x="2590920" y="218772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新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4" name="Text Box 344"/>
          <p:cNvSpPr/>
          <p:nvPr/>
        </p:nvSpPr>
        <p:spPr>
          <a:xfrm>
            <a:off x="3646800" y="251136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甘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5" name="Text Box 345"/>
          <p:cNvSpPr/>
          <p:nvPr/>
        </p:nvSpPr>
        <p:spPr>
          <a:xfrm>
            <a:off x="3646800" y="325440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青海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6" name="Text Box 346"/>
          <p:cNvSpPr/>
          <p:nvPr/>
        </p:nvSpPr>
        <p:spPr>
          <a:xfrm>
            <a:off x="2222640" y="369252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西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7" name="Text Box 347"/>
          <p:cNvSpPr/>
          <p:nvPr/>
        </p:nvSpPr>
        <p:spPr>
          <a:xfrm>
            <a:off x="4991400" y="305604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宁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8" name="Text Box 348"/>
          <p:cNvSpPr/>
          <p:nvPr/>
        </p:nvSpPr>
        <p:spPr>
          <a:xfrm>
            <a:off x="5139720" y="413244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重庆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9" name="Text Box 349"/>
          <p:cNvSpPr/>
          <p:nvPr/>
        </p:nvSpPr>
        <p:spPr>
          <a:xfrm>
            <a:off x="4191120" y="520524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000" spc="-1" strike="noStrike">
                <a:solidFill>
                  <a:srgbClr val="000000"/>
                </a:solidFill>
                <a:latin typeface="Arial"/>
                <a:ea typeface="Gulim"/>
              </a:rPr>
              <a:t>雲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0" name="Text Box 350"/>
          <p:cNvSpPr/>
          <p:nvPr/>
        </p:nvSpPr>
        <p:spPr>
          <a:xfrm>
            <a:off x="5341320" y="537696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广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1" name="Text Box 351"/>
          <p:cNvSpPr/>
          <p:nvPr/>
        </p:nvSpPr>
        <p:spPr>
          <a:xfrm>
            <a:off x="5445360" y="611964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海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2" name="Text Box 352"/>
          <p:cNvSpPr/>
          <p:nvPr/>
        </p:nvSpPr>
        <p:spPr>
          <a:xfrm>
            <a:off x="6140520" y="536724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广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3" name="Text Box 353"/>
          <p:cNvSpPr/>
          <p:nvPr/>
        </p:nvSpPr>
        <p:spPr>
          <a:xfrm>
            <a:off x="6896160" y="501480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福建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4" name="Text Box 354"/>
          <p:cNvSpPr/>
          <p:nvPr/>
        </p:nvSpPr>
        <p:spPr>
          <a:xfrm>
            <a:off x="6462720" y="467028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江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5" name="Text Box 355"/>
          <p:cNvSpPr/>
          <p:nvPr/>
        </p:nvSpPr>
        <p:spPr>
          <a:xfrm>
            <a:off x="7196400" y="441648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浙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6" name="Text Box 356"/>
          <p:cNvSpPr/>
          <p:nvPr/>
        </p:nvSpPr>
        <p:spPr>
          <a:xfrm>
            <a:off x="6703200" y="3336840"/>
            <a:ext cx="333000" cy="276480"/>
          </a:xfrm>
          <a:prstGeom prst="rect">
            <a:avLst/>
          </a:prstGeom>
          <a:solidFill>
            <a:srgbClr val="9ed3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山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7" name="Text Box 357"/>
          <p:cNvSpPr/>
          <p:nvPr/>
        </p:nvSpPr>
        <p:spPr>
          <a:xfrm>
            <a:off x="6290640" y="305604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河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8" name="Text Box 358"/>
          <p:cNvSpPr/>
          <p:nvPr/>
        </p:nvSpPr>
        <p:spPr>
          <a:xfrm>
            <a:off x="5850000" y="305604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山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9" name="Text Box 359"/>
          <p:cNvSpPr/>
          <p:nvPr/>
        </p:nvSpPr>
        <p:spPr>
          <a:xfrm>
            <a:off x="5965200" y="371304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河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0" name="Text Box 360"/>
          <p:cNvSpPr/>
          <p:nvPr/>
        </p:nvSpPr>
        <p:spPr>
          <a:xfrm>
            <a:off x="5832720" y="462600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湖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1" name="Text Box 361"/>
          <p:cNvSpPr/>
          <p:nvPr/>
        </p:nvSpPr>
        <p:spPr>
          <a:xfrm>
            <a:off x="5341320" y="354960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陕西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2" name="Text Box 362"/>
          <p:cNvSpPr/>
          <p:nvPr/>
        </p:nvSpPr>
        <p:spPr>
          <a:xfrm>
            <a:off x="5727960" y="398772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湖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3" name="Text Box 363"/>
          <p:cNvSpPr/>
          <p:nvPr/>
        </p:nvSpPr>
        <p:spPr>
          <a:xfrm>
            <a:off x="7380360" y="243216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辽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4" name="Text Box 364"/>
          <p:cNvSpPr/>
          <p:nvPr/>
        </p:nvSpPr>
        <p:spPr>
          <a:xfrm>
            <a:off x="8018640" y="194004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吉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5" name="Text Box 365"/>
          <p:cNvSpPr/>
          <p:nvPr/>
        </p:nvSpPr>
        <p:spPr>
          <a:xfrm>
            <a:off x="8021520" y="136692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黑龙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6" name="Text Box 366"/>
          <p:cNvSpPr/>
          <p:nvPr/>
        </p:nvSpPr>
        <p:spPr>
          <a:xfrm>
            <a:off x="6589080" y="191124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内蒙古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7" name="Text Box 367"/>
          <p:cNvSpPr/>
          <p:nvPr/>
        </p:nvSpPr>
        <p:spPr>
          <a:xfrm>
            <a:off x="6774120" y="265428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天津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8" name="Text Box 368"/>
          <p:cNvSpPr/>
          <p:nvPr/>
        </p:nvSpPr>
        <p:spPr>
          <a:xfrm>
            <a:off x="4991400" y="490068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贵州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9" name="Text Box 369"/>
          <p:cNvSpPr/>
          <p:nvPr/>
        </p:nvSpPr>
        <p:spPr>
          <a:xfrm>
            <a:off x="4295880" y="425592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四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0" name="Text Box 370"/>
          <p:cNvSpPr/>
          <p:nvPr/>
        </p:nvSpPr>
        <p:spPr>
          <a:xfrm>
            <a:off x="6747120" y="421812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安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1" name="Text Box 371"/>
          <p:cNvSpPr/>
          <p:nvPr/>
        </p:nvSpPr>
        <p:spPr>
          <a:xfrm>
            <a:off x="6894000" y="3716280"/>
            <a:ext cx="33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江苏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2" name="Text Box 372"/>
          <p:cNvSpPr/>
          <p:nvPr/>
        </p:nvSpPr>
        <p:spPr>
          <a:xfrm>
            <a:off x="7914600" y="1219320"/>
            <a:ext cx="340920" cy="2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00" spc="-1" strike="noStrike">
                <a:solidFill>
                  <a:srgbClr val="0000ff"/>
                </a:solidFill>
                <a:latin typeface="Arial"/>
                <a:ea typeface="宋体"/>
              </a:rPr>
              <a:t>哈尔滨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3" name="Text Box 373"/>
          <p:cNvSpPr/>
          <p:nvPr/>
        </p:nvSpPr>
        <p:spPr>
          <a:xfrm>
            <a:off x="7688160" y="1833480"/>
            <a:ext cx="3178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ff"/>
                </a:solidFill>
                <a:latin typeface="Arial"/>
                <a:ea typeface="宋体"/>
              </a:rPr>
              <a:t>长春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4" name="Oval 374" descr=""/>
          <p:cNvPicPr/>
          <p:nvPr/>
        </p:nvPicPr>
        <p:blipFill>
          <a:blip r:embed="rId5"/>
          <a:stretch/>
        </p:blipFill>
        <p:spPr>
          <a:xfrm>
            <a:off x="7504200" y="2011320"/>
            <a:ext cx="603000" cy="384120"/>
          </a:xfrm>
          <a:prstGeom prst="rect">
            <a:avLst/>
          </a:prstGeom>
          <a:ln w="0">
            <a:noFill/>
          </a:ln>
        </p:spPr>
      </p:pic>
      <p:sp>
        <p:nvSpPr>
          <p:cNvPr id="4205" name="Text Box 375"/>
          <p:cNvSpPr/>
          <p:nvPr/>
        </p:nvSpPr>
        <p:spPr>
          <a:xfrm>
            <a:off x="7375320" y="2728800"/>
            <a:ext cx="3178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ff"/>
                </a:solidFill>
                <a:latin typeface="Arial"/>
                <a:ea typeface="宋体"/>
              </a:rPr>
              <a:t>大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6" name="Text Box 376"/>
          <p:cNvSpPr/>
          <p:nvPr/>
        </p:nvSpPr>
        <p:spPr>
          <a:xfrm>
            <a:off x="7440480" y="2182680"/>
            <a:ext cx="3178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ff"/>
                </a:solidFill>
                <a:latin typeface="Arial"/>
                <a:ea typeface="宋体"/>
              </a:rPr>
              <a:t>沈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7" name="Text Box 377"/>
          <p:cNvSpPr/>
          <p:nvPr/>
        </p:nvSpPr>
        <p:spPr>
          <a:xfrm>
            <a:off x="4714560" y="4176720"/>
            <a:ext cx="3178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ff"/>
                </a:solidFill>
                <a:latin typeface="Arial"/>
                <a:ea typeface="宋体"/>
              </a:rPr>
              <a:t>成都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8" name="Text Box 378"/>
          <p:cNvSpPr/>
          <p:nvPr/>
        </p:nvSpPr>
        <p:spPr>
          <a:xfrm>
            <a:off x="5276520" y="4284720"/>
            <a:ext cx="3178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ff"/>
                </a:solidFill>
                <a:latin typeface="Arial"/>
                <a:ea typeface="宋体"/>
              </a:rPr>
              <a:t>重庆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9" name="Text Box 379"/>
          <p:cNvSpPr/>
          <p:nvPr/>
        </p:nvSpPr>
        <p:spPr>
          <a:xfrm>
            <a:off x="6003720" y="3954600"/>
            <a:ext cx="3178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ff"/>
                </a:solidFill>
                <a:latin typeface="Arial"/>
                <a:ea typeface="宋体"/>
              </a:rPr>
              <a:t>武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0" name="Text Box 380"/>
          <p:cNvSpPr/>
          <p:nvPr/>
        </p:nvSpPr>
        <p:spPr>
          <a:xfrm>
            <a:off x="5528880" y="3656160"/>
            <a:ext cx="3178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ff"/>
                </a:solidFill>
                <a:latin typeface="Arial"/>
                <a:ea typeface="宋体"/>
              </a:rPr>
              <a:t>西安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1" name="Text Box 381"/>
          <p:cNvSpPr/>
          <p:nvPr/>
        </p:nvSpPr>
        <p:spPr>
          <a:xfrm>
            <a:off x="6395760" y="3510000"/>
            <a:ext cx="3178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ff"/>
                </a:solidFill>
                <a:latin typeface="Arial"/>
                <a:ea typeface="宋体"/>
              </a:rPr>
              <a:t>郑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2" name="Text Box 382"/>
          <p:cNvSpPr/>
          <p:nvPr/>
        </p:nvSpPr>
        <p:spPr>
          <a:xfrm>
            <a:off x="6014880" y="4809960"/>
            <a:ext cx="3178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ff"/>
                </a:solidFill>
                <a:latin typeface="Arial"/>
                <a:ea typeface="宋体"/>
              </a:rPr>
              <a:t>长沙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3" name="Text Box 383"/>
          <p:cNvSpPr/>
          <p:nvPr/>
        </p:nvSpPr>
        <p:spPr>
          <a:xfrm>
            <a:off x="7304400" y="4943520"/>
            <a:ext cx="38664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ff"/>
                </a:solidFill>
                <a:latin typeface="Arial"/>
                <a:ea typeface="宋体"/>
              </a:rPr>
              <a:t>珠三角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4" name="Text Box 384"/>
          <p:cNvSpPr/>
          <p:nvPr/>
        </p:nvSpPr>
        <p:spPr>
          <a:xfrm>
            <a:off x="7573680" y="4518000"/>
            <a:ext cx="3178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ff"/>
                </a:solidFill>
                <a:latin typeface="Arial"/>
                <a:ea typeface="宋体"/>
              </a:rPr>
              <a:t>温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5" name="Text Box 385"/>
          <p:cNvSpPr/>
          <p:nvPr/>
        </p:nvSpPr>
        <p:spPr>
          <a:xfrm>
            <a:off x="7316640" y="4187880"/>
            <a:ext cx="3178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ff"/>
                </a:solidFill>
                <a:latin typeface="Arial"/>
                <a:ea typeface="宋体"/>
              </a:rPr>
              <a:t>杭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6" name="Text Box 386"/>
          <p:cNvSpPr/>
          <p:nvPr/>
        </p:nvSpPr>
        <p:spPr>
          <a:xfrm>
            <a:off x="7497360" y="3940200"/>
            <a:ext cx="3178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ff"/>
                </a:solidFill>
                <a:latin typeface="Arial"/>
                <a:ea typeface="宋体"/>
              </a:rPr>
              <a:t>上海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7" name="Text Box 387"/>
          <p:cNvSpPr/>
          <p:nvPr/>
        </p:nvSpPr>
        <p:spPr>
          <a:xfrm>
            <a:off x="7064280" y="5261040"/>
            <a:ext cx="3178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ff"/>
                </a:solidFill>
                <a:latin typeface="Arial"/>
                <a:ea typeface="宋体"/>
              </a:rPr>
              <a:t>厦门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8" name="Text Box 388"/>
          <p:cNvSpPr/>
          <p:nvPr/>
        </p:nvSpPr>
        <p:spPr>
          <a:xfrm>
            <a:off x="6771960" y="5477040"/>
            <a:ext cx="3178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ff"/>
                </a:solidFill>
                <a:latin typeface="Arial"/>
                <a:ea typeface="宋体"/>
              </a:rPr>
              <a:t>东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9" name="Text Box 389"/>
          <p:cNvSpPr/>
          <p:nvPr/>
        </p:nvSpPr>
        <p:spPr>
          <a:xfrm>
            <a:off x="6391080" y="5546880"/>
            <a:ext cx="3178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ff"/>
                </a:solidFill>
                <a:latin typeface="Arial"/>
                <a:ea typeface="宋体"/>
              </a:rPr>
              <a:t>深圳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0" name="Text Box 390"/>
          <p:cNvSpPr/>
          <p:nvPr/>
        </p:nvSpPr>
        <p:spPr>
          <a:xfrm>
            <a:off x="6297480" y="5248440"/>
            <a:ext cx="3178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ff"/>
                </a:solidFill>
                <a:latin typeface="Arial"/>
                <a:ea typeface="宋体"/>
              </a:rPr>
              <a:t>广州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1" name="Text Box 391"/>
          <p:cNvSpPr/>
          <p:nvPr/>
        </p:nvSpPr>
        <p:spPr>
          <a:xfrm>
            <a:off x="5473440" y="5514840"/>
            <a:ext cx="3178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ff"/>
                </a:solidFill>
                <a:latin typeface="Arial"/>
                <a:ea typeface="宋体"/>
              </a:rPr>
              <a:t>南宁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2" name="Text Box 392"/>
          <p:cNvSpPr/>
          <p:nvPr/>
        </p:nvSpPr>
        <p:spPr>
          <a:xfrm>
            <a:off x="6728400" y="3208320"/>
            <a:ext cx="287280" cy="22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37"/>
              </a:spcBef>
              <a:spcAft>
                <a:spcPts val="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ff"/>
                </a:solidFill>
                <a:latin typeface="Arial"/>
                <a:ea typeface="宋体"/>
              </a:rPr>
              <a:t>济南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3" name="Text Box 393"/>
          <p:cNvSpPr/>
          <p:nvPr/>
        </p:nvSpPr>
        <p:spPr>
          <a:xfrm>
            <a:off x="6621120" y="2735280"/>
            <a:ext cx="3178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ff"/>
                </a:solidFill>
                <a:latin typeface="Arial"/>
                <a:ea typeface="宋体"/>
              </a:rPr>
              <a:t>天津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4" name="Text Box 394"/>
          <p:cNvSpPr/>
          <p:nvPr/>
        </p:nvSpPr>
        <p:spPr>
          <a:xfrm>
            <a:off x="6487560" y="2908440"/>
            <a:ext cx="38664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ff"/>
                </a:solidFill>
                <a:latin typeface="Arial"/>
                <a:ea typeface="宋体"/>
              </a:rPr>
              <a:t>石家庄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5" name="Text Box 395"/>
          <p:cNvSpPr/>
          <p:nvPr/>
        </p:nvSpPr>
        <p:spPr>
          <a:xfrm>
            <a:off x="5954400" y="2825640"/>
            <a:ext cx="3178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ff"/>
                </a:solidFill>
                <a:latin typeface="Arial"/>
                <a:ea typeface="宋体"/>
              </a:rPr>
              <a:t>太原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6" name="Text Box 396"/>
          <p:cNvSpPr/>
          <p:nvPr/>
        </p:nvSpPr>
        <p:spPr>
          <a:xfrm>
            <a:off x="7254720" y="3695760"/>
            <a:ext cx="3178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ff"/>
                </a:solidFill>
                <a:latin typeface="Arial"/>
                <a:ea typeface="宋体"/>
              </a:rPr>
              <a:t>无锡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7" name="Text Box 397"/>
          <p:cNvSpPr/>
          <p:nvPr/>
        </p:nvSpPr>
        <p:spPr>
          <a:xfrm>
            <a:off x="7200720" y="4006800"/>
            <a:ext cx="3178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ff"/>
                </a:solidFill>
                <a:latin typeface="Arial"/>
                <a:ea typeface="宋体"/>
              </a:rPr>
              <a:t>南京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8" name="Text Box 398"/>
          <p:cNvSpPr/>
          <p:nvPr/>
        </p:nvSpPr>
        <p:spPr>
          <a:xfrm>
            <a:off x="6967440" y="4095720"/>
            <a:ext cx="3178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ff"/>
                </a:solidFill>
                <a:latin typeface="Arial"/>
                <a:ea typeface="宋体"/>
              </a:rPr>
              <a:t>合肥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9" name="Text Box 399"/>
          <p:cNvSpPr/>
          <p:nvPr/>
        </p:nvSpPr>
        <p:spPr>
          <a:xfrm>
            <a:off x="6187680" y="2409840"/>
            <a:ext cx="3178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ff"/>
                </a:solidFill>
                <a:latin typeface="Arial"/>
                <a:ea typeface="宋体"/>
              </a:rPr>
              <a:t>北京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0" name="Oval 400"/>
          <p:cNvSpPr/>
          <p:nvPr/>
        </p:nvSpPr>
        <p:spPr>
          <a:xfrm>
            <a:off x="7850160" y="1378080"/>
            <a:ext cx="106560" cy="10620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1" name="Oval 401"/>
          <p:cNvSpPr/>
          <p:nvPr/>
        </p:nvSpPr>
        <p:spPr>
          <a:xfrm>
            <a:off x="7596360" y="1930320"/>
            <a:ext cx="106200" cy="10656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2" name="Oval 402"/>
          <p:cNvSpPr/>
          <p:nvPr/>
        </p:nvSpPr>
        <p:spPr>
          <a:xfrm>
            <a:off x="7354800" y="2311560"/>
            <a:ext cx="106560" cy="10620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3" name="Oval 403"/>
          <p:cNvSpPr/>
          <p:nvPr/>
        </p:nvSpPr>
        <p:spPr>
          <a:xfrm>
            <a:off x="7291440" y="2819520"/>
            <a:ext cx="108000" cy="10620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4" name="Oval 404"/>
          <p:cNvSpPr/>
          <p:nvPr/>
        </p:nvSpPr>
        <p:spPr>
          <a:xfrm>
            <a:off x="6346800" y="2692440"/>
            <a:ext cx="104760" cy="10620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5" name="Oval 405"/>
          <p:cNvSpPr/>
          <p:nvPr/>
        </p:nvSpPr>
        <p:spPr>
          <a:xfrm>
            <a:off x="6408720" y="2967120"/>
            <a:ext cx="106560" cy="10620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6" name="Oval 406"/>
          <p:cNvSpPr/>
          <p:nvPr/>
        </p:nvSpPr>
        <p:spPr>
          <a:xfrm>
            <a:off x="5996160" y="2827440"/>
            <a:ext cx="106200" cy="10620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7" name="Oval 407"/>
          <p:cNvSpPr/>
          <p:nvPr/>
        </p:nvSpPr>
        <p:spPr>
          <a:xfrm>
            <a:off x="6554880" y="2827440"/>
            <a:ext cx="106200" cy="10620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8" name="Oval 408"/>
          <p:cNvSpPr/>
          <p:nvPr/>
        </p:nvSpPr>
        <p:spPr>
          <a:xfrm>
            <a:off x="7475400" y="4572000"/>
            <a:ext cx="106560" cy="10620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9" name="Oval 409"/>
          <p:cNvSpPr/>
          <p:nvPr/>
        </p:nvSpPr>
        <p:spPr>
          <a:xfrm>
            <a:off x="7215120" y="5051520"/>
            <a:ext cx="106560" cy="10620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0" name="Oval 410"/>
          <p:cNvSpPr/>
          <p:nvPr/>
        </p:nvSpPr>
        <p:spPr>
          <a:xfrm>
            <a:off x="6986520" y="5311800"/>
            <a:ext cx="106560" cy="10620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1" name="Oval 411"/>
          <p:cNvSpPr/>
          <p:nvPr/>
        </p:nvSpPr>
        <p:spPr>
          <a:xfrm>
            <a:off x="6738840" y="5508720"/>
            <a:ext cx="106560" cy="10620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2" name="Oval 412"/>
          <p:cNvSpPr/>
          <p:nvPr/>
        </p:nvSpPr>
        <p:spPr>
          <a:xfrm>
            <a:off x="6346800" y="5603760"/>
            <a:ext cx="104760" cy="10656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3" name="Oval 413"/>
          <p:cNvSpPr/>
          <p:nvPr/>
        </p:nvSpPr>
        <p:spPr>
          <a:xfrm>
            <a:off x="6205680" y="5330880"/>
            <a:ext cx="106200" cy="10620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4" name="Oval 414"/>
          <p:cNvSpPr/>
          <p:nvPr/>
        </p:nvSpPr>
        <p:spPr>
          <a:xfrm>
            <a:off x="5411880" y="5603760"/>
            <a:ext cx="106200" cy="10656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5" name="Oval 415"/>
          <p:cNvSpPr/>
          <p:nvPr/>
        </p:nvSpPr>
        <p:spPr>
          <a:xfrm>
            <a:off x="6072120" y="4811760"/>
            <a:ext cx="106560" cy="10620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6" name="Oval 416"/>
          <p:cNvSpPr/>
          <p:nvPr/>
        </p:nvSpPr>
        <p:spPr>
          <a:xfrm>
            <a:off x="7246800" y="4297320"/>
            <a:ext cx="106560" cy="10656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7" name="Oval 417"/>
          <p:cNvSpPr/>
          <p:nvPr/>
        </p:nvSpPr>
        <p:spPr>
          <a:xfrm>
            <a:off x="7437600" y="4030560"/>
            <a:ext cx="106200" cy="10656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8" name="Oval 418"/>
          <p:cNvSpPr/>
          <p:nvPr/>
        </p:nvSpPr>
        <p:spPr>
          <a:xfrm>
            <a:off x="7202520" y="3808440"/>
            <a:ext cx="106200" cy="10620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9" name="Oval 419"/>
          <p:cNvSpPr/>
          <p:nvPr/>
        </p:nvSpPr>
        <p:spPr>
          <a:xfrm>
            <a:off x="7145280" y="4030560"/>
            <a:ext cx="106560" cy="10656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0" name="Oval 420"/>
          <p:cNvSpPr/>
          <p:nvPr/>
        </p:nvSpPr>
        <p:spPr>
          <a:xfrm>
            <a:off x="6929280" y="4119480"/>
            <a:ext cx="106560" cy="10656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1" name="Oval 421"/>
          <p:cNvSpPr/>
          <p:nvPr/>
        </p:nvSpPr>
        <p:spPr>
          <a:xfrm>
            <a:off x="6313320" y="3586320"/>
            <a:ext cx="106560" cy="10620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2" name="Oval 422"/>
          <p:cNvSpPr/>
          <p:nvPr/>
        </p:nvSpPr>
        <p:spPr>
          <a:xfrm>
            <a:off x="6694560" y="3333600"/>
            <a:ext cx="106200" cy="10656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3" name="Oval 423"/>
          <p:cNvSpPr/>
          <p:nvPr/>
        </p:nvSpPr>
        <p:spPr>
          <a:xfrm>
            <a:off x="5456160" y="3778200"/>
            <a:ext cx="106560" cy="10656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4" name="Oval 424"/>
          <p:cNvSpPr/>
          <p:nvPr/>
        </p:nvSpPr>
        <p:spPr>
          <a:xfrm>
            <a:off x="4630680" y="4286160"/>
            <a:ext cx="106560" cy="10656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5" name="Oval 425"/>
          <p:cNvSpPr/>
          <p:nvPr/>
        </p:nvSpPr>
        <p:spPr>
          <a:xfrm>
            <a:off x="5202360" y="4381560"/>
            <a:ext cx="106200" cy="10620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440" bIns="2844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6" name="Oval 426"/>
          <p:cNvSpPr/>
          <p:nvPr/>
        </p:nvSpPr>
        <p:spPr>
          <a:xfrm>
            <a:off x="6561000" y="4635360"/>
            <a:ext cx="106560" cy="10656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7" name="Oval 427"/>
          <p:cNvSpPr/>
          <p:nvPr/>
        </p:nvSpPr>
        <p:spPr>
          <a:xfrm>
            <a:off x="6016680" y="4146480"/>
            <a:ext cx="104760" cy="10656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8" name="Text Box 428"/>
          <p:cNvSpPr/>
          <p:nvPr/>
        </p:nvSpPr>
        <p:spPr>
          <a:xfrm>
            <a:off x="6652800" y="4530600"/>
            <a:ext cx="31788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ff"/>
                </a:solidFill>
                <a:latin typeface="Arial"/>
                <a:ea typeface="宋体"/>
              </a:rPr>
              <a:t>南昌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9" name=""/>
          <p:cNvGrpSpPr/>
          <p:nvPr/>
        </p:nvGrpSpPr>
        <p:grpSpPr>
          <a:xfrm>
            <a:off x="6553080" y="2903400"/>
            <a:ext cx="112680" cy="112680"/>
            <a:chOff x="6553080" y="2903400"/>
            <a:chExt cx="112680" cy="112680"/>
          </a:xfrm>
        </p:grpSpPr>
        <p:sp>
          <p:nvSpPr>
            <p:cNvPr id="4260" name="Freeform 430"/>
            <p:cNvSpPr/>
            <p:nvPr/>
          </p:nvSpPr>
          <p:spPr>
            <a:xfrm>
              <a:off x="6553080" y="2903400"/>
              <a:ext cx="112680" cy="1126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3898" h="3892">
                  <a:moveTo>
                    <a:pt x="1949" y="3892"/>
                  </a:moveTo>
                  <a:lnTo>
                    <a:pt x="2049" y="3890"/>
                  </a:lnTo>
                  <a:lnTo>
                    <a:pt x="2149" y="3882"/>
                  </a:lnTo>
                  <a:lnTo>
                    <a:pt x="2246" y="3870"/>
                  </a:lnTo>
                  <a:lnTo>
                    <a:pt x="2342" y="3853"/>
                  </a:lnTo>
                  <a:lnTo>
                    <a:pt x="2436" y="3830"/>
                  </a:lnTo>
                  <a:lnTo>
                    <a:pt x="2529" y="3804"/>
                  </a:lnTo>
                  <a:lnTo>
                    <a:pt x="2619" y="3774"/>
                  </a:lnTo>
                  <a:lnTo>
                    <a:pt x="2708" y="3740"/>
                  </a:lnTo>
                  <a:lnTo>
                    <a:pt x="2794" y="3700"/>
                  </a:lnTo>
                  <a:lnTo>
                    <a:pt x="2877" y="3657"/>
                  </a:lnTo>
                  <a:lnTo>
                    <a:pt x="2959" y="3610"/>
                  </a:lnTo>
                  <a:lnTo>
                    <a:pt x="3038" y="3560"/>
                  </a:lnTo>
                  <a:lnTo>
                    <a:pt x="3115" y="3505"/>
                  </a:lnTo>
                  <a:lnTo>
                    <a:pt x="3189" y="3448"/>
                  </a:lnTo>
                  <a:lnTo>
                    <a:pt x="3260" y="3386"/>
                  </a:lnTo>
                  <a:lnTo>
                    <a:pt x="3327" y="3322"/>
                  </a:lnTo>
                  <a:lnTo>
                    <a:pt x="3391" y="3255"/>
                  </a:lnTo>
                  <a:lnTo>
                    <a:pt x="3453" y="3184"/>
                  </a:lnTo>
                  <a:lnTo>
                    <a:pt x="3510" y="3111"/>
                  </a:lnTo>
                  <a:lnTo>
                    <a:pt x="3565" y="3034"/>
                  </a:lnTo>
                  <a:lnTo>
                    <a:pt x="3616" y="2955"/>
                  </a:lnTo>
                  <a:lnTo>
                    <a:pt x="3663" y="2873"/>
                  </a:lnTo>
                  <a:lnTo>
                    <a:pt x="3706" y="2790"/>
                  </a:lnTo>
                  <a:lnTo>
                    <a:pt x="3745" y="2704"/>
                  </a:lnTo>
                  <a:lnTo>
                    <a:pt x="3779" y="2615"/>
                  </a:lnTo>
                  <a:lnTo>
                    <a:pt x="3811" y="2525"/>
                  </a:lnTo>
                  <a:lnTo>
                    <a:pt x="3837" y="2432"/>
                  </a:lnTo>
                  <a:lnTo>
                    <a:pt x="3858" y="2338"/>
                  </a:lnTo>
                  <a:lnTo>
                    <a:pt x="3875" y="2242"/>
                  </a:lnTo>
                  <a:lnTo>
                    <a:pt x="3888" y="2145"/>
                  </a:lnTo>
                  <a:lnTo>
                    <a:pt x="3896" y="2046"/>
                  </a:lnTo>
                  <a:lnTo>
                    <a:pt x="3898" y="1947"/>
                  </a:lnTo>
                  <a:lnTo>
                    <a:pt x="3896" y="1846"/>
                  </a:lnTo>
                  <a:lnTo>
                    <a:pt x="3888" y="1748"/>
                  </a:lnTo>
                  <a:lnTo>
                    <a:pt x="3875" y="1650"/>
                  </a:lnTo>
                  <a:lnTo>
                    <a:pt x="3858" y="1554"/>
                  </a:lnTo>
                  <a:lnTo>
                    <a:pt x="3837" y="1460"/>
                  </a:lnTo>
                  <a:lnTo>
                    <a:pt x="3811" y="1367"/>
                  </a:lnTo>
                  <a:lnTo>
                    <a:pt x="3779" y="1277"/>
                  </a:lnTo>
                  <a:lnTo>
                    <a:pt x="3745" y="1188"/>
                  </a:lnTo>
                  <a:lnTo>
                    <a:pt x="3706" y="1102"/>
                  </a:lnTo>
                  <a:lnTo>
                    <a:pt x="3663" y="1019"/>
                  </a:lnTo>
                  <a:lnTo>
                    <a:pt x="3616" y="937"/>
                  </a:lnTo>
                  <a:lnTo>
                    <a:pt x="3565" y="858"/>
                  </a:lnTo>
                  <a:lnTo>
                    <a:pt x="3510" y="781"/>
                  </a:lnTo>
                  <a:lnTo>
                    <a:pt x="3453" y="709"/>
                  </a:lnTo>
                  <a:lnTo>
                    <a:pt x="3391" y="638"/>
                  </a:lnTo>
                  <a:lnTo>
                    <a:pt x="3327" y="570"/>
                  </a:lnTo>
                  <a:lnTo>
                    <a:pt x="3260" y="506"/>
                  </a:lnTo>
                  <a:lnTo>
                    <a:pt x="3189" y="444"/>
                  </a:lnTo>
                  <a:lnTo>
                    <a:pt x="3115" y="387"/>
                  </a:lnTo>
                  <a:lnTo>
                    <a:pt x="3038" y="332"/>
                  </a:lnTo>
                  <a:lnTo>
                    <a:pt x="2959" y="282"/>
                  </a:lnTo>
                  <a:lnTo>
                    <a:pt x="2877" y="235"/>
                  </a:lnTo>
                  <a:lnTo>
                    <a:pt x="2794" y="192"/>
                  </a:lnTo>
                  <a:lnTo>
                    <a:pt x="2708" y="153"/>
                  </a:lnTo>
                  <a:lnTo>
                    <a:pt x="2619" y="118"/>
                  </a:lnTo>
                  <a:lnTo>
                    <a:pt x="2529" y="88"/>
                  </a:lnTo>
                  <a:lnTo>
                    <a:pt x="2436" y="62"/>
                  </a:lnTo>
                  <a:lnTo>
                    <a:pt x="2342" y="39"/>
                  </a:lnTo>
                  <a:lnTo>
                    <a:pt x="2246" y="22"/>
                  </a:lnTo>
                  <a:lnTo>
                    <a:pt x="2149" y="10"/>
                  </a:lnTo>
                  <a:lnTo>
                    <a:pt x="2049" y="3"/>
                  </a:lnTo>
                  <a:lnTo>
                    <a:pt x="1949" y="0"/>
                  </a:lnTo>
                  <a:lnTo>
                    <a:pt x="1848" y="3"/>
                  </a:lnTo>
                  <a:lnTo>
                    <a:pt x="1750" y="10"/>
                  </a:lnTo>
                  <a:lnTo>
                    <a:pt x="1652" y="22"/>
                  </a:lnTo>
                  <a:lnTo>
                    <a:pt x="1556" y="39"/>
                  </a:lnTo>
                  <a:lnTo>
                    <a:pt x="1462" y="62"/>
                  </a:lnTo>
                  <a:lnTo>
                    <a:pt x="1369" y="88"/>
                  </a:lnTo>
                  <a:lnTo>
                    <a:pt x="1279" y="118"/>
                  </a:lnTo>
                  <a:lnTo>
                    <a:pt x="1190" y="153"/>
                  </a:lnTo>
                  <a:lnTo>
                    <a:pt x="1104" y="192"/>
                  </a:lnTo>
                  <a:lnTo>
                    <a:pt x="1020" y="235"/>
                  </a:lnTo>
                  <a:lnTo>
                    <a:pt x="938" y="282"/>
                  </a:lnTo>
                  <a:lnTo>
                    <a:pt x="859" y="332"/>
                  </a:lnTo>
                  <a:lnTo>
                    <a:pt x="783" y="387"/>
                  </a:lnTo>
                  <a:lnTo>
                    <a:pt x="709" y="444"/>
                  </a:lnTo>
                  <a:lnTo>
                    <a:pt x="639" y="506"/>
                  </a:lnTo>
                  <a:lnTo>
                    <a:pt x="571" y="570"/>
                  </a:lnTo>
                  <a:lnTo>
                    <a:pt x="507" y="638"/>
                  </a:lnTo>
                  <a:lnTo>
                    <a:pt x="445" y="709"/>
                  </a:lnTo>
                  <a:lnTo>
                    <a:pt x="387" y="781"/>
                  </a:lnTo>
                  <a:lnTo>
                    <a:pt x="333" y="858"/>
                  </a:lnTo>
                  <a:lnTo>
                    <a:pt x="282" y="937"/>
                  </a:lnTo>
                  <a:lnTo>
                    <a:pt x="236" y="1019"/>
                  </a:lnTo>
                  <a:lnTo>
                    <a:pt x="192" y="1102"/>
                  </a:lnTo>
                  <a:lnTo>
                    <a:pt x="153" y="1188"/>
                  </a:lnTo>
                  <a:lnTo>
                    <a:pt x="118" y="1277"/>
                  </a:lnTo>
                  <a:lnTo>
                    <a:pt x="88" y="1367"/>
                  </a:lnTo>
                  <a:lnTo>
                    <a:pt x="62" y="1460"/>
                  </a:lnTo>
                  <a:lnTo>
                    <a:pt x="39" y="1554"/>
                  </a:lnTo>
                  <a:lnTo>
                    <a:pt x="22" y="1650"/>
                  </a:lnTo>
                  <a:lnTo>
                    <a:pt x="10" y="1748"/>
                  </a:lnTo>
                  <a:lnTo>
                    <a:pt x="2" y="1846"/>
                  </a:lnTo>
                  <a:lnTo>
                    <a:pt x="0" y="1947"/>
                  </a:lnTo>
                  <a:lnTo>
                    <a:pt x="2" y="2046"/>
                  </a:lnTo>
                  <a:lnTo>
                    <a:pt x="10" y="2145"/>
                  </a:lnTo>
                  <a:lnTo>
                    <a:pt x="22" y="2242"/>
                  </a:lnTo>
                  <a:lnTo>
                    <a:pt x="39" y="2338"/>
                  </a:lnTo>
                  <a:lnTo>
                    <a:pt x="62" y="2432"/>
                  </a:lnTo>
                  <a:lnTo>
                    <a:pt x="88" y="2525"/>
                  </a:lnTo>
                  <a:lnTo>
                    <a:pt x="118" y="2615"/>
                  </a:lnTo>
                  <a:lnTo>
                    <a:pt x="153" y="2704"/>
                  </a:lnTo>
                  <a:lnTo>
                    <a:pt x="192" y="2790"/>
                  </a:lnTo>
                  <a:lnTo>
                    <a:pt x="236" y="2873"/>
                  </a:lnTo>
                  <a:lnTo>
                    <a:pt x="282" y="2955"/>
                  </a:lnTo>
                  <a:lnTo>
                    <a:pt x="333" y="3034"/>
                  </a:lnTo>
                  <a:lnTo>
                    <a:pt x="387" y="3111"/>
                  </a:lnTo>
                  <a:lnTo>
                    <a:pt x="445" y="3184"/>
                  </a:lnTo>
                  <a:lnTo>
                    <a:pt x="507" y="3255"/>
                  </a:lnTo>
                  <a:lnTo>
                    <a:pt x="571" y="3322"/>
                  </a:lnTo>
                  <a:lnTo>
                    <a:pt x="639" y="3386"/>
                  </a:lnTo>
                  <a:lnTo>
                    <a:pt x="709" y="3448"/>
                  </a:lnTo>
                  <a:lnTo>
                    <a:pt x="783" y="3505"/>
                  </a:lnTo>
                  <a:lnTo>
                    <a:pt x="859" y="3560"/>
                  </a:lnTo>
                  <a:lnTo>
                    <a:pt x="938" y="3610"/>
                  </a:lnTo>
                  <a:lnTo>
                    <a:pt x="1020" y="3657"/>
                  </a:lnTo>
                  <a:lnTo>
                    <a:pt x="1104" y="3700"/>
                  </a:lnTo>
                  <a:lnTo>
                    <a:pt x="1190" y="3740"/>
                  </a:lnTo>
                  <a:lnTo>
                    <a:pt x="1279" y="3774"/>
                  </a:lnTo>
                  <a:lnTo>
                    <a:pt x="1369" y="3804"/>
                  </a:lnTo>
                  <a:lnTo>
                    <a:pt x="1462" y="3830"/>
                  </a:lnTo>
                  <a:lnTo>
                    <a:pt x="1556" y="3853"/>
                  </a:lnTo>
                  <a:lnTo>
                    <a:pt x="1652" y="3870"/>
                  </a:lnTo>
                  <a:lnTo>
                    <a:pt x="1750" y="3882"/>
                  </a:lnTo>
                  <a:lnTo>
                    <a:pt x="1848" y="3890"/>
                  </a:lnTo>
                  <a:lnTo>
                    <a:pt x="1949" y="3892"/>
                  </a:lnTo>
                  <a:close/>
                </a:path>
              </a:pathLst>
            </a:custGeom>
            <a:solidFill>
              <a:srgbClr val="b223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1" name="Freeform 431"/>
            <p:cNvSpPr/>
            <p:nvPr/>
          </p:nvSpPr>
          <p:spPr>
            <a:xfrm>
              <a:off x="6606720" y="2934360"/>
              <a:ext cx="15840" cy="50400"/>
            </a:xfrm>
            <a:custGeom>
              <a:avLst/>
              <a:gdLst>
                <a:gd name="textAreaLeft" fmla="*/ 0 w 15840"/>
                <a:gd name="textAreaRight" fmla="*/ 16200 w 1584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543" h="1706">
                  <a:moveTo>
                    <a:pt x="0" y="0"/>
                  </a:moveTo>
                  <a:lnTo>
                    <a:pt x="0" y="1706"/>
                  </a:lnTo>
                  <a:lnTo>
                    <a:pt x="543" y="1706"/>
                  </a:lnTo>
                  <a:lnTo>
                    <a:pt x="543" y="1553"/>
                  </a:lnTo>
                  <a:lnTo>
                    <a:pt x="156" y="1553"/>
                  </a:lnTo>
                  <a:lnTo>
                    <a:pt x="15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2" name="Freeform 432"/>
            <p:cNvSpPr/>
            <p:nvPr/>
          </p:nvSpPr>
          <p:spPr>
            <a:xfrm>
              <a:off x="6584040" y="2934360"/>
              <a:ext cx="13680" cy="13680"/>
            </a:xfrm>
            <a:custGeom>
              <a:avLst/>
              <a:gdLst>
                <a:gd name="textAreaLeft" fmla="*/ 0 w 13680"/>
                <a:gd name="textAreaRight" fmla="*/ 14040 w 1368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467" h="467">
                  <a:moveTo>
                    <a:pt x="234" y="467"/>
                  </a:moveTo>
                  <a:lnTo>
                    <a:pt x="246" y="466"/>
                  </a:lnTo>
                  <a:lnTo>
                    <a:pt x="258" y="465"/>
                  </a:lnTo>
                  <a:lnTo>
                    <a:pt x="269" y="464"/>
                  </a:lnTo>
                  <a:lnTo>
                    <a:pt x="281" y="462"/>
                  </a:lnTo>
                  <a:lnTo>
                    <a:pt x="292" y="459"/>
                  </a:lnTo>
                  <a:lnTo>
                    <a:pt x="303" y="456"/>
                  </a:lnTo>
                  <a:lnTo>
                    <a:pt x="314" y="453"/>
                  </a:lnTo>
                  <a:lnTo>
                    <a:pt x="325" y="448"/>
                  </a:lnTo>
                  <a:lnTo>
                    <a:pt x="335" y="444"/>
                  </a:lnTo>
                  <a:lnTo>
                    <a:pt x="345" y="439"/>
                  </a:lnTo>
                  <a:lnTo>
                    <a:pt x="355" y="432"/>
                  </a:lnTo>
                  <a:lnTo>
                    <a:pt x="364" y="426"/>
                  </a:lnTo>
                  <a:lnTo>
                    <a:pt x="373" y="420"/>
                  </a:lnTo>
                  <a:lnTo>
                    <a:pt x="382" y="413"/>
                  </a:lnTo>
                  <a:lnTo>
                    <a:pt x="390" y="406"/>
                  </a:lnTo>
                  <a:lnTo>
                    <a:pt x="399" y="398"/>
                  </a:lnTo>
                  <a:lnTo>
                    <a:pt x="406" y="390"/>
                  </a:lnTo>
                  <a:lnTo>
                    <a:pt x="413" y="382"/>
                  </a:lnTo>
                  <a:lnTo>
                    <a:pt x="421" y="373"/>
                  </a:lnTo>
                  <a:lnTo>
                    <a:pt x="428" y="364"/>
                  </a:lnTo>
                  <a:lnTo>
                    <a:pt x="434" y="354"/>
                  </a:lnTo>
                  <a:lnTo>
                    <a:pt x="439" y="345"/>
                  </a:lnTo>
                  <a:lnTo>
                    <a:pt x="444" y="335"/>
                  </a:lnTo>
                  <a:lnTo>
                    <a:pt x="449" y="324"/>
                  </a:lnTo>
                  <a:lnTo>
                    <a:pt x="453" y="313"/>
                  </a:lnTo>
                  <a:lnTo>
                    <a:pt x="457" y="302"/>
                  </a:lnTo>
                  <a:lnTo>
                    <a:pt x="460" y="291"/>
                  </a:lnTo>
                  <a:lnTo>
                    <a:pt x="463" y="280"/>
                  </a:lnTo>
                  <a:lnTo>
                    <a:pt x="465" y="269"/>
                  </a:lnTo>
                  <a:lnTo>
                    <a:pt x="466" y="257"/>
                  </a:lnTo>
                  <a:lnTo>
                    <a:pt x="467" y="246"/>
                  </a:lnTo>
                  <a:lnTo>
                    <a:pt x="467" y="234"/>
                  </a:lnTo>
                  <a:lnTo>
                    <a:pt x="467" y="221"/>
                  </a:lnTo>
                  <a:lnTo>
                    <a:pt x="466" y="209"/>
                  </a:lnTo>
                  <a:lnTo>
                    <a:pt x="465" y="198"/>
                  </a:lnTo>
                  <a:lnTo>
                    <a:pt x="463" y="186"/>
                  </a:lnTo>
                  <a:lnTo>
                    <a:pt x="460" y="175"/>
                  </a:lnTo>
                  <a:lnTo>
                    <a:pt x="457" y="164"/>
                  </a:lnTo>
                  <a:lnTo>
                    <a:pt x="453" y="153"/>
                  </a:lnTo>
                  <a:lnTo>
                    <a:pt x="449" y="143"/>
                  </a:lnTo>
                  <a:lnTo>
                    <a:pt x="444" y="133"/>
                  </a:lnTo>
                  <a:lnTo>
                    <a:pt x="439" y="123"/>
                  </a:lnTo>
                  <a:lnTo>
                    <a:pt x="434" y="112"/>
                  </a:lnTo>
                  <a:lnTo>
                    <a:pt x="428" y="103"/>
                  </a:lnTo>
                  <a:lnTo>
                    <a:pt x="421" y="94"/>
                  </a:lnTo>
                  <a:lnTo>
                    <a:pt x="413" y="85"/>
                  </a:lnTo>
                  <a:lnTo>
                    <a:pt x="406" y="76"/>
                  </a:lnTo>
                  <a:lnTo>
                    <a:pt x="399" y="68"/>
                  </a:lnTo>
                  <a:lnTo>
                    <a:pt x="390" y="61"/>
                  </a:lnTo>
                  <a:lnTo>
                    <a:pt x="382" y="54"/>
                  </a:lnTo>
                  <a:lnTo>
                    <a:pt x="373" y="47"/>
                  </a:lnTo>
                  <a:lnTo>
                    <a:pt x="364" y="40"/>
                  </a:lnTo>
                  <a:lnTo>
                    <a:pt x="355" y="34"/>
                  </a:lnTo>
                  <a:lnTo>
                    <a:pt x="345" y="29"/>
                  </a:lnTo>
                  <a:lnTo>
                    <a:pt x="335" y="24"/>
                  </a:lnTo>
                  <a:lnTo>
                    <a:pt x="325" y="19"/>
                  </a:lnTo>
                  <a:lnTo>
                    <a:pt x="314" y="15"/>
                  </a:lnTo>
                  <a:lnTo>
                    <a:pt x="303" y="10"/>
                  </a:lnTo>
                  <a:lnTo>
                    <a:pt x="292" y="7"/>
                  </a:lnTo>
                  <a:lnTo>
                    <a:pt x="281" y="4"/>
                  </a:lnTo>
                  <a:lnTo>
                    <a:pt x="269" y="2"/>
                  </a:lnTo>
                  <a:lnTo>
                    <a:pt x="258" y="1"/>
                  </a:lnTo>
                  <a:lnTo>
                    <a:pt x="246" y="0"/>
                  </a:lnTo>
                  <a:lnTo>
                    <a:pt x="234" y="0"/>
                  </a:lnTo>
                  <a:lnTo>
                    <a:pt x="221" y="0"/>
                  </a:lnTo>
                  <a:lnTo>
                    <a:pt x="210" y="1"/>
                  </a:lnTo>
                  <a:lnTo>
                    <a:pt x="198" y="2"/>
                  </a:lnTo>
                  <a:lnTo>
                    <a:pt x="187" y="4"/>
                  </a:lnTo>
                  <a:lnTo>
                    <a:pt x="176" y="7"/>
                  </a:lnTo>
                  <a:lnTo>
                    <a:pt x="165" y="10"/>
                  </a:lnTo>
                  <a:lnTo>
                    <a:pt x="154" y="15"/>
                  </a:lnTo>
                  <a:lnTo>
                    <a:pt x="143" y="19"/>
                  </a:lnTo>
                  <a:lnTo>
                    <a:pt x="132" y="24"/>
                  </a:lnTo>
                  <a:lnTo>
                    <a:pt x="122" y="29"/>
                  </a:lnTo>
                  <a:lnTo>
                    <a:pt x="112" y="34"/>
                  </a:lnTo>
                  <a:lnTo>
                    <a:pt x="103" y="40"/>
                  </a:lnTo>
                  <a:lnTo>
                    <a:pt x="94" y="47"/>
                  </a:lnTo>
                  <a:lnTo>
                    <a:pt x="85" y="54"/>
                  </a:lnTo>
                  <a:lnTo>
                    <a:pt x="77" y="61"/>
                  </a:lnTo>
                  <a:lnTo>
                    <a:pt x="69" y="68"/>
                  </a:lnTo>
                  <a:lnTo>
                    <a:pt x="61" y="76"/>
                  </a:lnTo>
                  <a:lnTo>
                    <a:pt x="54" y="85"/>
                  </a:lnTo>
                  <a:lnTo>
                    <a:pt x="46" y="94"/>
                  </a:lnTo>
                  <a:lnTo>
                    <a:pt x="40" y="103"/>
                  </a:lnTo>
                  <a:lnTo>
                    <a:pt x="34" y="112"/>
                  </a:lnTo>
                  <a:lnTo>
                    <a:pt x="28" y="123"/>
                  </a:lnTo>
                  <a:lnTo>
                    <a:pt x="23" y="133"/>
                  </a:lnTo>
                  <a:lnTo>
                    <a:pt x="18" y="143"/>
                  </a:lnTo>
                  <a:lnTo>
                    <a:pt x="14" y="153"/>
                  </a:lnTo>
                  <a:lnTo>
                    <a:pt x="11" y="164"/>
                  </a:lnTo>
                  <a:lnTo>
                    <a:pt x="8" y="175"/>
                  </a:lnTo>
                  <a:lnTo>
                    <a:pt x="5" y="186"/>
                  </a:lnTo>
                  <a:lnTo>
                    <a:pt x="3" y="198"/>
                  </a:lnTo>
                  <a:lnTo>
                    <a:pt x="2" y="209"/>
                  </a:lnTo>
                  <a:lnTo>
                    <a:pt x="1" y="221"/>
                  </a:lnTo>
                  <a:lnTo>
                    <a:pt x="0" y="234"/>
                  </a:lnTo>
                  <a:lnTo>
                    <a:pt x="1" y="246"/>
                  </a:lnTo>
                  <a:lnTo>
                    <a:pt x="2" y="257"/>
                  </a:lnTo>
                  <a:lnTo>
                    <a:pt x="3" y="269"/>
                  </a:lnTo>
                  <a:lnTo>
                    <a:pt x="5" y="280"/>
                  </a:lnTo>
                  <a:lnTo>
                    <a:pt x="8" y="291"/>
                  </a:lnTo>
                  <a:lnTo>
                    <a:pt x="11" y="302"/>
                  </a:lnTo>
                  <a:lnTo>
                    <a:pt x="14" y="313"/>
                  </a:lnTo>
                  <a:lnTo>
                    <a:pt x="18" y="324"/>
                  </a:lnTo>
                  <a:lnTo>
                    <a:pt x="23" y="335"/>
                  </a:lnTo>
                  <a:lnTo>
                    <a:pt x="28" y="345"/>
                  </a:lnTo>
                  <a:lnTo>
                    <a:pt x="34" y="354"/>
                  </a:lnTo>
                  <a:lnTo>
                    <a:pt x="40" y="364"/>
                  </a:lnTo>
                  <a:lnTo>
                    <a:pt x="46" y="373"/>
                  </a:lnTo>
                  <a:lnTo>
                    <a:pt x="54" y="382"/>
                  </a:lnTo>
                  <a:lnTo>
                    <a:pt x="61" y="390"/>
                  </a:lnTo>
                  <a:lnTo>
                    <a:pt x="69" y="398"/>
                  </a:lnTo>
                  <a:lnTo>
                    <a:pt x="77" y="406"/>
                  </a:lnTo>
                  <a:lnTo>
                    <a:pt x="85" y="413"/>
                  </a:lnTo>
                  <a:lnTo>
                    <a:pt x="94" y="420"/>
                  </a:lnTo>
                  <a:lnTo>
                    <a:pt x="103" y="426"/>
                  </a:lnTo>
                  <a:lnTo>
                    <a:pt x="112" y="432"/>
                  </a:lnTo>
                  <a:lnTo>
                    <a:pt x="122" y="439"/>
                  </a:lnTo>
                  <a:lnTo>
                    <a:pt x="132" y="444"/>
                  </a:lnTo>
                  <a:lnTo>
                    <a:pt x="143" y="448"/>
                  </a:lnTo>
                  <a:lnTo>
                    <a:pt x="154" y="453"/>
                  </a:lnTo>
                  <a:lnTo>
                    <a:pt x="165" y="456"/>
                  </a:lnTo>
                  <a:lnTo>
                    <a:pt x="176" y="459"/>
                  </a:lnTo>
                  <a:lnTo>
                    <a:pt x="187" y="462"/>
                  </a:lnTo>
                  <a:lnTo>
                    <a:pt x="198" y="464"/>
                  </a:lnTo>
                  <a:lnTo>
                    <a:pt x="210" y="465"/>
                  </a:lnTo>
                  <a:lnTo>
                    <a:pt x="221" y="466"/>
                  </a:lnTo>
                  <a:lnTo>
                    <a:pt x="234" y="4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3" name="Freeform 433"/>
            <p:cNvSpPr/>
            <p:nvPr/>
          </p:nvSpPr>
          <p:spPr>
            <a:xfrm>
              <a:off x="6561720" y="2912760"/>
              <a:ext cx="95040" cy="936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263" h="3257">
                  <a:moveTo>
                    <a:pt x="1710" y="0"/>
                  </a:moveTo>
                  <a:lnTo>
                    <a:pt x="1701" y="0"/>
                  </a:lnTo>
                  <a:lnTo>
                    <a:pt x="1692" y="0"/>
                  </a:lnTo>
                  <a:lnTo>
                    <a:pt x="1681" y="0"/>
                  </a:lnTo>
                  <a:lnTo>
                    <a:pt x="1671" y="0"/>
                  </a:lnTo>
                  <a:lnTo>
                    <a:pt x="1660" y="0"/>
                  </a:lnTo>
                  <a:lnTo>
                    <a:pt x="1650" y="0"/>
                  </a:lnTo>
                  <a:lnTo>
                    <a:pt x="1640" y="0"/>
                  </a:lnTo>
                  <a:lnTo>
                    <a:pt x="1632" y="0"/>
                  </a:lnTo>
                  <a:lnTo>
                    <a:pt x="1548" y="2"/>
                  </a:lnTo>
                  <a:lnTo>
                    <a:pt x="1466" y="8"/>
                  </a:lnTo>
                  <a:lnTo>
                    <a:pt x="1384" y="18"/>
                  </a:lnTo>
                  <a:lnTo>
                    <a:pt x="1304" y="33"/>
                  </a:lnTo>
                  <a:lnTo>
                    <a:pt x="1225" y="52"/>
                  </a:lnTo>
                  <a:lnTo>
                    <a:pt x="1147" y="73"/>
                  </a:lnTo>
                  <a:lnTo>
                    <a:pt x="1071" y="99"/>
                  </a:lnTo>
                  <a:lnTo>
                    <a:pt x="997" y="128"/>
                  </a:lnTo>
                  <a:lnTo>
                    <a:pt x="926" y="161"/>
                  </a:lnTo>
                  <a:lnTo>
                    <a:pt x="855" y="197"/>
                  </a:lnTo>
                  <a:lnTo>
                    <a:pt x="787" y="236"/>
                  </a:lnTo>
                  <a:lnTo>
                    <a:pt x="720" y="279"/>
                  </a:lnTo>
                  <a:lnTo>
                    <a:pt x="657" y="324"/>
                  </a:lnTo>
                  <a:lnTo>
                    <a:pt x="595" y="373"/>
                  </a:lnTo>
                  <a:lnTo>
                    <a:pt x="535" y="423"/>
                  </a:lnTo>
                  <a:lnTo>
                    <a:pt x="479" y="478"/>
                  </a:lnTo>
                  <a:lnTo>
                    <a:pt x="425" y="534"/>
                  </a:lnTo>
                  <a:lnTo>
                    <a:pt x="374" y="593"/>
                  </a:lnTo>
                  <a:lnTo>
                    <a:pt x="325" y="654"/>
                  </a:lnTo>
                  <a:lnTo>
                    <a:pt x="280" y="719"/>
                  </a:lnTo>
                  <a:lnTo>
                    <a:pt x="237" y="784"/>
                  </a:lnTo>
                  <a:lnTo>
                    <a:pt x="198" y="853"/>
                  </a:lnTo>
                  <a:lnTo>
                    <a:pt x="161" y="923"/>
                  </a:lnTo>
                  <a:lnTo>
                    <a:pt x="129" y="995"/>
                  </a:lnTo>
                  <a:lnTo>
                    <a:pt x="100" y="1069"/>
                  </a:lnTo>
                  <a:lnTo>
                    <a:pt x="74" y="1145"/>
                  </a:lnTo>
                  <a:lnTo>
                    <a:pt x="52" y="1222"/>
                  </a:lnTo>
                  <a:lnTo>
                    <a:pt x="34" y="1300"/>
                  </a:lnTo>
                  <a:lnTo>
                    <a:pt x="20" y="1381"/>
                  </a:lnTo>
                  <a:lnTo>
                    <a:pt x="9" y="1462"/>
                  </a:lnTo>
                  <a:lnTo>
                    <a:pt x="2" y="1545"/>
                  </a:lnTo>
                  <a:lnTo>
                    <a:pt x="0" y="1628"/>
                  </a:lnTo>
                  <a:lnTo>
                    <a:pt x="0" y="1669"/>
                  </a:lnTo>
                  <a:lnTo>
                    <a:pt x="2" y="1709"/>
                  </a:lnTo>
                  <a:lnTo>
                    <a:pt x="5" y="1750"/>
                  </a:lnTo>
                  <a:lnTo>
                    <a:pt x="9" y="1790"/>
                  </a:lnTo>
                  <a:lnTo>
                    <a:pt x="13" y="1830"/>
                  </a:lnTo>
                  <a:lnTo>
                    <a:pt x="18" y="1870"/>
                  </a:lnTo>
                  <a:lnTo>
                    <a:pt x="25" y="1909"/>
                  </a:lnTo>
                  <a:lnTo>
                    <a:pt x="32" y="1949"/>
                  </a:lnTo>
                  <a:lnTo>
                    <a:pt x="40" y="1988"/>
                  </a:lnTo>
                  <a:lnTo>
                    <a:pt x="49" y="2026"/>
                  </a:lnTo>
                  <a:lnTo>
                    <a:pt x="59" y="2065"/>
                  </a:lnTo>
                  <a:lnTo>
                    <a:pt x="70" y="2103"/>
                  </a:lnTo>
                  <a:lnTo>
                    <a:pt x="82" y="2140"/>
                  </a:lnTo>
                  <a:lnTo>
                    <a:pt x="96" y="2179"/>
                  </a:lnTo>
                  <a:lnTo>
                    <a:pt x="109" y="2215"/>
                  </a:lnTo>
                  <a:lnTo>
                    <a:pt x="124" y="2252"/>
                  </a:lnTo>
                  <a:lnTo>
                    <a:pt x="140" y="2289"/>
                  </a:lnTo>
                  <a:lnTo>
                    <a:pt x="156" y="2324"/>
                  </a:lnTo>
                  <a:lnTo>
                    <a:pt x="173" y="2360"/>
                  </a:lnTo>
                  <a:lnTo>
                    <a:pt x="192" y="2396"/>
                  </a:lnTo>
                  <a:lnTo>
                    <a:pt x="211" y="2430"/>
                  </a:lnTo>
                  <a:lnTo>
                    <a:pt x="231" y="2464"/>
                  </a:lnTo>
                  <a:lnTo>
                    <a:pt x="252" y="2499"/>
                  </a:lnTo>
                  <a:lnTo>
                    <a:pt x="273" y="2532"/>
                  </a:lnTo>
                  <a:lnTo>
                    <a:pt x="297" y="2564"/>
                  </a:lnTo>
                  <a:lnTo>
                    <a:pt x="320" y="2597"/>
                  </a:lnTo>
                  <a:lnTo>
                    <a:pt x="344" y="2629"/>
                  </a:lnTo>
                  <a:lnTo>
                    <a:pt x="370" y="2660"/>
                  </a:lnTo>
                  <a:lnTo>
                    <a:pt x="396" y="2692"/>
                  </a:lnTo>
                  <a:lnTo>
                    <a:pt x="422" y="2722"/>
                  </a:lnTo>
                  <a:lnTo>
                    <a:pt x="450" y="2751"/>
                  </a:lnTo>
                  <a:lnTo>
                    <a:pt x="479" y="2780"/>
                  </a:lnTo>
                  <a:lnTo>
                    <a:pt x="508" y="2809"/>
                  </a:lnTo>
                  <a:lnTo>
                    <a:pt x="537" y="2836"/>
                  </a:lnTo>
                  <a:lnTo>
                    <a:pt x="568" y="2863"/>
                  </a:lnTo>
                  <a:lnTo>
                    <a:pt x="599" y="2889"/>
                  </a:lnTo>
                  <a:lnTo>
                    <a:pt x="630" y="2915"/>
                  </a:lnTo>
                  <a:lnTo>
                    <a:pt x="662" y="2939"/>
                  </a:lnTo>
                  <a:lnTo>
                    <a:pt x="694" y="2962"/>
                  </a:lnTo>
                  <a:lnTo>
                    <a:pt x="727" y="2984"/>
                  </a:lnTo>
                  <a:lnTo>
                    <a:pt x="761" y="3007"/>
                  </a:lnTo>
                  <a:lnTo>
                    <a:pt x="795" y="3027"/>
                  </a:lnTo>
                  <a:lnTo>
                    <a:pt x="830" y="3047"/>
                  </a:lnTo>
                  <a:lnTo>
                    <a:pt x="864" y="3066"/>
                  </a:lnTo>
                  <a:lnTo>
                    <a:pt x="899" y="3084"/>
                  </a:lnTo>
                  <a:lnTo>
                    <a:pt x="935" y="3103"/>
                  </a:lnTo>
                  <a:lnTo>
                    <a:pt x="971" y="3119"/>
                  </a:lnTo>
                  <a:lnTo>
                    <a:pt x="1007" y="3134"/>
                  </a:lnTo>
                  <a:lnTo>
                    <a:pt x="1044" y="3149"/>
                  </a:lnTo>
                  <a:lnTo>
                    <a:pt x="1081" y="3163"/>
                  </a:lnTo>
                  <a:lnTo>
                    <a:pt x="1119" y="3175"/>
                  </a:lnTo>
                  <a:lnTo>
                    <a:pt x="1157" y="3187"/>
                  </a:lnTo>
                  <a:lnTo>
                    <a:pt x="1195" y="3198"/>
                  </a:lnTo>
                  <a:lnTo>
                    <a:pt x="1233" y="3209"/>
                  </a:lnTo>
                  <a:lnTo>
                    <a:pt x="1272" y="3218"/>
                  </a:lnTo>
                  <a:lnTo>
                    <a:pt x="1311" y="3226"/>
                  </a:lnTo>
                  <a:lnTo>
                    <a:pt x="1350" y="3234"/>
                  </a:lnTo>
                  <a:lnTo>
                    <a:pt x="1390" y="3240"/>
                  </a:lnTo>
                  <a:lnTo>
                    <a:pt x="1430" y="3245"/>
                  </a:lnTo>
                  <a:lnTo>
                    <a:pt x="1470" y="3249"/>
                  </a:lnTo>
                  <a:lnTo>
                    <a:pt x="1510" y="3253"/>
                  </a:lnTo>
                  <a:lnTo>
                    <a:pt x="1550" y="3255"/>
                  </a:lnTo>
                  <a:lnTo>
                    <a:pt x="1591" y="3257"/>
                  </a:lnTo>
                  <a:lnTo>
                    <a:pt x="1632" y="3257"/>
                  </a:lnTo>
                  <a:lnTo>
                    <a:pt x="1673" y="3257"/>
                  </a:lnTo>
                  <a:lnTo>
                    <a:pt x="1713" y="3255"/>
                  </a:lnTo>
                  <a:lnTo>
                    <a:pt x="1754" y="3253"/>
                  </a:lnTo>
                  <a:lnTo>
                    <a:pt x="1794" y="3249"/>
                  </a:lnTo>
                  <a:lnTo>
                    <a:pt x="1834" y="3245"/>
                  </a:lnTo>
                  <a:lnTo>
                    <a:pt x="1874" y="3240"/>
                  </a:lnTo>
                  <a:lnTo>
                    <a:pt x="1913" y="3234"/>
                  </a:lnTo>
                  <a:lnTo>
                    <a:pt x="1953" y="3226"/>
                  </a:lnTo>
                  <a:lnTo>
                    <a:pt x="1991" y="3218"/>
                  </a:lnTo>
                  <a:lnTo>
                    <a:pt x="2031" y="3209"/>
                  </a:lnTo>
                  <a:lnTo>
                    <a:pt x="2069" y="3198"/>
                  </a:lnTo>
                  <a:lnTo>
                    <a:pt x="2108" y="3187"/>
                  </a:lnTo>
                  <a:lnTo>
                    <a:pt x="2145" y="3175"/>
                  </a:lnTo>
                  <a:lnTo>
                    <a:pt x="2182" y="3163"/>
                  </a:lnTo>
                  <a:lnTo>
                    <a:pt x="2220" y="3149"/>
                  </a:lnTo>
                  <a:lnTo>
                    <a:pt x="2256" y="3134"/>
                  </a:lnTo>
                  <a:lnTo>
                    <a:pt x="2293" y="3119"/>
                  </a:lnTo>
                  <a:lnTo>
                    <a:pt x="2329" y="3103"/>
                  </a:lnTo>
                  <a:lnTo>
                    <a:pt x="2364" y="3084"/>
                  </a:lnTo>
                  <a:lnTo>
                    <a:pt x="2400" y="3066"/>
                  </a:lnTo>
                  <a:lnTo>
                    <a:pt x="2435" y="3047"/>
                  </a:lnTo>
                  <a:lnTo>
                    <a:pt x="2469" y="3027"/>
                  </a:lnTo>
                  <a:lnTo>
                    <a:pt x="2503" y="3007"/>
                  </a:lnTo>
                  <a:lnTo>
                    <a:pt x="2536" y="2984"/>
                  </a:lnTo>
                  <a:lnTo>
                    <a:pt x="2570" y="2962"/>
                  </a:lnTo>
                  <a:lnTo>
                    <a:pt x="2602" y="2939"/>
                  </a:lnTo>
                  <a:lnTo>
                    <a:pt x="2634" y="2914"/>
                  </a:lnTo>
                  <a:lnTo>
                    <a:pt x="2666" y="2889"/>
                  </a:lnTo>
                  <a:lnTo>
                    <a:pt x="2696" y="2863"/>
                  </a:lnTo>
                  <a:lnTo>
                    <a:pt x="2726" y="2836"/>
                  </a:lnTo>
                  <a:lnTo>
                    <a:pt x="2757" y="2809"/>
                  </a:lnTo>
                  <a:lnTo>
                    <a:pt x="2786" y="2780"/>
                  </a:lnTo>
                  <a:lnTo>
                    <a:pt x="2814" y="2751"/>
                  </a:lnTo>
                  <a:lnTo>
                    <a:pt x="2842" y="2722"/>
                  </a:lnTo>
                  <a:lnTo>
                    <a:pt x="2869" y="2692"/>
                  </a:lnTo>
                  <a:lnTo>
                    <a:pt x="2894" y="2660"/>
                  </a:lnTo>
                  <a:lnTo>
                    <a:pt x="2919" y="2629"/>
                  </a:lnTo>
                  <a:lnTo>
                    <a:pt x="2944" y="2597"/>
                  </a:lnTo>
                  <a:lnTo>
                    <a:pt x="2968" y="2564"/>
                  </a:lnTo>
                  <a:lnTo>
                    <a:pt x="2990" y="2532"/>
                  </a:lnTo>
                  <a:lnTo>
                    <a:pt x="3012" y="2499"/>
                  </a:lnTo>
                  <a:lnTo>
                    <a:pt x="3033" y="2464"/>
                  </a:lnTo>
                  <a:lnTo>
                    <a:pt x="3053" y="2430"/>
                  </a:lnTo>
                  <a:lnTo>
                    <a:pt x="3072" y="2396"/>
                  </a:lnTo>
                  <a:lnTo>
                    <a:pt x="3090" y="2360"/>
                  </a:lnTo>
                  <a:lnTo>
                    <a:pt x="3107" y="2324"/>
                  </a:lnTo>
                  <a:lnTo>
                    <a:pt x="3125" y="2289"/>
                  </a:lnTo>
                  <a:lnTo>
                    <a:pt x="3140" y="2252"/>
                  </a:lnTo>
                  <a:lnTo>
                    <a:pt x="3155" y="2215"/>
                  </a:lnTo>
                  <a:lnTo>
                    <a:pt x="3168" y="2179"/>
                  </a:lnTo>
                  <a:lnTo>
                    <a:pt x="3181" y="2140"/>
                  </a:lnTo>
                  <a:lnTo>
                    <a:pt x="3193" y="2103"/>
                  </a:lnTo>
                  <a:lnTo>
                    <a:pt x="3205" y="2065"/>
                  </a:lnTo>
                  <a:lnTo>
                    <a:pt x="3215" y="2026"/>
                  </a:lnTo>
                  <a:lnTo>
                    <a:pt x="3224" y="1988"/>
                  </a:lnTo>
                  <a:lnTo>
                    <a:pt x="3232" y="1949"/>
                  </a:lnTo>
                  <a:lnTo>
                    <a:pt x="3239" y="1909"/>
                  </a:lnTo>
                  <a:lnTo>
                    <a:pt x="3246" y="1870"/>
                  </a:lnTo>
                  <a:lnTo>
                    <a:pt x="3251" y="1830"/>
                  </a:lnTo>
                  <a:lnTo>
                    <a:pt x="3255" y="1790"/>
                  </a:lnTo>
                  <a:lnTo>
                    <a:pt x="3259" y="1750"/>
                  </a:lnTo>
                  <a:lnTo>
                    <a:pt x="3261" y="1709"/>
                  </a:lnTo>
                  <a:lnTo>
                    <a:pt x="3263" y="1669"/>
                  </a:lnTo>
                  <a:lnTo>
                    <a:pt x="3263" y="1628"/>
                  </a:lnTo>
                  <a:lnTo>
                    <a:pt x="3263" y="1554"/>
                  </a:lnTo>
                  <a:lnTo>
                    <a:pt x="3198" y="1555"/>
                  </a:lnTo>
                  <a:lnTo>
                    <a:pt x="2098" y="1555"/>
                  </a:lnTo>
                  <a:lnTo>
                    <a:pt x="2098" y="1705"/>
                  </a:lnTo>
                  <a:lnTo>
                    <a:pt x="3108" y="1705"/>
                  </a:lnTo>
                  <a:lnTo>
                    <a:pt x="3108" y="1707"/>
                  </a:lnTo>
                  <a:lnTo>
                    <a:pt x="3108" y="1709"/>
                  </a:lnTo>
                  <a:lnTo>
                    <a:pt x="3108" y="1713"/>
                  </a:lnTo>
                  <a:lnTo>
                    <a:pt x="3108" y="1716"/>
                  </a:lnTo>
                  <a:lnTo>
                    <a:pt x="3108" y="1720"/>
                  </a:lnTo>
                  <a:lnTo>
                    <a:pt x="3107" y="1723"/>
                  </a:lnTo>
                  <a:lnTo>
                    <a:pt x="3107" y="1726"/>
                  </a:lnTo>
                  <a:lnTo>
                    <a:pt x="3107" y="1728"/>
                  </a:lnTo>
                  <a:lnTo>
                    <a:pt x="3101" y="1799"/>
                  </a:lnTo>
                  <a:lnTo>
                    <a:pt x="3091" y="1870"/>
                  </a:lnTo>
                  <a:lnTo>
                    <a:pt x="3078" y="1939"/>
                  </a:lnTo>
                  <a:lnTo>
                    <a:pt x="3062" y="2008"/>
                  </a:lnTo>
                  <a:lnTo>
                    <a:pt x="3042" y="2075"/>
                  </a:lnTo>
                  <a:lnTo>
                    <a:pt x="3020" y="2140"/>
                  </a:lnTo>
                  <a:lnTo>
                    <a:pt x="2994" y="2205"/>
                  </a:lnTo>
                  <a:lnTo>
                    <a:pt x="2966" y="2268"/>
                  </a:lnTo>
                  <a:lnTo>
                    <a:pt x="2935" y="2328"/>
                  </a:lnTo>
                  <a:lnTo>
                    <a:pt x="2900" y="2388"/>
                  </a:lnTo>
                  <a:lnTo>
                    <a:pt x="2864" y="2445"/>
                  </a:lnTo>
                  <a:lnTo>
                    <a:pt x="2824" y="2501"/>
                  </a:lnTo>
                  <a:lnTo>
                    <a:pt x="2783" y="2555"/>
                  </a:lnTo>
                  <a:lnTo>
                    <a:pt x="2738" y="2607"/>
                  </a:lnTo>
                  <a:lnTo>
                    <a:pt x="2692" y="2657"/>
                  </a:lnTo>
                  <a:lnTo>
                    <a:pt x="2643" y="2705"/>
                  </a:lnTo>
                  <a:lnTo>
                    <a:pt x="2593" y="2750"/>
                  </a:lnTo>
                  <a:lnTo>
                    <a:pt x="2540" y="2794"/>
                  </a:lnTo>
                  <a:lnTo>
                    <a:pt x="2486" y="2834"/>
                  </a:lnTo>
                  <a:lnTo>
                    <a:pt x="2429" y="2872"/>
                  </a:lnTo>
                  <a:lnTo>
                    <a:pt x="2370" y="2908"/>
                  </a:lnTo>
                  <a:lnTo>
                    <a:pt x="2311" y="2940"/>
                  </a:lnTo>
                  <a:lnTo>
                    <a:pt x="2249" y="2970"/>
                  </a:lnTo>
                  <a:lnTo>
                    <a:pt x="2185" y="2998"/>
                  </a:lnTo>
                  <a:lnTo>
                    <a:pt x="2121" y="3023"/>
                  </a:lnTo>
                  <a:lnTo>
                    <a:pt x="2054" y="3044"/>
                  </a:lnTo>
                  <a:lnTo>
                    <a:pt x="1986" y="3062"/>
                  </a:lnTo>
                  <a:lnTo>
                    <a:pt x="1917" y="3077"/>
                  </a:lnTo>
                  <a:lnTo>
                    <a:pt x="1848" y="3089"/>
                  </a:lnTo>
                  <a:lnTo>
                    <a:pt x="1777" y="3098"/>
                  </a:lnTo>
                  <a:lnTo>
                    <a:pt x="1705" y="3104"/>
                  </a:lnTo>
                  <a:lnTo>
                    <a:pt x="1632" y="3106"/>
                  </a:lnTo>
                  <a:lnTo>
                    <a:pt x="1595" y="3105"/>
                  </a:lnTo>
                  <a:lnTo>
                    <a:pt x="1559" y="3104"/>
                  </a:lnTo>
                  <a:lnTo>
                    <a:pt x="1521" y="3101"/>
                  </a:lnTo>
                  <a:lnTo>
                    <a:pt x="1485" y="3098"/>
                  </a:lnTo>
                  <a:lnTo>
                    <a:pt x="1449" y="3094"/>
                  </a:lnTo>
                  <a:lnTo>
                    <a:pt x="1413" y="3089"/>
                  </a:lnTo>
                  <a:lnTo>
                    <a:pt x="1377" y="3083"/>
                  </a:lnTo>
                  <a:lnTo>
                    <a:pt x="1341" y="3077"/>
                  </a:lnTo>
                  <a:lnTo>
                    <a:pt x="1306" y="3069"/>
                  </a:lnTo>
                  <a:lnTo>
                    <a:pt x="1270" y="3061"/>
                  </a:lnTo>
                  <a:lnTo>
                    <a:pt x="1236" y="3052"/>
                  </a:lnTo>
                  <a:lnTo>
                    <a:pt x="1202" y="3042"/>
                  </a:lnTo>
                  <a:lnTo>
                    <a:pt x="1167" y="3031"/>
                  </a:lnTo>
                  <a:lnTo>
                    <a:pt x="1133" y="3020"/>
                  </a:lnTo>
                  <a:lnTo>
                    <a:pt x="1099" y="3007"/>
                  </a:lnTo>
                  <a:lnTo>
                    <a:pt x="1066" y="2993"/>
                  </a:lnTo>
                  <a:lnTo>
                    <a:pt x="1033" y="2979"/>
                  </a:lnTo>
                  <a:lnTo>
                    <a:pt x="1000" y="2964"/>
                  </a:lnTo>
                  <a:lnTo>
                    <a:pt x="968" y="2949"/>
                  </a:lnTo>
                  <a:lnTo>
                    <a:pt x="936" y="2932"/>
                  </a:lnTo>
                  <a:lnTo>
                    <a:pt x="904" y="2915"/>
                  </a:lnTo>
                  <a:lnTo>
                    <a:pt x="873" y="2897"/>
                  </a:lnTo>
                  <a:lnTo>
                    <a:pt x="842" y="2877"/>
                  </a:lnTo>
                  <a:lnTo>
                    <a:pt x="811" y="2858"/>
                  </a:lnTo>
                  <a:lnTo>
                    <a:pt x="782" y="2837"/>
                  </a:lnTo>
                  <a:lnTo>
                    <a:pt x="753" y="2816"/>
                  </a:lnTo>
                  <a:lnTo>
                    <a:pt x="723" y="2795"/>
                  </a:lnTo>
                  <a:lnTo>
                    <a:pt x="695" y="2771"/>
                  </a:lnTo>
                  <a:lnTo>
                    <a:pt x="667" y="2748"/>
                  </a:lnTo>
                  <a:lnTo>
                    <a:pt x="639" y="2724"/>
                  </a:lnTo>
                  <a:lnTo>
                    <a:pt x="612" y="2699"/>
                  </a:lnTo>
                  <a:lnTo>
                    <a:pt x="586" y="2672"/>
                  </a:lnTo>
                  <a:lnTo>
                    <a:pt x="561" y="2646"/>
                  </a:lnTo>
                  <a:lnTo>
                    <a:pt x="535" y="2619"/>
                  </a:lnTo>
                  <a:lnTo>
                    <a:pt x="511" y="2592"/>
                  </a:lnTo>
                  <a:lnTo>
                    <a:pt x="488" y="2563"/>
                  </a:lnTo>
                  <a:lnTo>
                    <a:pt x="465" y="2535"/>
                  </a:lnTo>
                  <a:lnTo>
                    <a:pt x="442" y="2507"/>
                  </a:lnTo>
                  <a:lnTo>
                    <a:pt x="421" y="2478"/>
                  </a:lnTo>
                  <a:lnTo>
                    <a:pt x="401" y="2447"/>
                  </a:lnTo>
                  <a:lnTo>
                    <a:pt x="381" y="2417"/>
                  </a:lnTo>
                  <a:lnTo>
                    <a:pt x="361" y="2387"/>
                  </a:lnTo>
                  <a:lnTo>
                    <a:pt x="343" y="2355"/>
                  </a:lnTo>
                  <a:lnTo>
                    <a:pt x="326" y="2324"/>
                  </a:lnTo>
                  <a:lnTo>
                    <a:pt x="310" y="2292"/>
                  </a:lnTo>
                  <a:lnTo>
                    <a:pt x="294" y="2259"/>
                  </a:lnTo>
                  <a:lnTo>
                    <a:pt x="279" y="2227"/>
                  </a:lnTo>
                  <a:lnTo>
                    <a:pt x="264" y="2194"/>
                  </a:lnTo>
                  <a:lnTo>
                    <a:pt x="251" y="2161"/>
                  </a:lnTo>
                  <a:lnTo>
                    <a:pt x="239" y="2127"/>
                  </a:lnTo>
                  <a:lnTo>
                    <a:pt x="227" y="2093"/>
                  </a:lnTo>
                  <a:lnTo>
                    <a:pt x="217" y="2059"/>
                  </a:lnTo>
                  <a:lnTo>
                    <a:pt x="207" y="2024"/>
                  </a:lnTo>
                  <a:lnTo>
                    <a:pt x="198" y="1989"/>
                  </a:lnTo>
                  <a:lnTo>
                    <a:pt x="189" y="1955"/>
                  </a:lnTo>
                  <a:lnTo>
                    <a:pt x="181" y="1918"/>
                  </a:lnTo>
                  <a:lnTo>
                    <a:pt x="174" y="1883"/>
                  </a:lnTo>
                  <a:lnTo>
                    <a:pt x="169" y="1848"/>
                  </a:lnTo>
                  <a:lnTo>
                    <a:pt x="164" y="1811"/>
                  </a:lnTo>
                  <a:lnTo>
                    <a:pt x="160" y="1775"/>
                  </a:lnTo>
                  <a:lnTo>
                    <a:pt x="157" y="1739"/>
                  </a:lnTo>
                  <a:lnTo>
                    <a:pt x="155" y="1702"/>
                  </a:lnTo>
                  <a:lnTo>
                    <a:pt x="153" y="1665"/>
                  </a:lnTo>
                  <a:lnTo>
                    <a:pt x="153" y="1628"/>
                  </a:lnTo>
                  <a:lnTo>
                    <a:pt x="153" y="1591"/>
                  </a:lnTo>
                  <a:lnTo>
                    <a:pt x="155" y="1555"/>
                  </a:lnTo>
                  <a:lnTo>
                    <a:pt x="157" y="1518"/>
                  </a:lnTo>
                  <a:lnTo>
                    <a:pt x="160" y="1482"/>
                  </a:lnTo>
                  <a:lnTo>
                    <a:pt x="164" y="1446"/>
                  </a:lnTo>
                  <a:lnTo>
                    <a:pt x="169" y="1409"/>
                  </a:lnTo>
                  <a:lnTo>
                    <a:pt x="174" y="1374"/>
                  </a:lnTo>
                  <a:lnTo>
                    <a:pt x="181" y="1338"/>
                  </a:lnTo>
                  <a:lnTo>
                    <a:pt x="189" y="1302"/>
                  </a:lnTo>
                  <a:lnTo>
                    <a:pt x="198" y="1268"/>
                  </a:lnTo>
                  <a:lnTo>
                    <a:pt x="207" y="1233"/>
                  </a:lnTo>
                  <a:lnTo>
                    <a:pt x="217" y="1198"/>
                  </a:lnTo>
                  <a:lnTo>
                    <a:pt x="227" y="1164"/>
                  </a:lnTo>
                  <a:lnTo>
                    <a:pt x="239" y="1130"/>
                  </a:lnTo>
                  <a:lnTo>
                    <a:pt x="251" y="1096"/>
                  </a:lnTo>
                  <a:lnTo>
                    <a:pt x="264" y="1063"/>
                  </a:lnTo>
                  <a:lnTo>
                    <a:pt x="279" y="1030"/>
                  </a:lnTo>
                  <a:lnTo>
                    <a:pt x="294" y="997"/>
                  </a:lnTo>
                  <a:lnTo>
                    <a:pt x="310" y="965"/>
                  </a:lnTo>
                  <a:lnTo>
                    <a:pt x="326" y="933"/>
                  </a:lnTo>
                  <a:lnTo>
                    <a:pt x="343" y="902"/>
                  </a:lnTo>
                  <a:lnTo>
                    <a:pt x="361" y="870"/>
                  </a:lnTo>
                  <a:lnTo>
                    <a:pt x="381" y="840"/>
                  </a:lnTo>
                  <a:lnTo>
                    <a:pt x="401" y="810"/>
                  </a:lnTo>
                  <a:lnTo>
                    <a:pt x="421" y="779"/>
                  </a:lnTo>
                  <a:lnTo>
                    <a:pt x="442" y="750"/>
                  </a:lnTo>
                  <a:lnTo>
                    <a:pt x="465" y="722"/>
                  </a:lnTo>
                  <a:lnTo>
                    <a:pt x="488" y="693"/>
                  </a:lnTo>
                  <a:lnTo>
                    <a:pt x="511" y="665"/>
                  </a:lnTo>
                  <a:lnTo>
                    <a:pt x="535" y="638"/>
                  </a:lnTo>
                  <a:lnTo>
                    <a:pt x="561" y="611"/>
                  </a:lnTo>
                  <a:lnTo>
                    <a:pt x="586" y="585"/>
                  </a:lnTo>
                  <a:lnTo>
                    <a:pt x="612" y="558"/>
                  </a:lnTo>
                  <a:lnTo>
                    <a:pt x="639" y="533"/>
                  </a:lnTo>
                  <a:lnTo>
                    <a:pt x="667" y="509"/>
                  </a:lnTo>
                  <a:lnTo>
                    <a:pt x="695" y="486"/>
                  </a:lnTo>
                  <a:lnTo>
                    <a:pt x="723" y="462"/>
                  </a:lnTo>
                  <a:lnTo>
                    <a:pt x="753" y="441"/>
                  </a:lnTo>
                  <a:lnTo>
                    <a:pt x="782" y="420"/>
                  </a:lnTo>
                  <a:lnTo>
                    <a:pt x="811" y="399"/>
                  </a:lnTo>
                  <a:lnTo>
                    <a:pt x="842" y="380"/>
                  </a:lnTo>
                  <a:lnTo>
                    <a:pt x="873" y="360"/>
                  </a:lnTo>
                  <a:lnTo>
                    <a:pt x="904" y="342"/>
                  </a:lnTo>
                  <a:lnTo>
                    <a:pt x="936" y="325"/>
                  </a:lnTo>
                  <a:lnTo>
                    <a:pt x="968" y="308"/>
                  </a:lnTo>
                  <a:lnTo>
                    <a:pt x="1000" y="293"/>
                  </a:lnTo>
                  <a:lnTo>
                    <a:pt x="1033" y="278"/>
                  </a:lnTo>
                  <a:lnTo>
                    <a:pt x="1066" y="264"/>
                  </a:lnTo>
                  <a:lnTo>
                    <a:pt x="1099" y="250"/>
                  </a:lnTo>
                  <a:lnTo>
                    <a:pt x="1133" y="237"/>
                  </a:lnTo>
                  <a:lnTo>
                    <a:pt x="1167" y="226"/>
                  </a:lnTo>
                  <a:lnTo>
                    <a:pt x="1202" y="215"/>
                  </a:lnTo>
                  <a:lnTo>
                    <a:pt x="1236" y="205"/>
                  </a:lnTo>
                  <a:lnTo>
                    <a:pt x="1270" y="196"/>
                  </a:lnTo>
                  <a:lnTo>
                    <a:pt x="1306" y="188"/>
                  </a:lnTo>
                  <a:lnTo>
                    <a:pt x="1341" y="180"/>
                  </a:lnTo>
                  <a:lnTo>
                    <a:pt x="1377" y="174"/>
                  </a:lnTo>
                  <a:lnTo>
                    <a:pt x="1413" y="168"/>
                  </a:lnTo>
                  <a:lnTo>
                    <a:pt x="1449" y="163"/>
                  </a:lnTo>
                  <a:lnTo>
                    <a:pt x="1485" y="159"/>
                  </a:lnTo>
                  <a:lnTo>
                    <a:pt x="1521" y="155"/>
                  </a:lnTo>
                  <a:lnTo>
                    <a:pt x="1559" y="153"/>
                  </a:lnTo>
                  <a:lnTo>
                    <a:pt x="1595" y="152"/>
                  </a:lnTo>
                  <a:lnTo>
                    <a:pt x="1632" y="151"/>
                  </a:lnTo>
                  <a:lnTo>
                    <a:pt x="1639" y="151"/>
                  </a:lnTo>
                  <a:lnTo>
                    <a:pt x="1649" y="151"/>
                  </a:lnTo>
                  <a:lnTo>
                    <a:pt x="1660" y="151"/>
                  </a:lnTo>
                  <a:lnTo>
                    <a:pt x="1671" y="152"/>
                  </a:lnTo>
                  <a:lnTo>
                    <a:pt x="1682" y="152"/>
                  </a:lnTo>
                  <a:lnTo>
                    <a:pt x="1692" y="152"/>
                  </a:lnTo>
                  <a:lnTo>
                    <a:pt x="1702" y="152"/>
                  </a:lnTo>
                  <a:lnTo>
                    <a:pt x="1710" y="152"/>
                  </a:lnTo>
                  <a:lnTo>
                    <a:pt x="17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4" name=""/>
          <p:cNvGrpSpPr/>
          <p:nvPr/>
        </p:nvGrpSpPr>
        <p:grpSpPr>
          <a:xfrm>
            <a:off x="7002360" y="3672000"/>
            <a:ext cx="114480" cy="112680"/>
            <a:chOff x="7002360" y="3672000"/>
            <a:chExt cx="114480" cy="112680"/>
          </a:xfrm>
        </p:grpSpPr>
        <p:sp>
          <p:nvSpPr>
            <p:cNvPr id="4265" name="Freeform 435"/>
            <p:cNvSpPr/>
            <p:nvPr/>
          </p:nvSpPr>
          <p:spPr>
            <a:xfrm>
              <a:off x="7002360" y="3672000"/>
              <a:ext cx="114480" cy="11268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3898" h="3892">
                  <a:moveTo>
                    <a:pt x="1949" y="3892"/>
                  </a:moveTo>
                  <a:lnTo>
                    <a:pt x="2049" y="3890"/>
                  </a:lnTo>
                  <a:lnTo>
                    <a:pt x="2149" y="3882"/>
                  </a:lnTo>
                  <a:lnTo>
                    <a:pt x="2246" y="3870"/>
                  </a:lnTo>
                  <a:lnTo>
                    <a:pt x="2342" y="3853"/>
                  </a:lnTo>
                  <a:lnTo>
                    <a:pt x="2436" y="3830"/>
                  </a:lnTo>
                  <a:lnTo>
                    <a:pt x="2529" y="3804"/>
                  </a:lnTo>
                  <a:lnTo>
                    <a:pt x="2619" y="3774"/>
                  </a:lnTo>
                  <a:lnTo>
                    <a:pt x="2708" y="3740"/>
                  </a:lnTo>
                  <a:lnTo>
                    <a:pt x="2794" y="3700"/>
                  </a:lnTo>
                  <a:lnTo>
                    <a:pt x="2877" y="3657"/>
                  </a:lnTo>
                  <a:lnTo>
                    <a:pt x="2959" y="3610"/>
                  </a:lnTo>
                  <a:lnTo>
                    <a:pt x="3038" y="3560"/>
                  </a:lnTo>
                  <a:lnTo>
                    <a:pt x="3115" y="3505"/>
                  </a:lnTo>
                  <a:lnTo>
                    <a:pt x="3189" y="3448"/>
                  </a:lnTo>
                  <a:lnTo>
                    <a:pt x="3260" y="3386"/>
                  </a:lnTo>
                  <a:lnTo>
                    <a:pt x="3327" y="3322"/>
                  </a:lnTo>
                  <a:lnTo>
                    <a:pt x="3391" y="3255"/>
                  </a:lnTo>
                  <a:lnTo>
                    <a:pt x="3453" y="3184"/>
                  </a:lnTo>
                  <a:lnTo>
                    <a:pt x="3510" y="3111"/>
                  </a:lnTo>
                  <a:lnTo>
                    <a:pt x="3565" y="3034"/>
                  </a:lnTo>
                  <a:lnTo>
                    <a:pt x="3616" y="2955"/>
                  </a:lnTo>
                  <a:lnTo>
                    <a:pt x="3663" y="2873"/>
                  </a:lnTo>
                  <a:lnTo>
                    <a:pt x="3706" y="2790"/>
                  </a:lnTo>
                  <a:lnTo>
                    <a:pt x="3745" y="2704"/>
                  </a:lnTo>
                  <a:lnTo>
                    <a:pt x="3779" y="2615"/>
                  </a:lnTo>
                  <a:lnTo>
                    <a:pt x="3811" y="2525"/>
                  </a:lnTo>
                  <a:lnTo>
                    <a:pt x="3837" y="2432"/>
                  </a:lnTo>
                  <a:lnTo>
                    <a:pt x="3858" y="2338"/>
                  </a:lnTo>
                  <a:lnTo>
                    <a:pt x="3875" y="2242"/>
                  </a:lnTo>
                  <a:lnTo>
                    <a:pt x="3888" y="2145"/>
                  </a:lnTo>
                  <a:lnTo>
                    <a:pt x="3896" y="2046"/>
                  </a:lnTo>
                  <a:lnTo>
                    <a:pt x="3898" y="1947"/>
                  </a:lnTo>
                  <a:lnTo>
                    <a:pt x="3896" y="1846"/>
                  </a:lnTo>
                  <a:lnTo>
                    <a:pt x="3888" y="1748"/>
                  </a:lnTo>
                  <a:lnTo>
                    <a:pt x="3875" y="1650"/>
                  </a:lnTo>
                  <a:lnTo>
                    <a:pt x="3858" y="1554"/>
                  </a:lnTo>
                  <a:lnTo>
                    <a:pt x="3837" y="1460"/>
                  </a:lnTo>
                  <a:lnTo>
                    <a:pt x="3811" y="1367"/>
                  </a:lnTo>
                  <a:lnTo>
                    <a:pt x="3779" y="1277"/>
                  </a:lnTo>
                  <a:lnTo>
                    <a:pt x="3745" y="1188"/>
                  </a:lnTo>
                  <a:lnTo>
                    <a:pt x="3706" y="1102"/>
                  </a:lnTo>
                  <a:lnTo>
                    <a:pt x="3663" y="1019"/>
                  </a:lnTo>
                  <a:lnTo>
                    <a:pt x="3616" y="937"/>
                  </a:lnTo>
                  <a:lnTo>
                    <a:pt x="3565" y="858"/>
                  </a:lnTo>
                  <a:lnTo>
                    <a:pt x="3510" y="781"/>
                  </a:lnTo>
                  <a:lnTo>
                    <a:pt x="3453" y="709"/>
                  </a:lnTo>
                  <a:lnTo>
                    <a:pt x="3391" y="638"/>
                  </a:lnTo>
                  <a:lnTo>
                    <a:pt x="3327" y="570"/>
                  </a:lnTo>
                  <a:lnTo>
                    <a:pt x="3260" y="506"/>
                  </a:lnTo>
                  <a:lnTo>
                    <a:pt x="3189" y="444"/>
                  </a:lnTo>
                  <a:lnTo>
                    <a:pt x="3115" y="387"/>
                  </a:lnTo>
                  <a:lnTo>
                    <a:pt x="3038" y="332"/>
                  </a:lnTo>
                  <a:lnTo>
                    <a:pt x="2959" y="282"/>
                  </a:lnTo>
                  <a:lnTo>
                    <a:pt x="2877" y="235"/>
                  </a:lnTo>
                  <a:lnTo>
                    <a:pt x="2794" y="192"/>
                  </a:lnTo>
                  <a:lnTo>
                    <a:pt x="2708" y="153"/>
                  </a:lnTo>
                  <a:lnTo>
                    <a:pt x="2619" y="118"/>
                  </a:lnTo>
                  <a:lnTo>
                    <a:pt x="2529" y="88"/>
                  </a:lnTo>
                  <a:lnTo>
                    <a:pt x="2436" y="62"/>
                  </a:lnTo>
                  <a:lnTo>
                    <a:pt x="2342" y="39"/>
                  </a:lnTo>
                  <a:lnTo>
                    <a:pt x="2246" y="22"/>
                  </a:lnTo>
                  <a:lnTo>
                    <a:pt x="2149" y="10"/>
                  </a:lnTo>
                  <a:lnTo>
                    <a:pt x="2049" y="3"/>
                  </a:lnTo>
                  <a:lnTo>
                    <a:pt x="1949" y="0"/>
                  </a:lnTo>
                  <a:lnTo>
                    <a:pt x="1848" y="3"/>
                  </a:lnTo>
                  <a:lnTo>
                    <a:pt x="1750" y="10"/>
                  </a:lnTo>
                  <a:lnTo>
                    <a:pt x="1652" y="22"/>
                  </a:lnTo>
                  <a:lnTo>
                    <a:pt x="1556" y="39"/>
                  </a:lnTo>
                  <a:lnTo>
                    <a:pt x="1462" y="62"/>
                  </a:lnTo>
                  <a:lnTo>
                    <a:pt x="1369" y="88"/>
                  </a:lnTo>
                  <a:lnTo>
                    <a:pt x="1279" y="118"/>
                  </a:lnTo>
                  <a:lnTo>
                    <a:pt x="1190" y="153"/>
                  </a:lnTo>
                  <a:lnTo>
                    <a:pt x="1104" y="192"/>
                  </a:lnTo>
                  <a:lnTo>
                    <a:pt x="1020" y="235"/>
                  </a:lnTo>
                  <a:lnTo>
                    <a:pt x="938" y="282"/>
                  </a:lnTo>
                  <a:lnTo>
                    <a:pt x="859" y="332"/>
                  </a:lnTo>
                  <a:lnTo>
                    <a:pt x="783" y="387"/>
                  </a:lnTo>
                  <a:lnTo>
                    <a:pt x="709" y="444"/>
                  </a:lnTo>
                  <a:lnTo>
                    <a:pt x="639" y="506"/>
                  </a:lnTo>
                  <a:lnTo>
                    <a:pt x="571" y="570"/>
                  </a:lnTo>
                  <a:lnTo>
                    <a:pt x="507" y="638"/>
                  </a:lnTo>
                  <a:lnTo>
                    <a:pt x="445" y="709"/>
                  </a:lnTo>
                  <a:lnTo>
                    <a:pt x="387" y="781"/>
                  </a:lnTo>
                  <a:lnTo>
                    <a:pt x="333" y="858"/>
                  </a:lnTo>
                  <a:lnTo>
                    <a:pt x="282" y="937"/>
                  </a:lnTo>
                  <a:lnTo>
                    <a:pt x="236" y="1019"/>
                  </a:lnTo>
                  <a:lnTo>
                    <a:pt x="192" y="1102"/>
                  </a:lnTo>
                  <a:lnTo>
                    <a:pt x="153" y="1188"/>
                  </a:lnTo>
                  <a:lnTo>
                    <a:pt x="118" y="1277"/>
                  </a:lnTo>
                  <a:lnTo>
                    <a:pt x="88" y="1367"/>
                  </a:lnTo>
                  <a:lnTo>
                    <a:pt x="62" y="1460"/>
                  </a:lnTo>
                  <a:lnTo>
                    <a:pt x="39" y="1554"/>
                  </a:lnTo>
                  <a:lnTo>
                    <a:pt x="22" y="1650"/>
                  </a:lnTo>
                  <a:lnTo>
                    <a:pt x="10" y="1748"/>
                  </a:lnTo>
                  <a:lnTo>
                    <a:pt x="2" y="1846"/>
                  </a:lnTo>
                  <a:lnTo>
                    <a:pt x="0" y="1947"/>
                  </a:lnTo>
                  <a:lnTo>
                    <a:pt x="2" y="2046"/>
                  </a:lnTo>
                  <a:lnTo>
                    <a:pt x="10" y="2145"/>
                  </a:lnTo>
                  <a:lnTo>
                    <a:pt x="22" y="2242"/>
                  </a:lnTo>
                  <a:lnTo>
                    <a:pt x="39" y="2338"/>
                  </a:lnTo>
                  <a:lnTo>
                    <a:pt x="62" y="2432"/>
                  </a:lnTo>
                  <a:lnTo>
                    <a:pt x="88" y="2525"/>
                  </a:lnTo>
                  <a:lnTo>
                    <a:pt x="118" y="2615"/>
                  </a:lnTo>
                  <a:lnTo>
                    <a:pt x="153" y="2704"/>
                  </a:lnTo>
                  <a:lnTo>
                    <a:pt x="192" y="2790"/>
                  </a:lnTo>
                  <a:lnTo>
                    <a:pt x="236" y="2873"/>
                  </a:lnTo>
                  <a:lnTo>
                    <a:pt x="282" y="2955"/>
                  </a:lnTo>
                  <a:lnTo>
                    <a:pt x="333" y="3034"/>
                  </a:lnTo>
                  <a:lnTo>
                    <a:pt x="387" y="3111"/>
                  </a:lnTo>
                  <a:lnTo>
                    <a:pt x="445" y="3184"/>
                  </a:lnTo>
                  <a:lnTo>
                    <a:pt x="507" y="3255"/>
                  </a:lnTo>
                  <a:lnTo>
                    <a:pt x="571" y="3322"/>
                  </a:lnTo>
                  <a:lnTo>
                    <a:pt x="639" y="3386"/>
                  </a:lnTo>
                  <a:lnTo>
                    <a:pt x="709" y="3448"/>
                  </a:lnTo>
                  <a:lnTo>
                    <a:pt x="783" y="3505"/>
                  </a:lnTo>
                  <a:lnTo>
                    <a:pt x="859" y="3560"/>
                  </a:lnTo>
                  <a:lnTo>
                    <a:pt x="938" y="3610"/>
                  </a:lnTo>
                  <a:lnTo>
                    <a:pt x="1020" y="3657"/>
                  </a:lnTo>
                  <a:lnTo>
                    <a:pt x="1104" y="3700"/>
                  </a:lnTo>
                  <a:lnTo>
                    <a:pt x="1190" y="3740"/>
                  </a:lnTo>
                  <a:lnTo>
                    <a:pt x="1279" y="3774"/>
                  </a:lnTo>
                  <a:lnTo>
                    <a:pt x="1369" y="3804"/>
                  </a:lnTo>
                  <a:lnTo>
                    <a:pt x="1462" y="3830"/>
                  </a:lnTo>
                  <a:lnTo>
                    <a:pt x="1556" y="3853"/>
                  </a:lnTo>
                  <a:lnTo>
                    <a:pt x="1652" y="3870"/>
                  </a:lnTo>
                  <a:lnTo>
                    <a:pt x="1750" y="3882"/>
                  </a:lnTo>
                  <a:lnTo>
                    <a:pt x="1848" y="3890"/>
                  </a:lnTo>
                  <a:lnTo>
                    <a:pt x="1949" y="3892"/>
                  </a:lnTo>
                  <a:close/>
                </a:path>
              </a:pathLst>
            </a:custGeom>
            <a:solidFill>
              <a:srgbClr val="b223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6" name="Freeform 436"/>
            <p:cNvSpPr/>
            <p:nvPr/>
          </p:nvSpPr>
          <p:spPr>
            <a:xfrm>
              <a:off x="7057080" y="3702960"/>
              <a:ext cx="16200" cy="5040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543" h="1706">
                  <a:moveTo>
                    <a:pt x="0" y="0"/>
                  </a:moveTo>
                  <a:lnTo>
                    <a:pt x="0" y="1706"/>
                  </a:lnTo>
                  <a:lnTo>
                    <a:pt x="543" y="1706"/>
                  </a:lnTo>
                  <a:lnTo>
                    <a:pt x="543" y="1553"/>
                  </a:lnTo>
                  <a:lnTo>
                    <a:pt x="156" y="1553"/>
                  </a:lnTo>
                  <a:lnTo>
                    <a:pt x="15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7" name="Freeform 437"/>
            <p:cNvSpPr/>
            <p:nvPr/>
          </p:nvSpPr>
          <p:spPr>
            <a:xfrm>
              <a:off x="7034040" y="3702960"/>
              <a:ext cx="14040" cy="136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467" h="467">
                  <a:moveTo>
                    <a:pt x="234" y="467"/>
                  </a:moveTo>
                  <a:lnTo>
                    <a:pt x="246" y="466"/>
                  </a:lnTo>
                  <a:lnTo>
                    <a:pt x="258" y="465"/>
                  </a:lnTo>
                  <a:lnTo>
                    <a:pt x="269" y="464"/>
                  </a:lnTo>
                  <a:lnTo>
                    <a:pt x="281" y="462"/>
                  </a:lnTo>
                  <a:lnTo>
                    <a:pt x="292" y="459"/>
                  </a:lnTo>
                  <a:lnTo>
                    <a:pt x="303" y="456"/>
                  </a:lnTo>
                  <a:lnTo>
                    <a:pt x="314" y="453"/>
                  </a:lnTo>
                  <a:lnTo>
                    <a:pt x="325" y="448"/>
                  </a:lnTo>
                  <a:lnTo>
                    <a:pt x="335" y="444"/>
                  </a:lnTo>
                  <a:lnTo>
                    <a:pt x="345" y="439"/>
                  </a:lnTo>
                  <a:lnTo>
                    <a:pt x="355" y="432"/>
                  </a:lnTo>
                  <a:lnTo>
                    <a:pt x="364" y="426"/>
                  </a:lnTo>
                  <a:lnTo>
                    <a:pt x="373" y="420"/>
                  </a:lnTo>
                  <a:lnTo>
                    <a:pt x="382" y="413"/>
                  </a:lnTo>
                  <a:lnTo>
                    <a:pt x="390" y="406"/>
                  </a:lnTo>
                  <a:lnTo>
                    <a:pt x="399" y="398"/>
                  </a:lnTo>
                  <a:lnTo>
                    <a:pt x="406" y="390"/>
                  </a:lnTo>
                  <a:lnTo>
                    <a:pt x="413" y="382"/>
                  </a:lnTo>
                  <a:lnTo>
                    <a:pt x="421" y="373"/>
                  </a:lnTo>
                  <a:lnTo>
                    <a:pt x="428" y="364"/>
                  </a:lnTo>
                  <a:lnTo>
                    <a:pt x="434" y="354"/>
                  </a:lnTo>
                  <a:lnTo>
                    <a:pt x="439" y="345"/>
                  </a:lnTo>
                  <a:lnTo>
                    <a:pt x="444" y="335"/>
                  </a:lnTo>
                  <a:lnTo>
                    <a:pt x="449" y="324"/>
                  </a:lnTo>
                  <a:lnTo>
                    <a:pt x="453" y="313"/>
                  </a:lnTo>
                  <a:lnTo>
                    <a:pt x="457" y="302"/>
                  </a:lnTo>
                  <a:lnTo>
                    <a:pt x="460" y="291"/>
                  </a:lnTo>
                  <a:lnTo>
                    <a:pt x="463" y="280"/>
                  </a:lnTo>
                  <a:lnTo>
                    <a:pt x="465" y="269"/>
                  </a:lnTo>
                  <a:lnTo>
                    <a:pt x="466" y="257"/>
                  </a:lnTo>
                  <a:lnTo>
                    <a:pt x="467" y="246"/>
                  </a:lnTo>
                  <a:lnTo>
                    <a:pt x="467" y="234"/>
                  </a:lnTo>
                  <a:lnTo>
                    <a:pt x="467" y="221"/>
                  </a:lnTo>
                  <a:lnTo>
                    <a:pt x="466" y="209"/>
                  </a:lnTo>
                  <a:lnTo>
                    <a:pt x="465" y="198"/>
                  </a:lnTo>
                  <a:lnTo>
                    <a:pt x="463" y="186"/>
                  </a:lnTo>
                  <a:lnTo>
                    <a:pt x="460" y="175"/>
                  </a:lnTo>
                  <a:lnTo>
                    <a:pt x="457" y="164"/>
                  </a:lnTo>
                  <a:lnTo>
                    <a:pt x="453" y="153"/>
                  </a:lnTo>
                  <a:lnTo>
                    <a:pt x="449" y="143"/>
                  </a:lnTo>
                  <a:lnTo>
                    <a:pt x="444" y="133"/>
                  </a:lnTo>
                  <a:lnTo>
                    <a:pt x="439" y="123"/>
                  </a:lnTo>
                  <a:lnTo>
                    <a:pt x="434" y="112"/>
                  </a:lnTo>
                  <a:lnTo>
                    <a:pt x="428" y="103"/>
                  </a:lnTo>
                  <a:lnTo>
                    <a:pt x="421" y="94"/>
                  </a:lnTo>
                  <a:lnTo>
                    <a:pt x="413" y="85"/>
                  </a:lnTo>
                  <a:lnTo>
                    <a:pt x="406" y="76"/>
                  </a:lnTo>
                  <a:lnTo>
                    <a:pt x="399" y="68"/>
                  </a:lnTo>
                  <a:lnTo>
                    <a:pt x="390" y="61"/>
                  </a:lnTo>
                  <a:lnTo>
                    <a:pt x="382" y="54"/>
                  </a:lnTo>
                  <a:lnTo>
                    <a:pt x="373" y="47"/>
                  </a:lnTo>
                  <a:lnTo>
                    <a:pt x="364" y="40"/>
                  </a:lnTo>
                  <a:lnTo>
                    <a:pt x="355" y="34"/>
                  </a:lnTo>
                  <a:lnTo>
                    <a:pt x="345" y="29"/>
                  </a:lnTo>
                  <a:lnTo>
                    <a:pt x="335" y="24"/>
                  </a:lnTo>
                  <a:lnTo>
                    <a:pt x="325" y="19"/>
                  </a:lnTo>
                  <a:lnTo>
                    <a:pt x="314" y="15"/>
                  </a:lnTo>
                  <a:lnTo>
                    <a:pt x="303" y="10"/>
                  </a:lnTo>
                  <a:lnTo>
                    <a:pt x="292" y="7"/>
                  </a:lnTo>
                  <a:lnTo>
                    <a:pt x="281" y="4"/>
                  </a:lnTo>
                  <a:lnTo>
                    <a:pt x="269" y="2"/>
                  </a:lnTo>
                  <a:lnTo>
                    <a:pt x="258" y="1"/>
                  </a:lnTo>
                  <a:lnTo>
                    <a:pt x="246" y="0"/>
                  </a:lnTo>
                  <a:lnTo>
                    <a:pt x="234" y="0"/>
                  </a:lnTo>
                  <a:lnTo>
                    <a:pt x="221" y="0"/>
                  </a:lnTo>
                  <a:lnTo>
                    <a:pt x="210" y="1"/>
                  </a:lnTo>
                  <a:lnTo>
                    <a:pt x="198" y="2"/>
                  </a:lnTo>
                  <a:lnTo>
                    <a:pt x="187" y="4"/>
                  </a:lnTo>
                  <a:lnTo>
                    <a:pt x="176" y="7"/>
                  </a:lnTo>
                  <a:lnTo>
                    <a:pt x="165" y="10"/>
                  </a:lnTo>
                  <a:lnTo>
                    <a:pt x="154" y="15"/>
                  </a:lnTo>
                  <a:lnTo>
                    <a:pt x="143" y="19"/>
                  </a:lnTo>
                  <a:lnTo>
                    <a:pt x="132" y="24"/>
                  </a:lnTo>
                  <a:lnTo>
                    <a:pt x="122" y="29"/>
                  </a:lnTo>
                  <a:lnTo>
                    <a:pt x="112" y="34"/>
                  </a:lnTo>
                  <a:lnTo>
                    <a:pt x="103" y="40"/>
                  </a:lnTo>
                  <a:lnTo>
                    <a:pt x="94" y="47"/>
                  </a:lnTo>
                  <a:lnTo>
                    <a:pt x="85" y="54"/>
                  </a:lnTo>
                  <a:lnTo>
                    <a:pt x="77" y="61"/>
                  </a:lnTo>
                  <a:lnTo>
                    <a:pt x="69" y="68"/>
                  </a:lnTo>
                  <a:lnTo>
                    <a:pt x="61" y="76"/>
                  </a:lnTo>
                  <a:lnTo>
                    <a:pt x="54" y="85"/>
                  </a:lnTo>
                  <a:lnTo>
                    <a:pt x="46" y="94"/>
                  </a:lnTo>
                  <a:lnTo>
                    <a:pt x="40" y="103"/>
                  </a:lnTo>
                  <a:lnTo>
                    <a:pt x="34" y="112"/>
                  </a:lnTo>
                  <a:lnTo>
                    <a:pt x="28" y="123"/>
                  </a:lnTo>
                  <a:lnTo>
                    <a:pt x="23" y="133"/>
                  </a:lnTo>
                  <a:lnTo>
                    <a:pt x="18" y="143"/>
                  </a:lnTo>
                  <a:lnTo>
                    <a:pt x="14" y="153"/>
                  </a:lnTo>
                  <a:lnTo>
                    <a:pt x="11" y="164"/>
                  </a:lnTo>
                  <a:lnTo>
                    <a:pt x="8" y="175"/>
                  </a:lnTo>
                  <a:lnTo>
                    <a:pt x="5" y="186"/>
                  </a:lnTo>
                  <a:lnTo>
                    <a:pt x="3" y="198"/>
                  </a:lnTo>
                  <a:lnTo>
                    <a:pt x="2" y="209"/>
                  </a:lnTo>
                  <a:lnTo>
                    <a:pt x="1" y="221"/>
                  </a:lnTo>
                  <a:lnTo>
                    <a:pt x="0" y="234"/>
                  </a:lnTo>
                  <a:lnTo>
                    <a:pt x="1" y="246"/>
                  </a:lnTo>
                  <a:lnTo>
                    <a:pt x="2" y="257"/>
                  </a:lnTo>
                  <a:lnTo>
                    <a:pt x="3" y="269"/>
                  </a:lnTo>
                  <a:lnTo>
                    <a:pt x="5" y="280"/>
                  </a:lnTo>
                  <a:lnTo>
                    <a:pt x="8" y="291"/>
                  </a:lnTo>
                  <a:lnTo>
                    <a:pt x="11" y="302"/>
                  </a:lnTo>
                  <a:lnTo>
                    <a:pt x="14" y="313"/>
                  </a:lnTo>
                  <a:lnTo>
                    <a:pt x="18" y="324"/>
                  </a:lnTo>
                  <a:lnTo>
                    <a:pt x="23" y="335"/>
                  </a:lnTo>
                  <a:lnTo>
                    <a:pt x="28" y="345"/>
                  </a:lnTo>
                  <a:lnTo>
                    <a:pt x="34" y="354"/>
                  </a:lnTo>
                  <a:lnTo>
                    <a:pt x="40" y="364"/>
                  </a:lnTo>
                  <a:lnTo>
                    <a:pt x="46" y="373"/>
                  </a:lnTo>
                  <a:lnTo>
                    <a:pt x="54" y="382"/>
                  </a:lnTo>
                  <a:lnTo>
                    <a:pt x="61" y="390"/>
                  </a:lnTo>
                  <a:lnTo>
                    <a:pt x="69" y="398"/>
                  </a:lnTo>
                  <a:lnTo>
                    <a:pt x="77" y="406"/>
                  </a:lnTo>
                  <a:lnTo>
                    <a:pt x="85" y="413"/>
                  </a:lnTo>
                  <a:lnTo>
                    <a:pt x="94" y="420"/>
                  </a:lnTo>
                  <a:lnTo>
                    <a:pt x="103" y="426"/>
                  </a:lnTo>
                  <a:lnTo>
                    <a:pt x="112" y="432"/>
                  </a:lnTo>
                  <a:lnTo>
                    <a:pt x="122" y="439"/>
                  </a:lnTo>
                  <a:lnTo>
                    <a:pt x="132" y="444"/>
                  </a:lnTo>
                  <a:lnTo>
                    <a:pt x="143" y="448"/>
                  </a:lnTo>
                  <a:lnTo>
                    <a:pt x="154" y="453"/>
                  </a:lnTo>
                  <a:lnTo>
                    <a:pt x="165" y="456"/>
                  </a:lnTo>
                  <a:lnTo>
                    <a:pt x="176" y="459"/>
                  </a:lnTo>
                  <a:lnTo>
                    <a:pt x="187" y="462"/>
                  </a:lnTo>
                  <a:lnTo>
                    <a:pt x="198" y="464"/>
                  </a:lnTo>
                  <a:lnTo>
                    <a:pt x="210" y="465"/>
                  </a:lnTo>
                  <a:lnTo>
                    <a:pt x="221" y="466"/>
                  </a:lnTo>
                  <a:lnTo>
                    <a:pt x="234" y="4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8" name="Freeform 438"/>
            <p:cNvSpPr/>
            <p:nvPr/>
          </p:nvSpPr>
          <p:spPr>
            <a:xfrm>
              <a:off x="7011000" y="3681360"/>
              <a:ext cx="96480" cy="9360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263" h="3257">
                  <a:moveTo>
                    <a:pt x="1710" y="0"/>
                  </a:moveTo>
                  <a:lnTo>
                    <a:pt x="1701" y="0"/>
                  </a:lnTo>
                  <a:lnTo>
                    <a:pt x="1692" y="0"/>
                  </a:lnTo>
                  <a:lnTo>
                    <a:pt x="1681" y="0"/>
                  </a:lnTo>
                  <a:lnTo>
                    <a:pt x="1671" y="0"/>
                  </a:lnTo>
                  <a:lnTo>
                    <a:pt x="1660" y="0"/>
                  </a:lnTo>
                  <a:lnTo>
                    <a:pt x="1650" y="0"/>
                  </a:lnTo>
                  <a:lnTo>
                    <a:pt x="1640" y="0"/>
                  </a:lnTo>
                  <a:lnTo>
                    <a:pt x="1632" y="0"/>
                  </a:lnTo>
                  <a:lnTo>
                    <a:pt x="1548" y="2"/>
                  </a:lnTo>
                  <a:lnTo>
                    <a:pt x="1466" y="8"/>
                  </a:lnTo>
                  <a:lnTo>
                    <a:pt x="1384" y="18"/>
                  </a:lnTo>
                  <a:lnTo>
                    <a:pt x="1304" y="33"/>
                  </a:lnTo>
                  <a:lnTo>
                    <a:pt x="1225" y="52"/>
                  </a:lnTo>
                  <a:lnTo>
                    <a:pt x="1147" y="73"/>
                  </a:lnTo>
                  <a:lnTo>
                    <a:pt x="1071" y="99"/>
                  </a:lnTo>
                  <a:lnTo>
                    <a:pt x="997" y="128"/>
                  </a:lnTo>
                  <a:lnTo>
                    <a:pt x="926" y="161"/>
                  </a:lnTo>
                  <a:lnTo>
                    <a:pt x="855" y="197"/>
                  </a:lnTo>
                  <a:lnTo>
                    <a:pt x="787" y="236"/>
                  </a:lnTo>
                  <a:lnTo>
                    <a:pt x="720" y="279"/>
                  </a:lnTo>
                  <a:lnTo>
                    <a:pt x="657" y="324"/>
                  </a:lnTo>
                  <a:lnTo>
                    <a:pt x="595" y="373"/>
                  </a:lnTo>
                  <a:lnTo>
                    <a:pt x="535" y="423"/>
                  </a:lnTo>
                  <a:lnTo>
                    <a:pt x="479" y="478"/>
                  </a:lnTo>
                  <a:lnTo>
                    <a:pt x="425" y="534"/>
                  </a:lnTo>
                  <a:lnTo>
                    <a:pt x="374" y="593"/>
                  </a:lnTo>
                  <a:lnTo>
                    <a:pt x="325" y="654"/>
                  </a:lnTo>
                  <a:lnTo>
                    <a:pt x="280" y="719"/>
                  </a:lnTo>
                  <a:lnTo>
                    <a:pt x="237" y="784"/>
                  </a:lnTo>
                  <a:lnTo>
                    <a:pt x="198" y="853"/>
                  </a:lnTo>
                  <a:lnTo>
                    <a:pt x="161" y="923"/>
                  </a:lnTo>
                  <a:lnTo>
                    <a:pt x="129" y="995"/>
                  </a:lnTo>
                  <a:lnTo>
                    <a:pt x="100" y="1069"/>
                  </a:lnTo>
                  <a:lnTo>
                    <a:pt x="74" y="1145"/>
                  </a:lnTo>
                  <a:lnTo>
                    <a:pt x="52" y="1222"/>
                  </a:lnTo>
                  <a:lnTo>
                    <a:pt x="34" y="1300"/>
                  </a:lnTo>
                  <a:lnTo>
                    <a:pt x="20" y="1381"/>
                  </a:lnTo>
                  <a:lnTo>
                    <a:pt x="9" y="1462"/>
                  </a:lnTo>
                  <a:lnTo>
                    <a:pt x="2" y="1545"/>
                  </a:lnTo>
                  <a:lnTo>
                    <a:pt x="0" y="1628"/>
                  </a:lnTo>
                  <a:lnTo>
                    <a:pt x="0" y="1669"/>
                  </a:lnTo>
                  <a:lnTo>
                    <a:pt x="2" y="1709"/>
                  </a:lnTo>
                  <a:lnTo>
                    <a:pt x="5" y="1750"/>
                  </a:lnTo>
                  <a:lnTo>
                    <a:pt x="9" y="1790"/>
                  </a:lnTo>
                  <a:lnTo>
                    <a:pt x="13" y="1830"/>
                  </a:lnTo>
                  <a:lnTo>
                    <a:pt x="18" y="1870"/>
                  </a:lnTo>
                  <a:lnTo>
                    <a:pt x="25" y="1909"/>
                  </a:lnTo>
                  <a:lnTo>
                    <a:pt x="32" y="1949"/>
                  </a:lnTo>
                  <a:lnTo>
                    <a:pt x="40" y="1988"/>
                  </a:lnTo>
                  <a:lnTo>
                    <a:pt x="49" y="2026"/>
                  </a:lnTo>
                  <a:lnTo>
                    <a:pt x="59" y="2065"/>
                  </a:lnTo>
                  <a:lnTo>
                    <a:pt x="70" y="2103"/>
                  </a:lnTo>
                  <a:lnTo>
                    <a:pt x="82" y="2140"/>
                  </a:lnTo>
                  <a:lnTo>
                    <a:pt x="96" y="2179"/>
                  </a:lnTo>
                  <a:lnTo>
                    <a:pt x="109" y="2215"/>
                  </a:lnTo>
                  <a:lnTo>
                    <a:pt x="124" y="2252"/>
                  </a:lnTo>
                  <a:lnTo>
                    <a:pt x="140" y="2289"/>
                  </a:lnTo>
                  <a:lnTo>
                    <a:pt x="156" y="2324"/>
                  </a:lnTo>
                  <a:lnTo>
                    <a:pt x="173" y="2360"/>
                  </a:lnTo>
                  <a:lnTo>
                    <a:pt x="192" y="2396"/>
                  </a:lnTo>
                  <a:lnTo>
                    <a:pt x="211" y="2430"/>
                  </a:lnTo>
                  <a:lnTo>
                    <a:pt x="231" y="2464"/>
                  </a:lnTo>
                  <a:lnTo>
                    <a:pt x="252" y="2499"/>
                  </a:lnTo>
                  <a:lnTo>
                    <a:pt x="273" y="2532"/>
                  </a:lnTo>
                  <a:lnTo>
                    <a:pt x="297" y="2564"/>
                  </a:lnTo>
                  <a:lnTo>
                    <a:pt x="320" y="2597"/>
                  </a:lnTo>
                  <a:lnTo>
                    <a:pt x="344" y="2629"/>
                  </a:lnTo>
                  <a:lnTo>
                    <a:pt x="370" y="2660"/>
                  </a:lnTo>
                  <a:lnTo>
                    <a:pt x="396" y="2692"/>
                  </a:lnTo>
                  <a:lnTo>
                    <a:pt x="422" y="2722"/>
                  </a:lnTo>
                  <a:lnTo>
                    <a:pt x="450" y="2751"/>
                  </a:lnTo>
                  <a:lnTo>
                    <a:pt x="479" y="2780"/>
                  </a:lnTo>
                  <a:lnTo>
                    <a:pt x="508" y="2809"/>
                  </a:lnTo>
                  <a:lnTo>
                    <a:pt x="537" y="2836"/>
                  </a:lnTo>
                  <a:lnTo>
                    <a:pt x="568" y="2863"/>
                  </a:lnTo>
                  <a:lnTo>
                    <a:pt x="599" y="2889"/>
                  </a:lnTo>
                  <a:lnTo>
                    <a:pt x="630" y="2915"/>
                  </a:lnTo>
                  <a:lnTo>
                    <a:pt x="662" y="2939"/>
                  </a:lnTo>
                  <a:lnTo>
                    <a:pt x="694" y="2962"/>
                  </a:lnTo>
                  <a:lnTo>
                    <a:pt x="727" y="2984"/>
                  </a:lnTo>
                  <a:lnTo>
                    <a:pt x="761" y="3007"/>
                  </a:lnTo>
                  <a:lnTo>
                    <a:pt x="795" y="3027"/>
                  </a:lnTo>
                  <a:lnTo>
                    <a:pt x="830" y="3047"/>
                  </a:lnTo>
                  <a:lnTo>
                    <a:pt x="864" y="3066"/>
                  </a:lnTo>
                  <a:lnTo>
                    <a:pt x="899" y="3084"/>
                  </a:lnTo>
                  <a:lnTo>
                    <a:pt x="935" y="3103"/>
                  </a:lnTo>
                  <a:lnTo>
                    <a:pt x="971" y="3119"/>
                  </a:lnTo>
                  <a:lnTo>
                    <a:pt x="1007" y="3134"/>
                  </a:lnTo>
                  <a:lnTo>
                    <a:pt x="1044" y="3149"/>
                  </a:lnTo>
                  <a:lnTo>
                    <a:pt x="1081" y="3163"/>
                  </a:lnTo>
                  <a:lnTo>
                    <a:pt x="1119" y="3175"/>
                  </a:lnTo>
                  <a:lnTo>
                    <a:pt x="1157" y="3187"/>
                  </a:lnTo>
                  <a:lnTo>
                    <a:pt x="1195" y="3198"/>
                  </a:lnTo>
                  <a:lnTo>
                    <a:pt x="1233" y="3209"/>
                  </a:lnTo>
                  <a:lnTo>
                    <a:pt x="1272" y="3218"/>
                  </a:lnTo>
                  <a:lnTo>
                    <a:pt x="1311" y="3226"/>
                  </a:lnTo>
                  <a:lnTo>
                    <a:pt x="1350" y="3234"/>
                  </a:lnTo>
                  <a:lnTo>
                    <a:pt x="1390" y="3240"/>
                  </a:lnTo>
                  <a:lnTo>
                    <a:pt x="1430" y="3245"/>
                  </a:lnTo>
                  <a:lnTo>
                    <a:pt x="1470" y="3249"/>
                  </a:lnTo>
                  <a:lnTo>
                    <a:pt x="1510" y="3253"/>
                  </a:lnTo>
                  <a:lnTo>
                    <a:pt x="1550" y="3255"/>
                  </a:lnTo>
                  <a:lnTo>
                    <a:pt x="1591" y="3257"/>
                  </a:lnTo>
                  <a:lnTo>
                    <a:pt x="1632" y="3257"/>
                  </a:lnTo>
                  <a:lnTo>
                    <a:pt x="1673" y="3257"/>
                  </a:lnTo>
                  <a:lnTo>
                    <a:pt x="1713" y="3255"/>
                  </a:lnTo>
                  <a:lnTo>
                    <a:pt x="1754" y="3253"/>
                  </a:lnTo>
                  <a:lnTo>
                    <a:pt x="1794" y="3249"/>
                  </a:lnTo>
                  <a:lnTo>
                    <a:pt x="1834" y="3245"/>
                  </a:lnTo>
                  <a:lnTo>
                    <a:pt x="1874" y="3240"/>
                  </a:lnTo>
                  <a:lnTo>
                    <a:pt x="1913" y="3234"/>
                  </a:lnTo>
                  <a:lnTo>
                    <a:pt x="1953" y="3226"/>
                  </a:lnTo>
                  <a:lnTo>
                    <a:pt x="1991" y="3218"/>
                  </a:lnTo>
                  <a:lnTo>
                    <a:pt x="2031" y="3209"/>
                  </a:lnTo>
                  <a:lnTo>
                    <a:pt x="2069" y="3198"/>
                  </a:lnTo>
                  <a:lnTo>
                    <a:pt x="2108" y="3187"/>
                  </a:lnTo>
                  <a:lnTo>
                    <a:pt x="2145" y="3175"/>
                  </a:lnTo>
                  <a:lnTo>
                    <a:pt x="2182" y="3163"/>
                  </a:lnTo>
                  <a:lnTo>
                    <a:pt x="2220" y="3149"/>
                  </a:lnTo>
                  <a:lnTo>
                    <a:pt x="2256" y="3134"/>
                  </a:lnTo>
                  <a:lnTo>
                    <a:pt x="2293" y="3119"/>
                  </a:lnTo>
                  <a:lnTo>
                    <a:pt x="2329" y="3103"/>
                  </a:lnTo>
                  <a:lnTo>
                    <a:pt x="2364" y="3084"/>
                  </a:lnTo>
                  <a:lnTo>
                    <a:pt x="2400" y="3066"/>
                  </a:lnTo>
                  <a:lnTo>
                    <a:pt x="2435" y="3047"/>
                  </a:lnTo>
                  <a:lnTo>
                    <a:pt x="2469" y="3027"/>
                  </a:lnTo>
                  <a:lnTo>
                    <a:pt x="2503" y="3007"/>
                  </a:lnTo>
                  <a:lnTo>
                    <a:pt x="2536" y="2984"/>
                  </a:lnTo>
                  <a:lnTo>
                    <a:pt x="2570" y="2962"/>
                  </a:lnTo>
                  <a:lnTo>
                    <a:pt x="2602" y="2939"/>
                  </a:lnTo>
                  <a:lnTo>
                    <a:pt x="2634" y="2914"/>
                  </a:lnTo>
                  <a:lnTo>
                    <a:pt x="2666" y="2889"/>
                  </a:lnTo>
                  <a:lnTo>
                    <a:pt x="2696" y="2863"/>
                  </a:lnTo>
                  <a:lnTo>
                    <a:pt x="2726" y="2836"/>
                  </a:lnTo>
                  <a:lnTo>
                    <a:pt x="2757" y="2809"/>
                  </a:lnTo>
                  <a:lnTo>
                    <a:pt x="2786" y="2780"/>
                  </a:lnTo>
                  <a:lnTo>
                    <a:pt x="2814" y="2751"/>
                  </a:lnTo>
                  <a:lnTo>
                    <a:pt x="2842" y="2722"/>
                  </a:lnTo>
                  <a:lnTo>
                    <a:pt x="2869" y="2692"/>
                  </a:lnTo>
                  <a:lnTo>
                    <a:pt x="2894" y="2660"/>
                  </a:lnTo>
                  <a:lnTo>
                    <a:pt x="2919" y="2629"/>
                  </a:lnTo>
                  <a:lnTo>
                    <a:pt x="2944" y="2597"/>
                  </a:lnTo>
                  <a:lnTo>
                    <a:pt x="2968" y="2564"/>
                  </a:lnTo>
                  <a:lnTo>
                    <a:pt x="2990" y="2532"/>
                  </a:lnTo>
                  <a:lnTo>
                    <a:pt x="3012" y="2499"/>
                  </a:lnTo>
                  <a:lnTo>
                    <a:pt x="3033" y="2464"/>
                  </a:lnTo>
                  <a:lnTo>
                    <a:pt x="3053" y="2430"/>
                  </a:lnTo>
                  <a:lnTo>
                    <a:pt x="3072" y="2396"/>
                  </a:lnTo>
                  <a:lnTo>
                    <a:pt x="3090" y="2360"/>
                  </a:lnTo>
                  <a:lnTo>
                    <a:pt x="3107" y="2324"/>
                  </a:lnTo>
                  <a:lnTo>
                    <a:pt x="3125" y="2289"/>
                  </a:lnTo>
                  <a:lnTo>
                    <a:pt x="3140" y="2252"/>
                  </a:lnTo>
                  <a:lnTo>
                    <a:pt x="3155" y="2215"/>
                  </a:lnTo>
                  <a:lnTo>
                    <a:pt x="3168" y="2179"/>
                  </a:lnTo>
                  <a:lnTo>
                    <a:pt x="3181" y="2140"/>
                  </a:lnTo>
                  <a:lnTo>
                    <a:pt x="3193" y="2103"/>
                  </a:lnTo>
                  <a:lnTo>
                    <a:pt x="3205" y="2065"/>
                  </a:lnTo>
                  <a:lnTo>
                    <a:pt x="3215" y="2026"/>
                  </a:lnTo>
                  <a:lnTo>
                    <a:pt x="3224" y="1988"/>
                  </a:lnTo>
                  <a:lnTo>
                    <a:pt x="3232" y="1949"/>
                  </a:lnTo>
                  <a:lnTo>
                    <a:pt x="3239" y="1909"/>
                  </a:lnTo>
                  <a:lnTo>
                    <a:pt x="3246" y="1870"/>
                  </a:lnTo>
                  <a:lnTo>
                    <a:pt x="3251" y="1830"/>
                  </a:lnTo>
                  <a:lnTo>
                    <a:pt x="3255" y="1790"/>
                  </a:lnTo>
                  <a:lnTo>
                    <a:pt x="3259" y="1750"/>
                  </a:lnTo>
                  <a:lnTo>
                    <a:pt x="3261" y="1709"/>
                  </a:lnTo>
                  <a:lnTo>
                    <a:pt x="3263" y="1669"/>
                  </a:lnTo>
                  <a:lnTo>
                    <a:pt x="3263" y="1628"/>
                  </a:lnTo>
                  <a:lnTo>
                    <a:pt x="3263" y="1554"/>
                  </a:lnTo>
                  <a:lnTo>
                    <a:pt x="3198" y="1555"/>
                  </a:lnTo>
                  <a:lnTo>
                    <a:pt x="2098" y="1555"/>
                  </a:lnTo>
                  <a:lnTo>
                    <a:pt x="2098" y="1705"/>
                  </a:lnTo>
                  <a:lnTo>
                    <a:pt x="3108" y="1705"/>
                  </a:lnTo>
                  <a:lnTo>
                    <a:pt x="3108" y="1707"/>
                  </a:lnTo>
                  <a:lnTo>
                    <a:pt x="3108" y="1709"/>
                  </a:lnTo>
                  <a:lnTo>
                    <a:pt x="3108" y="1713"/>
                  </a:lnTo>
                  <a:lnTo>
                    <a:pt x="3108" y="1716"/>
                  </a:lnTo>
                  <a:lnTo>
                    <a:pt x="3108" y="1720"/>
                  </a:lnTo>
                  <a:lnTo>
                    <a:pt x="3107" y="1723"/>
                  </a:lnTo>
                  <a:lnTo>
                    <a:pt x="3107" y="1726"/>
                  </a:lnTo>
                  <a:lnTo>
                    <a:pt x="3107" y="1728"/>
                  </a:lnTo>
                  <a:lnTo>
                    <a:pt x="3101" y="1799"/>
                  </a:lnTo>
                  <a:lnTo>
                    <a:pt x="3091" y="1870"/>
                  </a:lnTo>
                  <a:lnTo>
                    <a:pt x="3078" y="1939"/>
                  </a:lnTo>
                  <a:lnTo>
                    <a:pt x="3062" y="2008"/>
                  </a:lnTo>
                  <a:lnTo>
                    <a:pt x="3042" y="2075"/>
                  </a:lnTo>
                  <a:lnTo>
                    <a:pt x="3020" y="2140"/>
                  </a:lnTo>
                  <a:lnTo>
                    <a:pt x="2994" y="2205"/>
                  </a:lnTo>
                  <a:lnTo>
                    <a:pt x="2966" y="2268"/>
                  </a:lnTo>
                  <a:lnTo>
                    <a:pt x="2935" y="2328"/>
                  </a:lnTo>
                  <a:lnTo>
                    <a:pt x="2900" y="2388"/>
                  </a:lnTo>
                  <a:lnTo>
                    <a:pt x="2864" y="2445"/>
                  </a:lnTo>
                  <a:lnTo>
                    <a:pt x="2824" y="2501"/>
                  </a:lnTo>
                  <a:lnTo>
                    <a:pt x="2783" y="2555"/>
                  </a:lnTo>
                  <a:lnTo>
                    <a:pt x="2738" y="2607"/>
                  </a:lnTo>
                  <a:lnTo>
                    <a:pt x="2692" y="2657"/>
                  </a:lnTo>
                  <a:lnTo>
                    <a:pt x="2643" y="2705"/>
                  </a:lnTo>
                  <a:lnTo>
                    <a:pt x="2593" y="2750"/>
                  </a:lnTo>
                  <a:lnTo>
                    <a:pt x="2540" y="2794"/>
                  </a:lnTo>
                  <a:lnTo>
                    <a:pt x="2486" y="2834"/>
                  </a:lnTo>
                  <a:lnTo>
                    <a:pt x="2429" y="2872"/>
                  </a:lnTo>
                  <a:lnTo>
                    <a:pt x="2370" y="2908"/>
                  </a:lnTo>
                  <a:lnTo>
                    <a:pt x="2311" y="2940"/>
                  </a:lnTo>
                  <a:lnTo>
                    <a:pt x="2249" y="2970"/>
                  </a:lnTo>
                  <a:lnTo>
                    <a:pt x="2185" y="2998"/>
                  </a:lnTo>
                  <a:lnTo>
                    <a:pt x="2121" y="3023"/>
                  </a:lnTo>
                  <a:lnTo>
                    <a:pt x="2054" y="3044"/>
                  </a:lnTo>
                  <a:lnTo>
                    <a:pt x="1986" y="3062"/>
                  </a:lnTo>
                  <a:lnTo>
                    <a:pt x="1917" y="3077"/>
                  </a:lnTo>
                  <a:lnTo>
                    <a:pt x="1848" y="3089"/>
                  </a:lnTo>
                  <a:lnTo>
                    <a:pt x="1777" y="3098"/>
                  </a:lnTo>
                  <a:lnTo>
                    <a:pt x="1705" y="3104"/>
                  </a:lnTo>
                  <a:lnTo>
                    <a:pt x="1632" y="3106"/>
                  </a:lnTo>
                  <a:lnTo>
                    <a:pt x="1595" y="3105"/>
                  </a:lnTo>
                  <a:lnTo>
                    <a:pt x="1559" y="3104"/>
                  </a:lnTo>
                  <a:lnTo>
                    <a:pt x="1521" y="3101"/>
                  </a:lnTo>
                  <a:lnTo>
                    <a:pt x="1485" y="3098"/>
                  </a:lnTo>
                  <a:lnTo>
                    <a:pt x="1449" y="3094"/>
                  </a:lnTo>
                  <a:lnTo>
                    <a:pt x="1413" y="3089"/>
                  </a:lnTo>
                  <a:lnTo>
                    <a:pt x="1377" y="3083"/>
                  </a:lnTo>
                  <a:lnTo>
                    <a:pt x="1341" y="3077"/>
                  </a:lnTo>
                  <a:lnTo>
                    <a:pt x="1306" y="3069"/>
                  </a:lnTo>
                  <a:lnTo>
                    <a:pt x="1270" y="3061"/>
                  </a:lnTo>
                  <a:lnTo>
                    <a:pt x="1236" y="3052"/>
                  </a:lnTo>
                  <a:lnTo>
                    <a:pt x="1202" y="3042"/>
                  </a:lnTo>
                  <a:lnTo>
                    <a:pt x="1167" y="3031"/>
                  </a:lnTo>
                  <a:lnTo>
                    <a:pt x="1133" y="3020"/>
                  </a:lnTo>
                  <a:lnTo>
                    <a:pt x="1099" y="3007"/>
                  </a:lnTo>
                  <a:lnTo>
                    <a:pt x="1066" y="2993"/>
                  </a:lnTo>
                  <a:lnTo>
                    <a:pt x="1033" y="2979"/>
                  </a:lnTo>
                  <a:lnTo>
                    <a:pt x="1000" y="2964"/>
                  </a:lnTo>
                  <a:lnTo>
                    <a:pt x="968" y="2949"/>
                  </a:lnTo>
                  <a:lnTo>
                    <a:pt x="936" y="2932"/>
                  </a:lnTo>
                  <a:lnTo>
                    <a:pt x="904" y="2915"/>
                  </a:lnTo>
                  <a:lnTo>
                    <a:pt x="873" y="2897"/>
                  </a:lnTo>
                  <a:lnTo>
                    <a:pt x="842" y="2877"/>
                  </a:lnTo>
                  <a:lnTo>
                    <a:pt x="811" y="2858"/>
                  </a:lnTo>
                  <a:lnTo>
                    <a:pt x="782" y="2837"/>
                  </a:lnTo>
                  <a:lnTo>
                    <a:pt x="753" y="2816"/>
                  </a:lnTo>
                  <a:lnTo>
                    <a:pt x="723" y="2795"/>
                  </a:lnTo>
                  <a:lnTo>
                    <a:pt x="695" y="2771"/>
                  </a:lnTo>
                  <a:lnTo>
                    <a:pt x="667" y="2748"/>
                  </a:lnTo>
                  <a:lnTo>
                    <a:pt x="639" y="2724"/>
                  </a:lnTo>
                  <a:lnTo>
                    <a:pt x="612" y="2699"/>
                  </a:lnTo>
                  <a:lnTo>
                    <a:pt x="586" y="2672"/>
                  </a:lnTo>
                  <a:lnTo>
                    <a:pt x="561" y="2646"/>
                  </a:lnTo>
                  <a:lnTo>
                    <a:pt x="535" y="2619"/>
                  </a:lnTo>
                  <a:lnTo>
                    <a:pt x="511" y="2592"/>
                  </a:lnTo>
                  <a:lnTo>
                    <a:pt x="488" y="2563"/>
                  </a:lnTo>
                  <a:lnTo>
                    <a:pt x="465" y="2535"/>
                  </a:lnTo>
                  <a:lnTo>
                    <a:pt x="442" y="2507"/>
                  </a:lnTo>
                  <a:lnTo>
                    <a:pt x="421" y="2478"/>
                  </a:lnTo>
                  <a:lnTo>
                    <a:pt x="401" y="2447"/>
                  </a:lnTo>
                  <a:lnTo>
                    <a:pt x="381" y="2417"/>
                  </a:lnTo>
                  <a:lnTo>
                    <a:pt x="361" y="2387"/>
                  </a:lnTo>
                  <a:lnTo>
                    <a:pt x="343" y="2355"/>
                  </a:lnTo>
                  <a:lnTo>
                    <a:pt x="326" y="2324"/>
                  </a:lnTo>
                  <a:lnTo>
                    <a:pt x="310" y="2292"/>
                  </a:lnTo>
                  <a:lnTo>
                    <a:pt x="294" y="2259"/>
                  </a:lnTo>
                  <a:lnTo>
                    <a:pt x="279" y="2227"/>
                  </a:lnTo>
                  <a:lnTo>
                    <a:pt x="264" y="2194"/>
                  </a:lnTo>
                  <a:lnTo>
                    <a:pt x="251" y="2161"/>
                  </a:lnTo>
                  <a:lnTo>
                    <a:pt x="239" y="2127"/>
                  </a:lnTo>
                  <a:lnTo>
                    <a:pt x="227" y="2093"/>
                  </a:lnTo>
                  <a:lnTo>
                    <a:pt x="217" y="2059"/>
                  </a:lnTo>
                  <a:lnTo>
                    <a:pt x="207" y="2024"/>
                  </a:lnTo>
                  <a:lnTo>
                    <a:pt x="198" y="1989"/>
                  </a:lnTo>
                  <a:lnTo>
                    <a:pt x="189" y="1955"/>
                  </a:lnTo>
                  <a:lnTo>
                    <a:pt x="181" y="1918"/>
                  </a:lnTo>
                  <a:lnTo>
                    <a:pt x="174" y="1883"/>
                  </a:lnTo>
                  <a:lnTo>
                    <a:pt x="169" y="1848"/>
                  </a:lnTo>
                  <a:lnTo>
                    <a:pt x="164" y="1811"/>
                  </a:lnTo>
                  <a:lnTo>
                    <a:pt x="160" y="1775"/>
                  </a:lnTo>
                  <a:lnTo>
                    <a:pt x="157" y="1739"/>
                  </a:lnTo>
                  <a:lnTo>
                    <a:pt x="155" y="1702"/>
                  </a:lnTo>
                  <a:lnTo>
                    <a:pt x="153" y="1665"/>
                  </a:lnTo>
                  <a:lnTo>
                    <a:pt x="153" y="1628"/>
                  </a:lnTo>
                  <a:lnTo>
                    <a:pt x="153" y="1591"/>
                  </a:lnTo>
                  <a:lnTo>
                    <a:pt x="155" y="1555"/>
                  </a:lnTo>
                  <a:lnTo>
                    <a:pt x="157" y="1518"/>
                  </a:lnTo>
                  <a:lnTo>
                    <a:pt x="160" y="1482"/>
                  </a:lnTo>
                  <a:lnTo>
                    <a:pt x="164" y="1446"/>
                  </a:lnTo>
                  <a:lnTo>
                    <a:pt x="169" y="1409"/>
                  </a:lnTo>
                  <a:lnTo>
                    <a:pt x="174" y="1374"/>
                  </a:lnTo>
                  <a:lnTo>
                    <a:pt x="181" y="1338"/>
                  </a:lnTo>
                  <a:lnTo>
                    <a:pt x="189" y="1302"/>
                  </a:lnTo>
                  <a:lnTo>
                    <a:pt x="198" y="1268"/>
                  </a:lnTo>
                  <a:lnTo>
                    <a:pt x="207" y="1233"/>
                  </a:lnTo>
                  <a:lnTo>
                    <a:pt x="217" y="1198"/>
                  </a:lnTo>
                  <a:lnTo>
                    <a:pt x="227" y="1164"/>
                  </a:lnTo>
                  <a:lnTo>
                    <a:pt x="239" y="1130"/>
                  </a:lnTo>
                  <a:lnTo>
                    <a:pt x="251" y="1096"/>
                  </a:lnTo>
                  <a:lnTo>
                    <a:pt x="264" y="1063"/>
                  </a:lnTo>
                  <a:lnTo>
                    <a:pt x="279" y="1030"/>
                  </a:lnTo>
                  <a:lnTo>
                    <a:pt x="294" y="997"/>
                  </a:lnTo>
                  <a:lnTo>
                    <a:pt x="310" y="965"/>
                  </a:lnTo>
                  <a:lnTo>
                    <a:pt x="326" y="933"/>
                  </a:lnTo>
                  <a:lnTo>
                    <a:pt x="343" y="902"/>
                  </a:lnTo>
                  <a:lnTo>
                    <a:pt x="361" y="870"/>
                  </a:lnTo>
                  <a:lnTo>
                    <a:pt x="381" y="840"/>
                  </a:lnTo>
                  <a:lnTo>
                    <a:pt x="401" y="810"/>
                  </a:lnTo>
                  <a:lnTo>
                    <a:pt x="421" y="779"/>
                  </a:lnTo>
                  <a:lnTo>
                    <a:pt x="442" y="750"/>
                  </a:lnTo>
                  <a:lnTo>
                    <a:pt x="465" y="722"/>
                  </a:lnTo>
                  <a:lnTo>
                    <a:pt x="488" y="693"/>
                  </a:lnTo>
                  <a:lnTo>
                    <a:pt x="511" y="665"/>
                  </a:lnTo>
                  <a:lnTo>
                    <a:pt x="535" y="638"/>
                  </a:lnTo>
                  <a:lnTo>
                    <a:pt x="561" y="611"/>
                  </a:lnTo>
                  <a:lnTo>
                    <a:pt x="586" y="585"/>
                  </a:lnTo>
                  <a:lnTo>
                    <a:pt x="612" y="558"/>
                  </a:lnTo>
                  <a:lnTo>
                    <a:pt x="639" y="533"/>
                  </a:lnTo>
                  <a:lnTo>
                    <a:pt x="667" y="509"/>
                  </a:lnTo>
                  <a:lnTo>
                    <a:pt x="695" y="486"/>
                  </a:lnTo>
                  <a:lnTo>
                    <a:pt x="723" y="462"/>
                  </a:lnTo>
                  <a:lnTo>
                    <a:pt x="753" y="441"/>
                  </a:lnTo>
                  <a:lnTo>
                    <a:pt x="782" y="420"/>
                  </a:lnTo>
                  <a:lnTo>
                    <a:pt x="811" y="399"/>
                  </a:lnTo>
                  <a:lnTo>
                    <a:pt x="842" y="380"/>
                  </a:lnTo>
                  <a:lnTo>
                    <a:pt x="873" y="360"/>
                  </a:lnTo>
                  <a:lnTo>
                    <a:pt x="904" y="342"/>
                  </a:lnTo>
                  <a:lnTo>
                    <a:pt x="936" y="325"/>
                  </a:lnTo>
                  <a:lnTo>
                    <a:pt x="968" y="308"/>
                  </a:lnTo>
                  <a:lnTo>
                    <a:pt x="1000" y="293"/>
                  </a:lnTo>
                  <a:lnTo>
                    <a:pt x="1033" y="278"/>
                  </a:lnTo>
                  <a:lnTo>
                    <a:pt x="1066" y="264"/>
                  </a:lnTo>
                  <a:lnTo>
                    <a:pt x="1099" y="250"/>
                  </a:lnTo>
                  <a:lnTo>
                    <a:pt x="1133" y="237"/>
                  </a:lnTo>
                  <a:lnTo>
                    <a:pt x="1167" y="226"/>
                  </a:lnTo>
                  <a:lnTo>
                    <a:pt x="1202" y="215"/>
                  </a:lnTo>
                  <a:lnTo>
                    <a:pt x="1236" y="205"/>
                  </a:lnTo>
                  <a:lnTo>
                    <a:pt x="1270" y="196"/>
                  </a:lnTo>
                  <a:lnTo>
                    <a:pt x="1306" y="188"/>
                  </a:lnTo>
                  <a:lnTo>
                    <a:pt x="1341" y="180"/>
                  </a:lnTo>
                  <a:lnTo>
                    <a:pt x="1377" y="174"/>
                  </a:lnTo>
                  <a:lnTo>
                    <a:pt x="1413" y="168"/>
                  </a:lnTo>
                  <a:lnTo>
                    <a:pt x="1449" y="163"/>
                  </a:lnTo>
                  <a:lnTo>
                    <a:pt x="1485" y="159"/>
                  </a:lnTo>
                  <a:lnTo>
                    <a:pt x="1521" y="155"/>
                  </a:lnTo>
                  <a:lnTo>
                    <a:pt x="1559" y="153"/>
                  </a:lnTo>
                  <a:lnTo>
                    <a:pt x="1595" y="152"/>
                  </a:lnTo>
                  <a:lnTo>
                    <a:pt x="1632" y="151"/>
                  </a:lnTo>
                  <a:lnTo>
                    <a:pt x="1639" y="151"/>
                  </a:lnTo>
                  <a:lnTo>
                    <a:pt x="1649" y="151"/>
                  </a:lnTo>
                  <a:lnTo>
                    <a:pt x="1660" y="151"/>
                  </a:lnTo>
                  <a:lnTo>
                    <a:pt x="1671" y="152"/>
                  </a:lnTo>
                  <a:lnTo>
                    <a:pt x="1682" y="152"/>
                  </a:lnTo>
                  <a:lnTo>
                    <a:pt x="1692" y="152"/>
                  </a:lnTo>
                  <a:lnTo>
                    <a:pt x="1702" y="152"/>
                  </a:lnTo>
                  <a:lnTo>
                    <a:pt x="1710" y="152"/>
                  </a:lnTo>
                  <a:lnTo>
                    <a:pt x="17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9" name=""/>
          <p:cNvGrpSpPr/>
          <p:nvPr/>
        </p:nvGrpSpPr>
        <p:grpSpPr>
          <a:xfrm>
            <a:off x="6983280" y="3951360"/>
            <a:ext cx="114480" cy="112680"/>
            <a:chOff x="6983280" y="3951360"/>
            <a:chExt cx="114480" cy="112680"/>
          </a:xfrm>
        </p:grpSpPr>
        <p:sp>
          <p:nvSpPr>
            <p:cNvPr id="4270" name="Freeform 440"/>
            <p:cNvSpPr/>
            <p:nvPr/>
          </p:nvSpPr>
          <p:spPr>
            <a:xfrm>
              <a:off x="6983280" y="3951360"/>
              <a:ext cx="114480" cy="112680"/>
            </a:xfrm>
            <a:custGeom>
              <a:avLst/>
              <a:gdLst>
                <a:gd name="textAreaLeft" fmla="*/ 0 w 114480"/>
                <a:gd name="textAreaRight" fmla="*/ 114840 w 114480"/>
                <a:gd name="textAreaTop" fmla="*/ 0 h 112680"/>
                <a:gd name="textAreaBottom" fmla="*/ 113040 h 112680"/>
              </a:gdLst>
              <a:ahLst/>
              <a:rect l="textAreaLeft" t="textAreaTop" r="textAreaRight" b="textAreaBottom"/>
              <a:pathLst>
                <a:path w="3898" h="3892">
                  <a:moveTo>
                    <a:pt x="1949" y="3892"/>
                  </a:moveTo>
                  <a:lnTo>
                    <a:pt x="2049" y="3890"/>
                  </a:lnTo>
                  <a:lnTo>
                    <a:pt x="2149" y="3882"/>
                  </a:lnTo>
                  <a:lnTo>
                    <a:pt x="2246" y="3870"/>
                  </a:lnTo>
                  <a:lnTo>
                    <a:pt x="2342" y="3853"/>
                  </a:lnTo>
                  <a:lnTo>
                    <a:pt x="2436" y="3830"/>
                  </a:lnTo>
                  <a:lnTo>
                    <a:pt x="2529" y="3804"/>
                  </a:lnTo>
                  <a:lnTo>
                    <a:pt x="2619" y="3774"/>
                  </a:lnTo>
                  <a:lnTo>
                    <a:pt x="2708" y="3740"/>
                  </a:lnTo>
                  <a:lnTo>
                    <a:pt x="2794" y="3700"/>
                  </a:lnTo>
                  <a:lnTo>
                    <a:pt x="2877" y="3657"/>
                  </a:lnTo>
                  <a:lnTo>
                    <a:pt x="2959" y="3610"/>
                  </a:lnTo>
                  <a:lnTo>
                    <a:pt x="3038" y="3560"/>
                  </a:lnTo>
                  <a:lnTo>
                    <a:pt x="3115" y="3505"/>
                  </a:lnTo>
                  <a:lnTo>
                    <a:pt x="3189" y="3448"/>
                  </a:lnTo>
                  <a:lnTo>
                    <a:pt x="3260" y="3386"/>
                  </a:lnTo>
                  <a:lnTo>
                    <a:pt x="3327" y="3322"/>
                  </a:lnTo>
                  <a:lnTo>
                    <a:pt x="3391" y="3255"/>
                  </a:lnTo>
                  <a:lnTo>
                    <a:pt x="3453" y="3184"/>
                  </a:lnTo>
                  <a:lnTo>
                    <a:pt x="3510" y="3111"/>
                  </a:lnTo>
                  <a:lnTo>
                    <a:pt x="3565" y="3034"/>
                  </a:lnTo>
                  <a:lnTo>
                    <a:pt x="3616" y="2955"/>
                  </a:lnTo>
                  <a:lnTo>
                    <a:pt x="3663" y="2873"/>
                  </a:lnTo>
                  <a:lnTo>
                    <a:pt x="3706" y="2790"/>
                  </a:lnTo>
                  <a:lnTo>
                    <a:pt x="3745" y="2704"/>
                  </a:lnTo>
                  <a:lnTo>
                    <a:pt x="3779" y="2615"/>
                  </a:lnTo>
                  <a:lnTo>
                    <a:pt x="3811" y="2525"/>
                  </a:lnTo>
                  <a:lnTo>
                    <a:pt x="3837" y="2432"/>
                  </a:lnTo>
                  <a:lnTo>
                    <a:pt x="3858" y="2338"/>
                  </a:lnTo>
                  <a:lnTo>
                    <a:pt x="3875" y="2242"/>
                  </a:lnTo>
                  <a:lnTo>
                    <a:pt x="3888" y="2145"/>
                  </a:lnTo>
                  <a:lnTo>
                    <a:pt x="3896" y="2046"/>
                  </a:lnTo>
                  <a:lnTo>
                    <a:pt x="3898" y="1947"/>
                  </a:lnTo>
                  <a:lnTo>
                    <a:pt x="3896" y="1846"/>
                  </a:lnTo>
                  <a:lnTo>
                    <a:pt x="3888" y="1748"/>
                  </a:lnTo>
                  <a:lnTo>
                    <a:pt x="3875" y="1650"/>
                  </a:lnTo>
                  <a:lnTo>
                    <a:pt x="3858" y="1554"/>
                  </a:lnTo>
                  <a:lnTo>
                    <a:pt x="3837" y="1460"/>
                  </a:lnTo>
                  <a:lnTo>
                    <a:pt x="3811" y="1367"/>
                  </a:lnTo>
                  <a:lnTo>
                    <a:pt x="3779" y="1277"/>
                  </a:lnTo>
                  <a:lnTo>
                    <a:pt x="3745" y="1188"/>
                  </a:lnTo>
                  <a:lnTo>
                    <a:pt x="3706" y="1102"/>
                  </a:lnTo>
                  <a:lnTo>
                    <a:pt x="3663" y="1019"/>
                  </a:lnTo>
                  <a:lnTo>
                    <a:pt x="3616" y="937"/>
                  </a:lnTo>
                  <a:lnTo>
                    <a:pt x="3565" y="858"/>
                  </a:lnTo>
                  <a:lnTo>
                    <a:pt x="3510" y="781"/>
                  </a:lnTo>
                  <a:lnTo>
                    <a:pt x="3453" y="709"/>
                  </a:lnTo>
                  <a:lnTo>
                    <a:pt x="3391" y="638"/>
                  </a:lnTo>
                  <a:lnTo>
                    <a:pt x="3327" y="570"/>
                  </a:lnTo>
                  <a:lnTo>
                    <a:pt x="3260" y="506"/>
                  </a:lnTo>
                  <a:lnTo>
                    <a:pt x="3189" y="444"/>
                  </a:lnTo>
                  <a:lnTo>
                    <a:pt x="3115" y="387"/>
                  </a:lnTo>
                  <a:lnTo>
                    <a:pt x="3038" y="332"/>
                  </a:lnTo>
                  <a:lnTo>
                    <a:pt x="2959" y="282"/>
                  </a:lnTo>
                  <a:lnTo>
                    <a:pt x="2877" y="235"/>
                  </a:lnTo>
                  <a:lnTo>
                    <a:pt x="2794" y="192"/>
                  </a:lnTo>
                  <a:lnTo>
                    <a:pt x="2708" y="153"/>
                  </a:lnTo>
                  <a:lnTo>
                    <a:pt x="2619" y="118"/>
                  </a:lnTo>
                  <a:lnTo>
                    <a:pt x="2529" y="88"/>
                  </a:lnTo>
                  <a:lnTo>
                    <a:pt x="2436" y="62"/>
                  </a:lnTo>
                  <a:lnTo>
                    <a:pt x="2342" y="39"/>
                  </a:lnTo>
                  <a:lnTo>
                    <a:pt x="2246" y="22"/>
                  </a:lnTo>
                  <a:lnTo>
                    <a:pt x="2149" y="10"/>
                  </a:lnTo>
                  <a:lnTo>
                    <a:pt x="2049" y="3"/>
                  </a:lnTo>
                  <a:lnTo>
                    <a:pt x="1949" y="0"/>
                  </a:lnTo>
                  <a:lnTo>
                    <a:pt x="1848" y="3"/>
                  </a:lnTo>
                  <a:lnTo>
                    <a:pt x="1750" y="10"/>
                  </a:lnTo>
                  <a:lnTo>
                    <a:pt x="1652" y="22"/>
                  </a:lnTo>
                  <a:lnTo>
                    <a:pt x="1556" y="39"/>
                  </a:lnTo>
                  <a:lnTo>
                    <a:pt x="1462" y="62"/>
                  </a:lnTo>
                  <a:lnTo>
                    <a:pt x="1369" y="88"/>
                  </a:lnTo>
                  <a:lnTo>
                    <a:pt x="1279" y="118"/>
                  </a:lnTo>
                  <a:lnTo>
                    <a:pt x="1190" y="153"/>
                  </a:lnTo>
                  <a:lnTo>
                    <a:pt x="1104" y="192"/>
                  </a:lnTo>
                  <a:lnTo>
                    <a:pt x="1020" y="235"/>
                  </a:lnTo>
                  <a:lnTo>
                    <a:pt x="938" y="282"/>
                  </a:lnTo>
                  <a:lnTo>
                    <a:pt x="859" y="332"/>
                  </a:lnTo>
                  <a:lnTo>
                    <a:pt x="783" y="387"/>
                  </a:lnTo>
                  <a:lnTo>
                    <a:pt x="709" y="444"/>
                  </a:lnTo>
                  <a:lnTo>
                    <a:pt x="639" y="506"/>
                  </a:lnTo>
                  <a:lnTo>
                    <a:pt x="571" y="570"/>
                  </a:lnTo>
                  <a:lnTo>
                    <a:pt x="507" y="638"/>
                  </a:lnTo>
                  <a:lnTo>
                    <a:pt x="445" y="709"/>
                  </a:lnTo>
                  <a:lnTo>
                    <a:pt x="387" y="781"/>
                  </a:lnTo>
                  <a:lnTo>
                    <a:pt x="333" y="858"/>
                  </a:lnTo>
                  <a:lnTo>
                    <a:pt x="282" y="937"/>
                  </a:lnTo>
                  <a:lnTo>
                    <a:pt x="236" y="1019"/>
                  </a:lnTo>
                  <a:lnTo>
                    <a:pt x="192" y="1102"/>
                  </a:lnTo>
                  <a:lnTo>
                    <a:pt x="153" y="1188"/>
                  </a:lnTo>
                  <a:lnTo>
                    <a:pt x="118" y="1277"/>
                  </a:lnTo>
                  <a:lnTo>
                    <a:pt x="88" y="1367"/>
                  </a:lnTo>
                  <a:lnTo>
                    <a:pt x="62" y="1460"/>
                  </a:lnTo>
                  <a:lnTo>
                    <a:pt x="39" y="1554"/>
                  </a:lnTo>
                  <a:lnTo>
                    <a:pt x="22" y="1650"/>
                  </a:lnTo>
                  <a:lnTo>
                    <a:pt x="10" y="1748"/>
                  </a:lnTo>
                  <a:lnTo>
                    <a:pt x="2" y="1846"/>
                  </a:lnTo>
                  <a:lnTo>
                    <a:pt x="0" y="1947"/>
                  </a:lnTo>
                  <a:lnTo>
                    <a:pt x="2" y="2046"/>
                  </a:lnTo>
                  <a:lnTo>
                    <a:pt x="10" y="2145"/>
                  </a:lnTo>
                  <a:lnTo>
                    <a:pt x="22" y="2242"/>
                  </a:lnTo>
                  <a:lnTo>
                    <a:pt x="39" y="2338"/>
                  </a:lnTo>
                  <a:lnTo>
                    <a:pt x="62" y="2432"/>
                  </a:lnTo>
                  <a:lnTo>
                    <a:pt x="88" y="2525"/>
                  </a:lnTo>
                  <a:lnTo>
                    <a:pt x="118" y="2615"/>
                  </a:lnTo>
                  <a:lnTo>
                    <a:pt x="153" y="2704"/>
                  </a:lnTo>
                  <a:lnTo>
                    <a:pt x="192" y="2790"/>
                  </a:lnTo>
                  <a:lnTo>
                    <a:pt x="236" y="2873"/>
                  </a:lnTo>
                  <a:lnTo>
                    <a:pt x="282" y="2955"/>
                  </a:lnTo>
                  <a:lnTo>
                    <a:pt x="333" y="3034"/>
                  </a:lnTo>
                  <a:lnTo>
                    <a:pt x="387" y="3111"/>
                  </a:lnTo>
                  <a:lnTo>
                    <a:pt x="445" y="3184"/>
                  </a:lnTo>
                  <a:lnTo>
                    <a:pt x="507" y="3255"/>
                  </a:lnTo>
                  <a:lnTo>
                    <a:pt x="571" y="3322"/>
                  </a:lnTo>
                  <a:lnTo>
                    <a:pt x="639" y="3386"/>
                  </a:lnTo>
                  <a:lnTo>
                    <a:pt x="709" y="3448"/>
                  </a:lnTo>
                  <a:lnTo>
                    <a:pt x="783" y="3505"/>
                  </a:lnTo>
                  <a:lnTo>
                    <a:pt x="859" y="3560"/>
                  </a:lnTo>
                  <a:lnTo>
                    <a:pt x="938" y="3610"/>
                  </a:lnTo>
                  <a:lnTo>
                    <a:pt x="1020" y="3657"/>
                  </a:lnTo>
                  <a:lnTo>
                    <a:pt x="1104" y="3700"/>
                  </a:lnTo>
                  <a:lnTo>
                    <a:pt x="1190" y="3740"/>
                  </a:lnTo>
                  <a:lnTo>
                    <a:pt x="1279" y="3774"/>
                  </a:lnTo>
                  <a:lnTo>
                    <a:pt x="1369" y="3804"/>
                  </a:lnTo>
                  <a:lnTo>
                    <a:pt x="1462" y="3830"/>
                  </a:lnTo>
                  <a:lnTo>
                    <a:pt x="1556" y="3853"/>
                  </a:lnTo>
                  <a:lnTo>
                    <a:pt x="1652" y="3870"/>
                  </a:lnTo>
                  <a:lnTo>
                    <a:pt x="1750" y="3882"/>
                  </a:lnTo>
                  <a:lnTo>
                    <a:pt x="1848" y="3890"/>
                  </a:lnTo>
                  <a:lnTo>
                    <a:pt x="1949" y="3892"/>
                  </a:lnTo>
                  <a:close/>
                </a:path>
              </a:pathLst>
            </a:custGeom>
            <a:solidFill>
              <a:srgbClr val="b223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1" name="Freeform 441"/>
            <p:cNvSpPr/>
            <p:nvPr/>
          </p:nvSpPr>
          <p:spPr>
            <a:xfrm>
              <a:off x="7038000" y="3982320"/>
              <a:ext cx="16200" cy="50400"/>
            </a:xfrm>
            <a:custGeom>
              <a:avLst/>
              <a:gdLst>
                <a:gd name="textAreaLeft" fmla="*/ 0 w 16200"/>
                <a:gd name="textAreaRight" fmla="*/ 16560 w 16200"/>
                <a:gd name="textAreaTop" fmla="*/ 0 h 50400"/>
                <a:gd name="textAreaBottom" fmla="*/ 50760 h 50400"/>
              </a:gdLst>
              <a:ahLst/>
              <a:rect l="textAreaLeft" t="textAreaTop" r="textAreaRight" b="textAreaBottom"/>
              <a:pathLst>
                <a:path w="543" h="1706">
                  <a:moveTo>
                    <a:pt x="0" y="0"/>
                  </a:moveTo>
                  <a:lnTo>
                    <a:pt x="0" y="1706"/>
                  </a:lnTo>
                  <a:lnTo>
                    <a:pt x="543" y="1706"/>
                  </a:lnTo>
                  <a:lnTo>
                    <a:pt x="543" y="1553"/>
                  </a:lnTo>
                  <a:lnTo>
                    <a:pt x="156" y="1553"/>
                  </a:lnTo>
                  <a:lnTo>
                    <a:pt x="15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2" name="Freeform 442"/>
            <p:cNvSpPr/>
            <p:nvPr/>
          </p:nvSpPr>
          <p:spPr>
            <a:xfrm>
              <a:off x="7014960" y="3982320"/>
              <a:ext cx="14040" cy="13680"/>
            </a:xfrm>
            <a:custGeom>
              <a:avLst/>
              <a:gdLst>
                <a:gd name="textAreaLeft" fmla="*/ 0 w 14040"/>
                <a:gd name="textAreaRight" fmla="*/ 14400 w 14040"/>
                <a:gd name="textAreaTop" fmla="*/ 0 h 13680"/>
                <a:gd name="textAreaBottom" fmla="*/ 14040 h 13680"/>
              </a:gdLst>
              <a:ahLst/>
              <a:rect l="textAreaLeft" t="textAreaTop" r="textAreaRight" b="textAreaBottom"/>
              <a:pathLst>
                <a:path w="467" h="467">
                  <a:moveTo>
                    <a:pt x="234" y="467"/>
                  </a:moveTo>
                  <a:lnTo>
                    <a:pt x="246" y="466"/>
                  </a:lnTo>
                  <a:lnTo>
                    <a:pt x="258" y="465"/>
                  </a:lnTo>
                  <a:lnTo>
                    <a:pt x="269" y="464"/>
                  </a:lnTo>
                  <a:lnTo>
                    <a:pt x="281" y="462"/>
                  </a:lnTo>
                  <a:lnTo>
                    <a:pt x="292" y="459"/>
                  </a:lnTo>
                  <a:lnTo>
                    <a:pt x="303" y="456"/>
                  </a:lnTo>
                  <a:lnTo>
                    <a:pt x="314" y="453"/>
                  </a:lnTo>
                  <a:lnTo>
                    <a:pt x="325" y="448"/>
                  </a:lnTo>
                  <a:lnTo>
                    <a:pt x="335" y="444"/>
                  </a:lnTo>
                  <a:lnTo>
                    <a:pt x="345" y="439"/>
                  </a:lnTo>
                  <a:lnTo>
                    <a:pt x="355" y="432"/>
                  </a:lnTo>
                  <a:lnTo>
                    <a:pt x="364" y="426"/>
                  </a:lnTo>
                  <a:lnTo>
                    <a:pt x="373" y="420"/>
                  </a:lnTo>
                  <a:lnTo>
                    <a:pt x="382" y="413"/>
                  </a:lnTo>
                  <a:lnTo>
                    <a:pt x="390" y="406"/>
                  </a:lnTo>
                  <a:lnTo>
                    <a:pt x="399" y="398"/>
                  </a:lnTo>
                  <a:lnTo>
                    <a:pt x="406" y="390"/>
                  </a:lnTo>
                  <a:lnTo>
                    <a:pt x="413" y="382"/>
                  </a:lnTo>
                  <a:lnTo>
                    <a:pt x="421" y="373"/>
                  </a:lnTo>
                  <a:lnTo>
                    <a:pt x="428" y="364"/>
                  </a:lnTo>
                  <a:lnTo>
                    <a:pt x="434" y="354"/>
                  </a:lnTo>
                  <a:lnTo>
                    <a:pt x="439" y="345"/>
                  </a:lnTo>
                  <a:lnTo>
                    <a:pt x="444" y="335"/>
                  </a:lnTo>
                  <a:lnTo>
                    <a:pt x="449" y="324"/>
                  </a:lnTo>
                  <a:lnTo>
                    <a:pt x="453" y="313"/>
                  </a:lnTo>
                  <a:lnTo>
                    <a:pt x="457" y="302"/>
                  </a:lnTo>
                  <a:lnTo>
                    <a:pt x="460" y="291"/>
                  </a:lnTo>
                  <a:lnTo>
                    <a:pt x="463" y="280"/>
                  </a:lnTo>
                  <a:lnTo>
                    <a:pt x="465" y="269"/>
                  </a:lnTo>
                  <a:lnTo>
                    <a:pt x="466" y="257"/>
                  </a:lnTo>
                  <a:lnTo>
                    <a:pt x="467" y="246"/>
                  </a:lnTo>
                  <a:lnTo>
                    <a:pt x="467" y="234"/>
                  </a:lnTo>
                  <a:lnTo>
                    <a:pt x="467" y="221"/>
                  </a:lnTo>
                  <a:lnTo>
                    <a:pt x="466" y="209"/>
                  </a:lnTo>
                  <a:lnTo>
                    <a:pt x="465" y="198"/>
                  </a:lnTo>
                  <a:lnTo>
                    <a:pt x="463" y="186"/>
                  </a:lnTo>
                  <a:lnTo>
                    <a:pt x="460" y="175"/>
                  </a:lnTo>
                  <a:lnTo>
                    <a:pt x="457" y="164"/>
                  </a:lnTo>
                  <a:lnTo>
                    <a:pt x="453" y="153"/>
                  </a:lnTo>
                  <a:lnTo>
                    <a:pt x="449" y="143"/>
                  </a:lnTo>
                  <a:lnTo>
                    <a:pt x="444" y="133"/>
                  </a:lnTo>
                  <a:lnTo>
                    <a:pt x="439" y="123"/>
                  </a:lnTo>
                  <a:lnTo>
                    <a:pt x="434" y="112"/>
                  </a:lnTo>
                  <a:lnTo>
                    <a:pt x="428" y="103"/>
                  </a:lnTo>
                  <a:lnTo>
                    <a:pt x="421" y="94"/>
                  </a:lnTo>
                  <a:lnTo>
                    <a:pt x="413" y="85"/>
                  </a:lnTo>
                  <a:lnTo>
                    <a:pt x="406" y="76"/>
                  </a:lnTo>
                  <a:lnTo>
                    <a:pt x="399" y="68"/>
                  </a:lnTo>
                  <a:lnTo>
                    <a:pt x="390" y="61"/>
                  </a:lnTo>
                  <a:lnTo>
                    <a:pt x="382" y="54"/>
                  </a:lnTo>
                  <a:lnTo>
                    <a:pt x="373" y="47"/>
                  </a:lnTo>
                  <a:lnTo>
                    <a:pt x="364" y="40"/>
                  </a:lnTo>
                  <a:lnTo>
                    <a:pt x="355" y="34"/>
                  </a:lnTo>
                  <a:lnTo>
                    <a:pt x="345" y="29"/>
                  </a:lnTo>
                  <a:lnTo>
                    <a:pt x="335" y="24"/>
                  </a:lnTo>
                  <a:lnTo>
                    <a:pt x="325" y="19"/>
                  </a:lnTo>
                  <a:lnTo>
                    <a:pt x="314" y="15"/>
                  </a:lnTo>
                  <a:lnTo>
                    <a:pt x="303" y="10"/>
                  </a:lnTo>
                  <a:lnTo>
                    <a:pt x="292" y="7"/>
                  </a:lnTo>
                  <a:lnTo>
                    <a:pt x="281" y="4"/>
                  </a:lnTo>
                  <a:lnTo>
                    <a:pt x="269" y="2"/>
                  </a:lnTo>
                  <a:lnTo>
                    <a:pt x="258" y="1"/>
                  </a:lnTo>
                  <a:lnTo>
                    <a:pt x="246" y="0"/>
                  </a:lnTo>
                  <a:lnTo>
                    <a:pt x="234" y="0"/>
                  </a:lnTo>
                  <a:lnTo>
                    <a:pt x="221" y="0"/>
                  </a:lnTo>
                  <a:lnTo>
                    <a:pt x="210" y="1"/>
                  </a:lnTo>
                  <a:lnTo>
                    <a:pt x="198" y="2"/>
                  </a:lnTo>
                  <a:lnTo>
                    <a:pt x="187" y="4"/>
                  </a:lnTo>
                  <a:lnTo>
                    <a:pt x="176" y="7"/>
                  </a:lnTo>
                  <a:lnTo>
                    <a:pt x="165" y="10"/>
                  </a:lnTo>
                  <a:lnTo>
                    <a:pt x="154" y="15"/>
                  </a:lnTo>
                  <a:lnTo>
                    <a:pt x="143" y="19"/>
                  </a:lnTo>
                  <a:lnTo>
                    <a:pt x="132" y="24"/>
                  </a:lnTo>
                  <a:lnTo>
                    <a:pt x="122" y="29"/>
                  </a:lnTo>
                  <a:lnTo>
                    <a:pt x="112" y="34"/>
                  </a:lnTo>
                  <a:lnTo>
                    <a:pt x="103" y="40"/>
                  </a:lnTo>
                  <a:lnTo>
                    <a:pt x="94" y="47"/>
                  </a:lnTo>
                  <a:lnTo>
                    <a:pt x="85" y="54"/>
                  </a:lnTo>
                  <a:lnTo>
                    <a:pt x="77" y="61"/>
                  </a:lnTo>
                  <a:lnTo>
                    <a:pt x="69" y="68"/>
                  </a:lnTo>
                  <a:lnTo>
                    <a:pt x="61" y="76"/>
                  </a:lnTo>
                  <a:lnTo>
                    <a:pt x="54" y="85"/>
                  </a:lnTo>
                  <a:lnTo>
                    <a:pt x="46" y="94"/>
                  </a:lnTo>
                  <a:lnTo>
                    <a:pt x="40" y="103"/>
                  </a:lnTo>
                  <a:lnTo>
                    <a:pt x="34" y="112"/>
                  </a:lnTo>
                  <a:lnTo>
                    <a:pt x="28" y="123"/>
                  </a:lnTo>
                  <a:lnTo>
                    <a:pt x="23" y="133"/>
                  </a:lnTo>
                  <a:lnTo>
                    <a:pt x="18" y="143"/>
                  </a:lnTo>
                  <a:lnTo>
                    <a:pt x="14" y="153"/>
                  </a:lnTo>
                  <a:lnTo>
                    <a:pt x="11" y="164"/>
                  </a:lnTo>
                  <a:lnTo>
                    <a:pt x="8" y="175"/>
                  </a:lnTo>
                  <a:lnTo>
                    <a:pt x="5" y="186"/>
                  </a:lnTo>
                  <a:lnTo>
                    <a:pt x="3" y="198"/>
                  </a:lnTo>
                  <a:lnTo>
                    <a:pt x="2" y="209"/>
                  </a:lnTo>
                  <a:lnTo>
                    <a:pt x="1" y="221"/>
                  </a:lnTo>
                  <a:lnTo>
                    <a:pt x="0" y="234"/>
                  </a:lnTo>
                  <a:lnTo>
                    <a:pt x="1" y="246"/>
                  </a:lnTo>
                  <a:lnTo>
                    <a:pt x="2" y="257"/>
                  </a:lnTo>
                  <a:lnTo>
                    <a:pt x="3" y="269"/>
                  </a:lnTo>
                  <a:lnTo>
                    <a:pt x="5" y="280"/>
                  </a:lnTo>
                  <a:lnTo>
                    <a:pt x="8" y="291"/>
                  </a:lnTo>
                  <a:lnTo>
                    <a:pt x="11" y="302"/>
                  </a:lnTo>
                  <a:lnTo>
                    <a:pt x="14" y="313"/>
                  </a:lnTo>
                  <a:lnTo>
                    <a:pt x="18" y="324"/>
                  </a:lnTo>
                  <a:lnTo>
                    <a:pt x="23" y="335"/>
                  </a:lnTo>
                  <a:lnTo>
                    <a:pt x="28" y="345"/>
                  </a:lnTo>
                  <a:lnTo>
                    <a:pt x="34" y="354"/>
                  </a:lnTo>
                  <a:lnTo>
                    <a:pt x="40" y="364"/>
                  </a:lnTo>
                  <a:lnTo>
                    <a:pt x="46" y="373"/>
                  </a:lnTo>
                  <a:lnTo>
                    <a:pt x="54" y="382"/>
                  </a:lnTo>
                  <a:lnTo>
                    <a:pt x="61" y="390"/>
                  </a:lnTo>
                  <a:lnTo>
                    <a:pt x="69" y="398"/>
                  </a:lnTo>
                  <a:lnTo>
                    <a:pt x="77" y="406"/>
                  </a:lnTo>
                  <a:lnTo>
                    <a:pt x="85" y="413"/>
                  </a:lnTo>
                  <a:lnTo>
                    <a:pt x="94" y="420"/>
                  </a:lnTo>
                  <a:lnTo>
                    <a:pt x="103" y="426"/>
                  </a:lnTo>
                  <a:lnTo>
                    <a:pt x="112" y="432"/>
                  </a:lnTo>
                  <a:lnTo>
                    <a:pt x="122" y="439"/>
                  </a:lnTo>
                  <a:lnTo>
                    <a:pt x="132" y="444"/>
                  </a:lnTo>
                  <a:lnTo>
                    <a:pt x="143" y="448"/>
                  </a:lnTo>
                  <a:lnTo>
                    <a:pt x="154" y="453"/>
                  </a:lnTo>
                  <a:lnTo>
                    <a:pt x="165" y="456"/>
                  </a:lnTo>
                  <a:lnTo>
                    <a:pt x="176" y="459"/>
                  </a:lnTo>
                  <a:lnTo>
                    <a:pt x="187" y="462"/>
                  </a:lnTo>
                  <a:lnTo>
                    <a:pt x="198" y="464"/>
                  </a:lnTo>
                  <a:lnTo>
                    <a:pt x="210" y="465"/>
                  </a:lnTo>
                  <a:lnTo>
                    <a:pt x="221" y="466"/>
                  </a:lnTo>
                  <a:lnTo>
                    <a:pt x="234" y="4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3" name="Freeform 443"/>
            <p:cNvSpPr/>
            <p:nvPr/>
          </p:nvSpPr>
          <p:spPr>
            <a:xfrm>
              <a:off x="6991920" y="3960720"/>
              <a:ext cx="96480" cy="93600"/>
            </a:xfrm>
            <a:custGeom>
              <a:avLst/>
              <a:gdLst>
                <a:gd name="textAreaLeft" fmla="*/ 0 w 96480"/>
                <a:gd name="textAreaRight" fmla="*/ 96840 w 96480"/>
                <a:gd name="textAreaTop" fmla="*/ 0 h 93600"/>
                <a:gd name="textAreaBottom" fmla="*/ 93960 h 93600"/>
              </a:gdLst>
              <a:ahLst/>
              <a:rect l="textAreaLeft" t="textAreaTop" r="textAreaRight" b="textAreaBottom"/>
              <a:pathLst>
                <a:path w="3263" h="3257">
                  <a:moveTo>
                    <a:pt x="1710" y="0"/>
                  </a:moveTo>
                  <a:lnTo>
                    <a:pt x="1701" y="0"/>
                  </a:lnTo>
                  <a:lnTo>
                    <a:pt x="1692" y="0"/>
                  </a:lnTo>
                  <a:lnTo>
                    <a:pt x="1681" y="0"/>
                  </a:lnTo>
                  <a:lnTo>
                    <a:pt x="1671" y="0"/>
                  </a:lnTo>
                  <a:lnTo>
                    <a:pt x="1660" y="0"/>
                  </a:lnTo>
                  <a:lnTo>
                    <a:pt x="1650" y="0"/>
                  </a:lnTo>
                  <a:lnTo>
                    <a:pt x="1640" y="0"/>
                  </a:lnTo>
                  <a:lnTo>
                    <a:pt x="1632" y="0"/>
                  </a:lnTo>
                  <a:lnTo>
                    <a:pt x="1548" y="2"/>
                  </a:lnTo>
                  <a:lnTo>
                    <a:pt x="1466" y="8"/>
                  </a:lnTo>
                  <a:lnTo>
                    <a:pt x="1384" y="18"/>
                  </a:lnTo>
                  <a:lnTo>
                    <a:pt x="1304" y="33"/>
                  </a:lnTo>
                  <a:lnTo>
                    <a:pt x="1225" y="52"/>
                  </a:lnTo>
                  <a:lnTo>
                    <a:pt x="1147" y="73"/>
                  </a:lnTo>
                  <a:lnTo>
                    <a:pt x="1071" y="99"/>
                  </a:lnTo>
                  <a:lnTo>
                    <a:pt x="997" y="128"/>
                  </a:lnTo>
                  <a:lnTo>
                    <a:pt x="926" y="161"/>
                  </a:lnTo>
                  <a:lnTo>
                    <a:pt x="855" y="197"/>
                  </a:lnTo>
                  <a:lnTo>
                    <a:pt x="787" y="236"/>
                  </a:lnTo>
                  <a:lnTo>
                    <a:pt x="720" y="279"/>
                  </a:lnTo>
                  <a:lnTo>
                    <a:pt x="657" y="324"/>
                  </a:lnTo>
                  <a:lnTo>
                    <a:pt x="595" y="373"/>
                  </a:lnTo>
                  <a:lnTo>
                    <a:pt x="535" y="423"/>
                  </a:lnTo>
                  <a:lnTo>
                    <a:pt x="479" y="478"/>
                  </a:lnTo>
                  <a:lnTo>
                    <a:pt x="425" y="534"/>
                  </a:lnTo>
                  <a:lnTo>
                    <a:pt x="374" y="593"/>
                  </a:lnTo>
                  <a:lnTo>
                    <a:pt x="325" y="654"/>
                  </a:lnTo>
                  <a:lnTo>
                    <a:pt x="280" y="719"/>
                  </a:lnTo>
                  <a:lnTo>
                    <a:pt x="237" y="784"/>
                  </a:lnTo>
                  <a:lnTo>
                    <a:pt x="198" y="853"/>
                  </a:lnTo>
                  <a:lnTo>
                    <a:pt x="161" y="923"/>
                  </a:lnTo>
                  <a:lnTo>
                    <a:pt x="129" y="995"/>
                  </a:lnTo>
                  <a:lnTo>
                    <a:pt x="100" y="1069"/>
                  </a:lnTo>
                  <a:lnTo>
                    <a:pt x="74" y="1145"/>
                  </a:lnTo>
                  <a:lnTo>
                    <a:pt x="52" y="1222"/>
                  </a:lnTo>
                  <a:lnTo>
                    <a:pt x="34" y="1300"/>
                  </a:lnTo>
                  <a:lnTo>
                    <a:pt x="20" y="1381"/>
                  </a:lnTo>
                  <a:lnTo>
                    <a:pt x="9" y="1462"/>
                  </a:lnTo>
                  <a:lnTo>
                    <a:pt x="2" y="1545"/>
                  </a:lnTo>
                  <a:lnTo>
                    <a:pt x="0" y="1628"/>
                  </a:lnTo>
                  <a:lnTo>
                    <a:pt x="0" y="1669"/>
                  </a:lnTo>
                  <a:lnTo>
                    <a:pt x="2" y="1709"/>
                  </a:lnTo>
                  <a:lnTo>
                    <a:pt x="5" y="1750"/>
                  </a:lnTo>
                  <a:lnTo>
                    <a:pt x="9" y="1790"/>
                  </a:lnTo>
                  <a:lnTo>
                    <a:pt x="13" y="1830"/>
                  </a:lnTo>
                  <a:lnTo>
                    <a:pt x="18" y="1870"/>
                  </a:lnTo>
                  <a:lnTo>
                    <a:pt x="25" y="1909"/>
                  </a:lnTo>
                  <a:lnTo>
                    <a:pt x="32" y="1949"/>
                  </a:lnTo>
                  <a:lnTo>
                    <a:pt x="40" y="1988"/>
                  </a:lnTo>
                  <a:lnTo>
                    <a:pt x="49" y="2026"/>
                  </a:lnTo>
                  <a:lnTo>
                    <a:pt x="59" y="2065"/>
                  </a:lnTo>
                  <a:lnTo>
                    <a:pt x="70" y="2103"/>
                  </a:lnTo>
                  <a:lnTo>
                    <a:pt x="82" y="2140"/>
                  </a:lnTo>
                  <a:lnTo>
                    <a:pt x="96" y="2179"/>
                  </a:lnTo>
                  <a:lnTo>
                    <a:pt x="109" y="2215"/>
                  </a:lnTo>
                  <a:lnTo>
                    <a:pt x="124" y="2252"/>
                  </a:lnTo>
                  <a:lnTo>
                    <a:pt x="140" y="2289"/>
                  </a:lnTo>
                  <a:lnTo>
                    <a:pt x="156" y="2324"/>
                  </a:lnTo>
                  <a:lnTo>
                    <a:pt x="173" y="2360"/>
                  </a:lnTo>
                  <a:lnTo>
                    <a:pt x="192" y="2396"/>
                  </a:lnTo>
                  <a:lnTo>
                    <a:pt x="211" y="2430"/>
                  </a:lnTo>
                  <a:lnTo>
                    <a:pt x="231" y="2464"/>
                  </a:lnTo>
                  <a:lnTo>
                    <a:pt x="252" y="2499"/>
                  </a:lnTo>
                  <a:lnTo>
                    <a:pt x="273" y="2532"/>
                  </a:lnTo>
                  <a:lnTo>
                    <a:pt x="297" y="2564"/>
                  </a:lnTo>
                  <a:lnTo>
                    <a:pt x="320" y="2597"/>
                  </a:lnTo>
                  <a:lnTo>
                    <a:pt x="344" y="2629"/>
                  </a:lnTo>
                  <a:lnTo>
                    <a:pt x="370" y="2660"/>
                  </a:lnTo>
                  <a:lnTo>
                    <a:pt x="396" y="2692"/>
                  </a:lnTo>
                  <a:lnTo>
                    <a:pt x="422" y="2722"/>
                  </a:lnTo>
                  <a:lnTo>
                    <a:pt x="450" y="2751"/>
                  </a:lnTo>
                  <a:lnTo>
                    <a:pt x="479" y="2780"/>
                  </a:lnTo>
                  <a:lnTo>
                    <a:pt x="508" y="2809"/>
                  </a:lnTo>
                  <a:lnTo>
                    <a:pt x="537" y="2836"/>
                  </a:lnTo>
                  <a:lnTo>
                    <a:pt x="568" y="2863"/>
                  </a:lnTo>
                  <a:lnTo>
                    <a:pt x="599" y="2889"/>
                  </a:lnTo>
                  <a:lnTo>
                    <a:pt x="630" y="2915"/>
                  </a:lnTo>
                  <a:lnTo>
                    <a:pt x="662" y="2939"/>
                  </a:lnTo>
                  <a:lnTo>
                    <a:pt x="694" y="2962"/>
                  </a:lnTo>
                  <a:lnTo>
                    <a:pt x="727" y="2984"/>
                  </a:lnTo>
                  <a:lnTo>
                    <a:pt x="761" y="3007"/>
                  </a:lnTo>
                  <a:lnTo>
                    <a:pt x="795" y="3027"/>
                  </a:lnTo>
                  <a:lnTo>
                    <a:pt x="830" y="3047"/>
                  </a:lnTo>
                  <a:lnTo>
                    <a:pt x="864" y="3066"/>
                  </a:lnTo>
                  <a:lnTo>
                    <a:pt x="899" y="3084"/>
                  </a:lnTo>
                  <a:lnTo>
                    <a:pt x="935" y="3103"/>
                  </a:lnTo>
                  <a:lnTo>
                    <a:pt x="971" y="3119"/>
                  </a:lnTo>
                  <a:lnTo>
                    <a:pt x="1007" y="3134"/>
                  </a:lnTo>
                  <a:lnTo>
                    <a:pt x="1044" y="3149"/>
                  </a:lnTo>
                  <a:lnTo>
                    <a:pt x="1081" y="3163"/>
                  </a:lnTo>
                  <a:lnTo>
                    <a:pt x="1119" y="3175"/>
                  </a:lnTo>
                  <a:lnTo>
                    <a:pt x="1157" y="3187"/>
                  </a:lnTo>
                  <a:lnTo>
                    <a:pt x="1195" y="3198"/>
                  </a:lnTo>
                  <a:lnTo>
                    <a:pt x="1233" y="3209"/>
                  </a:lnTo>
                  <a:lnTo>
                    <a:pt x="1272" y="3218"/>
                  </a:lnTo>
                  <a:lnTo>
                    <a:pt x="1311" y="3226"/>
                  </a:lnTo>
                  <a:lnTo>
                    <a:pt x="1350" y="3234"/>
                  </a:lnTo>
                  <a:lnTo>
                    <a:pt x="1390" y="3240"/>
                  </a:lnTo>
                  <a:lnTo>
                    <a:pt x="1430" y="3245"/>
                  </a:lnTo>
                  <a:lnTo>
                    <a:pt x="1470" y="3249"/>
                  </a:lnTo>
                  <a:lnTo>
                    <a:pt x="1510" y="3253"/>
                  </a:lnTo>
                  <a:lnTo>
                    <a:pt x="1550" y="3255"/>
                  </a:lnTo>
                  <a:lnTo>
                    <a:pt x="1591" y="3257"/>
                  </a:lnTo>
                  <a:lnTo>
                    <a:pt x="1632" y="3257"/>
                  </a:lnTo>
                  <a:lnTo>
                    <a:pt x="1673" y="3257"/>
                  </a:lnTo>
                  <a:lnTo>
                    <a:pt x="1713" y="3255"/>
                  </a:lnTo>
                  <a:lnTo>
                    <a:pt x="1754" y="3253"/>
                  </a:lnTo>
                  <a:lnTo>
                    <a:pt x="1794" y="3249"/>
                  </a:lnTo>
                  <a:lnTo>
                    <a:pt x="1834" y="3245"/>
                  </a:lnTo>
                  <a:lnTo>
                    <a:pt x="1874" y="3240"/>
                  </a:lnTo>
                  <a:lnTo>
                    <a:pt x="1913" y="3234"/>
                  </a:lnTo>
                  <a:lnTo>
                    <a:pt x="1953" y="3226"/>
                  </a:lnTo>
                  <a:lnTo>
                    <a:pt x="1991" y="3218"/>
                  </a:lnTo>
                  <a:lnTo>
                    <a:pt x="2031" y="3209"/>
                  </a:lnTo>
                  <a:lnTo>
                    <a:pt x="2069" y="3198"/>
                  </a:lnTo>
                  <a:lnTo>
                    <a:pt x="2108" y="3187"/>
                  </a:lnTo>
                  <a:lnTo>
                    <a:pt x="2145" y="3175"/>
                  </a:lnTo>
                  <a:lnTo>
                    <a:pt x="2182" y="3163"/>
                  </a:lnTo>
                  <a:lnTo>
                    <a:pt x="2220" y="3149"/>
                  </a:lnTo>
                  <a:lnTo>
                    <a:pt x="2256" y="3134"/>
                  </a:lnTo>
                  <a:lnTo>
                    <a:pt x="2293" y="3119"/>
                  </a:lnTo>
                  <a:lnTo>
                    <a:pt x="2329" y="3103"/>
                  </a:lnTo>
                  <a:lnTo>
                    <a:pt x="2364" y="3084"/>
                  </a:lnTo>
                  <a:lnTo>
                    <a:pt x="2400" y="3066"/>
                  </a:lnTo>
                  <a:lnTo>
                    <a:pt x="2435" y="3047"/>
                  </a:lnTo>
                  <a:lnTo>
                    <a:pt x="2469" y="3027"/>
                  </a:lnTo>
                  <a:lnTo>
                    <a:pt x="2503" y="3007"/>
                  </a:lnTo>
                  <a:lnTo>
                    <a:pt x="2536" y="2984"/>
                  </a:lnTo>
                  <a:lnTo>
                    <a:pt x="2570" y="2962"/>
                  </a:lnTo>
                  <a:lnTo>
                    <a:pt x="2602" y="2939"/>
                  </a:lnTo>
                  <a:lnTo>
                    <a:pt x="2634" y="2914"/>
                  </a:lnTo>
                  <a:lnTo>
                    <a:pt x="2666" y="2889"/>
                  </a:lnTo>
                  <a:lnTo>
                    <a:pt x="2696" y="2863"/>
                  </a:lnTo>
                  <a:lnTo>
                    <a:pt x="2726" y="2836"/>
                  </a:lnTo>
                  <a:lnTo>
                    <a:pt x="2757" y="2809"/>
                  </a:lnTo>
                  <a:lnTo>
                    <a:pt x="2786" y="2780"/>
                  </a:lnTo>
                  <a:lnTo>
                    <a:pt x="2814" y="2751"/>
                  </a:lnTo>
                  <a:lnTo>
                    <a:pt x="2842" y="2722"/>
                  </a:lnTo>
                  <a:lnTo>
                    <a:pt x="2869" y="2692"/>
                  </a:lnTo>
                  <a:lnTo>
                    <a:pt x="2894" y="2660"/>
                  </a:lnTo>
                  <a:lnTo>
                    <a:pt x="2919" y="2629"/>
                  </a:lnTo>
                  <a:lnTo>
                    <a:pt x="2944" y="2597"/>
                  </a:lnTo>
                  <a:lnTo>
                    <a:pt x="2968" y="2564"/>
                  </a:lnTo>
                  <a:lnTo>
                    <a:pt x="2990" y="2532"/>
                  </a:lnTo>
                  <a:lnTo>
                    <a:pt x="3012" y="2499"/>
                  </a:lnTo>
                  <a:lnTo>
                    <a:pt x="3033" y="2464"/>
                  </a:lnTo>
                  <a:lnTo>
                    <a:pt x="3053" y="2430"/>
                  </a:lnTo>
                  <a:lnTo>
                    <a:pt x="3072" y="2396"/>
                  </a:lnTo>
                  <a:lnTo>
                    <a:pt x="3090" y="2360"/>
                  </a:lnTo>
                  <a:lnTo>
                    <a:pt x="3107" y="2324"/>
                  </a:lnTo>
                  <a:lnTo>
                    <a:pt x="3125" y="2289"/>
                  </a:lnTo>
                  <a:lnTo>
                    <a:pt x="3140" y="2252"/>
                  </a:lnTo>
                  <a:lnTo>
                    <a:pt x="3155" y="2215"/>
                  </a:lnTo>
                  <a:lnTo>
                    <a:pt x="3168" y="2179"/>
                  </a:lnTo>
                  <a:lnTo>
                    <a:pt x="3181" y="2140"/>
                  </a:lnTo>
                  <a:lnTo>
                    <a:pt x="3193" y="2103"/>
                  </a:lnTo>
                  <a:lnTo>
                    <a:pt x="3205" y="2065"/>
                  </a:lnTo>
                  <a:lnTo>
                    <a:pt x="3215" y="2026"/>
                  </a:lnTo>
                  <a:lnTo>
                    <a:pt x="3224" y="1988"/>
                  </a:lnTo>
                  <a:lnTo>
                    <a:pt x="3232" y="1949"/>
                  </a:lnTo>
                  <a:lnTo>
                    <a:pt x="3239" y="1909"/>
                  </a:lnTo>
                  <a:lnTo>
                    <a:pt x="3246" y="1870"/>
                  </a:lnTo>
                  <a:lnTo>
                    <a:pt x="3251" y="1830"/>
                  </a:lnTo>
                  <a:lnTo>
                    <a:pt x="3255" y="1790"/>
                  </a:lnTo>
                  <a:lnTo>
                    <a:pt x="3259" y="1750"/>
                  </a:lnTo>
                  <a:lnTo>
                    <a:pt x="3261" y="1709"/>
                  </a:lnTo>
                  <a:lnTo>
                    <a:pt x="3263" y="1669"/>
                  </a:lnTo>
                  <a:lnTo>
                    <a:pt x="3263" y="1628"/>
                  </a:lnTo>
                  <a:lnTo>
                    <a:pt x="3263" y="1554"/>
                  </a:lnTo>
                  <a:lnTo>
                    <a:pt x="3198" y="1555"/>
                  </a:lnTo>
                  <a:lnTo>
                    <a:pt x="2098" y="1555"/>
                  </a:lnTo>
                  <a:lnTo>
                    <a:pt x="2098" y="1705"/>
                  </a:lnTo>
                  <a:lnTo>
                    <a:pt x="3108" y="1705"/>
                  </a:lnTo>
                  <a:lnTo>
                    <a:pt x="3108" y="1707"/>
                  </a:lnTo>
                  <a:lnTo>
                    <a:pt x="3108" y="1709"/>
                  </a:lnTo>
                  <a:lnTo>
                    <a:pt x="3108" y="1713"/>
                  </a:lnTo>
                  <a:lnTo>
                    <a:pt x="3108" y="1716"/>
                  </a:lnTo>
                  <a:lnTo>
                    <a:pt x="3108" y="1720"/>
                  </a:lnTo>
                  <a:lnTo>
                    <a:pt x="3107" y="1723"/>
                  </a:lnTo>
                  <a:lnTo>
                    <a:pt x="3107" y="1726"/>
                  </a:lnTo>
                  <a:lnTo>
                    <a:pt x="3107" y="1728"/>
                  </a:lnTo>
                  <a:lnTo>
                    <a:pt x="3101" y="1799"/>
                  </a:lnTo>
                  <a:lnTo>
                    <a:pt x="3091" y="1870"/>
                  </a:lnTo>
                  <a:lnTo>
                    <a:pt x="3078" y="1939"/>
                  </a:lnTo>
                  <a:lnTo>
                    <a:pt x="3062" y="2008"/>
                  </a:lnTo>
                  <a:lnTo>
                    <a:pt x="3042" y="2075"/>
                  </a:lnTo>
                  <a:lnTo>
                    <a:pt x="3020" y="2140"/>
                  </a:lnTo>
                  <a:lnTo>
                    <a:pt x="2994" y="2205"/>
                  </a:lnTo>
                  <a:lnTo>
                    <a:pt x="2966" y="2268"/>
                  </a:lnTo>
                  <a:lnTo>
                    <a:pt x="2935" y="2328"/>
                  </a:lnTo>
                  <a:lnTo>
                    <a:pt x="2900" y="2388"/>
                  </a:lnTo>
                  <a:lnTo>
                    <a:pt x="2864" y="2445"/>
                  </a:lnTo>
                  <a:lnTo>
                    <a:pt x="2824" y="2501"/>
                  </a:lnTo>
                  <a:lnTo>
                    <a:pt x="2783" y="2555"/>
                  </a:lnTo>
                  <a:lnTo>
                    <a:pt x="2738" y="2607"/>
                  </a:lnTo>
                  <a:lnTo>
                    <a:pt x="2692" y="2657"/>
                  </a:lnTo>
                  <a:lnTo>
                    <a:pt x="2643" y="2705"/>
                  </a:lnTo>
                  <a:lnTo>
                    <a:pt x="2593" y="2750"/>
                  </a:lnTo>
                  <a:lnTo>
                    <a:pt x="2540" y="2794"/>
                  </a:lnTo>
                  <a:lnTo>
                    <a:pt x="2486" y="2834"/>
                  </a:lnTo>
                  <a:lnTo>
                    <a:pt x="2429" y="2872"/>
                  </a:lnTo>
                  <a:lnTo>
                    <a:pt x="2370" y="2908"/>
                  </a:lnTo>
                  <a:lnTo>
                    <a:pt x="2311" y="2940"/>
                  </a:lnTo>
                  <a:lnTo>
                    <a:pt x="2249" y="2970"/>
                  </a:lnTo>
                  <a:lnTo>
                    <a:pt x="2185" y="2998"/>
                  </a:lnTo>
                  <a:lnTo>
                    <a:pt x="2121" y="3023"/>
                  </a:lnTo>
                  <a:lnTo>
                    <a:pt x="2054" y="3044"/>
                  </a:lnTo>
                  <a:lnTo>
                    <a:pt x="1986" y="3062"/>
                  </a:lnTo>
                  <a:lnTo>
                    <a:pt x="1917" y="3077"/>
                  </a:lnTo>
                  <a:lnTo>
                    <a:pt x="1848" y="3089"/>
                  </a:lnTo>
                  <a:lnTo>
                    <a:pt x="1777" y="3098"/>
                  </a:lnTo>
                  <a:lnTo>
                    <a:pt x="1705" y="3104"/>
                  </a:lnTo>
                  <a:lnTo>
                    <a:pt x="1632" y="3106"/>
                  </a:lnTo>
                  <a:lnTo>
                    <a:pt x="1595" y="3105"/>
                  </a:lnTo>
                  <a:lnTo>
                    <a:pt x="1559" y="3104"/>
                  </a:lnTo>
                  <a:lnTo>
                    <a:pt x="1521" y="3101"/>
                  </a:lnTo>
                  <a:lnTo>
                    <a:pt x="1485" y="3098"/>
                  </a:lnTo>
                  <a:lnTo>
                    <a:pt x="1449" y="3094"/>
                  </a:lnTo>
                  <a:lnTo>
                    <a:pt x="1413" y="3089"/>
                  </a:lnTo>
                  <a:lnTo>
                    <a:pt x="1377" y="3083"/>
                  </a:lnTo>
                  <a:lnTo>
                    <a:pt x="1341" y="3077"/>
                  </a:lnTo>
                  <a:lnTo>
                    <a:pt x="1306" y="3069"/>
                  </a:lnTo>
                  <a:lnTo>
                    <a:pt x="1270" y="3061"/>
                  </a:lnTo>
                  <a:lnTo>
                    <a:pt x="1236" y="3052"/>
                  </a:lnTo>
                  <a:lnTo>
                    <a:pt x="1202" y="3042"/>
                  </a:lnTo>
                  <a:lnTo>
                    <a:pt x="1167" y="3031"/>
                  </a:lnTo>
                  <a:lnTo>
                    <a:pt x="1133" y="3020"/>
                  </a:lnTo>
                  <a:lnTo>
                    <a:pt x="1099" y="3007"/>
                  </a:lnTo>
                  <a:lnTo>
                    <a:pt x="1066" y="2993"/>
                  </a:lnTo>
                  <a:lnTo>
                    <a:pt x="1033" y="2979"/>
                  </a:lnTo>
                  <a:lnTo>
                    <a:pt x="1000" y="2964"/>
                  </a:lnTo>
                  <a:lnTo>
                    <a:pt x="968" y="2949"/>
                  </a:lnTo>
                  <a:lnTo>
                    <a:pt x="936" y="2932"/>
                  </a:lnTo>
                  <a:lnTo>
                    <a:pt x="904" y="2915"/>
                  </a:lnTo>
                  <a:lnTo>
                    <a:pt x="873" y="2897"/>
                  </a:lnTo>
                  <a:lnTo>
                    <a:pt x="842" y="2877"/>
                  </a:lnTo>
                  <a:lnTo>
                    <a:pt x="811" y="2858"/>
                  </a:lnTo>
                  <a:lnTo>
                    <a:pt x="782" y="2837"/>
                  </a:lnTo>
                  <a:lnTo>
                    <a:pt x="753" y="2816"/>
                  </a:lnTo>
                  <a:lnTo>
                    <a:pt x="723" y="2795"/>
                  </a:lnTo>
                  <a:lnTo>
                    <a:pt x="695" y="2771"/>
                  </a:lnTo>
                  <a:lnTo>
                    <a:pt x="667" y="2748"/>
                  </a:lnTo>
                  <a:lnTo>
                    <a:pt x="639" y="2724"/>
                  </a:lnTo>
                  <a:lnTo>
                    <a:pt x="612" y="2699"/>
                  </a:lnTo>
                  <a:lnTo>
                    <a:pt x="586" y="2672"/>
                  </a:lnTo>
                  <a:lnTo>
                    <a:pt x="561" y="2646"/>
                  </a:lnTo>
                  <a:lnTo>
                    <a:pt x="535" y="2619"/>
                  </a:lnTo>
                  <a:lnTo>
                    <a:pt x="511" y="2592"/>
                  </a:lnTo>
                  <a:lnTo>
                    <a:pt x="488" y="2563"/>
                  </a:lnTo>
                  <a:lnTo>
                    <a:pt x="465" y="2535"/>
                  </a:lnTo>
                  <a:lnTo>
                    <a:pt x="442" y="2507"/>
                  </a:lnTo>
                  <a:lnTo>
                    <a:pt x="421" y="2478"/>
                  </a:lnTo>
                  <a:lnTo>
                    <a:pt x="401" y="2447"/>
                  </a:lnTo>
                  <a:lnTo>
                    <a:pt x="381" y="2417"/>
                  </a:lnTo>
                  <a:lnTo>
                    <a:pt x="361" y="2387"/>
                  </a:lnTo>
                  <a:lnTo>
                    <a:pt x="343" y="2355"/>
                  </a:lnTo>
                  <a:lnTo>
                    <a:pt x="326" y="2324"/>
                  </a:lnTo>
                  <a:lnTo>
                    <a:pt x="310" y="2292"/>
                  </a:lnTo>
                  <a:lnTo>
                    <a:pt x="294" y="2259"/>
                  </a:lnTo>
                  <a:lnTo>
                    <a:pt x="279" y="2227"/>
                  </a:lnTo>
                  <a:lnTo>
                    <a:pt x="264" y="2194"/>
                  </a:lnTo>
                  <a:lnTo>
                    <a:pt x="251" y="2161"/>
                  </a:lnTo>
                  <a:lnTo>
                    <a:pt x="239" y="2127"/>
                  </a:lnTo>
                  <a:lnTo>
                    <a:pt x="227" y="2093"/>
                  </a:lnTo>
                  <a:lnTo>
                    <a:pt x="217" y="2059"/>
                  </a:lnTo>
                  <a:lnTo>
                    <a:pt x="207" y="2024"/>
                  </a:lnTo>
                  <a:lnTo>
                    <a:pt x="198" y="1989"/>
                  </a:lnTo>
                  <a:lnTo>
                    <a:pt x="189" y="1955"/>
                  </a:lnTo>
                  <a:lnTo>
                    <a:pt x="181" y="1918"/>
                  </a:lnTo>
                  <a:lnTo>
                    <a:pt x="174" y="1883"/>
                  </a:lnTo>
                  <a:lnTo>
                    <a:pt x="169" y="1848"/>
                  </a:lnTo>
                  <a:lnTo>
                    <a:pt x="164" y="1811"/>
                  </a:lnTo>
                  <a:lnTo>
                    <a:pt x="160" y="1775"/>
                  </a:lnTo>
                  <a:lnTo>
                    <a:pt x="157" y="1739"/>
                  </a:lnTo>
                  <a:lnTo>
                    <a:pt x="155" y="1702"/>
                  </a:lnTo>
                  <a:lnTo>
                    <a:pt x="153" y="1665"/>
                  </a:lnTo>
                  <a:lnTo>
                    <a:pt x="153" y="1628"/>
                  </a:lnTo>
                  <a:lnTo>
                    <a:pt x="153" y="1591"/>
                  </a:lnTo>
                  <a:lnTo>
                    <a:pt x="155" y="1555"/>
                  </a:lnTo>
                  <a:lnTo>
                    <a:pt x="157" y="1518"/>
                  </a:lnTo>
                  <a:lnTo>
                    <a:pt x="160" y="1482"/>
                  </a:lnTo>
                  <a:lnTo>
                    <a:pt x="164" y="1446"/>
                  </a:lnTo>
                  <a:lnTo>
                    <a:pt x="169" y="1409"/>
                  </a:lnTo>
                  <a:lnTo>
                    <a:pt x="174" y="1374"/>
                  </a:lnTo>
                  <a:lnTo>
                    <a:pt x="181" y="1338"/>
                  </a:lnTo>
                  <a:lnTo>
                    <a:pt x="189" y="1302"/>
                  </a:lnTo>
                  <a:lnTo>
                    <a:pt x="198" y="1268"/>
                  </a:lnTo>
                  <a:lnTo>
                    <a:pt x="207" y="1233"/>
                  </a:lnTo>
                  <a:lnTo>
                    <a:pt x="217" y="1198"/>
                  </a:lnTo>
                  <a:lnTo>
                    <a:pt x="227" y="1164"/>
                  </a:lnTo>
                  <a:lnTo>
                    <a:pt x="239" y="1130"/>
                  </a:lnTo>
                  <a:lnTo>
                    <a:pt x="251" y="1096"/>
                  </a:lnTo>
                  <a:lnTo>
                    <a:pt x="264" y="1063"/>
                  </a:lnTo>
                  <a:lnTo>
                    <a:pt x="279" y="1030"/>
                  </a:lnTo>
                  <a:lnTo>
                    <a:pt x="294" y="997"/>
                  </a:lnTo>
                  <a:lnTo>
                    <a:pt x="310" y="965"/>
                  </a:lnTo>
                  <a:lnTo>
                    <a:pt x="326" y="933"/>
                  </a:lnTo>
                  <a:lnTo>
                    <a:pt x="343" y="902"/>
                  </a:lnTo>
                  <a:lnTo>
                    <a:pt x="361" y="870"/>
                  </a:lnTo>
                  <a:lnTo>
                    <a:pt x="381" y="840"/>
                  </a:lnTo>
                  <a:lnTo>
                    <a:pt x="401" y="810"/>
                  </a:lnTo>
                  <a:lnTo>
                    <a:pt x="421" y="779"/>
                  </a:lnTo>
                  <a:lnTo>
                    <a:pt x="442" y="750"/>
                  </a:lnTo>
                  <a:lnTo>
                    <a:pt x="465" y="722"/>
                  </a:lnTo>
                  <a:lnTo>
                    <a:pt x="488" y="693"/>
                  </a:lnTo>
                  <a:lnTo>
                    <a:pt x="511" y="665"/>
                  </a:lnTo>
                  <a:lnTo>
                    <a:pt x="535" y="638"/>
                  </a:lnTo>
                  <a:lnTo>
                    <a:pt x="561" y="611"/>
                  </a:lnTo>
                  <a:lnTo>
                    <a:pt x="586" y="585"/>
                  </a:lnTo>
                  <a:lnTo>
                    <a:pt x="612" y="558"/>
                  </a:lnTo>
                  <a:lnTo>
                    <a:pt x="639" y="533"/>
                  </a:lnTo>
                  <a:lnTo>
                    <a:pt x="667" y="509"/>
                  </a:lnTo>
                  <a:lnTo>
                    <a:pt x="695" y="486"/>
                  </a:lnTo>
                  <a:lnTo>
                    <a:pt x="723" y="462"/>
                  </a:lnTo>
                  <a:lnTo>
                    <a:pt x="753" y="441"/>
                  </a:lnTo>
                  <a:lnTo>
                    <a:pt x="782" y="420"/>
                  </a:lnTo>
                  <a:lnTo>
                    <a:pt x="811" y="399"/>
                  </a:lnTo>
                  <a:lnTo>
                    <a:pt x="842" y="380"/>
                  </a:lnTo>
                  <a:lnTo>
                    <a:pt x="873" y="360"/>
                  </a:lnTo>
                  <a:lnTo>
                    <a:pt x="904" y="342"/>
                  </a:lnTo>
                  <a:lnTo>
                    <a:pt x="936" y="325"/>
                  </a:lnTo>
                  <a:lnTo>
                    <a:pt x="968" y="308"/>
                  </a:lnTo>
                  <a:lnTo>
                    <a:pt x="1000" y="293"/>
                  </a:lnTo>
                  <a:lnTo>
                    <a:pt x="1033" y="278"/>
                  </a:lnTo>
                  <a:lnTo>
                    <a:pt x="1066" y="264"/>
                  </a:lnTo>
                  <a:lnTo>
                    <a:pt x="1099" y="250"/>
                  </a:lnTo>
                  <a:lnTo>
                    <a:pt x="1133" y="237"/>
                  </a:lnTo>
                  <a:lnTo>
                    <a:pt x="1167" y="226"/>
                  </a:lnTo>
                  <a:lnTo>
                    <a:pt x="1202" y="215"/>
                  </a:lnTo>
                  <a:lnTo>
                    <a:pt x="1236" y="205"/>
                  </a:lnTo>
                  <a:lnTo>
                    <a:pt x="1270" y="196"/>
                  </a:lnTo>
                  <a:lnTo>
                    <a:pt x="1306" y="188"/>
                  </a:lnTo>
                  <a:lnTo>
                    <a:pt x="1341" y="180"/>
                  </a:lnTo>
                  <a:lnTo>
                    <a:pt x="1377" y="174"/>
                  </a:lnTo>
                  <a:lnTo>
                    <a:pt x="1413" y="168"/>
                  </a:lnTo>
                  <a:lnTo>
                    <a:pt x="1449" y="163"/>
                  </a:lnTo>
                  <a:lnTo>
                    <a:pt x="1485" y="159"/>
                  </a:lnTo>
                  <a:lnTo>
                    <a:pt x="1521" y="155"/>
                  </a:lnTo>
                  <a:lnTo>
                    <a:pt x="1559" y="153"/>
                  </a:lnTo>
                  <a:lnTo>
                    <a:pt x="1595" y="152"/>
                  </a:lnTo>
                  <a:lnTo>
                    <a:pt x="1632" y="151"/>
                  </a:lnTo>
                  <a:lnTo>
                    <a:pt x="1639" y="151"/>
                  </a:lnTo>
                  <a:lnTo>
                    <a:pt x="1649" y="151"/>
                  </a:lnTo>
                  <a:lnTo>
                    <a:pt x="1660" y="151"/>
                  </a:lnTo>
                  <a:lnTo>
                    <a:pt x="1671" y="152"/>
                  </a:lnTo>
                  <a:lnTo>
                    <a:pt x="1682" y="152"/>
                  </a:lnTo>
                  <a:lnTo>
                    <a:pt x="1692" y="152"/>
                  </a:lnTo>
                  <a:lnTo>
                    <a:pt x="1702" y="152"/>
                  </a:lnTo>
                  <a:lnTo>
                    <a:pt x="1710" y="152"/>
                  </a:lnTo>
                  <a:lnTo>
                    <a:pt x="17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4" name="Line 444"/>
          <p:cNvSpPr/>
          <p:nvPr/>
        </p:nvSpPr>
        <p:spPr>
          <a:xfrm flipV="1">
            <a:off x="7112160" y="3904920"/>
            <a:ext cx="1022040" cy="88920"/>
          </a:xfrm>
          <a:prstGeom prst="line">
            <a:avLst/>
          </a:prstGeom>
          <a:ln w="1260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5" name="Oval 445"/>
          <p:cNvSpPr/>
          <p:nvPr/>
        </p:nvSpPr>
        <p:spPr>
          <a:xfrm>
            <a:off x="7731000" y="5548320"/>
            <a:ext cx="192240" cy="173160"/>
          </a:xfrm>
          <a:prstGeom prst="ellipse">
            <a:avLst/>
          </a:prstGeom>
          <a:gradFill rotWithShape="0">
            <a:gsLst>
              <a:gs pos="0">
                <a:srgbClr val="ffff66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6" name=""/>
          <p:cNvGrpSpPr/>
          <p:nvPr/>
        </p:nvGrpSpPr>
        <p:grpSpPr>
          <a:xfrm>
            <a:off x="7743960" y="5889600"/>
            <a:ext cx="209160" cy="172800"/>
            <a:chOff x="7743960" y="5889600"/>
            <a:chExt cx="209160" cy="172800"/>
          </a:xfrm>
        </p:grpSpPr>
        <p:sp>
          <p:nvSpPr>
            <p:cNvPr id="4277" name="Freeform 447"/>
            <p:cNvSpPr/>
            <p:nvPr/>
          </p:nvSpPr>
          <p:spPr>
            <a:xfrm>
              <a:off x="7743960" y="5889600"/>
              <a:ext cx="209160" cy="17280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172800"/>
                <a:gd name="textAreaBottom" fmla="*/ 173160 h 172800"/>
              </a:gdLst>
              <a:ahLst/>
              <a:rect l="textAreaLeft" t="textAreaTop" r="textAreaRight" b="textAreaBottom"/>
              <a:pathLst>
                <a:path w="3898" h="3892">
                  <a:moveTo>
                    <a:pt x="1949" y="3892"/>
                  </a:moveTo>
                  <a:lnTo>
                    <a:pt x="2049" y="3890"/>
                  </a:lnTo>
                  <a:lnTo>
                    <a:pt x="2149" y="3882"/>
                  </a:lnTo>
                  <a:lnTo>
                    <a:pt x="2246" y="3870"/>
                  </a:lnTo>
                  <a:lnTo>
                    <a:pt x="2342" y="3853"/>
                  </a:lnTo>
                  <a:lnTo>
                    <a:pt x="2436" y="3830"/>
                  </a:lnTo>
                  <a:lnTo>
                    <a:pt x="2529" y="3804"/>
                  </a:lnTo>
                  <a:lnTo>
                    <a:pt x="2619" y="3774"/>
                  </a:lnTo>
                  <a:lnTo>
                    <a:pt x="2708" y="3740"/>
                  </a:lnTo>
                  <a:lnTo>
                    <a:pt x="2794" y="3700"/>
                  </a:lnTo>
                  <a:lnTo>
                    <a:pt x="2877" y="3657"/>
                  </a:lnTo>
                  <a:lnTo>
                    <a:pt x="2959" y="3610"/>
                  </a:lnTo>
                  <a:lnTo>
                    <a:pt x="3038" y="3560"/>
                  </a:lnTo>
                  <a:lnTo>
                    <a:pt x="3115" y="3505"/>
                  </a:lnTo>
                  <a:lnTo>
                    <a:pt x="3189" y="3448"/>
                  </a:lnTo>
                  <a:lnTo>
                    <a:pt x="3260" y="3386"/>
                  </a:lnTo>
                  <a:lnTo>
                    <a:pt x="3327" y="3322"/>
                  </a:lnTo>
                  <a:lnTo>
                    <a:pt x="3391" y="3255"/>
                  </a:lnTo>
                  <a:lnTo>
                    <a:pt x="3453" y="3184"/>
                  </a:lnTo>
                  <a:lnTo>
                    <a:pt x="3510" y="3111"/>
                  </a:lnTo>
                  <a:lnTo>
                    <a:pt x="3565" y="3034"/>
                  </a:lnTo>
                  <a:lnTo>
                    <a:pt x="3616" y="2955"/>
                  </a:lnTo>
                  <a:lnTo>
                    <a:pt x="3663" y="2873"/>
                  </a:lnTo>
                  <a:lnTo>
                    <a:pt x="3706" y="2790"/>
                  </a:lnTo>
                  <a:lnTo>
                    <a:pt x="3745" y="2704"/>
                  </a:lnTo>
                  <a:lnTo>
                    <a:pt x="3779" y="2615"/>
                  </a:lnTo>
                  <a:lnTo>
                    <a:pt x="3811" y="2525"/>
                  </a:lnTo>
                  <a:lnTo>
                    <a:pt x="3837" y="2432"/>
                  </a:lnTo>
                  <a:lnTo>
                    <a:pt x="3858" y="2338"/>
                  </a:lnTo>
                  <a:lnTo>
                    <a:pt x="3875" y="2242"/>
                  </a:lnTo>
                  <a:lnTo>
                    <a:pt x="3888" y="2145"/>
                  </a:lnTo>
                  <a:lnTo>
                    <a:pt x="3896" y="2046"/>
                  </a:lnTo>
                  <a:lnTo>
                    <a:pt x="3898" y="1947"/>
                  </a:lnTo>
                  <a:lnTo>
                    <a:pt x="3896" y="1846"/>
                  </a:lnTo>
                  <a:lnTo>
                    <a:pt x="3888" y="1748"/>
                  </a:lnTo>
                  <a:lnTo>
                    <a:pt x="3875" y="1650"/>
                  </a:lnTo>
                  <a:lnTo>
                    <a:pt x="3858" y="1554"/>
                  </a:lnTo>
                  <a:lnTo>
                    <a:pt x="3837" y="1460"/>
                  </a:lnTo>
                  <a:lnTo>
                    <a:pt x="3811" y="1367"/>
                  </a:lnTo>
                  <a:lnTo>
                    <a:pt x="3779" y="1277"/>
                  </a:lnTo>
                  <a:lnTo>
                    <a:pt x="3745" y="1188"/>
                  </a:lnTo>
                  <a:lnTo>
                    <a:pt x="3706" y="1102"/>
                  </a:lnTo>
                  <a:lnTo>
                    <a:pt x="3663" y="1019"/>
                  </a:lnTo>
                  <a:lnTo>
                    <a:pt x="3616" y="937"/>
                  </a:lnTo>
                  <a:lnTo>
                    <a:pt x="3565" y="858"/>
                  </a:lnTo>
                  <a:lnTo>
                    <a:pt x="3510" y="781"/>
                  </a:lnTo>
                  <a:lnTo>
                    <a:pt x="3453" y="709"/>
                  </a:lnTo>
                  <a:lnTo>
                    <a:pt x="3391" y="638"/>
                  </a:lnTo>
                  <a:lnTo>
                    <a:pt x="3327" y="570"/>
                  </a:lnTo>
                  <a:lnTo>
                    <a:pt x="3260" y="506"/>
                  </a:lnTo>
                  <a:lnTo>
                    <a:pt x="3189" y="444"/>
                  </a:lnTo>
                  <a:lnTo>
                    <a:pt x="3115" y="387"/>
                  </a:lnTo>
                  <a:lnTo>
                    <a:pt x="3038" y="332"/>
                  </a:lnTo>
                  <a:lnTo>
                    <a:pt x="2959" y="282"/>
                  </a:lnTo>
                  <a:lnTo>
                    <a:pt x="2877" y="235"/>
                  </a:lnTo>
                  <a:lnTo>
                    <a:pt x="2794" y="192"/>
                  </a:lnTo>
                  <a:lnTo>
                    <a:pt x="2708" y="153"/>
                  </a:lnTo>
                  <a:lnTo>
                    <a:pt x="2619" y="118"/>
                  </a:lnTo>
                  <a:lnTo>
                    <a:pt x="2529" y="88"/>
                  </a:lnTo>
                  <a:lnTo>
                    <a:pt x="2436" y="62"/>
                  </a:lnTo>
                  <a:lnTo>
                    <a:pt x="2342" y="39"/>
                  </a:lnTo>
                  <a:lnTo>
                    <a:pt x="2246" y="22"/>
                  </a:lnTo>
                  <a:lnTo>
                    <a:pt x="2149" y="10"/>
                  </a:lnTo>
                  <a:lnTo>
                    <a:pt x="2049" y="3"/>
                  </a:lnTo>
                  <a:lnTo>
                    <a:pt x="1949" y="0"/>
                  </a:lnTo>
                  <a:lnTo>
                    <a:pt x="1848" y="3"/>
                  </a:lnTo>
                  <a:lnTo>
                    <a:pt x="1750" y="10"/>
                  </a:lnTo>
                  <a:lnTo>
                    <a:pt x="1652" y="22"/>
                  </a:lnTo>
                  <a:lnTo>
                    <a:pt x="1556" y="39"/>
                  </a:lnTo>
                  <a:lnTo>
                    <a:pt x="1462" y="62"/>
                  </a:lnTo>
                  <a:lnTo>
                    <a:pt x="1369" y="88"/>
                  </a:lnTo>
                  <a:lnTo>
                    <a:pt x="1279" y="118"/>
                  </a:lnTo>
                  <a:lnTo>
                    <a:pt x="1190" y="153"/>
                  </a:lnTo>
                  <a:lnTo>
                    <a:pt x="1104" y="192"/>
                  </a:lnTo>
                  <a:lnTo>
                    <a:pt x="1020" y="235"/>
                  </a:lnTo>
                  <a:lnTo>
                    <a:pt x="938" y="282"/>
                  </a:lnTo>
                  <a:lnTo>
                    <a:pt x="859" y="332"/>
                  </a:lnTo>
                  <a:lnTo>
                    <a:pt x="783" y="387"/>
                  </a:lnTo>
                  <a:lnTo>
                    <a:pt x="709" y="444"/>
                  </a:lnTo>
                  <a:lnTo>
                    <a:pt x="639" y="506"/>
                  </a:lnTo>
                  <a:lnTo>
                    <a:pt x="571" y="570"/>
                  </a:lnTo>
                  <a:lnTo>
                    <a:pt x="507" y="638"/>
                  </a:lnTo>
                  <a:lnTo>
                    <a:pt x="445" y="709"/>
                  </a:lnTo>
                  <a:lnTo>
                    <a:pt x="387" y="781"/>
                  </a:lnTo>
                  <a:lnTo>
                    <a:pt x="333" y="858"/>
                  </a:lnTo>
                  <a:lnTo>
                    <a:pt x="282" y="937"/>
                  </a:lnTo>
                  <a:lnTo>
                    <a:pt x="236" y="1019"/>
                  </a:lnTo>
                  <a:lnTo>
                    <a:pt x="192" y="1102"/>
                  </a:lnTo>
                  <a:lnTo>
                    <a:pt x="153" y="1188"/>
                  </a:lnTo>
                  <a:lnTo>
                    <a:pt x="118" y="1277"/>
                  </a:lnTo>
                  <a:lnTo>
                    <a:pt x="88" y="1367"/>
                  </a:lnTo>
                  <a:lnTo>
                    <a:pt x="62" y="1460"/>
                  </a:lnTo>
                  <a:lnTo>
                    <a:pt x="39" y="1554"/>
                  </a:lnTo>
                  <a:lnTo>
                    <a:pt x="22" y="1650"/>
                  </a:lnTo>
                  <a:lnTo>
                    <a:pt x="10" y="1748"/>
                  </a:lnTo>
                  <a:lnTo>
                    <a:pt x="2" y="1846"/>
                  </a:lnTo>
                  <a:lnTo>
                    <a:pt x="0" y="1947"/>
                  </a:lnTo>
                  <a:lnTo>
                    <a:pt x="2" y="2046"/>
                  </a:lnTo>
                  <a:lnTo>
                    <a:pt x="10" y="2145"/>
                  </a:lnTo>
                  <a:lnTo>
                    <a:pt x="22" y="2242"/>
                  </a:lnTo>
                  <a:lnTo>
                    <a:pt x="39" y="2338"/>
                  </a:lnTo>
                  <a:lnTo>
                    <a:pt x="62" y="2432"/>
                  </a:lnTo>
                  <a:lnTo>
                    <a:pt x="88" y="2525"/>
                  </a:lnTo>
                  <a:lnTo>
                    <a:pt x="118" y="2615"/>
                  </a:lnTo>
                  <a:lnTo>
                    <a:pt x="153" y="2704"/>
                  </a:lnTo>
                  <a:lnTo>
                    <a:pt x="192" y="2790"/>
                  </a:lnTo>
                  <a:lnTo>
                    <a:pt x="236" y="2873"/>
                  </a:lnTo>
                  <a:lnTo>
                    <a:pt x="282" y="2955"/>
                  </a:lnTo>
                  <a:lnTo>
                    <a:pt x="333" y="3034"/>
                  </a:lnTo>
                  <a:lnTo>
                    <a:pt x="387" y="3111"/>
                  </a:lnTo>
                  <a:lnTo>
                    <a:pt x="445" y="3184"/>
                  </a:lnTo>
                  <a:lnTo>
                    <a:pt x="507" y="3255"/>
                  </a:lnTo>
                  <a:lnTo>
                    <a:pt x="571" y="3322"/>
                  </a:lnTo>
                  <a:lnTo>
                    <a:pt x="639" y="3386"/>
                  </a:lnTo>
                  <a:lnTo>
                    <a:pt x="709" y="3448"/>
                  </a:lnTo>
                  <a:lnTo>
                    <a:pt x="783" y="3505"/>
                  </a:lnTo>
                  <a:lnTo>
                    <a:pt x="859" y="3560"/>
                  </a:lnTo>
                  <a:lnTo>
                    <a:pt x="938" y="3610"/>
                  </a:lnTo>
                  <a:lnTo>
                    <a:pt x="1020" y="3657"/>
                  </a:lnTo>
                  <a:lnTo>
                    <a:pt x="1104" y="3700"/>
                  </a:lnTo>
                  <a:lnTo>
                    <a:pt x="1190" y="3740"/>
                  </a:lnTo>
                  <a:lnTo>
                    <a:pt x="1279" y="3774"/>
                  </a:lnTo>
                  <a:lnTo>
                    <a:pt x="1369" y="3804"/>
                  </a:lnTo>
                  <a:lnTo>
                    <a:pt x="1462" y="3830"/>
                  </a:lnTo>
                  <a:lnTo>
                    <a:pt x="1556" y="3853"/>
                  </a:lnTo>
                  <a:lnTo>
                    <a:pt x="1652" y="3870"/>
                  </a:lnTo>
                  <a:lnTo>
                    <a:pt x="1750" y="3882"/>
                  </a:lnTo>
                  <a:lnTo>
                    <a:pt x="1848" y="3890"/>
                  </a:lnTo>
                  <a:lnTo>
                    <a:pt x="1949" y="3892"/>
                  </a:lnTo>
                  <a:close/>
                </a:path>
              </a:pathLst>
            </a:custGeom>
            <a:solidFill>
              <a:srgbClr val="b223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8" name="Freeform 448"/>
            <p:cNvSpPr/>
            <p:nvPr/>
          </p:nvSpPr>
          <p:spPr>
            <a:xfrm>
              <a:off x="7844040" y="5937120"/>
              <a:ext cx="29880" cy="77400"/>
            </a:xfrm>
            <a:custGeom>
              <a:avLst/>
              <a:gdLst>
                <a:gd name="textAreaLeft" fmla="*/ 0 w 29880"/>
                <a:gd name="textAreaRight" fmla="*/ 30240 w 29880"/>
                <a:gd name="textAreaTop" fmla="*/ 0 h 77400"/>
                <a:gd name="textAreaBottom" fmla="*/ 77400 h 77400"/>
              </a:gdLst>
              <a:ahLst/>
              <a:rect l="textAreaLeft" t="textAreaTop" r="textAreaRight" b="textAreaBottom"/>
              <a:pathLst>
                <a:path w="543" h="1706">
                  <a:moveTo>
                    <a:pt x="0" y="0"/>
                  </a:moveTo>
                  <a:lnTo>
                    <a:pt x="0" y="1706"/>
                  </a:lnTo>
                  <a:lnTo>
                    <a:pt x="543" y="1706"/>
                  </a:lnTo>
                  <a:lnTo>
                    <a:pt x="543" y="1553"/>
                  </a:lnTo>
                  <a:lnTo>
                    <a:pt x="156" y="1553"/>
                  </a:lnTo>
                  <a:lnTo>
                    <a:pt x="156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9" name="Freeform 449"/>
            <p:cNvSpPr/>
            <p:nvPr/>
          </p:nvSpPr>
          <p:spPr>
            <a:xfrm>
              <a:off x="7801920" y="5937120"/>
              <a:ext cx="25560" cy="21240"/>
            </a:xfrm>
            <a:custGeom>
              <a:avLst/>
              <a:gdLst>
                <a:gd name="textAreaLeft" fmla="*/ 0 w 25560"/>
                <a:gd name="textAreaRight" fmla="*/ 25920 w 25560"/>
                <a:gd name="textAreaTop" fmla="*/ 0 h 21240"/>
                <a:gd name="textAreaBottom" fmla="*/ 21600 h 21240"/>
              </a:gdLst>
              <a:ahLst/>
              <a:rect l="textAreaLeft" t="textAreaTop" r="textAreaRight" b="textAreaBottom"/>
              <a:pathLst>
                <a:path w="467" h="467">
                  <a:moveTo>
                    <a:pt x="234" y="467"/>
                  </a:moveTo>
                  <a:lnTo>
                    <a:pt x="246" y="466"/>
                  </a:lnTo>
                  <a:lnTo>
                    <a:pt x="258" y="465"/>
                  </a:lnTo>
                  <a:lnTo>
                    <a:pt x="269" y="464"/>
                  </a:lnTo>
                  <a:lnTo>
                    <a:pt x="281" y="462"/>
                  </a:lnTo>
                  <a:lnTo>
                    <a:pt x="292" y="459"/>
                  </a:lnTo>
                  <a:lnTo>
                    <a:pt x="303" y="456"/>
                  </a:lnTo>
                  <a:lnTo>
                    <a:pt x="314" y="453"/>
                  </a:lnTo>
                  <a:lnTo>
                    <a:pt x="325" y="448"/>
                  </a:lnTo>
                  <a:lnTo>
                    <a:pt x="335" y="444"/>
                  </a:lnTo>
                  <a:lnTo>
                    <a:pt x="345" y="439"/>
                  </a:lnTo>
                  <a:lnTo>
                    <a:pt x="355" y="432"/>
                  </a:lnTo>
                  <a:lnTo>
                    <a:pt x="364" y="426"/>
                  </a:lnTo>
                  <a:lnTo>
                    <a:pt x="373" y="420"/>
                  </a:lnTo>
                  <a:lnTo>
                    <a:pt x="382" y="413"/>
                  </a:lnTo>
                  <a:lnTo>
                    <a:pt x="390" y="406"/>
                  </a:lnTo>
                  <a:lnTo>
                    <a:pt x="399" y="398"/>
                  </a:lnTo>
                  <a:lnTo>
                    <a:pt x="406" y="390"/>
                  </a:lnTo>
                  <a:lnTo>
                    <a:pt x="413" y="382"/>
                  </a:lnTo>
                  <a:lnTo>
                    <a:pt x="421" y="373"/>
                  </a:lnTo>
                  <a:lnTo>
                    <a:pt x="428" y="364"/>
                  </a:lnTo>
                  <a:lnTo>
                    <a:pt x="434" y="354"/>
                  </a:lnTo>
                  <a:lnTo>
                    <a:pt x="439" y="345"/>
                  </a:lnTo>
                  <a:lnTo>
                    <a:pt x="444" y="335"/>
                  </a:lnTo>
                  <a:lnTo>
                    <a:pt x="449" y="324"/>
                  </a:lnTo>
                  <a:lnTo>
                    <a:pt x="453" y="313"/>
                  </a:lnTo>
                  <a:lnTo>
                    <a:pt x="457" y="302"/>
                  </a:lnTo>
                  <a:lnTo>
                    <a:pt x="460" y="291"/>
                  </a:lnTo>
                  <a:lnTo>
                    <a:pt x="463" y="280"/>
                  </a:lnTo>
                  <a:lnTo>
                    <a:pt x="465" y="269"/>
                  </a:lnTo>
                  <a:lnTo>
                    <a:pt x="466" y="257"/>
                  </a:lnTo>
                  <a:lnTo>
                    <a:pt x="467" y="246"/>
                  </a:lnTo>
                  <a:lnTo>
                    <a:pt x="467" y="234"/>
                  </a:lnTo>
                  <a:lnTo>
                    <a:pt x="467" y="221"/>
                  </a:lnTo>
                  <a:lnTo>
                    <a:pt x="466" y="209"/>
                  </a:lnTo>
                  <a:lnTo>
                    <a:pt x="465" y="198"/>
                  </a:lnTo>
                  <a:lnTo>
                    <a:pt x="463" y="186"/>
                  </a:lnTo>
                  <a:lnTo>
                    <a:pt x="460" y="175"/>
                  </a:lnTo>
                  <a:lnTo>
                    <a:pt x="457" y="164"/>
                  </a:lnTo>
                  <a:lnTo>
                    <a:pt x="453" y="153"/>
                  </a:lnTo>
                  <a:lnTo>
                    <a:pt x="449" y="143"/>
                  </a:lnTo>
                  <a:lnTo>
                    <a:pt x="444" y="133"/>
                  </a:lnTo>
                  <a:lnTo>
                    <a:pt x="439" y="123"/>
                  </a:lnTo>
                  <a:lnTo>
                    <a:pt x="434" y="112"/>
                  </a:lnTo>
                  <a:lnTo>
                    <a:pt x="428" y="103"/>
                  </a:lnTo>
                  <a:lnTo>
                    <a:pt x="421" y="94"/>
                  </a:lnTo>
                  <a:lnTo>
                    <a:pt x="413" y="85"/>
                  </a:lnTo>
                  <a:lnTo>
                    <a:pt x="406" y="76"/>
                  </a:lnTo>
                  <a:lnTo>
                    <a:pt x="399" y="68"/>
                  </a:lnTo>
                  <a:lnTo>
                    <a:pt x="390" y="61"/>
                  </a:lnTo>
                  <a:lnTo>
                    <a:pt x="382" y="54"/>
                  </a:lnTo>
                  <a:lnTo>
                    <a:pt x="373" y="47"/>
                  </a:lnTo>
                  <a:lnTo>
                    <a:pt x="364" y="40"/>
                  </a:lnTo>
                  <a:lnTo>
                    <a:pt x="355" y="34"/>
                  </a:lnTo>
                  <a:lnTo>
                    <a:pt x="345" y="29"/>
                  </a:lnTo>
                  <a:lnTo>
                    <a:pt x="335" y="24"/>
                  </a:lnTo>
                  <a:lnTo>
                    <a:pt x="325" y="19"/>
                  </a:lnTo>
                  <a:lnTo>
                    <a:pt x="314" y="15"/>
                  </a:lnTo>
                  <a:lnTo>
                    <a:pt x="303" y="10"/>
                  </a:lnTo>
                  <a:lnTo>
                    <a:pt x="292" y="7"/>
                  </a:lnTo>
                  <a:lnTo>
                    <a:pt x="281" y="4"/>
                  </a:lnTo>
                  <a:lnTo>
                    <a:pt x="269" y="2"/>
                  </a:lnTo>
                  <a:lnTo>
                    <a:pt x="258" y="1"/>
                  </a:lnTo>
                  <a:lnTo>
                    <a:pt x="246" y="0"/>
                  </a:lnTo>
                  <a:lnTo>
                    <a:pt x="234" y="0"/>
                  </a:lnTo>
                  <a:lnTo>
                    <a:pt x="221" y="0"/>
                  </a:lnTo>
                  <a:lnTo>
                    <a:pt x="210" y="1"/>
                  </a:lnTo>
                  <a:lnTo>
                    <a:pt x="198" y="2"/>
                  </a:lnTo>
                  <a:lnTo>
                    <a:pt x="187" y="4"/>
                  </a:lnTo>
                  <a:lnTo>
                    <a:pt x="176" y="7"/>
                  </a:lnTo>
                  <a:lnTo>
                    <a:pt x="165" y="10"/>
                  </a:lnTo>
                  <a:lnTo>
                    <a:pt x="154" y="15"/>
                  </a:lnTo>
                  <a:lnTo>
                    <a:pt x="143" y="19"/>
                  </a:lnTo>
                  <a:lnTo>
                    <a:pt x="132" y="24"/>
                  </a:lnTo>
                  <a:lnTo>
                    <a:pt x="122" y="29"/>
                  </a:lnTo>
                  <a:lnTo>
                    <a:pt x="112" y="34"/>
                  </a:lnTo>
                  <a:lnTo>
                    <a:pt x="103" y="40"/>
                  </a:lnTo>
                  <a:lnTo>
                    <a:pt x="94" y="47"/>
                  </a:lnTo>
                  <a:lnTo>
                    <a:pt x="85" y="54"/>
                  </a:lnTo>
                  <a:lnTo>
                    <a:pt x="77" y="61"/>
                  </a:lnTo>
                  <a:lnTo>
                    <a:pt x="69" y="68"/>
                  </a:lnTo>
                  <a:lnTo>
                    <a:pt x="61" y="76"/>
                  </a:lnTo>
                  <a:lnTo>
                    <a:pt x="54" y="85"/>
                  </a:lnTo>
                  <a:lnTo>
                    <a:pt x="46" y="94"/>
                  </a:lnTo>
                  <a:lnTo>
                    <a:pt x="40" y="103"/>
                  </a:lnTo>
                  <a:lnTo>
                    <a:pt x="34" y="112"/>
                  </a:lnTo>
                  <a:lnTo>
                    <a:pt x="28" y="123"/>
                  </a:lnTo>
                  <a:lnTo>
                    <a:pt x="23" y="133"/>
                  </a:lnTo>
                  <a:lnTo>
                    <a:pt x="18" y="143"/>
                  </a:lnTo>
                  <a:lnTo>
                    <a:pt x="14" y="153"/>
                  </a:lnTo>
                  <a:lnTo>
                    <a:pt x="11" y="164"/>
                  </a:lnTo>
                  <a:lnTo>
                    <a:pt x="8" y="175"/>
                  </a:lnTo>
                  <a:lnTo>
                    <a:pt x="5" y="186"/>
                  </a:lnTo>
                  <a:lnTo>
                    <a:pt x="3" y="198"/>
                  </a:lnTo>
                  <a:lnTo>
                    <a:pt x="2" y="209"/>
                  </a:lnTo>
                  <a:lnTo>
                    <a:pt x="1" y="221"/>
                  </a:lnTo>
                  <a:lnTo>
                    <a:pt x="0" y="234"/>
                  </a:lnTo>
                  <a:lnTo>
                    <a:pt x="1" y="246"/>
                  </a:lnTo>
                  <a:lnTo>
                    <a:pt x="2" y="257"/>
                  </a:lnTo>
                  <a:lnTo>
                    <a:pt x="3" y="269"/>
                  </a:lnTo>
                  <a:lnTo>
                    <a:pt x="5" y="280"/>
                  </a:lnTo>
                  <a:lnTo>
                    <a:pt x="8" y="291"/>
                  </a:lnTo>
                  <a:lnTo>
                    <a:pt x="11" y="302"/>
                  </a:lnTo>
                  <a:lnTo>
                    <a:pt x="14" y="313"/>
                  </a:lnTo>
                  <a:lnTo>
                    <a:pt x="18" y="324"/>
                  </a:lnTo>
                  <a:lnTo>
                    <a:pt x="23" y="335"/>
                  </a:lnTo>
                  <a:lnTo>
                    <a:pt x="28" y="345"/>
                  </a:lnTo>
                  <a:lnTo>
                    <a:pt x="34" y="354"/>
                  </a:lnTo>
                  <a:lnTo>
                    <a:pt x="40" y="364"/>
                  </a:lnTo>
                  <a:lnTo>
                    <a:pt x="46" y="373"/>
                  </a:lnTo>
                  <a:lnTo>
                    <a:pt x="54" y="382"/>
                  </a:lnTo>
                  <a:lnTo>
                    <a:pt x="61" y="390"/>
                  </a:lnTo>
                  <a:lnTo>
                    <a:pt x="69" y="398"/>
                  </a:lnTo>
                  <a:lnTo>
                    <a:pt x="77" y="406"/>
                  </a:lnTo>
                  <a:lnTo>
                    <a:pt x="85" y="413"/>
                  </a:lnTo>
                  <a:lnTo>
                    <a:pt x="94" y="420"/>
                  </a:lnTo>
                  <a:lnTo>
                    <a:pt x="103" y="426"/>
                  </a:lnTo>
                  <a:lnTo>
                    <a:pt x="112" y="432"/>
                  </a:lnTo>
                  <a:lnTo>
                    <a:pt x="122" y="439"/>
                  </a:lnTo>
                  <a:lnTo>
                    <a:pt x="132" y="444"/>
                  </a:lnTo>
                  <a:lnTo>
                    <a:pt x="143" y="448"/>
                  </a:lnTo>
                  <a:lnTo>
                    <a:pt x="154" y="453"/>
                  </a:lnTo>
                  <a:lnTo>
                    <a:pt x="165" y="456"/>
                  </a:lnTo>
                  <a:lnTo>
                    <a:pt x="176" y="459"/>
                  </a:lnTo>
                  <a:lnTo>
                    <a:pt x="187" y="462"/>
                  </a:lnTo>
                  <a:lnTo>
                    <a:pt x="198" y="464"/>
                  </a:lnTo>
                  <a:lnTo>
                    <a:pt x="210" y="465"/>
                  </a:lnTo>
                  <a:lnTo>
                    <a:pt x="221" y="466"/>
                  </a:lnTo>
                  <a:lnTo>
                    <a:pt x="234" y="46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0" name="Freeform 450"/>
            <p:cNvSpPr/>
            <p:nvPr/>
          </p:nvSpPr>
          <p:spPr>
            <a:xfrm>
              <a:off x="7760160" y="5904000"/>
              <a:ext cx="176400" cy="143640"/>
            </a:xfrm>
            <a:custGeom>
              <a:avLst/>
              <a:gdLst>
                <a:gd name="textAreaLeft" fmla="*/ 0 w 176400"/>
                <a:gd name="textAreaRight" fmla="*/ 176760 w 176400"/>
                <a:gd name="textAreaTop" fmla="*/ 0 h 143640"/>
                <a:gd name="textAreaBottom" fmla="*/ 144000 h 143640"/>
              </a:gdLst>
              <a:ahLst/>
              <a:rect l="textAreaLeft" t="textAreaTop" r="textAreaRight" b="textAreaBottom"/>
              <a:pathLst>
                <a:path w="3263" h="3257">
                  <a:moveTo>
                    <a:pt x="1710" y="0"/>
                  </a:moveTo>
                  <a:lnTo>
                    <a:pt x="1701" y="0"/>
                  </a:lnTo>
                  <a:lnTo>
                    <a:pt x="1692" y="0"/>
                  </a:lnTo>
                  <a:lnTo>
                    <a:pt x="1681" y="0"/>
                  </a:lnTo>
                  <a:lnTo>
                    <a:pt x="1671" y="0"/>
                  </a:lnTo>
                  <a:lnTo>
                    <a:pt x="1660" y="0"/>
                  </a:lnTo>
                  <a:lnTo>
                    <a:pt x="1650" y="0"/>
                  </a:lnTo>
                  <a:lnTo>
                    <a:pt x="1640" y="0"/>
                  </a:lnTo>
                  <a:lnTo>
                    <a:pt x="1632" y="0"/>
                  </a:lnTo>
                  <a:lnTo>
                    <a:pt x="1548" y="2"/>
                  </a:lnTo>
                  <a:lnTo>
                    <a:pt x="1466" y="8"/>
                  </a:lnTo>
                  <a:lnTo>
                    <a:pt x="1384" y="18"/>
                  </a:lnTo>
                  <a:lnTo>
                    <a:pt x="1304" y="33"/>
                  </a:lnTo>
                  <a:lnTo>
                    <a:pt x="1225" y="52"/>
                  </a:lnTo>
                  <a:lnTo>
                    <a:pt x="1147" y="73"/>
                  </a:lnTo>
                  <a:lnTo>
                    <a:pt x="1071" y="99"/>
                  </a:lnTo>
                  <a:lnTo>
                    <a:pt x="997" y="128"/>
                  </a:lnTo>
                  <a:lnTo>
                    <a:pt x="926" y="161"/>
                  </a:lnTo>
                  <a:lnTo>
                    <a:pt x="855" y="197"/>
                  </a:lnTo>
                  <a:lnTo>
                    <a:pt x="787" y="236"/>
                  </a:lnTo>
                  <a:lnTo>
                    <a:pt x="720" y="279"/>
                  </a:lnTo>
                  <a:lnTo>
                    <a:pt x="657" y="324"/>
                  </a:lnTo>
                  <a:lnTo>
                    <a:pt x="595" y="373"/>
                  </a:lnTo>
                  <a:lnTo>
                    <a:pt x="535" y="423"/>
                  </a:lnTo>
                  <a:lnTo>
                    <a:pt x="479" y="478"/>
                  </a:lnTo>
                  <a:lnTo>
                    <a:pt x="425" y="534"/>
                  </a:lnTo>
                  <a:lnTo>
                    <a:pt x="374" y="593"/>
                  </a:lnTo>
                  <a:lnTo>
                    <a:pt x="325" y="654"/>
                  </a:lnTo>
                  <a:lnTo>
                    <a:pt x="280" y="719"/>
                  </a:lnTo>
                  <a:lnTo>
                    <a:pt x="237" y="784"/>
                  </a:lnTo>
                  <a:lnTo>
                    <a:pt x="198" y="853"/>
                  </a:lnTo>
                  <a:lnTo>
                    <a:pt x="161" y="923"/>
                  </a:lnTo>
                  <a:lnTo>
                    <a:pt x="129" y="995"/>
                  </a:lnTo>
                  <a:lnTo>
                    <a:pt x="100" y="1069"/>
                  </a:lnTo>
                  <a:lnTo>
                    <a:pt x="74" y="1145"/>
                  </a:lnTo>
                  <a:lnTo>
                    <a:pt x="52" y="1222"/>
                  </a:lnTo>
                  <a:lnTo>
                    <a:pt x="34" y="1300"/>
                  </a:lnTo>
                  <a:lnTo>
                    <a:pt x="20" y="1381"/>
                  </a:lnTo>
                  <a:lnTo>
                    <a:pt x="9" y="1462"/>
                  </a:lnTo>
                  <a:lnTo>
                    <a:pt x="2" y="1545"/>
                  </a:lnTo>
                  <a:lnTo>
                    <a:pt x="0" y="1628"/>
                  </a:lnTo>
                  <a:lnTo>
                    <a:pt x="0" y="1669"/>
                  </a:lnTo>
                  <a:lnTo>
                    <a:pt x="2" y="1709"/>
                  </a:lnTo>
                  <a:lnTo>
                    <a:pt x="5" y="1750"/>
                  </a:lnTo>
                  <a:lnTo>
                    <a:pt x="9" y="1790"/>
                  </a:lnTo>
                  <a:lnTo>
                    <a:pt x="13" y="1830"/>
                  </a:lnTo>
                  <a:lnTo>
                    <a:pt x="18" y="1870"/>
                  </a:lnTo>
                  <a:lnTo>
                    <a:pt x="25" y="1909"/>
                  </a:lnTo>
                  <a:lnTo>
                    <a:pt x="32" y="1949"/>
                  </a:lnTo>
                  <a:lnTo>
                    <a:pt x="40" y="1988"/>
                  </a:lnTo>
                  <a:lnTo>
                    <a:pt x="49" y="2026"/>
                  </a:lnTo>
                  <a:lnTo>
                    <a:pt x="59" y="2065"/>
                  </a:lnTo>
                  <a:lnTo>
                    <a:pt x="70" y="2103"/>
                  </a:lnTo>
                  <a:lnTo>
                    <a:pt x="82" y="2140"/>
                  </a:lnTo>
                  <a:lnTo>
                    <a:pt x="96" y="2179"/>
                  </a:lnTo>
                  <a:lnTo>
                    <a:pt x="109" y="2215"/>
                  </a:lnTo>
                  <a:lnTo>
                    <a:pt x="124" y="2252"/>
                  </a:lnTo>
                  <a:lnTo>
                    <a:pt x="140" y="2289"/>
                  </a:lnTo>
                  <a:lnTo>
                    <a:pt x="156" y="2324"/>
                  </a:lnTo>
                  <a:lnTo>
                    <a:pt x="173" y="2360"/>
                  </a:lnTo>
                  <a:lnTo>
                    <a:pt x="192" y="2396"/>
                  </a:lnTo>
                  <a:lnTo>
                    <a:pt x="211" y="2430"/>
                  </a:lnTo>
                  <a:lnTo>
                    <a:pt x="231" y="2464"/>
                  </a:lnTo>
                  <a:lnTo>
                    <a:pt x="252" y="2499"/>
                  </a:lnTo>
                  <a:lnTo>
                    <a:pt x="273" y="2532"/>
                  </a:lnTo>
                  <a:lnTo>
                    <a:pt x="297" y="2564"/>
                  </a:lnTo>
                  <a:lnTo>
                    <a:pt x="320" y="2597"/>
                  </a:lnTo>
                  <a:lnTo>
                    <a:pt x="344" y="2629"/>
                  </a:lnTo>
                  <a:lnTo>
                    <a:pt x="370" y="2660"/>
                  </a:lnTo>
                  <a:lnTo>
                    <a:pt x="396" y="2692"/>
                  </a:lnTo>
                  <a:lnTo>
                    <a:pt x="422" y="2722"/>
                  </a:lnTo>
                  <a:lnTo>
                    <a:pt x="450" y="2751"/>
                  </a:lnTo>
                  <a:lnTo>
                    <a:pt x="479" y="2780"/>
                  </a:lnTo>
                  <a:lnTo>
                    <a:pt x="508" y="2809"/>
                  </a:lnTo>
                  <a:lnTo>
                    <a:pt x="537" y="2836"/>
                  </a:lnTo>
                  <a:lnTo>
                    <a:pt x="568" y="2863"/>
                  </a:lnTo>
                  <a:lnTo>
                    <a:pt x="599" y="2889"/>
                  </a:lnTo>
                  <a:lnTo>
                    <a:pt x="630" y="2915"/>
                  </a:lnTo>
                  <a:lnTo>
                    <a:pt x="662" y="2939"/>
                  </a:lnTo>
                  <a:lnTo>
                    <a:pt x="694" y="2962"/>
                  </a:lnTo>
                  <a:lnTo>
                    <a:pt x="727" y="2984"/>
                  </a:lnTo>
                  <a:lnTo>
                    <a:pt x="761" y="3007"/>
                  </a:lnTo>
                  <a:lnTo>
                    <a:pt x="795" y="3027"/>
                  </a:lnTo>
                  <a:lnTo>
                    <a:pt x="830" y="3047"/>
                  </a:lnTo>
                  <a:lnTo>
                    <a:pt x="864" y="3066"/>
                  </a:lnTo>
                  <a:lnTo>
                    <a:pt x="899" y="3084"/>
                  </a:lnTo>
                  <a:lnTo>
                    <a:pt x="935" y="3103"/>
                  </a:lnTo>
                  <a:lnTo>
                    <a:pt x="971" y="3119"/>
                  </a:lnTo>
                  <a:lnTo>
                    <a:pt x="1007" y="3134"/>
                  </a:lnTo>
                  <a:lnTo>
                    <a:pt x="1044" y="3149"/>
                  </a:lnTo>
                  <a:lnTo>
                    <a:pt x="1081" y="3163"/>
                  </a:lnTo>
                  <a:lnTo>
                    <a:pt x="1119" y="3175"/>
                  </a:lnTo>
                  <a:lnTo>
                    <a:pt x="1157" y="3187"/>
                  </a:lnTo>
                  <a:lnTo>
                    <a:pt x="1195" y="3198"/>
                  </a:lnTo>
                  <a:lnTo>
                    <a:pt x="1233" y="3209"/>
                  </a:lnTo>
                  <a:lnTo>
                    <a:pt x="1272" y="3218"/>
                  </a:lnTo>
                  <a:lnTo>
                    <a:pt x="1311" y="3226"/>
                  </a:lnTo>
                  <a:lnTo>
                    <a:pt x="1350" y="3234"/>
                  </a:lnTo>
                  <a:lnTo>
                    <a:pt x="1390" y="3240"/>
                  </a:lnTo>
                  <a:lnTo>
                    <a:pt x="1430" y="3245"/>
                  </a:lnTo>
                  <a:lnTo>
                    <a:pt x="1470" y="3249"/>
                  </a:lnTo>
                  <a:lnTo>
                    <a:pt x="1510" y="3253"/>
                  </a:lnTo>
                  <a:lnTo>
                    <a:pt x="1550" y="3255"/>
                  </a:lnTo>
                  <a:lnTo>
                    <a:pt x="1591" y="3257"/>
                  </a:lnTo>
                  <a:lnTo>
                    <a:pt x="1632" y="3257"/>
                  </a:lnTo>
                  <a:lnTo>
                    <a:pt x="1673" y="3257"/>
                  </a:lnTo>
                  <a:lnTo>
                    <a:pt x="1713" y="3255"/>
                  </a:lnTo>
                  <a:lnTo>
                    <a:pt x="1754" y="3253"/>
                  </a:lnTo>
                  <a:lnTo>
                    <a:pt x="1794" y="3249"/>
                  </a:lnTo>
                  <a:lnTo>
                    <a:pt x="1834" y="3245"/>
                  </a:lnTo>
                  <a:lnTo>
                    <a:pt x="1874" y="3240"/>
                  </a:lnTo>
                  <a:lnTo>
                    <a:pt x="1913" y="3234"/>
                  </a:lnTo>
                  <a:lnTo>
                    <a:pt x="1953" y="3226"/>
                  </a:lnTo>
                  <a:lnTo>
                    <a:pt x="1991" y="3218"/>
                  </a:lnTo>
                  <a:lnTo>
                    <a:pt x="2031" y="3209"/>
                  </a:lnTo>
                  <a:lnTo>
                    <a:pt x="2069" y="3198"/>
                  </a:lnTo>
                  <a:lnTo>
                    <a:pt x="2108" y="3187"/>
                  </a:lnTo>
                  <a:lnTo>
                    <a:pt x="2145" y="3175"/>
                  </a:lnTo>
                  <a:lnTo>
                    <a:pt x="2182" y="3163"/>
                  </a:lnTo>
                  <a:lnTo>
                    <a:pt x="2220" y="3149"/>
                  </a:lnTo>
                  <a:lnTo>
                    <a:pt x="2256" y="3134"/>
                  </a:lnTo>
                  <a:lnTo>
                    <a:pt x="2293" y="3119"/>
                  </a:lnTo>
                  <a:lnTo>
                    <a:pt x="2329" y="3103"/>
                  </a:lnTo>
                  <a:lnTo>
                    <a:pt x="2364" y="3084"/>
                  </a:lnTo>
                  <a:lnTo>
                    <a:pt x="2400" y="3066"/>
                  </a:lnTo>
                  <a:lnTo>
                    <a:pt x="2435" y="3047"/>
                  </a:lnTo>
                  <a:lnTo>
                    <a:pt x="2469" y="3027"/>
                  </a:lnTo>
                  <a:lnTo>
                    <a:pt x="2503" y="3007"/>
                  </a:lnTo>
                  <a:lnTo>
                    <a:pt x="2536" y="2984"/>
                  </a:lnTo>
                  <a:lnTo>
                    <a:pt x="2570" y="2962"/>
                  </a:lnTo>
                  <a:lnTo>
                    <a:pt x="2602" y="2939"/>
                  </a:lnTo>
                  <a:lnTo>
                    <a:pt x="2634" y="2914"/>
                  </a:lnTo>
                  <a:lnTo>
                    <a:pt x="2666" y="2889"/>
                  </a:lnTo>
                  <a:lnTo>
                    <a:pt x="2696" y="2863"/>
                  </a:lnTo>
                  <a:lnTo>
                    <a:pt x="2726" y="2836"/>
                  </a:lnTo>
                  <a:lnTo>
                    <a:pt x="2757" y="2809"/>
                  </a:lnTo>
                  <a:lnTo>
                    <a:pt x="2786" y="2780"/>
                  </a:lnTo>
                  <a:lnTo>
                    <a:pt x="2814" y="2751"/>
                  </a:lnTo>
                  <a:lnTo>
                    <a:pt x="2842" y="2722"/>
                  </a:lnTo>
                  <a:lnTo>
                    <a:pt x="2869" y="2692"/>
                  </a:lnTo>
                  <a:lnTo>
                    <a:pt x="2894" y="2660"/>
                  </a:lnTo>
                  <a:lnTo>
                    <a:pt x="2919" y="2629"/>
                  </a:lnTo>
                  <a:lnTo>
                    <a:pt x="2944" y="2597"/>
                  </a:lnTo>
                  <a:lnTo>
                    <a:pt x="2968" y="2564"/>
                  </a:lnTo>
                  <a:lnTo>
                    <a:pt x="2990" y="2532"/>
                  </a:lnTo>
                  <a:lnTo>
                    <a:pt x="3012" y="2499"/>
                  </a:lnTo>
                  <a:lnTo>
                    <a:pt x="3033" y="2464"/>
                  </a:lnTo>
                  <a:lnTo>
                    <a:pt x="3053" y="2430"/>
                  </a:lnTo>
                  <a:lnTo>
                    <a:pt x="3072" y="2396"/>
                  </a:lnTo>
                  <a:lnTo>
                    <a:pt x="3090" y="2360"/>
                  </a:lnTo>
                  <a:lnTo>
                    <a:pt x="3107" y="2324"/>
                  </a:lnTo>
                  <a:lnTo>
                    <a:pt x="3125" y="2289"/>
                  </a:lnTo>
                  <a:lnTo>
                    <a:pt x="3140" y="2252"/>
                  </a:lnTo>
                  <a:lnTo>
                    <a:pt x="3155" y="2215"/>
                  </a:lnTo>
                  <a:lnTo>
                    <a:pt x="3168" y="2179"/>
                  </a:lnTo>
                  <a:lnTo>
                    <a:pt x="3181" y="2140"/>
                  </a:lnTo>
                  <a:lnTo>
                    <a:pt x="3193" y="2103"/>
                  </a:lnTo>
                  <a:lnTo>
                    <a:pt x="3205" y="2065"/>
                  </a:lnTo>
                  <a:lnTo>
                    <a:pt x="3215" y="2026"/>
                  </a:lnTo>
                  <a:lnTo>
                    <a:pt x="3224" y="1988"/>
                  </a:lnTo>
                  <a:lnTo>
                    <a:pt x="3232" y="1949"/>
                  </a:lnTo>
                  <a:lnTo>
                    <a:pt x="3239" y="1909"/>
                  </a:lnTo>
                  <a:lnTo>
                    <a:pt x="3246" y="1870"/>
                  </a:lnTo>
                  <a:lnTo>
                    <a:pt x="3251" y="1830"/>
                  </a:lnTo>
                  <a:lnTo>
                    <a:pt x="3255" y="1790"/>
                  </a:lnTo>
                  <a:lnTo>
                    <a:pt x="3259" y="1750"/>
                  </a:lnTo>
                  <a:lnTo>
                    <a:pt x="3261" y="1709"/>
                  </a:lnTo>
                  <a:lnTo>
                    <a:pt x="3263" y="1669"/>
                  </a:lnTo>
                  <a:lnTo>
                    <a:pt x="3263" y="1628"/>
                  </a:lnTo>
                  <a:lnTo>
                    <a:pt x="3263" y="1554"/>
                  </a:lnTo>
                  <a:lnTo>
                    <a:pt x="3198" y="1555"/>
                  </a:lnTo>
                  <a:lnTo>
                    <a:pt x="2098" y="1555"/>
                  </a:lnTo>
                  <a:lnTo>
                    <a:pt x="2098" y="1705"/>
                  </a:lnTo>
                  <a:lnTo>
                    <a:pt x="3108" y="1705"/>
                  </a:lnTo>
                  <a:lnTo>
                    <a:pt x="3108" y="1707"/>
                  </a:lnTo>
                  <a:lnTo>
                    <a:pt x="3108" y="1709"/>
                  </a:lnTo>
                  <a:lnTo>
                    <a:pt x="3108" y="1713"/>
                  </a:lnTo>
                  <a:lnTo>
                    <a:pt x="3108" y="1716"/>
                  </a:lnTo>
                  <a:lnTo>
                    <a:pt x="3108" y="1720"/>
                  </a:lnTo>
                  <a:lnTo>
                    <a:pt x="3107" y="1723"/>
                  </a:lnTo>
                  <a:lnTo>
                    <a:pt x="3107" y="1726"/>
                  </a:lnTo>
                  <a:lnTo>
                    <a:pt x="3107" y="1728"/>
                  </a:lnTo>
                  <a:lnTo>
                    <a:pt x="3101" y="1799"/>
                  </a:lnTo>
                  <a:lnTo>
                    <a:pt x="3091" y="1870"/>
                  </a:lnTo>
                  <a:lnTo>
                    <a:pt x="3078" y="1939"/>
                  </a:lnTo>
                  <a:lnTo>
                    <a:pt x="3062" y="2008"/>
                  </a:lnTo>
                  <a:lnTo>
                    <a:pt x="3042" y="2075"/>
                  </a:lnTo>
                  <a:lnTo>
                    <a:pt x="3020" y="2140"/>
                  </a:lnTo>
                  <a:lnTo>
                    <a:pt x="2994" y="2205"/>
                  </a:lnTo>
                  <a:lnTo>
                    <a:pt x="2966" y="2268"/>
                  </a:lnTo>
                  <a:lnTo>
                    <a:pt x="2935" y="2328"/>
                  </a:lnTo>
                  <a:lnTo>
                    <a:pt x="2900" y="2388"/>
                  </a:lnTo>
                  <a:lnTo>
                    <a:pt x="2864" y="2445"/>
                  </a:lnTo>
                  <a:lnTo>
                    <a:pt x="2824" y="2501"/>
                  </a:lnTo>
                  <a:lnTo>
                    <a:pt x="2783" y="2555"/>
                  </a:lnTo>
                  <a:lnTo>
                    <a:pt x="2738" y="2607"/>
                  </a:lnTo>
                  <a:lnTo>
                    <a:pt x="2692" y="2657"/>
                  </a:lnTo>
                  <a:lnTo>
                    <a:pt x="2643" y="2705"/>
                  </a:lnTo>
                  <a:lnTo>
                    <a:pt x="2593" y="2750"/>
                  </a:lnTo>
                  <a:lnTo>
                    <a:pt x="2540" y="2794"/>
                  </a:lnTo>
                  <a:lnTo>
                    <a:pt x="2486" y="2834"/>
                  </a:lnTo>
                  <a:lnTo>
                    <a:pt x="2429" y="2872"/>
                  </a:lnTo>
                  <a:lnTo>
                    <a:pt x="2370" y="2908"/>
                  </a:lnTo>
                  <a:lnTo>
                    <a:pt x="2311" y="2940"/>
                  </a:lnTo>
                  <a:lnTo>
                    <a:pt x="2249" y="2970"/>
                  </a:lnTo>
                  <a:lnTo>
                    <a:pt x="2185" y="2998"/>
                  </a:lnTo>
                  <a:lnTo>
                    <a:pt x="2121" y="3023"/>
                  </a:lnTo>
                  <a:lnTo>
                    <a:pt x="2054" y="3044"/>
                  </a:lnTo>
                  <a:lnTo>
                    <a:pt x="1986" y="3062"/>
                  </a:lnTo>
                  <a:lnTo>
                    <a:pt x="1917" y="3077"/>
                  </a:lnTo>
                  <a:lnTo>
                    <a:pt x="1848" y="3089"/>
                  </a:lnTo>
                  <a:lnTo>
                    <a:pt x="1777" y="3098"/>
                  </a:lnTo>
                  <a:lnTo>
                    <a:pt x="1705" y="3104"/>
                  </a:lnTo>
                  <a:lnTo>
                    <a:pt x="1632" y="3106"/>
                  </a:lnTo>
                  <a:lnTo>
                    <a:pt x="1595" y="3105"/>
                  </a:lnTo>
                  <a:lnTo>
                    <a:pt x="1559" y="3104"/>
                  </a:lnTo>
                  <a:lnTo>
                    <a:pt x="1521" y="3101"/>
                  </a:lnTo>
                  <a:lnTo>
                    <a:pt x="1485" y="3098"/>
                  </a:lnTo>
                  <a:lnTo>
                    <a:pt x="1449" y="3094"/>
                  </a:lnTo>
                  <a:lnTo>
                    <a:pt x="1413" y="3089"/>
                  </a:lnTo>
                  <a:lnTo>
                    <a:pt x="1377" y="3083"/>
                  </a:lnTo>
                  <a:lnTo>
                    <a:pt x="1341" y="3077"/>
                  </a:lnTo>
                  <a:lnTo>
                    <a:pt x="1306" y="3069"/>
                  </a:lnTo>
                  <a:lnTo>
                    <a:pt x="1270" y="3061"/>
                  </a:lnTo>
                  <a:lnTo>
                    <a:pt x="1236" y="3052"/>
                  </a:lnTo>
                  <a:lnTo>
                    <a:pt x="1202" y="3042"/>
                  </a:lnTo>
                  <a:lnTo>
                    <a:pt x="1167" y="3031"/>
                  </a:lnTo>
                  <a:lnTo>
                    <a:pt x="1133" y="3020"/>
                  </a:lnTo>
                  <a:lnTo>
                    <a:pt x="1099" y="3007"/>
                  </a:lnTo>
                  <a:lnTo>
                    <a:pt x="1066" y="2993"/>
                  </a:lnTo>
                  <a:lnTo>
                    <a:pt x="1033" y="2979"/>
                  </a:lnTo>
                  <a:lnTo>
                    <a:pt x="1000" y="2964"/>
                  </a:lnTo>
                  <a:lnTo>
                    <a:pt x="968" y="2949"/>
                  </a:lnTo>
                  <a:lnTo>
                    <a:pt x="936" y="2932"/>
                  </a:lnTo>
                  <a:lnTo>
                    <a:pt x="904" y="2915"/>
                  </a:lnTo>
                  <a:lnTo>
                    <a:pt x="873" y="2897"/>
                  </a:lnTo>
                  <a:lnTo>
                    <a:pt x="842" y="2877"/>
                  </a:lnTo>
                  <a:lnTo>
                    <a:pt x="811" y="2858"/>
                  </a:lnTo>
                  <a:lnTo>
                    <a:pt x="782" y="2837"/>
                  </a:lnTo>
                  <a:lnTo>
                    <a:pt x="753" y="2816"/>
                  </a:lnTo>
                  <a:lnTo>
                    <a:pt x="723" y="2795"/>
                  </a:lnTo>
                  <a:lnTo>
                    <a:pt x="695" y="2771"/>
                  </a:lnTo>
                  <a:lnTo>
                    <a:pt x="667" y="2748"/>
                  </a:lnTo>
                  <a:lnTo>
                    <a:pt x="639" y="2724"/>
                  </a:lnTo>
                  <a:lnTo>
                    <a:pt x="612" y="2699"/>
                  </a:lnTo>
                  <a:lnTo>
                    <a:pt x="586" y="2672"/>
                  </a:lnTo>
                  <a:lnTo>
                    <a:pt x="561" y="2646"/>
                  </a:lnTo>
                  <a:lnTo>
                    <a:pt x="535" y="2619"/>
                  </a:lnTo>
                  <a:lnTo>
                    <a:pt x="511" y="2592"/>
                  </a:lnTo>
                  <a:lnTo>
                    <a:pt x="488" y="2563"/>
                  </a:lnTo>
                  <a:lnTo>
                    <a:pt x="465" y="2535"/>
                  </a:lnTo>
                  <a:lnTo>
                    <a:pt x="442" y="2507"/>
                  </a:lnTo>
                  <a:lnTo>
                    <a:pt x="421" y="2478"/>
                  </a:lnTo>
                  <a:lnTo>
                    <a:pt x="401" y="2447"/>
                  </a:lnTo>
                  <a:lnTo>
                    <a:pt x="381" y="2417"/>
                  </a:lnTo>
                  <a:lnTo>
                    <a:pt x="361" y="2387"/>
                  </a:lnTo>
                  <a:lnTo>
                    <a:pt x="343" y="2355"/>
                  </a:lnTo>
                  <a:lnTo>
                    <a:pt x="326" y="2324"/>
                  </a:lnTo>
                  <a:lnTo>
                    <a:pt x="310" y="2292"/>
                  </a:lnTo>
                  <a:lnTo>
                    <a:pt x="294" y="2259"/>
                  </a:lnTo>
                  <a:lnTo>
                    <a:pt x="279" y="2227"/>
                  </a:lnTo>
                  <a:lnTo>
                    <a:pt x="264" y="2194"/>
                  </a:lnTo>
                  <a:lnTo>
                    <a:pt x="251" y="2161"/>
                  </a:lnTo>
                  <a:lnTo>
                    <a:pt x="239" y="2127"/>
                  </a:lnTo>
                  <a:lnTo>
                    <a:pt x="227" y="2093"/>
                  </a:lnTo>
                  <a:lnTo>
                    <a:pt x="217" y="2059"/>
                  </a:lnTo>
                  <a:lnTo>
                    <a:pt x="207" y="2024"/>
                  </a:lnTo>
                  <a:lnTo>
                    <a:pt x="198" y="1989"/>
                  </a:lnTo>
                  <a:lnTo>
                    <a:pt x="189" y="1955"/>
                  </a:lnTo>
                  <a:lnTo>
                    <a:pt x="181" y="1918"/>
                  </a:lnTo>
                  <a:lnTo>
                    <a:pt x="174" y="1883"/>
                  </a:lnTo>
                  <a:lnTo>
                    <a:pt x="169" y="1848"/>
                  </a:lnTo>
                  <a:lnTo>
                    <a:pt x="164" y="1811"/>
                  </a:lnTo>
                  <a:lnTo>
                    <a:pt x="160" y="1775"/>
                  </a:lnTo>
                  <a:lnTo>
                    <a:pt x="157" y="1739"/>
                  </a:lnTo>
                  <a:lnTo>
                    <a:pt x="155" y="1702"/>
                  </a:lnTo>
                  <a:lnTo>
                    <a:pt x="153" y="1665"/>
                  </a:lnTo>
                  <a:lnTo>
                    <a:pt x="153" y="1628"/>
                  </a:lnTo>
                  <a:lnTo>
                    <a:pt x="153" y="1591"/>
                  </a:lnTo>
                  <a:lnTo>
                    <a:pt x="155" y="1555"/>
                  </a:lnTo>
                  <a:lnTo>
                    <a:pt x="157" y="1518"/>
                  </a:lnTo>
                  <a:lnTo>
                    <a:pt x="160" y="1482"/>
                  </a:lnTo>
                  <a:lnTo>
                    <a:pt x="164" y="1446"/>
                  </a:lnTo>
                  <a:lnTo>
                    <a:pt x="169" y="1409"/>
                  </a:lnTo>
                  <a:lnTo>
                    <a:pt x="174" y="1374"/>
                  </a:lnTo>
                  <a:lnTo>
                    <a:pt x="181" y="1338"/>
                  </a:lnTo>
                  <a:lnTo>
                    <a:pt x="189" y="1302"/>
                  </a:lnTo>
                  <a:lnTo>
                    <a:pt x="198" y="1268"/>
                  </a:lnTo>
                  <a:lnTo>
                    <a:pt x="207" y="1233"/>
                  </a:lnTo>
                  <a:lnTo>
                    <a:pt x="217" y="1198"/>
                  </a:lnTo>
                  <a:lnTo>
                    <a:pt x="227" y="1164"/>
                  </a:lnTo>
                  <a:lnTo>
                    <a:pt x="239" y="1130"/>
                  </a:lnTo>
                  <a:lnTo>
                    <a:pt x="251" y="1096"/>
                  </a:lnTo>
                  <a:lnTo>
                    <a:pt x="264" y="1063"/>
                  </a:lnTo>
                  <a:lnTo>
                    <a:pt x="279" y="1030"/>
                  </a:lnTo>
                  <a:lnTo>
                    <a:pt x="294" y="997"/>
                  </a:lnTo>
                  <a:lnTo>
                    <a:pt x="310" y="965"/>
                  </a:lnTo>
                  <a:lnTo>
                    <a:pt x="326" y="933"/>
                  </a:lnTo>
                  <a:lnTo>
                    <a:pt x="343" y="902"/>
                  </a:lnTo>
                  <a:lnTo>
                    <a:pt x="361" y="870"/>
                  </a:lnTo>
                  <a:lnTo>
                    <a:pt x="381" y="840"/>
                  </a:lnTo>
                  <a:lnTo>
                    <a:pt x="401" y="810"/>
                  </a:lnTo>
                  <a:lnTo>
                    <a:pt x="421" y="779"/>
                  </a:lnTo>
                  <a:lnTo>
                    <a:pt x="442" y="750"/>
                  </a:lnTo>
                  <a:lnTo>
                    <a:pt x="465" y="722"/>
                  </a:lnTo>
                  <a:lnTo>
                    <a:pt x="488" y="693"/>
                  </a:lnTo>
                  <a:lnTo>
                    <a:pt x="511" y="665"/>
                  </a:lnTo>
                  <a:lnTo>
                    <a:pt x="535" y="638"/>
                  </a:lnTo>
                  <a:lnTo>
                    <a:pt x="561" y="611"/>
                  </a:lnTo>
                  <a:lnTo>
                    <a:pt x="586" y="585"/>
                  </a:lnTo>
                  <a:lnTo>
                    <a:pt x="612" y="558"/>
                  </a:lnTo>
                  <a:lnTo>
                    <a:pt x="639" y="533"/>
                  </a:lnTo>
                  <a:lnTo>
                    <a:pt x="667" y="509"/>
                  </a:lnTo>
                  <a:lnTo>
                    <a:pt x="695" y="486"/>
                  </a:lnTo>
                  <a:lnTo>
                    <a:pt x="723" y="462"/>
                  </a:lnTo>
                  <a:lnTo>
                    <a:pt x="753" y="441"/>
                  </a:lnTo>
                  <a:lnTo>
                    <a:pt x="782" y="420"/>
                  </a:lnTo>
                  <a:lnTo>
                    <a:pt x="811" y="399"/>
                  </a:lnTo>
                  <a:lnTo>
                    <a:pt x="842" y="380"/>
                  </a:lnTo>
                  <a:lnTo>
                    <a:pt x="873" y="360"/>
                  </a:lnTo>
                  <a:lnTo>
                    <a:pt x="904" y="342"/>
                  </a:lnTo>
                  <a:lnTo>
                    <a:pt x="936" y="325"/>
                  </a:lnTo>
                  <a:lnTo>
                    <a:pt x="968" y="308"/>
                  </a:lnTo>
                  <a:lnTo>
                    <a:pt x="1000" y="293"/>
                  </a:lnTo>
                  <a:lnTo>
                    <a:pt x="1033" y="278"/>
                  </a:lnTo>
                  <a:lnTo>
                    <a:pt x="1066" y="264"/>
                  </a:lnTo>
                  <a:lnTo>
                    <a:pt x="1099" y="250"/>
                  </a:lnTo>
                  <a:lnTo>
                    <a:pt x="1133" y="237"/>
                  </a:lnTo>
                  <a:lnTo>
                    <a:pt x="1167" y="226"/>
                  </a:lnTo>
                  <a:lnTo>
                    <a:pt x="1202" y="215"/>
                  </a:lnTo>
                  <a:lnTo>
                    <a:pt x="1236" y="205"/>
                  </a:lnTo>
                  <a:lnTo>
                    <a:pt x="1270" y="196"/>
                  </a:lnTo>
                  <a:lnTo>
                    <a:pt x="1306" y="188"/>
                  </a:lnTo>
                  <a:lnTo>
                    <a:pt x="1341" y="180"/>
                  </a:lnTo>
                  <a:lnTo>
                    <a:pt x="1377" y="174"/>
                  </a:lnTo>
                  <a:lnTo>
                    <a:pt x="1413" y="168"/>
                  </a:lnTo>
                  <a:lnTo>
                    <a:pt x="1449" y="163"/>
                  </a:lnTo>
                  <a:lnTo>
                    <a:pt x="1485" y="159"/>
                  </a:lnTo>
                  <a:lnTo>
                    <a:pt x="1521" y="155"/>
                  </a:lnTo>
                  <a:lnTo>
                    <a:pt x="1559" y="153"/>
                  </a:lnTo>
                  <a:lnTo>
                    <a:pt x="1595" y="152"/>
                  </a:lnTo>
                  <a:lnTo>
                    <a:pt x="1632" y="151"/>
                  </a:lnTo>
                  <a:lnTo>
                    <a:pt x="1639" y="151"/>
                  </a:lnTo>
                  <a:lnTo>
                    <a:pt x="1649" y="151"/>
                  </a:lnTo>
                  <a:lnTo>
                    <a:pt x="1660" y="151"/>
                  </a:lnTo>
                  <a:lnTo>
                    <a:pt x="1671" y="152"/>
                  </a:lnTo>
                  <a:lnTo>
                    <a:pt x="1682" y="152"/>
                  </a:lnTo>
                  <a:lnTo>
                    <a:pt x="1692" y="152"/>
                  </a:lnTo>
                  <a:lnTo>
                    <a:pt x="1702" y="152"/>
                  </a:lnTo>
                  <a:lnTo>
                    <a:pt x="1710" y="152"/>
                  </a:lnTo>
                  <a:lnTo>
                    <a:pt x="171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1" name="Text Box 451"/>
          <p:cNvSpPr/>
          <p:nvPr/>
        </p:nvSpPr>
        <p:spPr>
          <a:xfrm>
            <a:off x="8056080" y="5470560"/>
            <a:ext cx="4550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营销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2" name="Text Box 452"/>
          <p:cNvSpPr/>
          <p:nvPr/>
        </p:nvSpPr>
        <p:spPr>
          <a:xfrm>
            <a:off x="8096040" y="5803920"/>
            <a:ext cx="54648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生产法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83" name=""/>
          <p:cNvGraphicFramePr/>
          <p:nvPr/>
        </p:nvGraphicFramePr>
        <p:xfrm>
          <a:off x="322200" y="612720"/>
          <a:ext cx="1584360" cy="1038240"/>
        </p:xfrm>
        <a:graphic>
          <a:graphicData uri="http://schemas.openxmlformats.org/drawingml/2006/table">
            <a:tbl>
              <a:tblPr/>
              <a:tblGrid>
                <a:gridCol w="743040"/>
                <a:gridCol w="841320"/>
              </a:tblGrid>
              <a:tr h="259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ffffff"/>
                          </a:solidFill>
                          <a:latin typeface="Arial"/>
                          <a:ea typeface="Dotum"/>
                        </a:rPr>
                        <a:t>省</a:t>
                      </a: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Dotum"/>
                        </a:rPr>
                        <a:t>/</a:t>
                      </a:r>
                      <a:r>
                        <a:rPr b="0" lang="zh-CN" sz="1100" spc="-1" strike="noStrike">
                          <a:solidFill>
                            <a:srgbClr val="ffffff"/>
                          </a:solidFill>
                          <a:latin typeface="Arial"/>
                          <a:ea typeface="Dotum"/>
                        </a:rPr>
                        <a:t>市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a7e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Dotum"/>
                        </a:rPr>
                        <a:t>31</a:t>
                      </a:r>
                      <a:r>
                        <a:rPr b="0" lang="zh-CN" sz="1100" spc="-1" strike="noStrike">
                          <a:solidFill>
                            <a:srgbClr val="ffffff"/>
                          </a:solidFill>
                          <a:latin typeface="Arial"/>
                          <a:ea typeface="Dotum"/>
                        </a:rPr>
                        <a:t>个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a7e2"/>
                    </a:solidFill>
                  </a:tcPr>
                </a:tc>
              </a:tr>
              <a:tr h="259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ffffff"/>
                          </a:solidFill>
                          <a:latin typeface="Arial"/>
                          <a:ea typeface="Dotum"/>
                        </a:rPr>
                        <a:t>分公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a7e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Dotum"/>
                        </a:rPr>
                        <a:t>5</a:t>
                      </a:r>
                      <a:r>
                        <a:rPr b="0" lang="zh-CN" sz="1100" spc="-1" strike="noStrike">
                          <a:solidFill>
                            <a:srgbClr val="ffffff"/>
                          </a:solidFill>
                          <a:latin typeface="Arial"/>
                          <a:ea typeface="Dotum"/>
                        </a:rPr>
                        <a:t>个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a7e2"/>
                    </a:solidFill>
                  </a:tcPr>
                </a:tc>
              </a:tr>
              <a:tr h="259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ffffff"/>
                          </a:solidFill>
                          <a:latin typeface="Arial"/>
                          <a:ea typeface="Dotum"/>
                        </a:rPr>
                        <a:t>营销部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a7e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Dotum"/>
                        </a:rPr>
                        <a:t>28</a:t>
                      </a:r>
                      <a:r>
                        <a:rPr b="0" lang="zh-CN" sz="1100" spc="-1" strike="noStrike">
                          <a:solidFill>
                            <a:srgbClr val="ffffff"/>
                          </a:solidFill>
                          <a:latin typeface="Arial"/>
                          <a:ea typeface="Dotum"/>
                        </a:rPr>
                        <a:t>个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a7e2"/>
                    </a:solidFill>
                  </a:tcPr>
                </a:tc>
              </a:tr>
              <a:tr h="259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100" spc="-1" strike="noStrike">
                          <a:solidFill>
                            <a:srgbClr val="ffffff"/>
                          </a:solidFill>
                          <a:latin typeface="Arial"/>
                          <a:ea typeface="Dotum"/>
                        </a:rPr>
                        <a:t>生产法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7e2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Dotum"/>
                        </a:rPr>
                        <a:t>5</a:t>
                      </a:r>
                      <a:r>
                        <a:rPr b="0" lang="zh-CN" sz="1100" spc="-1" strike="noStrike">
                          <a:solidFill>
                            <a:srgbClr val="ffffff"/>
                          </a:solidFill>
                          <a:latin typeface="Arial"/>
                          <a:ea typeface="Dotum"/>
                        </a:rPr>
                        <a:t>个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a7e2"/>
                    </a:solidFill>
                  </a:tcPr>
                </a:tc>
              </a:tr>
            </a:tbl>
          </a:graphicData>
        </a:graphic>
      </p:graphicFrame>
      <p:grpSp>
        <p:nvGrpSpPr>
          <p:cNvPr id="4284" name=""/>
          <p:cNvGrpSpPr/>
          <p:nvPr/>
        </p:nvGrpSpPr>
        <p:grpSpPr>
          <a:xfrm>
            <a:off x="0" y="6443640"/>
            <a:ext cx="9918720" cy="237960"/>
            <a:chOff x="0" y="6443640"/>
            <a:chExt cx="9918720" cy="237960"/>
          </a:xfrm>
        </p:grpSpPr>
        <p:pic>
          <p:nvPicPr>
            <p:cNvPr id="4285" name="矩形 151" descr=""/>
            <p:cNvPicPr/>
            <p:nvPr/>
          </p:nvPicPr>
          <p:blipFill>
            <a:blip r:embed="rId6"/>
            <a:stretch/>
          </p:blipFill>
          <p:spPr>
            <a:xfrm>
              <a:off x="0" y="6443640"/>
              <a:ext cx="991728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86" name=""/>
            <p:cNvSpPr/>
            <p:nvPr/>
          </p:nvSpPr>
          <p:spPr>
            <a:xfrm>
              <a:off x="0" y="6445080"/>
              <a:ext cx="9918720" cy="23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7" name="灯片编号占位符 5"/>
          <p:cNvSpPr/>
          <p:nvPr/>
        </p:nvSpPr>
        <p:spPr>
          <a:xfrm>
            <a:off x="7397640" y="6399360"/>
            <a:ext cx="1486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ge   </a:t>
            </a:r>
            <a:fld id="{F8E13718-2642-4EA0-ADAF-100B318055A0}" type="slidenum">
              <a:rPr b="0" lang="zh-CN" sz="1000" spc="-1" strike="noStrike">
                <a:solidFill>
                  <a:srgbClr val="ffffff"/>
                </a:solidFill>
                <a:latin typeface="华文宋体"/>
                <a:ea typeface="华文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8" name="PlaceHolder 1"/>
          <p:cNvSpPr>
            <a:spLocks noGrp="1"/>
          </p:cNvSpPr>
          <p:nvPr>
            <p:ph type="title"/>
          </p:nvPr>
        </p:nvSpPr>
        <p:spPr>
          <a:xfrm>
            <a:off x="507600" y="189000"/>
            <a:ext cx="889164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9" name="PlaceHolder 2"/>
          <p:cNvSpPr>
            <a:spLocks noGrp="1"/>
          </p:cNvSpPr>
          <p:nvPr>
            <p:ph/>
          </p:nvPr>
        </p:nvSpPr>
        <p:spPr>
          <a:xfrm>
            <a:off x="117360" y="1269720"/>
            <a:ext cx="9671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ko-KR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ko-KR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ko-KR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ko-KR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ko-KR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ko-KR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ko-KR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ko-KR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ko-KR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ko-KR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ko-KR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ko-KR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ko-KR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ko-KR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ko-KR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ko-KR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ko-KR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ko-KR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ko-KR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ko-KR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0" name="Rectangle 7"/>
          <p:cNvSpPr/>
          <p:nvPr/>
        </p:nvSpPr>
        <p:spPr>
          <a:xfrm>
            <a:off x="7894800" y="333360"/>
            <a:ext cx="150480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1" name="AutoShape 2"/>
          <p:cNvSpPr/>
          <p:nvPr/>
        </p:nvSpPr>
        <p:spPr>
          <a:xfrm>
            <a:off x="685800" y="1411200"/>
            <a:ext cx="1079640" cy="311400"/>
          </a:xfrm>
          <a:prstGeom prst="roundRect">
            <a:avLst>
              <a:gd name="adj" fmla="val 29412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时    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2" name="Text Box 3"/>
          <p:cNvSpPr/>
          <p:nvPr/>
        </p:nvSpPr>
        <p:spPr>
          <a:xfrm>
            <a:off x="2045520" y="1444680"/>
            <a:ext cx="314460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微软雅黑"/>
              </a:rPr>
              <a:t>2007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  <a:ea typeface="微软雅黑"/>
              </a:rPr>
              <a:t>年</a:t>
            </a:r>
            <a:r>
              <a:rPr b="1" lang="ko-KR" sz="13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微软雅黑"/>
              </a:rPr>
              <a:t>1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  <a:ea typeface="微软雅黑"/>
              </a:rPr>
              <a:t>月</a:t>
            </a:r>
            <a:r>
              <a:rPr b="1" lang="ko-KR" sz="13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微软雅黑"/>
              </a:rPr>
              <a:t>2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  <a:ea typeface="微软雅黑"/>
              </a:rPr>
              <a:t>日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微软雅黑"/>
              </a:rPr>
              <a:t>(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  <a:ea typeface="微软雅黑"/>
              </a:rPr>
              <a:t>周三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微软雅黑"/>
              </a:rPr>
              <a:t>)   ~  1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  <a:ea typeface="微软雅黑"/>
              </a:rPr>
              <a:t>月</a:t>
            </a:r>
            <a:r>
              <a:rPr b="1" lang="ko-KR" sz="13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微软雅黑"/>
              </a:rPr>
              <a:t>4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  <a:ea typeface="微软雅黑"/>
              </a:rPr>
              <a:t>日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微软雅黑"/>
              </a:rPr>
              <a:t>(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  <a:ea typeface="微软雅黑"/>
              </a:rPr>
              <a:t>周五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微软雅黑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3" name="Text Box 4"/>
          <p:cNvSpPr/>
          <p:nvPr/>
        </p:nvSpPr>
        <p:spPr>
          <a:xfrm>
            <a:off x="2193840" y="1909800"/>
            <a:ext cx="2517480" cy="2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  <a:ea typeface="微软雅黑"/>
              </a:rPr>
              <a:t>北京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微软雅黑"/>
              </a:rPr>
              <a:t>Twin tower 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  <a:ea typeface="微软雅黑"/>
              </a:rPr>
              <a:t>西馆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微软雅黑"/>
              </a:rPr>
              <a:t>19F 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  <a:ea typeface="微软雅黑"/>
              </a:rPr>
              <a:t>大会议室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4" name="Rectangle 5" descr=""/>
          <p:cNvPicPr/>
          <p:nvPr/>
        </p:nvPicPr>
        <p:blipFill>
          <a:blip r:embed="rId1"/>
          <a:stretch/>
        </p:blipFill>
        <p:spPr>
          <a:xfrm>
            <a:off x="2786040" y="566640"/>
            <a:ext cx="4327560" cy="708120"/>
          </a:xfrm>
          <a:prstGeom prst="rect">
            <a:avLst/>
          </a:prstGeom>
          <a:ln w="0">
            <a:noFill/>
          </a:ln>
        </p:spPr>
      </p:pic>
      <p:sp>
        <p:nvSpPr>
          <p:cNvPr id="2505" name="AutoShape 6"/>
          <p:cNvSpPr/>
          <p:nvPr/>
        </p:nvSpPr>
        <p:spPr>
          <a:xfrm>
            <a:off x="685800" y="1879560"/>
            <a:ext cx="1079640" cy="309600"/>
          </a:xfrm>
          <a:prstGeom prst="roundRect">
            <a:avLst>
              <a:gd name="adj" fmla="val 26102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地     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6" name="AutoShape 7"/>
          <p:cNvSpPr/>
          <p:nvPr/>
        </p:nvSpPr>
        <p:spPr>
          <a:xfrm>
            <a:off x="701640" y="2335320"/>
            <a:ext cx="1077840" cy="311040"/>
          </a:xfrm>
          <a:prstGeom prst="roundRect">
            <a:avLst>
              <a:gd name="adj" fmla="val 26102"/>
            </a:avLst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参加人员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Text Box 8"/>
          <p:cNvSpPr/>
          <p:nvPr/>
        </p:nvSpPr>
        <p:spPr>
          <a:xfrm>
            <a:off x="2233440" y="2328840"/>
            <a:ext cx="2084760" cy="3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微软雅黑"/>
              </a:rPr>
              <a:t>TEAM/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  <a:ea typeface="微软雅黑"/>
              </a:rPr>
              <a:t>室长</a:t>
            </a:r>
            <a:r>
              <a:rPr b="1" lang="ko-KR" sz="13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  <a:ea typeface="微软雅黑"/>
              </a:rPr>
              <a:t>及</a:t>
            </a:r>
            <a:r>
              <a:rPr b="1" lang="ko-KR" sz="13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微软雅黑"/>
              </a:rPr>
              <a:t>Gr.</a:t>
            </a:r>
            <a:r>
              <a:rPr b="1" lang="zh-CN" sz="1300" spc="-1" strike="noStrike">
                <a:solidFill>
                  <a:srgbClr val="000000"/>
                </a:solidFill>
                <a:latin typeface="Arial"/>
                <a:ea typeface="微软雅黑"/>
              </a:rPr>
              <a:t>长以上人员</a:t>
            </a:r>
            <a:r>
              <a:rPr b="1" lang="ko-KR" sz="1300" spc="-1" strike="noStrike">
                <a:solidFill>
                  <a:srgbClr val="000000"/>
                </a:solidFill>
                <a:latin typeface="Arial"/>
                <a:ea typeface="微软雅黑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08" name=""/>
          <p:cNvGraphicFramePr/>
          <p:nvPr/>
        </p:nvGraphicFramePr>
        <p:xfrm>
          <a:off x="741240" y="2895480"/>
          <a:ext cx="8551800" cy="3270240"/>
        </p:xfrm>
        <a:graphic>
          <a:graphicData uri="http://schemas.openxmlformats.org/drawingml/2006/table">
            <a:tbl>
              <a:tblPr/>
              <a:tblGrid>
                <a:gridCol w="1122480"/>
                <a:gridCol w="1542960"/>
                <a:gridCol w="3228840"/>
                <a:gridCol w="1206720"/>
                <a:gridCol w="1450800"/>
              </a:tblGrid>
              <a:tr h="328680">
                <a:tc>
                  <a:txBody>
                    <a:bodyPr lIns="59400" rIns="59400" tIns="39600" bIns="396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1004760"/>
                          <a:tab algn="l" pos="2009880"/>
                          <a:tab algn="l" pos="3014640"/>
                          <a:tab algn="l" pos="4019400"/>
                          <a:tab algn="l" pos="5024520"/>
                          <a:tab algn="l" pos="6029280"/>
                          <a:tab algn="l" pos="7034040"/>
                          <a:tab algn="l" pos="8039160"/>
                          <a:tab algn="l" pos="9043920"/>
                          <a:tab algn="l" pos="1004904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日期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59400" rIns="59400" tIns="39600" bIns="396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1004760"/>
                          <a:tab algn="l" pos="2009880"/>
                          <a:tab algn="l" pos="3014640"/>
                          <a:tab algn="l" pos="4019400"/>
                          <a:tab algn="l" pos="5024520"/>
                          <a:tab algn="l" pos="6029280"/>
                          <a:tab algn="l" pos="7034040"/>
                          <a:tab algn="l" pos="8039160"/>
                          <a:tab algn="l" pos="9043920"/>
                          <a:tab algn="l" pos="1004904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时间安排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59400" rIns="59400" tIns="39600" bIns="396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1004760"/>
                          <a:tab algn="l" pos="2009880"/>
                          <a:tab algn="l" pos="3014640"/>
                          <a:tab algn="l" pos="4019400"/>
                          <a:tab algn="l" pos="5024520"/>
                          <a:tab algn="l" pos="6029280"/>
                          <a:tab algn="l" pos="7034040"/>
                          <a:tab algn="l" pos="8039160"/>
                          <a:tab algn="l" pos="9043920"/>
                          <a:tab algn="l" pos="1004904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报告部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59400" rIns="59400" tIns="39600" bIns="396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1004760"/>
                          <a:tab algn="l" pos="2009880"/>
                          <a:tab algn="l" pos="3014640"/>
                          <a:tab algn="l" pos="4019400"/>
                          <a:tab algn="l" pos="5024520"/>
                          <a:tab algn="l" pos="6029280"/>
                          <a:tab algn="l" pos="7034040"/>
                          <a:tab algn="l" pos="8039160"/>
                          <a:tab algn="l" pos="9043920"/>
                          <a:tab algn="l" pos="1004904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报告时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99ccff"/>
                    </a:solidFill>
                  </a:tcPr>
                </a:tc>
                <a:tc>
                  <a:txBody>
                    <a:bodyPr lIns="59400" rIns="59400" tIns="39600" bIns="396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1004760"/>
                          <a:tab algn="l" pos="2009880"/>
                          <a:tab algn="l" pos="3014640"/>
                          <a:tab algn="l" pos="4019400"/>
                          <a:tab algn="l" pos="5024520"/>
                          <a:tab algn="l" pos="6029280"/>
                          <a:tab algn="l" pos="7034040"/>
                          <a:tab algn="l" pos="8039160"/>
                          <a:tab algn="l" pos="9043920"/>
                          <a:tab algn="l" pos="1004904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报告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99ccff"/>
                    </a:solidFill>
                  </a:tcPr>
                </a:tc>
              </a:tr>
              <a:tr h="318960">
                <a:tc rowSpan="2">
                  <a:txBody>
                    <a:bodyPr lIns="59400" rIns="59400" tIns="39600" bIns="396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1004760"/>
                          <a:tab algn="l" pos="2009880"/>
                          <a:tab algn="l" pos="3014640"/>
                          <a:tab algn="l" pos="4019400"/>
                          <a:tab algn="l" pos="5024520"/>
                          <a:tab algn="l" pos="6029280"/>
                          <a:tab algn="l" pos="7034040"/>
                          <a:tab algn="l" pos="8039160"/>
                          <a:tab algn="l" pos="9043920"/>
                          <a:tab algn="l" pos="1004904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月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微软雅黑"/>
                          <a:ea typeface="Dotum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2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1004760"/>
                          <a:tab algn="l" pos="2009880"/>
                          <a:tab algn="l" pos="3014640"/>
                          <a:tab algn="l" pos="4019400"/>
                          <a:tab algn="l" pos="5024520"/>
                          <a:tab algn="l" pos="6029280"/>
                          <a:tab algn="l" pos="7034040"/>
                          <a:tab algn="l" pos="8039160"/>
                          <a:tab algn="l" pos="9043920"/>
                          <a:tab algn="l" pos="1004904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(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周三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400" rIns="59400" tIns="39600" bIns="396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1004760"/>
                          <a:tab algn="l" pos="2009880"/>
                          <a:tab algn="l" pos="3014640"/>
                          <a:tab algn="l" pos="4019400"/>
                          <a:tab algn="l" pos="5024520"/>
                          <a:tab algn="l" pos="6029280"/>
                          <a:tab algn="l" pos="7034040"/>
                          <a:tab algn="l" pos="8039160"/>
                          <a:tab algn="l" pos="9043920"/>
                          <a:tab algn="l" pos="1004904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13:30 ~ 15: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400" rIns="59400" tIns="39600" bIns="396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1004760"/>
                          <a:tab algn="l" pos="2009880"/>
                          <a:tab algn="l" pos="3014640"/>
                          <a:tab algn="l" pos="4019400"/>
                          <a:tab algn="l" pos="5024520"/>
                          <a:tab algn="l" pos="6029280"/>
                          <a:tab algn="l" pos="7034040"/>
                          <a:tab algn="l" pos="8039160"/>
                          <a:tab algn="l" pos="9043920"/>
                          <a:tab algn="l" pos="1004904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家电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MM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室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400" rIns="59400" tIns="39600" bIns="396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1004760"/>
                          <a:tab algn="l" pos="2009880"/>
                          <a:tab algn="l" pos="3014640"/>
                          <a:tab algn="l" pos="4019400"/>
                          <a:tab algn="l" pos="5024520"/>
                          <a:tab algn="l" pos="6029280"/>
                          <a:tab algn="l" pos="7034040"/>
                          <a:tab algn="l" pos="8039160"/>
                          <a:tab algn="l" pos="9043920"/>
                          <a:tab algn="l" pos="1004904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2.0 H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400" rIns="59400" tIns="39600" bIns="396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1004760"/>
                          <a:tab algn="l" pos="2009880"/>
                          <a:tab algn="l" pos="3014640"/>
                          <a:tab algn="l" pos="4019400"/>
                          <a:tab algn="l" pos="5024520"/>
                          <a:tab algn="l" pos="6029280"/>
                          <a:tab algn="l" pos="7034040"/>
                          <a:tab algn="l" pos="8039160"/>
                          <a:tab algn="l" pos="9043920"/>
                          <a:tab algn="l" pos="1004904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金在胜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微软雅黑"/>
                          <a:ea typeface="Dotum"/>
                        </a:rPr>
                        <a:t>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常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7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400" rIns="59400" tIns="39600" bIns="396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1004760"/>
                          <a:tab algn="l" pos="2009880"/>
                          <a:tab algn="l" pos="3014640"/>
                          <a:tab algn="l" pos="4019400"/>
                          <a:tab algn="l" pos="5024520"/>
                          <a:tab algn="l" pos="6029280"/>
                          <a:tab algn="l" pos="7034040"/>
                          <a:tab algn="l" pos="8039160"/>
                          <a:tab algn="l" pos="9043920"/>
                          <a:tab algn="l" pos="1004904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15:30 ~ 17: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400" rIns="59400" tIns="39600" bIns="3960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1004760"/>
                          <a:tab algn="l" pos="2009880"/>
                          <a:tab algn="l" pos="3014640"/>
                          <a:tab algn="l" pos="4019400"/>
                          <a:tab algn="l" pos="5024520"/>
                          <a:tab algn="l" pos="6029280"/>
                          <a:tab algn="l" pos="7034040"/>
                          <a:tab algn="l" pos="8039160"/>
                          <a:tab algn="l" pos="9043920"/>
                          <a:tab algn="l" pos="1004904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MC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市场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400" rIns="59400" tIns="39600" bIns="396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1004760"/>
                          <a:tab algn="l" pos="2009880"/>
                          <a:tab algn="l" pos="3014640"/>
                          <a:tab algn="l" pos="4019400"/>
                          <a:tab algn="l" pos="5024520"/>
                          <a:tab algn="l" pos="6029280"/>
                          <a:tab algn="l" pos="7034040"/>
                          <a:tab algn="l" pos="8039160"/>
                          <a:tab algn="l" pos="9043920"/>
                          <a:tab algn="l" pos="1004904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2.0 H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400" rIns="59400" tIns="39600" bIns="396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1004760"/>
                          <a:tab algn="l" pos="2009880"/>
                          <a:tab algn="l" pos="3014640"/>
                          <a:tab algn="l" pos="4019400"/>
                          <a:tab algn="l" pos="5024520"/>
                          <a:tab algn="l" pos="6029280"/>
                          <a:tab algn="l" pos="7034040"/>
                          <a:tab algn="l" pos="8039160"/>
                          <a:tab algn="l" pos="9043920"/>
                          <a:tab algn="l" pos="1004904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全长株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微软雅黑"/>
                          <a:ea typeface="Dotum"/>
                        </a:rPr>
                        <a:t>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常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50640">
                <a:tc rowSpan="4">
                  <a:txBody>
                    <a:bodyPr lIns="59400" rIns="59400" tIns="39600" bIns="396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1004760"/>
                          <a:tab algn="l" pos="2009880"/>
                          <a:tab algn="l" pos="3014640"/>
                          <a:tab algn="l" pos="4019400"/>
                          <a:tab algn="l" pos="5024520"/>
                          <a:tab algn="l" pos="6029280"/>
                          <a:tab algn="l" pos="7034040"/>
                          <a:tab algn="l" pos="8039160"/>
                          <a:tab algn="l" pos="9043920"/>
                          <a:tab algn="l" pos="1004904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月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微软雅黑"/>
                          <a:ea typeface="Dotum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3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1004760"/>
                          <a:tab algn="l" pos="2009880"/>
                          <a:tab algn="l" pos="3014640"/>
                          <a:tab algn="l" pos="4019400"/>
                          <a:tab algn="l" pos="5024520"/>
                          <a:tab algn="l" pos="6029280"/>
                          <a:tab algn="l" pos="7034040"/>
                          <a:tab algn="l" pos="8039160"/>
                          <a:tab algn="l" pos="9043920"/>
                          <a:tab algn="l" pos="1004904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(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周四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9400" rIns="59400" tIns="39600" bIns="396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1004760"/>
                          <a:tab algn="l" pos="2009880"/>
                          <a:tab algn="l" pos="3014640"/>
                          <a:tab algn="l" pos="4019400"/>
                          <a:tab algn="l" pos="5024520"/>
                          <a:tab algn="l" pos="6029280"/>
                          <a:tab algn="l" pos="7034040"/>
                          <a:tab algn="l" pos="8039160"/>
                          <a:tab algn="l" pos="9043920"/>
                          <a:tab algn="l" pos="1004904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14:00 ~ 15: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9400" rIns="59400" tIns="39600" bIns="3960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1004760"/>
                          <a:tab algn="l" pos="2009880"/>
                          <a:tab algn="l" pos="3014640"/>
                          <a:tab algn="l" pos="4019400"/>
                          <a:tab algn="l" pos="5024520"/>
                          <a:tab algn="l" pos="6029280"/>
                          <a:tab algn="l" pos="7034040"/>
                          <a:tab algn="l" pos="8039160"/>
                          <a:tab algn="l" pos="9043920"/>
                          <a:tab algn="l" pos="1004904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IT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营业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9400" rIns="59400" tIns="39600" bIns="396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1004760"/>
                          <a:tab algn="l" pos="2009880"/>
                          <a:tab algn="l" pos="3014640"/>
                          <a:tab algn="l" pos="4019400"/>
                          <a:tab algn="l" pos="5024520"/>
                          <a:tab algn="l" pos="6029280"/>
                          <a:tab algn="l" pos="7034040"/>
                          <a:tab algn="l" pos="8039160"/>
                          <a:tab algn="l" pos="9043920"/>
                          <a:tab algn="l" pos="1004904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1.0 H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9400" rIns="59400" tIns="39600" bIns="396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1004760"/>
                          <a:tab algn="l" pos="2009880"/>
                          <a:tab algn="l" pos="3014640"/>
                          <a:tab algn="l" pos="4019400"/>
                          <a:tab algn="l" pos="5024520"/>
                          <a:tab algn="l" pos="6029280"/>
                          <a:tab algn="l" pos="7034040"/>
                          <a:tab algn="l" pos="8039160"/>
                          <a:tab algn="l" pos="9043920"/>
                          <a:tab algn="l" pos="1004904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李江来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微软雅黑"/>
                          <a:ea typeface="Dotum"/>
                        </a:rPr>
                        <a:t>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部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289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400" rIns="59400" tIns="39600" bIns="396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1004760"/>
                          <a:tab algn="l" pos="2009880"/>
                          <a:tab algn="l" pos="3014640"/>
                          <a:tab algn="l" pos="4019400"/>
                          <a:tab algn="l" pos="5024520"/>
                          <a:tab algn="l" pos="6029280"/>
                          <a:tab algn="l" pos="7034040"/>
                          <a:tab algn="l" pos="8039160"/>
                          <a:tab algn="l" pos="9043920"/>
                          <a:tab algn="l" pos="1004904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15:00 ~ 16: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9400" rIns="59400" tIns="39600" bIns="396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1004760"/>
                          <a:tab algn="l" pos="2009880"/>
                          <a:tab algn="l" pos="3014640"/>
                          <a:tab algn="l" pos="4019400"/>
                          <a:tab algn="l" pos="5024520"/>
                          <a:tab algn="l" pos="6029280"/>
                          <a:tab algn="l" pos="7034040"/>
                          <a:tab algn="l" pos="8039160"/>
                          <a:tab algn="l" pos="9043920"/>
                          <a:tab algn="l" pos="1004904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CAC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营业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9400" rIns="59400" tIns="39600" bIns="396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1004760"/>
                          <a:tab algn="l" pos="2009880"/>
                          <a:tab algn="l" pos="3014640"/>
                          <a:tab algn="l" pos="4019400"/>
                          <a:tab algn="l" pos="5024520"/>
                          <a:tab algn="l" pos="6029280"/>
                          <a:tab algn="l" pos="7034040"/>
                          <a:tab algn="l" pos="8039160"/>
                          <a:tab algn="l" pos="9043920"/>
                          <a:tab algn="l" pos="1004904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1.0 H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9400" rIns="59400" tIns="39600" bIns="396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1004760"/>
                          <a:tab algn="l" pos="2009880"/>
                          <a:tab algn="l" pos="3014640"/>
                          <a:tab algn="l" pos="4019400"/>
                          <a:tab algn="l" pos="5024520"/>
                          <a:tab algn="l" pos="6029280"/>
                          <a:tab algn="l" pos="7034040"/>
                          <a:tab algn="l" pos="8039160"/>
                          <a:tab algn="l" pos="9043920"/>
                          <a:tab algn="l" pos="1004904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安明坤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微软雅黑"/>
                          <a:ea typeface="Dotum"/>
                        </a:rPr>
                        <a:t>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部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1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400" rIns="59400" tIns="39600" bIns="396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1004760"/>
                          <a:tab algn="l" pos="2009880"/>
                          <a:tab algn="l" pos="3014640"/>
                          <a:tab algn="l" pos="4019400"/>
                          <a:tab algn="l" pos="5024520"/>
                          <a:tab algn="l" pos="6029280"/>
                          <a:tab algn="l" pos="7034040"/>
                          <a:tab algn="l" pos="8039160"/>
                          <a:tab algn="l" pos="9043920"/>
                          <a:tab algn="l" pos="1004904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16:00 ~ 17: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9400" rIns="59400" tIns="39600" bIns="396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1004760"/>
                          <a:tab algn="l" pos="2009880"/>
                          <a:tab algn="l" pos="3014640"/>
                          <a:tab algn="l" pos="4019400"/>
                          <a:tab algn="l" pos="5024520"/>
                          <a:tab algn="l" pos="6029280"/>
                          <a:tab algn="l" pos="7034040"/>
                          <a:tab algn="l" pos="8039160"/>
                          <a:tab algn="l" pos="9043920"/>
                          <a:tab algn="l" pos="1004904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售后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9400" rIns="59400" tIns="39600" bIns="396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1004760"/>
                          <a:tab algn="l" pos="2009880"/>
                          <a:tab algn="l" pos="3014640"/>
                          <a:tab algn="l" pos="4019400"/>
                          <a:tab algn="l" pos="5024520"/>
                          <a:tab algn="l" pos="6029280"/>
                          <a:tab algn="l" pos="7034040"/>
                          <a:tab algn="l" pos="8039160"/>
                          <a:tab algn="l" pos="9043920"/>
                          <a:tab algn="l" pos="1004904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1.0 H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9400" rIns="59400" tIns="39600" bIns="396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1004760"/>
                          <a:tab algn="l" pos="2009880"/>
                          <a:tab algn="l" pos="3014640"/>
                          <a:tab algn="l" pos="4019400"/>
                          <a:tab algn="l" pos="5024520"/>
                          <a:tab algn="l" pos="6029280"/>
                          <a:tab algn="l" pos="7034040"/>
                          <a:tab algn="l" pos="8039160"/>
                          <a:tab algn="l" pos="9043920"/>
                          <a:tab algn="l" pos="1004904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全洋俊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微软雅黑"/>
                          <a:ea typeface="Dotum"/>
                        </a:rPr>
                        <a:t>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常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49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400" rIns="59400" tIns="39600" bIns="396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1004760"/>
                          <a:tab algn="l" pos="2009880"/>
                          <a:tab algn="l" pos="3014640"/>
                          <a:tab algn="l" pos="4019400"/>
                          <a:tab algn="l" pos="5024520"/>
                          <a:tab algn="l" pos="6029280"/>
                          <a:tab algn="l" pos="7034040"/>
                          <a:tab algn="l" pos="8039160"/>
                          <a:tab algn="l" pos="9043920"/>
                          <a:tab algn="l" pos="1004904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17:00 ~ 18: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9400" rIns="59400" tIns="39600" bIns="3960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1004760"/>
                          <a:tab algn="l" pos="2009880"/>
                          <a:tab algn="l" pos="3014640"/>
                          <a:tab algn="l" pos="4019400"/>
                          <a:tab algn="l" pos="5024520"/>
                          <a:tab algn="l" pos="6029280"/>
                          <a:tab algn="l" pos="7034040"/>
                          <a:tab algn="l" pos="8039160"/>
                          <a:tab algn="l" pos="9043920"/>
                          <a:tab algn="l" pos="1004904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MC 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研究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9400" rIns="59400" tIns="39600" bIns="396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1004760"/>
                          <a:tab algn="l" pos="2009880"/>
                          <a:tab algn="l" pos="3014640"/>
                          <a:tab algn="l" pos="4019400"/>
                          <a:tab algn="l" pos="5024520"/>
                          <a:tab algn="l" pos="6029280"/>
                          <a:tab algn="l" pos="7034040"/>
                          <a:tab algn="l" pos="8039160"/>
                          <a:tab algn="l" pos="9043920"/>
                          <a:tab algn="l" pos="1004904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1.0 H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2f2f2"/>
                    </a:solidFill>
                  </a:tcPr>
                </a:tc>
                <a:tc>
                  <a:txBody>
                    <a:bodyPr lIns="59400" rIns="59400" tIns="39600" bIns="396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1004760"/>
                          <a:tab algn="l" pos="2009880"/>
                          <a:tab algn="l" pos="3014640"/>
                          <a:tab algn="l" pos="4019400"/>
                          <a:tab algn="l" pos="5024520"/>
                          <a:tab algn="l" pos="6029280"/>
                          <a:tab algn="l" pos="7034040"/>
                          <a:tab algn="l" pos="8039160"/>
                          <a:tab algn="l" pos="9043920"/>
                          <a:tab algn="l" pos="1004904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金忠胜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微软雅黑"/>
                          <a:ea typeface="Dotum"/>
                        </a:rPr>
                        <a:t>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常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2f2f2"/>
                    </a:solidFill>
                  </a:tcPr>
                </a:tc>
              </a:tr>
              <a:tr h="304560">
                <a:tc rowSpan="3">
                  <a:txBody>
                    <a:bodyPr lIns="59400" rIns="59400" tIns="39600" bIns="396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1004760"/>
                          <a:tab algn="l" pos="2009880"/>
                          <a:tab algn="l" pos="3014640"/>
                          <a:tab algn="l" pos="4019400"/>
                          <a:tab algn="l" pos="5024520"/>
                          <a:tab algn="l" pos="6029280"/>
                          <a:tab algn="l" pos="7034040"/>
                          <a:tab algn="l" pos="8039160"/>
                          <a:tab algn="l" pos="9043920"/>
                          <a:tab algn="l" pos="1004904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1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月</a:t>
                      </a: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微软雅黑"/>
                          <a:ea typeface="Dotum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4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1004760"/>
                          <a:tab algn="l" pos="2009880"/>
                          <a:tab algn="l" pos="3014640"/>
                          <a:tab algn="l" pos="4019400"/>
                          <a:tab algn="l" pos="5024520"/>
                          <a:tab algn="l" pos="6029280"/>
                          <a:tab algn="l" pos="7034040"/>
                          <a:tab algn="l" pos="8039160"/>
                          <a:tab algn="l" pos="9043920"/>
                          <a:tab algn="l" pos="1004904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(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周五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400" rIns="59400" tIns="39600" bIns="396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1004760"/>
                          <a:tab algn="l" pos="2009880"/>
                          <a:tab algn="l" pos="3014640"/>
                          <a:tab algn="l" pos="4019400"/>
                          <a:tab algn="l" pos="5024520"/>
                          <a:tab algn="l" pos="6029280"/>
                          <a:tab algn="l" pos="7034040"/>
                          <a:tab algn="l" pos="8039160"/>
                          <a:tab algn="l" pos="9043920"/>
                          <a:tab algn="l" pos="1004904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13:30 ~ 15: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400" rIns="59400" tIns="39600" bIns="396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1004760"/>
                          <a:tab algn="l" pos="2009880"/>
                          <a:tab algn="l" pos="3014640"/>
                          <a:tab algn="l" pos="4019400"/>
                          <a:tab algn="l" pos="5024520"/>
                          <a:tab algn="l" pos="6029280"/>
                          <a:tab algn="l" pos="7034040"/>
                          <a:tab algn="l" pos="8039160"/>
                          <a:tab algn="l" pos="9043920"/>
                          <a:tab algn="l" pos="1004904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Corporate Market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400" rIns="59400" tIns="39600" bIns="396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1004760"/>
                          <a:tab algn="l" pos="2009880"/>
                          <a:tab algn="l" pos="3014640"/>
                          <a:tab algn="l" pos="4019400"/>
                          <a:tab algn="l" pos="5024520"/>
                          <a:tab algn="l" pos="6029280"/>
                          <a:tab algn="l" pos="7034040"/>
                          <a:tab algn="l" pos="8039160"/>
                          <a:tab algn="l" pos="9043920"/>
                          <a:tab algn="l" pos="1004904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1.5 H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400" rIns="59400" tIns="39600" bIns="396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1004760"/>
                          <a:tab algn="l" pos="2009880"/>
                          <a:tab algn="l" pos="3014640"/>
                          <a:tab algn="l" pos="4019400"/>
                          <a:tab algn="l" pos="5024520"/>
                          <a:tab algn="l" pos="6029280"/>
                          <a:tab algn="l" pos="7034040"/>
                          <a:tab algn="l" pos="8039160"/>
                          <a:tab algn="l" pos="9043920"/>
                          <a:tab algn="l" pos="1004904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具京梧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微软雅黑"/>
                          <a:ea typeface="Dotum"/>
                        </a:rPr>
                        <a:t>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部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6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400" rIns="59400" tIns="39600" bIns="396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1004760"/>
                          <a:tab algn="l" pos="2009880"/>
                          <a:tab algn="l" pos="3014640"/>
                          <a:tab algn="l" pos="4019400"/>
                          <a:tab algn="l" pos="5024520"/>
                          <a:tab algn="l" pos="6029280"/>
                          <a:tab algn="l" pos="7034040"/>
                          <a:tab algn="l" pos="8039160"/>
                          <a:tab algn="l" pos="9043920"/>
                          <a:tab algn="l" pos="1004904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15:00 ~ 16: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400" rIns="59400" tIns="39600" bIns="396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1004760"/>
                          <a:tab algn="l" pos="2009880"/>
                          <a:tab algn="l" pos="3014640"/>
                          <a:tab algn="l" pos="4019400"/>
                          <a:tab algn="l" pos="5024520"/>
                          <a:tab algn="l" pos="6029280"/>
                          <a:tab algn="l" pos="7034040"/>
                          <a:tab algn="l" pos="8039160"/>
                          <a:tab algn="l" pos="9043920"/>
                          <a:tab algn="l" pos="1004904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HR</a:t>
                      </a: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400" rIns="59400" tIns="39600" bIns="396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1004760"/>
                          <a:tab algn="l" pos="2009880"/>
                          <a:tab algn="l" pos="3014640"/>
                          <a:tab algn="l" pos="4019400"/>
                          <a:tab algn="l" pos="5024520"/>
                          <a:tab algn="l" pos="6029280"/>
                          <a:tab algn="l" pos="7034040"/>
                          <a:tab algn="l" pos="8039160"/>
                          <a:tab algn="l" pos="9043920"/>
                          <a:tab algn="l" pos="1004904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1.5 H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400" rIns="59400" tIns="39600" bIns="396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1004760"/>
                          <a:tab algn="l" pos="2009880"/>
                          <a:tab algn="l" pos="3014640"/>
                          <a:tab algn="l" pos="4019400"/>
                          <a:tab algn="l" pos="5024520"/>
                          <a:tab algn="l" pos="6029280"/>
                          <a:tab algn="l" pos="7034040"/>
                          <a:tab algn="l" pos="8039160"/>
                          <a:tab algn="l" pos="9043920"/>
                          <a:tab algn="l" pos="1004904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金英旭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微软雅黑"/>
                          <a:ea typeface="Dotum"/>
                        </a:rPr>
                        <a:t>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常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49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9400" rIns="59400" tIns="39600" bIns="396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1004760"/>
                          <a:tab algn="l" pos="2009880"/>
                          <a:tab algn="l" pos="3014640"/>
                          <a:tab algn="l" pos="4019400"/>
                          <a:tab algn="l" pos="5024520"/>
                          <a:tab algn="l" pos="6029280"/>
                          <a:tab algn="l" pos="7034040"/>
                          <a:tab algn="l" pos="8039160"/>
                          <a:tab algn="l" pos="9043920"/>
                          <a:tab algn="l" pos="1004904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16:30 ~ 18: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400" rIns="59400" tIns="39600" bIns="39600" anchor="ctr">
                      <a:noAutofit/>
                    </a:bodyPr>
                    <a:p>
                      <a:pPr algn="ctr">
                        <a:lnSpc>
                          <a:spcPct val="125000"/>
                        </a:lnSpc>
                        <a:tabLst>
                          <a:tab algn="l" pos="0"/>
                          <a:tab algn="l" pos="1004760"/>
                          <a:tab algn="l" pos="2009880"/>
                          <a:tab algn="l" pos="3014640"/>
                          <a:tab algn="l" pos="4019400"/>
                          <a:tab algn="l" pos="5024520"/>
                          <a:tab algn="l" pos="6029280"/>
                          <a:tab algn="l" pos="7034040"/>
                          <a:tab algn="l" pos="8039160"/>
                          <a:tab algn="l" pos="9043920"/>
                          <a:tab algn="l" pos="10049040"/>
                        </a:tabLst>
                      </a:pPr>
                      <a:r>
                        <a:rPr b="1" lang="zh-CN" sz="12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经营管理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400" rIns="59400" tIns="39600" bIns="396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1004760"/>
                          <a:tab algn="l" pos="2009880"/>
                          <a:tab algn="l" pos="3014640"/>
                          <a:tab algn="l" pos="4019400"/>
                          <a:tab algn="l" pos="5024520"/>
                          <a:tab algn="l" pos="6029280"/>
                          <a:tab algn="l" pos="7034040"/>
                          <a:tab algn="l" pos="8039160"/>
                          <a:tab algn="l" pos="9043920"/>
                          <a:tab algn="l" pos="1004904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微软雅黑"/>
                        </a:rPr>
                        <a:t>1.5 H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59400" rIns="59400" tIns="39600" bIns="39600" anchor="ctr">
                      <a:noAutofit/>
                    </a:bodyPr>
                    <a:p>
                      <a:pPr algn="ctr">
                        <a:lnSpc>
                          <a:spcPct val="85000"/>
                        </a:lnSpc>
                        <a:tabLst>
                          <a:tab algn="l" pos="0"/>
                          <a:tab algn="l" pos="1004760"/>
                          <a:tab algn="l" pos="2009880"/>
                          <a:tab algn="l" pos="3014640"/>
                          <a:tab algn="l" pos="4019400"/>
                          <a:tab algn="l" pos="5024520"/>
                          <a:tab algn="l" pos="6029280"/>
                          <a:tab algn="l" pos="7034040"/>
                          <a:tab algn="l" pos="8039160"/>
                          <a:tab algn="l" pos="9043920"/>
                          <a:tab algn="l" pos="10049040"/>
                        </a:tabLst>
                      </a:pP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金建茂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微软雅黑"/>
                          <a:ea typeface="Dotum"/>
                        </a:rPr>
                        <a:t> </a:t>
                      </a:r>
                      <a:r>
                        <a:rPr b="0" lang="zh-CN" sz="12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常务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9400" marR="594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9" name="Picture 3" descr=""/>
          <p:cNvPicPr/>
          <p:nvPr/>
        </p:nvPicPr>
        <p:blipFill>
          <a:blip r:embed="rId1"/>
          <a:srcRect l="-48" t="88031" r="17503" b="3204"/>
          <a:stretch/>
        </p:blipFill>
        <p:spPr>
          <a:xfrm>
            <a:off x="1781280" y="5913360"/>
            <a:ext cx="8051760" cy="641520"/>
          </a:xfrm>
          <a:prstGeom prst="rect">
            <a:avLst/>
          </a:prstGeom>
          <a:ln w="0">
            <a:noFill/>
          </a:ln>
        </p:spPr>
      </p:pic>
      <p:sp>
        <p:nvSpPr>
          <p:cNvPr id="2510" name="TextBox 30"/>
          <p:cNvSpPr/>
          <p:nvPr/>
        </p:nvSpPr>
        <p:spPr>
          <a:xfrm>
            <a:off x="6593040" y="5288040"/>
            <a:ext cx="2823840" cy="819000"/>
          </a:xfrm>
          <a:prstGeom prst="roundRect">
            <a:avLst>
              <a:gd name="adj" fmla="val 8176"/>
            </a:avLst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1" name="椭圆 31"/>
          <p:cNvSpPr/>
          <p:nvPr/>
        </p:nvSpPr>
        <p:spPr>
          <a:xfrm>
            <a:off x="6269040" y="5365800"/>
            <a:ext cx="625320" cy="6253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2" name="Picture 3" descr=""/>
          <p:cNvPicPr/>
          <p:nvPr/>
        </p:nvPicPr>
        <p:blipFill>
          <a:blip r:embed="rId2"/>
          <a:srcRect l="0" t="0" r="70834" b="93971"/>
          <a:stretch/>
        </p:blipFill>
        <p:spPr>
          <a:xfrm>
            <a:off x="11160" y="219240"/>
            <a:ext cx="2846520" cy="441000"/>
          </a:xfrm>
          <a:prstGeom prst="rect">
            <a:avLst/>
          </a:prstGeom>
          <a:ln w="0">
            <a:noFill/>
          </a:ln>
        </p:spPr>
      </p:pic>
      <p:sp>
        <p:nvSpPr>
          <p:cNvPr id="2513" name="Rectangle 185"/>
          <p:cNvSpPr/>
          <p:nvPr/>
        </p:nvSpPr>
        <p:spPr>
          <a:xfrm>
            <a:off x="3821040" y="1681200"/>
            <a:ext cx="170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788ff"/>
                </a:solidFill>
                <a:latin typeface="Arial"/>
                <a:ea typeface="바탕"/>
              </a:rPr>
              <a:t> </a:t>
            </a:r>
            <a:r>
              <a:rPr b="1" lang="en-US" sz="1800" spc="-1" strike="noStrike">
                <a:solidFill>
                  <a:srgbClr val="2788ff"/>
                </a:solidFill>
                <a:latin typeface="Arial"/>
                <a:ea typeface="바탕"/>
              </a:rPr>
              <a:t>Organiz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4" name="Rectangle 186"/>
          <p:cNvSpPr/>
          <p:nvPr/>
        </p:nvSpPr>
        <p:spPr>
          <a:xfrm>
            <a:off x="4685040" y="2666880"/>
            <a:ext cx="263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788ff"/>
                </a:solidFill>
                <a:latin typeface="Arial"/>
                <a:ea typeface="바탕"/>
              </a:rPr>
              <a:t>Market understan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5" name="Rectangle 187"/>
          <p:cNvSpPr/>
          <p:nvPr/>
        </p:nvSpPr>
        <p:spPr>
          <a:xfrm>
            <a:off x="5262840" y="3594240"/>
            <a:ext cx="243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788ff"/>
                </a:solidFill>
                <a:latin typeface="바탕"/>
                <a:ea typeface="바탕"/>
              </a:rPr>
              <a:t>’</a:t>
            </a:r>
            <a:r>
              <a:rPr b="1" lang="en-US" sz="1800" spc="-1" strike="noStrike">
                <a:solidFill>
                  <a:srgbClr val="2788ff"/>
                </a:solidFill>
                <a:latin typeface="Arial"/>
                <a:ea typeface="바탕"/>
              </a:rPr>
              <a:t>07 BIZ Performan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6" name="Rectangle 188"/>
          <p:cNvSpPr/>
          <p:nvPr/>
        </p:nvSpPr>
        <p:spPr>
          <a:xfrm>
            <a:off x="6306840" y="4579920"/>
            <a:ext cx="148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788ff"/>
                </a:solidFill>
                <a:latin typeface="Arial"/>
                <a:ea typeface="바탕"/>
              </a:rPr>
              <a:t>`08 BIZ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7" name="Rectangle 189"/>
          <p:cNvSpPr/>
          <p:nvPr/>
        </p:nvSpPr>
        <p:spPr>
          <a:xfrm>
            <a:off x="7011360" y="5505480"/>
            <a:ext cx="217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788ff"/>
                </a:solidFill>
                <a:latin typeface="Arial"/>
                <a:ea typeface="바탕"/>
              </a:rPr>
              <a:t>`08 Key initiati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8" name="TextBox 16"/>
          <p:cNvSpPr/>
          <p:nvPr/>
        </p:nvSpPr>
        <p:spPr>
          <a:xfrm>
            <a:off x="3567240" y="1488960"/>
            <a:ext cx="2824200" cy="820800"/>
          </a:xfrm>
          <a:prstGeom prst="roundRect">
            <a:avLst>
              <a:gd name="adj" fmla="val 8176"/>
            </a:avLst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9" name="椭圆 17"/>
          <p:cNvSpPr/>
          <p:nvPr/>
        </p:nvSpPr>
        <p:spPr>
          <a:xfrm>
            <a:off x="3241800" y="1566720"/>
            <a:ext cx="625320" cy="6256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0" name="标题 1"/>
          <p:cNvSpPr/>
          <p:nvPr/>
        </p:nvSpPr>
        <p:spPr>
          <a:xfrm>
            <a:off x="4408920" y="396720"/>
            <a:ext cx="394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c000"/>
                </a:solidFill>
                <a:latin typeface="Arial"/>
                <a:ea typeface="微软雅黑"/>
              </a:rPr>
              <a:t>目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1" name="矩形 24"/>
          <p:cNvSpPr/>
          <p:nvPr/>
        </p:nvSpPr>
        <p:spPr>
          <a:xfrm>
            <a:off x="1076400" y="228600"/>
            <a:ext cx="321444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6a6a6"/>
                </a:solidFill>
                <a:latin typeface="微软雅黑"/>
                <a:ea typeface="微软雅黑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2" name="矩形 22"/>
          <p:cNvSpPr/>
          <p:nvPr/>
        </p:nvSpPr>
        <p:spPr>
          <a:xfrm>
            <a:off x="3404160" y="1736640"/>
            <a:ext cx="31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000"/>
                </a:solidFill>
                <a:latin typeface="Arial"/>
                <a:ea typeface="바탕"/>
              </a:rPr>
              <a:t>Ⅰ</a:t>
            </a:r>
            <a:r>
              <a:rPr b="1" lang="en-US" sz="1600" spc="-1" strike="noStrike">
                <a:solidFill>
                  <a:srgbClr val="ffc000"/>
                </a:solidFill>
                <a:latin typeface="Arial"/>
                <a:ea typeface="바탕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3" name="矩形 24"/>
          <p:cNvSpPr/>
          <p:nvPr/>
        </p:nvSpPr>
        <p:spPr>
          <a:xfrm>
            <a:off x="1065240" y="1927080"/>
            <a:ext cx="1595520" cy="420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788ff"/>
                </a:solidFill>
                <a:latin typeface="微软雅黑"/>
                <a:ea typeface="微软雅黑"/>
              </a:rPr>
              <a:t>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788ff"/>
                </a:solidFill>
                <a:latin typeface="微软雅黑"/>
                <a:ea typeface="微软雅黑"/>
              </a:rPr>
              <a:t>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788ff"/>
                </a:solidFill>
                <a:latin typeface="微软雅黑"/>
                <a:ea typeface="微软雅黑"/>
              </a:rPr>
              <a:t>分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788ff"/>
                </a:solidFill>
                <a:latin typeface="微软雅黑"/>
                <a:ea typeface="微软雅黑"/>
              </a:rPr>
              <a:t>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788ff"/>
                </a:solidFill>
                <a:latin typeface="微软雅黑"/>
                <a:ea typeface="微软雅黑"/>
              </a:rPr>
              <a:t>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788ff"/>
                </a:solidFill>
                <a:latin typeface="微软雅黑"/>
                <a:ea typeface="微软雅黑"/>
              </a:rPr>
              <a:t>告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4" name="TextBox 24"/>
          <p:cNvSpPr/>
          <p:nvPr/>
        </p:nvSpPr>
        <p:spPr>
          <a:xfrm>
            <a:off x="4371840" y="2438280"/>
            <a:ext cx="2824200" cy="819360"/>
          </a:xfrm>
          <a:prstGeom prst="roundRect">
            <a:avLst>
              <a:gd name="adj" fmla="val 8176"/>
            </a:avLst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5" name="椭圆 25"/>
          <p:cNvSpPr/>
          <p:nvPr/>
        </p:nvSpPr>
        <p:spPr>
          <a:xfrm>
            <a:off x="4048200" y="2514600"/>
            <a:ext cx="625320" cy="62532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6" name="TextBox 26"/>
          <p:cNvSpPr/>
          <p:nvPr/>
        </p:nvSpPr>
        <p:spPr>
          <a:xfrm>
            <a:off x="5025960" y="3387600"/>
            <a:ext cx="2824200" cy="819360"/>
          </a:xfrm>
          <a:prstGeom prst="roundRect">
            <a:avLst>
              <a:gd name="adj" fmla="val 8176"/>
            </a:avLst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7" name="椭圆 27"/>
          <p:cNvSpPr/>
          <p:nvPr/>
        </p:nvSpPr>
        <p:spPr>
          <a:xfrm>
            <a:off x="4700520" y="3465360"/>
            <a:ext cx="625680" cy="6256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8" name="TextBox 28"/>
          <p:cNvSpPr/>
          <p:nvPr/>
        </p:nvSpPr>
        <p:spPr>
          <a:xfrm>
            <a:off x="5987880" y="4336920"/>
            <a:ext cx="2824200" cy="820800"/>
          </a:xfrm>
          <a:prstGeom prst="roundRect">
            <a:avLst>
              <a:gd name="adj" fmla="val 8176"/>
            </a:avLst>
          </a:prstGeom>
          <a:noFill/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9" name="椭圆 29"/>
          <p:cNvSpPr/>
          <p:nvPr/>
        </p:nvSpPr>
        <p:spPr>
          <a:xfrm>
            <a:off x="5662440" y="4414680"/>
            <a:ext cx="625680" cy="6256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0" name="矩形 32"/>
          <p:cNvSpPr/>
          <p:nvPr/>
        </p:nvSpPr>
        <p:spPr>
          <a:xfrm>
            <a:off x="4164840" y="2660760"/>
            <a:ext cx="483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000"/>
                </a:solidFill>
                <a:latin typeface="Arial"/>
                <a:ea typeface="바탕"/>
              </a:rPr>
              <a:t> Ⅱ</a:t>
            </a:r>
            <a:r>
              <a:rPr b="1" lang="en-US" sz="1600" spc="-1" strike="noStrike">
                <a:solidFill>
                  <a:srgbClr val="ffc000"/>
                </a:solidFill>
                <a:latin typeface="Arial"/>
                <a:ea typeface="바탕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1" name="矩形 33"/>
          <p:cNvSpPr/>
          <p:nvPr/>
        </p:nvSpPr>
        <p:spPr>
          <a:xfrm>
            <a:off x="4777200" y="3611520"/>
            <a:ext cx="54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000"/>
                </a:solidFill>
                <a:latin typeface="Arial"/>
                <a:ea typeface="바탕"/>
              </a:rPr>
              <a:t> Ⅲ</a:t>
            </a:r>
            <a:r>
              <a:rPr b="1" lang="en-US" sz="1600" spc="-1" strike="noStrike">
                <a:solidFill>
                  <a:srgbClr val="ffc000"/>
                </a:solidFill>
                <a:latin typeface="Arial"/>
                <a:ea typeface="바탕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2" name="矩形 34"/>
          <p:cNvSpPr/>
          <p:nvPr/>
        </p:nvSpPr>
        <p:spPr>
          <a:xfrm>
            <a:off x="5747760" y="4560840"/>
            <a:ext cx="572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000"/>
                </a:solidFill>
                <a:latin typeface="Arial"/>
                <a:ea typeface="바탕"/>
              </a:rPr>
              <a:t> Ⅳ</a:t>
            </a:r>
            <a:r>
              <a:rPr b="1" lang="en-US" sz="1600" spc="-1" strike="noStrike">
                <a:solidFill>
                  <a:srgbClr val="ffc000"/>
                </a:solidFill>
                <a:latin typeface="Arial"/>
                <a:ea typeface="바탕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3" name="矩形 35"/>
          <p:cNvSpPr/>
          <p:nvPr/>
        </p:nvSpPr>
        <p:spPr>
          <a:xfrm>
            <a:off x="6362280" y="5511960"/>
            <a:ext cx="50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000"/>
                </a:solidFill>
                <a:latin typeface="Arial"/>
                <a:ea typeface="바탕"/>
              </a:rPr>
              <a:t> Ⅴ</a:t>
            </a:r>
            <a:r>
              <a:rPr b="1" lang="en-US" sz="1600" spc="-1" strike="noStrike">
                <a:solidFill>
                  <a:srgbClr val="ffc000"/>
                </a:solidFill>
                <a:latin typeface="Arial"/>
                <a:ea typeface="바탕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5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25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2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25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25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2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25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25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2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2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25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2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2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25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/>
                                        <p:tgtEl>
                                          <p:spTgt spid="25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2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4" name="AutoShape 410"/>
          <p:cNvSpPr/>
          <p:nvPr/>
        </p:nvSpPr>
        <p:spPr>
          <a:xfrm>
            <a:off x="5899320" y="3084480"/>
            <a:ext cx="1569960" cy="355680"/>
          </a:xfrm>
          <a:prstGeom prst="roundRect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5" name="AutoShape 410"/>
          <p:cNvSpPr/>
          <p:nvPr/>
        </p:nvSpPr>
        <p:spPr>
          <a:xfrm>
            <a:off x="4216320" y="3084480"/>
            <a:ext cx="1569960" cy="355680"/>
          </a:xfrm>
          <a:prstGeom prst="roundRect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6" name="AutoShape 410"/>
          <p:cNvSpPr/>
          <p:nvPr/>
        </p:nvSpPr>
        <p:spPr>
          <a:xfrm>
            <a:off x="2533680" y="3084480"/>
            <a:ext cx="1569960" cy="355680"/>
          </a:xfrm>
          <a:prstGeom prst="roundRect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7" name="AutoShape 410"/>
          <p:cNvSpPr/>
          <p:nvPr/>
        </p:nvSpPr>
        <p:spPr>
          <a:xfrm>
            <a:off x="7581960" y="3084480"/>
            <a:ext cx="1569960" cy="355680"/>
          </a:xfrm>
          <a:prstGeom prst="roundRect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AutoShape 410"/>
          <p:cNvSpPr/>
          <p:nvPr/>
        </p:nvSpPr>
        <p:spPr>
          <a:xfrm>
            <a:off x="814320" y="3075120"/>
            <a:ext cx="1569960" cy="355320"/>
          </a:xfrm>
          <a:prstGeom prst="roundRect">
            <a:avLst>
              <a:gd name="adj" fmla="val 50000"/>
            </a:avLst>
          </a:prstGeom>
          <a:solidFill>
            <a:srgbClr val="ffff66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9" name="Line 406"/>
          <p:cNvSpPr/>
          <p:nvPr/>
        </p:nvSpPr>
        <p:spPr>
          <a:xfrm>
            <a:off x="5057640" y="2340000"/>
            <a:ext cx="244440" cy="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0" name="Rectangle 407"/>
          <p:cNvSpPr/>
          <p:nvPr/>
        </p:nvSpPr>
        <p:spPr>
          <a:xfrm>
            <a:off x="401760" y="1309680"/>
            <a:ext cx="3390840" cy="1011240"/>
          </a:xfrm>
          <a:prstGeom prst="rect">
            <a:avLst/>
          </a:prstGeom>
          <a:solidFill>
            <a:srgbClr val="e5e5ff"/>
          </a:solidFill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1" name="Line 409"/>
          <p:cNvSpPr/>
          <p:nvPr/>
        </p:nvSpPr>
        <p:spPr>
          <a:xfrm>
            <a:off x="5048280" y="1371600"/>
            <a:ext cx="0" cy="140184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2" name="AutoShape 410"/>
          <p:cNvSpPr/>
          <p:nvPr/>
        </p:nvSpPr>
        <p:spPr>
          <a:xfrm>
            <a:off x="4248000" y="974880"/>
            <a:ext cx="1570320" cy="355320"/>
          </a:xfrm>
          <a:prstGeom prst="roundRect">
            <a:avLst>
              <a:gd name="adj" fmla="val 50000"/>
            </a:avLst>
          </a:prstGeom>
          <a:solidFill>
            <a:srgbClr val="00a7e2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Rectangle 411"/>
          <p:cNvSpPr/>
          <p:nvPr/>
        </p:nvSpPr>
        <p:spPr>
          <a:xfrm>
            <a:off x="998640" y="3763800"/>
            <a:ext cx="1368360" cy="137484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60000"/>
              </a:lnSpc>
              <a:buClr>
                <a:srgbClr val="99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北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99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天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99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太原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Rectangle 413"/>
          <p:cNvSpPr/>
          <p:nvPr/>
        </p:nvSpPr>
        <p:spPr>
          <a:xfrm>
            <a:off x="4265640" y="1084320"/>
            <a:ext cx="1523880" cy="19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 marL="152280" indent="-152280" algn="ctr">
              <a:lnSpc>
                <a:spcPct val="60000"/>
              </a:lnSpc>
              <a:spcBef>
                <a:spcPts val="488"/>
              </a:spcBef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  <a:ea typeface="宋体"/>
              </a:rPr>
              <a:t>L G E C 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5" name="Rectangle 416" descr=""/>
          <p:cNvPicPr/>
          <p:nvPr/>
        </p:nvPicPr>
        <p:blipFill>
          <a:blip r:embed="rId1"/>
          <a:stretch/>
        </p:blipFill>
        <p:spPr>
          <a:xfrm>
            <a:off x="835200" y="3121200"/>
            <a:ext cx="1523880" cy="323640"/>
          </a:xfrm>
          <a:prstGeom prst="rect">
            <a:avLst/>
          </a:prstGeom>
          <a:ln w="0">
            <a:noFill/>
          </a:ln>
        </p:spPr>
      </p:pic>
      <p:pic>
        <p:nvPicPr>
          <p:cNvPr id="2546" name="Rectangle 419" descr=""/>
          <p:cNvPicPr/>
          <p:nvPr/>
        </p:nvPicPr>
        <p:blipFill>
          <a:blip r:embed="rId2"/>
          <a:stretch/>
        </p:blipFill>
        <p:spPr>
          <a:xfrm>
            <a:off x="2584440" y="3133800"/>
            <a:ext cx="1523880" cy="322200"/>
          </a:xfrm>
          <a:prstGeom prst="rect">
            <a:avLst/>
          </a:prstGeom>
          <a:ln w="0">
            <a:noFill/>
          </a:ln>
        </p:spPr>
      </p:pic>
      <p:pic>
        <p:nvPicPr>
          <p:cNvPr id="2547" name="Rectangle 422" descr=""/>
          <p:cNvPicPr/>
          <p:nvPr/>
        </p:nvPicPr>
        <p:blipFill>
          <a:blip r:embed="rId3"/>
          <a:stretch/>
        </p:blipFill>
        <p:spPr>
          <a:xfrm>
            <a:off x="4280040" y="3133800"/>
            <a:ext cx="1523880" cy="322200"/>
          </a:xfrm>
          <a:prstGeom prst="rect">
            <a:avLst/>
          </a:prstGeom>
          <a:ln w="0">
            <a:noFill/>
          </a:ln>
        </p:spPr>
      </p:pic>
      <p:pic>
        <p:nvPicPr>
          <p:cNvPr id="2548" name="Rectangle 425" descr=""/>
          <p:cNvPicPr/>
          <p:nvPr/>
        </p:nvPicPr>
        <p:blipFill>
          <a:blip r:embed="rId4"/>
          <a:stretch/>
        </p:blipFill>
        <p:spPr>
          <a:xfrm>
            <a:off x="5919840" y="3133800"/>
            <a:ext cx="1523880" cy="322200"/>
          </a:xfrm>
          <a:prstGeom prst="rect">
            <a:avLst/>
          </a:prstGeom>
          <a:ln w="0">
            <a:noFill/>
          </a:ln>
        </p:spPr>
      </p:pic>
      <p:pic>
        <p:nvPicPr>
          <p:cNvPr id="2549" name="Rectangle 428" descr=""/>
          <p:cNvPicPr/>
          <p:nvPr/>
        </p:nvPicPr>
        <p:blipFill>
          <a:blip r:embed="rId5"/>
          <a:stretch/>
        </p:blipFill>
        <p:spPr>
          <a:xfrm>
            <a:off x="7596360" y="3133800"/>
            <a:ext cx="1523880" cy="322200"/>
          </a:xfrm>
          <a:prstGeom prst="rect">
            <a:avLst/>
          </a:prstGeom>
          <a:ln w="0">
            <a:noFill/>
          </a:ln>
        </p:spPr>
      </p:pic>
      <p:sp>
        <p:nvSpPr>
          <p:cNvPr id="2550" name="Rectangle 429"/>
          <p:cNvSpPr/>
          <p:nvPr/>
        </p:nvSpPr>
        <p:spPr>
          <a:xfrm>
            <a:off x="2666880" y="3763800"/>
            <a:ext cx="1368720" cy="13366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60000"/>
              </a:lnSpc>
              <a:buClr>
                <a:srgbClr val="99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上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99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杭州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99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南京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1" name="Rectangle 430"/>
          <p:cNvSpPr/>
          <p:nvPr/>
        </p:nvSpPr>
        <p:spPr>
          <a:xfrm>
            <a:off x="4336920" y="3763800"/>
            <a:ext cx="1370160" cy="132408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60000"/>
              </a:lnSpc>
              <a:buClr>
                <a:srgbClr val="99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深圳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99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200" spc="-1" strike="noStrike">
                <a:solidFill>
                  <a:srgbClr val="000000"/>
                </a:solidFill>
                <a:latin typeface="微软雅黑"/>
                <a:ea typeface="宋体"/>
              </a:rPr>
              <a:t>  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广州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99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厦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99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南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2" name="Rectangle 431"/>
          <p:cNvSpPr/>
          <p:nvPr/>
        </p:nvSpPr>
        <p:spPr>
          <a:xfrm>
            <a:off x="6039000" y="3763800"/>
            <a:ext cx="1368360" cy="12859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60000"/>
              </a:lnSpc>
              <a:buClr>
                <a:srgbClr val="99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成都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99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武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3" name="Rectangle 432"/>
          <p:cNvSpPr/>
          <p:nvPr/>
        </p:nvSpPr>
        <p:spPr>
          <a:xfrm>
            <a:off x="7675560" y="3763800"/>
            <a:ext cx="1368360" cy="126072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60000"/>
              </a:lnSpc>
              <a:buClr>
                <a:srgbClr val="99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沈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99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哈尔滨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4" name="Rectangle 433"/>
          <p:cNvSpPr/>
          <p:nvPr/>
        </p:nvSpPr>
        <p:spPr>
          <a:xfrm>
            <a:off x="973080" y="5257800"/>
            <a:ext cx="13669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2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FSE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宋体"/>
              </a:rPr>
              <a:t>：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宋体"/>
              </a:rPr>
              <a:t>名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EMP :         315</a:t>
            </a:r>
            <a:r>
              <a:rPr b="0" lang="ko-KR" sz="1100" spc="-1" strike="noStrike">
                <a:solidFill>
                  <a:srgbClr val="000000"/>
                </a:solidFill>
                <a:latin typeface="Arial"/>
                <a:ea typeface="宋体"/>
              </a:rPr>
              <a:t>名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Promoter : 1,431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宋体"/>
              </a:rPr>
              <a:t>名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5" name="Rectangle 434"/>
          <p:cNvSpPr/>
          <p:nvPr/>
        </p:nvSpPr>
        <p:spPr>
          <a:xfrm>
            <a:off x="4943520" y="3763800"/>
            <a:ext cx="822240" cy="8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60000"/>
              </a:lnSpc>
              <a:buClr>
                <a:srgbClr val="99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南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99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长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99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东莞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99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珠三角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99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56" name=""/>
          <p:cNvGrpSpPr/>
          <p:nvPr/>
        </p:nvGrpSpPr>
        <p:grpSpPr>
          <a:xfrm>
            <a:off x="1316160" y="2798640"/>
            <a:ext cx="7419960" cy="277560"/>
            <a:chOff x="1316160" y="2798640"/>
            <a:chExt cx="7419960" cy="277560"/>
          </a:xfrm>
        </p:grpSpPr>
        <p:sp>
          <p:nvSpPr>
            <p:cNvPr id="2557" name="Line 437"/>
            <p:cNvSpPr/>
            <p:nvPr/>
          </p:nvSpPr>
          <p:spPr>
            <a:xfrm>
              <a:off x="1319400" y="2798640"/>
              <a:ext cx="7416720" cy="0"/>
            </a:xfrm>
            <a:prstGeom prst="line">
              <a:avLst/>
            </a:prstGeom>
            <a:ln w="9360">
              <a:solidFill>
                <a:srgbClr val="808080"/>
              </a:solidFill>
              <a:miter/>
              <a:headEnd len="med" type="diamond" w="med"/>
              <a:tailEnd len="med" type="diamond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Line 438"/>
            <p:cNvSpPr/>
            <p:nvPr/>
          </p:nvSpPr>
          <p:spPr>
            <a:xfrm>
              <a:off x="1316160" y="2798640"/>
              <a:ext cx="0" cy="277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Line 439"/>
            <p:cNvSpPr/>
            <p:nvPr/>
          </p:nvSpPr>
          <p:spPr>
            <a:xfrm>
              <a:off x="8736120" y="2798640"/>
              <a:ext cx="0" cy="277560"/>
            </a:xfrm>
            <a:prstGeom prst="line">
              <a:avLst/>
            </a:prstGeom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560" name="Rectangle 440" descr=""/>
          <p:cNvPicPr/>
          <p:nvPr/>
        </p:nvPicPr>
        <p:blipFill>
          <a:blip r:embed="rId6"/>
          <a:stretch/>
        </p:blipFill>
        <p:spPr>
          <a:xfrm>
            <a:off x="5052960" y="2157480"/>
            <a:ext cx="1542960" cy="396720"/>
          </a:xfrm>
          <a:prstGeom prst="rect">
            <a:avLst/>
          </a:prstGeom>
          <a:ln w="0">
            <a:noFill/>
          </a:ln>
        </p:spPr>
      </p:pic>
      <p:sp>
        <p:nvSpPr>
          <p:cNvPr id="2561" name="Rectangle 441"/>
          <p:cNvSpPr/>
          <p:nvPr/>
        </p:nvSpPr>
        <p:spPr>
          <a:xfrm>
            <a:off x="1558800" y="3763800"/>
            <a:ext cx="722520" cy="10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60000"/>
              </a:lnSpc>
              <a:buClr>
                <a:srgbClr val="99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济南 </a:t>
            </a: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99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石家庄 </a:t>
            </a: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99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郑州 </a:t>
            </a:r>
            <a:r>
              <a:rPr b="1" lang="ko-KR" sz="1200" spc="-1" strike="noStrike">
                <a:solidFill>
                  <a:srgbClr val="000000"/>
                </a:solidFill>
                <a:latin typeface="微软雅黑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2" name="Rectangle 442"/>
          <p:cNvSpPr/>
          <p:nvPr/>
        </p:nvSpPr>
        <p:spPr>
          <a:xfrm>
            <a:off x="3313080" y="3763800"/>
            <a:ext cx="6145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60000"/>
              </a:lnSpc>
              <a:buClr>
                <a:srgbClr val="99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无锡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99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温州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99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合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3" name="Rectangle 443"/>
          <p:cNvSpPr/>
          <p:nvPr/>
        </p:nvSpPr>
        <p:spPr>
          <a:xfrm>
            <a:off x="8402760" y="3763800"/>
            <a:ext cx="71748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60000"/>
              </a:lnSpc>
              <a:buClr>
                <a:srgbClr val="99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大连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99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长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4" name="Text Box 444"/>
          <p:cNvSpPr/>
          <p:nvPr/>
        </p:nvSpPr>
        <p:spPr>
          <a:xfrm>
            <a:off x="438120" y="1316160"/>
            <a:ext cx="3386160" cy="1030320"/>
          </a:xfrm>
          <a:prstGeom prst="rect">
            <a:avLst/>
          </a:prstGeom>
          <a:solidFill>
            <a:srgbClr val="703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 u="sng">
                <a:solidFill>
                  <a:srgbClr val="ffc000"/>
                </a:solidFill>
                <a:uFillTx/>
                <a:latin typeface="Arial"/>
              </a:rPr>
              <a:t>家电部门</a:t>
            </a:r>
            <a:r>
              <a:rPr b="1" lang="ko-KR" sz="1200" spc="-1" strike="noStrike" u="sng">
                <a:solidFill>
                  <a:srgbClr val="ffc000"/>
                </a:solidFill>
                <a:uFillTx/>
                <a:latin typeface="Arial"/>
              </a:rPr>
              <a:t> </a:t>
            </a:r>
            <a:r>
              <a:rPr b="1" lang="en-US" sz="1200" spc="-1" strike="noStrike" u="sng">
                <a:solidFill>
                  <a:srgbClr val="ffc000"/>
                </a:solidFill>
                <a:uFillTx/>
                <a:latin typeface="Arial"/>
              </a:rPr>
              <a:t>Summary</a:t>
            </a:r>
            <a:r>
              <a:rPr b="1" lang="en-US" sz="1200" spc="-1" strike="noStrike">
                <a:solidFill>
                  <a:srgbClr val="ffc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5 Branches / 2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宋体"/>
              </a:rPr>
              <a:t>8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Departments / HQ </a:t>
            </a:r>
            <a:r>
              <a:rPr b="0" lang="en-US" sz="1100" spc="-1" strike="noStrike">
                <a:solidFill>
                  <a:srgbClr val="ffffff"/>
                </a:solidFill>
                <a:latin typeface="Arial"/>
              </a:rPr>
              <a:t>(10 Group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FSE : 2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宋体"/>
              </a:rPr>
              <a:t>8</a:t>
            </a:r>
            <a:r>
              <a:rPr b="1" lang="zh-CN" sz="1100" spc="-1" strike="noStrike">
                <a:solidFill>
                  <a:srgbClr val="ffffff"/>
                </a:solidFill>
                <a:latin typeface="Arial"/>
              </a:rPr>
              <a:t>名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EMP : 1,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宋体"/>
              </a:rPr>
              <a:t>316</a:t>
            </a:r>
            <a:r>
              <a:rPr b="1" lang="zh-CN" sz="1100" spc="-1" strike="noStrike">
                <a:solidFill>
                  <a:srgbClr val="ffffff"/>
                </a:solidFill>
                <a:latin typeface="Arial"/>
              </a:rPr>
              <a:t>名</a:t>
            </a:r>
            <a:r>
              <a:rPr b="1" lang="ko-KR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Promoter : 5,8</a:t>
            </a:r>
            <a:r>
              <a:rPr b="1" lang="en-US" sz="1100" spc="-1" strike="noStrike">
                <a:solidFill>
                  <a:srgbClr val="ffffff"/>
                </a:solidFill>
                <a:latin typeface="Arial"/>
                <a:ea typeface="宋体"/>
              </a:rPr>
              <a:t>53</a:t>
            </a:r>
            <a:r>
              <a:rPr b="1" lang="zh-CN" sz="1100" spc="-1" strike="noStrike">
                <a:solidFill>
                  <a:srgbClr val="ffffff"/>
                </a:solidFill>
                <a:latin typeface="Arial"/>
              </a:rPr>
              <a:t>名</a:t>
            </a:r>
            <a:r>
              <a:rPr b="1" lang="ko-KR" sz="1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5" name="Line 445"/>
          <p:cNvSpPr/>
          <p:nvPr/>
        </p:nvSpPr>
        <p:spPr>
          <a:xfrm>
            <a:off x="5052960" y="1687680"/>
            <a:ext cx="3292560" cy="0"/>
          </a:xfrm>
          <a:prstGeom prst="line">
            <a:avLst/>
          </a:prstGeom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6" name="AutoShape 446"/>
          <p:cNvSpPr/>
          <p:nvPr/>
        </p:nvSpPr>
        <p:spPr>
          <a:xfrm>
            <a:off x="6269040" y="1560600"/>
            <a:ext cx="657360" cy="258840"/>
          </a:xfrm>
          <a:prstGeom prst="roundRect">
            <a:avLst>
              <a:gd name="adj" fmla="val 41519"/>
            </a:avLst>
          </a:prstGeom>
          <a:solidFill>
            <a:srgbClr val="bfbfb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7" name="Rectangle 447"/>
          <p:cNvSpPr/>
          <p:nvPr/>
        </p:nvSpPr>
        <p:spPr>
          <a:xfrm>
            <a:off x="6191280" y="1638360"/>
            <a:ext cx="863640" cy="1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 marL="152280" indent="-152280" algn="ctr">
              <a:lnSpc>
                <a:spcPct val="60000"/>
              </a:lnSpc>
              <a:spcBef>
                <a:spcPts val="414"/>
              </a:spcBef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</a:rPr>
              <a:t>家电部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8" name="AutoShape 448"/>
          <p:cNvSpPr/>
          <p:nvPr/>
        </p:nvSpPr>
        <p:spPr>
          <a:xfrm>
            <a:off x="7094520" y="1565280"/>
            <a:ext cx="657360" cy="258840"/>
          </a:xfrm>
          <a:prstGeom prst="roundRect">
            <a:avLst>
              <a:gd name="adj" fmla="val 41519"/>
            </a:avLst>
          </a:prstGeom>
          <a:solidFill>
            <a:srgbClr val="bfbfb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9" name="AutoShape 449"/>
          <p:cNvSpPr/>
          <p:nvPr/>
        </p:nvSpPr>
        <p:spPr>
          <a:xfrm>
            <a:off x="7904160" y="1565280"/>
            <a:ext cx="655560" cy="258840"/>
          </a:xfrm>
          <a:prstGeom prst="roundRect">
            <a:avLst>
              <a:gd name="adj" fmla="val 41519"/>
            </a:avLst>
          </a:prstGeom>
          <a:solidFill>
            <a:srgbClr val="bfbfb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0" name="Rectangle 450"/>
          <p:cNvSpPr/>
          <p:nvPr/>
        </p:nvSpPr>
        <p:spPr>
          <a:xfrm>
            <a:off x="7004160" y="1638360"/>
            <a:ext cx="865080" cy="1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 marL="152280" indent="-152280" algn="ctr">
              <a:lnSpc>
                <a:spcPct val="60000"/>
              </a:lnSpc>
              <a:spcBef>
                <a:spcPts val="414"/>
              </a:spcBef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zh-CN" sz="1100" spc="-1" strike="noStrike">
                <a:solidFill>
                  <a:srgbClr val="ffffff"/>
                </a:solidFill>
                <a:latin typeface="Arial"/>
              </a:rPr>
              <a:t>经营管理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1" name="Rectangle 451"/>
          <p:cNvSpPr/>
          <p:nvPr/>
        </p:nvSpPr>
        <p:spPr>
          <a:xfrm>
            <a:off x="7829640" y="1638360"/>
            <a:ext cx="863640" cy="17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1640" rIns="71640" tIns="36000" bIns="36000" anchor="t">
            <a:spAutoFit/>
          </a:bodyPr>
          <a:p>
            <a:pPr marL="152280" indent="-152280" algn="ctr">
              <a:lnSpc>
                <a:spcPct val="60000"/>
              </a:lnSpc>
              <a:spcBef>
                <a:spcPts val="414"/>
              </a:spcBef>
              <a:tabLst>
                <a:tab algn="l" pos="0"/>
                <a:tab algn="l" pos="717480"/>
                <a:tab algn="l" pos="1434960"/>
                <a:tab algn="l" pos="2152800"/>
                <a:tab algn="l" pos="2870280"/>
                <a:tab algn="l" pos="3587760"/>
                <a:tab algn="l" pos="4305240"/>
                <a:tab algn="l" pos="5022720"/>
                <a:tab algn="l" pos="5740560"/>
                <a:tab algn="l" pos="6458040"/>
                <a:tab algn="l" pos="7175520"/>
                <a:tab algn="l" pos="7893000"/>
                <a:tab algn="l" pos="8610480"/>
                <a:tab algn="l" pos="9328320"/>
                <a:tab algn="l" pos="10045800"/>
                <a:tab algn="l" pos="1076328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Arial"/>
              </a:rPr>
              <a:t>H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2" name="Rectangle 453"/>
          <p:cNvSpPr/>
          <p:nvPr/>
        </p:nvSpPr>
        <p:spPr>
          <a:xfrm>
            <a:off x="2633760" y="5257800"/>
            <a:ext cx="13669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2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FSE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宋体"/>
              </a:rPr>
              <a:t>：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宋体"/>
              </a:rPr>
              <a:t>名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EMP :         353</a:t>
            </a:r>
            <a:r>
              <a:rPr b="0" lang="ko-KR" sz="1100" spc="-1" strike="noStrike">
                <a:solidFill>
                  <a:srgbClr val="000000"/>
                </a:solidFill>
                <a:latin typeface="Arial"/>
                <a:ea typeface="宋体"/>
              </a:rPr>
              <a:t>名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Promoter : 1,555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宋体"/>
              </a:rPr>
              <a:t>名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3" name="Rectangle 454"/>
          <p:cNvSpPr/>
          <p:nvPr/>
        </p:nvSpPr>
        <p:spPr>
          <a:xfrm>
            <a:off x="4325760" y="5257800"/>
            <a:ext cx="13687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2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FSE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宋体"/>
              </a:rPr>
              <a:t>：  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宋体"/>
              </a:rPr>
              <a:t>名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EMP :         247</a:t>
            </a:r>
            <a:r>
              <a:rPr b="0" lang="ko-KR" sz="1100" spc="-1" strike="noStrike">
                <a:solidFill>
                  <a:srgbClr val="000000"/>
                </a:solidFill>
                <a:latin typeface="Arial"/>
                <a:ea typeface="宋体"/>
              </a:rPr>
              <a:t>名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Promoter : 1,241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宋体"/>
              </a:rPr>
              <a:t>名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4" name="Rectangle 455"/>
          <p:cNvSpPr/>
          <p:nvPr/>
        </p:nvSpPr>
        <p:spPr>
          <a:xfrm>
            <a:off x="6026040" y="5257800"/>
            <a:ext cx="136692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2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FSE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宋体"/>
              </a:rPr>
              <a:t>： 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宋体"/>
              </a:rPr>
              <a:t>名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EMP :       170</a:t>
            </a:r>
            <a:r>
              <a:rPr b="0" lang="ko-KR" sz="1100" spc="-1" strike="noStrike">
                <a:solidFill>
                  <a:srgbClr val="000000"/>
                </a:solidFill>
                <a:latin typeface="Arial"/>
                <a:ea typeface="宋体"/>
              </a:rPr>
              <a:t>名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Promoter : 926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宋体"/>
              </a:rPr>
              <a:t>名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5" name="Rectangle 456"/>
          <p:cNvSpPr/>
          <p:nvPr/>
        </p:nvSpPr>
        <p:spPr>
          <a:xfrm>
            <a:off x="7691400" y="5257800"/>
            <a:ext cx="15098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2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FSE 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宋体"/>
              </a:rPr>
              <a:t>：      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宋体"/>
              </a:rPr>
              <a:t>名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EMP :      162</a:t>
            </a:r>
            <a:r>
              <a:rPr b="0" lang="ko-KR" sz="1100" spc="-1" strike="noStrike">
                <a:solidFill>
                  <a:srgbClr val="000000"/>
                </a:solidFill>
                <a:latin typeface="Arial"/>
                <a:ea typeface="宋体"/>
              </a:rPr>
              <a:t>名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1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Promoter : 700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宋体"/>
              </a:rPr>
              <a:t>名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6" name="Rectangle 457"/>
          <p:cNvSpPr/>
          <p:nvPr/>
        </p:nvSpPr>
        <p:spPr>
          <a:xfrm>
            <a:off x="6662880" y="3763800"/>
            <a:ext cx="71748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60000"/>
              </a:lnSpc>
              <a:buClr>
                <a:srgbClr val="99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西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buClr>
                <a:srgbClr val="99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重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7" name="Rectangle 458"/>
          <p:cNvSpPr/>
          <p:nvPr/>
        </p:nvSpPr>
        <p:spPr>
          <a:xfrm>
            <a:off x="6324480" y="2160720"/>
            <a:ext cx="20415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20000"/>
              </a:lnSpc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FSE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宋体"/>
              </a:rPr>
              <a:t>：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zh-CN" sz="1100" spc="-1" strike="noStrike">
                <a:solidFill>
                  <a:srgbClr val="000000"/>
                </a:solidFill>
                <a:latin typeface="Arial"/>
                <a:ea typeface="宋体"/>
              </a:rPr>
              <a:t>名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,  EMP </a:t>
            </a: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: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宋体"/>
              </a:rPr>
              <a:t> 68</a:t>
            </a:r>
            <a:r>
              <a:rPr b="0" lang="ko-KR" sz="1100" spc="-1" strike="noStrike">
                <a:solidFill>
                  <a:srgbClr val="000000"/>
                </a:solidFill>
                <a:latin typeface="Arial"/>
                <a:ea typeface="Gulim"/>
              </a:rPr>
              <a:t>名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8" name="AutoShape 459"/>
          <p:cNvSpPr/>
          <p:nvPr/>
        </p:nvSpPr>
        <p:spPr>
          <a:xfrm>
            <a:off x="3573360" y="2660760"/>
            <a:ext cx="190440" cy="190440"/>
          </a:xfrm>
          <a:custGeom>
            <a:avLst/>
            <a:gdLst>
              <a:gd name="textAreaLeft" fmla="*/ 11880 w 190440"/>
              <a:gd name="textAreaRight" fmla="*/ 178560 w 190440"/>
              <a:gd name="textAreaTop" fmla="*/ 11880 h 190440"/>
              <a:gd name="textAreaBottom" fmla="*/ 178560 h 190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10800" y="3756"/>
                </a:moveTo>
                <a:arcTo wR="7044" hR="7044" stAng="16200000" swAng="-5400000"/>
                <a:arcTo wR="7044" hR="7044" stAng="10800000" swAng="-5400000"/>
                <a:arcTo wR="7044" hR="7044" stAng="5400000" swAng="-5400000"/>
                <a:arcTo wR="7044" hR="7044" stAng="0" swAng="-5400000"/>
                <a:close/>
              </a:path>
              <a:path fill="lighten" w="21600" h="21600">
                <a:moveTo>
                  <a:pt x="10800" y="4133"/>
                </a:moveTo>
                <a:arcTo wR="1803" hR="1803" stAng="16200000" swAng="-5400000"/>
                <a:arcTo wR="1803" hR="1803" stAng="10800000" swAng="-5400000"/>
                <a:arcTo wR="1803" hR="1803" stAng="5400000" swAng="-5400000"/>
                <a:arcTo wR="1803" hR="1803" stAng="0" swAng="-5400000"/>
                <a:close/>
              </a:path>
              <a:path fill="lighten" w="21600" h="21600">
                <a:moveTo>
                  <a:pt x="8210" y="8210"/>
                </a:moveTo>
                <a:lnTo>
                  <a:pt x="12095" y="8210"/>
                </a:lnTo>
                <a:lnTo>
                  <a:pt x="12095" y="15245"/>
                </a:lnTo>
                <a:lnTo>
                  <a:pt x="13390" y="15245"/>
                </a:lnTo>
                <a:lnTo>
                  <a:pt x="13390" y="16173"/>
                </a:lnTo>
                <a:lnTo>
                  <a:pt x="8210" y="16173"/>
                </a:lnTo>
                <a:lnTo>
                  <a:pt x="8210" y="15245"/>
                </a:lnTo>
                <a:lnTo>
                  <a:pt x="9505" y="15245"/>
                </a:lnTo>
                <a:lnTo>
                  <a:pt x="9505" y="9120"/>
                </a:lnTo>
                <a:lnTo>
                  <a:pt x="8210" y="9120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9" name=""/>
          <p:cNvGrpSpPr/>
          <p:nvPr/>
        </p:nvGrpSpPr>
        <p:grpSpPr>
          <a:xfrm>
            <a:off x="0" y="6407280"/>
            <a:ext cx="9918720" cy="237960"/>
            <a:chOff x="0" y="6407280"/>
            <a:chExt cx="9918720" cy="237960"/>
          </a:xfrm>
        </p:grpSpPr>
        <p:pic>
          <p:nvPicPr>
            <p:cNvPr id="2580" name="矩形 58" descr=""/>
            <p:cNvPicPr/>
            <p:nvPr/>
          </p:nvPicPr>
          <p:blipFill>
            <a:blip r:embed="rId7"/>
            <a:stretch/>
          </p:blipFill>
          <p:spPr>
            <a:xfrm>
              <a:off x="0" y="6407280"/>
              <a:ext cx="991728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81" name=""/>
            <p:cNvSpPr/>
            <p:nvPr/>
          </p:nvSpPr>
          <p:spPr>
            <a:xfrm>
              <a:off x="0" y="6408720"/>
              <a:ext cx="99187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2" name="灯片编号占位符 5"/>
          <p:cNvSpPr/>
          <p:nvPr/>
        </p:nvSpPr>
        <p:spPr>
          <a:xfrm>
            <a:off x="7397640" y="6364440"/>
            <a:ext cx="1486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ge   </a:t>
            </a:r>
            <a:fld id="{CB16DAB5-000A-4666-9245-B7E4517CF185}" type="slidenum">
              <a:rPr b="0" lang="zh-CN" sz="1000" spc="-1" strike="noStrike">
                <a:solidFill>
                  <a:srgbClr val="ffffff"/>
                </a:solidFill>
                <a:latin typeface="华文宋体"/>
                <a:ea typeface="华文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3" name="Rectangle 4" descr=""/>
          <p:cNvPicPr/>
          <p:nvPr/>
        </p:nvPicPr>
        <p:blipFill>
          <a:blip r:embed="rId8"/>
          <a:stretch/>
        </p:blipFill>
        <p:spPr>
          <a:xfrm>
            <a:off x="444600" y="182520"/>
            <a:ext cx="946080" cy="560520"/>
          </a:xfrm>
          <a:prstGeom prst="rect">
            <a:avLst/>
          </a:prstGeom>
          <a:ln w="0">
            <a:noFill/>
          </a:ln>
        </p:spPr>
      </p:pic>
      <p:pic>
        <p:nvPicPr>
          <p:cNvPr id="2584" name="矩形 65" descr=""/>
          <p:cNvPicPr/>
          <p:nvPr/>
        </p:nvPicPr>
        <p:blipFill>
          <a:blip r:embed="rId9"/>
          <a:stretch/>
        </p:blipFill>
        <p:spPr>
          <a:xfrm>
            <a:off x="6132600" y="201600"/>
            <a:ext cx="3554280" cy="1133640"/>
          </a:xfrm>
          <a:prstGeom prst="rect">
            <a:avLst/>
          </a:prstGeom>
          <a:ln w="0">
            <a:noFill/>
          </a:ln>
        </p:spPr>
      </p:pic>
      <p:sp>
        <p:nvSpPr>
          <p:cNvPr id="2585" name="直接连接符 69"/>
          <p:cNvSpPr/>
          <p:nvPr/>
        </p:nvSpPr>
        <p:spPr>
          <a:xfrm>
            <a:off x="1298520" y="322200"/>
            <a:ext cx="0" cy="21420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6" name="标题 2"/>
          <p:cNvSpPr/>
          <p:nvPr/>
        </p:nvSpPr>
        <p:spPr>
          <a:xfrm>
            <a:off x="1282680" y="262080"/>
            <a:ext cx="15559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经营分析报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7" name="Rectangle 72"/>
          <p:cNvSpPr/>
          <p:nvPr/>
        </p:nvSpPr>
        <p:spPr>
          <a:xfrm>
            <a:off x="878040" y="1058760"/>
            <a:ext cx="949320" cy="306360"/>
          </a:xfrm>
          <a:prstGeom prst="rect">
            <a:avLst/>
          </a:prstGeom>
          <a:solidFill>
            <a:srgbClr val="00b0f0"/>
          </a:solidFill>
          <a:ln w="93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8" name="Text Box 3"/>
          <p:cNvSpPr/>
          <p:nvPr/>
        </p:nvSpPr>
        <p:spPr>
          <a:xfrm>
            <a:off x="6973560" y="482760"/>
            <a:ext cx="26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9" name="Rectangle 59"/>
          <p:cNvSpPr/>
          <p:nvPr/>
        </p:nvSpPr>
        <p:spPr>
          <a:xfrm>
            <a:off x="7989840" y="1363680"/>
            <a:ext cx="954000" cy="352440"/>
          </a:xfrm>
          <a:prstGeom prst="rect">
            <a:avLst/>
          </a:pr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0" name="Rectangle 60"/>
          <p:cNvSpPr/>
          <p:nvPr/>
        </p:nvSpPr>
        <p:spPr>
          <a:xfrm>
            <a:off x="5886360" y="1363680"/>
            <a:ext cx="952560" cy="352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Rectangle 61"/>
          <p:cNvSpPr/>
          <p:nvPr/>
        </p:nvSpPr>
        <p:spPr>
          <a:xfrm>
            <a:off x="6942240" y="1363680"/>
            <a:ext cx="954000" cy="352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2" name="Text Box 62"/>
          <p:cNvSpPr/>
          <p:nvPr/>
        </p:nvSpPr>
        <p:spPr>
          <a:xfrm>
            <a:off x="7958160" y="1341360"/>
            <a:ext cx="9842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Branch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ffic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3" name="Text Box 63"/>
          <p:cNvSpPr/>
          <p:nvPr/>
        </p:nvSpPr>
        <p:spPr>
          <a:xfrm>
            <a:off x="6888240" y="1341360"/>
            <a:ext cx="106992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Dep’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4" name="Text Box 64"/>
          <p:cNvSpPr/>
          <p:nvPr/>
        </p:nvSpPr>
        <p:spPr>
          <a:xfrm>
            <a:off x="5876640" y="1357200"/>
            <a:ext cx="9784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arketin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5" name="Rectangle 65"/>
          <p:cNvSpPr/>
          <p:nvPr/>
        </p:nvSpPr>
        <p:spPr>
          <a:xfrm>
            <a:off x="7989840" y="1768320"/>
            <a:ext cx="954000" cy="4467240"/>
          </a:xfrm>
          <a:prstGeom prst="rect">
            <a:avLst/>
          </a:prstGeom>
          <a:solidFill>
            <a:srgbClr val="cc66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6" name="Rectangle 66"/>
          <p:cNvSpPr/>
          <p:nvPr/>
        </p:nvSpPr>
        <p:spPr>
          <a:xfrm>
            <a:off x="5886360" y="1768320"/>
            <a:ext cx="952560" cy="4467240"/>
          </a:xfrm>
          <a:prstGeom prst="rect">
            <a:avLst/>
          </a:prstGeom>
          <a:solidFill>
            <a:srgbClr val="0080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7" name="Rectangle 67"/>
          <p:cNvSpPr/>
          <p:nvPr/>
        </p:nvSpPr>
        <p:spPr>
          <a:xfrm>
            <a:off x="6942240" y="1768320"/>
            <a:ext cx="954000" cy="4467240"/>
          </a:xfrm>
          <a:prstGeom prst="rect">
            <a:avLst/>
          </a:prstGeom>
          <a:solidFill>
            <a:srgbClr val="ff9900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Oval 68"/>
          <p:cNvSpPr/>
          <p:nvPr/>
        </p:nvSpPr>
        <p:spPr>
          <a:xfrm>
            <a:off x="1001880" y="1195560"/>
            <a:ext cx="222120" cy="14256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70c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Oval 69"/>
          <p:cNvSpPr/>
          <p:nvPr/>
        </p:nvSpPr>
        <p:spPr>
          <a:xfrm>
            <a:off x="1461960" y="1184400"/>
            <a:ext cx="222480" cy="14292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0" name="Text Box 70"/>
          <p:cNvSpPr/>
          <p:nvPr/>
        </p:nvSpPr>
        <p:spPr>
          <a:xfrm>
            <a:off x="1283040" y="1049400"/>
            <a:ext cx="6584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Requir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Text Box 71"/>
          <p:cNvSpPr/>
          <p:nvPr/>
        </p:nvSpPr>
        <p:spPr>
          <a:xfrm>
            <a:off x="780120" y="1038240"/>
            <a:ext cx="6602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900" spc="-1" strike="noStrike">
                <a:solidFill>
                  <a:srgbClr val="0070c0"/>
                </a:solidFill>
                <a:latin typeface="Arial"/>
              </a:rPr>
              <a:t>Selectiv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2" name="Text Box 73"/>
          <p:cNvSpPr/>
          <p:nvPr/>
        </p:nvSpPr>
        <p:spPr>
          <a:xfrm>
            <a:off x="2729880" y="6054840"/>
            <a:ext cx="29736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Gulim"/>
                <a:ea typeface="Gulim"/>
              </a:rPr>
              <a:t>*Dvl.: Development, **Mgt.: Managem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Rectangle 74"/>
          <p:cNvSpPr/>
          <p:nvPr/>
        </p:nvSpPr>
        <p:spPr>
          <a:xfrm>
            <a:off x="1216080" y="4024440"/>
            <a:ext cx="1590480" cy="4316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Rectangle 75"/>
          <p:cNvSpPr/>
          <p:nvPr/>
        </p:nvSpPr>
        <p:spPr>
          <a:xfrm>
            <a:off x="1211400" y="3279600"/>
            <a:ext cx="1589040" cy="69696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5" name="Rectangle 76"/>
          <p:cNvSpPr/>
          <p:nvPr/>
        </p:nvSpPr>
        <p:spPr>
          <a:xfrm>
            <a:off x="1211400" y="5805360"/>
            <a:ext cx="1589040" cy="50004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6" name="Rectangle 77"/>
          <p:cNvSpPr/>
          <p:nvPr/>
        </p:nvSpPr>
        <p:spPr>
          <a:xfrm>
            <a:off x="1211400" y="4498920"/>
            <a:ext cx="1589040" cy="12574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7" name="Rectangle 78"/>
          <p:cNvSpPr/>
          <p:nvPr/>
        </p:nvSpPr>
        <p:spPr>
          <a:xfrm>
            <a:off x="1211400" y="2243160"/>
            <a:ext cx="1589040" cy="9874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8" name="Rectangle 79"/>
          <p:cNvSpPr/>
          <p:nvPr/>
        </p:nvSpPr>
        <p:spPr>
          <a:xfrm>
            <a:off x="1216080" y="1724040"/>
            <a:ext cx="1590480" cy="47448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9" name="Rectangle 80"/>
          <p:cNvSpPr/>
          <p:nvPr/>
        </p:nvSpPr>
        <p:spPr>
          <a:xfrm>
            <a:off x="1216080" y="4118040"/>
            <a:ext cx="1589040" cy="2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icing /managing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trade ter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0" name="Rectangle 81"/>
          <p:cNvSpPr/>
          <p:nvPr/>
        </p:nvSpPr>
        <p:spPr>
          <a:xfrm>
            <a:off x="1370160" y="3430440"/>
            <a:ext cx="12715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rand activation &amp; deli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1" name="Rectangle 82"/>
          <p:cNvSpPr/>
          <p:nvPr/>
        </p:nvSpPr>
        <p:spPr>
          <a:xfrm>
            <a:off x="1455840" y="5915160"/>
            <a:ext cx="110484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hopper 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ark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2" name="Rectangle 83"/>
          <p:cNvSpPr/>
          <p:nvPr/>
        </p:nvSpPr>
        <p:spPr>
          <a:xfrm>
            <a:off x="1290600" y="4773600"/>
            <a:ext cx="143208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hannel &amp; account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3" name="Rectangle 84"/>
          <p:cNvSpPr/>
          <p:nvPr/>
        </p:nvSpPr>
        <p:spPr>
          <a:xfrm>
            <a:off x="1430280" y="2325600"/>
            <a:ext cx="115092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Brand building 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&amp; innov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4" name="Rectangle 85"/>
          <p:cNvSpPr/>
          <p:nvPr/>
        </p:nvSpPr>
        <p:spPr>
          <a:xfrm>
            <a:off x="1216080" y="1765440"/>
            <a:ext cx="1589040" cy="3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enerate and leverage</a:t>
            </a:r>
            <a:br>
              <a:rPr sz="1200"/>
            </a:b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consumer ins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5" name="Text Box 86"/>
          <p:cNvSpPr/>
          <p:nvPr/>
        </p:nvSpPr>
        <p:spPr>
          <a:xfrm>
            <a:off x="1316160" y="1330200"/>
            <a:ext cx="1400040" cy="3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500" spc="-1" strike="noStrike" u="sng">
                <a:solidFill>
                  <a:srgbClr val="2788ff"/>
                </a:solidFill>
                <a:uFillTx/>
                <a:latin typeface="Arial"/>
              </a:rPr>
              <a:t>Core work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6" name="Rectangle 87"/>
          <p:cNvSpPr/>
          <p:nvPr/>
        </p:nvSpPr>
        <p:spPr>
          <a:xfrm>
            <a:off x="2778480" y="1735200"/>
            <a:ext cx="230112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nsumer / Market resear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7" name="Rectangle 88"/>
          <p:cNvSpPr/>
          <p:nvPr/>
        </p:nvSpPr>
        <p:spPr>
          <a:xfrm>
            <a:off x="2784960" y="1955880"/>
            <a:ext cx="203436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gmentation/ Targe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8" name="Rectangle 89"/>
          <p:cNvSpPr/>
          <p:nvPr/>
        </p:nvSpPr>
        <p:spPr>
          <a:xfrm>
            <a:off x="2784600" y="2216160"/>
            <a:ext cx="239544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rand identity Dvl.*/ Mgt.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9" name="Rectangle 90"/>
          <p:cNvSpPr/>
          <p:nvPr/>
        </p:nvSpPr>
        <p:spPr>
          <a:xfrm>
            <a:off x="2784600" y="2482920"/>
            <a:ext cx="181476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lue proposition Dv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0" name="Rectangle 91"/>
          <p:cNvSpPr/>
          <p:nvPr/>
        </p:nvSpPr>
        <p:spPr>
          <a:xfrm>
            <a:off x="2785680" y="2741760"/>
            <a:ext cx="14994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duct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1" name="Rectangle 92"/>
          <p:cNvSpPr/>
          <p:nvPr/>
        </p:nvSpPr>
        <p:spPr>
          <a:xfrm>
            <a:off x="2784600" y="2995560"/>
            <a:ext cx="250992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duct Dvl. /NPI Program Mg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2" name="Rectangle 93"/>
          <p:cNvSpPr/>
          <p:nvPr/>
        </p:nvSpPr>
        <p:spPr>
          <a:xfrm>
            <a:off x="2783880" y="3254400"/>
            <a:ext cx="159408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rcom Dvl. / Mg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Rectangle 94"/>
          <p:cNvSpPr/>
          <p:nvPr/>
        </p:nvSpPr>
        <p:spPr>
          <a:xfrm>
            <a:off x="2786400" y="3505320"/>
            <a:ext cx="168552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motion 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4" name="Rectangle 95"/>
          <p:cNvSpPr/>
          <p:nvPr/>
        </p:nvSpPr>
        <p:spPr>
          <a:xfrm>
            <a:off x="2781000" y="3755880"/>
            <a:ext cx="19278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rketing ROI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5" name="Rectangle 96"/>
          <p:cNvSpPr/>
          <p:nvPr/>
        </p:nvSpPr>
        <p:spPr>
          <a:xfrm>
            <a:off x="2780640" y="4121280"/>
            <a:ext cx="312408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cing / Trade term scheme Dvl. &amp; Mg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6" name="Rectangle 97"/>
          <p:cNvSpPr/>
          <p:nvPr/>
        </p:nvSpPr>
        <p:spPr>
          <a:xfrm>
            <a:off x="2781360" y="4518000"/>
            <a:ext cx="280836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annel/ Account mix strategy Dv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7" name="Rectangle 98"/>
          <p:cNvSpPr/>
          <p:nvPr/>
        </p:nvSpPr>
        <p:spPr>
          <a:xfrm>
            <a:off x="2784600" y="4811760"/>
            <a:ext cx="230328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count relationship Mg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8" name="Rectangle 99"/>
          <p:cNvSpPr/>
          <p:nvPr/>
        </p:nvSpPr>
        <p:spPr>
          <a:xfrm>
            <a:off x="2784600" y="5116680"/>
            <a:ext cx="136836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omotion Mg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9" name="Rectangle 100"/>
          <p:cNvSpPr/>
          <p:nvPr/>
        </p:nvSpPr>
        <p:spPr>
          <a:xfrm>
            <a:off x="2784960" y="5432400"/>
            <a:ext cx="196560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count P&amp;L Dvl. / Mg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0" name="Rectangle 101"/>
          <p:cNvSpPr/>
          <p:nvPr/>
        </p:nvSpPr>
        <p:spPr>
          <a:xfrm>
            <a:off x="2782800" y="5837400"/>
            <a:ext cx="2121120" cy="27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opper insight Lever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1" name="Text Box 103"/>
          <p:cNvSpPr/>
          <p:nvPr/>
        </p:nvSpPr>
        <p:spPr>
          <a:xfrm>
            <a:off x="3436920" y="1330200"/>
            <a:ext cx="1346040" cy="3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500" spc="-1" strike="noStrike" u="sng">
                <a:solidFill>
                  <a:srgbClr val="2788ff"/>
                </a:solidFill>
                <a:uFillTx/>
                <a:latin typeface="Arial"/>
              </a:rPr>
              <a:t>Capabilit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2" name="Oval 104"/>
          <p:cNvSpPr/>
          <p:nvPr/>
        </p:nvSpPr>
        <p:spPr>
          <a:xfrm>
            <a:off x="6210360" y="1890720"/>
            <a:ext cx="269640" cy="19368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3" name="Line 106"/>
          <p:cNvSpPr/>
          <p:nvPr/>
        </p:nvSpPr>
        <p:spPr>
          <a:xfrm>
            <a:off x="2811600" y="2214720"/>
            <a:ext cx="6129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4" name="Line 107"/>
          <p:cNvSpPr/>
          <p:nvPr/>
        </p:nvSpPr>
        <p:spPr>
          <a:xfrm>
            <a:off x="2811600" y="3251160"/>
            <a:ext cx="6129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5" name="Line 108"/>
          <p:cNvSpPr/>
          <p:nvPr/>
        </p:nvSpPr>
        <p:spPr>
          <a:xfrm>
            <a:off x="2811600" y="3986280"/>
            <a:ext cx="6129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6" name="Line 109"/>
          <p:cNvSpPr/>
          <p:nvPr/>
        </p:nvSpPr>
        <p:spPr>
          <a:xfrm>
            <a:off x="2811600" y="4471920"/>
            <a:ext cx="6129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7" name="Line 110"/>
          <p:cNvSpPr/>
          <p:nvPr/>
        </p:nvSpPr>
        <p:spPr>
          <a:xfrm>
            <a:off x="2811600" y="5770440"/>
            <a:ext cx="6129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8" name="Rectangle 111"/>
          <p:cNvSpPr/>
          <p:nvPr/>
        </p:nvSpPr>
        <p:spPr>
          <a:xfrm>
            <a:off x="873000" y="4024440"/>
            <a:ext cx="289080" cy="431640"/>
          </a:xfrm>
          <a:prstGeom prst="rect">
            <a:avLst/>
          </a:prstGeom>
          <a:solidFill>
            <a:srgbClr val="00b0f0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5/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9" name="Rectangle 112"/>
          <p:cNvSpPr/>
          <p:nvPr/>
        </p:nvSpPr>
        <p:spPr>
          <a:xfrm>
            <a:off x="873000" y="3279600"/>
            <a:ext cx="289080" cy="696960"/>
          </a:xfrm>
          <a:prstGeom prst="rect">
            <a:avLst/>
          </a:prstGeom>
          <a:solidFill>
            <a:srgbClr val="00b0f0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0" name="Rectangle 113"/>
          <p:cNvSpPr/>
          <p:nvPr/>
        </p:nvSpPr>
        <p:spPr>
          <a:xfrm>
            <a:off x="873000" y="5807160"/>
            <a:ext cx="289080" cy="498240"/>
          </a:xfrm>
          <a:prstGeom prst="rect">
            <a:avLst/>
          </a:prstGeom>
          <a:solidFill>
            <a:srgbClr val="00b0f0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1" name="Rectangle 114"/>
          <p:cNvSpPr/>
          <p:nvPr/>
        </p:nvSpPr>
        <p:spPr>
          <a:xfrm>
            <a:off x="873000" y="4498920"/>
            <a:ext cx="289080" cy="1258920"/>
          </a:xfrm>
          <a:prstGeom prst="rect">
            <a:avLst/>
          </a:prstGeom>
          <a:solidFill>
            <a:srgbClr val="00b0f0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6/7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2" name="Rectangle 115"/>
          <p:cNvSpPr/>
          <p:nvPr/>
        </p:nvSpPr>
        <p:spPr>
          <a:xfrm>
            <a:off x="873000" y="2243160"/>
            <a:ext cx="289080" cy="987480"/>
          </a:xfrm>
          <a:prstGeom prst="rect">
            <a:avLst/>
          </a:prstGeom>
          <a:solidFill>
            <a:srgbClr val="00b0f0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2/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3" name="Rectangle 116"/>
          <p:cNvSpPr/>
          <p:nvPr/>
        </p:nvSpPr>
        <p:spPr>
          <a:xfrm>
            <a:off x="873000" y="1724040"/>
            <a:ext cx="289080" cy="473040"/>
          </a:xfrm>
          <a:prstGeom prst="rect">
            <a:avLst/>
          </a:prstGeom>
          <a:solidFill>
            <a:srgbClr val="00b0f0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ctr">
            <a:noAutofit/>
          </a:bodyPr>
          <a:p>
            <a:pPr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4" name="Text Box 117"/>
          <p:cNvSpPr/>
          <p:nvPr/>
        </p:nvSpPr>
        <p:spPr>
          <a:xfrm>
            <a:off x="722160" y="1330200"/>
            <a:ext cx="648000" cy="3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 algn="ctr"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r>
              <a:rPr b="1" lang="en-US" sz="1500" spc="-1" strike="noStrike" u="sng">
                <a:solidFill>
                  <a:srgbClr val="2788ff"/>
                </a:solidFill>
                <a:uFillTx/>
                <a:latin typeface="Arial"/>
              </a:rPr>
              <a:t>CO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5" name="Oval 118"/>
          <p:cNvSpPr/>
          <p:nvPr/>
        </p:nvSpPr>
        <p:spPr>
          <a:xfrm>
            <a:off x="7297560" y="1890720"/>
            <a:ext cx="270000" cy="1936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70c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6" name="Oval 119"/>
          <p:cNvSpPr/>
          <p:nvPr/>
        </p:nvSpPr>
        <p:spPr>
          <a:xfrm>
            <a:off x="6211800" y="2251080"/>
            <a:ext cx="270000" cy="19368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7" name="Oval 120"/>
          <p:cNvSpPr/>
          <p:nvPr/>
        </p:nvSpPr>
        <p:spPr>
          <a:xfrm>
            <a:off x="7299360" y="2251080"/>
            <a:ext cx="270000" cy="1936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70c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8" name="Oval 121"/>
          <p:cNvSpPr/>
          <p:nvPr/>
        </p:nvSpPr>
        <p:spPr>
          <a:xfrm>
            <a:off x="7299360" y="2496960"/>
            <a:ext cx="270000" cy="19368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9" name="Oval 122"/>
          <p:cNvSpPr/>
          <p:nvPr/>
        </p:nvSpPr>
        <p:spPr>
          <a:xfrm>
            <a:off x="7299360" y="2738520"/>
            <a:ext cx="270000" cy="19368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0" name="Oval 123"/>
          <p:cNvSpPr/>
          <p:nvPr/>
        </p:nvSpPr>
        <p:spPr>
          <a:xfrm>
            <a:off x="7299360" y="2979720"/>
            <a:ext cx="270000" cy="19368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1" name="Oval 124"/>
          <p:cNvSpPr/>
          <p:nvPr/>
        </p:nvSpPr>
        <p:spPr>
          <a:xfrm>
            <a:off x="6211800" y="3289320"/>
            <a:ext cx="270000" cy="19368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2" name="Oval 125"/>
          <p:cNvSpPr/>
          <p:nvPr/>
        </p:nvSpPr>
        <p:spPr>
          <a:xfrm>
            <a:off x="7297560" y="3276720"/>
            <a:ext cx="270000" cy="19368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3" name="Oval 126"/>
          <p:cNvSpPr/>
          <p:nvPr/>
        </p:nvSpPr>
        <p:spPr>
          <a:xfrm>
            <a:off x="7297560" y="3510000"/>
            <a:ext cx="270000" cy="19368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4" name="Oval 127"/>
          <p:cNvSpPr/>
          <p:nvPr/>
        </p:nvSpPr>
        <p:spPr>
          <a:xfrm>
            <a:off x="7299360" y="3751200"/>
            <a:ext cx="270000" cy="19368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5" name="Oval 128"/>
          <p:cNvSpPr/>
          <p:nvPr/>
        </p:nvSpPr>
        <p:spPr>
          <a:xfrm>
            <a:off x="6210360" y="3751200"/>
            <a:ext cx="269640" cy="19368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6" name="Oval 129"/>
          <p:cNvSpPr/>
          <p:nvPr/>
        </p:nvSpPr>
        <p:spPr>
          <a:xfrm>
            <a:off x="7299360" y="4124160"/>
            <a:ext cx="270000" cy="19368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7" name="Oval 130"/>
          <p:cNvSpPr/>
          <p:nvPr/>
        </p:nvSpPr>
        <p:spPr>
          <a:xfrm>
            <a:off x="8332920" y="4564080"/>
            <a:ext cx="269640" cy="19368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8" name="Oval 131"/>
          <p:cNvSpPr/>
          <p:nvPr/>
        </p:nvSpPr>
        <p:spPr>
          <a:xfrm>
            <a:off x="8332920" y="4865760"/>
            <a:ext cx="269640" cy="19368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9" name="Oval 132"/>
          <p:cNvSpPr/>
          <p:nvPr/>
        </p:nvSpPr>
        <p:spPr>
          <a:xfrm>
            <a:off x="8332920" y="5180040"/>
            <a:ext cx="269640" cy="19368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0" name="Oval 133"/>
          <p:cNvSpPr/>
          <p:nvPr/>
        </p:nvSpPr>
        <p:spPr>
          <a:xfrm>
            <a:off x="8332920" y="5483160"/>
            <a:ext cx="269640" cy="19368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1" name="Oval 134"/>
          <p:cNvSpPr/>
          <p:nvPr/>
        </p:nvSpPr>
        <p:spPr>
          <a:xfrm>
            <a:off x="7299360" y="4859280"/>
            <a:ext cx="270000" cy="193680"/>
          </a:xfrm>
          <a:prstGeom prst="ellipse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70c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2" name="Oval 135"/>
          <p:cNvSpPr/>
          <p:nvPr/>
        </p:nvSpPr>
        <p:spPr>
          <a:xfrm>
            <a:off x="8332920" y="5900760"/>
            <a:ext cx="269640" cy="19368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3" name="Oval 136"/>
          <p:cNvSpPr/>
          <p:nvPr/>
        </p:nvSpPr>
        <p:spPr>
          <a:xfrm>
            <a:off x="7299360" y="5900760"/>
            <a:ext cx="270000" cy="19368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4" name="Oval 137"/>
          <p:cNvSpPr/>
          <p:nvPr/>
        </p:nvSpPr>
        <p:spPr>
          <a:xfrm>
            <a:off x="6211800" y="5900760"/>
            <a:ext cx="270000" cy="193680"/>
          </a:xfrm>
          <a:prstGeom prst="ellipse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70c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5" name="Oval 139"/>
          <p:cNvSpPr/>
          <p:nvPr/>
        </p:nvSpPr>
        <p:spPr>
          <a:xfrm>
            <a:off x="7299360" y="4567320"/>
            <a:ext cx="270000" cy="193680"/>
          </a:xfrm>
          <a:prstGeom prst="ellipse">
            <a:avLst/>
          </a:prstGeom>
          <a:blipFill rotWithShape="0">
            <a:blip r:embed="rId6"/>
            <a:srcRect/>
            <a:tile tx="0" ty="0" sx="100000" sy="100000" algn="ctr"/>
          </a:blipFill>
          <a:ln w="28440">
            <a:solidFill>
              <a:srgbClr val="0070c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6" name="Oval 140"/>
          <p:cNvSpPr/>
          <p:nvPr/>
        </p:nvSpPr>
        <p:spPr>
          <a:xfrm>
            <a:off x="6211800" y="3517920"/>
            <a:ext cx="270000" cy="19368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7" name="Rectangle 4" descr=""/>
          <p:cNvPicPr/>
          <p:nvPr/>
        </p:nvPicPr>
        <p:blipFill>
          <a:blip r:embed="rId7"/>
          <a:stretch/>
        </p:blipFill>
        <p:spPr>
          <a:xfrm>
            <a:off x="311040" y="255600"/>
            <a:ext cx="951120" cy="561960"/>
          </a:xfrm>
          <a:prstGeom prst="rect">
            <a:avLst/>
          </a:prstGeom>
          <a:ln w="0">
            <a:noFill/>
          </a:ln>
        </p:spPr>
      </p:pic>
      <p:sp>
        <p:nvSpPr>
          <p:cNvPr id="2668" name="直接连接符 86"/>
          <p:cNvSpPr/>
          <p:nvPr/>
        </p:nvSpPr>
        <p:spPr>
          <a:xfrm>
            <a:off x="1166760" y="380880"/>
            <a:ext cx="0" cy="214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9" name="标题 2"/>
          <p:cNvSpPr/>
          <p:nvPr/>
        </p:nvSpPr>
        <p:spPr>
          <a:xfrm>
            <a:off x="1152360" y="333360"/>
            <a:ext cx="1555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经营分析报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0" name=""/>
          <p:cNvGrpSpPr/>
          <p:nvPr/>
        </p:nvGrpSpPr>
        <p:grpSpPr>
          <a:xfrm>
            <a:off x="0" y="6407280"/>
            <a:ext cx="9918720" cy="237960"/>
            <a:chOff x="0" y="6407280"/>
            <a:chExt cx="9918720" cy="237960"/>
          </a:xfrm>
        </p:grpSpPr>
        <p:pic>
          <p:nvPicPr>
            <p:cNvPr id="2671" name="矩形 89" descr=""/>
            <p:cNvPicPr/>
            <p:nvPr/>
          </p:nvPicPr>
          <p:blipFill>
            <a:blip r:embed="rId8"/>
            <a:stretch/>
          </p:blipFill>
          <p:spPr>
            <a:xfrm>
              <a:off x="0" y="6407280"/>
              <a:ext cx="991728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2" name=""/>
            <p:cNvSpPr/>
            <p:nvPr/>
          </p:nvSpPr>
          <p:spPr>
            <a:xfrm>
              <a:off x="0" y="6408720"/>
              <a:ext cx="99187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3" name="灯片编号占位符 5"/>
          <p:cNvSpPr/>
          <p:nvPr/>
        </p:nvSpPr>
        <p:spPr>
          <a:xfrm>
            <a:off x="7397640" y="6364440"/>
            <a:ext cx="1486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ge   </a:t>
            </a:r>
            <a:fld id="{4F0DDADA-7A75-4F10-B558-10AC82E531DE}" type="slidenum">
              <a:rPr b="0" lang="zh-CN" sz="1000" spc="-1" strike="noStrike">
                <a:solidFill>
                  <a:srgbClr val="ffffff"/>
                </a:solidFill>
                <a:latin typeface="华文宋体"/>
                <a:ea typeface="华文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4" name="矩形 92" descr=""/>
          <p:cNvPicPr/>
          <p:nvPr/>
        </p:nvPicPr>
        <p:blipFill>
          <a:blip r:embed="rId9"/>
          <a:stretch/>
        </p:blipFill>
        <p:spPr>
          <a:xfrm>
            <a:off x="6529320" y="225360"/>
            <a:ext cx="3353040" cy="1133640"/>
          </a:xfrm>
          <a:prstGeom prst="rect">
            <a:avLst/>
          </a:prstGeom>
          <a:ln w="0">
            <a:noFill/>
          </a:ln>
        </p:spPr>
      </p:pic>
      <p:pic>
        <p:nvPicPr>
          <p:cNvPr id="2675" name="矩形 93" descr=""/>
          <p:cNvPicPr/>
          <p:nvPr/>
        </p:nvPicPr>
        <p:blipFill>
          <a:blip r:embed="rId10"/>
          <a:stretch/>
        </p:blipFill>
        <p:spPr>
          <a:xfrm>
            <a:off x="6559560" y="171360"/>
            <a:ext cx="2048040" cy="560520"/>
          </a:xfrm>
          <a:prstGeom prst="rect">
            <a:avLst/>
          </a:prstGeom>
          <a:ln w="0">
            <a:noFill/>
          </a:ln>
        </p:spPr>
      </p:pic>
      <p:sp>
        <p:nvSpPr>
          <p:cNvPr id="2676" name="矩形 91"/>
          <p:cNvSpPr/>
          <p:nvPr/>
        </p:nvSpPr>
        <p:spPr>
          <a:xfrm>
            <a:off x="7004880" y="487440"/>
            <a:ext cx="2085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bfbfbf"/>
                </a:solidFill>
                <a:latin typeface="Arial"/>
              </a:rPr>
              <a:t>Roles &amp; Responsibilit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7" name="Text Box 327"/>
          <p:cNvSpPr/>
          <p:nvPr/>
        </p:nvSpPr>
        <p:spPr>
          <a:xfrm>
            <a:off x="308880" y="1271520"/>
            <a:ext cx="5816520" cy="3373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9"/>
              </a:spcBef>
              <a:spcAft>
                <a:spcPts val="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ifferent Chinas : economic imbalance &amp; different minds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8" name="Group 328" descr=""/>
          <p:cNvPicPr/>
          <p:nvPr/>
        </p:nvPicPr>
        <p:blipFill>
          <a:blip r:embed="rId1"/>
          <a:stretch/>
        </p:blipFill>
        <p:spPr>
          <a:xfrm>
            <a:off x="1163520" y="2073240"/>
            <a:ext cx="7444080" cy="445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79" name=""/>
          <p:cNvGraphicFramePr/>
          <p:nvPr/>
        </p:nvGraphicFramePr>
        <p:xfrm>
          <a:off x="5097600" y="2784600"/>
          <a:ext cx="1434960" cy="1038240"/>
        </p:xfrm>
        <a:graphic>
          <a:graphicData uri="http://schemas.openxmlformats.org/drawingml/2006/table">
            <a:tbl>
              <a:tblPr/>
              <a:tblGrid>
                <a:gridCol w="900000"/>
                <a:gridCol w="534960"/>
              </a:tblGrid>
              <a:tr h="259200"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Dotum"/>
                        </a:rPr>
                        <a:t>Nor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a7e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9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Dotum"/>
                        </a:rPr>
                        <a:t>Provinc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Dotum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59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Dotum"/>
                        </a:rPr>
                        <a:t>Popul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Dotum"/>
                        </a:rPr>
                        <a:t>1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59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Dotum"/>
                        </a:rPr>
                        <a:t>GDP Rat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Dotum"/>
                        </a:rPr>
                        <a:t>1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80" name=""/>
          <p:cNvGraphicFramePr/>
          <p:nvPr/>
        </p:nvGraphicFramePr>
        <p:xfrm>
          <a:off x="1612800" y="2703600"/>
          <a:ext cx="1434960" cy="1039680"/>
        </p:xfrm>
        <a:graphic>
          <a:graphicData uri="http://schemas.openxmlformats.org/drawingml/2006/table">
            <a:tbl>
              <a:tblPr/>
              <a:tblGrid>
                <a:gridCol w="900000"/>
                <a:gridCol w="534960"/>
              </a:tblGrid>
              <a:tr h="259200"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Dotum"/>
                        </a:rPr>
                        <a:t>Northwe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a7e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9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Dotum"/>
                        </a:rPr>
                        <a:t>Provinc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Dotum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Dotum"/>
                        </a:rPr>
                        <a:t>Popul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Dotum"/>
                        </a:rPr>
                        <a:t>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10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Dotum"/>
                        </a:rPr>
                        <a:t>GDP Rat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Dotum"/>
                        </a:rPr>
                        <a:t>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81" name=""/>
          <p:cNvGraphicFramePr/>
          <p:nvPr/>
        </p:nvGraphicFramePr>
        <p:xfrm>
          <a:off x="7464600" y="2459160"/>
          <a:ext cx="1434960" cy="1039680"/>
        </p:xfrm>
        <a:graphic>
          <a:graphicData uri="http://schemas.openxmlformats.org/drawingml/2006/table">
            <a:tbl>
              <a:tblPr/>
              <a:tblGrid>
                <a:gridCol w="900000"/>
                <a:gridCol w="534960"/>
              </a:tblGrid>
              <a:tr h="259200"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Dotum"/>
                        </a:rPr>
                        <a:t>Northea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a7e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9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Dotum"/>
                        </a:rPr>
                        <a:t>Provinc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Dotum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Dotum"/>
                        </a:rPr>
                        <a:t>Popul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Dotum"/>
                        </a:rPr>
                        <a:t>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10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Dotum"/>
                        </a:rPr>
                        <a:t>GDP Rat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Dotum"/>
                        </a:rPr>
                        <a:t>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82" name=""/>
          <p:cNvGraphicFramePr/>
          <p:nvPr/>
        </p:nvGraphicFramePr>
        <p:xfrm>
          <a:off x="1008000" y="3952800"/>
          <a:ext cx="1434960" cy="1038240"/>
        </p:xfrm>
        <a:graphic>
          <a:graphicData uri="http://schemas.openxmlformats.org/drawingml/2006/table">
            <a:tbl>
              <a:tblPr/>
              <a:tblGrid>
                <a:gridCol w="901800"/>
                <a:gridCol w="533160"/>
              </a:tblGrid>
              <a:tr h="259200"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Dotum"/>
                        </a:rPr>
                        <a:t>Southwe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a7e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9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Dotum"/>
                        </a:rPr>
                        <a:t>Provinc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Dotum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59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Dotum"/>
                        </a:rPr>
                        <a:t>Popul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Dotum"/>
                        </a:rPr>
                        <a:t>15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59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Dotum"/>
                        </a:rPr>
                        <a:t>GDP Rat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Dotum"/>
                        </a:rPr>
                        <a:t>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683" name=""/>
          <p:cNvGraphicFramePr/>
          <p:nvPr/>
        </p:nvGraphicFramePr>
        <p:xfrm>
          <a:off x="7265880" y="4305240"/>
          <a:ext cx="1434960" cy="1038240"/>
        </p:xfrm>
        <a:graphic>
          <a:graphicData uri="http://schemas.openxmlformats.org/drawingml/2006/table">
            <a:tbl>
              <a:tblPr/>
              <a:tblGrid>
                <a:gridCol w="900000"/>
                <a:gridCol w="534960"/>
              </a:tblGrid>
              <a:tr h="259200"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Dotum"/>
                        </a:rPr>
                        <a:t>East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a7e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9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Dotum"/>
                        </a:rPr>
                        <a:t>Provinc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Dotum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59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Dotum"/>
                        </a:rPr>
                        <a:t>Popul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Dotum"/>
                        </a:rPr>
                        <a:t>29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59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Dotum"/>
                        </a:rPr>
                        <a:t>GDP Rat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Dotum"/>
                        </a:rPr>
                        <a:t>38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84" name=""/>
          <p:cNvGraphicFramePr/>
          <p:nvPr/>
        </p:nvGraphicFramePr>
        <p:xfrm>
          <a:off x="4357800" y="5334120"/>
          <a:ext cx="1434960" cy="1038240"/>
        </p:xfrm>
        <a:graphic>
          <a:graphicData uri="http://schemas.openxmlformats.org/drawingml/2006/table">
            <a:tbl>
              <a:tblPr/>
              <a:tblGrid>
                <a:gridCol w="900000"/>
                <a:gridCol w="534960"/>
              </a:tblGrid>
              <a:tr h="259200"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Dotum"/>
                        </a:rPr>
                        <a:t>South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a7e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9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Dotum"/>
                        </a:rPr>
                        <a:t>Provinc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Dotum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59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Dotum"/>
                        </a:rPr>
                        <a:t>Popul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Dotum"/>
                        </a:rPr>
                        <a:t>11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599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Dotum"/>
                        </a:rPr>
                        <a:t>GDP Rat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Dotum"/>
                        </a:rPr>
                        <a:t>14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c0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85" name=""/>
          <p:cNvGraphicFramePr/>
          <p:nvPr/>
        </p:nvGraphicFramePr>
        <p:xfrm>
          <a:off x="4251240" y="3957480"/>
          <a:ext cx="1434960" cy="1039680"/>
        </p:xfrm>
        <a:graphic>
          <a:graphicData uri="http://schemas.openxmlformats.org/drawingml/2006/table">
            <a:tbl>
              <a:tblPr/>
              <a:tblGrid>
                <a:gridCol w="900000"/>
                <a:gridCol w="534960"/>
              </a:tblGrid>
              <a:tr h="259200">
                <a:tc gridSpan="2"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ffffff"/>
                          </a:solidFill>
                          <a:latin typeface="Arial"/>
                          <a:ea typeface="Dotum"/>
                        </a:rPr>
                        <a:t>Middl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00a7e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92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Dotum"/>
                        </a:rPr>
                        <a:t>Provinc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Dotum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Dotum"/>
                        </a:rPr>
                        <a:t>Population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Dotum"/>
                        </a:rPr>
                        <a:t>17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  <a:tr h="26100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Dotum"/>
                        </a:rPr>
                        <a:t>GDP Rati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Dotum"/>
                        </a:rPr>
                        <a:t>12%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686" name="Text Box 470"/>
          <p:cNvSpPr/>
          <p:nvPr/>
        </p:nvSpPr>
        <p:spPr>
          <a:xfrm>
            <a:off x="473760" y="514440"/>
            <a:ext cx="766152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hina is the most complex market in the world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uccessfully navigating the geographical challenge is a key success fa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7" name="Text Box 471"/>
          <p:cNvSpPr/>
          <p:nvPr/>
        </p:nvSpPr>
        <p:spPr>
          <a:xfrm>
            <a:off x="11880" y="5983200"/>
            <a:ext cx="2652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※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 : China statistical Yearbook(2006)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        GroupM stud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8" name="Text Box 472"/>
          <p:cNvSpPr/>
          <p:nvPr/>
        </p:nvSpPr>
        <p:spPr>
          <a:xfrm>
            <a:off x="492840" y="1717560"/>
            <a:ext cx="25689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`07 GDP(f) :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2,867B$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(GR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9.8%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opulation : 1.3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9" name="Text Box 473"/>
          <p:cNvSpPr/>
          <p:nvPr/>
        </p:nvSpPr>
        <p:spPr>
          <a:xfrm>
            <a:off x="7881120" y="5362560"/>
            <a:ext cx="202788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70c0"/>
                </a:solidFill>
                <a:latin typeface="Arial"/>
              </a:rPr>
              <a:t>Shanghai (Optimistic)</a:t>
            </a:r>
            <a:br>
              <a:rPr sz="12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osmopolitan, Open outlook,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aterialistic and confident</a:t>
            </a:r>
            <a:br>
              <a:rPr sz="1100"/>
            </a:b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Aspirational &amp; Intellectu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0" name="Text Box 474"/>
          <p:cNvSpPr/>
          <p:nvPr/>
        </p:nvSpPr>
        <p:spPr>
          <a:xfrm>
            <a:off x="4991400" y="1785960"/>
            <a:ext cx="224424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70c0"/>
                </a:solidFill>
                <a:latin typeface="Arial"/>
              </a:rPr>
              <a:t>Beijing (Complacent)</a:t>
            </a:r>
            <a:br>
              <a:rPr sz="12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eijingers who are nesting in the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womb of the political center</a:t>
            </a:r>
            <a:br>
              <a:rPr sz="1100"/>
            </a:b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Pride Communit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1" name="Text Box 475"/>
          <p:cNvSpPr/>
          <p:nvPr/>
        </p:nvSpPr>
        <p:spPr>
          <a:xfrm>
            <a:off x="2475720" y="3894120"/>
            <a:ext cx="1809720" cy="11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70c0"/>
                </a:solidFill>
                <a:latin typeface="Arial"/>
              </a:rPr>
              <a:t>Chengdu </a:t>
            </a:r>
            <a:br>
              <a:rPr sz="1200"/>
            </a:br>
            <a:r>
              <a:rPr b="1" lang="en-US" sz="1200" spc="-1" strike="noStrike">
                <a:solidFill>
                  <a:srgbClr val="0070c0"/>
                </a:solidFill>
                <a:latin typeface="Arial"/>
              </a:rPr>
              <a:t>(Pleasure Seekers)</a:t>
            </a:r>
            <a:br>
              <a:rPr sz="12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eople who place more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ocus on leisure than wor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Trendy ‘In’ &amp; Group Fu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2" name="Text Box 476"/>
          <p:cNvSpPr/>
          <p:nvPr/>
        </p:nvSpPr>
        <p:spPr>
          <a:xfrm>
            <a:off x="5689800" y="3894120"/>
            <a:ext cx="1630080" cy="13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70c0"/>
                </a:solidFill>
                <a:latin typeface="Arial"/>
              </a:rPr>
              <a:t>Wuhan (Frustrated)</a:t>
            </a:r>
            <a:br>
              <a:rPr sz="12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eople feel they are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being left behind in the 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evelopment r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Support </a:t>
            </a:r>
            <a:br>
              <a:rPr sz="1100"/>
            </a:b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Empathy &amp; frie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3" name="Text Box 477"/>
          <p:cNvSpPr/>
          <p:nvPr/>
        </p:nvSpPr>
        <p:spPr>
          <a:xfrm>
            <a:off x="5773320" y="5388120"/>
            <a:ext cx="19728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2"/>
              </a:spcBef>
              <a:spcAft>
                <a:spcPts val="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70c0"/>
                </a:solidFill>
                <a:latin typeface="Arial"/>
              </a:rPr>
              <a:t>Shenzhen (Stressed)</a:t>
            </a:r>
            <a:br>
              <a:rPr sz="12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arge migrant population</a:t>
            </a:r>
            <a:br>
              <a:rPr sz="1100"/>
            </a:b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facing stressful urban life</a:t>
            </a:r>
            <a:br>
              <a:rPr sz="1100"/>
            </a:b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’Escape’ Fun &amp; Excitem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4" name="Rectangle 4" descr=""/>
          <p:cNvPicPr/>
          <p:nvPr/>
        </p:nvPicPr>
        <p:blipFill>
          <a:blip r:embed="rId2"/>
          <a:stretch/>
        </p:blipFill>
        <p:spPr>
          <a:xfrm>
            <a:off x="109440" y="85680"/>
            <a:ext cx="951120" cy="566640"/>
          </a:xfrm>
          <a:prstGeom prst="rect">
            <a:avLst/>
          </a:prstGeom>
          <a:ln w="0">
            <a:noFill/>
          </a:ln>
        </p:spPr>
      </p:pic>
      <p:sp>
        <p:nvSpPr>
          <p:cNvPr id="2695" name="直接连接符 52"/>
          <p:cNvSpPr/>
          <p:nvPr/>
        </p:nvSpPr>
        <p:spPr>
          <a:xfrm>
            <a:off x="965160" y="214200"/>
            <a:ext cx="0" cy="214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6" name="标题 2"/>
          <p:cNvSpPr/>
          <p:nvPr/>
        </p:nvSpPr>
        <p:spPr>
          <a:xfrm>
            <a:off x="950760" y="166680"/>
            <a:ext cx="1555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经营分析报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7" name="矩形 54" descr=""/>
          <p:cNvPicPr/>
          <p:nvPr/>
        </p:nvPicPr>
        <p:blipFill>
          <a:blip r:embed="rId3"/>
          <a:stretch/>
        </p:blipFill>
        <p:spPr>
          <a:xfrm>
            <a:off x="6566040" y="176040"/>
            <a:ext cx="3352680" cy="1135080"/>
          </a:xfrm>
          <a:prstGeom prst="rect">
            <a:avLst/>
          </a:prstGeom>
          <a:ln w="0">
            <a:noFill/>
          </a:ln>
        </p:spPr>
      </p:pic>
      <p:sp>
        <p:nvSpPr>
          <p:cNvPr id="2698" name="Rectangle 3"/>
          <p:cNvSpPr/>
          <p:nvPr/>
        </p:nvSpPr>
        <p:spPr>
          <a:xfrm>
            <a:off x="7118280" y="465120"/>
            <a:ext cx="20764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bfbfbf"/>
                </a:solidFill>
                <a:latin typeface="Arial"/>
              </a:rPr>
              <a:t> </a:t>
            </a:r>
            <a:r>
              <a:rPr b="0" lang="en-US" sz="1500" spc="-1" strike="noStrike">
                <a:solidFill>
                  <a:srgbClr val="bfbfbf"/>
                </a:solidFill>
                <a:latin typeface="Arial"/>
              </a:rPr>
              <a:t>The Market challeng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9" name="Rectangle 265"/>
          <p:cNvSpPr/>
          <p:nvPr/>
        </p:nvSpPr>
        <p:spPr>
          <a:xfrm>
            <a:off x="6741000" y="184320"/>
            <a:ext cx="30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바탕"/>
              </a:rPr>
              <a:t> Ⅱ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바탕"/>
              </a:rPr>
              <a:t>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바탕"/>
              </a:rPr>
              <a:t>Market understan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0" name="矩形 7"/>
          <p:cNvSpPr/>
          <p:nvPr/>
        </p:nvSpPr>
        <p:spPr>
          <a:xfrm>
            <a:off x="179280" y="6396120"/>
            <a:ext cx="567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06360"/>
                <a:tab algn="l" pos="2413080"/>
                <a:tab algn="l" pos="3619440"/>
                <a:tab algn="l" pos="4826160"/>
                <a:tab algn="l" pos="6032520"/>
                <a:tab algn="l" pos="7238880"/>
                <a:tab algn="l" pos="8445600"/>
                <a:tab algn="l" pos="9651960"/>
                <a:tab algn="l" pos="10858680"/>
              </a:tabLst>
            </a:pPr>
            <a:r>
              <a:rPr b="0" lang="en-US" sz="1000" spc="-1" strike="noStrike">
                <a:solidFill>
                  <a:srgbClr val="a6a6a6"/>
                </a:solidFill>
                <a:latin typeface="微软雅黑"/>
                <a:ea typeface="微软雅黑"/>
              </a:rPr>
              <a:t>© </a:t>
            </a:r>
            <a:r>
              <a:rPr b="0" lang="zh-CN" sz="1000" spc="-1" strike="noStrike">
                <a:solidFill>
                  <a:srgbClr val="a6a6a6"/>
                </a:solidFill>
                <a:latin typeface="微软雅黑"/>
                <a:ea typeface="微软雅黑"/>
              </a:rPr>
              <a:t>林虎哲制作</a:t>
            </a:r>
            <a:r>
              <a:rPr b="0" lang="en-US" sz="1000" spc="-1" strike="noStrike">
                <a:solidFill>
                  <a:srgbClr val="d9d9d9"/>
                </a:solidFill>
                <a:latin typeface="微软雅黑"/>
                <a:ea typeface="微软雅黑"/>
              </a:rPr>
              <a:t>.  Weibo: @</a:t>
            </a:r>
            <a:r>
              <a:rPr b="0" lang="zh-CN" sz="1000" spc="-1" strike="noStrike">
                <a:solidFill>
                  <a:srgbClr val="d9d9d9"/>
                </a:solidFill>
                <a:latin typeface="微软雅黑"/>
                <a:ea typeface="微软雅黑"/>
              </a:rPr>
              <a:t>乌拉拉</a:t>
            </a:r>
            <a:r>
              <a:rPr b="0" lang="en-US" sz="1000" spc="-1" strike="noStrike">
                <a:solidFill>
                  <a:srgbClr val="d9d9d9"/>
                </a:solidFill>
                <a:latin typeface="微软雅黑"/>
                <a:ea typeface="微软雅黑"/>
              </a:rPr>
              <a:t>80  qq:47828100  mail: lin__hz@bankcomm.co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1" name="灯片编号占位符 5"/>
          <p:cNvSpPr/>
          <p:nvPr/>
        </p:nvSpPr>
        <p:spPr>
          <a:xfrm>
            <a:off x="7397640" y="6364440"/>
            <a:ext cx="1486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ge   </a:t>
            </a:r>
            <a:fld id="{F1FB53A1-716A-40BA-B1AE-A1E28142B9A3}" type="slidenum">
              <a:rPr b="0" lang="zh-CN" sz="1000" spc="-1" strike="noStrike">
                <a:solidFill>
                  <a:srgbClr val="ffffff"/>
                </a:solidFill>
                <a:latin typeface="华文宋体"/>
                <a:ea typeface="华文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2" name="Rectangle 352"/>
          <p:cNvSpPr/>
          <p:nvPr/>
        </p:nvSpPr>
        <p:spPr>
          <a:xfrm>
            <a:off x="3178080" y="4707000"/>
            <a:ext cx="468360" cy="414360"/>
          </a:xfrm>
          <a:prstGeom prst="rect">
            <a:avLst/>
          </a:prstGeom>
          <a:solidFill>
            <a:srgbClr val="dddddd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3" name="Rectangle 353"/>
          <p:cNvSpPr/>
          <p:nvPr/>
        </p:nvSpPr>
        <p:spPr>
          <a:xfrm>
            <a:off x="3178080" y="4292640"/>
            <a:ext cx="468360" cy="414360"/>
          </a:xfrm>
          <a:prstGeom prst="rect">
            <a:avLst/>
          </a:prstGeom>
          <a:solidFill>
            <a:srgbClr val="ffffff"/>
          </a:solidFill>
          <a:ln w="648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4" name="Rectangle 354"/>
          <p:cNvSpPr/>
          <p:nvPr/>
        </p:nvSpPr>
        <p:spPr>
          <a:xfrm>
            <a:off x="3178080" y="5121360"/>
            <a:ext cx="468360" cy="203040"/>
          </a:xfrm>
          <a:prstGeom prst="rect">
            <a:avLst/>
          </a:prstGeom>
          <a:solidFill>
            <a:srgbClr val="ffff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5" name="Rectangle 355"/>
          <p:cNvSpPr/>
          <p:nvPr/>
        </p:nvSpPr>
        <p:spPr>
          <a:xfrm>
            <a:off x="3178080" y="5324400"/>
            <a:ext cx="468360" cy="424080"/>
          </a:xfrm>
          <a:prstGeom prst="rect">
            <a:avLst/>
          </a:prstGeom>
          <a:solidFill>
            <a:srgbClr val="99cc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6" name="Text Box 356"/>
          <p:cNvSpPr/>
          <p:nvPr/>
        </p:nvSpPr>
        <p:spPr>
          <a:xfrm>
            <a:off x="3179880" y="5403960"/>
            <a:ext cx="4683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84320" indent="-184320" algn="ctr"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9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7" name="Text Box 357"/>
          <p:cNvSpPr/>
          <p:nvPr/>
        </p:nvSpPr>
        <p:spPr>
          <a:xfrm>
            <a:off x="3179880" y="5081760"/>
            <a:ext cx="4683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84320" indent="-184320" algn="ctr"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14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Text Box 358"/>
          <p:cNvSpPr/>
          <p:nvPr/>
        </p:nvSpPr>
        <p:spPr>
          <a:xfrm>
            <a:off x="3179880" y="4775040"/>
            <a:ext cx="468360" cy="2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84320" indent="-184320" algn="ctr"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8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9" name="Text Box 359"/>
          <p:cNvSpPr/>
          <p:nvPr/>
        </p:nvSpPr>
        <p:spPr>
          <a:xfrm>
            <a:off x="3179880" y="4389480"/>
            <a:ext cx="46836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84320" indent="-184320" algn="ctr">
              <a:lnSpc>
                <a:spcPct val="11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29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0" name="Rectangle 360"/>
          <p:cNvSpPr/>
          <p:nvPr/>
        </p:nvSpPr>
        <p:spPr>
          <a:xfrm>
            <a:off x="1713960" y="1220760"/>
            <a:ext cx="220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70c0"/>
                </a:solidFill>
                <a:uFillTx/>
                <a:latin typeface="Arial"/>
              </a:rPr>
              <a:t>Target by Seg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1" name="Rectangle 361"/>
          <p:cNvSpPr/>
          <p:nvPr/>
        </p:nvSpPr>
        <p:spPr>
          <a:xfrm>
            <a:off x="507960" y="1689120"/>
            <a:ext cx="4152960" cy="4381560"/>
          </a:xfrm>
          <a:prstGeom prst="rect">
            <a:avLst/>
          </a:prstGeom>
          <a:noFill/>
          <a:ln w="28440">
            <a:solidFill>
              <a:srgbClr val="278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2" name="Text Box 362"/>
          <p:cNvSpPr/>
          <p:nvPr/>
        </p:nvSpPr>
        <p:spPr>
          <a:xfrm>
            <a:off x="635760" y="1924200"/>
            <a:ext cx="92592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4320" indent="-184320"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.3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3" name="Rectangle 363"/>
          <p:cNvSpPr/>
          <p:nvPr/>
        </p:nvSpPr>
        <p:spPr>
          <a:xfrm>
            <a:off x="3017880" y="2084400"/>
            <a:ext cx="795240" cy="3776760"/>
          </a:xfrm>
          <a:prstGeom prst="rect">
            <a:avLst/>
          </a:prstGeom>
          <a:noFill/>
          <a:ln w="28440">
            <a:solidFill>
              <a:srgbClr val="ffc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4" name="Rectangle 364"/>
          <p:cNvSpPr/>
          <p:nvPr/>
        </p:nvSpPr>
        <p:spPr>
          <a:xfrm>
            <a:off x="879480" y="2192400"/>
            <a:ext cx="468360" cy="1023840"/>
          </a:xfrm>
          <a:prstGeom prst="rect">
            <a:avLst/>
          </a:prstGeom>
          <a:solidFill>
            <a:srgbClr val="99ccff"/>
          </a:solidFill>
          <a:ln w="64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5" name="Rectangle 365"/>
          <p:cNvSpPr/>
          <p:nvPr/>
        </p:nvSpPr>
        <p:spPr>
          <a:xfrm>
            <a:off x="2008080" y="2646360"/>
            <a:ext cx="468360" cy="569880"/>
          </a:xfrm>
          <a:prstGeom prst="rect">
            <a:avLst/>
          </a:prstGeom>
          <a:solidFill>
            <a:srgbClr val="99ccff"/>
          </a:solidFill>
          <a:ln w="648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6" name="Text Box 366"/>
          <p:cNvSpPr/>
          <p:nvPr/>
        </p:nvSpPr>
        <p:spPr>
          <a:xfrm>
            <a:off x="861840" y="3600360"/>
            <a:ext cx="470160" cy="2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84320" indent="-184320">
              <a:lnSpc>
                <a:spcPct val="11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Tot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7" name="Text Box 367"/>
          <p:cNvSpPr/>
          <p:nvPr/>
        </p:nvSpPr>
        <p:spPr>
          <a:xfrm>
            <a:off x="1943280" y="3583080"/>
            <a:ext cx="46800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84320" indent="-184320" algn="ctr">
              <a:lnSpc>
                <a:spcPct val="5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Non -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84320" indent="-184320" algn="ctr">
              <a:lnSpc>
                <a:spcPct val="5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Agricultur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84320" indent="-184320" algn="ctr">
              <a:lnSpc>
                <a:spcPct val="5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(625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8" name="Text Box 368"/>
          <p:cNvSpPr/>
          <p:nvPr/>
        </p:nvSpPr>
        <p:spPr>
          <a:xfrm>
            <a:off x="1951200" y="2346480"/>
            <a:ext cx="46800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84320" indent="-184320"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.38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9" name="Rectangle 369"/>
          <p:cNvSpPr/>
          <p:nvPr/>
        </p:nvSpPr>
        <p:spPr>
          <a:xfrm>
            <a:off x="3209760" y="2935440"/>
            <a:ext cx="468360" cy="274320"/>
          </a:xfrm>
          <a:prstGeom prst="rect">
            <a:avLst/>
          </a:prstGeom>
          <a:solidFill>
            <a:srgbClr val="ffc000"/>
          </a:solidFill>
          <a:ln w="1260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0" name="Text Box 370"/>
          <p:cNvSpPr/>
          <p:nvPr/>
        </p:nvSpPr>
        <p:spPr>
          <a:xfrm>
            <a:off x="3205080" y="3584520"/>
            <a:ext cx="4683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84320" indent="-184320" algn="ctr">
              <a:lnSpc>
                <a:spcPct val="5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istric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84320" indent="-184320" algn="ctr">
              <a:lnSpc>
                <a:spcPct val="5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under Cit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184320" indent="-184320" algn="ctr">
              <a:lnSpc>
                <a:spcPct val="50000"/>
              </a:lnSpc>
              <a:spcBef>
                <a:spcPts val="4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1" name="Text Box 371"/>
          <p:cNvSpPr/>
          <p:nvPr/>
        </p:nvSpPr>
        <p:spPr>
          <a:xfrm>
            <a:off x="3130560" y="2633760"/>
            <a:ext cx="46836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84320" indent="-184320"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.23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2" name="Line 372"/>
          <p:cNvSpPr/>
          <p:nvPr/>
        </p:nvSpPr>
        <p:spPr>
          <a:xfrm>
            <a:off x="723960" y="3216240"/>
            <a:ext cx="3708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3" name="Rectangle 373"/>
          <p:cNvSpPr/>
          <p:nvPr/>
        </p:nvSpPr>
        <p:spPr>
          <a:xfrm>
            <a:off x="6401160" y="122076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70c0"/>
                </a:solidFill>
                <a:uFillTx/>
                <a:latin typeface="Arial"/>
              </a:rPr>
              <a:t>Priority  Region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4" name="Rectangle 374"/>
          <p:cNvSpPr/>
          <p:nvPr/>
        </p:nvSpPr>
        <p:spPr>
          <a:xfrm>
            <a:off x="5005440" y="1689120"/>
            <a:ext cx="4152960" cy="438156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5" name="Text Box 375"/>
          <p:cNvSpPr/>
          <p:nvPr/>
        </p:nvSpPr>
        <p:spPr>
          <a:xfrm>
            <a:off x="6201720" y="3781440"/>
            <a:ext cx="418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Gulim"/>
              </a:rPr>
              <a:t>`0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6" name="Text Box 376"/>
          <p:cNvSpPr/>
          <p:nvPr/>
        </p:nvSpPr>
        <p:spPr>
          <a:xfrm>
            <a:off x="7526520" y="3781440"/>
            <a:ext cx="8344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  <a:ea typeface="Gulim"/>
              </a:rPr>
              <a:t>`07.1~1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7" name="Rectangle 377"/>
          <p:cNvSpPr/>
          <p:nvPr/>
        </p:nvSpPr>
        <p:spPr>
          <a:xfrm>
            <a:off x="6105600" y="2610000"/>
            <a:ext cx="612720" cy="1131840"/>
          </a:xfrm>
          <a:prstGeom prst="rect">
            <a:avLst/>
          </a:prstGeom>
          <a:solidFill>
            <a:srgbClr val="ffc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8" name="Rectangle 378"/>
          <p:cNvSpPr/>
          <p:nvPr/>
        </p:nvSpPr>
        <p:spPr>
          <a:xfrm>
            <a:off x="7639200" y="2627280"/>
            <a:ext cx="608040" cy="1123920"/>
          </a:xfrm>
          <a:prstGeom prst="rect">
            <a:avLst/>
          </a:prstGeom>
          <a:solidFill>
            <a:srgbClr val="ffc000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9" name="Rectangle 379"/>
          <p:cNvSpPr/>
          <p:nvPr/>
        </p:nvSpPr>
        <p:spPr>
          <a:xfrm>
            <a:off x="6105600" y="2262240"/>
            <a:ext cx="612720" cy="376200"/>
          </a:xfrm>
          <a:prstGeom prst="rect">
            <a:avLst/>
          </a:prstGeom>
          <a:solidFill>
            <a:srgbClr val="ffff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0" name="Rectangle 380"/>
          <p:cNvSpPr/>
          <p:nvPr/>
        </p:nvSpPr>
        <p:spPr>
          <a:xfrm>
            <a:off x="6105600" y="1905120"/>
            <a:ext cx="612720" cy="35712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1" name="Text Box 381"/>
          <p:cNvSpPr/>
          <p:nvPr/>
        </p:nvSpPr>
        <p:spPr>
          <a:xfrm>
            <a:off x="5964840" y="4167360"/>
            <a:ext cx="2649960" cy="6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iority 1 Region (15 Citi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Beijing, Shanghai, Hangzhou, Guangzhou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Wuhan, Shenyang,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2" name="Text Box 382"/>
          <p:cNvSpPr/>
          <p:nvPr/>
        </p:nvSpPr>
        <p:spPr>
          <a:xfrm>
            <a:off x="5906160" y="4886280"/>
            <a:ext cx="234684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iority 2 Region (15 Citi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alian, Wenzhou, Qingdao , Jinan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7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anning, Fuzhou,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3" name="Text Box 383"/>
          <p:cNvSpPr/>
          <p:nvPr/>
        </p:nvSpPr>
        <p:spPr>
          <a:xfrm>
            <a:off x="5866920" y="5584680"/>
            <a:ext cx="2558880" cy="37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85680" indent="-85680">
              <a:lnSpc>
                <a:spcPct val="7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riority 3 Region (Other citi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85680" indent="-85680">
              <a:lnSpc>
                <a:spcPct val="7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ities except P1, P2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4" name="Text Box 384" descr=""/>
          <p:cNvPicPr/>
          <p:nvPr/>
        </p:nvPicPr>
        <p:blipFill>
          <a:blip r:embed="rId1"/>
          <a:stretch/>
        </p:blipFill>
        <p:spPr>
          <a:xfrm>
            <a:off x="6108840" y="2975040"/>
            <a:ext cx="615960" cy="414360"/>
          </a:xfrm>
          <a:prstGeom prst="rect">
            <a:avLst/>
          </a:prstGeom>
          <a:ln w="0">
            <a:noFill/>
          </a:ln>
        </p:spPr>
      </p:pic>
      <p:sp>
        <p:nvSpPr>
          <p:cNvPr id="2735" name="Text Box 385"/>
          <p:cNvSpPr/>
          <p:nvPr/>
        </p:nvSpPr>
        <p:spPr>
          <a:xfrm>
            <a:off x="5959080" y="2290680"/>
            <a:ext cx="90612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4320" indent="-184320"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1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6" name="Text Box 386"/>
          <p:cNvSpPr/>
          <p:nvPr/>
        </p:nvSpPr>
        <p:spPr>
          <a:xfrm>
            <a:off x="5983200" y="1924200"/>
            <a:ext cx="8557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4320" indent="-18432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77777"/>
                </a:solidFill>
                <a:latin typeface="Arial"/>
                <a:ea typeface="Arial"/>
              </a:rPr>
              <a:t>20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7" name="Text Box 387" descr=""/>
          <p:cNvPicPr/>
          <p:nvPr/>
        </p:nvPicPr>
        <p:blipFill>
          <a:blip r:embed="rId2"/>
          <a:stretch/>
        </p:blipFill>
        <p:spPr>
          <a:xfrm>
            <a:off x="7639200" y="2998800"/>
            <a:ext cx="614160" cy="414360"/>
          </a:xfrm>
          <a:prstGeom prst="rect">
            <a:avLst/>
          </a:prstGeom>
          <a:ln w="0">
            <a:noFill/>
          </a:ln>
        </p:spPr>
      </p:pic>
      <p:sp>
        <p:nvSpPr>
          <p:cNvPr id="2738" name="Oval 388"/>
          <p:cNvSpPr/>
          <p:nvPr/>
        </p:nvSpPr>
        <p:spPr>
          <a:xfrm>
            <a:off x="5249880" y="4145040"/>
            <a:ext cx="444600" cy="2919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9" name="Text Box 389" descr=""/>
          <p:cNvPicPr/>
          <p:nvPr/>
        </p:nvPicPr>
        <p:blipFill>
          <a:blip r:embed="rId3"/>
          <a:stretch/>
        </p:blipFill>
        <p:spPr>
          <a:xfrm>
            <a:off x="5237280" y="4108320"/>
            <a:ext cx="474480" cy="414360"/>
          </a:xfrm>
          <a:prstGeom prst="rect">
            <a:avLst/>
          </a:prstGeom>
          <a:ln w="0">
            <a:noFill/>
          </a:ln>
        </p:spPr>
      </p:pic>
      <p:sp>
        <p:nvSpPr>
          <p:cNvPr id="2740" name="Oval 390"/>
          <p:cNvSpPr/>
          <p:nvPr/>
        </p:nvSpPr>
        <p:spPr>
          <a:xfrm>
            <a:off x="5249880" y="4851360"/>
            <a:ext cx="444600" cy="29232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1" name="Oval 391"/>
          <p:cNvSpPr/>
          <p:nvPr/>
        </p:nvSpPr>
        <p:spPr>
          <a:xfrm>
            <a:off x="5249880" y="5537160"/>
            <a:ext cx="444600" cy="29232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2" name="Text Box 392"/>
          <p:cNvSpPr/>
          <p:nvPr/>
        </p:nvSpPr>
        <p:spPr>
          <a:xfrm>
            <a:off x="5089320" y="4824360"/>
            <a:ext cx="7671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4320" indent="-184320"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3" name="Text Box 393"/>
          <p:cNvSpPr/>
          <p:nvPr/>
        </p:nvSpPr>
        <p:spPr>
          <a:xfrm>
            <a:off x="5089320" y="5508720"/>
            <a:ext cx="7671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4320" indent="-184320"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Arial"/>
              </a:rPr>
              <a:t>P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4" name="Line 394"/>
          <p:cNvSpPr/>
          <p:nvPr/>
        </p:nvSpPr>
        <p:spPr>
          <a:xfrm>
            <a:off x="5219640" y="3746520"/>
            <a:ext cx="3708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5" name="Text Box 395"/>
          <p:cNvSpPr/>
          <p:nvPr/>
        </p:nvSpPr>
        <p:spPr>
          <a:xfrm>
            <a:off x="5104440" y="2405160"/>
            <a:ext cx="7369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4320" indent="-18432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6" name="Text Box 396"/>
          <p:cNvSpPr/>
          <p:nvPr/>
        </p:nvSpPr>
        <p:spPr>
          <a:xfrm>
            <a:off x="5104440" y="3090960"/>
            <a:ext cx="7369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4320" indent="-18432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7" name="Text Box 397"/>
          <p:cNvSpPr/>
          <p:nvPr/>
        </p:nvSpPr>
        <p:spPr>
          <a:xfrm>
            <a:off x="5104440" y="1960560"/>
            <a:ext cx="7369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4320" indent="-18432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8" name="Text Box 398"/>
          <p:cNvSpPr/>
          <p:nvPr/>
        </p:nvSpPr>
        <p:spPr>
          <a:xfrm>
            <a:off x="4951800" y="6141960"/>
            <a:ext cx="206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Gulim"/>
              </a:rPr>
              <a:t>*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Source: P1/P2 standard -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GF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9" name="Text Box 399"/>
          <p:cNvSpPr/>
          <p:nvPr/>
        </p:nvSpPr>
        <p:spPr>
          <a:xfrm>
            <a:off x="462240" y="6110280"/>
            <a:ext cx="339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*Source : China Urban Life and Price Yearbook (2006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0" name="Line 401"/>
          <p:cNvSpPr/>
          <p:nvPr/>
        </p:nvSpPr>
        <p:spPr>
          <a:xfrm>
            <a:off x="582480" y="5749920"/>
            <a:ext cx="3708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1" name="Text Box 402"/>
          <p:cNvSpPr/>
          <p:nvPr/>
        </p:nvSpPr>
        <p:spPr>
          <a:xfrm>
            <a:off x="8166960" y="1684440"/>
            <a:ext cx="860040" cy="22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900" spc="-1" strike="noStrike" u="sng">
                <a:solidFill>
                  <a:srgbClr val="0070c0"/>
                </a:solidFill>
                <a:uFillTx/>
                <a:latin typeface="Arial"/>
                <a:ea typeface="Arial"/>
              </a:rPr>
              <a:t>HE Value(%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2" name="Text Box 403"/>
          <p:cNvSpPr/>
          <p:nvPr/>
        </p:nvSpPr>
        <p:spPr>
          <a:xfrm>
            <a:off x="4964040" y="3013200"/>
            <a:ext cx="49680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ff0000"/>
                </a:solidFill>
                <a:latin typeface="Arial"/>
                <a:ea typeface="Gulim"/>
              </a:rPr>
              <a:t>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3" name="Rectangle 404"/>
          <p:cNvSpPr/>
          <p:nvPr/>
        </p:nvSpPr>
        <p:spPr>
          <a:xfrm>
            <a:off x="3184560" y="4714920"/>
            <a:ext cx="458640" cy="1028520"/>
          </a:xfrm>
          <a:prstGeom prst="rect">
            <a:avLst/>
          </a:prstGeom>
          <a:noFill/>
          <a:ln w="2844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4" name="Rectangle 405"/>
          <p:cNvSpPr/>
          <p:nvPr/>
        </p:nvSpPr>
        <p:spPr>
          <a:xfrm>
            <a:off x="7637400" y="2290680"/>
            <a:ext cx="611280" cy="376200"/>
          </a:xfrm>
          <a:prstGeom prst="rect">
            <a:avLst/>
          </a:prstGeom>
          <a:solidFill>
            <a:srgbClr val="ffff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5" name="Rectangle 406"/>
          <p:cNvSpPr/>
          <p:nvPr/>
        </p:nvSpPr>
        <p:spPr>
          <a:xfrm>
            <a:off x="7637400" y="1905120"/>
            <a:ext cx="611280" cy="376200"/>
          </a:xfrm>
          <a:prstGeom prst="rect">
            <a:avLst/>
          </a:prstGeom>
          <a:solidFill>
            <a:srgbClr val="ffffff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6" name="Text Box 407"/>
          <p:cNvSpPr/>
          <p:nvPr/>
        </p:nvSpPr>
        <p:spPr>
          <a:xfrm>
            <a:off x="7482960" y="2300400"/>
            <a:ext cx="90612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4320" indent="-184320"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1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7" name="Text Box 408"/>
          <p:cNvSpPr/>
          <p:nvPr/>
        </p:nvSpPr>
        <p:spPr>
          <a:xfrm>
            <a:off x="7515360" y="1962000"/>
            <a:ext cx="85572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4320" indent="-184320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77777"/>
                </a:solidFill>
                <a:latin typeface="Arial"/>
                <a:ea typeface="Arial"/>
              </a:rPr>
              <a:t>21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8" name="Rectangle 409"/>
          <p:cNvSpPr/>
          <p:nvPr/>
        </p:nvSpPr>
        <p:spPr>
          <a:xfrm>
            <a:off x="6100920" y="2251080"/>
            <a:ext cx="622080" cy="1498680"/>
          </a:xfrm>
          <a:prstGeom prst="rect">
            <a:avLst/>
          </a:prstGeom>
          <a:noFill/>
          <a:ln w="284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9" name="Rectangle 410"/>
          <p:cNvSpPr/>
          <p:nvPr/>
        </p:nvSpPr>
        <p:spPr>
          <a:xfrm>
            <a:off x="7632720" y="2271600"/>
            <a:ext cx="622440" cy="1468440"/>
          </a:xfrm>
          <a:prstGeom prst="rect">
            <a:avLst/>
          </a:prstGeom>
          <a:noFill/>
          <a:ln w="284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0" name="Line 411"/>
          <p:cNvSpPr/>
          <p:nvPr/>
        </p:nvSpPr>
        <p:spPr>
          <a:xfrm>
            <a:off x="5219640" y="1897200"/>
            <a:ext cx="370836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1" name="AutoShape 412"/>
          <p:cNvSpPr/>
          <p:nvPr/>
        </p:nvSpPr>
        <p:spPr>
          <a:xfrm>
            <a:off x="6997680" y="6172200"/>
            <a:ext cx="190440" cy="190440"/>
          </a:xfrm>
          <a:custGeom>
            <a:avLst/>
            <a:gdLst>
              <a:gd name="textAreaLeft" fmla="*/ 11880 w 190440"/>
              <a:gd name="textAreaRight" fmla="*/ 178560 w 190440"/>
              <a:gd name="textAreaTop" fmla="*/ 11880 h 190440"/>
              <a:gd name="textAreaBottom" fmla="*/ 178560 h 190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50" y="1350"/>
                </a:lnTo>
                <a:lnTo>
                  <a:pt x="1350" y="135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50" y="20250"/>
                </a:lnTo>
                <a:lnTo>
                  <a:pt x="20250" y="135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0250" y="2025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1600" h="21600">
                <a:moveTo>
                  <a:pt x="10800" y="3756"/>
                </a:moveTo>
                <a:arcTo wR="7044" hR="7044" stAng="16200000" swAng="-5400000"/>
                <a:arcTo wR="7044" hR="7044" stAng="10800000" swAng="-5400000"/>
                <a:arcTo wR="7044" hR="7044" stAng="5400000" swAng="-5400000"/>
                <a:arcTo wR="7044" hR="7044" stAng="0" swAng="-5400000"/>
                <a:close/>
              </a:path>
              <a:path fill="lighten" w="21600" h="21600">
                <a:moveTo>
                  <a:pt x="10800" y="4133"/>
                </a:moveTo>
                <a:arcTo wR="1803" hR="1803" stAng="16200000" swAng="-5400000"/>
                <a:arcTo wR="1803" hR="1803" stAng="10800000" swAng="-5400000"/>
                <a:arcTo wR="1803" hR="1803" stAng="5400000" swAng="-5400000"/>
                <a:arcTo wR="1803" hR="1803" stAng="0" swAng="-5400000"/>
                <a:close/>
              </a:path>
              <a:path fill="lighten" w="21600" h="21600">
                <a:moveTo>
                  <a:pt x="8210" y="8210"/>
                </a:moveTo>
                <a:lnTo>
                  <a:pt x="12095" y="8210"/>
                </a:lnTo>
                <a:lnTo>
                  <a:pt x="12095" y="15245"/>
                </a:lnTo>
                <a:lnTo>
                  <a:pt x="13390" y="15245"/>
                </a:lnTo>
                <a:lnTo>
                  <a:pt x="13390" y="16173"/>
                </a:lnTo>
                <a:lnTo>
                  <a:pt x="8210" y="16173"/>
                </a:lnTo>
                <a:lnTo>
                  <a:pt x="8210" y="15245"/>
                </a:lnTo>
                <a:lnTo>
                  <a:pt x="9505" y="15245"/>
                </a:lnTo>
                <a:lnTo>
                  <a:pt x="9505" y="9120"/>
                </a:lnTo>
                <a:lnTo>
                  <a:pt x="8210" y="9120"/>
                </a:lnTo>
                <a:close/>
              </a:path>
            </a:pathLst>
          </a:cu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2" name="Text Box 413"/>
          <p:cNvSpPr/>
          <p:nvPr/>
        </p:nvSpPr>
        <p:spPr>
          <a:xfrm>
            <a:off x="463680" y="669960"/>
            <a:ext cx="692568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ier 1~2 cities (30) have populations of 99M, 90% share of HE sal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Tier 3 cities (70) have a big potential to gro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3" name="Rectangle 4" descr=""/>
          <p:cNvPicPr/>
          <p:nvPr/>
        </p:nvPicPr>
        <p:blipFill>
          <a:blip r:embed="rId4"/>
          <a:stretch/>
        </p:blipFill>
        <p:spPr>
          <a:xfrm>
            <a:off x="109440" y="85680"/>
            <a:ext cx="951120" cy="566640"/>
          </a:xfrm>
          <a:prstGeom prst="rect">
            <a:avLst/>
          </a:prstGeom>
          <a:ln w="0">
            <a:noFill/>
          </a:ln>
        </p:spPr>
      </p:pic>
      <p:sp>
        <p:nvSpPr>
          <p:cNvPr id="2764" name="直接连接符 69"/>
          <p:cNvSpPr/>
          <p:nvPr/>
        </p:nvSpPr>
        <p:spPr>
          <a:xfrm>
            <a:off x="965160" y="214200"/>
            <a:ext cx="0" cy="214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5" name="标题 2"/>
          <p:cNvSpPr/>
          <p:nvPr/>
        </p:nvSpPr>
        <p:spPr>
          <a:xfrm>
            <a:off x="950760" y="166680"/>
            <a:ext cx="1555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经营分析报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6" name="矩形 71" descr=""/>
          <p:cNvPicPr/>
          <p:nvPr/>
        </p:nvPicPr>
        <p:blipFill>
          <a:blip r:embed="rId5"/>
          <a:stretch/>
        </p:blipFill>
        <p:spPr>
          <a:xfrm>
            <a:off x="6566040" y="115920"/>
            <a:ext cx="3352680" cy="1133280"/>
          </a:xfrm>
          <a:prstGeom prst="rect">
            <a:avLst/>
          </a:prstGeom>
          <a:ln w="0">
            <a:noFill/>
          </a:ln>
        </p:spPr>
      </p:pic>
      <p:sp>
        <p:nvSpPr>
          <p:cNvPr id="2767" name="Rectangle 265"/>
          <p:cNvSpPr/>
          <p:nvPr/>
        </p:nvSpPr>
        <p:spPr>
          <a:xfrm>
            <a:off x="6741000" y="136440"/>
            <a:ext cx="30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바탕"/>
              </a:rPr>
              <a:t> Ⅱ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바탕"/>
              </a:rPr>
              <a:t>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바탕"/>
              </a:rPr>
              <a:t>Market understan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8" name="Rectangle 4"/>
          <p:cNvSpPr/>
          <p:nvPr/>
        </p:nvSpPr>
        <p:spPr>
          <a:xfrm>
            <a:off x="7143120" y="409680"/>
            <a:ext cx="2055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bfbfbf"/>
                </a:solidFill>
                <a:latin typeface="Arial"/>
              </a:rPr>
              <a:t>Segment on coverag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9" name=""/>
          <p:cNvGrpSpPr/>
          <p:nvPr/>
        </p:nvGrpSpPr>
        <p:grpSpPr>
          <a:xfrm>
            <a:off x="0" y="6407280"/>
            <a:ext cx="9918720" cy="237960"/>
            <a:chOff x="0" y="6407280"/>
            <a:chExt cx="9918720" cy="237960"/>
          </a:xfrm>
        </p:grpSpPr>
        <p:pic>
          <p:nvPicPr>
            <p:cNvPr id="2770" name="矩形 74" descr=""/>
            <p:cNvPicPr/>
            <p:nvPr/>
          </p:nvPicPr>
          <p:blipFill>
            <a:blip r:embed="rId6"/>
            <a:stretch/>
          </p:blipFill>
          <p:spPr>
            <a:xfrm>
              <a:off x="0" y="6407280"/>
              <a:ext cx="991728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1" name=""/>
            <p:cNvSpPr/>
            <p:nvPr/>
          </p:nvSpPr>
          <p:spPr>
            <a:xfrm>
              <a:off x="0" y="6408720"/>
              <a:ext cx="99187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72" name="灯片编号占位符 5"/>
          <p:cNvSpPr/>
          <p:nvPr/>
        </p:nvSpPr>
        <p:spPr>
          <a:xfrm>
            <a:off x="7397640" y="6364440"/>
            <a:ext cx="1486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ge   </a:t>
            </a:r>
            <a:fld id="{2B48352E-DDDF-4241-9553-67BB104A1259}" type="slidenum">
              <a:rPr b="0" lang="zh-CN" sz="1000" spc="-1" strike="noStrike">
                <a:solidFill>
                  <a:srgbClr val="ffffff"/>
                </a:solidFill>
                <a:latin typeface="华文宋体"/>
                <a:ea typeface="华文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Rectangle 4"/>
          <p:cNvSpPr/>
          <p:nvPr/>
        </p:nvSpPr>
        <p:spPr>
          <a:xfrm>
            <a:off x="2575080" y="3498840"/>
            <a:ext cx="614160" cy="6746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4" name="Text Box 5"/>
          <p:cNvSpPr/>
          <p:nvPr/>
        </p:nvSpPr>
        <p:spPr>
          <a:xfrm>
            <a:off x="2404800" y="3171960"/>
            <a:ext cx="9561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4320" indent="-184320"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4.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5" name="Text Box 6"/>
          <p:cNvSpPr/>
          <p:nvPr/>
        </p:nvSpPr>
        <p:spPr>
          <a:xfrm>
            <a:off x="382680" y="5989680"/>
            <a:ext cx="3759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Gulim"/>
              </a:rPr>
              <a:t>*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Source: CMMS, </a:t>
            </a:r>
            <a:r>
              <a:rPr b="1" lang="en-US" sz="1000" spc="-1" strike="noStrike">
                <a:solidFill>
                  <a:srgbClr val="333399"/>
                </a:solidFill>
                <a:latin typeface="Arial"/>
                <a:ea typeface="Gulim"/>
              </a:rPr>
              <a:t>top 30 cities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 (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Exchange : 1 USD = 7.7 RMB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GroupM study,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HSBC Repo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6" name="Text Box 7"/>
          <p:cNvSpPr/>
          <p:nvPr/>
        </p:nvSpPr>
        <p:spPr>
          <a:xfrm>
            <a:off x="2887560" y="4229280"/>
            <a:ext cx="581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Arial"/>
                <a:ea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7" name="Rectangle 8"/>
          <p:cNvSpPr/>
          <p:nvPr/>
        </p:nvSpPr>
        <p:spPr>
          <a:xfrm>
            <a:off x="3184560" y="3041640"/>
            <a:ext cx="612720" cy="11318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8" name="Text Box 9"/>
          <p:cNvSpPr/>
          <p:nvPr/>
        </p:nvSpPr>
        <p:spPr>
          <a:xfrm>
            <a:off x="3039840" y="2689200"/>
            <a:ext cx="9561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4320" indent="-184320"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Arial"/>
                <a:ea typeface="Arial"/>
              </a:rPr>
              <a:t>7.7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9" name="Rectangle 10"/>
          <p:cNvSpPr/>
          <p:nvPr/>
        </p:nvSpPr>
        <p:spPr>
          <a:xfrm>
            <a:off x="4340160" y="3282840"/>
            <a:ext cx="612720" cy="8906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0" name="Text Box 11"/>
          <p:cNvSpPr/>
          <p:nvPr/>
        </p:nvSpPr>
        <p:spPr>
          <a:xfrm>
            <a:off x="4170240" y="2917800"/>
            <a:ext cx="9561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4320" indent="-184320"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5.9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1" name="Text Box 12"/>
          <p:cNvSpPr/>
          <p:nvPr/>
        </p:nvSpPr>
        <p:spPr>
          <a:xfrm>
            <a:off x="4652640" y="4229280"/>
            <a:ext cx="581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Arial"/>
                <a:ea typeface="Arial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2" name="Rectangle 13"/>
          <p:cNvSpPr/>
          <p:nvPr/>
        </p:nvSpPr>
        <p:spPr>
          <a:xfrm>
            <a:off x="4950000" y="2736720"/>
            <a:ext cx="612720" cy="14367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3" name="Text Box 14"/>
          <p:cNvSpPr/>
          <p:nvPr/>
        </p:nvSpPr>
        <p:spPr>
          <a:xfrm>
            <a:off x="4805280" y="2384280"/>
            <a:ext cx="9561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4320" indent="-184320"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Arial"/>
                <a:ea typeface="Arial"/>
              </a:rPr>
              <a:t>8.8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4" name="Rectangle 15"/>
          <p:cNvSpPr/>
          <p:nvPr/>
        </p:nvSpPr>
        <p:spPr>
          <a:xfrm>
            <a:off x="6119640" y="2787480"/>
            <a:ext cx="611280" cy="138600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5" name="Text Box 16"/>
          <p:cNvSpPr/>
          <p:nvPr/>
        </p:nvSpPr>
        <p:spPr>
          <a:xfrm>
            <a:off x="5948280" y="2448000"/>
            <a:ext cx="9561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4320" indent="-184320"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7f7f7f"/>
                </a:solidFill>
                <a:latin typeface="Arial"/>
                <a:ea typeface="Arial"/>
              </a:rPr>
              <a:t>8.2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6" name="Text Box 17"/>
          <p:cNvSpPr/>
          <p:nvPr/>
        </p:nvSpPr>
        <p:spPr>
          <a:xfrm>
            <a:off x="6430680" y="4229280"/>
            <a:ext cx="5814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Arial"/>
                <a:ea typeface="Arial"/>
              </a:rPr>
              <a:t>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7" name="Rectangle 18"/>
          <p:cNvSpPr/>
          <p:nvPr/>
        </p:nvSpPr>
        <p:spPr>
          <a:xfrm>
            <a:off x="6727680" y="2178000"/>
            <a:ext cx="613080" cy="1995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8" name="Text Box 19"/>
          <p:cNvSpPr/>
          <p:nvPr/>
        </p:nvSpPr>
        <p:spPr>
          <a:xfrm>
            <a:off x="6514560" y="1851120"/>
            <a:ext cx="1055160" cy="3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4320" indent="-184320">
              <a:lnSpc>
                <a:spcPct val="11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Arial"/>
                <a:ea typeface="Arial"/>
              </a:rPr>
              <a:t>11.7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9" name="Line 20"/>
          <p:cNvSpPr/>
          <p:nvPr/>
        </p:nvSpPr>
        <p:spPr>
          <a:xfrm>
            <a:off x="2235240" y="4165560"/>
            <a:ext cx="5411880" cy="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0" name="Rectangle 21"/>
          <p:cNvSpPr/>
          <p:nvPr/>
        </p:nvSpPr>
        <p:spPr>
          <a:xfrm>
            <a:off x="2236680" y="1217520"/>
            <a:ext cx="231840" cy="21744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1" name="Rectangle 22"/>
          <p:cNvSpPr/>
          <p:nvPr/>
        </p:nvSpPr>
        <p:spPr>
          <a:xfrm>
            <a:off x="2236680" y="1522440"/>
            <a:ext cx="231840" cy="2174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20000"/>
              </a:lnSpc>
              <a:spcBef>
                <a:spcPts val="74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Text Box 23"/>
          <p:cNvSpPr/>
          <p:nvPr/>
        </p:nvSpPr>
        <p:spPr>
          <a:xfrm>
            <a:off x="2466360" y="1201680"/>
            <a:ext cx="4366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595959"/>
                </a:solidFill>
                <a:latin typeface="Arial"/>
                <a:ea typeface="Arial"/>
              </a:rPr>
              <a:t>% of people whose Personal Income is U$390+ per mon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3" name="Text Box 24"/>
          <p:cNvSpPr/>
          <p:nvPr/>
        </p:nvSpPr>
        <p:spPr>
          <a:xfrm>
            <a:off x="2466360" y="1494000"/>
            <a:ext cx="436680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200" spc="-1" strike="noStrike">
                <a:solidFill>
                  <a:srgbClr val="0070c0"/>
                </a:solidFill>
                <a:latin typeface="Arial"/>
                <a:ea typeface="Arial"/>
              </a:rPr>
              <a:t>% of people whose Personal Income is U$650+ per mon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Text Box 25"/>
          <p:cNvSpPr/>
          <p:nvPr/>
        </p:nvSpPr>
        <p:spPr>
          <a:xfrm>
            <a:off x="1112400" y="4692600"/>
            <a:ext cx="8115840" cy="9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0% of young graduates spend out their salary every month and save no mone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82% of youth would like to work over 15 hours if earning is high enoug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99"/>
              </a:spcBef>
              <a:spcAft>
                <a:spcPts val="99"/>
              </a:spcAft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annual income (U$7500~U$20000) person is reaching 35 mi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5" name="Rectangle 4" descr=""/>
          <p:cNvPicPr/>
          <p:nvPr/>
        </p:nvPicPr>
        <p:blipFill>
          <a:blip r:embed="rId1"/>
          <a:stretch/>
        </p:blipFill>
        <p:spPr>
          <a:xfrm>
            <a:off x="109440" y="85680"/>
            <a:ext cx="951120" cy="566640"/>
          </a:xfrm>
          <a:prstGeom prst="rect">
            <a:avLst/>
          </a:prstGeom>
          <a:ln w="0">
            <a:noFill/>
          </a:ln>
        </p:spPr>
      </p:pic>
      <p:sp>
        <p:nvSpPr>
          <p:cNvPr id="2796" name="直接连接符 28"/>
          <p:cNvSpPr/>
          <p:nvPr/>
        </p:nvSpPr>
        <p:spPr>
          <a:xfrm>
            <a:off x="965160" y="214200"/>
            <a:ext cx="0" cy="2145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7" name="标题 2"/>
          <p:cNvSpPr/>
          <p:nvPr/>
        </p:nvSpPr>
        <p:spPr>
          <a:xfrm>
            <a:off x="950760" y="166680"/>
            <a:ext cx="1555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经营分析报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8" name="矩形 30" descr=""/>
          <p:cNvPicPr/>
          <p:nvPr/>
        </p:nvPicPr>
        <p:blipFill>
          <a:blip r:embed="rId2"/>
          <a:stretch/>
        </p:blipFill>
        <p:spPr>
          <a:xfrm>
            <a:off x="6566040" y="115920"/>
            <a:ext cx="3352680" cy="1133280"/>
          </a:xfrm>
          <a:prstGeom prst="rect">
            <a:avLst/>
          </a:prstGeom>
          <a:ln w="0">
            <a:noFill/>
          </a:ln>
        </p:spPr>
      </p:pic>
      <p:sp>
        <p:nvSpPr>
          <p:cNvPr id="2799" name="Rectangle 265"/>
          <p:cNvSpPr/>
          <p:nvPr/>
        </p:nvSpPr>
        <p:spPr>
          <a:xfrm>
            <a:off x="6741000" y="136440"/>
            <a:ext cx="301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바탕"/>
              </a:rPr>
              <a:t> Ⅱ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바탕"/>
              </a:rPr>
              <a:t>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바탕"/>
              </a:rPr>
              <a:t>Market understan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0" name="Rectangle 2"/>
          <p:cNvSpPr/>
          <p:nvPr/>
        </p:nvSpPr>
        <p:spPr>
          <a:xfrm>
            <a:off x="7140600" y="409680"/>
            <a:ext cx="154476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bfbfbf"/>
                </a:solidFill>
                <a:latin typeface="Arial"/>
              </a:rPr>
              <a:t>Market potenti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1" name=""/>
          <p:cNvGrpSpPr/>
          <p:nvPr/>
        </p:nvGrpSpPr>
        <p:grpSpPr>
          <a:xfrm>
            <a:off x="0" y="6407280"/>
            <a:ext cx="9918720" cy="237960"/>
            <a:chOff x="0" y="6407280"/>
            <a:chExt cx="9918720" cy="237960"/>
          </a:xfrm>
        </p:grpSpPr>
        <p:pic>
          <p:nvPicPr>
            <p:cNvPr id="2802" name="矩形 34" descr=""/>
            <p:cNvPicPr/>
            <p:nvPr/>
          </p:nvPicPr>
          <p:blipFill>
            <a:blip r:embed="rId3"/>
            <a:stretch/>
          </p:blipFill>
          <p:spPr>
            <a:xfrm>
              <a:off x="0" y="6407280"/>
              <a:ext cx="9917280" cy="23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3" name=""/>
            <p:cNvSpPr/>
            <p:nvPr/>
          </p:nvSpPr>
          <p:spPr>
            <a:xfrm>
              <a:off x="0" y="6408720"/>
              <a:ext cx="9918720" cy="23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04" name="灯片编号占位符 5"/>
          <p:cNvSpPr/>
          <p:nvPr/>
        </p:nvSpPr>
        <p:spPr>
          <a:xfrm>
            <a:off x="7397640" y="6364440"/>
            <a:ext cx="1486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age   </a:t>
            </a:r>
            <a:fld id="{4F83D7A4-D2D4-4D0F-BC23-B27CBBB57000}" type="slidenum">
              <a:rPr b="0" lang="zh-CN" sz="1000" spc="-1" strike="noStrike">
                <a:solidFill>
                  <a:srgbClr val="ffffff"/>
                </a:solidFill>
                <a:latin typeface="华文宋体"/>
                <a:ea typeface="华文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1T05:22:45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2:49:48Z</dcterms:modified>
  <cp:revision>472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