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5715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33704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068280"/>
            <a:ext cx="26496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06828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37040"/>
            <a:ext cx="401580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068280"/>
            <a:ext cx="8229240" cy="15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714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337040"/>
            <a:ext cx="8229240" cy="33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3"/>
          <p:cNvSpPr/>
          <p:nvPr/>
        </p:nvSpPr>
        <p:spPr>
          <a:xfrm>
            <a:off x="2729520" y="985320"/>
            <a:ext cx="32929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2283480" y="1489320"/>
            <a:ext cx="44038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剪影商务</a:t>
            </a:r>
            <a:r>
              <a:rPr b="1" lang="en-US" sz="4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2"/>
          <p:cNvSpPr/>
          <p:nvPr/>
        </p:nvSpPr>
        <p:spPr>
          <a:xfrm>
            <a:off x="604800" y="530568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465480" y="1810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424"/>
          <p:cNvGrpSpPr/>
          <p:nvPr/>
        </p:nvGrpSpPr>
        <p:grpSpPr>
          <a:xfrm>
            <a:off x="643320" y="785880"/>
            <a:ext cx="1521000" cy="2950200"/>
            <a:chOff x="643320" y="785880"/>
            <a:chExt cx="1521000" cy="2950200"/>
          </a:xfrm>
        </p:grpSpPr>
        <p:sp>
          <p:nvSpPr>
            <p:cNvPr id="82" name="圆角矩形 3"/>
            <p:cNvSpPr/>
            <p:nvPr/>
          </p:nvSpPr>
          <p:spPr>
            <a:xfrm rot="5400000">
              <a:off x="-71280" y="1500480"/>
              <a:ext cx="2950200" cy="152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1000">
                  <a:srgbClr val="00b0f0"/>
                </a:gs>
                <a:gs pos="100000">
                  <a:srgbClr val="0070c0"/>
                </a:gs>
              </a:gsLst>
              <a:lin ang="0"/>
            </a:gradFill>
            <a:ln w="34925">
              <a:solidFill>
                <a:srgbClr val="ffffff"/>
              </a:solidFill>
              <a:round/>
            </a:ln>
            <a:scene3d>
              <a:camera prst="orthographicFront"/>
              <a:lightRig dir="t" rig="threePt"/>
            </a:scene3d>
            <a:sp3d extrusionH="34925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椭圆 4"/>
            <p:cNvSpPr/>
            <p:nvPr/>
          </p:nvSpPr>
          <p:spPr>
            <a:xfrm>
              <a:off x="795600" y="962640"/>
              <a:ext cx="1188720" cy="1188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b0f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" name="Text Box 39"/>
            <p:cNvSpPr/>
            <p:nvPr/>
          </p:nvSpPr>
          <p:spPr>
            <a:xfrm>
              <a:off x="768600" y="937080"/>
              <a:ext cx="130716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50000"/>
                </a:lnSpc>
              </a:pPr>
              <a:r>
                <a:rPr b="1" lang="en-US" sz="3200" spc="49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6"/>
            <p:cNvSpPr/>
            <p:nvPr/>
          </p:nvSpPr>
          <p:spPr>
            <a:xfrm>
              <a:off x="1108800" y="1559880"/>
              <a:ext cx="6076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9"/>
            <p:cNvSpPr/>
            <p:nvPr/>
          </p:nvSpPr>
          <p:spPr>
            <a:xfrm>
              <a:off x="743040" y="2365920"/>
              <a:ext cx="1361520" cy="591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组合 430"/>
          <p:cNvGrpSpPr/>
          <p:nvPr/>
        </p:nvGrpSpPr>
        <p:grpSpPr>
          <a:xfrm>
            <a:off x="2819520" y="785880"/>
            <a:ext cx="1521000" cy="2950200"/>
            <a:chOff x="2819520" y="785880"/>
            <a:chExt cx="1521000" cy="2950200"/>
          </a:xfrm>
        </p:grpSpPr>
        <p:sp>
          <p:nvSpPr>
            <p:cNvPr id="88" name="圆角矩形 9"/>
            <p:cNvSpPr/>
            <p:nvPr/>
          </p:nvSpPr>
          <p:spPr>
            <a:xfrm rot="5400000">
              <a:off x="2104560" y="1500480"/>
              <a:ext cx="2950200" cy="152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1000">
                  <a:srgbClr val="70d34d"/>
                </a:gs>
                <a:gs pos="100000">
                  <a:srgbClr val="339933"/>
                </a:gs>
              </a:gsLst>
              <a:lin ang="0"/>
            </a:gradFill>
            <a:ln w="34925">
              <a:solidFill>
                <a:srgbClr val="ffffff"/>
              </a:solidFill>
              <a:round/>
            </a:ln>
            <a:scene3d>
              <a:camera prst="orthographicFront"/>
              <a:lightRig dir="t" rig="threePt"/>
            </a:scene3d>
            <a:sp3d extrusionH="34925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椭圆 10"/>
            <p:cNvSpPr/>
            <p:nvPr/>
          </p:nvSpPr>
          <p:spPr>
            <a:xfrm>
              <a:off x="2971800" y="962640"/>
              <a:ext cx="1188720" cy="1188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00b05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Text Box 39"/>
            <p:cNvSpPr/>
            <p:nvPr/>
          </p:nvSpPr>
          <p:spPr>
            <a:xfrm>
              <a:off x="2944800" y="937080"/>
              <a:ext cx="130716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50000"/>
                </a:lnSpc>
              </a:pPr>
              <a:r>
                <a:rPr b="1" lang="en-US" sz="3200" spc="49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矩形 12"/>
            <p:cNvSpPr/>
            <p:nvPr/>
          </p:nvSpPr>
          <p:spPr>
            <a:xfrm>
              <a:off x="3285000" y="1559880"/>
              <a:ext cx="6076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1400" spc="-1" strike="noStrike">
                  <a:solidFill>
                    <a:srgbClr val="339933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39"/>
            <p:cNvSpPr/>
            <p:nvPr/>
          </p:nvSpPr>
          <p:spPr>
            <a:xfrm>
              <a:off x="2919240" y="2365920"/>
              <a:ext cx="1361520" cy="591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436"/>
          <p:cNvGrpSpPr/>
          <p:nvPr/>
        </p:nvGrpSpPr>
        <p:grpSpPr>
          <a:xfrm>
            <a:off x="2214720" y="2020320"/>
            <a:ext cx="522360" cy="285480"/>
            <a:chOff x="2214720" y="2020320"/>
            <a:chExt cx="522360" cy="285480"/>
          </a:xfrm>
        </p:grpSpPr>
        <p:sp>
          <p:nvSpPr>
            <p:cNvPr id="94" name="燕尾形 15"/>
            <p:cNvSpPr/>
            <p:nvPr/>
          </p:nvSpPr>
          <p:spPr>
            <a:xfrm>
              <a:off x="2214720" y="2020320"/>
              <a:ext cx="285480" cy="285480"/>
            </a:xfrm>
            <a:prstGeom prst="chevron">
              <a:avLst>
                <a:gd name="adj" fmla="val 50000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燕尾形 16"/>
            <p:cNvSpPr/>
            <p:nvPr/>
          </p:nvSpPr>
          <p:spPr>
            <a:xfrm>
              <a:off x="2451600" y="2020320"/>
              <a:ext cx="285480" cy="285480"/>
            </a:xfrm>
            <a:prstGeom prst="chevron">
              <a:avLst>
                <a:gd name="adj" fmla="val 50000"/>
              </a:avLst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" name="组合 439"/>
          <p:cNvGrpSpPr/>
          <p:nvPr/>
        </p:nvGrpSpPr>
        <p:grpSpPr>
          <a:xfrm>
            <a:off x="5001120" y="785880"/>
            <a:ext cx="1521000" cy="2950200"/>
            <a:chOff x="5001120" y="785880"/>
            <a:chExt cx="1521000" cy="2950200"/>
          </a:xfrm>
        </p:grpSpPr>
        <p:sp>
          <p:nvSpPr>
            <p:cNvPr id="97" name="圆角矩形 18"/>
            <p:cNvSpPr/>
            <p:nvPr/>
          </p:nvSpPr>
          <p:spPr>
            <a:xfrm rot="5400000">
              <a:off x="4286520" y="1500480"/>
              <a:ext cx="2950200" cy="152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99000">
                  <a:srgbClr val="7030a0"/>
                </a:gs>
                <a:gs pos="100000">
                  <a:srgbClr val="7030a0"/>
                </a:gs>
              </a:gsLst>
              <a:lin ang="0"/>
            </a:gradFill>
            <a:ln w="34925">
              <a:solidFill>
                <a:srgbClr val="ffffff"/>
              </a:solidFill>
              <a:round/>
            </a:ln>
            <a:scene3d>
              <a:camera prst="orthographicFront"/>
              <a:lightRig dir="t" rig="threePt"/>
            </a:scene3d>
            <a:sp3d extrusionH="34925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8" name="椭圆 19"/>
            <p:cNvSpPr/>
            <p:nvPr/>
          </p:nvSpPr>
          <p:spPr>
            <a:xfrm>
              <a:off x="5153400" y="962640"/>
              <a:ext cx="1188720" cy="1188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7030a0"/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Text Box 39"/>
            <p:cNvSpPr/>
            <p:nvPr/>
          </p:nvSpPr>
          <p:spPr>
            <a:xfrm>
              <a:off x="5126400" y="937080"/>
              <a:ext cx="130716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50000"/>
                </a:lnSpc>
              </a:pPr>
              <a:r>
                <a:rPr b="1" lang="en-US" sz="3200" spc="49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矩形 21"/>
            <p:cNvSpPr/>
            <p:nvPr/>
          </p:nvSpPr>
          <p:spPr>
            <a:xfrm>
              <a:off x="5466600" y="1559880"/>
              <a:ext cx="6076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1400" spc="-1" strike="noStrike">
                  <a:solidFill>
                    <a:srgbClr val="7030a0"/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39"/>
            <p:cNvSpPr/>
            <p:nvPr/>
          </p:nvSpPr>
          <p:spPr>
            <a:xfrm>
              <a:off x="5100840" y="2365920"/>
              <a:ext cx="1361520" cy="591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445"/>
          <p:cNvGrpSpPr/>
          <p:nvPr/>
        </p:nvGrpSpPr>
        <p:grpSpPr>
          <a:xfrm>
            <a:off x="7122960" y="785880"/>
            <a:ext cx="1521000" cy="2950200"/>
            <a:chOff x="7122960" y="785880"/>
            <a:chExt cx="1521000" cy="2950200"/>
          </a:xfrm>
        </p:grpSpPr>
        <p:sp>
          <p:nvSpPr>
            <p:cNvPr id="103" name="圆角矩形 24"/>
            <p:cNvSpPr/>
            <p:nvPr/>
          </p:nvSpPr>
          <p:spPr>
            <a:xfrm rot="5400000">
              <a:off x="6408360" y="1500480"/>
              <a:ext cx="2950200" cy="1521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1000">
                  <a:srgbClr val="ffc000"/>
                </a:gs>
                <a:gs pos="100000">
                  <a:srgbClr val="e46c0a"/>
                </a:gs>
              </a:gsLst>
              <a:lin ang="0"/>
            </a:gradFill>
            <a:ln w="34925">
              <a:solidFill>
                <a:srgbClr val="ffffff"/>
              </a:solidFill>
              <a:round/>
            </a:ln>
            <a:scene3d>
              <a:camera prst="orthographicFront"/>
              <a:lightRig dir="t" rig="threePt"/>
            </a:scene3d>
            <a:sp3d extrusionH="34925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6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椭圆 25"/>
            <p:cNvSpPr/>
            <p:nvPr/>
          </p:nvSpPr>
          <p:spPr>
            <a:xfrm>
              <a:off x="7275240" y="962640"/>
              <a:ext cx="1188720" cy="1188720"/>
            </a:xfrm>
            <a:prstGeom prst="ellipse">
              <a:avLst/>
            </a:prstGeom>
            <a:solidFill>
              <a:schemeClr val="bg1"/>
            </a:solidFill>
            <a:ln>
              <a:solidFill>
                <a:srgbClr val="f79646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Text Box 39"/>
            <p:cNvSpPr/>
            <p:nvPr/>
          </p:nvSpPr>
          <p:spPr>
            <a:xfrm>
              <a:off x="7248240" y="937080"/>
              <a:ext cx="1307160" cy="8208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soft">
                  <a:rot lat="0" lon="0" rev="0"/>
                </a:lightRig>
              </a:scene3d>
              <a:sp3d contourW="25400" prstMaterial="matte">
                <a:bevelT prst="artDeco" w="25400" h="55880"/>
                <a:contourClr>
                  <a:schemeClr val="accent2"/>
                </a:contourClr>
              </a:sp3d>
            </a:bodyPr>
            <a:p>
              <a:pPr algn="ctr">
                <a:lnSpc>
                  <a:spcPct val="150000"/>
                </a:lnSpc>
              </a:pPr>
              <a:r>
                <a:rPr b="1" lang="en-US" sz="3200" spc="49" strike="noStrike">
                  <a:solidFill>
                    <a:schemeClr val="accent6">
                      <a:lumMod val="75000"/>
                    </a:schemeClr>
                  </a:solidFill>
                  <a:latin typeface="微软雅黑"/>
                  <a:ea typeface="微软雅黑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矩形 27"/>
            <p:cNvSpPr/>
            <p:nvPr/>
          </p:nvSpPr>
          <p:spPr>
            <a:xfrm>
              <a:off x="7588440" y="1559880"/>
              <a:ext cx="60768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1400" spc="-1" strike="noStrike">
                  <a:solidFill>
                    <a:schemeClr val="accent6">
                      <a:lumMod val="75000"/>
                    </a:schemeClr>
                  </a:solidFill>
                  <a:latin typeface="微软雅黑"/>
                  <a:ea typeface="微软雅黑"/>
                </a:rPr>
                <a:t>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39"/>
            <p:cNvSpPr/>
            <p:nvPr/>
          </p:nvSpPr>
          <p:spPr>
            <a:xfrm>
              <a:off x="7222680" y="2365920"/>
              <a:ext cx="1361520" cy="5914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50000"/>
                </a:lnSpc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文字点击添加内容文字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组合 451"/>
          <p:cNvGrpSpPr/>
          <p:nvPr/>
        </p:nvGrpSpPr>
        <p:grpSpPr>
          <a:xfrm>
            <a:off x="6572160" y="2020320"/>
            <a:ext cx="522720" cy="285480"/>
            <a:chOff x="6572160" y="2020320"/>
            <a:chExt cx="522720" cy="285480"/>
          </a:xfrm>
        </p:grpSpPr>
        <p:sp>
          <p:nvSpPr>
            <p:cNvPr id="109" name="燕尾形 30"/>
            <p:cNvSpPr/>
            <p:nvPr/>
          </p:nvSpPr>
          <p:spPr>
            <a:xfrm>
              <a:off x="6572160" y="2020320"/>
              <a:ext cx="285480" cy="285480"/>
            </a:xfrm>
            <a:prstGeom prst="chevron">
              <a:avLst>
                <a:gd name="adj" fmla="val 50000"/>
              </a:avLst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燕尾形 31"/>
            <p:cNvSpPr/>
            <p:nvPr/>
          </p:nvSpPr>
          <p:spPr>
            <a:xfrm>
              <a:off x="6809400" y="2020320"/>
              <a:ext cx="285480" cy="285480"/>
            </a:xfrm>
            <a:prstGeom prst="chevron">
              <a:avLst>
                <a:gd name="adj" fmla="val 50000"/>
              </a:avLst>
            </a:prstGeom>
            <a:solidFill>
              <a:srgbClr val="7030a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组合 454"/>
          <p:cNvGrpSpPr/>
          <p:nvPr/>
        </p:nvGrpSpPr>
        <p:grpSpPr>
          <a:xfrm>
            <a:off x="4429080" y="2020320"/>
            <a:ext cx="522720" cy="285480"/>
            <a:chOff x="4429080" y="2020320"/>
            <a:chExt cx="522720" cy="285480"/>
          </a:xfrm>
        </p:grpSpPr>
        <p:sp>
          <p:nvSpPr>
            <p:cNvPr id="112" name="燕尾形 33"/>
            <p:cNvSpPr/>
            <p:nvPr/>
          </p:nvSpPr>
          <p:spPr>
            <a:xfrm>
              <a:off x="4429080" y="2020320"/>
              <a:ext cx="285480" cy="285480"/>
            </a:xfrm>
            <a:prstGeom prst="chevron">
              <a:avLst>
                <a:gd name="adj" fmla="val 50000"/>
              </a:avLst>
            </a:prstGeom>
            <a:solidFill>
              <a:srgbClr val="33993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燕尾形 34"/>
            <p:cNvSpPr/>
            <p:nvPr/>
          </p:nvSpPr>
          <p:spPr>
            <a:xfrm>
              <a:off x="4666320" y="2020320"/>
              <a:ext cx="285480" cy="285480"/>
            </a:xfrm>
            <a:prstGeom prst="chevron">
              <a:avLst>
                <a:gd name="adj" fmla="val 50000"/>
              </a:avLst>
            </a:prstGeom>
            <a:solidFill>
              <a:srgbClr val="339933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右箭头 35"/>
          <p:cNvSpPr/>
          <p:nvPr/>
        </p:nvSpPr>
        <p:spPr>
          <a:xfrm>
            <a:off x="891360" y="3990240"/>
            <a:ext cx="690840" cy="6710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5" name="Text Box 39"/>
          <p:cNvSpPr/>
          <p:nvPr/>
        </p:nvSpPr>
        <p:spPr>
          <a:xfrm>
            <a:off x="1714320" y="4262040"/>
            <a:ext cx="6368760" cy="4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9"/>
          <p:cNvSpPr/>
          <p:nvPr/>
        </p:nvSpPr>
        <p:spPr>
          <a:xfrm>
            <a:off x="1714320" y="3929040"/>
            <a:ext cx="3142800" cy="4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9"/>
          <p:cNvSpPr/>
          <p:nvPr/>
        </p:nvSpPr>
        <p:spPr>
          <a:xfrm>
            <a:off x="776880" y="4124520"/>
            <a:ext cx="865800" cy="4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右箭头 39"/>
          <p:cNvSpPr/>
          <p:nvPr/>
        </p:nvSpPr>
        <p:spPr>
          <a:xfrm>
            <a:off x="891360" y="4757400"/>
            <a:ext cx="690840" cy="6710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9" name="Text Box 39"/>
          <p:cNvSpPr/>
          <p:nvPr/>
        </p:nvSpPr>
        <p:spPr>
          <a:xfrm>
            <a:off x="1714320" y="5029200"/>
            <a:ext cx="6368760" cy="4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9"/>
          <p:cNvSpPr/>
          <p:nvPr/>
        </p:nvSpPr>
        <p:spPr>
          <a:xfrm>
            <a:off x="1714320" y="4696200"/>
            <a:ext cx="3142800" cy="4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您要的内容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776880" y="4891680"/>
            <a:ext cx="865800" cy="4093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Box 1"/>
          <p:cNvSpPr/>
          <p:nvPr/>
        </p:nvSpPr>
        <p:spPr>
          <a:xfrm>
            <a:off x="465480" y="1810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3"/>
          <p:cNvGrpSpPr/>
          <p:nvPr/>
        </p:nvGrpSpPr>
        <p:grpSpPr>
          <a:xfrm>
            <a:off x="6143760" y="4009680"/>
            <a:ext cx="2285640" cy="1204920"/>
            <a:chOff x="6143760" y="4009680"/>
            <a:chExt cx="2285640" cy="1204920"/>
          </a:xfrm>
        </p:grpSpPr>
        <p:sp>
          <p:nvSpPr>
            <p:cNvPr id="124" name="Oval 30"/>
            <p:cNvSpPr/>
            <p:nvPr/>
          </p:nvSpPr>
          <p:spPr>
            <a:xfrm>
              <a:off x="6143760" y="4144320"/>
              <a:ext cx="2285640" cy="107028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23000"/>
                </a:srgbClr>
              </a:outerShdw>
            </a:effectLst>
            <a:scene3d>
              <a:camera prst="perspectiveRelaxedModerately"/>
              <a:lightRig dir="t" rig="threePt"/>
            </a:scene3d>
            <a:sp3d prstMaterial="metal">
              <a:bevelT prst="softRound" w="260350" h="50800"/>
              <a:bevelB prst="softRound" w="88900" h="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25" name="组合 14"/>
            <p:cNvGrpSpPr/>
            <p:nvPr/>
          </p:nvGrpSpPr>
          <p:grpSpPr>
            <a:xfrm>
              <a:off x="6272640" y="4009680"/>
              <a:ext cx="2037240" cy="1005120"/>
              <a:chOff x="6272640" y="4009680"/>
              <a:chExt cx="2037240" cy="1005120"/>
            </a:xfrm>
          </p:grpSpPr>
          <p:sp>
            <p:nvSpPr>
              <p:cNvPr id="126" name="Oval 32"/>
              <p:cNvSpPr/>
              <p:nvPr/>
            </p:nvSpPr>
            <p:spPr>
              <a:xfrm>
                <a:off x="6272640" y="4009680"/>
                <a:ext cx="2037240" cy="1005120"/>
              </a:xfrm>
              <a:prstGeom prst="ellipse">
                <a:avLst/>
              </a:prstGeom>
              <a:gradFill rotWithShape="0">
                <a:gsLst>
                  <a:gs pos="1000">
                    <a:srgbClr val="0070c0"/>
                  </a:gs>
                  <a:gs pos="100000">
                    <a:srgbClr val="00b0f0"/>
                  </a:gs>
                </a:gsLst>
                <a:lin ang="16200000"/>
              </a:gradFill>
              <a:ln w="41275">
                <a:solidFill>
                  <a:srgbClr val="ffffff"/>
                </a:solidFill>
                <a:round/>
              </a:ln>
              <a:effectLst>
                <a:outerShdw algn="ctr" blurRad="317520" dir="0">
                  <a:srgbClr val="000000">
                    <a:alpha val="4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" prstMaterial="plastic">
                <a:bevelT prst="softRound" w="260350" h="50800"/>
                <a:bevelB prst="softRound" w="88900" h="101600"/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136440"/>
                  </a:tabLst>
                </a:pPr>
                <a:endParaRPr b="1" lang="en-US" sz="3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7" name="Oval 33"/>
              <p:cNvSpPr/>
              <p:nvPr/>
            </p:nvSpPr>
            <p:spPr>
              <a:xfrm>
                <a:off x="6512400" y="4152600"/>
                <a:ext cx="1572480" cy="732240"/>
              </a:xfrm>
              <a:prstGeom prst="ellipse">
                <a:avLst/>
              </a:prstGeom>
              <a:solidFill>
                <a:schemeClr val="bg1">
                  <a:alpha val="89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28" name="组合 13"/>
          <p:cNvGrpSpPr/>
          <p:nvPr/>
        </p:nvGrpSpPr>
        <p:grpSpPr>
          <a:xfrm>
            <a:off x="3643200" y="4009680"/>
            <a:ext cx="2285640" cy="1204920"/>
            <a:chOff x="3643200" y="4009680"/>
            <a:chExt cx="2285640" cy="1204920"/>
          </a:xfrm>
        </p:grpSpPr>
        <p:sp>
          <p:nvSpPr>
            <p:cNvPr id="129" name="Oval 30"/>
            <p:cNvSpPr/>
            <p:nvPr/>
          </p:nvSpPr>
          <p:spPr>
            <a:xfrm>
              <a:off x="3643200" y="4144320"/>
              <a:ext cx="2285640" cy="107028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23000"/>
                </a:srgbClr>
              </a:outerShdw>
            </a:effectLst>
            <a:scene3d>
              <a:camera prst="perspectiveRelaxedModerately"/>
              <a:lightRig dir="t" rig="threePt"/>
            </a:scene3d>
            <a:sp3d prstMaterial="metal">
              <a:bevelT prst="softRound" w="260350" h="50800"/>
              <a:bevelB prst="softRound" w="88900" h="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30" name="组合 14"/>
            <p:cNvGrpSpPr/>
            <p:nvPr/>
          </p:nvGrpSpPr>
          <p:grpSpPr>
            <a:xfrm>
              <a:off x="3772440" y="4009680"/>
              <a:ext cx="2037240" cy="1005120"/>
              <a:chOff x="3772440" y="4009680"/>
              <a:chExt cx="2037240" cy="1005120"/>
            </a:xfrm>
          </p:grpSpPr>
          <p:sp>
            <p:nvSpPr>
              <p:cNvPr id="131" name="Oval 32"/>
              <p:cNvSpPr/>
              <p:nvPr/>
            </p:nvSpPr>
            <p:spPr>
              <a:xfrm>
                <a:off x="3772440" y="4009680"/>
                <a:ext cx="2037240" cy="1005120"/>
              </a:xfrm>
              <a:prstGeom prst="ellipse">
                <a:avLst/>
              </a:prstGeom>
              <a:gradFill rotWithShape="0">
                <a:gsLst>
                  <a:gs pos="1000">
                    <a:srgbClr val="339933"/>
                  </a:gs>
                  <a:gs pos="100000">
                    <a:srgbClr val="70d34d"/>
                  </a:gs>
                </a:gsLst>
                <a:lin ang="16200000"/>
              </a:gradFill>
              <a:ln w="41275">
                <a:solidFill>
                  <a:srgbClr val="ffffff"/>
                </a:solidFill>
                <a:round/>
              </a:ln>
              <a:effectLst>
                <a:outerShdw algn="ctr" blurRad="317520" dir="0">
                  <a:srgbClr val="000000">
                    <a:alpha val="4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" prstMaterial="plastic">
                <a:bevelT prst="softRound" w="260350" h="50800"/>
                <a:bevelB prst="softRound" w="88900" h="101600"/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136440"/>
                  </a:tabLst>
                </a:pPr>
                <a:endParaRPr b="1" lang="en-US" sz="3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2" name="Oval 33"/>
              <p:cNvSpPr/>
              <p:nvPr/>
            </p:nvSpPr>
            <p:spPr>
              <a:xfrm>
                <a:off x="4011840" y="4152600"/>
                <a:ext cx="1572480" cy="732240"/>
              </a:xfrm>
              <a:prstGeom prst="ellipse">
                <a:avLst/>
              </a:prstGeom>
              <a:solidFill>
                <a:schemeClr val="bg1">
                  <a:alpha val="89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grpSp>
        <p:nvGrpSpPr>
          <p:cNvPr id="133" name="组合 13"/>
          <p:cNvGrpSpPr/>
          <p:nvPr/>
        </p:nvGrpSpPr>
        <p:grpSpPr>
          <a:xfrm>
            <a:off x="1000080" y="4009680"/>
            <a:ext cx="2285640" cy="1204920"/>
            <a:chOff x="1000080" y="4009680"/>
            <a:chExt cx="2285640" cy="1204920"/>
          </a:xfrm>
        </p:grpSpPr>
        <p:sp>
          <p:nvSpPr>
            <p:cNvPr id="134" name="Oval 30"/>
            <p:cNvSpPr/>
            <p:nvPr/>
          </p:nvSpPr>
          <p:spPr>
            <a:xfrm>
              <a:off x="1000080" y="4144320"/>
              <a:ext cx="2285640" cy="1070280"/>
            </a:xfrm>
            <a:prstGeom prst="ellipse">
              <a:avLst/>
            </a:prstGeom>
            <a:solidFill>
              <a:schemeClr val="bg1">
                <a:lumMod val="85000"/>
              </a:schemeClr>
            </a:soli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23000"/>
                </a:srgbClr>
              </a:outerShdw>
            </a:effectLst>
            <a:scene3d>
              <a:camera prst="perspectiveRelaxedModerately"/>
              <a:lightRig dir="t" rig="threePt"/>
            </a:scene3d>
            <a:sp3d prstMaterial="metal">
              <a:bevelT prst="softRound" w="260350" h="50800"/>
              <a:bevelB prst="softRound" w="88900" h="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136440"/>
                </a:tabLst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135" name="组合 14"/>
            <p:cNvGrpSpPr/>
            <p:nvPr/>
          </p:nvGrpSpPr>
          <p:grpSpPr>
            <a:xfrm>
              <a:off x="1129320" y="4009680"/>
              <a:ext cx="2037240" cy="1005120"/>
              <a:chOff x="1129320" y="4009680"/>
              <a:chExt cx="2037240" cy="10051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1129320" y="4009680"/>
                <a:ext cx="2037240" cy="1005120"/>
              </a:xfrm>
              <a:prstGeom prst="ellipse">
                <a:avLst/>
              </a:prstGeom>
              <a:gradFill rotWithShape="0">
                <a:gsLst>
                  <a:gs pos="1000">
                    <a:srgbClr val="ffc000"/>
                  </a:gs>
                  <a:gs pos="100000">
                    <a:srgbClr val="f79646"/>
                  </a:gs>
                </a:gsLst>
                <a:lin ang="16200000"/>
              </a:gradFill>
              <a:ln w="41275">
                <a:solidFill>
                  <a:srgbClr val="ffffff"/>
                </a:solidFill>
                <a:round/>
              </a:ln>
              <a:effectLst>
                <a:outerShdw algn="ctr" blurRad="317520" dir="0">
                  <a:srgbClr val="000000">
                    <a:alpha val="4000"/>
                  </a:srgbClr>
                </a:outerShdw>
              </a:effectLst>
              <a:scene3d>
                <a:camera prst="orthographicFront"/>
                <a:lightRig rig="threePt" dir="t"/>
              </a:scene3d>
              <a:sp3d extrusionH="38100" prstMaterial="plastic">
                <a:bevelT prst="softRound" w="260350" h="50800"/>
                <a:bevelB prst="softRound" w="88900" h="101600"/>
              </a:sp3d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136440"/>
                  </a:tabLst>
                </a:pPr>
                <a:endParaRPr b="1" lang="en-US" sz="32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37" name="Oval 33"/>
              <p:cNvSpPr/>
              <p:nvPr/>
            </p:nvSpPr>
            <p:spPr>
              <a:xfrm>
                <a:off x="1368720" y="4152600"/>
                <a:ext cx="1572480" cy="732240"/>
              </a:xfrm>
              <a:prstGeom prst="ellipse">
                <a:avLst/>
              </a:prstGeom>
              <a:solidFill>
                <a:schemeClr val="bg1">
                  <a:alpha val="89000"/>
                </a:schemeClr>
              </a:soli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numCol="1" spcCol="0" wrap="none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</p:grpSp>
      <p:sp>
        <p:nvSpPr>
          <p:cNvPr id="138" name="椭圆 58"/>
          <p:cNvSpPr/>
          <p:nvPr/>
        </p:nvSpPr>
        <p:spPr>
          <a:xfrm>
            <a:off x="1500120" y="1437840"/>
            <a:ext cx="1356840" cy="1155960"/>
          </a:xfrm>
          <a:prstGeom prst="ellipse">
            <a:avLst/>
          </a:prstGeom>
          <a:gradFill rotWithShape="0">
            <a:gsLst>
              <a:gs pos="94000">
                <a:srgbClr val="ffffff">
                  <a:alpha val="15294"/>
                </a:srgbClr>
              </a:gs>
              <a:gs pos="100000">
                <a:srgbClr val="ffffff">
                  <a:alpha val="0"/>
                </a:srgbClr>
              </a:gs>
            </a:gsLst>
            <a:lin ang="18900000"/>
          </a:gradFill>
          <a:ln w="1905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fov="0" prst="perspectiveRelaxed">
              <a:rot lat="17400000" lon="0" rev="0"/>
            </a:camera>
            <a:lightRig dir="t" rig="balanced"/>
          </a:scene3d>
          <a:sp3d extrusionH="2540000" prstMaterial="clear">
            <a:extrusionClr>
              <a:schemeClr val="bg1"/>
            </a:extrusionClr>
            <a:contourClr>
              <a:schemeClr val="bg1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9" name="椭圆 3"/>
          <p:cNvSpPr/>
          <p:nvPr/>
        </p:nvSpPr>
        <p:spPr>
          <a:xfrm>
            <a:off x="1540440" y="3179160"/>
            <a:ext cx="1272960" cy="1084680"/>
          </a:xfrm>
          <a:prstGeom prst="ellipse">
            <a:avLst/>
          </a:prstGeom>
          <a:gradFill rotWithShape="0">
            <a:gsLst>
              <a:gs pos="0">
                <a:srgbClr val="ffc000"/>
              </a:gs>
              <a:gs pos="100000">
                <a:srgbClr val="ca8702"/>
              </a:gs>
            </a:gsLst>
            <a:lin ang="13500000"/>
          </a:gradFill>
          <a:ln w="1905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fov="0" prst="perspectiveRelaxed">
              <a:rot lat="17400000" lon="0" rev="0"/>
            </a:camera>
            <a:lightRig dir="t" rig="glow"/>
          </a:scene3d>
          <a:sp3d extrusionH="800100" prstMaterial="metal">
            <a:bevelT prst="coolSlant" w="0" h="0"/>
            <a:extrusionClr>
              <a:srgbClr val="ca8702"/>
            </a:extrusionClr>
            <a:contourClr>
              <a:schemeClr val="bg1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椭圆 60"/>
          <p:cNvSpPr/>
          <p:nvPr/>
        </p:nvSpPr>
        <p:spPr>
          <a:xfrm>
            <a:off x="4143240" y="1496160"/>
            <a:ext cx="1356840" cy="1155960"/>
          </a:xfrm>
          <a:prstGeom prst="ellipse">
            <a:avLst/>
          </a:prstGeom>
          <a:gradFill rotWithShape="0">
            <a:gsLst>
              <a:gs pos="94000">
                <a:srgbClr val="ffffff">
                  <a:alpha val="15294"/>
                </a:srgbClr>
              </a:gs>
              <a:gs pos="100000">
                <a:srgbClr val="ffffff">
                  <a:alpha val="0"/>
                </a:srgbClr>
              </a:gs>
            </a:gsLst>
            <a:lin ang="18900000"/>
          </a:gradFill>
          <a:ln w="1905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fov="0" prst="perspectiveRelaxed">
              <a:rot lat="17400000" lon="0" rev="0"/>
            </a:camera>
            <a:lightRig dir="t" rig="balanced"/>
          </a:scene3d>
          <a:sp3d extrusionH="2540000" prstMaterial="clear">
            <a:extrusionClr>
              <a:schemeClr val="bg1"/>
            </a:extrusionClr>
            <a:contourClr>
              <a:schemeClr val="bg1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1" name="椭圆 8"/>
          <p:cNvSpPr/>
          <p:nvPr/>
        </p:nvSpPr>
        <p:spPr>
          <a:xfrm>
            <a:off x="4183560" y="2710440"/>
            <a:ext cx="1272960" cy="1084680"/>
          </a:xfrm>
          <a:prstGeom prst="ellipse">
            <a:avLst/>
          </a:prstGeom>
          <a:gradFill rotWithShape="0">
            <a:gsLst>
              <a:gs pos="0">
                <a:srgbClr val="339933"/>
              </a:gs>
              <a:gs pos="100000">
                <a:srgbClr val="70d34d"/>
              </a:gs>
            </a:gsLst>
            <a:lin ang="13500000"/>
          </a:gradFill>
          <a:ln w="1905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fov="0" prst="perspectiveRelaxed">
              <a:rot lat="17400000" lon="0" rev="0"/>
            </a:camera>
            <a:lightRig dir="t" rig="glow"/>
          </a:scene3d>
          <a:sp3d extrusionH="1352550" prstMaterial="metal">
            <a:bevelT prst="coolSlant" w="0" h="0"/>
            <a:extrusionClr>
              <a:srgbClr val="339933"/>
            </a:extrusionClr>
            <a:contourClr>
              <a:schemeClr val="bg1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2" name="椭圆 62"/>
          <p:cNvSpPr/>
          <p:nvPr/>
        </p:nvSpPr>
        <p:spPr>
          <a:xfrm>
            <a:off x="6643800" y="1415520"/>
            <a:ext cx="1356840" cy="1155960"/>
          </a:xfrm>
          <a:prstGeom prst="ellipse">
            <a:avLst/>
          </a:prstGeom>
          <a:gradFill rotWithShape="0">
            <a:gsLst>
              <a:gs pos="94000">
                <a:srgbClr val="ffffff">
                  <a:alpha val="15294"/>
                </a:srgbClr>
              </a:gs>
              <a:gs pos="100000">
                <a:srgbClr val="ffffff">
                  <a:alpha val="0"/>
                </a:srgbClr>
              </a:gs>
            </a:gsLst>
            <a:lin ang="18900000"/>
          </a:gradFill>
          <a:ln w="1905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fov="0" prst="perspectiveRelaxed">
              <a:rot lat="17400000" lon="0" rev="0"/>
            </a:camera>
            <a:lightRig dir="t" rig="balanced"/>
          </a:scene3d>
          <a:sp3d extrusionH="2540000" prstMaterial="clear">
            <a:extrusionClr>
              <a:schemeClr val="bg1"/>
            </a:extrusionClr>
            <a:contourClr>
              <a:schemeClr val="bg1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3" name="椭圆 63"/>
          <p:cNvSpPr/>
          <p:nvPr/>
        </p:nvSpPr>
        <p:spPr>
          <a:xfrm>
            <a:off x="6684120" y="1986840"/>
            <a:ext cx="1272960" cy="1084680"/>
          </a:xfrm>
          <a:prstGeom prst="ellipse">
            <a:avLst/>
          </a:pr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13500000"/>
          </a:gradFill>
          <a:ln w="19050">
            <a:noFill/>
          </a:ln>
          <a:effectLst>
            <a:outerShdw algn="ctr" blurRad="44280" dir="5400000" dist="28080">
              <a:srgbClr val="000000">
                <a:alpha val="32000"/>
              </a:srgbClr>
            </a:outerShdw>
          </a:effectLst>
          <a:scene3d>
            <a:camera fov="0" prst="perspectiveRelaxed">
              <a:rot lat="17400000" lon="0" rev="0"/>
            </a:camera>
            <a:lightRig dir="t" rig="glow"/>
          </a:scene3d>
          <a:sp3d extrusionH="2159000" prstMaterial="metal">
            <a:bevelT prst="coolSlant" w="0" h="0"/>
            <a:extrusionClr>
              <a:srgbClr val="0070c0"/>
            </a:extrusionClr>
            <a:contourClr>
              <a:schemeClr val="bg1"/>
            </a:contourClr>
          </a:sp3d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44" name="组合 2275"/>
          <p:cNvGrpSpPr/>
          <p:nvPr/>
        </p:nvGrpSpPr>
        <p:grpSpPr>
          <a:xfrm>
            <a:off x="4230720" y="961560"/>
            <a:ext cx="1188000" cy="1181160"/>
            <a:chOff x="4230720" y="961560"/>
            <a:chExt cx="1188000" cy="1181160"/>
          </a:xfrm>
        </p:grpSpPr>
        <p:grpSp>
          <p:nvGrpSpPr>
            <p:cNvPr id="145" name="组合 35"/>
            <p:cNvGrpSpPr/>
            <p:nvPr/>
          </p:nvGrpSpPr>
          <p:grpSpPr>
            <a:xfrm>
              <a:off x="4230720" y="961560"/>
              <a:ext cx="1188000" cy="1181160"/>
              <a:chOff x="4230720" y="961560"/>
              <a:chExt cx="1188000" cy="1181160"/>
            </a:xfrm>
          </p:grpSpPr>
          <p:sp>
            <p:nvSpPr>
              <p:cNvPr id="146" name="椭圆 67"/>
              <p:cNvSpPr/>
              <p:nvPr/>
            </p:nvSpPr>
            <p:spPr>
              <a:xfrm>
                <a:off x="4230720" y="961560"/>
                <a:ext cx="1188000" cy="1181160"/>
              </a:xfrm>
              <a:prstGeom prst="ellipse">
                <a:avLst/>
              </a:prstGeom>
              <a:gradFill rotWithShape="0">
                <a:gsLst>
                  <a:gs pos="0">
                    <a:srgbClr val="70d34d"/>
                  </a:gs>
                  <a:gs pos="83000">
                    <a:srgbClr val="339933"/>
                  </a:gs>
                  <a:gs pos="100000">
                    <a:srgbClr val="339933"/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  <a:effectLst>
                <a:glow rad="101520">
                  <a:srgbClr val="a8e034">
                    <a:alpha val="4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47" name="椭圆 68"/>
              <p:cNvSpPr/>
              <p:nvPr/>
            </p:nvSpPr>
            <p:spPr>
              <a:xfrm>
                <a:off x="4346640" y="1105560"/>
                <a:ext cx="651240" cy="533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48" name="Text Box 39"/>
            <p:cNvSpPr/>
            <p:nvPr/>
          </p:nvSpPr>
          <p:spPr>
            <a:xfrm>
              <a:off x="4233240" y="1251000"/>
              <a:ext cx="1179000" cy="747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组合 2280"/>
          <p:cNvGrpSpPr/>
          <p:nvPr/>
        </p:nvGrpSpPr>
        <p:grpSpPr>
          <a:xfrm>
            <a:off x="1545480" y="979920"/>
            <a:ext cx="1188000" cy="1181160"/>
            <a:chOff x="1545480" y="979920"/>
            <a:chExt cx="1188000" cy="1181160"/>
          </a:xfrm>
        </p:grpSpPr>
        <p:grpSp>
          <p:nvGrpSpPr>
            <p:cNvPr id="150" name="组合 35"/>
            <p:cNvGrpSpPr/>
            <p:nvPr/>
          </p:nvGrpSpPr>
          <p:grpSpPr>
            <a:xfrm>
              <a:off x="1545480" y="979920"/>
              <a:ext cx="1188000" cy="1181160"/>
              <a:chOff x="1545480" y="979920"/>
              <a:chExt cx="1188000" cy="1181160"/>
            </a:xfrm>
          </p:grpSpPr>
          <p:sp>
            <p:nvSpPr>
              <p:cNvPr id="151" name="椭圆 72"/>
              <p:cNvSpPr/>
              <p:nvPr/>
            </p:nvSpPr>
            <p:spPr>
              <a:xfrm>
                <a:off x="1545480" y="979920"/>
                <a:ext cx="1188000" cy="1181160"/>
              </a:xfrm>
              <a:prstGeom prst="ellipse">
                <a:avLst/>
              </a:prstGeom>
              <a:gradFill rotWithShape="0">
                <a:gsLst>
                  <a:gs pos="0">
                    <a:srgbClr val="ffc000"/>
                  </a:gs>
                  <a:gs pos="83000">
                    <a:srgbClr val="e46c0a"/>
                  </a:gs>
                  <a:gs pos="100000">
                    <a:srgbClr val="e46c0a"/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  <a:effectLst>
                <a:glow rad="101520">
                  <a:srgbClr val="ff953e">
                    <a:alpha val="4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2" name="椭圆 73"/>
              <p:cNvSpPr/>
              <p:nvPr/>
            </p:nvSpPr>
            <p:spPr>
              <a:xfrm>
                <a:off x="1661400" y="1123920"/>
                <a:ext cx="651240" cy="533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53" name="Text Box 39"/>
            <p:cNvSpPr/>
            <p:nvPr/>
          </p:nvSpPr>
          <p:spPr>
            <a:xfrm>
              <a:off x="1547640" y="1269720"/>
              <a:ext cx="1179000" cy="747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2285"/>
          <p:cNvGrpSpPr/>
          <p:nvPr/>
        </p:nvGrpSpPr>
        <p:grpSpPr>
          <a:xfrm>
            <a:off x="6715080" y="889920"/>
            <a:ext cx="1188000" cy="1181160"/>
            <a:chOff x="6715080" y="889920"/>
            <a:chExt cx="1188000" cy="1181160"/>
          </a:xfrm>
        </p:grpSpPr>
        <p:grpSp>
          <p:nvGrpSpPr>
            <p:cNvPr id="155" name="组合 35"/>
            <p:cNvGrpSpPr/>
            <p:nvPr/>
          </p:nvGrpSpPr>
          <p:grpSpPr>
            <a:xfrm>
              <a:off x="6715080" y="889920"/>
              <a:ext cx="1188000" cy="1181160"/>
              <a:chOff x="6715080" y="889920"/>
              <a:chExt cx="1188000" cy="1181160"/>
            </a:xfrm>
          </p:grpSpPr>
          <p:sp>
            <p:nvSpPr>
              <p:cNvPr id="156" name="椭圆 77"/>
              <p:cNvSpPr/>
              <p:nvPr/>
            </p:nvSpPr>
            <p:spPr>
              <a:xfrm>
                <a:off x="6715080" y="889920"/>
                <a:ext cx="1188000" cy="1181160"/>
              </a:xfrm>
              <a:prstGeom prst="ellipse">
                <a:avLst/>
              </a:prstGeom>
              <a:gradFill rotWithShape="0">
                <a:gsLst>
                  <a:gs pos="0">
                    <a:srgbClr val="00b0f0"/>
                  </a:gs>
                  <a:gs pos="83000">
                    <a:srgbClr val="0070c0"/>
                  </a:gs>
                  <a:gs pos="100000">
                    <a:srgbClr val="0070c0"/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  <a:effectLst>
                <a:glow rad="101520">
                  <a:srgbClr val="1dc7f4">
                    <a:alpha val="40000"/>
                  </a:srgbClr>
                </a:glow>
              </a:effectLst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57" name="椭圆 78"/>
              <p:cNvSpPr/>
              <p:nvPr/>
            </p:nvSpPr>
            <p:spPr>
              <a:xfrm>
                <a:off x="6831000" y="1033920"/>
                <a:ext cx="651240" cy="53316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3137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path path="circle">
                  <a:fillToRect l="50000" t="50000" r="50000" b="50000"/>
                </a:path>
              </a:gra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58" name="Text Box 39"/>
            <p:cNvSpPr/>
            <p:nvPr/>
          </p:nvSpPr>
          <p:spPr>
            <a:xfrm>
              <a:off x="6717600" y="1179720"/>
              <a:ext cx="1179000" cy="747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20000"/>
                </a:lnSpc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等腰三角形 79"/>
          <p:cNvSpPr/>
          <p:nvPr/>
        </p:nvSpPr>
        <p:spPr>
          <a:xfrm rot="5400000">
            <a:off x="3203280" y="2963160"/>
            <a:ext cx="496800" cy="428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0"/>
          </a:gradFill>
          <a:ln w="38100">
            <a:solidFill>
              <a:srgbClr val="ffffff"/>
            </a:solidFill>
            <a:round/>
          </a:ln>
          <a:scene3d>
            <a:camera prst="orthographicFront"/>
            <a:lightRig dir="t" rig="balanced"/>
          </a:scene3d>
          <a:sp3d extrusionH="635000" prstMaterial="plastic">
            <a:bevelT prst="softRound" w="285750" h="50800"/>
            <a:bevelB prst="softRound" w="88900" h="3111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0" name="等腰三角形 80"/>
          <p:cNvSpPr/>
          <p:nvPr/>
        </p:nvSpPr>
        <p:spPr>
          <a:xfrm rot="5400000">
            <a:off x="5824080" y="2963160"/>
            <a:ext cx="496800" cy="4284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9933"/>
              </a:gs>
              <a:gs pos="100000">
                <a:srgbClr val="70d34d"/>
              </a:gs>
            </a:gsLst>
            <a:lin ang="0"/>
          </a:gradFill>
          <a:ln w="38100">
            <a:solidFill>
              <a:srgbClr val="ffffff"/>
            </a:solidFill>
            <a:round/>
          </a:ln>
          <a:scene3d>
            <a:camera prst="orthographicFront"/>
            <a:lightRig dir="t" rig="balanced"/>
          </a:scene3d>
          <a:sp3d extrusionH="635000" prstMaterial="plastic">
            <a:bevelT prst="softRound" w="285750" h="50800"/>
            <a:bevelB prst="softRound" w="88900" h="3111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Box 1"/>
          <p:cNvSpPr/>
          <p:nvPr/>
        </p:nvSpPr>
        <p:spPr>
          <a:xfrm>
            <a:off x="465480" y="1810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弧形 75"/>
          <p:cNvSpPr/>
          <p:nvPr/>
        </p:nvSpPr>
        <p:spPr>
          <a:xfrm rot="-600">
            <a:off x="1829520" y="2654640"/>
            <a:ext cx="5976000" cy="2815560"/>
          </a:xfrm>
          <a:prstGeom prst="arc">
            <a:avLst>
              <a:gd name="adj1" fmla="val 16200000"/>
              <a:gd name="adj2" fmla="val 9570198"/>
            </a:avLst>
          </a:prstGeom>
          <a:gradFill rotWithShape="0">
            <a:gsLst>
              <a:gs pos="0">
                <a:srgbClr val="0070c0"/>
              </a:gs>
              <a:gs pos="50000">
                <a:srgbClr val="00b0f0"/>
              </a:gs>
              <a:gs pos="100000">
                <a:srgbClr val="0070c0"/>
              </a:gs>
            </a:gsLst>
            <a:lin ang="5400000"/>
          </a:gradFill>
          <a:ln w="34925">
            <a:solidFill>
              <a:srgbClr val="ffffff"/>
            </a:solidFill>
            <a:round/>
          </a:ln>
          <a:effectLst>
            <a:outerShdw algn="ctr" blurRad="317520" dir="0">
              <a:srgbClr val="000000">
                <a:alpha val="43000"/>
              </a:srgbClr>
            </a:outerShdw>
          </a:effectLst>
          <a:scene3d>
            <a:camera fov="2700000" prst="perspectiveFront">
              <a:rot lat="18850391" lon="18810187" rev="2386796"/>
            </a:camera>
            <a:lightRig dir="t" rig="balanced"/>
          </a:scene3d>
          <a:sp3d extrusionH="101600" prstMaterial="plastic">
            <a:bevelT prst="softRound" w="260350" h="50800"/>
            <a:bevelB prst="softRound" w="88900" h="1968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63" name="饼形 81"/>
          <p:cNvSpPr/>
          <p:nvPr/>
        </p:nvSpPr>
        <p:spPr>
          <a:xfrm rot="-13683600">
            <a:off x="1994040" y="2568240"/>
            <a:ext cx="4248720" cy="4053240"/>
          </a:xfrm>
          <a:prstGeom prst="pie">
            <a:avLst>
              <a:gd name="adj1" fmla="val 4305281"/>
              <a:gd name="adj2" fmla="val 8716710"/>
            </a:avLst>
          </a:prstGeom>
          <a:gradFill rotWithShape="0">
            <a:gsLst>
              <a:gs pos="0">
                <a:srgbClr val="ffc000"/>
              </a:gs>
              <a:gs pos="100000">
                <a:srgbClr val="e46c0a"/>
              </a:gs>
            </a:gsLst>
            <a:lin ang="5214000"/>
          </a:gradFill>
          <a:ln w="34925">
            <a:solidFill>
              <a:srgbClr val="ffffff"/>
            </a:solidFill>
            <a:round/>
          </a:ln>
          <a:effectLst>
            <a:outerShdw algn="ctr" blurRad="50760" dir="5400000" dist="50760" rotWithShape="0">
              <a:schemeClr val="bg1">
                <a:lumMod val="85000"/>
              </a:schemeClr>
            </a:outerShdw>
          </a:effectLst>
          <a:scene3d>
            <a:camera fov="2700000" prst="perspectiveFront">
              <a:rot lat="1855846" lon="4106568" rev="1830805"/>
            </a:camera>
            <a:lightRig dir="t" rig="threePt"/>
          </a:scene3d>
          <a:sp3d extrusionH="101600" prstMaterial="metal">
            <a:bevelT w="260350" h="50800"/>
            <a:bevelB prst="softRound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饼形 82"/>
          <p:cNvSpPr/>
          <p:nvPr/>
        </p:nvSpPr>
        <p:spPr>
          <a:xfrm rot="-1581600">
            <a:off x="778680" y="1185480"/>
            <a:ext cx="3978720" cy="3795840"/>
          </a:xfrm>
          <a:prstGeom prst="pie">
            <a:avLst>
              <a:gd name="adj1" fmla="val 4568378"/>
              <a:gd name="adj2" fmla="val 8382975"/>
            </a:avLst>
          </a:prstGeom>
          <a:gradFill rotWithShape="0">
            <a:gsLst>
              <a:gs pos="0">
                <a:srgbClr val="92d050"/>
              </a:gs>
              <a:gs pos="100000">
                <a:srgbClr val="9bbb59"/>
              </a:gs>
            </a:gsLst>
            <a:lin ang="17316000"/>
          </a:gradFill>
          <a:ln w="34925">
            <a:solidFill>
              <a:srgbClr val="ffffff"/>
            </a:solidFill>
            <a:round/>
          </a:ln>
          <a:effectLst>
            <a:outerShdw algn="ctr" blurRad="50760" dir="5400000" dist="50760" rotWithShape="0">
              <a:schemeClr val="bg1">
                <a:lumMod val="85000"/>
              </a:schemeClr>
            </a:outerShdw>
          </a:effectLst>
          <a:scene3d>
            <a:camera fov="2700000" prst="perspectiveFront">
              <a:rot lat="20546117" lon="4231971" rev="15251782"/>
            </a:camera>
            <a:lightRig dir="t" rig="threePt"/>
          </a:scene3d>
          <a:sp3d extrusionH="101600" prstMaterial="plastic">
            <a:bevelT w="260350" h="50800"/>
            <a:bevelB prst="softRound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2" descr="I:\f\PPT库\剪影人物\16.png"/>
          <p:cNvPicPr/>
          <p:nvPr/>
        </p:nvPicPr>
        <p:blipFill>
          <a:blip r:embed="rId1"/>
          <a:stretch/>
        </p:blipFill>
        <p:spPr>
          <a:xfrm>
            <a:off x="2179080" y="1647000"/>
            <a:ext cx="903240" cy="2778120"/>
          </a:xfrm>
          <a:prstGeom prst="rect">
            <a:avLst/>
          </a:prstGeom>
          <a:ln w="0">
            <a:noFill/>
          </a:ln>
          <a:effectLst>
            <a:reflection algn="bl" blurRad="6350" dir="5400000" dist="50800" endA="300" endPos="38500" rotWithShape="0" stA="50000" sy="-100000"/>
          </a:effectLst>
        </p:spPr>
      </p:pic>
      <p:pic>
        <p:nvPicPr>
          <p:cNvPr id="166" name="Picture 3" descr="I:\f\PPT库\剪影人物\167.png"/>
          <p:cNvPicPr/>
          <p:nvPr/>
        </p:nvPicPr>
        <p:blipFill>
          <a:blip r:embed="rId2"/>
          <a:stretch/>
        </p:blipFill>
        <p:spPr>
          <a:xfrm>
            <a:off x="3292200" y="1791000"/>
            <a:ext cx="685800" cy="185868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67" name="Picture 4" descr="I:\f\PPT库\剪影人物\191.png"/>
          <p:cNvPicPr/>
          <p:nvPr/>
        </p:nvPicPr>
        <p:blipFill>
          <a:blip r:embed="rId3"/>
          <a:stretch/>
        </p:blipFill>
        <p:spPr>
          <a:xfrm>
            <a:off x="5222160" y="1308960"/>
            <a:ext cx="1088280" cy="325080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168" name="TextBox 86"/>
          <p:cNvSpPr/>
          <p:nvPr/>
        </p:nvSpPr>
        <p:spPr>
          <a:xfrm>
            <a:off x="992880" y="2158920"/>
            <a:ext cx="1411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87"/>
          <p:cNvSpPr/>
          <p:nvPr/>
        </p:nvSpPr>
        <p:spPr>
          <a:xfrm>
            <a:off x="3002040" y="1394640"/>
            <a:ext cx="1411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8"/>
          <p:cNvSpPr/>
          <p:nvPr/>
        </p:nvSpPr>
        <p:spPr>
          <a:xfrm>
            <a:off x="6251040" y="1575720"/>
            <a:ext cx="14119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标注</a:t>
            </a: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465480" y="1810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18"/>
          <p:cNvGrpSpPr/>
          <p:nvPr/>
        </p:nvGrpSpPr>
        <p:grpSpPr>
          <a:xfrm>
            <a:off x="991800" y="1050120"/>
            <a:ext cx="4031280" cy="4008600"/>
            <a:chOff x="991800" y="1050120"/>
            <a:chExt cx="4031280" cy="4008600"/>
          </a:xfrm>
        </p:grpSpPr>
        <p:sp>
          <p:nvSpPr>
            <p:cNvPr id="173" name="Freeform 2"/>
            <p:cNvSpPr/>
            <p:nvPr/>
          </p:nvSpPr>
          <p:spPr>
            <a:xfrm>
              <a:off x="2349720" y="2398320"/>
              <a:ext cx="1310040" cy="1597320"/>
            </a:xfrm>
            <a:custGeom>
              <a:avLst/>
              <a:gdLst>
                <a:gd name="textAreaLeft" fmla="*/ 0 w 1310040"/>
                <a:gd name="textAreaRight" fmla="*/ 1310400 w 1310040"/>
                <a:gd name="textAreaTop" fmla="*/ 0 h 1597320"/>
                <a:gd name="textAreaBottom" fmla="*/ 1597680 h 1597320"/>
              </a:gdLst>
              <a:ahLst/>
              <a:rect l="textAreaLeft" t="textAreaTop" r="textAreaRight" b="textAreaBottom"/>
              <a:pathLst>
                <a:path w="689" h="840">
                  <a:moveTo>
                    <a:pt x="0" y="0"/>
                  </a:moveTo>
                  <a:lnTo>
                    <a:pt x="293" y="0"/>
                  </a:lnTo>
                  <a:lnTo>
                    <a:pt x="299" y="10"/>
                  </a:lnTo>
                  <a:lnTo>
                    <a:pt x="297" y="21"/>
                  </a:lnTo>
                  <a:lnTo>
                    <a:pt x="293" y="34"/>
                  </a:lnTo>
                  <a:lnTo>
                    <a:pt x="285" y="46"/>
                  </a:lnTo>
                  <a:lnTo>
                    <a:pt x="267" y="60"/>
                  </a:lnTo>
                  <a:lnTo>
                    <a:pt x="266" y="73"/>
                  </a:lnTo>
                  <a:lnTo>
                    <a:pt x="263" y="93"/>
                  </a:lnTo>
                  <a:lnTo>
                    <a:pt x="264" y="105"/>
                  </a:lnTo>
                  <a:lnTo>
                    <a:pt x="267" y="115"/>
                  </a:lnTo>
                  <a:lnTo>
                    <a:pt x="276" y="132"/>
                  </a:lnTo>
                  <a:lnTo>
                    <a:pt x="291" y="141"/>
                  </a:lnTo>
                  <a:lnTo>
                    <a:pt x="306" y="147"/>
                  </a:lnTo>
                  <a:lnTo>
                    <a:pt x="330" y="153"/>
                  </a:lnTo>
                  <a:lnTo>
                    <a:pt x="347" y="151"/>
                  </a:lnTo>
                  <a:lnTo>
                    <a:pt x="366" y="154"/>
                  </a:lnTo>
                  <a:lnTo>
                    <a:pt x="384" y="147"/>
                  </a:lnTo>
                  <a:lnTo>
                    <a:pt x="398" y="139"/>
                  </a:lnTo>
                  <a:lnTo>
                    <a:pt x="417" y="130"/>
                  </a:lnTo>
                  <a:lnTo>
                    <a:pt x="422" y="120"/>
                  </a:lnTo>
                  <a:lnTo>
                    <a:pt x="426" y="111"/>
                  </a:lnTo>
                  <a:lnTo>
                    <a:pt x="431" y="99"/>
                  </a:lnTo>
                  <a:lnTo>
                    <a:pt x="432" y="84"/>
                  </a:lnTo>
                  <a:lnTo>
                    <a:pt x="426" y="69"/>
                  </a:lnTo>
                  <a:lnTo>
                    <a:pt x="417" y="55"/>
                  </a:lnTo>
                  <a:lnTo>
                    <a:pt x="404" y="42"/>
                  </a:lnTo>
                  <a:lnTo>
                    <a:pt x="399" y="33"/>
                  </a:lnTo>
                  <a:lnTo>
                    <a:pt x="393" y="24"/>
                  </a:lnTo>
                  <a:lnTo>
                    <a:pt x="393" y="12"/>
                  </a:lnTo>
                  <a:lnTo>
                    <a:pt x="399" y="3"/>
                  </a:lnTo>
                  <a:lnTo>
                    <a:pt x="411" y="0"/>
                  </a:lnTo>
                  <a:lnTo>
                    <a:pt x="689" y="0"/>
                  </a:lnTo>
                  <a:lnTo>
                    <a:pt x="689" y="292"/>
                  </a:lnTo>
                  <a:lnTo>
                    <a:pt x="680" y="298"/>
                  </a:lnTo>
                  <a:lnTo>
                    <a:pt x="665" y="297"/>
                  </a:lnTo>
                  <a:lnTo>
                    <a:pt x="651" y="292"/>
                  </a:lnTo>
                  <a:lnTo>
                    <a:pt x="636" y="274"/>
                  </a:lnTo>
                  <a:lnTo>
                    <a:pt x="621" y="268"/>
                  </a:lnTo>
                  <a:lnTo>
                    <a:pt x="608" y="264"/>
                  </a:lnTo>
                  <a:lnTo>
                    <a:pt x="597" y="264"/>
                  </a:lnTo>
                  <a:lnTo>
                    <a:pt x="584" y="265"/>
                  </a:lnTo>
                  <a:lnTo>
                    <a:pt x="563" y="276"/>
                  </a:lnTo>
                  <a:lnTo>
                    <a:pt x="549" y="288"/>
                  </a:lnTo>
                  <a:lnTo>
                    <a:pt x="542" y="306"/>
                  </a:lnTo>
                  <a:lnTo>
                    <a:pt x="539" y="324"/>
                  </a:lnTo>
                  <a:lnTo>
                    <a:pt x="539" y="346"/>
                  </a:lnTo>
                  <a:lnTo>
                    <a:pt x="539" y="360"/>
                  </a:lnTo>
                  <a:lnTo>
                    <a:pt x="540" y="372"/>
                  </a:lnTo>
                  <a:lnTo>
                    <a:pt x="543" y="384"/>
                  </a:lnTo>
                  <a:lnTo>
                    <a:pt x="554" y="406"/>
                  </a:lnTo>
                  <a:lnTo>
                    <a:pt x="567" y="423"/>
                  </a:lnTo>
                  <a:lnTo>
                    <a:pt x="588" y="430"/>
                  </a:lnTo>
                  <a:lnTo>
                    <a:pt x="606" y="430"/>
                  </a:lnTo>
                  <a:lnTo>
                    <a:pt x="627" y="426"/>
                  </a:lnTo>
                  <a:lnTo>
                    <a:pt x="635" y="418"/>
                  </a:lnTo>
                  <a:lnTo>
                    <a:pt x="648" y="406"/>
                  </a:lnTo>
                  <a:lnTo>
                    <a:pt x="663" y="399"/>
                  </a:lnTo>
                  <a:lnTo>
                    <a:pt x="678" y="397"/>
                  </a:lnTo>
                  <a:lnTo>
                    <a:pt x="689" y="406"/>
                  </a:lnTo>
                  <a:lnTo>
                    <a:pt x="689" y="688"/>
                  </a:lnTo>
                  <a:lnTo>
                    <a:pt x="407" y="688"/>
                  </a:lnTo>
                  <a:lnTo>
                    <a:pt x="398" y="694"/>
                  </a:lnTo>
                  <a:lnTo>
                    <a:pt x="392" y="714"/>
                  </a:lnTo>
                  <a:lnTo>
                    <a:pt x="398" y="729"/>
                  </a:lnTo>
                  <a:lnTo>
                    <a:pt x="411" y="741"/>
                  </a:lnTo>
                  <a:lnTo>
                    <a:pt x="417" y="750"/>
                  </a:lnTo>
                  <a:lnTo>
                    <a:pt x="425" y="759"/>
                  </a:lnTo>
                  <a:lnTo>
                    <a:pt x="431" y="778"/>
                  </a:lnTo>
                  <a:lnTo>
                    <a:pt x="428" y="793"/>
                  </a:lnTo>
                  <a:lnTo>
                    <a:pt x="417" y="817"/>
                  </a:lnTo>
                  <a:lnTo>
                    <a:pt x="408" y="825"/>
                  </a:lnTo>
                  <a:lnTo>
                    <a:pt x="393" y="832"/>
                  </a:lnTo>
                  <a:lnTo>
                    <a:pt x="381" y="835"/>
                  </a:lnTo>
                  <a:lnTo>
                    <a:pt x="365" y="838"/>
                  </a:lnTo>
                  <a:lnTo>
                    <a:pt x="345" y="840"/>
                  </a:lnTo>
                  <a:lnTo>
                    <a:pt x="333" y="838"/>
                  </a:lnTo>
                  <a:lnTo>
                    <a:pt x="314" y="835"/>
                  </a:lnTo>
                  <a:lnTo>
                    <a:pt x="297" y="831"/>
                  </a:lnTo>
                  <a:lnTo>
                    <a:pt x="288" y="822"/>
                  </a:lnTo>
                  <a:lnTo>
                    <a:pt x="276" y="813"/>
                  </a:lnTo>
                  <a:lnTo>
                    <a:pt x="272" y="799"/>
                  </a:lnTo>
                  <a:lnTo>
                    <a:pt x="264" y="787"/>
                  </a:lnTo>
                  <a:lnTo>
                    <a:pt x="267" y="768"/>
                  </a:lnTo>
                  <a:lnTo>
                    <a:pt x="272" y="750"/>
                  </a:lnTo>
                  <a:lnTo>
                    <a:pt x="278" y="742"/>
                  </a:lnTo>
                  <a:lnTo>
                    <a:pt x="291" y="735"/>
                  </a:lnTo>
                  <a:lnTo>
                    <a:pt x="296" y="726"/>
                  </a:lnTo>
                  <a:lnTo>
                    <a:pt x="300" y="717"/>
                  </a:lnTo>
                  <a:lnTo>
                    <a:pt x="302" y="702"/>
                  </a:lnTo>
                  <a:lnTo>
                    <a:pt x="290" y="688"/>
                  </a:lnTo>
                  <a:lnTo>
                    <a:pt x="0" y="688"/>
                  </a:lnTo>
                  <a:lnTo>
                    <a:pt x="0" y="403"/>
                  </a:lnTo>
                  <a:lnTo>
                    <a:pt x="9" y="391"/>
                  </a:lnTo>
                  <a:lnTo>
                    <a:pt x="23" y="393"/>
                  </a:lnTo>
                  <a:lnTo>
                    <a:pt x="35" y="400"/>
                  </a:lnTo>
                  <a:lnTo>
                    <a:pt x="48" y="411"/>
                  </a:lnTo>
                  <a:lnTo>
                    <a:pt x="63" y="424"/>
                  </a:lnTo>
                  <a:lnTo>
                    <a:pt x="77" y="426"/>
                  </a:lnTo>
                  <a:lnTo>
                    <a:pt x="90" y="429"/>
                  </a:lnTo>
                  <a:lnTo>
                    <a:pt x="102" y="427"/>
                  </a:lnTo>
                  <a:lnTo>
                    <a:pt x="111" y="423"/>
                  </a:lnTo>
                  <a:lnTo>
                    <a:pt x="123" y="417"/>
                  </a:lnTo>
                  <a:lnTo>
                    <a:pt x="131" y="409"/>
                  </a:lnTo>
                  <a:lnTo>
                    <a:pt x="143" y="399"/>
                  </a:lnTo>
                  <a:lnTo>
                    <a:pt x="149" y="375"/>
                  </a:lnTo>
                  <a:lnTo>
                    <a:pt x="152" y="355"/>
                  </a:lnTo>
                  <a:lnTo>
                    <a:pt x="150" y="334"/>
                  </a:lnTo>
                  <a:lnTo>
                    <a:pt x="147" y="321"/>
                  </a:lnTo>
                  <a:lnTo>
                    <a:pt x="144" y="303"/>
                  </a:lnTo>
                  <a:lnTo>
                    <a:pt x="134" y="289"/>
                  </a:lnTo>
                  <a:lnTo>
                    <a:pt x="128" y="280"/>
                  </a:lnTo>
                  <a:lnTo>
                    <a:pt x="120" y="270"/>
                  </a:lnTo>
                  <a:lnTo>
                    <a:pt x="98" y="259"/>
                  </a:lnTo>
                  <a:lnTo>
                    <a:pt x="83" y="261"/>
                  </a:lnTo>
                  <a:lnTo>
                    <a:pt x="69" y="264"/>
                  </a:lnTo>
                  <a:lnTo>
                    <a:pt x="57" y="271"/>
                  </a:lnTo>
                  <a:lnTo>
                    <a:pt x="48" y="277"/>
                  </a:lnTo>
                  <a:lnTo>
                    <a:pt x="39" y="283"/>
                  </a:lnTo>
                  <a:lnTo>
                    <a:pt x="27" y="292"/>
                  </a:lnTo>
                  <a:lnTo>
                    <a:pt x="12" y="297"/>
                  </a:lnTo>
                  <a:lnTo>
                    <a:pt x="0" y="285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1000">
                  <a:srgbClr val="ffc000"/>
                </a:gs>
                <a:gs pos="100000">
                  <a:srgbClr val="e46c0a"/>
                </a:gs>
              </a:gsLst>
              <a:lin ang="5400000"/>
            </a:gra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0160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40000"/>
                </a:lnSpc>
                <a:spcBef>
                  <a:spcPts val="901"/>
                </a:spcBef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4" name="Freeform 4"/>
            <p:cNvSpPr/>
            <p:nvPr/>
          </p:nvSpPr>
          <p:spPr>
            <a:xfrm>
              <a:off x="2349720" y="1050120"/>
              <a:ext cx="1597320" cy="1597320"/>
            </a:xfrm>
            <a:custGeom>
              <a:avLst/>
              <a:gdLst>
                <a:gd name="textAreaLeft" fmla="*/ 0 w 1597320"/>
                <a:gd name="textAreaRight" fmla="*/ 1597680 w 1597320"/>
                <a:gd name="textAreaTop" fmla="*/ 0 h 1597320"/>
                <a:gd name="textAreaBottom" fmla="*/ 1597680 h 1597320"/>
              </a:gdLst>
              <a:ahLst/>
              <a:rect l="textAreaLeft" t="textAreaTop" r="textAreaRight" b="textAreaBottom"/>
              <a:pathLst>
                <a:path w="840" h="840">
                  <a:moveTo>
                    <a:pt x="690" y="0"/>
                  </a:moveTo>
                  <a:cubicBezTo>
                    <a:pt x="690" y="77"/>
                    <a:pt x="690" y="172"/>
                    <a:pt x="690" y="286"/>
                  </a:cubicBezTo>
                  <a:cubicBezTo>
                    <a:pt x="712" y="338"/>
                    <a:pt x="712" y="276"/>
                    <a:pt x="768" y="272"/>
                  </a:cubicBezTo>
                  <a:cubicBezTo>
                    <a:pt x="824" y="268"/>
                    <a:pt x="840" y="290"/>
                    <a:pt x="840" y="342"/>
                  </a:cubicBezTo>
                  <a:cubicBezTo>
                    <a:pt x="840" y="394"/>
                    <a:pt x="832" y="422"/>
                    <a:pt x="774" y="424"/>
                  </a:cubicBezTo>
                  <a:cubicBezTo>
                    <a:pt x="716" y="426"/>
                    <a:pt x="726" y="364"/>
                    <a:pt x="690" y="394"/>
                  </a:cubicBezTo>
                  <a:cubicBezTo>
                    <a:pt x="690" y="434"/>
                    <a:pt x="688" y="598"/>
                    <a:pt x="690" y="688"/>
                  </a:cubicBezTo>
                  <a:cubicBezTo>
                    <a:pt x="690" y="688"/>
                    <a:pt x="455" y="688"/>
                    <a:pt x="406" y="688"/>
                  </a:cubicBezTo>
                  <a:cubicBezTo>
                    <a:pt x="371" y="720"/>
                    <a:pt x="429" y="729"/>
                    <a:pt x="432" y="773"/>
                  </a:cubicBezTo>
                  <a:cubicBezTo>
                    <a:pt x="435" y="817"/>
                    <a:pt x="396" y="840"/>
                    <a:pt x="345" y="840"/>
                  </a:cubicBezTo>
                  <a:cubicBezTo>
                    <a:pt x="294" y="840"/>
                    <a:pt x="263" y="818"/>
                    <a:pt x="263" y="775"/>
                  </a:cubicBezTo>
                  <a:cubicBezTo>
                    <a:pt x="263" y="732"/>
                    <a:pt x="316" y="730"/>
                    <a:pt x="294" y="688"/>
                  </a:cubicBezTo>
                  <a:cubicBezTo>
                    <a:pt x="153" y="688"/>
                    <a:pt x="59" y="688"/>
                    <a:pt x="0" y="688"/>
                  </a:cubicBezTo>
                  <a:cubicBezTo>
                    <a:pt x="0" y="622"/>
                    <a:pt x="0" y="442"/>
                    <a:pt x="0" y="400"/>
                  </a:cubicBezTo>
                  <a:cubicBezTo>
                    <a:pt x="38" y="362"/>
                    <a:pt x="47" y="425"/>
                    <a:pt x="82" y="425"/>
                  </a:cubicBezTo>
                  <a:cubicBezTo>
                    <a:pt x="117" y="425"/>
                    <a:pt x="153" y="408"/>
                    <a:pt x="152" y="346"/>
                  </a:cubicBezTo>
                  <a:cubicBezTo>
                    <a:pt x="151" y="284"/>
                    <a:pt x="124" y="272"/>
                    <a:pt x="90" y="270"/>
                  </a:cubicBezTo>
                  <a:cubicBezTo>
                    <a:pt x="56" y="268"/>
                    <a:pt x="26" y="344"/>
                    <a:pt x="2" y="289"/>
                  </a:cubicBezTo>
                  <a:cubicBezTo>
                    <a:pt x="2" y="145"/>
                    <a:pt x="2" y="1"/>
                    <a:pt x="2" y="1"/>
                  </a:cubicBezTo>
                  <a:cubicBezTo>
                    <a:pt x="116" y="2"/>
                    <a:pt x="554" y="1"/>
                    <a:pt x="690" y="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ffc000"/>
                </a:gs>
                <a:gs pos="100000">
                  <a:srgbClr val="e46c0a"/>
                </a:gs>
              </a:gsLst>
              <a:lin ang="5400000"/>
            </a:gra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0160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40000"/>
                </a:lnSpc>
                <a:spcBef>
                  <a:spcPts val="901"/>
                </a:spcBef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5" name="Freeform 5"/>
            <p:cNvSpPr/>
            <p:nvPr/>
          </p:nvSpPr>
          <p:spPr>
            <a:xfrm>
              <a:off x="991800" y="1053720"/>
              <a:ext cx="1593360" cy="1310040"/>
            </a:xfrm>
            <a:custGeom>
              <a:avLst/>
              <a:gdLst>
                <a:gd name="textAreaLeft" fmla="*/ 0 w 1593360"/>
                <a:gd name="textAreaRight" fmla="*/ 1593720 w 1593360"/>
                <a:gd name="textAreaTop" fmla="*/ 0 h 1310040"/>
                <a:gd name="textAreaBottom" fmla="*/ 1310400 h 1310040"/>
              </a:gdLst>
              <a:ahLst/>
              <a:rect l="textAreaLeft" t="textAreaTop" r="textAreaRight" b="textAreaBottom"/>
              <a:pathLst>
                <a:path w="838" h="692">
                  <a:moveTo>
                    <a:pt x="0" y="0"/>
                  </a:moveTo>
                  <a:lnTo>
                    <a:pt x="689" y="0"/>
                  </a:lnTo>
                  <a:cubicBezTo>
                    <a:pt x="689" y="0"/>
                    <a:pt x="690" y="248"/>
                    <a:pt x="689" y="294"/>
                  </a:cubicBezTo>
                  <a:cubicBezTo>
                    <a:pt x="718" y="340"/>
                    <a:pt x="724" y="277"/>
                    <a:pt x="771" y="271"/>
                  </a:cubicBezTo>
                  <a:cubicBezTo>
                    <a:pt x="818" y="265"/>
                    <a:pt x="838" y="302"/>
                    <a:pt x="838" y="353"/>
                  </a:cubicBezTo>
                  <a:cubicBezTo>
                    <a:pt x="838" y="404"/>
                    <a:pt x="823" y="431"/>
                    <a:pt x="778" y="433"/>
                  </a:cubicBezTo>
                  <a:cubicBezTo>
                    <a:pt x="733" y="435"/>
                    <a:pt x="715" y="370"/>
                    <a:pt x="689" y="405"/>
                  </a:cubicBezTo>
                  <a:cubicBezTo>
                    <a:pt x="689" y="547"/>
                    <a:pt x="689" y="690"/>
                    <a:pt x="689" y="690"/>
                  </a:cubicBezTo>
                  <a:cubicBezTo>
                    <a:pt x="689" y="690"/>
                    <a:pt x="438" y="692"/>
                    <a:pt x="397" y="690"/>
                  </a:cubicBezTo>
                  <a:cubicBezTo>
                    <a:pt x="367" y="651"/>
                    <a:pt x="426" y="640"/>
                    <a:pt x="426" y="605"/>
                  </a:cubicBezTo>
                  <a:cubicBezTo>
                    <a:pt x="426" y="570"/>
                    <a:pt x="408" y="539"/>
                    <a:pt x="346" y="540"/>
                  </a:cubicBezTo>
                  <a:cubicBezTo>
                    <a:pt x="284" y="541"/>
                    <a:pt x="261" y="567"/>
                    <a:pt x="261" y="606"/>
                  </a:cubicBezTo>
                  <a:cubicBezTo>
                    <a:pt x="261" y="645"/>
                    <a:pt x="322" y="648"/>
                    <a:pt x="289" y="690"/>
                  </a:cubicBezTo>
                  <a:cubicBezTo>
                    <a:pt x="145" y="690"/>
                    <a:pt x="0" y="690"/>
                    <a:pt x="0" y="69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1000">
                  <a:srgbClr val="ffc000"/>
                </a:gs>
                <a:gs pos="100000">
                  <a:srgbClr val="e46c0a"/>
                </a:gs>
              </a:gsLst>
              <a:lin ang="5400000"/>
            </a:gra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0160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40000"/>
                </a:lnSpc>
                <a:spcBef>
                  <a:spcPts val="901"/>
                </a:spcBef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6" name="Freeform 6"/>
            <p:cNvSpPr/>
            <p:nvPr/>
          </p:nvSpPr>
          <p:spPr>
            <a:xfrm>
              <a:off x="993600" y="3461400"/>
              <a:ext cx="1306080" cy="1595160"/>
            </a:xfrm>
            <a:custGeom>
              <a:avLst/>
              <a:gdLst>
                <a:gd name="textAreaLeft" fmla="*/ 0 w 1306080"/>
                <a:gd name="textAreaRight" fmla="*/ 1306440 w 1306080"/>
                <a:gd name="textAreaTop" fmla="*/ 0 h 1595160"/>
                <a:gd name="textAreaBottom" fmla="*/ 1595520 h 1595160"/>
              </a:gdLst>
              <a:ahLst/>
              <a:rect l="textAreaLeft" t="textAreaTop" r="textAreaRight" b="textAreaBottom"/>
              <a:pathLst>
                <a:path w="694" h="839">
                  <a:moveTo>
                    <a:pt x="0" y="839"/>
                  </a:moveTo>
                  <a:cubicBezTo>
                    <a:pt x="0" y="839"/>
                    <a:pt x="1" y="282"/>
                    <a:pt x="0" y="152"/>
                  </a:cubicBezTo>
                  <a:cubicBezTo>
                    <a:pt x="0" y="152"/>
                    <a:pt x="237" y="152"/>
                    <a:pt x="286" y="152"/>
                  </a:cubicBezTo>
                  <a:cubicBezTo>
                    <a:pt x="321" y="120"/>
                    <a:pt x="264" y="111"/>
                    <a:pt x="261" y="69"/>
                  </a:cubicBezTo>
                  <a:cubicBezTo>
                    <a:pt x="258" y="27"/>
                    <a:pt x="296" y="0"/>
                    <a:pt x="347" y="0"/>
                  </a:cubicBezTo>
                  <a:cubicBezTo>
                    <a:pt x="398" y="0"/>
                    <a:pt x="429" y="22"/>
                    <a:pt x="429" y="65"/>
                  </a:cubicBezTo>
                  <a:cubicBezTo>
                    <a:pt x="429" y="108"/>
                    <a:pt x="376" y="110"/>
                    <a:pt x="398" y="152"/>
                  </a:cubicBezTo>
                  <a:cubicBezTo>
                    <a:pt x="541" y="152"/>
                    <a:pt x="635" y="153"/>
                    <a:pt x="694" y="153"/>
                  </a:cubicBezTo>
                  <a:cubicBezTo>
                    <a:pt x="691" y="221"/>
                    <a:pt x="694" y="403"/>
                    <a:pt x="692" y="443"/>
                  </a:cubicBezTo>
                  <a:cubicBezTo>
                    <a:pt x="653" y="473"/>
                    <a:pt x="642" y="415"/>
                    <a:pt x="607" y="415"/>
                  </a:cubicBezTo>
                  <a:cubicBezTo>
                    <a:pt x="572" y="415"/>
                    <a:pt x="541" y="432"/>
                    <a:pt x="542" y="494"/>
                  </a:cubicBezTo>
                  <a:cubicBezTo>
                    <a:pt x="543" y="556"/>
                    <a:pt x="569" y="579"/>
                    <a:pt x="608" y="579"/>
                  </a:cubicBezTo>
                  <a:cubicBezTo>
                    <a:pt x="647" y="579"/>
                    <a:pt x="650" y="518"/>
                    <a:pt x="692" y="551"/>
                  </a:cubicBezTo>
                  <a:cubicBezTo>
                    <a:pt x="692" y="695"/>
                    <a:pt x="692" y="839"/>
                    <a:pt x="692" y="839"/>
                  </a:cubicBezTo>
                  <a:lnTo>
                    <a:pt x="0" y="839"/>
                  </a:lnTo>
                  <a:close/>
                </a:path>
              </a:pathLst>
            </a:custGeom>
            <a:gradFill rotWithShape="0">
              <a:gsLst>
                <a:gs pos="1000">
                  <a:srgbClr val="ffc000"/>
                </a:gs>
                <a:gs pos="100000">
                  <a:srgbClr val="e46c0a"/>
                </a:gs>
              </a:gsLst>
              <a:lin ang="5400000"/>
            </a:gra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0160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40000"/>
                </a:lnSpc>
                <a:spcBef>
                  <a:spcPts val="901"/>
                </a:spcBef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7" name="Freeform 7"/>
            <p:cNvSpPr/>
            <p:nvPr/>
          </p:nvSpPr>
          <p:spPr>
            <a:xfrm>
              <a:off x="2064240" y="3748680"/>
              <a:ext cx="1595160" cy="1310040"/>
            </a:xfrm>
            <a:custGeom>
              <a:avLst/>
              <a:gdLst>
                <a:gd name="textAreaLeft" fmla="*/ 0 w 1595160"/>
                <a:gd name="textAreaRight" fmla="*/ 1595520 w 1595160"/>
                <a:gd name="textAreaTop" fmla="*/ 0 h 1310040"/>
                <a:gd name="textAreaBottom" fmla="*/ 1310400 h 1310040"/>
              </a:gdLst>
              <a:ahLst/>
              <a:rect l="textAreaLeft" t="textAreaTop" r="textAreaRight" b="textAreaBottom"/>
              <a:pathLst>
                <a:path w="839" h="689">
                  <a:moveTo>
                    <a:pt x="839" y="689"/>
                  </a:moveTo>
                  <a:cubicBezTo>
                    <a:pt x="711" y="689"/>
                    <a:pt x="280" y="686"/>
                    <a:pt x="150" y="687"/>
                  </a:cubicBezTo>
                  <a:cubicBezTo>
                    <a:pt x="150" y="687"/>
                    <a:pt x="152" y="454"/>
                    <a:pt x="152" y="405"/>
                  </a:cubicBezTo>
                  <a:cubicBezTo>
                    <a:pt x="120" y="370"/>
                    <a:pt x="111" y="428"/>
                    <a:pt x="67" y="431"/>
                  </a:cubicBezTo>
                  <a:cubicBezTo>
                    <a:pt x="23" y="434"/>
                    <a:pt x="0" y="395"/>
                    <a:pt x="0" y="344"/>
                  </a:cubicBezTo>
                  <a:cubicBezTo>
                    <a:pt x="0" y="293"/>
                    <a:pt x="22" y="262"/>
                    <a:pt x="65" y="262"/>
                  </a:cubicBezTo>
                  <a:cubicBezTo>
                    <a:pt x="108" y="262"/>
                    <a:pt x="110" y="315"/>
                    <a:pt x="152" y="293"/>
                  </a:cubicBezTo>
                  <a:cubicBezTo>
                    <a:pt x="152" y="152"/>
                    <a:pt x="151" y="62"/>
                    <a:pt x="151" y="3"/>
                  </a:cubicBezTo>
                  <a:cubicBezTo>
                    <a:pt x="215" y="1"/>
                    <a:pt x="400" y="2"/>
                    <a:pt x="442" y="2"/>
                  </a:cubicBezTo>
                  <a:cubicBezTo>
                    <a:pt x="480" y="40"/>
                    <a:pt x="415" y="46"/>
                    <a:pt x="415" y="81"/>
                  </a:cubicBezTo>
                  <a:cubicBezTo>
                    <a:pt x="415" y="116"/>
                    <a:pt x="432" y="152"/>
                    <a:pt x="494" y="151"/>
                  </a:cubicBezTo>
                  <a:cubicBezTo>
                    <a:pt x="556" y="150"/>
                    <a:pt x="579" y="124"/>
                    <a:pt x="579" y="85"/>
                  </a:cubicBezTo>
                  <a:cubicBezTo>
                    <a:pt x="579" y="46"/>
                    <a:pt x="523" y="42"/>
                    <a:pt x="556" y="0"/>
                  </a:cubicBezTo>
                  <a:cubicBezTo>
                    <a:pt x="700" y="0"/>
                    <a:pt x="839" y="2"/>
                    <a:pt x="839" y="2"/>
                  </a:cubicBezTo>
                  <a:cubicBezTo>
                    <a:pt x="837" y="80"/>
                    <a:pt x="839" y="161"/>
                    <a:pt x="839" y="293"/>
                  </a:cubicBezTo>
                  <a:cubicBezTo>
                    <a:pt x="809" y="333"/>
                    <a:pt x="811" y="263"/>
                    <a:pt x="765" y="263"/>
                  </a:cubicBezTo>
                  <a:cubicBezTo>
                    <a:pt x="719" y="263"/>
                    <a:pt x="689" y="291"/>
                    <a:pt x="687" y="351"/>
                  </a:cubicBezTo>
                  <a:cubicBezTo>
                    <a:pt x="685" y="411"/>
                    <a:pt x="725" y="435"/>
                    <a:pt x="763" y="433"/>
                  </a:cubicBezTo>
                  <a:cubicBezTo>
                    <a:pt x="801" y="431"/>
                    <a:pt x="807" y="369"/>
                    <a:pt x="839" y="401"/>
                  </a:cubicBezTo>
                  <a:cubicBezTo>
                    <a:pt x="839" y="445"/>
                    <a:pt x="839" y="636"/>
                    <a:pt x="839" y="689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ffc000"/>
                </a:gs>
                <a:gs pos="100000">
                  <a:srgbClr val="e46c0a"/>
                </a:gs>
              </a:gsLst>
              <a:lin ang="5400000"/>
            </a:gra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0160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40000"/>
                </a:lnSpc>
                <a:spcBef>
                  <a:spcPts val="901"/>
                </a:spcBef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8" name="Freeform 8"/>
            <p:cNvSpPr/>
            <p:nvPr/>
          </p:nvSpPr>
          <p:spPr>
            <a:xfrm>
              <a:off x="3422160" y="3745080"/>
              <a:ext cx="1600920" cy="1311840"/>
            </a:xfrm>
            <a:custGeom>
              <a:avLst/>
              <a:gdLst>
                <a:gd name="textAreaLeft" fmla="*/ 0 w 1600920"/>
                <a:gd name="textAreaRight" fmla="*/ 1601280 w 1600920"/>
                <a:gd name="textAreaTop" fmla="*/ 0 h 1311840"/>
                <a:gd name="textAreaBottom" fmla="*/ 1312200 h 1311840"/>
              </a:gdLst>
              <a:ahLst/>
              <a:rect l="textAreaLeft" t="textAreaTop" r="textAreaRight" b="textAreaBottom"/>
              <a:pathLst>
                <a:path w="842" h="690">
                  <a:moveTo>
                    <a:pt x="842" y="690"/>
                  </a:moveTo>
                  <a:cubicBezTo>
                    <a:pt x="714" y="690"/>
                    <a:pt x="285" y="689"/>
                    <a:pt x="155" y="690"/>
                  </a:cubicBezTo>
                  <a:cubicBezTo>
                    <a:pt x="155" y="690"/>
                    <a:pt x="155" y="455"/>
                    <a:pt x="155" y="406"/>
                  </a:cubicBezTo>
                  <a:cubicBezTo>
                    <a:pt x="120" y="376"/>
                    <a:pt x="126" y="436"/>
                    <a:pt x="70" y="434"/>
                  </a:cubicBezTo>
                  <a:cubicBezTo>
                    <a:pt x="14" y="432"/>
                    <a:pt x="0" y="394"/>
                    <a:pt x="3" y="345"/>
                  </a:cubicBezTo>
                  <a:cubicBezTo>
                    <a:pt x="6" y="296"/>
                    <a:pt x="12" y="268"/>
                    <a:pt x="68" y="263"/>
                  </a:cubicBezTo>
                  <a:cubicBezTo>
                    <a:pt x="124" y="258"/>
                    <a:pt x="122" y="326"/>
                    <a:pt x="155" y="294"/>
                  </a:cubicBezTo>
                  <a:cubicBezTo>
                    <a:pt x="155" y="153"/>
                    <a:pt x="154" y="61"/>
                    <a:pt x="154" y="2"/>
                  </a:cubicBezTo>
                  <a:cubicBezTo>
                    <a:pt x="218" y="0"/>
                    <a:pt x="402" y="2"/>
                    <a:pt x="444" y="2"/>
                  </a:cubicBezTo>
                  <a:cubicBezTo>
                    <a:pt x="482" y="40"/>
                    <a:pt x="418" y="47"/>
                    <a:pt x="418" y="82"/>
                  </a:cubicBezTo>
                  <a:cubicBezTo>
                    <a:pt x="418" y="117"/>
                    <a:pt x="435" y="153"/>
                    <a:pt x="497" y="152"/>
                  </a:cubicBezTo>
                  <a:cubicBezTo>
                    <a:pt x="559" y="151"/>
                    <a:pt x="582" y="125"/>
                    <a:pt x="582" y="86"/>
                  </a:cubicBezTo>
                  <a:cubicBezTo>
                    <a:pt x="582" y="47"/>
                    <a:pt x="521" y="44"/>
                    <a:pt x="554" y="2"/>
                  </a:cubicBezTo>
                  <a:cubicBezTo>
                    <a:pt x="698" y="2"/>
                    <a:pt x="842" y="2"/>
                    <a:pt x="842" y="2"/>
                  </a:cubicBezTo>
                  <a:cubicBezTo>
                    <a:pt x="840" y="130"/>
                    <a:pt x="842" y="548"/>
                    <a:pt x="842" y="69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ffc000"/>
                </a:gs>
                <a:gs pos="100000">
                  <a:srgbClr val="e46c0a"/>
                </a:gs>
              </a:gsLst>
              <a:lin ang="5400000"/>
            </a:gra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0160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40000"/>
                </a:lnSpc>
                <a:spcBef>
                  <a:spcPts val="901"/>
                </a:spcBef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79" name="Freeform 9"/>
            <p:cNvSpPr/>
            <p:nvPr/>
          </p:nvSpPr>
          <p:spPr>
            <a:xfrm>
              <a:off x="3701880" y="1050120"/>
              <a:ext cx="1308240" cy="1597320"/>
            </a:xfrm>
            <a:custGeom>
              <a:avLst/>
              <a:gdLst>
                <a:gd name="textAreaLeft" fmla="*/ 0 w 1308240"/>
                <a:gd name="textAreaRight" fmla="*/ 1308600 w 1308240"/>
                <a:gd name="textAreaTop" fmla="*/ 0 h 1597320"/>
                <a:gd name="textAreaBottom" fmla="*/ 1597680 h 1597320"/>
              </a:gdLst>
              <a:ahLst/>
              <a:rect l="textAreaLeft" t="textAreaTop" r="textAreaRight" b="textAreaBottom"/>
              <a:pathLst>
                <a:path w="688" h="840">
                  <a:moveTo>
                    <a:pt x="688" y="1"/>
                  </a:moveTo>
                  <a:cubicBezTo>
                    <a:pt x="688" y="129"/>
                    <a:pt x="687" y="558"/>
                    <a:pt x="688" y="688"/>
                  </a:cubicBezTo>
                  <a:cubicBezTo>
                    <a:pt x="688" y="688"/>
                    <a:pt x="453" y="688"/>
                    <a:pt x="404" y="688"/>
                  </a:cubicBezTo>
                  <a:cubicBezTo>
                    <a:pt x="369" y="720"/>
                    <a:pt x="427" y="729"/>
                    <a:pt x="430" y="773"/>
                  </a:cubicBezTo>
                  <a:cubicBezTo>
                    <a:pt x="433" y="817"/>
                    <a:pt x="394" y="840"/>
                    <a:pt x="343" y="840"/>
                  </a:cubicBezTo>
                  <a:cubicBezTo>
                    <a:pt x="292" y="840"/>
                    <a:pt x="261" y="818"/>
                    <a:pt x="261" y="775"/>
                  </a:cubicBezTo>
                  <a:cubicBezTo>
                    <a:pt x="261" y="732"/>
                    <a:pt x="316" y="728"/>
                    <a:pt x="294" y="686"/>
                  </a:cubicBezTo>
                  <a:cubicBezTo>
                    <a:pt x="153" y="686"/>
                    <a:pt x="59" y="686"/>
                    <a:pt x="0" y="686"/>
                  </a:cubicBezTo>
                  <a:cubicBezTo>
                    <a:pt x="0" y="620"/>
                    <a:pt x="0" y="438"/>
                    <a:pt x="0" y="396"/>
                  </a:cubicBezTo>
                  <a:cubicBezTo>
                    <a:pt x="30" y="356"/>
                    <a:pt x="47" y="424"/>
                    <a:pt x="82" y="424"/>
                  </a:cubicBezTo>
                  <a:cubicBezTo>
                    <a:pt x="117" y="424"/>
                    <a:pt x="150" y="396"/>
                    <a:pt x="150" y="346"/>
                  </a:cubicBezTo>
                  <a:cubicBezTo>
                    <a:pt x="150" y="296"/>
                    <a:pt x="126" y="272"/>
                    <a:pt x="86" y="272"/>
                  </a:cubicBezTo>
                  <a:cubicBezTo>
                    <a:pt x="46" y="272"/>
                    <a:pt x="14" y="348"/>
                    <a:pt x="0" y="278"/>
                  </a:cubicBezTo>
                  <a:cubicBezTo>
                    <a:pt x="0" y="134"/>
                    <a:pt x="0" y="1"/>
                    <a:pt x="0" y="1"/>
                  </a:cubicBezTo>
                  <a:cubicBezTo>
                    <a:pt x="114" y="2"/>
                    <a:pt x="550" y="0"/>
                    <a:pt x="688" y="1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ffc000"/>
                </a:gs>
                <a:gs pos="100000">
                  <a:srgbClr val="e46c0a"/>
                </a:gs>
              </a:gsLst>
              <a:lin ang="5400000"/>
            </a:gra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0160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40000"/>
                </a:lnSpc>
                <a:spcBef>
                  <a:spcPts val="901"/>
                </a:spcBef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0" name="Freeform 10"/>
            <p:cNvSpPr/>
            <p:nvPr/>
          </p:nvSpPr>
          <p:spPr>
            <a:xfrm>
              <a:off x="993600" y="2113200"/>
              <a:ext cx="1591560" cy="1600920"/>
            </a:xfrm>
            <a:custGeom>
              <a:avLst/>
              <a:gdLst>
                <a:gd name="textAreaLeft" fmla="*/ 0 w 1591560"/>
                <a:gd name="textAreaRight" fmla="*/ 1591920 w 1591560"/>
                <a:gd name="textAreaTop" fmla="*/ 0 h 1600920"/>
                <a:gd name="textAreaBottom" fmla="*/ 1601280 h 1600920"/>
              </a:gdLst>
              <a:ahLst/>
              <a:rect l="textAreaLeft" t="textAreaTop" r="textAreaRight" b="textAreaBottom"/>
              <a:pathLst>
                <a:path w="837" h="842">
                  <a:moveTo>
                    <a:pt x="0" y="151"/>
                  </a:moveTo>
                  <a:cubicBezTo>
                    <a:pt x="77" y="151"/>
                    <a:pt x="164" y="151"/>
                    <a:pt x="278" y="151"/>
                  </a:cubicBezTo>
                  <a:cubicBezTo>
                    <a:pt x="330" y="129"/>
                    <a:pt x="264" y="129"/>
                    <a:pt x="260" y="73"/>
                  </a:cubicBezTo>
                  <a:cubicBezTo>
                    <a:pt x="256" y="17"/>
                    <a:pt x="285" y="0"/>
                    <a:pt x="337" y="0"/>
                  </a:cubicBezTo>
                  <a:cubicBezTo>
                    <a:pt x="389" y="0"/>
                    <a:pt x="426" y="2"/>
                    <a:pt x="424" y="61"/>
                  </a:cubicBezTo>
                  <a:cubicBezTo>
                    <a:pt x="422" y="120"/>
                    <a:pt x="370" y="115"/>
                    <a:pt x="400" y="151"/>
                  </a:cubicBezTo>
                  <a:cubicBezTo>
                    <a:pt x="440" y="151"/>
                    <a:pt x="597" y="153"/>
                    <a:pt x="687" y="151"/>
                  </a:cubicBezTo>
                  <a:cubicBezTo>
                    <a:pt x="687" y="151"/>
                    <a:pt x="685" y="387"/>
                    <a:pt x="685" y="436"/>
                  </a:cubicBezTo>
                  <a:cubicBezTo>
                    <a:pt x="717" y="471"/>
                    <a:pt x="726" y="413"/>
                    <a:pt x="770" y="410"/>
                  </a:cubicBezTo>
                  <a:cubicBezTo>
                    <a:pt x="814" y="407"/>
                    <a:pt x="837" y="446"/>
                    <a:pt x="837" y="497"/>
                  </a:cubicBezTo>
                  <a:cubicBezTo>
                    <a:pt x="837" y="548"/>
                    <a:pt x="815" y="579"/>
                    <a:pt x="772" y="579"/>
                  </a:cubicBezTo>
                  <a:cubicBezTo>
                    <a:pt x="729" y="579"/>
                    <a:pt x="727" y="526"/>
                    <a:pt x="685" y="548"/>
                  </a:cubicBezTo>
                  <a:cubicBezTo>
                    <a:pt x="685" y="689"/>
                    <a:pt x="685" y="783"/>
                    <a:pt x="685" y="842"/>
                  </a:cubicBezTo>
                  <a:cubicBezTo>
                    <a:pt x="619" y="842"/>
                    <a:pt x="439" y="842"/>
                    <a:pt x="397" y="842"/>
                  </a:cubicBezTo>
                  <a:cubicBezTo>
                    <a:pt x="359" y="804"/>
                    <a:pt x="422" y="795"/>
                    <a:pt x="422" y="760"/>
                  </a:cubicBezTo>
                  <a:cubicBezTo>
                    <a:pt x="422" y="725"/>
                    <a:pt x="405" y="689"/>
                    <a:pt x="343" y="690"/>
                  </a:cubicBezTo>
                  <a:cubicBezTo>
                    <a:pt x="281" y="691"/>
                    <a:pt x="269" y="718"/>
                    <a:pt x="267" y="752"/>
                  </a:cubicBezTo>
                  <a:cubicBezTo>
                    <a:pt x="265" y="786"/>
                    <a:pt x="341" y="816"/>
                    <a:pt x="286" y="840"/>
                  </a:cubicBezTo>
                  <a:cubicBezTo>
                    <a:pt x="142" y="840"/>
                    <a:pt x="14" y="839"/>
                    <a:pt x="0" y="840"/>
                  </a:cubicBezTo>
                  <a:cubicBezTo>
                    <a:pt x="1" y="726"/>
                    <a:pt x="1" y="287"/>
                    <a:pt x="0" y="151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ffc000"/>
                </a:gs>
                <a:gs pos="100000">
                  <a:srgbClr val="e46c0a"/>
                </a:gs>
              </a:gsLst>
              <a:lin ang="5400000"/>
            </a:gra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0160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40000"/>
                </a:lnSpc>
                <a:spcBef>
                  <a:spcPts val="901"/>
                </a:spcBef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81" name="Freeform 11"/>
            <p:cNvSpPr/>
            <p:nvPr/>
          </p:nvSpPr>
          <p:spPr>
            <a:xfrm rot="10800000">
              <a:off x="3412800" y="2385360"/>
              <a:ext cx="1597320" cy="1597320"/>
            </a:xfrm>
            <a:custGeom>
              <a:avLst/>
              <a:gdLst>
                <a:gd name="textAreaLeft" fmla="*/ 0 w 1597320"/>
                <a:gd name="textAreaRight" fmla="*/ 1597680 w 1597320"/>
                <a:gd name="textAreaTop" fmla="*/ 0 h 1597320"/>
                <a:gd name="textAreaBottom" fmla="*/ 1597680 h 1597320"/>
              </a:gdLst>
              <a:ahLst/>
              <a:rect l="textAreaLeft" t="textAreaTop" r="textAreaRight" b="textAreaBottom"/>
              <a:pathLst>
                <a:path w="840" h="840">
                  <a:moveTo>
                    <a:pt x="0" y="150"/>
                  </a:moveTo>
                  <a:cubicBezTo>
                    <a:pt x="77" y="150"/>
                    <a:pt x="167" y="149"/>
                    <a:pt x="281" y="149"/>
                  </a:cubicBezTo>
                  <a:cubicBezTo>
                    <a:pt x="333" y="127"/>
                    <a:pt x="267" y="127"/>
                    <a:pt x="263" y="71"/>
                  </a:cubicBezTo>
                  <a:cubicBezTo>
                    <a:pt x="259" y="15"/>
                    <a:pt x="290" y="0"/>
                    <a:pt x="342" y="0"/>
                  </a:cubicBezTo>
                  <a:cubicBezTo>
                    <a:pt x="394" y="0"/>
                    <a:pt x="423" y="5"/>
                    <a:pt x="425" y="63"/>
                  </a:cubicBezTo>
                  <a:cubicBezTo>
                    <a:pt x="427" y="121"/>
                    <a:pt x="371" y="115"/>
                    <a:pt x="401" y="151"/>
                  </a:cubicBezTo>
                  <a:cubicBezTo>
                    <a:pt x="441" y="151"/>
                    <a:pt x="598" y="152"/>
                    <a:pt x="688" y="150"/>
                  </a:cubicBezTo>
                  <a:cubicBezTo>
                    <a:pt x="688" y="150"/>
                    <a:pt x="688" y="385"/>
                    <a:pt x="688" y="434"/>
                  </a:cubicBezTo>
                  <a:cubicBezTo>
                    <a:pt x="720" y="469"/>
                    <a:pt x="729" y="411"/>
                    <a:pt x="773" y="408"/>
                  </a:cubicBezTo>
                  <a:cubicBezTo>
                    <a:pt x="817" y="405"/>
                    <a:pt x="840" y="444"/>
                    <a:pt x="840" y="495"/>
                  </a:cubicBezTo>
                  <a:cubicBezTo>
                    <a:pt x="840" y="546"/>
                    <a:pt x="818" y="577"/>
                    <a:pt x="775" y="577"/>
                  </a:cubicBezTo>
                  <a:cubicBezTo>
                    <a:pt x="732" y="577"/>
                    <a:pt x="730" y="524"/>
                    <a:pt x="688" y="546"/>
                  </a:cubicBezTo>
                  <a:cubicBezTo>
                    <a:pt x="688" y="687"/>
                    <a:pt x="688" y="781"/>
                    <a:pt x="688" y="840"/>
                  </a:cubicBezTo>
                  <a:cubicBezTo>
                    <a:pt x="622" y="840"/>
                    <a:pt x="442" y="840"/>
                    <a:pt x="400" y="840"/>
                  </a:cubicBezTo>
                  <a:cubicBezTo>
                    <a:pt x="362" y="802"/>
                    <a:pt x="425" y="793"/>
                    <a:pt x="425" y="758"/>
                  </a:cubicBezTo>
                  <a:cubicBezTo>
                    <a:pt x="425" y="723"/>
                    <a:pt x="408" y="687"/>
                    <a:pt x="346" y="688"/>
                  </a:cubicBezTo>
                  <a:cubicBezTo>
                    <a:pt x="284" y="689"/>
                    <a:pt x="272" y="716"/>
                    <a:pt x="270" y="750"/>
                  </a:cubicBezTo>
                  <a:cubicBezTo>
                    <a:pt x="268" y="784"/>
                    <a:pt x="344" y="814"/>
                    <a:pt x="289" y="838"/>
                  </a:cubicBezTo>
                  <a:cubicBezTo>
                    <a:pt x="145" y="838"/>
                    <a:pt x="1" y="838"/>
                    <a:pt x="1" y="838"/>
                  </a:cubicBezTo>
                  <a:cubicBezTo>
                    <a:pt x="2" y="724"/>
                    <a:pt x="1" y="286"/>
                    <a:pt x="0" y="150"/>
                  </a:cubicBezTo>
                  <a:close/>
                </a:path>
              </a:pathLst>
            </a:custGeom>
            <a:gradFill rotWithShape="0">
              <a:gsLst>
                <a:gs pos="1000">
                  <a:srgbClr val="ffc000"/>
                </a:gs>
                <a:gs pos="100000">
                  <a:srgbClr val="e46c0a"/>
                </a:gs>
              </a:gsLst>
              <a:lin ang="16200000"/>
            </a:gradFill>
            <a:ln w="34925">
              <a:solidFill>
                <a:srgbClr val="ffffff"/>
              </a:solidFill>
              <a:round/>
            </a:ln>
            <a:effectLst>
              <a:outerShdw algn="ctr" blurRad="317520" dir="0">
                <a:srgbClr val="000000">
                  <a:alpha val="43000"/>
                </a:srgbClr>
              </a:outerShdw>
            </a:effectLst>
            <a:scene3d>
              <a:camera prst="orthographicFront"/>
              <a:lightRig rig="threePt" dir="t"/>
            </a:scene3d>
            <a:sp3d extrusionH="101600" prstMaterial="metal">
              <a:bevelT prst="softRound" w="260350" h="50800"/>
              <a:bevelB prst="softRound" w="88900" h="1968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40000"/>
                </a:lnSpc>
                <a:spcBef>
                  <a:spcPts val="901"/>
                </a:spcBef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82" name="Freeform 8"/>
          <p:cNvSpPr/>
          <p:nvPr/>
        </p:nvSpPr>
        <p:spPr>
          <a:xfrm rot="1454400">
            <a:off x="5478120" y="3717000"/>
            <a:ext cx="1336320" cy="1095120"/>
          </a:xfrm>
          <a:custGeom>
            <a:avLst/>
            <a:gdLst>
              <a:gd name="textAreaLeft" fmla="*/ 0 w 1336320"/>
              <a:gd name="textAreaRight" fmla="*/ 1336680 w 1336320"/>
              <a:gd name="textAreaTop" fmla="*/ 0 h 1095120"/>
              <a:gd name="textAreaBottom" fmla="*/ 1095480 h 1095120"/>
            </a:gdLst>
            <a:ahLst/>
            <a:rect l="textAreaLeft" t="textAreaTop" r="textAreaRight" b="textAreaBottom"/>
            <a:pathLst>
              <a:path w="842" h="690">
                <a:moveTo>
                  <a:pt x="842" y="690"/>
                </a:moveTo>
                <a:cubicBezTo>
                  <a:pt x="714" y="690"/>
                  <a:pt x="285" y="689"/>
                  <a:pt x="155" y="690"/>
                </a:cubicBezTo>
                <a:cubicBezTo>
                  <a:pt x="155" y="690"/>
                  <a:pt x="155" y="455"/>
                  <a:pt x="155" y="406"/>
                </a:cubicBezTo>
                <a:cubicBezTo>
                  <a:pt x="120" y="376"/>
                  <a:pt x="126" y="436"/>
                  <a:pt x="70" y="434"/>
                </a:cubicBezTo>
                <a:cubicBezTo>
                  <a:pt x="14" y="432"/>
                  <a:pt x="0" y="394"/>
                  <a:pt x="3" y="345"/>
                </a:cubicBezTo>
                <a:cubicBezTo>
                  <a:pt x="6" y="296"/>
                  <a:pt x="12" y="268"/>
                  <a:pt x="68" y="263"/>
                </a:cubicBezTo>
                <a:cubicBezTo>
                  <a:pt x="124" y="258"/>
                  <a:pt x="122" y="326"/>
                  <a:pt x="155" y="294"/>
                </a:cubicBezTo>
                <a:cubicBezTo>
                  <a:pt x="155" y="153"/>
                  <a:pt x="154" y="61"/>
                  <a:pt x="154" y="2"/>
                </a:cubicBezTo>
                <a:cubicBezTo>
                  <a:pt x="218" y="0"/>
                  <a:pt x="402" y="2"/>
                  <a:pt x="444" y="2"/>
                </a:cubicBezTo>
                <a:cubicBezTo>
                  <a:pt x="482" y="40"/>
                  <a:pt x="418" y="47"/>
                  <a:pt x="418" y="82"/>
                </a:cubicBezTo>
                <a:cubicBezTo>
                  <a:pt x="418" y="117"/>
                  <a:pt x="435" y="153"/>
                  <a:pt x="497" y="152"/>
                </a:cubicBezTo>
                <a:cubicBezTo>
                  <a:pt x="559" y="151"/>
                  <a:pt x="582" y="125"/>
                  <a:pt x="582" y="86"/>
                </a:cubicBezTo>
                <a:cubicBezTo>
                  <a:pt x="582" y="47"/>
                  <a:pt x="521" y="44"/>
                  <a:pt x="554" y="2"/>
                </a:cubicBezTo>
                <a:cubicBezTo>
                  <a:pt x="698" y="2"/>
                  <a:pt x="842" y="2"/>
                  <a:pt x="842" y="2"/>
                </a:cubicBezTo>
                <a:cubicBezTo>
                  <a:pt x="840" y="130"/>
                  <a:pt x="842" y="548"/>
                  <a:pt x="842" y="690"/>
                </a:cubicBezTo>
                <a:close/>
              </a:path>
            </a:pathLst>
          </a:custGeom>
          <a:gradFill rotWithShape="0">
            <a:gsLst>
              <a:gs pos="1000">
                <a:srgbClr val="00b0f0"/>
              </a:gs>
              <a:gs pos="100000">
                <a:srgbClr val="0070c0"/>
              </a:gs>
            </a:gsLst>
            <a:lin ang="3942000"/>
          </a:gradFill>
          <a:ln w="34925">
            <a:solidFill>
              <a:srgbClr val="ffffff"/>
            </a:solidFill>
            <a:round/>
          </a:ln>
          <a:effectLst>
            <a:outerShdw algn="ctr" blurRad="317520" dir="0">
              <a:srgbClr val="000000">
                <a:alpha val="43000"/>
              </a:srgbClr>
            </a:outerShdw>
          </a:effectLst>
          <a:scene3d>
            <a:camera fov="2700000" prst="perspectiveFront">
              <a:rot lat="21579341" lon="21472308" rev="21594000"/>
            </a:camera>
            <a:lightRig dir="t" rig="threePt"/>
          </a:scene3d>
          <a:sp3d extrusionH="101600" prstMaterial="metal">
            <a:bevelT prst="softRound" w="260350" h="50800"/>
            <a:bevelB prst="softRound" w="88900" h="1968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  <a:spcBef>
                <a:spcPts val="901"/>
              </a:spcBef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3" name="Freeform 11"/>
          <p:cNvSpPr/>
          <p:nvPr/>
        </p:nvSpPr>
        <p:spPr>
          <a:xfrm rot="10800000">
            <a:off x="6953760" y="3177720"/>
            <a:ext cx="1333080" cy="1333080"/>
          </a:xfrm>
          <a:custGeom>
            <a:avLst/>
            <a:gdLst>
              <a:gd name="textAreaLeft" fmla="*/ 0 w 1333080"/>
              <a:gd name="textAreaRight" fmla="*/ 1333440 w 1333080"/>
              <a:gd name="textAreaTop" fmla="*/ 0 h 1333080"/>
              <a:gd name="textAreaBottom" fmla="*/ 1333440 h 1333080"/>
            </a:gdLst>
            <a:ahLst/>
            <a:rect l="textAreaLeft" t="textAreaTop" r="textAreaRight" b="textAreaBottom"/>
            <a:pathLst>
              <a:path w="840" h="840">
                <a:moveTo>
                  <a:pt x="0" y="150"/>
                </a:moveTo>
                <a:cubicBezTo>
                  <a:pt x="77" y="150"/>
                  <a:pt x="167" y="149"/>
                  <a:pt x="281" y="149"/>
                </a:cubicBezTo>
                <a:cubicBezTo>
                  <a:pt x="333" y="127"/>
                  <a:pt x="267" y="127"/>
                  <a:pt x="263" y="71"/>
                </a:cubicBezTo>
                <a:cubicBezTo>
                  <a:pt x="259" y="15"/>
                  <a:pt x="290" y="0"/>
                  <a:pt x="342" y="0"/>
                </a:cubicBezTo>
                <a:cubicBezTo>
                  <a:pt x="394" y="0"/>
                  <a:pt x="423" y="5"/>
                  <a:pt x="425" y="63"/>
                </a:cubicBezTo>
                <a:cubicBezTo>
                  <a:pt x="427" y="121"/>
                  <a:pt x="371" y="115"/>
                  <a:pt x="401" y="151"/>
                </a:cubicBezTo>
                <a:cubicBezTo>
                  <a:pt x="441" y="151"/>
                  <a:pt x="598" y="152"/>
                  <a:pt x="688" y="150"/>
                </a:cubicBezTo>
                <a:cubicBezTo>
                  <a:pt x="688" y="150"/>
                  <a:pt x="688" y="385"/>
                  <a:pt x="688" y="434"/>
                </a:cubicBezTo>
                <a:cubicBezTo>
                  <a:pt x="720" y="469"/>
                  <a:pt x="729" y="411"/>
                  <a:pt x="773" y="408"/>
                </a:cubicBezTo>
                <a:cubicBezTo>
                  <a:pt x="817" y="405"/>
                  <a:pt x="840" y="444"/>
                  <a:pt x="840" y="495"/>
                </a:cubicBezTo>
                <a:cubicBezTo>
                  <a:pt x="840" y="546"/>
                  <a:pt x="818" y="577"/>
                  <a:pt x="775" y="577"/>
                </a:cubicBezTo>
                <a:cubicBezTo>
                  <a:pt x="732" y="577"/>
                  <a:pt x="730" y="524"/>
                  <a:pt x="688" y="546"/>
                </a:cubicBezTo>
                <a:cubicBezTo>
                  <a:pt x="688" y="687"/>
                  <a:pt x="688" y="781"/>
                  <a:pt x="688" y="840"/>
                </a:cubicBezTo>
                <a:cubicBezTo>
                  <a:pt x="622" y="840"/>
                  <a:pt x="442" y="840"/>
                  <a:pt x="400" y="840"/>
                </a:cubicBezTo>
                <a:cubicBezTo>
                  <a:pt x="362" y="802"/>
                  <a:pt x="425" y="793"/>
                  <a:pt x="425" y="758"/>
                </a:cubicBezTo>
                <a:cubicBezTo>
                  <a:pt x="425" y="723"/>
                  <a:pt x="408" y="687"/>
                  <a:pt x="346" y="688"/>
                </a:cubicBezTo>
                <a:cubicBezTo>
                  <a:pt x="284" y="689"/>
                  <a:pt x="272" y="716"/>
                  <a:pt x="270" y="750"/>
                </a:cubicBezTo>
                <a:cubicBezTo>
                  <a:pt x="268" y="784"/>
                  <a:pt x="344" y="814"/>
                  <a:pt x="289" y="838"/>
                </a:cubicBezTo>
                <a:cubicBezTo>
                  <a:pt x="145" y="838"/>
                  <a:pt x="1" y="838"/>
                  <a:pt x="1" y="838"/>
                </a:cubicBezTo>
                <a:cubicBezTo>
                  <a:pt x="2" y="724"/>
                  <a:pt x="1" y="286"/>
                  <a:pt x="0" y="150"/>
                </a:cubicBezTo>
                <a:close/>
              </a:path>
            </a:pathLst>
          </a:custGeom>
          <a:gradFill rotWithShape="0">
            <a:gsLst>
              <a:gs pos="1000">
                <a:srgbClr val="00b0f0"/>
              </a:gs>
              <a:gs pos="100000">
                <a:srgbClr val="0070c0"/>
              </a:gs>
            </a:gsLst>
            <a:lin ang="16200000"/>
          </a:gradFill>
          <a:ln w="34925">
            <a:solidFill>
              <a:srgbClr val="ffffff"/>
            </a:solidFill>
            <a:round/>
          </a:ln>
          <a:effectLst>
            <a:outerShdw algn="ctr" blurRad="317520" dir="0">
              <a:srgbClr val="000000">
                <a:alpha val="43000"/>
              </a:srgbClr>
            </a:outerShdw>
          </a:effectLst>
          <a:scene3d>
            <a:camera fov="2700000" prst="perspectiveFront">
              <a:rot lat="21579341" lon="21472308" rev="21594000"/>
            </a:camera>
            <a:lightRig dir="t" rig="threePt"/>
          </a:scene3d>
          <a:sp3d extrusionH="101600" prstMaterial="metal">
            <a:bevelT prst="softRound" w="260350" h="50800"/>
            <a:bevelB prst="softRound" w="88900" h="1968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40000"/>
              </a:lnSpc>
              <a:spcBef>
                <a:spcPts val="901"/>
              </a:spcBef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4" name="Text Box 39"/>
          <p:cNvSpPr/>
          <p:nvPr/>
        </p:nvSpPr>
        <p:spPr>
          <a:xfrm>
            <a:off x="5874840" y="1394640"/>
            <a:ext cx="2120400" cy="6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ctr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 algn="ctr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39"/>
          <p:cNvSpPr/>
          <p:nvPr/>
        </p:nvSpPr>
        <p:spPr>
          <a:xfrm>
            <a:off x="5874840" y="2052000"/>
            <a:ext cx="2120400" cy="600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ctr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 algn="ctr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39"/>
          <p:cNvSpPr/>
          <p:nvPr/>
        </p:nvSpPr>
        <p:spPr>
          <a:xfrm>
            <a:off x="5888520" y="1000080"/>
            <a:ext cx="2120400" cy="345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ctr">
              <a:lnSpc>
                <a:spcPct val="120000"/>
              </a:lnSpc>
              <a:buClr>
                <a:srgbClr val="000000"/>
              </a:buClr>
              <a:buFont typeface="Symbol" charset="2"/>
              <a:buChar char=""/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Box 1"/>
          <p:cNvSpPr/>
          <p:nvPr/>
        </p:nvSpPr>
        <p:spPr>
          <a:xfrm>
            <a:off x="465480" y="1810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2"/>
          <p:cNvSpPr/>
          <p:nvPr/>
        </p:nvSpPr>
        <p:spPr>
          <a:xfrm>
            <a:off x="3419640" y="4556160"/>
            <a:ext cx="5152680" cy="147240"/>
          </a:xfrm>
          <a:custGeom>
            <a:avLst/>
            <a:gdLst>
              <a:gd name="textAreaLeft" fmla="*/ 507960 w 5152680"/>
              <a:gd name="textAreaRight" fmla="*/ 4644720 w 5152680"/>
              <a:gd name="textAreaTop" fmla="*/ 14400 h 147240"/>
              <a:gd name="textAreaBottom" fmla="*/ 132840 h 147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9" y="21600"/>
                </a:lnTo>
                <a:lnTo>
                  <a:pt x="20941" y="21600"/>
                </a:lnTo>
                <a:lnTo>
                  <a:pt x="21600" y="0"/>
                </a:lnTo>
                <a:close/>
              </a:path>
            </a:pathLst>
          </a:custGeom>
          <a:gradFill rotWithShape="0">
            <a:gsLst>
              <a:gs pos="0">
                <a:srgbClr val="eeece1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Oval 4"/>
          <p:cNvSpPr/>
          <p:nvPr/>
        </p:nvSpPr>
        <p:spPr>
          <a:xfrm>
            <a:off x="606600" y="4814640"/>
            <a:ext cx="4173120" cy="310680"/>
          </a:xfrm>
          <a:prstGeom prst="ellipse">
            <a:avLst/>
          </a:prstGeom>
          <a:gradFill rotWithShape="0">
            <a:gsLst>
              <a:gs pos="0">
                <a:srgbClr val="808080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3414600" y="1430280"/>
            <a:ext cx="5143320" cy="3125520"/>
          </a:xfrm>
          <a:prstGeom prst="roundRect">
            <a:avLst>
              <a:gd name="adj" fmla="val 0"/>
            </a:avLst>
          </a:prstGeom>
          <a:solidFill>
            <a:schemeClr val="accent6">
              <a:lumMod val="40000"/>
              <a:lumOff val="60000"/>
              <a:alpha val="13000"/>
            </a:schemeClr>
          </a:solidFill>
          <a:ln w="25400">
            <a:solidFill>
              <a:srgbClr val="f79646">
                <a:lumMod val="75000"/>
              </a:srgbClr>
            </a:solidFill>
            <a:round/>
          </a:ln>
          <a:effectLst>
            <a:outerShdw algn="bl" blurRad="50760" dir="18900000" dist="37674" rotWithShape="0">
              <a:schemeClr val="accent6">
                <a:alpha val="40000"/>
              </a:schemeClr>
            </a:outerShdw>
          </a:effectLst>
          <a:scene3d>
            <a:camera prst="orthographicFront"/>
            <a:lightRig dir="t" rig="flat"/>
          </a:scene3d>
          <a:sp3d contourW="19050">
            <a:bevelT prst="artDeco" w="101600"/>
            <a:bevelB w="0" h="0"/>
            <a:contourClr>
              <a:schemeClr val="bg1"/>
            </a:contourClr>
          </a:sp3d>
        </p:spPr>
        <p:style>
          <a:lnRef idx="1">
            <a:schemeClr val="accent2"/>
          </a:lnRef>
          <a:fillRef idx="3">
            <a:schemeClr val="accent2"/>
          </a:fillRef>
          <a:effectRef idx="2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50000"/>
              </a:lnSpc>
              <a:tabLst>
                <a:tab algn="l" pos="136440"/>
              </a:tabLst>
            </a:pPr>
            <a:endParaRPr b="0" lang="en-US" sz="11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91" name="未知"/>
          <p:cNvSpPr/>
          <p:nvPr/>
        </p:nvSpPr>
        <p:spPr>
          <a:xfrm flipH="1">
            <a:off x="853560" y="2141640"/>
            <a:ext cx="1858680" cy="1847520"/>
          </a:xfrm>
          <a:custGeom>
            <a:avLst/>
            <a:gdLst>
              <a:gd name="textAreaLeft" fmla="*/ -360 w 1858680"/>
              <a:gd name="textAreaRight" fmla="*/ 1858680 w 1858680"/>
              <a:gd name="textAreaTop" fmla="*/ 0 h 1847520"/>
              <a:gd name="textAreaBottom" fmla="*/ 1847880 h 1847520"/>
            </a:gdLst>
            <a:ahLst/>
            <a:rect l="textAreaLeft" t="textAreaTop" r="textAreaRight" b="textAreaBottom"/>
            <a:pathLst>
              <a:path w="174" h="173">
                <a:moveTo>
                  <a:pt x="150" y="173"/>
                </a:moveTo>
                <a:cubicBezTo>
                  <a:pt x="165" y="147"/>
                  <a:pt x="174" y="117"/>
                  <a:pt x="174" y="87"/>
                </a:cubicBezTo>
                <a:cubicBezTo>
                  <a:pt x="174" y="56"/>
                  <a:pt x="165" y="26"/>
                  <a:pt x="150" y="0"/>
                </a:cubicBezTo>
                <a:lnTo>
                  <a:pt x="0" y="87"/>
                </a:lnTo>
                <a:lnTo>
                  <a:pt x="150" y="173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16200000"/>
          </a:gradFill>
          <a:ln w="34925">
            <a:solidFill>
              <a:srgbClr val="ffffff"/>
            </a:solidFill>
            <a:round/>
          </a:ln>
          <a:scene3d>
            <a:camera prst="orthographicFront"/>
            <a:lightRig dir="t" rig="balanced"/>
          </a:scene3d>
          <a:sp3d prstMaterial="metal">
            <a:bevelT prst="softRound" w="285750" h="50800"/>
            <a:bevelB prst="softRound" w="88900" h="1079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92" name="未知"/>
          <p:cNvSpPr/>
          <p:nvPr/>
        </p:nvSpPr>
        <p:spPr>
          <a:xfrm flipH="1">
            <a:off x="1111320" y="1214280"/>
            <a:ext cx="1601280" cy="1855440"/>
          </a:xfrm>
          <a:custGeom>
            <a:avLst/>
            <a:gdLst>
              <a:gd name="textAreaLeft" fmla="*/ 360 w 1601280"/>
              <a:gd name="textAreaRight" fmla="*/ 1602000 w 1601280"/>
              <a:gd name="textAreaTop" fmla="*/ 0 h 1855440"/>
              <a:gd name="textAreaBottom" fmla="*/ 1855800 h 1855440"/>
            </a:gdLst>
            <a:ahLst/>
            <a:rect l="textAreaLeft" t="textAreaTop" r="textAreaRight" b="textAreaBottom"/>
            <a:pathLst>
              <a:path w="150" h="174">
                <a:moveTo>
                  <a:pt x="150" y="87"/>
                </a:moveTo>
                <a:cubicBezTo>
                  <a:pt x="119" y="33"/>
                  <a:pt x="62" y="0"/>
                  <a:pt x="0" y="0"/>
                </a:cubicBezTo>
                <a:lnTo>
                  <a:pt x="0" y="174"/>
                </a:lnTo>
                <a:lnTo>
                  <a:pt x="150" y="87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16200000"/>
          </a:gradFill>
          <a:ln w="34925">
            <a:solidFill>
              <a:srgbClr val="ffffff"/>
            </a:solidFill>
            <a:round/>
          </a:ln>
          <a:scene3d>
            <a:camera prst="orthographicFront"/>
            <a:lightRig dir="t" rig="balanced"/>
          </a:scene3d>
          <a:sp3d prstMaterial="metal">
            <a:bevelT prst="softRound" w="285750" h="50800"/>
            <a:bevelB prst="softRound" w="88900" h="1079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93" name="未知"/>
          <p:cNvSpPr/>
          <p:nvPr/>
        </p:nvSpPr>
        <p:spPr>
          <a:xfrm flipH="1">
            <a:off x="1110600" y="3070080"/>
            <a:ext cx="3214440" cy="1846080"/>
          </a:xfrm>
          <a:custGeom>
            <a:avLst/>
            <a:gdLst>
              <a:gd name="textAreaLeft" fmla="*/ -360 w 3214440"/>
              <a:gd name="textAreaRight" fmla="*/ 3214440 w 3214440"/>
              <a:gd name="textAreaTop" fmla="*/ 0 h 1846080"/>
              <a:gd name="textAreaBottom" fmla="*/ 1846440 h 1846080"/>
            </a:gdLst>
            <a:ahLst/>
            <a:rect l="textAreaLeft" t="textAreaTop" r="textAreaRight" b="textAreaBottom"/>
            <a:pathLst>
              <a:path w="30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cubicBezTo>
                  <a:pt x="213" y="173"/>
                  <a:pt x="270" y="140"/>
                  <a:pt x="301" y="86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16200000"/>
          </a:gradFill>
          <a:ln w="34925">
            <a:solidFill>
              <a:srgbClr val="ffffff"/>
            </a:solidFill>
            <a:round/>
          </a:ln>
          <a:scene3d>
            <a:camera prst="orthographicFront"/>
            <a:lightRig dir="t" rig="balanced"/>
          </a:scene3d>
          <a:sp3d prstMaterial="metal">
            <a:bevelT prst="softRound" w="285750" h="50800"/>
            <a:bevelB prst="softRound" w="88900" h="1079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94" name="未知"/>
          <p:cNvSpPr/>
          <p:nvPr/>
        </p:nvSpPr>
        <p:spPr>
          <a:xfrm flipH="1">
            <a:off x="2712960" y="1214280"/>
            <a:ext cx="1869840" cy="2774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2774520"/>
              <a:gd name="textAreaBottom" fmla="*/ 2774880 h 2774520"/>
            </a:gdLst>
            <a:ahLst/>
            <a:rect l="textAreaLeft" t="textAreaTop" r="textAreaRight" b="textAreaBottom"/>
            <a:pathLst>
              <a:path w="175" h="260">
                <a:moveTo>
                  <a:pt x="174" y="0"/>
                </a:moveTo>
                <a:cubicBezTo>
                  <a:pt x="78" y="0"/>
                  <a:pt x="1" y="77"/>
                  <a:pt x="1" y="173"/>
                </a:cubicBezTo>
                <a:cubicBezTo>
                  <a:pt x="0" y="204"/>
                  <a:pt x="9" y="234"/>
                  <a:pt x="24" y="260"/>
                </a:cubicBezTo>
                <a:lnTo>
                  <a:pt x="175" y="174"/>
                </a:lnTo>
                <a:lnTo>
                  <a:pt x="174" y="0"/>
                </a:lnTo>
                <a:close/>
              </a:path>
            </a:pathLst>
          </a:custGeom>
          <a:gradFill rotWithShape="0">
            <a:gsLst>
              <a:gs pos="0">
                <a:srgbClr val="0070c0"/>
              </a:gs>
              <a:gs pos="100000">
                <a:srgbClr val="00b0f0"/>
              </a:gs>
            </a:gsLst>
            <a:lin ang="16200000"/>
          </a:gradFill>
          <a:ln w="34925">
            <a:solidFill>
              <a:srgbClr val="ffffff"/>
            </a:solidFill>
            <a:round/>
          </a:ln>
          <a:scene3d>
            <a:camera prst="orthographicFront"/>
            <a:lightRig dir="t" rig="balanced"/>
          </a:scene3d>
          <a:sp3d prstMaterial="metal">
            <a:bevelT prst="softRound" w="285750" h="50800"/>
            <a:bevelB prst="softRound" w="88900" h="1079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95" name="未知"/>
          <p:cNvSpPr/>
          <p:nvPr/>
        </p:nvSpPr>
        <p:spPr>
          <a:xfrm flipH="1" flipV="1">
            <a:off x="1404000" y="1789920"/>
            <a:ext cx="1318680" cy="2641320"/>
          </a:xfrm>
          <a:custGeom>
            <a:avLst/>
            <a:gdLst>
              <a:gd name="textAreaLeft" fmla="*/ -360 w 1318680"/>
              <a:gd name="textAreaRight" fmla="*/ 1318680 w 1318680"/>
              <a:gd name="textAreaTop" fmla="*/ -360 h 2641320"/>
              <a:gd name="textAreaBottom" fmla="*/ 2641320 h 2641320"/>
            </a:gdLst>
            <a:ahLst/>
            <a:rect l="textAreaLeft" t="textAreaTop" r="textAreaRight" b="textAreaBottom"/>
            <a:pathLst>
              <a:path w="174" h="348">
                <a:moveTo>
                  <a:pt x="0" y="347"/>
                </a:moveTo>
                <a:cubicBezTo>
                  <a:pt x="96" y="348"/>
                  <a:pt x="174" y="270"/>
                  <a:pt x="174" y="174"/>
                </a:cubicBezTo>
                <a:cubicBezTo>
                  <a:pt x="174" y="77"/>
                  <a:pt x="96" y="0"/>
                  <a:pt x="0" y="0"/>
                </a:cubicBezTo>
                <a:lnTo>
                  <a:pt x="0" y="174"/>
                </a:lnTo>
                <a:lnTo>
                  <a:pt x="0" y="347"/>
                </a:ln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5400000"/>
          </a:gradFill>
          <a:ln w="34925">
            <a:solidFill>
              <a:srgbClr val="ffffff"/>
            </a:solidFill>
            <a:round/>
          </a:ln>
          <a:scene3d>
            <a:camera prst="orthographicFront"/>
            <a:lightRig dir="t" rig="threePt"/>
          </a:scene3d>
          <a:sp3d prstMaterial="plastic">
            <a:bevelT prst="softRound" w="285750" h="50800"/>
            <a:bevelB prst="softRound" w="88900" h="1079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96" name="未知"/>
          <p:cNvSpPr/>
          <p:nvPr/>
        </p:nvSpPr>
        <p:spPr>
          <a:xfrm flipH="1" flipV="1">
            <a:off x="2714040" y="1790640"/>
            <a:ext cx="1145880" cy="1314000"/>
          </a:xfrm>
          <a:custGeom>
            <a:avLst/>
            <a:gdLst>
              <a:gd name="textAreaLeft" fmla="*/ -360 w 1145880"/>
              <a:gd name="textAreaRight" fmla="*/ 1145880 w 1145880"/>
              <a:gd name="textAreaTop" fmla="*/ 360 h 1314000"/>
              <a:gd name="textAreaBottom" fmla="*/ 1314720 h 1314000"/>
            </a:gdLst>
            <a:ahLst/>
            <a:rect l="textAreaLeft" t="textAreaTop" r="textAreaRight" b="textAreaBottom"/>
            <a:pathLst>
              <a:path w="151" h="173">
                <a:moveTo>
                  <a:pt x="0" y="86"/>
                </a:moveTo>
                <a:cubicBezTo>
                  <a:pt x="31" y="140"/>
                  <a:pt x="88" y="173"/>
                  <a:pt x="151" y="173"/>
                </a:cubicBezTo>
                <a:lnTo>
                  <a:pt x="151" y="0"/>
                </a:lnTo>
                <a:lnTo>
                  <a:pt x="0" y="86"/>
                </a:lnTo>
                <a:close/>
              </a:path>
            </a:pathLst>
          </a:custGeom>
          <a:solidFill>
            <a:srgbClr val="dddddd"/>
          </a:solid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7" name="未知"/>
          <p:cNvSpPr/>
          <p:nvPr/>
        </p:nvSpPr>
        <p:spPr>
          <a:xfrm flipH="1" flipV="1">
            <a:off x="2714040" y="3111480"/>
            <a:ext cx="1145880" cy="1320480"/>
          </a:xfrm>
          <a:custGeom>
            <a:avLst/>
            <a:gdLst>
              <a:gd name="textAreaLeft" fmla="*/ -360 w 1145880"/>
              <a:gd name="textAreaRight" fmla="*/ 1145880 w 1145880"/>
              <a:gd name="textAreaTop" fmla="*/ 360 h 1320480"/>
              <a:gd name="textAreaBottom" fmla="*/ 1321200 h 1320480"/>
            </a:gdLst>
            <a:ahLst/>
            <a:rect l="textAreaLeft" t="textAreaTop" r="textAreaRight" b="textAreaBottom"/>
            <a:pathLst>
              <a:path w="151" h="174">
                <a:moveTo>
                  <a:pt x="150" y="0"/>
                </a:moveTo>
                <a:cubicBezTo>
                  <a:pt x="88" y="0"/>
                  <a:pt x="31" y="33"/>
                  <a:pt x="0" y="87"/>
                </a:cubicBezTo>
                <a:lnTo>
                  <a:pt x="151" y="174"/>
                </a:lnTo>
                <a:lnTo>
                  <a:pt x="150" y="0"/>
                </a:lnTo>
                <a:close/>
              </a:path>
            </a:pathLst>
          </a:custGeom>
          <a:solidFill>
            <a:srgbClr val="dddddd"/>
          </a:solidFill>
          <a:ln w="381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微软雅黑"/>
              <a:ea typeface="微软雅黑"/>
            </a:endParaRPr>
          </a:p>
        </p:txBody>
      </p:sp>
      <p:sp>
        <p:nvSpPr>
          <p:cNvPr id="198" name="未知"/>
          <p:cNvSpPr/>
          <p:nvPr/>
        </p:nvSpPr>
        <p:spPr>
          <a:xfrm flipH="1" flipV="1">
            <a:off x="2725200" y="2068560"/>
            <a:ext cx="2101320" cy="2072880"/>
          </a:xfrm>
          <a:custGeom>
            <a:avLst/>
            <a:gdLst>
              <a:gd name="textAreaLeft" fmla="*/ -360 w 2101320"/>
              <a:gd name="textAreaRight" fmla="*/ 2101320 w 2101320"/>
              <a:gd name="textAreaTop" fmla="*/ 360 h 2072880"/>
              <a:gd name="textAreaBottom" fmla="*/ 2073600 h 2072880"/>
            </a:gdLst>
            <a:ahLst/>
            <a:rect l="textAreaLeft" t="textAreaTop" r="textAreaRight" b="textAreaBottom"/>
            <a:pathLst>
              <a:path w="175" h="173">
                <a:moveTo>
                  <a:pt x="24" y="0"/>
                </a:moveTo>
                <a:cubicBezTo>
                  <a:pt x="9" y="26"/>
                  <a:pt x="1" y="56"/>
                  <a:pt x="1" y="86"/>
                </a:cubicBezTo>
                <a:cubicBezTo>
                  <a:pt x="0" y="117"/>
                  <a:pt x="9" y="147"/>
                  <a:pt x="24" y="173"/>
                </a:cubicBezTo>
                <a:lnTo>
                  <a:pt x="175" y="87"/>
                </a:lnTo>
                <a:lnTo>
                  <a:pt x="24" y="0"/>
                </a:lnTo>
                <a:close/>
              </a:path>
            </a:pathLst>
          </a:cu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5400000"/>
          </a:gradFill>
          <a:ln w="34925">
            <a:solidFill>
              <a:srgbClr val="ffffff"/>
            </a:solidFill>
            <a:round/>
          </a:ln>
          <a:scene3d>
            <a:camera prst="orthographicFront"/>
            <a:lightRig dir="t" rig="threePt"/>
          </a:scene3d>
          <a:sp3d prstMaterial="plastic">
            <a:bevelT prst="softRound" w="285750" h="50800"/>
            <a:bevelB prst="softRound" w="88900" h="1079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微软雅黑"/>
              <a:ea typeface="微软雅黑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401840" y="2843280"/>
            <a:ext cx="1209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3392640" y="2928960"/>
            <a:ext cx="12092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WordArt 20"/>
          <p:cNvSpPr txBox="1"/>
          <p:nvPr/>
        </p:nvSpPr>
        <p:spPr>
          <a:xfrm rot="19732800">
            <a:off x="1423800" y="1714320"/>
            <a:ext cx="1085400" cy="18072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WordArt 21"/>
          <p:cNvSpPr txBox="1"/>
          <p:nvPr/>
        </p:nvSpPr>
        <p:spPr>
          <a:xfrm rot="2039400">
            <a:off x="2935440" y="1723680"/>
            <a:ext cx="1085400" cy="18072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WordArt 22"/>
          <p:cNvSpPr txBox="1"/>
          <p:nvPr/>
        </p:nvSpPr>
        <p:spPr>
          <a:xfrm rot="16200000">
            <a:off x="689040" y="2963880"/>
            <a:ext cx="1085400" cy="180720"/>
          </a:xfrm>
          <a:prstGeom prst="rect">
            <a:avLst/>
          </a:prstGeom>
        </p:spPr>
        <p:txBody>
          <a:bodyPr wrap="none" fromWordArt="1" lIns="90000" rIns="90000" tIns="45000" bIns="45000" anchor="b" anchorCtr="1">
            <a:prstTxWarp prst="textArchUp">
              <a:avLst>
                <a:gd name="adj" fmla="val 10800004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WordArt 23"/>
          <p:cNvSpPr txBox="1"/>
          <p:nvPr/>
        </p:nvSpPr>
        <p:spPr>
          <a:xfrm>
            <a:off x="2151000" y="4476600"/>
            <a:ext cx="1085400" cy="180720"/>
          </a:xfrm>
          <a:prstGeom prst="rect">
            <a:avLst/>
          </a:prstGeom>
        </p:spPr>
        <p:txBody>
          <a:bodyPr wrap="none" fromWordArt="1" lIns="90000" rIns="90000" tIns="45000" bIns="450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ln w="0">
                  <a:noFill/>
                </a:ln>
                <a:solidFill>
                  <a:srgbClr val="ffffff"/>
                </a:solidFill>
                <a:latin typeface="微软雅黑"/>
                <a:ea typeface="微软雅黑"/>
              </a:rPr>
              <a:t>此处添加内容</a:t>
            </a:r>
            <a:endParaRPr b="0" lang="en-US" sz="1400" spc="-1" strike="noStrike">
              <a:ln w="0">
                <a:noFill/>
              </a:ln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39"/>
          <p:cNvSpPr/>
          <p:nvPr/>
        </p:nvSpPr>
        <p:spPr>
          <a:xfrm>
            <a:off x="4978800" y="1939680"/>
            <a:ext cx="3337920" cy="34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39"/>
          <p:cNvSpPr/>
          <p:nvPr/>
        </p:nvSpPr>
        <p:spPr>
          <a:xfrm>
            <a:off x="4978800" y="2237040"/>
            <a:ext cx="3337920" cy="34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9"/>
          <p:cNvSpPr/>
          <p:nvPr/>
        </p:nvSpPr>
        <p:spPr>
          <a:xfrm>
            <a:off x="4998960" y="2616840"/>
            <a:ext cx="3337920" cy="34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9"/>
          <p:cNvSpPr/>
          <p:nvPr/>
        </p:nvSpPr>
        <p:spPr>
          <a:xfrm>
            <a:off x="4998960" y="2914200"/>
            <a:ext cx="3337920" cy="34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39"/>
          <p:cNvSpPr/>
          <p:nvPr/>
        </p:nvSpPr>
        <p:spPr>
          <a:xfrm>
            <a:off x="4998960" y="3336840"/>
            <a:ext cx="3337920" cy="34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9"/>
          <p:cNvSpPr/>
          <p:nvPr/>
        </p:nvSpPr>
        <p:spPr>
          <a:xfrm>
            <a:off x="4998960" y="3634200"/>
            <a:ext cx="3337920" cy="34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 algn="ctr">
              <a:lnSpc>
                <a:spcPct val="150000"/>
              </a:lnSpc>
              <a:buClr>
                <a:srgbClr val="000000"/>
              </a:buClr>
              <a:buFont typeface="Wingdings" charset="2"/>
              <a:buChar char=""/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内容文字点击添加内容文字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719280" y="527652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Box 1"/>
          <p:cNvSpPr/>
          <p:nvPr/>
        </p:nvSpPr>
        <p:spPr>
          <a:xfrm>
            <a:off x="465480" y="181080"/>
            <a:ext cx="9126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3268080" y="142920"/>
            <a:ext cx="1232280" cy="999720"/>
          </a:xfrm>
          <a:prstGeom prst="roundRect">
            <a:avLst>
              <a:gd name="adj" fmla="val 8688"/>
            </a:avLst>
          </a:prstGeom>
          <a:gradFill rotWithShape="0">
            <a:gsLst>
              <a:gs pos="1000">
                <a:srgbClr val="00b0f0">
                  <a:alpha val="71372"/>
                </a:srgbClr>
              </a:gs>
              <a:gs pos="100000">
                <a:srgbClr val="0070c0">
                  <a:alpha val="93333"/>
                </a:srgbClr>
              </a:gs>
            </a:gsLst>
            <a:lin ang="5400000"/>
          </a:gradFill>
          <a:ln w="34925">
            <a:solidFill>
              <a:srgbClr val="ffffff"/>
            </a:solidFill>
            <a:round/>
          </a:ln>
          <a:effectLst>
            <a:outerShdw algn="ctr" blurRad="317520" dir="0">
              <a:srgbClr val="000000">
                <a:alpha val="23000"/>
              </a:srgbClr>
            </a:outerShdw>
          </a:effectLst>
          <a:scene3d>
            <a:camera prst="isometricTopUp"/>
            <a:lightRig dir="t" rig="threePt"/>
          </a:scene3d>
          <a:sp3d prstMaterial="metal">
            <a:bevelT prst="softRound" w="260350" h="50800"/>
            <a:bevelB prst="softRound" w="88900" h="1968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4625280" y="1357200"/>
            <a:ext cx="1589400" cy="1289520"/>
          </a:xfrm>
          <a:prstGeom prst="roundRect">
            <a:avLst>
              <a:gd name="adj" fmla="val 8688"/>
            </a:avLst>
          </a:prstGeom>
          <a:gradFill rotWithShape="0">
            <a:gsLst>
              <a:gs pos="1000">
                <a:srgbClr val="00b0f0">
                  <a:alpha val="71372"/>
                </a:srgbClr>
              </a:gs>
              <a:gs pos="100000">
                <a:srgbClr val="0070c0">
                  <a:alpha val="93333"/>
                </a:srgbClr>
              </a:gs>
            </a:gsLst>
            <a:lin ang="5400000"/>
          </a:gradFill>
          <a:ln w="34925">
            <a:solidFill>
              <a:srgbClr val="ffffff"/>
            </a:solidFill>
            <a:round/>
          </a:ln>
          <a:effectLst>
            <a:outerShdw algn="ctr" blurRad="317520" dir="0">
              <a:srgbClr val="000000">
                <a:alpha val="23000"/>
              </a:srgbClr>
            </a:outerShdw>
          </a:effectLst>
          <a:scene3d>
            <a:camera prst="isometricTopUp"/>
            <a:lightRig dir="t" rig="threePt"/>
          </a:scene3d>
          <a:sp3d prstMaterial="metal">
            <a:bevelT prst="softRound" w="260350" h="50800"/>
            <a:bevelB prst="softRound" w="88900" h="1968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2500200" y="2500200"/>
            <a:ext cx="1935000" cy="1569960"/>
          </a:xfrm>
          <a:prstGeom prst="roundRect">
            <a:avLst>
              <a:gd name="adj" fmla="val 8688"/>
            </a:avLst>
          </a:prstGeom>
          <a:gradFill rotWithShape="0">
            <a:gsLst>
              <a:gs pos="1000">
                <a:srgbClr val="00b0f0">
                  <a:alpha val="71372"/>
                </a:srgbClr>
              </a:gs>
              <a:gs pos="100000">
                <a:srgbClr val="0070c0">
                  <a:alpha val="93333"/>
                </a:srgbClr>
              </a:gs>
            </a:gsLst>
            <a:lin ang="5400000"/>
          </a:gradFill>
          <a:ln w="34925">
            <a:solidFill>
              <a:srgbClr val="ffffff"/>
            </a:solidFill>
            <a:round/>
          </a:ln>
          <a:effectLst>
            <a:outerShdw algn="ctr" blurRad="317520" dir="0">
              <a:srgbClr val="000000">
                <a:alpha val="23000"/>
              </a:srgbClr>
            </a:outerShdw>
          </a:effectLst>
          <a:scene3d>
            <a:camera prst="isometricTopUp"/>
            <a:lightRig dir="t" rig="threePt"/>
          </a:scene3d>
          <a:sp3d prstMaterial="metal">
            <a:bevelT prst="softRound" w="260350" h="50800"/>
            <a:bevelB prst="softRound" w="88900" h="1968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6" name="Rectangle 3"/>
          <p:cNvSpPr/>
          <p:nvPr/>
        </p:nvSpPr>
        <p:spPr>
          <a:xfrm>
            <a:off x="4908600" y="3676680"/>
            <a:ext cx="2381760" cy="1932480"/>
          </a:xfrm>
          <a:prstGeom prst="roundRect">
            <a:avLst>
              <a:gd name="adj" fmla="val 8688"/>
            </a:avLst>
          </a:prstGeom>
          <a:gradFill rotWithShape="0">
            <a:gsLst>
              <a:gs pos="1000">
                <a:srgbClr val="ffc000"/>
              </a:gs>
              <a:gs pos="100000">
                <a:srgbClr val="e46c0a"/>
              </a:gs>
            </a:gsLst>
            <a:lin ang="5400000"/>
          </a:gradFill>
          <a:ln w="34925">
            <a:solidFill>
              <a:srgbClr val="ffffff"/>
            </a:solidFill>
            <a:round/>
          </a:ln>
          <a:effectLst>
            <a:outerShdw algn="ctr" blurRad="317520" dir="0">
              <a:srgbClr val="000000">
                <a:alpha val="23000"/>
              </a:srgbClr>
            </a:outerShdw>
          </a:effectLst>
          <a:scene3d>
            <a:camera prst="isometricTopUp"/>
            <a:lightRig dir="t" rig="threePt"/>
          </a:scene3d>
          <a:sp3d prstMaterial="metal">
            <a:bevelT prst="softRound" w="260350" h="50800"/>
            <a:bevelB prst="softRound" w="88900" h="1968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17" name="直接连接符 52"/>
          <p:cNvCxnSpPr/>
          <p:nvPr/>
        </p:nvCxnSpPr>
        <p:spPr>
          <a:xfrm>
            <a:off x="4259880" y="1052280"/>
            <a:ext cx="747000" cy="53820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  <a:round/>
            <a:tailEnd len="med" type="triangle" w="med"/>
          </a:ln>
        </p:spPr>
      </p:cxnSp>
      <p:cxnSp>
        <p:nvCxnSpPr>
          <p:cNvPr id="218" name="直接连接符 53"/>
          <p:cNvCxnSpPr/>
          <p:nvPr/>
        </p:nvCxnSpPr>
        <p:spPr>
          <a:xfrm flipH="1">
            <a:off x="4143240" y="2454840"/>
            <a:ext cx="635040" cy="40284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  <a:round/>
            <a:tailEnd len="med" type="triangle" w="med"/>
          </a:ln>
        </p:spPr>
      </p:cxnSp>
      <p:cxnSp>
        <p:nvCxnSpPr>
          <p:cNvPr id="219" name="直接连接符 54"/>
          <p:cNvCxnSpPr/>
          <p:nvPr/>
        </p:nvCxnSpPr>
        <p:spPr>
          <a:xfrm>
            <a:off x="4101480" y="3702600"/>
            <a:ext cx="1096920" cy="662040"/>
          </a:xfrm>
          <a:prstGeom prst="straightConnector1">
            <a:avLst/>
          </a:prstGeom>
          <a:ln w="19050">
            <a:solidFill>
              <a:srgbClr val="000000">
                <a:lumMod val="50000"/>
                <a:lumOff val="50000"/>
              </a:srgbClr>
            </a:solidFill>
            <a:prstDash val="sysDot"/>
            <a:round/>
            <a:tailEnd len="med" type="triangle" w="med"/>
          </a:ln>
        </p:spPr>
      </p:cxnSp>
      <p:sp>
        <p:nvSpPr>
          <p:cNvPr id="220" name="Rectangle 3"/>
          <p:cNvSpPr/>
          <p:nvPr/>
        </p:nvSpPr>
        <p:spPr>
          <a:xfrm>
            <a:off x="5190120" y="3817080"/>
            <a:ext cx="1810440" cy="1468800"/>
          </a:xfrm>
          <a:prstGeom prst="roundRect">
            <a:avLst>
              <a:gd name="adj" fmla="val 8688"/>
            </a:avLst>
          </a:prstGeom>
          <a:solidFill>
            <a:schemeClr val="bg1">
              <a:lumMod val="95000"/>
              <a:alpha val="29000"/>
            </a:schemeClr>
          </a:solidFill>
          <a:ln w="34925">
            <a:solidFill>
              <a:srgbClr val="ffffff"/>
            </a:solidFill>
            <a:round/>
          </a:ln>
          <a:effectLst>
            <a:outerShdw algn="ctr" blurRad="317520" dir="0">
              <a:srgbClr val="000000">
                <a:alpha val="23000"/>
              </a:srgbClr>
            </a:outerShdw>
          </a:effectLst>
          <a:scene3d>
            <a:camera prst="isometricTopUp"/>
            <a:lightRig dir="t" rig="threePt"/>
          </a:scene3d>
          <a:sp3d prstMaterial="metal">
            <a:bevelT prst="softRound" w="260350" h="50800"/>
            <a:bevelB prst="softRound" w="88900" h="254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136440"/>
              </a:tabLst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21" name="Picture 28" descr="num11"/>
          <p:cNvPicPr/>
          <p:nvPr/>
        </p:nvPicPr>
        <p:blipFill>
          <a:blip r:embed="rId1"/>
          <a:stretch/>
        </p:blipFill>
        <p:spPr>
          <a:xfrm>
            <a:off x="5108760" y="3117240"/>
            <a:ext cx="1485360" cy="16743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9"/>
          <p:cNvSpPr/>
          <p:nvPr/>
        </p:nvSpPr>
        <p:spPr>
          <a:xfrm rot="19731600">
            <a:off x="2685600" y="3093120"/>
            <a:ext cx="1626120" cy="38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9"/>
          <p:cNvSpPr/>
          <p:nvPr/>
        </p:nvSpPr>
        <p:spPr>
          <a:xfrm rot="19731600">
            <a:off x="4553280" y="1749960"/>
            <a:ext cx="1626120" cy="381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9"/>
          <p:cNvSpPr/>
          <p:nvPr/>
        </p:nvSpPr>
        <p:spPr>
          <a:xfrm>
            <a:off x="4833360" y="368280"/>
            <a:ext cx="2566080" cy="290520"/>
          </a:xfrm>
          <a:prstGeom prst="rect">
            <a:avLst/>
          </a:prstGeom>
          <a:noFill/>
          <a:ln w="9525">
            <a:noFill/>
          </a:ln>
          <a:scene3d>
            <a:camera prst="orthographic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9"/>
          <p:cNvSpPr/>
          <p:nvPr/>
        </p:nvSpPr>
        <p:spPr>
          <a:xfrm>
            <a:off x="4833360" y="630000"/>
            <a:ext cx="2566080" cy="290520"/>
          </a:xfrm>
          <a:prstGeom prst="rect">
            <a:avLst/>
          </a:prstGeom>
          <a:noFill/>
          <a:ln w="9525">
            <a:noFill/>
          </a:ln>
          <a:scene3d>
            <a:camera prst="orthographic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9"/>
          <p:cNvSpPr/>
          <p:nvPr/>
        </p:nvSpPr>
        <p:spPr>
          <a:xfrm>
            <a:off x="1714320" y="1643040"/>
            <a:ext cx="2566080" cy="290520"/>
          </a:xfrm>
          <a:prstGeom prst="rect">
            <a:avLst/>
          </a:prstGeom>
          <a:noFill/>
          <a:ln w="9525">
            <a:noFill/>
          </a:ln>
          <a:scene3d>
            <a:camera prst="orthographic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9"/>
          <p:cNvSpPr/>
          <p:nvPr/>
        </p:nvSpPr>
        <p:spPr>
          <a:xfrm>
            <a:off x="1714320" y="1904760"/>
            <a:ext cx="2566080" cy="290520"/>
          </a:xfrm>
          <a:prstGeom prst="rect">
            <a:avLst/>
          </a:prstGeom>
          <a:noFill/>
          <a:ln w="9525">
            <a:noFill/>
          </a:ln>
          <a:scene3d>
            <a:camera prst="orthographic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9"/>
          <p:cNvSpPr/>
          <p:nvPr/>
        </p:nvSpPr>
        <p:spPr>
          <a:xfrm>
            <a:off x="1214280" y="4286160"/>
            <a:ext cx="2566080" cy="290520"/>
          </a:xfrm>
          <a:prstGeom prst="rect">
            <a:avLst/>
          </a:prstGeom>
          <a:noFill/>
          <a:ln w="9525">
            <a:noFill/>
          </a:ln>
          <a:scene3d>
            <a:camera prst="orthographic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39"/>
          <p:cNvSpPr/>
          <p:nvPr/>
        </p:nvSpPr>
        <p:spPr>
          <a:xfrm>
            <a:off x="1214280" y="4547880"/>
            <a:ext cx="2566080" cy="290520"/>
          </a:xfrm>
          <a:prstGeom prst="rect">
            <a:avLst/>
          </a:prstGeom>
          <a:noFill/>
          <a:ln w="9525">
            <a:noFill/>
          </a:ln>
          <a:scene3d>
            <a:camera prst="orthographicFront"/>
            <a:lightRig dir="t" rig="threePt"/>
          </a:scene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20000"/>
              </a:lnSpc>
            </a:pPr>
            <a:r>
              <a:rPr b="1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此处添加内容此处添加内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3"/>
          <p:cNvSpPr/>
          <p:nvPr/>
        </p:nvSpPr>
        <p:spPr>
          <a:xfrm>
            <a:off x="3104280" y="1428840"/>
            <a:ext cx="2216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anks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4"/>
          <p:cNvSpPr/>
          <p:nvPr/>
        </p:nvSpPr>
        <p:spPr>
          <a:xfrm>
            <a:off x="3536280" y="2071800"/>
            <a:ext cx="1400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chemeClr val="accent6">
                    <a:lumMod val="50000"/>
                  </a:schemeClr>
                </a:solidFill>
                <a:latin typeface="微软雅黑"/>
                <a:ea typeface="微软雅黑"/>
              </a:rPr>
              <a:t>谢谢观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5"/>
          <p:cNvSpPr/>
          <p:nvPr/>
        </p:nvSpPr>
        <p:spPr>
          <a:xfrm>
            <a:off x="7524360" y="4485240"/>
            <a:ext cx="7916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  <Words>367</Words>
  <Paragraphs>7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07:38:41Z</dcterms:created>
  <dc:creator>lidan</dc:creator>
  <dc:description/>
  <dc:language>en-US</dc:language>
  <cp:lastModifiedBy>a</cp:lastModifiedBy>
  <dcterms:modified xsi:type="dcterms:W3CDTF">2015-07-25T10:01:48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16:10)</vt:lpwstr>
  </property>
  <property fmtid="{D5CDD505-2E9C-101B-9397-08002B2CF9AE}" pid="3" name="Slides">
    <vt:r8>8</vt:r8>
  </property>
</Properties>
</file>