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D7CD97-A36A-425E-9718-52761A7FD2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000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57516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540DD9-A5A3-42E4-B96F-8EBA07EC81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000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000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57516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57516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9EC09-5969-4120-9412-1444B784948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000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000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000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57516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57516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57516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616AD-3106-4122-80FF-313CA4ABE67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99588F-7702-40D1-A6EF-305A03F56C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00008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0A905FB-D812-481E-8A6E-FF6F56016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00008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8FAC0C-7D63-49B9-9111-75B3E8DD7C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00008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00008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7AA453-6C8F-4E9E-B38C-FB68930DE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7CDE7F-B2DB-4DF3-8824-01CBBF8DC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68360" y="0"/>
            <a:ext cx="8229600" cy="27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E1A849-4C3E-461A-9D02-8B06B9BFD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000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00008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57516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C521A1-A4C4-48AA-B646-A064B10D8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00008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C8671-BB57-4585-95FA-1355C077C26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00008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000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57516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C5478F-AC99-45E6-A58B-1A7E979FD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000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000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57516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D9C7B8-E873-4A82-B794-AC0CD852A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000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57516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363BFD-32D3-4D57-B26F-31311460C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000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000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57516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57516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A94A26-A1FF-42F7-A8F6-B7875DB6C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000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000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000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57516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57516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57516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90C0FE-1D6A-45B3-BA0B-74AC2ABB1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1C56856-C44B-43D4-9744-36BC3A95A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457200" y="100008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A2EA8FA-00F5-4170-8B29-79F3512F4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00008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5F9E6EE-156E-486C-837C-EB525D397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00008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00008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547C1AC-A6B4-4FAB-B1F0-D508954C1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F8DAA33-9F76-4F0F-B25E-EEBEA5CD6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00008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D3D8F-54B0-46ED-ACDF-AC39F71BE700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468360" y="0"/>
            <a:ext cx="8229600" cy="27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6F290B3-D2F0-4C40-866B-40BDD7F3E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000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00008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57516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0398265-F161-40FA-BB4A-8AE85060D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00008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000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74240" y="357516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2B26FD7-2925-4D1D-8FC0-C392B265A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000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000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57516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A1BEB48-DF47-4F77-B57F-F6D54E3D1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00008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57200" y="357516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F6F7CB7-FF76-4790-B2C5-77F8EAFBF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000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1000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357516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74240" y="357516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2D66462-3057-43AB-892A-62A03A0FD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000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239640" y="1000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022080" y="100008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57200" y="357516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239640" y="357516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6022080" y="3575160"/>
            <a:ext cx="264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7AF8CC8-B4EE-4DCE-B4E0-C58FE8738F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00008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00008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563CF-4D17-4031-B61C-F230C8469D3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13EC1F-A82D-4E1C-973D-10AAF7E687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0"/>
            <a:ext cx="8229600" cy="270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E10FF4-6253-49E4-BC91-DE061E13053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000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00008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57516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ED1AE5-5A73-40C0-AF49-986FCB7D717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000080"/>
            <a:ext cx="4015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000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57516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5A61E-A8CB-4D08-A0BD-7081EFFFC4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000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000080"/>
            <a:ext cx="40158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575160"/>
            <a:ext cx="8229600" cy="23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678A6-13A9-4E9A-962F-BF6CA8E8CF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hyperlink" Target="http://www.nordridesign.cn/index.php" TargetMode="External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背景2"/>
          <p:cNvPicPr/>
          <p:nvPr/>
        </p:nvPicPr>
        <p:blipFill>
          <a:blip r:embed="rId2"/>
          <a:stretch/>
        </p:blipFill>
        <p:spPr>
          <a:xfrm>
            <a:off x="-507960" y="-379440"/>
            <a:ext cx="10161720" cy="76183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00008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7009920" y="6645240"/>
            <a:ext cx="2133720" cy="4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华文细黑"/>
                <a:ea typeface="华文细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华文细黑"/>
                <a:ea typeface="华文细黑"/>
              </a:rPr>
              <a:t>Page   </a:t>
            </a:r>
            <a:fld id="{25DC28FA-CE1E-48CF-8D85-5B5CC3716A1D}" type="slidenum">
              <a:rPr b="0" lang="en-US" sz="1200" spc="-1" strike="noStrike">
                <a:solidFill>
                  <a:srgbClr val="898989"/>
                </a:solidFill>
                <a:latin typeface="华文细黑"/>
                <a:ea typeface="华文细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-466560" y="6858000"/>
            <a:ext cx="1387440" cy="349200"/>
          </a:xfrm>
          <a:prstGeom prst="rect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ffffff"/>
                </a:solidFill>
                <a:latin typeface="Arial"/>
                <a:ea typeface="华文细黑"/>
              </a:rPr>
              <a:t>LOG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85976-DF06-475E-B6F8-EE902C6D78B0}" type="datetime">
              <a:rPr b="0" lang="zh-CN" sz="1400" spc="-1" strike="noStrike">
                <a:solidFill>
                  <a:srgbClr val="000000"/>
                </a:solidFill>
                <a:latin typeface="Calibri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9E410-91A1-4A44-A20D-C61CA1911BD0}" type="slidenum">
              <a:rPr b="0" lang="zh-CN" sz="1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Text Box 7"/>
          <p:cNvSpPr/>
          <p:nvPr/>
        </p:nvSpPr>
        <p:spPr>
          <a:xfrm>
            <a:off x="3813120" y="2536920"/>
            <a:ext cx="36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4029120" y="2536920"/>
            <a:ext cx="36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4255920" y="2536920"/>
            <a:ext cx="36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0"/>
          <p:cNvSpPr/>
          <p:nvPr/>
        </p:nvSpPr>
        <p:spPr>
          <a:xfrm>
            <a:off x="4543560" y="2536920"/>
            <a:ext cx="36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1"/>
          <p:cNvSpPr/>
          <p:nvPr/>
        </p:nvSpPr>
        <p:spPr>
          <a:xfrm>
            <a:off x="4757760" y="2536920"/>
            <a:ext cx="36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2"/>
          <p:cNvSpPr/>
          <p:nvPr/>
        </p:nvSpPr>
        <p:spPr>
          <a:xfrm>
            <a:off x="5037120" y="2536920"/>
            <a:ext cx="36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3"/>
          <p:cNvSpPr/>
          <p:nvPr/>
        </p:nvSpPr>
        <p:spPr>
          <a:xfrm>
            <a:off x="5264280" y="2536920"/>
            <a:ext cx="36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4"/>
          <p:cNvSpPr/>
          <p:nvPr/>
        </p:nvSpPr>
        <p:spPr>
          <a:xfrm>
            <a:off x="5478480" y="2536920"/>
            <a:ext cx="36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5"/>
          <p:cNvSpPr/>
          <p:nvPr/>
        </p:nvSpPr>
        <p:spPr>
          <a:xfrm>
            <a:off x="4078080" y="3019320"/>
            <a:ext cx="1465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中国专业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微软雅黑"/>
              </a:rPr>
              <a:t>PPT</a:t>
            </a: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设计交流论坛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6" descr="logo"/>
          <p:cNvPicPr/>
          <p:nvPr/>
        </p:nvPicPr>
        <p:blipFill>
          <a:blip r:embed="rId2"/>
          <a:stretch/>
        </p:blipFill>
        <p:spPr>
          <a:xfrm>
            <a:off x="3116160" y="2525760"/>
            <a:ext cx="782640" cy="738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7" descr="logo2"/>
          <p:cNvPicPr/>
          <p:nvPr/>
        </p:nvPicPr>
        <p:blipFill>
          <a:blip r:embed="rId3"/>
          <a:stretch/>
        </p:blipFill>
        <p:spPr>
          <a:xfrm>
            <a:off x="2563920" y="2347920"/>
            <a:ext cx="3828960" cy="132552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8">
            <a:hlinkClick r:id="rId4"/>
          </p:cNvPr>
          <p:cNvSpPr/>
          <p:nvPr/>
        </p:nvSpPr>
        <p:spPr>
          <a:xfrm>
            <a:off x="2484360" y="2060640"/>
            <a:ext cx="398772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背景1"/>
          <p:cNvPicPr/>
          <p:nvPr/>
        </p:nvPicPr>
        <p:blipFill>
          <a:blip r:embed="rId2"/>
          <a:stretch/>
        </p:blipFill>
        <p:spPr>
          <a:xfrm>
            <a:off x="-517680" y="-369720"/>
            <a:ext cx="10180800" cy="759924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13840"/>
            <a:ext cx="8229600" cy="58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Click to edit the title text format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457200" y="100008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华文细黑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华文细黑"/>
                <a:ea typeface="华文细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4AEB8-F008-4928-A472-AD89E95AEA63}" type="datetime">
              <a:rPr b="0" lang="zh-CN" sz="1200" spc="-1" strike="noStrike">
                <a:solidFill>
                  <a:srgbClr val="898989"/>
                </a:solidFill>
                <a:latin typeface="华文细黑"/>
                <a:ea typeface="华文细黑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华文细黑"/>
                <a:ea typeface="华文细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8F509-7E33-4704-95EB-1A4DACCA09D9}" type="slidenum">
              <a:rPr b="0" lang="zh-CN" sz="1200" spc="-1" strike="noStrike">
                <a:solidFill>
                  <a:srgbClr val="898989"/>
                </a:solidFill>
                <a:latin typeface="华文细黑"/>
                <a:ea typeface="华文细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灯片编号占位符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8052D-19A5-49A0-893A-76DFC843A8B4}" type="slidenum">
              <a:rPr b="0" lang="zh-CN" sz="1200" spc="-1" strike="noStrike">
                <a:solidFill>
                  <a:srgbClr val="898989"/>
                </a:solidFill>
                <a:latin typeface="华文细黑"/>
                <a:ea typeface="华文细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WordArt 10"/>
          <p:cNvSpPr txBox="1"/>
          <p:nvPr/>
        </p:nvSpPr>
        <p:spPr>
          <a:xfrm>
            <a:off x="0" y="3933720"/>
            <a:ext cx="3348000" cy="327240"/>
          </a:xfrm>
          <a:prstGeom prst="rect">
            <a:avLst/>
          </a:prstGeom>
        </p:spPr>
        <p:txBody>
          <a:bodyPr wrap="none" lIns="90000" rIns="90000" tIns="46800" bIns="46800" anchor="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1" strike="noStrike">
                <a:ln w="0">
                  <a:noFill/>
                </a:ln>
                <a:solidFill>
                  <a:srgbClr val="ffffff"/>
                </a:solidFill>
                <a:latin typeface="宋体"/>
              </a:rPr>
              <a:t>单击添加署名或公司信息</a:t>
            </a:r>
            <a:endParaRPr b="1" lang="en-US" sz="1600" spc="1" strike="noStrike">
              <a:ln w="0">
                <a:noFill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38" name="矩形 1"/>
          <p:cNvSpPr/>
          <p:nvPr/>
        </p:nvSpPr>
        <p:spPr>
          <a:xfrm>
            <a:off x="1568880" y="620640"/>
            <a:ext cx="53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简约统计图金融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灯片编号占位符 1"/>
          <p:cNvSpPr/>
          <p:nvPr/>
        </p:nvSpPr>
        <p:spPr>
          <a:xfrm>
            <a:off x="7010280" y="6645240"/>
            <a:ext cx="213372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华文细黑"/>
                <a:ea typeface="华文细黑"/>
              </a:rPr>
              <a:t>Page   </a:t>
            </a:r>
            <a:fld id="{0A38802E-75FB-42CD-9496-7AE2F29F9BFE}" type="slidenum">
              <a:rPr b="0" lang="en-US" sz="1200" spc="-1" strike="noStrike">
                <a:solidFill>
                  <a:srgbClr val="898989"/>
                </a:solidFill>
                <a:latin typeface="华文细黑"/>
                <a:ea typeface="华文细黑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000000"/>
              </a:solidFill>
              <a:latin typeface="黑体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00008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细黑"/>
              </a:rPr>
              <a:t>配色方案修改：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配色方案在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格式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幻灯片设计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配色方案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编辑配色方案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下调整。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华文细黑"/>
              </a:rPr>
              <a:t>LOGO</a:t>
            </a:r>
            <a:r>
              <a:rPr b="1" lang="zh-CN" sz="2000" spc="-1" strike="noStrike">
                <a:solidFill>
                  <a:srgbClr val="000000"/>
                </a:solidFill>
                <a:latin typeface="华文细黑"/>
              </a:rPr>
              <a:t>的添加：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添加修改在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视图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母版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幻灯片母版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下调整。直接选择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图片删除或修改。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细黑"/>
              </a:rPr>
              <a:t>字体格式的设置：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括标题和文本格式的设置在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视图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母版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幻灯片母版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下调整。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华文细黑"/>
              </a:rPr>
              <a:t>默认设置：</a:t>
            </a:r>
            <a:endParaRPr b="0" lang="en-US" sz="20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首页主标题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36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号（中文黑体英文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Arial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）加粗；副标题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16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号（中文黑体英文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Arial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）加粗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内页标题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24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号（中文黑体英文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Arial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）加粗；内页内容文字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</a:rPr>
              <a:t>20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</a:rPr>
              <a:t>号（华文细黑）</a:t>
            </a: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华文细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79280" y="2565000"/>
            <a:ext cx="3386160" cy="87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</a:rPr>
              <a:t>感谢您的关注！</a:t>
            </a:r>
            <a:endParaRPr b="1" lang="en-US" sz="2400" spc="-1" strike="noStrike">
              <a:solidFill>
                <a:srgbClr val="0000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8T09:16:30Z</dcterms:created>
  <dc:creator>PowerBar_lxym148</dc:creator>
  <dc:description>PowerBar：中国专业ppt设计交流论坛，是基于PowerPoint软件，以设计，创意，技巧，讨论，赏析，模板发布内容为主。
通过Nordri设计团队并汇集国内优秀PowerPoint设计者/爱好者的原创力量，建立更多与PPT相关的专业内容，为网友共享。</dc:description>
  <cp:keywords>ppt模板 PPT专业模板 PowerBar 专业PPT论坛</cp:keywords>
  <dc:language>en-US</dc:language>
  <cp:lastModifiedBy>王玉清</cp:lastModifiedBy>
  <cp:lastPrinted>1899-12-30T00:00:00Z</cp:lastPrinted>
  <dcterms:modified xsi:type="dcterms:W3CDTF">2016-02-15T03:50:41Z</dcterms:modified>
  <cp:revision>37</cp:revision>
  <dc:subject>PowerBar原创专业PPT模板</dc:subject>
  <dc:title>PowerBar原创专业PPT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998</vt:lpwstr>
  </property>
</Properties>
</file>