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3081000" cy="98298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3EE-7362-4A6C-BFDD-D4F4B739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3760" y="2300040"/>
            <a:ext cx="117723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3760" y="5277960"/>
            <a:ext cx="117723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A74-F174-41F3-9175-13BF5AB9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3760" y="230004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86280" y="230004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3760" y="527796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86280" y="527796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07A-C4D0-4236-B800-E9C5A08D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3760" y="2300040"/>
            <a:ext cx="379044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4280" y="2300040"/>
            <a:ext cx="379044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14440" y="2300040"/>
            <a:ext cx="379044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3760" y="5277960"/>
            <a:ext cx="379044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34280" y="5277960"/>
            <a:ext cx="379044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14440" y="5277960"/>
            <a:ext cx="379044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4B9-ACF0-46F7-8BBC-CC729C9B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3760" y="2300040"/>
            <a:ext cx="1177236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A96-E588-47E7-86EF-404E9380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3760" y="2300040"/>
            <a:ext cx="1177236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7F2-4799-4EE3-A00D-3CD16C70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3760" y="2300040"/>
            <a:ext cx="574488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86280" y="2300040"/>
            <a:ext cx="574488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588-28CA-4C26-B966-32C99A19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768-5659-4FF4-845D-B3999A5C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67A-AED7-4D38-8540-D140EA33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3760" y="230004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86280" y="2300040"/>
            <a:ext cx="574488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3760" y="527796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972-1599-4366-948A-9DD983B3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3760" y="2300040"/>
            <a:ext cx="574488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86280" y="230004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86280" y="527796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209-8EFD-4BB0-80D2-F018AB1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3760" y="230004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86280" y="2300040"/>
            <a:ext cx="574488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3760" y="5277960"/>
            <a:ext cx="117723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B3F-4BD3-42CA-99E5-3970D25F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578026-0BAF-46DF-B7CA-0F72503C197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53760" y="2300040"/>
            <a:ext cx="1177236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think-progress.com/uk/en/toolkit/-top-10-technology-trends-shaping-business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7.jpeg"/><Relationship Id="rId5" Type="http://schemas.openxmlformats.org/officeDocument/2006/relationships/hyperlink" Target="http://www.think-progress.com/uk/en/toolkit/-top-10-technology-trends-shaping-business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think-progress.com/uk/en/toolkit/-top-10-technology-trends-shaping-business" TargetMode="External"/><Relationship Id="rId5" Type="http://schemas.openxmlformats.org/officeDocument/2006/relationships/hyperlink" Target="http://www.marketsandmarkets.com/PressReleases/wearable-electronics.asp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think-progress.com/uk/en/toolkit/-top-10-technology-trends-shaping-business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hyperlink" Target="http://www.think-progress.com/uk/en/toolkit/-top-10-technology-trends-shaping-business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hyperlink" Target="http://www.think-progress.com/uk/en/toolkit/-top-10-technology-trends-shaping-business" TargetMode="External"/><Relationship Id="rId8" Type="http://schemas.openxmlformats.org/officeDocument/2006/relationships/hyperlink" Target="http://www.informationweek.com/cloud/infrastructure-as-a-service/gartner-tells-outsourcers-embrace-cloud-or-die/d/d-id/1110991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www.think-progress.com/uk/en/toolkit/-top-10-technology-trends-shaping-business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think-progress.com/uk/en/toolkit/-top-10-technology-trends-shaping-business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5715720" y="1003320"/>
            <a:ext cx="676764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700"/>
              </a:lnSpc>
              <a:tabLst>
                <a:tab algn="l" pos="1028880"/>
                <a:tab algn="l" pos="3276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0" spc="-1" strike="noStrike">
                <a:solidFill>
                  <a:srgbClr val="000000"/>
                </a:solidFill>
                <a:latin typeface="Microsoft YaHei UI"/>
              </a:rPr>
              <a:t>Th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00"/>
              </a:lnSpc>
              <a:tabLst>
                <a:tab algn="l" pos="1028880"/>
                <a:tab algn="l" pos="3276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0" spc="-1" strike="noStrike">
                <a:solidFill>
                  <a:srgbClr val="000000"/>
                </a:solidFill>
                <a:latin typeface="Microsoft YaHei UI"/>
              </a:rPr>
              <a:t>futur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00"/>
              </a:lnSpc>
              <a:tabLst>
                <a:tab algn="l" pos="1028880"/>
                <a:tab algn="l" pos="327672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Microsoft YaHei UI"/>
              </a:rPr>
              <a:t>of</a:t>
            </a:r>
            <a:r>
              <a:rPr b="0" lang="en-US" sz="1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0" spc="-1" strike="noStrike">
                <a:solidFill>
                  <a:srgbClr val="000000"/>
                </a:solidFill>
                <a:latin typeface="Microsoft YaHei UI"/>
              </a:rPr>
              <a:t>work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5193000" y="6730920"/>
            <a:ext cx="75848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799"/>
              </a:lnSpc>
            </a:pPr>
            <a:r>
              <a:rPr b="0" lang="en-US" sz="7700" spc="-1" strike="noStrike">
                <a:solidFill>
                  <a:srgbClr val="ffffff"/>
                </a:solidFill>
                <a:latin typeface="Microsoft YaHei UI"/>
              </a:rPr>
              <a:t>Your</a:t>
            </a:r>
            <a:r>
              <a:rPr b="0" lang="en-US" sz="7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700" spc="-1" strike="noStrike">
                <a:solidFill>
                  <a:srgbClr val="ffffff"/>
                </a:solidFill>
                <a:latin typeface="Microsoft YaHei UI"/>
              </a:rPr>
              <a:t>day</a:t>
            </a:r>
            <a:r>
              <a:rPr b="0" lang="en-US" sz="7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700" spc="-1" strike="noStrike">
                <a:solidFill>
                  <a:srgbClr val="ffffff"/>
                </a:solidFill>
                <a:latin typeface="Microsoft YaHei UI"/>
              </a:rPr>
              <a:t>in</a:t>
            </a:r>
            <a:r>
              <a:rPr b="0" lang="en-US" sz="7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700" spc="-1" strike="noStrike">
                <a:solidFill>
                  <a:srgbClr val="ffffff"/>
                </a:solidFill>
                <a:latin typeface="Microsoft YaHei UI"/>
              </a:rPr>
              <a:t>2024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2782800" y="598680"/>
            <a:ext cx="6194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Lenovo</a:t>
            </a:r>
            <a:r>
              <a:rPr b="1" i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动画通用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425160" y="94820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1245384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3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6920" y="9029880"/>
            <a:ext cx="4349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Sourc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MarketsandMar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81440" y="419040"/>
            <a:ext cx="6990480" cy="80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299"/>
              </a:lnSpc>
              <a:tabLst>
                <a:tab algn="l" pos="469800"/>
              </a:tabLst>
            </a:pP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That’s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okay,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you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can</a:t>
            </a:r>
            <a:endParaRPr b="0" lang="en-US" sz="54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tabLst>
                <a:tab algn="l" pos="469800"/>
              </a:tabLst>
            </a:pP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3D-print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a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new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set.</a:t>
            </a:r>
            <a:endParaRPr b="0" lang="en-US" sz="54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Th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3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prin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marke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will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worth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US$8.4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billion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b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2020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reeform 3"/>
          <p:cNvSpPr/>
          <p:nvPr/>
        </p:nvSpPr>
        <p:spPr>
          <a:xfrm>
            <a:off x="0" y="0"/>
            <a:ext cx="13080600" cy="9813600"/>
          </a:xfrm>
          <a:custGeom>
            <a:avLst/>
            <a:gdLst>
              <a:gd name="textAreaLeft" fmla="*/ 0 w 13080600"/>
              <a:gd name="textAreaRight" fmla="*/ 13080960 w 13080600"/>
              <a:gd name="textAreaTop" fmla="*/ 0 h 9813600"/>
              <a:gd name="textAreaBottom" fmla="*/ 9813960 h 9813600"/>
            </a:gdLst>
            <a:ahLst/>
            <a:rect l="textAreaLeft" t="textAreaTop" r="textAreaRight" b="textAreaBottom"/>
            <a:pathLst>
              <a:path w="13081000" h="9813785">
                <a:moveTo>
                  <a:pt x="0" y="9813785"/>
                </a:moveTo>
                <a:lnTo>
                  <a:pt x="13081000" y="9813785"/>
                </a:lnTo>
                <a:lnTo>
                  <a:pt x="13081000" y="0"/>
                </a:lnTo>
                <a:lnTo>
                  <a:pt x="0" y="0"/>
                </a:lnTo>
                <a:lnTo>
                  <a:pt x="0" y="9813785"/>
                </a:lnTo>
              </a:path>
            </a:pathLst>
          </a:custGeom>
          <a:solidFill>
            <a:srgbClr val="b7cdd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10695240" y="8751600"/>
            <a:ext cx="152280" cy="218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18520"/>
              <a:gd name="textAreaBottom" fmla="*/ 218880 h 218520"/>
            </a:gdLst>
            <a:ahLst/>
            <a:rect l="textAreaLeft" t="textAreaTop" r="textAreaRight" b="textAreaBottom"/>
            <a:pathLst>
              <a:path w="152628" h="218897">
                <a:moveTo>
                  <a:pt x="62954" y="0"/>
                </a:moveTo>
                <a:lnTo>
                  <a:pt x="152628" y="0"/>
                </a:lnTo>
                <a:cubicBezTo>
                  <a:pt x="152628" y="0"/>
                  <a:pt x="104711" y="161670"/>
                  <a:pt x="88379" y="218896"/>
                </a:cubicBezTo>
                <a:lnTo>
                  <a:pt x="0" y="218896"/>
                </a:lnTo>
                <a:lnTo>
                  <a:pt x="62954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11052000" y="8818920"/>
            <a:ext cx="264960" cy="151200"/>
          </a:xfrm>
          <a:custGeom>
            <a:avLst/>
            <a:gdLst>
              <a:gd name="textAreaLeft" fmla="*/ 0 w 264960"/>
              <a:gd name="textAreaRight" fmla="*/ 265320 w 26496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265355" h="151434">
                <a:moveTo>
                  <a:pt x="41782" y="10896"/>
                </a:moveTo>
                <a:lnTo>
                  <a:pt x="0" y="151434"/>
                </a:lnTo>
                <a:lnTo>
                  <a:pt x="90830" y="151434"/>
                </a:lnTo>
                <a:lnTo>
                  <a:pt x="128054" y="27254"/>
                </a:lnTo>
                <a:cubicBezTo>
                  <a:pt x="128054" y="27254"/>
                  <a:pt x="146151" y="23558"/>
                  <a:pt x="164159" y="29336"/>
                </a:cubicBezTo>
                <a:cubicBezTo>
                  <a:pt x="164159" y="29336"/>
                  <a:pt x="180123" y="32715"/>
                  <a:pt x="173672" y="52107"/>
                </a:cubicBezTo>
                <a:lnTo>
                  <a:pt x="144436" y="151434"/>
                </a:lnTo>
                <a:lnTo>
                  <a:pt x="233451" y="151434"/>
                </a:lnTo>
                <a:lnTo>
                  <a:pt x="263435" y="51409"/>
                </a:lnTo>
                <a:cubicBezTo>
                  <a:pt x="263435" y="51409"/>
                  <a:pt x="277050" y="16382"/>
                  <a:pt x="237947" y="8190"/>
                </a:cubicBezTo>
                <a:cubicBezTo>
                  <a:pt x="237947" y="8190"/>
                  <a:pt x="170319" y="-11951"/>
                  <a:pt x="41782" y="10896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11584800" y="8823600"/>
            <a:ext cx="250200" cy="146520"/>
          </a:xfrm>
          <a:custGeom>
            <a:avLst/>
            <a:gdLst>
              <a:gd name="textAreaLeft" fmla="*/ 0 w 250200"/>
              <a:gd name="textAreaRight" fmla="*/ 250560 w 250200"/>
              <a:gd name="textAreaTop" fmla="*/ 0 h 146520"/>
              <a:gd name="textAreaBottom" fmla="*/ 146880 h 146520"/>
            </a:gdLst>
            <a:ahLst/>
            <a:rect l="textAreaLeft" t="textAreaTop" r="textAreaRight" b="textAreaBottom"/>
            <a:pathLst>
              <a:path w="250685" h="146901">
                <a:moveTo>
                  <a:pt x="0" y="0"/>
                </a:moveTo>
                <a:lnTo>
                  <a:pt x="81457" y="0"/>
                </a:lnTo>
                <a:lnTo>
                  <a:pt x="94144" y="102044"/>
                </a:lnTo>
                <a:lnTo>
                  <a:pt x="165328" y="0"/>
                </a:lnTo>
                <a:lnTo>
                  <a:pt x="250685" y="0"/>
                </a:lnTo>
                <a:lnTo>
                  <a:pt x="150190" y="146901"/>
                </a:lnTo>
                <a:lnTo>
                  <a:pt x="17881" y="1469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11718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543" h="106209">
                <a:moveTo>
                  <a:pt x="0" y="18173"/>
                </a:moveTo>
                <a:lnTo>
                  <a:pt x="30682" y="18173"/>
                </a:lnTo>
                <a:lnTo>
                  <a:pt x="30682" y="106209"/>
                </a:lnTo>
                <a:lnTo>
                  <a:pt x="49783" y="106209"/>
                </a:lnTo>
                <a:lnTo>
                  <a:pt x="49783" y="18173"/>
                </a:lnTo>
                <a:lnTo>
                  <a:pt x="80543" y="18173"/>
                </a:lnTo>
                <a:lnTo>
                  <a:pt x="80543" y="0"/>
                </a:lnTo>
                <a:lnTo>
                  <a:pt x="0" y="0"/>
                </a:lnTo>
                <a:lnTo>
                  <a:pt x="0" y="181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11817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34" h="106197">
                <a:moveTo>
                  <a:pt x="61633" y="43954"/>
                </a:moveTo>
                <a:lnTo>
                  <a:pt x="19125" y="43954"/>
                </a:lnTo>
                <a:lnTo>
                  <a:pt x="19125" y="0"/>
                </a:lnTo>
                <a:lnTo>
                  <a:pt x="0" y="0"/>
                </a:lnTo>
                <a:lnTo>
                  <a:pt x="0" y="106197"/>
                </a:lnTo>
                <a:lnTo>
                  <a:pt x="19125" y="106197"/>
                </a:lnTo>
                <a:lnTo>
                  <a:pt x="19125" y="62090"/>
                </a:lnTo>
                <a:lnTo>
                  <a:pt x="61633" y="62090"/>
                </a:lnTo>
                <a:lnTo>
                  <a:pt x="61633" y="106197"/>
                </a:lnTo>
                <a:lnTo>
                  <a:pt x="80733" y="106197"/>
                </a:lnTo>
                <a:lnTo>
                  <a:pt x="80733" y="0"/>
                </a:lnTo>
                <a:lnTo>
                  <a:pt x="61633" y="0"/>
                </a:lnTo>
                <a:lnTo>
                  <a:pt x="61633" y="4395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12144960" y="904212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58" h="106209">
                <a:moveTo>
                  <a:pt x="0" y="106209"/>
                </a:moveTo>
                <a:lnTo>
                  <a:pt x="71158" y="106209"/>
                </a:lnTo>
                <a:lnTo>
                  <a:pt x="71158" y="88074"/>
                </a:lnTo>
                <a:lnTo>
                  <a:pt x="19101" y="88074"/>
                </a:lnTo>
                <a:lnTo>
                  <a:pt x="19101" y="62102"/>
                </a:lnTo>
                <a:lnTo>
                  <a:pt x="71158" y="62102"/>
                </a:lnTo>
                <a:lnTo>
                  <a:pt x="71158" y="43967"/>
                </a:lnTo>
                <a:lnTo>
                  <a:pt x="19101" y="43967"/>
                </a:lnTo>
                <a:lnTo>
                  <a:pt x="19101" y="18173"/>
                </a:lnTo>
                <a:lnTo>
                  <a:pt x="71158" y="18173"/>
                </a:lnTo>
                <a:lnTo>
                  <a:pt x="71158" y="0"/>
                </a:lnTo>
                <a:lnTo>
                  <a:pt x="0" y="0"/>
                </a:lnTo>
                <a:lnTo>
                  <a:pt x="0" y="10620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12029760" y="9042120"/>
            <a:ext cx="90000" cy="105840"/>
          </a:xfrm>
          <a:custGeom>
            <a:avLst/>
            <a:gdLst>
              <a:gd name="textAreaLeft" fmla="*/ 0 w 90000"/>
              <a:gd name="textAreaRight" fmla="*/ 90360 w 900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90322" h="106209">
                <a:moveTo>
                  <a:pt x="20104" y="25323"/>
                </a:moveTo>
                <a:lnTo>
                  <a:pt x="26301" y="19087"/>
                </a:lnTo>
                <a:cubicBezTo>
                  <a:pt x="26949" y="18491"/>
                  <a:pt x="27622" y="18173"/>
                  <a:pt x="28549" y="18173"/>
                </a:cubicBezTo>
                <a:lnTo>
                  <a:pt x="64693" y="18173"/>
                </a:lnTo>
                <a:cubicBezTo>
                  <a:pt x="65633" y="18173"/>
                  <a:pt x="66255" y="18491"/>
                  <a:pt x="66890" y="19087"/>
                </a:cubicBezTo>
                <a:lnTo>
                  <a:pt x="77609" y="29793"/>
                </a:lnTo>
                <a:lnTo>
                  <a:pt x="90322" y="16954"/>
                </a:lnTo>
                <a:lnTo>
                  <a:pt x="76796" y="3416"/>
                </a:lnTo>
                <a:cubicBezTo>
                  <a:pt x="74548" y="1104"/>
                  <a:pt x="71869" y="0"/>
                  <a:pt x="68859" y="0"/>
                </a:cubicBezTo>
                <a:lnTo>
                  <a:pt x="24396" y="0"/>
                </a:lnTo>
                <a:cubicBezTo>
                  <a:pt x="21361" y="0"/>
                  <a:pt x="18656" y="1104"/>
                  <a:pt x="16420" y="3416"/>
                </a:cubicBezTo>
                <a:lnTo>
                  <a:pt x="3352" y="16433"/>
                </a:lnTo>
                <a:cubicBezTo>
                  <a:pt x="1155" y="18630"/>
                  <a:pt x="0" y="21322"/>
                  <a:pt x="0" y="24396"/>
                </a:cubicBezTo>
                <a:lnTo>
                  <a:pt x="0" y="45236"/>
                </a:lnTo>
                <a:cubicBezTo>
                  <a:pt x="0" y="51307"/>
                  <a:pt x="4838" y="56857"/>
                  <a:pt x="11035" y="57645"/>
                </a:cubicBezTo>
                <a:lnTo>
                  <a:pt x="68185" y="65290"/>
                </a:lnTo>
                <a:cubicBezTo>
                  <a:pt x="69760" y="65455"/>
                  <a:pt x="71221" y="66890"/>
                  <a:pt x="71221" y="68477"/>
                </a:cubicBezTo>
                <a:lnTo>
                  <a:pt x="71221" y="78675"/>
                </a:lnTo>
                <a:cubicBezTo>
                  <a:pt x="71221" y="79425"/>
                  <a:pt x="70929" y="80238"/>
                  <a:pt x="70281" y="80873"/>
                </a:cubicBezTo>
                <a:lnTo>
                  <a:pt x="64045" y="87108"/>
                </a:lnTo>
                <a:cubicBezTo>
                  <a:pt x="63436" y="87718"/>
                  <a:pt x="62801" y="88074"/>
                  <a:pt x="61823" y="88074"/>
                </a:cubicBezTo>
                <a:lnTo>
                  <a:pt x="25653" y="88074"/>
                </a:lnTo>
                <a:cubicBezTo>
                  <a:pt x="24751" y="88074"/>
                  <a:pt x="24065" y="87718"/>
                  <a:pt x="23456" y="87108"/>
                </a:cubicBezTo>
                <a:lnTo>
                  <a:pt x="12775" y="76453"/>
                </a:lnTo>
                <a:lnTo>
                  <a:pt x="0" y="89331"/>
                </a:lnTo>
                <a:lnTo>
                  <a:pt x="13550" y="102857"/>
                </a:lnTo>
                <a:cubicBezTo>
                  <a:pt x="15811" y="105079"/>
                  <a:pt x="18491" y="106209"/>
                  <a:pt x="21551" y="106209"/>
                </a:cubicBezTo>
                <a:lnTo>
                  <a:pt x="65963" y="106209"/>
                </a:lnTo>
                <a:cubicBezTo>
                  <a:pt x="68960" y="106209"/>
                  <a:pt x="71704" y="105079"/>
                  <a:pt x="73926" y="102857"/>
                </a:cubicBezTo>
                <a:lnTo>
                  <a:pt x="86969" y="89813"/>
                </a:lnTo>
                <a:cubicBezTo>
                  <a:pt x="89230" y="87553"/>
                  <a:pt x="90322" y="84911"/>
                  <a:pt x="90322" y="81876"/>
                </a:cubicBezTo>
                <a:lnTo>
                  <a:pt x="90322" y="60985"/>
                </a:lnTo>
                <a:cubicBezTo>
                  <a:pt x="90322" y="54940"/>
                  <a:pt x="85584" y="49377"/>
                  <a:pt x="79349" y="48602"/>
                </a:cubicBezTo>
                <a:lnTo>
                  <a:pt x="22008" y="40944"/>
                </a:lnTo>
                <a:cubicBezTo>
                  <a:pt x="20421" y="40766"/>
                  <a:pt x="19138" y="39331"/>
                  <a:pt x="19138" y="37769"/>
                </a:cubicBezTo>
                <a:lnTo>
                  <a:pt x="19138" y="27571"/>
                </a:lnTo>
                <a:cubicBezTo>
                  <a:pt x="19138" y="26720"/>
                  <a:pt x="19456" y="25983"/>
                  <a:pt x="20104" y="2532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1938680" y="906012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57" h="69887">
                <a:moveTo>
                  <a:pt x="44856" y="914"/>
                </a:moveTo>
                <a:cubicBezTo>
                  <a:pt x="44272" y="317"/>
                  <a:pt x="43624" y="0"/>
                  <a:pt x="42659" y="0"/>
                </a:cubicBezTo>
                <a:lnTo>
                  <a:pt x="9397" y="0"/>
                </a:lnTo>
                <a:cubicBezTo>
                  <a:pt x="8420" y="0"/>
                  <a:pt x="7785" y="317"/>
                  <a:pt x="7163" y="914"/>
                </a:cubicBezTo>
                <a:lnTo>
                  <a:pt x="940" y="7149"/>
                </a:lnTo>
                <a:cubicBezTo>
                  <a:pt x="292" y="7810"/>
                  <a:pt x="0" y="8546"/>
                  <a:pt x="0" y="9385"/>
                </a:cubicBezTo>
                <a:lnTo>
                  <a:pt x="0" y="60502"/>
                </a:lnTo>
                <a:cubicBezTo>
                  <a:pt x="0" y="61252"/>
                  <a:pt x="292" y="62052"/>
                  <a:pt x="940" y="62700"/>
                </a:cubicBezTo>
                <a:lnTo>
                  <a:pt x="7163" y="68922"/>
                </a:lnTo>
                <a:cubicBezTo>
                  <a:pt x="7785" y="69570"/>
                  <a:pt x="8420" y="69887"/>
                  <a:pt x="9397" y="69887"/>
                </a:cubicBezTo>
                <a:lnTo>
                  <a:pt x="42659" y="69887"/>
                </a:lnTo>
                <a:cubicBezTo>
                  <a:pt x="43624" y="69887"/>
                  <a:pt x="44272" y="69570"/>
                  <a:pt x="44856" y="68922"/>
                </a:cubicBezTo>
                <a:lnTo>
                  <a:pt x="51117" y="62700"/>
                </a:lnTo>
                <a:cubicBezTo>
                  <a:pt x="51701" y="62052"/>
                  <a:pt x="52057" y="61252"/>
                  <a:pt x="52057" y="60502"/>
                </a:cubicBezTo>
                <a:lnTo>
                  <a:pt x="52057" y="9385"/>
                </a:lnTo>
                <a:cubicBezTo>
                  <a:pt x="52057" y="8546"/>
                  <a:pt x="51701" y="7810"/>
                  <a:pt x="51117" y="7149"/>
                </a:cubicBezTo>
                <a:lnTo>
                  <a:pt x="44856" y="914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1958840" y="921996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09" h="106171">
                <a:moveTo>
                  <a:pt x="61607" y="43916"/>
                </a:moveTo>
                <a:lnTo>
                  <a:pt x="19100" y="43916"/>
                </a:lnTo>
                <a:lnTo>
                  <a:pt x="19100" y="0"/>
                </a:lnTo>
                <a:lnTo>
                  <a:pt x="0" y="0"/>
                </a:lnTo>
                <a:lnTo>
                  <a:pt x="0" y="106171"/>
                </a:lnTo>
                <a:lnTo>
                  <a:pt x="19100" y="106171"/>
                </a:lnTo>
                <a:lnTo>
                  <a:pt x="19100" y="62052"/>
                </a:lnTo>
                <a:lnTo>
                  <a:pt x="61607" y="62052"/>
                </a:lnTo>
                <a:lnTo>
                  <a:pt x="61607" y="106171"/>
                </a:lnTo>
                <a:lnTo>
                  <a:pt x="80708" y="106171"/>
                </a:lnTo>
                <a:lnTo>
                  <a:pt x="80708" y="0"/>
                </a:lnTo>
                <a:lnTo>
                  <a:pt x="61607" y="0"/>
                </a:lnTo>
                <a:lnTo>
                  <a:pt x="61607" y="4391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1807280" y="9219960"/>
            <a:ext cx="130680" cy="105840"/>
          </a:xfrm>
          <a:custGeom>
            <a:avLst/>
            <a:gdLst>
              <a:gd name="textAreaLeft" fmla="*/ 0 w 130680"/>
              <a:gd name="textAreaRight" fmla="*/ 131040 w 1306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131050" h="106209">
                <a:moveTo>
                  <a:pt x="95236" y="85483"/>
                </a:moveTo>
                <a:lnTo>
                  <a:pt x="78523" y="0"/>
                </a:lnTo>
                <a:lnTo>
                  <a:pt x="53022" y="0"/>
                </a:lnTo>
                <a:lnTo>
                  <a:pt x="36017" y="85483"/>
                </a:lnTo>
                <a:lnTo>
                  <a:pt x="19265" y="0"/>
                </a:lnTo>
                <a:lnTo>
                  <a:pt x="0" y="0"/>
                </a:lnTo>
                <a:lnTo>
                  <a:pt x="23241" y="106209"/>
                </a:lnTo>
                <a:lnTo>
                  <a:pt x="48285" y="106209"/>
                </a:lnTo>
                <a:lnTo>
                  <a:pt x="65290" y="22300"/>
                </a:lnTo>
                <a:lnTo>
                  <a:pt x="82486" y="106209"/>
                </a:lnTo>
                <a:lnTo>
                  <a:pt x="107467" y="106209"/>
                </a:lnTo>
                <a:lnTo>
                  <a:pt x="131050" y="0"/>
                </a:lnTo>
                <a:lnTo>
                  <a:pt x="112267" y="0"/>
                </a:lnTo>
                <a:lnTo>
                  <a:pt x="95236" y="8548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12079440" y="923796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900">
                <a:moveTo>
                  <a:pt x="44894" y="965"/>
                </a:moveTo>
                <a:cubicBezTo>
                  <a:pt x="44271" y="317"/>
                  <a:pt x="43636" y="0"/>
                  <a:pt x="42633" y="0"/>
                </a:cubicBezTo>
                <a:lnTo>
                  <a:pt x="9397" y="0"/>
                </a:lnTo>
                <a:cubicBezTo>
                  <a:pt x="8432" y="0"/>
                  <a:pt x="7784" y="317"/>
                  <a:pt x="7137" y="965"/>
                </a:cubicBezTo>
                <a:lnTo>
                  <a:pt x="977" y="7162"/>
                </a:lnTo>
                <a:cubicBezTo>
                  <a:pt x="330" y="7810"/>
                  <a:pt x="0" y="8610"/>
                  <a:pt x="0" y="9385"/>
                </a:cubicBezTo>
                <a:lnTo>
                  <a:pt x="0" y="60502"/>
                </a:lnTo>
                <a:cubicBezTo>
                  <a:pt x="0" y="61315"/>
                  <a:pt x="330" y="62115"/>
                  <a:pt x="977" y="62763"/>
                </a:cubicBezTo>
                <a:lnTo>
                  <a:pt x="7137" y="68960"/>
                </a:lnTo>
                <a:cubicBezTo>
                  <a:pt x="7784" y="69570"/>
                  <a:pt x="8432" y="69900"/>
                  <a:pt x="9397" y="69900"/>
                </a:cubicBezTo>
                <a:lnTo>
                  <a:pt x="42633" y="69900"/>
                </a:lnTo>
                <a:cubicBezTo>
                  <a:pt x="43636" y="69900"/>
                  <a:pt x="44271" y="69570"/>
                  <a:pt x="44894" y="68960"/>
                </a:cubicBezTo>
                <a:lnTo>
                  <a:pt x="51092" y="62763"/>
                </a:lnTo>
                <a:cubicBezTo>
                  <a:pt x="51739" y="62115"/>
                  <a:pt x="52019" y="61315"/>
                  <a:pt x="52019" y="60502"/>
                </a:cubicBezTo>
                <a:lnTo>
                  <a:pt x="52019" y="9385"/>
                </a:lnTo>
                <a:cubicBezTo>
                  <a:pt x="52019" y="8610"/>
                  <a:pt x="51739" y="7810"/>
                  <a:pt x="51092" y="7162"/>
                </a:cubicBezTo>
                <a:lnTo>
                  <a:pt x="44894" y="965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12455640" y="9305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396" h="20396">
                <a:moveTo>
                  <a:pt x="0" y="0"/>
                </a:moveTo>
                <a:lnTo>
                  <a:pt x="20395" y="0"/>
                </a:lnTo>
                <a:lnTo>
                  <a:pt x="20395" y="20396"/>
                </a:lnTo>
                <a:lnTo>
                  <a:pt x="0" y="2039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12259800" y="9237960"/>
            <a:ext cx="42120" cy="69480"/>
          </a:xfrm>
          <a:custGeom>
            <a:avLst/>
            <a:gdLst>
              <a:gd name="textAreaLeft" fmla="*/ 0 w 42120"/>
              <a:gd name="textAreaRight" fmla="*/ 42480 w 4212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42557" h="69901">
                <a:moveTo>
                  <a:pt x="35394" y="939"/>
                </a:moveTo>
                <a:cubicBezTo>
                  <a:pt x="34721" y="317"/>
                  <a:pt x="34099" y="0"/>
                  <a:pt x="33134" y="0"/>
                </a:cubicBezTo>
                <a:lnTo>
                  <a:pt x="0" y="0"/>
                </a:lnTo>
                <a:lnTo>
                  <a:pt x="0" y="69900"/>
                </a:lnTo>
                <a:lnTo>
                  <a:pt x="33134" y="69900"/>
                </a:lnTo>
                <a:cubicBezTo>
                  <a:pt x="34099" y="69900"/>
                  <a:pt x="34721" y="69608"/>
                  <a:pt x="35394" y="68960"/>
                </a:cubicBezTo>
                <a:lnTo>
                  <a:pt x="41592" y="62699"/>
                </a:lnTo>
                <a:cubicBezTo>
                  <a:pt x="42202" y="62115"/>
                  <a:pt x="42557" y="61315"/>
                  <a:pt x="42557" y="60502"/>
                </a:cubicBezTo>
                <a:lnTo>
                  <a:pt x="42557" y="9384"/>
                </a:lnTo>
                <a:cubicBezTo>
                  <a:pt x="42557" y="8584"/>
                  <a:pt x="42202" y="7772"/>
                  <a:pt x="41592" y="7162"/>
                </a:cubicBezTo>
                <a:lnTo>
                  <a:pt x="353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12363480" y="923796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82" h="69900">
                <a:moveTo>
                  <a:pt x="44894" y="939"/>
                </a:moveTo>
                <a:cubicBezTo>
                  <a:pt x="44271" y="317"/>
                  <a:pt x="43636" y="0"/>
                  <a:pt x="42658" y="0"/>
                </a:cubicBezTo>
                <a:lnTo>
                  <a:pt x="9397" y="0"/>
                </a:lnTo>
                <a:cubicBezTo>
                  <a:pt x="8419" y="0"/>
                  <a:pt x="7810" y="317"/>
                  <a:pt x="7200" y="939"/>
                </a:cubicBezTo>
                <a:lnTo>
                  <a:pt x="939" y="7162"/>
                </a:lnTo>
                <a:cubicBezTo>
                  <a:pt x="317" y="7772"/>
                  <a:pt x="0" y="8584"/>
                  <a:pt x="0" y="9384"/>
                </a:cubicBezTo>
                <a:lnTo>
                  <a:pt x="0" y="60502"/>
                </a:lnTo>
                <a:cubicBezTo>
                  <a:pt x="0" y="61315"/>
                  <a:pt x="317" y="62115"/>
                  <a:pt x="939" y="62699"/>
                </a:cubicBezTo>
                <a:lnTo>
                  <a:pt x="7200" y="68960"/>
                </a:lnTo>
                <a:cubicBezTo>
                  <a:pt x="7810" y="69608"/>
                  <a:pt x="8419" y="69900"/>
                  <a:pt x="9397" y="69900"/>
                </a:cubicBezTo>
                <a:lnTo>
                  <a:pt x="42658" y="69900"/>
                </a:lnTo>
                <a:cubicBezTo>
                  <a:pt x="43636" y="69900"/>
                  <a:pt x="44271" y="69608"/>
                  <a:pt x="44894" y="68960"/>
                </a:cubicBezTo>
                <a:lnTo>
                  <a:pt x="51155" y="62699"/>
                </a:lnTo>
                <a:cubicBezTo>
                  <a:pt x="51765" y="62115"/>
                  <a:pt x="52082" y="61315"/>
                  <a:pt x="52082" y="60502"/>
                </a:cubicBezTo>
                <a:lnTo>
                  <a:pt x="52082" y="9384"/>
                </a:lnTo>
                <a:cubicBezTo>
                  <a:pt x="52082" y="8584"/>
                  <a:pt x="51765" y="7772"/>
                  <a:pt x="51155" y="7162"/>
                </a:cubicBezTo>
                <a:lnTo>
                  <a:pt x="448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12178080" y="886428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19" h="106146">
                <a:moveTo>
                  <a:pt x="71119" y="18135"/>
                </a:moveTo>
                <a:lnTo>
                  <a:pt x="71119" y="0"/>
                </a:lnTo>
                <a:lnTo>
                  <a:pt x="0" y="0"/>
                </a:lnTo>
                <a:lnTo>
                  <a:pt x="0" y="106146"/>
                </a:lnTo>
                <a:lnTo>
                  <a:pt x="19062" y="106146"/>
                </a:lnTo>
                <a:lnTo>
                  <a:pt x="19062" y="62077"/>
                </a:lnTo>
                <a:lnTo>
                  <a:pt x="71119" y="62077"/>
                </a:lnTo>
                <a:lnTo>
                  <a:pt x="71119" y="43916"/>
                </a:lnTo>
                <a:lnTo>
                  <a:pt x="19062" y="43916"/>
                </a:lnTo>
                <a:lnTo>
                  <a:pt x="19062" y="18135"/>
                </a:lnTo>
                <a:lnTo>
                  <a:pt x="71119" y="1813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12397680" y="8882640"/>
            <a:ext cx="42120" cy="27720"/>
          </a:xfrm>
          <a:custGeom>
            <a:avLst/>
            <a:gdLst>
              <a:gd name="textAreaLeft" fmla="*/ 0 w 42120"/>
              <a:gd name="textAreaRight" fmla="*/ 42480 w 421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42506" h="28028">
                <a:moveTo>
                  <a:pt x="41541" y="23558"/>
                </a:moveTo>
                <a:cubicBezTo>
                  <a:pt x="42151" y="22923"/>
                  <a:pt x="42506" y="22313"/>
                  <a:pt x="42506" y="21310"/>
                </a:cubicBezTo>
                <a:lnTo>
                  <a:pt x="42506" y="6692"/>
                </a:lnTo>
                <a:cubicBezTo>
                  <a:pt x="42506" y="5777"/>
                  <a:pt x="42151" y="5117"/>
                  <a:pt x="41541" y="4470"/>
                </a:cubicBezTo>
                <a:lnTo>
                  <a:pt x="38024" y="990"/>
                </a:lnTo>
                <a:cubicBezTo>
                  <a:pt x="37414" y="304"/>
                  <a:pt x="36766" y="0"/>
                  <a:pt x="35801" y="0"/>
                </a:cubicBezTo>
                <a:lnTo>
                  <a:pt x="0" y="0"/>
                </a:lnTo>
                <a:lnTo>
                  <a:pt x="0" y="28028"/>
                </a:lnTo>
                <a:lnTo>
                  <a:pt x="35801" y="28028"/>
                </a:lnTo>
                <a:cubicBezTo>
                  <a:pt x="36766" y="28028"/>
                  <a:pt x="37414" y="27685"/>
                  <a:pt x="38024" y="27063"/>
                </a:cubicBezTo>
                <a:lnTo>
                  <a:pt x="41541" y="23558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12286440" y="888264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850">
                <a:moveTo>
                  <a:pt x="51079" y="7175"/>
                </a:moveTo>
                <a:lnTo>
                  <a:pt x="44843" y="952"/>
                </a:lnTo>
                <a:cubicBezTo>
                  <a:pt x="44234" y="304"/>
                  <a:pt x="43599" y="0"/>
                  <a:pt x="42621" y="0"/>
                </a:cubicBezTo>
                <a:lnTo>
                  <a:pt x="9347" y="0"/>
                </a:lnTo>
                <a:cubicBezTo>
                  <a:pt x="8382" y="0"/>
                  <a:pt x="7746" y="304"/>
                  <a:pt x="7125" y="952"/>
                </a:cubicBezTo>
                <a:lnTo>
                  <a:pt x="927" y="7175"/>
                </a:lnTo>
                <a:cubicBezTo>
                  <a:pt x="572" y="7492"/>
                  <a:pt x="343" y="7810"/>
                  <a:pt x="216" y="8178"/>
                </a:cubicBezTo>
                <a:cubicBezTo>
                  <a:pt x="25" y="8534"/>
                  <a:pt x="0" y="8952"/>
                  <a:pt x="0" y="9334"/>
                </a:cubicBezTo>
                <a:lnTo>
                  <a:pt x="0" y="60452"/>
                </a:lnTo>
                <a:cubicBezTo>
                  <a:pt x="0" y="61238"/>
                  <a:pt x="254" y="62064"/>
                  <a:pt x="965" y="62648"/>
                </a:cubicBezTo>
                <a:lnTo>
                  <a:pt x="7125" y="68909"/>
                </a:lnTo>
                <a:cubicBezTo>
                  <a:pt x="7772" y="69506"/>
                  <a:pt x="8420" y="69850"/>
                  <a:pt x="9347" y="69850"/>
                </a:cubicBezTo>
                <a:lnTo>
                  <a:pt x="42659" y="69850"/>
                </a:lnTo>
                <a:cubicBezTo>
                  <a:pt x="43624" y="69850"/>
                  <a:pt x="44234" y="69506"/>
                  <a:pt x="44843" y="68909"/>
                </a:cubicBezTo>
                <a:lnTo>
                  <a:pt x="51079" y="62648"/>
                </a:lnTo>
                <a:cubicBezTo>
                  <a:pt x="51727" y="62064"/>
                  <a:pt x="52019" y="61238"/>
                  <a:pt x="52019" y="60490"/>
                </a:cubicBezTo>
                <a:lnTo>
                  <a:pt x="52019" y="9397"/>
                </a:lnTo>
                <a:cubicBezTo>
                  <a:pt x="52019" y="8597"/>
                  <a:pt x="51727" y="7772"/>
                  <a:pt x="51079" y="7175"/>
                </a:cubicBez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0807560" y="8801280"/>
            <a:ext cx="266400" cy="190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1302920" y="8801280"/>
            <a:ext cx="279000" cy="190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11684160" y="8801280"/>
            <a:ext cx="825120" cy="558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109520" y="851040"/>
            <a:ext cx="1100160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301"/>
              </a:lnSpc>
            </a:pP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But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you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won’t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need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them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anyway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4">
            <a:hlinkClick r:id="rId5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5368320" y="2603520"/>
            <a:ext cx="2445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000"/>
              </a:lnSpc>
            </a:pP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Your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eye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070960" y="3187800"/>
            <a:ext cx="30402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000"/>
              </a:lnSpc>
            </a:pP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ﬁngerprint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4048200" y="3772080"/>
            <a:ext cx="509868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000"/>
              </a:lnSpc>
              <a:tabLst>
                <a:tab algn="l" pos="76320"/>
              </a:tabLst>
            </a:pP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heartbeat,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voice,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01"/>
              </a:lnSpc>
              <a:tabLst>
                <a:tab algn="l" pos="76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brainwaves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will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g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4772520" y="4927680"/>
            <a:ext cx="363708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000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you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access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01"/>
              </a:lnSpc>
              <a:tabLst>
                <a:tab algn="l" pos="139680"/>
              </a:tabLst>
            </a:pP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everything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yo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5932440" y="6083280"/>
            <a:ext cx="13302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000"/>
              </a:lnSpc>
            </a:pPr>
            <a:r>
              <a:rPr b="1" lang="en-US" sz="3800" spc="-1" strike="noStrike">
                <a:solidFill>
                  <a:srgbClr val="a1b3b5"/>
                </a:solidFill>
                <a:latin typeface="Microsoft YaHei UI"/>
              </a:rPr>
              <a:t>ne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109520" y="851040"/>
            <a:ext cx="1100160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301"/>
              </a:lnSpc>
            </a:pP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But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you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won’t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need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them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Microsoft YaHei UI"/>
              </a:rPr>
              <a:t>anyway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9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16000" y="90147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284040" y="9029880"/>
            <a:ext cx="499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Sourc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Glob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Indust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Analy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1569600" y="3340080"/>
            <a:ext cx="9852840" cy="24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800"/>
              </a:lnSpc>
            </a:pP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The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global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biometrics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industr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</a:pP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will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be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worth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US$16.47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billion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</a:pP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by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2017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reeform 3"/>
          <p:cNvSpPr/>
          <p:nvPr/>
        </p:nvSpPr>
        <p:spPr>
          <a:xfrm>
            <a:off x="0" y="0"/>
            <a:ext cx="13080600" cy="9829440"/>
          </a:xfrm>
          <a:custGeom>
            <a:avLst/>
            <a:gdLst>
              <a:gd name="textAreaLeft" fmla="*/ 0 w 13080600"/>
              <a:gd name="textAreaRight" fmla="*/ 13080960 w 13080600"/>
              <a:gd name="textAreaTop" fmla="*/ 0 h 9829440"/>
              <a:gd name="textAreaBottom" fmla="*/ 9829800 h 9829440"/>
            </a:gdLst>
            <a:ahLst/>
            <a:rect l="textAreaLeft" t="textAreaTop" r="textAreaRight" b="textAreaBottom"/>
            <a:pathLst>
              <a:path w="13081000" h="9829800">
                <a:moveTo>
                  <a:pt x="0" y="9829800"/>
                </a:moveTo>
                <a:lnTo>
                  <a:pt x="13081000" y="9829800"/>
                </a:lnTo>
                <a:lnTo>
                  <a:pt x="13081000" y="0"/>
                </a:lnTo>
                <a:lnTo>
                  <a:pt x="0" y="0"/>
                </a:lnTo>
                <a:lnTo>
                  <a:pt x="0" y="9829800"/>
                </a:lnTo>
              </a:path>
            </a:pathLst>
          </a:custGeom>
          <a:solidFill>
            <a:srgbClr val="b7cdd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10695240" y="8751600"/>
            <a:ext cx="152280" cy="218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18520"/>
              <a:gd name="textAreaBottom" fmla="*/ 218880 h 218520"/>
            </a:gdLst>
            <a:ahLst/>
            <a:rect l="textAreaLeft" t="textAreaTop" r="textAreaRight" b="textAreaBottom"/>
            <a:pathLst>
              <a:path w="152641" h="218897">
                <a:moveTo>
                  <a:pt x="62966" y="0"/>
                </a:moveTo>
                <a:lnTo>
                  <a:pt x="152641" y="0"/>
                </a:lnTo>
                <a:cubicBezTo>
                  <a:pt x="152641" y="0"/>
                  <a:pt x="104723" y="161670"/>
                  <a:pt x="88391" y="218896"/>
                </a:cubicBezTo>
                <a:lnTo>
                  <a:pt x="0" y="218896"/>
                </a:lnTo>
                <a:lnTo>
                  <a:pt x="62966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11052000" y="8818920"/>
            <a:ext cx="264960" cy="151200"/>
          </a:xfrm>
          <a:custGeom>
            <a:avLst/>
            <a:gdLst>
              <a:gd name="textAreaLeft" fmla="*/ 0 w 264960"/>
              <a:gd name="textAreaRight" fmla="*/ 265320 w 26496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265355" h="151434">
                <a:moveTo>
                  <a:pt x="41782" y="10896"/>
                </a:moveTo>
                <a:lnTo>
                  <a:pt x="0" y="151434"/>
                </a:lnTo>
                <a:lnTo>
                  <a:pt x="90830" y="151434"/>
                </a:lnTo>
                <a:lnTo>
                  <a:pt x="128054" y="27254"/>
                </a:lnTo>
                <a:cubicBezTo>
                  <a:pt x="128054" y="27254"/>
                  <a:pt x="146139" y="23558"/>
                  <a:pt x="164159" y="29336"/>
                </a:cubicBezTo>
                <a:cubicBezTo>
                  <a:pt x="164159" y="29336"/>
                  <a:pt x="180123" y="32715"/>
                  <a:pt x="173672" y="52107"/>
                </a:cubicBezTo>
                <a:lnTo>
                  <a:pt x="144436" y="151434"/>
                </a:lnTo>
                <a:lnTo>
                  <a:pt x="233451" y="151434"/>
                </a:lnTo>
                <a:lnTo>
                  <a:pt x="263435" y="51409"/>
                </a:lnTo>
                <a:cubicBezTo>
                  <a:pt x="263435" y="51409"/>
                  <a:pt x="277050" y="16382"/>
                  <a:pt x="237947" y="8190"/>
                </a:cubicBezTo>
                <a:cubicBezTo>
                  <a:pt x="237947" y="8190"/>
                  <a:pt x="170319" y="-11951"/>
                  <a:pt x="41782" y="10896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11584800" y="8823600"/>
            <a:ext cx="250200" cy="146520"/>
          </a:xfrm>
          <a:custGeom>
            <a:avLst/>
            <a:gdLst>
              <a:gd name="textAreaLeft" fmla="*/ 0 w 250200"/>
              <a:gd name="textAreaRight" fmla="*/ 250560 w 250200"/>
              <a:gd name="textAreaTop" fmla="*/ 0 h 146520"/>
              <a:gd name="textAreaBottom" fmla="*/ 146880 h 146520"/>
            </a:gdLst>
            <a:ahLst/>
            <a:rect l="textAreaLeft" t="textAreaTop" r="textAreaRight" b="textAreaBottom"/>
            <a:pathLst>
              <a:path w="250685" h="146901">
                <a:moveTo>
                  <a:pt x="0" y="0"/>
                </a:moveTo>
                <a:lnTo>
                  <a:pt x="81457" y="0"/>
                </a:lnTo>
                <a:lnTo>
                  <a:pt x="94145" y="102044"/>
                </a:lnTo>
                <a:lnTo>
                  <a:pt x="165328" y="0"/>
                </a:lnTo>
                <a:lnTo>
                  <a:pt x="250685" y="0"/>
                </a:lnTo>
                <a:lnTo>
                  <a:pt x="150190" y="146901"/>
                </a:lnTo>
                <a:lnTo>
                  <a:pt x="17881" y="1469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1718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543" h="106209">
                <a:moveTo>
                  <a:pt x="0" y="18173"/>
                </a:moveTo>
                <a:lnTo>
                  <a:pt x="30683" y="18173"/>
                </a:lnTo>
                <a:lnTo>
                  <a:pt x="30683" y="106209"/>
                </a:lnTo>
                <a:lnTo>
                  <a:pt x="49783" y="106209"/>
                </a:lnTo>
                <a:lnTo>
                  <a:pt x="49783" y="18173"/>
                </a:lnTo>
                <a:lnTo>
                  <a:pt x="80543" y="18173"/>
                </a:lnTo>
                <a:lnTo>
                  <a:pt x="80543" y="0"/>
                </a:lnTo>
                <a:lnTo>
                  <a:pt x="0" y="0"/>
                </a:lnTo>
                <a:lnTo>
                  <a:pt x="0" y="181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11817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34" h="106197">
                <a:moveTo>
                  <a:pt x="61633" y="43954"/>
                </a:moveTo>
                <a:lnTo>
                  <a:pt x="19125" y="43954"/>
                </a:lnTo>
                <a:lnTo>
                  <a:pt x="19125" y="0"/>
                </a:lnTo>
                <a:lnTo>
                  <a:pt x="0" y="0"/>
                </a:lnTo>
                <a:lnTo>
                  <a:pt x="0" y="106197"/>
                </a:lnTo>
                <a:lnTo>
                  <a:pt x="19125" y="106197"/>
                </a:lnTo>
                <a:lnTo>
                  <a:pt x="19125" y="62090"/>
                </a:lnTo>
                <a:lnTo>
                  <a:pt x="61633" y="62090"/>
                </a:lnTo>
                <a:lnTo>
                  <a:pt x="61633" y="106197"/>
                </a:lnTo>
                <a:lnTo>
                  <a:pt x="80733" y="106197"/>
                </a:lnTo>
                <a:lnTo>
                  <a:pt x="80733" y="0"/>
                </a:lnTo>
                <a:lnTo>
                  <a:pt x="61633" y="0"/>
                </a:lnTo>
                <a:lnTo>
                  <a:pt x="61633" y="4395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12144960" y="904212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58" h="106209">
                <a:moveTo>
                  <a:pt x="0" y="106209"/>
                </a:moveTo>
                <a:lnTo>
                  <a:pt x="71157" y="106209"/>
                </a:lnTo>
                <a:lnTo>
                  <a:pt x="71157" y="88074"/>
                </a:lnTo>
                <a:lnTo>
                  <a:pt x="19100" y="88074"/>
                </a:lnTo>
                <a:lnTo>
                  <a:pt x="19100" y="62102"/>
                </a:lnTo>
                <a:lnTo>
                  <a:pt x="71157" y="62102"/>
                </a:lnTo>
                <a:lnTo>
                  <a:pt x="71157" y="43967"/>
                </a:lnTo>
                <a:lnTo>
                  <a:pt x="19100" y="43967"/>
                </a:lnTo>
                <a:lnTo>
                  <a:pt x="19100" y="18173"/>
                </a:lnTo>
                <a:lnTo>
                  <a:pt x="71157" y="18173"/>
                </a:lnTo>
                <a:lnTo>
                  <a:pt x="71157" y="0"/>
                </a:lnTo>
                <a:lnTo>
                  <a:pt x="0" y="0"/>
                </a:lnTo>
                <a:lnTo>
                  <a:pt x="0" y="10620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12029760" y="9042120"/>
            <a:ext cx="90000" cy="105840"/>
          </a:xfrm>
          <a:custGeom>
            <a:avLst/>
            <a:gdLst>
              <a:gd name="textAreaLeft" fmla="*/ 0 w 90000"/>
              <a:gd name="textAreaRight" fmla="*/ 90360 w 900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90322" h="106209">
                <a:moveTo>
                  <a:pt x="20104" y="25323"/>
                </a:moveTo>
                <a:lnTo>
                  <a:pt x="26301" y="19087"/>
                </a:lnTo>
                <a:cubicBezTo>
                  <a:pt x="26949" y="18491"/>
                  <a:pt x="27622" y="18173"/>
                  <a:pt x="28549" y="18173"/>
                </a:cubicBezTo>
                <a:lnTo>
                  <a:pt x="64693" y="18173"/>
                </a:lnTo>
                <a:cubicBezTo>
                  <a:pt x="65633" y="18173"/>
                  <a:pt x="66243" y="18491"/>
                  <a:pt x="66890" y="19087"/>
                </a:cubicBezTo>
                <a:lnTo>
                  <a:pt x="77609" y="29793"/>
                </a:lnTo>
                <a:lnTo>
                  <a:pt x="90322" y="16954"/>
                </a:lnTo>
                <a:lnTo>
                  <a:pt x="76796" y="3416"/>
                </a:lnTo>
                <a:cubicBezTo>
                  <a:pt x="74548" y="1104"/>
                  <a:pt x="71869" y="0"/>
                  <a:pt x="68859" y="0"/>
                </a:cubicBezTo>
                <a:lnTo>
                  <a:pt x="24396" y="0"/>
                </a:lnTo>
                <a:cubicBezTo>
                  <a:pt x="21361" y="0"/>
                  <a:pt x="18643" y="1104"/>
                  <a:pt x="16420" y="3416"/>
                </a:cubicBezTo>
                <a:lnTo>
                  <a:pt x="3352" y="16433"/>
                </a:lnTo>
                <a:cubicBezTo>
                  <a:pt x="1155" y="18630"/>
                  <a:pt x="0" y="21322"/>
                  <a:pt x="0" y="24396"/>
                </a:cubicBezTo>
                <a:lnTo>
                  <a:pt x="0" y="45236"/>
                </a:lnTo>
                <a:cubicBezTo>
                  <a:pt x="0" y="51307"/>
                  <a:pt x="4838" y="56857"/>
                  <a:pt x="11035" y="57645"/>
                </a:cubicBezTo>
                <a:lnTo>
                  <a:pt x="68185" y="65290"/>
                </a:lnTo>
                <a:cubicBezTo>
                  <a:pt x="69760" y="65455"/>
                  <a:pt x="71221" y="66890"/>
                  <a:pt x="71221" y="68477"/>
                </a:cubicBezTo>
                <a:lnTo>
                  <a:pt x="71221" y="78675"/>
                </a:lnTo>
                <a:cubicBezTo>
                  <a:pt x="71221" y="79425"/>
                  <a:pt x="70929" y="80238"/>
                  <a:pt x="70281" y="80873"/>
                </a:cubicBezTo>
                <a:lnTo>
                  <a:pt x="64045" y="87108"/>
                </a:lnTo>
                <a:cubicBezTo>
                  <a:pt x="63436" y="87718"/>
                  <a:pt x="62788" y="88074"/>
                  <a:pt x="61823" y="88074"/>
                </a:cubicBezTo>
                <a:lnTo>
                  <a:pt x="25653" y="88074"/>
                </a:lnTo>
                <a:cubicBezTo>
                  <a:pt x="24751" y="88074"/>
                  <a:pt x="24065" y="87718"/>
                  <a:pt x="23456" y="87108"/>
                </a:cubicBezTo>
                <a:lnTo>
                  <a:pt x="12775" y="76453"/>
                </a:lnTo>
                <a:lnTo>
                  <a:pt x="0" y="89331"/>
                </a:lnTo>
                <a:lnTo>
                  <a:pt x="13550" y="102857"/>
                </a:lnTo>
                <a:cubicBezTo>
                  <a:pt x="15811" y="105079"/>
                  <a:pt x="18491" y="106209"/>
                  <a:pt x="21551" y="106209"/>
                </a:cubicBezTo>
                <a:lnTo>
                  <a:pt x="65963" y="106209"/>
                </a:lnTo>
                <a:cubicBezTo>
                  <a:pt x="68960" y="106209"/>
                  <a:pt x="71704" y="105079"/>
                  <a:pt x="73926" y="102857"/>
                </a:cubicBezTo>
                <a:lnTo>
                  <a:pt x="86969" y="89813"/>
                </a:lnTo>
                <a:cubicBezTo>
                  <a:pt x="89230" y="87553"/>
                  <a:pt x="90322" y="84911"/>
                  <a:pt x="90322" y="81876"/>
                </a:cubicBezTo>
                <a:lnTo>
                  <a:pt x="90322" y="60985"/>
                </a:lnTo>
                <a:cubicBezTo>
                  <a:pt x="90322" y="54940"/>
                  <a:pt x="85584" y="49377"/>
                  <a:pt x="79349" y="48602"/>
                </a:cubicBezTo>
                <a:lnTo>
                  <a:pt x="22008" y="40944"/>
                </a:lnTo>
                <a:cubicBezTo>
                  <a:pt x="20421" y="40766"/>
                  <a:pt x="19125" y="39331"/>
                  <a:pt x="19125" y="37769"/>
                </a:cubicBezTo>
                <a:lnTo>
                  <a:pt x="19125" y="27571"/>
                </a:lnTo>
                <a:cubicBezTo>
                  <a:pt x="19125" y="26720"/>
                  <a:pt x="19456" y="25983"/>
                  <a:pt x="20104" y="2532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11938680" y="906012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57" h="69887">
                <a:moveTo>
                  <a:pt x="44856" y="914"/>
                </a:moveTo>
                <a:cubicBezTo>
                  <a:pt x="44272" y="317"/>
                  <a:pt x="43625" y="0"/>
                  <a:pt x="42659" y="0"/>
                </a:cubicBezTo>
                <a:lnTo>
                  <a:pt x="9398" y="0"/>
                </a:lnTo>
                <a:cubicBezTo>
                  <a:pt x="8420" y="0"/>
                  <a:pt x="7785" y="317"/>
                  <a:pt x="7163" y="914"/>
                </a:cubicBezTo>
                <a:lnTo>
                  <a:pt x="940" y="7149"/>
                </a:lnTo>
                <a:cubicBezTo>
                  <a:pt x="292" y="7810"/>
                  <a:pt x="0" y="8546"/>
                  <a:pt x="0" y="9385"/>
                </a:cubicBezTo>
                <a:lnTo>
                  <a:pt x="0" y="60502"/>
                </a:lnTo>
                <a:cubicBezTo>
                  <a:pt x="0" y="61252"/>
                  <a:pt x="292" y="62052"/>
                  <a:pt x="940" y="62700"/>
                </a:cubicBezTo>
                <a:lnTo>
                  <a:pt x="7163" y="68922"/>
                </a:lnTo>
                <a:cubicBezTo>
                  <a:pt x="7785" y="69570"/>
                  <a:pt x="8420" y="69887"/>
                  <a:pt x="9398" y="69887"/>
                </a:cubicBezTo>
                <a:lnTo>
                  <a:pt x="42659" y="69887"/>
                </a:lnTo>
                <a:cubicBezTo>
                  <a:pt x="43625" y="69887"/>
                  <a:pt x="44272" y="69570"/>
                  <a:pt x="44856" y="68922"/>
                </a:cubicBezTo>
                <a:lnTo>
                  <a:pt x="51117" y="62700"/>
                </a:lnTo>
                <a:cubicBezTo>
                  <a:pt x="51702" y="62052"/>
                  <a:pt x="52057" y="61252"/>
                  <a:pt x="52057" y="60502"/>
                </a:cubicBezTo>
                <a:lnTo>
                  <a:pt x="52057" y="9385"/>
                </a:lnTo>
                <a:cubicBezTo>
                  <a:pt x="52057" y="8546"/>
                  <a:pt x="51702" y="7810"/>
                  <a:pt x="51117" y="7149"/>
                </a:cubicBezTo>
                <a:lnTo>
                  <a:pt x="44856" y="914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11958840" y="921996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09" h="106171">
                <a:moveTo>
                  <a:pt x="61607" y="43916"/>
                </a:moveTo>
                <a:lnTo>
                  <a:pt x="19100" y="43916"/>
                </a:lnTo>
                <a:lnTo>
                  <a:pt x="19100" y="0"/>
                </a:lnTo>
                <a:lnTo>
                  <a:pt x="0" y="0"/>
                </a:lnTo>
                <a:lnTo>
                  <a:pt x="0" y="106171"/>
                </a:lnTo>
                <a:lnTo>
                  <a:pt x="19100" y="106171"/>
                </a:lnTo>
                <a:lnTo>
                  <a:pt x="19100" y="62052"/>
                </a:lnTo>
                <a:lnTo>
                  <a:pt x="61607" y="62052"/>
                </a:lnTo>
                <a:lnTo>
                  <a:pt x="61607" y="106171"/>
                </a:lnTo>
                <a:lnTo>
                  <a:pt x="80708" y="106171"/>
                </a:lnTo>
                <a:lnTo>
                  <a:pt x="80708" y="0"/>
                </a:lnTo>
                <a:lnTo>
                  <a:pt x="61607" y="0"/>
                </a:lnTo>
                <a:lnTo>
                  <a:pt x="61607" y="4391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11807280" y="9219960"/>
            <a:ext cx="130680" cy="105840"/>
          </a:xfrm>
          <a:custGeom>
            <a:avLst/>
            <a:gdLst>
              <a:gd name="textAreaLeft" fmla="*/ 0 w 130680"/>
              <a:gd name="textAreaRight" fmla="*/ 131040 w 1306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131050" h="106209">
                <a:moveTo>
                  <a:pt x="95236" y="85483"/>
                </a:moveTo>
                <a:lnTo>
                  <a:pt x="78523" y="0"/>
                </a:lnTo>
                <a:lnTo>
                  <a:pt x="53022" y="0"/>
                </a:lnTo>
                <a:lnTo>
                  <a:pt x="36017" y="85483"/>
                </a:lnTo>
                <a:lnTo>
                  <a:pt x="19265" y="0"/>
                </a:lnTo>
                <a:lnTo>
                  <a:pt x="0" y="0"/>
                </a:lnTo>
                <a:lnTo>
                  <a:pt x="23241" y="106209"/>
                </a:lnTo>
                <a:lnTo>
                  <a:pt x="48285" y="106209"/>
                </a:lnTo>
                <a:lnTo>
                  <a:pt x="65290" y="22300"/>
                </a:lnTo>
                <a:lnTo>
                  <a:pt x="82486" y="106209"/>
                </a:lnTo>
                <a:lnTo>
                  <a:pt x="107467" y="106209"/>
                </a:lnTo>
                <a:lnTo>
                  <a:pt x="131050" y="0"/>
                </a:lnTo>
                <a:lnTo>
                  <a:pt x="112267" y="0"/>
                </a:lnTo>
                <a:lnTo>
                  <a:pt x="95236" y="8548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12079440" y="923796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06" h="69900">
                <a:moveTo>
                  <a:pt x="44881" y="965"/>
                </a:moveTo>
                <a:cubicBezTo>
                  <a:pt x="44259" y="317"/>
                  <a:pt x="43624" y="0"/>
                  <a:pt x="42620" y="0"/>
                </a:cubicBezTo>
                <a:lnTo>
                  <a:pt x="9384" y="0"/>
                </a:lnTo>
                <a:cubicBezTo>
                  <a:pt x="8419" y="0"/>
                  <a:pt x="7772" y="317"/>
                  <a:pt x="7124" y="965"/>
                </a:cubicBezTo>
                <a:lnTo>
                  <a:pt x="965" y="7162"/>
                </a:lnTo>
                <a:cubicBezTo>
                  <a:pt x="317" y="7810"/>
                  <a:pt x="0" y="8610"/>
                  <a:pt x="0" y="9385"/>
                </a:cubicBezTo>
                <a:lnTo>
                  <a:pt x="0" y="60502"/>
                </a:lnTo>
                <a:cubicBezTo>
                  <a:pt x="0" y="61315"/>
                  <a:pt x="317" y="62115"/>
                  <a:pt x="965" y="62763"/>
                </a:cubicBezTo>
                <a:lnTo>
                  <a:pt x="7124" y="68960"/>
                </a:lnTo>
                <a:cubicBezTo>
                  <a:pt x="7772" y="69570"/>
                  <a:pt x="8419" y="69900"/>
                  <a:pt x="9384" y="69900"/>
                </a:cubicBezTo>
                <a:lnTo>
                  <a:pt x="42620" y="69900"/>
                </a:lnTo>
                <a:cubicBezTo>
                  <a:pt x="43624" y="69900"/>
                  <a:pt x="44259" y="69570"/>
                  <a:pt x="44881" y="68960"/>
                </a:cubicBezTo>
                <a:lnTo>
                  <a:pt x="51079" y="62763"/>
                </a:lnTo>
                <a:cubicBezTo>
                  <a:pt x="51727" y="62115"/>
                  <a:pt x="52006" y="61315"/>
                  <a:pt x="52006" y="60502"/>
                </a:cubicBezTo>
                <a:lnTo>
                  <a:pt x="52006" y="9385"/>
                </a:lnTo>
                <a:cubicBezTo>
                  <a:pt x="52006" y="8610"/>
                  <a:pt x="51727" y="7810"/>
                  <a:pt x="51079" y="7162"/>
                </a:cubicBezTo>
                <a:lnTo>
                  <a:pt x="44881" y="965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2455640" y="9305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396" h="20396">
                <a:moveTo>
                  <a:pt x="0" y="0"/>
                </a:moveTo>
                <a:lnTo>
                  <a:pt x="20396" y="0"/>
                </a:lnTo>
                <a:lnTo>
                  <a:pt x="20396" y="20396"/>
                </a:lnTo>
                <a:lnTo>
                  <a:pt x="0" y="2039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2259800" y="9237960"/>
            <a:ext cx="42120" cy="69480"/>
          </a:xfrm>
          <a:custGeom>
            <a:avLst/>
            <a:gdLst>
              <a:gd name="textAreaLeft" fmla="*/ 0 w 42120"/>
              <a:gd name="textAreaRight" fmla="*/ 42480 w 4212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42557" h="69901">
                <a:moveTo>
                  <a:pt x="35394" y="939"/>
                </a:moveTo>
                <a:cubicBezTo>
                  <a:pt x="34721" y="317"/>
                  <a:pt x="34099" y="0"/>
                  <a:pt x="33133" y="0"/>
                </a:cubicBezTo>
                <a:lnTo>
                  <a:pt x="0" y="0"/>
                </a:lnTo>
                <a:lnTo>
                  <a:pt x="0" y="69900"/>
                </a:lnTo>
                <a:lnTo>
                  <a:pt x="33133" y="69900"/>
                </a:lnTo>
                <a:cubicBezTo>
                  <a:pt x="34099" y="69900"/>
                  <a:pt x="34721" y="69608"/>
                  <a:pt x="35394" y="68960"/>
                </a:cubicBezTo>
                <a:lnTo>
                  <a:pt x="41592" y="62699"/>
                </a:lnTo>
                <a:cubicBezTo>
                  <a:pt x="42202" y="62115"/>
                  <a:pt x="42557" y="61315"/>
                  <a:pt x="42557" y="60502"/>
                </a:cubicBezTo>
                <a:lnTo>
                  <a:pt x="42557" y="9384"/>
                </a:lnTo>
                <a:cubicBezTo>
                  <a:pt x="42557" y="8584"/>
                  <a:pt x="42202" y="7772"/>
                  <a:pt x="41592" y="7162"/>
                </a:cubicBezTo>
                <a:lnTo>
                  <a:pt x="353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2363480" y="923796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82" h="69900">
                <a:moveTo>
                  <a:pt x="44894" y="939"/>
                </a:moveTo>
                <a:cubicBezTo>
                  <a:pt x="44271" y="317"/>
                  <a:pt x="43636" y="0"/>
                  <a:pt x="42658" y="0"/>
                </a:cubicBezTo>
                <a:lnTo>
                  <a:pt x="9397" y="0"/>
                </a:lnTo>
                <a:cubicBezTo>
                  <a:pt x="8419" y="0"/>
                  <a:pt x="7810" y="317"/>
                  <a:pt x="7200" y="939"/>
                </a:cubicBezTo>
                <a:lnTo>
                  <a:pt x="939" y="7162"/>
                </a:lnTo>
                <a:cubicBezTo>
                  <a:pt x="317" y="7772"/>
                  <a:pt x="0" y="8584"/>
                  <a:pt x="0" y="9384"/>
                </a:cubicBezTo>
                <a:lnTo>
                  <a:pt x="0" y="60502"/>
                </a:lnTo>
                <a:cubicBezTo>
                  <a:pt x="0" y="61315"/>
                  <a:pt x="317" y="62115"/>
                  <a:pt x="939" y="62699"/>
                </a:cubicBezTo>
                <a:lnTo>
                  <a:pt x="7200" y="68960"/>
                </a:lnTo>
                <a:cubicBezTo>
                  <a:pt x="7810" y="69608"/>
                  <a:pt x="8419" y="69900"/>
                  <a:pt x="9397" y="69900"/>
                </a:cubicBezTo>
                <a:lnTo>
                  <a:pt x="42658" y="69900"/>
                </a:lnTo>
                <a:cubicBezTo>
                  <a:pt x="43636" y="69900"/>
                  <a:pt x="44271" y="69608"/>
                  <a:pt x="44894" y="68960"/>
                </a:cubicBezTo>
                <a:lnTo>
                  <a:pt x="51142" y="62699"/>
                </a:lnTo>
                <a:cubicBezTo>
                  <a:pt x="51765" y="62115"/>
                  <a:pt x="52082" y="61315"/>
                  <a:pt x="52082" y="60502"/>
                </a:cubicBezTo>
                <a:lnTo>
                  <a:pt x="52082" y="9384"/>
                </a:lnTo>
                <a:cubicBezTo>
                  <a:pt x="52082" y="8584"/>
                  <a:pt x="51765" y="7772"/>
                  <a:pt x="51142" y="7162"/>
                </a:cubicBezTo>
                <a:lnTo>
                  <a:pt x="448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2178080" y="886428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19" h="106146">
                <a:moveTo>
                  <a:pt x="71119" y="18135"/>
                </a:moveTo>
                <a:lnTo>
                  <a:pt x="71119" y="0"/>
                </a:lnTo>
                <a:lnTo>
                  <a:pt x="0" y="0"/>
                </a:lnTo>
                <a:lnTo>
                  <a:pt x="0" y="106146"/>
                </a:lnTo>
                <a:lnTo>
                  <a:pt x="19062" y="106146"/>
                </a:lnTo>
                <a:lnTo>
                  <a:pt x="19062" y="62077"/>
                </a:lnTo>
                <a:lnTo>
                  <a:pt x="71119" y="62077"/>
                </a:lnTo>
                <a:lnTo>
                  <a:pt x="71119" y="43916"/>
                </a:lnTo>
                <a:lnTo>
                  <a:pt x="19062" y="43916"/>
                </a:lnTo>
                <a:lnTo>
                  <a:pt x="19062" y="18135"/>
                </a:lnTo>
                <a:lnTo>
                  <a:pt x="71119" y="1813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2397680" y="8882640"/>
            <a:ext cx="42120" cy="27720"/>
          </a:xfrm>
          <a:custGeom>
            <a:avLst/>
            <a:gdLst>
              <a:gd name="textAreaLeft" fmla="*/ 0 w 42120"/>
              <a:gd name="textAreaRight" fmla="*/ 42480 w 421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42506" h="28028">
                <a:moveTo>
                  <a:pt x="41541" y="23558"/>
                </a:moveTo>
                <a:cubicBezTo>
                  <a:pt x="42151" y="22923"/>
                  <a:pt x="42506" y="22313"/>
                  <a:pt x="42506" y="21310"/>
                </a:cubicBezTo>
                <a:lnTo>
                  <a:pt x="42506" y="6692"/>
                </a:lnTo>
                <a:cubicBezTo>
                  <a:pt x="42506" y="5777"/>
                  <a:pt x="42151" y="5117"/>
                  <a:pt x="41541" y="4470"/>
                </a:cubicBezTo>
                <a:lnTo>
                  <a:pt x="38024" y="990"/>
                </a:lnTo>
                <a:cubicBezTo>
                  <a:pt x="37414" y="304"/>
                  <a:pt x="36766" y="0"/>
                  <a:pt x="35801" y="0"/>
                </a:cubicBezTo>
                <a:lnTo>
                  <a:pt x="0" y="0"/>
                </a:lnTo>
                <a:lnTo>
                  <a:pt x="0" y="28028"/>
                </a:lnTo>
                <a:lnTo>
                  <a:pt x="35801" y="28028"/>
                </a:lnTo>
                <a:cubicBezTo>
                  <a:pt x="36766" y="28028"/>
                  <a:pt x="37414" y="27685"/>
                  <a:pt x="38024" y="27063"/>
                </a:cubicBezTo>
                <a:lnTo>
                  <a:pt x="41541" y="23558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12286440" y="888264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850">
                <a:moveTo>
                  <a:pt x="51079" y="7175"/>
                </a:moveTo>
                <a:lnTo>
                  <a:pt x="44843" y="952"/>
                </a:lnTo>
                <a:cubicBezTo>
                  <a:pt x="44234" y="304"/>
                  <a:pt x="43599" y="0"/>
                  <a:pt x="42621" y="0"/>
                </a:cubicBezTo>
                <a:lnTo>
                  <a:pt x="9347" y="0"/>
                </a:lnTo>
                <a:cubicBezTo>
                  <a:pt x="8382" y="0"/>
                  <a:pt x="7746" y="304"/>
                  <a:pt x="7125" y="952"/>
                </a:cubicBezTo>
                <a:lnTo>
                  <a:pt x="927" y="7175"/>
                </a:lnTo>
                <a:cubicBezTo>
                  <a:pt x="572" y="7492"/>
                  <a:pt x="343" y="7810"/>
                  <a:pt x="216" y="8178"/>
                </a:cubicBezTo>
                <a:cubicBezTo>
                  <a:pt x="25" y="8534"/>
                  <a:pt x="0" y="8952"/>
                  <a:pt x="0" y="9334"/>
                </a:cubicBezTo>
                <a:lnTo>
                  <a:pt x="0" y="60452"/>
                </a:lnTo>
                <a:cubicBezTo>
                  <a:pt x="0" y="61238"/>
                  <a:pt x="254" y="62064"/>
                  <a:pt x="965" y="62648"/>
                </a:cubicBezTo>
                <a:lnTo>
                  <a:pt x="7125" y="68909"/>
                </a:lnTo>
                <a:cubicBezTo>
                  <a:pt x="7772" y="69506"/>
                  <a:pt x="8420" y="69850"/>
                  <a:pt x="9347" y="69850"/>
                </a:cubicBezTo>
                <a:lnTo>
                  <a:pt x="42659" y="69850"/>
                </a:lnTo>
                <a:cubicBezTo>
                  <a:pt x="43624" y="69850"/>
                  <a:pt x="44234" y="69506"/>
                  <a:pt x="44843" y="68909"/>
                </a:cubicBezTo>
                <a:lnTo>
                  <a:pt x="51079" y="62648"/>
                </a:lnTo>
                <a:cubicBezTo>
                  <a:pt x="51727" y="62064"/>
                  <a:pt x="52019" y="61238"/>
                  <a:pt x="52019" y="60490"/>
                </a:cubicBezTo>
                <a:lnTo>
                  <a:pt x="52019" y="9397"/>
                </a:lnTo>
                <a:cubicBezTo>
                  <a:pt x="52019" y="8597"/>
                  <a:pt x="51727" y="7772"/>
                  <a:pt x="51079" y="7175"/>
                </a:cubicBez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1744200" y="3450960"/>
            <a:ext cx="809640" cy="809640"/>
          </a:xfrm>
          <a:custGeom>
            <a:avLst/>
            <a:gdLst>
              <a:gd name="textAreaLeft" fmla="*/ 0 w 809640"/>
              <a:gd name="textAreaRight" fmla="*/ 810000 w 8096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809917" h="809929">
                <a:moveTo>
                  <a:pt x="809917" y="404964"/>
                </a:moveTo>
                <a:cubicBezTo>
                  <a:pt x="809917" y="181305"/>
                  <a:pt x="628624" y="0"/>
                  <a:pt x="404952" y="0"/>
                </a:cubicBezTo>
                <a:cubicBezTo>
                  <a:pt x="181279" y="0"/>
                  <a:pt x="0" y="181305"/>
                  <a:pt x="0" y="404964"/>
                </a:cubicBezTo>
                <a:cubicBezTo>
                  <a:pt x="0" y="628675"/>
                  <a:pt x="181279" y="809929"/>
                  <a:pt x="404952" y="809929"/>
                </a:cubicBezTo>
                <a:cubicBezTo>
                  <a:pt x="628624" y="809929"/>
                  <a:pt x="809917" y="628675"/>
                  <a:pt x="809917" y="404964"/>
                </a:cubicBezTo>
              </a:path>
            </a:pathLst>
          </a:custGeom>
          <a:solidFill>
            <a:srgbClr val="66666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905400" y="1315800"/>
            <a:ext cx="580320" cy="580320"/>
          </a:xfrm>
          <a:custGeom>
            <a:avLst/>
            <a:gdLst>
              <a:gd name="textAreaLeft" fmla="*/ 0 w 580320"/>
              <a:gd name="textAreaRight" fmla="*/ 580680 w 580320"/>
              <a:gd name="textAreaTop" fmla="*/ 0 h 580320"/>
              <a:gd name="textAreaBottom" fmla="*/ 580680 h 580320"/>
            </a:gdLst>
            <a:ahLst/>
            <a:rect l="textAreaLeft" t="textAreaTop" r="textAreaRight" b="textAreaBottom"/>
            <a:pathLst>
              <a:path w="580783" h="580821">
                <a:moveTo>
                  <a:pt x="580783" y="290309"/>
                </a:moveTo>
                <a:cubicBezTo>
                  <a:pt x="580783" y="130022"/>
                  <a:pt x="450786" y="0"/>
                  <a:pt x="290385" y="0"/>
                </a:cubicBezTo>
                <a:cubicBezTo>
                  <a:pt x="129997" y="0"/>
                  <a:pt x="0" y="130022"/>
                  <a:pt x="0" y="290309"/>
                </a:cubicBezTo>
                <a:cubicBezTo>
                  <a:pt x="0" y="450786"/>
                  <a:pt x="129997" y="580821"/>
                  <a:pt x="290385" y="580821"/>
                </a:cubicBezTo>
                <a:cubicBezTo>
                  <a:pt x="450786" y="580821"/>
                  <a:pt x="580783" y="450786"/>
                  <a:pt x="580783" y="290309"/>
                </a:cubicBezTo>
              </a:path>
            </a:pathLst>
          </a:custGeom>
          <a:solidFill>
            <a:srgbClr val="66666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1440" y="3450960"/>
            <a:ext cx="809640" cy="809640"/>
          </a:xfrm>
          <a:custGeom>
            <a:avLst/>
            <a:gdLst>
              <a:gd name="textAreaLeft" fmla="*/ 0 w 809640"/>
              <a:gd name="textAreaRight" fmla="*/ 810000 w 8096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809917" h="809929">
                <a:moveTo>
                  <a:pt x="809917" y="404964"/>
                </a:moveTo>
                <a:cubicBezTo>
                  <a:pt x="809917" y="181305"/>
                  <a:pt x="628624" y="0"/>
                  <a:pt x="404952" y="0"/>
                </a:cubicBezTo>
                <a:cubicBezTo>
                  <a:pt x="181292" y="0"/>
                  <a:pt x="0" y="181305"/>
                  <a:pt x="0" y="404964"/>
                </a:cubicBezTo>
                <a:cubicBezTo>
                  <a:pt x="0" y="628675"/>
                  <a:pt x="181292" y="809929"/>
                  <a:pt x="404952" y="809929"/>
                </a:cubicBezTo>
                <a:cubicBezTo>
                  <a:pt x="628624" y="809929"/>
                  <a:pt x="809917" y="628675"/>
                  <a:pt x="809917" y="404964"/>
                </a:cubicBezTo>
              </a:path>
            </a:pathLst>
          </a:custGeom>
          <a:solidFill>
            <a:srgbClr val="66666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398520" y="1887480"/>
            <a:ext cx="1205280" cy="1759320"/>
          </a:xfrm>
          <a:custGeom>
            <a:avLst/>
            <a:gdLst>
              <a:gd name="textAreaLeft" fmla="*/ 0 w 1205280"/>
              <a:gd name="textAreaRight" fmla="*/ 1205640 w 12052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205664" h="1759633">
                <a:moveTo>
                  <a:pt x="654317" y="54056"/>
                </a:moveTo>
                <a:cubicBezTo>
                  <a:pt x="482892" y="4005"/>
                  <a:pt x="282143" y="-64587"/>
                  <a:pt x="192113" y="127690"/>
                </a:cubicBezTo>
                <a:cubicBezTo>
                  <a:pt x="102095" y="319917"/>
                  <a:pt x="-86004" y="843488"/>
                  <a:pt x="44856" y="1043944"/>
                </a:cubicBezTo>
                <a:cubicBezTo>
                  <a:pt x="175730" y="1244401"/>
                  <a:pt x="249352" y="1183035"/>
                  <a:pt x="605231" y="1183035"/>
                </a:cubicBezTo>
                <a:cubicBezTo>
                  <a:pt x="961111" y="1183035"/>
                  <a:pt x="961199" y="1637085"/>
                  <a:pt x="977494" y="1669788"/>
                </a:cubicBezTo>
                <a:cubicBezTo>
                  <a:pt x="1034732" y="1825210"/>
                  <a:pt x="1239228" y="1755589"/>
                  <a:pt x="1202411" y="1649340"/>
                </a:cubicBezTo>
                <a:cubicBezTo>
                  <a:pt x="1165593" y="1542978"/>
                  <a:pt x="1042886" y="978476"/>
                  <a:pt x="785190" y="982590"/>
                </a:cubicBezTo>
                <a:cubicBezTo>
                  <a:pt x="527482" y="986705"/>
                  <a:pt x="556146" y="966220"/>
                  <a:pt x="482511" y="872139"/>
                </a:cubicBezTo>
                <a:cubicBezTo>
                  <a:pt x="408889" y="778082"/>
                  <a:pt x="809727" y="483557"/>
                  <a:pt x="821995" y="377156"/>
                </a:cubicBezTo>
                <a:cubicBezTo>
                  <a:pt x="834263" y="270870"/>
                  <a:pt x="850659" y="111193"/>
                  <a:pt x="654317" y="54056"/>
                </a:cubicBezTo>
              </a:path>
            </a:pathLst>
          </a:custGeom>
          <a:solidFill>
            <a:srgbClr val="66666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1028160" y="2093040"/>
            <a:ext cx="722520" cy="629640"/>
          </a:xfrm>
          <a:custGeom>
            <a:avLst/>
            <a:gdLst>
              <a:gd name="textAreaLeft" fmla="*/ 0 w 722520"/>
              <a:gd name="textAreaRight" fmla="*/ 722880 w 722520"/>
              <a:gd name="textAreaTop" fmla="*/ 0 h 629640"/>
              <a:gd name="textAreaBottom" fmla="*/ 630000 h 629640"/>
            </a:gdLst>
            <a:ahLst/>
            <a:rect l="textAreaLeft" t="textAreaTop" r="textAreaRight" b="textAreaBottom"/>
            <a:pathLst>
              <a:path w="722980" h="629945">
                <a:moveTo>
                  <a:pt x="81775" y="0"/>
                </a:moveTo>
                <a:cubicBezTo>
                  <a:pt x="192227" y="171767"/>
                  <a:pt x="323189" y="417220"/>
                  <a:pt x="613575" y="425424"/>
                </a:cubicBezTo>
                <a:cubicBezTo>
                  <a:pt x="732167" y="425424"/>
                  <a:pt x="781265" y="638098"/>
                  <a:pt x="629970" y="629945"/>
                </a:cubicBezTo>
                <a:cubicBezTo>
                  <a:pt x="462203" y="625830"/>
                  <a:pt x="241312" y="613549"/>
                  <a:pt x="0" y="261810"/>
                </a:cubicBezTo>
                <a:lnTo>
                  <a:pt x="81775" y="0"/>
                </a:lnTo>
              </a:path>
            </a:pathLst>
          </a:custGeom>
          <a:solidFill>
            <a:srgbClr val="66666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890640" y="1291320"/>
            <a:ext cx="624960" cy="429120"/>
          </a:xfrm>
          <a:custGeom>
            <a:avLst/>
            <a:gdLst>
              <a:gd name="textAreaLeft" fmla="*/ 0 w 624960"/>
              <a:gd name="textAreaRight" fmla="*/ 625320 w 624960"/>
              <a:gd name="textAreaTop" fmla="*/ 0 h 429120"/>
              <a:gd name="textAreaBottom" fmla="*/ 429480 h 429120"/>
            </a:gdLst>
            <a:ahLst/>
            <a:rect l="textAreaLeft" t="textAreaTop" r="textAreaRight" b="textAreaBottom"/>
            <a:pathLst>
              <a:path w="625433" h="429501">
                <a:moveTo>
                  <a:pt x="624231" y="327240"/>
                </a:moveTo>
                <a:lnTo>
                  <a:pt x="260109" y="282244"/>
                </a:lnTo>
                <a:lnTo>
                  <a:pt x="157912" y="429501"/>
                </a:lnTo>
                <a:lnTo>
                  <a:pt x="2401" y="429501"/>
                </a:lnTo>
                <a:cubicBezTo>
                  <a:pt x="2401" y="429501"/>
                  <a:pt x="-50798" y="-12255"/>
                  <a:pt x="329705" y="0"/>
                </a:cubicBezTo>
                <a:cubicBezTo>
                  <a:pt x="677546" y="11150"/>
                  <a:pt x="620218" y="290436"/>
                  <a:pt x="624231" y="327240"/>
                </a:cubicBezTo>
              </a:path>
            </a:pathLst>
          </a:custGeom>
          <a:solidFill>
            <a:srgbClr val="66666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2184480"/>
            <a:ext cx="2603160" cy="1726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0807560" y="8801280"/>
            <a:ext cx="266400" cy="190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11302920" y="8801280"/>
            <a:ext cx="279000" cy="190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4"/>
          <a:stretch/>
        </p:blipFill>
        <p:spPr>
          <a:xfrm>
            <a:off x="11684160" y="8801280"/>
            <a:ext cx="825120" cy="5583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3011400" y="1054080"/>
            <a:ext cx="2968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299"/>
              </a:lnSpc>
            </a:pP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It’s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1pm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2927880" y="1816200"/>
            <a:ext cx="4456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299"/>
              </a:lnSpc>
            </a:pP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Here’s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lunch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2">
            <a:hlinkClick r:id="rId6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3011400" y="1054080"/>
            <a:ext cx="2968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299"/>
              </a:lnSpc>
            </a:pP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It’s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1pm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2927880" y="1816200"/>
            <a:ext cx="4456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299"/>
              </a:lnSpc>
            </a:pP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Here’s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lunch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953640" y="5130720"/>
            <a:ext cx="4988880" cy="33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401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i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contai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exac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nutri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tha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you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moni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det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ne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tod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"/>
          <p:cNvSpPr/>
          <p:nvPr/>
        </p:nvSpPr>
        <p:spPr>
          <a:xfrm>
            <a:off x="0" y="0"/>
            <a:ext cx="13080600" cy="9829440"/>
          </a:xfrm>
          <a:custGeom>
            <a:avLst/>
            <a:gdLst>
              <a:gd name="textAreaLeft" fmla="*/ 0 w 13080600"/>
              <a:gd name="textAreaRight" fmla="*/ 13080960 w 13080600"/>
              <a:gd name="textAreaTop" fmla="*/ 0 h 9829440"/>
              <a:gd name="textAreaBottom" fmla="*/ 9829800 h 9829440"/>
            </a:gdLst>
            <a:ahLst/>
            <a:rect l="textAreaLeft" t="textAreaTop" r="textAreaRight" b="textAreaBottom"/>
            <a:pathLst>
              <a:path w="13081000" h="9829800">
                <a:moveTo>
                  <a:pt x="0" y="9829800"/>
                </a:moveTo>
                <a:lnTo>
                  <a:pt x="13081000" y="9829800"/>
                </a:lnTo>
                <a:lnTo>
                  <a:pt x="13081000" y="0"/>
                </a:lnTo>
                <a:lnTo>
                  <a:pt x="0" y="0"/>
                </a:lnTo>
                <a:lnTo>
                  <a:pt x="0" y="9829800"/>
                </a:lnTo>
              </a:path>
            </a:pathLst>
          </a:custGeom>
          <a:solidFill>
            <a:srgbClr val="b7cdd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1686960" y="2965680"/>
            <a:ext cx="10190880" cy="3162960"/>
          </a:xfrm>
          <a:custGeom>
            <a:avLst/>
            <a:gdLst>
              <a:gd name="textAreaLeft" fmla="*/ 0 w 10190880"/>
              <a:gd name="textAreaRight" fmla="*/ 10191240 w 10190880"/>
              <a:gd name="textAreaTop" fmla="*/ 0 h 3162960"/>
              <a:gd name="textAreaBottom" fmla="*/ 3163320 h 3162960"/>
            </a:gdLst>
            <a:ahLst/>
            <a:rect l="textAreaLeft" t="textAreaTop" r="textAreaRight" b="textAreaBottom"/>
            <a:pathLst>
              <a:path w="10191242" h="3163328">
                <a:moveTo>
                  <a:pt x="10191242" y="3163328"/>
                </a:moveTo>
                <a:lnTo>
                  <a:pt x="0" y="3163328"/>
                </a:lnTo>
                <a:lnTo>
                  <a:pt x="0" y="0"/>
                </a:lnTo>
                <a:lnTo>
                  <a:pt x="10191242" y="0"/>
                </a:lnTo>
                <a:lnTo>
                  <a:pt x="10191242" y="3163328"/>
                </a:lnTo>
              </a:path>
            </a:pathLst>
          </a:custGeom>
          <a:solidFill>
            <a:srgbClr val="a1b3b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060280" y="5944680"/>
            <a:ext cx="1123560" cy="1252440"/>
          </a:xfrm>
          <a:custGeom>
            <a:avLst/>
            <a:gdLst>
              <a:gd name="textAreaLeft" fmla="*/ 0 w 1123560"/>
              <a:gd name="textAreaRight" fmla="*/ 1123920 w 112356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1123950" h="1252639">
                <a:moveTo>
                  <a:pt x="0" y="106133"/>
                </a:moveTo>
                <a:lnTo>
                  <a:pt x="0" y="1252639"/>
                </a:lnTo>
                <a:lnTo>
                  <a:pt x="1123950" y="0"/>
                </a:lnTo>
                <a:lnTo>
                  <a:pt x="0" y="106133"/>
                </a:lnTo>
              </a:path>
            </a:pathLst>
          </a:custGeom>
          <a:solidFill>
            <a:srgbClr val="a1b3b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1933200" y="5817600"/>
            <a:ext cx="1123560" cy="1252440"/>
          </a:xfrm>
          <a:custGeom>
            <a:avLst/>
            <a:gdLst>
              <a:gd name="textAreaLeft" fmla="*/ 0 w 1123560"/>
              <a:gd name="textAreaRight" fmla="*/ 1123920 w 112356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1123950" h="1252639">
                <a:moveTo>
                  <a:pt x="0" y="106133"/>
                </a:moveTo>
                <a:lnTo>
                  <a:pt x="0" y="1252639"/>
                </a:lnTo>
                <a:lnTo>
                  <a:pt x="1123950" y="0"/>
                </a:lnTo>
                <a:lnTo>
                  <a:pt x="0" y="10613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559880" y="2838960"/>
            <a:ext cx="10190880" cy="3162960"/>
          </a:xfrm>
          <a:custGeom>
            <a:avLst/>
            <a:gdLst>
              <a:gd name="textAreaLeft" fmla="*/ 0 w 10190880"/>
              <a:gd name="textAreaRight" fmla="*/ 10191240 w 10190880"/>
              <a:gd name="textAreaTop" fmla="*/ 0 h 3162960"/>
              <a:gd name="textAreaBottom" fmla="*/ 3163320 h 3162960"/>
            </a:gdLst>
            <a:ahLst/>
            <a:rect l="textAreaLeft" t="textAreaTop" r="textAreaRight" b="textAreaBottom"/>
            <a:pathLst>
              <a:path w="10191242" h="3163328">
                <a:moveTo>
                  <a:pt x="10191242" y="3163328"/>
                </a:moveTo>
                <a:lnTo>
                  <a:pt x="0" y="3163328"/>
                </a:lnTo>
                <a:lnTo>
                  <a:pt x="0" y="0"/>
                </a:lnTo>
                <a:lnTo>
                  <a:pt x="10191242" y="0"/>
                </a:lnTo>
                <a:lnTo>
                  <a:pt x="10191242" y="316332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10695240" y="8751600"/>
            <a:ext cx="152280" cy="218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18520"/>
              <a:gd name="textAreaBottom" fmla="*/ 218880 h 218520"/>
            </a:gdLst>
            <a:ahLst/>
            <a:rect l="textAreaLeft" t="textAreaTop" r="textAreaRight" b="textAreaBottom"/>
            <a:pathLst>
              <a:path w="152641" h="218897">
                <a:moveTo>
                  <a:pt x="62966" y="0"/>
                </a:moveTo>
                <a:lnTo>
                  <a:pt x="152641" y="0"/>
                </a:lnTo>
                <a:cubicBezTo>
                  <a:pt x="152641" y="0"/>
                  <a:pt x="104723" y="161670"/>
                  <a:pt x="88391" y="218896"/>
                </a:cubicBezTo>
                <a:lnTo>
                  <a:pt x="0" y="218896"/>
                </a:lnTo>
                <a:lnTo>
                  <a:pt x="62966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11052000" y="8818920"/>
            <a:ext cx="264960" cy="151200"/>
          </a:xfrm>
          <a:custGeom>
            <a:avLst/>
            <a:gdLst>
              <a:gd name="textAreaLeft" fmla="*/ 0 w 264960"/>
              <a:gd name="textAreaRight" fmla="*/ 265320 w 26496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265355" h="151434">
                <a:moveTo>
                  <a:pt x="41782" y="10896"/>
                </a:moveTo>
                <a:lnTo>
                  <a:pt x="0" y="151434"/>
                </a:lnTo>
                <a:lnTo>
                  <a:pt x="90830" y="151434"/>
                </a:lnTo>
                <a:lnTo>
                  <a:pt x="128053" y="27254"/>
                </a:lnTo>
                <a:cubicBezTo>
                  <a:pt x="128053" y="27254"/>
                  <a:pt x="146138" y="23558"/>
                  <a:pt x="164159" y="29336"/>
                </a:cubicBezTo>
                <a:cubicBezTo>
                  <a:pt x="164159" y="29336"/>
                  <a:pt x="180123" y="32715"/>
                  <a:pt x="173672" y="52107"/>
                </a:cubicBezTo>
                <a:lnTo>
                  <a:pt x="144436" y="151434"/>
                </a:lnTo>
                <a:lnTo>
                  <a:pt x="233450" y="151434"/>
                </a:lnTo>
                <a:lnTo>
                  <a:pt x="263435" y="51409"/>
                </a:lnTo>
                <a:cubicBezTo>
                  <a:pt x="263435" y="51409"/>
                  <a:pt x="277049" y="16382"/>
                  <a:pt x="237946" y="8190"/>
                </a:cubicBezTo>
                <a:cubicBezTo>
                  <a:pt x="237946" y="8190"/>
                  <a:pt x="170319" y="-11951"/>
                  <a:pt x="41782" y="10896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11584800" y="8823600"/>
            <a:ext cx="250200" cy="146520"/>
          </a:xfrm>
          <a:custGeom>
            <a:avLst/>
            <a:gdLst>
              <a:gd name="textAreaLeft" fmla="*/ 0 w 250200"/>
              <a:gd name="textAreaRight" fmla="*/ 250560 w 250200"/>
              <a:gd name="textAreaTop" fmla="*/ 0 h 146520"/>
              <a:gd name="textAreaBottom" fmla="*/ 146880 h 146520"/>
            </a:gdLst>
            <a:ahLst/>
            <a:rect l="textAreaLeft" t="textAreaTop" r="textAreaRight" b="textAreaBottom"/>
            <a:pathLst>
              <a:path w="250685" h="146901">
                <a:moveTo>
                  <a:pt x="0" y="0"/>
                </a:moveTo>
                <a:lnTo>
                  <a:pt x="81457" y="0"/>
                </a:lnTo>
                <a:lnTo>
                  <a:pt x="94144" y="102044"/>
                </a:lnTo>
                <a:lnTo>
                  <a:pt x="165328" y="0"/>
                </a:lnTo>
                <a:lnTo>
                  <a:pt x="250685" y="0"/>
                </a:lnTo>
                <a:lnTo>
                  <a:pt x="150190" y="146901"/>
                </a:lnTo>
                <a:lnTo>
                  <a:pt x="17881" y="1469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11718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543" h="106209">
                <a:moveTo>
                  <a:pt x="0" y="18173"/>
                </a:moveTo>
                <a:lnTo>
                  <a:pt x="30682" y="18173"/>
                </a:lnTo>
                <a:lnTo>
                  <a:pt x="30682" y="106209"/>
                </a:lnTo>
                <a:lnTo>
                  <a:pt x="49783" y="106209"/>
                </a:lnTo>
                <a:lnTo>
                  <a:pt x="49783" y="18173"/>
                </a:lnTo>
                <a:lnTo>
                  <a:pt x="80543" y="18173"/>
                </a:lnTo>
                <a:lnTo>
                  <a:pt x="80543" y="0"/>
                </a:lnTo>
                <a:lnTo>
                  <a:pt x="0" y="0"/>
                </a:lnTo>
                <a:lnTo>
                  <a:pt x="0" y="181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11817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34" h="106197">
                <a:moveTo>
                  <a:pt x="61633" y="43954"/>
                </a:moveTo>
                <a:lnTo>
                  <a:pt x="19125" y="43954"/>
                </a:lnTo>
                <a:lnTo>
                  <a:pt x="19125" y="0"/>
                </a:lnTo>
                <a:lnTo>
                  <a:pt x="0" y="0"/>
                </a:lnTo>
                <a:lnTo>
                  <a:pt x="0" y="106197"/>
                </a:lnTo>
                <a:lnTo>
                  <a:pt x="19125" y="106197"/>
                </a:lnTo>
                <a:lnTo>
                  <a:pt x="19125" y="62090"/>
                </a:lnTo>
                <a:lnTo>
                  <a:pt x="61633" y="62090"/>
                </a:lnTo>
                <a:lnTo>
                  <a:pt x="61633" y="106197"/>
                </a:lnTo>
                <a:lnTo>
                  <a:pt x="80733" y="106197"/>
                </a:lnTo>
                <a:lnTo>
                  <a:pt x="80733" y="0"/>
                </a:lnTo>
                <a:lnTo>
                  <a:pt x="61633" y="0"/>
                </a:lnTo>
                <a:lnTo>
                  <a:pt x="61633" y="4395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12144960" y="904212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58" h="106209">
                <a:moveTo>
                  <a:pt x="0" y="106209"/>
                </a:moveTo>
                <a:lnTo>
                  <a:pt x="71158" y="106209"/>
                </a:lnTo>
                <a:lnTo>
                  <a:pt x="71158" y="88074"/>
                </a:lnTo>
                <a:lnTo>
                  <a:pt x="19101" y="88074"/>
                </a:lnTo>
                <a:lnTo>
                  <a:pt x="19101" y="62102"/>
                </a:lnTo>
                <a:lnTo>
                  <a:pt x="71158" y="62102"/>
                </a:lnTo>
                <a:lnTo>
                  <a:pt x="71158" y="43967"/>
                </a:lnTo>
                <a:lnTo>
                  <a:pt x="19101" y="43967"/>
                </a:lnTo>
                <a:lnTo>
                  <a:pt x="19101" y="18173"/>
                </a:lnTo>
                <a:lnTo>
                  <a:pt x="71158" y="18173"/>
                </a:lnTo>
                <a:lnTo>
                  <a:pt x="71158" y="0"/>
                </a:lnTo>
                <a:lnTo>
                  <a:pt x="0" y="0"/>
                </a:lnTo>
                <a:lnTo>
                  <a:pt x="0" y="10620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12029760" y="9042120"/>
            <a:ext cx="90000" cy="105840"/>
          </a:xfrm>
          <a:custGeom>
            <a:avLst/>
            <a:gdLst>
              <a:gd name="textAreaLeft" fmla="*/ 0 w 90000"/>
              <a:gd name="textAreaRight" fmla="*/ 90360 w 900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90322" h="106209">
                <a:moveTo>
                  <a:pt x="20104" y="25323"/>
                </a:moveTo>
                <a:lnTo>
                  <a:pt x="26301" y="19087"/>
                </a:lnTo>
                <a:cubicBezTo>
                  <a:pt x="26949" y="18491"/>
                  <a:pt x="27622" y="18173"/>
                  <a:pt x="28549" y="18173"/>
                </a:cubicBezTo>
                <a:lnTo>
                  <a:pt x="64693" y="18173"/>
                </a:lnTo>
                <a:cubicBezTo>
                  <a:pt x="65633" y="18173"/>
                  <a:pt x="66243" y="18491"/>
                  <a:pt x="66890" y="19087"/>
                </a:cubicBezTo>
                <a:lnTo>
                  <a:pt x="77609" y="29793"/>
                </a:lnTo>
                <a:lnTo>
                  <a:pt x="90322" y="16954"/>
                </a:lnTo>
                <a:lnTo>
                  <a:pt x="76796" y="3416"/>
                </a:lnTo>
                <a:cubicBezTo>
                  <a:pt x="74548" y="1104"/>
                  <a:pt x="71869" y="0"/>
                  <a:pt x="68859" y="0"/>
                </a:cubicBezTo>
                <a:lnTo>
                  <a:pt x="24396" y="0"/>
                </a:lnTo>
                <a:cubicBezTo>
                  <a:pt x="21361" y="0"/>
                  <a:pt x="18643" y="1104"/>
                  <a:pt x="16420" y="3416"/>
                </a:cubicBezTo>
                <a:lnTo>
                  <a:pt x="3352" y="16433"/>
                </a:lnTo>
                <a:cubicBezTo>
                  <a:pt x="1155" y="18630"/>
                  <a:pt x="0" y="21322"/>
                  <a:pt x="0" y="24396"/>
                </a:cubicBezTo>
                <a:lnTo>
                  <a:pt x="0" y="45236"/>
                </a:lnTo>
                <a:cubicBezTo>
                  <a:pt x="0" y="51307"/>
                  <a:pt x="4838" y="56857"/>
                  <a:pt x="11035" y="57645"/>
                </a:cubicBezTo>
                <a:lnTo>
                  <a:pt x="68185" y="65290"/>
                </a:lnTo>
                <a:cubicBezTo>
                  <a:pt x="69760" y="65455"/>
                  <a:pt x="71221" y="66890"/>
                  <a:pt x="71221" y="68477"/>
                </a:cubicBezTo>
                <a:lnTo>
                  <a:pt x="71221" y="78675"/>
                </a:lnTo>
                <a:cubicBezTo>
                  <a:pt x="71221" y="79425"/>
                  <a:pt x="70929" y="80238"/>
                  <a:pt x="70281" y="80873"/>
                </a:cubicBezTo>
                <a:lnTo>
                  <a:pt x="64045" y="87108"/>
                </a:lnTo>
                <a:cubicBezTo>
                  <a:pt x="63436" y="87718"/>
                  <a:pt x="62788" y="88074"/>
                  <a:pt x="61823" y="88074"/>
                </a:cubicBezTo>
                <a:lnTo>
                  <a:pt x="25653" y="88074"/>
                </a:lnTo>
                <a:cubicBezTo>
                  <a:pt x="24751" y="88074"/>
                  <a:pt x="24065" y="87718"/>
                  <a:pt x="23456" y="87108"/>
                </a:cubicBezTo>
                <a:lnTo>
                  <a:pt x="12775" y="76453"/>
                </a:lnTo>
                <a:lnTo>
                  <a:pt x="0" y="89331"/>
                </a:lnTo>
                <a:lnTo>
                  <a:pt x="13550" y="102857"/>
                </a:lnTo>
                <a:cubicBezTo>
                  <a:pt x="15811" y="105079"/>
                  <a:pt x="18491" y="106209"/>
                  <a:pt x="21551" y="106209"/>
                </a:cubicBezTo>
                <a:lnTo>
                  <a:pt x="65963" y="106209"/>
                </a:lnTo>
                <a:cubicBezTo>
                  <a:pt x="68960" y="106209"/>
                  <a:pt x="71704" y="105079"/>
                  <a:pt x="73926" y="102857"/>
                </a:cubicBezTo>
                <a:lnTo>
                  <a:pt x="86969" y="89813"/>
                </a:lnTo>
                <a:cubicBezTo>
                  <a:pt x="89230" y="87553"/>
                  <a:pt x="90322" y="84911"/>
                  <a:pt x="90322" y="81876"/>
                </a:cubicBezTo>
                <a:lnTo>
                  <a:pt x="90322" y="60985"/>
                </a:lnTo>
                <a:cubicBezTo>
                  <a:pt x="90322" y="54940"/>
                  <a:pt x="85584" y="49377"/>
                  <a:pt x="79349" y="48602"/>
                </a:cubicBezTo>
                <a:lnTo>
                  <a:pt x="22008" y="40944"/>
                </a:lnTo>
                <a:cubicBezTo>
                  <a:pt x="20421" y="40766"/>
                  <a:pt x="19125" y="39331"/>
                  <a:pt x="19125" y="37769"/>
                </a:cubicBezTo>
                <a:lnTo>
                  <a:pt x="19125" y="27571"/>
                </a:lnTo>
                <a:cubicBezTo>
                  <a:pt x="19125" y="26720"/>
                  <a:pt x="19456" y="25983"/>
                  <a:pt x="20104" y="2532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11938680" y="906012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57" h="69887">
                <a:moveTo>
                  <a:pt x="44856" y="914"/>
                </a:moveTo>
                <a:cubicBezTo>
                  <a:pt x="44272" y="317"/>
                  <a:pt x="43624" y="0"/>
                  <a:pt x="42659" y="0"/>
                </a:cubicBezTo>
                <a:lnTo>
                  <a:pt x="9397" y="0"/>
                </a:lnTo>
                <a:cubicBezTo>
                  <a:pt x="8420" y="0"/>
                  <a:pt x="7785" y="317"/>
                  <a:pt x="7163" y="914"/>
                </a:cubicBezTo>
                <a:lnTo>
                  <a:pt x="940" y="7149"/>
                </a:lnTo>
                <a:cubicBezTo>
                  <a:pt x="292" y="7810"/>
                  <a:pt x="0" y="8546"/>
                  <a:pt x="0" y="9385"/>
                </a:cubicBezTo>
                <a:lnTo>
                  <a:pt x="0" y="60502"/>
                </a:lnTo>
                <a:cubicBezTo>
                  <a:pt x="0" y="61252"/>
                  <a:pt x="292" y="62052"/>
                  <a:pt x="940" y="62700"/>
                </a:cubicBezTo>
                <a:lnTo>
                  <a:pt x="7163" y="68922"/>
                </a:lnTo>
                <a:cubicBezTo>
                  <a:pt x="7785" y="69570"/>
                  <a:pt x="8420" y="69887"/>
                  <a:pt x="9397" y="69887"/>
                </a:cubicBezTo>
                <a:lnTo>
                  <a:pt x="42659" y="69887"/>
                </a:lnTo>
                <a:cubicBezTo>
                  <a:pt x="43624" y="69887"/>
                  <a:pt x="44272" y="69570"/>
                  <a:pt x="44856" y="68922"/>
                </a:cubicBezTo>
                <a:lnTo>
                  <a:pt x="51117" y="62700"/>
                </a:lnTo>
                <a:cubicBezTo>
                  <a:pt x="51701" y="62052"/>
                  <a:pt x="52057" y="61252"/>
                  <a:pt x="52057" y="60502"/>
                </a:cubicBezTo>
                <a:lnTo>
                  <a:pt x="52057" y="9385"/>
                </a:lnTo>
                <a:cubicBezTo>
                  <a:pt x="52057" y="8546"/>
                  <a:pt x="51701" y="7810"/>
                  <a:pt x="51117" y="7149"/>
                </a:cubicBezTo>
                <a:lnTo>
                  <a:pt x="44856" y="914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11958840" y="921996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09" h="106171">
                <a:moveTo>
                  <a:pt x="61607" y="43916"/>
                </a:moveTo>
                <a:lnTo>
                  <a:pt x="19100" y="43916"/>
                </a:lnTo>
                <a:lnTo>
                  <a:pt x="19100" y="0"/>
                </a:lnTo>
                <a:lnTo>
                  <a:pt x="0" y="0"/>
                </a:lnTo>
                <a:lnTo>
                  <a:pt x="0" y="106171"/>
                </a:lnTo>
                <a:lnTo>
                  <a:pt x="19100" y="106171"/>
                </a:lnTo>
                <a:lnTo>
                  <a:pt x="19100" y="62052"/>
                </a:lnTo>
                <a:lnTo>
                  <a:pt x="61607" y="62052"/>
                </a:lnTo>
                <a:lnTo>
                  <a:pt x="61607" y="106171"/>
                </a:lnTo>
                <a:lnTo>
                  <a:pt x="80708" y="106171"/>
                </a:lnTo>
                <a:lnTo>
                  <a:pt x="80708" y="0"/>
                </a:lnTo>
                <a:lnTo>
                  <a:pt x="61607" y="0"/>
                </a:lnTo>
                <a:lnTo>
                  <a:pt x="61607" y="4391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11807280" y="9219960"/>
            <a:ext cx="130680" cy="105840"/>
          </a:xfrm>
          <a:custGeom>
            <a:avLst/>
            <a:gdLst>
              <a:gd name="textAreaLeft" fmla="*/ 0 w 130680"/>
              <a:gd name="textAreaRight" fmla="*/ 131040 w 1306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131050" h="106209">
                <a:moveTo>
                  <a:pt x="95236" y="85483"/>
                </a:moveTo>
                <a:lnTo>
                  <a:pt x="78523" y="0"/>
                </a:lnTo>
                <a:lnTo>
                  <a:pt x="53022" y="0"/>
                </a:lnTo>
                <a:lnTo>
                  <a:pt x="36017" y="85483"/>
                </a:lnTo>
                <a:lnTo>
                  <a:pt x="19265" y="0"/>
                </a:lnTo>
                <a:lnTo>
                  <a:pt x="0" y="0"/>
                </a:lnTo>
                <a:lnTo>
                  <a:pt x="23241" y="106209"/>
                </a:lnTo>
                <a:lnTo>
                  <a:pt x="48285" y="106209"/>
                </a:lnTo>
                <a:lnTo>
                  <a:pt x="65290" y="22300"/>
                </a:lnTo>
                <a:lnTo>
                  <a:pt x="82486" y="106209"/>
                </a:lnTo>
                <a:lnTo>
                  <a:pt x="107467" y="106209"/>
                </a:lnTo>
                <a:lnTo>
                  <a:pt x="131050" y="0"/>
                </a:lnTo>
                <a:lnTo>
                  <a:pt x="112267" y="0"/>
                </a:lnTo>
                <a:lnTo>
                  <a:pt x="95236" y="8548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12079440" y="923796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06" h="69900">
                <a:moveTo>
                  <a:pt x="44881" y="965"/>
                </a:moveTo>
                <a:cubicBezTo>
                  <a:pt x="44259" y="317"/>
                  <a:pt x="43624" y="0"/>
                  <a:pt x="42621" y="0"/>
                </a:cubicBezTo>
                <a:lnTo>
                  <a:pt x="9385" y="0"/>
                </a:lnTo>
                <a:cubicBezTo>
                  <a:pt x="8420" y="0"/>
                  <a:pt x="7772" y="317"/>
                  <a:pt x="7125" y="965"/>
                </a:cubicBezTo>
                <a:lnTo>
                  <a:pt x="965" y="7162"/>
                </a:lnTo>
                <a:cubicBezTo>
                  <a:pt x="317" y="7810"/>
                  <a:pt x="0" y="8610"/>
                  <a:pt x="0" y="9385"/>
                </a:cubicBezTo>
                <a:lnTo>
                  <a:pt x="0" y="60502"/>
                </a:lnTo>
                <a:cubicBezTo>
                  <a:pt x="0" y="61315"/>
                  <a:pt x="317" y="62115"/>
                  <a:pt x="965" y="62763"/>
                </a:cubicBezTo>
                <a:lnTo>
                  <a:pt x="7125" y="68960"/>
                </a:lnTo>
                <a:cubicBezTo>
                  <a:pt x="7772" y="69570"/>
                  <a:pt x="8420" y="69900"/>
                  <a:pt x="9385" y="69900"/>
                </a:cubicBezTo>
                <a:lnTo>
                  <a:pt x="42621" y="69900"/>
                </a:lnTo>
                <a:cubicBezTo>
                  <a:pt x="43624" y="69900"/>
                  <a:pt x="44259" y="69570"/>
                  <a:pt x="44881" y="68960"/>
                </a:cubicBezTo>
                <a:lnTo>
                  <a:pt x="51079" y="62763"/>
                </a:lnTo>
                <a:cubicBezTo>
                  <a:pt x="51727" y="62115"/>
                  <a:pt x="52006" y="61315"/>
                  <a:pt x="52006" y="60502"/>
                </a:cubicBezTo>
                <a:lnTo>
                  <a:pt x="52006" y="9385"/>
                </a:lnTo>
                <a:cubicBezTo>
                  <a:pt x="52006" y="8610"/>
                  <a:pt x="51727" y="7810"/>
                  <a:pt x="51079" y="7162"/>
                </a:cubicBezTo>
                <a:lnTo>
                  <a:pt x="44881" y="965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12455640" y="9305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396" h="20396">
                <a:moveTo>
                  <a:pt x="0" y="0"/>
                </a:moveTo>
                <a:lnTo>
                  <a:pt x="20395" y="0"/>
                </a:lnTo>
                <a:lnTo>
                  <a:pt x="20395" y="20396"/>
                </a:lnTo>
                <a:lnTo>
                  <a:pt x="0" y="2039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12259800" y="9237960"/>
            <a:ext cx="42120" cy="69480"/>
          </a:xfrm>
          <a:custGeom>
            <a:avLst/>
            <a:gdLst>
              <a:gd name="textAreaLeft" fmla="*/ 0 w 42120"/>
              <a:gd name="textAreaRight" fmla="*/ 42480 w 4212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42557" h="69901">
                <a:moveTo>
                  <a:pt x="35394" y="939"/>
                </a:moveTo>
                <a:cubicBezTo>
                  <a:pt x="34721" y="317"/>
                  <a:pt x="34099" y="0"/>
                  <a:pt x="33134" y="0"/>
                </a:cubicBezTo>
                <a:lnTo>
                  <a:pt x="0" y="0"/>
                </a:lnTo>
                <a:lnTo>
                  <a:pt x="0" y="69900"/>
                </a:lnTo>
                <a:lnTo>
                  <a:pt x="33134" y="69900"/>
                </a:lnTo>
                <a:cubicBezTo>
                  <a:pt x="34099" y="69900"/>
                  <a:pt x="34721" y="69608"/>
                  <a:pt x="35394" y="68960"/>
                </a:cubicBezTo>
                <a:lnTo>
                  <a:pt x="41592" y="62699"/>
                </a:lnTo>
                <a:cubicBezTo>
                  <a:pt x="42202" y="62115"/>
                  <a:pt x="42557" y="61315"/>
                  <a:pt x="42557" y="60502"/>
                </a:cubicBezTo>
                <a:lnTo>
                  <a:pt x="42557" y="9384"/>
                </a:lnTo>
                <a:cubicBezTo>
                  <a:pt x="42557" y="8584"/>
                  <a:pt x="42202" y="7772"/>
                  <a:pt x="41592" y="7162"/>
                </a:cubicBezTo>
                <a:lnTo>
                  <a:pt x="353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12363480" y="923796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82" h="69900">
                <a:moveTo>
                  <a:pt x="44894" y="939"/>
                </a:moveTo>
                <a:cubicBezTo>
                  <a:pt x="44272" y="317"/>
                  <a:pt x="43637" y="0"/>
                  <a:pt x="42659" y="0"/>
                </a:cubicBezTo>
                <a:lnTo>
                  <a:pt x="9397" y="0"/>
                </a:lnTo>
                <a:cubicBezTo>
                  <a:pt x="8420" y="0"/>
                  <a:pt x="7810" y="317"/>
                  <a:pt x="7201" y="939"/>
                </a:cubicBezTo>
                <a:lnTo>
                  <a:pt x="940" y="7162"/>
                </a:lnTo>
                <a:cubicBezTo>
                  <a:pt x="317" y="7772"/>
                  <a:pt x="0" y="8584"/>
                  <a:pt x="0" y="9384"/>
                </a:cubicBezTo>
                <a:lnTo>
                  <a:pt x="0" y="60502"/>
                </a:lnTo>
                <a:cubicBezTo>
                  <a:pt x="0" y="61315"/>
                  <a:pt x="317" y="62115"/>
                  <a:pt x="940" y="62699"/>
                </a:cubicBezTo>
                <a:lnTo>
                  <a:pt x="7201" y="68960"/>
                </a:lnTo>
                <a:cubicBezTo>
                  <a:pt x="7810" y="69608"/>
                  <a:pt x="8420" y="69900"/>
                  <a:pt x="9397" y="69900"/>
                </a:cubicBezTo>
                <a:lnTo>
                  <a:pt x="42659" y="69900"/>
                </a:lnTo>
                <a:cubicBezTo>
                  <a:pt x="43637" y="69900"/>
                  <a:pt x="44272" y="69608"/>
                  <a:pt x="44894" y="68960"/>
                </a:cubicBezTo>
                <a:lnTo>
                  <a:pt x="51143" y="62699"/>
                </a:lnTo>
                <a:cubicBezTo>
                  <a:pt x="51765" y="62115"/>
                  <a:pt x="52082" y="61315"/>
                  <a:pt x="52082" y="60502"/>
                </a:cubicBezTo>
                <a:lnTo>
                  <a:pt x="52082" y="9384"/>
                </a:lnTo>
                <a:cubicBezTo>
                  <a:pt x="52082" y="8584"/>
                  <a:pt x="51765" y="7772"/>
                  <a:pt x="51143" y="7162"/>
                </a:cubicBezTo>
                <a:lnTo>
                  <a:pt x="448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12178080" y="886428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19" h="106146">
                <a:moveTo>
                  <a:pt x="71119" y="18135"/>
                </a:moveTo>
                <a:lnTo>
                  <a:pt x="71119" y="0"/>
                </a:lnTo>
                <a:lnTo>
                  <a:pt x="0" y="0"/>
                </a:lnTo>
                <a:lnTo>
                  <a:pt x="0" y="106146"/>
                </a:lnTo>
                <a:lnTo>
                  <a:pt x="19062" y="106146"/>
                </a:lnTo>
                <a:lnTo>
                  <a:pt x="19062" y="62077"/>
                </a:lnTo>
                <a:lnTo>
                  <a:pt x="71119" y="62077"/>
                </a:lnTo>
                <a:lnTo>
                  <a:pt x="71119" y="43916"/>
                </a:lnTo>
                <a:lnTo>
                  <a:pt x="19062" y="43916"/>
                </a:lnTo>
                <a:lnTo>
                  <a:pt x="19062" y="18135"/>
                </a:lnTo>
                <a:lnTo>
                  <a:pt x="71119" y="1813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12397680" y="8882640"/>
            <a:ext cx="42120" cy="27720"/>
          </a:xfrm>
          <a:custGeom>
            <a:avLst/>
            <a:gdLst>
              <a:gd name="textAreaLeft" fmla="*/ 0 w 42120"/>
              <a:gd name="textAreaRight" fmla="*/ 42480 w 421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42506" h="28028">
                <a:moveTo>
                  <a:pt x="41541" y="23558"/>
                </a:moveTo>
                <a:cubicBezTo>
                  <a:pt x="42151" y="22923"/>
                  <a:pt x="42506" y="22313"/>
                  <a:pt x="42506" y="21310"/>
                </a:cubicBezTo>
                <a:lnTo>
                  <a:pt x="42506" y="6692"/>
                </a:lnTo>
                <a:cubicBezTo>
                  <a:pt x="42506" y="5777"/>
                  <a:pt x="42151" y="5117"/>
                  <a:pt x="41541" y="4470"/>
                </a:cubicBezTo>
                <a:lnTo>
                  <a:pt x="38024" y="990"/>
                </a:lnTo>
                <a:cubicBezTo>
                  <a:pt x="37414" y="304"/>
                  <a:pt x="36766" y="0"/>
                  <a:pt x="35801" y="0"/>
                </a:cubicBezTo>
                <a:lnTo>
                  <a:pt x="0" y="0"/>
                </a:lnTo>
                <a:lnTo>
                  <a:pt x="0" y="28028"/>
                </a:lnTo>
                <a:lnTo>
                  <a:pt x="35801" y="28028"/>
                </a:lnTo>
                <a:cubicBezTo>
                  <a:pt x="36766" y="28028"/>
                  <a:pt x="37414" y="27685"/>
                  <a:pt x="38024" y="27063"/>
                </a:cubicBezTo>
                <a:lnTo>
                  <a:pt x="41541" y="23558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12286440" y="888264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850">
                <a:moveTo>
                  <a:pt x="51079" y="7175"/>
                </a:moveTo>
                <a:lnTo>
                  <a:pt x="44843" y="952"/>
                </a:lnTo>
                <a:cubicBezTo>
                  <a:pt x="44234" y="304"/>
                  <a:pt x="43599" y="0"/>
                  <a:pt x="42621" y="0"/>
                </a:cubicBezTo>
                <a:lnTo>
                  <a:pt x="9347" y="0"/>
                </a:lnTo>
                <a:cubicBezTo>
                  <a:pt x="8382" y="0"/>
                  <a:pt x="7746" y="304"/>
                  <a:pt x="7125" y="952"/>
                </a:cubicBezTo>
                <a:lnTo>
                  <a:pt x="927" y="7175"/>
                </a:lnTo>
                <a:cubicBezTo>
                  <a:pt x="572" y="7492"/>
                  <a:pt x="343" y="7810"/>
                  <a:pt x="216" y="8178"/>
                </a:cubicBezTo>
                <a:cubicBezTo>
                  <a:pt x="25" y="8534"/>
                  <a:pt x="0" y="8952"/>
                  <a:pt x="0" y="9334"/>
                </a:cubicBezTo>
                <a:lnTo>
                  <a:pt x="0" y="60452"/>
                </a:lnTo>
                <a:cubicBezTo>
                  <a:pt x="0" y="61238"/>
                  <a:pt x="254" y="62064"/>
                  <a:pt x="965" y="62648"/>
                </a:cubicBezTo>
                <a:lnTo>
                  <a:pt x="7125" y="68909"/>
                </a:lnTo>
                <a:cubicBezTo>
                  <a:pt x="7772" y="69506"/>
                  <a:pt x="8420" y="69850"/>
                  <a:pt x="9347" y="69850"/>
                </a:cubicBezTo>
                <a:lnTo>
                  <a:pt x="42659" y="69850"/>
                </a:lnTo>
                <a:cubicBezTo>
                  <a:pt x="43624" y="69850"/>
                  <a:pt x="44234" y="69506"/>
                  <a:pt x="44843" y="68909"/>
                </a:cubicBezTo>
                <a:lnTo>
                  <a:pt x="51079" y="62648"/>
                </a:lnTo>
                <a:cubicBezTo>
                  <a:pt x="51727" y="62064"/>
                  <a:pt x="52019" y="61238"/>
                  <a:pt x="52019" y="60490"/>
                </a:cubicBezTo>
                <a:lnTo>
                  <a:pt x="52019" y="9397"/>
                </a:lnTo>
                <a:cubicBezTo>
                  <a:pt x="52019" y="8597"/>
                  <a:pt x="51727" y="7772"/>
                  <a:pt x="51079" y="7175"/>
                </a:cubicBez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807560" y="8801280"/>
            <a:ext cx="266400" cy="190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1302920" y="8801280"/>
            <a:ext cx="279000" cy="190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11684160" y="8801280"/>
            <a:ext cx="825120" cy="558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250920" y="9144000"/>
            <a:ext cx="4349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Sourc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Microsoft YaHei UI"/>
                <a:hlinkClick r:id="rId5"/>
              </a:rPr>
              <a:t>MarketsandMar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2006640" y="3187800"/>
            <a:ext cx="843300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599"/>
              </a:lnSpc>
            </a:pP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The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wearable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electronic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</a:pP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market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will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be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worth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$8.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billion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by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a1b3b5"/>
                </a:solidFill>
                <a:latin typeface="Microsoft YaHei UI"/>
              </a:rPr>
              <a:t>2018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9">
            <a:hlinkClick r:id="rId6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424800" y="520560"/>
            <a:ext cx="8611920" cy="26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500"/>
              </a:lnSpc>
            </a:pP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Time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for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a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tea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201"/>
              </a:lnSpc>
            </a:pP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catch-up...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424800" y="520560"/>
            <a:ext cx="8611920" cy="26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500"/>
              </a:lnSpc>
            </a:pP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Time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for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a</a:t>
            </a:r>
            <a:r>
              <a:rPr b="0" lang="en-US" sz="8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team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201"/>
              </a:lnSpc>
            </a:pPr>
            <a:r>
              <a:rPr b="1" lang="en-US" sz="8600" spc="-1" strike="noStrike">
                <a:solidFill>
                  <a:srgbClr val="000000"/>
                </a:solidFill>
                <a:latin typeface="Microsoft YaHei UI"/>
              </a:rPr>
              <a:t>catch-up...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533160" y="3327480"/>
            <a:ext cx="53348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401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You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virtua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522720" y="3962520"/>
            <a:ext cx="5914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401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combin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expert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509760" y="4597560"/>
            <a:ext cx="73753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401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fro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arou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th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icrosoft YaHei UI"/>
              </a:rPr>
              <a:t>glo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7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6806160" y="2844720"/>
            <a:ext cx="5678640" cy="13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601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…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whil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virtual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rea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glasse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an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6751080" y="4127400"/>
            <a:ext cx="48492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601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multi-mod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tabl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allow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you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to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from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Microsoft YaHei UI"/>
              </a:rPr>
              <a:t>anywher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3"/>
          <p:cNvSpPr/>
          <p:nvPr/>
        </p:nvSpPr>
        <p:spPr>
          <a:xfrm>
            <a:off x="0" y="3600"/>
            <a:ext cx="13080600" cy="9825840"/>
          </a:xfrm>
          <a:custGeom>
            <a:avLst/>
            <a:gdLst>
              <a:gd name="textAreaLeft" fmla="*/ 0 w 13080600"/>
              <a:gd name="textAreaRight" fmla="*/ 13080960 w 13080600"/>
              <a:gd name="textAreaTop" fmla="*/ 0 h 9825840"/>
              <a:gd name="textAreaBottom" fmla="*/ 9826200 h 9825840"/>
            </a:gdLst>
            <a:ahLst/>
            <a:rect l="textAreaLeft" t="textAreaTop" r="textAreaRight" b="textAreaBottom"/>
            <a:pathLst>
              <a:path w="13081000" h="9826193">
                <a:moveTo>
                  <a:pt x="0" y="9826193"/>
                </a:moveTo>
                <a:lnTo>
                  <a:pt x="13081000" y="9826193"/>
                </a:lnTo>
                <a:lnTo>
                  <a:pt x="13081000" y="0"/>
                </a:lnTo>
                <a:lnTo>
                  <a:pt x="0" y="0"/>
                </a:lnTo>
                <a:lnTo>
                  <a:pt x="0" y="9826193"/>
                </a:lnTo>
              </a:path>
            </a:pathLst>
          </a:custGeom>
          <a:solidFill>
            <a:srgbClr val="b7cdd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2677320" y="3456000"/>
            <a:ext cx="295560" cy="636480"/>
          </a:xfrm>
          <a:custGeom>
            <a:avLst/>
            <a:gdLst>
              <a:gd name="textAreaLeft" fmla="*/ 0 w 295560"/>
              <a:gd name="textAreaRight" fmla="*/ 295920 w 2955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295792" h="636689">
                <a:moveTo>
                  <a:pt x="16231" y="290055"/>
                </a:moveTo>
                <a:cubicBezTo>
                  <a:pt x="-21487" y="465797"/>
                  <a:pt x="6909" y="621106"/>
                  <a:pt x="79743" y="636689"/>
                </a:cubicBezTo>
                <a:cubicBezTo>
                  <a:pt x="152387" y="652183"/>
                  <a:pt x="241961" y="522287"/>
                  <a:pt x="279591" y="346532"/>
                </a:cubicBezTo>
                <a:cubicBezTo>
                  <a:pt x="317284" y="170688"/>
                  <a:pt x="288773" y="15544"/>
                  <a:pt x="216078" y="0"/>
                </a:cubicBezTo>
                <a:cubicBezTo>
                  <a:pt x="143434" y="-15582"/>
                  <a:pt x="53823" y="114274"/>
                  <a:pt x="16231" y="290055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2854440" y="3502440"/>
            <a:ext cx="122040" cy="263520"/>
          </a:xfrm>
          <a:custGeom>
            <a:avLst/>
            <a:gdLst>
              <a:gd name="textAreaLeft" fmla="*/ 0 w 122040"/>
              <a:gd name="textAreaRight" fmla="*/ 122400 w 1220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2550" h="263779">
                <a:moveTo>
                  <a:pt x="6728" y="120256"/>
                </a:moveTo>
                <a:cubicBezTo>
                  <a:pt x="-8931" y="192951"/>
                  <a:pt x="2930" y="257289"/>
                  <a:pt x="33105" y="263778"/>
                </a:cubicBezTo>
                <a:cubicBezTo>
                  <a:pt x="63166" y="270192"/>
                  <a:pt x="100314" y="216369"/>
                  <a:pt x="115833" y="143548"/>
                </a:cubicBezTo>
                <a:cubicBezTo>
                  <a:pt x="131454" y="70700"/>
                  <a:pt x="119656" y="6464"/>
                  <a:pt x="89557" y="0"/>
                </a:cubicBezTo>
                <a:cubicBezTo>
                  <a:pt x="59420" y="-6451"/>
                  <a:pt x="22247" y="47307"/>
                  <a:pt x="6728" y="12025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966400" y="3082320"/>
            <a:ext cx="2371680" cy="144360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443600"/>
              <a:gd name="textAreaBottom" fmla="*/ 1443960 h 1443600"/>
            </a:gdLst>
            <a:ahLst/>
            <a:rect l="textAreaLeft" t="textAreaTop" r="textAreaRight" b="textAreaBottom"/>
            <a:pathLst>
              <a:path w="2372030" h="1443913">
                <a:moveTo>
                  <a:pt x="2372030" y="0"/>
                </a:moveTo>
                <a:lnTo>
                  <a:pt x="54736" y="371297"/>
                </a:lnTo>
                <a:lnTo>
                  <a:pt x="0" y="1031367"/>
                </a:lnTo>
                <a:lnTo>
                  <a:pt x="2372030" y="1443913"/>
                </a:lnTo>
                <a:lnTo>
                  <a:pt x="2372030" y="0"/>
                </a:lnTo>
              </a:path>
            </a:pathLst>
          </a:custGeom>
          <a:solidFill>
            <a:srgbClr val="e7676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5273280" y="3060000"/>
            <a:ext cx="126000" cy="1492920"/>
          </a:xfrm>
          <a:custGeom>
            <a:avLst/>
            <a:gdLst>
              <a:gd name="textAreaLeft" fmla="*/ 0 w 126000"/>
              <a:gd name="textAreaRight" fmla="*/ 126360 w 126000"/>
              <a:gd name="textAreaTop" fmla="*/ 0 h 1492920"/>
              <a:gd name="textAreaBottom" fmla="*/ 1493280 h 1492920"/>
            </a:gdLst>
            <a:ahLst/>
            <a:rect l="textAreaLeft" t="textAreaTop" r="textAreaRight" b="textAreaBottom"/>
            <a:pathLst>
              <a:path w="126372" h="1493304">
                <a:moveTo>
                  <a:pt x="83413" y="747547"/>
                </a:moveTo>
                <a:cubicBezTo>
                  <a:pt x="65748" y="1145870"/>
                  <a:pt x="42418" y="1468412"/>
                  <a:pt x="31242" y="1467904"/>
                </a:cubicBezTo>
                <a:cubicBezTo>
                  <a:pt x="20091" y="1467408"/>
                  <a:pt x="25324" y="1144079"/>
                  <a:pt x="42964" y="745756"/>
                </a:cubicBezTo>
                <a:cubicBezTo>
                  <a:pt x="60617" y="347421"/>
                  <a:pt x="83947" y="24892"/>
                  <a:pt x="95123" y="25400"/>
                </a:cubicBezTo>
                <a:cubicBezTo>
                  <a:pt x="106286" y="25882"/>
                  <a:pt x="101041" y="349199"/>
                  <a:pt x="83413" y="747547"/>
                </a:cubicBezTo>
              </a:path>
            </a:pathLst>
          </a:custGeom>
          <a:noFill/>
          <a:ln w="50800">
            <a:solidFill>
              <a:srgbClr val="f179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4425120" y="3151440"/>
            <a:ext cx="117360" cy="1334880"/>
          </a:xfrm>
          <a:custGeom>
            <a:avLst/>
            <a:gdLst>
              <a:gd name="textAreaLeft" fmla="*/ 0 w 117360"/>
              <a:gd name="textAreaRight" fmla="*/ 117720 w 11736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17605" h="1335164">
                <a:moveTo>
                  <a:pt x="76395" y="668362"/>
                </a:moveTo>
                <a:cubicBezTo>
                  <a:pt x="60659" y="1023023"/>
                  <a:pt x="40098" y="1310208"/>
                  <a:pt x="30370" y="1309763"/>
                </a:cubicBezTo>
                <a:cubicBezTo>
                  <a:pt x="20667" y="1309331"/>
                  <a:pt x="25518" y="1021461"/>
                  <a:pt x="41228" y="666800"/>
                </a:cubicBezTo>
                <a:cubicBezTo>
                  <a:pt x="56938" y="312128"/>
                  <a:pt x="77512" y="24942"/>
                  <a:pt x="87228" y="25400"/>
                </a:cubicBezTo>
                <a:cubicBezTo>
                  <a:pt x="96943" y="25819"/>
                  <a:pt x="92079" y="313689"/>
                  <a:pt x="76395" y="668362"/>
                </a:cubicBezTo>
              </a:path>
            </a:pathLst>
          </a:custGeom>
          <a:noFill/>
          <a:ln w="50800">
            <a:solidFill>
              <a:srgbClr val="f179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576960" y="3286800"/>
            <a:ext cx="104400" cy="1031400"/>
          </a:xfrm>
          <a:custGeom>
            <a:avLst/>
            <a:gdLst>
              <a:gd name="textAreaLeft" fmla="*/ 0 w 104400"/>
              <a:gd name="textAreaRight" fmla="*/ 104760 w 104400"/>
              <a:gd name="textAreaTop" fmla="*/ 0 h 1031400"/>
              <a:gd name="textAreaBottom" fmla="*/ 1031760 h 1031400"/>
            </a:gdLst>
            <a:ahLst/>
            <a:rect l="textAreaLeft" t="textAreaTop" r="textAreaRight" b="textAreaBottom"/>
            <a:pathLst>
              <a:path w="104636" h="1031875">
                <a:moveTo>
                  <a:pt x="68260" y="516648"/>
                </a:moveTo>
                <a:cubicBezTo>
                  <a:pt x="56234" y="787552"/>
                  <a:pt x="39406" y="1006881"/>
                  <a:pt x="30605" y="1006475"/>
                </a:cubicBezTo>
                <a:cubicBezTo>
                  <a:pt x="21791" y="1006094"/>
                  <a:pt x="24395" y="786142"/>
                  <a:pt x="36396" y="515239"/>
                </a:cubicBezTo>
                <a:cubicBezTo>
                  <a:pt x="48398" y="244309"/>
                  <a:pt x="65225" y="24993"/>
                  <a:pt x="74039" y="25400"/>
                </a:cubicBezTo>
                <a:cubicBezTo>
                  <a:pt x="82840" y="25780"/>
                  <a:pt x="80236" y="245719"/>
                  <a:pt x="68260" y="516648"/>
                </a:cubicBezTo>
              </a:path>
            </a:pathLst>
          </a:custGeom>
          <a:noFill/>
          <a:ln w="50800">
            <a:solidFill>
              <a:srgbClr val="f179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899800" y="3459960"/>
            <a:ext cx="205920" cy="664200"/>
          </a:xfrm>
          <a:custGeom>
            <a:avLst/>
            <a:gdLst>
              <a:gd name="textAreaLeft" fmla="*/ 0 w 205920"/>
              <a:gd name="textAreaRight" fmla="*/ 206280 w 205920"/>
              <a:gd name="textAreaTop" fmla="*/ 0 h 664200"/>
              <a:gd name="textAreaBottom" fmla="*/ 664560 h 664200"/>
            </a:gdLst>
            <a:ahLst/>
            <a:rect l="textAreaLeft" t="textAreaTop" r="textAreaRight" b="textAreaBottom"/>
            <a:pathLst>
              <a:path w="206362" h="664552">
                <a:moveTo>
                  <a:pt x="206362" y="332282"/>
                </a:moveTo>
                <a:cubicBezTo>
                  <a:pt x="206362" y="515797"/>
                  <a:pt x="160159" y="664552"/>
                  <a:pt x="103174" y="664552"/>
                </a:cubicBezTo>
                <a:cubicBezTo>
                  <a:pt x="46202" y="664552"/>
                  <a:pt x="0" y="515797"/>
                  <a:pt x="0" y="332282"/>
                </a:cubicBezTo>
                <a:cubicBezTo>
                  <a:pt x="0" y="148767"/>
                  <a:pt x="46202" y="0"/>
                  <a:pt x="103174" y="0"/>
                </a:cubicBezTo>
                <a:cubicBezTo>
                  <a:pt x="160159" y="0"/>
                  <a:pt x="206362" y="148767"/>
                  <a:pt x="206362" y="332282"/>
                </a:cubicBezTo>
              </a:path>
            </a:pathLst>
          </a:custGeom>
          <a:solidFill>
            <a:srgbClr val="e7676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1883880" y="4811400"/>
            <a:ext cx="680040" cy="658800"/>
          </a:xfrm>
          <a:custGeom>
            <a:avLst/>
            <a:gdLst>
              <a:gd name="textAreaLeft" fmla="*/ 0 w 680040"/>
              <a:gd name="textAreaRight" fmla="*/ 680400 w 68004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680343" h="659044">
                <a:moveTo>
                  <a:pt x="163263" y="15446"/>
                </a:moveTo>
                <a:cubicBezTo>
                  <a:pt x="285462" y="76545"/>
                  <a:pt x="450765" y="137785"/>
                  <a:pt x="680343" y="234965"/>
                </a:cubicBezTo>
                <a:cubicBezTo>
                  <a:pt x="567237" y="404840"/>
                  <a:pt x="441367" y="550764"/>
                  <a:pt x="304842" y="659044"/>
                </a:cubicBezTo>
                <a:cubicBezTo>
                  <a:pt x="198886" y="526862"/>
                  <a:pt x="54348" y="305514"/>
                  <a:pt x="18140" y="233124"/>
                </a:cubicBezTo>
                <a:cubicBezTo>
                  <a:pt x="-30233" y="136375"/>
                  <a:pt x="18140" y="-57108"/>
                  <a:pt x="163263" y="1544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10695240" y="8751600"/>
            <a:ext cx="152280" cy="218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18520"/>
              <a:gd name="textAreaBottom" fmla="*/ 218880 h 218520"/>
            </a:gdLst>
            <a:ahLst/>
            <a:rect l="textAreaLeft" t="textAreaTop" r="textAreaRight" b="textAreaBottom"/>
            <a:pathLst>
              <a:path w="152628" h="218897">
                <a:moveTo>
                  <a:pt x="62954" y="0"/>
                </a:moveTo>
                <a:lnTo>
                  <a:pt x="152628" y="0"/>
                </a:lnTo>
                <a:cubicBezTo>
                  <a:pt x="152628" y="0"/>
                  <a:pt x="104711" y="161670"/>
                  <a:pt x="88379" y="218896"/>
                </a:cubicBezTo>
                <a:lnTo>
                  <a:pt x="0" y="218896"/>
                </a:lnTo>
                <a:lnTo>
                  <a:pt x="62954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11052000" y="8818920"/>
            <a:ext cx="264960" cy="151200"/>
          </a:xfrm>
          <a:custGeom>
            <a:avLst/>
            <a:gdLst>
              <a:gd name="textAreaLeft" fmla="*/ 0 w 264960"/>
              <a:gd name="textAreaRight" fmla="*/ 265320 w 26496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265355" h="151434">
                <a:moveTo>
                  <a:pt x="41782" y="10896"/>
                </a:moveTo>
                <a:lnTo>
                  <a:pt x="0" y="151434"/>
                </a:lnTo>
                <a:lnTo>
                  <a:pt x="90830" y="151434"/>
                </a:lnTo>
                <a:lnTo>
                  <a:pt x="128054" y="27254"/>
                </a:lnTo>
                <a:cubicBezTo>
                  <a:pt x="128054" y="27254"/>
                  <a:pt x="146139" y="23558"/>
                  <a:pt x="164159" y="29336"/>
                </a:cubicBezTo>
                <a:cubicBezTo>
                  <a:pt x="164159" y="29336"/>
                  <a:pt x="180123" y="32715"/>
                  <a:pt x="173672" y="52107"/>
                </a:cubicBezTo>
                <a:lnTo>
                  <a:pt x="144436" y="151434"/>
                </a:lnTo>
                <a:lnTo>
                  <a:pt x="233451" y="151434"/>
                </a:lnTo>
                <a:lnTo>
                  <a:pt x="263435" y="51409"/>
                </a:lnTo>
                <a:cubicBezTo>
                  <a:pt x="263435" y="51409"/>
                  <a:pt x="277050" y="16382"/>
                  <a:pt x="237947" y="8190"/>
                </a:cubicBezTo>
                <a:cubicBezTo>
                  <a:pt x="237947" y="8190"/>
                  <a:pt x="170319" y="-11951"/>
                  <a:pt x="41782" y="10896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11584800" y="8823600"/>
            <a:ext cx="250200" cy="146520"/>
          </a:xfrm>
          <a:custGeom>
            <a:avLst/>
            <a:gdLst>
              <a:gd name="textAreaLeft" fmla="*/ 0 w 250200"/>
              <a:gd name="textAreaRight" fmla="*/ 250560 w 250200"/>
              <a:gd name="textAreaTop" fmla="*/ 0 h 146520"/>
              <a:gd name="textAreaBottom" fmla="*/ 146880 h 146520"/>
            </a:gdLst>
            <a:ahLst/>
            <a:rect l="textAreaLeft" t="textAreaTop" r="textAreaRight" b="textAreaBottom"/>
            <a:pathLst>
              <a:path w="250685" h="146901">
                <a:moveTo>
                  <a:pt x="0" y="0"/>
                </a:moveTo>
                <a:lnTo>
                  <a:pt x="81457" y="0"/>
                </a:lnTo>
                <a:lnTo>
                  <a:pt x="94145" y="102044"/>
                </a:lnTo>
                <a:lnTo>
                  <a:pt x="165328" y="0"/>
                </a:lnTo>
                <a:lnTo>
                  <a:pt x="250685" y="0"/>
                </a:lnTo>
                <a:lnTo>
                  <a:pt x="150190" y="146901"/>
                </a:lnTo>
                <a:lnTo>
                  <a:pt x="17881" y="1469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11718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543" h="106209">
                <a:moveTo>
                  <a:pt x="0" y="18173"/>
                </a:moveTo>
                <a:lnTo>
                  <a:pt x="30683" y="18173"/>
                </a:lnTo>
                <a:lnTo>
                  <a:pt x="30683" y="106209"/>
                </a:lnTo>
                <a:lnTo>
                  <a:pt x="49783" y="106209"/>
                </a:lnTo>
                <a:lnTo>
                  <a:pt x="49783" y="18173"/>
                </a:lnTo>
                <a:lnTo>
                  <a:pt x="80543" y="18173"/>
                </a:lnTo>
                <a:lnTo>
                  <a:pt x="80543" y="0"/>
                </a:lnTo>
                <a:lnTo>
                  <a:pt x="0" y="0"/>
                </a:lnTo>
                <a:lnTo>
                  <a:pt x="0" y="181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11817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34" h="106197">
                <a:moveTo>
                  <a:pt x="61633" y="43954"/>
                </a:moveTo>
                <a:lnTo>
                  <a:pt x="19125" y="43954"/>
                </a:lnTo>
                <a:lnTo>
                  <a:pt x="19125" y="0"/>
                </a:lnTo>
                <a:lnTo>
                  <a:pt x="0" y="0"/>
                </a:lnTo>
                <a:lnTo>
                  <a:pt x="0" y="106197"/>
                </a:lnTo>
                <a:lnTo>
                  <a:pt x="19125" y="106197"/>
                </a:lnTo>
                <a:lnTo>
                  <a:pt x="19125" y="62090"/>
                </a:lnTo>
                <a:lnTo>
                  <a:pt x="61633" y="62090"/>
                </a:lnTo>
                <a:lnTo>
                  <a:pt x="61633" y="106197"/>
                </a:lnTo>
                <a:lnTo>
                  <a:pt x="80733" y="106197"/>
                </a:lnTo>
                <a:lnTo>
                  <a:pt x="80733" y="0"/>
                </a:lnTo>
                <a:lnTo>
                  <a:pt x="61633" y="0"/>
                </a:lnTo>
                <a:lnTo>
                  <a:pt x="61633" y="4395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12144960" y="904212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58" h="106209">
                <a:moveTo>
                  <a:pt x="0" y="106209"/>
                </a:moveTo>
                <a:lnTo>
                  <a:pt x="71157" y="106209"/>
                </a:lnTo>
                <a:lnTo>
                  <a:pt x="71157" y="88074"/>
                </a:lnTo>
                <a:lnTo>
                  <a:pt x="19100" y="88074"/>
                </a:lnTo>
                <a:lnTo>
                  <a:pt x="19100" y="62102"/>
                </a:lnTo>
                <a:lnTo>
                  <a:pt x="71157" y="62102"/>
                </a:lnTo>
                <a:lnTo>
                  <a:pt x="71157" y="43967"/>
                </a:lnTo>
                <a:lnTo>
                  <a:pt x="19100" y="43967"/>
                </a:lnTo>
                <a:lnTo>
                  <a:pt x="19100" y="18173"/>
                </a:lnTo>
                <a:lnTo>
                  <a:pt x="71157" y="18173"/>
                </a:lnTo>
                <a:lnTo>
                  <a:pt x="71157" y="0"/>
                </a:lnTo>
                <a:lnTo>
                  <a:pt x="0" y="0"/>
                </a:lnTo>
                <a:lnTo>
                  <a:pt x="0" y="10620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12029760" y="9042120"/>
            <a:ext cx="90000" cy="105840"/>
          </a:xfrm>
          <a:custGeom>
            <a:avLst/>
            <a:gdLst>
              <a:gd name="textAreaLeft" fmla="*/ 0 w 90000"/>
              <a:gd name="textAreaRight" fmla="*/ 90360 w 900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90322" h="106209">
                <a:moveTo>
                  <a:pt x="20104" y="25323"/>
                </a:moveTo>
                <a:lnTo>
                  <a:pt x="26301" y="19087"/>
                </a:lnTo>
                <a:cubicBezTo>
                  <a:pt x="26949" y="18491"/>
                  <a:pt x="27622" y="18173"/>
                  <a:pt x="28549" y="18173"/>
                </a:cubicBezTo>
                <a:lnTo>
                  <a:pt x="64693" y="18173"/>
                </a:lnTo>
                <a:cubicBezTo>
                  <a:pt x="65633" y="18173"/>
                  <a:pt x="66243" y="18491"/>
                  <a:pt x="66890" y="19087"/>
                </a:cubicBezTo>
                <a:lnTo>
                  <a:pt x="77609" y="29793"/>
                </a:lnTo>
                <a:lnTo>
                  <a:pt x="90322" y="16954"/>
                </a:lnTo>
                <a:lnTo>
                  <a:pt x="76796" y="3416"/>
                </a:lnTo>
                <a:cubicBezTo>
                  <a:pt x="74548" y="1104"/>
                  <a:pt x="71869" y="0"/>
                  <a:pt x="68859" y="0"/>
                </a:cubicBezTo>
                <a:lnTo>
                  <a:pt x="24396" y="0"/>
                </a:lnTo>
                <a:cubicBezTo>
                  <a:pt x="21361" y="0"/>
                  <a:pt x="18656" y="1104"/>
                  <a:pt x="16420" y="3416"/>
                </a:cubicBezTo>
                <a:lnTo>
                  <a:pt x="3352" y="16433"/>
                </a:lnTo>
                <a:cubicBezTo>
                  <a:pt x="1155" y="18630"/>
                  <a:pt x="0" y="21322"/>
                  <a:pt x="0" y="24396"/>
                </a:cubicBezTo>
                <a:lnTo>
                  <a:pt x="0" y="45236"/>
                </a:lnTo>
                <a:cubicBezTo>
                  <a:pt x="0" y="51307"/>
                  <a:pt x="4838" y="56857"/>
                  <a:pt x="11035" y="57645"/>
                </a:cubicBezTo>
                <a:lnTo>
                  <a:pt x="68185" y="65290"/>
                </a:lnTo>
                <a:cubicBezTo>
                  <a:pt x="69760" y="65455"/>
                  <a:pt x="71221" y="66890"/>
                  <a:pt x="71221" y="68477"/>
                </a:cubicBezTo>
                <a:lnTo>
                  <a:pt x="71221" y="78675"/>
                </a:lnTo>
                <a:cubicBezTo>
                  <a:pt x="71221" y="79425"/>
                  <a:pt x="70929" y="80238"/>
                  <a:pt x="70281" y="80873"/>
                </a:cubicBezTo>
                <a:lnTo>
                  <a:pt x="64045" y="87108"/>
                </a:lnTo>
                <a:cubicBezTo>
                  <a:pt x="63436" y="87718"/>
                  <a:pt x="62788" y="88074"/>
                  <a:pt x="61823" y="88074"/>
                </a:cubicBezTo>
                <a:lnTo>
                  <a:pt x="25653" y="88074"/>
                </a:lnTo>
                <a:cubicBezTo>
                  <a:pt x="24751" y="88074"/>
                  <a:pt x="24065" y="87718"/>
                  <a:pt x="23456" y="87108"/>
                </a:cubicBezTo>
                <a:lnTo>
                  <a:pt x="12775" y="76453"/>
                </a:lnTo>
                <a:lnTo>
                  <a:pt x="0" y="89331"/>
                </a:lnTo>
                <a:lnTo>
                  <a:pt x="13550" y="102857"/>
                </a:lnTo>
                <a:cubicBezTo>
                  <a:pt x="15811" y="105079"/>
                  <a:pt x="18491" y="106209"/>
                  <a:pt x="21551" y="106209"/>
                </a:cubicBezTo>
                <a:lnTo>
                  <a:pt x="65963" y="106209"/>
                </a:lnTo>
                <a:cubicBezTo>
                  <a:pt x="68960" y="106209"/>
                  <a:pt x="71704" y="105079"/>
                  <a:pt x="73926" y="102857"/>
                </a:cubicBezTo>
                <a:lnTo>
                  <a:pt x="86969" y="89813"/>
                </a:lnTo>
                <a:cubicBezTo>
                  <a:pt x="89230" y="87553"/>
                  <a:pt x="90322" y="84911"/>
                  <a:pt x="90322" y="81876"/>
                </a:cubicBezTo>
                <a:lnTo>
                  <a:pt x="90322" y="60985"/>
                </a:lnTo>
                <a:cubicBezTo>
                  <a:pt x="90322" y="54940"/>
                  <a:pt x="85584" y="49377"/>
                  <a:pt x="79349" y="48602"/>
                </a:cubicBezTo>
                <a:lnTo>
                  <a:pt x="22008" y="40944"/>
                </a:lnTo>
                <a:cubicBezTo>
                  <a:pt x="20421" y="40766"/>
                  <a:pt x="19138" y="39331"/>
                  <a:pt x="19138" y="37769"/>
                </a:cubicBezTo>
                <a:lnTo>
                  <a:pt x="19138" y="27571"/>
                </a:lnTo>
                <a:cubicBezTo>
                  <a:pt x="19138" y="26720"/>
                  <a:pt x="19456" y="25983"/>
                  <a:pt x="20104" y="2532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11938680" y="906012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57" h="69887">
                <a:moveTo>
                  <a:pt x="44856" y="914"/>
                </a:moveTo>
                <a:cubicBezTo>
                  <a:pt x="44272" y="317"/>
                  <a:pt x="43637" y="0"/>
                  <a:pt x="42659" y="0"/>
                </a:cubicBezTo>
                <a:lnTo>
                  <a:pt x="9398" y="0"/>
                </a:lnTo>
                <a:cubicBezTo>
                  <a:pt x="8420" y="0"/>
                  <a:pt x="7785" y="317"/>
                  <a:pt x="7163" y="914"/>
                </a:cubicBezTo>
                <a:lnTo>
                  <a:pt x="940" y="7149"/>
                </a:lnTo>
                <a:cubicBezTo>
                  <a:pt x="292" y="7810"/>
                  <a:pt x="0" y="8546"/>
                  <a:pt x="0" y="9385"/>
                </a:cubicBezTo>
                <a:lnTo>
                  <a:pt x="0" y="60502"/>
                </a:lnTo>
                <a:cubicBezTo>
                  <a:pt x="0" y="61252"/>
                  <a:pt x="292" y="62052"/>
                  <a:pt x="940" y="62700"/>
                </a:cubicBezTo>
                <a:lnTo>
                  <a:pt x="7163" y="68922"/>
                </a:lnTo>
                <a:cubicBezTo>
                  <a:pt x="7785" y="69570"/>
                  <a:pt x="8420" y="69887"/>
                  <a:pt x="9398" y="69887"/>
                </a:cubicBezTo>
                <a:lnTo>
                  <a:pt x="42659" y="69887"/>
                </a:lnTo>
                <a:cubicBezTo>
                  <a:pt x="43637" y="69887"/>
                  <a:pt x="44272" y="69570"/>
                  <a:pt x="44856" y="68922"/>
                </a:cubicBezTo>
                <a:lnTo>
                  <a:pt x="51117" y="62700"/>
                </a:lnTo>
                <a:cubicBezTo>
                  <a:pt x="51702" y="62052"/>
                  <a:pt x="52057" y="61252"/>
                  <a:pt x="52057" y="60502"/>
                </a:cubicBezTo>
                <a:lnTo>
                  <a:pt x="52057" y="9385"/>
                </a:lnTo>
                <a:cubicBezTo>
                  <a:pt x="52057" y="8546"/>
                  <a:pt x="51702" y="7810"/>
                  <a:pt x="51117" y="7149"/>
                </a:cubicBezTo>
                <a:lnTo>
                  <a:pt x="44856" y="914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11958840" y="921996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09" h="106171">
                <a:moveTo>
                  <a:pt x="61607" y="43916"/>
                </a:moveTo>
                <a:lnTo>
                  <a:pt x="19100" y="43916"/>
                </a:lnTo>
                <a:lnTo>
                  <a:pt x="19100" y="0"/>
                </a:lnTo>
                <a:lnTo>
                  <a:pt x="0" y="0"/>
                </a:lnTo>
                <a:lnTo>
                  <a:pt x="0" y="106171"/>
                </a:lnTo>
                <a:lnTo>
                  <a:pt x="19100" y="106171"/>
                </a:lnTo>
                <a:lnTo>
                  <a:pt x="19100" y="62052"/>
                </a:lnTo>
                <a:lnTo>
                  <a:pt x="61607" y="62052"/>
                </a:lnTo>
                <a:lnTo>
                  <a:pt x="61607" y="106171"/>
                </a:lnTo>
                <a:lnTo>
                  <a:pt x="80708" y="106171"/>
                </a:lnTo>
                <a:lnTo>
                  <a:pt x="80708" y="0"/>
                </a:lnTo>
                <a:lnTo>
                  <a:pt x="61607" y="0"/>
                </a:lnTo>
                <a:lnTo>
                  <a:pt x="61607" y="4391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11807280" y="9219960"/>
            <a:ext cx="130680" cy="105840"/>
          </a:xfrm>
          <a:custGeom>
            <a:avLst/>
            <a:gdLst>
              <a:gd name="textAreaLeft" fmla="*/ 0 w 130680"/>
              <a:gd name="textAreaRight" fmla="*/ 131040 w 1306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131050" h="106209">
                <a:moveTo>
                  <a:pt x="95236" y="85483"/>
                </a:moveTo>
                <a:lnTo>
                  <a:pt x="78523" y="0"/>
                </a:lnTo>
                <a:lnTo>
                  <a:pt x="53022" y="0"/>
                </a:lnTo>
                <a:lnTo>
                  <a:pt x="36017" y="85483"/>
                </a:lnTo>
                <a:lnTo>
                  <a:pt x="19265" y="0"/>
                </a:lnTo>
                <a:lnTo>
                  <a:pt x="0" y="0"/>
                </a:lnTo>
                <a:lnTo>
                  <a:pt x="23241" y="106209"/>
                </a:lnTo>
                <a:lnTo>
                  <a:pt x="48285" y="106209"/>
                </a:lnTo>
                <a:lnTo>
                  <a:pt x="65290" y="22300"/>
                </a:lnTo>
                <a:lnTo>
                  <a:pt x="82486" y="106209"/>
                </a:lnTo>
                <a:lnTo>
                  <a:pt x="107467" y="106209"/>
                </a:lnTo>
                <a:lnTo>
                  <a:pt x="131050" y="0"/>
                </a:lnTo>
                <a:lnTo>
                  <a:pt x="112267" y="0"/>
                </a:lnTo>
                <a:lnTo>
                  <a:pt x="95236" y="8548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12079440" y="923796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900">
                <a:moveTo>
                  <a:pt x="44894" y="965"/>
                </a:moveTo>
                <a:cubicBezTo>
                  <a:pt x="44271" y="317"/>
                  <a:pt x="43636" y="0"/>
                  <a:pt x="42633" y="0"/>
                </a:cubicBezTo>
                <a:lnTo>
                  <a:pt x="9397" y="0"/>
                </a:lnTo>
                <a:cubicBezTo>
                  <a:pt x="8432" y="0"/>
                  <a:pt x="7784" y="317"/>
                  <a:pt x="7137" y="965"/>
                </a:cubicBezTo>
                <a:lnTo>
                  <a:pt x="977" y="7162"/>
                </a:lnTo>
                <a:cubicBezTo>
                  <a:pt x="330" y="7810"/>
                  <a:pt x="0" y="8610"/>
                  <a:pt x="0" y="9385"/>
                </a:cubicBezTo>
                <a:lnTo>
                  <a:pt x="0" y="60502"/>
                </a:lnTo>
                <a:cubicBezTo>
                  <a:pt x="0" y="61315"/>
                  <a:pt x="330" y="62115"/>
                  <a:pt x="977" y="62763"/>
                </a:cubicBezTo>
                <a:lnTo>
                  <a:pt x="7137" y="68960"/>
                </a:lnTo>
                <a:cubicBezTo>
                  <a:pt x="7784" y="69570"/>
                  <a:pt x="8432" y="69900"/>
                  <a:pt x="9397" y="69900"/>
                </a:cubicBezTo>
                <a:lnTo>
                  <a:pt x="42633" y="69900"/>
                </a:lnTo>
                <a:cubicBezTo>
                  <a:pt x="43636" y="69900"/>
                  <a:pt x="44271" y="69570"/>
                  <a:pt x="44894" y="68960"/>
                </a:cubicBezTo>
                <a:lnTo>
                  <a:pt x="51092" y="62763"/>
                </a:lnTo>
                <a:cubicBezTo>
                  <a:pt x="51739" y="62115"/>
                  <a:pt x="52019" y="61315"/>
                  <a:pt x="52019" y="60502"/>
                </a:cubicBezTo>
                <a:lnTo>
                  <a:pt x="52019" y="9385"/>
                </a:lnTo>
                <a:cubicBezTo>
                  <a:pt x="52019" y="8610"/>
                  <a:pt x="51739" y="7810"/>
                  <a:pt x="51092" y="7162"/>
                </a:cubicBezTo>
                <a:lnTo>
                  <a:pt x="44894" y="965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12455640" y="9305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396" h="20396">
                <a:moveTo>
                  <a:pt x="0" y="0"/>
                </a:moveTo>
                <a:lnTo>
                  <a:pt x="20395" y="0"/>
                </a:lnTo>
                <a:lnTo>
                  <a:pt x="20395" y="20396"/>
                </a:lnTo>
                <a:lnTo>
                  <a:pt x="0" y="2039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12259800" y="9237960"/>
            <a:ext cx="42120" cy="69480"/>
          </a:xfrm>
          <a:custGeom>
            <a:avLst/>
            <a:gdLst>
              <a:gd name="textAreaLeft" fmla="*/ 0 w 42120"/>
              <a:gd name="textAreaRight" fmla="*/ 42480 w 4212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42557" h="69901">
                <a:moveTo>
                  <a:pt x="35394" y="939"/>
                </a:moveTo>
                <a:cubicBezTo>
                  <a:pt x="34721" y="317"/>
                  <a:pt x="34099" y="0"/>
                  <a:pt x="33133" y="0"/>
                </a:cubicBezTo>
                <a:lnTo>
                  <a:pt x="0" y="0"/>
                </a:lnTo>
                <a:lnTo>
                  <a:pt x="0" y="69900"/>
                </a:lnTo>
                <a:lnTo>
                  <a:pt x="33133" y="69900"/>
                </a:lnTo>
                <a:cubicBezTo>
                  <a:pt x="34099" y="69900"/>
                  <a:pt x="34721" y="69608"/>
                  <a:pt x="35394" y="68960"/>
                </a:cubicBezTo>
                <a:lnTo>
                  <a:pt x="41592" y="62699"/>
                </a:lnTo>
                <a:cubicBezTo>
                  <a:pt x="42202" y="62115"/>
                  <a:pt x="42557" y="61315"/>
                  <a:pt x="42557" y="60502"/>
                </a:cubicBezTo>
                <a:lnTo>
                  <a:pt x="42557" y="9384"/>
                </a:lnTo>
                <a:cubicBezTo>
                  <a:pt x="42557" y="8584"/>
                  <a:pt x="42202" y="7772"/>
                  <a:pt x="41592" y="7162"/>
                </a:cubicBezTo>
                <a:lnTo>
                  <a:pt x="353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12363480" y="923796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82" h="69900">
                <a:moveTo>
                  <a:pt x="44894" y="939"/>
                </a:moveTo>
                <a:cubicBezTo>
                  <a:pt x="44271" y="317"/>
                  <a:pt x="43636" y="0"/>
                  <a:pt x="42658" y="0"/>
                </a:cubicBezTo>
                <a:lnTo>
                  <a:pt x="9397" y="0"/>
                </a:lnTo>
                <a:cubicBezTo>
                  <a:pt x="8419" y="0"/>
                  <a:pt x="7810" y="317"/>
                  <a:pt x="7200" y="939"/>
                </a:cubicBezTo>
                <a:lnTo>
                  <a:pt x="939" y="7162"/>
                </a:lnTo>
                <a:cubicBezTo>
                  <a:pt x="317" y="7772"/>
                  <a:pt x="0" y="8584"/>
                  <a:pt x="0" y="9384"/>
                </a:cubicBezTo>
                <a:lnTo>
                  <a:pt x="0" y="60502"/>
                </a:lnTo>
                <a:cubicBezTo>
                  <a:pt x="0" y="61315"/>
                  <a:pt x="317" y="62115"/>
                  <a:pt x="939" y="62699"/>
                </a:cubicBezTo>
                <a:lnTo>
                  <a:pt x="7200" y="68960"/>
                </a:lnTo>
                <a:cubicBezTo>
                  <a:pt x="7810" y="69608"/>
                  <a:pt x="8419" y="69900"/>
                  <a:pt x="9397" y="69900"/>
                </a:cubicBezTo>
                <a:lnTo>
                  <a:pt x="42658" y="69900"/>
                </a:lnTo>
                <a:cubicBezTo>
                  <a:pt x="43636" y="69900"/>
                  <a:pt x="44271" y="69608"/>
                  <a:pt x="44894" y="68960"/>
                </a:cubicBezTo>
                <a:lnTo>
                  <a:pt x="51142" y="62699"/>
                </a:lnTo>
                <a:cubicBezTo>
                  <a:pt x="51765" y="62115"/>
                  <a:pt x="52082" y="61315"/>
                  <a:pt x="52082" y="60502"/>
                </a:cubicBezTo>
                <a:lnTo>
                  <a:pt x="52082" y="9384"/>
                </a:lnTo>
                <a:cubicBezTo>
                  <a:pt x="52082" y="8584"/>
                  <a:pt x="51765" y="7772"/>
                  <a:pt x="51142" y="7162"/>
                </a:cubicBezTo>
                <a:lnTo>
                  <a:pt x="448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12178080" y="886428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19" h="106146">
                <a:moveTo>
                  <a:pt x="71119" y="18135"/>
                </a:moveTo>
                <a:lnTo>
                  <a:pt x="71119" y="0"/>
                </a:lnTo>
                <a:lnTo>
                  <a:pt x="0" y="0"/>
                </a:lnTo>
                <a:lnTo>
                  <a:pt x="0" y="106146"/>
                </a:lnTo>
                <a:lnTo>
                  <a:pt x="19062" y="106146"/>
                </a:lnTo>
                <a:lnTo>
                  <a:pt x="19062" y="62077"/>
                </a:lnTo>
                <a:lnTo>
                  <a:pt x="71119" y="62077"/>
                </a:lnTo>
                <a:lnTo>
                  <a:pt x="71119" y="43916"/>
                </a:lnTo>
                <a:lnTo>
                  <a:pt x="19062" y="43916"/>
                </a:lnTo>
                <a:lnTo>
                  <a:pt x="19062" y="18135"/>
                </a:lnTo>
                <a:lnTo>
                  <a:pt x="71119" y="1813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12397680" y="8882640"/>
            <a:ext cx="42120" cy="27720"/>
          </a:xfrm>
          <a:custGeom>
            <a:avLst/>
            <a:gdLst>
              <a:gd name="textAreaLeft" fmla="*/ 0 w 42120"/>
              <a:gd name="textAreaRight" fmla="*/ 42480 w 421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42519" h="28028">
                <a:moveTo>
                  <a:pt x="41541" y="23558"/>
                </a:moveTo>
                <a:cubicBezTo>
                  <a:pt x="42151" y="22923"/>
                  <a:pt x="42519" y="22313"/>
                  <a:pt x="42519" y="21310"/>
                </a:cubicBezTo>
                <a:lnTo>
                  <a:pt x="42519" y="6692"/>
                </a:lnTo>
                <a:cubicBezTo>
                  <a:pt x="42519" y="5777"/>
                  <a:pt x="42151" y="5117"/>
                  <a:pt x="41541" y="4470"/>
                </a:cubicBezTo>
                <a:lnTo>
                  <a:pt x="38024" y="990"/>
                </a:lnTo>
                <a:cubicBezTo>
                  <a:pt x="37414" y="304"/>
                  <a:pt x="36766" y="0"/>
                  <a:pt x="35801" y="0"/>
                </a:cubicBezTo>
                <a:lnTo>
                  <a:pt x="0" y="0"/>
                </a:lnTo>
                <a:lnTo>
                  <a:pt x="0" y="28028"/>
                </a:lnTo>
                <a:lnTo>
                  <a:pt x="35801" y="28028"/>
                </a:lnTo>
                <a:cubicBezTo>
                  <a:pt x="36766" y="28028"/>
                  <a:pt x="37414" y="27685"/>
                  <a:pt x="38024" y="27063"/>
                </a:cubicBezTo>
                <a:lnTo>
                  <a:pt x="41541" y="23558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12286440" y="888264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850">
                <a:moveTo>
                  <a:pt x="51079" y="7175"/>
                </a:moveTo>
                <a:lnTo>
                  <a:pt x="44843" y="952"/>
                </a:lnTo>
                <a:cubicBezTo>
                  <a:pt x="44234" y="304"/>
                  <a:pt x="43599" y="0"/>
                  <a:pt x="42621" y="0"/>
                </a:cubicBezTo>
                <a:lnTo>
                  <a:pt x="9347" y="0"/>
                </a:lnTo>
                <a:cubicBezTo>
                  <a:pt x="8382" y="0"/>
                  <a:pt x="7746" y="304"/>
                  <a:pt x="7125" y="952"/>
                </a:cubicBezTo>
                <a:lnTo>
                  <a:pt x="927" y="7175"/>
                </a:lnTo>
                <a:cubicBezTo>
                  <a:pt x="572" y="7492"/>
                  <a:pt x="343" y="7810"/>
                  <a:pt x="216" y="8178"/>
                </a:cubicBezTo>
                <a:cubicBezTo>
                  <a:pt x="25" y="8534"/>
                  <a:pt x="0" y="8952"/>
                  <a:pt x="0" y="9334"/>
                </a:cubicBezTo>
                <a:lnTo>
                  <a:pt x="0" y="60452"/>
                </a:lnTo>
                <a:cubicBezTo>
                  <a:pt x="0" y="61238"/>
                  <a:pt x="254" y="62064"/>
                  <a:pt x="965" y="62648"/>
                </a:cubicBezTo>
                <a:lnTo>
                  <a:pt x="7125" y="68909"/>
                </a:lnTo>
                <a:cubicBezTo>
                  <a:pt x="7772" y="69506"/>
                  <a:pt x="8420" y="69850"/>
                  <a:pt x="9347" y="69850"/>
                </a:cubicBezTo>
                <a:lnTo>
                  <a:pt x="42659" y="69850"/>
                </a:lnTo>
                <a:cubicBezTo>
                  <a:pt x="43624" y="69850"/>
                  <a:pt x="44234" y="69506"/>
                  <a:pt x="44843" y="68909"/>
                </a:cubicBezTo>
                <a:lnTo>
                  <a:pt x="51079" y="62648"/>
                </a:lnTo>
                <a:cubicBezTo>
                  <a:pt x="51727" y="62064"/>
                  <a:pt x="52019" y="61238"/>
                  <a:pt x="52019" y="60490"/>
                </a:cubicBezTo>
                <a:lnTo>
                  <a:pt x="52019" y="9397"/>
                </a:lnTo>
                <a:cubicBezTo>
                  <a:pt x="52019" y="8597"/>
                  <a:pt x="51727" y="7772"/>
                  <a:pt x="51079" y="7175"/>
                </a:cubicBez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1384200"/>
            <a:ext cx="4990680" cy="55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0807560" y="8801280"/>
            <a:ext cx="266400" cy="19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1302920" y="8801280"/>
            <a:ext cx="279000" cy="19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11684160" y="8801280"/>
            <a:ext cx="825120" cy="558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673960" y="3467160"/>
            <a:ext cx="62157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400"/>
              </a:lnSpc>
            </a:pPr>
            <a:r>
              <a:rPr b="1" lang="en-US" sz="7800" spc="-1" strike="noStrike">
                <a:solidFill>
                  <a:srgbClr val="000000"/>
                </a:solidFill>
                <a:latin typeface="Microsoft YaHei UI"/>
              </a:rPr>
              <a:t>Look</a:t>
            </a:r>
            <a:r>
              <a:rPr b="0" lang="en-US" sz="7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800" spc="-1" strike="noStrike">
                <a:solidFill>
                  <a:srgbClr val="000000"/>
                </a:solidFill>
                <a:latin typeface="Microsoft YaHei UI"/>
              </a:rPr>
              <a:t>around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801"/>
              </a:lnSpc>
            </a:pPr>
            <a:r>
              <a:rPr b="1" lang="en-US" sz="7800" spc="-1" strike="noStrike">
                <a:solidFill>
                  <a:srgbClr val="000000"/>
                </a:solidFill>
                <a:latin typeface="Microsoft YaHei UI"/>
              </a:rPr>
              <a:t>youro</a:t>
            </a:r>
            <a:r>
              <a:rPr b="0" lang="en-US" sz="7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7800" spc="-1" strike="noStrike">
                <a:solidFill>
                  <a:srgbClr val="000000"/>
                </a:solidFill>
                <a:latin typeface="Microsoft YaHei UI"/>
              </a:rPr>
              <a:t>ce.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3">
            <a:hlinkClick r:id="rId6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119520" y="9067680"/>
            <a:ext cx="10022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Sourc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Natio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Associ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S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wa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Servic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Compan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"/>
          <p:cNvSpPr/>
          <p:nvPr/>
        </p:nvSpPr>
        <p:spPr>
          <a:xfrm>
            <a:off x="3701880" y="1600200"/>
            <a:ext cx="5600880" cy="63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601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Th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glob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601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enterpris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mo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601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marke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will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a1b3b5"/>
                </a:solidFill>
                <a:latin typeface="Microsoft YaHei UI"/>
              </a:rPr>
              <a:t>gener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100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7900" spc="-1" strike="noStrike">
                <a:solidFill>
                  <a:srgbClr val="a1b3b5"/>
                </a:solidFill>
                <a:latin typeface="Microsoft YaHei UI"/>
              </a:rPr>
              <a:t>US$140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00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6500" spc="-1" strike="noStrike">
                <a:solidFill>
                  <a:srgbClr val="a1b3b5"/>
                </a:solidFill>
                <a:latin typeface="Microsoft YaHei UI"/>
              </a:rPr>
              <a:t>BILLION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5600" spc="-1" strike="noStrike">
                <a:solidFill>
                  <a:srgbClr val="a1b3b5"/>
                </a:solidFill>
                <a:latin typeface="Microsoft YaHei UI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a1b3b5"/>
                </a:solidFill>
                <a:latin typeface="Microsoft YaHei UI"/>
              </a:rPr>
              <a:t>year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a1b3b5"/>
                </a:solidFill>
                <a:latin typeface="Microsoft YaHei UI"/>
              </a:rPr>
              <a:t>b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216000"/>
                <a:tab algn="l" pos="533520"/>
                <a:tab algn="l" pos="584280"/>
                <a:tab algn="l" pos="1066680"/>
                <a:tab algn="l" pos="1295280"/>
                <a:tab algn="l" pos="160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5600" spc="-1" strike="noStrike">
                <a:solidFill>
                  <a:srgbClr val="a1b3b5"/>
                </a:solidFill>
                <a:latin typeface="Microsoft YaHei UI"/>
              </a:rPr>
              <a:t>2020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5451480" y="660240"/>
            <a:ext cx="738504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299"/>
              </a:lnSpc>
            </a:pP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No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trouble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accessin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company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data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Microsoft YaHei UI"/>
              </a:rPr>
              <a:t>either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3"/>
          <p:cNvSpPr/>
          <p:nvPr/>
        </p:nvSpPr>
        <p:spPr>
          <a:xfrm>
            <a:off x="0" y="0"/>
            <a:ext cx="13080600" cy="9829440"/>
          </a:xfrm>
          <a:custGeom>
            <a:avLst/>
            <a:gdLst>
              <a:gd name="textAreaLeft" fmla="*/ 0 w 13080600"/>
              <a:gd name="textAreaRight" fmla="*/ 13080960 w 13080600"/>
              <a:gd name="textAreaTop" fmla="*/ 0 h 9829440"/>
              <a:gd name="textAreaBottom" fmla="*/ 9829800 h 9829440"/>
            </a:gdLst>
            <a:ahLst/>
            <a:rect l="textAreaLeft" t="textAreaTop" r="textAreaRight" b="textAreaBottom"/>
            <a:pathLst>
              <a:path w="13081000" h="9829800">
                <a:moveTo>
                  <a:pt x="0" y="9829800"/>
                </a:moveTo>
                <a:lnTo>
                  <a:pt x="13081000" y="9829800"/>
                </a:lnTo>
                <a:lnTo>
                  <a:pt x="13081000" y="0"/>
                </a:lnTo>
                <a:lnTo>
                  <a:pt x="0" y="0"/>
                </a:lnTo>
                <a:lnTo>
                  <a:pt x="0" y="9829800"/>
                </a:lnTo>
              </a:path>
            </a:pathLst>
          </a:custGeom>
          <a:solidFill>
            <a:srgbClr val="b7dec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1047600" y="489600"/>
            <a:ext cx="3635280" cy="2254680"/>
          </a:xfrm>
          <a:custGeom>
            <a:avLst/>
            <a:gdLst>
              <a:gd name="textAreaLeft" fmla="*/ 0 w 3635280"/>
              <a:gd name="textAreaRight" fmla="*/ 3635640 w 3635280"/>
              <a:gd name="textAreaTop" fmla="*/ 0 h 2254680"/>
              <a:gd name="textAreaBottom" fmla="*/ 2255040 h 2254680"/>
            </a:gdLst>
            <a:ahLst/>
            <a:rect l="textAreaLeft" t="textAreaTop" r="textAreaRight" b="textAreaBottom"/>
            <a:pathLst>
              <a:path w="3635473" h="2255149">
                <a:moveTo>
                  <a:pt x="3583429" y="1357912"/>
                </a:moveTo>
                <a:cubicBezTo>
                  <a:pt x="3648592" y="1434087"/>
                  <a:pt x="3653177" y="1545149"/>
                  <a:pt x="3595049" y="1626822"/>
                </a:cubicBezTo>
                <a:cubicBezTo>
                  <a:pt x="3557737" y="1679451"/>
                  <a:pt x="3506644" y="1709423"/>
                  <a:pt x="3442395" y="1718605"/>
                </a:cubicBezTo>
                <a:cubicBezTo>
                  <a:pt x="3378451" y="1727483"/>
                  <a:pt x="3323384" y="1706680"/>
                  <a:pt x="3273523" y="1666294"/>
                </a:cubicBezTo>
                <a:cubicBezTo>
                  <a:pt x="3271072" y="1669964"/>
                  <a:pt x="3268316" y="1673939"/>
                  <a:pt x="3265878" y="1677610"/>
                </a:cubicBezTo>
                <a:cubicBezTo>
                  <a:pt x="3282388" y="1692291"/>
                  <a:pt x="3298911" y="1706985"/>
                  <a:pt x="3323079" y="1728397"/>
                </a:cubicBezTo>
                <a:cubicBezTo>
                  <a:pt x="3298301" y="1764186"/>
                  <a:pt x="3277498" y="1806413"/>
                  <a:pt x="3245990" y="1838531"/>
                </a:cubicBezTo>
                <a:cubicBezTo>
                  <a:pt x="3114126" y="1974675"/>
                  <a:pt x="2948619" y="2020560"/>
                  <a:pt x="2764139" y="2004038"/>
                </a:cubicBezTo>
                <a:cubicBezTo>
                  <a:pt x="2713974" y="1999758"/>
                  <a:pt x="2664406" y="1983235"/>
                  <a:pt x="2615765" y="1968249"/>
                </a:cubicBezTo>
                <a:cubicBezTo>
                  <a:pt x="2586707" y="1959372"/>
                  <a:pt x="2550906" y="1951726"/>
                  <a:pt x="2558564" y="1902781"/>
                </a:cubicBezTo>
                <a:cubicBezTo>
                  <a:pt x="2486974" y="2050240"/>
                  <a:pt x="2368572" y="2128866"/>
                  <a:pt x="2213162" y="2150278"/>
                </a:cubicBezTo>
                <a:cubicBezTo>
                  <a:pt x="2058972" y="2171690"/>
                  <a:pt x="1920389" y="2135280"/>
                  <a:pt x="1801682" y="2023926"/>
                </a:cubicBezTo>
                <a:cubicBezTo>
                  <a:pt x="1805962" y="2036778"/>
                  <a:pt x="1810255" y="2049936"/>
                  <a:pt x="1814535" y="2063385"/>
                </a:cubicBezTo>
                <a:cubicBezTo>
                  <a:pt x="1540418" y="2340258"/>
                  <a:pt x="891232" y="2311505"/>
                  <a:pt x="637613" y="2014744"/>
                </a:cubicBezTo>
                <a:cubicBezTo>
                  <a:pt x="645868" y="2002818"/>
                  <a:pt x="654136" y="1990880"/>
                  <a:pt x="662391" y="1978650"/>
                </a:cubicBezTo>
                <a:cubicBezTo>
                  <a:pt x="660867" y="1975590"/>
                  <a:pt x="659025" y="1972529"/>
                  <a:pt x="657501" y="1969468"/>
                </a:cubicBezTo>
                <a:cubicBezTo>
                  <a:pt x="508505" y="2097345"/>
                  <a:pt x="348205" y="2121513"/>
                  <a:pt x="178711" y="2021780"/>
                </a:cubicBezTo>
                <a:cubicBezTo>
                  <a:pt x="83575" y="1965493"/>
                  <a:pt x="26971" y="1877381"/>
                  <a:pt x="6779" y="1768478"/>
                </a:cubicBezTo>
                <a:cubicBezTo>
                  <a:pt x="-16461" y="1640894"/>
                  <a:pt x="17180" y="1527699"/>
                  <a:pt x="106816" y="1434087"/>
                </a:cubicBezTo>
                <a:cubicBezTo>
                  <a:pt x="194929" y="1342622"/>
                  <a:pt x="304454" y="1304992"/>
                  <a:pt x="434476" y="1316917"/>
                </a:cubicBezTo>
                <a:cubicBezTo>
                  <a:pt x="367166" y="1291225"/>
                  <a:pt x="380933" y="1232170"/>
                  <a:pt x="376349" y="1184443"/>
                </a:cubicBezTo>
                <a:cubicBezTo>
                  <a:pt x="342084" y="833542"/>
                  <a:pt x="693290" y="536184"/>
                  <a:pt x="1029510" y="631320"/>
                </a:cubicBezTo>
                <a:cubicBezTo>
                  <a:pt x="1033485" y="644782"/>
                  <a:pt x="1037777" y="659159"/>
                  <a:pt x="1041752" y="673548"/>
                </a:cubicBezTo>
                <a:cubicBezTo>
                  <a:pt x="1045118" y="674157"/>
                  <a:pt x="1048178" y="674462"/>
                  <a:pt x="1051239" y="674767"/>
                </a:cubicBezTo>
                <a:cubicBezTo>
                  <a:pt x="1042362" y="466423"/>
                  <a:pt x="1113342" y="291430"/>
                  <a:pt x="1269362" y="155908"/>
                </a:cubicBezTo>
                <a:cubicBezTo>
                  <a:pt x="1427223" y="19155"/>
                  <a:pt x="1612313" y="-26120"/>
                  <a:pt x="1816986" y="13960"/>
                </a:cubicBezTo>
                <a:cubicBezTo>
                  <a:pt x="1925583" y="35373"/>
                  <a:pt x="2021951" y="85233"/>
                  <a:pt x="2105161" y="158664"/>
                </a:cubicBezTo>
                <a:cubicBezTo>
                  <a:pt x="2189299" y="232997"/>
                  <a:pt x="2250487" y="323561"/>
                  <a:pt x="2286276" y="430025"/>
                </a:cubicBezTo>
                <a:cubicBezTo>
                  <a:pt x="2321150" y="534038"/>
                  <a:pt x="2333393" y="640502"/>
                  <a:pt x="2305250" y="749113"/>
                </a:cubicBezTo>
                <a:cubicBezTo>
                  <a:pt x="2311371" y="749113"/>
                  <a:pt x="2315346" y="749417"/>
                  <a:pt x="2315651" y="748808"/>
                </a:cubicBezTo>
                <a:cubicBezTo>
                  <a:pt x="2327577" y="695874"/>
                  <a:pt x="2370109" y="701996"/>
                  <a:pt x="2408044" y="701386"/>
                </a:cubicBezTo>
                <a:cubicBezTo>
                  <a:pt x="2607205" y="697716"/>
                  <a:pt x="2780662" y="827421"/>
                  <a:pt x="2831449" y="1015876"/>
                </a:cubicBezTo>
                <a:cubicBezTo>
                  <a:pt x="2840326" y="1049531"/>
                  <a:pt x="2845520" y="1079821"/>
                  <a:pt x="2812475" y="1104293"/>
                </a:cubicBezTo>
                <a:cubicBezTo>
                  <a:pt x="2805135" y="1109805"/>
                  <a:pt x="2802074" y="1121121"/>
                  <a:pt x="2796880" y="1129693"/>
                </a:cubicBezTo>
                <a:cubicBezTo>
                  <a:pt x="2800550" y="1133669"/>
                  <a:pt x="2804220" y="1137339"/>
                  <a:pt x="2807281" y="1141314"/>
                </a:cubicBezTo>
                <a:cubicBezTo>
                  <a:pt x="2836338" y="1086856"/>
                  <a:pt x="2885297" y="1068200"/>
                  <a:pt x="2938828" y="1057481"/>
                </a:cubicBezTo>
                <a:cubicBezTo>
                  <a:pt x="3088129" y="1028119"/>
                  <a:pt x="3248428" y="1127852"/>
                  <a:pt x="3282693" y="1275312"/>
                </a:cubicBezTo>
                <a:cubicBezTo>
                  <a:pt x="3287595" y="1296724"/>
                  <a:pt x="3274743" y="1322429"/>
                  <a:pt x="3271377" y="1350267"/>
                </a:cubicBezTo>
                <a:cubicBezTo>
                  <a:pt x="3308093" y="1290907"/>
                  <a:pt x="3364379" y="1278982"/>
                  <a:pt x="3426787" y="1281128"/>
                </a:cubicBezTo>
                <a:cubicBezTo>
                  <a:pt x="3490426" y="1283567"/>
                  <a:pt x="3542738" y="1310186"/>
                  <a:pt x="3583429" y="1357912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6035760" y="2463120"/>
            <a:ext cx="1989360" cy="1233360"/>
          </a:xfrm>
          <a:custGeom>
            <a:avLst/>
            <a:gdLst>
              <a:gd name="textAreaLeft" fmla="*/ 0 w 1989360"/>
              <a:gd name="textAreaRight" fmla="*/ 1989720 w 198936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w="1989724" h="1233870">
                <a:moveTo>
                  <a:pt x="28484" y="743197"/>
                </a:moveTo>
                <a:cubicBezTo>
                  <a:pt x="-7177" y="784891"/>
                  <a:pt x="-9691" y="845674"/>
                  <a:pt x="22121" y="890378"/>
                </a:cubicBezTo>
                <a:cubicBezTo>
                  <a:pt x="42543" y="919181"/>
                  <a:pt x="70508" y="935589"/>
                  <a:pt x="105675" y="940606"/>
                </a:cubicBezTo>
                <a:cubicBezTo>
                  <a:pt x="140663" y="945457"/>
                  <a:pt x="170813" y="934078"/>
                  <a:pt x="198105" y="911980"/>
                </a:cubicBezTo>
                <a:cubicBezTo>
                  <a:pt x="199439" y="913987"/>
                  <a:pt x="200950" y="916159"/>
                  <a:pt x="202284" y="918165"/>
                </a:cubicBezTo>
                <a:cubicBezTo>
                  <a:pt x="193241" y="926204"/>
                  <a:pt x="184199" y="934243"/>
                  <a:pt x="170978" y="945965"/>
                </a:cubicBezTo>
                <a:cubicBezTo>
                  <a:pt x="184542" y="965561"/>
                  <a:pt x="195921" y="988663"/>
                  <a:pt x="213167" y="1006239"/>
                </a:cubicBezTo>
                <a:cubicBezTo>
                  <a:pt x="285329" y="1080750"/>
                  <a:pt x="375918" y="1105871"/>
                  <a:pt x="476883" y="1096829"/>
                </a:cubicBezTo>
                <a:cubicBezTo>
                  <a:pt x="504340" y="1094479"/>
                  <a:pt x="531467" y="1085437"/>
                  <a:pt x="558087" y="1077233"/>
                </a:cubicBezTo>
                <a:cubicBezTo>
                  <a:pt x="574000" y="1072381"/>
                  <a:pt x="593583" y="1068190"/>
                  <a:pt x="589405" y="1041406"/>
                </a:cubicBezTo>
                <a:cubicBezTo>
                  <a:pt x="628585" y="1122115"/>
                  <a:pt x="693380" y="1165142"/>
                  <a:pt x="778445" y="1176864"/>
                </a:cubicBezTo>
                <a:cubicBezTo>
                  <a:pt x="862836" y="1188586"/>
                  <a:pt x="938681" y="1168660"/>
                  <a:pt x="1003653" y="1107713"/>
                </a:cubicBezTo>
                <a:cubicBezTo>
                  <a:pt x="1001304" y="1114748"/>
                  <a:pt x="998954" y="1121949"/>
                  <a:pt x="996618" y="1129315"/>
                </a:cubicBezTo>
                <a:cubicBezTo>
                  <a:pt x="1146643" y="1280839"/>
                  <a:pt x="1501951" y="1265104"/>
                  <a:pt x="1640749" y="1102684"/>
                </a:cubicBezTo>
                <a:cubicBezTo>
                  <a:pt x="1636228" y="1096156"/>
                  <a:pt x="1631706" y="1089628"/>
                  <a:pt x="1627186" y="1082935"/>
                </a:cubicBezTo>
                <a:cubicBezTo>
                  <a:pt x="1628024" y="1081259"/>
                  <a:pt x="1629027" y="1079582"/>
                  <a:pt x="1629866" y="1077906"/>
                </a:cubicBezTo>
                <a:cubicBezTo>
                  <a:pt x="1711412" y="1147896"/>
                  <a:pt x="1799144" y="1161129"/>
                  <a:pt x="1891905" y="1106544"/>
                </a:cubicBezTo>
                <a:cubicBezTo>
                  <a:pt x="1943987" y="1075734"/>
                  <a:pt x="1974962" y="1027512"/>
                  <a:pt x="1986011" y="967898"/>
                </a:cubicBezTo>
                <a:cubicBezTo>
                  <a:pt x="1998737" y="898074"/>
                  <a:pt x="1980322" y="836123"/>
                  <a:pt x="1931262" y="784891"/>
                </a:cubicBezTo>
                <a:cubicBezTo>
                  <a:pt x="1883040" y="734828"/>
                  <a:pt x="1823096" y="714229"/>
                  <a:pt x="1751925" y="720756"/>
                </a:cubicBezTo>
                <a:cubicBezTo>
                  <a:pt x="1788767" y="706697"/>
                  <a:pt x="1781236" y="674376"/>
                  <a:pt x="1783738" y="648265"/>
                </a:cubicBezTo>
                <a:cubicBezTo>
                  <a:pt x="1802496" y="456203"/>
                  <a:pt x="1610281" y="293452"/>
                  <a:pt x="1426259" y="345535"/>
                </a:cubicBezTo>
                <a:cubicBezTo>
                  <a:pt x="1424087" y="352901"/>
                  <a:pt x="1421738" y="360762"/>
                  <a:pt x="1419566" y="368636"/>
                </a:cubicBezTo>
                <a:cubicBezTo>
                  <a:pt x="1417724" y="368966"/>
                  <a:pt x="1416048" y="369144"/>
                  <a:pt x="1414372" y="369309"/>
                </a:cubicBezTo>
                <a:cubicBezTo>
                  <a:pt x="1419236" y="255276"/>
                  <a:pt x="1380386" y="159505"/>
                  <a:pt x="1294991" y="85325"/>
                </a:cubicBezTo>
                <a:cubicBezTo>
                  <a:pt x="1208594" y="10483"/>
                  <a:pt x="1107286" y="-14293"/>
                  <a:pt x="995272" y="7639"/>
                </a:cubicBezTo>
                <a:cubicBezTo>
                  <a:pt x="935836" y="19361"/>
                  <a:pt x="883092" y="46653"/>
                  <a:pt x="837550" y="86836"/>
                </a:cubicBezTo>
                <a:cubicBezTo>
                  <a:pt x="791500" y="127527"/>
                  <a:pt x="758010" y="177082"/>
                  <a:pt x="738427" y="235350"/>
                </a:cubicBezTo>
                <a:cubicBezTo>
                  <a:pt x="719339" y="292284"/>
                  <a:pt x="712633" y="350551"/>
                  <a:pt x="728038" y="410000"/>
                </a:cubicBezTo>
                <a:cubicBezTo>
                  <a:pt x="724698" y="410000"/>
                  <a:pt x="722514" y="410165"/>
                  <a:pt x="722349" y="409822"/>
                </a:cubicBezTo>
                <a:cubicBezTo>
                  <a:pt x="715821" y="380854"/>
                  <a:pt x="692541" y="384206"/>
                  <a:pt x="671777" y="383876"/>
                </a:cubicBezTo>
                <a:cubicBezTo>
                  <a:pt x="562786" y="381869"/>
                  <a:pt x="467840" y="452863"/>
                  <a:pt x="440053" y="555999"/>
                </a:cubicBezTo>
                <a:cubicBezTo>
                  <a:pt x="435189" y="574414"/>
                  <a:pt x="432344" y="591000"/>
                  <a:pt x="450429" y="604386"/>
                </a:cubicBezTo>
                <a:cubicBezTo>
                  <a:pt x="454442" y="607409"/>
                  <a:pt x="456119" y="613594"/>
                  <a:pt x="458963" y="618293"/>
                </a:cubicBezTo>
                <a:cubicBezTo>
                  <a:pt x="456957" y="620464"/>
                  <a:pt x="454950" y="622471"/>
                  <a:pt x="453274" y="624655"/>
                </a:cubicBezTo>
                <a:cubicBezTo>
                  <a:pt x="437373" y="594848"/>
                  <a:pt x="410576" y="584638"/>
                  <a:pt x="381277" y="578770"/>
                </a:cubicBezTo>
                <a:cubicBezTo>
                  <a:pt x="299566" y="562692"/>
                  <a:pt x="211834" y="617289"/>
                  <a:pt x="193076" y="697985"/>
                </a:cubicBezTo>
                <a:cubicBezTo>
                  <a:pt x="190396" y="709707"/>
                  <a:pt x="197432" y="723779"/>
                  <a:pt x="199274" y="739006"/>
                </a:cubicBezTo>
                <a:cubicBezTo>
                  <a:pt x="179182" y="706532"/>
                  <a:pt x="148372" y="700004"/>
                  <a:pt x="114209" y="701173"/>
                </a:cubicBezTo>
                <a:cubicBezTo>
                  <a:pt x="79386" y="702506"/>
                  <a:pt x="50747" y="717073"/>
                  <a:pt x="28484" y="743197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9296640" y="490680"/>
            <a:ext cx="2894760" cy="2395800"/>
          </a:xfrm>
          <a:custGeom>
            <a:avLst/>
            <a:gdLst>
              <a:gd name="textAreaLeft" fmla="*/ 0 w 2894760"/>
              <a:gd name="textAreaRight" fmla="*/ 2895120 w 2894760"/>
              <a:gd name="textAreaTop" fmla="*/ 0 h 2395800"/>
              <a:gd name="textAreaBottom" fmla="*/ 2396160 h 2395800"/>
            </a:gdLst>
            <a:ahLst/>
            <a:rect l="textAreaLeft" t="textAreaTop" r="textAreaRight" b="textAreaBottom"/>
            <a:pathLst>
              <a:path w="2895180" h="2396166">
                <a:moveTo>
                  <a:pt x="2853732" y="1443281"/>
                </a:moveTo>
                <a:cubicBezTo>
                  <a:pt x="2905624" y="1524243"/>
                  <a:pt x="2909282" y="1642277"/>
                  <a:pt x="2862991" y="1729107"/>
                </a:cubicBezTo>
                <a:cubicBezTo>
                  <a:pt x="2833273" y="1785025"/>
                  <a:pt x="2792582" y="1816889"/>
                  <a:pt x="2741414" y="1826655"/>
                </a:cubicBezTo>
                <a:cubicBezTo>
                  <a:pt x="2690500" y="1836079"/>
                  <a:pt x="2646646" y="1813968"/>
                  <a:pt x="2606933" y="1771042"/>
                </a:cubicBezTo>
                <a:cubicBezTo>
                  <a:pt x="2604978" y="1774954"/>
                  <a:pt x="2602793" y="1779170"/>
                  <a:pt x="2600838" y="1783082"/>
                </a:cubicBezTo>
                <a:cubicBezTo>
                  <a:pt x="2613995" y="1798690"/>
                  <a:pt x="2627152" y="1814298"/>
                  <a:pt x="2646405" y="1837057"/>
                </a:cubicBezTo>
                <a:cubicBezTo>
                  <a:pt x="2626669" y="1875106"/>
                  <a:pt x="2610096" y="1919975"/>
                  <a:pt x="2585001" y="1954113"/>
                </a:cubicBezTo>
                <a:cubicBezTo>
                  <a:pt x="2479997" y="2098816"/>
                  <a:pt x="2348196" y="2147584"/>
                  <a:pt x="2201283" y="2130033"/>
                </a:cubicBezTo>
                <a:cubicBezTo>
                  <a:pt x="2161329" y="2125474"/>
                  <a:pt x="2121857" y="2107922"/>
                  <a:pt x="2083122" y="2091984"/>
                </a:cubicBezTo>
                <a:cubicBezTo>
                  <a:pt x="2059970" y="2082560"/>
                  <a:pt x="2031471" y="2074420"/>
                  <a:pt x="2037554" y="2022400"/>
                </a:cubicBezTo>
                <a:cubicBezTo>
                  <a:pt x="1980544" y="2179131"/>
                  <a:pt x="1886260" y="2262697"/>
                  <a:pt x="1762498" y="2285456"/>
                </a:cubicBezTo>
                <a:cubicBezTo>
                  <a:pt x="1639702" y="2308214"/>
                  <a:pt x="1529339" y="2269530"/>
                  <a:pt x="1434800" y="2151166"/>
                </a:cubicBezTo>
                <a:cubicBezTo>
                  <a:pt x="1438216" y="2164818"/>
                  <a:pt x="1441632" y="2178801"/>
                  <a:pt x="1445036" y="2193114"/>
                </a:cubicBezTo>
                <a:cubicBezTo>
                  <a:pt x="1226735" y="2487386"/>
                  <a:pt x="709744" y="2456817"/>
                  <a:pt x="507776" y="2141412"/>
                </a:cubicBezTo>
                <a:cubicBezTo>
                  <a:pt x="514354" y="2128725"/>
                  <a:pt x="520933" y="2116050"/>
                  <a:pt x="527511" y="2103046"/>
                </a:cubicBezTo>
                <a:cubicBezTo>
                  <a:pt x="526292" y="2099794"/>
                  <a:pt x="524832" y="2096543"/>
                  <a:pt x="523613" y="2093279"/>
                </a:cubicBezTo>
                <a:cubicBezTo>
                  <a:pt x="404957" y="2229207"/>
                  <a:pt x="277297" y="2254887"/>
                  <a:pt x="142321" y="2148893"/>
                </a:cubicBezTo>
                <a:cubicBezTo>
                  <a:pt x="66553" y="2089063"/>
                  <a:pt x="21480" y="1995413"/>
                  <a:pt x="5402" y="1879653"/>
                </a:cubicBezTo>
                <a:cubicBezTo>
                  <a:pt x="-13113" y="1744055"/>
                  <a:pt x="13682" y="1623747"/>
                  <a:pt x="85069" y="1524243"/>
                </a:cubicBezTo>
                <a:cubicBezTo>
                  <a:pt x="155237" y="1427025"/>
                  <a:pt x="242460" y="1387032"/>
                  <a:pt x="346003" y="1399707"/>
                </a:cubicBezTo>
                <a:cubicBezTo>
                  <a:pt x="292396" y="1372389"/>
                  <a:pt x="303369" y="1309638"/>
                  <a:pt x="299711" y="1258915"/>
                </a:cubicBezTo>
                <a:cubicBezTo>
                  <a:pt x="272419" y="885954"/>
                  <a:pt x="552112" y="569889"/>
                  <a:pt x="819866" y="671019"/>
                </a:cubicBezTo>
                <a:cubicBezTo>
                  <a:pt x="823041" y="685319"/>
                  <a:pt x="826444" y="700610"/>
                  <a:pt x="829619" y="715888"/>
                </a:cubicBezTo>
                <a:cubicBezTo>
                  <a:pt x="832299" y="716536"/>
                  <a:pt x="834738" y="716866"/>
                  <a:pt x="837176" y="717183"/>
                </a:cubicBezTo>
                <a:cubicBezTo>
                  <a:pt x="830102" y="495746"/>
                  <a:pt x="886630" y="309755"/>
                  <a:pt x="1010887" y="165711"/>
                </a:cubicBezTo>
                <a:cubicBezTo>
                  <a:pt x="1136591" y="20360"/>
                  <a:pt x="1284000" y="-27759"/>
                  <a:pt x="1446992" y="14835"/>
                </a:cubicBezTo>
                <a:cubicBezTo>
                  <a:pt x="1533479" y="37594"/>
                  <a:pt x="1610224" y="90591"/>
                  <a:pt x="1676493" y="168632"/>
                </a:cubicBezTo>
                <a:cubicBezTo>
                  <a:pt x="1743486" y="247652"/>
                  <a:pt x="1792216" y="343892"/>
                  <a:pt x="1820727" y="457049"/>
                </a:cubicBezTo>
                <a:cubicBezTo>
                  <a:pt x="1848502" y="567615"/>
                  <a:pt x="1858243" y="680773"/>
                  <a:pt x="1835828" y="796203"/>
                </a:cubicBezTo>
                <a:cubicBezTo>
                  <a:pt x="1840704" y="796203"/>
                  <a:pt x="1843867" y="796533"/>
                  <a:pt x="1844108" y="795873"/>
                </a:cubicBezTo>
                <a:cubicBezTo>
                  <a:pt x="1853607" y="739624"/>
                  <a:pt x="1887478" y="746127"/>
                  <a:pt x="1917692" y="745479"/>
                </a:cubicBezTo>
                <a:cubicBezTo>
                  <a:pt x="2076289" y="741580"/>
                  <a:pt x="2214440" y="879451"/>
                  <a:pt x="2254877" y="1079743"/>
                </a:cubicBezTo>
                <a:cubicBezTo>
                  <a:pt x="2261938" y="1115519"/>
                  <a:pt x="2266091" y="1147701"/>
                  <a:pt x="2239777" y="1173723"/>
                </a:cubicBezTo>
                <a:cubicBezTo>
                  <a:pt x="2233922" y="1179578"/>
                  <a:pt x="2231496" y="1191605"/>
                  <a:pt x="2227343" y="1200710"/>
                </a:cubicBezTo>
                <a:cubicBezTo>
                  <a:pt x="2230277" y="1204940"/>
                  <a:pt x="2233198" y="1208838"/>
                  <a:pt x="2235636" y="1213068"/>
                </a:cubicBezTo>
                <a:cubicBezTo>
                  <a:pt x="2258776" y="1155181"/>
                  <a:pt x="2297765" y="1135344"/>
                  <a:pt x="2340399" y="1123964"/>
                </a:cubicBezTo>
                <a:cubicBezTo>
                  <a:pt x="2459283" y="1092748"/>
                  <a:pt x="2586956" y="1198755"/>
                  <a:pt x="2614236" y="1355485"/>
                </a:cubicBezTo>
                <a:cubicBezTo>
                  <a:pt x="2618135" y="1378244"/>
                  <a:pt x="2607898" y="1405562"/>
                  <a:pt x="2605219" y="1435153"/>
                </a:cubicBezTo>
                <a:cubicBezTo>
                  <a:pt x="2634467" y="1372072"/>
                  <a:pt x="2679286" y="1359384"/>
                  <a:pt x="2728993" y="1361670"/>
                </a:cubicBezTo>
                <a:cubicBezTo>
                  <a:pt x="2779666" y="1364261"/>
                  <a:pt x="2821335" y="1392557"/>
                  <a:pt x="2853732" y="1443281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10695240" y="8751600"/>
            <a:ext cx="152280" cy="218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18520"/>
              <a:gd name="textAreaBottom" fmla="*/ 218880 h 218520"/>
            </a:gdLst>
            <a:ahLst/>
            <a:rect l="textAreaLeft" t="textAreaTop" r="textAreaRight" b="textAreaBottom"/>
            <a:pathLst>
              <a:path w="152628" h="218897">
                <a:moveTo>
                  <a:pt x="62954" y="0"/>
                </a:moveTo>
                <a:lnTo>
                  <a:pt x="152628" y="0"/>
                </a:lnTo>
                <a:cubicBezTo>
                  <a:pt x="152628" y="0"/>
                  <a:pt x="104711" y="161670"/>
                  <a:pt x="88379" y="218896"/>
                </a:cubicBezTo>
                <a:lnTo>
                  <a:pt x="0" y="218896"/>
                </a:lnTo>
                <a:lnTo>
                  <a:pt x="62954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11052000" y="8818920"/>
            <a:ext cx="264960" cy="151200"/>
          </a:xfrm>
          <a:custGeom>
            <a:avLst/>
            <a:gdLst>
              <a:gd name="textAreaLeft" fmla="*/ 0 w 264960"/>
              <a:gd name="textAreaRight" fmla="*/ 265320 w 26496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265355" h="151434">
                <a:moveTo>
                  <a:pt x="41782" y="10896"/>
                </a:moveTo>
                <a:lnTo>
                  <a:pt x="0" y="151434"/>
                </a:lnTo>
                <a:lnTo>
                  <a:pt x="90830" y="151434"/>
                </a:lnTo>
                <a:lnTo>
                  <a:pt x="128054" y="27254"/>
                </a:lnTo>
                <a:cubicBezTo>
                  <a:pt x="128054" y="27254"/>
                  <a:pt x="146139" y="23558"/>
                  <a:pt x="164159" y="29336"/>
                </a:cubicBezTo>
                <a:cubicBezTo>
                  <a:pt x="164159" y="29336"/>
                  <a:pt x="180123" y="32715"/>
                  <a:pt x="173672" y="52107"/>
                </a:cubicBezTo>
                <a:lnTo>
                  <a:pt x="144436" y="151434"/>
                </a:lnTo>
                <a:lnTo>
                  <a:pt x="233451" y="151434"/>
                </a:lnTo>
                <a:lnTo>
                  <a:pt x="263435" y="51409"/>
                </a:lnTo>
                <a:cubicBezTo>
                  <a:pt x="263435" y="51409"/>
                  <a:pt x="277050" y="16382"/>
                  <a:pt x="237947" y="8190"/>
                </a:cubicBezTo>
                <a:cubicBezTo>
                  <a:pt x="237947" y="8190"/>
                  <a:pt x="170319" y="-11951"/>
                  <a:pt x="41782" y="10896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11584800" y="8823600"/>
            <a:ext cx="250200" cy="146520"/>
          </a:xfrm>
          <a:custGeom>
            <a:avLst/>
            <a:gdLst>
              <a:gd name="textAreaLeft" fmla="*/ 0 w 250200"/>
              <a:gd name="textAreaRight" fmla="*/ 250560 w 250200"/>
              <a:gd name="textAreaTop" fmla="*/ 0 h 146520"/>
              <a:gd name="textAreaBottom" fmla="*/ 146880 h 146520"/>
            </a:gdLst>
            <a:ahLst/>
            <a:rect l="textAreaLeft" t="textAreaTop" r="textAreaRight" b="textAreaBottom"/>
            <a:pathLst>
              <a:path w="250685" h="146901">
                <a:moveTo>
                  <a:pt x="0" y="0"/>
                </a:moveTo>
                <a:lnTo>
                  <a:pt x="81457" y="0"/>
                </a:lnTo>
                <a:lnTo>
                  <a:pt x="94145" y="102044"/>
                </a:lnTo>
                <a:lnTo>
                  <a:pt x="165328" y="0"/>
                </a:lnTo>
                <a:lnTo>
                  <a:pt x="250685" y="0"/>
                </a:lnTo>
                <a:lnTo>
                  <a:pt x="150203" y="146901"/>
                </a:lnTo>
                <a:lnTo>
                  <a:pt x="17881" y="1469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11718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543" h="106209">
                <a:moveTo>
                  <a:pt x="0" y="18173"/>
                </a:moveTo>
                <a:lnTo>
                  <a:pt x="30683" y="18173"/>
                </a:lnTo>
                <a:lnTo>
                  <a:pt x="30683" y="106209"/>
                </a:lnTo>
                <a:lnTo>
                  <a:pt x="49783" y="106209"/>
                </a:lnTo>
                <a:lnTo>
                  <a:pt x="49783" y="18173"/>
                </a:lnTo>
                <a:lnTo>
                  <a:pt x="80543" y="18173"/>
                </a:lnTo>
                <a:lnTo>
                  <a:pt x="80543" y="0"/>
                </a:lnTo>
                <a:lnTo>
                  <a:pt x="0" y="0"/>
                </a:lnTo>
                <a:lnTo>
                  <a:pt x="0" y="181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11817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34" h="106197">
                <a:moveTo>
                  <a:pt x="61633" y="43954"/>
                </a:moveTo>
                <a:lnTo>
                  <a:pt x="19125" y="43954"/>
                </a:lnTo>
                <a:lnTo>
                  <a:pt x="19125" y="0"/>
                </a:lnTo>
                <a:lnTo>
                  <a:pt x="0" y="0"/>
                </a:lnTo>
                <a:lnTo>
                  <a:pt x="0" y="106197"/>
                </a:lnTo>
                <a:lnTo>
                  <a:pt x="19125" y="106197"/>
                </a:lnTo>
                <a:lnTo>
                  <a:pt x="19125" y="62090"/>
                </a:lnTo>
                <a:lnTo>
                  <a:pt x="61633" y="62090"/>
                </a:lnTo>
                <a:lnTo>
                  <a:pt x="61633" y="106197"/>
                </a:lnTo>
                <a:lnTo>
                  <a:pt x="80733" y="106197"/>
                </a:lnTo>
                <a:lnTo>
                  <a:pt x="80733" y="0"/>
                </a:lnTo>
                <a:lnTo>
                  <a:pt x="61633" y="0"/>
                </a:lnTo>
                <a:lnTo>
                  <a:pt x="61633" y="4395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12144960" y="904212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58" h="106209">
                <a:moveTo>
                  <a:pt x="0" y="106209"/>
                </a:moveTo>
                <a:lnTo>
                  <a:pt x="71157" y="106209"/>
                </a:lnTo>
                <a:lnTo>
                  <a:pt x="71157" y="88074"/>
                </a:lnTo>
                <a:lnTo>
                  <a:pt x="19100" y="88074"/>
                </a:lnTo>
                <a:lnTo>
                  <a:pt x="19100" y="62102"/>
                </a:lnTo>
                <a:lnTo>
                  <a:pt x="71157" y="62102"/>
                </a:lnTo>
                <a:lnTo>
                  <a:pt x="71157" y="43967"/>
                </a:lnTo>
                <a:lnTo>
                  <a:pt x="19100" y="43967"/>
                </a:lnTo>
                <a:lnTo>
                  <a:pt x="19100" y="18173"/>
                </a:lnTo>
                <a:lnTo>
                  <a:pt x="71157" y="18173"/>
                </a:lnTo>
                <a:lnTo>
                  <a:pt x="71157" y="0"/>
                </a:lnTo>
                <a:lnTo>
                  <a:pt x="0" y="0"/>
                </a:lnTo>
                <a:lnTo>
                  <a:pt x="0" y="10620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12029760" y="9042120"/>
            <a:ext cx="90000" cy="105840"/>
          </a:xfrm>
          <a:custGeom>
            <a:avLst/>
            <a:gdLst>
              <a:gd name="textAreaLeft" fmla="*/ 0 w 90000"/>
              <a:gd name="textAreaRight" fmla="*/ 90360 w 900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90322" h="106209">
                <a:moveTo>
                  <a:pt x="20104" y="25323"/>
                </a:moveTo>
                <a:lnTo>
                  <a:pt x="26301" y="19087"/>
                </a:lnTo>
                <a:cubicBezTo>
                  <a:pt x="26949" y="18491"/>
                  <a:pt x="27622" y="18173"/>
                  <a:pt x="28549" y="18173"/>
                </a:cubicBezTo>
                <a:lnTo>
                  <a:pt x="64693" y="18173"/>
                </a:lnTo>
                <a:cubicBezTo>
                  <a:pt x="65633" y="18173"/>
                  <a:pt x="66243" y="18491"/>
                  <a:pt x="66890" y="19087"/>
                </a:cubicBezTo>
                <a:lnTo>
                  <a:pt x="77609" y="29793"/>
                </a:lnTo>
                <a:lnTo>
                  <a:pt x="90322" y="16954"/>
                </a:lnTo>
                <a:lnTo>
                  <a:pt x="76796" y="3416"/>
                </a:lnTo>
                <a:cubicBezTo>
                  <a:pt x="74548" y="1104"/>
                  <a:pt x="71869" y="0"/>
                  <a:pt x="68859" y="0"/>
                </a:cubicBezTo>
                <a:lnTo>
                  <a:pt x="24396" y="0"/>
                </a:lnTo>
                <a:cubicBezTo>
                  <a:pt x="21361" y="0"/>
                  <a:pt x="18656" y="1104"/>
                  <a:pt x="16420" y="3416"/>
                </a:cubicBezTo>
                <a:lnTo>
                  <a:pt x="3352" y="16433"/>
                </a:lnTo>
                <a:cubicBezTo>
                  <a:pt x="1155" y="18630"/>
                  <a:pt x="0" y="21322"/>
                  <a:pt x="0" y="24396"/>
                </a:cubicBezTo>
                <a:lnTo>
                  <a:pt x="0" y="45236"/>
                </a:lnTo>
                <a:cubicBezTo>
                  <a:pt x="0" y="51307"/>
                  <a:pt x="4838" y="56857"/>
                  <a:pt x="11035" y="57645"/>
                </a:cubicBezTo>
                <a:lnTo>
                  <a:pt x="68185" y="65290"/>
                </a:lnTo>
                <a:cubicBezTo>
                  <a:pt x="69760" y="65455"/>
                  <a:pt x="71221" y="66890"/>
                  <a:pt x="71221" y="68477"/>
                </a:cubicBezTo>
                <a:lnTo>
                  <a:pt x="71221" y="78675"/>
                </a:lnTo>
                <a:cubicBezTo>
                  <a:pt x="71221" y="79425"/>
                  <a:pt x="70929" y="80238"/>
                  <a:pt x="70281" y="80873"/>
                </a:cubicBezTo>
                <a:lnTo>
                  <a:pt x="64045" y="87108"/>
                </a:lnTo>
                <a:cubicBezTo>
                  <a:pt x="63436" y="87718"/>
                  <a:pt x="62788" y="88074"/>
                  <a:pt x="61823" y="88074"/>
                </a:cubicBezTo>
                <a:lnTo>
                  <a:pt x="25653" y="88074"/>
                </a:lnTo>
                <a:cubicBezTo>
                  <a:pt x="24751" y="88074"/>
                  <a:pt x="24065" y="87718"/>
                  <a:pt x="23456" y="87108"/>
                </a:cubicBezTo>
                <a:lnTo>
                  <a:pt x="12775" y="76453"/>
                </a:lnTo>
                <a:lnTo>
                  <a:pt x="0" y="89331"/>
                </a:lnTo>
                <a:lnTo>
                  <a:pt x="13550" y="102857"/>
                </a:lnTo>
                <a:cubicBezTo>
                  <a:pt x="15811" y="105079"/>
                  <a:pt x="18491" y="106209"/>
                  <a:pt x="21551" y="106209"/>
                </a:cubicBezTo>
                <a:lnTo>
                  <a:pt x="65963" y="106209"/>
                </a:lnTo>
                <a:cubicBezTo>
                  <a:pt x="68960" y="106209"/>
                  <a:pt x="71704" y="105079"/>
                  <a:pt x="73926" y="102857"/>
                </a:cubicBezTo>
                <a:lnTo>
                  <a:pt x="86969" y="89813"/>
                </a:lnTo>
                <a:cubicBezTo>
                  <a:pt x="89230" y="87553"/>
                  <a:pt x="90322" y="84911"/>
                  <a:pt x="90322" y="81876"/>
                </a:cubicBezTo>
                <a:lnTo>
                  <a:pt x="90322" y="60985"/>
                </a:lnTo>
                <a:cubicBezTo>
                  <a:pt x="90322" y="54940"/>
                  <a:pt x="85584" y="49377"/>
                  <a:pt x="79349" y="48602"/>
                </a:cubicBezTo>
                <a:lnTo>
                  <a:pt x="22008" y="40944"/>
                </a:lnTo>
                <a:cubicBezTo>
                  <a:pt x="20421" y="40766"/>
                  <a:pt x="19138" y="39331"/>
                  <a:pt x="19138" y="37769"/>
                </a:cubicBezTo>
                <a:lnTo>
                  <a:pt x="19138" y="27571"/>
                </a:lnTo>
                <a:cubicBezTo>
                  <a:pt x="19138" y="26720"/>
                  <a:pt x="19456" y="25983"/>
                  <a:pt x="20104" y="2532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11938680" y="906012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57" h="69887">
                <a:moveTo>
                  <a:pt x="44856" y="914"/>
                </a:moveTo>
                <a:cubicBezTo>
                  <a:pt x="44272" y="317"/>
                  <a:pt x="43624" y="0"/>
                  <a:pt x="42659" y="0"/>
                </a:cubicBezTo>
                <a:lnTo>
                  <a:pt x="9397" y="0"/>
                </a:lnTo>
                <a:cubicBezTo>
                  <a:pt x="8420" y="0"/>
                  <a:pt x="7785" y="317"/>
                  <a:pt x="7163" y="914"/>
                </a:cubicBezTo>
                <a:lnTo>
                  <a:pt x="940" y="7149"/>
                </a:lnTo>
                <a:cubicBezTo>
                  <a:pt x="292" y="7810"/>
                  <a:pt x="0" y="8546"/>
                  <a:pt x="0" y="9385"/>
                </a:cubicBezTo>
                <a:lnTo>
                  <a:pt x="0" y="60502"/>
                </a:lnTo>
                <a:cubicBezTo>
                  <a:pt x="0" y="61252"/>
                  <a:pt x="292" y="62052"/>
                  <a:pt x="940" y="62700"/>
                </a:cubicBezTo>
                <a:lnTo>
                  <a:pt x="7163" y="68922"/>
                </a:lnTo>
                <a:cubicBezTo>
                  <a:pt x="7785" y="69570"/>
                  <a:pt x="8420" y="69887"/>
                  <a:pt x="9397" y="69887"/>
                </a:cubicBezTo>
                <a:lnTo>
                  <a:pt x="42659" y="69887"/>
                </a:lnTo>
                <a:cubicBezTo>
                  <a:pt x="43624" y="69887"/>
                  <a:pt x="44272" y="69570"/>
                  <a:pt x="44856" y="68922"/>
                </a:cubicBezTo>
                <a:lnTo>
                  <a:pt x="51117" y="62700"/>
                </a:lnTo>
                <a:cubicBezTo>
                  <a:pt x="51701" y="62052"/>
                  <a:pt x="52057" y="61252"/>
                  <a:pt x="52057" y="60502"/>
                </a:cubicBezTo>
                <a:lnTo>
                  <a:pt x="52057" y="9385"/>
                </a:lnTo>
                <a:cubicBezTo>
                  <a:pt x="52057" y="8546"/>
                  <a:pt x="51701" y="7810"/>
                  <a:pt x="51117" y="7149"/>
                </a:cubicBezTo>
                <a:lnTo>
                  <a:pt x="44856" y="914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11958840" y="921996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09" h="106171">
                <a:moveTo>
                  <a:pt x="61607" y="43916"/>
                </a:moveTo>
                <a:lnTo>
                  <a:pt x="19100" y="43916"/>
                </a:lnTo>
                <a:lnTo>
                  <a:pt x="19100" y="0"/>
                </a:lnTo>
                <a:lnTo>
                  <a:pt x="0" y="0"/>
                </a:lnTo>
                <a:lnTo>
                  <a:pt x="0" y="106171"/>
                </a:lnTo>
                <a:lnTo>
                  <a:pt x="19100" y="106171"/>
                </a:lnTo>
                <a:lnTo>
                  <a:pt x="19100" y="62052"/>
                </a:lnTo>
                <a:lnTo>
                  <a:pt x="61607" y="62052"/>
                </a:lnTo>
                <a:lnTo>
                  <a:pt x="61607" y="106171"/>
                </a:lnTo>
                <a:lnTo>
                  <a:pt x="80708" y="106171"/>
                </a:lnTo>
                <a:lnTo>
                  <a:pt x="80708" y="0"/>
                </a:lnTo>
                <a:lnTo>
                  <a:pt x="61607" y="0"/>
                </a:lnTo>
                <a:lnTo>
                  <a:pt x="61607" y="4391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11807280" y="9219960"/>
            <a:ext cx="130680" cy="105840"/>
          </a:xfrm>
          <a:custGeom>
            <a:avLst/>
            <a:gdLst>
              <a:gd name="textAreaLeft" fmla="*/ 0 w 130680"/>
              <a:gd name="textAreaRight" fmla="*/ 131040 w 1306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131050" h="106209">
                <a:moveTo>
                  <a:pt x="95236" y="85483"/>
                </a:moveTo>
                <a:lnTo>
                  <a:pt x="78523" y="0"/>
                </a:lnTo>
                <a:lnTo>
                  <a:pt x="53022" y="0"/>
                </a:lnTo>
                <a:lnTo>
                  <a:pt x="36017" y="85483"/>
                </a:lnTo>
                <a:lnTo>
                  <a:pt x="19265" y="0"/>
                </a:lnTo>
                <a:lnTo>
                  <a:pt x="0" y="0"/>
                </a:lnTo>
                <a:lnTo>
                  <a:pt x="23241" y="106209"/>
                </a:lnTo>
                <a:lnTo>
                  <a:pt x="48285" y="106209"/>
                </a:lnTo>
                <a:lnTo>
                  <a:pt x="65290" y="22300"/>
                </a:lnTo>
                <a:lnTo>
                  <a:pt x="82486" y="106209"/>
                </a:lnTo>
                <a:lnTo>
                  <a:pt x="107467" y="106209"/>
                </a:lnTo>
                <a:lnTo>
                  <a:pt x="131050" y="0"/>
                </a:lnTo>
                <a:lnTo>
                  <a:pt x="112267" y="0"/>
                </a:lnTo>
                <a:lnTo>
                  <a:pt x="95236" y="8548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12079440" y="923796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900">
                <a:moveTo>
                  <a:pt x="44894" y="965"/>
                </a:moveTo>
                <a:cubicBezTo>
                  <a:pt x="44271" y="317"/>
                  <a:pt x="43636" y="0"/>
                  <a:pt x="42633" y="0"/>
                </a:cubicBezTo>
                <a:lnTo>
                  <a:pt x="9397" y="0"/>
                </a:lnTo>
                <a:cubicBezTo>
                  <a:pt x="8432" y="0"/>
                  <a:pt x="7784" y="317"/>
                  <a:pt x="7137" y="965"/>
                </a:cubicBezTo>
                <a:lnTo>
                  <a:pt x="977" y="7162"/>
                </a:lnTo>
                <a:cubicBezTo>
                  <a:pt x="330" y="7810"/>
                  <a:pt x="0" y="8610"/>
                  <a:pt x="0" y="9385"/>
                </a:cubicBezTo>
                <a:lnTo>
                  <a:pt x="0" y="60502"/>
                </a:lnTo>
                <a:cubicBezTo>
                  <a:pt x="0" y="61315"/>
                  <a:pt x="330" y="62115"/>
                  <a:pt x="977" y="62763"/>
                </a:cubicBezTo>
                <a:lnTo>
                  <a:pt x="7137" y="68960"/>
                </a:lnTo>
                <a:cubicBezTo>
                  <a:pt x="7784" y="69570"/>
                  <a:pt x="8432" y="69900"/>
                  <a:pt x="9397" y="69900"/>
                </a:cubicBezTo>
                <a:lnTo>
                  <a:pt x="42633" y="69900"/>
                </a:lnTo>
                <a:cubicBezTo>
                  <a:pt x="43636" y="69900"/>
                  <a:pt x="44271" y="69570"/>
                  <a:pt x="44894" y="68960"/>
                </a:cubicBezTo>
                <a:lnTo>
                  <a:pt x="51092" y="62763"/>
                </a:lnTo>
                <a:cubicBezTo>
                  <a:pt x="51739" y="62115"/>
                  <a:pt x="52019" y="61315"/>
                  <a:pt x="52019" y="60502"/>
                </a:cubicBezTo>
                <a:lnTo>
                  <a:pt x="52019" y="9385"/>
                </a:lnTo>
                <a:cubicBezTo>
                  <a:pt x="52019" y="8610"/>
                  <a:pt x="51739" y="7810"/>
                  <a:pt x="51092" y="7162"/>
                </a:cubicBezTo>
                <a:lnTo>
                  <a:pt x="44894" y="965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12455640" y="9305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396" h="20396">
                <a:moveTo>
                  <a:pt x="0" y="0"/>
                </a:moveTo>
                <a:lnTo>
                  <a:pt x="20395" y="0"/>
                </a:lnTo>
                <a:lnTo>
                  <a:pt x="20395" y="20396"/>
                </a:lnTo>
                <a:lnTo>
                  <a:pt x="0" y="2039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12259800" y="9237960"/>
            <a:ext cx="42120" cy="69480"/>
          </a:xfrm>
          <a:custGeom>
            <a:avLst/>
            <a:gdLst>
              <a:gd name="textAreaLeft" fmla="*/ 0 w 42120"/>
              <a:gd name="textAreaRight" fmla="*/ 42480 w 4212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42557" h="69901">
                <a:moveTo>
                  <a:pt x="35394" y="939"/>
                </a:moveTo>
                <a:cubicBezTo>
                  <a:pt x="34721" y="317"/>
                  <a:pt x="34099" y="0"/>
                  <a:pt x="33133" y="0"/>
                </a:cubicBezTo>
                <a:lnTo>
                  <a:pt x="0" y="0"/>
                </a:lnTo>
                <a:lnTo>
                  <a:pt x="0" y="69900"/>
                </a:lnTo>
                <a:lnTo>
                  <a:pt x="33133" y="69900"/>
                </a:lnTo>
                <a:cubicBezTo>
                  <a:pt x="34099" y="69900"/>
                  <a:pt x="34721" y="69608"/>
                  <a:pt x="35394" y="68960"/>
                </a:cubicBezTo>
                <a:lnTo>
                  <a:pt x="41592" y="62699"/>
                </a:lnTo>
                <a:cubicBezTo>
                  <a:pt x="42202" y="62115"/>
                  <a:pt x="42557" y="61315"/>
                  <a:pt x="42557" y="60502"/>
                </a:cubicBezTo>
                <a:lnTo>
                  <a:pt x="42557" y="9384"/>
                </a:lnTo>
                <a:cubicBezTo>
                  <a:pt x="42557" y="8584"/>
                  <a:pt x="42202" y="7772"/>
                  <a:pt x="41592" y="7162"/>
                </a:cubicBezTo>
                <a:lnTo>
                  <a:pt x="353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12363480" y="923796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82" h="69900">
                <a:moveTo>
                  <a:pt x="44894" y="939"/>
                </a:moveTo>
                <a:cubicBezTo>
                  <a:pt x="44271" y="317"/>
                  <a:pt x="43636" y="0"/>
                  <a:pt x="42658" y="0"/>
                </a:cubicBezTo>
                <a:lnTo>
                  <a:pt x="9397" y="0"/>
                </a:lnTo>
                <a:cubicBezTo>
                  <a:pt x="8419" y="0"/>
                  <a:pt x="7810" y="317"/>
                  <a:pt x="7200" y="939"/>
                </a:cubicBezTo>
                <a:lnTo>
                  <a:pt x="939" y="7162"/>
                </a:lnTo>
                <a:cubicBezTo>
                  <a:pt x="317" y="7772"/>
                  <a:pt x="0" y="8584"/>
                  <a:pt x="0" y="9384"/>
                </a:cubicBezTo>
                <a:lnTo>
                  <a:pt x="0" y="60502"/>
                </a:lnTo>
                <a:cubicBezTo>
                  <a:pt x="0" y="61315"/>
                  <a:pt x="317" y="62115"/>
                  <a:pt x="939" y="62699"/>
                </a:cubicBezTo>
                <a:lnTo>
                  <a:pt x="7200" y="68960"/>
                </a:lnTo>
                <a:cubicBezTo>
                  <a:pt x="7810" y="69608"/>
                  <a:pt x="8419" y="69900"/>
                  <a:pt x="9397" y="69900"/>
                </a:cubicBezTo>
                <a:lnTo>
                  <a:pt x="42658" y="69900"/>
                </a:lnTo>
                <a:cubicBezTo>
                  <a:pt x="43636" y="69900"/>
                  <a:pt x="44271" y="69608"/>
                  <a:pt x="44894" y="68960"/>
                </a:cubicBezTo>
                <a:lnTo>
                  <a:pt x="51142" y="62699"/>
                </a:lnTo>
                <a:cubicBezTo>
                  <a:pt x="51765" y="62115"/>
                  <a:pt x="52082" y="61315"/>
                  <a:pt x="52082" y="60502"/>
                </a:cubicBezTo>
                <a:lnTo>
                  <a:pt x="52082" y="9384"/>
                </a:lnTo>
                <a:cubicBezTo>
                  <a:pt x="52082" y="8584"/>
                  <a:pt x="51765" y="7772"/>
                  <a:pt x="51142" y="7162"/>
                </a:cubicBezTo>
                <a:lnTo>
                  <a:pt x="448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12178080" y="886428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19" h="106146">
                <a:moveTo>
                  <a:pt x="71119" y="18135"/>
                </a:moveTo>
                <a:lnTo>
                  <a:pt x="71119" y="0"/>
                </a:lnTo>
                <a:lnTo>
                  <a:pt x="0" y="0"/>
                </a:lnTo>
                <a:lnTo>
                  <a:pt x="0" y="106146"/>
                </a:lnTo>
                <a:lnTo>
                  <a:pt x="19062" y="106146"/>
                </a:lnTo>
                <a:lnTo>
                  <a:pt x="19062" y="62077"/>
                </a:lnTo>
                <a:lnTo>
                  <a:pt x="71119" y="62077"/>
                </a:lnTo>
                <a:lnTo>
                  <a:pt x="71119" y="43916"/>
                </a:lnTo>
                <a:lnTo>
                  <a:pt x="19062" y="43916"/>
                </a:lnTo>
                <a:lnTo>
                  <a:pt x="19062" y="18135"/>
                </a:lnTo>
                <a:lnTo>
                  <a:pt x="71119" y="1813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12397680" y="8882640"/>
            <a:ext cx="42120" cy="27720"/>
          </a:xfrm>
          <a:custGeom>
            <a:avLst/>
            <a:gdLst>
              <a:gd name="textAreaLeft" fmla="*/ 0 w 42120"/>
              <a:gd name="textAreaRight" fmla="*/ 42480 w 421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42506" h="28028">
                <a:moveTo>
                  <a:pt x="41541" y="23558"/>
                </a:moveTo>
                <a:cubicBezTo>
                  <a:pt x="42151" y="22923"/>
                  <a:pt x="42506" y="22313"/>
                  <a:pt x="42506" y="21310"/>
                </a:cubicBezTo>
                <a:lnTo>
                  <a:pt x="42506" y="6692"/>
                </a:lnTo>
                <a:cubicBezTo>
                  <a:pt x="42506" y="5777"/>
                  <a:pt x="42151" y="5117"/>
                  <a:pt x="41541" y="4470"/>
                </a:cubicBezTo>
                <a:lnTo>
                  <a:pt x="38024" y="990"/>
                </a:lnTo>
                <a:cubicBezTo>
                  <a:pt x="37414" y="304"/>
                  <a:pt x="36766" y="0"/>
                  <a:pt x="35801" y="0"/>
                </a:cubicBezTo>
                <a:lnTo>
                  <a:pt x="0" y="0"/>
                </a:lnTo>
                <a:lnTo>
                  <a:pt x="0" y="28028"/>
                </a:lnTo>
                <a:lnTo>
                  <a:pt x="35801" y="28028"/>
                </a:lnTo>
                <a:cubicBezTo>
                  <a:pt x="36766" y="28028"/>
                  <a:pt x="37414" y="27685"/>
                  <a:pt x="38024" y="27063"/>
                </a:cubicBezTo>
                <a:lnTo>
                  <a:pt x="41541" y="23558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12286440" y="888264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850">
                <a:moveTo>
                  <a:pt x="51079" y="7175"/>
                </a:moveTo>
                <a:lnTo>
                  <a:pt x="44843" y="952"/>
                </a:lnTo>
                <a:cubicBezTo>
                  <a:pt x="44234" y="304"/>
                  <a:pt x="43599" y="0"/>
                  <a:pt x="42621" y="0"/>
                </a:cubicBezTo>
                <a:lnTo>
                  <a:pt x="9347" y="0"/>
                </a:lnTo>
                <a:cubicBezTo>
                  <a:pt x="8382" y="0"/>
                  <a:pt x="7746" y="304"/>
                  <a:pt x="7125" y="952"/>
                </a:cubicBezTo>
                <a:lnTo>
                  <a:pt x="927" y="7175"/>
                </a:lnTo>
                <a:cubicBezTo>
                  <a:pt x="572" y="7492"/>
                  <a:pt x="343" y="7810"/>
                  <a:pt x="216" y="8178"/>
                </a:cubicBezTo>
                <a:cubicBezTo>
                  <a:pt x="25" y="8534"/>
                  <a:pt x="0" y="8952"/>
                  <a:pt x="0" y="9334"/>
                </a:cubicBezTo>
                <a:lnTo>
                  <a:pt x="0" y="60452"/>
                </a:lnTo>
                <a:cubicBezTo>
                  <a:pt x="0" y="61238"/>
                  <a:pt x="254" y="62064"/>
                  <a:pt x="965" y="62648"/>
                </a:cubicBezTo>
                <a:lnTo>
                  <a:pt x="7125" y="68909"/>
                </a:lnTo>
                <a:cubicBezTo>
                  <a:pt x="7772" y="69506"/>
                  <a:pt x="8420" y="69850"/>
                  <a:pt x="9347" y="69850"/>
                </a:cubicBezTo>
                <a:lnTo>
                  <a:pt x="42659" y="69850"/>
                </a:lnTo>
                <a:cubicBezTo>
                  <a:pt x="43624" y="69850"/>
                  <a:pt x="44234" y="69506"/>
                  <a:pt x="44843" y="68909"/>
                </a:cubicBezTo>
                <a:lnTo>
                  <a:pt x="51079" y="62648"/>
                </a:lnTo>
                <a:cubicBezTo>
                  <a:pt x="51727" y="62064"/>
                  <a:pt x="52019" y="61238"/>
                  <a:pt x="52019" y="60490"/>
                </a:cubicBezTo>
                <a:lnTo>
                  <a:pt x="52019" y="9397"/>
                </a:lnTo>
                <a:cubicBezTo>
                  <a:pt x="52019" y="8597"/>
                  <a:pt x="51727" y="7772"/>
                  <a:pt x="51079" y="7175"/>
                </a:cubicBez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015920" y="469800"/>
            <a:ext cx="3695400" cy="2298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006960" y="2451240"/>
            <a:ext cx="2044440" cy="1257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3"/>
          <a:stretch/>
        </p:blipFill>
        <p:spPr>
          <a:xfrm>
            <a:off x="9271080" y="457200"/>
            <a:ext cx="2945880" cy="2463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4"/>
          <a:stretch/>
        </p:blipFill>
        <p:spPr>
          <a:xfrm>
            <a:off x="10807560" y="8801280"/>
            <a:ext cx="266400" cy="190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5"/>
          <a:stretch/>
        </p:blipFill>
        <p:spPr>
          <a:xfrm>
            <a:off x="11302920" y="8801280"/>
            <a:ext cx="279000" cy="190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6"/>
          <a:stretch/>
        </p:blipFill>
        <p:spPr>
          <a:xfrm>
            <a:off x="11684160" y="8801280"/>
            <a:ext cx="825120" cy="5583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424080" y="4470480"/>
            <a:ext cx="739404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701"/>
              </a:lnSpc>
            </a:pPr>
            <a:r>
              <a:rPr b="1" lang="en-US" sz="11770" spc="-1" strike="noStrike">
                <a:solidFill>
                  <a:srgbClr val="ffffff"/>
                </a:solidFill>
                <a:latin typeface="Microsoft YaHei UI"/>
              </a:rPr>
              <a:t>It’s</a:t>
            </a:r>
            <a:r>
              <a:rPr b="0" lang="en-US" sz="1177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770" spc="-1" strike="noStrike">
                <a:solidFill>
                  <a:srgbClr val="ffffff"/>
                </a:solidFill>
                <a:latin typeface="Microsoft YaHei UI"/>
              </a:rPr>
              <a:t>all</a:t>
            </a:r>
            <a:r>
              <a:rPr b="0" lang="en-US" sz="1177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770" spc="-1" strike="noStrike">
                <a:solidFill>
                  <a:srgbClr val="ffffff"/>
                </a:solidFill>
                <a:latin typeface="Microsoft YaHei UI"/>
              </a:rPr>
              <a:t>in</a:t>
            </a:r>
            <a:endParaRPr b="0" lang="en-US" sz="1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701"/>
              </a:lnSpc>
            </a:pPr>
            <a:r>
              <a:rPr b="1" lang="en-US" sz="11770" spc="-1" strike="noStrike">
                <a:solidFill>
                  <a:srgbClr val="ffffff"/>
                </a:solidFill>
                <a:latin typeface="Microsoft YaHei UI"/>
              </a:rPr>
              <a:t>the</a:t>
            </a:r>
            <a:r>
              <a:rPr b="0" lang="en-US" sz="1177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770" spc="-1" strike="noStrike">
                <a:solidFill>
                  <a:srgbClr val="ffffff"/>
                </a:solidFill>
                <a:latin typeface="Microsoft YaHei UI"/>
              </a:rPr>
              <a:t>cloud.</a:t>
            </a:r>
            <a:endParaRPr b="0" lang="en-US" sz="117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0">
            <a:hlinkClick r:id="rId8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3"/>
          <p:cNvSpPr/>
          <p:nvPr/>
        </p:nvSpPr>
        <p:spPr>
          <a:xfrm>
            <a:off x="0" y="0"/>
            <a:ext cx="13080600" cy="9829440"/>
          </a:xfrm>
          <a:custGeom>
            <a:avLst/>
            <a:gdLst>
              <a:gd name="textAreaLeft" fmla="*/ 0 w 13080600"/>
              <a:gd name="textAreaRight" fmla="*/ 13080960 w 13080600"/>
              <a:gd name="textAreaTop" fmla="*/ 0 h 9829440"/>
              <a:gd name="textAreaBottom" fmla="*/ 9829800 h 9829440"/>
            </a:gdLst>
            <a:ahLst/>
            <a:rect l="textAreaLeft" t="textAreaTop" r="textAreaRight" b="textAreaBottom"/>
            <a:pathLst>
              <a:path w="13081000" h="9829800">
                <a:moveTo>
                  <a:pt x="0" y="9829800"/>
                </a:moveTo>
                <a:lnTo>
                  <a:pt x="13081000" y="9829800"/>
                </a:lnTo>
                <a:lnTo>
                  <a:pt x="13081000" y="0"/>
                </a:lnTo>
                <a:lnTo>
                  <a:pt x="0" y="0"/>
                </a:lnTo>
                <a:lnTo>
                  <a:pt x="0" y="9829800"/>
                </a:lnTo>
              </a:path>
            </a:pathLst>
          </a:custGeom>
          <a:solidFill>
            <a:srgbClr val="b7dec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902160" y="515520"/>
            <a:ext cx="3635280" cy="2254680"/>
          </a:xfrm>
          <a:custGeom>
            <a:avLst/>
            <a:gdLst>
              <a:gd name="textAreaLeft" fmla="*/ 0 w 3635280"/>
              <a:gd name="textAreaRight" fmla="*/ 3635640 w 3635280"/>
              <a:gd name="textAreaTop" fmla="*/ 0 h 2254680"/>
              <a:gd name="textAreaBottom" fmla="*/ 2255040 h 2254680"/>
            </a:gdLst>
            <a:ahLst/>
            <a:rect l="textAreaLeft" t="textAreaTop" r="textAreaRight" b="textAreaBottom"/>
            <a:pathLst>
              <a:path w="3635474" h="2255149">
                <a:moveTo>
                  <a:pt x="3583429" y="1357913"/>
                </a:moveTo>
                <a:cubicBezTo>
                  <a:pt x="3648592" y="1434087"/>
                  <a:pt x="3653177" y="1545136"/>
                  <a:pt x="3595049" y="1626822"/>
                </a:cubicBezTo>
                <a:cubicBezTo>
                  <a:pt x="3557737" y="1679451"/>
                  <a:pt x="3506645" y="1709423"/>
                  <a:pt x="3442395" y="1718605"/>
                </a:cubicBezTo>
                <a:cubicBezTo>
                  <a:pt x="3378451" y="1727482"/>
                  <a:pt x="3323384" y="1706680"/>
                  <a:pt x="3273524" y="1666294"/>
                </a:cubicBezTo>
                <a:cubicBezTo>
                  <a:pt x="3271072" y="1669964"/>
                  <a:pt x="3268316" y="1673939"/>
                  <a:pt x="3265878" y="1677610"/>
                </a:cubicBezTo>
                <a:cubicBezTo>
                  <a:pt x="3282388" y="1692291"/>
                  <a:pt x="3298911" y="1706985"/>
                  <a:pt x="3323079" y="1728397"/>
                </a:cubicBezTo>
                <a:cubicBezTo>
                  <a:pt x="3298301" y="1764185"/>
                  <a:pt x="3277498" y="1806413"/>
                  <a:pt x="3245990" y="1838531"/>
                </a:cubicBezTo>
                <a:cubicBezTo>
                  <a:pt x="3114126" y="1974675"/>
                  <a:pt x="2948619" y="2020560"/>
                  <a:pt x="2764139" y="2004038"/>
                </a:cubicBezTo>
                <a:cubicBezTo>
                  <a:pt x="2713974" y="1999758"/>
                  <a:pt x="2664406" y="1983235"/>
                  <a:pt x="2615765" y="1968249"/>
                </a:cubicBezTo>
                <a:cubicBezTo>
                  <a:pt x="2586707" y="1959372"/>
                  <a:pt x="2550906" y="1951726"/>
                  <a:pt x="2558564" y="1902781"/>
                </a:cubicBezTo>
                <a:cubicBezTo>
                  <a:pt x="2486974" y="2050240"/>
                  <a:pt x="2368572" y="2128866"/>
                  <a:pt x="2213162" y="2150278"/>
                </a:cubicBezTo>
                <a:cubicBezTo>
                  <a:pt x="2058971" y="2171690"/>
                  <a:pt x="1920389" y="2135279"/>
                  <a:pt x="1801682" y="2023926"/>
                </a:cubicBezTo>
                <a:cubicBezTo>
                  <a:pt x="1805962" y="2036778"/>
                  <a:pt x="1810255" y="2049935"/>
                  <a:pt x="1814535" y="2063385"/>
                </a:cubicBezTo>
                <a:cubicBezTo>
                  <a:pt x="1540418" y="2340257"/>
                  <a:pt x="891232" y="2311505"/>
                  <a:pt x="637613" y="2014744"/>
                </a:cubicBezTo>
                <a:cubicBezTo>
                  <a:pt x="645868" y="2002819"/>
                  <a:pt x="654136" y="1990880"/>
                  <a:pt x="662391" y="1978650"/>
                </a:cubicBezTo>
                <a:cubicBezTo>
                  <a:pt x="660867" y="1975590"/>
                  <a:pt x="659025" y="1972529"/>
                  <a:pt x="657501" y="1969468"/>
                </a:cubicBezTo>
                <a:cubicBezTo>
                  <a:pt x="508505" y="2097345"/>
                  <a:pt x="348205" y="2121513"/>
                  <a:pt x="178711" y="2021780"/>
                </a:cubicBezTo>
                <a:cubicBezTo>
                  <a:pt x="83575" y="1965493"/>
                  <a:pt x="26971" y="1877381"/>
                  <a:pt x="6779" y="1768478"/>
                </a:cubicBezTo>
                <a:cubicBezTo>
                  <a:pt x="-16461" y="1640894"/>
                  <a:pt x="17180" y="1527699"/>
                  <a:pt x="106816" y="1434087"/>
                </a:cubicBezTo>
                <a:cubicBezTo>
                  <a:pt x="194929" y="1342622"/>
                  <a:pt x="304454" y="1304992"/>
                  <a:pt x="434476" y="1316917"/>
                </a:cubicBezTo>
                <a:cubicBezTo>
                  <a:pt x="367166" y="1291225"/>
                  <a:pt x="380933" y="1232170"/>
                  <a:pt x="376349" y="1184443"/>
                </a:cubicBezTo>
                <a:cubicBezTo>
                  <a:pt x="342084" y="833542"/>
                  <a:pt x="693290" y="536184"/>
                  <a:pt x="1029510" y="631320"/>
                </a:cubicBezTo>
                <a:cubicBezTo>
                  <a:pt x="1033485" y="644782"/>
                  <a:pt x="1037777" y="659158"/>
                  <a:pt x="1041752" y="673548"/>
                </a:cubicBezTo>
                <a:cubicBezTo>
                  <a:pt x="1045118" y="674157"/>
                  <a:pt x="1048179" y="674462"/>
                  <a:pt x="1051239" y="674767"/>
                </a:cubicBezTo>
                <a:cubicBezTo>
                  <a:pt x="1042362" y="466423"/>
                  <a:pt x="1113342" y="291430"/>
                  <a:pt x="1269362" y="155908"/>
                </a:cubicBezTo>
                <a:cubicBezTo>
                  <a:pt x="1427223" y="19155"/>
                  <a:pt x="1612313" y="-26120"/>
                  <a:pt x="1816986" y="13960"/>
                </a:cubicBezTo>
                <a:cubicBezTo>
                  <a:pt x="1925584" y="35373"/>
                  <a:pt x="2021951" y="85233"/>
                  <a:pt x="2105162" y="158664"/>
                </a:cubicBezTo>
                <a:cubicBezTo>
                  <a:pt x="2189299" y="232997"/>
                  <a:pt x="2250488" y="323561"/>
                  <a:pt x="2286276" y="430025"/>
                </a:cubicBezTo>
                <a:cubicBezTo>
                  <a:pt x="2321150" y="534038"/>
                  <a:pt x="2333393" y="640502"/>
                  <a:pt x="2305250" y="749113"/>
                </a:cubicBezTo>
                <a:cubicBezTo>
                  <a:pt x="2311371" y="749113"/>
                  <a:pt x="2315346" y="749417"/>
                  <a:pt x="2315651" y="748808"/>
                </a:cubicBezTo>
                <a:cubicBezTo>
                  <a:pt x="2327577" y="695874"/>
                  <a:pt x="2370109" y="701996"/>
                  <a:pt x="2408044" y="701386"/>
                </a:cubicBezTo>
                <a:cubicBezTo>
                  <a:pt x="2607205" y="697716"/>
                  <a:pt x="2780662" y="827421"/>
                  <a:pt x="2831449" y="1015876"/>
                </a:cubicBezTo>
                <a:cubicBezTo>
                  <a:pt x="2840326" y="1049531"/>
                  <a:pt x="2845521" y="1079821"/>
                  <a:pt x="2812475" y="1104293"/>
                </a:cubicBezTo>
                <a:cubicBezTo>
                  <a:pt x="2805135" y="1109805"/>
                  <a:pt x="2802074" y="1121121"/>
                  <a:pt x="2796880" y="1129694"/>
                </a:cubicBezTo>
                <a:cubicBezTo>
                  <a:pt x="2800550" y="1133668"/>
                  <a:pt x="2804220" y="1137339"/>
                  <a:pt x="2807281" y="1141314"/>
                </a:cubicBezTo>
                <a:cubicBezTo>
                  <a:pt x="2836339" y="1086856"/>
                  <a:pt x="2885297" y="1068200"/>
                  <a:pt x="2938828" y="1057481"/>
                </a:cubicBezTo>
                <a:cubicBezTo>
                  <a:pt x="3088129" y="1028119"/>
                  <a:pt x="3248428" y="1127852"/>
                  <a:pt x="3282693" y="1275312"/>
                </a:cubicBezTo>
                <a:cubicBezTo>
                  <a:pt x="3287595" y="1296724"/>
                  <a:pt x="3274742" y="1322429"/>
                  <a:pt x="3271377" y="1350267"/>
                </a:cubicBezTo>
                <a:cubicBezTo>
                  <a:pt x="3308093" y="1290907"/>
                  <a:pt x="3364379" y="1278982"/>
                  <a:pt x="3426787" y="1281128"/>
                </a:cubicBezTo>
                <a:cubicBezTo>
                  <a:pt x="3490427" y="1283567"/>
                  <a:pt x="3542738" y="1310186"/>
                  <a:pt x="3583429" y="1357913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955800" y="4672440"/>
            <a:ext cx="11261880" cy="3495240"/>
          </a:xfrm>
          <a:custGeom>
            <a:avLst/>
            <a:gdLst>
              <a:gd name="textAreaLeft" fmla="*/ 0 w 11261880"/>
              <a:gd name="textAreaRight" fmla="*/ 11262240 w 11261880"/>
              <a:gd name="textAreaTop" fmla="*/ 0 h 3495240"/>
              <a:gd name="textAreaBottom" fmla="*/ 3495600 h 3495240"/>
            </a:gdLst>
            <a:ahLst/>
            <a:rect l="textAreaLeft" t="textAreaTop" r="textAreaRight" b="textAreaBottom"/>
            <a:pathLst>
              <a:path w="11262144" h="3495751">
                <a:moveTo>
                  <a:pt x="11262144" y="3495751"/>
                </a:moveTo>
                <a:lnTo>
                  <a:pt x="0" y="3495751"/>
                </a:lnTo>
                <a:lnTo>
                  <a:pt x="0" y="0"/>
                </a:lnTo>
                <a:lnTo>
                  <a:pt x="11262144" y="0"/>
                </a:lnTo>
                <a:lnTo>
                  <a:pt x="11262144" y="3495751"/>
                </a:lnTo>
              </a:path>
            </a:pathLst>
          </a:custGeom>
          <a:solidFill>
            <a:srgbClr val="a1b7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1256040" y="4078800"/>
            <a:ext cx="1241640" cy="138384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1383840"/>
              <a:gd name="textAreaBottom" fmla="*/ 1384200 h 1383840"/>
            </a:gdLst>
            <a:ahLst/>
            <a:rect l="textAreaLeft" t="textAreaTop" r="textAreaRight" b="textAreaBottom"/>
            <a:pathLst>
              <a:path w="1242060" h="1384274">
                <a:moveTo>
                  <a:pt x="1242060" y="1267002"/>
                </a:moveTo>
                <a:lnTo>
                  <a:pt x="1242060" y="0"/>
                </a:lnTo>
                <a:lnTo>
                  <a:pt x="0" y="1384274"/>
                </a:lnTo>
                <a:lnTo>
                  <a:pt x="1242060" y="1267002"/>
                </a:lnTo>
              </a:path>
            </a:pathLst>
          </a:custGeom>
          <a:solidFill>
            <a:srgbClr val="a1b7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815400" y="4532040"/>
            <a:ext cx="11261880" cy="3495240"/>
          </a:xfrm>
          <a:custGeom>
            <a:avLst/>
            <a:gdLst>
              <a:gd name="textAreaLeft" fmla="*/ 0 w 11261880"/>
              <a:gd name="textAreaRight" fmla="*/ 11262240 w 11261880"/>
              <a:gd name="textAreaTop" fmla="*/ 0 h 3495240"/>
              <a:gd name="textAreaBottom" fmla="*/ 3495600 h 3495240"/>
            </a:gdLst>
            <a:ahLst/>
            <a:rect l="textAreaLeft" t="textAreaTop" r="textAreaRight" b="textAreaBottom"/>
            <a:pathLst>
              <a:path w="11262144" h="3495725">
                <a:moveTo>
                  <a:pt x="11262144" y="3495725"/>
                </a:moveTo>
                <a:lnTo>
                  <a:pt x="0" y="3495725"/>
                </a:lnTo>
                <a:lnTo>
                  <a:pt x="0" y="0"/>
                </a:lnTo>
                <a:lnTo>
                  <a:pt x="11262144" y="0"/>
                </a:lnTo>
                <a:lnTo>
                  <a:pt x="11262144" y="349572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115640" y="3557520"/>
            <a:ext cx="1241640" cy="138384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1383840"/>
              <a:gd name="textAreaBottom" fmla="*/ 1384200 h 1383840"/>
            </a:gdLst>
            <a:ahLst/>
            <a:rect l="textAreaLeft" t="textAreaTop" r="textAreaRight" b="textAreaBottom"/>
            <a:pathLst>
              <a:path w="1242047" h="1384287">
                <a:moveTo>
                  <a:pt x="1242047" y="1266990"/>
                </a:moveTo>
                <a:lnTo>
                  <a:pt x="1242047" y="0"/>
                </a:lnTo>
                <a:lnTo>
                  <a:pt x="0" y="1384287"/>
                </a:lnTo>
                <a:lnTo>
                  <a:pt x="1242047" y="126699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475560" y="9240480"/>
            <a:ext cx="157320" cy="219960"/>
          </a:xfrm>
          <a:custGeom>
            <a:avLst/>
            <a:gdLst>
              <a:gd name="textAreaLeft" fmla="*/ 0 w 157320"/>
              <a:gd name="textAreaRight" fmla="*/ 157680 w 157320"/>
              <a:gd name="textAreaTop" fmla="*/ 0 h 219960"/>
              <a:gd name="textAreaBottom" fmla="*/ 220320 h 219960"/>
            </a:gdLst>
            <a:ahLst/>
            <a:rect l="textAreaLeft" t="textAreaTop" r="textAreaRight" b="textAreaBottom"/>
            <a:pathLst>
              <a:path w="157505" h="220243">
                <a:moveTo>
                  <a:pt x="150901" y="39954"/>
                </a:moveTo>
                <a:lnTo>
                  <a:pt x="122834" y="11887"/>
                </a:lnTo>
                <a:cubicBezTo>
                  <a:pt x="121513" y="10566"/>
                  <a:pt x="119862" y="9563"/>
                  <a:pt x="118224" y="9563"/>
                </a:cubicBezTo>
                <a:lnTo>
                  <a:pt x="47548" y="9563"/>
                </a:lnTo>
                <a:cubicBezTo>
                  <a:pt x="45567" y="9563"/>
                  <a:pt x="43916" y="10566"/>
                  <a:pt x="42925" y="11557"/>
                </a:cubicBezTo>
                <a:lnTo>
                  <a:pt x="11887" y="42595"/>
                </a:lnTo>
                <a:cubicBezTo>
                  <a:pt x="10566" y="43916"/>
                  <a:pt x="9893" y="45897"/>
                  <a:pt x="9893" y="47218"/>
                </a:cubicBezTo>
                <a:lnTo>
                  <a:pt x="9893" y="85852"/>
                </a:lnTo>
                <a:cubicBezTo>
                  <a:pt x="9893" y="89154"/>
                  <a:pt x="12547" y="92113"/>
                  <a:pt x="15849" y="92456"/>
                </a:cubicBezTo>
                <a:lnTo>
                  <a:pt x="137032" y="116561"/>
                </a:lnTo>
                <a:cubicBezTo>
                  <a:pt x="152222" y="119863"/>
                  <a:pt x="157505" y="124485"/>
                  <a:pt x="157505" y="139675"/>
                </a:cubicBezTo>
                <a:lnTo>
                  <a:pt x="157505" y="169722"/>
                </a:lnTo>
                <a:cubicBezTo>
                  <a:pt x="157505" y="175997"/>
                  <a:pt x="155206" y="181610"/>
                  <a:pt x="150571" y="186245"/>
                </a:cubicBezTo>
                <a:lnTo>
                  <a:pt x="123507" y="213309"/>
                </a:lnTo>
                <a:cubicBezTo>
                  <a:pt x="118859" y="217944"/>
                  <a:pt x="113258" y="220243"/>
                  <a:pt x="106984" y="220243"/>
                </a:cubicBezTo>
                <a:lnTo>
                  <a:pt x="42595" y="220243"/>
                </a:lnTo>
                <a:cubicBezTo>
                  <a:pt x="36309" y="220243"/>
                  <a:pt x="30708" y="217944"/>
                  <a:pt x="26085" y="213309"/>
                </a:cubicBezTo>
                <a:lnTo>
                  <a:pt x="0" y="187223"/>
                </a:lnTo>
                <a:lnTo>
                  <a:pt x="6604" y="180289"/>
                </a:lnTo>
                <a:lnTo>
                  <a:pt x="35001" y="208356"/>
                </a:lnTo>
                <a:cubicBezTo>
                  <a:pt x="35991" y="209677"/>
                  <a:pt x="37642" y="210667"/>
                  <a:pt x="39611" y="210667"/>
                </a:cubicBezTo>
                <a:lnTo>
                  <a:pt x="110286" y="210667"/>
                </a:lnTo>
                <a:cubicBezTo>
                  <a:pt x="111950" y="210667"/>
                  <a:pt x="113576" y="209677"/>
                  <a:pt x="114909" y="208686"/>
                </a:cubicBezTo>
                <a:lnTo>
                  <a:pt x="145948" y="177648"/>
                </a:lnTo>
                <a:cubicBezTo>
                  <a:pt x="146938" y="176327"/>
                  <a:pt x="147942" y="174345"/>
                  <a:pt x="147942" y="173037"/>
                </a:cubicBezTo>
                <a:lnTo>
                  <a:pt x="147942" y="134391"/>
                </a:lnTo>
                <a:cubicBezTo>
                  <a:pt x="147942" y="131089"/>
                  <a:pt x="144957" y="128117"/>
                  <a:pt x="141986" y="127787"/>
                </a:cubicBezTo>
                <a:lnTo>
                  <a:pt x="20459" y="103682"/>
                </a:lnTo>
                <a:cubicBezTo>
                  <a:pt x="5283" y="100381"/>
                  <a:pt x="0" y="96088"/>
                  <a:pt x="0" y="80568"/>
                </a:cubicBezTo>
                <a:lnTo>
                  <a:pt x="0" y="50520"/>
                </a:lnTo>
                <a:cubicBezTo>
                  <a:pt x="0" y="44246"/>
                  <a:pt x="2311" y="38634"/>
                  <a:pt x="6934" y="33997"/>
                </a:cubicBezTo>
                <a:lnTo>
                  <a:pt x="34010" y="6922"/>
                </a:lnTo>
                <a:cubicBezTo>
                  <a:pt x="38633" y="2299"/>
                  <a:pt x="44246" y="0"/>
                  <a:pt x="50520" y="0"/>
                </a:cubicBezTo>
                <a:lnTo>
                  <a:pt x="114909" y="0"/>
                </a:lnTo>
                <a:cubicBezTo>
                  <a:pt x="121183" y="0"/>
                  <a:pt x="126796" y="2299"/>
                  <a:pt x="131419" y="6922"/>
                </a:cubicBezTo>
                <a:lnTo>
                  <a:pt x="157505" y="33020"/>
                </a:lnTo>
                <a:lnTo>
                  <a:pt x="150901" y="3995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856800" y="9303480"/>
            <a:ext cx="124560" cy="156960"/>
          </a:xfrm>
          <a:custGeom>
            <a:avLst/>
            <a:gdLst>
              <a:gd name="textAreaLeft" fmla="*/ 0 w 124560"/>
              <a:gd name="textAreaRight" fmla="*/ 124920 w 12456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24828" h="157175">
                <a:moveTo>
                  <a:pt x="115570" y="157175"/>
                </a:moveTo>
                <a:lnTo>
                  <a:pt x="109969" y="131089"/>
                </a:lnTo>
                <a:lnTo>
                  <a:pt x="90462" y="150901"/>
                </a:lnTo>
                <a:cubicBezTo>
                  <a:pt x="86182" y="155524"/>
                  <a:pt x="80899" y="157175"/>
                  <a:pt x="74612" y="157175"/>
                </a:cubicBezTo>
                <a:lnTo>
                  <a:pt x="36995" y="157175"/>
                </a:lnTo>
                <a:cubicBezTo>
                  <a:pt x="30708" y="157175"/>
                  <a:pt x="25425" y="155194"/>
                  <a:pt x="21132" y="150901"/>
                </a:cubicBezTo>
                <a:lnTo>
                  <a:pt x="5283" y="135052"/>
                </a:lnTo>
                <a:cubicBezTo>
                  <a:pt x="647" y="130416"/>
                  <a:pt x="0" y="125476"/>
                  <a:pt x="0" y="119202"/>
                </a:cubicBezTo>
                <a:lnTo>
                  <a:pt x="0" y="0"/>
                </a:lnTo>
                <a:lnTo>
                  <a:pt x="9245" y="0"/>
                </a:lnTo>
                <a:lnTo>
                  <a:pt x="9245" y="122834"/>
                </a:lnTo>
                <a:cubicBezTo>
                  <a:pt x="9245" y="124485"/>
                  <a:pt x="9575" y="126136"/>
                  <a:pt x="10896" y="127457"/>
                </a:cubicBezTo>
                <a:lnTo>
                  <a:pt x="29387" y="145948"/>
                </a:lnTo>
                <a:cubicBezTo>
                  <a:pt x="30708" y="147269"/>
                  <a:pt x="32346" y="147929"/>
                  <a:pt x="34010" y="147929"/>
                </a:cubicBezTo>
                <a:lnTo>
                  <a:pt x="77597" y="147929"/>
                </a:lnTo>
                <a:cubicBezTo>
                  <a:pt x="79260" y="147929"/>
                  <a:pt x="80899" y="147269"/>
                  <a:pt x="82219" y="145948"/>
                </a:cubicBezTo>
                <a:lnTo>
                  <a:pt x="106654" y="121513"/>
                </a:lnTo>
                <a:cubicBezTo>
                  <a:pt x="107975" y="120192"/>
                  <a:pt x="108635" y="118541"/>
                  <a:pt x="108635" y="116561"/>
                </a:cubicBezTo>
                <a:lnTo>
                  <a:pt x="108635" y="0"/>
                </a:lnTo>
                <a:lnTo>
                  <a:pt x="117881" y="0"/>
                </a:lnTo>
                <a:lnTo>
                  <a:pt x="117881" y="127457"/>
                </a:lnTo>
                <a:lnTo>
                  <a:pt x="124828" y="157175"/>
                </a:lnTo>
                <a:lnTo>
                  <a:pt x="115570" y="15717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1027800" y="9303480"/>
            <a:ext cx="115200" cy="156960"/>
          </a:xfrm>
          <a:custGeom>
            <a:avLst/>
            <a:gdLst>
              <a:gd name="textAreaLeft" fmla="*/ 0 w 115200"/>
              <a:gd name="textAreaRight" fmla="*/ 115560 w 1152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15569" h="157175">
                <a:moveTo>
                  <a:pt x="106337" y="62077"/>
                </a:moveTo>
                <a:lnTo>
                  <a:pt x="106337" y="34328"/>
                </a:lnTo>
                <a:cubicBezTo>
                  <a:pt x="106337" y="32690"/>
                  <a:pt x="106006" y="31039"/>
                  <a:pt x="104673" y="29718"/>
                </a:cubicBezTo>
                <a:lnTo>
                  <a:pt x="86194" y="11227"/>
                </a:lnTo>
                <a:cubicBezTo>
                  <a:pt x="84874" y="9906"/>
                  <a:pt x="83223" y="9245"/>
                  <a:pt x="81559" y="9245"/>
                </a:cubicBezTo>
                <a:lnTo>
                  <a:pt x="47231" y="9245"/>
                </a:lnTo>
                <a:cubicBezTo>
                  <a:pt x="45567" y="9245"/>
                  <a:pt x="43929" y="9906"/>
                  <a:pt x="42595" y="11227"/>
                </a:cubicBezTo>
                <a:lnTo>
                  <a:pt x="18161" y="35662"/>
                </a:lnTo>
                <a:cubicBezTo>
                  <a:pt x="16840" y="36983"/>
                  <a:pt x="16179" y="38633"/>
                  <a:pt x="16179" y="40614"/>
                </a:cubicBezTo>
                <a:lnTo>
                  <a:pt x="16179" y="157175"/>
                </a:lnTo>
                <a:lnTo>
                  <a:pt x="6946" y="157175"/>
                </a:lnTo>
                <a:lnTo>
                  <a:pt x="6946" y="29718"/>
                </a:lnTo>
                <a:lnTo>
                  <a:pt x="0" y="0"/>
                </a:lnTo>
                <a:lnTo>
                  <a:pt x="9245" y="0"/>
                </a:lnTo>
                <a:lnTo>
                  <a:pt x="14858" y="26086"/>
                </a:lnTo>
                <a:lnTo>
                  <a:pt x="34340" y="6261"/>
                </a:lnTo>
                <a:cubicBezTo>
                  <a:pt x="38646" y="1651"/>
                  <a:pt x="43929" y="0"/>
                  <a:pt x="50190" y="0"/>
                </a:cubicBezTo>
                <a:lnTo>
                  <a:pt x="78587" y="0"/>
                </a:lnTo>
                <a:cubicBezTo>
                  <a:pt x="84874" y="0"/>
                  <a:pt x="90157" y="1981"/>
                  <a:pt x="94437" y="6261"/>
                </a:cubicBezTo>
                <a:lnTo>
                  <a:pt x="110286" y="22123"/>
                </a:lnTo>
                <a:cubicBezTo>
                  <a:pt x="114922" y="26746"/>
                  <a:pt x="115569" y="31699"/>
                  <a:pt x="115569" y="37972"/>
                </a:cubicBezTo>
                <a:lnTo>
                  <a:pt x="115569" y="62077"/>
                </a:lnTo>
                <a:lnTo>
                  <a:pt x="106337" y="62077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171080" y="9303480"/>
            <a:ext cx="124560" cy="156960"/>
          </a:xfrm>
          <a:custGeom>
            <a:avLst/>
            <a:gdLst>
              <a:gd name="textAreaLeft" fmla="*/ 0 w 124560"/>
              <a:gd name="textAreaRight" fmla="*/ 124920 w 12456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24815" h="157175">
                <a:moveTo>
                  <a:pt x="105333" y="150901"/>
                </a:moveTo>
                <a:cubicBezTo>
                  <a:pt x="101041" y="155193"/>
                  <a:pt x="95758" y="157174"/>
                  <a:pt x="89484" y="157174"/>
                </a:cubicBezTo>
                <a:lnTo>
                  <a:pt x="36982" y="157174"/>
                </a:lnTo>
                <a:cubicBezTo>
                  <a:pt x="30708" y="157174"/>
                  <a:pt x="25425" y="155193"/>
                  <a:pt x="21132" y="150901"/>
                </a:cubicBezTo>
                <a:lnTo>
                  <a:pt x="5283" y="135051"/>
                </a:lnTo>
                <a:cubicBezTo>
                  <a:pt x="660" y="130429"/>
                  <a:pt x="0" y="125476"/>
                  <a:pt x="0" y="119202"/>
                </a:cubicBezTo>
                <a:lnTo>
                  <a:pt x="0" y="37960"/>
                </a:lnTo>
                <a:cubicBezTo>
                  <a:pt x="0" y="31698"/>
                  <a:pt x="660" y="26746"/>
                  <a:pt x="5283" y="22110"/>
                </a:cubicBezTo>
                <a:lnTo>
                  <a:pt x="21132" y="6260"/>
                </a:lnTo>
                <a:cubicBezTo>
                  <a:pt x="25425" y="1968"/>
                  <a:pt x="30708" y="0"/>
                  <a:pt x="36982" y="0"/>
                </a:cubicBezTo>
                <a:lnTo>
                  <a:pt x="89484" y="0"/>
                </a:lnTo>
                <a:cubicBezTo>
                  <a:pt x="95758" y="0"/>
                  <a:pt x="101041" y="1968"/>
                  <a:pt x="105333" y="6260"/>
                </a:cubicBezTo>
                <a:lnTo>
                  <a:pt x="124815" y="25742"/>
                </a:lnTo>
                <a:lnTo>
                  <a:pt x="118211" y="32359"/>
                </a:lnTo>
                <a:lnTo>
                  <a:pt x="97078" y="11226"/>
                </a:lnTo>
                <a:cubicBezTo>
                  <a:pt x="95758" y="9905"/>
                  <a:pt x="94106" y="9245"/>
                  <a:pt x="92455" y="9245"/>
                </a:cubicBezTo>
                <a:lnTo>
                  <a:pt x="34010" y="9245"/>
                </a:lnTo>
                <a:cubicBezTo>
                  <a:pt x="32359" y="9245"/>
                  <a:pt x="30708" y="9905"/>
                  <a:pt x="29375" y="11226"/>
                </a:cubicBezTo>
                <a:lnTo>
                  <a:pt x="10896" y="29718"/>
                </a:lnTo>
                <a:cubicBezTo>
                  <a:pt x="9575" y="31026"/>
                  <a:pt x="9245" y="32677"/>
                  <a:pt x="9245" y="34328"/>
                </a:cubicBezTo>
                <a:lnTo>
                  <a:pt x="9245" y="122834"/>
                </a:lnTo>
                <a:cubicBezTo>
                  <a:pt x="9245" y="124485"/>
                  <a:pt x="9575" y="126136"/>
                  <a:pt x="10896" y="127457"/>
                </a:cubicBezTo>
                <a:lnTo>
                  <a:pt x="29375" y="145948"/>
                </a:lnTo>
                <a:cubicBezTo>
                  <a:pt x="30708" y="147269"/>
                  <a:pt x="32359" y="147942"/>
                  <a:pt x="34010" y="147942"/>
                </a:cubicBezTo>
                <a:lnTo>
                  <a:pt x="92455" y="147942"/>
                </a:lnTo>
                <a:cubicBezTo>
                  <a:pt x="94106" y="147942"/>
                  <a:pt x="95758" y="147269"/>
                  <a:pt x="97078" y="145948"/>
                </a:cubicBezTo>
                <a:lnTo>
                  <a:pt x="118211" y="124815"/>
                </a:lnTo>
                <a:lnTo>
                  <a:pt x="124815" y="131419"/>
                </a:lnTo>
                <a:lnTo>
                  <a:pt x="105333" y="150901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514880" y="9446760"/>
            <a:ext cx="13680" cy="13680"/>
          </a:xfrm>
          <a:custGeom>
            <a:avLst/>
            <a:gdLst>
              <a:gd name="textAreaLeft" fmla="*/ 0 w 13680"/>
              <a:gd name="textAreaRight" fmla="*/ 14040 w 13680"/>
              <a:gd name="textAreaTop" fmla="*/ 0 h 13680"/>
              <a:gd name="textAreaBottom" fmla="*/ 14040 h 13680"/>
            </a:gdLst>
            <a:ahLst/>
            <a:rect l="textAreaLeft" t="textAreaTop" r="textAreaRight" b="textAreaBottom"/>
            <a:pathLst>
              <a:path w="13868" h="13868">
                <a:moveTo>
                  <a:pt x="0" y="0"/>
                </a:moveTo>
                <a:lnTo>
                  <a:pt x="13868" y="0"/>
                </a:lnTo>
                <a:lnTo>
                  <a:pt x="13868" y="13868"/>
                </a:lnTo>
                <a:lnTo>
                  <a:pt x="0" y="1386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1514880" y="9303480"/>
            <a:ext cx="13680" cy="13680"/>
          </a:xfrm>
          <a:custGeom>
            <a:avLst/>
            <a:gdLst>
              <a:gd name="textAreaLeft" fmla="*/ 0 w 13680"/>
              <a:gd name="textAreaRight" fmla="*/ 14040 w 13680"/>
              <a:gd name="textAreaTop" fmla="*/ 0 h 13680"/>
              <a:gd name="textAreaBottom" fmla="*/ 14040 h 13680"/>
            </a:gdLst>
            <a:ahLst/>
            <a:rect l="textAreaLeft" t="textAreaTop" r="textAreaRight" b="textAreaBottom"/>
            <a:pathLst>
              <a:path w="13868" h="13868">
                <a:moveTo>
                  <a:pt x="0" y="0"/>
                </a:moveTo>
                <a:lnTo>
                  <a:pt x="13868" y="0"/>
                </a:lnTo>
                <a:lnTo>
                  <a:pt x="13868" y="13868"/>
                </a:lnTo>
                <a:lnTo>
                  <a:pt x="0" y="1386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695240" y="8751600"/>
            <a:ext cx="152280" cy="218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18520"/>
              <a:gd name="textAreaBottom" fmla="*/ 218880 h 218520"/>
            </a:gdLst>
            <a:ahLst/>
            <a:rect l="textAreaLeft" t="textAreaTop" r="textAreaRight" b="textAreaBottom"/>
            <a:pathLst>
              <a:path w="152628" h="218897">
                <a:moveTo>
                  <a:pt x="62954" y="0"/>
                </a:moveTo>
                <a:lnTo>
                  <a:pt x="152628" y="0"/>
                </a:lnTo>
                <a:cubicBezTo>
                  <a:pt x="152628" y="0"/>
                  <a:pt x="104711" y="161670"/>
                  <a:pt x="88379" y="218896"/>
                </a:cubicBezTo>
                <a:lnTo>
                  <a:pt x="0" y="218896"/>
                </a:lnTo>
                <a:lnTo>
                  <a:pt x="62954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052000" y="8818920"/>
            <a:ext cx="264960" cy="151200"/>
          </a:xfrm>
          <a:custGeom>
            <a:avLst/>
            <a:gdLst>
              <a:gd name="textAreaLeft" fmla="*/ 0 w 264960"/>
              <a:gd name="textAreaRight" fmla="*/ 265320 w 26496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265355" h="151434">
                <a:moveTo>
                  <a:pt x="41782" y="10896"/>
                </a:moveTo>
                <a:lnTo>
                  <a:pt x="0" y="151434"/>
                </a:lnTo>
                <a:lnTo>
                  <a:pt x="90830" y="151434"/>
                </a:lnTo>
                <a:lnTo>
                  <a:pt x="128054" y="27254"/>
                </a:lnTo>
                <a:cubicBezTo>
                  <a:pt x="128054" y="27254"/>
                  <a:pt x="146139" y="23558"/>
                  <a:pt x="164159" y="29336"/>
                </a:cubicBezTo>
                <a:cubicBezTo>
                  <a:pt x="164159" y="29336"/>
                  <a:pt x="180123" y="32715"/>
                  <a:pt x="173672" y="52107"/>
                </a:cubicBezTo>
                <a:lnTo>
                  <a:pt x="144436" y="151434"/>
                </a:lnTo>
                <a:lnTo>
                  <a:pt x="233451" y="151434"/>
                </a:lnTo>
                <a:lnTo>
                  <a:pt x="263435" y="51409"/>
                </a:lnTo>
                <a:cubicBezTo>
                  <a:pt x="263435" y="51409"/>
                  <a:pt x="277050" y="16382"/>
                  <a:pt x="237947" y="8190"/>
                </a:cubicBezTo>
                <a:cubicBezTo>
                  <a:pt x="237947" y="8190"/>
                  <a:pt x="170319" y="-11951"/>
                  <a:pt x="41782" y="10896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11584800" y="8823600"/>
            <a:ext cx="250200" cy="146520"/>
          </a:xfrm>
          <a:custGeom>
            <a:avLst/>
            <a:gdLst>
              <a:gd name="textAreaLeft" fmla="*/ 0 w 250200"/>
              <a:gd name="textAreaRight" fmla="*/ 250560 w 250200"/>
              <a:gd name="textAreaTop" fmla="*/ 0 h 146520"/>
              <a:gd name="textAreaBottom" fmla="*/ 146880 h 146520"/>
            </a:gdLst>
            <a:ahLst/>
            <a:rect l="textAreaLeft" t="textAreaTop" r="textAreaRight" b="textAreaBottom"/>
            <a:pathLst>
              <a:path w="250685" h="146901">
                <a:moveTo>
                  <a:pt x="0" y="0"/>
                </a:moveTo>
                <a:lnTo>
                  <a:pt x="81457" y="0"/>
                </a:lnTo>
                <a:lnTo>
                  <a:pt x="94145" y="102044"/>
                </a:lnTo>
                <a:lnTo>
                  <a:pt x="165328" y="0"/>
                </a:lnTo>
                <a:lnTo>
                  <a:pt x="250685" y="0"/>
                </a:lnTo>
                <a:lnTo>
                  <a:pt x="150203" y="146901"/>
                </a:lnTo>
                <a:lnTo>
                  <a:pt x="17881" y="1469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11718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543" h="106209">
                <a:moveTo>
                  <a:pt x="0" y="18173"/>
                </a:moveTo>
                <a:lnTo>
                  <a:pt x="30683" y="18173"/>
                </a:lnTo>
                <a:lnTo>
                  <a:pt x="30683" y="106209"/>
                </a:lnTo>
                <a:lnTo>
                  <a:pt x="49783" y="106209"/>
                </a:lnTo>
                <a:lnTo>
                  <a:pt x="49783" y="18173"/>
                </a:lnTo>
                <a:lnTo>
                  <a:pt x="80543" y="18173"/>
                </a:lnTo>
                <a:lnTo>
                  <a:pt x="80543" y="0"/>
                </a:lnTo>
                <a:lnTo>
                  <a:pt x="0" y="0"/>
                </a:lnTo>
                <a:lnTo>
                  <a:pt x="0" y="181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1817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34" h="106197">
                <a:moveTo>
                  <a:pt x="61633" y="43954"/>
                </a:moveTo>
                <a:lnTo>
                  <a:pt x="19125" y="43954"/>
                </a:lnTo>
                <a:lnTo>
                  <a:pt x="19125" y="0"/>
                </a:lnTo>
                <a:lnTo>
                  <a:pt x="0" y="0"/>
                </a:lnTo>
                <a:lnTo>
                  <a:pt x="0" y="106197"/>
                </a:lnTo>
                <a:lnTo>
                  <a:pt x="19125" y="106197"/>
                </a:lnTo>
                <a:lnTo>
                  <a:pt x="19125" y="62090"/>
                </a:lnTo>
                <a:lnTo>
                  <a:pt x="61633" y="62090"/>
                </a:lnTo>
                <a:lnTo>
                  <a:pt x="61633" y="106197"/>
                </a:lnTo>
                <a:lnTo>
                  <a:pt x="80733" y="106197"/>
                </a:lnTo>
                <a:lnTo>
                  <a:pt x="80733" y="0"/>
                </a:lnTo>
                <a:lnTo>
                  <a:pt x="61633" y="0"/>
                </a:lnTo>
                <a:lnTo>
                  <a:pt x="61633" y="4395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12144960" y="904212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58" h="106209">
                <a:moveTo>
                  <a:pt x="0" y="106209"/>
                </a:moveTo>
                <a:lnTo>
                  <a:pt x="71157" y="106209"/>
                </a:lnTo>
                <a:lnTo>
                  <a:pt x="71157" y="88074"/>
                </a:lnTo>
                <a:lnTo>
                  <a:pt x="19100" y="88074"/>
                </a:lnTo>
                <a:lnTo>
                  <a:pt x="19100" y="62102"/>
                </a:lnTo>
                <a:lnTo>
                  <a:pt x="71157" y="62102"/>
                </a:lnTo>
                <a:lnTo>
                  <a:pt x="71157" y="43967"/>
                </a:lnTo>
                <a:lnTo>
                  <a:pt x="19100" y="43967"/>
                </a:lnTo>
                <a:lnTo>
                  <a:pt x="19100" y="18173"/>
                </a:lnTo>
                <a:lnTo>
                  <a:pt x="71157" y="18173"/>
                </a:lnTo>
                <a:lnTo>
                  <a:pt x="71157" y="0"/>
                </a:lnTo>
                <a:lnTo>
                  <a:pt x="0" y="0"/>
                </a:lnTo>
                <a:lnTo>
                  <a:pt x="0" y="10620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12029760" y="9042120"/>
            <a:ext cx="90000" cy="105840"/>
          </a:xfrm>
          <a:custGeom>
            <a:avLst/>
            <a:gdLst>
              <a:gd name="textAreaLeft" fmla="*/ 0 w 90000"/>
              <a:gd name="textAreaRight" fmla="*/ 90360 w 900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90322" h="106209">
                <a:moveTo>
                  <a:pt x="20104" y="25323"/>
                </a:moveTo>
                <a:lnTo>
                  <a:pt x="26301" y="19087"/>
                </a:lnTo>
                <a:cubicBezTo>
                  <a:pt x="26949" y="18491"/>
                  <a:pt x="27622" y="18173"/>
                  <a:pt x="28549" y="18173"/>
                </a:cubicBezTo>
                <a:lnTo>
                  <a:pt x="64693" y="18173"/>
                </a:lnTo>
                <a:cubicBezTo>
                  <a:pt x="65633" y="18173"/>
                  <a:pt x="66243" y="18491"/>
                  <a:pt x="66890" y="19087"/>
                </a:cubicBezTo>
                <a:lnTo>
                  <a:pt x="77609" y="29793"/>
                </a:lnTo>
                <a:lnTo>
                  <a:pt x="90322" y="16954"/>
                </a:lnTo>
                <a:lnTo>
                  <a:pt x="76796" y="3416"/>
                </a:lnTo>
                <a:cubicBezTo>
                  <a:pt x="74548" y="1104"/>
                  <a:pt x="71869" y="0"/>
                  <a:pt x="68859" y="0"/>
                </a:cubicBezTo>
                <a:lnTo>
                  <a:pt x="24396" y="0"/>
                </a:lnTo>
                <a:cubicBezTo>
                  <a:pt x="21361" y="0"/>
                  <a:pt x="18656" y="1104"/>
                  <a:pt x="16420" y="3416"/>
                </a:cubicBezTo>
                <a:lnTo>
                  <a:pt x="3352" y="16433"/>
                </a:lnTo>
                <a:cubicBezTo>
                  <a:pt x="1155" y="18630"/>
                  <a:pt x="0" y="21322"/>
                  <a:pt x="0" y="24396"/>
                </a:cubicBezTo>
                <a:lnTo>
                  <a:pt x="0" y="45236"/>
                </a:lnTo>
                <a:cubicBezTo>
                  <a:pt x="0" y="51307"/>
                  <a:pt x="4838" y="56857"/>
                  <a:pt x="11035" y="57645"/>
                </a:cubicBezTo>
                <a:lnTo>
                  <a:pt x="68185" y="65290"/>
                </a:lnTo>
                <a:cubicBezTo>
                  <a:pt x="69760" y="65455"/>
                  <a:pt x="71221" y="66890"/>
                  <a:pt x="71221" y="68477"/>
                </a:cubicBezTo>
                <a:lnTo>
                  <a:pt x="71221" y="78675"/>
                </a:lnTo>
                <a:cubicBezTo>
                  <a:pt x="71221" y="79425"/>
                  <a:pt x="70929" y="80238"/>
                  <a:pt x="70281" y="80873"/>
                </a:cubicBezTo>
                <a:lnTo>
                  <a:pt x="64045" y="87108"/>
                </a:lnTo>
                <a:cubicBezTo>
                  <a:pt x="63436" y="87718"/>
                  <a:pt x="62788" y="88074"/>
                  <a:pt x="61823" y="88074"/>
                </a:cubicBezTo>
                <a:lnTo>
                  <a:pt x="25653" y="88074"/>
                </a:lnTo>
                <a:cubicBezTo>
                  <a:pt x="24751" y="88074"/>
                  <a:pt x="24065" y="87718"/>
                  <a:pt x="23456" y="87108"/>
                </a:cubicBezTo>
                <a:lnTo>
                  <a:pt x="12775" y="76453"/>
                </a:lnTo>
                <a:lnTo>
                  <a:pt x="0" y="89331"/>
                </a:lnTo>
                <a:lnTo>
                  <a:pt x="13550" y="102857"/>
                </a:lnTo>
                <a:cubicBezTo>
                  <a:pt x="15811" y="105079"/>
                  <a:pt x="18491" y="106209"/>
                  <a:pt x="21551" y="106209"/>
                </a:cubicBezTo>
                <a:lnTo>
                  <a:pt x="65963" y="106209"/>
                </a:lnTo>
                <a:cubicBezTo>
                  <a:pt x="68960" y="106209"/>
                  <a:pt x="71704" y="105079"/>
                  <a:pt x="73926" y="102857"/>
                </a:cubicBezTo>
                <a:lnTo>
                  <a:pt x="86969" y="89813"/>
                </a:lnTo>
                <a:cubicBezTo>
                  <a:pt x="89230" y="87553"/>
                  <a:pt x="90322" y="84911"/>
                  <a:pt x="90322" y="81876"/>
                </a:cubicBezTo>
                <a:lnTo>
                  <a:pt x="90322" y="60985"/>
                </a:lnTo>
                <a:cubicBezTo>
                  <a:pt x="90322" y="54940"/>
                  <a:pt x="85584" y="49377"/>
                  <a:pt x="79349" y="48602"/>
                </a:cubicBezTo>
                <a:lnTo>
                  <a:pt x="22008" y="40944"/>
                </a:lnTo>
                <a:cubicBezTo>
                  <a:pt x="20421" y="40766"/>
                  <a:pt x="19138" y="39331"/>
                  <a:pt x="19138" y="37769"/>
                </a:cubicBezTo>
                <a:lnTo>
                  <a:pt x="19138" y="27571"/>
                </a:lnTo>
                <a:cubicBezTo>
                  <a:pt x="19138" y="26720"/>
                  <a:pt x="19456" y="25983"/>
                  <a:pt x="20104" y="2532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11938680" y="906012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57" h="69887">
                <a:moveTo>
                  <a:pt x="44856" y="914"/>
                </a:moveTo>
                <a:cubicBezTo>
                  <a:pt x="44272" y="317"/>
                  <a:pt x="43637" y="0"/>
                  <a:pt x="42659" y="0"/>
                </a:cubicBezTo>
                <a:lnTo>
                  <a:pt x="9398" y="0"/>
                </a:lnTo>
                <a:cubicBezTo>
                  <a:pt x="8420" y="0"/>
                  <a:pt x="7785" y="317"/>
                  <a:pt x="7163" y="914"/>
                </a:cubicBezTo>
                <a:lnTo>
                  <a:pt x="940" y="7149"/>
                </a:lnTo>
                <a:cubicBezTo>
                  <a:pt x="292" y="7810"/>
                  <a:pt x="0" y="8546"/>
                  <a:pt x="0" y="9385"/>
                </a:cubicBezTo>
                <a:lnTo>
                  <a:pt x="0" y="60502"/>
                </a:lnTo>
                <a:cubicBezTo>
                  <a:pt x="0" y="61252"/>
                  <a:pt x="292" y="62052"/>
                  <a:pt x="940" y="62700"/>
                </a:cubicBezTo>
                <a:lnTo>
                  <a:pt x="7163" y="68922"/>
                </a:lnTo>
                <a:cubicBezTo>
                  <a:pt x="7785" y="69570"/>
                  <a:pt x="8420" y="69887"/>
                  <a:pt x="9398" y="69887"/>
                </a:cubicBezTo>
                <a:lnTo>
                  <a:pt x="42659" y="69887"/>
                </a:lnTo>
                <a:cubicBezTo>
                  <a:pt x="43637" y="69887"/>
                  <a:pt x="44272" y="69570"/>
                  <a:pt x="44856" y="68922"/>
                </a:cubicBezTo>
                <a:lnTo>
                  <a:pt x="51117" y="62700"/>
                </a:lnTo>
                <a:cubicBezTo>
                  <a:pt x="51702" y="62052"/>
                  <a:pt x="52057" y="61252"/>
                  <a:pt x="52057" y="60502"/>
                </a:cubicBezTo>
                <a:lnTo>
                  <a:pt x="52057" y="9385"/>
                </a:lnTo>
                <a:cubicBezTo>
                  <a:pt x="52057" y="8546"/>
                  <a:pt x="51702" y="7810"/>
                  <a:pt x="51117" y="7149"/>
                </a:cubicBezTo>
                <a:lnTo>
                  <a:pt x="44856" y="914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11958840" y="921996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09" h="106171">
                <a:moveTo>
                  <a:pt x="61607" y="43916"/>
                </a:moveTo>
                <a:lnTo>
                  <a:pt x="19100" y="43916"/>
                </a:lnTo>
                <a:lnTo>
                  <a:pt x="19100" y="0"/>
                </a:lnTo>
                <a:lnTo>
                  <a:pt x="0" y="0"/>
                </a:lnTo>
                <a:lnTo>
                  <a:pt x="0" y="106171"/>
                </a:lnTo>
                <a:lnTo>
                  <a:pt x="19100" y="106171"/>
                </a:lnTo>
                <a:lnTo>
                  <a:pt x="19100" y="62052"/>
                </a:lnTo>
                <a:lnTo>
                  <a:pt x="61607" y="62052"/>
                </a:lnTo>
                <a:lnTo>
                  <a:pt x="61607" y="106171"/>
                </a:lnTo>
                <a:lnTo>
                  <a:pt x="80708" y="106171"/>
                </a:lnTo>
                <a:lnTo>
                  <a:pt x="80708" y="0"/>
                </a:lnTo>
                <a:lnTo>
                  <a:pt x="61607" y="0"/>
                </a:lnTo>
                <a:lnTo>
                  <a:pt x="61607" y="4391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11807280" y="9219960"/>
            <a:ext cx="130680" cy="105840"/>
          </a:xfrm>
          <a:custGeom>
            <a:avLst/>
            <a:gdLst>
              <a:gd name="textAreaLeft" fmla="*/ 0 w 130680"/>
              <a:gd name="textAreaRight" fmla="*/ 131040 w 1306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131050" h="106209">
                <a:moveTo>
                  <a:pt x="95236" y="85483"/>
                </a:moveTo>
                <a:lnTo>
                  <a:pt x="78523" y="0"/>
                </a:lnTo>
                <a:lnTo>
                  <a:pt x="53022" y="0"/>
                </a:lnTo>
                <a:lnTo>
                  <a:pt x="36017" y="85483"/>
                </a:lnTo>
                <a:lnTo>
                  <a:pt x="19265" y="0"/>
                </a:lnTo>
                <a:lnTo>
                  <a:pt x="0" y="0"/>
                </a:lnTo>
                <a:lnTo>
                  <a:pt x="23241" y="106209"/>
                </a:lnTo>
                <a:lnTo>
                  <a:pt x="48285" y="106209"/>
                </a:lnTo>
                <a:lnTo>
                  <a:pt x="65290" y="22300"/>
                </a:lnTo>
                <a:lnTo>
                  <a:pt x="82486" y="106209"/>
                </a:lnTo>
                <a:lnTo>
                  <a:pt x="107467" y="106209"/>
                </a:lnTo>
                <a:lnTo>
                  <a:pt x="131050" y="0"/>
                </a:lnTo>
                <a:lnTo>
                  <a:pt x="112267" y="0"/>
                </a:lnTo>
                <a:lnTo>
                  <a:pt x="95236" y="8548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Freeform 3"/>
          <p:cNvSpPr/>
          <p:nvPr/>
        </p:nvSpPr>
        <p:spPr>
          <a:xfrm>
            <a:off x="12079440" y="923796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900">
                <a:moveTo>
                  <a:pt x="44894" y="965"/>
                </a:moveTo>
                <a:cubicBezTo>
                  <a:pt x="44271" y="317"/>
                  <a:pt x="43636" y="0"/>
                  <a:pt x="42633" y="0"/>
                </a:cubicBezTo>
                <a:lnTo>
                  <a:pt x="9397" y="0"/>
                </a:lnTo>
                <a:cubicBezTo>
                  <a:pt x="8432" y="0"/>
                  <a:pt x="7784" y="317"/>
                  <a:pt x="7137" y="965"/>
                </a:cubicBezTo>
                <a:lnTo>
                  <a:pt x="977" y="7162"/>
                </a:lnTo>
                <a:cubicBezTo>
                  <a:pt x="330" y="7810"/>
                  <a:pt x="0" y="8610"/>
                  <a:pt x="0" y="9385"/>
                </a:cubicBezTo>
                <a:lnTo>
                  <a:pt x="0" y="60502"/>
                </a:lnTo>
                <a:cubicBezTo>
                  <a:pt x="0" y="61315"/>
                  <a:pt x="330" y="62115"/>
                  <a:pt x="977" y="62763"/>
                </a:cubicBezTo>
                <a:lnTo>
                  <a:pt x="7137" y="68960"/>
                </a:lnTo>
                <a:cubicBezTo>
                  <a:pt x="7784" y="69570"/>
                  <a:pt x="8432" y="69900"/>
                  <a:pt x="9397" y="69900"/>
                </a:cubicBezTo>
                <a:lnTo>
                  <a:pt x="42633" y="69900"/>
                </a:lnTo>
                <a:cubicBezTo>
                  <a:pt x="43636" y="69900"/>
                  <a:pt x="44271" y="69570"/>
                  <a:pt x="44894" y="68960"/>
                </a:cubicBezTo>
                <a:lnTo>
                  <a:pt x="51092" y="62763"/>
                </a:lnTo>
                <a:cubicBezTo>
                  <a:pt x="51739" y="62115"/>
                  <a:pt x="52019" y="61315"/>
                  <a:pt x="52019" y="60502"/>
                </a:cubicBezTo>
                <a:lnTo>
                  <a:pt x="52019" y="9385"/>
                </a:lnTo>
                <a:cubicBezTo>
                  <a:pt x="52019" y="8610"/>
                  <a:pt x="51739" y="7810"/>
                  <a:pt x="51092" y="7162"/>
                </a:cubicBezTo>
                <a:lnTo>
                  <a:pt x="44894" y="965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12455640" y="9305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396" h="20396">
                <a:moveTo>
                  <a:pt x="0" y="0"/>
                </a:moveTo>
                <a:lnTo>
                  <a:pt x="20395" y="0"/>
                </a:lnTo>
                <a:lnTo>
                  <a:pt x="20395" y="20396"/>
                </a:lnTo>
                <a:lnTo>
                  <a:pt x="0" y="2039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12259800" y="9237960"/>
            <a:ext cx="42120" cy="69480"/>
          </a:xfrm>
          <a:custGeom>
            <a:avLst/>
            <a:gdLst>
              <a:gd name="textAreaLeft" fmla="*/ 0 w 42120"/>
              <a:gd name="textAreaRight" fmla="*/ 42480 w 4212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42557" h="69901">
                <a:moveTo>
                  <a:pt x="35394" y="939"/>
                </a:moveTo>
                <a:cubicBezTo>
                  <a:pt x="34721" y="317"/>
                  <a:pt x="34099" y="0"/>
                  <a:pt x="33133" y="0"/>
                </a:cubicBezTo>
                <a:lnTo>
                  <a:pt x="0" y="0"/>
                </a:lnTo>
                <a:lnTo>
                  <a:pt x="0" y="69900"/>
                </a:lnTo>
                <a:lnTo>
                  <a:pt x="33133" y="69900"/>
                </a:lnTo>
                <a:cubicBezTo>
                  <a:pt x="34099" y="69900"/>
                  <a:pt x="34721" y="69608"/>
                  <a:pt x="35394" y="68960"/>
                </a:cubicBezTo>
                <a:lnTo>
                  <a:pt x="41592" y="62699"/>
                </a:lnTo>
                <a:cubicBezTo>
                  <a:pt x="42202" y="62115"/>
                  <a:pt x="42557" y="61315"/>
                  <a:pt x="42557" y="60502"/>
                </a:cubicBezTo>
                <a:lnTo>
                  <a:pt x="42557" y="9384"/>
                </a:lnTo>
                <a:cubicBezTo>
                  <a:pt x="42557" y="8584"/>
                  <a:pt x="42202" y="7772"/>
                  <a:pt x="41592" y="7162"/>
                </a:cubicBezTo>
                <a:lnTo>
                  <a:pt x="353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Freeform 3"/>
          <p:cNvSpPr/>
          <p:nvPr/>
        </p:nvSpPr>
        <p:spPr>
          <a:xfrm>
            <a:off x="12363480" y="923796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82" h="69900">
                <a:moveTo>
                  <a:pt x="44894" y="939"/>
                </a:moveTo>
                <a:cubicBezTo>
                  <a:pt x="44271" y="317"/>
                  <a:pt x="43636" y="0"/>
                  <a:pt x="42658" y="0"/>
                </a:cubicBezTo>
                <a:lnTo>
                  <a:pt x="9397" y="0"/>
                </a:lnTo>
                <a:cubicBezTo>
                  <a:pt x="8419" y="0"/>
                  <a:pt x="7810" y="317"/>
                  <a:pt x="7200" y="939"/>
                </a:cubicBezTo>
                <a:lnTo>
                  <a:pt x="939" y="7162"/>
                </a:lnTo>
                <a:cubicBezTo>
                  <a:pt x="317" y="7772"/>
                  <a:pt x="0" y="8584"/>
                  <a:pt x="0" y="9384"/>
                </a:cubicBezTo>
                <a:lnTo>
                  <a:pt x="0" y="60502"/>
                </a:lnTo>
                <a:cubicBezTo>
                  <a:pt x="0" y="61315"/>
                  <a:pt x="317" y="62115"/>
                  <a:pt x="939" y="62699"/>
                </a:cubicBezTo>
                <a:lnTo>
                  <a:pt x="7200" y="68960"/>
                </a:lnTo>
                <a:cubicBezTo>
                  <a:pt x="7810" y="69608"/>
                  <a:pt x="8419" y="69900"/>
                  <a:pt x="9397" y="69900"/>
                </a:cubicBezTo>
                <a:lnTo>
                  <a:pt x="42658" y="69900"/>
                </a:lnTo>
                <a:cubicBezTo>
                  <a:pt x="43636" y="69900"/>
                  <a:pt x="44271" y="69608"/>
                  <a:pt x="44894" y="68960"/>
                </a:cubicBezTo>
                <a:lnTo>
                  <a:pt x="51142" y="62699"/>
                </a:lnTo>
                <a:cubicBezTo>
                  <a:pt x="51765" y="62115"/>
                  <a:pt x="52082" y="61315"/>
                  <a:pt x="52082" y="60502"/>
                </a:cubicBezTo>
                <a:lnTo>
                  <a:pt x="52082" y="9384"/>
                </a:lnTo>
                <a:cubicBezTo>
                  <a:pt x="52082" y="8584"/>
                  <a:pt x="51765" y="7772"/>
                  <a:pt x="51142" y="7162"/>
                </a:cubicBezTo>
                <a:lnTo>
                  <a:pt x="448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12178080" y="886428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19" h="106146">
                <a:moveTo>
                  <a:pt x="71119" y="18135"/>
                </a:moveTo>
                <a:lnTo>
                  <a:pt x="71119" y="0"/>
                </a:lnTo>
                <a:lnTo>
                  <a:pt x="0" y="0"/>
                </a:lnTo>
                <a:lnTo>
                  <a:pt x="0" y="106146"/>
                </a:lnTo>
                <a:lnTo>
                  <a:pt x="19062" y="106146"/>
                </a:lnTo>
                <a:lnTo>
                  <a:pt x="19062" y="62077"/>
                </a:lnTo>
                <a:lnTo>
                  <a:pt x="71119" y="62077"/>
                </a:lnTo>
                <a:lnTo>
                  <a:pt x="71119" y="43916"/>
                </a:lnTo>
                <a:lnTo>
                  <a:pt x="19062" y="43916"/>
                </a:lnTo>
                <a:lnTo>
                  <a:pt x="19062" y="18135"/>
                </a:lnTo>
                <a:lnTo>
                  <a:pt x="71119" y="1813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12397680" y="8882640"/>
            <a:ext cx="42120" cy="27720"/>
          </a:xfrm>
          <a:custGeom>
            <a:avLst/>
            <a:gdLst>
              <a:gd name="textAreaLeft" fmla="*/ 0 w 42120"/>
              <a:gd name="textAreaRight" fmla="*/ 42480 w 421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42519" h="28028">
                <a:moveTo>
                  <a:pt x="41541" y="23558"/>
                </a:moveTo>
                <a:cubicBezTo>
                  <a:pt x="42151" y="22923"/>
                  <a:pt x="42519" y="22313"/>
                  <a:pt x="42519" y="21310"/>
                </a:cubicBezTo>
                <a:lnTo>
                  <a:pt x="42519" y="6692"/>
                </a:lnTo>
                <a:cubicBezTo>
                  <a:pt x="42519" y="5777"/>
                  <a:pt x="42151" y="5117"/>
                  <a:pt x="41541" y="4470"/>
                </a:cubicBezTo>
                <a:lnTo>
                  <a:pt x="38024" y="990"/>
                </a:lnTo>
                <a:cubicBezTo>
                  <a:pt x="37414" y="304"/>
                  <a:pt x="36766" y="0"/>
                  <a:pt x="35801" y="0"/>
                </a:cubicBezTo>
                <a:lnTo>
                  <a:pt x="0" y="0"/>
                </a:lnTo>
                <a:lnTo>
                  <a:pt x="0" y="28028"/>
                </a:lnTo>
                <a:lnTo>
                  <a:pt x="35801" y="28028"/>
                </a:lnTo>
                <a:cubicBezTo>
                  <a:pt x="36766" y="28028"/>
                  <a:pt x="37414" y="27685"/>
                  <a:pt x="38024" y="27063"/>
                </a:cubicBezTo>
                <a:lnTo>
                  <a:pt x="41541" y="23558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12286440" y="888264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850">
                <a:moveTo>
                  <a:pt x="51079" y="7175"/>
                </a:moveTo>
                <a:lnTo>
                  <a:pt x="44843" y="952"/>
                </a:lnTo>
                <a:cubicBezTo>
                  <a:pt x="44234" y="304"/>
                  <a:pt x="43599" y="0"/>
                  <a:pt x="42621" y="0"/>
                </a:cubicBezTo>
                <a:lnTo>
                  <a:pt x="9347" y="0"/>
                </a:lnTo>
                <a:cubicBezTo>
                  <a:pt x="8382" y="0"/>
                  <a:pt x="7746" y="304"/>
                  <a:pt x="7125" y="952"/>
                </a:cubicBezTo>
                <a:lnTo>
                  <a:pt x="927" y="7175"/>
                </a:lnTo>
                <a:cubicBezTo>
                  <a:pt x="572" y="7492"/>
                  <a:pt x="343" y="7810"/>
                  <a:pt x="216" y="8178"/>
                </a:cubicBezTo>
                <a:cubicBezTo>
                  <a:pt x="25" y="8534"/>
                  <a:pt x="0" y="8952"/>
                  <a:pt x="0" y="9334"/>
                </a:cubicBezTo>
                <a:lnTo>
                  <a:pt x="0" y="60452"/>
                </a:lnTo>
                <a:cubicBezTo>
                  <a:pt x="0" y="61238"/>
                  <a:pt x="254" y="62064"/>
                  <a:pt x="965" y="62648"/>
                </a:cubicBezTo>
                <a:lnTo>
                  <a:pt x="7125" y="68909"/>
                </a:lnTo>
                <a:cubicBezTo>
                  <a:pt x="7772" y="69506"/>
                  <a:pt x="8420" y="69850"/>
                  <a:pt x="9347" y="69850"/>
                </a:cubicBezTo>
                <a:lnTo>
                  <a:pt x="42659" y="69850"/>
                </a:lnTo>
                <a:cubicBezTo>
                  <a:pt x="43624" y="69850"/>
                  <a:pt x="44234" y="69506"/>
                  <a:pt x="44843" y="68909"/>
                </a:cubicBezTo>
                <a:lnTo>
                  <a:pt x="51079" y="62648"/>
                </a:lnTo>
                <a:cubicBezTo>
                  <a:pt x="51727" y="62064"/>
                  <a:pt x="52019" y="61238"/>
                  <a:pt x="52019" y="60490"/>
                </a:cubicBezTo>
                <a:lnTo>
                  <a:pt x="52019" y="9397"/>
                </a:lnTo>
                <a:cubicBezTo>
                  <a:pt x="52019" y="8597"/>
                  <a:pt x="51727" y="7772"/>
                  <a:pt x="51079" y="7175"/>
                </a:cubicBez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673200" y="9296280"/>
            <a:ext cx="139320" cy="177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876240" y="482760"/>
            <a:ext cx="3695400" cy="2323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1320840" y="9296280"/>
            <a:ext cx="151920" cy="177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4"/>
          <a:stretch/>
        </p:blipFill>
        <p:spPr>
          <a:xfrm>
            <a:off x="10807560" y="8801280"/>
            <a:ext cx="266400" cy="190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5"/>
          <a:stretch/>
        </p:blipFill>
        <p:spPr>
          <a:xfrm>
            <a:off x="11302920" y="8801280"/>
            <a:ext cx="279000" cy="190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6"/>
          <a:stretch/>
        </p:blipFill>
        <p:spPr>
          <a:xfrm>
            <a:off x="11684160" y="8801280"/>
            <a:ext cx="825120" cy="5583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1566720" y="9131400"/>
            <a:ext cx="1209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Microsoft YaHei UI"/>
                <a:hlinkClick r:id="rId8"/>
              </a:rPr>
              <a:t>Gart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1357200" y="5079960"/>
            <a:ext cx="97059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200"/>
              </a:lnSpc>
            </a:pP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B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2015,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end-us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spen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401"/>
              </a:lnSpc>
            </a:pP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clou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servic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coul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to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401"/>
              </a:lnSpc>
            </a:pP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mor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tha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US$18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1b3b5"/>
                </a:solidFill>
                <a:latin typeface="Microsoft YaHei UI"/>
              </a:rPr>
              <a:t>bill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9">
            <a:hlinkClick r:id="rId9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16000" y="90147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1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reeform 3"/>
          <p:cNvSpPr/>
          <p:nvPr/>
        </p:nvSpPr>
        <p:spPr>
          <a:xfrm>
            <a:off x="0" y="0"/>
            <a:ext cx="13080600" cy="9829440"/>
          </a:xfrm>
          <a:custGeom>
            <a:avLst/>
            <a:gdLst>
              <a:gd name="textAreaLeft" fmla="*/ 0 w 13080600"/>
              <a:gd name="textAreaRight" fmla="*/ 13080960 w 13080600"/>
              <a:gd name="textAreaTop" fmla="*/ 0 h 9829440"/>
              <a:gd name="textAreaBottom" fmla="*/ 9829800 h 9829440"/>
            </a:gdLst>
            <a:ahLst/>
            <a:rect l="textAreaLeft" t="textAreaTop" r="textAreaRight" b="textAreaBottom"/>
            <a:pathLst>
              <a:path w="13081000" h="9829800">
                <a:moveTo>
                  <a:pt x="0" y="9829800"/>
                </a:moveTo>
                <a:lnTo>
                  <a:pt x="13081000" y="9829800"/>
                </a:lnTo>
                <a:lnTo>
                  <a:pt x="13081000" y="0"/>
                </a:lnTo>
                <a:lnTo>
                  <a:pt x="0" y="0"/>
                </a:lnTo>
                <a:lnTo>
                  <a:pt x="0" y="9829800"/>
                </a:lnTo>
              </a:path>
            </a:pathLst>
          </a:custGeom>
          <a:solidFill>
            <a:srgbClr val="b7dec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5455800" y="6952320"/>
            <a:ext cx="1237320" cy="1237320"/>
          </a:xfrm>
          <a:custGeom>
            <a:avLst/>
            <a:gdLst>
              <a:gd name="textAreaLeft" fmla="*/ 0 w 1237320"/>
              <a:gd name="textAreaRight" fmla="*/ 1237680 w 1237320"/>
              <a:gd name="textAreaTop" fmla="*/ 0 h 1237320"/>
              <a:gd name="textAreaBottom" fmla="*/ 1237680 h 1237320"/>
            </a:gdLst>
            <a:ahLst/>
            <a:rect l="textAreaLeft" t="textAreaTop" r="textAreaRight" b="textAreaBottom"/>
            <a:pathLst>
              <a:path w="1237526" h="1237526">
                <a:moveTo>
                  <a:pt x="0" y="0"/>
                </a:moveTo>
                <a:lnTo>
                  <a:pt x="1237526" y="0"/>
                </a:lnTo>
                <a:lnTo>
                  <a:pt x="1237526" y="1237526"/>
                </a:lnTo>
                <a:lnTo>
                  <a:pt x="0" y="1237526"/>
                </a:lnTo>
                <a:lnTo>
                  <a:pt x="0" y="0"/>
                </a:ln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237560" y="1740960"/>
            <a:ext cx="3770280" cy="4263480"/>
          </a:xfrm>
          <a:custGeom>
            <a:avLst/>
            <a:gdLst>
              <a:gd name="textAreaLeft" fmla="*/ 0 w 3770280"/>
              <a:gd name="textAreaRight" fmla="*/ 3770640 w 3770280"/>
              <a:gd name="textAreaTop" fmla="*/ 0 h 4263480"/>
              <a:gd name="textAreaBottom" fmla="*/ 4263840 h 4263480"/>
            </a:gdLst>
            <a:ahLst/>
            <a:rect l="textAreaLeft" t="textAreaTop" r="textAreaRight" b="textAreaBottom"/>
            <a:pathLst>
              <a:path w="3770604" h="4263682">
                <a:moveTo>
                  <a:pt x="3567557" y="2494394"/>
                </a:moveTo>
                <a:lnTo>
                  <a:pt x="2446058" y="3615918"/>
                </a:lnTo>
                <a:cubicBezTo>
                  <a:pt x="2407373" y="3654589"/>
                  <a:pt x="2388044" y="3693261"/>
                  <a:pt x="2388044" y="3751262"/>
                </a:cubicBezTo>
                <a:lnTo>
                  <a:pt x="2388044" y="4263682"/>
                </a:lnTo>
                <a:lnTo>
                  <a:pt x="1285862" y="4263682"/>
                </a:lnTo>
                <a:lnTo>
                  <a:pt x="1285862" y="3693261"/>
                </a:lnTo>
                <a:cubicBezTo>
                  <a:pt x="1285862" y="3509568"/>
                  <a:pt x="1343876" y="3354870"/>
                  <a:pt x="1479232" y="3219513"/>
                </a:cubicBezTo>
                <a:lnTo>
                  <a:pt x="2610408" y="2088324"/>
                </a:lnTo>
                <a:cubicBezTo>
                  <a:pt x="2649080" y="2049665"/>
                  <a:pt x="2668422" y="2001316"/>
                  <a:pt x="2668422" y="1952980"/>
                </a:cubicBezTo>
                <a:lnTo>
                  <a:pt x="2668422" y="1198854"/>
                </a:lnTo>
                <a:cubicBezTo>
                  <a:pt x="2668422" y="1150518"/>
                  <a:pt x="2658757" y="1102182"/>
                  <a:pt x="2620073" y="1063497"/>
                </a:cubicBezTo>
                <a:lnTo>
                  <a:pt x="2581402" y="1024826"/>
                </a:lnTo>
                <a:cubicBezTo>
                  <a:pt x="2542730" y="986154"/>
                  <a:pt x="2494394" y="966825"/>
                  <a:pt x="2436380" y="966825"/>
                </a:cubicBezTo>
                <a:lnTo>
                  <a:pt x="1363205" y="966825"/>
                </a:lnTo>
                <a:cubicBezTo>
                  <a:pt x="1305204" y="966825"/>
                  <a:pt x="1256855" y="986154"/>
                  <a:pt x="1218184" y="1024826"/>
                </a:cubicBezTo>
                <a:lnTo>
                  <a:pt x="686435" y="1556575"/>
                </a:lnTo>
                <a:lnTo>
                  <a:pt x="0" y="879805"/>
                </a:lnTo>
                <a:lnTo>
                  <a:pt x="667093" y="212699"/>
                </a:lnTo>
                <a:cubicBezTo>
                  <a:pt x="802462" y="77355"/>
                  <a:pt x="966813" y="0"/>
                  <a:pt x="1160183" y="0"/>
                </a:cubicBezTo>
                <a:lnTo>
                  <a:pt x="2639415" y="0"/>
                </a:lnTo>
                <a:cubicBezTo>
                  <a:pt x="2832773" y="0"/>
                  <a:pt x="2997136" y="77355"/>
                  <a:pt x="3132493" y="212699"/>
                </a:cubicBezTo>
                <a:lnTo>
                  <a:pt x="3586898" y="667105"/>
                </a:lnTo>
                <a:cubicBezTo>
                  <a:pt x="3722255" y="802462"/>
                  <a:pt x="3770604" y="947483"/>
                  <a:pt x="3770604" y="1131176"/>
                </a:cubicBezTo>
                <a:lnTo>
                  <a:pt x="3770604" y="2010994"/>
                </a:lnTo>
                <a:cubicBezTo>
                  <a:pt x="3770604" y="2194674"/>
                  <a:pt x="3702913" y="2359050"/>
                  <a:pt x="3567557" y="2494394"/>
                </a:cubicBez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10695240" y="8751600"/>
            <a:ext cx="152280" cy="218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18520"/>
              <a:gd name="textAreaBottom" fmla="*/ 218880 h 218520"/>
            </a:gdLst>
            <a:ahLst/>
            <a:rect l="textAreaLeft" t="textAreaTop" r="textAreaRight" b="textAreaBottom"/>
            <a:pathLst>
              <a:path w="152628" h="218897">
                <a:moveTo>
                  <a:pt x="62954" y="0"/>
                </a:moveTo>
                <a:lnTo>
                  <a:pt x="152628" y="0"/>
                </a:lnTo>
                <a:cubicBezTo>
                  <a:pt x="152628" y="0"/>
                  <a:pt x="104711" y="161670"/>
                  <a:pt x="88379" y="218896"/>
                </a:cubicBezTo>
                <a:lnTo>
                  <a:pt x="0" y="218896"/>
                </a:lnTo>
                <a:lnTo>
                  <a:pt x="62954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11052000" y="8818920"/>
            <a:ext cx="264960" cy="151200"/>
          </a:xfrm>
          <a:custGeom>
            <a:avLst/>
            <a:gdLst>
              <a:gd name="textAreaLeft" fmla="*/ 0 w 264960"/>
              <a:gd name="textAreaRight" fmla="*/ 265320 w 26496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265355" h="151434">
                <a:moveTo>
                  <a:pt x="41782" y="10896"/>
                </a:moveTo>
                <a:lnTo>
                  <a:pt x="0" y="151434"/>
                </a:lnTo>
                <a:lnTo>
                  <a:pt x="90830" y="151434"/>
                </a:lnTo>
                <a:lnTo>
                  <a:pt x="128054" y="27254"/>
                </a:lnTo>
                <a:cubicBezTo>
                  <a:pt x="128054" y="27254"/>
                  <a:pt x="146139" y="23558"/>
                  <a:pt x="164159" y="29336"/>
                </a:cubicBezTo>
                <a:cubicBezTo>
                  <a:pt x="164159" y="29336"/>
                  <a:pt x="180123" y="32715"/>
                  <a:pt x="173672" y="52107"/>
                </a:cubicBezTo>
                <a:lnTo>
                  <a:pt x="144436" y="151434"/>
                </a:lnTo>
                <a:lnTo>
                  <a:pt x="233451" y="151434"/>
                </a:lnTo>
                <a:lnTo>
                  <a:pt x="263435" y="51409"/>
                </a:lnTo>
                <a:cubicBezTo>
                  <a:pt x="263435" y="51409"/>
                  <a:pt x="277050" y="16382"/>
                  <a:pt x="237947" y="8190"/>
                </a:cubicBezTo>
                <a:cubicBezTo>
                  <a:pt x="237947" y="8190"/>
                  <a:pt x="170319" y="-11951"/>
                  <a:pt x="41782" y="10896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11584800" y="8823600"/>
            <a:ext cx="250200" cy="146520"/>
          </a:xfrm>
          <a:custGeom>
            <a:avLst/>
            <a:gdLst>
              <a:gd name="textAreaLeft" fmla="*/ 0 w 250200"/>
              <a:gd name="textAreaRight" fmla="*/ 250560 w 250200"/>
              <a:gd name="textAreaTop" fmla="*/ 0 h 146520"/>
              <a:gd name="textAreaBottom" fmla="*/ 146880 h 146520"/>
            </a:gdLst>
            <a:ahLst/>
            <a:rect l="textAreaLeft" t="textAreaTop" r="textAreaRight" b="textAreaBottom"/>
            <a:pathLst>
              <a:path w="250685" h="146901">
                <a:moveTo>
                  <a:pt x="0" y="0"/>
                </a:moveTo>
                <a:lnTo>
                  <a:pt x="81457" y="0"/>
                </a:lnTo>
                <a:lnTo>
                  <a:pt x="94145" y="102044"/>
                </a:lnTo>
                <a:lnTo>
                  <a:pt x="165328" y="0"/>
                </a:lnTo>
                <a:lnTo>
                  <a:pt x="250685" y="0"/>
                </a:lnTo>
                <a:lnTo>
                  <a:pt x="150190" y="146901"/>
                </a:lnTo>
                <a:lnTo>
                  <a:pt x="17881" y="1469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11718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543" h="106209">
                <a:moveTo>
                  <a:pt x="0" y="18173"/>
                </a:moveTo>
                <a:lnTo>
                  <a:pt x="30683" y="18173"/>
                </a:lnTo>
                <a:lnTo>
                  <a:pt x="30683" y="106209"/>
                </a:lnTo>
                <a:lnTo>
                  <a:pt x="49783" y="106209"/>
                </a:lnTo>
                <a:lnTo>
                  <a:pt x="49783" y="18173"/>
                </a:lnTo>
                <a:lnTo>
                  <a:pt x="80543" y="18173"/>
                </a:lnTo>
                <a:lnTo>
                  <a:pt x="80543" y="0"/>
                </a:lnTo>
                <a:lnTo>
                  <a:pt x="0" y="0"/>
                </a:lnTo>
                <a:lnTo>
                  <a:pt x="0" y="181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11817360" y="904212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34" h="106197">
                <a:moveTo>
                  <a:pt x="61633" y="43954"/>
                </a:moveTo>
                <a:lnTo>
                  <a:pt x="19125" y="43954"/>
                </a:lnTo>
                <a:lnTo>
                  <a:pt x="19125" y="0"/>
                </a:lnTo>
                <a:lnTo>
                  <a:pt x="0" y="0"/>
                </a:lnTo>
                <a:lnTo>
                  <a:pt x="0" y="106197"/>
                </a:lnTo>
                <a:lnTo>
                  <a:pt x="19125" y="106197"/>
                </a:lnTo>
                <a:lnTo>
                  <a:pt x="19125" y="62090"/>
                </a:lnTo>
                <a:lnTo>
                  <a:pt x="61633" y="62090"/>
                </a:lnTo>
                <a:lnTo>
                  <a:pt x="61633" y="106197"/>
                </a:lnTo>
                <a:lnTo>
                  <a:pt x="80733" y="106197"/>
                </a:lnTo>
                <a:lnTo>
                  <a:pt x="80733" y="0"/>
                </a:lnTo>
                <a:lnTo>
                  <a:pt x="61633" y="0"/>
                </a:lnTo>
                <a:lnTo>
                  <a:pt x="61633" y="4395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12144960" y="904212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58" h="106209">
                <a:moveTo>
                  <a:pt x="0" y="106209"/>
                </a:moveTo>
                <a:lnTo>
                  <a:pt x="71157" y="106209"/>
                </a:lnTo>
                <a:lnTo>
                  <a:pt x="71157" y="88074"/>
                </a:lnTo>
                <a:lnTo>
                  <a:pt x="19100" y="88074"/>
                </a:lnTo>
                <a:lnTo>
                  <a:pt x="19100" y="62102"/>
                </a:lnTo>
                <a:lnTo>
                  <a:pt x="71157" y="62102"/>
                </a:lnTo>
                <a:lnTo>
                  <a:pt x="71157" y="43967"/>
                </a:lnTo>
                <a:lnTo>
                  <a:pt x="19100" y="43967"/>
                </a:lnTo>
                <a:lnTo>
                  <a:pt x="19100" y="18173"/>
                </a:lnTo>
                <a:lnTo>
                  <a:pt x="71157" y="18173"/>
                </a:lnTo>
                <a:lnTo>
                  <a:pt x="71157" y="0"/>
                </a:lnTo>
                <a:lnTo>
                  <a:pt x="0" y="0"/>
                </a:lnTo>
                <a:lnTo>
                  <a:pt x="0" y="10620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12029760" y="9042120"/>
            <a:ext cx="90000" cy="105840"/>
          </a:xfrm>
          <a:custGeom>
            <a:avLst/>
            <a:gdLst>
              <a:gd name="textAreaLeft" fmla="*/ 0 w 90000"/>
              <a:gd name="textAreaRight" fmla="*/ 90360 w 900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90322" h="106209">
                <a:moveTo>
                  <a:pt x="20104" y="25323"/>
                </a:moveTo>
                <a:lnTo>
                  <a:pt x="26301" y="19087"/>
                </a:lnTo>
                <a:cubicBezTo>
                  <a:pt x="26949" y="18491"/>
                  <a:pt x="27622" y="18173"/>
                  <a:pt x="28549" y="18173"/>
                </a:cubicBezTo>
                <a:lnTo>
                  <a:pt x="64693" y="18173"/>
                </a:lnTo>
                <a:cubicBezTo>
                  <a:pt x="65633" y="18173"/>
                  <a:pt x="66243" y="18491"/>
                  <a:pt x="66890" y="19087"/>
                </a:cubicBezTo>
                <a:lnTo>
                  <a:pt x="77609" y="29793"/>
                </a:lnTo>
                <a:lnTo>
                  <a:pt x="90322" y="16954"/>
                </a:lnTo>
                <a:lnTo>
                  <a:pt x="76796" y="3416"/>
                </a:lnTo>
                <a:cubicBezTo>
                  <a:pt x="74548" y="1104"/>
                  <a:pt x="71869" y="0"/>
                  <a:pt x="68859" y="0"/>
                </a:cubicBezTo>
                <a:lnTo>
                  <a:pt x="24396" y="0"/>
                </a:lnTo>
                <a:cubicBezTo>
                  <a:pt x="21361" y="0"/>
                  <a:pt x="18656" y="1104"/>
                  <a:pt x="16420" y="3416"/>
                </a:cubicBezTo>
                <a:lnTo>
                  <a:pt x="3352" y="16433"/>
                </a:lnTo>
                <a:cubicBezTo>
                  <a:pt x="1155" y="18630"/>
                  <a:pt x="0" y="21322"/>
                  <a:pt x="0" y="24396"/>
                </a:cubicBezTo>
                <a:lnTo>
                  <a:pt x="0" y="45236"/>
                </a:lnTo>
                <a:cubicBezTo>
                  <a:pt x="0" y="51307"/>
                  <a:pt x="4838" y="56857"/>
                  <a:pt x="11035" y="57645"/>
                </a:cubicBezTo>
                <a:lnTo>
                  <a:pt x="68185" y="65290"/>
                </a:lnTo>
                <a:cubicBezTo>
                  <a:pt x="69760" y="65455"/>
                  <a:pt x="71221" y="66890"/>
                  <a:pt x="71221" y="68477"/>
                </a:cubicBezTo>
                <a:lnTo>
                  <a:pt x="71221" y="78675"/>
                </a:lnTo>
                <a:cubicBezTo>
                  <a:pt x="71221" y="79425"/>
                  <a:pt x="70929" y="80238"/>
                  <a:pt x="70281" y="80873"/>
                </a:cubicBezTo>
                <a:lnTo>
                  <a:pt x="64045" y="87108"/>
                </a:lnTo>
                <a:cubicBezTo>
                  <a:pt x="63436" y="87718"/>
                  <a:pt x="62788" y="88074"/>
                  <a:pt x="61823" y="88074"/>
                </a:cubicBezTo>
                <a:lnTo>
                  <a:pt x="25653" y="88074"/>
                </a:lnTo>
                <a:cubicBezTo>
                  <a:pt x="24751" y="88074"/>
                  <a:pt x="24065" y="87718"/>
                  <a:pt x="23456" y="87108"/>
                </a:cubicBezTo>
                <a:lnTo>
                  <a:pt x="12775" y="76453"/>
                </a:lnTo>
                <a:lnTo>
                  <a:pt x="0" y="89331"/>
                </a:lnTo>
                <a:lnTo>
                  <a:pt x="13550" y="102857"/>
                </a:lnTo>
                <a:cubicBezTo>
                  <a:pt x="15811" y="105079"/>
                  <a:pt x="18491" y="106209"/>
                  <a:pt x="21551" y="106209"/>
                </a:cubicBezTo>
                <a:lnTo>
                  <a:pt x="65963" y="106209"/>
                </a:lnTo>
                <a:cubicBezTo>
                  <a:pt x="68960" y="106209"/>
                  <a:pt x="71704" y="105079"/>
                  <a:pt x="73926" y="102857"/>
                </a:cubicBezTo>
                <a:lnTo>
                  <a:pt x="86969" y="89813"/>
                </a:lnTo>
                <a:cubicBezTo>
                  <a:pt x="89230" y="87553"/>
                  <a:pt x="90322" y="84911"/>
                  <a:pt x="90322" y="81876"/>
                </a:cubicBezTo>
                <a:lnTo>
                  <a:pt x="90322" y="60985"/>
                </a:lnTo>
                <a:cubicBezTo>
                  <a:pt x="90322" y="54940"/>
                  <a:pt x="85584" y="49377"/>
                  <a:pt x="79349" y="48602"/>
                </a:cubicBezTo>
                <a:lnTo>
                  <a:pt x="22008" y="40944"/>
                </a:lnTo>
                <a:cubicBezTo>
                  <a:pt x="20421" y="40766"/>
                  <a:pt x="19138" y="39331"/>
                  <a:pt x="19138" y="37769"/>
                </a:cubicBezTo>
                <a:lnTo>
                  <a:pt x="19138" y="27571"/>
                </a:lnTo>
                <a:cubicBezTo>
                  <a:pt x="19138" y="26720"/>
                  <a:pt x="19456" y="25983"/>
                  <a:pt x="20104" y="2532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11938680" y="906012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57" h="69887">
                <a:moveTo>
                  <a:pt x="44856" y="914"/>
                </a:moveTo>
                <a:cubicBezTo>
                  <a:pt x="44272" y="317"/>
                  <a:pt x="43637" y="0"/>
                  <a:pt x="42659" y="0"/>
                </a:cubicBezTo>
                <a:lnTo>
                  <a:pt x="9398" y="0"/>
                </a:lnTo>
                <a:cubicBezTo>
                  <a:pt x="8420" y="0"/>
                  <a:pt x="7785" y="317"/>
                  <a:pt x="7163" y="914"/>
                </a:cubicBezTo>
                <a:lnTo>
                  <a:pt x="940" y="7149"/>
                </a:lnTo>
                <a:cubicBezTo>
                  <a:pt x="292" y="7810"/>
                  <a:pt x="0" y="8546"/>
                  <a:pt x="0" y="9385"/>
                </a:cubicBezTo>
                <a:lnTo>
                  <a:pt x="0" y="60502"/>
                </a:lnTo>
                <a:cubicBezTo>
                  <a:pt x="0" y="61252"/>
                  <a:pt x="292" y="62052"/>
                  <a:pt x="940" y="62700"/>
                </a:cubicBezTo>
                <a:lnTo>
                  <a:pt x="7163" y="68922"/>
                </a:lnTo>
                <a:cubicBezTo>
                  <a:pt x="7785" y="69570"/>
                  <a:pt x="8420" y="69887"/>
                  <a:pt x="9398" y="69887"/>
                </a:cubicBezTo>
                <a:lnTo>
                  <a:pt x="42659" y="69887"/>
                </a:lnTo>
                <a:cubicBezTo>
                  <a:pt x="43637" y="69887"/>
                  <a:pt x="44272" y="69570"/>
                  <a:pt x="44856" y="68922"/>
                </a:cubicBezTo>
                <a:lnTo>
                  <a:pt x="51117" y="62700"/>
                </a:lnTo>
                <a:cubicBezTo>
                  <a:pt x="51702" y="62052"/>
                  <a:pt x="52057" y="61252"/>
                  <a:pt x="52057" y="60502"/>
                </a:cubicBezTo>
                <a:lnTo>
                  <a:pt x="52057" y="9385"/>
                </a:lnTo>
                <a:cubicBezTo>
                  <a:pt x="52057" y="8546"/>
                  <a:pt x="51702" y="7810"/>
                  <a:pt x="51117" y="7149"/>
                </a:cubicBezTo>
                <a:lnTo>
                  <a:pt x="44856" y="914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11958840" y="9219960"/>
            <a:ext cx="80280" cy="105840"/>
          </a:xfrm>
          <a:custGeom>
            <a:avLst/>
            <a:gdLst>
              <a:gd name="textAreaLeft" fmla="*/ 0 w 80280"/>
              <a:gd name="textAreaRight" fmla="*/ 80640 w 802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80709" h="106171">
                <a:moveTo>
                  <a:pt x="61607" y="43916"/>
                </a:moveTo>
                <a:lnTo>
                  <a:pt x="19100" y="43916"/>
                </a:lnTo>
                <a:lnTo>
                  <a:pt x="19100" y="0"/>
                </a:lnTo>
                <a:lnTo>
                  <a:pt x="0" y="0"/>
                </a:lnTo>
                <a:lnTo>
                  <a:pt x="0" y="106171"/>
                </a:lnTo>
                <a:lnTo>
                  <a:pt x="19100" y="106171"/>
                </a:lnTo>
                <a:lnTo>
                  <a:pt x="19100" y="62052"/>
                </a:lnTo>
                <a:lnTo>
                  <a:pt x="61607" y="62052"/>
                </a:lnTo>
                <a:lnTo>
                  <a:pt x="61607" y="106171"/>
                </a:lnTo>
                <a:lnTo>
                  <a:pt x="80708" y="106171"/>
                </a:lnTo>
                <a:lnTo>
                  <a:pt x="80708" y="0"/>
                </a:lnTo>
                <a:lnTo>
                  <a:pt x="61607" y="0"/>
                </a:lnTo>
                <a:lnTo>
                  <a:pt x="61607" y="4391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11807280" y="9219960"/>
            <a:ext cx="130680" cy="105840"/>
          </a:xfrm>
          <a:custGeom>
            <a:avLst/>
            <a:gdLst>
              <a:gd name="textAreaLeft" fmla="*/ 0 w 130680"/>
              <a:gd name="textAreaRight" fmla="*/ 131040 w 13068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131050" h="106209">
                <a:moveTo>
                  <a:pt x="95236" y="85483"/>
                </a:moveTo>
                <a:lnTo>
                  <a:pt x="78523" y="0"/>
                </a:lnTo>
                <a:lnTo>
                  <a:pt x="53022" y="0"/>
                </a:lnTo>
                <a:lnTo>
                  <a:pt x="36017" y="85483"/>
                </a:lnTo>
                <a:lnTo>
                  <a:pt x="19265" y="0"/>
                </a:lnTo>
                <a:lnTo>
                  <a:pt x="0" y="0"/>
                </a:lnTo>
                <a:lnTo>
                  <a:pt x="23241" y="106209"/>
                </a:lnTo>
                <a:lnTo>
                  <a:pt x="48285" y="106209"/>
                </a:lnTo>
                <a:lnTo>
                  <a:pt x="65290" y="22300"/>
                </a:lnTo>
                <a:lnTo>
                  <a:pt x="82486" y="106209"/>
                </a:lnTo>
                <a:lnTo>
                  <a:pt x="107467" y="106209"/>
                </a:lnTo>
                <a:lnTo>
                  <a:pt x="131050" y="0"/>
                </a:lnTo>
                <a:lnTo>
                  <a:pt x="112267" y="0"/>
                </a:lnTo>
                <a:lnTo>
                  <a:pt x="95236" y="8548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12079440" y="923796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900">
                <a:moveTo>
                  <a:pt x="44894" y="965"/>
                </a:moveTo>
                <a:cubicBezTo>
                  <a:pt x="44271" y="317"/>
                  <a:pt x="43636" y="0"/>
                  <a:pt x="42633" y="0"/>
                </a:cubicBezTo>
                <a:lnTo>
                  <a:pt x="9397" y="0"/>
                </a:lnTo>
                <a:cubicBezTo>
                  <a:pt x="8432" y="0"/>
                  <a:pt x="7784" y="317"/>
                  <a:pt x="7137" y="965"/>
                </a:cubicBezTo>
                <a:lnTo>
                  <a:pt x="977" y="7162"/>
                </a:lnTo>
                <a:cubicBezTo>
                  <a:pt x="330" y="7810"/>
                  <a:pt x="0" y="8610"/>
                  <a:pt x="0" y="9385"/>
                </a:cubicBezTo>
                <a:lnTo>
                  <a:pt x="0" y="60502"/>
                </a:lnTo>
                <a:cubicBezTo>
                  <a:pt x="0" y="61315"/>
                  <a:pt x="330" y="62115"/>
                  <a:pt x="977" y="62763"/>
                </a:cubicBezTo>
                <a:lnTo>
                  <a:pt x="7137" y="68960"/>
                </a:lnTo>
                <a:cubicBezTo>
                  <a:pt x="7784" y="69570"/>
                  <a:pt x="8432" y="69900"/>
                  <a:pt x="9397" y="69900"/>
                </a:cubicBezTo>
                <a:lnTo>
                  <a:pt x="42633" y="69900"/>
                </a:lnTo>
                <a:cubicBezTo>
                  <a:pt x="43636" y="69900"/>
                  <a:pt x="44271" y="69570"/>
                  <a:pt x="44894" y="68960"/>
                </a:cubicBezTo>
                <a:lnTo>
                  <a:pt x="51092" y="62763"/>
                </a:lnTo>
                <a:cubicBezTo>
                  <a:pt x="51739" y="62115"/>
                  <a:pt x="52019" y="61315"/>
                  <a:pt x="52019" y="60502"/>
                </a:cubicBezTo>
                <a:lnTo>
                  <a:pt x="52019" y="9385"/>
                </a:lnTo>
                <a:cubicBezTo>
                  <a:pt x="52019" y="8610"/>
                  <a:pt x="51739" y="7810"/>
                  <a:pt x="51092" y="7162"/>
                </a:cubicBezTo>
                <a:lnTo>
                  <a:pt x="44894" y="965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12455640" y="9305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396" h="20396">
                <a:moveTo>
                  <a:pt x="0" y="0"/>
                </a:moveTo>
                <a:lnTo>
                  <a:pt x="20395" y="0"/>
                </a:lnTo>
                <a:lnTo>
                  <a:pt x="20395" y="20396"/>
                </a:lnTo>
                <a:lnTo>
                  <a:pt x="0" y="2039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12259800" y="9237960"/>
            <a:ext cx="42120" cy="69480"/>
          </a:xfrm>
          <a:custGeom>
            <a:avLst/>
            <a:gdLst>
              <a:gd name="textAreaLeft" fmla="*/ 0 w 42120"/>
              <a:gd name="textAreaRight" fmla="*/ 42480 w 4212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42557" h="69901">
                <a:moveTo>
                  <a:pt x="35394" y="939"/>
                </a:moveTo>
                <a:cubicBezTo>
                  <a:pt x="34721" y="317"/>
                  <a:pt x="34099" y="0"/>
                  <a:pt x="33133" y="0"/>
                </a:cubicBezTo>
                <a:lnTo>
                  <a:pt x="0" y="0"/>
                </a:lnTo>
                <a:lnTo>
                  <a:pt x="0" y="69900"/>
                </a:lnTo>
                <a:lnTo>
                  <a:pt x="33133" y="69900"/>
                </a:lnTo>
                <a:cubicBezTo>
                  <a:pt x="34099" y="69900"/>
                  <a:pt x="34721" y="69608"/>
                  <a:pt x="35394" y="68960"/>
                </a:cubicBezTo>
                <a:lnTo>
                  <a:pt x="41592" y="62699"/>
                </a:lnTo>
                <a:cubicBezTo>
                  <a:pt x="42202" y="62115"/>
                  <a:pt x="42557" y="61315"/>
                  <a:pt x="42557" y="60502"/>
                </a:cubicBezTo>
                <a:lnTo>
                  <a:pt x="42557" y="9384"/>
                </a:lnTo>
                <a:cubicBezTo>
                  <a:pt x="42557" y="8584"/>
                  <a:pt x="42202" y="7772"/>
                  <a:pt x="41592" y="7162"/>
                </a:cubicBezTo>
                <a:lnTo>
                  <a:pt x="353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12363480" y="9237960"/>
            <a:ext cx="51840" cy="69480"/>
          </a:xfrm>
          <a:custGeom>
            <a:avLst/>
            <a:gdLst>
              <a:gd name="textAreaLeft" fmla="*/ 0 w 51840"/>
              <a:gd name="textAreaRight" fmla="*/ 52200 w 5184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82" h="69900">
                <a:moveTo>
                  <a:pt x="44894" y="939"/>
                </a:moveTo>
                <a:cubicBezTo>
                  <a:pt x="44271" y="317"/>
                  <a:pt x="43636" y="0"/>
                  <a:pt x="42658" y="0"/>
                </a:cubicBezTo>
                <a:lnTo>
                  <a:pt x="9397" y="0"/>
                </a:lnTo>
                <a:cubicBezTo>
                  <a:pt x="8419" y="0"/>
                  <a:pt x="7810" y="317"/>
                  <a:pt x="7200" y="939"/>
                </a:cubicBezTo>
                <a:lnTo>
                  <a:pt x="939" y="7162"/>
                </a:lnTo>
                <a:cubicBezTo>
                  <a:pt x="317" y="7772"/>
                  <a:pt x="0" y="8584"/>
                  <a:pt x="0" y="9384"/>
                </a:cubicBezTo>
                <a:lnTo>
                  <a:pt x="0" y="60502"/>
                </a:lnTo>
                <a:cubicBezTo>
                  <a:pt x="0" y="61315"/>
                  <a:pt x="317" y="62115"/>
                  <a:pt x="939" y="62699"/>
                </a:cubicBezTo>
                <a:lnTo>
                  <a:pt x="7200" y="68960"/>
                </a:lnTo>
                <a:cubicBezTo>
                  <a:pt x="7810" y="69608"/>
                  <a:pt x="8419" y="69900"/>
                  <a:pt x="9397" y="69900"/>
                </a:cubicBezTo>
                <a:lnTo>
                  <a:pt x="42658" y="69900"/>
                </a:lnTo>
                <a:cubicBezTo>
                  <a:pt x="43636" y="69900"/>
                  <a:pt x="44271" y="69608"/>
                  <a:pt x="44894" y="68960"/>
                </a:cubicBezTo>
                <a:lnTo>
                  <a:pt x="51142" y="62699"/>
                </a:lnTo>
                <a:cubicBezTo>
                  <a:pt x="51765" y="62115"/>
                  <a:pt x="52082" y="61315"/>
                  <a:pt x="52082" y="60502"/>
                </a:cubicBezTo>
                <a:lnTo>
                  <a:pt x="52082" y="9384"/>
                </a:lnTo>
                <a:cubicBezTo>
                  <a:pt x="52082" y="8584"/>
                  <a:pt x="51765" y="7772"/>
                  <a:pt x="51142" y="7162"/>
                </a:cubicBezTo>
                <a:lnTo>
                  <a:pt x="44894" y="939"/>
                </a:lnTo>
              </a:path>
            </a:pathLst>
          </a:custGeom>
          <a:solidFill>
            <a:srgbClr val="96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2178080" y="8864280"/>
            <a:ext cx="70920" cy="105840"/>
          </a:xfrm>
          <a:custGeom>
            <a:avLst/>
            <a:gdLst>
              <a:gd name="textAreaLeft" fmla="*/ 0 w 70920"/>
              <a:gd name="textAreaRight" fmla="*/ 71280 w 709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71119" h="106146">
                <a:moveTo>
                  <a:pt x="71119" y="18135"/>
                </a:moveTo>
                <a:lnTo>
                  <a:pt x="71119" y="0"/>
                </a:lnTo>
                <a:lnTo>
                  <a:pt x="0" y="0"/>
                </a:lnTo>
                <a:lnTo>
                  <a:pt x="0" y="106146"/>
                </a:lnTo>
                <a:lnTo>
                  <a:pt x="19062" y="106146"/>
                </a:lnTo>
                <a:lnTo>
                  <a:pt x="19062" y="62077"/>
                </a:lnTo>
                <a:lnTo>
                  <a:pt x="71119" y="62077"/>
                </a:lnTo>
                <a:lnTo>
                  <a:pt x="71119" y="43916"/>
                </a:lnTo>
                <a:lnTo>
                  <a:pt x="19062" y="43916"/>
                </a:lnTo>
                <a:lnTo>
                  <a:pt x="19062" y="18135"/>
                </a:lnTo>
                <a:lnTo>
                  <a:pt x="71119" y="1813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12397680" y="8882640"/>
            <a:ext cx="42120" cy="27720"/>
          </a:xfrm>
          <a:custGeom>
            <a:avLst/>
            <a:gdLst>
              <a:gd name="textAreaLeft" fmla="*/ 0 w 42120"/>
              <a:gd name="textAreaRight" fmla="*/ 42480 w 421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42519" h="28028">
                <a:moveTo>
                  <a:pt x="41541" y="23558"/>
                </a:moveTo>
                <a:cubicBezTo>
                  <a:pt x="42151" y="22923"/>
                  <a:pt x="42519" y="22313"/>
                  <a:pt x="42519" y="21310"/>
                </a:cubicBezTo>
                <a:lnTo>
                  <a:pt x="42519" y="6692"/>
                </a:lnTo>
                <a:cubicBezTo>
                  <a:pt x="42519" y="5777"/>
                  <a:pt x="42151" y="5117"/>
                  <a:pt x="41541" y="4470"/>
                </a:cubicBezTo>
                <a:lnTo>
                  <a:pt x="38024" y="990"/>
                </a:lnTo>
                <a:cubicBezTo>
                  <a:pt x="37414" y="304"/>
                  <a:pt x="36766" y="0"/>
                  <a:pt x="35801" y="0"/>
                </a:cubicBezTo>
                <a:lnTo>
                  <a:pt x="0" y="0"/>
                </a:lnTo>
                <a:lnTo>
                  <a:pt x="0" y="28028"/>
                </a:lnTo>
                <a:lnTo>
                  <a:pt x="35801" y="28028"/>
                </a:lnTo>
                <a:cubicBezTo>
                  <a:pt x="36766" y="28028"/>
                  <a:pt x="37414" y="27685"/>
                  <a:pt x="38024" y="27063"/>
                </a:cubicBezTo>
                <a:lnTo>
                  <a:pt x="41541" y="23558"/>
                </a:ln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12286440" y="8882640"/>
            <a:ext cx="51480" cy="69480"/>
          </a:xfrm>
          <a:custGeom>
            <a:avLst/>
            <a:gdLst>
              <a:gd name="textAreaLeft" fmla="*/ 0 w 51480"/>
              <a:gd name="textAreaRight" fmla="*/ 51840 w 5148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52019" h="69850">
                <a:moveTo>
                  <a:pt x="51079" y="7175"/>
                </a:moveTo>
                <a:lnTo>
                  <a:pt x="44843" y="952"/>
                </a:lnTo>
                <a:cubicBezTo>
                  <a:pt x="44234" y="304"/>
                  <a:pt x="43599" y="0"/>
                  <a:pt x="42621" y="0"/>
                </a:cubicBezTo>
                <a:lnTo>
                  <a:pt x="9347" y="0"/>
                </a:lnTo>
                <a:cubicBezTo>
                  <a:pt x="8382" y="0"/>
                  <a:pt x="7746" y="304"/>
                  <a:pt x="7125" y="952"/>
                </a:cubicBezTo>
                <a:lnTo>
                  <a:pt x="927" y="7175"/>
                </a:lnTo>
                <a:cubicBezTo>
                  <a:pt x="572" y="7492"/>
                  <a:pt x="343" y="7810"/>
                  <a:pt x="216" y="8178"/>
                </a:cubicBezTo>
                <a:cubicBezTo>
                  <a:pt x="25" y="8534"/>
                  <a:pt x="0" y="8952"/>
                  <a:pt x="0" y="9334"/>
                </a:cubicBezTo>
                <a:lnTo>
                  <a:pt x="0" y="60452"/>
                </a:lnTo>
                <a:cubicBezTo>
                  <a:pt x="0" y="61238"/>
                  <a:pt x="254" y="62064"/>
                  <a:pt x="965" y="62648"/>
                </a:cubicBezTo>
                <a:lnTo>
                  <a:pt x="7125" y="68909"/>
                </a:lnTo>
                <a:cubicBezTo>
                  <a:pt x="7772" y="69506"/>
                  <a:pt x="8420" y="69850"/>
                  <a:pt x="9347" y="69850"/>
                </a:cubicBezTo>
                <a:lnTo>
                  <a:pt x="42659" y="69850"/>
                </a:lnTo>
                <a:cubicBezTo>
                  <a:pt x="43624" y="69850"/>
                  <a:pt x="44234" y="69506"/>
                  <a:pt x="44843" y="68909"/>
                </a:cubicBezTo>
                <a:lnTo>
                  <a:pt x="51079" y="62648"/>
                </a:lnTo>
                <a:cubicBezTo>
                  <a:pt x="51727" y="62064"/>
                  <a:pt x="52019" y="61238"/>
                  <a:pt x="52019" y="60490"/>
                </a:cubicBezTo>
                <a:lnTo>
                  <a:pt x="52019" y="9397"/>
                </a:lnTo>
                <a:cubicBezTo>
                  <a:pt x="52019" y="8597"/>
                  <a:pt x="51727" y="7772"/>
                  <a:pt x="51079" y="7175"/>
                </a:cubicBezTo>
              </a:path>
            </a:pathLst>
          </a:custGeom>
          <a:solidFill>
            <a:srgbClr val="ec252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10807560" y="8801280"/>
            <a:ext cx="266400" cy="190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11302920" y="8801280"/>
            <a:ext cx="279000" cy="190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3"/>
          <a:stretch/>
        </p:blipFill>
        <p:spPr>
          <a:xfrm>
            <a:off x="11684160" y="8801280"/>
            <a:ext cx="825120" cy="558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3383280" y="3797280"/>
            <a:ext cx="628920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000"/>
              </a:lnSpc>
              <a:tabLst>
                <a:tab algn="l" pos="20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6800" spc="-1" strike="noStrike">
                <a:solidFill>
                  <a:srgbClr val="000000"/>
                </a:solidFill>
                <a:latin typeface="Microsoft YaHei UI"/>
              </a:rPr>
              <a:t>Are</a:t>
            </a: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800" spc="-1" strike="noStrike">
                <a:solidFill>
                  <a:srgbClr val="000000"/>
                </a:solidFill>
                <a:latin typeface="Microsoft YaHei UI"/>
              </a:rPr>
              <a:t>you</a:t>
            </a: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800" spc="-1" strike="noStrike">
                <a:solidFill>
                  <a:srgbClr val="000000"/>
                </a:solidFill>
                <a:latin typeface="Microsoft YaHei UI"/>
              </a:rPr>
              <a:t>ready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20304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Microsoft YaHei UI"/>
              </a:rPr>
              <a:t>for</a:t>
            </a: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800" spc="-1" strike="noStrike">
                <a:solidFill>
                  <a:srgbClr val="000000"/>
                </a:solidFill>
                <a:latin typeface="Microsoft YaHei UI"/>
              </a:rPr>
              <a:t>the</a:t>
            </a: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800" spc="-1" strike="noStrike">
                <a:solidFill>
                  <a:srgbClr val="000000"/>
                </a:solidFill>
                <a:latin typeface="Microsoft YaHei UI"/>
              </a:rPr>
              <a:t>future?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6">
            <a:hlinkClick r:id="rId5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5777280" y="914400"/>
            <a:ext cx="691092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599"/>
              </a:lnSpc>
            </a:pP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None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of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these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devic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existed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20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years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ago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307080" y="469800"/>
            <a:ext cx="9723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101"/>
              </a:lnSpc>
            </a:pP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What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will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you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see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around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299"/>
              </a:lnSpc>
            </a:pP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you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in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10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years’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time?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529000" y="5994360"/>
            <a:ext cx="104997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699"/>
              </a:lnSpc>
            </a:pPr>
            <a:r>
              <a:rPr b="0" lang="en-US" sz="6700" spc="-1" strike="noStrike">
                <a:solidFill>
                  <a:srgbClr val="ffffff"/>
                </a:solidFill>
                <a:latin typeface="Microsoft YaHei UI"/>
              </a:rPr>
              <a:t>What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700" spc="-1" strike="noStrike">
                <a:solidFill>
                  <a:srgbClr val="ffffff"/>
                </a:solidFill>
                <a:latin typeface="Microsoft YaHei UI"/>
              </a:rPr>
              <a:t>will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700" spc="-1" strike="noStrike">
                <a:solidFill>
                  <a:srgbClr val="ffffff"/>
                </a:solidFill>
                <a:latin typeface="Microsoft YaHei UI"/>
              </a:rPr>
              <a:t>your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700" spc="-1" strike="noStrike">
                <a:solidFill>
                  <a:srgbClr val="ffffff"/>
                </a:solidFill>
                <a:latin typeface="Microsoft YaHei UI"/>
              </a:rPr>
              <a:t>day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700" spc="-1" strike="noStrike">
                <a:solidFill>
                  <a:srgbClr val="ffffff"/>
                </a:solidFill>
                <a:latin typeface="Microsoft YaHei UI"/>
              </a:rPr>
              <a:t>be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700" spc="-1" strike="noStrike">
                <a:solidFill>
                  <a:srgbClr val="ffffff"/>
                </a:solidFill>
                <a:latin typeface="Microsoft YaHei UI"/>
              </a:rPr>
              <a:t>like?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6000" y="90147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38600" y="419040"/>
            <a:ext cx="905724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101"/>
              </a:lnSpc>
            </a:pP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The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morning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100" spc="-1" strike="noStrike">
                <a:solidFill>
                  <a:srgbClr val="000000"/>
                </a:solidFill>
                <a:latin typeface="Microsoft YaHei UI"/>
              </a:rPr>
              <a:t>commute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40840" y="266760"/>
            <a:ext cx="92718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599"/>
              </a:lnSpc>
            </a:pP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Where’s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your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steering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wheel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You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don’t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have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Microsoft YaHei UI"/>
              </a:rPr>
              <a:t>on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-937800" y="2666880"/>
            <a:ext cx="139914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9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Microsoft YaHei UI"/>
              </a:rPr>
              <a:t>Guided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Microsoft YaHei UI"/>
              </a:rPr>
              <a:t>by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Microsoft YaHei UI"/>
              </a:rPr>
              <a:t>sensors,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Microsoft YaHei UI"/>
              </a:rPr>
              <a:t>you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Microsoft YaHei UI"/>
              </a:rPr>
              <a:t>ca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Microsoft YaHei UI"/>
              </a:rPr>
              <a:t>driv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Microsoft YaHei UI"/>
              </a:rPr>
              <a:t>you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245384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3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216440" y="3200400"/>
            <a:ext cx="1001304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800"/>
              </a:lnSpc>
            </a:pP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The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Internet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of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Things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will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be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a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401"/>
              </a:lnSpc>
            </a:pP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US$19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trillion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market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in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th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401"/>
              </a:lnSpc>
            </a:pP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next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a1b3b5"/>
                </a:solidFill>
                <a:latin typeface="Microsoft YaHei UI"/>
              </a:rPr>
              <a:t>decade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462960" y="8953560"/>
            <a:ext cx="3404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Sourc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Cisc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Microsoft YaHei UI"/>
              </a:rPr>
              <a:t>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1242828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2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8429040" y="3441600"/>
            <a:ext cx="38811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700"/>
              </a:lnSpc>
            </a:pPr>
            <a:r>
              <a:rPr b="1" lang="en-US" sz="6550" spc="-1" strike="noStrike">
                <a:solidFill>
                  <a:srgbClr val="000000"/>
                </a:solidFill>
                <a:latin typeface="Microsoft YaHei UI"/>
              </a:rPr>
              <a:t>Lost</a:t>
            </a:r>
            <a:r>
              <a:rPr b="0" lang="en-US" sz="65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550" spc="-1" strike="noStrike">
                <a:solidFill>
                  <a:srgbClr val="000000"/>
                </a:solidFill>
                <a:latin typeface="Microsoft YaHei UI"/>
              </a:rPr>
              <a:t>your</a:t>
            </a:r>
            <a:endParaRPr b="0" lang="en-US" sz="6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801"/>
              </a:lnSpc>
            </a:pPr>
            <a:r>
              <a:rPr b="1" lang="en-US" sz="6550" spc="-1" strike="noStrike">
                <a:solidFill>
                  <a:srgbClr val="000000"/>
                </a:solidFill>
                <a:latin typeface="Microsoft YaHei UI"/>
              </a:rPr>
              <a:t>keys?</a:t>
            </a:r>
            <a:endParaRPr b="0" lang="en-US" sz="6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80600" cy="9829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12453840" y="9131400"/>
            <a:ext cx="604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"/>
              </a:lnSpc>
            </a:pPr>
            <a:r>
              <a:rPr b="0" lang="en-US" sz="33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TM</a:t>
            </a:r>
            <a:endParaRPr b="0" lang="en-US" sz="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81440" y="419040"/>
            <a:ext cx="6990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7299"/>
              </a:lnSpc>
            </a:pP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That’s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okay,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you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can</a:t>
            </a:r>
            <a:endParaRPr b="0" lang="en-US" sz="54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</a:pP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3D-print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a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new</a:t>
            </a:r>
            <a:r>
              <a:rPr b="0" lang="en-US" sz="54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90" spc="-1" strike="noStrike">
                <a:solidFill>
                  <a:srgbClr val="000000"/>
                </a:solidFill>
                <a:latin typeface="Microsoft YaHei UI"/>
              </a:rPr>
              <a:t>set.</a:t>
            </a:r>
            <a:endParaRPr b="0" lang="en-US" sz="54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">
            <a:hlinkClick r:id="rId3"/>
          </p:cNvPr>
          <p:cNvSpPr/>
          <p:nvPr/>
        </p:nvSpPr>
        <p:spPr>
          <a:xfrm>
            <a:off x="360" y="9360"/>
            <a:ext cx="13080240" cy="9810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57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345</Words>
  <Paragraphs>1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王玉清</cp:lastModifiedBy>
  <dcterms:modified xsi:type="dcterms:W3CDTF">2016-03-06T04:31:45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24</vt:r8>
  </property>
</Properties>
</file>