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E804-EA8F-4B9E-91E5-6E5C17F36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96012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96012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9859-F667-4262-9FCE-336139B1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15040" y="182844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15040" y="409716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7861-1871-4627-B924-E876835E0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09132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41400" y="1828440"/>
            <a:ext cx="309132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787880" y="1828440"/>
            <a:ext cx="309132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309132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541400" y="4097160"/>
            <a:ext cx="309132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787880" y="4097160"/>
            <a:ext cx="309132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B865-931B-4096-A6DD-42F1A6EF3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9601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9601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468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15040" y="1828440"/>
            <a:ext cx="468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95280" y="255600"/>
            <a:ext cx="96012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15040" y="1828440"/>
            <a:ext cx="468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9601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33B6-B8DE-4CC7-87A9-CD9EAD3C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468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15040" y="182844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15040" y="409716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15040" y="182844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96012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96012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96012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15040" y="182844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15040" y="409716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09132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41400" y="1828440"/>
            <a:ext cx="309132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787880" y="1828440"/>
            <a:ext cx="309132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309132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541400" y="4097160"/>
            <a:ext cx="309132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787880" y="4097160"/>
            <a:ext cx="309132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9601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9601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468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15040" y="1828440"/>
            <a:ext cx="468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9601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7427-EB0A-49CF-8FA7-454380E5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295280" y="255600"/>
            <a:ext cx="96012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15040" y="1828440"/>
            <a:ext cx="468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468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15040" y="182844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215040" y="409716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15040" y="182844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96012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96012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96012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15040" y="182844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15040" y="409716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09132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41400" y="1828440"/>
            <a:ext cx="309132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787880" y="1828440"/>
            <a:ext cx="309132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309132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541400" y="4097160"/>
            <a:ext cx="309132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7787880" y="4097160"/>
            <a:ext cx="309132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9601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9601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468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15040" y="1828440"/>
            <a:ext cx="468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8251-D12C-4A0C-962A-D30C6F21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468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15040" y="1828440"/>
            <a:ext cx="468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295280" y="255600"/>
            <a:ext cx="96012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15040" y="1828440"/>
            <a:ext cx="468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468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15040" y="182844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15040" y="409716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15040" y="182844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96012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96012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96012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15040" y="182844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15040" y="409716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09132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41400" y="1828440"/>
            <a:ext cx="309132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7787880" y="1828440"/>
            <a:ext cx="309132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309132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4541400" y="4097160"/>
            <a:ext cx="309132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7787880" y="4097160"/>
            <a:ext cx="309132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BAF1-1573-44EE-964F-F5EC4868D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BBAF-B677-4E07-A43F-87110F58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9601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07EA-EF65-44EB-B55D-7F86A12C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9601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F6F9-795A-4F25-B003-2CCC8B26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468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215040" y="1828440"/>
            <a:ext cx="468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2F86-1594-42E4-BC7E-66E51B56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4F33-7F30-4833-B358-741EAB5E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1295280" y="255600"/>
            <a:ext cx="96012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E6B87-2EAB-42B2-9F4D-119B5BFB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15040" y="1828440"/>
            <a:ext cx="468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0FFD-3780-454C-B110-6DF9D2C8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468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15040" y="182844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15040" y="409716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4100-0A01-4F2D-A1EA-6506F55F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15040" y="182844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96012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186E-F4FF-4F5E-AB39-19CEEF63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96012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96012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4ADD2-64F6-4FD2-94DD-9EDC6CC6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215040" y="182844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215040" y="409716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C77F-8455-4B27-9EA1-97BD02C77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5280" y="255600"/>
            <a:ext cx="96012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8966-3137-47D8-9216-9CE17783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09132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41400" y="1828440"/>
            <a:ext cx="309132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787880" y="1828440"/>
            <a:ext cx="309132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309132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4541400" y="4097160"/>
            <a:ext cx="309132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7787880" y="4097160"/>
            <a:ext cx="309132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E616-B87C-475C-A837-E1B8C298D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4D210-C65E-484B-831C-55FB7E862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9601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D652F-5117-4EE8-891B-4EA9566E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9601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F9240-1442-4A93-95CB-8911AD5C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468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15040" y="1828440"/>
            <a:ext cx="468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E4362-14A6-4C08-98CA-B698EE7B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CF295-179B-46B2-AAED-2415CBF8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295280" y="255600"/>
            <a:ext cx="96012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C930B-8349-43FD-97FF-4B1B18D1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15040" y="1828440"/>
            <a:ext cx="468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1818A-E9B0-4F3A-9597-9AAF8AC4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468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15040" y="182844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15040" y="409716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29862-6706-4706-BDF6-EF00D66A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15040" y="182844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96012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D51E7-F2D3-4B5A-B4DB-67373CEC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15040" y="1828440"/>
            <a:ext cx="468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9BD5-2647-4BFE-9667-D9E51026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96012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96012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419D4-ACBB-4463-86E3-4EFF5788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15040" y="182844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215040" y="409716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92036-7D3F-437B-924D-F06858930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09132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41400" y="1828440"/>
            <a:ext cx="309132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787880" y="1828440"/>
            <a:ext cx="309132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309132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541400" y="4097160"/>
            <a:ext cx="309132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7787880" y="4097160"/>
            <a:ext cx="309132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B21A4-9307-4CE3-87CE-0965C9D1A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BC092-95F6-4A87-AC9C-649F99270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9601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D0D4C-4BFC-4F4F-85FE-B17D9136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9601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D2A1E-0D15-4FD5-B030-1102AF25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468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215040" y="1828440"/>
            <a:ext cx="468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A5E6B-6C26-46A0-ABD3-8C61388A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3A8CA-459B-44E1-AD70-6A58123D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295280" y="255600"/>
            <a:ext cx="96012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753AB-6005-43CF-8A19-243C5F15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15040" y="1828440"/>
            <a:ext cx="468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6F7D1-0F7D-45D9-AF22-40384D5F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468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15040" y="182844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15040" y="409716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82CB-53D7-4A83-BCAF-CA2E7182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468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15040" y="182844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215040" y="409716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ACECE-18E7-4877-99D1-D3F5F242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215040" y="182844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96012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12889-5EEF-4E6E-A672-6E4758AA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96012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96012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53610-8182-424F-AE79-BAE34D1A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215040" y="182844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215040" y="409716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D6F0E-B96A-455A-B5B1-D292AE971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09132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41400" y="1828440"/>
            <a:ext cx="309132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7787880" y="1828440"/>
            <a:ext cx="309132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309132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541400" y="4097160"/>
            <a:ext cx="309132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7787880" y="4097160"/>
            <a:ext cx="309132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197DD-BE8E-499B-9014-178DCE666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15040" y="182844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96012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2804-CAC5-4066-8D3B-144CBB09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12192120" cy="13716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1371600"/>
            <a:ext cx="12192120" cy="82440"/>
          </a:xfrm>
          <a:prstGeom prst="rect">
            <a:avLst/>
          </a:prstGeom>
          <a:solidFill>
            <a:srgbClr val="ef7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0" y="1442880"/>
            <a:ext cx="12192120" cy="82800"/>
          </a:xfrm>
          <a:prstGeom prst="rect">
            <a:avLst/>
          </a:prstGeom>
          <a:solidFill>
            <a:srgbClr val="1eb8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9601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lvl="1" marL="320760" indent="59364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lvl="2" marL="593640" indent="32076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lvl="3" marL="868320" indent="4608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lvl="4" marL="1096920" indent="-18252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lvl="5" marL="1096920" indent="-18252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lvl="6" marL="1096920" indent="-18252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791480" y="6374880"/>
            <a:ext cx="14810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913B-9B5F-434D-814B-017463779329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295280" y="6374880"/>
            <a:ext cx="6243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9524880" y="6374880"/>
            <a:ext cx="1371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F395-675E-4473-89E8-B099A997B4A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11"/>
          <p:cNvSpPr/>
          <p:nvPr/>
        </p:nvSpPr>
        <p:spPr>
          <a:xfrm>
            <a:off x="8429760" y="0"/>
            <a:ext cx="3762360" cy="6858000"/>
          </a:xfrm>
          <a:custGeom>
            <a:avLst/>
            <a:gdLst/>
            <a:ahLst/>
            <a:rect l="l" t="t" r="r" b="b"/>
            <a:pathLst>
              <a:path w="3762978" h="6858000">
                <a:moveTo>
                  <a:pt x="0" y="0"/>
                </a:moveTo>
                <a:lnTo>
                  <a:pt x="3762978" y="0"/>
                </a:lnTo>
                <a:lnTo>
                  <a:pt x="3762978" y="6858000"/>
                </a:lnTo>
                <a:lnTo>
                  <a:pt x="338667" y="6858000"/>
                </a:lnTo>
                <a:lnTo>
                  <a:pt x="1189567" y="433705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45" name="Freeform 6"/>
          <p:cNvSpPr/>
          <p:nvPr/>
        </p:nvSpPr>
        <p:spPr>
          <a:xfrm>
            <a:off x="8145360" y="0"/>
            <a:ext cx="1671840" cy="6858000"/>
          </a:xfrm>
          <a:custGeom>
            <a:avLst/>
            <a:gdLst/>
            <a:ahLst/>
            <a:rect l="l" t="t" r="r" b="b"/>
            <a:pathLst>
              <a:path w="1254127" h="6858000">
                <a:moveTo>
                  <a:pt x="0" y="0"/>
                </a:moveTo>
                <a:lnTo>
                  <a:pt x="365127" y="0"/>
                </a:lnTo>
                <a:lnTo>
                  <a:pt x="1254127" y="4337050"/>
                </a:lnTo>
                <a:lnTo>
                  <a:pt x="619127" y="6858000"/>
                </a:lnTo>
                <a:lnTo>
                  <a:pt x="257175" y="6858000"/>
                </a:lnTo>
                <a:lnTo>
                  <a:pt x="892175" y="4337050"/>
                </a:lnTo>
                <a:close/>
              </a:path>
            </a:pathLst>
          </a:custGeom>
          <a:solidFill>
            <a:srgbClr val="ef7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Book Antiqua"/>
            </a:endParaRPr>
          </a:p>
        </p:txBody>
      </p:sp>
      <p:pic>
        <p:nvPicPr>
          <p:cNvPr id="46" name="Freeform 7" descr=""/>
          <p:cNvPicPr/>
          <p:nvPr/>
        </p:nvPicPr>
        <p:blipFill>
          <a:blip r:embed="rId2"/>
          <a:stretch/>
        </p:blipFill>
        <p:spPr>
          <a:xfrm>
            <a:off x="7950240" y="0"/>
            <a:ext cx="152856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9601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lvl="1" marL="320760" indent="59364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lvl="2" marL="593640" indent="32076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lvl="3" marL="868320" indent="4608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lvl="4" marL="1096920" indent="-18252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lvl="5" marL="1096920" indent="-18252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lvl="6" marL="1096920" indent="-18252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6540480" y="0"/>
            <a:ext cx="5651640" cy="6858000"/>
          </a:xfrm>
          <a:custGeom>
            <a:avLst/>
            <a:gdLst/>
            <a:ahLst/>
            <a:rect l="l" t="t" r="r" b="b"/>
            <a:pathLst>
              <a:path w="4238622" h="6858000">
                <a:moveTo>
                  <a:pt x="0" y="0"/>
                </a:moveTo>
                <a:lnTo>
                  <a:pt x="4086222" y="0"/>
                </a:lnTo>
                <a:lnTo>
                  <a:pt x="4237035" y="0"/>
                </a:lnTo>
                <a:lnTo>
                  <a:pt x="4238622" y="0"/>
                </a:lnTo>
                <a:lnTo>
                  <a:pt x="4238622" y="6858000"/>
                </a:lnTo>
                <a:lnTo>
                  <a:pt x="4237035" y="6858000"/>
                </a:lnTo>
                <a:lnTo>
                  <a:pt x="4086222" y="6858000"/>
                </a:lnTo>
                <a:lnTo>
                  <a:pt x="254000" y="6858000"/>
                </a:lnTo>
                <a:lnTo>
                  <a:pt x="892175" y="433705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Book Antiqua"/>
            </a:endParaRPr>
          </a:p>
        </p:txBody>
      </p:sp>
      <p:pic>
        <p:nvPicPr>
          <p:cNvPr id="86" name="Freeform 6" descr=""/>
          <p:cNvPicPr/>
          <p:nvPr/>
        </p:nvPicPr>
        <p:blipFill>
          <a:blip r:embed="rId2"/>
          <a:stretch/>
        </p:blipFill>
        <p:spPr>
          <a:xfrm>
            <a:off x="6256440" y="0"/>
            <a:ext cx="167148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Freeform 7" descr=""/>
          <p:cNvPicPr/>
          <p:nvPr/>
        </p:nvPicPr>
        <p:blipFill>
          <a:blip r:embed="rId3"/>
          <a:stretch/>
        </p:blipFill>
        <p:spPr>
          <a:xfrm>
            <a:off x="6060960" y="0"/>
            <a:ext cx="152892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9601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lvl="1" marL="320760" indent="59364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lvl="2" marL="593640" indent="32076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lvl="3" marL="868320" indent="4608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lvl="4" marL="1096920" indent="-18252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lvl="5" marL="1096920" indent="-18252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lvl="6" marL="1096920" indent="-18252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9621720" y="0"/>
            <a:ext cx="2570400" cy="6858000"/>
          </a:xfrm>
          <a:custGeom>
            <a:avLst/>
            <a:gdLst/>
            <a:ahLst/>
            <a:rect l="l" t="t" r="r" b="b"/>
            <a:pathLst>
              <a:path w="1927224" h="6858000">
                <a:moveTo>
                  <a:pt x="0" y="0"/>
                </a:moveTo>
                <a:lnTo>
                  <a:pt x="1927224" y="0"/>
                </a:lnTo>
                <a:lnTo>
                  <a:pt x="1927224" y="6858000"/>
                </a:lnTo>
                <a:lnTo>
                  <a:pt x="254000" y="6858000"/>
                </a:lnTo>
                <a:lnTo>
                  <a:pt x="892175" y="433705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27" name="Freeform 6"/>
          <p:cNvSpPr/>
          <p:nvPr/>
        </p:nvSpPr>
        <p:spPr>
          <a:xfrm>
            <a:off x="9237600" y="0"/>
            <a:ext cx="1671840" cy="6858000"/>
          </a:xfrm>
          <a:custGeom>
            <a:avLst/>
            <a:gdLst/>
            <a:ahLst/>
            <a:rect l="l" t="t" r="r" b="b"/>
            <a:pathLst>
              <a:path w="1254127" h="6858000">
                <a:moveTo>
                  <a:pt x="0" y="0"/>
                </a:moveTo>
                <a:lnTo>
                  <a:pt x="365127" y="0"/>
                </a:lnTo>
                <a:lnTo>
                  <a:pt x="1254127" y="4337050"/>
                </a:lnTo>
                <a:lnTo>
                  <a:pt x="619127" y="6858000"/>
                </a:lnTo>
                <a:lnTo>
                  <a:pt x="257175" y="6858000"/>
                </a:lnTo>
                <a:lnTo>
                  <a:pt x="892175" y="4337050"/>
                </a:lnTo>
                <a:close/>
              </a:path>
            </a:pathLst>
          </a:custGeom>
          <a:solidFill>
            <a:srgbClr val="ef7920"/>
          </a:solidFill>
          <a:ln w="0">
            <a:noFill/>
          </a:ln>
          <a:effectLst>
            <a:outerShdw dist="5076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28" name="Freeform 7"/>
          <p:cNvSpPr/>
          <p:nvPr/>
        </p:nvSpPr>
        <p:spPr>
          <a:xfrm>
            <a:off x="9174240" y="0"/>
            <a:ext cx="1460520" cy="6858000"/>
          </a:xfrm>
          <a:custGeom>
            <a:avLst/>
            <a:gdLst/>
            <a:ahLst/>
            <a:rect l="l" t="t" r="r" b="b"/>
            <a:pathLst>
              <a:path w="1095374" h="6858000">
                <a:moveTo>
                  <a:pt x="0" y="0"/>
                </a:moveTo>
                <a:lnTo>
                  <a:pt x="203199" y="0"/>
                </a:lnTo>
                <a:lnTo>
                  <a:pt x="1095374" y="4337050"/>
                </a:lnTo>
                <a:lnTo>
                  <a:pt x="460374" y="6858000"/>
                </a:lnTo>
                <a:lnTo>
                  <a:pt x="257175" y="6858000"/>
                </a:lnTo>
                <a:lnTo>
                  <a:pt x="892175" y="4337050"/>
                </a:lnTo>
                <a:close/>
              </a:path>
            </a:pathLst>
          </a:custGeom>
          <a:solidFill>
            <a:srgbClr val="1eb8c1"/>
          </a:solidFill>
          <a:ln w="0">
            <a:noFill/>
          </a:ln>
          <a:effectLst>
            <a:outerShdw dist="5076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Book Antiqua"/>
            </a:endParaRPr>
          </a:p>
        </p:txBody>
      </p:sp>
      <p:pic>
        <p:nvPicPr>
          <p:cNvPr id="129" name="Freeform 7" descr=""/>
          <p:cNvPicPr/>
          <p:nvPr/>
        </p:nvPicPr>
        <p:blipFill>
          <a:blip r:embed="rId2"/>
          <a:stretch/>
        </p:blipFill>
        <p:spPr>
          <a:xfrm>
            <a:off x="9172440" y="0"/>
            <a:ext cx="146052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9601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lvl="1" marL="320760" indent="59364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lvl="2" marL="593640" indent="32076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lvl="3" marL="868320" indent="4608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lvl="4" marL="1096920" indent="-18252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lvl="5" marL="1096920" indent="-18252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lvl="6" marL="1096920" indent="-18252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9601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lvl="1" marL="320760" indent="59364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lvl="2" marL="593640" indent="32076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lvl="3" marL="868320" indent="4608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lvl="4" marL="1096920" indent="-18252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lvl="5" marL="1096920" indent="-18252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lvl="6" marL="1096920" indent="-18252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4"/>
          </p:nvPr>
        </p:nvSpPr>
        <p:spPr>
          <a:xfrm>
            <a:off x="7791480" y="6374880"/>
            <a:ext cx="14810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5D2E-CE34-4922-9804-E1941B51CB14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5"/>
          </p:nvPr>
        </p:nvSpPr>
        <p:spPr>
          <a:xfrm>
            <a:off x="1295280" y="6374880"/>
            <a:ext cx="6243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6"/>
          </p:nvPr>
        </p:nvSpPr>
        <p:spPr>
          <a:xfrm>
            <a:off x="9524880" y="6374880"/>
            <a:ext cx="1371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CC3B-AF40-4CD8-917B-8259C6195F1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/>
          <p:cNvSpPr/>
          <p:nvPr/>
        </p:nvSpPr>
        <p:spPr>
          <a:xfrm>
            <a:off x="0" y="0"/>
            <a:ext cx="12192120" cy="13716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0" y="1371600"/>
            <a:ext cx="12192120" cy="82440"/>
          </a:xfrm>
          <a:prstGeom prst="rect">
            <a:avLst/>
          </a:prstGeom>
          <a:solidFill>
            <a:srgbClr val="ef7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0" y="1442880"/>
            <a:ext cx="12192120" cy="82800"/>
          </a:xfrm>
          <a:prstGeom prst="rect">
            <a:avLst/>
          </a:prstGeom>
          <a:solidFill>
            <a:srgbClr val="1eb8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1295280" y="5257800"/>
            <a:ext cx="457200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6324480" y="5257800"/>
            <a:ext cx="457200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1295280" y="5257800"/>
            <a:ext cx="4572000" cy="55440"/>
          </a:xfrm>
          <a:prstGeom prst="rect">
            <a:avLst/>
          </a:prstGeom>
          <a:solidFill>
            <a:srgbClr val="ef7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6324480" y="5257800"/>
            <a:ext cx="4572000" cy="55440"/>
          </a:xfrm>
          <a:prstGeom prst="rect">
            <a:avLst/>
          </a:prstGeom>
          <a:solidFill>
            <a:srgbClr val="ef7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9601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lvl="1" marL="320760" indent="59364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lvl="2" marL="593640" indent="32076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lvl="3" marL="868320" indent="4608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lvl="4" marL="1096920" indent="-18252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lvl="5" marL="1096920" indent="-18252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lvl="6" marL="1096920" indent="-18252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7"/>
          </p:nvPr>
        </p:nvSpPr>
        <p:spPr>
          <a:xfrm>
            <a:off x="7791480" y="6374880"/>
            <a:ext cx="14810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8EE2-57E8-49FA-A314-5E73C275A913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8"/>
          </p:nvPr>
        </p:nvSpPr>
        <p:spPr>
          <a:xfrm>
            <a:off x="1295280" y="6374880"/>
            <a:ext cx="6243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9"/>
          </p:nvPr>
        </p:nvSpPr>
        <p:spPr>
          <a:xfrm>
            <a:off x="9524880" y="6374880"/>
            <a:ext cx="1371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BD41-3DBD-4A68-ACCB-2F6E2D81DB0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 rot="5400000">
            <a:off x="7562880" y="2228400"/>
            <a:ext cx="6858000" cy="24004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58" name="Rectangle 7"/>
          <p:cNvSpPr/>
          <p:nvPr/>
        </p:nvSpPr>
        <p:spPr>
          <a:xfrm rot="5400000">
            <a:off x="6330960" y="3387600"/>
            <a:ext cx="6858000" cy="82800"/>
          </a:xfrm>
          <a:prstGeom prst="rect">
            <a:avLst/>
          </a:prstGeom>
          <a:solidFill>
            <a:srgbClr val="ef7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59" name="Rectangle 8"/>
          <p:cNvSpPr/>
          <p:nvPr/>
        </p:nvSpPr>
        <p:spPr>
          <a:xfrm rot="5400000">
            <a:off x="6251040" y="3387600"/>
            <a:ext cx="6858000" cy="82440"/>
          </a:xfrm>
          <a:prstGeom prst="rect">
            <a:avLst/>
          </a:prstGeom>
          <a:solidFill>
            <a:srgbClr val="1eb8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9601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lvl="1" marL="320760" indent="59364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lvl="2" marL="593640" indent="32076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lvl="3" marL="868320" indent="4608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lvl="4" marL="1096920" indent="-18252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lvl="5" marL="1096920" indent="-18252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lvl="6" marL="1096920" indent="-18252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0"/>
          </p:nvPr>
        </p:nvSpPr>
        <p:spPr>
          <a:xfrm>
            <a:off x="7791480" y="6374880"/>
            <a:ext cx="14810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F240-840D-49DA-A370-EAF238F376EB}" type="datetime">
              <a:rPr b="0" lang="en-US" sz="1000" spc="-1" strike="noStrike">
                <a:solidFill>
                  <a:srgbClr val="595959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11"/>
          </p:nvPr>
        </p:nvSpPr>
        <p:spPr>
          <a:xfrm>
            <a:off x="1295280" y="6374880"/>
            <a:ext cx="6243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12"/>
          </p:nvPr>
        </p:nvSpPr>
        <p:spPr>
          <a:xfrm>
            <a:off x="9524880" y="6374880"/>
            <a:ext cx="1371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D7AD-AAF5-4D51-B35E-673D73E72253}" type="slidenum">
              <a:rPr b="0" lang="en-US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79280" y="2010960"/>
            <a:ext cx="9118800" cy="256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95959"/>
                </a:solidFill>
                <a:latin typeface="Book Antiqua"/>
              </a:rPr>
              <a:t>流光溢彩时光通道背景商务</a:t>
            </a:r>
            <a:r>
              <a:rPr b="0" lang="en-US" sz="3600" spc="-1" strike="noStrike">
                <a:solidFill>
                  <a:srgbClr val="595959"/>
                </a:solidFill>
                <a:latin typeface="Book Antiqua"/>
              </a:rPr>
              <a:t>PPT</a:t>
            </a:r>
            <a:r>
              <a:rPr b="0" lang="zh-CN" sz="3600" spc="-1" strike="noStrike">
                <a:solidFill>
                  <a:srgbClr val="595959"/>
                </a:solidFill>
                <a:latin typeface="Book Antiqua"/>
              </a:rPr>
              <a:t>模板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302" name="Picture Placeholder 4" descr="City street with motion blur"/>
          <p:cNvPicPr/>
          <p:nvPr/>
        </p:nvPicPr>
        <p:blipFill>
          <a:blip r:embed="rId1"/>
          <a:stretch/>
        </p:blipFill>
        <p:spPr>
          <a:xfrm>
            <a:off x="6743880" y="0"/>
            <a:ext cx="544824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595959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itle and Content Layout with Lis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295280" y="1828440"/>
            <a:ext cx="9601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Add your first bullet point here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Add your second bullet point here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Add your third bullet point here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itle and Content Layout with Char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307" name="内容占位符 2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960120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wo Content Layout with Tabl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295280" y="1828440"/>
            <a:ext cx="9601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First bullet point here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Second bullet point here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Third bullet point here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6324480" y="1828800"/>
          <a:ext cx="4572000" cy="229860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</a:tblGrid>
              <a:tr h="574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95959"/>
                        </a:solidFill>
                        <a:latin typeface="Book Antiqu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eb8c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Group A</a:t>
                      </a:r>
                      <a:endParaRPr b="0" lang="en-US" sz="1800" spc="-1" strike="noStrike">
                        <a:solidFill>
                          <a:srgbClr val="595959"/>
                        </a:solidFill>
                        <a:latin typeface="Book Antiqu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eb8c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Group B</a:t>
                      </a:r>
                      <a:endParaRPr b="0" lang="en-US" sz="1800" spc="-1" strike="noStrike">
                        <a:solidFill>
                          <a:srgbClr val="595959"/>
                        </a:solidFill>
                        <a:latin typeface="Book Antiqu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eb8c1"/>
                    </a:solidFill>
                  </a:tcPr>
                </a:tc>
              </a:tr>
              <a:tr h="57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Book Antiqua"/>
                        </a:rPr>
                        <a:t>Class 1</a:t>
                      </a:r>
                      <a:endParaRPr b="0" lang="en-US" sz="1800" spc="-1" strike="noStrike">
                        <a:solidFill>
                          <a:srgbClr val="595959"/>
                        </a:solidFill>
                        <a:latin typeface="Book Antiqu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6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Book Antiqua"/>
                        </a:rPr>
                        <a:t>82</a:t>
                      </a:r>
                      <a:endParaRPr b="0" lang="en-US" sz="1800" spc="-1" strike="noStrike">
                        <a:solidFill>
                          <a:srgbClr val="595959"/>
                        </a:solidFill>
                        <a:latin typeface="Book Antiqu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6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Book Antiqua"/>
                        </a:rPr>
                        <a:t>95</a:t>
                      </a:r>
                      <a:endParaRPr b="0" lang="en-US" sz="1800" spc="-1" strike="noStrike">
                        <a:solidFill>
                          <a:srgbClr val="595959"/>
                        </a:solidFill>
                        <a:latin typeface="Book Antiqu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6e9"/>
                    </a:solidFill>
                  </a:tcPr>
                </a:tc>
              </a:tr>
              <a:tr h="574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Book Antiqua"/>
                        </a:rPr>
                        <a:t>Class 2</a:t>
                      </a:r>
                      <a:endParaRPr b="0" lang="en-US" sz="1800" spc="-1" strike="noStrike">
                        <a:solidFill>
                          <a:srgbClr val="595959"/>
                        </a:solidFill>
                        <a:latin typeface="Book Antiqu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Book Antiqua"/>
                        </a:rPr>
                        <a:t>76</a:t>
                      </a:r>
                      <a:endParaRPr b="0" lang="en-US" sz="1800" spc="-1" strike="noStrike">
                        <a:solidFill>
                          <a:srgbClr val="595959"/>
                        </a:solidFill>
                        <a:latin typeface="Book Antiqu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Book Antiqua"/>
                        </a:rPr>
                        <a:t>88</a:t>
                      </a:r>
                      <a:endParaRPr b="0" lang="en-US" sz="1800" spc="-1" strike="noStrike">
                        <a:solidFill>
                          <a:srgbClr val="595959"/>
                        </a:solidFill>
                        <a:latin typeface="Book Antiqu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4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Book Antiqua"/>
                        </a:rPr>
                        <a:t>Class 3</a:t>
                      </a:r>
                      <a:endParaRPr b="0" lang="en-US" sz="1800" spc="-1" strike="noStrike">
                        <a:solidFill>
                          <a:srgbClr val="595959"/>
                        </a:solidFill>
                        <a:latin typeface="Book Antiqu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6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Book Antiqua"/>
                        </a:rPr>
                        <a:t>84</a:t>
                      </a:r>
                      <a:endParaRPr b="0" lang="en-US" sz="1800" spc="-1" strike="noStrike">
                        <a:solidFill>
                          <a:srgbClr val="595959"/>
                        </a:solidFill>
                        <a:latin typeface="Book Antiqu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6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Book Antiqua"/>
                        </a:rPr>
                        <a:t>90</a:t>
                      </a:r>
                      <a:endParaRPr b="0" lang="en-US" sz="1800" spc="-1" strike="noStrike">
                        <a:solidFill>
                          <a:srgbClr val="595959"/>
                        </a:solidFill>
                        <a:latin typeface="Book Antiqu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6e9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itle and Content Layout with SmartAr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312" name="Content Placeholder 5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960120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95280" y="1872720"/>
            <a:ext cx="6400800" cy="256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295280" y="45716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638280" y="65232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efc119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595959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94920" y="2914560"/>
            <a:ext cx="8047080" cy="15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94920" y="4589280"/>
            <a:ext cx="8047080" cy="10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95280" y="1828800"/>
            <a:ext cx="45720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295280" y="2704680"/>
            <a:ext cx="457200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324480" y="1828440"/>
            <a:ext cx="45720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324480" y="2704680"/>
            <a:ext cx="457200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0T21:52:00Z</dcterms:created>
  <dc:creator>www.pptbz.com</dc:creator>
  <dc:description/>
  <dc:language>en-US</dc:language>
  <cp:lastModifiedBy>xinxing</cp:lastModifiedBy>
  <dcterms:modified xsi:type="dcterms:W3CDTF">2016-10-22T13:09:25Z</dcterms:modified>
  <cp:revision>6</cp:revision>
  <dc:subject/>
  <dc:title>Title with Picture Lay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ampaignTags">
    <vt:lpwstr/>
  </property>
  <property fmtid="{D5CDD505-2E9C-101B-9397-08002B2CF9AE}" pid="3" name="ContentTypeId">
    <vt:lpwstr>0x0101007C1D5F340F01F94FA2FD29A5E6DC872E</vt:lpwstr>
  </property>
  <property fmtid="{D5CDD505-2E9C-101B-9397-08002B2CF9AE}" pid="4" name="FeatureTags">
    <vt:lpwstr/>
  </property>
  <property fmtid="{D5CDD505-2E9C-101B-9397-08002B2CF9AE}" pid="5" name="InternalTags">
    <vt:lpwstr/>
  </property>
  <property fmtid="{D5CDD505-2E9C-101B-9397-08002B2CF9AE}" pid="6" name="KSOProductBuildVer">
    <vt:lpwstr>2052-10.1.0.6029</vt:lpwstr>
  </property>
  <property fmtid="{D5CDD505-2E9C-101B-9397-08002B2CF9AE}" pid="7" name="LocalizationTags">
    <vt:lpwstr/>
  </property>
  <property fmtid="{D5CDD505-2E9C-101B-9397-08002B2CF9AE}" pid="8" name="ScenarioTags">
    <vt:lpwstr/>
  </property>
</Properties>
</file>