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55C-A24D-4E10-BE6B-48839AC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CD1-4B47-4541-953F-34A8E1B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2DB-03AB-4A97-9122-9714576D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C2B-9B83-488E-A589-A4F9661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EB0-3A2E-4D8C-943B-A906D977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8CA-FFE2-402A-8B71-13F857C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187F-E4DF-4A05-8113-0F84426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B7D-39A5-4379-A3CD-C121E348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4EE-6B17-4490-9AE1-3B6B8CD1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A139-01CF-421F-8B7F-DB497E9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2CC-E1AD-4620-B7BD-EBE72D43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E88-1D6B-4505-828D-EBD51957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0F84-47AD-4D80-A5B7-9571799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B2CB-21E6-431D-B846-981835E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6EFC-8515-4BDD-A1C3-F69DF50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3640-F8D4-4BFF-B28E-028D612D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0DB3-B46D-4B72-81ED-A9015F6D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7B0-B040-4AE7-9C6F-98BBD5C0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294-F4B4-45E4-8BE4-09D438F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32F-C69C-4D60-9FC4-002DC6B5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EF5-AC46-450D-971A-E848AE69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0F5-D0F1-4A13-B5A5-A694DCD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B25-BA0D-48D6-AFCC-0014CF6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0EB-363E-4777-B860-C34CE15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蓝色都市内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5E3A-E4A4-48A9-BD2B-4515F4B4E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蓝色都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DA6-0973-47FA-A3F9-42499AC96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蓝色都市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981080" y="3124080"/>
            <a:ext cx="57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2:53:26Z</dcterms:created>
  <dc:creator>ppt宝藏</dc:creator>
  <dc:description/>
  <dc:language>en-US</dc:language>
  <cp:lastModifiedBy>a</cp:lastModifiedBy>
  <dcterms:modified xsi:type="dcterms:W3CDTF">2015-07-25T06:28:10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