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E22-4237-4F7E-AEFD-983A930A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D94-8849-44F6-8BEF-26659302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7CD-231C-4B06-AAB8-D3F53B4F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432-7B37-4C57-84AF-D4F2E8E6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99B-C7D0-4EE1-8E5E-6849B4AA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A2E-49B7-4318-A156-A8BC593E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17E-BD14-4A2B-B962-1B55C11D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962-340D-427C-91C2-1E88DE6A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F6C-38FD-4D1C-9FD2-E4EF8BA9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93A-90EB-457E-A9C1-7537F245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F12-1F71-4A16-989A-5552834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241-7CAA-4207-95DE-65CB2C8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2060-889C-499A-BDA1-FBE2AE0D90F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3905280"/>
            <a:ext cx="795636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蓝色企业楼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924360" y="4437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5-07-25T07:42:36Z</dcterms:modified>
  <cp:revision>706</cp:revision>
  <dc:subject/>
  <dc:title>Diapositiva 1</dc:title>
</cp:coreProperties>
</file>