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5840" y="202680"/>
            <a:ext cx="628920" cy="49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74880" y="685440"/>
            <a:ext cx="77119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74880" y="2995560"/>
            <a:ext cx="77119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5840" y="202680"/>
            <a:ext cx="628920" cy="49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74880" y="685440"/>
            <a:ext cx="37630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26600" y="685440"/>
            <a:ext cx="37630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74880" y="2995560"/>
            <a:ext cx="37630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26600" y="2995560"/>
            <a:ext cx="37630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5840" y="202680"/>
            <a:ext cx="628920" cy="49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74880" y="685440"/>
            <a:ext cx="24829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82360" y="685440"/>
            <a:ext cx="24829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89840" y="685440"/>
            <a:ext cx="24829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74880" y="2995560"/>
            <a:ext cx="24829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82360" y="2995560"/>
            <a:ext cx="24829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89840" y="2995560"/>
            <a:ext cx="24829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5840" y="202680"/>
            <a:ext cx="628920" cy="49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74880" y="685440"/>
            <a:ext cx="771192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5840" y="202680"/>
            <a:ext cx="628920" cy="49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74880" y="685440"/>
            <a:ext cx="77119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5840" y="202680"/>
            <a:ext cx="628920" cy="49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74880" y="685440"/>
            <a:ext cx="37630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26600" y="685440"/>
            <a:ext cx="37630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5840" y="202680"/>
            <a:ext cx="628920" cy="49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05840" y="5893200"/>
            <a:ext cx="628920" cy="114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5840" y="202680"/>
            <a:ext cx="628920" cy="49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74880" y="685440"/>
            <a:ext cx="37630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26600" y="685440"/>
            <a:ext cx="37630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74880" y="2995560"/>
            <a:ext cx="37630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5840" y="202680"/>
            <a:ext cx="628920" cy="49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74880" y="685440"/>
            <a:ext cx="771192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5840" y="202680"/>
            <a:ext cx="628920" cy="49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4880" y="685440"/>
            <a:ext cx="37630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6600" y="685440"/>
            <a:ext cx="37630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26600" y="2995560"/>
            <a:ext cx="37630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5840" y="202680"/>
            <a:ext cx="628920" cy="49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4880" y="685440"/>
            <a:ext cx="37630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6600" y="685440"/>
            <a:ext cx="37630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74880" y="2995560"/>
            <a:ext cx="77119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5840" y="202680"/>
            <a:ext cx="628920" cy="49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4880" y="685440"/>
            <a:ext cx="77119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74880" y="2995560"/>
            <a:ext cx="77119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5840" y="202680"/>
            <a:ext cx="628920" cy="49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4880" y="685440"/>
            <a:ext cx="37630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6600" y="685440"/>
            <a:ext cx="37630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74880" y="2995560"/>
            <a:ext cx="37630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926600" y="2995560"/>
            <a:ext cx="37630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5840" y="202680"/>
            <a:ext cx="628920" cy="49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74880" y="685440"/>
            <a:ext cx="24829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82360" y="685440"/>
            <a:ext cx="24829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89840" y="685440"/>
            <a:ext cx="24829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74880" y="2995560"/>
            <a:ext cx="24829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82360" y="2995560"/>
            <a:ext cx="24829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89840" y="2995560"/>
            <a:ext cx="24829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5840" y="202680"/>
            <a:ext cx="628920" cy="49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74880" y="685440"/>
            <a:ext cx="77119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5840" y="202680"/>
            <a:ext cx="628920" cy="49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4880" y="685440"/>
            <a:ext cx="37630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26600" y="685440"/>
            <a:ext cx="37630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5840" y="202680"/>
            <a:ext cx="628920" cy="49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05840" y="5893200"/>
            <a:ext cx="628920" cy="114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5840" y="202680"/>
            <a:ext cx="628920" cy="49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74880" y="685440"/>
            <a:ext cx="37630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26600" y="685440"/>
            <a:ext cx="37630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74880" y="2995560"/>
            <a:ext cx="37630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5840" y="202680"/>
            <a:ext cx="628920" cy="49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74880" y="685440"/>
            <a:ext cx="37630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26600" y="685440"/>
            <a:ext cx="37630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26600" y="2995560"/>
            <a:ext cx="37630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5840" y="202680"/>
            <a:ext cx="628920" cy="49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74880" y="685440"/>
            <a:ext cx="37630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26600" y="685440"/>
            <a:ext cx="37630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74880" y="2995560"/>
            <a:ext cx="77119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1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5840" y="202680"/>
            <a:ext cx="628920" cy="49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74880" y="685440"/>
            <a:ext cx="77119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图片 4" descr="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5840" y="202680"/>
            <a:ext cx="628920" cy="49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974880" y="685440"/>
            <a:ext cx="77119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hyperlink" Target="http://www.eeppt.com/moban/" TargetMode="External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4" descr="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7"/>
          <p:cNvSpPr/>
          <p:nvPr/>
        </p:nvSpPr>
        <p:spPr>
          <a:xfrm>
            <a:off x="6991200" y="1768320"/>
            <a:ext cx="214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适用于抽象及各类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"/>
          <p:cNvSpPr/>
          <p:nvPr/>
        </p:nvSpPr>
        <p:spPr>
          <a:xfrm>
            <a:off x="2037960" y="49356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绿色叶脉通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2"/>
          <p:cNvSpPr/>
          <p:nvPr/>
        </p:nvSpPr>
        <p:spPr>
          <a:xfrm>
            <a:off x="291960" y="529740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5840" y="202680"/>
            <a:ext cx="628920" cy="49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83" name="Group 3"/>
          <p:cNvGrpSpPr/>
          <p:nvPr/>
        </p:nvGrpSpPr>
        <p:grpSpPr>
          <a:xfrm>
            <a:off x="2849400" y="1539720"/>
            <a:ext cx="4638960" cy="478080"/>
            <a:chOff x="2849400" y="1539720"/>
            <a:chExt cx="4638960" cy="478080"/>
          </a:xfrm>
        </p:grpSpPr>
        <p:grpSp>
          <p:nvGrpSpPr>
            <p:cNvPr id="84" name="Group 4"/>
            <p:cNvGrpSpPr/>
            <p:nvPr/>
          </p:nvGrpSpPr>
          <p:grpSpPr>
            <a:xfrm>
              <a:off x="2849400" y="1539720"/>
              <a:ext cx="4638960" cy="478080"/>
              <a:chOff x="2849400" y="1539720"/>
              <a:chExt cx="4638960" cy="478080"/>
            </a:xfrm>
          </p:grpSpPr>
          <p:pic>
            <p:nvPicPr>
              <p:cNvPr id="85" name="AutoShap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2849400" y="1539720"/>
                <a:ext cx="4638960" cy="47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" name="Text Box 6"/>
              <p:cNvSpPr/>
              <p:nvPr/>
            </p:nvSpPr>
            <p:spPr>
              <a:xfrm>
                <a:off x="2939760" y="1589400"/>
                <a:ext cx="446868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Group 7"/>
            <p:cNvGrpSpPr/>
            <p:nvPr/>
          </p:nvGrpSpPr>
          <p:grpSpPr>
            <a:xfrm>
              <a:off x="2849400" y="1563480"/>
              <a:ext cx="4638960" cy="397080"/>
              <a:chOff x="2849400" y="1563480"/>
              <a:chExt cx="4638960" cy="397080"/>
            </a:xfrm>
          </p:grpSpPr>
          <p:pic>
            <p:nvPicPr>
              <p:cNvPr id="88" name="AutoShap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2849400" y="1563480"/>
                <a:ext cx="4638960" cy="39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" name="Text Box 9"/>
              <p:cNvSpPr/>
              <p:nvPr/>
            </p:nvSpPr>
            <p:spPr>
              <a:xfrm>
                <a:off x="2932920" y="1639800"/>
                <a:ext cx="448236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" name="Group 10"/>
          <p:cNvGrpSpPr/>
          <p:nvPr/>
        </p:nvGrpSpPr>
        <p:grpSpPr>
          <a:xfrm>
            <a:off x="2849400" y="2266920"/>
            <a:ext cx="4638960" cy="477720"/>
            <a:chOff x="2849400" y="2266920"/>
            <a:chExt cx="4638960" cy="477720"/>
          </a:xfrm>
        </p:grpSpPr>
        <p:grpSp>
          <p:nvGrpSpPr>
            <p:cNvPr id="91" name="Group 11"/>
            <p:cNvGrpSpPr/>
            <p:nvPr/>
          </p:nvGrpSpPr>
          <p:grpSpPr>
            <a:xfrm>
              <a:off x="2849400" y="2266920"/>
              <a:ext cx="4638960" cy="477720"/>
              <a:chOff x="2849400" y="2266920"/>
              <a:chExt cx="4638960" cy="477720"/>
            </a:xfrm>
          </p:grpSpPr>
          <p:pic>
            <p:nvPicPr>
              <p:cNvPr id="92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2849400" y="2266920"/>
                <a:ext cx="4638960" cy="47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" name="Text Box 13"/>
              <p:cNvSpPr/>
              <p:nvPr/>
            </p:nvSpPr>
            <p:spPr>
              <a:xfrm>
                <a:off x="2939760" y="2318040"/>
                <a:ext cx="44686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14"/>
            <p:cNvGrpSpPr/>
            <p:nvPr/>
          </p:nvGrpSpPr>
          <p:grpSpPr>
            <a:xfrm>
              <a:off x="2849400" y="2290680"/>
              <a:ext cx="4638960" cy="401400"/>
              <a:chOff x="2849400" y="2290680"/>
              <a:chExt cx="4638960" cy="401400"/>
            </a:xfrm>
          </p:grpSpPr>
          <p:pic>
            <p:nvPicPr>
              <p:cNvPr id="95" name="AutoShape 3" descr=""/>
              <p:cNvPicPr/>
              <p:nvPr/>
            </p:nvPicPr>
            <p:blipFill>
              <a:blip r:embed="rId4"/>
              <a:stretch/>
            </p:blipFill>
            <p:spPr>
              <a:xfrm>
                <a:off x="2849400" y="2290680"/>
                <a:ext cx="4638960" cy="40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Text Box 16"/>
              <p:cNvSpPr/>
              <p:nvPr/>
            </p:nvSpPr>
            <p:spPr>
              <a:xfrm>
                <a:off x="2932920" y="2368080"/>
                <a:ext cx="4482360" cy="23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" name="Group 17"/>
          <p:cNvGrpSpPr/>
          <p:nvPr/>
        </p:nvGrpSpPr>
        <p:grpSpPr>
          <a:xfrm>
            <a:off x="2849400" y="2995560"/>
            <a:ext cx="4638960" cy="476280"/>
            <a:chOff x="2849400" y="2995560"/>
            <a:chExt cx="4638960" cy="476280"/>
          </a:xfrm>
        </p:grpSpPr>
        <p:grpSp>
          <p:nvGrpSpPr>
            <p:cNvPr id="98" name="Group 18"/>
            <p:cNvGrpSpPr/>
            <p:nvPr/>
          </p:nvGrpSpPr>
          <p:grpSpPr>
            <a:xfrm>
              <a:off x="2849400" y="2995560"/>
              <a:ext cx="4638960" cy="476280"/>
              <a:chOff x="2849400" y="2995560"/>
              <a:chExt cx="4638960" cy="476280"/>
            </a:xfrm>
          </p:grpSpPr>
          <p:pic>
            <p:nvPicPr>
              <p:cNvPr id="99" name="AutoShape 3" descr=""/>
              <p:cNvPicPr/>
              <p:nvPr/>
            </p:nvPicPr>
            <p:blipFill>
              <a:blip r:embed="rId5"/>
              <a:stretch/>
            </p:blipFill>
            <p:spPr>
              <a:xfrm>
                <a:off x="2849400" y="2995560"/>
                <a:ext cx="4638960" cy="47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Text Box 20"/>
              <p:cNvSpPr/>
              <p:nvPr/>
            </p:nvSpPr>
            <p:spPr>
              <a:xfrm>
                <a:off x="2939760" y="3048480"/>
                <a:ext cx="4469040" cy="33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Group 21"/>
            <p:cNvGrpSpPr/>
            <p:nvPr/>
          </p:nvGrpSpPr>
          <p:grpSpPr>
            <a:xfrm>
              <a:off x="2849400" y="3018960"/>
              <a:ext cx="4638960" cy="396360"/>
              <a:chOff x="2849400" y="3018960"/>
              <a:chExt cx="4638960" cy="396360"/>
            </a:xfrm>
          </p:grpSpPr>
          <p:pic>
            <p:nvPicPr>
              <p:cNvPr id="102" name="AutoShape 3" descr=""/>
              <p:cNvPicPr/>
              <p:nvPr/>
            </p:nvPicPr>
            <p:blipFill>
              <a:blip r:embed="rId6"/>
              <a:stretch/>
            </p:blipFill>
            <p:spPr>
              <a:xfrm>
                <a:off x="2849400" y="3018960"/>
                <a:ext cx="4638960" cy="39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Text Box 23"/>
              <p:cNvSpPr/>
              <p:nvPr/>
            </p:nvSpPr>
            <p:spPr>
              <a:xfrm>
                <a:off x="2932920" y="3097800"/>
                <a:ext cx="4482360" cy="23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" name="Group 24"/>
          <p:cNvGrpSpPr/>
          <p:nvPr/>
        </p:nvGrpSpPr>
        <p:grpSpPr>
          <a:xfrm>
            <a:off x="2849400" y="3722760"/>
            <a:ext cx="4638960" cy="477720"/>
            <a:chOff x="2849400" y="3722760"/>
            <a:chExt cx="4638960" cy="477720"/>
          </a:xfrm>
        </p:grpSpPr>
        <p:grpSp>
          <p:nvGrpSpPr>
            <p:cNvPr id="105" name="Group 25"/>
            <p:cNvGrpSpPr/>
            <p:nvPr/>
          </p:nvGrpSpPr>
          <p:grpSpPr>
            <a:xfrm>
              <a:off x="2849400" y="3722760"/>
              <a:ext cx="4638960" cy="477720"/>
              <a:chOff x="2849400" y="3722760"/>
              <a:chExt cx="4638960" cy="477720"/>
            </a:xfrm>
          </p:grpSpPr>
          <p:pic>
            <p:nvPicPr>
              <p:cNvPr id="106" name="AutoShape 3" descr=""/>
              <p:cNvPicPr/>
              <p:nvPr/>
            </p:nvPicPr>
            <p:blipFill>
              <a:blip r:embed="rId7"/>
              <a:stretch/>
            </p:blipFill>
            <p:spPr>
              <a:xfrm>
                <a:off x="2849400" y="3722760"/>
                <a:ext cx="4638960" cy="47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Text Box 27"/>
              <p:cNvSpPr/>
              <p:nvPr/>
            </p:nvSpPr>
            <p:spPr>
              <a:xfrm>
                <a:off x="2939760" y="3772800"/>
                <a:ext cx="44686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28"/>
            <p:cNvGrpSpPr/>
            <p:nvPr/>
          </p:nvGrpSpPr>
          <p:grpSpPr>
            <a:xfrm>
              <a:off x="2849400" y="3746520"/>
              <a:ext cx="4638960" cy="396720"/>
              <a:chOff x="2849400" y="3746520"/>
              <a:chExt cx="4638960" cy="396720"/>
            </a:xfrm>
          </p:grpSpPr>
          <p:pic>
            <p:nvPicPr>
              <p:cNvPr id="109" name="AutoShape 3" descr=""/>
              <p:cNvPicPr/>
              <p:nvPr/>
            </p:nvPicPr>
            <p:blipFill>
              <a:blip r:embed="rId8"/>
              <a:stretch/>
            </p:blipFill>
            <p:spPr>
              <a:xfrm>
                <a:off x="2849400" y="3746520"/>
                <a:ext cx="4638960" cy="39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Text Box 30"/>
              <p:cNvSpPr/>
              <p:nvPr/>
            </p:nvSpPr>
            <p:spPr>
              <a:xfrm>
                <a:off x="2932920" y="3823200"/>
                <a:ext cx="4482360" cy="23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5840" y="202680"/>
            <a:ext cx="628920" cy="49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12" name="Group 3"/>
          <p:cNvGrpSpPr/>
          <p:nvPr/>
        </p:nvGrpSpPr>
        <p:grpSpPr>
          <a:xfrm>
            <a:off x="2849400" y="2619360"/>
            <a:ext cx="4638960" cy="476280"/>
            <a:chOff x="2849400" y="2619360"/>
            <a:chExt cx="4638960" cy="476280"/>
          </a:xfrm>
        </p:grpSpPr>
        <p:grpSp>
          <p:nvGrpSpPr>
            <p:cNvPr id="113" name="Group 4"/>
            <p:cNvGrpSpPr/>
            <p:nvPr/>
          </p:nvGrpSpPr>
          <p:grpSpPr>
            <a:xfrm>
              <a:off x="2849400" y="2619360"/>
              <a:ext cx="4638960" cy="476280"/>
              <a:chOff x="2849400" y="2619360"/>
              <a:chExt cx="4638960" cy="476280"/>
            </a:xfrm>
          </p:grpSpPr>
          <p:pic>
            <p:nvPicPr>
              <p:cNvPr id="114" name="AutoShap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2849400" y="2619360"/>
                <a:ext cx="4638960" cy="47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" name="Text Box 6"/>
              <p:cNvSpPr/>
              <p:nvPr/>
            </p:nvSpPr>
            <p:spPr>
              <a:xfrm>
                <a:off x="2939760" y="2669400"/>
                <a:ext cx="44690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Group 7"/>
            <p:cNvGrpSpPr/>
            <p:nvPr/>
          </p:nvGrpSpPr>
          <p:grpSpPr>
            <a:xfrm>
              <a:off x="2849400" y="2643120"/>
              <a:ext cx="4638960" cy="395280"/>
              <a:chOff x="2849400" y="2643120"/>
              <a:chExt cx="4638960" cy="395280"/>
            </a:xfrm>
          </p:grpSpPr>
          <p:pic>
            <p:nvPicPr>
              <p:cNvPr id="117" name="AutoShap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2849400" y="2643120"/>
                <a:ext cx="4638960" cy="3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" name="Text Box 9"/>
              <p:cNvSpPr/>
              <p:nvPr/>
            </p:nvSpPr>
            <p:spPr>
              <a:xfrm>
                <a:off x="2932920" y="2719440"/>
                <a:ext cx="4482360" cy="23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5840" y="202680"/>
            <a:ext cx="628920" cy="49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20" name="Group 3"/>
          <p:cNvGrpSpPr/>
          <p:nvPr/>
        </p:nvGrpSpPr>
        <p:grpSpPr>
          <a:xfrm>
            <a:off x="1747800" y="1860480"/>
            <a:ext cx="6610320" cy="1994040"/>
            <a:chOff x="1747800" y="1860480"/>
            <a:chExt cx="6610320" cy="1994040"/>
          </a:xfrm>
        </p:grpSpPr>
        <p:grpSp>
          <p:nvGrpSpPr>
            <p:cNvPr id="121" name="Group 4"/>
            <p:cNvGrpSpPr/>
            <p:nvPr/>
          </p:nvGrpSpPr>
          <p:grpSpPr>
            <a:xfrm>
              <a:off x="1747800" y="1860480"/>
              <a:ext cx="6610320" cy="1994040"/>
              <a:chOff x="1747800" y="1860480"/>
              <a:chExt cx="6610320" cy="1994040"/>
            </a:xfrm>
          </p:grpSpPr>
          <p:grpSp>
            <p:nvGrpSpPr>
              <p:cNvPr id="122" name="Group 5"/>
              <p:cNvGrpSpPr/>
              <p:nvPr/>
            </p:nvGrpSpPr>
            <p:grpSpPr>
              <a:xfrm>
                <a:off x="1747800" y="1860480"/>
                <a:ext cx="6610320" cy="1994040"/>
                <a:chOff x="1747800" y="1860480"/>
                <a:chExt cx="6610320" cy="1994040"/>
              </a:xfrm>
            </p:grpSpPr>
            <p:pic>
              <p:nvPicPr>
                <p:cNvPr id="123" name="AutoShape 3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747800" y="1860480"/>
                  <a:ext cx="6610320" cy="199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" name="Text Box 7"/>
                <p:cNvSpPr/>
                <p:nvPr/>
              </p:nvSpPr>
              <p:spPr>
                <a:xfrm>
                  <a:off x="1825920" y="1914840"/>
                  <a:ext cx="6459120" cy="184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" name="Group 8"/>
              <p:cNvGrpSpPr/>
              <p:nvPr/>
            </p:nvGrpSpPr>
            <p:grpSpPr>
              <a:xfrm>
                <a:off x="1747800" y="1957320"/>
                <a:ext cx="6610320" cy="1794240"/>
                <a:chOff x="1747800" y="1957320"/>
                <a:chExt cx="6610320" cy="1794240"/>
              </a:xfrm>
            </p:grpSpPr>
            <p:pic>
              <p:nvPicPr>
                <p:cNvPr id="126" name="AutoShape 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747800" y="1957320"/>
                  <a:ext cx="6610320" cy="179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" name="Text Box 10"/>
                <p:cNvSpPr/>
                <p:nvPr/>
              </p:nvSpPr>
              <p:spPr>
                <a:xfrm>
                  <a:off x="1828080" y="2012400"/>
                  <a:ext cx="6454080" cy="164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" name="Text Box 11"/>
            <p:cNvSpPr/>
            <p:nvPr/>
          </p:nvSpPr>
          <p:spPr>
            <a:xfrm>
              <a:off x="2105640" y="2230200"/>
              <a:ext cx="594180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5840" y="202680"/>
            <a:ext cx="628920" cy="49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30" name="Group 3"/>
          <p:cNvGrpSpPr/>
          <p:nvPr/>
        </p:nvGrpSpPr>
        <p:grpSpPr>
          <a:xfrm>
            <a:off x="4287960" y="2149560"/>
            <a:ext cx="1441440" cy="1431720"/>
            <a:chOff x="4287960" y="2149560"/>
            <a:chExt cx="1441440" cy="1431720"/>
          </a:xfrm>
        </p:grpSpPr>
        <p:grpSp>
          <p:nvGrpSpPr>
            <p:cNvPr id="131" name="Group 4"/>
            <p:cNvGrpSpPr/>
            <p:nvPr/>
          </p:nvGrpSpPr>
          <p:grpSpPr>
            <a:xfrm>
              <a:off x="4287960" y="2149560"/>
              <a:ext cx="1441440" cy="1431720"/>
              <a:chOff x="4287960" y="2149560"/>
              <a:chExt cx="1441440" cy="1431720"/>
            </a:xfrm>
          </p:grpSpPr>
          <p:grpSp>
            <p:nvGrpSpPr>
              <p:cNvPr id="132" name="Group 5"/>
              <p:cNvGrpSpPr/>
              <p:nvPr/>
            </p:nvGrpSpPr>
            <p:grpSpPr>
              <a:xfrm>
                <a:off x="4287960" y="2149560"/>
                <a:ext cx="1441440" cy="1431720"/>
                <a:chOff x="4287960" y="2149560"/>
                <a:chExt cx="1441440" cy="1431720"/>
              </a:xfrm>
            </p:grpSpPr>
            <p:pic>
              <p:nvPicPr>
                <p:cNvPr id="133" name="Oval 93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4287960" y="2149560"/>
                  <a:ext cx="1441440" cy="1431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" name="Text Box 7"/>
                <p:cNvSpPr/>
                <p:nvPr/>
              </p:nvSpPr>
              <p:spPr>
                <a:xfrm>
                  <a:off x="4545000" y="2377800"/>
                  <a:ext cx="934200" cy="92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Group 8"/>
              <p:cNvGrpSpPr/>
              <p:nvPr/>
            </p:nvGrpSpPr>
            <p:grpSpPr>
              <a:xfrm>
                <a:off x="4343760" y="2188440"/>
                <a:ext cx="1257120" cy="1253520"/>
                <a:chOff x="4343760" y="2188440"/>
                <a:chExt cx="1257120" cy="1253520"/>
              </a:xfrm>
            </p:grpSpPr>
            <p:pic>
              <p:nvPicPr>
                <p:cNvPr id="136" name="Oval 94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343760" y="2188440"/>
                  <a:ext cx="1257120" cy="1253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" name="Text Box 10"/>
                <p:cNvSpPr/>
                <p:nvPr/>
              </p:nvSpPr>
              <p:spPr>
                <a:xfrm>
                  <a:off x="4571280" y="2394360"/>
                  <a:ext cx="804960" cy="79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8" name="Text Box 18"/>
            <p:cNvSpPr/>
            <p:nvPr/>
          </p:nvSpPr>
          <p:spPr>
            <a:xfrm>
              <a:off x="4359600" y="2523600"/>
              <a:ext cx="1146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12"/>
          <p:cNvGrpSpPr/>
          <p:nvPr/>
        </p:nvGrpSpPr>
        <p:grpSpPr>
          <a:xfrm>
            <a:off x="2362320" y="1222200"/>
            <a:ext cx="2666160" cy="1218600"/>
            <a:chOff x="2362320" y="1222200"/>
            <a:chExt cx="2666160" cy="1218600"/>
          </a:xfrm>
        </p:grpSpPr>
        <p:grpSp>
          <p:nvGrpSpPr>
            <p:cNvPr id="140" name="Group 13"/>
            <p:cNvGrpSpPr/>
            <p:nvPr/>
          </p:nvGrpSpPr>
          <p:grpSpPr>
            <a:xfrm>
              <a:off x="2362320" y="1222200"/>
              <a:ext cx="2666160" cy="1218600"/>
              <a:chOff x="2362320" y="1222200"/>
              <a:chExt cx="2666160" cy="1218600"/>
            </a:xfrm>
          </p:grpSpPr>
          <p:grpSp>
            <p:nvGrpSpPr>
              <p:cNvPr id="141" name="Group 14"/>
              <p:cNvGrpSpPr/>
              <p:nvPr/>
            </p:nvGrpSpPr>
            <p:grpSpPr>
              <a:xfrm>
                <a:off x="2362320" y="1222200"/>
                <a:ext cx="2666160" cy="1218600"/>
                <a:chOff x="2362320" y="1222200"/>
                <a:chExt cx="2666160" cy="1218600"/>
              </a:xfrm>
            </p:grpSpPr>
            <p:sp>
              <p:nvSpPr>
                <p:cNvPr id="142" name="AutoShape 73"/>
                <p:cNvSpPr/>
                <p:nvPr/>
              </p:nvSpPr>
              <p:spPr>
                <a:xfrm rot="2700000">
                  <a:off x="4069800" y="1373400"/>
                  <a:ext cx="730440" cy="947520"/>
                </a:xfrm>
                <a:prstGeom prst="rightArrow">
                  <a:avLst>
                    <a:gd name="adj1" fmla="val 70389"/>
                    <a:gd name="adj2" fmla="val 63769"/>
                  </a:avLst>
                </a:prstGeom>
                <a:solidFill>
                  <a:srgbClr val="000000">
                    <a:alpha val="6000"/>
                  </a:srgbClr>
                </a:solidFill>
                <a:ln w="648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圆角矩形 14"/>
                <p:cNvSpPr/>
                <p:nvPr/>
              </p:nvSpPr>
              <p:spPr>
                <a:xfrm>
                  <a:off x="2362320" y="1222200"/>
                  <a:ext cx="1760400" cy="66672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000000">
                    <a:alpha val="6000"/>
                  </a:srgbClr>
                </a:solidFill>
                <a:ln w="648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Group 17"/>
              <p:cNvGrpSpPr/>
              <p:nvPr/>
            </p:nvGrpSpPr>
            <p:grpSpPr>
              <a:xfrm>
                <a:off x="3807000" y="1222200"/>
                <a:ext cx="672840" cy="668160"/>
                <a:chOff x="3807000" y="1222200"/>
                <a:chExt cx="672840" cy="668160"/>
              </a:xfrm>
            </p:grpSpPr>
            <p:grpSp>
              <p:nvGrpSpPr>
                <p:cNvPr id="145" name="Group 18"/>
                <p:cNvGrpSpPr/>
                <p:nvPr/>
              </p:nvGrpSpPr>
              <p:grpSpPr>
                <a:xfrm>
                  <a:off x="3807000" y="1222200"/>
                  <a:ext cx="672840" cy="668160"/>
                  <a:chOff x="3807000" y="1222200"/>
                  <a:chExt cx="672840" cy="668160"/>
                </a:xfrm>
              </p:grpSpPr>
              <p:pic>
                <p:nvPicPr>
                  <p:cNvPr id="146" name="椭圆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7000" y="1222200"/>
                    <a:ext cx="6728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7" name="Text Box 20"/>
                  <p:cNvSpPr/>
                  <p:nvPr/>
                </p:nvSpPr>
                <p:spPr>
                  <a:xfrm>
                    <a:off x="3947760" y="1337040"/>
                    <a:ext cx="39780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Group 21"/>
                <p:cNvGrpSpPr/>
                <p:nvPr/>
              </p:nvGrpSpPr>
              <p:grpSpPr>
                <a:xfrm>
                  <a:off x="3827160" y="1237320"/>
                  <a:ext cx="586440" cy="586800"/>
                  <a:chOff x="3827160" y="1237320"/>
                  <a:chExt cx="586440" cy="586800"/>
                </a:xfrm>
              </p:grpSpPr>
              <p:pic>
                <p:nvPicPr>
                  <p:cNvPr id="149" name="椭圆 1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27160" y="1237320"/>
                    <a:ext cx="586440" cy="58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0" name="Text Box 23"/>
                  <p:cNvSpPr/>
                  <p:nvPr/>
                </p:nvSpPr>
                <p:spPr>
                  <a:xfrm>
                    <a:off x="3953880" y="1341360"/>
                    <a:ext cx="340200" cy="338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51" name="Text Box 18"/>
            <p:cNvSpPr/>
            <p:nvPr/>
          </p:nvSpPr>
          <p:spPr>
            <a:xfrm>
              <a:off x="2379960" y="1406520"/>
              <a:ext cx="144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26"/>
            <p:cNvSpPr/>
            <p:nvPr/>
          </p:nvSpPr>
          <p:spPr>
            <a:xfrm>
              <a:off x="3929400" y="139932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26"/>
          <p:cNvGrpSpPr/>
          <p:nvPr/>
        </p:nvGrpSpPr>
        <p:grpSpPr>
          <a:xfrm>
            <a:off x="5060520" y="1227240"/>
            <a:ext cx="2568960" cy="1297440"/>
            <a:chOff x="5060520" y="1227240"/>
            <a:chExt cx="2568960" cy="1297440"/>
          </a:xfrm>
        </p:grpSpPr>
        <p:grpSp>
          <p:nvGrpSpPr>
            <p:cNvPr id="154" name="Group 27"/>
            <p:cNvGrpSpPr/>
            <p:nvPr/>
          </p:nvGrpSpPr>
          <p:grpSpPr>
            <a:xfrm>
              <a:off x="5060520" y="1227240"/>
              <a:ext cx="2568960" cy="1297440"/>
              <a:chOff x="5060520" y="1227240"/>
              <a:chExt cx="2568960" cy="1297440"/>
            </a:xfrm>
          </p:grpSpPr>
          <p:grpSp>
            <p:nvGrpSpPr>
              <p:cNvPr id="155" name="Group 28"/>
              <p:cNvGrpSpPr/>
              <p:nvPr/>
            </p:nvGrpSpPr>
            <p:grpSpPr>
              <a:xfrm>
                <a:off x="5060520" y="1227240"/>
                <a:ext cx="2568960" cy="1297440"/>
                <a:chOff x="5060520" y="1227240"/>
                <a:chExt cx="2568960" cy="1297440"/>
              </a:xfrm>
            </p:grpSpPr>
            <p:grpSp>
              <p:nvGrpSpPr>
                <p:cNvPr id="156" name="Group 29"/>
                <p:cNvGrpSpPr/>
                <p:nvPr/>
              </p:nvGrpSpPr>
              <p:grpSpPr>
                <a:xfrm>
                  <a:off x="5060520" y="1227240"/>
                  <a:ext cx="2568960" cy="1297440"/>
                  <a:chOff x="5060520" y="1227240"/>
                  <a:chExt cx="2568960" cy="1297440"/>
                </a:xfrm>
              </p:grpSpPr>
              <p:sp>
                <p:nvSpPr>
                  <p:cNvPr id="157" name="AutoShape 67"/>
                  <p:cNvSpPr/>
                  <p:nvPr/>
                </p:nvSpPr>
                <p:spPr>
                  <a:xfrm flipH="1" rot="18900000">
                    <a:off x="5262120" y="1465200"/>
                    <a:ext cx="807480" cy="906840"/>
                  </a:xfrm>
                  <a:prstGeom prst="rightArrow">
                    <a:avLst>
                      <a:gd name="adj1" fmla="val 70389"/>
                      <a:gd name="adj2" fmla="val 63769"/>
                    </a:avLst>
                  </a:prstGeom>
                  <a:solidFill>
                    <a:srgbClr val="000000">
                      <a:alpha val="6000"/>
                    </a:srgbClr>
                  </a:solidFill>
                  <a:ln w="6480">
                    <a:solidFill>
                      <a:srgbClr val="59595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圆角矩形 54"/>
                  <p:cNvSpPr/>
                  <p:nvPr/>
                </p:nvSpPr>
                <p:spPr>
                  <a:xfrm>
                    <a:off x="5943600" y="1227240"/>
                    <a:ext cx="1685880" cy="737280"/>
                  </a:xfrm>
                  <a:prstGeom prst="roundRect">
                    <a:avLst>
                      <a:gd name="adj" fmla="val 3278"/>
                    </a:avLst>
                  </a:prstGeom>
                  <a:solidFill>
                    <a:srgbClr val="000000">
                      <a:alpha val="6000"/>
                    </a:srgbClr>
                  </a:solidFill>
                  <a:ln w="6480">
                    <a:solidFill>
                      <a:srgbClr val="59595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Group 32"/>
                <p:cNvGrpSpPr/>
                <p:nvPr/>
              </p:nvGrpSpPr>
              <p:grpSpPr>
                <a:xfrm>
                  <a:off x="5514480" y="1227240"/>
                  <a:ext cx="672480" cy="667800"/>
                  <a:chOff x="5514480" y="1227240"/>
                  <a:chExt cx="672480" cy="667800"/>
                </a:xfrm>
              </p:grpSpPr>
              <p:grpSp>
                <p:nvGrpSpPr>
                  <p:cNvPr id="160" name="Group 33"/>
                  <p:cNvGrpSpPr/>
                  <p:nvPr/>
                </p:nvGrpSpPr>
                <p:grpSpPr>
                  <a:xfrm>
                    <a:off x="5514480" y="1227240"/>
                    <a:ext cx="672480" cy="667800"/>
                    <a:chOff x="5514480" y="1227240"/>
                    <a:chExt cx="672480" cy="667800"/>
                  </a:xfrm>
                </p:grpSpPr>
                <p:pic>
                  <p:nvPicPr>
                    <p:cNvPr id="161" name="椭圆 51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514480" y="1227240"/>
                      <a:ext cx="672480" cy="667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62" name="Text Box 35"/>
                    <p:cNvSpPr/>
                    <p:nvPr/>
                  </p:nvSpPr>
                  <p:spPr>
                    <a:xfrm>
                      <a:off x="5652000" y="1345320"/>
                      <a:ext cx="400320" cy="392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" name="Group 36"/>
                  <p:cNvGrpSpPr/>
                  <p:nvPr/>
                </p:nvGrpSpPr>
                <p:grpSpPr>
                  <a:xfrm>
                    <a:off x="5529600" y="1242360"/>
                    <a:ext cx="595440" cy="587160"/>
                    <a:chOff x="5529600" y="1242360"/>
                    <a:chExt cx="595440" cy="587160"/>
                  </a:xfrm>
                </p:grpSpPr>
                <p:pic>
                  <p:nvPicPr>
                    <p:cNvPr id="164" name="椭圆 11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529600" y="1242360"/>
                      <a:ext cx="595440" cy="58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65" name="Text Box 38"/>
                    <p:cNvSpPr/>
                    <p:nvPr/>
                  </p:nvSpPr>
                  <p:spPr>
                    <a:xfrm>
                      <a:off x="5657040" y="1349280"/>
                      <a:ext cx="343080" cy="335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66" name="Rectangle 26"/>
              <p:cNvSpPr/>
              <p:nvPr/>
            </p:nvSpPr>
            <p:spPr>
              <a:xfrm>
                <a:off x="5646960" y="140436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Text Box 18"/>
            <p:cNvSpPr/>
            <p:nvPr/>
          </p:nvSpPr>
          <p:spPr>
            <a:xfrm>
              <a:off x="6172200" y="1411560"/>
              <a:ext cx="1442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41"/>
          <p:cNvGrpSpPr/>
          <p:nvPr/>
        </p:nvGrpSpPr>
        <p:grpSpPr>
          <a:xfrm>
            <a:off x="5772240" y="2330280"/>
            <a:ext cx="2527200" cy="941400"/>
            <a:chOff x="5772240" y="2330280"/>
            <a:chExt cx="2527200" cy="941400"/>
          </a:xfrm>
        </p:grpSpPr>
        <p:grpSp>
          <p:nvGrpSpPr>
            <p:cNvPr id="169" name="Group 42"/>
            <p:cNvGrpSpPr/>
            <p:nvPr/>
          </p:nvGrpSpPr>
          <p:grpSpPr>
            <a:xfrm>
              <a:off x="5772240" y="2330280"/>
              <a:ext cx="2527200" cy="941400"/>
              <a:chOff x="5772240" y="2330280"/>
              <a:chExt cx="2527200" cy="941400"/>
            </a:xfrm>
          </p:grpSpPr>
          <p:grpSp>
            <p:nvGrpSpPr>
              <p:cNvPr id="170" name="Group 43"/>
              <p:cNvGrpSpPr/>
              <p:nvPr/>
            </p:nvGrpSpPr>
            <p:grpSpPr>
              <a:xfrm>
                <a:off x="5772240" y="2330280"/>
                <a:ext cx="2527200" cy="941400"/>
                <a:chOff x="5772240" y="2330280"/>
                <a:chExt cx="2527200" cy="941400"/>
              </a:xfrm>
            </p:grpSpPr>
            <p:grpSp>
              <p:nvGrpSpPr>
                <p:cNvPr id="171" name="Group 44"/>
                <p:cNvGrpSpPr/>
                <p:nvPr/>
              </p:nvGrpSpPr>
              <p:grpSpPr>
                <a:xfrm>
                  <a:off x="5772240" y="2330280"/>
                  <a:ext cx="2527200" cy="941400"/>
                  <a:chOff x="5772240" y="2330280"/>
                  <a:chExt cx="2527200" cy="941400"/>
                </a:xfrm>
              </p:grpSpPr>
              <p:sp>
                <p:nvSpPr>
                  <p:cNvPr id="172" name="AutoShape 49"/>
                  <p:cNvSpPr/>
                  <p:nvPr/>
                </p:nvSpPr>
                <p:spPr>
                  <a:xfrm flipH="1">
                    <a:off x="5772240" y="2330280"/>
                    <a:ext cx="736560" cy="941400"/>
                  </a:xfrm>
                  <a:prstGeom prst="rightArrow">
                    <a:avLst>
                      <a:gd name="adj1" fmla="val 70389"/>
                      <a:gd name="adj2" fmla="val 68255"/>
                    </a:avLst>
                  </a:prstGeom>
                  <a:solidFill>
                    <a:srgbClr val="000000">
                      <a:alpha val="6000"/>
                    </a:srgbClr>
                  </a:solidFill>
                  <a:ln w="6480">
                    <a:solidFill>
                      <a:srgbClr val="59595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圆角矩形 47"/>
                  <p:cNvSpPr/>
                  <p:nvPr/>
                </p:nvSpPr>
                <p:spPr>
                  <a:xfrm>
                    <a:off x="6539040" y="2464920"/>
                    <a:ext cx="1760400" cy="671760"/>
                  </a:xfrm>
                  <a:prstGeom prst="roundRect">
                    <a:avLst>
                      <a:gd name="adj" fmla="val 3278"/>
                    </a:avLst>
                  </a:prstGeom>
                  <a:solidFill>
                    <a:srgbClr val="000000">
                      <a:alpha val="6000"/>
                    </a:srgbClr>
                  </a:solidFill>
                  <a:ln w="6480">
                    <a:solidFill>
                      <a:srgbClr val="59595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Group 47"/>
                <p:cNvGrpSpPr/>
                <p:nvPr/>
              </p:nvGrpSpPr>
              <p:grpSpPr>
                <a:xfrm>
                  <a:off x="6193440" y="2466720"/>
                  <a:ext cx="672840" cy="668160"/>
                  <a:chOff x="6193440" y="2466720"/>
                  <a:chExt cx="672840" cy="668160"/>
                </a:xfrm>
              </p:grpSpPr>
              <p:grpSp>
                <p:nvGrpSpPr>
                  <p:cNvPr id="175" name="Group 48"/>
                  <p:cNvGrpSpPr/>
                  <p:nvPr/>
                </p:nvGrpSpPr>
                <p:grpSpPr>
                  <a:xfrm>
                    <a:off x="6193440" y="2466720"/>
                    <a:ext cx="672840" cy="668160"/>
                    <a:chOff x="6193440" y="2466720"/>
                    <a:chExt cx="672840" cy="668160"/>
                  </a:xfrm>
                </p:grpSpPr>
                <p:pic>
                  <p:nvPicPr>
                    <p:cNvPr id="176" name="椭圆 42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193440" y="2466720"/>
                      <a:ext cx="672840" cy="66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77" name="Text Box 50"/>
                    <p:cNvSpPr/>
                    <p:nvPr/>
                  </p:nvSpPr>
                  <p:spPr>
                    <a:xfrm>
                      <a:off x="6332760" y="2582640"/>
                      <a:ext cx="40104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8" name="Group 51"/>
                  <p:cNvGrpSpPr/>
                  <p:nvPr/>
                </p:nvGrpSpPr>
                <p:grpSpPr>
                  <a:xfrm>
                    <a:off x="6213960" y="2481840"/>
                    <a:ext cx="590760" cy="591840"/>
                    <a:chOff x="6213960" y="2481840"/>
                    <a:chExt cx="590760" cy="591840"/>
                  </a:xfrm>
                </p:grpSpPr>
                <p:pic>
                  <p:nvPicPr>
                    <p:cNvPr id="179" name="椭圆 11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213960" y="2481840"/>
                      <a:ext cx="590760" cy="59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80" name="Text Box 53"/>
                    <p:cNvSpPr/>
                    <p:nvPr/>
                  </p:nvSpPr>
                  <p:spPr>
                    <a:xfrm>
                      <a:off x="6338880" y="2586600"/>
                      <a:ext cx="342720" cy="339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81" name="Rectangle 26"/>
              <p:cNvSpPr/>
              <p:nvPr/>
            </p:nvSpPr>
            <p:spPr>
              <a:xfrm>
                <a:off x="6315840" y="263376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Text Box 18"/>
            <p:cNvSpPr/>
            <p:nvPr/>
          </p:nvSpPr>
          <p:spPr>
            <a:xfrm>
              <a:off x="6814440" y="2651400"/>
              <a:ext cx="1443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56"/>
          <p:cNvGrpSpPr/>
          <p:nvPr/>
        </p:nvGrpSpPr>
        <p:grpSpPr>
          <a:xfrm>
            <a:off x="1703520" y="2330280"/>
            <a:ext cx="2538360" cy="941400"/>
            <a:chOff x="1703520" y="2330280"/>
            <a:chExt cx="2538360" cy="941400"/>
          </a:xfrm>
        </p:grpSpPr>
        <p:grpSp>
          <p:nvGrpSpPr>
            <p:cNvPr id="184" name="Group 57"/>
            <p:cNvGrpSpPr/>
            <p:nvPr/>
          </p:nvGrpSpPr>
          <p:grpSpPr>
            <a:xfrm>
              <a:off x="1703520" y="2330280"/>
              <a:ext cx="2538360" cy="941400"/>
              <a:chOff x="1703520" y="2330280"/>
              <a:chExt cx="2538360" cy="941400"/>
            </a:xfrm>
          </p:grpSpPr>
          <p:grpSp>
            <p:nvGrpSpPr>
              <p:cNvPr id="185" name="Group 58"/>
              <p:cNvGrpSpPr/>
              <p:nvPr/>
            </p:nvGrpSpPr>
            <p:grpSpPr>
              <a:xfrm>
                <a:off x="1703520" y="2330280"/>
                <a:ext cx="2538360" cy="941400"/>
                <a:chOff x="1703520" y="2330280"/>
                <a:chExt cx="2538360" cy="941400"/>
              </a:xfrm>
            </p:grpSpPr>
            <p:sp>
              <p:nvSpPr>
                <p:cNvPr id="186" name="AutoShape 71"/>
                <p:cNvSpPr/>
                <p:nvPr/>
              </p:nvSpPr>
              <p:spPr>
                <a:xfrm>
                  <a:off x="3505320" y="2330280"/>
                  <a:ext cx="736560" cy="941400"/>
                </a:xfrm>
                <a:prstGeom prst="rightArrow">
                  <a:avLst>
                    <a:gd name="adj1" fmla="val 70389"/>
                    <a:gd name="adj2" fmla="val 62116"/>
                  </a:avLst>
                </a:prstGeom>
                <a:solidFill>
                  <a:srgbClr val="000000">
                    <a:alpha val="6000"/>
                  </a:srgbClr>
                </a:solidFill>
                <a:ln w="648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圆角矩形 21"/>
                <p:cNvSpPr/>
                <p:nvPr/>
              </p:nvSpPr>
              <p:spPr>
                <a:xfrm>
                  <a:off x="1703520" y="2464920"/>
                  <a:ext cx="1760400" cy="67176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000000">
                    <a:alpha val="6000"/>
                  </a:srgbClr>
                </a:solidFill>
                <a:ln w="648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8" name="Group 61"/>
              <p:cNvGrpSpPr/>
              <p:nvPr/>
            </p:nvGrpSpPr>
            <p:grpSpPr>
              <a:xfrm>
                <a:off x="3148560" y="2466720"/>
                <a:ext cx="672840" cy="668160"/>
                <a:chOff x="3148560" y="2466720"/>
                <a:chExt cx="672840" cy="668160"/>
              </a:xfrm>
            </p:grpSpPr>
            <p:grpSp>
              <p:nvGrpSpPr>
                <p:cNvPr id="189" name="Group 62"/>
                <p:cNvGrpSpPr/>
                <p:nvPr/>
              </p:nvGrpSpPr>
              <p:grpSpPr>
                <a:xfrm>
                  <a:off x="3148560" y="2466720"/>
                  <a:ext cx="672840" cy="668160"/>
                  <a:chOff x="3148560" y="2466720"/>
                  <a:chExt cx="672840" cy="668160"/>
                </a:xfrm>
              </p:grpSpPr>
              <p:pic>
                <p:nvPicPr>
                  <p:cNvPr id="190" name="椭圆 1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148560" y="2466720"/>
                    <a:ext cx="6728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1" name="Text Box 64"/>
                  <p:cNvSpPr/>
                  <p:nvPr/>
                </p:nvSpPr>
                <p:spPr>
                  <a:xfrm>
                    <a:off x="3289320" y="2582640"/>
                    <a:ext cx="39780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" name="Group 65"/>
                <p:cNvGrpSpPr/>
                <p:nvPr/>
              </p:nvGrpSpPr>
              <p:grpSpPr>
                <a:xfrm>
                  <a:off x="3168720" y="2486880"/>
                  <a:ext cx="586440" cy="586800"/>
                  <a:chOff x="3168720" y="2486880"/>
                  <a:chExt cx="586440" cy="586800"/>
                </a:xfrm>
              </p:grpSpPr>
              <p:pic>
                <p:nvPicPr>
                  <p:cNvPr id="193" name="椭圆 1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168720" y="2486880"/>
                    <a:ext cx="586440" cy="58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4" name="Text Box 67"/>
                  <p:cNvSpPr/>
                  <p:nvPr/>
                </p:nvSpPr>
                <p:spPr>
                  <a:xfrm>
                    <a:off x="3295440" y="2586240"/>
                    <a:ext cx="340200" cy="339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95" name="Text Box 18"/>
            <p:cNvSpPr/>
            <p:nvPr/>
          </p:nvSpPr>
          <p:spPr>
            <a:xfrm>
              <a:off x="1751400" y="2651400"/>
              <a:ext cx="145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26"/>
            <p:cNvSpPr/>
            <p:nvPr/>
          </p:nvSpPr>
          <p:spPr>
            <a:xfrm>
              <a:off x="3270960" y="263376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70"/>
          <p:cNvGrpSpPr/>
          <p:nvPr/>
        </p:nvGrpSpPr>
        <p:grpSpPr>
          <a:xfrm>
            <a:off x="2333520" y="3290400"/>
            <a:ext cx="2693520" cy="1202400"/>
            <a:chOff x="2333520" y="3290400"/>
            <a:chExt cx="2693520" cy="1202400"/>
          </a:xfrm>
        </p:grpSpPr>
        <p:grpSp>
          <p:nvGrpSpPr>
            <p:cNvPr id="198" name="Group 71"/>
            <p:cNvGrpSpPr/>
            <p:nvPr/>
          </p:nvGrpSpPr>
          <p:grpSpPr>
            <a:xfrm>
              <a:off x="2362320" y="3290400"/>
              <a:ext cx="2664720" cy="1202400"/>
              <a:chOff x="2362320" y="3290400"/>
              <a:chExt cx="2664720" cy="1202400"/>
            </a:xfrm>
          </p:grpSpPr>
          <p:grpSp>
            <p:nvGrpSpPr>
              <p:cNvPr id="199" name="Group 72"/>
              <p:cNvGrpSpPr/>
              <p:nvPr/>
            </p:nvGrpSpPr>
            <p:grpSpPr>
              <a:xfrm>
                <a:off x="2362320" y="3290400"/>
                <a:ext cx="2664720" cy="1202400"/>
                <a:chOff x="2362320" y="3290400"/>
                <a:chExt cx="2664720" cy="1202400"/>
              </a:xfrm>
            </p:grpSpPr>
            <p:sp>
              <p:nvSpPr>
                <p:cNvPr id="200" name="AutoShape 75"/>
                <p:cNvSpPr/>
                <p:nvPr/>
              </p:nvSpPr>
              <p:spPr>
                <a:xfrm rot="18900000">
                  <a:off x="4060800" y="3411000"/>
                  <a:ext cx="736560" cy="954360"/>
                </a:xfrm>
                <a:prstGeom prst="rightArrow">
                  <a:avLst>
                    <a:gd name="adj1" fmla="val 70389"/>
                    <a:gd name="adj2" fmla="val 65694"/>
                  </a:avLst>
                </a:prstGeom>
                <a:solidFill>
                  <a:srgbClr val="000000">
                    <a:alpha val="6000"/>
                  </a:srgbClr>
                </a:solidFill>
                <a:ln w="648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圆角矩形 31"/>
                <p:cNvSpPr/>
                <p:nvPr/>
              </p:nvSpPr>
              <p:spPr>
                <a:xfrm>
                  <a:off x="2362320" y="3825720"/>
                  <a:ext cx="1760400" cy="66708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000000">
                    <a:alpha val="6000"/>
                  </a:srgbClr>
                </a:solidFill>
                <a:ln w="648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" name="Group 75"/>
              <p:cNvGrpSpPr/>
              <p:nvPr/>
            </p:nvGrpSpPr>
            <p:grpSpPr>
              <a:xfrm>
                <a:off x="3806280" y="3825360"/>
                <a:ext cx="672480" cy="667440"/>
                <a:chOff x="3806280" y="3825360"/>
                <a:chExt cx="672480" cy="667440"/>
              </a:xfrm>
            </p:grpSpPr>
            <p:grpSp>
              <p:nvGrpSpPr>
                <p:cNvPr id="203" name="Group 76"/>
                <p:cNvGrpSpPr/>
                <p:nvPr/>
              </p:nvGrpSpPr>
              <p:grpSpPr>
                <a:xfrm>
                  <a:off x="3806280" y="3825360"/>
                  <a:ext cx="672480" cy="667440"/>
                  <a:chOff x="3806280" y="3825360"/>
                  <a:chExt cx="672480" cy="667440"/>
                </a:xfrm>
              </p:grpSpPr>
              <p:pic>
                <p:nvPicPr>
                  <p:cNvPr id="204" name="椭圆 2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806280" y="3825360"/>
                    <a:ext cx="672480" cy="6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05" name="Text Box 78"/>
                  <p:cNvSpPr/>
                  <p:nvPr/>
                </p:nvSpPr>
                <p:spPr>
                  <a:xfrm>
                    <a:off x="3946680" y="3940200"/>
                    <a:ext cx="397440" cy="39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Group 79"/>
                <p:cNvGrpSpPr/>
                <p:nvPr/>
              </p:nvGrpSpPr>
              <p:grpSpPr>
                <a:xfrm>
                  <a:off x="3826440" y="3840480"/>
                  <a:ext cx="586080" cy="586080"/>
                  <a:chOff x="3826440" y="3840480"/>
                  <a:chExt cx="586080" cy="586080"/>
                </a:xfrm>
              </p:grpSpPr>
              <p:pic>
                <p:nvPicPr>
                  <p:cNvPr id="207" name="椭圆 11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26440" y="3840480"/>
                    <a:ext cx="586080" cy="5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08" name="Text Box 81"/>
                  <p:cNvSpPr/>
                  <p:nvPr/>
                </p:nvSpPr>
                <p:spPr>
                  <a:xfrm>
                    <a:off x="3952080" y="3944880"/>
                    <a:ext cx="34092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09" name="Text Box 18"/>
            <p:cNvSpPr/>
            <p:nvPr/>
          </p:nvSpPr>
          <p:spPr>
            <a:xfrm>
              <a:off x="2333520" y="4009680"/>
              <a:ext cx="144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26"/>
            <p:cNvSpPr/>
            <p:nvPr/>
          </p:nvSpPr>
          <p:spPr>
            <a:xfrm>
              <a:off x="3929040" y="399240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84"/>
          <p:cNvGrpSpPr/>
          <p:nvPr/>
        </p:nvGrpSpPr>
        <p:grpSpPr>
          <a:xfrm>
            <a:off x="4918680" y="3354480"/>
            <a:ext cx="2710800" cy="1144440"/>
            <a:chOff x="4918680" y="3354480"/>
            <a:chExt cx="2710800" cy="1144440"/>
          </a:xfrm>
        </p:grpSpPr>
        <p:grpSp>
          <p:nvGrpSpPr>
            <p:cNvPr id="212" name="Group 85"/>
            <p:cNvGrpSpPr/>
            <p:nvPr/>
          </p:nvGrpSpPr>
          <p:grpSpPr>
            <a:xfrm>
              <a:off x="4918680" y="3354480"/>
              <a:ext cx="2710800" cy="1144440"/>
              <a:chOff x="4918680" y="3354480"/>
              <a:chExt cx="2710800" cy="1144440"/>
            </a:xfrm>
          </p:grpSpPr>
          <p:grpSp>
            <p:nvGrpSpPr>
              <p:cNvPr id="213" name="Group 86"/>
              <p:cNvGrpSpPr/>
              <p:nvPr/>
            </p:nvGrpSpPr>
            <p:grpSpPr>
              <a:xfrm>
                <a:off x="4918680" y="3354480"/>
                <a:ext cx="2710800" cy="1144440"/>
                <a:chOff x="4918680" y="3354480"/>
                <a:chExt cx="2710800" cy="1144440"/>
              </a:xfrm>
            </p:grpSpPr>
            <p:grpSp>
              <p:nvGrpSpPr>
                <p:cNvPr id="214" name="Group 87"/>
                <p:cNvGrpSpPr/>
                <p:nvPr/>
              </p:nvGrpSpPr>
              <p:grpSpPr>
                <a:xfrm>
                  <a:off x="4918680" y="3354480"/>
                  <a:ext cx="2710800" cy="1144440"/>
                  <a:chOff x="4918680" y="3354480"/>
                  <a:chExt cx="2710800" cy="1144440"/>
                </a:xfrm>
              </p:grpSpPr>
              <p:sp>
                <p:nvSpPr>
                  <p:cNvPr id="215" name="AutoShape 69"/>
                  <p:cNvSpPr/>
                  <p:nvPr/>
                </p:nvSpPr>
                <p:spPr>
                  <a:xfrm flipH="1" rot="2700000">
                    <a:off x="5106240" y="3501720"/>
                    <a:ext cx="768600" cy="849960"/>
                  </a:xfrm>
                  <a:prstGeom prst="rightArrow">
                    <a:avLst>
                      <a:gd name="adj1" fmla="val 70389"/>
                      <a:gd name="adj2" fmla="val 64583"/>
                    </a:avLst>
                  </a:prstGeom>
                  <a:solidFill>
                    <a:srgbClr val="000000">
                      <a:alpha val="6000"/>
                    </a:srgbClr>
                  </a:solidFill>
                  <a:ln w="6480">
                    <a:solidFill>
                      <a:srgbClr val="59595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圆角矩形 38"/>
                  <p:cNvSpPr/>
                  <p:nvPr/>
                </p:nvSpPr>
                <p:spPr>
                  <a:xfrm>
                    <a:off x="5794200" y="3870360"/>
                    <a:ext cx="1835280" cy="603360"/>
                  </a:xfrm>
                  <a:prstGeom prst="roundRect">
                    <a:avLst>
                      <a:gd name="adj" fmla="val 3278"/>
                    </a:avLst>
                  </a:prstGeom>
                  <a:solidFill>
                    <a:srgbClr val="000000">
                      <a:alpha val="6000"/>
                    </a:srgbClr>
                  </a:solidFill>
                  <a:ln w="6480">
                    <a:solidFill>
                      <a:srgbClr val="59595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7" name="Group 90"/>
                <p:cNvGrpSpPr/>
                <p:nvPr/>
              </p:nvGrpSpPr>
              <p:grpSpPr>
                <a:xfrm>
                  <a:off x="5514840" y="3806280"/>
                  <a:ext cx="672120" cy="667440"/>
                  <a:chOff x="5514840" y="3806280"/>
                  <a:chExt cx="672120" cy="667440"/>
                </a:xfrm>
              </p:grpSpPr>
              <p:grpSp>
                <p:nvGrpSpPr>
                  <p:cNvPr id="218" name="Group 91"/>
                  <p:cNvGrpSpPr/>
                  <p:nvPr/>
                </p:nvGrpSpPr>
                <p:grpSpPr>
                  <a:xfrm>
                    <a:off x="5514840" y="3806280"/>
                    <a:ext cx="672120" cy="667440"/>
                    <a:chOff x="5514840" y="3806280"/>
                    <a:chExt cx="672120" cy="667440"/>
                  </a:xfrm>
                </p:grpSpPr>
                <p:pic>
                  <p:nvPicPr>
                    <p:cNvPr id="219" name="椭圆 35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5514840" y="3806280"/>
                      <a:ext cx="672120" cy="66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20" name="Text Box 93"/>
                    <p:cNvSpPr/>
                    <p:nvPr/>
                  </p:nvSpPr>
                  <p:spPr>
                    <a:xfrm>
                      <a:off x="5652360" y="3924720"/>
                      <a:ext cx="400320" cy="391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1" name="Group 94"/>
                  <p:cNvGrpSpPr/>
                  <p:nvPr/>
                </p:nvGrpSpPr>
                <p:grpSpPr>
                  <a:xfrm>
                    <a:off x="5529960" y="3821400"/>
                    <a:ext cx="590040" cy="586800"/>
                    <a:chOff x="5529960" y="3821400"/>
                    <a:chExt cx="590040" cy="586800"/>
                  </a:xfrm>
                </p:grpSpPr>
                <p:pic>
                  <p:nvPicPr>
                    <p:cNvPr id="222" name="椭圆 117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529960" y="3821400"/>
                      <a:ext cx="590040" cy="586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23" name="Text Box 96"/>
                    <p:cNvSpPr/>
                    <p:nvPr/>
                  </p:nvSpPr>
                  <p:spPr>
                    <a:xfrm>
                      <a:off x="5658120" y="3928320"/>
                      <a:ext cx="34200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24" name="Rectangle 26"/>
              <p:cNvSpPr/>
              <p:nvPr/>
            </p:nvSpPr>
            <p:spPr>
              <a:xfrm>
                <a:off x="5636880" y="397332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" name="Text Box 18"/>
            <p:cNvSpPr/>
            <p:nvPr/>
          </p:nvSpPr>
          <p:spPr>
            <a:xfrm>
              <a:off x="6077520" y="3990600"/>
              <a:ext cx="151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Text Box 3"/>
          <p:cNvSpPr/>
          <p:nvPr/>
        </p:nvSpPr>
        <p:spPr>
          <a:xfrm>
            <a:off x="-81000" y="53481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5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5840" y="202680"/>
            <a:ext cx="628920" cy="49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28" name="Group 3"/>
          <p:cNvGrpSpPr/>
          <p:nvPr/>
        </p:nvGrpSpPr>
        <p:grpSpPr>
          <a:xfrm>
            <a:off x="1208160" y="957240"/>
            <a:ext cx="7408800" cy="3800520"/>
            <a:chOff x="1208160" y="957240"/>
            <a:chExt cx="7408800" cy="3800520"/>
          </a:xfrm>
        </p:grpSpPr>
        <p:grpSp>
          <p:nvGrpSpPr>
            <p:cNvPr id="229" name="Group 4"/>
            <p:cNvGrpSpPr/>
            <p:nvPr/>
          </p:nvGrpSpPr>
          <p:grpSpPr>
            <a:xfrm>
              <a:off x="1208160" y="1263240"/>
              <a:ext cx="7408800" cy="3494520"/>
              <a:chOff x="1208160" y="1263240"/>
              <a:chExt cx="7408800" cy="3494520"/>
            </a:xfrm>
          </p:grpSpPr>
          <p:grpSp>
            <p:nvGrpSpPr>
              <p:cNvPr id="230" name="Group 5"/>
              <p:cNvGrpSpPr/>
              <p:nvPr/>
            </p:nvGrpSpPr>
            <p:grpSpPr>
              <a:xfrm>
                <a:off x="1208160" y="1263240"/>
                <a:ext cx="7408800" cy="3494520"/>
                <a:chOff x="1208160" y="1263240"/>
                <a:chExt cx="7408800" cy="3494520"/>
              </a:xfrm>
            </p:grpSpPr>
            <p:sp>
              <p:nvSpPr>
                <p:cNvPr id="231" name="AutoShape 5"/>
                <p:cNvSpPr/>
                <p:nvPr/>
              </p:nvSpPr>
              <p:spPr>
                <a:xfrm>
                  <a:off x="1208160" y="1263240"/>
                  <a:ext cx="7408800" cy="3494520"/>
                </a:xfrm>
                <a:prstGeom prst="roundRect">
                  <a:avLst>
                    <a:gd name="adj" fmla="val 3231"/>
                  </a:avLst>
                </a:prstGeom>
                <a:noFill/>
                <a:ln w="25560">
                  <a:solidFill>
                    <a:srgbClr val="262626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pPr algn="ctr">
                    <a:lnSpc>
                      <a:spcPct val="14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9"/>
                <p:cNvSpPr/>
                <p:nvPr/>
              </p:nvSpPr>
              <p:spPr>
                <a:xfrm>
                  <a:off x="1329840" y="1368000"/>
                  <a:ext cx="7165440" cy="3285000"/>
                </a:xfrm>
                <a:prstGeom prst="roundRect">
                  <a:avLst>
                    <a:gd name="adj" fmla="val 3486"/>
                  </a:avLst>
                </a:prstGeom>
                <a:solidFill>
                  <a:srgbClr val="000000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" name="Group 8"/>
              <p:cNvGrpSpPr/>
              <p:nvPr/>
            </p:nvGrpSpPr>
            <p:grpSpPr>
              <a:xfrm>
                <a:off x="1634760" y="1844280"/>
                <a:ext cx="6475680" cy="2644200"/>
                <a:chOff x="1634760" y="1844280"/>
                <a:chExt cx="6475680" cy="2644200"/>
              </a:xfrm>
            </p:grpSpPr>
            <p:sp>
              <p:nvSpPr>
                <p:cNvPr id="234" name="Line 11"/>
                <p:cNvSpPr/>
                <p:nvPr/>
              </p:nvSpPr>
              <p:spPr>
                <a:xfrm>
                  <a:off x="3242520" y="2236320"/>
                  <a:ext cx="1440" cy="19015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Line 12"/>
                <p:cNvSpPr/>
                <p:nvPr/>
              </p:nvSpPr>
              <p:spPr>
                <a:xfrm>
                  <a:off x="4903560" y="2236320"/>
                  <a:ext cx="1440" cy="19015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Line 13"/>
                <p:cNvSpPr/>
                <p:nvPr/>
              </p:nvSpPr>
              <p:spPr>
                <a:xfrm>
                  <a:off x="6553440" y="2236320"/>
                  <a:ext cx="2880" cy="19015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Text Box 56"/>
                <p:cNvSpPr/>
                <p:nvPr/>
              </p:nvSpPr>
              <p:spPr>
                <a:xfrm>
                  <a:off x="2127240" y="4181400"/>
                  <a:ext cx="607320" cy="3070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2f4d71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Calibri"/>
                      <a:ea typeface="微软雅黑"/>
                    </a:rPr>
                    <a:t>添加文本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Text Box 57"/>
                <p:cNvSpPr/>
                <p:nvPr/>
              </p:nvSpPr>
              <p:spPr>
                <a:xfrm>
                  <a:off x="3786480" y="4181400"/>
                  <a:ext cx="607320" cy="3070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2f4d71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Calibri"/>
                      <a:ea typeface="微软雅黑"/>
                    </a:rPr>
                    <a:t>添加文本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Text Box 58"/>
                <p:cNvSpPr/>
                <p:nvPr/>
              </p:nvSpPr>
              <p:spPr>
                <a:xfrm>
                  <a:off x="5448600" y="4181400"/>
                  <a:ext cx="607320" cy="3070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2f4d71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Calibri"/>
                      <a:ea typeface="微软雅黑"/>
                    </a:rPr>
                    <a:t>添加文本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Text Box 59"/>
                <p:cNvSpPr/>
                <p:nvPr/>
              </p:nvSpPr>
              <p:spPr>
                <a:xfrm>
                  <a:off x="7117200" y="4181400"/>
                  <a:ext cx="607320" cy="3070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2f4d71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Calibri"/>
                      <a:ea typeface="微软雅黑"/>
                    </a:rPr>
                    <a:t>添加文本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AutoShape 25"/>
                <p:cNvSpPr/>
                <p:nvPr/>
              </p:nvSpPr>
              <p:spPr>
                <a:xfrm>
                  <a:off x="1936440" y="4022640"/>
                  <a:ext cx="479160" cy="120600"/>
                </a:xfrm>
                <a:prstGeom prst="rect">
                  <a:avLst/>
                </a:prstGeom>
                <a:solidFill>
                  <a:srgbClr val="262626">
                    <a:alpha val="7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AutoShape 26"/>
                <p:cNvSpPr/>
                <p:nvPr/>
              </p:nvSpPr>
              <p:spPr>
                <a:xfrm>
                  <a:off x="3590640" y="3747960"/>
                  <a:ext cx="476280" cy="395280"/>
                </a:xfrm>
                <a:prstGeom prst="rect">
                  <a:avLst/>
                </a:prstGeom>
                <a:solidFill>
                  <a:srgbClr val="262626">
                    <a:alpha val="7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AutoShape 27"/>
                <p:cNvSpPr/>
                <p:nvPr/>
              </p:nvSpPr>
              <p:spPr>
                <a:xfrm>
                  <a:off x="5251320" y="3360600"/>
                  <a:ext cx="479160" cy="782640"/>
                </a:xfrm>
                <a:prstGeom prst="rect">
                  <a:avLst/>
                </a:prstGeom>
                <a:solidFill>
                  <a:srgbClr val="262626">
                    <a:alpha val="7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AutoShape 28"/>
                <p:cNvSpPr/>
                <p:nvPr/>
              </p:nvSpPr>
              <p:spPr>
                <a:xfrm>
                  <a:off x="6902640" y="3244680"/>
                  <a:ext cx="477720" cy="898560"/>
                </a:xfrm>
                <a:prstGeom prst="rect">
                  <a:avLst/>
                </a:prstGeom>
                <a:solidFill>
                  <a:srgbClr val="262626">
                    <a:alpha val="7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AutoShape 29"/>
                <p:cNvSpPr/>
                <p:nvPr/>
              </p:nvSpPr>
              <p:spPr>
                <a:xfrm>
                  <a:off x="2415960" y="3167280"/>
                  <a:ext cx="465840" cy="974880"/>
                </a:xfrm>
                <a:prstGeom prst="rect">
                  <a:avLst/>
                </a:prstGeom>
                <a:solidFill>
                  <a:srgbClr val="ffff00">
                    <a:alpha val="50000"/>
                  </a:srgbClr>
                </a:solidFill>
                <a:ln w="12600">
                  <a:solidFill>
                    <a:srgbClr val="ffc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AutoShape 30"/>
                <p:cNvSpPr/>
                <p:nvPr/>
              </p:nvSpPr>
              <p:spPr>
                <a:xfrm>
                  <a:off x="4066200" y="3321000"/>
                  <a:ext cx="479160" cy="821160"/>
                </a:xfrm>
                <a:prstGeom prst="rect">
                  <a:avLst/>
                </a:prstGeom>
                <a:solidFill>
                  <a:srgbClr val="ffff00">
                    <a:alpha val="50000"/>
                  </a:srgbClr>
                </a:solidFill>
                <a:ln w="12600">
                  <a:solidFill>
                    <a:srgbClr val="ffc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AutoShape 31"/>
                <p:cNvSpPr/>
                <p:nvPr/>
              </p:nvSpPr>
              <p:spPr>
                <a:xfrm>
                  <a:off x="5739840" y="2849040"/>
                  <a:ext cx="465840" cy="1293120"/>
                </a:xfrm>
                <a:prstGeom prst="rect">
                  <a:avLst/>
                </a:prstGeom>
                <a:solidFill>
                  <a:srgbClr val="ffff00">
                    <a:alpha val="50000"/>
                  </a:srgbClr>
                </a:solidFill>
                <a:ln w="12600">
                  <a:solidFill>
                    <a:srgbClr val="ffc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AutoShape 32"/>
                <p:cNvSpPr/>
                <p:nvPr/>
              </p:nvSpPr>
              <p:spPr>
                <a:xfrm>
                  <a:off x="7380360" y="3084120"/>
                  <a:ext cx="468720" cy="1058040"/>
                </a:xfrm>
                <a:prstGeom prst="rect">
                  <a:avLst/>
                </a:prstGeom>
                <a:solidFill>
                  <a:srgbClr val="ffff00">
                    <a:alpha val="50000"/>
                  </a:srgbClr>
                </a:solidFill>
                <a:ln w="12600">
                  <a:solidFill>
                    <a:srgbClr val="ffc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Text Box 56"/>
                <p:cNvSpPr/>
                <p:nvPr/>
              </p:nvSpPr>
              <p:spPr>
                <a:xfrm>
                  <a:off x="2459160" y="2906280"/>
                  <a:ext cx="394200" cy="3070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2f4d71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Calibri"/>
                      <a:ea typeface="微软雅黑"/>
                    </a:rPr>
                    <a:t>文本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Text Box 56"/>
                <p:cNvSpPr/>
                <p:nvPr/>
              </p:nvSpPr>
              <p:spPr>
                <a:xfrm>
                  <a:off x="1990800" y="3763800"/>
                  <a:ext cx="394200" cy="3070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2f4d71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Calibri"/>
                      <a:ea typeface="微软雅黑"/>
                    </a:rPr>
                    <a:t>文本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Text Box 56"/>
                <p:cNvSpPr/>
                <p:nvPr/>
              </p:nvSpPr>
              <p:spPr>
                <a:xfrm>
                  <a:off x="3902040" y="3045960"/>
                  <a:ext cx="799920" cy="3070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2f4d71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Calibri"/>
                      <a:ea typeface="微软雅黑"/>
                    </a:rPr>
                    <a:t>文本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Text Box 56"/>
                <p:cNvSpPr/>
                <p:nvPr/>
              </p:nvSpPr>
              <p:spPr>
                <a:xfrm>
                  <a:off x="3638520" y="3481200"/>
                  <a:ext cx="394200" cy="3070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2f4d71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Calibri"/>
                      <a:ea typeface="微软雅黑"/>
                    </a:rPr>
                    <a:t>文本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Text Box 56"/>
                <p:cNvSpPr/>
                <p:nvPr/>
              </p:nvSpPr>
              <p:spPr>
                <a:xfrm>
                  <a:off x="5616360" y="2553840"/>
                  <a:ext cx="723600" cy="3070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2f4d71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Calibri"/>
                      <a:ea typeface="微软雅黑"/>
                    </a:rPr>
                    <a:t>文本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Text Box 56"/>
                <p:cNvSpPr/>
                <p:nvPr/>
              </p:nvSpPr>
              <p:spPr>
                <a:xfrm>
                  <a:off x="5285160" y="3097080"/>
                  <a:ext cx="394200" cy="3070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2f4d71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Calibri"/>
                      <a:ea typeface="微软雅黑"/>
                    </a:rPr>
                    <a:t>文本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Text Box 56"/>
                <p:cNvSpPr/>
                <p:nvPr/>
              </p:nvSpPr>
              <p:spPr>
                <a:xfrm>
                  <a:off x="7350120" y="2835000"/>
                  <a:ext cx="623880" cy="3070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2f4d71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Calibri"/>
                      <a:ea typeface="微软雅黑"/>
                    </a:rPr>
                    <a:t>文本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Text Box 56"/>
                <p:cNvSpPr/>
                <p:nvPr/>
              </p:nvSpPr>
              <p:spPr>
                <a:xfrm>
                  <a:off x="6944040" y="2979360"/>
                  <a:ext cx="394200" cy="3070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2f4d71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Calibri"/>
                      <a:ea typeface="微软雅黑"/>
                    </a:rPr>
                    <a:t>文本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Line 8"/>
                <p:cNvSpPr/>
                <p:nvPr/>
              </p:nvSpPr>
              <p:spPr>
                <a:xfrm>
                  <a:off x="1643760" y="1844280"/>
                  <a:ext cx="0" cy="22935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Line 8"/>
                <p:cNvSpPr/>
                <p:nvPr/>
              </p:nvSpPr>
              <p:spPr>
                <a:xfrm>
                  <a:off x="1634760" y="4137840"/>
                  <a:ext cx="6475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9" name="Group 34"/>
            <p:cNvGrpSpPr/>
            <p:nvPr/>
          </p:nvGrpSpPr>
          <p:grpSpPr>
            <a:xfrm>
              <a:off x="1886040" y="957240"/>
              <a:ext cx="6100920" cy="534240"/>
              <a:chOff x="1886040" y="957240"/>
              <a:chExt cx="6100920" cy="534240"/>
            </a:xfrm>
          </p:grpSpPr>
          <p:grpSp>
            <p:nvGrpSpPr>
              <p:cNvPr id="260" name="Group 35"/>
              <p:cNvGrpSpPr/>
              <p:nvPr/>
            </p:nvGrpSpPr>
            <p:grpSpPr>
              <a:xfrm>
                <a:off x="1886040" y="957240"/>
                <a:ext cx="6100920" cy="534240"/>
                <a:chOff x="1886040" y="957240"/>
                <a:chExt cx="6100920" cy="534240"/>
              </a:xfrm>
            </p:grpSpPr>
            <p:grpSp>
              <p:nvGrpSpPr>
                <p:cNvPr id="261" name="Group 36"/>
                <p:cNvGrpSpPr/>
                <p:nvPr/>
              </p:nvGrpSpPr>
              <p:grpSpPr>
                <a:xfrm>
                  <a:off x="1886040" y="957240"/>
                  <a:ext cx="6100920" cy="534240"/>
                  <a:chOff x="1886040" y="957240"/>
                  <a:chExt cx="6100920" cy="534240"/>
                </a:xfrm>
              </p:grpSpPr>
              <p:pic>
                <p:nvPicPr>
                  <p:cNvPr id="262" name="AutoShape 3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886040" y="957240"/>
                    <a:ext cx="6100920" cy="53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63" name="Text Box 38"/>
                  <p:cNvSpPr/>
                  <p:nvPr/>
                </p:nvSpPr>
                <p:spPr>
                  <a:xfrm>
                    <a:off x="1979280" y="1011960"/>
                    <a:ext cx="5923440" cy="384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4" name="Group 39"/>
                <p:cNvGrpSpPr/>
                <p:nvPr/>
              </p:nvGrpSpPr>
              <p:grpSpPr>
                <a:xfrm>
                  <a:off x="1886040" y="1020240"/>
                  <a:ext cx="6100920" cy="403200"/>
                  <a:chOff x="1886040" y="1020240"/>
                  <a:chExt cx="6100920" cy="403200"/>
                </a:xfrm>
              </p:grpSpPr>
              <p:pic>
                <p:nvPicPr>
                  <p:cNvPr id="265" name="AutoShap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86040" y="1020240"/>
                    <a:ext cx="610092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66" name="Text Box 41"/>
                  <p:cNvSpPr/>
                  <p:nvPr/>
                </p:nvSpPr>
                <p:spPr>
                  <a:xfrm>
                    <a:off x="1971720" y="1070280"/>
                    <a:ext cx="5936760" cy="267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67" name="Rectangle 13"/>
              <p:cNvSpPr/>
              <p:nvPr/>
            </p:nvSpPr>
            <p:spPr>
              <a:xfrm>
                <a:off x="4434840" y="103536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添加标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5840" y="202680"/>
            <a:ext cx="628920" cy="49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9" name="Picture 6" descr=""/>
          <p:cNvPicPr/>
          <p:nvPr/>
        </p:nvPicPr>
        <p:blipFill>
          <a:blip r:embed="rId1"/>
          <a:stretch/>
        </p:blipFill>
        <p:spPr>
          <a:xfrm>
            <a:off x="2004840" y="639720"/>
            <a:ext cx="5870880" cy="362124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3"/>
          <p:cNvSpPr/>
          <p:nvPr/>
        </p:nvSpPr>
        <p:spPr>
          <a:xfrm>
            <a:off x="-81000" y="53481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图片 4" descr="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272" name="TextBox 6"/>
          <p:cNvSpPr/>
          <p:nvPr/>
        </p:nvSpPr>
        <p:spPr>
          <a:xfrm>
            <a:off x="6916680" y="1193760"/>
            <a:ext cx="19382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1T06:30:29Z</dcterms:created>
  <dc:creator>Administrator</dc:creator>
  <dc:description/>
  <dc:language>en-US</dc:language>
  <cp:lastModifiedBy>王玉清</cp:lastModifiedBy>
  <cp:lastPrinted>1899-12-30T00:00:00Z</cp:lastPrinted>
  <dcterms:modified xsi:type="dcterms:W3CDTF">2016-02-22T02:54:22Z</dcterms:modified>
  <cp:revision>5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5.0.1966</vt:lpwstr>
  </property>
</Properties>
</file>