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525A-ED34-4C58-958D-FB36F6A9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C263-877E-4FEF-9852-993B85B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E7C12-DED1-433D-883E-F2FBF795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DDD0F-6A41-4209-AFA5-BC7BE4D0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BDC7-B63F-4D74-8E0F-1C67A82A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234E-8C8D-4B58-9B71-6C64D661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02C5-9BBF-4655-801E-E89B3186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193F-8B51-45EA-85FF-FC3BDE87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579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8D82-9DFE-4765-B173-2AF35806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2DA3-25DD-442A-B449-90B4060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1707-6463-4270-B019-66ADE76C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D9F4-DAD6-425C-B8AB-D659BD1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5"/>
          <p:cNvSpPr/>
          <p:nvPr/>
        </p:nvSpPr>
        <p:spPr>
          <a:xfrm>
            <a:off x="6969240" y="561960"/>
            <a:ext cx="182088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f94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3" descr="global1"/>
          <p:cNvPicPr/>
          <p:nvPr/>
        </p:nvPicPr>
        <p:blipFill>
          <a:blip r:embed="rId2"/>
          <a:stretch/>
        </p:blipFill>
        <p:spPr>
          <a:xfrm>
            <a:off x="0" y="0"/>
            <a:ext cx="9144000" cy="2238480"/>
          </a:xfrm>
          <a:prstGeom prst="rect">
            <a:avLst/>
          </a:prstGeom>
          <a:ln w="0">
            <a:noFill/>
          </a:ln>
        </p:spPr>
      </p:pic>
      <p:pic>
        <p:nvPicPr>
          <p:cNvPr id="2" name="Object 84" descr=""/>
          <p:cNvPicPr/>
          <p:nvPr/>
        </p:nvPicPr>
        <p:blipFill>
          <a:blip r:embed="rId3"/>
          <a:stretch/>
        </p:blipFill>
        <p:spPr>
          <a:xfrm>
            <a:off x="0" y="5122800"/>
            <a:ext cx="9144000" cy="173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7f59"/>
              </a:buClr>
              <a:buFont typeface="Wingdings" charset="2"/>
              <a:buChar char=""/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f94d3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171840" y="6548040"/>
            <a:ext cx="2590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3428640" y="6537240"/>
            <a:ext cx="21337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83A6-CC3D-4038-B57D-30B0C11763FA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457200" y="6543720"/>
            <a:ext cx="228600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4"/>
          <p:cNvSpPr/>
          <p:nvPr/>
        </p:nvSpPr>
        <p:spPr>
          <a:xfrm>
            <a:off x="304920" y="228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320" y="2491920"/>
            <a:ext cx="79725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Verdana"/>
              </a:rPr>
              <a:t>蓝色圆圈印象派时尚商务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99"/>
                </a:solidFill>
                <a:latin typeface="Arial"/>
              </a:rPr>
              <a:t>3-D Pie Chart</a:t>
            </a:r>
            <a:endParaRPr b="1" i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210" name="Oval 4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b2b2b2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7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>
                <a:gd name="textAreaLeft" fmla="*/ 0 w 2849400"/>
                <a:gd name="textAreaRight" fmla="*/ 2849760 w 2849400"/>
                <a:gd name="textAreaTop" fmla="*/ 0 h 1967040"/>
                <a:gd name="textAreaBottom" fmla="*/ 1967400 h 1967040"/>
              </a:gdLst>
              <a:ahLst/>
              <a:rect l="textAreaLeft" t="textAreaTop" r="textAreaRight" b="textAreaBottom"/>
              <a:pathLst>
                <a:path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7f59"/>
                </a:gs>
                <a:gs pos="100000">
                  <a:srgbClr val="7bab91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>
                <a:gd name="textAreaLeft" fmla="*/ -360 w 3281400"/>
                <a:gd name="textAreaRight" fmla="*/ 3281400 w 32814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f94d3"/>
                </a:gs>
                <a:gs pos="100000">
                  <a:srgbClr val="2f587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>
                <a:gd name="textAreaLeft" fmla="*/ 0 w 3133800"/>
                <a:gd name="textAreaRight" fmla="*/ 3134160 w 313380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2f5e6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>
                <a:gd name="textAreaLeft" fmla="*/ -360 w 2849400"/>
                <a:gd name="textAreaRight" fmla="*/ 2849400 w 2849400"/>
                <a:gd name="textAreaTop" fmla="*/ 0 h 2111400"/>
                <a:gd name="textAreaBottom" fmla="*/ 2111760 h 2111400"/>
              </a:gdLst>
              <a:ahLst/>
              <a:rect l="textAreaLeft" t="textAreaTop" r="textAreaRight" b="textAreaBottom"/>
              <a:pathLst>
                <a:path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34ca"/>
                </a:gs>
                <a:gs pos="100000">
                  <a:srgbClr val="2d1c6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eeeee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15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222" name="Freeform 16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>
                  <a:gd name="textAreaLeft" fmla="*/ 0 w 1773000"/>
                  <a:gd name="textAreaRight" fmla="*/ 1773360 w 1773000"/>
                  <a:gd name="textAreaTop" fmla="*/ 0 h 1776240"/>
                  <a:gd name="textAreaBottom" fmla="*/ 1776600 h 1776240"/>
                </a:gdLst>
                <a:ahLst/>
                <a:rect l="textAreaLeft" t="textAreaTop" r="textAreaRight" b="textAreaBottom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c4c00"/>
                  </a:gs>
                  <a:gs pos="100000">
                    <a:srgbClr val="8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rc 17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>
                  <a:gd name="textAreaLeft" fmla="*/ 0 w 2728800"/>
                  <a:gd name="textAreaRight" fmla="*/ 2729160 w 2728800"/>
                  <a:gd name="textAreaTop" fmla="*/ 0 h 1859040"/>
                  <a:gd name="textAreaBottom" fmla="*/ 1859400 h 1859040"/>
                </a:gdLst>
                <a:ahLst/>
                <a:rect l="textAreaLeft" t="textAreaTop" r="textAreaRight" b="textAreaBottom"/>
                <a:pathLst>
                  <a:path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3a3a00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>
                  <a:gd name="textAreaLeft" fmla="*/ 0 w 924120"/>
                  <a:gd name="textAreaRight" fmla="*/ 924480 w 924120"/>
                  <a:gd name="textAreaTop" fmla="*/ 0 h 1311120"/>
                  <a:gd name="textAreaBottom" fmla="*/ 1311480 h 1311120"/>
                </a:gdLst>
                <a:ahLst/>
                <a:rect l="textAreaLeft" t="textAreaTop" r="textAreaRight" b="textAreaBottom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3a3a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9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2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Block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232" name="AutoShape 3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377f5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94d3"/>
                </a:gs>
                <a:gs pos="50000">
                  <a:srgbClr val="b4d3eb"/>
                </a:gs>
                <a:gs pos="100000">
                  <a:srgbClr val="4f94d3"/>
                </a:gs>
              </a:gsLst>
              <a:lin ang="0"/>
            </a:gra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5"/>
            <p:cNvSpPr/>
            <p:nvPr/>
          </p:nvSpPr>
          <p:spPr>
            <a:xfrm>
              <a:off x="3755880" y="28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6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236" name="Group 7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237" name="Oval 8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34ca"/>
                    </a:gs>
                    <a:gs pos="100000">
                      <a:srgbClr val="3421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9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>
                    <a:gd name="textAreaLeft" fmla="*/ 0 w 1146240"/>
                    <a:gd name="textAreaRight" fmla="*/ 1146600 w 1146240"/>
                    <a:gd name="textAreaTop" fmla="*/ 0 h 571320"/>
                    <a:gd name="textAreaBottom" fmla="*/ 571320 h 571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34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Text Box 10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2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241" name="Group 13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242" name="Oval 14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00"/>
                    </a:gs>
                    <a:gs pos="100000">
                      <a:srgbClr val="1e1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5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>
                    <a:gd name="textAreaLeft" fmla="*/ 0 w 1175760"/>
                    <a:gd name="textAreaRight" fmla="*/ 1176120 w 1175760"/>
                    <a:gd name="textAreaTop" fmla="*/ 0 h 577800"/>
                    <a:gd name="textAreaBottom" fmla="*/ 578160 h 5778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Text Box 16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8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sp>
            <p:nvSpPr>
              <p:cNvPr id="246" name="Oval 19"/>
              <p:cNvSpPr/>
              <p:nvPr/>
            </p:nvSpPr>
            <p:spPr>
              <a:xfrm>
                <a:off x="2819520" y="408276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77f59"/>
                  </a:gs>
                  <a:gs pos="100000">
                    <a:srgbClr val="1c40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"/>
              <p:cNvSpPr/>
              <p:nvPr/>
            </p:nvSpPr>
            <p:spPr>
              <a:xfrm>
                <a:off x="2993760" y="4107960"/>
                <a:ext cx="1175400" cy="573840"/>
              </a:xfrm>
              <a:custGeom>
                <a:avLst/>
                <a:gdLst>
                  <a:gd name="textAreaLeft" fmla="*/ 0 w 1175400"/>
                  <a:gd name="textAreaRight" fmla="*/ 1175760 w 1175400"/>
                  <a:gd name="textAreaTop" fmla="*/ 0 h 573840"/>
                  <a:gd name="textAreaBottom" fmla="*/ 574200 h 573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77f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 Box 21"/>
            <p:cNvSpPr/>
            <p:nvPr/>
          </p:nvSpPr>
          <p:spPr>
            <a:xfrm>
              <a:off x="2895480" y="48132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Concep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3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250" name="Group 24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251" name="Oval 25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94d3"/>
                    </a:gs>
                    <a:gs pos="100000">
                      <a:srgbClr val="274b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26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>
                    <a:gd name="textAreaLeft" fmla="*/ 0 w 1175400"/>
                    <a:gd name="textAreaRight" fmla="*/ 1175760 w 1175400"/>
                    <a:gd name="textAreaTop" fmla="*/ 0 h 573840"/>
                    <a:gd name="textAreaBottom" fmla="*/ 574200 h 5738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f94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Text Box 27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64"/>
          <p:cNvSpPr/>
          <p:nvPr/>
        </p:nvSpPr>
        <p:spPr>
          <a:xfrm>
            <a:off x="304920" y="228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7"/>
          <p:cNvSpPr txBox="1"/>
          <p:nvPr/>
        </p:nvSpPr>
        <p:spPr>
          <a:xfrm>
            <a:off x="2133720" y="3505320"/>
            <a:ext cx="5486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beve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4f94d3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bevel/>
              </a:ln>
              <a:gradFill rotWithShape="0">
                <a:gsLst>
                  <a:gs pos="0">
                    <a:srgbClr val="003399"/>
                  </a:gs>
                  <a:gs pos="100000">
                    <a:srgbClr val="4f94d3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58" name="Group 24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59" name="Freeform 3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155240"/>
                <a:gd name="textAreaBottom" fmla="*/ 1155600 h 1155240"/>
              </a:gdLst>
              <a:ahLst/>
              <a:rect l="textAreaLeft" t="textAreaTop" r="textAreaRight" b="textAreaBottom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b8b6a"/>
                </a:gs>
                <a:gs pos="100000">
                  <a:srgbClr val="377f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4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434c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7185d"/>
                </a:gs>
                <a:gs pos="50000">
                  <a:srgbClr val="5434ca"/>
                </a:gs>
                <a:gs pos="100000">
                  <a:srgbClr val="2718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77f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3a29"/>
                </a:gs>
                <a:gs pos="50000">
                  <a:srgbClr val="377f59"/>
                </a:gs>
                <a:gs pos="100000">
                  <a:srgbClr val="193a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157040"/>
                <a:gd name="textAreaBottom" fmla="*/ 1157040 h 1157040"/>
              </a:gdLst>
              <a:ahLst/>
              <a:rect l="textAreaLeft" t="textAreaTop" r="textAreaRight" b="textAreaBottom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6b66d"/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4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5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72" name="AutoShape 16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08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AutoShape 17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03000"/>
                  </a:gs>
                  <a:gs pos="50000">
                    <a:srgbClr val="808000"/>
                  </a:gs>
                  <a:gs pos="100000">
                    <a:srgbClr val="303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8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9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20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Add Your Titl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21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Verdana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Verdana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22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3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82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83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8" y="0"/>
                  </a:moveTo>
                  <a:arcTo wR="2968" hR="2968" stAng="16200000" swAng="-5400000"/>
                  <a:lnTo>
                    <a:pt x="0" y="23867"/>
                  </a:lnTo>
                  <a:arcTo wR="2968" hR="2968" stAng="10800000" swAng="-5400000"/>
                  <a:lnTo>
                    <a:pt x="18632" y="26835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8" y="0"/>
                  </a:moveTo>
                  <a:arcTo wR="2968" hR="2968" stAng="16200000" swAng="-5400000"/>
                  <a:lnTo>
                    <a:pt x="0" y="24031"/>
                  </a:lnTo>
                  <a:arcTo wR="2968" hR="2968" stAng="10800000" swAng="-5400000"/>
                  <a:lnTo>
                    <a:pt x="18632" y="26999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200 w 1752480"/>
                <a:gd name="textAreaRight" fmla="*/ 1682280 w 1752480"/>
                <a:gd name="textAreaTop" fmla="*/ 70200 h 2286000"/>
                <a:gd name="textAreaBottom" fmla="*/ 221580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8" y="0"/>
                  </a:moveTo>
                  <a:arcTo wR="2968" hR="2968" stAng="16200000" swAng="-5400000"/>
                  <a:lnTo>
                    <a:pt x="0" y="25206"/>
                  </a:lnTo>
                  <a:arcTo wR="2968" hR="2968" stAng="10800000" swAng="-5400000"/>
                  <a:lnTo>
                    <a:pt x="18632" y="28174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7f5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e4330"/>
                </a:gs>
                <a:gs pos="50000">
                  <a:srgbClr val="377f59"/>
                </a:gs>
                <a:gs pos="100000">
                  <a:srgbClr val="1e433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25038"/>
                </a:gs>
                <a:gs pos="100000">
                  <a:srgbClr val="377f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44400"/>
                </a:gs>
                <a:gs pos="50000">
                  <a:srgbClr val="808000"/>
                </a:gs>
                <a:gs pos="100000">
                  <a:srgbClr val="44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05000"/>
                </a:gs>
                <a:gs pos="100000">
                  <a:srgbClr val="8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99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f94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f94d3"/>
                </a:gs>
                <a:gs pos="100000">
                  <a:srgbClr val="2344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a5071"/>
                </a:gs>
                <a:gs pos="50000">
                  <a:srgbClr val="4f94d3"/>
                </a:gs>
                <a:gs pos="100000">
                  <a:srgbClr val="2a507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15d85"/>
                </a:gs>
                <a:gs pos="100000">
                  <a:srgbClr val="4f94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09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14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0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31"/>
          <p:cNvGrpSpPr/>
          <p:nvPr/>
        </p:nvGrpSpPr>
        <p:grpSpPr>
          <a:xfrm>
            <a:off x="1447920" y="1406520"/>
            <a:ext cx="5715000" cy="4842000"/>
            <a:chOff x="1447920" y="1406520"/>
            <a:chExt cx="5715000" cy="4842000"/>
          </a:xfrm>
        </p:grpSpPr>
        <p:sp>
          <p:nvSpPr>
            <p:cNvPr id="323" name="Rectangle 3"/>
            <p:cNvSpPr/>
            <p:nvPr/>
          </p:nvSpPr>
          <p:spPr>
            <a:xfrm rot="13770000">
              <a:off x="4783320" y="399384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9d9d9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"/>
            <p:cNvSpPr/>
            <p:nvPr/>
          </p:nvSpPr>
          <p:spPr>
            <a:xfrm rot="20856000">
              <a:off x="2755800" y="351108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bdbdb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 rot="18394200">
              <a:off x="4918320" y="235548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7e7e7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3719520" y="2389320"/>
              <a:ext cx="1652760" cy="1684080"/>
              <a:chOff x="3719520" y="2389320"/>
              <a:chExt cx="1652760" cy="1684080"/>
            </a:xfrm>
          </p:grpSpPr>
          <p:grpSp>
            <p:nvGrpSpPr>
              <p:cNvPr id="327" name="Group 7"/>
              <p:cNvGrpSpPr/>
              <p:nvPr/>
            </p:nvGrpSpPr>
            <p:grpSpPr>
              <a:xfrm>
                <a:off x="3719520" y="2389320"/>
                <a:ext cx="1652760" cy="1684080"/>
                <a:chOff x="3719520" y="2389320"/>
                <a:chExt cx="1652760" cy="1684080"/>
              </a:xfrm>
            </p:grpSpPr>
            <p:sp>
              <p:nvSpPr>
                <p:cNvPr id="328" name="Oval 8"/>
                <p:cNvSpPr/>
                <p:nvPr/>
              </p:nvSpPr>
              <p:spPr>
                <a:xfrm>
                  <a:off x="3719520" y="238932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00"/>
                    </a:gs>
                    <a:gs pos="100000">
                      <a:srgbClr val="1e1e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9"/>
                <p:cNvSpPr/>
                <p:nvPr/>
              </p:nvSpPr>
              <p:spPr>
                <a:xfrm>
                  <a:off x="3908160" y="2417040"/>
                  <a:ext cx="1275120" cy="635400"/>
                </a:xfrm>
                <a:custGeom>
                  <a:avLst/>
                  <a:gdLst>
                    <a:gd name="textAreaLeft" fmla="*/ 0 w 1275120"/>
                    <a:gd name="textAreaRight" fmla="*/ 1275480 w 1275120"/>
                    <a:gd name="textAreaTop" fmla="*/ 0 h 635400"/>
                    <a:gd name="textAreaBottom" fmla="*/ 635400 h 635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Text Box 10"/>
              <p:cNvSpPr/>
              <p:nvPr/>
            </p:nvSpPr>
            <p:spPr>
              <a:xfrm>
                <a:off x="3826440" y="3121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Concept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11"/>
            <p:cNvGrpSpPr/>
            <p:nvPr/>
          </p:nvGrpSpPr>
          <p:grpSpPr>
            <a:xfrm>
              <a:off x="5166000" y="1406520"/>
              <a:ext cx="925200" cy="912960"/>
              <a:chOff x="5166000" y="1406520"/>
              <a:chExt cx="925200" cy="912960"/>
            </a:xfrm>
          </p:grpSpPr>
          <p:grpSp>
            <p:nvGrpSpPr>
              <p:cNvPr id="332" name="Group 12"/>
              <p:cNvGrpSpPr/>
              <p:nvPr/>
            </p:nvGrpSpPr>
            <p:grpSpPr>
              <a:xfrm>
                <a:off x="5166000" y="1406520"/>
                <a:ext cx="894600" cy="912960"/>
                <a:chOff x="5166000" y="1406520"/>
                <a:chExt cx="894600" cy="912960"/>
              </a:xfrm>
            </p:grpSpPr>
            <p:sp>
              <p:nvSpPr>
                <p:cNvPr id="333" name="Oval 13"/>
                <p:cNvSpPr/>
                <p:nvPr/>
              </p:nvSpPr>
              <p:spPr>
                <a:xfrm>
                  <a:off x="5166000" y="140652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94d3"/>
                    </a:gs>
                    <a:gs pos="100000">
                      <a:srgbClr val="1223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14"/>
                <p:cNvSpPr/>
                <p:nvPr/>
              </p:nvSpPr>
              <p:spPr>
                <a:xfrm>
                  <a:off x="5268240" y="1421640"/>
                  <a:ext cx="690120" cy="344520"/>
                </a:xfrm>
                <a:custGeom>
                  <a:avLst/>
                  <a:gdLst>
                    <a:gd name="textAreaLeft" fmla="*/ 0 w 690120"/>
                    <a:gd name="textAreaRight" fmla="*/ 690480 w 690120"/>
                    <a:gd name="textAreaTop" fmla="*/ 0 h 344520"/>
                    <a:gd name="textAreaBottom" fmla="*/ 344520 h 3445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f94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 Box 15"/>
              <p:cNvSpPr/>
              <p:nvPr/>
            </p:nvSpPr>
            <p:spPr>
              <a:xfrm>
                <a:off x="5181840" y="17571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16"/>
            <p:cNvGrpSpPr/>
            <p:nvPr/>
          </p:nvGrpSpPr>
          <p:grpSpPr>
            <a:xfrm>
              <a:off x="1447920" y="2739960"/>
              <a:ext cx="1790640" cy="1895400"/>
              <a:chOff x="1447920" y="2739960"/>
              <a:chExt cx="1790640" cy="1895400"/>
            </a:xfrm>
          </p:grpSpPr>
          <p:grpSp>
            <p:nvGrpSpPr>
              <p:cNvPr id="337" name="Group 17"/>
              <p:cNvGrpSpPr/>
              <p:nvPr/>
            </p:nvGrpSpPr>
            <p:grpSpPr>
              <a:xfrm>
                <a:off x="1447920" y="2739960"/>
                <a:ext cx="1790640" cy="1895400"/>
                <a:chOff x="1447920" y="2739960"/>
                <a:chExt cx="1790640" cy="1895400"/>
              </a:xfrm>
            </p:grpSpPr>
            <p:sp>
              <p:nvSpPr>
                <p:cNvPr id="338" name="Oval 18"/>
                <p:cNvSpPr/>
                <p:nvPr/>
              </p:nvSpPr>
              <p:spPr>
                <a:xfrm>
                  <a:off x="1447920" y="273996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34ca"/>
                    </a:gs>
                    <a:gs pos="100000">
                      <a:srgbClr val="34217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19"/>
                <p:cNvSpPr/>
                <p:nvPr/>
              </p:nvSpPr>
              <p:spPr>
                <a:xfrm>
                  <a:off x="1652400" y="2771280"/>
                  <a:ext cx="1381320" cy="715320"/>
                </a:xfrm>
                <a:custGeom>
                  <a:avLst/>
                  <a:gdLst>
                    <a:gd name="textAreaLeft" fmla="*/ 0 w 1381320"/>
                    <a:gd name="textAreaRight" fmla="*/ 1381680 w 1381320"/>
                    <a:gd name="textAreaTop" fmla="*/ 0 h 715320"/>
                    <a:gd name="textAreaBottom" fmla="*/ 715320 h 715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34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Text Box 20"/>
              <p:cNvSpPr/>
              <p:nvPr/>
            </p:nvSpPr>
            <p:spPr>
              <a:xfrm>
                <a:off x="1564200" y="3582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21"/>
            <p:cNvGrpSpPr/>
            <p:nvPr/>
          </p:nvGrpSpPr>
          <p:grpSpPr>
            <a:xfrm>
              <a:off x="5097600" y="4143240"/>
              <a:ext cx="2065320" cy="2105280"/>
              <a:chOff x="5097600" y="4143240"/>
              <a:chExt cx="2065320" cy="2105280"/>
            </a:xfrm>
          </p:grpSpPr>
          <p:grpSp>
            <p:nvGrpSpPr>
              <p:cNvPr id="342" name="Group 22"/>
              <p:cNvGrpSpPr/>
              <p:nvPr/>
            </p:nvGrpSpPr>
            <p:grpSpPr>
              <a:xfrm>
                <a:off x="5097600" y="4143240"/>
                <a:ext cx="2065320" cy="2105280"/>
                <a:chOff x="5097600" y="4143240"/>
                <a:chExt cx="2065320" cy="2105280"/>
              </a:xfrm>
            </p:grpSpPr>
            <p:sp>
              <p:nvSpPr>
                <p:cNvPr id="343" name="Oval 23"/>
                <p:cNvSpPr/>
                <p:nvPr/>
              </p:nvSpPr>
              <p:spPr>
                <a:xfrm>
                  <a:off x="5097600" y="41432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77f59"/>
                    </a:gs>
                    <a:gs pos="100000">
                      <a:srgbClr val="1c402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24"/>
                <p:cNvSpPr/>
                <p:nvPr/>
              </p:nvSpPr>
              <p:spPr>
                <a:xfrm>
                  <a:off x="5333400" y="4178160"/>
                  <a:ext cx="1593360" cy="794520"/>
                </a:xfrm>
                <a:custGeom>
                  <a:avLst/>
                  <a:gdLst>
                    <a:gd name="textAreaLeft" fmla="*/ 0 w 1593360"/>
                    <a:gd name="textAreaRight" fmla="*/ 1593720 w 1593360"/>
                    <a:gd name="textAreaTop" fmla="*/ 0 h 794520"/>
                    <a:gd name="textAreaBottom" fmla="*/ 794880 h 7945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77f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Text Box 25"/>
              <p:cNvSpPr/>
              <p:nvPr/>
            </p:nvSpPr>
            <p:spPr>
              <a:xfrm>
                <a:off x="5412600" y="5055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Marketing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9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50" name="AutoShape 3"/>
            <p:cNvSpPr/>
            <p:nvPr/>
          </p:nvSpPr>
          <p:spPr>
            <a:xfrm rot="17973000">
              <a:off x="4563000" y="2537280"/>
              <a:ext cx="792000" cy="289080"/>
            </a:xfrm>
            <a:prstGeom prst="rightArrow">
              <a:avLst>
                <a:gd name="adj1" fmla="val 35176"/>
                <a:gd name="adj2" fmla="val 110946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"/>
            <p:cNvSpPr/>
            <p:nvPr/>
          </p:nvSpPr>
          <p:spPr>
            <a:xfrm rot="3465600">
              <a:off x="4613400" y="4647600"/>
              <a:ext cx="792000" cy="289080"/>
            </a:xfrm>
            <a:prstGeom prst="rightArrow">
              <a:avLst>
                <a:gd name="adj1" fmla="val 35176"/>
                <a:gd name="adj2" fmla="val 110946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5"/>
            <p:cNvSpPr/>
            <p:nvPr/>
          </p:nvSpPr>
          <p:spPr>
            <a:xfrm rot="14368800">
              <a:off x="3394440" y="255960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6"/>
            <p:cNvSpPr/>
            <p:nvPr/>
          </p:nvSpPr>
          <p:spPr>
            <a:xfrm rot="7534800">
              <a:off x="3356280" y="461412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76"/>
                <a:gd name="adj2" fmla="val 120968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9d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9d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9d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d9d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9d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9d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7f5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e4330"/>
                </a:gs>
                <a:gs pos="50000">
                  <a:srgbClr val="377f59"/>
                </a:gs>
                <a:gs pos="100000">
                  <a:srgbClr val="1e433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25038"/>
                </a:gs>
                <a:gs pos="100000">
                  <a:srgbClr val="377f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5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82" name="Group 91"/>
          <p:cNvGrpSpPr/>
          <p:nvPr/>
        </p:nvGrpSpPr>
        <p:grpSpPr>
          <a:xfrm>
            <a:off x="1182600" y="2136600"/>
            <a:ext cx="2163600" cy="3165480"/>
            <a:chOff x="1182600" y="2136600"/>
            <a:chExt cx="2163600" cy="3165480"/>
          </a:xfrm>
        </p:grpSpPr>
        <p:sp>
          <p:nvSpPr>
            <p:cNvPr id="383" name="AutoShape 92"/>
            <p:cNvSpPr/>
            <p:nvPr/>
          </p:nvSpPr>
          <p:spPr>
            <a:xfrm>
              <a:off x="11826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1" y="0"/>
                  </a:moveTo>
                  <a:arcTo wR="3781" hR="3781" stAng="16200000" swAng="-5400000"/>
                  <a:lnTo>
                    <a:pt x="0" y="24747"/>
                  </a:lnTo>
                  <a:arcTo wR="3781" hR="3781" stAng="10800000" swAng="-5400000"/>
                  <a:lnTo>
                    <a:pt x="17819" y="28528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93"/>
            <p:cNvSpPr/>
            <p:nvPr/>
          </p:nvSpPr>
          <p:spPr>
            <a:xfrm>
              <a:off x="121608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94"/>
            <p:cNvSpPr/>
            <p:nvPr/>
          </p:nvSpPr>
          <p:spPr>
            <a:xfrm>
              <a:off x="12333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/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95"/>
            <p:cNvSpPr/>
            <p:nvPr/>
          </p:nvSpPr>
          <p:spPr>
            <a:xfrm>
              <a:off x="12333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dff6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96"/>
            <p:cNvGrpSpPr/>
            <p:nvPr/>
          </p:nvGrpSpPr>
          <p:grpSpPr>
            <a:xfrm>
              <a:off x="1927080" y="2136600"/>
              <a:ext cx="642960" cy="642960"/>
              <a:chOff x="1927080" y="2136600"/>
              <a:chExt cx="642960" cy="642960"/>
            </a:xfrm>
          </p:grpSpPr>
          <p:sp>
            <p:nvSpPr>
              <p:cNvPr id="388" name="Oval 97"/>
              <p:cNvSpPr/>
              <p:nvPr/>
            </p:nvSpPr>
            <p:spPr>
              <a:xfrm>
                <a:off x="192708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98"/>
              <p:cNvSpPr/>
              <p:nvPr/>
            </p:nvSpPr>
            <p:spPr>
              <a:xfrm>
                <a:off x="193356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99"/>
              <p:cNvSpPr/>
              <p:nvPr/>
            </p:nvSpPr>
            <p:spPr>
              <a:xfrm>
                <a:off x="194148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100"/>
              <p:cNvSpPr/>
              <p:nvPr/>
            </p:nvSpPr>
            <p:spPr>
              <a:xfrm>
                <a:off x="194796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01"/>
              <p:cNvSpPr/>
              <p:nvPr/>
            </p:nvSpPr>
            <p:spPr>
              <a:xfrm>
                <a:off x="198180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Text Box 102"/>
            <p:cNvSpPr/>
            <p:nvPr/>
          </p:nvSpPr>
          <p:spPr>
            <a:xfrm>
              <a:off x="20671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03"/>
            <p:cNvSpPr/>
            <p:nvPr/>
          </p:nvSpPr>
          <p:spPr>
            <a:xfrm>
              <a:off x="125892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04"/>
          <p:cNvGrpSpPr/>
          <p:nvPr/>
        </p:nvGrpSpPr>
        <p:grpSpPr>
          <a:xfrm>
            <a:off x="5913360" y="2133720"/>
            <a:ext cx="2163600" cy="3165480"/>
            <a:chOff x="5913360" y="2133720"/>
            <a:chExt cx="2163600" cy="3165480"/>
          </a:xfrm>
        </p:grpSpPr>
        <p:sp>
          <p:nvSpPr>
            <p:cNvPr id="396" name="AutoShape 105"/>
            <p:cNvSpPr/>
            <p:nvPr/>
          </p:nvSpPr>
          <p:spPr>
            <a:xfrm>
              <a:off x="5913360" y="244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1" y="0"/>
                  </a:moveTo>
                  <a:arcTo wR="3781" hR="3781" stAng="16200000" swAng="-5400000"/>
                  <a:lnTo>
                    <a:pt x="0" y="24747"/>
                  </a:lnTo>
                  <a:arcTo wR="3781" hR="3781" stAng="10800000" swAng="-5400000"/>
                  <a:lnTo>
                    <a:pt x="17819" y="28528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06"/>
            <p:cNvSpPr/>
            <p:nvPr/>
          </p:nvSpPr>
          <p:spPr>
            <a:xfrm>
              <a:off x="5946840" y="244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107"/>
            <p:cNvSpPr/>
            <p:nvPr/>
          </p:nvSpPr>
          <p:spPr>
            <a:xfrm>
              <a:off x="5964120" y="451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e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08"/>
            <p:cNvSpPr/>
            <p:nvPr/>
          </p:nvSpPr>
          <p:spPr>
            <a:xfrm>
              <a:off x="5964120" y="247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4cd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109"/>
            <p:cNvGrpSpPr/>
            <p:nvPr/>
          </p:nvGrpSpPr>
          <p:grpSpPr>
            <a:xfrm>
              <a:off x="6657840" y="2133720"/>
              <a:ext cx="642960" cy="642960"/>
              <a:chOff x="6657840" y="2133720"/>
              <a:chExt cx="642960" cy="642960"/>
            </a:xfrm>
          </p:grpSpPr>
          <p:sp>
            <p:nvSpPr>
              <p:cNvPr id="401" name="Oval 110"/>
              <p:cNvSpPr/>
              <p:nvPr/>
            </p:nvSpPr>
            <p:spPr>
              <a:xfrm>
                <a:off x="6657840" y="213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111"/>
              <p:cNvSpPr/>
              <p:nvPr/>
            </p:nvSpPr>
            <p:spPr>
              <a:xfrm>
                <a:off x="6664320" y="213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6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12"/>
              <p:cNvSpPr/>
              <p:nvPr/>
            </p:nvSpPr>
            <p:spPr>
              <a:xfrm>
                <a:off x="6672240" y="214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2f4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113"/>
              <p:cNvSpPr/>
              <p:nvPr/>
            </p:nvSpPr>
            <p:spPr>
              <a:xfrm>
                <a:off x="6678720" y="214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0b2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114"/>
              <p:cNvSpPr/>
              <p:nvPr/>
            </p:nvSpPr>
            <p:spPr>
              <a:xfrm>
                <a:off x="6712560" y="216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115"/>
            <p:cNvSpPr/>
            <p:nvPr/>
          </p:nvSpPr>
          <p:spPr>
            <a:xfrm>
              <a:off x="6797880" y="222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16"/>
            <p:cNvSpPr/>
            <p:nvPr/>
          </p:nvSpPr>
          <p:spPr>
            <a:xfrm>
              <a:off x="5989680" y="289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117"/>
          <p:cNvGrpSpPr/>
          <p:nvPr/>
        </p:nvGrpSpPr>
        <p:grpSpPr>
          <a:xfrm>
            <a:off x="3544920" y="2136600"/>
            <a:ext cx="2163600" cy="3165480"/>
            <a:chOff x="3544920" y="2136600"/>
            <a:chExt cx="2163600" cy="3165480"/>
          </a:xfrm>
        </p:grpSpPr>
        <p:sp>
          <p:nvSpPr>
            <p:cNvPr id="409" name="AutoShape 118"/>
            <p:cNvSpPr/>
            <p:nvPr/>
          </p:nvSpPr>
          <p:spPr>
            <a:xfrm>
              <a:off x="354492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1" y="0"/>
                  </a:moveTo>
                  <a:arcTo wR="3781" hR="3781" stAng="16200000" swAng="-5400000"/>
                  <a:lnTo>
                    <a:pt x="0" y="24747"/>
                  </a:lnTo>
                  <a:arcTo wR="3781" hR="3781" stAng="10800000" swAng="-5400000"/>
                  <a:lnTo>
                    <a:pt x="17819" y="28528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119"/>
            <p:cNvSpPr/>
            <p:nvPr/>
          </p:nvSpPr>
          <p:spPr>
            <a:xfrm>
              <a:off x="357840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20"/>
            <p:cNvSpPr/>
            <p:nvPr/>
          </p:nvSpPr>
          <p:spPr>
            <a:xfrm>
              <a:off x="359568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4f2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21"/>
            <p:cNvSpPr/>
            <p:nvPr/>
          </p:nvSpPr>
          <p:spPr>
            <a:xfrm>
              <a:off x="359568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1f6d5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22"/>
            <p:cNvSpPr/>
            <p:nvPr/>
          </p:nvSpPr>
          <p:spPr>
            <a:xfrm>
              <a:off x="428940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23"/>
            <p:cNvSpPr/>
            <p:nvPr/>
          </p:nvSpPr>
          <p:spPr>
            <a:xfrm>
              <a:off x="4295880" y="21412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6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24"/>
            <p:cNvSpPr/>
            <p:nvPr/>
          </p:nvSpPr>
          <p:spPr>
            <a:xfrm>
              <a:off x="4303800" y="21445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/>
                </a:gs>
                <a:gs pos="100000">
                  <a:srgbClr val="f2f4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5"/>
            <p:cNvSpPr/>
            <p:nvPr/>
          </p:nvSpPr>
          <p:spPr>
            <a:xfrm>
              <a:off x="4309920" y="21510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9b0b2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6"/>
            <p:cNvSpPr/>
            <p:nvPr/>
          </p:nvSpPr>
          <p:spPr>
            <a:xfrm>
              <a:off x="4345200" y="21668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27"/>
            <p:cNvSpPr/>
            <p:nvPr/>
          </p:nvSpPr>
          <p:spPr>
            <a:xfrm>
              <a:off x="44294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28"/>
            <p:cNvSpPr/>
            <p:nvPr/>
          </p:nvSpPr>
          <p:spPr>
            <a:xfrm>
              <a:off x="362124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23" name="Group 97"/>
          <p:cNvGrpSpPr/>
          <p:nvPr/>
        </p:nvGrpSpPr>
        <p:grpSpPr>
          <a:xfrm>
            <a:off x="0" y="1828800"/>
            <a:ext cx="9144000" cy="4188600"/>
            <a:chOff x="0" y="1828800"/>
            <a:chExt cx="9144000" cy="4188600"/>
          </a:xfrm>
        </p:grpSpPr>
        <p:grpSp>
          <p:nvGrpSpPr>
            <p:cNvPr id="424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25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b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93"/>
            <p:cNvGrpSpPr/>
            <p:nvPr/>
          </p:nvGrpSpPr>
          <p:grpSpPr>
            <a:xfrm>
              <a:off x="762120" y="2685960"/>
              <a:ext cx="1932480" cy="3264840"/>
              <a:chOff x="762120" y="2685960"/>
              <a:chExt cx="1932480" cy="3264840"/>
            </a:xfrm>
          </p:grpSpPr>
          <p:grpSp>
            <p:nvGrpSpPr>
              <p:cNvPr id="428" name="Group 59"/>
              <p:cNvGrpSpPr/>
              <p:nvPr/>
            </p:nvGrpSpPr>
            <p:grpSpPr>
              <a:xfrm>
                <a:off x="1170360" y="3527640"/>
                <a:ext cx="1524240" cy="2423160"/>
                <a:chOff x="1170360" y="3527640"/>
                <a:chExt cx="1524240" cy="2423160"/>
              </a:xfrm>
            </p:grpSpPr>
            <p:grpSp>
              <p:nvGrpSpPr>
                <p:cNvPr id="429" name="Group 60"/>
                <p:cNvGrpSpPr/>
                <p:nvPr/>
              </p:nvGrpSpPr>
              <p:grpSpPr>
                <a:xfrm>
                  <a:off x="1170360" y="3685320"/>
                  <a:ext cx="1419120" cy="2265480"/>
                  <a:chOff x="1170360" y="3685320"/>
                  <a:chExt cx="1419120" cy="2265480"/>
                </a:xfrm>
              </p:grpSpPr>
              <p:sp>
                <p:nvSpPr>
                  <p:cNvPr id="430" name="Freeform 61"/>
                  <p:cNvSpPr/>
                  <p:nvPr/>
                </p:nvSpPr>
                <p:spPr>
                  <a:xfrm rot="3876600">
                    <a:off x="742320" y="4572360"/>
                    <a:ext cx="2274480" cy="491400"/>
                  </a:xfrm>
                  <a:custGeom>
                    <a:avLst/>
                    <a:gdLst>
                      <a:gd name="textAreaLeft" fmla="*/ 0 w 2274480"/>
                      <a:gd name="textAreaRight" fmla="*/ 2274840 w 227448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62"/>
                  <p:cNvSpPr/>
                  <p:nvPr/>
                </p:nvSpPr>
                <p:spPr>
                  <a:xfrm rot="3876600">
                    <a:off x="2108880" y="5451120"/>
                    <a:ext cx="357480" cy="402120"/>
                  </a:xfrm>
                  <a:custGeom>
                    <a:avLst/>
                    <a:gdLst>
                      <a:gd name="textAreaLeft" fmla="*/ 0 w 357480"/>
                      <a:gd name="textAreaRight" fmla="*/ 357840 w 35748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63"/>
                <p:cNvGrpSpPr/>
                <p:nvPr/>
              </p:nvGrpSpPr>
              <p:grpSpPr>
                <a:xfrm>
                  <a:off x="1605600" y="3527640"/>
                  <a:ext cx="1089000" cy="1738440"/>
                  <a:chOff x="1605600" y="3527640"/>
                  <a:chExt cx="1089000" cy="1738440"/>
                </a:xfrm>
              </p:grpSpPr>
              <p:sp>
                <p:nvSpPr>
                  <p:cNvPr id="433" name="Freeform 64"/>
                  <p:cNvSpPr/>
                  <p:nvPr/>
                </p:nvSpPr>
                <p:spPr>
                  <a:xfrm flipV="1" rot="3876600">
                    <a:off x="1277280" y="4208040"/>
                    <a:ext cx="1745280" cy="376920"/>
                  </a:xfrm>
                  <a:custGeom>
                    <a:avLst/>
                    <a:gdLst>
                      <a:gd name="textAreaLeft" fmla="*/ 0 w 1745280"/>
                      <a:gd name="textAreaRight" fmla="*/ 1745640 w 174528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65"/>
                  <p:cNvSpPr/>
                  <p:nvPr/>
                </p:nvSpPr>
                <p:spPr>
                  <a:xfrm flipV="1" rot="3876600">
                    <a:off x="2310480" y="4889880"/>
                    <a:ext cx="274320" cy="30852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5" name="Group 66"/>
              <p:cNvGrpSpPr/>
              <p:nvPr/>
            </p:nvGrpSpPr>
            <p:grpSpPr>
              <a:xfrm>
                <a:off x="762120" y="2685960"/>
                <a:ext cx="1268280" cy="1308960"/>
                <a:chOff x="762120" y="2685960"/>
                <a:chExt cx="1268280" cy="1308960"/>
              </a:xfrm>
            </p:grpSpPr>
            <p:sp>
              <p:nvSpPr>
                <p:cNvPr id="436" name="Oval 67"/>
                <p:cNvSpPr/>
                <p:nvPr/>
              </p:nvSpPr>
              <p:spPr>
                <a:xfrm>
                  <a:off x="762120" y="2685960"/>
                  <a:ext cx="126828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68"/>
                <p:cNvSpPr/>
                <p:nvPr/>
              </p:nvSpPr>
              <p:spPr>
                <a:xfrm>
                  <a:off x="762120" y="2685960"/>
                  <a:ext cx="126828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69"/>
                <p:cNvSpPr/>
                <p:nvPr/>
              </p:nvSpPr>
              <p:spPr>
                <a:xfrm>
                  <a:off x="846000" y="2770920"/>
                  <a:ext cx="110016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959"/>
                    </a:gs>
                    <a:gs pos="50000">
                      <a:srgbClr val="83a6a7"/>
                    </a:gs>
                    <a:gs pos="100000">
                      <a:srgbClr val="47595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70"/>
                <p:cNvSpPr/>
                <p:nvPr/>
              </p:nvSpPr>
              <p:spPr>
                <a:xfrm>
                  <a:off x="846000" y="2773800"/>
                  <a:ext cx="110016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6869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Oval 71"/>
                <p:cNvSpPr/>
                <p:nvPr/>
              </p:nvSpPr>
              <p:spPr>
                <a:xfrm>
                  <a:off x="900360" y="2828880"/>
                  <a:ext cx="9910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Group 72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42" name="Oval 73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74"/>
                  <p:cNvSpPr/>
                  <p:nvPr/>
                </p:nvSpPr>
                <p:spPr>
                  <a:xfrm>
                    <a:off x="92808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75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76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6" name="Text Box 77"/>
              <p:cNvSpPr/>
              <p:nvPr/>
            </p:nvSpPr>
            <p:spPr>
              <a:xfrm rot="3925800">
                <a:off x="112680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78"/>
              <p:cNvSpPr/>
              <p:nvPr/>
            </p:nvSpPr>
            <p:spPr>
              <a:xfrm rot="3925800">
                <a:off x="1589760" y="4226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Verdana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94"/>
            <p:cNvGrpSpPr/>
            <p:nvPr/>
          </p:nvGrpSpPr>
          <p:grpSpPr>
            <a:xfrm>
              <a:off x="2509920" y="2685960"/>
              <a:ext cx="1929600" cy="3264840"/>
              <a:chOff x="2509920" y="2685960"/>
              <a:chExt cx="1929600" cy="3264840"/>
            </a:xfrm>
          </p:grpSpPr>
          <p:grpSp>
            <p:nvGrpSpPr>
              <p:cNvPr id="449" name="Group 41"/>
              <p:cNvGrpSpPr/>
              <p:nvPr/>
            </p:nvGrpSpPr>
            <p:grpSpPr>
              <a:xfrm>
                <a:off x="2916000" y="3528000"/>
                <a:ext cx="1523520" cy="2422800"/>
                <a:chOff x="2916000" y="3528000"/>
                <a:chExt cx="1523520" cy="2422800"/>
              </a:xfrm>
            </p:grpSpPr>
            <p:grpSp>
              <p:nvGrpSpPr>
                <p:cNvPr id="450" name="Group 42"/>
                <p:cNvGrpSpPr/>
                <p:nvPr/>
              </p:nvGrpSpPr>
              <p:grpSpPr>
                <a:xfrm>
                  <a:off x="2916000" y="3685320"/>
                  <a:ext cx="1418760" cy="2265480"/>
                  <a:chOff x="2916000" y="3685320"/>
                  <a:chExt cx="1418760" cy="2265480"/>
                </a:xfrm>
              </p:grpSpPr>
              <p:sp>
                <p:nvSpPr>
                  <p:cNvPr id="451" name="Freeform 43"/>
                  <p:cNvSpPr/>
                  <p:nvPr/>
                </p:nvSpPr>
                <p:spPr>
                  <a:xfrm rot="3876600">
                    <a:off x="2487960" y="4572360"/>
                    <a:ext cx="2274480" cy="491040"/>
                  </a:xfrm>
                  <a:custGeom>
                    <a:avLst/>
                    <a:gdLst>
                      <a:gd name="textAreaLeft" fmla="*/ 0 w 2274480"/>
                      <a:gd name="textAreaRight" fmla="*/ 2274840 w 227448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44"/>
                  <p:cNvSpPr/>
                  <p:nvPr/>
                </p:nvSpPr>
                <p:spPr>
                  <a:xfrm rot="3876600">
                    <a:off x="3854520" y="5451120"/>
                    <a:ext cx="357480" cy="402120"/>
                  </a:xfrm>
                  <a:custGeom>
                    <a:avLst/>
                    <a:gdLst>
                      <a:gd name="textAreaLeft" fmla="*/ 0 w 357480"/>
                      <a:gd name="textAreaRight" fmla="*/ 357840 w 35748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45"/>
                <p:cNvGrpSpPr/>
                <p:nvPr/>
              </p:nvGrpSpPr>
              <p:grpSpPr>
                <a:xfrm>
                  <a:off x="3350880" y="3528000"/>
                  <a:ext cx="1088640" cy="1738080"/>
                  <a:chOff x="3350880" y="3528000"/>
                  <a:chExt cx="1088640" cy="1738080"/>
                </a:xfrm>
              </p:grpSpPr>
              <p:sp>
                <p:nvSpPr>
                  <p:cNvPr id="454" name="Freeform 46"/>
                  <p:cNvSpPr/>
                  <p:nvPr/>
                </p:nvSpPr>
                <p:spPr>
                  <a:xfrm flipV="1" rot="3876600">
                    <a:off x="3022200" y="4208760"/>
                    <a:ext cx="1745280" cy="376560"/>
                  </a:xfrm>
                  <a:custGeom>
                    <a:avLst/>
                    <a:gdLst>
                      <a:gd name="textAreaLeft" fmla="*/ 0 w 1745280"/>
                      <a:gd name="textAreaRight" fmla="*/ 1745640 w 174528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47"/>
                  <p:cNvSpPr/>
                  <p:nvPr/>
                </p:nvSpPr>
                <p:spPr>
                  <a:xfrm flipV="1" rot="3876600">
                    <a:off x="4055760" y="4889880"/>
                    <a:ext cx="274320" cy="30816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Group 48"/>
              <p:cNvGrpSpPr/>
              <p:nvPr/>
            </p:nvGrpSpPr>
            <p:grpSpPr>
              <a:xfrm>
                <a:off x="2509920" y="2685960"/>
                <a:ext cx="1267920" cy="1308960"/>
                <a:chOff x="2509920" y="2685960"/>
                <a:chExt cx="1267920" cy="1308960"/>
              </a:xfrm>
            </p:grpSpPr>
            <p:sp>
              <p:nvSpPr>
                <p:cNvPr id="457" name="Oval 49"/>
                <p:cNvSpPr/>
                <p:nvPr/>
              </p:nvSpPr>
              <p:spPr>
                <a:xfrm>
                  <a:off x="2509920" y="2685960"/>
                  <a:ext cx="126792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50"/>
                <p:cNvSpPr/>
                <p:nvPr/>
              </p:nvSpPr>
              <p:spPr>
                <a:xfrm>
                  <a:off x="2509920" y="2685960"/>
                  <a:ext cx="126792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Oval 51"/>
                <p:cNvSpPr/>
                <p:nvPr/>
              </p:nvSpPr>
              <p:spPr>
                <a:xfrm>
                  <a:off x="2593800" y="2770920"/>
                  <a:ext cx="109980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959"/>
                    </a:gs>
                    <a:gs pos="50000">
                      <a:srgbClr val="83a6a7"/>
                    </a:gs>
                    <a:gs pos="100000">
                      <a:srgbClr val="47595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Oval 52"/>
                <p:cNvSpPr/>
                <p:nvPr/>
              </p:nvSpPr>
              <p:spPr>
                <a:xfrm>
                  <a:off x="2593800" y="2773800"/>
                  <a:ext cx="109980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6869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53"/>
                <p:cNvSpPr/>
                <p:nvPr/>
              </p:nvSpPr>
              <p:spPr>
                <a:xfrm>
                  <a:off x="2648160" y="2828880"/>
                  <a:ext cx="99072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Group 54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63" name="Oval 55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56"/>
                  <p:cNvSpPr/>
                  <p:nvPr/>
                </p:nvSpPr>
                <p:spPr>
                  <a:xfrm>
                    <a:off x="267588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57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58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7" name="Text Box 79"/>
              <p:cNvSpPr/>
              <p:nvPr/>
            </p:nvSpPr>
            <p:spPr>
              <a:xfrm rot="3925800">
                <a:off x="286776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80"/>
              <p:cNvSpPr/>
              <p:nvPr/>
            </p:nvSpPr>
            <p:spPr>
              <a:xfrm rot="3925800">
                <a:off x="3330720" y="4226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Verdana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95"/>
            <p:cNvGrpSpPr/>
            <p:nvPr/>
          </p:nvGrpSpPr>
          <p:grpSpPr>
            <a:xfrm>
              <a:off x="4313160" y="2685960"/>
              <a:ext cx="1932480" cy="3264840"/>
              <a:chOff x="4313160" y="2685960"/>
              <a:chExt cx="1932480" cy="3264840"/>
            </a:xfrm>
          </p:grpSpPr>
          <p:grpSp>
            <p:nvGrpSpPr>
              <p:cNvPr id="470" name="Group 6"/>
              <p:cNvGrpSpPr/>
              <p:nvPr/>
            </p:nvGrpSpPr>
            <p:grpSpPr>
              <a:xfrm>
                <a:off x="4721400" y="3527640"/>
                <a:ext cx="1524240" cy="2423160"/>
                <a:chOff x="4721400" y="3527640"/>
                <a:chExt cx="1524240" cy="2423160"/>
              </a:xfrm>
            </p:grpSpPr>
            <p:grpSp>
              <p:nvGrpSpPr>
                <p:cNvPr id="471" name="Group 7"/>
                <p:cNvGrpSpPr/>
                <p:nvPr/>
              </p:nvGrpSpPr>
              <p:grpSpPr>
                <a:xfrm>
                  <a:off x="4721400" y="3685320"/>
                  <a:ext cx="1419120" cy="2265480"/>
                  <a:chOff x="4721400" y="3685320"/>
                  <a:chExt cx="1419120" cy="2265480"/>
                </a:xfrm>
              </p:grpSpPr>
              <p:sp>
                <p:nvSpPr>
                  <p:cNvPr id="472" name="Freeform 8"/>
                  <p:cNvSpPr/>
                  <p:nvPr/>
                </p:nvSpPr>
                <p:spPr>
                  <a:xfrm rot="3876600">
                    <a:off x="4293360" y="4572360"/>
                    <a:ext cx="2274480" cy="491400"/>
                  </a:xfrm>
                  <a:custGeom>
                    <a:avLst/>
                    <a:gdLst>
                      <a:gd name="textAreaLeft" fmla="*/ 0 w 2274480"/>
                      <a:gd name="textAreaRight" fmla="*/ 2274840 w 227448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Freeform 9"/>
                  <p:cNvSpPr/>
                  <p:nvPr/>
                </p:nvSpPr>
                <p:spPr>
                  <a:xfrm rot="3876600">
                    <a:off x="5659920" y="5451120"/>
                    <a:ext cx="357480" cy="402120"/>
                  </a:xfrm>
                  <a:custGeom>
                    <a:avLst/>
                    <a:gdLst>
                      <a:gd name="textAreaLeft" fmla="*/ 0 w 357480"/>
                      <a:gd name="textAreaRight" fmla="*/ 357840 w 35748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Group 10"/>
                <p:cNvGrpSpPr/>
                <p:nvPr/>
              </p:nvGrpSpPr>
              <p:grpSpPr>
                <a:xfrm>
                  <a:off x="5156640" y="3527640"/>
                  <a:ext cx="1089000" cy="1738440"/>
                  <a:chOff x="5156640" y="3527640"/>
                  <a:chExt cx="1089000" cy="1738440"/>
                </a:xfrm>
              </p:grpSpPr>
              <p:sp>
                <p:nvSpPr>
                  <p:cNvPr id="475" name="Freeform 11"/>
                  <p:cNvSpPr/>
                  <p:nvPr/>
                </p:nvSpPr>
                <p:spPr>
                  <a:xfrm flipV="1" rot="3876600">
                    <a:off x="4828320" y="4208040"/>
                    <a:ext cx="1745280" cy="376920"/>
                  </a:xfrm>
                  <a:custGeom>
                    <a:avLst/>
                    <a:gdLst>
                      <a:gd name="textAreaLeft" fmla="*/ 0 w 1745280"/>
                      <a:gd name="textAreaRight" fmla="*/ 1745640 w 174528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2"/>
                  <p:cNvSpPr/>
                  <p:nvPr/>
                </p:nvSpPr>
                <p:spPr>
                  <a:xfrm flipV="1" rot="3876600">
                    <a:off x="5861520" y="4889880"/>
                    <a:ext cx="274320" cy="30852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7" name="Group 13"/>
              <p:cNvGrpSpPr/>
              <p:nvPr/>
            </p:nvGrpSpPr>
            <p:grpSpPr>
              <a:xfrm>
                <a:off x="4313160" y="2685960"/>
                <a:ext cx="1270080" cy="1308960"/>
                <a:chOff x="4313160" y="2685960"/>
                <a:chExt cx="1270080" cy="1308960"/>
              </a:xfrm>
            </p:grpSpPr>
            <p:sp>
              <p:nvSpPr>
                <p:cNvPr id="478" name="Oval 14"/>
                <p:cNvSpPr/>
                <p:nvPr/>
              </p:nvSpPr>
              <p:spPr>
                <a:xfrm>
                  <a:off x="4313160" y="2685960"/>
                  <a:ext cx="127008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15"/>
                <p:cNvSpPr/>
                <p:nvPr/>
              </p:nvSpPr>
              <p:spPr>
                <a:xfrm>
                  <a:off x="4313160" y="2685960"/>
                  <a:ext cx="1270080" cy="130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6"/>
                <p:cNvSpPr/>
                <p:nvPr/>
              </p:nvSpPr>
              <p:spPr>
                <a:xfrm>
                  <a:off x="4397040" y="2770920"/>
                  <a:ext cx="110160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959"/>
                    </a:gs>
                    <a:gs pos="50000">
                      <a:srgbClr val="83a6a7"/>
                    </a:gs>
                    <a:gs pos="100000">
                      <a:srgbClr val="47595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Oval 17"/>
                <p:cNvSpPr/>
                <p:nvPr/>
              </p:nvSpPr>
              <p:spPr>
                <a:xfrm>
                  <a:off x="4397040" y="2773800"/>
                  <a:ext cx="1101600" cy="113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6869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18"/>
                <p:cNvSpPr/>
                <p:nvPr/>
              </p:nvSpPr>
              <p:spPr>
                <a:xfrm>
                  <a:off x="4451760" y="2828880"/>
                  <a:ext cx="99252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19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84" name="Oval 20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Oval 21"/>
                  <p:cNvSpPr/>
                  <p:nvPr/>
                </p:nvSpPr>
                <p:spPr>
                  <a:xfrm>
                    <a:off x="447912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22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Oval 23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8" name="Text Box 81"/>
              <p:cNvSpPr/>
              <p:nvPr/>
            </p:nvSpPr>
            <p:spPr>
              <a:xfrm rot="3925800">
                <a:off x="4681080" y="4502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82"/>
              <p:cNvSpPr/>
              <p:nvPr/>
            </p:nvSpPr>
            <p:spPr>
              <a:xfrm rot="3925800">
                <a:off x="5144040" y="4226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Verdana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96"/>
            <p:cNvGrpSpPr/>
            <p:nvPr/>
          </p:nvGrpSpPr>
          <p:grpSpPr>
            <a:xfrm>
              <a:off x="6089760" y="2541600"/>
              <a:ext cx="2122200" cy="3475800"/>
              <a:chOff x="6089760" y="2541600"/>
              <a:chExt cx="2122200" cy="3475800"/>
            </a:xfrm>
          </p:grpSpPr>
          <p:grpSp>
            <p:nvGrpSpPr>
              <p:cNvPr id="491" name="Group 24"/>
              <p:cNvGrpSpPr/>
              <p:nvPr/>
            </p:nvGrpSpPr>
            <p:grpSpPr>
              <a:xfrm>
                <a:off x="6688440" y="3594960"/>
                <a:ext cx="1523520" cy="2422440"/>
                <a:chOff x="6688440" y="3594960"/>
                <a:chExt cx="1523520" cy="2422440"/>
              </a:xfrm>
            </p:grpSpPr>
            <p:grpSp>
              <p:nvGrpSpPr>
                <p:cNvPr id="492" name="Group 25"/>
                <p:cNvGrpSpPr/>
                <p:nvPr/>
              </p:nvGrpSpPr>
              <p:grpSpPr>
                <a:xfrm>
                  <a:off x="6688440" y="3752280"/>
                  <a:ext cx="1418760" cy="2265120"/>
                  <a:chOff x="6688440" y="3752280"/>
                  <a:chExt cx="1418760" cy="2265120"/>
                </a:xfrm>
              </p:grpSpPr>
              <p:sp>
                <p:nvSpPr>
                  <p:cNvPr id="493" name="Freeform 26"/>
                  <p:cNvSpPr/>
                  <p:nvPr/>
                </p:nvSpPr>
                <p:spPr>
                  <a:xfrm rot="3876600">
                    <a:off x="6260400" y="4638960"/>
                    <a:ext cx="2274120" cy="491040"/>
                  </a:xfrm>
                  <a:custGeom>
                    <a:avLst/>
                    <a:gdLst>
                      <a:gd name="textAreaLeft" fmla="*/ 0 w 2274120"/>
                      <a:gd name="textAreaRight" fmla="*/ 2274480 w 227412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27"/>
                  <p:cNvSpPr/>
                  <p:nvPr/>
                </p:nvSpPr>
                <p:spPr>
                  <a:xfrm rot="3876600">
                    <a:off x="7626960" y="5517720"/>
                    <a:ext cx="357480" cy="402120"/>
                  </a:xfrm>
                  <a:custGeom>
                    <a:avLst/>
                    <a:gdLst>
                      <a:gd name="textAreaLeft" fmla="*/ 0 w 357480"/>
                      <a:gd name="textAreaRight" fmla="*/ 357840 w 35748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Group 28"/>
                <p:cNvGrpSpPr/>
                <p:nvPr/>
              </p:nvGrpSpPr>
              <p:grpSpPr>
                <a:xfrm>
                  <a:off x="7123680" y="3594960"/>
                  <a:ext cx="1088280" cy="1737720"/>
                  <a:chOff x="7123680" y="3594960"/>
                  <a:chExt cx="1088280" cy="1737720"/>
                </a:xfrm>
              </p:grpSpPr>
              <p:sp>
                <p:nvSpPr>
                  <p:cNvPr id="496" name="Freeform 29"/>
                  <p:cNvSpPr/>
                  <p:nvPr/>
                </p:nvSpPr>
                <p:spPr>
                  <a:xfrm flipV="1" rot="3876600">
                    <a:off x="6795360" y="4275000"/>
                    <a:ext cx="1744920" cy="376560"/>
                  </a:xfrm>
                  <a:custGeom>
                    <a:avLst/>
                    <a:gdLst>
                      <a:gd name="textAreaLeft" fmla="*/ 0 w 1744920"/>
                      <a:gd name="textAreaRight" fmla="*/ 1745280 w 174492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30"/>
                  <p:cNvSpPr/>
                  <p:nvPr/>
                </p:nvSpPr>
                <p:spPr>
                  <a:xfrm flipV="1" rot="3876600">
                    <a:off x="7828200" y="4956480"/>
                    <a:ext cx="274320" cy="308160"/>
                  </a:xfrm>
                  <a:custGeom>
                    <a:avLst/>
                    <a:gdLst>
                      <a:gd name="textAreaLeft" fmla="*/ 0 w 274320"/>
                      <a:gd name="textAreaRight" fmla="*/ 274680 w 27432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8" name="Oval 31"/>
              <p:cNvSpPr/>
              <p:nvPr/>
            </p:nvSpPr>
            <p:spPr>
              <a:xfrm>
                <a:off x="6089760" y="2541600"/>
                <a:ext cx="1523880" cy="1568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32"/>
              <p:cNvSpPr/>
              <p:nvPr/>
            </p:nvSpPr>
            <p:spPr>
              <a:xfrm>
                <a:off x="6089760" y="2541600"/>
                <a:ext cx="1523880" cy="15688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33"/>
              <p:cNvSpPr/>
              <p:nvPr/>
            </p:nvSpPr>
            <p:spPr>
              <a:xfrm>
                <a:off x="6191280" y="264492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34"/>
              <p:cNvSpPr/>
              <p:nvPr/>
            </p:nvSpPr>
            <p:spPr>
              <a:xfrm>
                <a:off x="6193080" y="2647800"/>
                <a:ext cx="1323720" cy="1362600"/>
              </a:xfrm>
              <a:prstGeom prst="ellipse">
                <a:avLst/>
              </a:prstGeom>
              <a:gradFill rotWithShape="0">
                <a:gsLst>
                  <a:gs pos="0">
                    <a:srgbClr val="2060a0"/>
                  </a:gs>
                  <a:gs pos="100000">
                    <a:srgbClr val="33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35"/>
              <p:cNvSpPr/>
              <p:nvPr/>
            </p:nvSpPr>
            <p:spPr>
              <a:xfrm>
                <a:off x="6256440" y="2712960"/>
                <a:ext cx="1192320" cy="1226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36"/>
              <p:cNvGrpSpPr/>
              <p:nvPr/>
            </p:nvGrpSpPr>
            <p:grpSpPr>
              <a:xfrm>
                <a:off x="6275520" y="2732040"/>
                <a:ext cx="1155600" cy="1189440"/>
                <a:chOff x="6275520" y="2732040"/>
                <a:chExt cx="1155600" cy="1189440"/>
              </a:xfrm>
            </p:grpSpPr>
            <p:sp>
              <p:nvSpPr>
                <p:cNvPr id="504" name="Oval 37"/>
                <p:cNvSpPr/>
                <p:nvPr/>
              </p:nvSpPr>
              <p:spPr>
                <a:xfrm>
                  <a:off x="6275520" y="2732040"/>
                  <a:ext cx="1155600" cy="118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6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38"/>
                <p:cNvSpPr/>
                <p:nvPr/>
              </p:nvSpPr>
              <p:spPr>
                <a:xfrm>
                  <a:off x="6290280" y="2738520"/>
                  <a:ext cx="1127880" cy="115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/>
                    </a:gs>
                    <a:gs pos="100000">
                      <a:srgbClr val="f2f4f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Oval 39"/>
                <p:cNvSpPr/>
                <p:nvPr/>
              </p:nvSpPr>
              <p:spPr>
                <a:xfrm>
                  <a:off x="6302160" y="2750040"/>
                  <a:ext cx="1072440" cy="1083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0b2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Oval 40"/>
                <p:cNvSpPr/>
                <p:nvPr/>
              </p:nvSpPr>
              <p:spPr>
                <a:xfrm>
                  <a:off x="6364800" y="2780280"/>
                  <a:ext cx="953280" cy="87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Text Box 83"/>
              <p:cNvSpPr/>
              <p:nvPr/>
            </p:nvSpPr>
            <p:spPr>
              <a:xfrm rot="3925800">
                <a:off x="6633720" y="4644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4"/>
              <p:cNvSpPr/>
              <p:nvPr/>
            </p:nvSpPr>
            <p:spPr>
              <a:xfrm rot="3925800">
                <a:off x="7095240" y="43693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Verdana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85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11" name="Text Box 86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</a:rPr>
                  <a:t>200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87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</a:rPr>
                  <a:t>200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88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</a:rPr>
                  <a:t>200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89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2b2b2"/>
                    </a:solidFill>
                    <a:latin typeface="Verdana"/>
                  </a:rPr>
                  <a:t>200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5" name="AutoShape 90"/>
              <p:cNvCxnSpPr>
                <a:stCxn id="511" idx="3"/>
                <a:endCxn id="512" idx="1"/>
              </p:cNvCxnSpPr>
              <p:nvPr/>
            </p:nvCxnSpPr>
            <p:spPr>
              <a:xfrm>
                <a:off x="1837800" y="2052720"/>
                <a:ext cx="986760" cy="21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bevel/>
                <a:tailEnd len="med" type="triangle" w="med"/>
              </a:ln>
            </p:spPr>
          </p:cxnSp>
          <p:cxnSp>
            <p:nvCxnSpPr>
              <p:cNvPr id="516" name="AutoShape 91"/>
              <p:cNvCxnSpPr>
                <a:stCxn id="512" idx="3"/>
                <a:endCxn id="513" idx="1"/>
              </p:cNvCxnSpPr>
              <p:nvPr/>
            </p:nvCxnSpPr>
            <p:spPr>
              <a:xfrm>
                <a:off x="3592440" y="2052720"/>
                <a:ext cx="978480" cy="216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bevel/>
                <a:tailEnd len="med" type="triangle" w="med"/>
              </a:ln>
            </p:spPr>
          </p:cxnSp>
          <p:grpSp>
            <p:nvGrpSpPr>
              <p:cNvPr id="517" name=""/>
              <p:cNvGrpSpPr/>
              <p:nvPr/>
            </p:nvGrpSpPr>
            <p:grpSpPr>
              <a:xfrm>
                <a:off x="5338800" y="2057400"/>
                <a:ext cx="978120" cy="1800"/>
                <a:chOff x="5338800" y="2057400"/>
                <a:chExt cx="978120" cy="1800"/>
              </a:xfrm>
            </p:grpSpPr>
            <p:cxnSp>
              <p:nvCxnSpPr>
                <p:cNvPr id="518" name="AutoShape 92"/>
                <p:cNvCxnSpPr/>
                <p:nvPr/>
              </p:nvCxnSpPr>
              <p:spPr>
                <a:xfrm>
                  <a:off x="5338800" y="2057400"/>
                  <a:ext cx="978480" cy="2160"/>
                </a:xfrm>
                <a:prstGeom prst="straightConnector1">
                  <a:avLst/>
                </a:prstGeom>
                <a:ln w="9360">
                  <a:solidFill>
                    <a:srgbClr val="b2b2b2"/>
                  </a:solidFill>
                  <a:bevel/>
                  <a:tailEnd len="med" type="triangle" w="med"/>
                </a:ln>
              </p:spPr>
            </p:cxnSp>
            <p:sp>
              <p:nvSpPr>
                <p:cNvPr id="519" name=""/>
                <p:cNvSpPr txBox="1"/>
                <p:nvPr/>
              </p:nvSpPr>
              <p:spPr>
                <a:xfrm>
                  <a:off x="5338800" y="2057400"/>
                  <a:ext cx="9777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23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25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4f94d3"/>
                  </a:gs>
                  <a:gs pos="100000">
                    <a:srgbClr val="35669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5e7"/>
                  </a:gs>
                  <a:gs pos="50000">
                    <a:srgbClr val="4f94d3"/>
                  </a:gs>
                  <a:gs pos="100000">
                    <a:srgbClr val="a0c5e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30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32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6ea288"/>
                  </a:gs>
                  <a:gs pos="100000">
                    <a:srgbClr val="377f5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c9ba"/>
                  </a:gs>
                  <a:gs pos="100000">
                    <a:srgbClr val="377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37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39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afaf5e"/>
                  </a:gs>
                  <a:gs pos="100000">
                    <a:srgbClr val="808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385"/>
                  </a:gs>
                  <a:gs pos="100000">
                    <a:srgbClr val="80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Verdana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Contents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1936800" y="1959120"/>
            <a:ext cx="5410080" cy="664920"/>
            <a:chOff x="1936800" y="1959120"/>
            <a:chExt cx="5410080" cy="664920"/>
          </a:xfrm>
        </p:grpSpPr>
        <p:grpSp>
          <p:nvGrpSpPr>
            <p:cNvPr id="50" name="Group 9"/>
            <p:cNvGrpSpPr/>
            <p:nvPr/>
          </p:nvGrpSpPr>
          <p:grpSpPr>
            <a:xfrm>
              <a:off x="1936800" y="1959120"/>
              <a:ext cx="762120" cy="664920"/>
              <a:chOff x="1936800" y="1959120"/>
              <a:chExt cx="762120" cy="664920"/>
            </a:xfrm>
          </p:grpSpPr>
          <p:sp>
            <p:nvSpPr>
              <p:cNvPr id="51" name="AutoShape 10"/>
              <p:cNvSpPr/>
              <p:nvPr/>
            </p:nvSpPr>
            <p:spPr>
              <a:xfrm>
                <a:off x="1942920" y="19702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11"/>
              <p:cNvSpPr/>
              <p:nvPr/>
            </p:nvSpPr>
            <p:spPr>
              <a:xfrm>
                <a:off x="1936800" y="1959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12"/>
              <p:cNvSpPr/>
              <p:nvPr/>
            </p:nvSpPr>
            <p:spPr>
              <a:xfrm>
                <a:off x="1981080" y="1998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93a29"/>
                  </a:gs>
                  <a:gs pos="100000">
                    <a:srgbClr val="377f5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Line 13"/>
            <p:cNvSpPr/>
            <p:nvPr/>
          </p:nvSpPr>
          <p:spPr>
            <a:xfrm>
              <a:off x="2546280" y="2568240"/>
              <a:ext cx="4800600" cy="144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3540240" y="2035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135520" y="205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6"/>
          <p:cNvGrpSpPr/>
          <p:nvPr/>
        </p:nvGrpSpPr>
        <p:grpSpPr>
          <a:xfrm>
            <a:off x="1936800" y="2873520"/>
            <a:ext cx="5410080" cy="664920"/>
            <a:chOff x="1936800" y="2873520"/>
            <a:chExt cx="5410080" cy="664920"/>
          </a:xfrm>
        </p:grpSpPr>
        <p:grpSp>
          <p:nvGrpSpPr>
            <p:cNvPr id="58" name="Group 17"/>
            <p:cNvGrpSpPr/>
            <p:nvPr/>
          </p:nvGrpSpPr>
          <p:grpSpPr>
            <a:xfrm>
              <a:off x="1936800" y="2873520"/>
              <a:ext cx="762120" cy="664920"/>
              <a:chOff x="1936800" y="2873520"/>
              <a:chExt cx="762120" cy="664920"/>
            </a:xfrm>
          </p:grpSpPr>
          <p:sp>
            <p:nvSpPr>
              <p:cNvPr id="59" name="AutoShape 18"/>
              <p:cNvSpPr/>
              <p:nvPr/>
            </p:nvSpPr>
            <p:spPr>
              <a:xfrm>
                <a:off x="1942920" y="28846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9"/>
              <p:cNvSpPr/>
              <p:nvPr/>
            </p:nvSpPr>
            <p:spPr>
              <a:xfrm>
                <a:off x="1936800" y="28735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20"/>
              <p:cNvSpPr/>
              <p:nvPr/>
            </p:nvSpPr>
            <p:spPr>
              <a:xfrm>
                <a:off x="1981080" y="29127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34460"/>
                  </a:gs>
                  <a:gs pos="100000">
                    <a:srgbClr val="4f94d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2546280" y="3482640"/>
              <a:ext cx="4800600" cy="144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2"/>
            <p:cNvSpPr/>
            <p:nvPr/>
          </p:nvSpPr>
          <p:spPr>
            <a:xfrm>
              <a:off x="3540240" y="2949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2135520" y="297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4"/>
          <p:cNvGrpSpPr/>
          <p:nvPr/>
        </p:nvGrpSpPr>
        <p:grpSpPr>
          <a:xfrm>
            <a:off x="1936800" y="3765600"/>
            <a:ext cx="5410080" cy="665280"/>
            <a:chOff x="1936800" y="3765600"/>
            <a:chExt cx="5410080" cy="665280"/>
          </a:xfrm>
        </p:grpSpPr>
        <p:grpSp>
          <p:nvGrpSpPr>
            <p:cNvPr id="66" name="Group 25"/>
            <p:cNvGrpSpPr/>
            <p:nvPr/>
          </p:nvGrpSpPr>
          <p:grpSpPr>
            <a:xfrm>
              <a:off x="1936800" y="3765600"/>
              <a:ext cx="762120" cy="665280"/>
              <a:chOff x="1936800" y="3765600"/>
              <a:chExt cx="762120" cy="665280"/>
            </a:xfrm>
          </p:grpSpPr>
          <p:sp>
            <p:nvSpPr>
              <p:cNvPr id="67" name="AutoShape 26"/>
              <p:cNvSpPr/>
              <p:nvPr/>
            </p:nvSpPr>
            <p:spPr>
              <a:xfrm>
                <a:off x="1942920" y="37767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27"/>
              <p:cNvSpPr/>
              <p:nvPr/>
            </p:nvSpPr>
            <p:spPr>
              <a:xfrm>
                <a:off x="1936800" y="376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28"/>
              <p:cNvSpPr/>
              <p:nvPr/>
            </p:nvSpPr>
            <p:spPr>
              <a:xfrm>
                <a:off x="1981080" y="380484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93a29"/>
                  </a:gs>
                  <a:gs pos="100000">
                    <a:srgbClr val="377f5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29"/>
            <p:cNvSpPr/>
            <p:nvPr/>
          </p:nvSpPr>
          <p:spPr>
            <a:xfrm>
              <a:off x="2546280" y="4375080"/>
              <a:ext cx="4800600" cy="180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0"/>
            <p:cNvSpPr/>
            <p:nvPr/>
          </p:nvSpPr>
          <p:spPr>
            <a:xfrm>
              <a:off x="3540240" y="3841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1"/>
            <p:cNvSpPr/>
            <p:nvPr/>
          </p:nvSpPr>
          <p:spPr>
            <a:xfrm>
              <a:off x="2135520" y="386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2"/>
          <p:cNvGrpSpPr/>
          <p:nvPr/>
        </p:nvGrpSpPr>
        <p:grpSpPr>
          <a:xfrm>
            <a:off x="1936800" y="4680000"/>
            <a:ext cx="5410080" cy="665280"/>
            <a:chOff x="1936800" y="4680000"/>
            <a:chExt cx="5410080" cy="665280"/>
          </a:xfrm>
        </p:grpSpPr>
        <p:grpSp>
          <p:nvGrpSpPr>
            <p:cNvPr id="74" name="Group 33"/>
            <p:cNvGrpSpPr/>
            <p:nvPr/>
          </p:nvGrpSpPr>
          <p:grpSpPr>
            <a:xfrm>
              <a:off x="1936800" y="4680000"/>
              <a:ext cx="762120" cy="665280"/>
              <a:chOff x="1936800" y="4680000"/>
              <a:chExt cx="762120" cy="665280"/>
            </a:xfrm>
          </p:grpSpPr>
          <p:sp>
            <p:nvSpPr>
              <p:cNvPr id="75" name="AutoShape 34"/>
              <p:cNvSpPr/>
              <p:nvPr/>
            </p:nvSpPr>
            <p:spPr>
              <a:xfrm>
                <a:off x="1942920" y="4691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35"/>
              <p:cNvSpPr/>
              <p:nvPr/>
            </p:nvSpPr>
            <p:spPr>
              <a:xfrm>
                <a:off x="1936800" y="4680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36"/>
              <p:cNvSpPr/>
              <p:nvPr/>
            </p:nvSpPr>
            <p:spPr>
              <a:xfrm>
                <a:off x="1981080" y="471924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34460"/>
                  </a:gs>
                  <a:gs pos="100000">
                    <a:srgbClr val="4f94d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Line 37"/>
            <p:cNvSpPr/>
            <p:nvPr/>
          </p:nvSpPr>
          <p:spPr>
            <a:xfrm>
              <a:off x="2546280" y="5289480"/>
              <a:ext cx="4800600" cy="180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8"/>
            <p:cNvSpPr/>
            <p:nvPr/>
          </p:nvSpPr>
          <p:spPr>
            <a:xfrm>
              <a:off x="3540240" y="4756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9"/>
            <p:cNvSpPr/>
            <p:nvPr/>
          </p:nvSpPr>
          <p:spPr>
            <a:xfrm>
              <a:off x="2135520" y="477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Block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8" y="0"/>
                </a:moveTo>
                <a:arcTo wR="2968" hR="2968" stAng="16200000" swAng="-5400000"/>
                <a:lnTo>
                  <a:pt x="0" y="33526"/>
                </a:lnTo>
                <a:arcTo wR="2968" hR="2968" stAng="10800000" swAng="-5400000"/>
                <a:lnTo>
                  <a:pt x="18632" y="36494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8" y="0"/>
                </a:moveTo>
                <a:arcTo wR="2968" hR="2968" stAng="16200000" swAng="-5400000"/>
                <a:lnTo>
                  <a:pt x="0" y="33738"/>
                </a:lnTo>
                <a:arcTo wR="2968" hR="2968" stAng="10800000" swAng="-5400000"/>
                <a:lnTo>
                  <a:pt x="18632" y="36706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8" y="0"/>
                </a:moveTo>
                <a:arcTo wR="2968" hR="2968" stAng="16200000" swAng="-5400000"/>
                <a:lnTo>
                  <a:pt x="0" y="34862"/>
                </a:lnTo>
                <a:arcTo wR="2968" hR="2968" stAng="10800000" swAng="-5400000"/>
                <a:lnTo>
                  <a:pt x="18632" y="37830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8" y="0"/>
                </a:moveTo>
                <a:arcTo wR="2968" hR="2968" stAng="16200000" swAng="-5400000"/>
                <a:lnTo>
                  <a:pt x="0" y="33518"/>
                </a:lnTo>
                <a:arcTo wR="2968" hR="2968" stAng="10800000" swAng="-5400000"/>
                <a:lnTo>
                  <a:pt x="18632" y="36486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50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93a29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52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58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93a29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64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Verdana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Verdana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Verdana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Verdana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Verdana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Hot Tip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49160"/>
            <a:ext cx="792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77f59"/>
              </a:buClr>
              <a:buFont typeface="Wingdings" charset="2"/>
              <a:buChar char=""/>
            </a:pPr>
            <a:r>
              <a:rPr b="0" lang="en-US" sz="3300" spc="-1" strike="noStrike">
                <a:solidFill>
                  <a:srgbClr val="4f94d3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300" spc="-1" strike="noStrike">
              <a:solidFill>
                <a:srgbClr val="4f94d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</a:pPr>
            <a:endParaRPr b="1" lang="en-US" sz="3300" spc="-1" strike="noStrike">
              <a:solidFill>
                <a:srgbClr val="4f94d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94d3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2400" spc="-1" strike="noStrike">
                <a:solidFill>
                  <a:srgbClr val="4f94d3"/>
                </a:solidFill>
                <a:latin typeface="Arial"/>
              </a:rPr>
              <a:t>[View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1" lang="en-US" sz="2400" spc="-1" strike="noStrike">
                <a:solidFill>
                  <a:srgbClr val="4f94d3"/>
                </a:solidFill>
                <a:latin typeface="Arial"/>
              </a:rPr>
              <a:t>[Master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1" lang="en-US" sz="2400" spc="-1" strike="noStrike">
                <a:solidFill>
                  <a:srgbClr val="4f94d3"/>
                </a:solidFill>
                <a:latin typeface="Arial"/>
              </a:rPr>
              <a:t>[Slide Master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4f94d3"/>
                </a:solidFill>
                <a:latin typeface="Arial"/>
              </a:rPr>
              <a:t>[Notes Master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87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34ca"/>
              </a:gs>
              <a:gs pos="100000">
                <a:srgbClr val="9380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92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93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94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77f59"/>
                    </a:gs>
                    <a:gs pos="100000">
                      <a:srgbClr val="1a3c2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c7b6"/>
                    </a:gs>
                    <a:gs pos="100000">
                      <a:srgbClr val="377f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34460"/>
                  </a:gs>
                  <a:gs pos="100000">
                    <a:srgbClr val="4f94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4f94d3"/>
                  </a:gs>
                  <a:gs pos="100000">
                    <a:srgbClr val="c3db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3d74a6"/>
                  </a:gs>
                  <a:gs pos="100000">
                    <a:srgbClr val="4f94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4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02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77f59"/>
              </a:gs>
              <a:gs pos="100000">
                <a:srgbClr val="c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Cycle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08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>
                <a:gd name="textAreaLeft" fmla="*/ 0 w 6094440"/>
                <a:gd name="textAreaRight" fmla="*/ 6094800 w 6094440"/>
                <a:gd name="textAreaTop" fmla="*/ 0 h 2424240"/>
                <a:gd name="textAreaBottom" fmla="*/ 2424600 h 242424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7e7e7"/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22b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f94d3"/>
                </a:gs>
                <a:gs pos="100000">
                  <a:srgbClr val="182e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5434ca"/>
                </a:gs>
                <a:gs pos="100000">
                  <a:srgbClr val="1d12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e3e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2b2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Verdana"/>
                </a:rPr>
                <a:t>Cycle nam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887040" y="2452680"/>
              <a:ext cx="1726200" cy="1800"/>
              <a:chOff x="887040" y="2452680"/>
              <a:chExt cx="1726200" cy="1800"/>
            </a:xfrm>
          </p:grpSpPr>
          <p:cxnSp>
            <p:nvCxnSpPr>
              <p:cNvPr id="122" name="AutoShape 17"/>
              <p:cNvCxnSpPr/>
              <p:nvPr/>
            </p:nvCxnSpPr>
            <p:spPr>
              <a:xfrm flipH="1">
                <a:off x="887040" y="2452680"/>
                <a:ext cx="17265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bevel/>
              </a:ln>
            </p:spPr>
          </p:cxnSp>
          <p:sp>
            <p:nvSpPr>
              <p:cNvPr id="123" name=""/>
              <p:cNvSpPr txBox="1"/>
              <p:nvPr/>
            </p:nvSpPr>
            <p:spPr>
              <a:xfrm>
                <a:off x="887400" y="2452680"/>
                <a:ext cx="17258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28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a00"/>
                </a:gs>
                <a:gs pos="50000">
                  <a:srgbClr val="808000"/>
                </a:gs>
                <a:gs pos="100000">
                  <a:srgbClr val="3a3a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a00"/>
                </a:gs>
                <a:gs pos="50000">
                  <a:srgbClr val="808000"/>
                </a:gs>
                <a:gs pos="100000">
                  <a:srgbClr val="3a3a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a00"/>
                </a:gs>
                <a:gs pos="50000">
                  <a:srgbClr val="808000"/>
                </a:gs>
                <a:gs pos="100000">
                  <a:srgbClr val="3a3a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34460"/>
                </a:gs>
                <a:gs pos="50000">
                  <a:srgbClr val="4f94d3"/>
                </a:gs>
                <a:gs pos="100000">
                  <a:srgbClr val="2344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9"/>
                <a:gd name="adj2" fmla="val 7082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fc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27"/>
              </a:avLst>
            </a:prstGeom>
            <a:gradFill rotWithShape="0">
              <a:gsLst>
                <a:gs pos="0">
                  <a:srgbClr val="193a29"/>
                </a:gs>
                <a:gs pos="50000">
                  <a:srgbClr val="377f59"/>
                </a:gs>
                <a:gs pos="100000">
                  <a:srgbClr val="193a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102"/>
                <a:gd name="adj2" fmla="val 64051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49" name="Group 4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150" name="AutoShape 5"/>
              <p:cNvSpPr/>
              <p:nvPr/>
            </p:nvSpPr>
            <p:spPr>
              <a:xfrm flipH="1" rot="16200000">
                <a:off x="2926440" y="3259800"/>
                <a:ext cx="459360" cy="29628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b0d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6"/>
              <p:cNvSpPr/>
              <p:nvPr/>
            </p:nvSpPr>
            <p:spPr>
              <a:xfrm flipH="1" rot="5400000">
                <a:off x="5531400" y="3209400"/>
                <a:ext cx="459360" cy="2966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b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7"/>
              <p:cNvSpPr/>
              <p:nvPr/>
            </p:nvSpPr>
            <p:spPr>
              <a:xfrm flipH="1" rot="10800000">
                <a:off x="4238640" y="4609800"/>
                <a:ext cx="443520" cy="30600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b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330696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3439440" y="234468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0a0a0"/>
                  </a:gs>
                  <a:gs pos="50000">
                    <a:srgbClr val="ffffff"/>
                  </a:gs>
                  <a:gs pos="100000">
                    <a:srgbClr val="a0a0a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0"/>
              <p:cNvSpPr/>
              <p:nvPr/>
            </p:nvSpPr>
            <p:spPr>
              <a:xfrm>
                <a:off x="3560760" y="2471040"/>
                <a:ext cx="18172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7f5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1"/>
              <p:cNvSpPr/>
              <p:nvPr/>
            </p:nvSpPr>
            <p:spPr>
              <a:xfrm>
                <a:off x="3560760" y="2471040"/>
                <a:ext cx="18172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2"/>
              <p:cNvSpPr/>
              <p:nvPr/>
            </p:nvSpPr>
            <p:spPr>
              <a:xfrm>
                <a:off x="3680280" y="2594520"/>
                <a:ext cx="1578240" cy="1631880"/>
              </a:xfrm>
              <a:prstGeom prst="ellipse">
                <a:avLst/>
              </a:prstGeom>
              <a:gradFill rotWithShape="0">
                <a:gsLst>
                  <a:gs pos="0">
                    <a:srgbClr val="1e4330"/>
                  </a:gs>
                  <a:gs pos="50000">
                    <a:srgbClr val="377f59"/>
                  </a:gs>
                  <a:gs pos="100000">
                    <a:srgbClr val="1e433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3"/>
              <p:cNvSpPr/>
              <p:nvPr/>
            </p:nvSpPr>
            <p:spPr>
              <a:xfrm>
                <a:off x="3680280" y="2594520"/>
                <a:ext cx="15782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a62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a00"/>
                </a:gs>
                <a:gs pos="50000">
                  <a:srgbClr val="808000"/>
                </a:gs>
                <a:gs pos="100000">
                  <a:srgbClr val="3a3a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a00"/>
                </a:gs>
                <a:gs pos="50000">
                  <a:srgbClr val="808000"/>
                </a:gs>
                <a:gs pos="100000">
                  <a:srgbClr val="3a3a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a3a00"/>
                </a:gs>
                <a:gs pos="50000">
                  <a:srgbClr val="808000"/>
                </a:gs>
                <a:gs pos="100000">
                  <a:srgbClr val="3a3a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460"/>
                </a:gs>
                <a:gs pos="50000">
                  <a:srgbClr val="4f94d3"/>
                </a:gs>
                <a:gs pos="100000">
                  <a:srgbClr val="2344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460"/>
                </a:gs>
                <a:gs pos="50000">
                  <a:srgbClr val="4f94d3"/>
                </a:gs>
                <a:gs pos="100000">
                  <a:srgbClr val="2344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34460"/>
                </a:gs>
                <a:gs pos="50000">
                  <a:srgbClr val="4f94d3"/>
                </a:gs>
                <a:gs pos="100000">
                  <a:srgbClr val="23446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Concep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Verdana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5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76" name="Line 3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 flipH="1">
              <a:off x="872640" y="4783320"/>
              <a:ext cx="243828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 flipH="1">
              <a:off x="872640" y="3953160"/>
              <a:ext cx="335268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 flipH="1">
              <a:off x="872640" y="3124440"/>
              <a:ext cx="416556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 flipH="1" flipV="1">
              <a:off x="872640" y="2283120"/>
              <a:ext cx="503388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1025280" y="2276640"/>
              <a:ext cx="1800" cy="87156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1025280" y="3148200"/>
              <a:ext cx="1800" cy="81756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1025280" y="3965760"/>
              <a:ext cx="1800" cy="816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1025280" y="4783320"/>
              <a:ext cx="1800" cy="8161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190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7185d"/>
                  </a:gs>
                  <a:gs pos="50000">
                    <a:srgbClr val="5434ca"/>
                  </a:gs>
                  <a:gs pos="100000">
                    <a:srgbClr val="2718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>
                  <a:gd name="textAreaLeft" fmla="*/ 0 w 3343320"/>
                  <a:gd name="textAreaRight" fmla="*/ 3343680 w 334332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5434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a29"/>
                  </a:gs>
                  <a:gs pos="50000">
                    <a:srgbClr val="377f59"/>
                  </a:gs>
                  <a:gs pos="100000">
                    <a:srgbClr val="193a2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>
                  <a:gd name="textAreaLeft" fmla="*/ 0 w 3593880"/>
                  <a:gd name="textAreaRight" fmla="*/ 3594240 w 35938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7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a3a00"/>
                  </a:gs>
                  <a:gs pos="50000">
                    <a:srgbClr val="808000"/>
                  </a:gs>
                  <a:gs pos="100000">
                    <a:srgbClr val="3a3a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4460"/>
                  </a:gs>
                  <a:gs pos="50000">
                    <a:srgbClr val="4f94d3"/>
                  </a:gs>
                  <a:gs pos="100000">
                    <a:srgbClr val="2344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>
                  <a:gd name="textAreaLeft" fmla="*/ 0 w 4081680"/>
                  <a:gd name="textAreaRight" fmla="*/ 4082040 w 40816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f9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>
                  <a:gd name="textAreaLeft" fmla="*/ 0 w 1838520"/>
                  <a:gd name="textAreaRight" fmla="*/ 1838880 w 1838520"/>
                  <a:gd name="textAreaTop" fmla="*/ 0 h 2722320"/>
                  <a:gd name="textAreaBottom" fmla="*/ 2722680 h 272232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3c2591"/>
                  </a:gs>
                  <a:gs pos="50000">
                    <a:srgbClr val="5434ca"/>
                  </a:gs>
                  <a:gs pos="100000">
                    <a:srgbClr val="3c259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75b40"/>
                  </a:gs>
                  <a:gs pos="50000">
                    <a:srgbClr val="377f59"/>
                  </a:gs>
                  <a:gs pos="100000">
                    <a:srgbClr val="275b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>
                  <a:gd name="textAreaLeft" fmla="*/ 0 w 3833640"/>
                  <a:gd name="textAreaRight" fmla="*/ 3834000 w 383364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5c5c00"/>
                  </a:gs>
                  <a:gs pos="50000">
                    <a:srgbClr val="808000"/>
                  </a:gs>
                  <a:gs pos="100000">
                    <a:srgbClr val="5c5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86a96"/>
                  </a:gs>
                  <a:gs pos="50000">
                    <a:srgbClr val="4f94d3"/>
                  </a:gs>
                  <a:gs pos="100000">
                    <a:srgbClr val="386a9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38080" y="2376360"/>
          <a:ext cx="7467840" cy="301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7000"/>
                      </a:srgbClr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7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6" name="矩形 12"/>
          <p:cNvSpPr/>
          <p:nvPr/>
        </p:nvSpPr>
        <p:spPr>
          <a:xfrm>
            <a:off x="631800" y="6021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0T03:01:00Z</dcterms:created>
  <dc:creator>www.pptbz.com</dc:creator>
  <dc:description>www.pptbz.com</dc:description>
  <cp:keywords/>
  <dc:language>en-US</dc:language>
  <cp:lastModifiedBy>a</cp:lastModifiedBy>
  <dcterms:modified xsi:type="dcterms:W3CDTF">2015-07-25T12:04:57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