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hdphoto1.wdp" ContentType="image/vnd.ms-photo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548051-9551-4DBE-883C-4789E04A1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28DCEB-47F3-4790-83A0-F5D198D941E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B259-459C-4D76-99FD-4264302BD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7172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7F7C-5D3B-4243-93AE-16425D06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044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622B-E66D-498C-9456-86CE48E88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19664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7172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377172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377172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93FE-7D2C-47E7-8A14-78CBC296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009B-9CC2-4129-90B0-02986AE1E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86B9-49A1-479D-8F06-F161F390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6A11-E2D6-4FAF-90C4-627D1F64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DABF-DD9C-4D7A-B143-46EB4A7A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BC2E-6ED5-4E5A-A2BB-0E6A57B3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B30E-0F4E-4C62-B096-AFE8FD07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F007-28A7-4F22-87CB-4C5424FE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6C42-59AE-48AB-BB99-ED072F88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9044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61A2-F555-449A-8052-672CA2DA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77172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9384-F1A6-4E74-80F4-D5EF1960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77172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A9A4-6B45-4BCF-8E44-EA3F50D2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9044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014F-B3EF-4942-A2FD-7F128DFBF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50800" y="119664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77172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50800" y="377172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4040" y="377172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2308-C9B4-4038-B3D9-0377A2A65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A5DC-656E-484B-97AD-96A1AFB9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C941-67EC-48EE-88C5-42D46AE8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0B00-3EB2-4ED0-ADF7-04D8071B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B988-2406-4655-8AD6-2C8455D9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13D8-4996-46B8-9AF1-09B60125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044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76B0-2988-4BD6-B32D-7CA7168F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7172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7112-F5C5-4830-9DCE-565747DF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hyperlink" Target="http://www.iloveppt.org/" TargetMode="External"/><Relationship Id="rId4" Type="http://schemas.openxmlformats.org/officeDocument/2006/relationships/image" Target="../media/image3.png"/><Relationship Id="rId5" Type="http://schemas.microsoft.com/office/2007/relationships/hdphoto" Target="../media/hdphoto1.wdp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Administrator\Desktop\新建文件夹\bg2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Users\Administrator\Desktop\新建文件夹\bg1.jpg"/>
          <p:cNvPicPr/>
          <p:nvPr/>
        </p:nvPicPr>
        <p:blipFill>
          <a:blip r:embed="rId3"/>
          <a:srcRect l="1975" t="0" r="0" b="0"/>
          <a:stretch/>
        </p:blipFill>
        <p:spPr>
          <a:xfrm>
            <a:off x="0" y="0"/>
            <a:ext cx="8963280" cy="685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727272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27272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727272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27272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395640" y="3285000"/>
            <a:ext cx="8352720" cy="11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262626"/>
                </a:solidFill>
                <a:latin typeface="Verdana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7272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115DB0-9345-4E4B-A420-72F8A48F94B4}" type="slidenum">
              <a:rPr b="0" lang="en-US" sz="1200" spc="-1" strike="noStrike">
                <a:solidFill>
                  <a:srgbClr val="72727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Administrator\Desktop\新建文件夹\bg2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262626"/>
                </a:solidFill>
                <a:latin typeface="Verdana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262626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262626"/>
                </a:solidFill>
                <a:latin typeface="Verdana"/>
              </a:rPr>
              <a:t>单击此处编辑母版文本样式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262626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262626"/>
                </a:solidFill>
                <a:latin typeface="Verdana"/>
              </a:rPr>
              <a:t>第二级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262626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262626"/>
                </a:solidFill>
                <a:latin typeface="Verdana"/>
              </a:rPr>
              <a:t>第三级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262626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262626"/>
                </a:solidFill>
                <a:latin typeface="Verdana"/>
              </a:rPr>
              <a:t>第四级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479"/>
              </a:spcBef>
              <a:buClr>
                <a:srgbClr val="262626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262626"/>
                </a:solidFill>
                <a:latin typeface="Verdana"/>
              </a:rPr>
              <a:t>第五级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26262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262626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26262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262626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26262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21B7433-9887-4FB2-83D7-6AF9B38F58D5}" type="slidenum">
              <a:rPr b="0" lang="en-US" sz="1200" spc="-1" strike="noStrike">
                <a:solidFill>
                  <a:srgbClr val="26262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C:\Users\Administrator\Desktop\新建文件夹 (4)\未标题-1.gif">
            <a:hlinkClick r:id="rId3"/>
          </p:cNvPr>
          <p:cNvPicPr/>
          <p:nvPr/>
        </p:nvPicPr>
        <p:blipFill>
          <a:blip r:embed="rId4">
            <a:extLst>
              <a:ext uri="{BEBA8EAE-BF5A-486C-A8C5-ECC9F3942E4B}">
                <a14:imgProps xmlns:a14="http://schemas.microsoft.com/office/drawing/2010/main">
                  <a14:imgLayer r:embed="rId5">
                    <a14:imgEffect>
                      <a14:brightnessContrast bright="-40000" contrast="-40000"/>
                    </a14:imgEffect>
                  </a14:imgLayer>
                </a14:imgProps>
              </a:ext>
            </a:extLst>
          </a:blip>
          <a:srcRect l="0" t="0" r="54117" b="0"/>
          <a:stretch/>
        </p:blipFill>
        <p:spPr>
          <a:xfrm>
            <a:off x="7092360" y="188640"/>
            <a:ext cx="1584360" cy="8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285000"/>
            <a:ext cx="8748000" cy="11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262626"/>
                </a:solidFill>
                <a:latin typeface="Verdana"/>
              </a:rPr>
              <a:t>立体向上箭头商务</a:t>
            </a:r>
            <a:r>
              <a:rPr b="1" lang="en-US" sz="4000" spc="-1" strike="noStrike">
                <a:solidFill>
                  <a:srgbClr val="262626"/>
                </a:solidFill>
                <a:latin typeface="Verdana"/>
              </a:rPr>
              <a:t>PPT</a:t>
            </a:r>
            <a:r>
              <a:rPr b="1" lang="zh-CN" sz="4000" spc="-1" strike="noStrike">
                <a:solidFill>
                  <a:srgbClr val="262626"/>
                </a:solidFill>
                <a:latin typeface="Verdana"/>
              </a:rPr>
              <a:t>图表在线下载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3120" y="4509000"/>
            <a:ext cx="83574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Verdana"/>
              </a:rPr>
              <a:t>点击此处添加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6080" y="76464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262626"/>
                </a:solidFill>
                <a:latin typeface="Verdana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262626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262626"/>
                </a:solidFill>
                <a:latin typeface="Verdana"/>
              </a:rPr>
              <a:t>点击此处添加文本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52BB-0F07-45C9-83CD-75672976310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E8B49B9-6CF4-4338-AA10-706EE272B4B5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  <Words>29</Words>
  <Paragraphs>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TP</cp:category>
  <dcterms:created xsi:type="dcterms:W3CDTF">2010-10-13T12:51:22Z</dcterms:created>
  <dc:creator>ilovePPT.ORG</dc:creator>
  <dc:description/>
  <cp:keywords>我爱PPT中文网 ppt ppt模版 ppt设计</cp:keywords>
  <dc:language>en-US</dc:language>
  <cp:lastModifiedBy>a</cp:lastModifiedBy>
  <dcterms:modified xsi:type="dcterms:W3CDTF">2015-07-25T07:55:04Z</dcterms:modified>
  <cp:revision>40</cp:revision>
  <dc:subject/>
  <dc:title>INFOCHIN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2</vt:r8>
  </property>
</Properties>
</file>