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hdphoto1.wdp" ContentType="image/vnd.ms-photo"/>
  <Override PartName="/ppt/media/image2.png" ContentType="image/png"/>
  <Override PartName="/ppt/media/image3.png" ContentType="image/png"/>
  <Override PartName="/ppt/media/hdphoto2.wdp" ContentType="image/vnd.ms-photo"/>
  <Override PartName="/ppt/media/image4.png" ContentType="image/png"/>
  <Override PartName="/ppt/media/hdphoto3.wdp" ContentType="image/vnd.ms-photo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161-2EE9-47D7-B5FA-EB2EE652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8A3-9D26-45C4-B1D8-68984D81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04C-2C02-4226-BB4C-5CFC5A33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9A8-5809-40F4-AC12-010973FD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6D7-DE85-4D4F-BBE7-4C6E958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D09-5EF5-412D-98EC-D2700039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670-8409-447A-8AD0-14725B0D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341-B31F-43EA-88B6-8CCEE364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7D9-CB53-414F-B57B-60B6A340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115-7DBB-49DB-866B-067296CA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61D-940A-4935-BD37-80760427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F2B-F0A6-4443-A8FE-BD198E59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71B958-867C-4F47-9335-D2AA3108895F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2.wdp"/><Relationship Id="rId3" Type="http://schemas.openxmlformats.org/officeDocument/2006/relationships/image" Target="../media/image4.png"/><Relationship Id="rId4" Type="http://schemas.microsoft.com/office/2007/relationships/hdphoto" Target="../media/hdphoto3.wdp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WatercolorSponge/>
                    </a14:imgEffect>
                  </a14:imgLayer>
                </a14:imgProps>
              </a:ext>
            </a:extLst>
          </a:blip>
          <a:stretch/>
        </p:blipFill>
        <p:spPr>
          <a:xfrm>
            <a:off x="-360" y="-360"/>
            <a:ext cx="12192840" cy="6858360"/>
          </a:xfrm>
          <a:prstGeom prst="rect">
            <a:avLst/>
          </a:prstGeom>
          <a:ln w="0">
            <a:noFill/>
          </a:ln>
        </p:spPr>
      </p:pic>
      <p:sp>
        <p:nvSpPr>
          <p:cNvPr id="42" name="KSO_Shape"/>
          <p:cNvSpPr/>
          <p:nvPr/>
        </p:nvSpPr>
        <p:spPr>
          <a:xfrm>
            <a:off x="108720" y="970560"/>
            <a:ext cx="11973960" cy="5887080"/>
          </a:xfrm>
          <a:custGeom>
            <a:avLst/>
            <a:gdLst>
              <a:gd name="textAreaLeft" fmla="*/ 0 w 11973960"/>
              <a:gd name="textAreaRight" fmla="*/ 11974320 w 11973960"/>
              <a:gd name="textAreaTop" fmla="*/ 0 h 5887080"/>
              <a:gd name="textAreaBottom" fmla="*/ 5887440 h 5887080"/>
            </a:gdLst>
            <a:ahLst/>
            <a:rect l="textAreaLeft" t="textAreaTop" r="textAreaRight" b="textAreaBottom"/>
            <a:pathLst>
              <a:path w="30720" h="15128">
                <a:moveTo>
                  <a:pt x="30720" y="15128"/>
                </a:moveTo>
                <a:lnTo>
                  <a:pt x="0" y="15128"/>
                </a:lnTo>
                <a:lnTo>
                  <a:pt x="0" y="13390"/>
                </a:lnTo>
                <a:lnTo>
                  <a:pt x="68" y="13390"/>
                </a:lnTo>
                <a:lnTo>
                  <a:pt x="68" y="13542"/>
                </a:lnTo>
                <a:lnTo>
                  <a:pt x="254" y="13542"/>
                </a:lnTo>
                <a:lnTo>
                  <a:pt x="254" y="13981"/>
                </a:lnTo>
                <a:lnTo>
                  <a:pt x="304" y="14031"/>
                </a:lnTo>
                <a:lnTo>
                  <a:pt x="304" y="13120"/>
                </a:lnTo>
                <a:lnTo>
                  <a:pt x="355" y="12833"/>
                </a:lnTo>
                <a:lnTo>
                  <a:pt x="355" y="13138"/>
                </a:lnTo>
                <a:lnTo>
                  <a:pt x="490" y="13138"/>
                </a:lnTo>
                <a:lnTo>
                  <a:pt x="490" y="13896"/>
                </a:lnTo>
                <a:lnTo>
                  <a:pt x="658" y="13896"/>
                </a:lnTo>
                <a:lnTo>
                  <a:pt x="658" y="13643"/>
                </a:lnTo>
                <a:lnTo>
                  <a:pt x="760" y="13643"/>
                </a:lnTo>
                <a:lnTo>
                  <a:pt x="760" y="12833"/>
                </a:lnTo>
                <a:lnTo>
                  <a:pt x="945" y="12833"/>
                </a:lnTo>
                <a:lnTo>
                  <a:pt x="945" y="13239"/>
                </a:lnTo>
                <a:lnTo>
                  <a:pt x="1012" y="13239"/>
                </a:lnTo>
                <a:lnTo>
                  <a:pt x="1012" y="13356"/>
                </a:lnTo>
                <a:lnTo>
                  <a:pt x="1113" y="13356"/>
                </a:lnTo>
                <a:lnTo>
                  <a:pt x="1113" y="13896"/>
                </a:lnTo>
                <a:lnTo>
                  <a:pt x="1213" y="13727"/>
                </a:lnTo>
                <a:lnTo>
                  <a:pt x="1198" y="12743"/>
                </a:lnTo>
                <a:lnTo>
                  <a:pt x="1423" y="12743"/>
                </a:lnTo>
                <a:lnTo>
                  <a:pt x="1423" y="12327"/>
                </a:lnTo>
                <a:lnTo>
                  <a:pt x="1580" y="12327"/>
                </a:lnTo>
                <a:lnTo>
                  <a:pt x="1580" y="12743"/>
                </a:lnTo>
                <a:lnTo>
                  <a:pt x="1783" y="12743"/>
                </a:lnTo>
                <a:lnTo>
                  <a:pt x="1783" y="13891"/>
                </a:lnTo>
                <a:lnTo>
                  <a:pt x="1873" y="13913"/>
                </a:lnTo>
                <a:lnTo>
                  <a:pt x="1873" y="12743"/>
                </a:lnTo>
                <a:lnTo>
                  <a:pt x="2098" y="12743"/>
                </a:lnTo>
                <a:lnTo>
                  <a:pt x="2098" y="12327"/>
                </a:lnTo>
                <a:lnTo>
                  <a:pt x="2255" y="12327"/>
                </a:lnTo>
                <a:lnTo>
                  <a:pt x="2255" y="12743"/>
                </a:lnTo>
                <a:lnTo>
                  <a:pt x="2457" y="12743"/>
                </a:lnTo>
                <a:lnTo>
                  <a:pt x="2457" y="13891"/>
                </a:lnTo>
                <a:lnTo>
                  <a:pt x="2864" y="13880"/>
                </a:lnTo>
                <a:lnTo>
                  <a:pt x="2864" y="12356"/>
                </a:lnTo>
                <a:lnTo>
                  <a:pt x="2952" y="12317"/>
                </a:lnTo>
                <a:lnTo>
                  <a:pt x="2978" y="12204"/>
                </a:lnTo>
                <a:lnTo>
                  <a:pt x="3117" y="12204"/>
                </a:lnTo>
                <a:lnTo>
                  <a:pt x="3117" y="12078"/>
                </a:lnTo>
                <a:lnTo>
                  <a:pt x="3356" y="12028"/>
                </a:lnTo>
                <a:lnTo>
                  <a:pt x="3471" y="12090"/>
                </a:lnTo>
                <a:lnTo>
                  <a:pt x="3471" y="12393"/>
                </a:lnTo>
                <a:lnTo>
                  <a:pt x="3673" y="12519"/>
                </a:lnTo>
                <a:lnTo>
                  <a:pt x="3673" y="13933"/>
                </a:lnTo>
                <a:lnTo>
                  <a:pt x="3786" y="13858"/>
                </a:lnTo>
                <a:lnTo>
                  <a:pt x="3786" y="11206"/>
                </a:lnTo>
                <a:lnTo>
                  <a:pt x="3912" y="11105"/>
                </a:lnTo>
                <a:lnTo>
                  <a:pt x="3875" y="11080"/>
                </a:lnTo>
                <a:lnTo>
                  <a:pt x="3875" y="10890"/>
                </a:lnTo>
                <a:lnTo>
                  <a:pt x="4316" y="10575"/>
                </a:lnTo>
                <a:lnTo>
                  <a:pt x="4644" y="10789"/>
                </a:lnTo>
                <a:lnTo>
                  <a:pt x="4809" y="10701"/>
                </a:lnTo>
                <a:lnTo>
                  <a:pt x="4834" y="10600"/>
                </a:lnTo>
                <a:lnTo>
                  <a:pt x="4758" y="10575"/>
                </a:lnTo>
                <a:lnTo>
                  <a:pt x="4758" y="10171"/>
                </a:lnTo>
                <a:lnTo>
                  <a:pt x="4935" y="10032"/>
                </a:lnTo>
                <a:lnTo>
                  <a:pt x="5188" y="9830"/>
                </a:lnTo>
                <a:lnTo>
                  <a:pt x="5281" y="9206"/>
                </a:lnTo>
                <a:lnTo>
                  <a:pt x="5277" y="9200"/>
                </a:lnTo>
                <a:lnTo>
                  <a:pt x="5272" y="9195"/>
                </a:lnTo>
                <a:lnTo>
                  <a:pt x="5268" y="9188"/>
                </a:lnTo>
                <a:lnTo>
                  <a:pt x="5265" y="9182"/>
                </a:lnTo>
                <a:lnTo>
                  <a:pt x="5262" y="9175"/>
                </a:lnTo>
                <a:lnTo>
                  <a:pt x="5260" y="9167"/>
                </a:lnTo>
                <a:lnTo>
                  <a:pt x="5259" y="9160"/>
                </a:lnTo>
                <a:lnTo>
                  <a:pt x="5259" y="9152"/>
                </a:lnTo>
                <a:lnTo>
                  <a:pt x="5259" y="9144"/>
                </a:lnTo>
                <a:lnTo>
                  <a:pt x="5260" y="9137"/>
                </a:lnTo>
                <a:lnTo>
                  <a:pt x="5262" y="9130"/>
                </a:lnTo>
                <a:lnTo>
                  <a:pt x="5265" y="9122"/>
                </a:lnTo>
                <a:lnTo>
                  <a:pt x="5268" y="9116"/>
                </a:lnTo>
                <a:lnTo>
                  <a:pt x="5272" y="9110"/>
                </a:lnTo>
                <a:lnTo>
                  <a:pt x="5277" y="9104"/>
                </a:lnTo>
                <a:lnTo>
                  <a:pt x="5281" y="9098"/>
                </a:lnTo>
                <a:lnTo>
                  <a:pt x="5287" y="9094"/>
                </a:lnTo>
                <a:lnTo>
                  <a:pt x="5292" y="9090"/>
                </a:lnTo>
                <a:lnTo>
                  <a:pt x="5299" y="9086"/>
                </a:lnTo>
                <a:lnTo>
                  <a:pt x="5305" y="9083"/>
                </a:lnTo>
                <a:lnTo>
                  <a:pt x="5312" y="9080"/>
                </a:lnTo>
                <a:lnTo>
                  <a:pt x="5319" y="9079"/>
                </a:lnTo>
                <a:lnTo>
                  <a:pt x="5327" y="9077"/>
                </a:lnTo>
                <a:lnTo>
                  <a:pt x="5335" y="9076"/>
                </a:lnTo>
                <a:lnTo>
                  <a:pt x="5343" y="9077"/>
                </a:lnTo>
                <a:lnTo>
                  <a:pt x="5350" y="9079"/>
                </a:lnTo>
                <a:lnTo>
                  <a:pt x="5358" y="9080"/>
                </a:lnTo>
                <a:lnTo>
                  <a:pt x="5364" y="9083"/>
                </a:lnTo>
                <a:lnTo>
                  <a:pt x="5371" y="9086"/>
                </a:lnTo>
                <a:lnTo>
                  <a:pt x="5378" y="9090"/>
                </a:lnTo>
                <a:lnTo>
                  <a:pt x="5383" y="9094"/>
                </a:lnTo>
                <a:lnTo>
                  <a:pt x="5389" y="9098"/>
                </a:lnTo>
                <a:lnTo>
                  <a:pt x="5393" y="9104"/>
                </a:lnTo>
                <a:lnTo>
                  <a:pt x="5397" y="9110"/>
                </a:lnTo>
                <a:lnTo>
                  <a:pt x="5402" y="9116"/>
                </a:lnTo>
                <a:lnTo>
                  <a:pt x="5405" y="9122"/>
                </a:lnTo>
                <a:lnTo>
                  <a:pt x="5407" y="9130"/>
                </a:lnTo>
                <a:lnTo>
                  <a:pt x="5409" y="9137"/>
                </a:lnTo>
                <a:lnTo>
                  <a:pt x="5411" y="9144"/>
                </a:lnTo>
                <a:lnTo>
                  <a:pt x="5411" y="9152"/>
                </a:lnTo>
                <a:lnTo>
                  <a:pt x="5411" y="9160"/>
                </a:lnTo>
                <a:lnTo>
                  <a:pt x="5409" y="9167"/>
                </a:lnTo>
                <a:lnTo>
                  <a:pt x="5407" y="9175"/>
                </a:lnTo>
                <a:lnTo>
                  <a:pt x="5405" y="9182"/>
                </a:lnTo>
                <a:lnTo>
                  <a:pt x="5402" y="9188"/>
                </a:lnTo>
                <a:lnTo>
                  <a:pt x="5397" y="9195"/>
                </a:lnTo>
                <a:lnTo>
                  <a:pt x="5393" y="9200"/>
                </a:lnTo>
                <a:lnTo>
                  <a:pt x="5389" y="9206"/>
                </a:lnTo>
                <a:lnTo>
                  <a:pt x="5415" y="9843"/>
                </a:lnTo>
                <a:lnTo>
                  <a:pt x="5856" y="10120"/>
                </a:lnTo>
                <a:lnTo>
                  <a:pt x="5856" y="10511"/>
                </a:lnTo>
                <a:lnTo>
                  <a:pt x="5794" y="10562"/>
                </a:lnTo>
                <a:lnTo>
                  <a:pt x="5806" y="10689"/>
                </a:lnTo>
                <a:lnTo>
                  <a:pt x="6097" y="10865"/>
                </a:lnTo>
                <a:lnTo>
                  <a:pt x="6097" y="12103"/>
                </a:lnTo>
                <a:lnTo>
                  <a:pt x="6210" y="12103"/>
                </a:lnTo>
                <a:lnTo>
                  <a:pt x="6210" y="11977"/>
                </a:lnTo>
                <a:lnTo>
                  <a:pt x="6336" y="11913"/>
                </a:lnTo>
                <a:lnTo>
                  <a:pt x="6336" y="11775"/>
                </a:lnTo>
                <a:lnTo>
                  <a:pt x="6577" y="11636"/>
                </a:lnTo>
                <a:lnTo>
                  <a:pt x="6791" y="11787"/>
                </a:lnTo>
                <a:lnTo>
                  <a:pt x="6791" y="11977"/>
                </a:lnTo>
                <a:lnTo>
                  <a:pt x="6905" y="12065"/>
                </a:lnTo>
                <a:lnTo>
                  <a:pt x="6905" y="13075"/>
                </a:lnTo>
                <a:lnTo>
                  <a:pt x="7031" y="13125"/>
                </a:lnTo>
                <a:lnTo>
                  <a:pt x="7031" y="9957"/>
                </a:lnTo>
                <a:lnTo>
                  <a:pt x="7959" y="9296"/>
                </a:lnTo>
                <a:lnTo>
                  <a:pt x="8030" y="5864"/>
                </a:lnTo>
                <a:lnTo>
                  <a:pt x="8010" y="5850"/>
                </a:lnTo>
                <a:lnTo>
                  <a:pt x="7992" y="5836"/>
                </a:lnTo>
                <a:lnTo>
                  <a:pt x="7974" y="5822"/>
                </a:lnTo>
                <a:lnTo>
                  <a:pt x="7957" y="5807"/>
                </a:lnTo>
                <a:lnTo>
                  <a:pt x="7939" y="5791"/>
                </a:lnTo>
                <a:lnTo>
                  <a:pt x="7922" y="5775"/>
                </a:lnTo>
                <a:lnTo>
                  <a:pt x="7905" y="5758"/>
                </a:lnTo>
                <a:lnTo>
                  <a:pt x="7890" y="5742"/>
                </a:lnTo>
                <a:lnTo>
                  <a:pt x="7874" y="5724"/>
                </a:lnTo>
                <a:lnTo>
                  <a:pt x="7860" y="5707"/>
                </a:lnTo>
                <a:lnTo>
                  <a:pt x="7845" y="5688"/>
                </a:lnTo>
                <a:lnTo>
                  <a:pt x="7832" y="5670"/>
                </a:lnTo>
                <a:lnTo>
                  <a:pt x="7818" y="5651"/>
                </a:lnTo>
                <a:lnTo>
                  <a:pt x="7805" y="5631"/>
                </a:lnTo>
                <a:lnTo>
                  <a:pt x="7793" y="5610"/>
                </a:lnTo>
                <a:lnTo>
                  <a:pt x="7782" y="5591"/>
                </a:lnTo>
                <a:lnTo>
                  <a:pt x="7771" y="5570"/>
                </a:lnTo>
                <a:lnTo>
                  <a:pt x="7761" y="5549"/>
                </a:lnTo>
                <a:lnTo>
                  <a:pt x="7751" y="5527"/>
                </a:lnTo>
                <a:lnTo>
                  <a:pt x="7743" y="5505"/>
                </a:lnTo>
                <a:lnTo>
                  <a:pt x="7734" y="5483"/>
                </a:lnTo>
                <a:lnTo>
                  <a:pt x="7726" y="5461"/>
                </a:lnTo>
                <a:lnTo>
                  <a:pt x="7720" y="5438"/>
                </a:lnTo>
                <a:lnTo>
                  <a:pt x="7713" y="5415"/>
                </a:lnTo>
                <a:lnTo>
                  <a:pt x="7707" y="5392"/>
                </a:lnTo>
                <a:lnTo>
                  <a:pt x="7702" y="5368"/>
                </a:lnTo>
                <a:lnTo>
                  <a:pt x="7699" y="5343"/>
                </a:lnTo>
                <a:lnTo>
                  <a:pt x="7694" y="5319"/>
                </a:lnTo>
                <a:lnTo>
                  <a:pt x="7692" y="5295"/>
                </a:lnTo>
                <a:lnTo>
                  <a:pt x="7690" y="5271"/>
                </a:lnTo>
                <a:lnTo>
                  <a:pt x="7689" y="5246"/>
                </a:lnTo>
                <a:lnTo>
                  <a:pt x="7689" y="5222"/>
                </a:lnTo>
                <a:lnTo>
                  <a:pt x="7689" y="5189"/>
                </a:lnTo>
                <a:lnTo>
                  <a:pt x="7691" y="5156"/>
                </a:lnTo>
                <a:lnTo>
                  <a:pt x="7694" y="5124"/>
                </a:lnTo>
                <a:lnTo>
                  <a:pt x="7700" y="5092"/>
                </a:lnTo>
                <a:lnTo>
                  <a:pt x="7705" y="5061"/>
                </a:lnTo>
                <a:lnTo>
                  <a:pt x="7712" y="5031"/>
                </a:lnTo>
                <a:lnTo>
                  <a:pt x="7721" y="5000"/>
                </a:lnTo>
                <a:lnTo>
                  <a:pt x="7731" y="4970"/>
                </a:lnTo>
                <a:lnTo>
                  <a:pt x="7740" y="4941"/>
                </a:lnTo>
                <a:lnTo>
                  <a:pt x="7752" y="4912"/>
                </a:lnTo>
                <a:lnTo>
                  <a:pt x="7766" y="4885"/>
                </a:lnTo>
                <a:lnTo>
                  <a:pt x="7780" y="4857"/>
                </a:lnTo>
                <a:lnTo>
                  <a:pt x="7794" y="4830"/>
                </a:lnTo>
                <a:lnTo>
                  <a:pt x="7811" y="4803"/>
                </a:lnTo>
                <a:lnTo>
                  <a:pt x="7828" y="4778"/>
                </a:lnTo>
                <a:lnTo>
                  <a:pt x="7846" y="4754"/>
                </a:lnTo>
                <a:lnTo>
                  <a:pt x="7864" y="4730"/>
                </a:lnTo>
                <a:lnTo>
                  <a:pt x="7884" y="4707"/>
                </a:lnTo>
                <a:lnTo>
                  <a:pt x="7905" y="4684"/>
                </a:lnTo>
                <a:lnTo>
                  <a:pt x="7927" y="4663"/>
                </a:lnTo>
                <a:lnTo>
                  <a:pt x="7949" y="4642"/>
                </a:lnTo>
                <a:lnTo>
                  <a:pt x="7973" y="4622"/>
                </a:lnTo>
                <a:lnTo>
                  <a:pt x="7996" y="4602"/>
                </a:lnTo>
                <a:lnTo>
                  <a:pt x="8021" y="4585"/>
                </a:lnTo>
                <a:lnTo>
                  <a:pt x="8047" y="4568"/>
                </a:lnTo>
                <a:lnTo>
                  <a:pt x="8073" y="4552"/>
                </a:lnTo>
                <a:lnTo>
                  <a:pt x="8101" y="4537"/>
                </a:lnTo>
                <a:lnTo>
                  <a:pt x="8128" y="4523"/>
                </a:lnTo>
                <a:lnTo>
                  <a:pt x="8155" y="4510"/>
                </a:lnTo>
                <a:lnTo>
                  <a:pt x="8184" y="4498"/>
                </a:lnTo>
                <a:lnTo>
                  <a:pt x="8214" y="4488"/>
                </a:lnTo>
                <a:lnTo>
                  <a:pt x="8243" y="4478"/>
                </a:lnTo>
                <a:lnTo>
                  <a:pt x="8253" y="4363"/>
                </a:lnTo>
                <a:lnTo>
                  <a:pt x="8311" y="4320"/>
                </a:lnTo>
                <a:lnTo>
                  <a:pt x="8328" y="4079"/>
                </a:lnTo>
                <a:lnTo>
                  <a:pt x="8296" y="4069"/>
                </a:lnTo>
                <a:lnTo>
                  <a:pt x="8281" y="4064"/>
                </a:lnTo>
                <a:lnTo>
                  <a:pt x="8266" y="4059"/>
                </a:lnTo>
                <a:lnTo>
                  <a:pt x="8253" y="4052"/>
                </a:lnTo>
                <a:lnTo>
                  <a:pt x="8240" y="4047"/>
                </a:lnTo>
                <a:lnTo>
                  <a:pt x="8229" y="4039"/>
                </a:lnTo>
                <a:lnTo>
                  <a:pt x="8218" y="4033"/>
                </a:lnTo>
                <a:lnTo>
                  <a:pt x="8209" y="4025"/>
                </a:lnTo>
                <a:lnTo>
                  <a:pt x="8200" y="4017"/>
                </a:lnTo>
                <a:lnTo>
                  <a:pt x="8194" y="4010"/>
                </a:lnTo>
                <a:lnTo>
                  <a:pt x="8187" y="4002"/>
                </a:lnTo>
                <a:lnTo>
                  <a:pt x="8183" y="3993"/>
                </a:lnTo>
                <a:lnTo>
                  <a:pt x="8180" y="3984"/>
                </a:lnTo>
                <a:lnTo>
                  <a:pt x="8177" y="3976"/>
                </a:lnTo>
                <a:lnTo>
                  <a:pt x="8176" y="3967"/>
                </a:lnTo>
                <a:lnTo>
                  <a:pt x="8177" y="3958"/>
                </a:lnTo>
                <a:lnTo>
                  <a:pt x="8180" y="3949"/>
                </a:lnTo>
                <a:lnTo>
                  <a:pt x="8183" y="3941"/>
                </a:lnTo>
                <a:lnTo>
                  <a:pt x="8187" y="3933"/>
                </a:lnTo>
                <a:lnTo>
                  <a:pt x="8193" y="3925"/>
                </a:lnTo>
                <a:lnTo>
                  <a:pt x="8200" y="3917"/>
                </a:lnTo>
                <a:lnTo>
                  <a:pt x="8208" y="3910"/>
                </a:lnTo>
                <a:lnTo>
                  <a:pt x="8218" y="3902"/>
                </a:lnTo>
                <a:lnTo>
                  <a:pt x="8228" y="3895"/>
                </a:lnTo>
                <a:lnTo>
                  <a:pt x="8239" y="3889"/>
                </a:lnTo>
                <a:lnTo>
                  <a:pt x="8251" y="3882"/>
                </a:lnTo>
                <a:lnTo>
                  <a:pt x="8264" y="3876"/>
                </a:lnTo>
                <a:lnTo>
                  <a:pt x="8278" y="3870"/>
                </a:lnTo>
                <a:lnTo>
                  <a:pt x="8293" y="3866"/>
                </a:lnTo>
                <a:lnTo>
                  <a:pt x="8324" y="3857"/>
                </a:lnTo>
                <a:lnTo>
                  <a:pt x="8342" y="3853"/>
                </a:lnTo>
                <a:lnTo>
                  <a:pt x="8361" y="3849"/>
                </a:lnTo>
                <a:lnTo>
                  <a:pt x="8359" y="3298"/>
                </a:lnTo>
                <a:lnTo>
                  <a:pt x="8337" y="3287"/>
                </a:lnTo>
                <a:lnTo>
                  <a:pt x="8320" y="3278"/>
                </a:lnTo>
                <a:lnTo>
                  <a:pt x="8306" y="3268"/>
                </a:lnTo>
                <a:lnTo>
                  <a:pt x="8292" y="3257"/>
                </a:lnTo>
                <a:lnTo>
                  <a:pt x="8278" y="3245"/>
                </a:lnTo>
                <a:lnTo>
                  <a:pt x="8265" y="3232"/>
                </a:lnTo>
                <a:lnTo>
                  <a:pt x="8254" y="3219"/>
                </a:lnTo>
                <a:lnTo>
                  <a:pt x="8243" y="3205"/>
                </a:lnTo>
                <a:lnTo>
                  <a:pt x="8233" y="3189"/>
                </a:lnTo>
                <a:lnTo>
                  <a:pt x="8225" y="3174"/>
                </a:lnTo>
                <a:lnTo>
                  <a:pt x="8217" y="3158"/>
                </a:lnTo>
                <a:lnTo>
                  <a:pt x="8209" y="3141"/>
                </a:lnTo>
                <a:lnTo>
                  <a:pt x="8204" y="3124"/>
                </a:lnTo>
                <a:lnTo>
                  <a:pt x="8199" y="3106"/>
                </a:lnTo>
                <a:lnTo>
                  <a:pt x="8196" y="3087"/>
                </a:lnTo>
                <a:lnTo>
                  <a:pt x="8194" y="3069"/>
                </a:lnTo>
                <a:lnTo>
                  <a:pt x="8194" y="3049"/>
                </a:lnTo>
                <a:lnTo>
                  <a:pt x="8194" y="3034"/>
                </a:lnTo>
                <a:lnTo>
                  <a:pt x="8195" y="3018"/>
                </a:lnTo>
                <a:lnTo>
                  <a:pt x="8197" y="3004"/>
                </a:lnTo>
                <a:lnTo>
                  <a:pt x="8200" y="2988"/>
                </a:lnTo>
                <a:lnTo>
                  <a:pt x="8204" y="2974"/>
                </a:lnTo>
                <a:lnTo>
                  <a:pt x="8209" y="2960"/>
                </a:lnTo>
                <a:lnTo>
                  <a:pt x="8214" y="2947"/>
                </a:lnTo>
                <a:lnTo>
                  <a:pt x="8220" y="2934"/>
                </a:lnTo>
                <a:lnTo>
                  <a:pt x="8227" y="2920"/>
                </a:lnTo>
                <a:lnTo>
                  <a:pt x="8233" y="2907"/>
                </a:lnTo>
                <a:lnTo>
                  <a:pt x="8242" y="2895"/>
                </a:lnTo>
                <a:lnTo>
                  <a:pt x="8250" y="2884"/>
                </a:lnTo>
                <a:lnTo>
                  <a:pt x="8260" y="2873"/>
                </a:lnTo>
                <a:lnTo>
                  <a:pt x="8270" y="2862"/>
                </a:lnTo>
                <a:lnTo>
                  <a:pt x="8279" y="2852"/>
                </a:lnTo>
                <a:lnTo>
                  <a:pt x="8290" y="2842"/>
                </a:lnTo>
                <a:lnTo>
                  <a:pt x="8309" y="2821"/>
                </a:lnTo>
                <a:lnTo>
                  <a:pt x="8297" y="2814"/>
                </a:lnTo>
                <a:lnTo>
                  <a:pt x="8286" y="2806"/>
                </a:lnTo>
                <a:lnTo>
                  <a:pt x="8276" y="2799"/>
                </a:lnTo>
                <a:lnTo>
                  <a:pt x="8267" y="2791"/>
                </a:lnTo>
                <a:lnTo>
                  <a:pt x="8261" y="2782"/>
                </a:lnTo>
                <a:lnTo>
                  <a:pt x="8256" y="2773"/>
                </a:lnTo>
                <a:lnTo>
                  <a:pt x="8253" y="2765"/>
                </a:lnTo>
                <a:lnTo>
                  <a:pt x="8253" y="2755"/>
                </a:lnTo>
                <a:lnTo>
                  <a:pt x="8253" y="2747"/>
                </a:lnTo>
                <a:lnTo>
                  <a:pt x="8255" y="2740"/>
                </a:lnTo>
                <a:lnTo>
                  <a:pt x="8258" y="2734"/>
                </a:lnTo>
                <a:lnTo>
                  <a:pt x="8262" y="2726"/>
                </a:lnTo>
                <a:lnTo>
                  <a:pt x="8266" y="2720"/>
                </a:lnTo>
                <a:lnTo>
                  <a:pt x="8273" y="2714"/>
                </a:lnTo>
                <a:lnTo>
                  <a:pt x="8279" y="2707"/>
                </a:lnTo>
                <a:lnTo>
                  <a:pt x="8287" y="2702"/>
                </a:lnTo>
                <a:lnTo>
                  <a:pt x="8296" y="2696"/>
                </a:lnTo>
                <a:lnTo>
                  <a:pt x="8306" y="2691"/>
                </a:lnTo>
                <a:lnTo>
                  <a:pt x="8327" y="2682"/>
                </a:lnTo>
                <a:lnTo>
                  <a:pt x="8351" y="2674"/>
                </a:lnTo>
                <a:lnTo>
                  <a:pt x="8376" y="2668"/>
                </a:lnTo>
                <a:lnTo>
                  <a:pt x="8399" y="1843"/>
                </a:lnTo>
                <a:lnTo>
                  <a:pt x="8387" y="1838"/>
                </a:lnTo>
                <a:lnTo>
                  <a:pt x="8377" y="1832"/>
                </a:lnTo>
                <a:lnTo>
                  <a:pt x="8367" y="1826"/>
                </a:lnTo>
                <a:lnTo>
                  <a:pt x="8360" y="1819"/>
                </a:lnTo>
                <a:lnTo>
                  <a:pt x="8354" y="1812"/>
                </a:lnTo>
                <a:lnTo>
                  <a:pt x="8349" y="1804"/>
                </a:lnTo>
                <a:lnTo>
                  <a:pt x="8346" y="1795"/>
                </a:lnTo>
                <a:lnTo>
                  <a:pt x="8345" y="1786"/>
                </a:lnTo>
                <a:lnTo>
                  <a:pt x="8345" y="1781"/>
                </a:lnTo>
                <a:lnTo>
                  <a:pt x="8346" y="1776"/>
                </a:lnTo>
                <a:lnTo>
                  <a:pt x="8349" y="1771"/>
                </a:lnTo>
                <a:lnTo>
                  <a:pt x="8351" y="1765"/>
                </a:lnTo>
                <a:lnTo>
                  <a:pt x="8357" y="1757"/>
                </a:lnTo>
                <a:lnTo>
                  <a:pt x="8367" y="1748"/>
                </a:lnTo>
                <a:lnTo>
                  <a:pt x="8378" y="1740"/>
                </a:lnTo>
                <a:lnTo>
                  <a:pt x="8391" y="1734"/>
                </a:lnTo>
                <a:lnTo>
                  <a:pt x="8406" y="1728"/>
                </a:lnTo>
                <a:lnTo>
                  <a:pt x="8422" y="1724"/>
                </a:lnTo>
                <a:lnTo>
                  <a:pt x="8418" y="1171"/>
                </a:lnTo>
                <a:lnTo>
                  <a:pt x="8409" y="1167"/>
                </a:lnTo>
                <a:lnTo>
                  <a:pt x="8401" y="1162"/>
                </a:lnTo>
                <a:lnTo>
                  <a:pt x="8395" y="1156"/>
                </a:lnTo>
                <a:lnTo>
                  <a:pt x="8389" y="1151"/>
                </a:lnTo>
                <a:lnTo>
                  <a:pt x="8385" y="1144"/>
                </a:lnTo>
                <a:lnTo>
                  <a:pt x="8382" y="1136"/>
                </a:lnTo>
                <a:lnTo>
                  <a:pt x="8379" y="1130"/>
                </a:lnTo>
                <a:lnTo>
                  <a:pt x="8379" y="1122"/>
                </a:lnTo>
                <a:lnTo>
                  <a:pt x="8379" y="1112"/>
                </a:lnTo>
                <a:lnTo>
                  <a:pt x="8383" y="1104"/>
                </a:lnTo>
                <a:lnTo>
                  <a:pt x="8387" y="1096"/>
                </a:lnTo>
                <a:lnTo>
                  <a:pt x="8394" y="1089"/>
                </a:lnTo>
                <a:lnTo>
                  <a:pt x="8401" y="1081"/>
                </a:lnTo>
                <a:lnTo>
                  <a:pt x="8410" y="1076"/>
                </a:lnTo>
                <a:lnTo>
                  <a:pt x="8420" y="1072"/>
                </a:lnTo>
                <a:lnTo>
                  <a:pt x="8431" y="1067"/>
                </a:lnTo>
                <a:lnTo>
                  <a:pt x="8445" y="0"/>
                </a:lnTo>
                <a:lnTo>
                  <a:pt x="8490" y="1067"/>
                </a:lnTo>
                <a:lnTo>
                  <a:pt x="8501" y="1072"/>
                </a:lnTo>
                <a:lnTo>
                  <a:pt x="8511" y="1076"/>
                </a:lnTo>
                <a:lnTo>
                  <a:pt x="8520" y="1081"/>
                </a:lnTo>
                <a:lnTo>
                  <a:pt x="8528" y="1088"/>
                </a:lnTo>
                <a:lnTo>
                  <a:pt x="8534" y="1096"/>
                </a:lnTo>
                <a:lnTo>
                  <a:pt x="8539" y="1104"/>
                </a:lnTo>
                <a:lnTo>
                  <a:pt x="8541" y="1112"/>
                </a:lnTo>
                <a:lnTo>
                  <a:pt x="8542" y="1122"/>
                </a:lnTo>
                <a:lnTo>
                  <a:pt x="8542" y="1130"/>
                </a:lnTo>
                <a:lnTo>
                  <a:pt x="8540" y="1136"/>
                </a:lnTo>
                <a:lnTo>
                  <a:pt x="8536" y="1144"/>
                </a:lnTo>
                <a:lnTo>
                  <a:pt x="8532" y="1151"/>
                </a:lnTo>
                <a:lnTo>
                  <a:pt x="8525" y="1156"/>
                </a:lnTo>
                <a:lnTo>
                  <a:pt x="8519" y="1162"/>
                </a:lnTo>
                <a:lnTo>
                  <a:pt x="8512" y="1167"/>
                </a:lnTo>
                <a:lnTo>
                  <a:pt x="8503" y="1171"/>
                </a:lnTo>
                <a:lnTo>
                  <a:pt x="8499" y="1724"/>
                </a:lnTo>
                <a:lnTo>
                  <a:pt x="8516" y="1728"/>
                </a:lnTo>
                <a:lnTo>
                  <a:pt x="8530" y="1734"/>
                </a:lnTo>
                <a:lnTo>
                  <a:pt x="8543" y="1740"/>
                </a:lnTo>
                <a:lnTo>
                  <a:pt x="8554" y="1748"/>
                </a:lnTo>
                <a:lnTo>
                  <a:pt x="8564" y="1757"/>
                </a:lnTo>
                <a:lnTo>
                  <a:pt x="8570" y="1765"/>
                </a:lnTo>
                <a:lnTo>
                  <a:pt x="8573" y="1771"/>
                </a:lnTo>
                <a:lnTo>
                  <a:pt x="8575" y="1776"/>
                </a:lnTo>
                <a:lnTo>
                  <a:pt x="8576" y="1781"/>
                </a:lnTo>
                <a:lnTo>
                  <a:pt x="8576" y="1786"/>
                </a:lnTo>
                <a:lnTo>
                  <a:pt x="8575" y="1795"/>
                </a:lnTo>
                <a:lnTo>
                  <a:pt x="8572" y="1804"/>
                </a:lnTo>
                <a:lnTo>
                  <a:pt x="8567" y="1812"/>
                </a:lnTo>
                <a:lnTo>
                  <a:pt x="8562" y="1819"/>
                </a:lnTo>
                <a:lnTo>
                  <a:pt x="8553" y="1826"/>
                </a:lnTo>
                <a:lnTo>
                  <a:pt x="8544" y="1832"/>
                </a:lnTo>
                <a:lnTo>
                  <a:pt x="8534" y="1838"/>
                </a:lnTo>
                <a:lnTo>
                  <a:pt x="8522" y="1843"/>
                </a:lnTo>
                <a:lnTo>
                  <a:pt x="8544" y="2668"/>
                </a:lnTo>
                <a:lnTo>
                  <a:pt x="8570" y="2674"/>
                </a:lnTo>
                <a:lnTo>
                  <a:pt x="8595" y="2682"/>
                </a:lnTo>
                <a:lnTo>
                  <a:pt x="8615" y="2691"/>
                </a:lnTo>
                <a:lnTo>
                  <a:pt x="8625" y="2696"/>
                </a:lnTo>
                <a:lnTo>
                  <a:pt x="8634" y="2702"/>
                </a:lnTo>
                <a:lnTo>
                  <a:pt x="8642" y="2707"/>
                </a:lnTo>
                <a:lnTo>
                  <a:pt x="8648" y="2714"/>
                </a:lnTo>
                <a:lnTo>
                  <a:pt x="8654" y="2720"/>
                </a:lnTo>
                <a:lnTo>
                  <a:pt x="8659" y="2726"/>
                </a:lnTo>
                <a:lnTo>
                  <a:pt x="8663" y="2734"/>
                </a:lnTo>
                <a:lnTo>
                  <a:pt x="8666" y="2740"/>
                </a:lnTo>
                <a:lnTo>
                  <a:pt x="8668" y="2747"/>
                </a:lnTo>
                <a:lnTo>
                  <a:pt x="8668" y="2755"/>
                </a:lnTo>
                <a:lnTo>
                  <a:pt x="8667" y="2765"/>
                </a:lnTo>
                <a:lnTo>
                  <a:pt x="8665" y="2773"/>
                </a:lnTo>
                <a:lnTo>
                  <a:pt x="8659" y="2782"/>
                </a:lnTo>
                <a:lnTo>
                  <a:pt x="8653" y="2791"/>
                </a:lnTo>
                <a:lnTo>
                  <a:pt x="8645" y="2799"/>
                </a:lnTo>
                <a:lnTo>
                  <a:pt x="8635" y="2806"/>
                </a:lnTo>
                <a:lnTo>
                  <a:pt x="8624" y="2814"/>
                </a:lnTo>
                <a:lnTo>
                  <a:pt x="8612" y="2821"/>
                </a:lnTo>
                <a:lnTo>
                  <a:pt x="8631" y="2842"/>
                </a:lnTo>
                <a:lnTo>
                  <a:pt x="8642" y="2852"/>
                </a:lnTo>
                <a:lnTo>
                  <a:pt x="8652" y="2862"/>
                </a:lnTo>
                <a:lnTo>
                  <a:pt x="8662" y="2873"/>
                </a:lnTo>
                <a:lnTo>
                  <a:pt x="8670" y="2884"/>
                </a:lnTo>
                <a:lnTo>
                  <a:pt x="8679" y="2895"/>
                </a:lnTo>
                <a:lnTo>
                  <a:pt x="8687" y="2907"/>
                </a:lnTo>
                <a:lnTo>
                  <a:pt x="8694" y="2920"/>
                </a:lnTo>
                <a:lnTo>
                  <a:pt x="8701" y="2934"/>
                </a:lnTo>
                <a:lnTo>
                  <a:pt x="8707" y="2947"/>
                </a:lnTo>
                <a:lnTo>
                  <a:pt x="8712" y="2960"/>
                </a:lnTo>
                <a:lnTo>
                  <a:pt x="8716" y="2974"/>
                </a:lnTo>
                <a:lnTo>
                  <a:pt x="8721" y="2988"/>
                </a:lnTo>
                <a:lnTo>
                  <a:pt x="8723" y="3004"/>
                </a:lnTo>
                <a:lnTo>
                  <a:pt x="8725" y="3018"/>
                </a:lnTo>
                <a:lnTo>
                  <a:pt x="8727" y="3034"/>
                </a:lnTo>
                <a:lnTo>
                  <a:pt x="8727" y="3049"/>
                </a:lnTo>
                <a:lnTo>
                  <a:pt x="8726" y="3069"/>
                </a:lnTo>
                <a:lnTo>
                  <a:pt x="8724" y="3087"/>
                </a:lnTo>
                <a:lnTo>
                  <a:pt x="8722" y="3106"/>
                </a:lnTo>
                <a:lnTo>
                  <a:pt x="8716" y="3124"/>
                </a:lnTo>
                <a:lnTo>
                  <a:pt x="8711" y="3141"/>
                </a:lnTo>
                <a:lnTo>
                  <a:pt x="8704" y="3158"/>
                </a:lnTo>
                <a:lnTo>
                  <a:pt x="8697" y="3174"/>
                </a:lnTo>
                <a:lnTo>
                  <a:pt x="8688" y="3189"/>
                </a:lnTo>
                <a:lnTo>
                  <a:pt x="8678" y="3205"/>
                </a:lnTo>
                <a:lnTo>
                  <a:pt x="8667" y="3219"/>
                </a:lnTo>
                <a:lnTo>
                  <a:pt x="8655" y="3232"/>
                </a:lnTo>
                <a:lnTo>
                  <a:pt x="8643" y="3245"/>
                </a:lnTo>
                <a:lnTo>
                  <a:pt x="8630" y="3257"/>
                </a:lnTo>
                <a:lnTo>
                  <a:pt x="8615" y="3268"/>
                </a:lnTo>
                <a:lnTo>
                  <a:pt x="8600" y="3278"/>
                </a:lnTo>
                <a:lnTo>
                  <a:pt x="8585" y="3287"/>
                </a:lnTo>
                <a:lnTo>
                  <a:pt x="8563" y="3297"/>
                </a:lnTo>
                <a:lnTo>
                  <a:pt x="8561" y="3849"/>
                </a:lnTo>
                <a:lnTo>
                  <a:pt x="8579" y="3853"/>
                </a:lnTo>
                <a:lnTo>
                  <a:pt x="8597" y="3857"/>
                </a:lnTo>
                <a:lnTo>
                  <a:pt x="8629" y="3866"/>
                </a:lnTo>
                <a:lnTo>
                  <a:pt x="8643" y="3870"/>
                </a:lnTo>
                <a:lnTo>
                  <a:pt x="8657" y="3876"/>
                </a:lnTo>
                <a:lnTo>
                  <a:pt x="8670" y="3882"/>
                </a:lnTo>
                <a:lnTo>
                  <a:pt x="8682" y="3889"/>
                </a:lnTo>
                <a:lnTo>
                  <a:pt x="8693" y="3895"/>
                </a:lnTo>
                <a:lnTo>
                  <a:pt x="8703" y="3902"/>
                </a:lnTo>
                <a:lnTo>
                  <a:pt x="8713" y="3910"/>
                </a:lnTo>
                <a:lnTo>
                  <a:pt x="8721" y="3916"/>
                </a:lnTo>
                <a:lnTo>
                  <a:pt x="8727" y="3925"/>
                </a:lnTo>
                <a:lnTo>
                  <a:pt x="8734" y="3933"/>
                </a:lnTo>
                <a:lnTo>
                  <a:pt x="8738" y="3941"/>
                </a:lnTo>
                <a:lnTo>
                  <a:pt x="8742" y="3949"/>
                </a:lnTo>
                <a:lnTo>
                  <a:pt x="8744" y="3958"/>
                </a:lnTo>
                <a:lnTo>
                  <a:pt x="8744" y="3967"/>
                </a:lnTo>
                <a:lnTo>
                  <a:pt x="8744" y="3976"/>
                </a:lnTo>
                <a:lnTo>
                  <a:pt x="8742" y="3984"/>
                </a:lnTo>
                <a:lnTo>
                  <a:pt x="8738" y="3993"/>
                </a:lnTo>
                <a:lnTo>
                  <a:pt x="8733" y="4002"/>
                </a:lnTo>
                <a:lnTo>
                  <a:pt x="8727" y="4010"/>
                </a:lnTo>
                <a:lnTo>
                  <a:pt x="8720" y="4017"/>
                </a:lnTo>
                <a:lnTo>
                  <a:pt x="8712" y="4025"/>
                </a:lnTo>
                <a:lnTo>
                  <a:pt x="8702" y="4033"/>
                </a:lnTo>
                <a:lnTo>
                  <a:pt x="8692" y="4039"/>
                </a:lnTo>
                <a:lnTo>
                  <a:pt x="8680" y="4047"/>
                </a:lnTo>
                <a:lnTo>
                  <a:pt x="8668" y="4052"/>
                </a:lnTo>
                <a:lnTo>
                  <a:pt x="8655" y="4059"/>
                </a:lnTo>
                <a:lnTo>
                  <a:pt x="8641" y="4064"/>
                </a:lnTo>
                <a:lnTo>
                  <a:pt x="8625" y="4069"/>
                </a:lnTo>
                <a:lnTo>
                  <a:pt x="8593" y="4079"/>
                </a:lnTo>
                <a:lnTo>
                  <a:pt x="8610" y="4320"/>
                </a:lnTo>
                <a:lnTo>
                  <a:pt x="8668" y="4363"/>
                </a:lnTo>
                <a:lnTo>
                  <a:pt x="8677" y="4478"/>
                </a:lnTo>
                <a:lnTo>
                  <a:pt x="8708" y="4488"/>
                </a:lnTo>
                <a:lnTo>
                  <a:pt x="8736" y="4498"/>
                </a:lnTo>
                <a:lnTo>
                  <a:pt x="8765" y="4510"/>
                </a:lnTo>
                <a:lnTo>
                  <a:pt x="8793" y="4523"/>
                </a:lnTo>
                <a:lnTo>
                  <a:pt x="8821" y="4537"/>
                </a:lnTo>
                <a:lnTo>
                  <a:pt x="8848" y="4552"/>
                </a:lnTo>
                <a:lnTo>
                  <a:pt x="8873" y="4567"/>
                </a:lnTo>
                <a:lnTo>
                  <a:pt x="8900" y="4585"/>
                </a:lnTo>
                <a:lnTo>
                  <a:pt x="8924" y="4602"/>
                </a:lnTo>
                <a:lnTo>
                  <a:pt x="8948" y="4622"/>
                </a:lnTo>
                <a:lnTo>
                  <a:pt x="8971" y="4642"/>
                </a:lnTo>
                <a:lnTo>
                  <a:pt x="8994" y="4662"/>
                </a:lnTo>
                <a:lnTo>
                  <a:pt x="9015" y="4684"/>
                </a:lnTo>
                <a:lnTo>
                  <a:pt x="9036" y="4707"/>
                </a:lnTo>
                <a:lnTo>
                  <a:pt x="9056" y="4730"/>
                </a:lnTo>
                <a:lnTo>
                  <a:pt x="9075" y="4754"/>
                </a:lnTo>
                <a:lnTo>
                  <a:pt x="9093" y="4778"/>
                </a:lnTo>
                <a:lnTo>
                  <a:pt x="9111" y="4803"/>
                </a:lnTo>
                <a:lnTo>
                  <a:pt x="9126" y="4830"/>
                </a:lnTo>
                <a:lnTo>
                  <a:pt x="9141" y="4857"/>
                </a:lnTo>
                <a:lnTo>
                  <a:pt x="9156" y="4885"/>
                </a:lnTo>
                <a:lnTo>
                  <a:pt x="9169" y="4912"/>
                </a:lnTo>
                <a:lnTo>
                  <a:pt x="9180" y="4941"/>
                </a:lnTo>
                <a:lnTo>
                  <a:pt x="9191" y="4970"/>
                </a:lnTo>
                <a:lnTo>
                  <a:pt x="9201" y="5000"/>
                </a:lnTo>
                <a:lnTo>
                  <a:pt x="9208" y="5031"/>
                </a:lnTo>
                <a:lnTo>
                  <a:pt x="9216" y="5061"/>
                </a:lnTo>
                <a:lnTo>
                  <a:pt x="9221" y="5092"/>
                </a:lnTo>
                <a:lnTo>
                  <a:pt x="9226" y="5124"/>
                </a:lnTo>
                <a:lnTo>
                  <a:pt x="9229" y="5156"/>
                </a:lnTo>
                <a:lnTo>
                  <a:pt x="9231" y="5189"/>
                </a:lnTo>
                <a:lnTo>
                  <a:pt x="9232" y="5222"/>
                </a:lnTo>
                <a:lnTo>
                  <a:pt x="9232" y="5246"/>
                </a:lnTo>
                <a:lnTo>
                  <a:pt x="9230" y="5271"/>
                </a:lnTo>
                <a:lnTo>
                  <a:pt x="9229" y="5295"/>
                </a:lnTo>
                <a:lnTo>
                  <a:pt x="9226" y="5319"/>
                </a:lnTo>
                <a:lnTo>
                  <a:pt x="9223" y="5343"/>
                </a:lnTo>
                <a:lnTo>
                  <a:pt x="9218" y="5368"/>
                </a:lnTo>
                <a:lnTo>
                  <a:pt x="9214" y="5392"/>
                </a:lnTo>
                <a:lnTo>
                  <a:pt x="9208" y="5415"/>
                </a:lnTo>
                <a:lnTo>
                  <a:pt x="9202" y="5438"/>
                </a:lnTo>
                <a:lnTo>
                  <a:pt x="9195" y="5461"/>
                </a:lnTo>
                <a:lnTo>
                  <a:pt x="9187" y="5483"/>
                </a:lnTo>
                <a:lnTo>
                  <a:pt x="9179" y="5505"/>
                </a:lnTo>
                <a:lnTo>
                  <a:pt x="9170" y="5527"/>
                </a:lnTo>
                <a:lnTo>
                  <a:pt x="9160" y="5549"/>
                </a:lnTo>
                <a:lnTo>
                  <a:pt x="9150" y="5570"/>
                </a:lnTo>
                <a:lnTo>
                  <a:pt x="9139" y="5591"/>
                </a:lnTo>
                <a:lnTo>
                  <a:pt x="9127" y="5610"/>
                </a:lnTo>
                <a:lnTo>
                  <a:pt x="9115" y="5631"/>
                </a:lnTo>
                <a:lnTo>
                  <a:pt x="9103" y="5650"/>
                </a:lnTo>
                <a:lnTo>
                  <a:pt x="9090" y="5670"/>
                </a:lnTo>
                <a:lnTo>
                  <a:pt x="9075" y="5688"/>
                </a:lnTo>
                <a:lnTo>
                  <a:pt x="9061" y="5707"/>
                </a:lnTo>
                <a:lnTo>
                  <a:pt x="9047" y="5724"/>
                </a:lnTo>
                <a:lnTo>
                  <a:pt x="9032" y="5742"/>
                </a:lnTo>
                <a:lnTo>
                  <a:pt x="9015" y="5758"/>
                </a:lnTo>
                <a:lnTo>
                  <a:pt x="8999" y="5775"/>
                </a:lnTo>
                <a:lnTo>
                  <a:pt x="8982" y="5791"/>
                </a:lnTo>
                <a:lnTo>
                  <a:pt x="8965" y="5807"/>
                </a:lnTo>
                <a:lnTo>
                  <a:pt x="8947" y="5822"/>
                </a:lnTo>
                <a:lnTo>
                  <a:pt x="8928" y="5836"/>
                </a:lnTo>
                <a:lnTo>
                  <a:pt x="8910" y="5850"/>
                </a:lnTo>
                <a:lnTo>
                  <a:pt x="8891" y="5864"/>
                </a:lnTo>
                <a:lnTo>
                  <a:pt x="8998" y="10692"/>
                </a:lnTo>
                <a:lnTo>
                  <a:pt x="9022" y="10708"/>
                </a:lnTo>
                <a:lnTo>
                  <a:pt x="9044" y="10723"/>
                </a:lnTo>
                <a:lnTo>
                  <a:pt x="9066" y="10740"/>
                </a:lnTo>
                <a:lnTo>
                  <a:pt x="9086" y="10756"/>
                </a:lnTo>
                <a:lnTo>
                  <a:pt x="9106" y="10773"/>
                </a:lnTo>
                <a:lnTo>
                  <a:pt x="9126" y="10789"/>
                </a:lnTo>
                <a:lnTo>
                  <a:pt x="9144" y="10807"/>
                </a:lnTo>
                <a:lnTo>
                  <a:pt x="9160" y="10824"/>
                </a:lnTo>
                <a:lnTo>
                  <a:pt x="9176" y="10842"/>
                </a:lnTo>
                <a:lnTo>
                  <a:pt x="9192" y="10860"/>
                </a:lnTo>
                <a:lnTo>
                  <a:pt x="9205" y="10879"/>
                </a:lnTo>
                <a:lnTo>
                  <a:pt x="9219" y="10898"/>
                </a:lnTo>
                <a:lnTo>
                  <a:pt x="9231" y="10918"/>
                </a:lnTo>
                <a:lnTo>
                  <a:pt x="9242" y="10937"/>
                </a:lnTo>
                <a:lnTo>
                  <a:pt x="9253" y="10958"/>
                </a:lnTo>
                <a:lnTo>
                  <a:pt x="9263" y="10979"/>
                </a:lnTo>
                <a:lnTo>
                  <a:pt x="9273" y="11001"/>
                </a:lnTo>
                <a:lnTo>
                  <a:pt x="9281" y="11023"/>
                </a:lnTo>
                <a:lnTo>
                  <a:pt x="9290" y="11045"/>
                </a:lnTo>
                <a:lnTo>
                  <a:pt x="9296" y="11069"/>
                </a:lnTo>
                <a:lnTo>
                  <a:pt x="9303" y="11092"/>
                </a:lnTo>
                <a:lnTo>
                  <a:pt x="9308" y="11117"/>
                </a:lnTo>
                <a:lnTo>
                  <a:pt x="9314" y="11142"/>
                </a:lnTo>
                <a:lnTo>
                  <a:pt x="9318" y="11168"/>
                </a:lnTo>
                <a:lnTo>
                  <a:pt x="9321" y="11194"/>
                </a:lnTo>
                <a:lnTo>
                  <a:pt x="9325" y="11222"/>
                </a:lnTo>
                <a:lnTo>
                  <a:pt x="9330" y="11278"/>
                </a:lnTo>
                <a:lnTo>
                  <a:pt x="9332" y="11337"/>
                </a:lnTo>
                <a:lnTo>
                  <a:pt x="9333" y="11400"/>
                </a:lnTo>
                <a:lnTo>
                  <a:pt x="9332" y="11430"/>
                </a:lnTo>
                <a:lnTo>
                  <a:pt x="9331" y="11460"/>
                </a:lnTo>
                <a:lnTo>
                  <a:pt x="9328" y="11491"/>
                </a:lnTo>
                <a:lnTo>
                  <a:pt x="9324" y="11520"/>
                </a:lnTo>
                <a:lnTo>
                  <a:pt x="9319" y="11549"/>
                </a:lnTo>
                <a:lnTo>
                  <a:pt x="9313" y="11578"/>
                </a:lnTo>
                <a:lnTo>
                  <a:pt x="9305" y="11607"/>
                </a:lnTo>
                <a:lnTo>
                  <a:pt x="9297" y="11636"/>
                </a:lnTo>
                <a:lnTo>
                  <a:pt x="9288" y="11664"/>
                </a:lnTo>
                <a:lnTo>
                  <a:pt x="9277" y="11692"/>
                </a:lnTo>
                <a:lnTo>
                  <a:pt x="9267" y="11719"/>
                </a:lnTo>
                <a:lnTo>
                  <a:pt x="9256" y="11745"/>
                </a:lnTo>
                <a:lnTo>
                  <a:pt x="9242" y="11772"/>
                </a:lnTo>
                <a:lnTo>
                  <a:pt x="9229" y="11798"/>
                </a:lnTo>
                <a:lnTo>
                  <a:pt x="9215" y="11824"/>
                </a:lnTo>
                <a:lnTo>
                  <a:pt x="9200" y="11850"/>
                </a:lnTo>
                <a:lnTo>
                  <a:pt x="9184" y="11874"/>
                </a:lnTo>
                <a:lnTo>
                  <a:pt x="9168" y="11898"/>
                </a:lnTo>
                <a:lnTo>
                  <a:pt x="9150" y="11922"/>
                </a:lnTo>
                <a:lnTo>
                  <a:pt x="9133" y="11945"/>
                </a:lnTo>
                <a:lnTo>
                  <a:pt x="9115" y="11968"/>
                </a:lnTo>
                <a:lnTo>
                  <a:pt x="9096" y="11991"/>
                </a:lnTo>
                <a:lnTo>
                  <a:pt x="9077" y="12012"/>
                </a:lnTo>
                <a:lnTo>
                  <a:pt x="9057" y="12034"/>
                </a:lnTo>
                <a:lnTo>
                  <a:pt x="9037" y="12055"/>
                </a:lnTo>
                <a:lnTo>
                  <a:pt x="9016" y="12075"/>
                </a:lnTo>
                <a:lnTo>
                  <a:pt x="8995" y="12093"/>
                </a:lnTo>
                <a:lnTo>
                  <a:pt x="8973" y="12113"/>
                </a:lnTo>
                <a:lnTo>
                  <a:pt x="8952" y="12131"/>
                </a:lnTo>
                <a:lnTo>
                  <a:pt x="8931" y="12148"/>
                </a:lnTo>
                <a:lnTo>
                  <a:pt x="8909" y="12166"/>
                </a:lnTo>
                <a:lnTo>
                  <a:pt x="8886" y="12181"/>
                </a:lnTo>
                <a:lnTo>
                  <a:pt x="9056" y="12965"/>
                </a:lnTo>
                <a:lnTo>
                  <a:pt x="9075" y="12966"/>
                </a:lnTo>
                <a:lnTo>
                  <a:pt x="9094" y="12970"/>
                </a:lnTo>
                <a:lnTo>
                  <a:pt x="9113" y="12975"/>
                </a:lnTo>
                <a:lnTo>
                  <a:pt x="9131" y="12982"/>
                </a:lnTo>
                <a:lnTo>
                  <a:pt x="9148" y="12990"/>
                </a:lnTo>
                <a:lnTo>
                  <a:pt x="9164" y="13000"/>
                </a:lnTo>
                <a:lnTo>
                  <a:pt x="9179" y="13011"/>
                </a:lnTo>
                <a:lnTo>
                  <a:pt x="9193" y="13024"/>
                </a:lnTo>
                <a:lnTo>
                  <a:pt x="9205" y="13039"/>
                </a:lnTo>
                <a:lnTo>
                  <a:pt x="9216" y="13055"/>
                </a:lnTo>
                <a:lnTo>
                  <a:pt x="9226" y="13072"/>
                </a:lnTo>
                <a:lnTo>
                  <a:pt x="9234" y="13089"/>
                </a:lnTo>
                <a:lnTo>
                  <a:pt x="9240" y="13108"/>
                </a:lnTo>
                <a:lnTo>
                  <a:pt x="9246" y="13127"/>
                </a:lnTo>
                <a:lnTo>
                  <a:pt x="9248" y="13147"/>
                </a:lnTo>
                <a:lnTo>
                  <a:pt x="9249" y="13167"/>
                </a:lnTo>
                <a:lnTo>
                  <a:pt x="9249" y="13184"/>
                </a:lnTo>
                <a:lnTo>
                  <a:pt x="9247" y="13200"/>
                </a:lnTo>
                <a:lnTo>
                  <a:pt x="9243" y="13215"/>
                </a:lnTo>
                <a:lnTo>
                  <a:pt x="9240" y="13230"/>
                </a:lnTo>
                <a:lnTo>
                  <a:pt x="9235" y="13244"/>
                </a:lnTo>
                <a:lnTo>
                  <a:pt x="9229" y="13258"/>
                </a:lnTo>
                <a:lnTo>
                  <a:pt x="9221" y="13271"/>
                </a:lnTo>
                <a:lnTo>
                  <a:pt x="9214" y="13285"/>
                </a:lnTo>
                <a:lnTo>
                  <a:pt x="9443" y="13933"/>
                </a:lnTo>
                <a:lnTo>
                  <a:pt x="9512" y="13991"/>
                </a:lnTo>
                <a:lnTo>
                  <a:pt x="9535" y="12326"/>
                </a:lnTo>
                <a:lnTo>
                  <a:pt x="9637" y="11854"/>
                </a:lnTo>
                <a:lnTo>
                  <a:pt x="9687" y="9388"/>
                </a:lnTo>
                <a:lnTo>
                  <a:pt x="9746" y="8794"/>
                </a:lnTo>
                <a:lnTo>
                  <a:pt x="9777" y="9234"/>
                </a:lnTo>
                <a:lnTo>
                  <a:pt x="9797" y="9222"/>
                </a:lnTo>
                <a:lnTo>
                  <a:pt x="9818" y="9210"/>
                </a:lnTo>
                <a:lnTo>
                  <a:pt x="9841" y="9199"/>
                </a:lnTo>
                <a:lnTo>
                  <a:pt x="9865" y="9189"/>
                </a:lnTo>
                <a:lnTo>
                  <a:pt x="9891" y="9181"/>
                </a:lnTo>
                <a:lnTo>
                  <a:pt x="9918" y="9173"/>
                </a:lnTo>
                <a:lnTo>
                  <a:pt x="9946" y="9165"/>
                </a:lnTo>
                <a:lnTo>
                  <a:pt x="9975" y="9159"/>
                </a:lnTo>
                <a:lnTo>
                  <a:pt x="10004" y="9153"/>
                </a:lnTo>
                <a:lnTo>
                  <a:pt x="10035" y="9149"/>
                </a:lnTo>
                <a:lnTo>
                  <a:pt x="10067" y="9144"/>
                </a:lnTo>
                <a:lnTo>
                  <a:pt x="10099" y="9141"/>
                </a:lnTo>
                <a:lnTo>
                  <a:pt x="10132" y="9139"/>
                </a:lnTo>
                <a:lnTo>
                  <a:pt x="10165" y="9137"/>
                </a:lnTo>
                <a:lnTo>
                  <a:pt x="10199" y="9136"/>
                </a:lnTo>
                <a:lnTo>
                  <a:pt x="10232" y="9136"/>
                </a:lnTo>
                <a:lnTo>
                  <a:pt x="10293" y="9135"/>
                </a:lnTo>
                <a:lnTo>
                  <a:pt x="10367" y="9133"/>
                </a:lnTo>
                <a:lnTo>
                  <a:pt x="10447" y="9131"/>
                </a:lnTo>
                <a:lnTo>
                  <a:pt x="10529" y="9131"/>
                </a:lnTo>
                <a:lnTo>
                  <a:pt x="10606" y="9132"/>
                </a:lnTo>
                <a:lnTo>
                  <a:pt x="10641" y="9133"/>
                </a:lnTo>
                <a:lnTo>
                  <a:pt x="10673" y="9136"/>
                </a:lnTo>
                <a:lnTo>
                  <a:pt x="10700" y="9139"/>
                </a:lnTo>
                <a:lnTo>
                  <a:pt x="10723" y="9143"/>
                </a:lnTo>
                <a:lnTo>
                  <a:pt x="10732" y="9147"/>
                </a:lnTo>
                <a:lnTo>
                  <a:pt x="10741" y="9149"/>
                </a:lnTo>
                <a:lnTo>
                  <a:pt x="10747" y="9152"/>
                </a:lnTo>
                <a:lnTo>
                  <a:pt x="10751" y="9155"/>
                </a:lnTo>
                <a:lnTo>
                  <a:pt x="10754" y="9160"/>
                </a:lnTo>
                <a:lnTo>
                  <a:pt x="10757" y="9164"/>
                </a:lnTo>
                <a:lnTo>
                  <a:pt x="10762" y="9177"/>
                </a:lnTo>
                <a:lnTo>
                  <a:pt x="10764" y="9193"/>
                </a:lnTo>
                <a:lnTo>
                  <a:pt x="10766" y="9210"/>
                </a:lnTo>
                <a:lnTo>
                  <a:pt x="10766" y="9231"/>
                </a:lnTo>
                <a:lnTo>
                  <a:pt x="10766" y="9253"/>
                </a:lnTo>
                <a:lnTo>
                  <a:pt x="10763" y="9303"/>
                </a:lnTo>
                <a:lnTo>
                  <a:pt x="10759" y="9353"/>
                </a:lnTo>
                <a:lnTo>
                  <a:pt x="10753" y="9404"/>
                </a:lnTo>
                <a:lnTo>
                  <a:pt x="10750" y="9451"/>
                </a:lnTo>
                <a:lnTo>
                  <a:pt x="10748" y="9471"/>
                </a:lnTo>
                <a:lnTo>
                  <a:pt x="10748" y="9489"/>
                </a:lnTo>
                <a:lnTo>
                  <a:pt x="10731" y="11569"/>
                </a:lnTo>
                <a:lnTo>
                  <a:pt x="10832" y="11905"/>
                </a:lnTo>
                <a:lnTo>
                  <a:pt x="10851" y="12266"/>
                </a:lnTo>
                <a:lnTo>
                  <a:pt x="10891" y="12257"/>
                </a:lnTo>
                <a:lnTo>
                  <a:pt x="10933" y="12248"/>
                </a:lnTo>
                <a:lnTo>
                  <a:pt x="10975" y="12242"/>
                </a:lnTo>
                <a:lnTo>
                  <a:pt x="11018" y="12235"/>
                </a:lnTo>
                <a:lnTo>
                  <a:pt x="11061" y="12231"/>
                </a:lnTo>
                <a:lnTo>
                  <a:pt x="11104" y="12227"/>
                </a:lnTo>
                <a:lnTo>
                  <a:pt x="11149" y="12225"/>
                </a:lnTo>
                <a:lnTo>
                  <a:pt x="11193" y="12225"/>
                </a:lnTo>
                <a:lnTo>
                  <a:pt x="11246" y="12226"/>
                </a:lnTo>
                <a:lnTo>
                  <a:pt x="11297" y="12228"/>
                </a:lnTo>
                <a:lnTo>
                  <a:pt x="11347" y="12233"/>
                </a:lnTo>
                <a:lnTo>
                  <a:pt x="11398" y="12239"/>
                </a:lnTo>
                <a:lnTo>
                  <a:pt x="11446" y="12247"/>
                </a:lnTo>
                <a:lnTo>
                  <a:pt x="11494" y="12256"/>
                </a:lnTo>
                <a:lnTo>
                  <a:pt x="11541" y="12267"/>
                </a:lnTo>
                <a:lnTo>
                  <a:pt x="11588" y="12280"/>
                </a:lnTo>
                <a:lnTo>
                  <a:pt x="11590" y="11670"/>
                </a:lnTo>
                <a:lnTo>
                  <a:pt x="11691" y="11400"/>
                </a:lnTo>
                <a:lnTo>
                  <a:pt x="11691" y="11147"/>
                </a:lnTo>
                <a:lnTo>
                  <a:pt x="11732" y="11080"/>
                </a:lnTo>
                <a:lnTo>
                  <a:pt x="11758" y="10575"/>
                </a:lnTo>
                <a:lnTo>
                  <a:pt x="11792" y="11080"/>
                </a:lnTo>
                <a:lnTo>
                  <a:pt x="11842" y="11147"/>
                </a:lnTo>
                <a:lnTo>
                  <a:pt x="11875" y="11526"/>
                </a:lnTo>
                <a:lnTo>
                  <a:pt x="11994" y="11602"/>
                </a:lnTo>
                <a:lnTo>
                  <a:pt x="11989" y="12381"/>
                </a:lnTo>
                <a:lnTo>
                  <a:pt x="12015" y="12401"/>
                </a:lnTo>
                <a:lnTo>
                  <a:pt x="12039" y="12422"/>
                </a:lnTo>
                <a:lnTo>
                  <a:pt x="12062" y="12444"/>
                </a:lnTo>
                <a:lnTo>
                  <a:pt x="12085" y="12466"/>
                </a:lnTo>
                <a:lnTo>
                  <a:pt x="12106" y="12489"/>
                </a:lnTo>
                <a:lnTo>
                  <a:pt x="12127" y="12512"/>
                </a:lnTo>
                <a:lnTo>
                  <a:pt x="12145" y="12536"/>
                </a:lnTo>
                <a:lnTo>
                  <a:pt x="12164" y="12560"/>
                </a:lnTo>
                <a:lnTo>
                  <a:pt x="12519" y="12568"/>
                </a:lnTo>
                <a:lnTo>
                  <a:pt x="12519" y="10526"/>
                </a:lnTo>
                <a:lnTo>
                  <a:pt x="12490" y="10497"/>
                </a:lnTo>
                <a:lnTo>
                  <a:pt x="12490" y="10449"/>
                </a:lnTo>
                <a:lnTo>
                  <a:pt x="12567" y="10449"/>
                </a:lnTo>
                <a:lnTo>
                  <a:pt x="12567" y="10333"/>
                </a:lnTo>
                <a:lnTo>
                  <a:pt x="12604" y="10333"/>
                </a:lnTo>
                <a:lnTo>
                  <a:pt x="12604" y="10248"/>
                </a:lnTo>
                <a:lnTo>
                  <a:pt x="12567" y="10248"/>
                </a:lnTo>
                <a:lnTo>
                  <a:pt x="12567" y="10200"/>
                </a:lnTo>
                <a:lnTo>
                  <a:pt x="12432" y="10200"/>
                </a:lnTo>
                <a:lnTo>
                  <a:pt x="12432" y="10113"/>
                </a:lnTo>
                <a:lnTo>
                  <a:pt x="12614" y="10113"/>
                </a:lnTo>
                <a:lnTo>
                  <a:pt x="12615" y="10096"/>
                </a:lnTo>
                <a:lnTo>
                  <a:pt x="12617" y="10081"/>
                </a:lnTo>
                <a:lnTo>
                  <a:pt x="12622" y="10067"/>
                </a:lnTo>
                <a:lnTo>
                  <a:pt x="12626" y="10052"/>
                </a:lnTo>
                <a:lnTo>
                  <a:pt x="12633" y="10039"/>
                </a:lnTo>
                <a:lnTo>
                  <a:pt x="12640" y="10027"/>
                </a:lnTo>
                <a:lnTo>
                  <a:pt x="12649" y="10015"/>
                </a:lnTo>
                <a:lnTo>
                  <a:pt x="12658" y="10005"/>
                </a:lnTo>
                <a:lnTo>
                  <a:pt x="12669" y="9994"/>
                </a:lnTo>
                <a:lnTo>
                  <a:pt x="12680" y="9985"/>
                </a:lnTo>
                <a:lnTo>
                  <a:pt x="12692" y="9977"/>
                </a:lnTo>
                <a:lnTo>
                  <a:pt x="12704" y="9968"/>
                </a:lnTo>
                <a:lnTo>
                  <a:pt x="12716" y="9960"/>
                </a:lnTo>
                <a:lnTo>
                  <a:pt x="12729" y="9954"/>
                </a:lnTo>
                <a:lnTo>
                  <a:pt x="12756" y="9942"/>
                </a:lnTo>
                <a:lnTo>
                  <a:pt x="12782" y="9932"/>
                </a:lnTo>
                <a:lnTo>
                  <a:pt x="12807" y="9923"/>
                </a:lnTo>
                <a:lnTo>
                  <a:pt x="12831" y="9916"/>
                </a:lnTo>
                <a:lnTo>
                  <a:pt x="12853" y="9912"/>
                </a:lnTo>
                <a:lnTo>
                  <a:pt x="12885" y="9906"/>
                </a:lnTo>
                <a:lnTo>
                  <a:pt x="12897" y="9904"/>
                </a:lnTo>
                <a:lnTo>
                  <a:pt x="12919" y="9510"/>
                </a:lnTo>
                <a:lnTo>
                  <a:pt x="12940" y="9904"/>
                </a:lnTo>
                <a:lnTo>
                  <a:pt x="12951" y="9906"/>
                </a:lnTo>
                <a:lnTo>
                  <a:pt x="12980" y="9913"/>
                </a:lnTo>
                <a:lnTo>
                  <a:pt x="12998" y="9918"/>
                </a:lnTo>
                <a:lnTo>
                  <a:pt x="13019" y="9926"/>
                </a:lnTo>
                <a:lnTo>
                  <a:pt x="13042" y="9935"/>
                </a:lnTo>
                <a:lnTo>
                  <a:pt x="13065" y="9945"/>
                </a:lnTo>
                <a:lnTo>
                  <a:pt x="13088" y="9958"/>
                </a:lnTo>
                <a:lnTo>
                  <a:pt x="13110" y="9973"/>
                </a:lnTo>
                <a:lnTo>
                  <a:pt x="13121" y="9981"/>
                </a:lnTo>
                <a:lnTo>
                  <a:pt x="13132" y="9990"/>
                </a:lnTo>
                <a:lnTo>
                  <a:pt x="13142" y="10000"/>
                </a:lnTo>
                <a:lnTo>
                  <a:pt x="13151" y="10010"/>
                </a:lnTo>
                <a:lnTo>
                  <a:pt x="13159" y="10021"/>
                </a:lnTo>
                <a:lnTo>
                  <a:pt x="13166" y="10032"/>
                </a:lnTo>
                <a:lnTo>
                  <a:pt x="13173" y="10044"/>
                </a:lnTo>
                <a:lnTo>
                  <a:pt x="13180" y="10057"/>
                </a:lnTo>
                <a:lnTo>
                  <a:pt x="13184" y="10070"/>
                </a:lnTo>
                <a:lnTo>
                  <a:pt x="13187" y="10084"/>
                </a:lnTo>
                <a:lnTo>
                  <a:pt x="13189" y="10100"/>
                </a:lnTo>
                <a:lnTo>
                  <a:pt x="13189" y="10115"/>
                </a:lnTo>
                <a:lnTo>
                  <a:pt x="13343" y="10115"/>
                </a:lnTo>
                <a:lnTo>
                  <a:pt x="13343" y="10202"/>
                </a:lnTo>
                <a:lnTo>
                  <a:pt x="13209" y="10202"/>
                </a:lnTo>
                <a:lnTo>
                  <a:pt x="13209" y="10250"/>
                </a:lnTo>
                <a:lnTo>
                  <a:pt x="13171" y="10250"/>
                </a:lnTo>
                <a:lnTo>
                  <a:pt x="13171" y="10336"/>
                </a:lnTo>
                <a:lnTo>
                  <a:pt x="13209" y="10336"/>
                </a:lnTo>
                <a:lnTo>
                  <a:pt x="13209" y="10451"/>
                </a:lnTo>
                <a:lnTo>
                  <a:pt x="13286" y="10451"/>
                </a:lnTo>
                <a:lnTo>
                  <a:pt x="13286" y="10499"/>
                </a:lnTo>
                <a:lnTo>
                  <a:pt x="13256" y="10528"/>
                </a:lnTo>
                <a:lnTo>
                  <a:pt x="13256" y="11966"/>
                </a:lnTo>
                <a:lnTo>
                  <a:pt x="13574" y="11966"/>
                </a:lnTo>
                <a:lnTo>
                  <a:pt x="13574" y="12466"/>
                </a:lnTo>
                <a:lnTo>
                  <a:pt x="13621" y="12466"/>
                </a:lnTo>
                <a:lnTo>
                  <a:pt x="13621" y="12215"/>
                </a:lnTo>
                <a:lnTo>
                  <a:pt x="13775" y="12215"/>
                </a:lnTo>
                <a:lnTo>
                  <a:pt x="13775" y="9962"/>
                </a:lnTo>
                <a:lnTo>
                  <a:pt x="13803" y="9934"/>
                </a:lnTo>
                <a:lnTo>
                  <a:pt x="13803" y="9541"/>
                </a:lnTo>
                <a:lnTo>
                  <a:pt x="13861" y="9541"/>
                </a:lnTo>
                <a:lnTo>
                  <a:pt x="13861" y="9290"/>
                </a:lnTo>
                <a:lnTo>
                  <a:pt x="13957" y="9290"/>
                </a:lnTo>
                <a:lnTo>
                  <a:pt x="13957" y="9233"/>
                </a:lnTo>
                <a:lnTo>
                  <a:pt x="13995" y="9233"/>
                </a:lnTo>
                <a:lnTo>
                  <a:pt x="13995" y="9170"/>
                </a:lnTo>
                <a:lnTo>
                  <a:pt x="14340" y="9170"/>
                </a:lnTo>
                <a:lnTo>
                  <a:pt x="14378" y="8725"/>
                </a:lnTo>
                <a:lnTo>
                  <a:pt x="14398" y="9170"/>
                </a:lnTo>
                <a:lnTo>
                  <a:pt x="14504" y="9176"/>
                </a:lnTo>
                <a:lnTo>
                  <a:pt x="14504" y="9118"/>
                </a:lnTo>
                <a:lnTo>
                  <a:pt x="14552" y="9118"/>
                </a:lnTo>
                <a:lnTo>
                  <a:pt x="14552" y="9310"/>
                </a:lnTo>
                <a:lnTo>
                  <a:pt x="14935" y="9054"/>
                </a:lnTo>
                <a:lnTo>
                  <a:pt x="14974" y="8447"/>
                </a:lnTo>
                <a:lnTo>
                  <a:pt x="14983" y="9054"/>
                </a:lnTo>
                <a:lnTo>
                  <a:pt x="15050" y="9054"/>
                </a:lnTo>
                <a:lnTo>
                  <a:pt x="15050" y="9847"/>
                </a:lnTo>
                <a:lnTo>
                  <a:pt x="15357" y="10115"/>
                </a:lnTo>
                <a:lnTo>
                  <a:pt x="15357" y="10979"/>
                </a:lnTo>
                <a:lnTo>
                  <a:pt x="15395" y="10979"/>
                </a:lnTo>
                <a:lnTo>
                  <a:pt x="15395" y="10882"/>
                </a:lnTo>
                <a:lnTo>
                  <a:pt x="15462" y="10882"/>
                </a:lnTo>
                <a:lnTo>
                  <a:pt x="15462" y="8946"/>
                </a:lnTo>
                <a:lnTo>
                  <a:pt x="15434" y="8946"/>
                </a:lnTo>
                <a:lnTo>
                  <a:pt x="15434" y="8840"/>
                </a:lnTo>
                <a:lnTo>
                  <a:pt x="15434" y="8836"/>
                </a:lnTo>
                <a:lnTo>
                  <a:pt x="15435" y="8832"/>
                </a:lnTo>
                <a:lnTo>
                  <a:pt x="15438" y="8825"/>
                </a:lnTo>
                <a:lnTo>
                  <a:pt x="15442" y="8818"/>
                </a:lnTo>
                <a:lnTo>
                  <a:pt x="15449" y="8810"/>
                </a:lnTo>
                <a:lnTo>
                  <a:pt x="15459" y="8801"/>
                </a:lnTo>
                <a:lnTo>
                  <a:pt x="15472" y="8792"/>
                </a:lnTo>
                <a:lnTo>
                  <a:pt x="15490" y="8783"/>
                </a:lnTo>
                <a:lnTo>
                  <a:pt x="15512" y="8774"/>
                </a:lnTo>
                <a:lnTo>
                  <a:pt x="15539" y="8767"/>
                </a:lnTo>
                <a:lnTo>
                  <a:pt x="15571" y="8759"/>
                </a:lnTo>
                <a:lnTo>
                  <a:pt x="15610" y="8754"/>
                </a:lnTo>
                <a:lnTo>
                  <a:pt x="15655" y="8748"/>
                </a:lnTo>
                <a:lnTo>
                  <a:pt x="15709" y="8745"/>
                </a:lnTo>
                <a:lnTo>
                  <a:pt x="15770" y="8745"/>
                </a:lnTo>
                <a:lnTo>
                  <a:pt x="15798" y="8745"/>
                </a:lnTo>
                <a:lnTo>
                  <a:pt x="15824" y="8746"/>
                </a:lnTo>
                <a:lnTo>
                  <a:pt x="15850" y="8749"/>
                </a:lnTo>
                <a:lnTo>
                  <a:pt x="15873" y="8752"/>
                </a:lnTo>
                <a:lnTo>
                  <a:pt x="15895" y="8756"/>
                </a:lnTo>
                <a:lnTo>
                  <a:pt x="15914" y="8761"/>
                </a:lnTo>
                <a:lnTo>
                  <a:pt x="15933" y="8767"/>
                </a:lnTo>
                <a:lnTo>
                  <a:pt x="15950" y="8772"/>
                </a:lnTo>
                <a:lnTo>
                  <a:pt x="15965" y="8780"/>
                </a:lnTo>
                <a:lnTo>
                  <a:pt x="15978" y="8787"/>
                </a:lnTo>
                <a:lnTo>
                  <a:pt x="15991" y="8794"/>
                </a:lnTo>
                <a:lnTo>
                  <a:pt x="16002" y="8802"/>
                </a:lnTo>
                <a:lnTo>
                  <a:pt x="16013" y="8810"/>
                </a:lnTo>
                <a:lnTo>
                  <a:pt x="16022" y="8818"/>
                </a:lnTo>
                <a:lnTo>
                  <a:pt x="16030" y="8827"/>
                </a:lnTo>
                <a:lnTo>
                  <a:pt x="16036" y="8836"/>
                </a:lnTo>
                <a:lnTo>
                  <a:pt x="16043" y="8844"/>
                </a:lnTo>
                <a:lnTo>
                  <a:pt x="16048" y="8852"/>
                </a:lnTo>
                <a:lnTo>
                  <a:pt x="16056" y="8869"/>
                </a:lnTo>
                <a:lnTo>
                  <a:pt x="16062" y="8884"/>
                </a:lnTo>
                <a:lnTo>
                  <a:pt x="16065" y="8899"/>
                </a:lnTo>
                <a:lnTo>
                  <a:pt x="16066" y="8909"/>
                </a:lnTo>
                <a:lnTo>
                  <a:pt x="16067" y="8918"/>
                </a:lnTo>
                <a:lnTo>
                  <a:pt x="16067" y="8927"/>
                </a:lnTo>
                <a:lnTo>
                  <a:pt x="16029" y="8927"/>
                </a:lnTo>
                <a:lnTo>
                  <a:pt x="16029" y="10730"/>
                </a:lnTo>
                <a:lnTo>
                  <a:pt x="16364" y="10730"/>
                </a:lnTo>
                <a:lnTo>
                  <a:pt x="16297" y="10768"/>
                </a:lnTo>
                <a:lnTo>
                  <a:pt x="16297" y="10844"/>
                </a:lnTo>
                <a:lnTo>
                  <a:pt x="16364" y="10844"/>
                </a:lnTo>
                <a:lnTo>
                  <a:pt x="16364" y="10787"/>
                </a:lnTo>
                <a:lnTo>
                  <a:pt x="16402" y="10787"/>
                </a:lnTo>
                <a:lnTo>
                  <a:pt x="16440" y="10748"/>
                </a:lnTo>
                <a:lnTo>
                  <a:pt x="16527" y="10748"/>
                </a:lnTo>
                <a:lnTo>
                  <a:pt x="16527" y="10653"/>
                </a:lnTo>
                <a:lnTo>
                  <a:pt x="16584" y="10653"/>
                </a:lnTo>
                <a:lnTo>
                  <a:pt x="16584" y="10451"/>
                </a:lnTo>
                <a:lnTo>
                  <a:pt x="16661" y="10451"/>
                </a:lnTo>
                <a:lnTo>
                  <a:pt x="16681" y="10078"/>
                </a:lnTo>
                <a:lnTo>
                  <a:pt x="16699" y="10461"/>
                </a:lnTo>
                <a:lnTo>
                  <a:pt x="16699" y="10681"/>
                </a:lnTo>
                <a:lnTo>
                  <a:pt x="16738" y="10681"/>
                </a:lnTo>
                <a:lnTo>
                  <a:pt x="16738" y="10777"/>
                </a:lnTo>
                <a:lnTo>
                  <a:pt x="16805" y="10777"/>
                </a:lnTo>
                <a:lnTo>
                  <a:pt x="16833" y="10748"/>
                </a:lnTo>
                <a:lnTo>
                  <a:pt x="16939" y="10748"/>
                </a:lnTo>
                <a:lnTo>
                  <a:pt x="16939" y="11506"/>
                </a:lnTo>
                <a:lnTo>
                  <a:pt x="17198" y="11506"/>
                </a:lnTo>
                <a:lnTo>
                  <a:pt x="17198" y="11401"/>
                </a:lnTo>
                <a:lnTo>
                  <a:pt x="17256" y="11401"/>
                </a:lnTo>
                <a:lnTo>
                  <a:pt x="17256" y="11468"/>
                </a:lnTo>
                <a:lnTo>
                  <a:pt x="17371" y="11468"/>
                </a:lnTo>
                <a:lnTo>
                  <a:pt x="17371" y="11381"/>
                </a:lnTo>
                <a:lnTo>
                  <a:pt x="17333" y="11381"/>
                </a:lnTo>
                <a:lnTo>
                  <a:pt x="17333" y="10902"/>
                </a:lnTo>
                <a:lnTo>
                  <a:pt x="17400" y="10902"/>
                </a:lnTo>
                <a:lnTo>
                  <a:pt x="17400" y="10787"/>
                </a:lnTo>
                <a:lnTo>
                  <a:pt x="17457" y="10787"/>
                </a:lnTo>
                <a:lnTo>
                  <a:pt x="17457" y="10720"/>
                </a:lnTo>
                <a:lnTo>
                  <a:pt x="17419" y="10720"/>
                </a:lnTo>
                <a:lnTo>
                  <a:pt x="17419" y="10623"/>
                </a:lnTo>
                <a:lnTo>
                  <a:pt x="17572" y="10623"/>
                </a:lnTo>
                <a:lnTo>
                  <a:pt x="17572" y="10413"/>
                </a:lnTo>
                <a:lnTo>
                  <a:pt x="17745" y="10307"/>
                </a:lnTo>
                <a:lnTo>
                  <a:pt x="17927" y="10307"/>
                </a:lnTo>
                <a:lnTo>
                  <a:pt x="17965" y="9828"/>
                </a:lnTo>
                <a:lnTo>
                  <a:pt x="17985" y="10317"/>
                </a:lnTo>
                <a:lnTo>
                  <a:pt x="18186" y="10317"/>
                </a:lnTo>
                <a:lnTo>
                  <a:pt x="18186" y="10355"/>
                </a:lnTo>
                <a:lnTo>
                  <a:pt x="18273" y="10355"/>
                </a:lnTo>
                <a:lnTo>
                  <a:pt x="18273" y="10404"/>
                </a:lnTo>
                <a:lnTo>
                  <a:pt x="18340" y="10404"/>
                </a:lnTo>
                <a:lnTo>
                  <a:pt x="18340" y="10538"/>
                </a:lnTo>
                <a:lnTo>
                  <a:pt x="18311" y="10566"/>
                </a:lnTo>
                <a:lnTo>
                  <a:pt x="18311" y="11419"/>
                </a:lnTo>
                <a:lnTo>
                  <a:pt x="18417" y="11419"/>
                </a:lnTo>
                <a:lnTo>
                  <a:pt x="18417" y="11621"/>
                </a:lnTo>
                <a:lnTo>
                  <a:pt x="18579" y="11621"/>
                </a:lnTo>
                <a:lnTo>
                  <a:pt x="18579" y="8476"/>
                </a:lnTo>
                <a:lnTo>
                  <a:pt x="19327" y="8889"/>
                </a:lnTo>
                <a:lnTo>
                  <a:pt x="19327" y="8946"/>
                </a:lnTo>
                <a:lnTo>
                  <a:pt x="19721" y="8946"/>
                </a:lnTo>
                <a:lnTo>
                  <a:pt x="19721" y="9023"/>
                </a:lnTo>
                <a:lnTo>
                  <a:pt x="19845" y="9023"/>
                </a:lnTo>
                <a:lnTo>
                  <a:pt x="19845" y="8883"/>
                </a:lnTo>
                <a:lnTo>
                  <a:pt x="19888" y="8883"/>
                </a:lnTo>
                <a:lnTo>
                  <a:pt x="19932" y="8840"/>
                </a:lnTo>
                <a:lnTo>
                  <a:pt x="19979" y="8840"/>
                </a:lnTo>
                <a:lnTo>
                  <a:pt x="19979" y="8754"/>
                </a:lnTo>
                <a:lnTo>
                  <a:pt x="20076" y="8754"/>
                </a:lnTo>
                <a:lnTo>
                  <a:pt x="20076" y="9770"/>
                </a:lnTo>
                <a:lnTo>
                  <a:pt x="20083" y="9771"/>
                </a:lnTo>
                <a:lnTo>
                  <a:pt x="20104" y="9775"/>
                </a:lnTo>
                <a:lnTo>
                  <a:pt x="20120" y="9777"/>
                </a:lnTo>
                <a:lnTo>
                  <a:pt x="20137" y="9781"/>
                </a:lnTo>
                <a:lnTo>
                  <a:pt x="20158" y="9787"/>
                </a:lnTo>
                <a:lnTo>
                  <a:pt x="20180" y="9793"/>
                </a:lnTo>
                <a:lnTo>
                  <a:pt x="20203" y="9802"/>
                </a:lnTo>
                <a:lnTo>
                  <a:pt x="20228" y="9812"/>
                </a:lnTo>
                <a:lnTo>
                  <a:pt x="20255" y="9824"/>
                </a:lnTo>
                <a:lnTo>
                  <a:pt x="20282" y="9839"/>
                </a:lnTo>
                <a:lnTo>
                  <a:pt x="20309" y="9856"/>
                </a:lnTo>
                <a:lnTo>
                  <a:pt x="20337" y="9876"/>
                </a:lnTo>
                <a:lnTo>
                  <a:pt x="20364" y="9899"/>
                </a:lnTo>
                <a:lnTo>
                  <a:pt x="20379" y="9911"/>
                </a:lnTo>
                <a:lnTo>
                  <a:pt x="20392" y="9924"/>
                </a:lnTo>
                <a:lnTo>
                  <a:pt x="20392" y="10070"/>
                </a:lnTo>
                <a:lnTo>
                  <a:pt x="20449" y="10070"/>
                </a:lnTo>
                <a:lnTo>
                  <a:pt x="20449" y="10135"/>
                </a:lnTo>
                <a:lnTo>
                  <a:pt x="20483" y="10135"/>
                </a:lnTo>
                <a:lnTo>
                  <a:pt x="20483" y="10178"/>
                </a:lnTo>
                <a:lnTo>
                  <a:pt x="20459" y="10202"/>
                </a:lnTo>
                <a:lnTo>
                  <a:pt x="20459" y="10336"/>
                </a:lnTo>
                <a:lnTo>
                  <a:pt x="20546" y="10365"/>
                </a:lnTo>
                <a:lnTo>
                  <a:pt x="20546" y="12365"/>
                </a:lnTo>
                <a:lnTo>
                  <a:pt x="20653" y="12365"/>
                </a:lnTo>
                <a:lnTo>
                  <a:pt x="20653" y="10653"/>
                </a:lnTo>
                <a:lnTo>
                  <a:pt x="20720" y="10653"/>
                </a:lnTo>
                <a:lnTo>
                  <a:pt x="20720" y="10576"/>
                </a:lnTo>
                <a:lnTo>
                  <a:pt x="20801" y="10576"/>
                </a:lnTo>
                <a:lnTo>
                  <a:pt x="20801" y="10499"/>
                </a:lnTo>
                <a:lnTo>
                  <a:pt x="20720" y="10499"/>
                </a:lnTo>
                <a:lnTo>
                  <a:pt x="20720" y="10451"/>
                </a:lnTo>
                <a:lnTo>
                  <a:pt x="20801" y="10451"/>
                </a:lnTo>
                <a:lnTo>
                  <a:pt x="20801" y="10394"/>
                </a:lnTo>
                <a:lnTo>
                  <a:pt x="20847" y="10394"/>
                </a:lnTo>
                <a:lnTo>
                  <a:pt x="20847" y="10451"/>
                </a:lnTo>
                <a:lnTo>
                  <a:pt x="20929" y="10451"/>
                </a:lnTo>
                <a:lnTo>
                  <a:pt x="20929" y="10499"/>
                </a:lnTo>
                <a:lnTo>
                  <a:pt x="20847" y="10499"/>
                </a:lnTo>
                <a:lnTo>
                  <a:pt x="20847" y="10576"/>
                </a:lnTo>
                <a:lnTo>
                  <a:pt x="20929" y="10576"/>
                </a:lnTo>
                <a:lnTo>
                  <a:pt x="20929" y="10653"/>
                </a:lnTo>
                <a:lnTo>
                  <a:pt x="21094" y="10653"/>
                </a:lnTo>
                <a:lnTo>
                  <a:pt x="21094" y="10576"/>
                </a:lnTo>
                <a:lnTo>
                  <a:pt x="21176" y="10576"/>
                </a:lnTo>
                <a:lnTo>
                  <a:pt x="21176" y="10499"/>
                </a:lnTo>
                <a:lnTo>
                  <a:pt x="21094" y="10499"/>
                </a:lnTo>
                <a:lnTo>
                  <a:pt x="21094" y="10451"/>
                </a:lnTo>
                <a:lnTo>
                  <a:pt x="21176" y="10451"/>
                </a:lnTo>
                <a:lnTo>
                  <a:pt x="21176" y="10394"/>
                </a:lnTo>
                <a:lnTo>
                  <a:pt x="21222" y="10394"/>
                </a:lnTo>
                <a:lnTo>
                  <a:pt x="21222" y="10451"/>
                </a:lnTo>
                <a:lnTo>
                  <a:pt x="21303" y="10451"/>
                </a:lnTo>
                <a:lnTo>
                  <a:pt x="21303" y="10499"/>
                </a:lnTo>
                <a:lnTo>
                  <a:pt x="21222" y="10499"/>
                </a:lnTo>
                <a:lnTo>
                  <a:pt x="21222" y="10576"/>
                </a:lnTo>
                <a:lnTo>
                  <a:pt x="21303" y="10576"/>
                </a:lnTo>
                <a:lnTo>
                  <a:pt x="21303" y="10653"/>
                </a:lnTo>
                <a:lnTo>
                  <a:pt x="21370" y="10653"/>
                </a:lnTo>
                <a:lnTo>
                  <a:pt x="21370" y="12529"/>
                </a:lnTo>
                <a:lnTo>
                  <a:pt x="21509" y="12537"/>
                </a:lnTo>
                <a:lnTo>
                  <a:pt x="21929" y="12537"/>
                </a:lnTo>
                <a:lnTo>
                  <a:pt x="21929" y="11551"/>
                </a:lnTo>
                <a:lnTo>
                  <a:pt x="22019" y="11551"/>
                </a:lnTo>
                <a:lnTo>
                  <a:pt x="22019" y="10594"/>
                </a:lnTo>
                <a:lnTo>
                  <a:pt x="22053" y="10594"/>
                </a:lnTo>
                <a:lnTo>
                  <a:pt x="22053" y="9716"/>
                </a:lnTo>
                <a:lnTo>
                  <a:pt x="22080" y="9716"/>
                </a:lnTo>
                <a:lnTo>
                  <a:pt x="22080" y="8866"/>
                </a:lnTo>
                <a:lnTo>
                  <a:pt x="22123" y="8866"/>
                </a:lnTo>
                <a:lnTo>
                  <a:pt x="22123" y="8124"/>
                </a:lnTo>
                <a:lnTo>
                  <a:pt x="22156" y="8124"/>
                </a:lnTo>
                <a:lnTo>
                  <a:pt x="22156" y="7510"/>
                </a:lnTo>
                <a:lnTo>
                  <a:pt x="22215" y="7510"/>
                </a:lnTo>
                <a:lnTo>
                  <a:pt x="22215" y="7426"/>
                </a:lnTo>
                <a:lnTo>
                  <a:pt x="22257" y="7426"/>
                </a:lnTo>
                <a:lnTo>
                  <a:pt x="22257" y="7342"/>
                </a:lnTo>
                <a:lnTo>
                  <a:pt x="22325" y="7342"/>
                </a:lnTo>
                <a:lnTo>
                  <a:pt x="22325" y="7257"/>
                </a:lnTo>
                <a:lnTo>
                  <a:pt x="22383" y="7257"/>
                </a:lnTo>
                <a:lnTo>
                  <a:pt x="22383" y="7156"/>
                </a:lnTo>
                <a:lnTo>
                  <a:pt x="22452" y="7156"/>
                </a:lnTo>
                <a:lnTo>
                  <a:pt x="22508" y="6525"/>
                </a:lnTo>
                <a:lnTo>
                  <a:pt x="22565" y="7165"/>
                </a:lnTo>
                <a:lnTo>
                  <a:pt x="22632" y="7165"/>
                </a:lnTo>
                <a:lnTo>
                  <a:pt x="22632" y="7266"/>
                </a:lnTo>
                <a:lnTo>
                  <a:pt x="22691" y="7266"/>
                </a:lnTo>
                <a:lnTo>
                  <a:pt x="22691" y="7349"/>
                </a:lnTo>
                <a:lnTo>
                  <a:pt x="22758" y="7349"/>
                </a:lnTo>
                <a:lnTo>
                  <a:pt x="22758" y="7434"/>
                </a:lnTo>
                <a:lnTo>
                  <a:pt x="22801" y="7434"/>
                </a:lnTo>
                <a:lnTo>
                  <a:pt x="22801" y="7518"/>
                </a:lnTo>
                <a:lnTo>
                  <a:pt x="22859" y="7518"/>
                </a:lnTo>
                <a:lnTo>
                  <a:pt x="22859" y="8133"/>
                </a:lnTo>
                <a:lnTo>
                  <a:pt x="22893" y="8133"/>
                </a:lnTo>
                <a:lnTo>
                  <a:pt x="22893" y="8874"/>
                </a:lnTo>
                <a:lnTo>
                  <a:pt x="22935" y="8874"/>
                </a:lnTo>
                <a:lnTo>
                  <a:pt x="22935" y="9724"/>
                </a:lnTo>
                <a:lnTo>
                  <a:pt x="22962" y="9724"/>
                </a:lnTo>
                <a:lnTo>
                  <a:pt x="22962" y="10602"/>
                </a:lnTo>
                <a:lnTo>
                  <a:pt x="22997" y="10602"/>
                </a:lnTo>
                <a:lnTo>
                  <a:pt x="22997" y="11560"/>
                </a:lnTo>
                <a:lnTo>
                  <a:pt x="23086" y="11560"/>
                </a:lnTo>
                <a:lnTo>
                  <a:pt x="23086" y="12545"/>
                </a:lnTo>
                <a:lnTo>
                  <a:pt x="23217" y="12545"/>
                </a:lnTo>
                <a:lnTo>
                  <a:pt x="23217" y="11475"/>
                </a:lnTo>
                <a:lnTo>
                  <a:pt x="23251" y="11475"/>
                </a:lnTo>
                <a:lnTo>
                  <a:pt x="23251" y="11392"/>
                </a:lnTo>
                <a:lnTo>
                  <a:pt x="23293" y="11358"/>
                </a:lnTo>
                <a:lnTo>
                  <a:pt x="23386" y="11358"/>
                </a:lnTo>
                <a:lnTo>
                  <a:pt x="23386" y="11257"/>
                </a:lnTo>
                <a:lnTo>
                  <a:pt x="23343" y="11223"/>
                </a:lnTo>
                <a:lnTo>
                  <a:pt x="23386" y="11198"/>
                </a:lnTo>
                <a:lnTo>
                  <a:pt x="23386" y="11114"/>
                </a:lnTo>
                <a:lnTo>
                  <a:pt x="23352" y="11105"/>
                </a:lnTo>
                <a:lnTo>
                  <a:pt x="23352" y="11080"/>
                </a:lnTo>
                <a:lnTo>
                  <a:pt x="23394" y="11080"/>
                </a:lnTo>
                <a:lnTo>
                  <a:pt x="23411" y="11013"/>
                </a:lnTo>
                <a:lnTo>
                  <a:pt x="23610" y="10979"/>
                </a:lnTo>
                <a:lnTo>
                  <a:pt x="23601" y="10878"/>
                </a:lnTo>
                <a:lnTo>
                  <a:pt x="23579" y="10869"/>
                </a:lnTo>
                <a:lnTo>
                  <a:pt x="23579" y="10768"/>
                </a:lnTo>
                <a:lnTo>
                  <a:pt x="23368" y="10735"/>
                </a:lnTo>
                <a:lnTo>
                  <a:pt x="23402" y="10685"/>
                </a:lnTo>
                <a:lnTo>
                  <a:pt x="23411" y="10609"/>
                </a:lnTo>
                <a:lnTo>
                  <a:pt x="23622" y="10566"/>
                </a:lnTo>
                <a:lnTo>
                  <a:pt x="23630" y="10545"/>
                </a:lnTo>
                <a:lnTo>
                  <a:pt x="23639" y="10524"/>
                </a:lnTo>
                <a:lnTo>
                  <a:pt x="23650" y="10505"/>
                </a:lnTo>
                <a:lnTo>
                  <a:pt x="23665" y="10486"/>
                </a:lnTo>
                <a:lnTo>
                  <a:pt x="23680" y="10469"/>
                </a:lnTo>
                <a:lnTo>
                  <a:pt x="23698" y="10451"/>
                </a:lnTo>
                <a:lnTo>
                  <a:pt x="23717" y="10436"/>
                </a:lnTo>
                <a:lnTo>
                  <a:pt x="23738" y="10420"/>
                </a:lnTo>
                <a:lnTo>
                  <a:pt x="23760" y="10406"/>
                </a:lnTo>
                <a:lnTo>
                  <a:pt x="23784" y="10393"/>
                </a:lnTo>
                <a:lnTo>
                  <a:pt x="23810" y="10382"/>
                </a:lnTo>
                <a:lnTo>
                  <a:pt x="23836" y="10371"/>
                </a:lnTo>
                <a:lnTo>
                  <a:pt x="23863" y="10362"/>
                </a:lnTo>
                <a:lnTo>
                  <a:pt x="23892" y="10354"/>
                </a:lnTo>
                <a:lnTo>
                  <a:pt x="23922" y="10349"/>
                </a:lnTo>
                <a:lnTo>
                  <a:pt x="23952" y="10343"/>
                </a:lnTo>
                <a:lnTo>
                  <a:pt x="23952" y="10171"/>
                </a:lnTo>
                <a:lnTo>
                  <a:pt x="23983" y="10171"/>
                </a:lnTo>
                <a:lnTo>
                  <a:pt x="24026" y="9356"/>
                </a:lnTo>
                <a:lnTo>
                  <a:pt x="24076" y="10171"/>
                </a:lnTo>
                <a:lnTo>
                  <a:pt x="24109" y="10171"/>
                </a:lnTo>
                <a:lnTo>
                  <a:pt x="24117" y="10347"/>
                </a:lnTo>
                <a:lnTo>
                  <a:pt x="24143" y="10351"/>
                </a:lnTo>
                <a:lnTo>
                  <a:pt x="24170" y="10358"/>
                </a:lnTo>
                <a:lnTo>
                  <a:pt x="24194" y="10364"/>
                </a:lnTo>
                <a:lnTo>
                  <a:pt x="24218" y="10373"/>
                </a:lnTo>
                <a:lnTo>
                  <a:pt x="24242" y="10382"/>
                </a:lnTo>
                <a:lnTo>
                  <a:pt x="24264" y="10392"/>
                </a:lnTo>
                <a:lnTo>
                  <a:pt x="24285" y="10404"/>
                </a:lnTo>
                <a:lnTo>
                  <a:pt x="24306" y="10416"/>
                </a:lnTo>
                <a:lnTo>
                  <a:pt x="24325" y="10429"/>
                </a:lnTo>
                <a:lnTo>
                  <a:pt x="24342" y="10442"/>
                </a:lnTo>
                <a:lnTo>
                  <a:pt x="24359" y="10456"/>
                </a:lnTo>
                <a:lnTo>
                  <a:pt x="24374" y="10472"/>
                </a:lnTo>
                <a:lnTo>
                  <a:pt x="24387" y="10488"/>
                </a:lnTo>
                <a:lnTo>
                  <a:pt x="24399" y="10505"/>
                </a:lnTo>
                <a:lnTo>
                  <a:pt x="24410" y="10522"/>
                </a:lnTo>
                <a:lnTo>
                  <a:pt x="24419" y="10540"/>
                </a:lnTo>
                <a:lnTo>
                  <a:pt x="24681" y="10566"/>
                </a:lnTo>
                <a:lnTo>
                  <a:pt x="24681" y="10634"/>
                </a:lnTo>
                <a:lnTo>
                  <a:pt x="24635" y="10651"/>
                </a:lnTo>
                <a:lnTo>
                  <a:pt x="24635" y="10710"/>
                </a:lnTo>
                <a:lnTo>
                  <a:pt x="24505" y="10710"/>
                </a:lnTo>
                <a:lnTo>
                  <a:pt x="24505" y="10811"/>
                </a:lnTo>
                <a:lnTo>
                  <a:pt x="24475" y="10811"/>
                </a:lnTo>
                <a:lnTo>
                  <a:pt x="24475" y="11030"/>
                </a:lnTo>
                <a:lnTo>
                  <a:pt x="24635" y="11055"/>
                </a:lnTo>
                <a:lnTo>
                  <a:pt x="24635" y="11092"/>
                </a:lnTo>
                <a:lnTo>
                  <a:pt x="24686" y="11092"/>
                </a:lnTo>
                <a:lnTo>
                  <a:pt x="24686" y="11144"/>
                </a:lnTo>
                <a:lnTo>
                  <a:pt x="24631" y="11169"/>
                </a:lnTo>
                <a:lnTo>
                  <a:pt x="24631" y="11219"/>
                </a:lnTo>
                <a:lnTo>
                  <a:pt x="24846" y="11307"/>
                </a:lnTo>
                <a:lnTo>
                  <a:pt x="24874" y="12247"/>
                </a:lnTo>
                <a:lnTo>
                  <a:pt x="24899" y="12255"/>
                </a:lnTo>
                <a:lnTo>
                  <a:pt x="24923" y="12262"/>
                </a:lnTo>
                <a:lnTo>
                  <a:pt x="24947" y="12271"/>
                </a:lnTo>
                <a:lnTo>
                  <a:pt x="24971" y="12281"/>
                </a:lnTo>
                <a:lnTo>
                  <a:pt x="24994" y="12291"/>
                </a:lnTo>
                <a:lnTo>
                  <a:pt x="25017" y="12301"/>
                </a:lnTo>
                <a:lnTo>
                  <a:pt x="25040" y="12312"/>
                </a:lnTo>
                <a:lnTo>
                  <a:pt x="25062" y="12324"/>
                </a:lnTo>
                <a:lnTo>
                  <a:pt x="25084" y="12336"/>
                </a:lnTo>
                <a:lnTo>
                  <a:pt x="25106" y="12349"/>
                </a:lnTo>
                <a:lnTo>
                  <a:pt x="25127" y="12362"/>
                </a:lnTo>
                <a:lnTo>
                  <a:pt x="25148" y="12376"/>
                </a:lnTo>
                <a:lnTo>
                  <a:pt x="25168" y="12390"/>
                </a:lnTo>
                <a:lnTo>
                  <a:pt x="25189" y="12405"/>
                </a:lnTo>
                <a:lnTo>
                  <a:pt x="25207" y="12421"/>
                </a:lnTo>
                <a:lnTo>
                  <a:pt x="25227" y="12436"/>
                </a:lnTo>
                <a:lnTo>
                  <a:pt x="25245" y="12452"/>
                </a:lnTo>
                <a:lnTo>
                  <a:pt x="25263" y="12469"/>
                </a:lnTo>
                <a:lnTo>
                  <a:pt x="25281" y="12486"/>
                </a:lnTo>
                <a:lnTo>
                  <a:pt x="25297" y="12504"/>
                </a:lnTo>
                <a:lnTo>
                  <a:pt x="25314" y="12522"/>
                </a:lnTo>
                <a:lnTo>
                  <a:pt x="25330" y="12540"/>
                </a:lnTo>
                <a:lnTo>
                  <a:pt x="25346" y="12559"/>
                </a:lnTo>
                <a:lnTo>
                  <a:pt x="25361" y="12579"/>
                </a:lnTo>
                <a:lnTo>
                  <a:pt x="25375" y="12597"/>
                </a:lnTo>
                <a:lnTo>
                  <a:pt x="25390" y="12618"/>
                </a:lnTo>
                <a:lnTo>
                  <a:pt x="25403" y="12638"/>
                </a:lnTo>
                <a:lnTo>
                  <a:pt x="25415" y="12659"/>
                </a:lnTo>
                <a:lnTo>
                  <a:pt x="25427" y="12680"/>
                </a:lnTo>
                <a:lnTo>
                  <a:pt x="25439" y="12702"/>
                </a:lnTo>
                <a:lnTo>
                  <a:pt x="25450" y="12724"/>
                </a:lnTo>
                <a:lnTo>
                  <a:pt x="25460" y="12746"/>
                </a:lnTo>
                <a:lnTo>
                  <a:pt x="25461" y="13154"/>
                </a:lnTo>
                <a:lnTo>
                  <a:pt x="25712" y="13174"/>
                </a:lnTo>
                <a:lnTo>
                  <a:pt x="25712" y="11497"/>
                </a:lnTo>
                <a:lnTo>
                  <a:pt x="25839" y="11497"/>
                </a:lnTo>
                <a:lnTo>
                  <a:pt x="25839" y="10508"/>
                </a:lnTo>
                <a:lnTo>
                  <a:pt x="25931" y="10508"/>
                </a:lnTo>
                <a:lnTo>
                  <a:pt x="25931" y="11497"/>
                </a:lnTo>
                <a:lnTo>
                  <a:pt x="26049" y="11497"/>
                </a:lnTo>
                <a:lnTo>
                  <a:pt x="26049" y="10508"/>
                </a:lnTo>
                <a:lnTo>
                  <a:pt x="26134" y="10508"/>
                </a:lnTo>
                <a:lnTo>
                  <a:pt x="26134" y="13123"/>
                </a:lnTo>
                <a:lnTo>
                  <a:pt x="26556" y="12853"/>
                </a:lnTo>
                <a:lnTo>
                  <a:pt x="26556" y="12093"/>
                </a:lnTo>
                <a:lnTo>
                  <a:pt x="26437" y="12093"/>
                </a:lnTo>
                <a:lnTo>
                  <a:pt x="26437" y="12023"/>
                </a:lnTo>
                <a:lnTo>
                  <a:pt x="26604" y="12023"/>
                </a:lnTo>
                <a:lnTo>
                  <a:pt x="26604" y="11855"/>
                </a:lnTo>
                <a:lnTo>
                  <a:pt x="26671" y="11855"/>
                </a:lnTo>
                <a:lnTo>
                  <a:pt x="26671" y="11686"/>
                </a:lnTo>
                <a:lnTo>
                  <a:pt x="26739" y="11686"/>
                </a:lnTo>
                <a:lnTo>
                  <a:pt x="26739" y="11821"/>
                </a:lnTo>
                <a:lnTo>
                  <a:pt x="26806" y="11821"/>
                </a:lnTo>
                <a:lnTo>
                  <a:pt x="26806" y="11585"/>
                </a:lnTo>
                <a:lnTo>
                  <a:pt x="26705" y="11585"/>
                </a:lnTo>
                <a:lnTo>
                  <a:pt x="26705" y="11517"/>
                </a:lnTo>
                <a:lnTo>
                  <a:pt x="26840" y="11517"/>
                </a:lnTo>
                <a:lnTo>
                  <a:pt x="27110" y="11146"/>
                </a:lnTo>
                <a:lnTo>
                  <a:pt x="27784" y="11012"/>
                </a:lnTo>
                <a:lnTo>
                  <a:pt x="28039" y="11474"/>
                </a:lnTo>
                <a:lnTo>
                  <a:pt x="28174" y="11474"/>
                </a:lnTo>
                <a:lnTo>
                  <a:pt x="28174" y="11541"/>
                </a:lnTo>
                <a:lnTo>
                  <a:pt x="28073" y="11541"/>
                </a:lnTo>
                <a:lnTo>
                  <a:pt x="28073" y="11777"/>
                </a:lnTo>
                <a:lnTo>
                  <a:pt x="28140" y="11777"/>
                </a:lnTo>
                <a:lnTo>
                  <a:pt x="28140" y="11642"/>
                </a:lnTo>
                <a:lnTo>
                  <a:pt x="28208" y="11642"/>
                </a:lnTo>
                <a:lnTo>
                  <a:pt x="28208" y="11811"/>
                </a:lnTo>
                <a:lnTo>
                  <a:pt x="28275" y="11811"/>
                </a:lnTo>
                <a:lnTo>
                  <a:pt x="28275" y="11980"/>
                </a:lnTo>
                <a:lnTo>
                  <a:pt x="28475" y="11980"/>
                </a:lnTo>
                <a:lnTo>
                  <a:pt x="28475" y="12051"/>
                </a:lnTo>
                <a:lnTo>
                  <a:pt x="28323" y="12051"/>
                </a:lnTo>
                <a:lnTo>
                  <a:pt x="28323" y="12910"/>
                </a:lnTo>
                <a:lnTo>
                  <a:pt x="28711" y="12910"/>
                </a:lnTo>
                <a:lnTo>
                  <a:pt x="28711" y="9932"/>
                </a:lnTo>
                <a:lnTo>
                  <a:pt x="28830" y="9730"/>
                </a:lnTo>
                <a:lnTo>
                  <a:pt x="28830" y="8683"/>
                </a:lnTo>
                <a:lnTo>
                  <a:pt x="28850" y="8680"/>
                </a:lnTo>
                <a:lnTo>
                  <a:pt x="28874" y="8678"/>
                </a:lnTo>
                <a:lnTo>
                  <a:pt x="28907" y="8675"/>
                </a:lnTo>
                <a:lnTo>
                  <a:pt x="28957" y="8017"/>
                </a:lnTo>
                <a:lnTo>
                  <a:pt x="29000" y="8672"/>
                </a:lnTo>
                <a:lnTo>
                  <a:pt x="29029" y="8672"/>
                </a:lnTo>
                <a:lnTo>
                  <a:pt x="29059" y="8675"/>
                </a:lnTo>
                <a:lnTo>
                  <a:pt x="29087" y="8677"/>
                </a:lnTo>
                <a:lnTo>
                  <a:pt x="29115" y="8681"/>
                </a:lnTo>
                <a:lnTo>
                  <a:pt x="29143" y="8687"/>
                </a:lnTo>
                <a:lnTo>
                  <a:pt x="29171" y="8693"/>
                </a:lnTo>
                <a:lnTo>
                  <a:pt x="29198" y="8702"/>
                </a:lnTo>
                <a:lnTo>
                  <a:pt x="29227" y="8713"/>
                </a:lnTo>
                <a:lnTo>
                  <a:pt x="29255" y="8726"/>
                </a:lnTo>
                <a:lnTo>
                  <a:pt x="29285" y="8740"/>
                </a:lnTo>
                <a:lnTo>
                  <a:pt x="29316" y="8758"/>
                </a:lnTo>
                <a:lnTo>
                  <a:pt x="29348" y="8778"/>
                </a:lnTo>
                <a:lnTo>
                  <a:pt x="29379" y="8801"/>
                </a:lnTo>
                <a:lnTo>
                  <a:pt x="29415" y="8826"/>
                </a:lnTo>
                <a:lnTo>
                  <a:pt x="29451" y="8855"/>
                </a:lnTo>
                <a:lnTo>
                  <a:pt x="29488" y="8886"/>
                </a:lnTo>
                <a:lnTo>
                  <a:pt x="29488" y="9966"/>
                </a:lnTo>
                <a:lnTo>
                  <a:pt x="29539" y="9966"/>
                </a:lnTo>
                <a:lnTo>
                  <a:pt x="29539" y="10033"/>
                </a:lnTo>
                <a:lnTo>
                  <a:pt x="29488" y="10033"/>
                </a:lnTo>
                <a:lnTo>
                  <a:pt x="29488" y="13271"/>
                </a:lnTo>
                <a:lnTo>
                  <a:pt x="29589" y="13271"/>
                </a:lnTo>
                <a:lnTo>
                  <a:pt x="29589" y="11906"/>
                </a:lnTo>
                <a:lnTo>
                  <a:pt x="29978" y="11906"/>
                </a:lnTo>
                <a:lnTo>
                  <a:pt x="30028" y="11501"/>
                </a:lnTo>
                <a:lnTo>
                  <a:pt x="30045" y="11872"/>
                </a:lnTo>
                <a:lnTo>
                  <a:pt x="30146" y="11872"/>
                </a:lnTo>
                <a:lnTo>
                  <a:pt x="30146" y="12142"/>
                </a:lnTo>
                <a:lnTo>
                  <a:pt x="30230" y="12142"/>
                </a:lnTo>
                <a:lnTo>
                  <a:pt x="30230" y="12311"/>
                </a:lnTo>
                <a:lnTo>
                  <a:pt x="30315" y="12698"/>
                </a:lnTo>
                <a:lnTo>
                  <a:pt x="30416" y="12698"/>
                </a:lnTo>
                <a:lnTo>
                  <a:pt x="30416" y="12226"/>
                </a:lnTo>
                <a:lnTo>
                  <a:pt x="30466" y="12226"/>
                </a:lnTo>
                <a:lnTo>
                  <a:pt x="30466" y="11771"/>
                </a:lnTo>
                <a:lnTo>
                  <a:pt x="30534" y="11771"/>
                </a:lnTo>
                <a:lnTo>
                  <a:pt x="30534" y="13019"/>
                </a:lnTo>
                <a:lnTo>
                  <a:pt x="30635" y="12833"/>
                </a:lnTo>
                <a:lnTo>
                  <a:pt x="30720" y="13035"/>
                </a:lnTo>
                <a:lnTo>
                  <a:pt x="30720" y="15128"/>
                </a:lnTo>
                <a:close/>
              </a:path>
            </a:pathLst>
          </a:custGeom>
          <a:solidFill>
            <a:schemeClr val="bg1">
              <a:lumMod val="95000"/>
              <a:alpha val="1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2502000" y="1577880"/>
            <a:ext cx="7187400" cy="699120"/>
          </a:xfrm>
          <a:prstGeom prst="rect">
            <a:avLst/>
          </a:prstGeom>
          <a:noFill/>
          <a:ln w="0">
            <a:noFill/>
          </a:ln>
          <a:effectLst>
            <a:outerShdw algn="l" blurRad="1270080" dir="9240232" dist="1815973" rotWithShape="0" sx="200000" sy="200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文鼎习字体"/>
                <a:ea typeface="文鼎习字体"/>
              </a:rPr>
              <a:t>破茧成蝶宣传通用</a:t>
            </a:r>
            <a:r>
              <a:rPr b="1" lang="en-US" sz="4000" spc="-1" strike="noStrike">
                <a:solidFill>
                  <a:srgbClr val="d9d9d9"/>
                </a:solidFill>
                <a:latin typeface="文鼎习字体"/>
                <a:ea typeface="文鼎习字体"/>
              </a:rPr>
              <a:t>PPT</a:t>
            </a:r>
            <a:r>
              <a:rPr b="1" lang="zh-CN" sz="4000" spc="-1" strike="noStrike">
                <a:solidFill>
                  <a:srgbClr val="d9d9d9"/>
                </a:solidFill>
                <a:latin typeface="文鼎习字体"/>
                <a:ea typeface="文鼎习字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7"/>
          <p:cNvSpPr/>
          <p:nvPr/>
        </p:nvSpPr>
        <p:spPr>
          <a:xfrm>
            <a:off x="8488800" y="4113360"/>
            <a:ext cx="716400" cy="716400"/>
          </a:xfrm>
          <a:prstGeom prst="ellipse">
            <a:avLst/>
          </a:prstGeom>
          <a:noFill/>
          <a:ln w="38100">
            <a:solidFill>
              <a:srgbClr val="d9d9d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45" name="KSO_Shape"/>
          <p:cNvSpPr/>
          <p:nvPr/>
        </p:nvSpPr>
        <p:spPr>
          <a:xfrm>
            <a:off x="108720" y="86760"/>
            <a:ext cx="1800000" cy="79668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4817" h="2132">
                <a:moveTo>
                  <a:pt x="2900" y="1730"/>
                </a:moveTo>
                <a:lnTo>
                  <a:pt x="2900" y="1730"/>
                </a:lnTo>
                <a:lnTo>
                  <a:pt x="2928" y="1729"/>
                </a:lnTo>
                <a:lnTo>
                  <a:pt x="2957" y="1725"/>
                </a:lnTo>
                <a:lnTo>
                  <a:pt x="2986" y="1721"/>
                </a:lnTo>
                <a:lnTo>
                  <a:pt x="3012" y="1717"/>
                </a:lnTo>
                <a:lnTo>
                  <a:pt x="3038" y="1712"/>
                </a:lnTo>
                <a:lnTo>
                  <a:pt x="3064" y="1705"/>
                </a:lnTo>
                <a:lnTo>
                  <a:pt x="3087" y="1699"/>
                </a:lnTo>
                <a:lnTo>
                  <a:pt x="3110" y="1693"/>
                </a:lnTo>
                <a:lnTo>
                  <a:pt x="3130" y="1685"/>
                </a:lnTo>
                <a:lnTo>
                  <a:pt x="3149" y="1677"/>
                </a:lnTo>
                <a:lnTo>
                  <a:pt x="3167" y="1670"/>
                </a:lnTo>
                <a:lnTo>
                  <a:pt x="3183" y="1661"/>
                </a:lnTo>
                <a:lnTo>
                  <a:pt x="3197" y="1653"/>
                </a:lnTo>
                <a:lnTo>
                  <a:pt x="3208" y="1644"/>
                </a:lnTo>
                <a:lnTo>
                  <a:pt x="3217" y="1635"/>
                </a:lnTo>
                <a:lnTo>
                  <a:pt x="3224" y="1626"/>
                </a:lnTo>
                <a:lnTo>
                  <a:pt x="3253" y="1601"/>
                </a:lnTo>
                <a:lnTo>
                  <a:pt x="3284" y="1576"/>
                </a:lnTo>
                <a:lnTo>
                  <a:pt x="3313" y="1553"/>
                </a:lnTo>
                <a:lnTo>
                  <a:pt x="3341" y="1531"/>
                </a:lnTo>
                <a:lnTo>
                  <a:pt x="3371" y="1512"/>
                </a:lnTo>
                <a:lnTo>
                  <a:pt x="3399" y="1494"/>
                </a:lnTo>
                <a:lnTo>
                  <a:pt x="3427" y="1478"/>
                </a:lnTo>
                <a:lnTo>
                  <a:pt x="3455" y="1462"/>
                </a:lnTo>
                <a:lnTo>
                  <a:pt x="3482" y="1448"/>
                </a:lnTo>
                <a:lnTo>
                  <a:pt x="3509" y="1435"/>
                </a:lnTo>
                <a:lnTo>
                  <a:pt x="3536" y="1425"/>
                </a:lnTo>
                <a:lnTo>
                  <a:pt x="3562" y="1415"/>
                </a:lnTo>
                <a:lnTo>
                  <a:pt x="3587" y="1406"/>
                </a:lnTo>
                <a:lnTo>
                  <a:pt x="3613" y="1400"/>
                </a:lnTo>
                <a:lnTo>
                  <a:pt x="3637" y="1393"/>
                </a:lnTo>
                <a:lnTo>
                  <a:pt x="3661" y="1388"/>
                </a:lnTo>
                <a:lnTo>
                  <a:pt x="3684" y="1384"/>
                </a:lnTo>
                <a:lnTo>
                  <a:pt x="3707" y="1382"/>
                </a:lnTo>
                <a:lnTo>
                  <a:pt x="3731" y="1379"/>
                </a:lnTo>
                <a:lnTo>
                  <a:pt x="3752" y="1378"/>
                </a:lnTo>
                <a:lnTo>
                  <a:pt x="3774" y="1378"/>
                </a:lnTo>
                <a:lnTo>
                  <a:pt x="3794" y="1379"/>
                </a:lnTo>
                <a:lnTo>
                  <a:pt x="3815" y="1380"/>
                </a:lnTo>
                <a:lnTo>
                  <a:pt x="3834" y="1383"/>
                </a:lnTo>
                <a:lnTo>
                  <a:pt x="3852" y="1387"/>
                </a:lnTo>
                <a:lnTo>
                  <a:pt x="3870" y="1391"/>
                </a:lnTo>
                <a:lnTo>
                  <a:pt x="3888" y="1396"/>
                </a:lnTo>
                <a:lnTo>
                  <a:pt x="3905" y="1401"/>
                </a:lnTo>
                <a:lnTo>
                  <a:pt x="3920" y="1406"/>
                </a:lnTo>
                <a:lnTo>
                  <a:pt x="3935" y="1412"/>
                </a:lnTo>
                <a:lnTo>
                  <a:pt x="3949" y="1420"/>
                </a:lnTo>
                <a:lnTo>
                  <a:pt x="3962" y="1428"/>
                </a:lnTo>
                <a:lnTo>
                  <a:pt x="4020" y="1464"/>
                </a:lnTo>
                <a:lnTo>
                  <a:pt x="4071" y="1497"/>
                </a:lnTo>
                <a:lnTo>
                  <a:pt x="4161" y="1557"/>
                </a:lnTo>
                <a:lnTo>
                  <a:pt x="4237" y="1609"/>
                </a:lnTo>
                <a:lnTo>
                  <a:pt x="4272" y="1634"/>
                </a:lnTo>
                <a:lnTo>
                  <a:pt x="4308" y="1654"/>
                </a:lnTo>
                <a:lnTo>
                  <a:pt x="4342" y="1675"/>
                </a:lnTo>
                <a:lnTo>
                  <a:pt x="4378" y="1691"/>
                </a:lnTo>
                <a:lnTo>
                  <a:pt x="4414" y="1708"/>
                </a:lnTo>
                <a:lnTo>
                  <a:pt x="4454" y="1722"/>
                </a:lnTo>
                <a:lnTo>
                  <a:pt x="4496" y="1734"/>
                </a:lnTo>
                <a:lnTo>
                  <a:pt x="4542" y="1744"/>
                </a:lnTo>
                <a:lnTo>
                  <a:pt x="4593" y="1753"/>
                </a:lnTo>
                <a:lnTo>
                  <a:pt x="4649" y="1759"/>
                </a:lnTo>
                <a:lnTo>
                  <a:pt x="4582" y="1718"/>
                </a:lnTo>
                <a:lnTo>
                  <a:pt x="4524" y="1681"/>
                </a:lnTo>
                <a:lnTo>
                  <a:pt x="4473" y="1649"/>
                </a:lnTo>
                <a:lnTo>
                  <a:pt x="4431" y="1620"/>
                </a:lnTo>
                <a:lnTo>
                  <a:pt x="4395" y="1594"/>
                </a:lnTo>
                <a:lnTo>
                  <a:pt x="4363" y="1571"/>
                </a:lnTo>
                <a:lnTo>
                  <a:pt x="4337" y="1549"/>
                </a:lnTo>
                <a:lnTo>
                  <a:pt x="4315" y="1530"/>
                </a:lnTo>
                <a:lnTo>
                  <a:pt x="4296" y="1512"/>
                </a:lnTo>
                <a:lnTo>
                  <a:pt x="4278" y="1496"/>
                </a:lnTo>
                <a:lnTo>
                  <a:pt x="4248" y="1461"/>
                </a:lnTo>
                <a:lnTo>
                  <a:pt x="4214" y="1425"/>
                </a:lnTo>
                <a:lnTo>
                  <a:pt x="4195" y="1405"/>
                </a:lnTo>
                <a:lnTo>
                  <a:pt x="4173" y="1383"/>
                </a:lnTo>
                <a:lnTo>
                  <a:pt x="4138" y="1353"/>
                </a:lnTo>
                <a:lnTo>
                  <a:pt x="4102" y="1328"/>
                </a:lnTo>
                <a:lnTo>
                  <a:pt x="4066" y="1305"/>
                </a:lnTo>
                <a:lnTo>
                  <a:pt x="4030" y="1286"/>
                </a:lnTo>
                <a:lnTo>
                  <a:pt x="3995" y="1269"/>
                </a:lnTo>
                <a:lnTo>
                  <a:pt x="3961" y="1255"/>
                </a:lnTo>
                <a:lnTo>
                  <a:pt x="3926" y="1243"/>
                </a:lnTo>
                <a:lnTo>
                  <a:pt x="3892" y="1236"/>
                </a:lnTo>
                <a:lnTo>
                  <a:pt x="3858" y="1229"/>
                </a:lnTo>
                <a:lnTo>
                  <a:pt x="3825" y="1224"/>
                </a:lnTo>
                <a:lnTo>
                  <a:pt x="3793" y="1223"/>
                </a:lnTo>
                <a:lnTo>
                  <a:pt x="3761" y="1222"/>
                </a:lnTo>
                <a:lnTo>
                  <a:pt x="3731" y="1224"/>
                </a:lnTo>
                <a:lnTo>
                  <a:pt x="3700" y="1227"/>
                </a:lnTo>
                <a:lnTo>
                  <a:pt x="3670" y="1232"/>
                </a:lnTo>
                <a:lnTo>
                  <a:pt x="3641" y="1238"/>
                </a:lnTo>
                <a:lnTo>
                  <a:pt x="3613" y="1245"/>
                </a:lnTo>
                <a:lnTo>
                  <a:pt x="3586" y="1254"/>
                </a:lnTo>
                <a:lnTo>
                  <a:pt x="3560" y="1263"/>
                </a:lnTo>
                <a:lnTo>
                  <a:pt x="3535" y="1273"/>
                </a:lnTo>
                <a:lnTo>
                  <a:pt x="3510" y="1284"/>
                </a:lnTo>
                <a:lnTo>
                  <a:pt x="3487" y="1296"/>
                </a:lnTo>
                <a:lnTo>
                  <a:pt x="3464" y="1307"/>
                </a:lnTo>
                <a:lnTo>
                  <a:pt x="3444" y="1320"/>
                </a:lnTo>
                <a:lnTo>
                  <a:pt x="3405" y="1344"/>
                </a:lnTo>
                <a:lnTo>
                  <a:pt x="3371" y="1370"/>
                </a:lnTo>
                <a:lnTo>
                  <a:pt x="3343" y="1392"/>
                </a:lnTo>
                <a:lnTo>
                  <a:pt x="3321" y="1412"/>
                </a:lnTo>
                <a:lnTo>
                  <a:pt x="3280" y="1428"/>
                </a:lnTo>
                <a:lnTo>
                  <a:pt x="3242" y="1439"/>
                </a:lnTo>
                <a:lnTo>
                  <a:pt x="3206" y="1448"/>
                </a:lnTo>
                <a:lnTo>
                  <a:pt x="3171" y="1453"/>
                </a:lnTo>
                <a:lnTo>
                  <a:pt x="3139" y="1457"/>
                </a:lnTo>
                <a:lnTo>
                  <a:pt x="3108" y="1457"/>
                </a:lnTo>
                <a:lnTo>
                  <a:pt x="3079" y="1456"/>
                </a:lnTo>
                <a:lnTo>
                  <a:pt x="3052" y="1452"/>
                </a:lnTo>
                <a:lnTo>
                  <a:pt x="3028" y="1446"/>
                </a:lnTo>
                <a:lnTo>
                  <a:pt x="3004" y="1438"/>
                </a:lnTo>
                <a:lnTo>
                  <a:pt x="2982" y="1428"/>
                </a:lnTo>
                <a:lnTo>
                  <a:pt x="2963" y="1416"/>
                </a:lnTo>
                <a:lnTo>
                  <a:pt x="2945" y="1403"/>
                </a:lnTo>
                <a:lnTo>
                  <a:pt x="2928" y="1389"/>
                </a:lnTo>
                <a:lnTo>
                  <a:pt x="2913" y="1374"/>
                </a:lnTo>
                <a:lnTo>
                  <a:pt x="2900" y="1357"/>
                </a:lnTo>
                <a:lnTo>
                  <a:pt x="2900" y="1730"/>
                </a:lnTo>
                <a:close/>
                <a:moveTo>
                  <a:pt x="2900" y="1073"/>
                </a:moveTo>
                <a:lnTo>
                  <a:pt x="2900" y="469"/>
                </a:lnTo>
                <a:lnTo>
                  <a:pt x="2915" y="469"/>
                </a:lnTo>
                <a:lnTo>
                  <a:pt x="2931" y="469"/>
                </a:lnTo>
                <a:lnTo>
                  <a:pt x="2947" y="469"/>
                </a:lnTo>
                <a:lnTo>
                  <a:pt x="2964" y="470"/>
                </a:lnTo>
                <a:lnTo>
                  <a:pt x="2980" y="473"/>
                </a:lnTo>
                <a:lnTo>
                  <a:pt x="2998" y="477"/>
                </a:lnTo>
                <a:lnTo>
                  <a:pt x="3015" y="480"/>
                </a:lnTo>
                <a:lnTo>
                  <a:pt x="3032" y="486"/>
                </a:lnTo>
                <a:lnTo>
                  <a:pt x="3048" y="492"/>
                </a:lnTo>
                <a:lnTo>
                  <a:pt x="3065" y="498"/>
                </a:lnTo>
                <a:lnTo>
                  <a:pt x="3082" y="506"/>
                </a:lnTo>
                <a:lnTo>
                  <a:pt x="3097" y="515"/>
                </a:lnTo>
                <a:lnTo>
                  <a:pt x="3112" y="524"/>
                </a:lnTo>
                <a:lnTo>
                  <a:pt x="3128" y="534"/>
                </a:lnTo>
                <a:lnTo>
                  <a:pt x="3142" y="546"/>
                </a:lnTo>
                <a:lnTo>
                  <a:pt x="3155" y="558"/>
                </a:lnTo>
                <a:lnTo>
                  <a:pt x="3166" y="571"/>
                </a:lnTo>
                <a:lnTo>
                  <a:pt x="3176" y="585"/>
                </a:lnTo>
                <a:lnTo>
                  <a:pt x="3187" y="601"/>
                </a:lnTo>
                <a:lnTo>
                  <a:pt x="3195" y="616"/>
                </a:lnTo>
                <a:lnTo>
                  <a:pt x="3202" y="634"/>
                </a:lnTo>
                <a:lnTo>
                  <a:pt x="3208" y="652"/>
                </a:lnTo>
                <a:lnTo>
                  <a:pt x="3212" y="670"/>
                </a:lnTo>
                <a:lnTo>
                  <a:pt x="3215" y="690"/>
                </a:lnTo>
                <a:lnTo>
                  <a:pt x="3215" y="711"/>
                </a:lnTo>
                <a:lnTo>
                  <a:pt x="3213" y="733"/>
                </a:lnTo>
                <a:lnTo>
                  <a:pt x="3211" y="756"/>
                </a:lnTo>
                <a:lnTo>
                  <a:pt x="3204" y="780"/>
                </a:lnTo>
                <a:lnTo>
                  <a:pt x="3198" y="804"/>
                </a:lnTo>
                <a:lnTo>
                  <a:pt x="3188" y="830"/>
                </a:lnTo>
                <a:lnTo>
                  <a:pt x="3175" y="857"/>
                </a:lnTo>
                <a:lnTo>
                  <a:pt x="3161" y="885"/>
                </a:lnTo>
                <a:lnTo>
                  <a:pt x="3189" y="886"/>
                </a:lnTo>
                <a:lnTo>
                  <a:pt x="3208" y="887"/>
                </a:lnTo>
                <a:lnTo>
                  <a:pt x="3230" y="890"/>
                </a:lnTo>
                <a:lnTo>
                  <a:pt x="3253" y="895"/>
                </a:lnTo>
                <a:lnTo>
                  <a:pt x="3277" y="902"/>
                </a:lnTo>
                <a:lnTo>
                  <a:pt x="3303" y="911"/>
                </a:lnTo>
                <a:lnTo>
                  <a:pt x="3316" y="917"/>
                </a:lnTo>
                <a:lnTo>
                  <a:pt x="3327" y="923"/>
                </a:lnTo>
                <a:lnTo>
                  <a:pt x="3340" y="931"/>
                </a:lnTo>
                <a:lnTo>
                  <a:pt x="3352" y="940"/>
                </a:lnTo>
                <a:lnTo>
                  <a:pt x="3363" y="950"/>
                </a:lnTo>
                <a:lnTo>
                  <a:pt x="3373" y="960"/>
                </a:lnTo>
                <a:lnTo>
                  <a:pt x="3384" y="973"/>
                </a:lnTo>
                <a:lnTo>
                  <a:pt x="3394" y="986"/>
                </a:lnTo>
                <a:lnTo>
                  <a:pt x="3403" y="1000"/>
                </a:lnTo>
                <a:lnTo>
                  <a:pt x="3411" y="1017"/>
                </a:lnTo>
                <a:lnTo>
                  <a:pt x="3418" y="1035"/>
                </a:lnTo>
                <a:lnTo>
                  <a:pt x="3425" y="1054"/>
                </a:lnTo>
                <a:lnTo>
                  <a:pt x="3430" y="1074"/>
                </a:lnTo>
                <a:lnTo>
                  <a:pt x="3434" y="1096"/>
                </a:lnTo>
                <a:lnTo>
                  <a:pt x="3436" y="1120"/>
                </a:lnTo>
                <a:lnTo>
                  <a:pt x="3439" y="1146"/>
                </a:lnTo>
                <a:lnTo>
                  <a:pt x="3439" y="1173"/>
                </a:lnTo>
                <a:lnTo>
                  <a:pt x="3437" y="1202"/>
                </a:lnTo>
                <a:lnTo>
                  <a:pt x="3432" y="1218"/>
                </a:lnTo>
                <a:lnTo>
                  <a:pt x="3426" y="1233"/>
                </a:lnTo>
                <a:lnTo>
                  <a:pt x="3418" y="1248"/>
                </a:lnTo>
                <a:lnTo>
                  <a:pt x="3408" y="1264"/>
                </a:lnTo>
                <a:lnTo>
                  <a:pt x="3395" y="1279"/>
                </a:lnTo>
                <a:lnTo>
                  <a:pt x="3382" y="1293"/>
                </a:lnTo>
                <a:lnTo>
                  <a:pt x="3367" y="1307"/>
                </a:lnTo>
                <a:lnTo>
                  <a:pt x="3350" y="1320"/>
                </a:lnTo>
                <a:lnTo>
                  <a:pt x="3334" y="1333"/>
                </a:lnTo>
                <a:lnTo>
                  <a:pt x="3315" y="1344"/>
                </a:lnTo>
                <a:lnTo>
                  <a:pt x="3295" y="1356"/>
                </a:lnTo>
                <a:lnTo>
                  <a:pt x="3276" y="1366"/>
                </a:lnTo>
                <a:lnTo>
                  <a:pt x="3254" y="1374"/>
                </a:lnTo>
                <a:lnTo>
                  <a:pt x="3234" y="1382"/>
                </a:lnTo>
                <a:lnTo>
                  <a:pt x="3212" y="1388"/>
                </a:lnTo>
                <a:lnTo>
                  <a:pt x="3190" y="1393"/>
                </a:lnTo>
                <a:lnTo>
                  <a:pt x="3169" y="1397"/>
                </a:lnTo>
                <a:lnTo>
                  <a:pt x="3147" y="1398"/>
                </a:lnTo>
                <a:lnTo>
                  <a:pt x="3125" y="1400"/>
                </a:lnTo>
                <a:lnTo>
                  <a:pt x="3105" y="1398"/>
                </a:lnTo>
                <a:lnTo>
                  <a:pt x="3084" y="1394"/>
                </a:lnTo>
                <a:lnTo>
                  <a:pt x="3064" y="1389"/>
                </a:lnTo>
                <a:lnTo>
                  <a:pt x="3044" y="1382"/>
                </a:lnTo>
                <a:lnTo>
                  <a:pt x="3027" y="1373"/>
                </a:lnTo>
                <a:lnTo>
                  <a:pt x="3010" y="1361"/>
                </a:lnTo>
                <a:lnTo>
                  <a:pt x="2993" y="1347"/>
                </a:lnTo>
                <a:lnTo>
                  <a:pt x="2979" y="1330"/>
                </a:lnTo>
                <a:lnTo>
                  <a:pt x="2966" y="1312"/>
                </a:lnTo>
                <a:lnTo>
                  <a:pt x="2955" y="1291"/>
                </a:lnTo>
                <a:lnTo>
                  <a:pt x="2945" y="1266"/>
                </a:lnTo>
                <a:lnTo>
                  <a:pt x="2937" y="1240"/>
                </a:lnTo>
                <a:lnTo>
                  <a:pt x="2932" y="1210"/>
                </a:lnTo>
                <a:lnTo>
                  <a:pt x="2929" y="1193"/>
                </a:lnTo>
                <a:lnTo>
                  <a:pt x="2929" y="1177"/>
                </a:lnTo>
                <a:lnTo>
                  <a:pt x="2932" y="1161"/>
                </a:lnTo>
                <a:lnTo>
                  <a:pt x="2937" y="1147"/>
                </a:lnTo>
                <a:lnTo>
                  <a:pt x="2943" y="1135"/>
                </a:lnTo>
                <a:lnTo>
                  <a:pt x="2951" y="1122"/>
                </a:lnTo>
                <a:lnTo>
                  <a:pt x="2960" y="1110"/>
                </a:lnTo>
                <a:lnTo>
                  <a:pt x="2970" y="1100"/>
                </a:lnTo>
                <a:lnTo>
                  <a:pt x="2982" y="1091"/>
                </a:lnTo>
                <a:lnTo>
                  <a:pt x="2995" y="1082"/>
                </a:lnTo>
                <a:lnTo>
                  <a:pt x="3007" y="1074"/>
                </a:lnTo>
                <a:lnTo>
                  <a:pt x="3021" y="1069"/>
                </a:lnTo>
                <a:lnTo>
                  <a:pt x="3036" y="1064"/>
                </a:lnTo>
                <a:lnTo>
                  <a:pt x="3050" y="1060"/>
                </a:lnTo>
                <a:lnTo>
                  <a:pt x="3065" y="1058"/>
                </a:lnTo>
                <a:lnTo>
                  <a:pt x="3079" y="1056"/>
                </a:lnTo>
                <a:lnTo>
                  <a:pt x="3094" y="1056"/>
                </a:lnTo>
                <a:lnTo>
                  <a:pt x="3108" y="1058"/>
                </a:lnTo>
                <a:lnTo>
                  <a:pt x="3123" y="1062"/>
                </a:lnTo>
                <a:lnTo>
                  <a:pt x="3135" y="1065"/>
                </a:lnTo>
                <a:lnTo>
                  <a:pt x="3148" y="1071"/>
                </a:lnTo>
                <a:lnTo>
                  <a:pt x="3160" y="1078"/>
                </a:lnTo>
                <a:lnTo>
                  <a:pt x="3170" y="1087"/>
                </a:lnTo>
                <a:lnTo>
                  <a:pt x="3179" y="1096"/>
                </a:lnTo>
                <a:lnTo>
                  <a:pt x="3187" y="1109"/>
                </a:lnTo>
                <a:lnTo>
                  <a:pt x="3192" y="1122"/>
                </a:lnTo>
                <a:lnTo>
                  <a:pt x="3197" y="1136"/>
                </a:lnTo>
                <a:lnTo>
                  <a:pt x="3198" y="1152"/>
                </a:lnTo>
                <a:lnTo>
                  <a:pt x="3199" y="1172"/>
                </a:lnTo>
                <a:lnTo>
                  <a:pt x="3197" y="1191"/>
                </a:lnTo>
                <a:lnTo>
                  <a:pt x="3193" y="1213"/>
                </a:lnTo>
                <a:lnTo>
                  <a:pt x="3185" y="1236"/>
                </a:lnTo>
                <a:lnTo>
                  <a:pt x="3201" y="1233"/>
                </a:lnTo>
                <a:lnTo>
                  <a:pt x="3215" y="1228"/>
                </a:lnTo>
                <a:lnTo>
                  <a:pt x="3226" y="1220"/>
                </a:lnTo>
                <a:lnTo>
                  <a:pt x="3235" y="1213"/>
                </a:lnTo>
                <a:lnTo>
                  <a:pt x="3242" y="1204"/>
                </a:lnTo>
                <a:lnTo>
                  <a:pt x="3247" y="1192"/>
                </a:lnTo>
                <a:lnTo>
                  <a:pt x="3251" y="1181"/>
                </a:lnTo>
                <a:lnTo>
                  <a:pt x="3252" y="1168"/>
                </a:lnTo>
                <a:lnTo>
                  <a:pt x="3252" y="1155"/>
                </a:lnTo>
                <a:lnTo>
                  <a:pt x="3249" y="1142"/>
                </a:lnTo>
                <a:lnTo>
                  <a:pt x="3245" y="1128"/>
                </a:lnTo>
                <a:lnTo>
                  <a:pt x="3240" y="1114"/>
                </a:lnTo>
                <a:lnTo>
                  <a:pt x="3233" y="1100"/>
                </a:lnTo>
                <a:lnTo>
                  <a:pt x="3225" y="1086"/>
                </a:lnTo>
                <a:lnTo>
                  <a:pt x="3215" y="1073"/>
                </a:lnTo>
                <a:lnTo>
                  <a:pt x="3204" y="1060"/>
                </a:lnTo>
                <a:lnTo>
                  <a:pt x="3192" y="1049"/>
                </a:lnTo>
                <a:lnTo>
                  <a:pt x="3178" y="1037"/>
                </a:lnTo>
                <a:lnTo>
                  <a:pt x="3163" y="1027"/>
                </a:lnTo>
                <a:lnTo>
                  <a:pt x="3147" y="1018"/>
                </a:lnTo>
                <a:lnTo>
                  <a:pt x="3130" y="1012"/>
                </a:lnTo>
                <a:lnTo>
                  <a:pt x="3114" y="1005"/>
                </a:lnTo>
                <a:lnTo>
                  <a:pt x="3094" y="1001"/>
                </a:lnTo>
                <a:lnTo>
                  <a:pt x="3075" y="999"/>
                </a:lnTo>
                <a:lnTo>
                  <a:pt x="3055" y="999"/>
                </a:lnTo>
                <a:lnTo>
                  <a:pt x="3034" y="1001"/>
                </a:lnTo>
                <a:lnTo>
                  <a:pt x="3012" y="1007"/>
                </a:lnTo>
                <a:lnTo>
                  <a:pt x="2991" y="1014"/>
                </a:lnTo>
                <a:lnTo>
                  <a:pt x="2969" y="1023"/>
                </a:lnTo>
                <a:lnTo>
                  <a:pt x="2946" y="1037"/>
                </a:lnTo>
                <a:lnTo>
                  <a:pt x="2923" y="1053"/>
                </a:lnTo>
                <a:lnTo>
                  <a:pt x="2900" y="1073"/>
                </a:lnTo>
                <a:close/>
                <a:moveTo>
                  <a:pt x="2900" y="2002"/>
                </a:moveTo>
                <a:lnTo>
                  <a:pt x="2900" y="1798"/>
                </a:lnTo>
                <a:lnTo>
                  <a:pt x="2928" y="1795"/>
                </a:lnTo>
                <a:lnTo>
                  <a:pt x="2955" y="1793"/>
                </a:lnTo>
                <a:lnTo>
                  <a:pt x="3007" y="1785"/>
                </a:lnTo>
                <a:lnTo>
                  <a:pt x="3056" y="1776"/>
                </a:lnTo>
                <a:lnTo>
                  <a:pt x="3099" y="1764"/>
                </a:lnTo>
                <a:lnTo>
                  <a:pt x="3138" y="1752"/>
                </a:lnTo>
                <a:lnTo>
                  <a:pt x="3170" y="1739"/>
                </a:lnTo>
                <a:lnTo>
                  <a:pt x="3183" y="1732"/>
                </a:lnTo>
                <a:lnTo>
                  <a:pt x="3194" y="1726"/>
                </a:lnTo>
                <a:lnTo>
                  <a:pt x="3204" y="1718"/>
                </a:lnTo>
                <a:lnTo>
                  <a:pt x="3212" y="1712"/>
                </a:lnTo>
                <a:lnTo>
                  <a:pt x="3266" y="1667"/>
                </a:lnTo>
                <a:lnTo>
                  <a:pt x="3318" y="1625"/>
                </a:lnTo>
                <a:lnTo>
                  <a:pt x="3370" y="1588"/>
                </a:lnTo>
                <a:lnTo>
                  <a:pt x="3418" y="1556"/>
                </a:lnTo>
                <a:lnTo>
                  <a:pt x="3466" y="1528"/>
                </a:lnTo>
                <a:lnTo>
                  <a:pt x="3512" y="1503"/>
                </a:lnTo>
                <a:lnTo>
                  <a:pt x="3555" y="1481"/>
                </a:lnTo>
                <a:lnTo>
                  <a:pt x="3597" y="1465"/>
                </a:lnTo>
                <a:lnTo>
                  <a:pt x="3637" y="1452"/>
                </a:lnTo>
                <a:lnTo>
                  <a:pt x="3675" y="1442"/>
                </a:lnTo>
                <a:lnTo>
                  <a:pt x="3713" y="1435"/>
                </a:lnTo>
                <a:lnTo>
                  <a:pt x="3747" y="1433"/>
                </a:lnTo>
                <a:lnTo>
                  <a:pt x="3779" y="1433"/>
                </a:lnTo>
                <a:lnTo>
                  <a:pt x="3811" y="1435"/>
                </a:lnTo>
                <a:lnTo>
                  <a:pt x="3839" y="1440"/>
                </a:lnTo>
                <a:lnTo>
                  <a:pt x="3867" y="1449"/>
                </a:lnTo>
                <a:lnTo>
                  <a:pt x="3893" y="1457"/>
                </a:lnTo>
                <a:lnTo>
                  <a:pt x="3919" y="1467"/>
                </a:lnTo>
                <a:lnTo>
                  <a:pt x="3943" y="1478"/>
                </a:lnTo>
                <a:lnTo>
                  <a:pt x="3965" y="1488"/>
                </a:lnTo>
                <a:lnTo>
                  <a:pt x="3988" y="1501"/>
                </a:lnTo>
                <a:lnTo>
                  <a:pt x="4010" y="1513"/>
                </a:lnTo>
                <a:lnTo>
                  <a:pt x="4050" y="1542"/>
                </a:lnTo>
                <a:lnTo>
                  <a:pt x="4091" y="1571"/>
                </a:lnTo>
                <a:lnTo>
                  <a:pt x="4132" y="1602"/>
                </a:lnTo>
                <a:lnTo>
                  <a:pt x="4175" y="1634"/>
                </a:lnTo>
                <a:lnTo>
                  <a:pt x="4221" y="1665"/>
                </a:lnTo>
                <a:lnTo>
                  <a:pt x="4244" y="1680"/>
                </a:lnTo>
                <a:lnTo>
                  <a:pt x="4269" y="1694"/>
                </a:lnTo>
                <a:lnTo>
                  <a:pt x="4296" y="1709"/>
                </a:lnTo>
                <a:lnTo>
                  <a:pt x="4323" y="1722"/>
                </a:lnTo>
                <a:lnTo>
                  <a:pt x="4353" y="1736"/>
                </a:lnTo>
                <a:lnTo>
                  <a:pt x="4383" y="1748"/>
                </a:lnTo>
                <a:lnTo>
                  <a:pt x="4417" y="1759"/>
                </a:lnTo>
                <a:lnTo>
                  <a:pt x="4451" y="1769"/>
                </a:lnTo>
                <a:lnTo>
                  <a:pt x="4488" y="1780"/>
                </a:lnTo>
                <a:lnTo>
                  <a:pt x="4527" y="1787"/>
                </a:lnTo>
                <a:lnTo>
                  <a:pt x="4569" y="1795"/>
                </a:lnTo>
                <a:lnTo>
                  <a:pt x="4612" y="1800"/>
                </a:lnTo>
                <a:lnTo>
                  <a:pt x="4660" y="1804"/>
                </a:lnTo>
                <a:lnTo>
                  <a:pt x="4710" y="1808"/>
                </a:lnTo>
                <a:lnTo>
                  <a:pt x="4762" y="1808"/>
                </a:lnTo>
                <a:lnTo>
                  <a:pt x="4817" y="1808"/>
                </a:lnTo>
                <a:lnTo>
                  <a:pt x="4794" y="1821"/>
                </a:lnTo>
                <a:lnTo>
                  <a:pt x="4770" y="1833"/>
                </a:lnTo>
                <a:lnTo>
                  <a:pt x="4745" y="1844"/>
                </a:lnTo>
                <a:lnTo>
                  <a:pt x="4720" y="1853"/>
                </a:lnTo>
                <a:lnTo>
                  <a:pt x="4694" y="1860"/>
                </a:lnTo>
                <a:lnTo>
                  <a:pt x="4669" y="1867"/>
                </a:lnTo>
                <a:lnTo>
                  <a:pt x="4642" y="1873"/>
                </a:lnTo>
                <a:lnTo>
                  <a:pt x="4615" y="1877"/>
                </a:lnTo>
                <a:lnTo>
                  <a:pt x="4588" y="1880"/>
                </a:lnTo>
                <a:lnTo>
                  <a:pt x="4561" y="1882"/>
                </a:lnTo>
                <a:lnTo>
                  <a:pt x="4534" y="1883"/>
                </a:lnTo>
                <a:lnTo>
                  <a:pt x="4507" y="1883"/>
                </a:lnTo>
                <a:lnTo>
                  <a:pt x="4481" y="1882"/>
                </a:lnTo>
                <a:lnTo>
                  <a:pt x="4455" y="1881"/>
                </a:lnTo>
                <a:lnTo>
                  <a:pt x="4404" y="1876"/>
                </a:lnTo>
                <a:lnTo>
                  <a:pt x="4354" y="1868"/>
                </a:lnTo>
                <a:lnTo>
                  <a:pt x="4308" y="1859"/>
                </a:lnTo>
                <a:lnTo>
                  <a:pt x="4266" y="1848"/>
                </a:lnTo>
                <a:lnTo>
                  <a:pt x="4227" y="1836"/>
                </a:lnTo>
                <a:lnTo>
                  <a:pt x="4195" y="1823"/>
                </a:lnTo>
                <a:lnTo>
                  <a:pt x="4167" y="1810"/>
                </a:lnTo>
                <a:lnTo>
                  <a:pt x="4146" y="1798"/>
                </a:lnTo>
                <a:lnTo>
                  <a:pt x="4138" y="1791"/>
                </a:lnTo>
                <a:lnTo>
                  <a:pt x="4132" y="1786"/>
                </a:lnTo>
                <a:lnTo>
                  <a:pt x="4102" y="1766"/>
                </a:lnTo>
                <a:lnTo>
                  <a:pt x="4072" y="1748"/>
                </a:lnTo>
                <a:lnTo>
                  <a:pt x="4043" y="1731"/>
                </a:lnTo>
                <a:lnTo>
                  <a:pt x="4015" y="1717"/>
                </a:lnTo>
                <a:lnTo>
                  <a:pt x="3986" y="1704"/>
                </a:lnTo>
                <a:lnTo>
                  <a:pt x="3960" y="1693"/>
                </a:lnTo>
                <a:lnTo>
                  <a:pt x="3934" y="1682"/>
                </a:lnTo>
                <a:lnTo>
                  <a:pt x="3908" y="1673"/>
                </a:lnTo>
                <a:lnTo>
                  <a:pt x="3883" y="1667"/>
                </a:lnTo>
                <a:lnTo>
                  <a:pt x="3858" y="1662"/>
                </a:lnTo>
                <a:lnTo>
                  <a:pt x="3835" y="1657"/>
                </a:lnTo>
                <a:lnTo>
                  <a:pt x="3812" y="1654"/>
                </a:lnTo>
                <a:lnTo>
                  <a:pt x="3789" y="1652"/>
                </a:lnTo>
                <a:lnTo>
                  <a:pt x="3768" y="1650"/>
                </a:lnTo>
                <a:lnTo>
                  <a:pt x="3747" y="1650"/>
                </a:lnTo>
                <a:lnTo>
                  <a:pt x="3727" y="1652"/>
                </a:lnTo>
                <a:lnTo>
                  <a:pt x="3707" y="1654"/>
                </a:lnTo>
                <a:lnTo>
                  <a:pt x="3688" y="1657"/>
                </a:lnTo>
                <a:lnTo>
                  <a:pt x="3670" y="1659"/>
                </a:lnTo>
                <a:lnTo>
                  <a:pt x="3652" y="1665"/>
                </a:lnTo>
                <a:lnTo>
                  <a:pt x="3619" y="1673"/>
                </a:lnTo>
                <a:lnTo>
                  <a:pt x="3590" y="1686"/>
                </a:lnTo>
                <a:lnTo>
                  <a:pt x="3563" y="1699"/>
                </a:lnTo>
                <a:lnTo>
                  <a:pt x="3539" y="1713"/>
                </a:lnTo>
                <a:lnTo>
                  <a:pt x="3518" y="1727"/>
                </a:lnTo>
                <a:lnTo>
                  <a:pt x="3500" y="1741"/>
                </a:lnTo>
                <a:lnTo>
                  <a:pt x="3466" y="1769"/>
                </a:lnTo>
                <a:lnTo>
                  <a:pt x="3444" y="1785"/>
                </a:lnTo>
                <a:lnTo>
                  <a:pt x="3419" y="1801"/>
                </a:lnTo>
                <a:lnTo>
                  <a:pt x="3393" y="1819"/>
                </a:lnTo>
                <a:lnTo>
                  <a:pt x="3363" y="1837"/>
                </a:lnTo>
                <a:lnTo>
                  <a:pt x="3331" y="1855"/>
                </a:lnTo>
                <a:lnTo>
                  <a:pt x="3295" y="1873"/>
                </a:lnTo>
                <a:lnTo>
                  <a:pt x="3257" y="1892"/>
                </a:lnTo>
                <a:lnTo>
                  <a:pt x="3216" y="1910"/>
                </a:lnTo>
                <a:lnTo>
                  <a:pt x="3171" y="1927"/>
                </a:lnTo>
                <a:lnTo>
                  <a:pt x="3124" y="1945"/>
                </a:lnTo>
                <a:lnTo>
                  <a:pt x="3073" y="1960"/>
                </a:lnTo>
                <a:lnTo>
                  <a:pt x="3018" y="1976"/>
                </a:lnTo>
                <a:lnTo>
                  <a:pt x="2960" y="1990"/>
                </a:lnTo>
                <a:lnTo>
                  <a:pt x="2900" y="2002"/>
                </a:lnTo>
                <a:close/>
                <a:moveTo>
                  <a:pt x="404" y="1054"/>
                </a:moveTo>
                <a:lnTo>
                  <a:pt x="404" y="1054"/>
                </a:lnTo>
                <a:lnTo>
                  <a:pt x="369" y="1047"/>
                </a:lnTo>
                <a:lnTo>
                  <a:pt x="336" y="1042"/>
                </a:lnTo>
                <a:lnTo>
                  <a:pt x="304" y="1039"/>
                </a:lnTo>
                <a:lnTo>
                  <a:pt x="275" y="1039"/>
                </a:lnTo>
                <a:lnTo>
                  <a:pt x="245" y="1040"/>
                </a:lnTo>
                <a:lnTo>
                  <a:pt x="218" y="1044"/>
                </a:lnTo>
                <a:lnTo>
                  <a:pt x="191" y="1049"/>
                </a:lnTo>
                <a:lnTo>
                  <a:pt x="167" y="1056"/>
                </a:lnTo>
                <a:lnTo>
                  <a:pt x="145" y="1065"/>
                </a:lnTo>
                <a:lnTo>
                  <a:pt x="124" y="1077"/>
                </a:lnTo>
                <a:lnTo>
                  <a:pt x="104" y="1088"/>
                </a:lnTo>
                <a:lnTo>
                  <a:pt x="87" y="1101"/>
                </a:lnTo>
                <a:lnTo>
                  <a:pt x="70" y="1117"/>
                </a:lnTo>
                <a:lnTo>
                  <a:pt x="56" y="1132"/>
                </a:lnTo>
                <a:lnTo>
                  <a:pt x="42" y="1149"/>
                </a:lnTo>
                <a:lnTo>
                  <a:pt x="32" y="1167"/>
                </a:lnTo>
                <a:lnTo>
                  <a:pt x="21" y="1184"/>
                </a:lnTo>
                <a:lnTo>
                  <a:pt x="14" y="1204"/>
                </a:lnTo>
                <a:lnTo>
                  <a:pt x="7" y="1223"/>
                </a:lnTo>
                <a:lnTo>
                  <a:pt x="3" y="1243"/>
                </a:lnTo>
                <a:lnTo>
                  <a:pt x="1" y="1264"/>
                </a:lnTo>
                <a:lnTo>
                  <a:pt x="0" y="1284"/>
                </a:lnTo>
                <a:lnTo>
                  <a:pt x="1" y="1305"/>
                </a:lnTo>
                <a:lnTo>
                  <a:pt x="3" y="1325"/>
                </a:lnTo>
                <a:lnTo>
                  <a:pt x="8" y="1346"/>
                </a:lnTo>
                <a:lnTo>
                  <a:pt x="15" y="1365"/>
                </a:lnTo>
                <a:lnTo>
                  <a:pt x="23" y="1385"/>
                </a:lnTo>
                <a:lnTo>
                  <a:pt x="33" y="1405"/>
                </a:lnTo>
                <a:lnTo>
                  <a:pt x="46" y="1424"/>
                </a:lnTo>
                <a:lnTo>
                  <a:pt x="60" y="1442"/>
                </a:lnTo>
                <a:lnTo>
                  <a:pt x="76" y="1458"/>
                </a:lnTo>
                <a:lnTo>
                  <a:pt x="94" y="1475"/>
                </a:lnTo>
                <a:lnTo>
                  <a:pt x="78" y="1506"/>
                </a:lnTo>
                <a:lnTo>
                  <a:pt x="64" y="1535"/>
                </a:lnTo>
                <a:lnTo>
                  <a:pt x="51" y="1565"/>
                </a:lnTo>
                <a:lnTo>
                  <a:pt x="40" y="1593"/>
                </a:lnTo>
                <a:lnTo>
                  <a:pt x="33" y="1621"/>
                </a:lnTo>
                <a:lnTo>
                  <a:pt x="26" y="1649"/>
                </a:lnTo>
                <a:lnTo>
                  <a:pt x="21" y="1675"/>
                </a:lnTo>
                <a:lnTo>
                  <a:pt x="17" y="1702"/>
                </a:lnTo>
                <a:lnTo>
                  <a:pt x="16" y="1727"/>
                </a:lnTo>
                <a:lnTo>
                  <a:pt x="16" y="1752"/>
                </a:lnTo>
                <a:lnTo>
                  <a:pt x="17" y="1775"/>
                </a:lnTo>
                <a:lnTo>
                  <a:pt x="20" y="1799"/>
                </a:lnTo>
                <a:lnTo>
                  <a:pt x="25" y="1821"/>
                </a:lnTo>
                <a:lnTo>
                  <a:pt x="30" y="1842"/>
                </a:lnTo>
                <a:lnTo>
                  <a:pt x="38" y="1864"/>
                </a:lnTo>
                <a:lnTo>
                  <a:pt x="46" y="1883"/>
                </a:lnTo>
                <a:lnTo>
                  <a:pt x="55" y="1904"/>
                </a:lnTo>
                <a:lnTo>
                  <a:pt x="65" y="1922"/>
                </a:lnTo>
                <a:lnTo>
                  <a:pt x="76" y="1940"/>
                </a:lnTo>
                <a:lnTo>
                  <a:pt x="89" y="1958"/>
                </a:lnTo>
                <a:lnTo>
                  <a:pt x="103" y="1973"/>
                </a:lnTo>
                <a:lnTo>
                  <a:pt x="117" y="1988"/>
                </a:lnTo>
                <a:lnTo>
                  <a:pt x="133" y="2004"/>
                </a:lnTo>
                <a:lnTo>
                  <a:pt x="148" y="2018"/>
                </a:lnTo>
                <a:lnTo>
                  <a:pt x="165" y="2031"/>
                </a:lnTo>
                <a:lnTo>
                  <a:pt x="183" y="2042"/>
                </a:lnTo>
                <a:lnTo>
                  <a:pt x="200" y="2054"/>
                </a:lnTo>
                <a:lnTo>
                  <a:pt x="218" y="2064"/>
                </a:lnTo>
                <a:lnTo>
                  <a:pt x="238" y="2074"/>
                </a:lnTo>
                <a:lnTo>
                  <a:pt x="258" y="2083"/>
                </a:lnTo>
                <a:lnTo>
                  <a:pt x="277" y="2091"/>
                </a:lnTo>
                <a:lnTo>
                  <a:pt x="298" y="2097"/>
                </a:lnTo>
                <a:lnTo>
                  <a:pt x="318" y="2104"/>
                </a:lnTo>
                <a:lnTo>
                  <a:pt x="339" y="2109"/>
                </a:lnTo>
                <a:lnTo>
                  <a:pt x="359" y="2113"/>
                </a:lnTo>
                <a:lnTo>
                  <a:pt x="380" y="2115"/>
                </a:lnTo>
                <a:lnTo>
                  <a:pt x="401" y="2118"/>
                </a:lnTo>
                <a:lnTo>
                  <a:pt x="422" y="2119"/>
                </a:lnTo>
                <a:lnTo>
                  <a:pt x="442" y="2119"/>
                </a:lnTo>
                <a:lnTo>
                  <a:pt x="464" y="2119"/>
                </a:lnTo>
                <a:lnTo>
                  <a:pt x="485" y="2116"/>
                </a:lnTo>
                <a:lnTo>
                  <a:pt x="504" y="2114"/>
                </a:lnTo>
                <a:lnTo>
                  <a:pt x="524" y="2110"/>
                </a:lnTo>
                <a:lnTo>
                  <a:pt x="543" y="2105"/>
                </a:lnTo>
                <a:lnTo>
                  <a:pt x="563" y="2100"/>
                </a:lnTo>
                <a:lnTo>
                  <a:pt x="582" y="2093"/>
                </a:lnTo>
                <a:lnTo>
                  <a:pt x="600" y="2084"/>
                </a:lnTo>
                <a:lnTo>
                  <a:pt x="618" y="2075"/>
                </a:lnTo>
                <a:lnTo>
                  <a:pt x="634" y="2066"/>
                </a:lnTo>
                <a:lnTo>
                  <a:pt x="651" y="2055"/>
                </a:lnTo>
                <a:lnTo>
                  <a:pt x="666" y="2042"/>
                </a:lnTo>
                <a:lnTo>
                  <a:pt x="682" y="2029"/>
                </a:lnTo>
                <a:lnTo>
                  <a:pt x="696" y="2015"/>
                </a:lnTo>
                <a:lnTo>
                  <a:pt x="709" y="2000"/>
                </a:lnTo>
                <a:lnTo>
                  <a:pt x="720" y="1983"/>
                </a:lnTo>
                <a:lnTo>
                  <a:pt x="732" y="1965"/>
                </a:lnTo>
                <a:lnTo>
                  <a:pt x="741" y="1946"/>
                </a:lnTo>
                <a:lnTo>
                  <a:pt x="750" y="1926"/>
                </a:lnTo>
                <a:lnTo>
                  <a:pt x="757" y="1905"/>
                </a:lnTo>
                <a:lnTo>
                  <a:pt x="764" y="1882"/>
                </a:lnTo>
                <a:lnTo>
                  <a:pt x="769" y="1859"/>
                </a:lnTo>
                <a:lnTo>
                  <a:pt x="771" y="1833"/>
                </a:lnTo>
                <a:lnTo>
                  <a:pt x="774" y="1808"/>
                </a:lnTo>
                <a:lnTo>
                  <a:pt x="774" y="1781"/>
                </a:lnTo>
                <a:lnTo>
                  <a:pt x="765" y="1752"/>
                </a:lnTo>
                <a:lnTo>
                  <a:pt x="753" y="1726"/>
                </a:lnTo>
                <a:lnTo>
                  <a:pt x="742" y="1703"/>
                </a:lnTo>
                <a:lnTo>
                  <a:pt x="729" y="1684"/>
                </a:lnTo>
                <a:lnTo>
                  <a:pt x="716" y="1665"/>
                </a:lnTo>
                <a:lnTo>
                  <a:pt x="702" y="1649"/>
                </a:lnTo>
                <a:lnTo>
                  <a:pt x="687" y="1636"/>
                </a:lnTo>
                <a:lnTo>
                  <a:pt x="673" y="1625"/>
                </a:lnTo>
                <a:lnTo>
                  <a:pt x="657" y="1616"/>
                </a:lnTo>
                <a:lnTo>
                  <a:pt x="642" y="1609"/>
                </a:lnTo>
                <a:lnTo>
                  <a:pt x="625" y="1604"/>
                </a:lnTo>
                <a:lnTo>
                  <a:pt x="610" y="1601"/>
                </a:lnTo>
                <a:lnTo>
                  <a:pt x="595" y="1599"/>
                </a:lnTo>
                <a:lnTo>
                  <a:pt x="578" y="1599"/>
                </a:lnTo>
                <a:lnTo>
                  <a:pt x="563" y="1601"/>
                </a:lnTo>
                <a:lnTo>
                  <a:pt x="549" y="1604"/>
                </a:lnTo>
                <a:lnTo>
                  <a:pt x="533" y="1608"/>
                </a:lnTo>
                <a:lnTo>
                  <a:pt x="519" y="1615"/>
                </a:lnTo>
                <a:lnTo>
                  <a:pt x="505" y="1621"/>
                </a:lnTo>
                <a:lnTo>
                  <a:pt x="492" y="1630"/>
                </a:lnTo>
                <a:lnTo>
                  <a:pt x="479" y="1639"/>
                </a:lnTo>
                <a:lnTo>
                  <a:pt x="468" y="1649"/>
                </a:lnTo>
                <a:lnTo>
                  <a:pt x="458" y="1659"/>
                </a:lnTo>
                <a:lnTo>
                  <a:pt x="449" y="1671"/>
                </a:lnTo>
                <a:lnTo>
                  <a:pt x="440" y="1684"/>
                </a:lnTo>
                <a:lnTo>
                  <a:pt x="433" y="1697"/>
                </a:lnTo>
                <a:lnTo>
                  <a:pt x="427" y="1711"/>
                </a:lnTo>
                <a:lnTo>
                  <a:pt x="423" y="1725"/>
                </a:lnTo>
                <a:lnTo>
                  <a:pt x="419" y="1739"/>
                </a:lnTo>
                <a:lnTo>
                  <a:pt x="418" y="1753"/>
                </a:lnTo>
                <a:lnTo>
                  <a:pt x="419" y="1768"/>
                </a:lnTo>
                <a:lnTo>
                  <a:pt x="421" y="1782"/>
                </a:lnTo>
                <a:lnTo>
                  <a:pt x="415" y="1769"/>
                </a:lnTo>
                <a:lnTo>
                  <a:pt x="412" y="1757"/>
                </a:lnTo>
                <a:lnTo>
                  <a:pt x="409" y="1744"/>
                </a:lnTo>
                <a:lnTo>
                  <a:pt x="407" y="1731"/>
                </a:lnTo>
                <a:lnTo>
                  <a:pt x="405" y="1720"/>
                </a:lnTo>
                <a:lnTo>
                  <a:pt x="405" y="1708"/>
                </a:lnTo>
                <a:lnTo>
                  <a:pt x="405" y="1697"/>
                </a:lnTo>
                <a:lnTo>
                  <a:pt x="408" y="1685"/>
                </a:lnTo>
                <a:lnTo>
                  <a:pt x="409" y="1675"/>
                </a:lnTo>
                <a:lnTo>
                  <a:pt x="412" y="1665"/>
                </a:lnTo>
                <a:lnTo>
                  <a:pt x="415" y="1654"/>
                </a:lnTo>
                <a:lnTo>
                  <a:pt x="421" y="1644"/>
                </a:lnTo>
                <a:lnTo>
                  <a:pt x="431" y="1625"/>
                </a:lnTo>
                <a:lnTo>
                  <a:pt x="444" y="1607"/>
                </a:lnTo>
                <a:lnTo>
                  <a:pt x="459" y="1592"/>
                </a:lnTo>
                <a:lnTo>
                  <a:pt x="477" y="1576"/>
                </a:lnTo>
                <a:lnTo>
                  <a:pt x="497" y="1562"/>
                </a:lnTo>
                <a:lnTo>
                  <a:pt x="518" y="1548"/>
                </a:lnTo>
                <a:lnTo>
                  <a:pt x="541" y="1536"/>
                </a:lnTo>
                <a:lnTo>
                  <a:pt x="565" y="1526"/>
                </a:lnTo>
                <a:lnTo>
                  <a:pt x="591" y="1517"/>
                </a:lnTo>
                <a:lnTo>
                  <a:pt x="618" y="1508"/>
                </a:lnTo>
                <a:lnTo>
                  <a:pt x="645" y="1502"/>
                </a:lnTo>
                <a:lnTo>
                  <a:pt x="673" y="1496"/>
                </a:lnTo>
                <a:lnTo>
                  <a:pt x="701" y="1492"/>
                </a:lnTo>
                <a:lnTo>
                  <a:pt x="729" y="1488"/>
                </a:lnTo>
                <a:lnTo>
                  <a:pt x="757" y="1485"/>
                </a:lnTo>
                <a:lnTo>
                  <a:pt x="785" y="1485"/>
                </a:lnTo>
                <a:lnTo>
                  <a:pt x="812" y="1485"/>
                </a:lnTo>
                <a:lnTo>
                  <a:pt x="839" y="1487"/>
                </a:lnTo>
                <a:lnTo>
                  <a:pt x="865" y="1489"/>
                </a:lnTo>
                <a:lnTo>
                  <a:pt x="889" y="1493"/>
                </a:lnTo>
                <a:lnTo>
                  <a:pt x="913" y="1498"/>
                </a:lnTo>
                <a:lnTo>
                  <a:pt x="935" y="1504"/>
                </a:lnTo>
                <a:lnTo>
                  <a:pt x="956" y="1511"/>
                </a:lnTo>
                <a:lnTo>
                  <a:pt x="974" y="1520"/>
                </a:lnTo>
                <a:lnTo>
                  <a:pt x="990" y="1530"/>
                </a:lnTo>
                <a:lnTo>
                  <a:pt x="1004" y="1540"/>
                </a:lnTo>
                <a:lnTo>
                  <a:pt x="1027" y="1551"/>
                </a:lnTo>
                <a:lnTo>
                  <a:pt x="1049" y="1561"/>
                </a:lnTo>
                <a:lnTo>
                  <a:pt x="1072" y="1574"/>
                </a:lnTo>
                <a:lnTo>
                  <a:pt x="1093" y="1585"/>
                </a:lnTo>
                <a:lnTo>
                  <a:pt x="1114" y="1598"/>
                </a:lnTo>
                <a:lnTo>
                  <a:pt x="1135" y="1612"/>
                </a:lnTo>
                <a:lnTo>
                  <a:pt x="1174" y="1641"/>
                </a:lnTo>
                <a:lnTo>
                  <a:pt x="1212" y="1672"/>
                </a:lnTo>
                <a:lnTo>
                  <a:pt x="1247" y="1704"/>
                </a:lnTo>
                <a:lnTo>
                  <a:pt x="1281" y="1736"/>
                </a:lnTo>
                <a:lnTo>
                  <a:pt x="1313" y="1768"/>
                </a:lnTo>
                <a:lnTo>
                  <a:pt x="1342" y="1799"/>
                </a:lnTo>
                <a:lnTo>
                  <a:pt x="1369" y="1828"/>
                </a:lnTo>
                <a:lnTo>
                  <a:pt x="1416" y="1881"/>
                </a:lnTo>
                <a:lnTo>
                  <a:pt x="1437" y="1903"/>
                </a:lnTo>
                <a:lnTo>
                  <a:pt x="1455" y="1922"/>
                </a:lnTo>
                <a:lnTo>
                  <a:pt x="1470" y="1935"/>
                </a:lnTo>
                <a:lnTo>
                  <a:pt x="1477" y="1940"/>
                </a:lnTo>
                <a:lnTo>
                  <a:pt x="1483" y="1944"/>
                </a:lnTo>
                <a:lnTo>
                  <a:pt x="1503" y="1965"/>
                </a:lnTo>
                <a:lnTo>
                  <a:pt x="1526" y="1985"/>
                </a:lnTo>
                <a:lnTo>
                  <a:pt x="1551" y="2004"/>
                </a:lnTo>
                <a:lnTo>
                  <a:pt x="1576" y="2020"/>
                </a:lnTo>
                <a:lnTo>
                  <a:pt x="1603" y="2036"/>
                </a:lnTo>
                <a:lnTo>
                  <a:pt x="1633" y="2050"/>
                </a:lnTo>
                <a:lnTo>
                  <a:pt x="1662" y="2063"/>
                </a:lnTo>
                <a:lnTo>
                  <a:pt x="1693" y="2074"/>
                </a:lnTo>
                <a:lnTo>
                  <a:pt x="1725" y="2084"/>
                </a:lnTo>
                <a:lnTo>
                  <a:pt x="1757" y="2093"/>
                </a:lnTo>
                <a:lnTo>
                  <a:pt x="1790" y="2101"/>
                </a:lnTo>
                <a:lnTo>
                  <a:pt x="1825" y="2109"/>
                </a:lnTo>
                <a:lnTo>
                  <a:pt x="1858" y="2114"/>
                </a:lnTo>
                <a:lnTo>
                  <a:pt x="1893" y="2119"/>
                </a:lnTo>
                <a:lnTo>
                  <a:pt x="1927" y="2123"/>
                </a:lnTo>
                <a:lnTo>
                  <a:pt x="1960" y="2127"/>
                </a:lnTo>
                <a:lnTo>
                  <a:pt x="2029" y="2130"/>
                </a:lnTo>
                <a:lnTo>
                  <a:pt x="2095" y="2132"/>
                </a:lnTo>
                <a:lnTo>
                  <a:pt x="2159" y="2130"/>
                </a:lnTo>
                <a:lnTo>
                  <a:pt x="2218" y="2128"/>
                </a:lnTo>
                <a:lnTo>
                  <a:pt x="2273" y="2123"/>
                </a:lnTo>
                <a:lnTo>
                  <a:pt x="2320" y="2118"/>
                </a:lnTo>
                <a:lnTo>
                  <a:pt x="2361" y="2110"/>
                </a:lnTo>
                <a:lnTo>
                  <a:pt x="2394" y="2104"/>
                </a:lnTo>
                <a:lnTo>
                  <a:pt x="2325" y="2098"/>
                </a:lnTo>
                <a:lnTo>
                  <a:pt x="2259" y="2092"/>
                </a:lnTo>
                <a:lnTo>
                  <a:pt x="2196" y="2083"/>
                </a:lnTo>
                <a:lnTo>
                  <a:pt x="2136" y="2073"/>
                </a:lnTo>
                <a:lnTo>
                  <a:pt x="2079" y="2060"/>
                </a:lnTo>
                <a:lnTo>
                  <a:pt x="2026" y="2046"/>
                </a:lnTo>
                <a:lnTo>
                  <a:pt x="1974" y="2029"/>
                </a:lnTo>
                <a:lnTo>
                  <a:pt x="1927" y="2013"/>
                </a:lnTo>
                <a:lnTo>
                  <a:pt x="1881" y="1995"/>
                </a:lnTo>
                <a:lnTo>
                  <a:pt x="1839" y="1974"/>
                </a:lnTo>
                <a:lnTo>
                  <a:pt x="1799" y="1954"/>
                </a:lnTo>
                <a:lnTo>
                  <a:pt x="1761" y="1932"/>
                </a:lnTo>
                <a:lnTo>
                  <a:pt x="1726" y="1910"/>
                </a:lnTo>
                <a:lnTo>
                  <a:pt x="1693" y="1886"/>
                </a:lnTo>
                <a:lnTo>
                  <a:pt x="1662" y="1863"/>
                </a:lnTo>
                <a:lnTo>
                  <a:pt x="1634" y="1839"/>
                </a:lnTo>
                <a:lnTo>
                  <a:pt x="1607" y="1813"/>
                </a:lnTo>
                <a:lnTo>
                  <a:pt x="1583" y="1787"/>
                </a:lnTo>
                <a:lnTo>
                  <a:pt x="1560" y="1763"/>
                </a:lnTo>
                <a:lnTo>
                  <a:pt x="1538" y="1737"/>
                </a:lnTo>
                <a:lnTo>
                  <a:pt x="1519" y="1712"/>
                </a:lnTo>
                <a:lnTo>
                  <a:pt x="1501" y="1686"/>
                </a:lnTo>
                <a:lnTo>
                  <a:pt x="1484" y="1661"/>
                </a:lnTo>
                <a:lnTo>
                  <a:pt x="1469" y="1636"/>
                </a:lnTo>
                <a:lnTo>
                  <a:pt x="1456" y="1612"/>
                </a:lnTo>
                <a:lnTo>
                  <a:pt x="1443" y="1589"/>
                </a:lnTo>
                <a:lnTo>
                  <a:pt x="1422" y="1544"/>
                </a:lnTo>
                <a:lnTo>
                  <a:pt x="1402" y="1502"/>
                </a:lnTo>
                <a:lnTo>
                  <a:pt x="1387" y="1466"/>
                </a:lnTo>
                <a:lnTo>
                  <a:pt x="1364" y="1469"/>
                </a:lnTo>
                <a:lnTo>
                  <a:pt x="1341" y="1470"/>
                </a:lnTo>
                <a:lnTo>
                  <a:pt x="1318" y="1471"/>
                </a:lnTo>
                <a:lnTo>
                  <a:pt x="1297" y="1471"/>
                </a:lnTo>
                <a:lnTo>
                  <a:pt x="1277" y="1470"/>
                </a:lnTo>
                <a:lnTo>
                  <a:pt x="1259" y="1469"/>
                </a:lnTo>
                <a:lnTo>
                  <a:pt x="1241" y="1466"/>
                </a:lnTo>
                <a:lnTo>
                  <a:pt x="1224" y="1462"/>
                </a:lnTo>
                <a:lnTo>
                  <a:pt x="1208" y="1458"/>
                </a:lnTo>
                <a:lnTo>
                  <a:pt x="1194" y="1453"/>
                </a:lnTo>
                <a:lnTo>
                  <a:pt x="1180" y="1447"/>
                </a:lnTo>
                <a:lnTo>
                  <a:pt x="1167" y="1440"/>
                </a:lnTo>
                <a:lnTo>
                  <a:pt x="1154" y="1434"/>
                </a:lnTo>
                <a:lnTo>
                  <a:pt x="1142" y="1426"/>
                </a:lnTo>
                <a:lnTo>
                  <a:pt x="1132" y="1417"/>
                </a:lnTo>
                <a:lnTo>
                  <a:pt x="1123" y="1408"/>
                </a:lnTo>
                <a:lnTo>
                  <a:pt x="1114" y="1400"/>
                </a:lnTo>
                <a:lnTo>
                  <a:pt x="1107" y="1389"/>
                </a:lnTo>
                <a:lnTo>
                  <a:pt x="1099" y="1379"/>
                </a:lnTo>
                <a:lnTo>
                  <a:pt x="1094" y="1369"/>
                </a:lnTo>
                <a:lnTo>
                  <a:pt x="1087" y="1357"/>
                </a:lnTo>
                <a:lnTo>
                  <a:pt x="1084" y="1346"/>
                </a:lnTo>
                <a:lnTo>
                  <a:pt x="1078" y="1334"/>
                </a:lnTo>
                <a:lnTo>
                  <a:pt x="1076" y="1321"/>
                </a:lnTo>
                <a:lnTo>
                  <a:pt x="1071" y="1297"/>
                </a:lnTo>
                <a:lnTo>
                  <a:pt x="1070" y="1270"/>
                </a:lnTo>
                <a:lnTo>
                  <a:pt x="1070" y="1245"/>
                </a:lnTo>
                <a:lnTo>
                  <a:pt x="1073" y="1218"/>
                </a:lnTo>
                <a:lnTo>
                  <a:pt x="1078" y="1191"/>
                </a:lnTo>
                <a:lnTo>
                  <a:pt x="1086" y="1164"/>
                </a:lnTo>
                <a:lnTo>
                  <a:pt x="1095" y="1137"/>
                </a:lnTo>
                <a:lnTo>
                  <a:pt x="1107" y="1111"/>
                </a:lnTo>
                <a:lnTo>
                  <a:pt x="1119" y="1087"/>
                </a:lnTo>
                <a:lnTo>
                  <a:pt x="1134" y="1064"/>
                </a:lnTo>
                <a:lnTo>
                  <a:pt x="1149" y="1042"/>
                </a:lnTo>
                <a:lnTo>
                  <a:pt x="1166" y="1022"/>
                </a:lnTo>
                <a:lnTo>
                  <a:pt x="1183" y="1004"/>
                </a:lnTo>
                <a:lnTo>
                  <a:pt x="1203" y="987"/>
                </a:lnTo>
                <a:lnTo>
                  <a:pt x="1223" y="973"/>
                </a:lnTo>
                <a:lnTo>
                  <a:pt x="1244" y="963"/>
                </a:lnTo>
                <a:lnTo>
                  <a:pt x="1254" y="958"/>
                </a:lnTo>
                <a:lnTo>
                  <a:pt x="1264" y="955"/>
                </a:lnTo>
                <a:lnTo>
                  <a:pt x="1274" y="951"/>
                </a:lnTo>
                <a:lnTo>
                  <a:pt x="1286" y="950"/>
                </a:lnTo>
                <a:lnTo>
                  <a:pt x="1296" y="949"/>
                </a:lnTo>
                <a:lnTo>
                  <a:pt x="1308" y="949"/>
                </a:lnTo>
                <a:lnTo>
                  <a:pt x="1318" y="949"/>
                </a:lnTo>
                <a:lnTo>
                  <a:pt x="1329" y="951"/>
                </a:lnTo>
                <a:lnTo>
                  <a:pt x="1341" y="930"/>
                </a:lnTo>
                <a:lnTo>
                  <a:pt x="1352" y="909"/>
                </a:lnTo>
                <a:lnTo>
                  <a:pt x="1364" y="890"/>
                </a:lnTo>
                <a:lnTo>
                  <a:pt x="1377" y="872"/>
                </a:lnTo>
                <a:lnTo>
                  <a:pt x="1390" y="855"/>
                </a:lnTo>
                <a:lnTo>
                  <a:pt x="1402" y="840"/>
                </a:lnTo>
                <a:lnTo>
                  <a:pt x="1415" y="825"/>
                </a:lnTo>
                <a:lnTo>
                  <a:pt x="1428" y="811"/>
                </a:lnTo>
                <a:lnTo>
                  <a:pt x="1442" y="798"/>
                </a:lnTo>
                <a:lnTo>
                  <a:pt x="1455" y="785"/>
                </a:lnTo>
                <a:lnTo>
                  <a:pt x="1469" y="775"/>
                </a:lnTo>
                <a:lnTo>
                  <a:pt x="1483" y="765"/>
                </a:lnTo>
                <a:lnTo>
                  <a:pt x="1497" y="754"/>
                </a:lnTo>
                <a:lnTo>
                  <a:pt x="1511" y="745"/>
                </a:lnTo>
                <a:lnTo>
                  <a:pt x="1539" y="731"/>
                </a:lnTo>
                <a:lnTo>
                  <a:pt x="1569" y="720"/>
                </a:lnTo>
                <a:lnTo>
                  <a:pt x="1597" y="711"/>
                </a:lnTo>
                <a:lnTo>
                  <a:pt x="1626" y="704"/>
                </a:lnTo>
                <a:lnTo>
                  <a:pt x="1654" y="702"/>
                </a:lnTo>
                <a:lnTo>
                  <a:pt x="1684" y="701"/>
                </a:lnTo>
                <a:lnTo>
                  <a:pt x="1712" y="702"/>
                </a:lnTo>
                <a:lnTo>
                  <a:pt x="1740" y="706"/>
                </a:lnTo>
                <a:lnTo>
                  <a:pt x="1767" y="712"/>
                </a:lnTo>
                <a:lnTo>
                  <a:pt x="1794" y="718"/>
                </a:lnTo>
                <a:lnTo>
                  <a:pt x="1820" y="729"/>
                </a:lnTo>
                <a:lnTo>
                  <a:pt x="1845" y="739"/>
                </a:lnTo>
                <a:lnTo>
                  <a:pt x="1868" y="750"/>
                </a:lnTo>
                <a:lnTo>
                  <a:pt x="1891" y="763"/>
                </a:lnTo>
                <a:lnTo>
                  <a:pt x="1913" y="777"/>
                </a:lnTo>
                <a:lnTo>
                  <a:pt x="1932" y="791"/>
                </a:lnTo>
                <a:lnTo>
                  <a:pt x="1951" y="807"/>
                </a:lnTo>
                <a:lnTo>
                  <a:pt x="1968" y="823"/>
                </a:lnTo>
                <a:lnTo>
                  <a:pt x="1982" y="839"/>
                </a:lnTo>
                <a:lnTo>
                  <a:pt x="1995" y="855"/>
                </a:lnTo>
                <a:lnTo>
                  <a:pt x="2006" y="872"/>
                </a:lnTo>
                <a:lnTo>
                  <a:pt x="2015" y="887"/>
                </a:lnTo>
                <a:lnTo>
                  <a:pt x="2022" y="903"/>
                </a:lnTo>
                <a:lnTo>
                  <a:pt x="2027" y="918"/>
                </a:lnTo>
                <a:lnTo>
                  <a:pt x="2028" y="932"/>
                </a:lnTo>
                <a:lnTo>
                  <a:pt x="2059" y="922"/>
                </a:lnTo>
                <a:lnTo>
                  <a:pt x="2088" y="914"/>
                </a:lnTo>
                <a:lnTo>
                  <a:pt x="2119" y="909"/>
                </a:lnTo>
                <a:lnTo>
                  <a:pt x="2147" y="907"/>
                </a:lnTo>
                <a:lnTo>
                  <a:pt x="2177" y="907"/>
                </a:lnTo>
                <a:lnTo>
                  <a:pt x="2205" y="909"/>
                </a:lnTo>
                <a:lnTo>
                  <a:pt x="2232" y="913"/>
                </a:lnTo>
                <a:lnTo>
                  <a:pt x="2259" y="921"/>
                </a:lnTo>
                <a:lnTo>
                  <a:pt x="2284" y="928"/>
                </a:lnTo>
                <a:lnTo>
                  <a:pt x="2309" y="940"/>
                </a:lnTo>
                <a:lnTo>
                  <a:pt x="2333" y="951"/>
                </a:lnTo>
                <a:lnTo>
                  <a:pt x="2356" y="966"/>
                </a:lnTo>
                <a:lnTo>
                  <a:pt x="2379" y="981"/>
                </a:lnTo>
                <a:lnTo>
                  <a:pt x="2401" y="996"/>
                </a:lnTo>
                <a:lnTo>
                  <a:pt x="2421" y="1014"/>
                </a:lnTo>
                <a:lnTo>
                  <a:pt x="2440" y="1033"/>
                </a:lnTo>
                <a:lnTo>
                  <a:pt x="2458" y="1053"/>
                </a:lnTo>
                <a:lnTo>
                  <a:pt x="2475" y="1072"/>
                </a:lnTo>
                <a:lnTo>
                  <a:pt x="2490" y="1094"/>
                </a:lnTo>
                <a:lnTo>
                  <a:pt x="2506" y="1114"/>
                </a:lnTo>
                <a:lnTo>
                  <a:pt x="2518" y="1136"/>
                </a:lnTo>
                <a:lnTo>
                  <a:pt x="2531" y="1158"/>
                </a:lnTo>
                <a:lnTo>
                  <a:pt x="2541" y="1178"/>
                </a:lnTo>
                <a:lnTo>
                  <a:pt x="2550" y="1200"/>
                </a:lnTo>
                <a:lnTo>
                  <a:pt x="2558" y="1222"/>
                </a:lnTo>
                <a:lnTo>
                  <a:pt x="2564" y="1242"/>
                </a:lnTo>
                <a:lnTo>
                  <a:pt x="2568" y="1263"/>
                </a:lnTo>
                <a:lnTo>
                  <a:pt x="2572" y="1282"/>
                </a:lnTo>
                <a:lnTo>
                  <a:pt x="2573" y="1301"/>
                </a:lnTo>
                <a:lnTo>
                  <a:pt x="2572" y="1319"/>
                </a:lnTo>
                <a:lnTo>
                  <a:pt x="2571" y="1336"/>
                </a:lnTo>
                <a:lnTo>
                  <a:pt x="2567" y="1351"/>
                </a:lnTo>
                <a:lnTo>
                  <a:pt x="2557" y="1380"/>
                </a:lnTo>
                <a:lnTo>
                  <a:pt x="2548" y="1406"/>
                </a:lnTo>
                <a:lnTo>
                  <a:pt x="2538" y="1430"/>
                </a:lnTo>
                <a:lnTo>
                  <a:pt x="2527" y="1453"/>
                </a:lnTo>
                <a:lnTo>
                  <a:pt x="2517" y="1474"/>
                </a:lnTo>
                <a:lnTo>
                  <a:pt x="2507" y="1492"/>
                </a:lnTo>
                <a:lnTo>
                  <a:pt x="2497" y="1508"/>
                </a:lnTo>
                <a:lnTo>
                  <a:pt x="2488" y="1522"/>
                </a:lnTo>
                <a:lnTo>
                  <a:pt x="2479" y="1535"/>
                </a:lnTo>
                <a:lnTo>
                  <a:pt x="2468" y="1547"/>
                </a:lnTo>
                <a:lnTo>
                  <a:pt x="2452" y="1563"/>
                </a:lnTo>
                <a:lnTo>
                  <a:pt x="2438" y="1575"/>
                </a:lnTo>
                <a:lnTo>
                  <a:pt x="2426" y="1581"/>
                </a:lnTo>
                <a:lnTo>
                  <a:pt x="2447" y="1604"/>
                </a:lnTo>
                <a:lnTo>
                  <a:pt x="2470" y="1625"/>
                </a:lnTo>
                <a:lnTo>
                  <a:pt x="2494" y="1644"/>
                </a:lnTo>
                <a:lnTo>
                  <a:pt x="2520" y="1659"/>
                </a:lnTo>
                <a:lnTo>
                  <a:pt x="2547" y="1675"/>
                </a:lnTo>
                <a:lnTo>
                  <a:pt x="2576" y="1688"/>
                </a:lnTo>
                <a:lnTo>
                  <a:pt x="2605" y="1698"/>
                </a:lnTo>
                <a:lnTo>
                  <a:pt x="2637" y="1708"/>
                </a:lnTo>
                <a:lnTo>
                  <a:pt x="2668" y="1716"/>
                </a:lnTo>
                <a:lnTo>
                  <a:pt x="2701" y="1722"/>
                </a:lnTo>
                <a:lnTo>
                  <a:pt x="2733" y="1726"/>
                </a:lnTo>
                <a:lnTo>
                  <a:pt x="2767" y="1730"/>
                </a:lnTo>
                <a:lnTo>
                  <a:pt x="2800" y="1731"/>
                </a:lnTo>
                <a:lnTo>
                  <a:pt x="2833" y="1732"/>
                </a:lnTo>
                <a:lnTo>
                  <a:pt x="2867" y="1732"/>
                </a:lnTo>
                <a:lnTo>
                  <a:pt x="2900" y="1730"/>
                </a:lnTo>
                <a:lnTo>
                  <a:pt x="2900" y="1357"/>
                </a:lnTo>
                <a:lnTo>
                  <a:pt x="2888" y="1341"/>
                </a:lnTo>
                <a:lnTo>
                  <a:pt x="2878" y="1323"/>
                </a:lnTo>
                <a:lnTo>
                  <a:pt x="2870" y="1304"/>
                </a:lnTo>
                <a:lnTo>
                  <a:pt x="2863" y="1286"/>
                </a:lnTo>
                <a:lnTo>
                  <a:pt x="2858" y="1266"/>
                </a:lnTo>
                <a:lnTo>
                  <a:pt x="2854" y="1247"/>
                </a:lnTo>
                <a:lnTo>
                  <a:pt x="2851" y="1228"/>
                </a:lnTo>
                <a:lnTo>
                  <a:pt x="2850" y="1209"/>
                </a:lnTo>
                <a:lnTo>
                  <a:pt x="2851" y="1191"/>
                </a:lnTo>
                <a:lnTo>
                  <a:pt x="2852" y="1173"/>
                </a:lnTo>
                <a:lnTo>
                  <a:pt x="2855" y="1155"/>
                </a:lnTo>
                <a:lnTo>
                  <a:pt x="2860" y="1138"/>
                </a:lnTo>
                <a:lnTo>
                  <a:pt x="2865" y="1122"/>
                </a:lnTo>
                <a:lnTo>
                  <a:pt x="2873" y="1106"/>
                </a:lnTo>
                <a:lnTo>
                  <a:pt x="2881" y="1094"/>
                </a:lnTo>
                <a:lnTo>
                  <a:pt x="2891" y="1081"/>
                </a:lnTo>
                <a:lnTo>
                  <a:pt x="2900" y="1073"/>
                </a:lnTo>
                <a:lnTo>
                  <a:pt x="2900" y="469"/>
                </a:lnTo>
                <a:lnTo>
                  <a:pt x="2877" y="473"/>
                </a:lnTo>
                <a:lnTo>
                  <a:pt x="2856" y="477"/>
                </a:lnTo>
                <a:lnTo>
                  <a:pt x="2837" y="484"/>
                </a:lnTo>
                <a:lnTo>
                  <a:pt x="2829" y="488"/>
                </a:lnTo>
                <a:lnTo>
                  <a:pt x="2822" y="492"/>
                </a:lnTo>
                <a:lnTo>
                  <a:pt x="2810" y="473"/>
                </a:lnTo>
                <a:lnTo>
                  <a:pt x="2797" y="455"/>
                </a:lnTo>
                <a:lnTo>
                  <a:pt x="2785" y="439"/>
                </a:lnTo>
                <a:lnTo>
                  <a:pt x="2772" y="424"/>
                </a:lnTo>
                <a:lnTo>
                  <a:pt x="2759" y="413"/>
                </a:lnTo>
                <a:lnTo>
                  <a:pt x="2745" y="401"/>
                </a:lnTo>
                <a:lnTo>
                  <a:pt x="2732" y="391"/>
                </a:lnTo>
                <a:lnTo>
                  <a:pt x="2718" y="383"/>
                </a:lnTo>
                <a:lnTo>
                  <a:pt x="2705" y="377"/>
                </a:lnTo>
                <a:lnTo>
                  <a:pt x="2691" y="372"/>
                </a:lnTo>
                <a:lnTo>
                  <a:pt x="2677" y="368"/>
                </a:lnTo>
                <a:lnTo>
                  <a:pt x="2664" y="365"/>
                </a:lnTo>
                <a:lnTo>
                  <a:pt x="2652" y="364"/>
                </a:lnTo>
                <a:lnTo>
                  <a:pt x="2639" y="363"/>
                </a:lnTo>
                <a:lnTo>
                  <a:pt x="2626" y="364"/>
                </a:lnTo>
                <a:lnTo>
                  <a:pt x="2613" y="366"/>
                </a:lnTo>
                <a:lnTo>
                  <a:pt x="2600" y="369"/>
                </a:lnTo>
                <a:lnTo>
                  <a:pt x="2589" y="373"/>
                </a:lnTo>
                <a:lnTo>
                  <a:pt x="2577" y="378"/>
                </a:lnTo>
                <a:lnTo>
                  <a:pt x="2566" y="384"/>
                </a:lnTo>
                <a:lnTo>
                  <a:pt x="2556" y="391"/>
                </a:lnTo>
                <a:lnTo>
                  <a:pt x="2545" y="398"/>
                </a:lnTo>
                <a:lnTo>
                  <a:pt x="2536" y="406"/>
                </a:lnTo>
                <a:lnTo>
                  <a:pt x="2527" y="415"/>
                </a:lnTo>
                <a:lnTo>
                  <a:pt x="2518" y="424"/>
                </a:lnTo>
                <a:lnTo>
                  <a:pt x="2512" y="434"/>
                </a:lnTo>
                <a:lnTo>
                  <a:pt x="2504" y="445"/>
                </a:lnTo>
                <a:lnTo>
                  <a:pt x="2499" y="456"/>
                </a:lnTo>
                <a:lnTo>
                  <a:pt x="2493" y="466"/>
                </a:lnTo>
                <a:lnTo>
                  <a:pt x="2489" y="478"/>
                </a:lnTo>
                <a:lnTo>
                  <a:pt x="2485" y="491"/>
                </a:lnTo>
                <a:lnTo>
                  <a:pt x="2484" y="502"/>
                </a:lnTo>
                <a:lnTo>
                  <a:pt x="2480" y="541"/>
                </a:lnTo>
                <a:lnTo>
                  <a:pt x="2475" y="576"/>
                </a:lnTo>
                <a:lnTo>
                  <a:pt x="2468" y="610"/>
                </a:lnTo>
                <a:lnTo>
                  <a:pt x="2458" y="639"/>
                </a:lnTo>
                <a:lnTo>
                  <a:pt x="2447" y="666"/>
                </a:lnTo>
                <a:lnTo>
                  <a:pt x="2434" y="690"/>
                </a:lnTo>
                <a:lnTo>
                  <a:pt x="2420" y="712"/>
                </a:lnTo>
                <a:lnTo>
                  <a:pt x="2403" y="731"/>
                </a:lnTo>
                <a:lnTo>
                  <a:pt x="2385" y="749"/>
                </a:lnTo>
                <a:lnTo>
                  <a:pt x="2367" y="763"/>
                </a:lnTo>
                <a:lnTo>
                  <a:pt x="2347" y="776"/>
                </a:lnTo>
                <a:lnTo>
                  <a:pt x="2328" y="786"/>
                </a:lnTo>
                <a:lnTo>
                  <a:pt x="2306" y="795"/>
                </a:lnTo>
                <a:lnTo>
                  <a:pt x="2284" y="802"/>
                </a:lnTo>
                <a:lnTo>
                  <a:pt x="2262" y="806"/>
                </a:lnTo>
                <a:lnTo>
                  <a:pt x="2241" y="809"/>
                </a:lnTo>
                <a:lnTo>
                  <a:pt x="2219" y="811"/>
                </a:lnTo>
                <a:lnTo>
                  <a:pt x="2197" y="811"/>
                </a:lnTo>
                <a:lnTo>
                  <a:pt x="2175" y="808"/>
                </a:lnTo>
                <a:lnTo>
                  <a:pt x="2154" y="806"/>
                </a:lnTo>
                <a:lnTo>
                  <a:pt x="2133" y="800"/>
                </a:lnTo>
                <a:lnTo>
                  <a:pt x="2114" y="795"/>
                </a:lnTo>
                <a:lnTo>
                  <a:pt x="2095" y="789"/>
                </a:lnTo>
                <a:lnTo>
                  <a:pt x="2077" y="781"/>
                </a:lnTo>
                <a:lnTo>
                  <a:pt x="2060" y="772"/>
                </a:lnTo>
                <a:lnTo>
                  <a:pt x="2045" y="763"/>
                </a:lnTo>
                <a:lnTo>
                  <a:pt x="2031" y="753"/>
                </a:lnTo>
                <a:lnTo>
                  <a:pt x="2019" y="742"/>
                </a:lnTo>
                <a:lnTo>
                  <a:pt x="2009" y="730"/>
                </a:lnTo>
                <a:lnTo>
                  <a:pt x="2001" y="718"/>
                </a:lnTo>
                <a:lnTo>
                  <a:pt x="1995" y="707"/>
                </a:lnTo>
                <a:lnTo>
                  <a:pt x="1991" y="694"/>
                </a:lnTo>
                <a:lnTo>
                  <a:pt x="1985" y="671"/>
                </a:lnTo>
                <a:lnTo>
                  <a:pt x="1978" y="649"/>
                </a:lnTo>
                <a:lnTo>
                  <a:pt x="1974" y="630"/>
                </a:lnTo>
                <a:lnTo>
                  <a:pt x="1972" y="611"/>
                </a:lnTo>
                <a:lnTo>
                  <a:pt x="1971" y="592"/>
                </a:lnTo>
                <a:lnTo>
                  <a:pt x="1972" y="575"/>
                </a:lnTo>
                <a:lnTo>
                  <a:pt x="1973" y="560"/>
                </a:lnTo>
                <a:lnTo>
                  <a:pt x="1976" y="544"/>
                </a:lnTo>
                <a:lnTo>
                  <a:pt x="1978" y="530"/>
                </a:lnTo>
                <a:lnTo>
                  <a:pt x="1983" y="516"/>
                </a:lnTo>
                <a:lnTo>
                  <a:pt x="1989" y="505"/>
                </a:lnTo>
                <a:lnTo>
                  <a:pt x="1995" y="493"/>
                </a:lnTo>
                <a:lnTo>
                  <a:pt x="2001" y="482"/>
                </a:lnTo>
                <a:lnTo>
                  <a:pt x="2009" y="473"/>
                </a:lnTo>
                <a:lnTo>
                  <a:pt x="2018" y="464"/>
                </a:lnTo>
                <a:lnTo>
                  <a:pt x="2026" y="455"/>
                </a:lnTo>
                <a:lnTo>
                  <a:pt x="2035" y="448"/>
                </a:lnTo>
                <a:lnTo>
                  <a:pt x="2045" y="441"/>
                </a:lnTo>
                <a:lnTo>
                  <a:pt x="2064" y="429"/>
                </a:lnTo>
                <a:lnTo>
                  <a:pt x="2083" y="420"/>
                </a:lnTo>
                <a:lnTo>
                  <a:pt x="2102" y="414"/>
                </a:lnTo>
                <a:lnTo>
                  <a:pt x="2120" y="410"/>
                </a:lnTo>
                <a:lnTo>
                  <a:pt x="2137" y="407"/>
                </a:lnTo>
                <a:lnTo>
                  <a:pt x="2150" y="406"/>
                </a:lnTo>
                <a:lnTo>
                  <a:pt x="2161" y="406"/>
                </a:lnTo>
                <a:lnTo>
                  <a:pt x="2134" y="423"/>
                </a:lnTo>
                <a:lnTo>
                  <a:pt x="2111" y="438"/>
                </a:lnTo>
                <a:lnTo>
                  <a:pt x="2091" y="455"/>
                </a:lnTo>
                <a:lnTo>
                  <a:pt x="2073" y="471"/>
                </a:lnTo>
                <a:lnTo>
                  <a:pt x="2058" y="488"/>
                </a:lnTo>
                <a:lnTo>
                  <a:pt x="2046" y="505"/>
                </a:lnTo>
                <a:lnTo>
                  <a:pt x="2036" y="520"/>
                </a:lnTo>
                <a:lnTo>
                  <a:pt x="2028" y="537"/>
                </a:lnTo>
                <a:lnTo>
                  <a:pt x="2023" y="553"/>
                </a:lnTo>
                <a:lnTo>
                  <a:pt x="2019" y="569"/>
                </a:lnTo>
                <a:lnTo>
                  <a:pt x="2019" y="585"/>
                </a:lnTo>
                <a:lnTo>
                  <a:pt x="2019" y="601"/>
                </a:lnTo>
                <a:lnTo>
                  <a:pt x="2022" y="615"/>
                </a:lnTo>
                <a:lnTo>
                  <a:pt x="2027" y="630"/>
                </a:lnTo>
                <a:lnTo>
                  <a:pt x="2032" y="644"/>
                </a:lnTo>
                <a:lnTo>
                  <a:pt x="2040" y="657"/>
                </a:lnTo>
                <a:lnTo>
                  <a:pt x="2049" y="670"/>
                </a:lnTo>
                <a:lnTo>
                  <a:pt x="2059" y="681"/>
                </a:lnTo>
                <a:lnTo>
                  <a:pt x="2069" y="693"/>
                </a:lnTo>
                <a:lnTo>
                  <a:pt x="2082" y="704"/>
                </a:lnTo>
                <a:lnTo>
                  <a:pt x="2095" y="713"/>
                </a:lnTo>
                <a:lnTo>
                  <a:pt x="2109" y="722"/>
                </a:lnTo>
                <a:lnTo>
                  <a:pt x="2123" y="730"/>
                </a:lnTo>
                <a:lnTo>
                  <a:pt x="2138" y="736"/>
                </a:lnTo>
                <a:lnTo>
                  <a:pt x="2154" y="743"/>
                </a:lnTo>
                <a:lnTo>
                  <a:pt x="2169" y="747"/>
                </a:lnTo>
                <a:lnTo>
                  <a:pt x="2184" y="750"/>
                </a:lnTo>
                <a:lnTo>
                  <a:pt x="2201" y="752"/>
                </a:lnTo>
                <a:lnTo>
                  <a:pt x="2216" y="753"/>
                </a:lnTo>
                <a:lnTo>
                  <a:pt x="2232" y="752"/>
                </a:lnTo>
                <a:lnTo>
                  <a:pt x="2248" y="750"/>
                </a:lnTo>
                <a:lnTo>
                  <a:pt x="2262" y="747"/>
                </a:lnTo>
                <a:lnTo>
                  <a:pt x="2280" y="738"/>
                </a:lnTo>
                <a:lnTo>
                  <a:pt x="2298" y="729"/>
                </a:lnTo>
                <a:lnTo>
                  <a:pt x="2314" y="720"/>
                </a:lnTo>
                <a:lnTo>
                  <a:pt x="2328" y="710"/>
                </a:lnTo>
                <a:lnTo>
                  <a:pt x="2342" y="698"/>
                </a:lnTo>
                <a:lnTo>
                  <a:pt x="2355" y="686"/>
                </a:lnTo>
                <a:lnTo>
                  <a:pt x="2366" y="675"/>
                </a:lnTo>
                <a:lnTo>
                  <a:pt x="2376" y="663"/>
                </a:lnTo>
                <a:lnTo>
                  <a:pt x="2387" y="651"/>
                </a:lnTo>
                <a:lnTo>
                  <a:pt x="2396" y="638"/>
                </a:lnTo>
                <a:lnTo>
                  <a:pt x="2403" y="625"/>
                </a:lnTo>
                <a:lnTo>
                  <a:pt x="2411" y="611"/>
                </a:lnTo>
                <a:lnTo>
                  <a:pt x="2416" y="598"/>
                </a:lnTo>
                <a:lnTo>
                  <a:pt x="2421" y="584"/>
                </a:lnTo>
                <a:lnTo>
                  <a:pt x="2426" y="570"/>
                </a:lnTo>
                <a:lnTo>
                  <a:pt x="2430" y="556"/>
                </a:lnTo>
                <a:lnTo>
                  <a:pt x="2433" y="541"/>
                </a:lnTo>
                <a:lnTo>
                  <a:pt x="2434" y="526"/>
                </a:lnTo>
                <a:lnTo>
                  <a:pt x="2436" y="497"/>
                </a:lnTo>
                <a:lnTo>
                  <a:pt x="2435" y="466"/>
                </a:lnTo>
                <a:lnTo>
                  <a:pt x="2431" y="437"/>
                </a:lnTo>
                <a:lnTo>
                  <a:pt x="2425" y="407"/>
                </a:lnTo>
                <a:lnTo>
                  <a:pt x="2416" y="379"/>
                </a:lnTo>
                <a:lnTo>
                  <a:pt x="2404" y="351"/>
                </a:lnTo>
                <a:lnTo>
                  <a:pt x="2392" y="323"/>
                </a:lnTo>
                <a:lnTo>
                  <a:pt x="2376" y="297"/>
                </a:lnTo>
                <a:lnTo>
                  <a:pt x="2358" y="272"/>
                </a:lnTo>
                <a:lnTo>
                  <a:pt x="2340" y="249"/>
                </a:lnTo>
                <a:lnTo>
                  <a:pt x="2320" y="228"/>
                </a:lnTo>
                <a:lnTo>
                  <a:pt x="2298" y="209"/>
                </a:lnTo>
                <a:lnTo>
                  <a:pt x="2277" y="191"/>
                </a:lnTo>
                <a:lnTo>
                  <a:pt x="2252" y="177"/>
                </a:lnTo>
                <a:lnTo>
                  <a:pt x="2228" y="165"/>
                </a:lnTo>
                <a:lnTo>
                  <a:pt x="2216" y="160"/>
                </a:lnTo>
                <a:lnTo>
                  <a:pt x="2204" y="157"/>
                </a:lnTo>
                <a:lnTo>
                  <a:pt x="2191" y="153"/>
                </a:lnTo>
                <a:lnTo>
                  <a:pt x="2178" y="151"/>
                </a:lnTo>
                <a:lnTo>
                  <a:pt x="2164" y="149"/>
                </a:lnTo>
                <a:lnTo>
                  <a:pt x="2151" y="149"/>
                </a:lnTo>
                <a:lnTo>
                  <a:pt x="2138" y="149"/>
                </a:lnTo>
                <a:lnTo>
                  <a:pt x="2125" y="150"/>
                </a:lnTo>
                <a:lnTo>
                  <a:pt x="2111" y="153"/>
                </a:lnTo>
                <a:lnTo>
                  <a:pt x="2099" y="155"/>
                </a:lnTo>
                <a:lnTo>
                  <a:pt x="2086" y="159"/>
                </a:lnTo>
                <a:lnTo>
                  <a:pt x="2073" y="164"/>
                </a:lnTo>
                <a:lnTo>
                  <a:pt x="2060" y="171"/>
                </a:lnTo>
                <a:lnTo>
                  <a:pt x="2046" y="178"/>
                </a:lnTo>
                <a:lnTo>
                  <a:pt x="2033" y="187"/>
                </a:lnTo>
                <a:lnTo>
                  <a:pt x="2021" y="196"/>
                </a:lnTo>
                <a:lnTo>
                  <a:pt x="2001" y="177"/>
                </a:lnTo>
                <a:lnTo>
                  <a:pt x="1982" y="159"/>
                </a:lnTo>
                <a:lnTo>
                  <a:pt x="1962" y="142"/>
                </a:lnTo>
                <a:lnTo>
                  <a:pt x="1942" y="126"/>
                </a:lnTo>
                <a:lnTo>
                  <a:pt x="1923" y="110"/>
                </a:lnTo>
                <a:lnTo>
                  <a:pt x="1904" y="98"/>
                </a:lnTo>
                <a:lnTo>
                  <a:pt x="1885" y="85"/>
                </a:lnTo>
                <a:lnTo>
                  <a:pt x="1866" y="73"/>
                </a:lnTo>
                <a:lnTo>
                  <a:pt x="1846" y="62"/>
                </a:lnTo>
                <a:lnTo>
                  <a:pt x="1827" y="52"/>
                </a:lnTo>
                <a:lnTo>
                  <a:pt x="1809" y="44"/>
                </a:lnTo>
                <a:lnTo>
                  <a:pt x="1790" y="35"/>
                </a:lnTo>
                <a:lnTo>
                  <a:pt x="1754" y="22"/>
                </a:lnTo>
                <a:lnTo>
                  <a:pt x="1718" y="12"/>
                </a:lnTo>
                <a:lnTo>
                  <a:pt x="1684" y="5"/>
                </a:lnTo>
                <a:lnTo>
                  <a:pt x="1649" y="2"/>
                </a:lnTo>
                <a:lnTo>
                  <a:pt x="1616" y="0"/>
                </a:lnTo>
                <a:lnTo>
                  <a:pt x="1584" y="3"/>
                </a:lnTo>
                <a:lnTo>
                  <a:pt x="1552" y="7"/>
                </a:lnTo>
                <a:lnTo>
                  <a:pt x="1523" y="13"/>
                </a:lnTo>
                <a:lnTo>
                  <a:pt x="1493" y="21"/>
                </a:lnTo>
                <a:lnTo>
                  <a:pt x="1465" y="31"/>
                </a:lnTo>
                <a:lnTo>
                  <a:pt x="1439" y="43"/>
                </a:lnTo>
                <a:lnTo>
                  <a:pt x="1414" y="55"/>
                </a:lnTo>
                <a:lnTo>
                  <a:pt x="1391" y="69"/>
                </a:lnTo>
                <a:lnTo>
                  <a:pt x="1368" y="85"/>
                </a:lnTo>
                <a:lnTo>
                  <a:pt x="1347" y="101"/>
                </a:lnTo>
                <a:lnTo>
                  <a:pt x="1329" y="118"/>
                </a:lnTo>
                <a:lnTo>
                  <a:pt x="1311" y="135"/>
                </a:lnTo>
                <a:lnTo>
                  <a:pt x="1296" y="153"/>
                </a:lnTo>
                <a:lnTo>
                  <a:pt x="1282" y="171"/>
                </a:lnTo>
                <a:lnTo>
                  <a:pt x="1270" y="187"/>
                </a:lnTo>
                <a:lnTo>
                  <a:pt x="1260" y="204"/>
                </a:lnTo>
                <a:lnTo>
                  <a:pt x="1253" y="221"/>
                </a:lnTo>
                <a:lnTo>
                  <a:pt x="1247" y="236"/>
                </a:lnTo>
                <a:lnTo>
                  <a:pt x="1244" y="251"/>
                </a:lnTo>
                <a:lnTo>
                  <a:pt x="1242" y="264"/>
                </a:lnTo>
                <a:lnTo>
                  <a:pt x="1242" y="277"/>
                </a:lnTo>
                <a:lnTo>
                  <a:pt x="1209" y="263"/>
                </a:lnTo>
                <a:lnTo>
                  <a:pt x="1177" y="253"/>
                </a:lnTo>
                <a:lnTo>
                  <a:pt x="1145" y="245"/>
                </a:lnTo>
                <a:lnTo>
                  <a:pt x="1113" y="241"/>
                </a:lnTo>
                <a:lnTo>
                  <a:pt x="1084" y="238"/>
                </a:lnTo>
                <a:lnTo>
                  <a:pt x="1054" y="240"/>
                </a:lnTo>
                <a:lnTo>
                  <a:pt x="1026" y="242"/>
                </a:lnTo>
                <a:lnTo>
                  <a:pt x="998" y="247"/>
                </a:lnTo>
                <a:lnTo>
                  <a:pt x="972" y="255"/>
                </a:lnTo>
                <a:lnTo>
                  <a:pt x="947" y="264"/>
                </a:lnTo>
                <a:lnTo>
                  <a:pt x="922" y="274"/>
                </a:lnTo>
                <a:lnTo>
                  <a:pt x="901" y="286"/>
                </a:lnTo>
                <a:lnTo>
                  <a:pt x="879" y="300"/>
                </a:lnTo>
                <a:lnTo>
                  <a:pt x="858" y="314"/>
                </a:lnTo>
                <a:lnTo>
                  <a:pt x="839" y="329"/>
                </a:lnTo>
                <a:lnTo>
                  <a:pt x="821" y="346"/>
                </a:lnTo>
                <a:lnTo>
                  <a:pt x="805" y="364"/>
                </a:lnTo>
                <a:lnTo>
                  <a:pt x="789" y="382"/>
                </a:lnTo>
                <a:lnTo>
                  <a:pt x="775" y="400"/>
                </a:lnTo>
                <a:lnTo>
                  <a:pt x="764" y="418"/>
                </a:lnTo>
                <a:lnTo>
                  <a:pt x="752" y="437"/>
                </a:lnTo>
                <a:lnTo>
                  <a:pt x="743" y="455"/>
                </a:lnTo>
                <a:lnTo>
                  <a:pt x="735" y="473"/>
                </a:lnTo>
                <a:lnTo>
                  <a:pt x="729" y="491"/>
                </a:lnTo>
                <a:lnTo>
                  <a:pt x="724" y="507"/>
                </a:lnTo>
                <a:lnTo>
                  <a:pt x="721" y="524"/>
                </a:lnTo>
                <a:lnTo>
                  <a:pt x="720" y="539"/>
                </a:lnTo>
                <a:lnTo>
                  <a:pt x="721" y="555"/>
                </a:lnTo>
                <a:lnTo>
                  <a:pt x="723" y="567"/>
                </a:lnTo>
                <a:lnTo>
                  <a:pt x="727" y="579"/>
                </a:lnTo>
                <a:lnTo>
                  <a:pt x="733" y="589"/>
                </a:lnTo>
                <a:lnTo>
                  <a:pt x="741" y="597"/>
                </a:lnTo>
                <a:lnTo>
                  <a:pt x="716" y="608"/>
                </a:lnTo>
                <a:lnTo>
                  <a:pt x="693" y="619"/>
                </a:lnTo>
                <a:lnTo>
                  <a:pt x="673" y="630"/>
                </a:lnTo>
                <a:lnTo>
                  <a:pt x="652" y="642"/>
                </a:lnTo>
                <a:lnTo>
                  <a:pt x="633" y="653"/>
                </a:lnTo>
                <a:lnTo>
                  <a:pt x="615" y="665"/>
                </a:lnTo>
                <a:lnTo>
                  <a:pt x="600" y="678"/>
                </a:lnTo>
                <a:lnTo>
                  <a:pt x="584" y="690"/>
                </a:lnTo>
                <a:lnTo>
                  <a:pt x="570" y="703"/>
                </a:lnTo>
                <a:lnTo>
                  <a:pt x="558" y="716"/>
                </a:lnTo>
                <a:lnTo>
                  <a:pt x="545" y="730"/>
                </a:lnTo>
                <a:lnTo>
                  <a:pt x="535" y="743"/>
                </a:lnTo>
                <a:lnTo>
                  <a:pt x="526" y="757"/>
                </a:lnTo>
                <a:lnTo>
                  <a:pt x="517" y="770"/>
                </a:lnTo>
                <a:lnTo>
                  <a:pt x="509" y="784"/>
                </a:lnTo>
                <a:lnTo>
                  <a:pt x="503" y="798"/>
                </a:lnTo>
                <a:lnTo>
                  <a:pt x="497" y="812"/>
                </a:lnTo>
                <a:lnTo>
                  <a:pt x="492" y="826"/>
                </a:lnTo>
                <a:lnTo>
                  <a:pt x="490" y="840"/>
                </a:lnTo>
                <a:lnTo>
                  <a:pt x="487" y="854"/>
                </a:lnTo>
                <a:lnTo>
                  <a:pt x="485" y="868"/>
                </a:lnTo>
                <a:lnTo>
                  <a:pt x="485" y="882"/>
                </a:lnTo>
                <a:lnTo>
                  <a:pt x="483" y="896"/>
                </a:lnTo>
                <a:lnTo>
                  <a:pt x="485" y="909"/>
                </a:lnTo>
                <a:lnTo>
                  <a:pt x="486" y="923"/>
                </a:lnTo>
                <a:lnTo>
                  <a:pt x="488" y="936"/>
                </a:lnTo>
                <a:lnTo>
                  <a:pt x="496" y="963"/>
                </a:lnTo>
                <a:lnTo>
                  <a:pt x="505" y="989"/>
                </a:lnTo>
                <a:lnTo>
                  <a:pt x="518" y="1013"/>
                </a:lnTo>
                <a:lnTo>
                  <a:pt x="533" y="1036"/>
                </a:lnTo>
                <a:lnTo>
                  <a:pt x="550" y="1058"/>
                </a:lnTo>
                <a:lnTo>
                  <a:pt x="569" y="1077"/>
                </a:lnTo>
                <a:lnTo>
                  <a:pt x="590" y="1095"/>
                </a:lnTo>
                <a:lnTo>
                  <a:pt x="613" y="1111"/>
                </a:lnTo>
                <a:lnTo>
                  <a:pt x="637" y="1126"/>
                </a:lnTo>
                <a:lnTo>
                  <a:pt x="663" y="1137"/>
                </a:lnTo>
                <a:lnTo>
                  <a:pt x="689" y="1146"/>
                </a:lnTo>
                <a:lnTo>
                  <a:pt x="716" y="1151"/>
                </a:lnTo>
                <a:lnTo>
                  <a:pt x="730" y="1154"/>
                </a:lnTo>
                <a:lnTo>
                  <a:pt x="744" y="1155"/>
                </a:lnTo>
                <a:lnTo>
                  <a:pt x="760" y="1155"/>
                </a:lnTo>
                <a:lnTo>
                  <a:pt x="774" y="1155"/>
                </a:lnTo>
                <a:lnTo>
                  <a:pt x="788" y="1154"/>
                </a:lnTo>
                <a:lnTo>
                  <a:pt x="803" y="1151"/>
                </a:lnTo>
                <a:lnTo>
                  <a:pt x="817" y="1149"/>
                </a:lnTo>
                <a:lnTo>
                  <a:pt x="833" y="1145"/>
                </a:lnTo>
                <a:lnTo>
                  <a:pt x="847" y="1140"/>
                </a:lnTo>
                <a:lnTo>
                  <a:pt x="862" y="1133"/>
                </a:lnTo>
                <a:lnTo>
                  <a:pt x="876" y="1127"/>
                </a:lnTo>
                <a:lnTo>
                  <a:pt x="890" y="1119"/>
                </a:lnTo>
                <a:lnTo>
                  <a:pt x="906" y="1110"/>
                </a:lnTo>
                <a:lnTo>
                  <a:pt x="920" y="1101"/>
                </a:lnTo>
                <a:lnTo>
                  <a:pt x="933" y="1091"/>
                </a:lnTo>
                <a:lnTo>
                  <a:pt x="945" y="1081"/>
                </a:lnTo>
                <a:lnTo>
                  <a:pt x="957" y="1071"/>
                </a:lnTo>
                <a:lnTo>
                  <a:pt x="967" y="1059"/>
                </a:lnTo>
                <a:lnTo>
                  <a:pt x="977" y="1046"/>
                </a:lnTo>
                <a:lnTo>
                  <a:pt x="986" y="1033"/>
                </a:lnTo>
                <a:lnTo>
                  <a:pt x="994" y="1021"/>
                </a:lnTo>
                <a:lnTo>
                  <a:pt x="1000" y="1007"/>
                </a:lnTo>
                <a:lnTo>
                  <a:pt x="1006" y="994"/>
                </a:lnTo>
                <a:lnTo>
                  <a:pt x="1011" y="980"/>
                </a:lnTo>
                <a:lnTo>
                  <a:pt x="1014" y="966"/>
                </a:lnTo>
                <a:lnTo>
                  <a:pt x="1017" y="950"/>
                </a:lnTo>
                <a:lnTo>
                  <a:pt x="1018" y="936"/>
                </a:lnTo>
                <a:lnTo>
                  <a:pt x="1018" y="922"/>
                </a:lnTo>
                <a:lnTo>
                  <a:pt x="1017" y="908"/>
                </a:lnTo>
                <a:lnTo>
                  <a:pt x="1016" y="894"/>
                </a:lnTo>
                <a:lnTo>
                  <a:pt x="1012" y="880"/>
                </a:lnTo>
                <a:lnTo>
                  <a:pt x="1008" y="867"/>
                </a:lnTo>
                <a:lnTo>
                  <a:pt x="1002" y="854"/>
                </a:lnTo>
                <a:lnTo>
                  <a:pt x="995" y="841"/>
                </a:lnTo>
                <a:lnTo>
                  <a:pt x="986" y="829"/>
                </a:lnTo>
                <a:lnTo>
                  <a:pt x="977" y="817"/>
                </a:lnTo>
                <a:lnTo>
                  <a:pt x="967" y="807"/>
                </a:lnTo>
                <a:lnTo>
                  <a:pt x="954" y="797"/>
                </a:lnTo>
                <a:lnTo>
                  <a:pt x="940" y="788"/>
                </a:lnTo>
                <a:lnTo>
                  <a:pt x="926" y="779"/>
                </a:lnTo>
                <a:lnTo>
                  <a:pt x="910" y="771"/>
                </a:lnTo>
                <a:lnTo>
                  <a:pt x="892" y="765"/>
                </a:lnTo>
                <a:lnTo>
                  <a:pt x="872" y="759"/>
                </a:lnTo>
                <a:lnTo>
                  <a:pt x="852" y="754"/>
                </a:lnTo>
                <a:lnTo>
                  <a:pt x="830" y="752"/>
                </a:lnTo>
                <a:lnTo>
                  <a:pt x="806" y="749"/>
                </a:lnTo>
                <a:lnTo>
                  <a:pt x="839" y="742"/>
                </a:lnTo>
                <a:lnTo>
                  <a:pt x="869" y="736"/>
                </a:lnTo>
                <a:lnTo>
                  <a:pt x="897" y="735"/>
                </a:lnTo>
                <a:lnTo>
                  <a:pt x="921" y="736"/>
                </a:lnTo>
                <a:lnTo>
                  <a:pt x="944" y="740"/>
                </a:lnTo>
                <a:lnTo>
                  <a:pt x="965" y="745"/>
                </a:lnTo>
                <a:lnTo>
                  <a:pt x="982" y="754"/>
                </a:lnTo>
                <a:lnTo>
                  <a:pt x="999" y="765"/>
                </a:lnTo>
                <a:lnTo>
                  <a:pt x="1013" y="777"/>
                </a:lnTo>
                <a:lnTo>
                  <a:pt x="1025" y="791"/>
                </a:lnTo>
                <a:lnTo>
                  <a:pt x="1035" y="807"/>
                </a:lnTo>
                <a:lnTo>
                  <a:pt x="1044" y="823"/>
                </a:lnTo>
                <a:lnTo>
                  <a:pt x="1050" y="841"/>
                </a:lnTo>
                <a:lnTo>
                  <a:pt x="1055" y="861"/>
                </a:lnTo>
                <a:lnTo>
                  <a:pt x="1058" y="880"/>
                </a:lnTo>
                <a:lnTo>
                  <a:pt x="1061" y="900"/>
                </a:lnTo>
                <a:lnTo>
                  <a:pt x="1061" y="921"/>
                </a:lnTo>
                <a:lnTo>
                  <a:pt x="1061" y="943"/>
                </a:lnTo>
                <a:lnTo>
                  <a:pt x="1058" y="963"/>
                </a:lnTo>
                <a:lnTo>
                  <a:pt x="1054" y="983"/>
                </a:lnTo>
                <a:lnTo>
                  <a:pt x="1050" y="1004"/>
                </a:lnTo>
                <a:lnTo>
                  <a:pt x="1044" y="1023"/>
                </a:lnTo>
                <a:lnTo>
                  <a:pt x="1038" y="1042"/>
                </a:lnTo>
                <a:lnTo>
                  <a:pt x="1030" y="1060"/>
                </a:lnTo>
                <a:lnTo>
                  <a:pt x="1022" y="1077"/>
                </a:lnTo>
                <a:lnTo>
                  <a:pt x="1013" y="1092"/>
                </a:lnTo>
                <a:lnTo>
                  <a:pt x="1003" y="1106"/>
                </a:lnTo>
                <a:lnTo>
                  <a:pt x="993" y="1119"/>
                </a:lnTo>
                <a:lnTo>
                  <a:pt x="982" y="1129"/>
                </a:lnTo>
                <a:lnTo>
                  <a:pt x="971" y="1137"/>
                </a:lnTo>
                <a:lnTo>
                  <a:pt x="959" y="1143"/>
                </a:lnTo>
                <a:lnTo>
                  <a:pt x="948" y="1147"/>
                </a:lnTo>
                <a:lnTo>
                  <a:pt x="911" y="1160"/>
                </a:lnTo>
                <a:lnTo>
                  <a:pt x="875" y="1172"/>
                </a:lnTo>
                <a:lnTo>
                  <a:pt x="842" y="1181"/>
                </a:lnTo>
                <a:lnTo>
                  <a:pt x="810" y="1188"/>
                </a:lnTo>
                <a:lnTo>
                  <a:pt x="780" y="1195"/>
                </a:lnTo>
                <a:lnTo>
                  <a:pt x="752" y="1199"/>
                </a:lnTo>
                <a:lnTo>
                  <a:pt x="725" y="1201"/>
                </a:lnTo>
                <a:lnTo>
                  <a:pt x="701" y="1202"/>
                </a:lnTo>
                <a:lnTo>
                  <a:pt x="677" y="1202"/>
                </a:lnTo>
                <a:lnTo>
                  <a:pt x="655" y="1201"/>
                </a:lnTo>
                <a:lnTo>
                  <a:pt x="634" y="1199"/>
                </a:lnTo>
                <a:lnTo>
                  <a:pt x="615" y="1196"/>
                </a:lnTo>
                <a:lnTo>
                  <a:pt x="597" y="1191"/>
                </a:lnTo>
                <a:lnTo>
                  <a:pt x="581" y="1186"/>
                </a:lnTo>
                <a:lnTo>
                  <a:pt x="565" y="1179"/>
                </a:lnTo>
                <a:lnTo>
                  <a:pt x="551" y="1173"/>
                </a:lnTo>
                <a:lnTo>
                  <a:pt x="537" y="1165"/>
                </a:lnTo>
                <a:lnTo>
                  <a:pt x="524" y="1158"/>
                </a:lnTo>
                <a:lnTo>
                  <a:pt x="501" y="1141"/>
                </a:lnTo>
                <a:lnTo>
                  <a:pt x="481" y="1123"/>
                </a:lnTo>
                <a:lnTo>
                  <a:pt x="463" y="1106"/>
                </a:lnTo>
                <a:lnTo>
                  <a:pt x="432" y="1076"/>
                </a:lnTo>
                <a:lnTo>
                  <a:pt x="418" y="1063"/>
                </a:lnTo>
                <a:lnTo>
                  <a:pt x="412" y="1059"/>
                </a:lnTo>
                <a:lnTo>
                  <a:pt x="404" y="1054"/>
                </a:lnTo>
                <a:close/>
                <a:moveTo>
                  <a:pt x="2900" y="1798"/>
                </a:moveTo>
                <a:lnTo>
                  <a:pt x="2900" y="2002"/>
                </a:lnTo>
                <a:lnTo>
                  <a:pt x="2858" y="2009"/>
                </a:lnTo>
                <a:lnTo>
                  <a:pt x="2813" y="2015"/>
                </a:lnTo>
                <a:lnTo>
                  <a:pt x="2768" y="2022"/>
                </a:lnTo>
                <a:lnTo>
                  <a:pt x="2721" y="2027"/>
                </a:lnTo>
                <a:lnTo>
                  <a:pt x="2672" y="2031"/>
                </a:lnTo>
                <a:lnTo>
                  <a:pt x="2622" y="2033"/>
                </a:lnTo>
                <a:lnTo>
                  <a:pt x="2570" y="2036"/>
                </a:lnTo>
                <a:lnTo>
                  <a:pt x="2517" y="2036"/>
                </a:lnTo>
                <a:lnTo>
                  <a:pt x="2424" y="2029"/>
                </a:lnTo>
                <a:lnTo>
                  <a:pt x="2333" y="2022"/>
                </a:lnTo>
                <a:lnTo>
                  <a:pt x="2289" y="2017"/>
                </a:lnTo>
                <a:lnTo>
                  <a:pt x="2246" y="2011"/>
                </a:lnTo>
                <a:lnTo>
                  <a:pt x="2202" y="2005"/>
                </a:lnTo>
                <a:lnTo>
                  <a:pt x="2160" y="1997"/>
                </a:lnTo>
                <a:lnTo>
                  <a:pt x="2118" y="1988"/>
                </a:lnTo>
                <a:lnTo>
                  <a:pt x="2077" y="1979"/>
                </a:lnTo>
                <a:lnTo>
                  <a:pt x="2037" y="1969"/>
                </a:lnTo>
                <a:lnTo>
                  <a:pt x="1997" y="1958"/>
                </a:lnTo>
                <a:lnTo>
                  <a:pt x="1959" y="1945"/>
                </a:lnTo>
                <a:lnTo>
                  <a:pt x="1922" y="1931"/>
                </a:lnTo>
                <a:lnTo>
                  <a:pt x="1885" y="1914"/>
                </a:lnTo>
                <a:lnTo>
                  <a:pt x="1849" y="1897"/>
                </a:lnTo>
                <a:lnTo>
                  <a:pt x="1814" y="1880"/>
                </a:lnTo>
                <a:lnTo>
                  <a:pt x="1780" y="1859"/>
                </a:lnTo>
                <a:lnTo>
                  <a:pt x="1748" y="1837"/>
                </a:lnTo>
                <a:lnTo>
                  <a:pt x="1716" y="1813"/>
                </a:lnTo>
                <a:lnTo>
                  <a:pt x="1685" y="1787"/>
                </a:lnTo>
                <a:lnTo>
                  <a:pt x="1654" y="1761"/>
                </a:lnTo>
                <a:lnTo>
                  <a:pt x="1626" y="1731"/>
                </a:lnTo>
                <a:lnTo>
                  <a:pt x="1598" y="1699"/>
                </a:lnTo>
                <a:lnTo>
                  <a:pt x="1573" y="1666"/>
                </a:lnTo>
                <a:lnTo>
                  <a:pt x="1547" y="1630"/>
                </a:lnTo>
                <a:lnTo>
                  <a:pt x="1523" y="1592"/>
                </a:lnTo>
                <a:lnTo>
                  <a:pt x="1501" y="1552"/>
                </a:lnTo>
                <a:lnTo>
                  <a:pt x="1479" y="1508"/>
                </a:lnTo>
                <a:lnTo>
                  <a:pt x="1459" y="1464"/>
                </a:lnTo>
                <a:lnTo>
                  <a:pt x="1439" y="1415"/>
                </a:lnTo>
                <a:lnTo>
                  <a:pt x="1423" y="1365"/>
                </a:lnTo>
                <a:lnTo>
                  <a:pt x="1390" y="1380"/>
                </a:lnTo>
                <a:lnTo>
                  <a:pt x="1360" y="1393"/>
                </a:lnTo>
                <a:lnTo>
                  <a:pt x="1332" y="1402"/>
                </a:lnTo>
                <a:lnTo>
                  <a:pt x="1319" y="1405"/>
                </a:lnTo>
                <a:lnTo>
                  <a:pt x="1306" y="1407"/>
                </a:lnTo>
                <a:lnTo>
                  <a:pt x="1294" y="1407"/>
                </a:lnTo>
                <a:lnTo>
                  <a:pt x="1282" y="1408"/>
                </a:lnTo>
                <a:lnTo>
                  <a:pt x="1270" y="1407"/>
                </a:lnTo>
                <a:lnTo>
                  <a:pt x="1260" y="1406"/>
                </a:lnTo>
                <a:lnTo>
                  <a:pt x="1250" y="1405"/>
                </a:lnTo>
                <a:lnTo>
                  <a:pt x="1240" y="1402"/>
                </a:lnTo>
                <a:lnTo>
                  <a:pt x="1231" y="1398"/>
                </a:lnTo>
                <a:lnTo>
                  <a:pt x="1222" y="1394"/>
                </a:lnTo>
                <a:lnTo>
                  <a:pt x="1214" y="1389"/>
                </a:lnTo>
                <a:lnTo>
                  <a:pt x="1206" y="1384"/>
                </a:lnTo>
                <a:lnTo>
                  <a:pt x="1192" y="1373"/>
                </a:lnTo>
                <a:lnTo>
                  <a:pt x="1181" y="1359"/>
                </a:lnTo>
                <a:lnTo>
                  <a:pt x="1171" y="1343"/>
                </a:lnTo>
                <a:lnTo>
                  <a:pt x="1163" y="1325"/>
                </a:lnTo>
                <a:lnTo>
                  <a:pt x="1157" y="1306"/>
                </a:lnTo>
                <a:lnTo>
                  <a:pt x="1153" y="1287"/>
                </a:lnTo>
                <a:lnTo>
                  <a:pt x="1150" y="1266"/>
                </a:lnTo>
                <a:lnTo>
                  <a:pt x="1150" y="1245"/>
                </a:lnTo>
                <a:lnTo>
                  <a:pt x="1151" y="1223"/>
                </a:lnTo>
                <a:lnTo>
                  <a:pt x="1155" y="1201"/>
                </a:lnTo>
                <a:lnTo>
                  <a:pt x="1160" y="1179"/>
                </a:lnTo>
                <a:lnTo>
                  <a:pt x="1167" y="1159"/>
                </a:lnTo>
                <a:lnTo>
                  <a:pt x="1176" y="1138"/>
                </a:lnTo>
                <a:lnTo>
                  <a:pt x="1187" y="1118"/>
                </a:lnTo>
                <a:lnTo>
                  <a:pt x="1200" y="1099"/>
                </a:lnTo>
                <a:lnTo>
                  <a:pt x="1214" y="1081"/>
                </a:lnTo>
                <a:lnTo>
                  <a:pt x="1231" y="1064"/>
                </a:lnTo>
                <a:lnTo>
                  <a:pt x="1249" y="1050"/>
                </a:lnTo>
                <a:lnTo>
                  <a:pt x="1269" y="1037"/>
                </a:lnTo>
                <a:lnTo>
                  <a:pt x="1290" y="1027"/>
                </a:lnTo>
                <a:lnTo>
                  <a:pt x="1314" y="1019"/>
                </a:lnTo>
                <a:lnTo>
                  <a:pt x="1326" y="1015"/>
                </a:lnTo>
                <a:lnTo>
                  <a:pt x="1340" y="1013"/>
                </a:lnTo>
                <a:lnTo>
                  <a:pt x="1352" y="1012"/>
                </a:lnTo>
                <a:lnTo>
                  <a:pt x="1366" y="1010"/>
                </a:lnTo>
                <a:lnTo>
                  <a:pt x="1388" y="972"/>
                </a:lnTo>
                <a:lnTo>
                  <a:pt x="1413" y="937"/>
                </a:lnTo>
                <a:lnTo>
                  <a:pt x="1437" y="908"/>
                </a:lnTo>
                <a:lnTo>
                  <a:pt x="1461" y="881"/>
                </a:lnTo>
                <a:lnTo>
                  <a:pt x="1487" y="858"/>
                </a:lnTo>
                <a:lnTo>
                  <a:pt x="1512" y="838"/>
                </a:lnTo>
                <a:lnTo>
                  <a:pt x="1539" y="821"/>
                </a:lnTo>
                <a:lnTo>
                  <a:pt x="1566" y="808"/>
                </a:lnTo>
                <a:lnTo>
                  <a:pt x="1592" y="798"/>
                </a:lnTo>
                <a:lnTo>
                  <a:pt x="1619" y="790"/>
                </a:lnTo>
                <a:lnTo>
                  <a:pt x="1645" y="785"/>
                </a:lnTo>
                <a:lnTo>
                  <a:pt x="1671" y="783"/>
                </a:lnTo>
                <a:lnTo>
                  <a:pt x="1697" y="783"/>
                </a:lnTo>
                <a:lnTo>
                  <a:pt x="1722" y="785"/>
                </a:lnTo>
                <a:lnTo>
                  <a:pt x="1748" y="789"/>
                </a:lnTo>
                <a:lnTo>
                  <a:pt x="1772" y="794"/>
                </a:lnTo>
                <a:lnTo>
                  <a:pt x="1797" y="802"/>
                </a:lnTo>
                <a:lnTo>
                  <a:pt x="1820" y="811"/>
                </a:lnTo>
                <a:lnTo>
                  <a:pt x="1841" y="821"/>
                </a:lnTo>
                <a:lnTo>
                  <a:pt x="1862" y="834"/>
                </a:lnTo>
                <a:lnTo>
                  <a:pt x="1882" y="845"/>
                </a:lnTo>
                <a:lnTo>
                  <a:pt x="1901" y="859"/>
                </a:lnTo>
                <a:lnTo>
                  <a:pt x="1918" y="873"/>
                </a:lnTo>
                <a:lnTo>
                  <a:pt x="1935" y="889"/>
                </a:lnTo>
                <a:lnTo>
                  <a:pt x="1950" y="904"/>
                </a:lnTo>
                <a:lnTo>
                  <a:pt x="1963" y="919"/>
                </a:lnTo>
                <a:lnTo>
                  <a:pt x="1974" y="935"/>
                </a:lnTo>
                <a:lnTo>
                  <a:pt x="1983" y="951"/>
                </a:lnTo>
                <a:lnTo>
                  <a:pt x="1991" y="967"/>
                </a:lnTo>
                <a:lnTo>
                  <a:pt x="1997" y="981"/>
                </a:lnTo>
                <a:lnTo>
                  <a:pt x="2000" y="996"/>
                </a:lnTo>
                <a:lnTo>
                  <a:pt x="2001" y="1010"/>
                </a:lnTo>
                <a:lnTo>
                  <a:pt x="2021" y="1003"/>
                </a:lnTo>
                <a:lnTo>
                  <a:pt x="2040" y="996"/>
                </a:lnTo>
                <a:lnTo>
                  <a:pt x="2058" y="991"/>
                </a:lnTo>
                <a:lnTo>
                  <a:pt x="2076" y="987"/>
                </a:lnTo>
                <a:lnTo>
                  <a:pt x="2093" y="983"/>
                </a:lnTo>
                <a:lnTo>
                  <a:pt x="2110" y="981"/>
                </a:lnTo>
                <a:lnTo>
                  <a:pt x="2127" y="980"/>
                </a:lnTo>
                <a:lnTo>
                  <a:pt x="2143" y="978"/>
                </a:lnTo>
                <a:lnTo>
                  <a:pt x="2175" y="980"/>
                </a:lnTo>
                <a:lnTo>
                  <a:pt x="2206" y="982"/>
                </a:lnTo>
                <a:lnTo>
                  <a:pt x="2234" y="989"/>
                </a:lnTo>
                <a:lnTo>
                  <a:pt x="2262" y="996"/>
                </a:lnTo>
                <a:lnTo>
                  <a:pt x="2288" y="1008"/>
                </a:lnTo>
                <a:lnTo>
                  <a:pt x="2312" y="1021"/>
                </a:lnTo>
                <a:lnTo>
                  <a:pt x="2335" y="1036"/>
                </a:lnTo>
                <a:lnTo>
                  <a:pt x="2357" y="1053"/>
                </a:lnTo>
                <a:lnTo>
                  <a:pt x="2378" y="1071"/>
                </a:lnTo>
                <a:lnTo>
                  <a:pt x="2396" y="1090"/>
                </a:lnTo>
                <a:lnTo>
                  <a:pt x="2413" y="1111"/>
                </a:lnTo>
                <a:lnTo>
                  <a:pt x="2429" y="1133"/>
                </a:lnTo>
                <a:lnTo>
                  <a:pt x="2443" y="1155"/>
                </a:lnTo>
                <a:lnTo>
                  <a:pt x="2454" y="1179"/>
                </a:lnTo>
                <a:lnTo>
                  <a:pt x="2466" y="1202"/>
                </a:lnTo>
                <a:lnTo>
                  <a:pt x="2475" y="1227"/>
                </a:lnTo>
                <a:lnTo>
                  <a:pt x="2483" y="1250"/>
                </a:lnTo>
                <a:lnTo>
                  <a:pt x="2489" y="1274"/>
                </a:lnTo>
                <a:lnTo>
                  <a:pt x="2493" y="1297"/>
                </a:lnTo>
                <a:lnTo>
                  <a:pt x="2495" y="1320"/>
                </a:lnTo>
                <a:lnTo>
                  <a:pt x="2497" y="1343"/>
                </a:lnTo>
                <a:lnTo>
                  <a:pt x="2497" y="1364"/>
                </a:lnTo>
                <a:lnTo>
                  <a:pt x="2494" y="1384"/>
                </a:lnTo>
                <a:lnTo>
                  <a:pt x="2490" y="1403"/>
                </a:lnTo>
                <a:lnTo>
                  <a:pt x="2485" y="1420"/>
                </a:lnTo>
                <a:lnTo>
                  <a:pt x="2479" y="1437"/>
                </a:lnTo>
                <a:lnTo>
                  <a:pt x="2470" y="1449"/>
                </a:lnTo>
                <a:lnTo>
                  <a:pt x="2460" y="1462"/>
                </a:lnTo>
                <a:lnTo>
                  <a:pt x="2436" y="1487"/>
                </a:lnTo>
                <a:lnTo>
                  <a:pt x="2413" y="1507"/>
                </a:lnTo>
                <a:lnTo>
                  <a:pt x="2393" y="1525"/>
                </a:lnTo>
                <a:lnTo>
                  <a:pt x="2371" y="1540"/>
                </a:lnTo>
                <a:lnTo>
                  <a:pt x="2351" y="1553"/>
                </a:lnTo>
                <a:lnTo>
                  <a:pt x="2332" y="1562"/>
                </a:lnTo>
                <a:lnTo>
                  <a:pt x="2312" y="1569"/>
                </a:lnTo>
                <a:lnTo>
                  <a:pt x="2294" y="1572"/>
                </a:lnTo>
                <a:lnTo>
                  <a:pt x="2277" y="1575"/>
                </a:lnTo>
                <a:lnTo>
                  <a:pt x="2260" y="1575"/>
                </a:lnTo>
                <a:lnTo>
                  <a:pt x="2245" y="1572"/>
                </a:lnTo>
                <a:lnTo>
                  <a:pt x="2229" y="1570"/>
                </a:lnTo>
                <a:lnTo>
                  <a:pt x="2215" y="1563"/>
                </a:lnTo>
                <a:lnTo>
                  <a:pt x="2201" y="1557"/>
                </a:lnTo>
                <a:lnTo>
                  <a:pt x="2188" y="1548"/>
                </a:lnTo>
                <a:lnTo>
                  <a:pt x="2177" y="1539"/>
                </a:lnTo>
                <a:lnTo>
                  <a:pt x="2166" y="1529"/>
                </a:lnTo>
                <a:lnTo>
                  <a:pt x="2156" y="1517"/>
                </a:lnTo>
                <a:lnTo>
                  <a:pt x="2147" y="1506"/>
                </a:lnTo>
                <a:lnTo>
                  <a:pt x="2140" y="1493"/>
                </a:lnTo>
                <a:lnTo>
                  <a:pt x="2132" y="1480"/>
                </a:lnTo>
                <a:lnTo>
                  <a:pt x="2127" y="1467"/>
                </a:lnTo>
                <a:lnTo>
                  <a:pt x="2122" y="1453"/>
                </a:lnTo>
                <a:lnTo>
                  <a:pt x="2118" y="1440"/>
                </a:lnTo>
                <a:lnTo>
                  <a:pt x="2115" y="1428"/>
                </a:lnTo>
                <a:lnTo>
                  <a:pt x="2113" y="1415"/>
                </a:lnTo>
                <a:lnTo>
                  <a:pt x="2113" y="1403"/>
                </a:lnTo>
                <a:lnTo>
                  <a:pt x="2113" y="1392"/>
                </a:lnTo>
                <a:lnTo>
                  <a:pt x="2115" y="1382"/>
                </a:lnTo>
                <a:lnTo>
                  <a:pt x="2118" y="1373"/>
                </a:lnTo>
                <a:lnTo>
                  <a:pt x="2122" y="1364"/>
                </a:lnTo>
                <a:lnTo>
                  <a:pt x="2128" y="1357"/>
                </a:lnTo>
                <a:lnTo>
                  <a:pt x="2136" y="1344"/>
                </a:lnTo>
                <a:lnTo>
                  <a:pt x="2145" y="1333"/>
                </a:lnTo>
                <a:lnTo>
                  <a:pt x="2154" y="1323"/>
                </a:lnTo>
                <a:lnTo>
                  <a:pt x="2164" y="1314"/>
                </a:lnTo>
                <a:lnTo>
                  <a:pt x="2173" y="1307"/>
                </a:lnTo>
                <a:lnTo>
                  <a:pt x="2182" y="1301"/>
                </a:lnTo>
                <a:lnTo>
                  <a:pt x="2191" y="1297"/>
                </a:lnTo>
                <a:lnTo>
                  <a:pt x="2200" y="1295"/>
                </a:lnTo>
                <a:lnTo>
                  <a:pt x="2210" y="1293"/>
                </a:lnTo>
                <a:lnTo>
                  <a:pt x="2219" y="1292"/>
                </a:lnTo>
                <a:lnTo>
                  <a:pt x="2228" y="1292"/>
                </a:lnTo>
                <a:lnTo>
                  <a:pt x="2236" y="1293"/>
                </a:lnTo>
                <a:lnTo>
                  <a:pt x="2245" y="1296"/>
                </a:lnTo>
                <a:lnTo>
                  <a:pt x="2253" y="1300"/>
                </a:lnTo>
                <a:lnTo>
                  <a:pt x="2269" y="1307"/>
                </a:lnTo>
                <a:lnTo>
                  <a:pt x="2283" y="1319"/>
                </a:lnTo>
                <a:lnTo>
                  <a:pt x="2296" y="1330"/>
                </a:lnTo>
                <a:lnTo>
                  <a:pt x="2307" y="1344"/>
                </a:lnTo>
                <a:lnTo>
                  <a:pt x="2315" y="1360"/>
                </a:lnTo>
                <a:lnTo>
                  <a:pt x="2321" y="1374"/>
                </a:lnTo>
                <a:lnTo>
                  <a:pt x="2325" y="1388"/>
                </a:lnTo>
                <a:lnTo>
                  <a:pt x="2325" y="1396"/>
                </a:lnTo>
                <a:lnTo>
                  <a:pt x="2325" y="1402"/>
                </a:lnTo>
                <a:lnTo>
                  <a:pt x="2325" y="1407"/>
                </a:lnTo>
                <a:lnTo>
                  <a:pt x="2323" y="1414"/>
                </a:lnTo>
                <a:lnTo>
                  <a:pt x="2329" y="1401"/>
                </a:lnTo>
                <a:lnTo>
                  <a:pt x="2334" y="1389"/>
                </a:lnTo>
                <a:lnTo>
                  <a:pt x="2338" y="1376"/>
                </a:lnTo>
                <a:lnTo>
                  <a:pt x="2340" y="1365"/>
                </a:lnTo>
                <a:lnTo>
                  <a:pt x="2342" y="1353"/>
                </a:lnTo>
                <a:lnTo>
                  <a:pt x="2340" y="1343"/>
                </a:lnTo>
                <a:lnTo>
                  <a:pt x="2339" y="1332"/>
                </a:lnTo>
                <a:lnTo>
                  <a:pt x="2337" y="1321"/>
                </a:lnTo>
                <a:lnTo>
                  <a:pt x="2334" y="1311"/>
                </a:lnTo>
                <a:lnTo>
                  <a:pt x="2329" y="1301"/>
                </a:lnTo>
                <a:lnTo>
                  <a:pt x="2324" y="1292"/>
                </a:lnTo>
                <a:lnTo>
                  <a:pt x="2317" y="1283"/>
                </a:lnTo>
                <a:lnTo>
                  <a:pt x="2311" y="1274"/>
                </a:lnTo>
                <a:lnTo>
                  <a:pt x="2303" y="1266"/>
                </a:lnTo>
                <a:lnTo>
                  <a:pt x="2296" y="1259"/>
                </a:lnTo>
                <a:lnTo>
                  <a:pt x="2287" y="1252"/>
                </a:lnTo>
                <a:lnTo>
                  <a:pt x="2278" y="1246"/>
                </a:lnTo>
                <a:lnTo>
                  <a:pt x="2269" y="1241"/>
                </a:lnTo>
                <a:lnTo>
                  <a:pt x="2248" y="1232"/>
                </a:lnTo>
                <a:lnTo>
                  <a:pt x="2238" y="1228"/>
                </a:lnTo>
                <a:lnTo>
                  <a:pt x="2227" y="1225"/>
                </a:lnTo>
                <a:lnTo>
                  <a:pt x="2216" y="1224"/>
                </a:lnTo>
                <a:lnTo>
                  <a:pt x="2206" y="1223"/>
                </a:lnTo>
                <a:lnTo>
                  <a:pt x="2195" y="1223"/>
                </a:lnTo>
                <a:lnTo>
                  <a:pt x="2184" y="1224"/>
                </a:lnTo>
                <a:lnTo>
                  <a:pt x="2174" y="1225"/>
                </a:lnTo>
                <a:lnTo>
                  <a:pt x="2164" y="1228"/>
                </a:lnTo>
                <a:lnTo>
                  <a:pt x="2154" y="1232"/>
                </a:lnTo>
                <a:lnTo>
                  <a:pt x="2145" y="1237"/>
                </a:lnTo>
                <a:lnTo>
                  <a:pt x="2136" y="1242"/>
                </a:lnTo>
                <a:lnTo>
                  <a:pt x="2127" y="1250"/>
                </a:lnTo>
                <a:lnTo>
                  <a:pt x="2105" y="1272"/>
                </a:lnTo>
                <a:lnTo>
                  <a:pt x="2085" y="1292"/>
                </a:lnTo>
                <a:lnTo>
                  <a:pt x="2069" y="1314"/>
                </a:lnTo>
                <a:lnTo>
                  <a:pt x="2055" y="1336"/>
                </a:lnTo>
                <a:lnTo>
                  <a:pt x="2045" y="1357"/>
                </a:lnTo>
                <a:lnTo>
                  <a:pt x="2037" y="1378"/>
                </a:lnTo>
                <a:lnTo>
                  <a:pt x="2031" y="1398"/>
                </a:lnTo>
                <a:lnTo>
                  <a:pt x="2028" y="1419"/>
                </a:lnTo>
                <a:lnTo>
                  <a:pt x="2028" y="1439"/>
                </a:lnTo>
                <a:lnTo>
                  <a:pt x="2029" y="1458"/>
                </a:lnTo>
                <a:lnTo>
                  <a:pt x="2033" y="1478"/>
                </a:lnTo>
                <a:lnTo>
                  <a:pt x="2038" y="1496"/>
                </a:lnTo>
                <a:lnTo>
                  <a:pt x="2046" y="1513"/>
                </a:lnTo>
                <a:lnTo>
                  <a:pt x="2056" y="1530"/>
                </a:lnTo>
                <a:lnTo>
                  <a:pt x="2067" y="1545"/>
                </a:lnTo>
                <a:lnTo>
                  <a:pt x="2079" y="1561"/>
                </a:lnTo>
                <a:lnTo>
                  <a:pt x="2092" y="1575"/>
                </a:lnTo>
                <a:lnTo>
                  <a:pt x="2108" y="1588"/>
                </a:lnTo>
                <a:lnTo>
                  <a:pt x="2124" y="1601"/>
                </a:lnTo>
                <a:lnTo>
                  <a:pt x="2141" y="1611"/>
                </a:lnTo>
                <a:lnTo>
                  <a:pt x="2159" y="1621"/>
                </a:lnTo>
                <a:lnTo>
                  <a:pt x="2178" y="1630"/>
                </a:lnTo>
                <a:lnTo>
                  <a:pt x="2197" y="1636"/>
                </a:lnTo>
                <a:lnTo>
                  <a:pt x="2218" y="1643"/>
                </a:lnTo>
                <a:lnTo>
                  <a:pt x="2237" y="1647"/>
                </a:lnTo>
                <a:lnTo>
                  <a:pt x="2259" y="1650"/>
                </a:lnTo>
                <a:lnTo>
                  <a:pt x="2279" y="1652"/>
                </a:lnTo>
                <a:lnTo>
                  <a:pt x="2300" y="1650"/>
                </a:lnTo>
                <a:lnTo>
                  <a:pt x="2320" y="1649"/>
                </a:lnTo>
                <a:lnTo>
                  <a:pt x="2340" y="1645"/>
                </a:lnTo>
                <a:lnTo>
                  <a:pt x="2361" y="1639"/>
                </a:lnTo>
                <a:lnTo>
                  <a:pt x="2380" y="1631"/>
                </a:lnTo>
                <a:lnTo>
                  <a:pt x="2407" y="1657"/>
                </a:lnTo>
                <a:lnTo>
                  <a:pt x="2434" y="1680"/>
                </a:lnTo>
                <a:lnTo>
                  <a:pt x="2463" y="1700"/>
                </a:lnTo>
                <a:lnTo>
                  <a:pt x="2494" y="1720"/>
                </a:lnTo>
                <a:lnTo>
                  <a:pt x="2525" y="1736"/>
                </a:lnTo>
                <a:lnTo>
                  <a:pt x="2558" y="1750"/>
                </a:lnTo>
                <a:lnTo>
                  <a:pt x="2591" y="1762"/>
                </a:lnTo>
                <a:lnTo>
                  <a:pt x="2625" y="1772"/>
                </a:lnTo>
                <a:lnTo>
                  <a:pt x="2659" y="1781"/>
                </a:lnTo>
                <a:lnTo>
                  <a:pt x="2694" y="1787"/>
                </a:lnTo>
                <a:lnTo>
                  <a:pt x="2728" y="1793"/>
                </a:lnTo>
                <a:lnTo>
                  <a:pt x="2763" y="1796"/>
                </a:lnTo>
                <a:lnTo>
                  <a:pt x="2797" y="1799"/>
                </a:lnTo>
                <a:lnTo>
                  <a:pt x="2832" y="1799"/>
                </a:lnTo>
                <a:lnTo>
                  <a:pt x="2867" y="1799"/>
                </a:lnTo>
                <a:lnTo>
                  <a:pt x="2900" y="1798"/>
                </a:lnTo>
                <a:close/>
              </a:path>
            </a:pathLst>
          </a:custGeom>
          <a:solidFill>
            <a:schemeClr val="bg1">
              <a:lumMod val="95000"/>
              <a:alpha val="1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46" name="KSO_Shape"/>
          <p:cNvSpPr/>
          <p:nvPr/>
        </p:nvSpPr>
        <p:spPr>
          <a:xfrm>
            <a:off x="1602000" y="-472680"/>
            <a:ext cx="1800000" cy="79668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4817" h="2132">
                <a:moveTo>
                  <a:pt x="2900" y="1730"/>
                </a:moveTo>
                <a:lnTo>
                  <a:pt x="2900" y="1730"/>
                </a:lnTo>
                <a:lnTo>
                  <a:pt x="2928" y="1729"/>
                </a:lnTo>
                <a:lnTo>
                  <a:pt x="2957" y="1725"/>
                </a:lnTo>
                <a:lnTo>
                  <a:pt x="2986" y="1721"/>
                </a:lnTo>
                <a:lnTo>
                  <a:pt x="3012" y="1717"/>
                </a:lnTo>
                <a:lnTo>
                  <a:pt x="3038" y="1712"/>
                </a:lnTo>
                <a:lnTo>
                  <a:pt x="3064" y="1705"/>
                </a:lnTo>
                <a:lnTo>
                  <a:pt x="3087" y="1699"/>
                </a:lnTo>
                <a:lnTo>
                  <a:pt x="3110" y="1693"/>
                </a:lnTo>
                <a:lnTo>
                  <a:pt x="3130" y="1685"/>
                </a:lnTo>
                <a:lnTo>
                  <a:pt x="3149" y="1677"/>
                </a:lnTo>
                <a:lnTo>
                  <a:pt x="3167" y="1670"/>
                </a:lnTo>
                <a:lnTo>
                  <a:pt x="3183" y="1661"/>
                </a:lnTo>
                <a:lnTo>
                  <a:pt x="3197" y="1653"/>
                </a:lnTo>
                <a:lnTo>
                  <a:pt x="3208" y="1644"/>
                </a:lnTo>
                <a:lnTo>
                  <a:pt x="3217" y="1635"/>
                </a:lnTo>
                <a:lnTo>
                  <a:pt x="3224" y="1626"/>
                </a:lnTo>
                <a:lnTo>
                  <a:pt x="3253" y="1601"/>
                </a:lnTo>
                <a:lnTo>
                  <a:pt x="3284" y="1576"/>
                </a:lnTo>
                <a:lnTo>
                  <a:pt x="3313" y="1553"/>
                </a:lnTo>
                <a:lnTo>
                  <a:pt x="3341" y="1531"/>
                </a:lnTo>
                <a:lnTo>
                  <a:pt x="3371" y="1512"/>
                </a:lnTo>
                <a:lnTo>
                  <a:pt x="3399" y="1494"/>
                </a:lnTo>
                <a:lnTo>
                  <a:pt x="3427" y="1478"/>
                </a:lnTo>
                <a:lnTo>
                  <a:pt x="3455" y="1462"/>
                </a:lnTo>
                <a:lnTo>
                  <a:pt x="3482" y="1448"/>
                </a:lnTo>
                <a:lnTo>
                  <a:pt x="3509" y="1435"/>
                </a:lnTo>
                <a:lnTo>
                  <a:pt x="3536" y="1425"/>
                </a:lnTo>
                <a:lnTo>
                  <a:pt x="3562" y="1415"/>
                </a:lnTo>
                <a:lnTo>
                  <a:pt x="3587" y="1406"/>
                </a:lnTo>
                <a:lnTo>
                  <a:pt x="3613" y="1400"/>
                </a:lnTo>
                <a:lnTo>
                  <a:pt x="3637" y="1393"/>
                </a:lnTo>
                <a:lnTo>
                  <a:pt x="3661" y="1388"/>
                </a:lnTo>
                <a:lnTo>
                  <a:pt x="3684" y="1384"/>
                </a:lnTo>
                <a:lnTo>
                  <a:pt x="3707" y="1382"/>
                </a:lnTo>
                <a:lnTo>
                  <a:pt x="3731" y="1379"/>
                </a:lnTo>
                <a:lnTo>
                  <a:pt x="3752" y="1378"/>
                </a:lnTo>
                <a:lnTo>
                  <a:pt x="3774" y="1378"/>
                </a:lnTo>
                <a:lnTo>
                  <a:pt x="3794" y="1379"/>
                </a:lnTo>
                <a:lnTo>
                  <a:pt x="3815" y="1380"/>
                </a:lnTo>
                <a:lnTo>
                  <a:pt x="3834" y="1383"/>
                </a:lnTo>
                <a:lnTo>
                  <a:pt x="3852" y="1387"/>
                </a:lnTo>
                <a:lnTo>
                  <a:pt x="3870" y="1391"/>
                </a:lnTo>
                <a:lnTo>
                  <a:pt x="3888" y="1396"/>
                </a:lnTo>
                <a:lnTo>
                  <a:pt x="3905" y="1401"/>
                </a:lnTo>
                <a:lnTo>
                  <a:pt x="3920" y="1406"/>
                </a:lnTo>
                <a:lnTo>
                  <a:pt x="3935" y="1412"/>
                </a:lnTo>
                <a:lnTo>
                  <a:pt x="3949" y="1420"/>
                </a:lnTo>
                <a:lnTo>
                  <a:pt x="3962" y="1428"/>
                </a:lnTo>
                <a:lnTo>
                  <a:pt x="4020" y="1464"/>
                </a:lnTo>
                <a:lnTo>
                  <a:pt x="4071" y="1497"/>
                </a:lnTo>
                <a:lnTo>
                  <a:pt x="4161" y="1557"/>
                </a:lnTo>
                <a:lnTo>
                  <a:pt x="4237" y="1609"/>
                </a:lnTo>
                <a:lnTo>
                  <a:pt x="4272" y="1634"/>
                </a:lnTo>
                <a:lnTo>
                  <a:pt x="4308" y="1654"/>
                </a:lnTo>
                <a:lnTo>
                  <a:pt x="4342" y="1675"/>
                </a:lnTo>
                <a:lnTo>
                  <a:pt x="4378" y="1691"/>
                </a:lnTo>
                <a:lnTo>
                  <a:pt x="4414" y="1708"/>
                </a:lnTo>
                <a:lnTo>
                  <a:pt x="4454" y="1722"/>
                </a:lnTo>
                <a:lnTo>
                  <a:pt x="4496" y="1734"/>
                </a:lnTo>
                <a:lnTo>
                  <a:pt x="4542" y="1744"/>
                </a:lnTo>
                <a:lnTo>
                  <a:pt x="4593" y="1753"/>
                </a:lnTo>
                <a:lnTo>
                  <a:pt x="4649" y="1759"/>
                </a:lnTo>
                <a:lnTo>
                  <a:pt x="4582" y="1718"/>
                </a:lnTo>
                <a:lnTo>
                  <a:pt x="4524" y="1681"/>
                </a:lnTo>
                <a:lnTo>
                  <a:pt x="4473" y="1649"/>
                </a:lnTo>
                <a:lnTo>
                  <a:pt x="4431" y="1620"/>
                </a:lnTo>
                <a:lnTo>
                  <a:pt x="4395" y="1594"/>
                </a:lnTo>
                <a:lnTo>
                  <a:pt x="4363" y="1571"/>
                </a:lnTo>
                <a:lnTo>
                  <a:pt x="4337" y="1549"/>
                </a:lnTo>
                <a:lnTo>
                  <a:pt x="4315" y="1530"/>
                </a:lnTo>
                <a:lnTo>
                  <a:pt x="4296" y="1512"/>
                </a:lnTo>
                <a:lnTo>
                  <a:pt x="4278" y="1496"/>
                </a:lnTo>
                <a:lnTo>
                  <a:pt x="4248" y="1461"/>
                </a:lnTo>
                <a:lnTo>
                  <a:pt x="4214" y="1425"/>
                </a:lnTo>
                <a:lnTo>
                  <a:pt x="4195" y="1405"/>
                </a:lnTo>
                <a:lnTo>
                  <a:pt x="4173" y="1383"/>
                </a:lnTo>
                <a:lnTo>
                  <a:pt x="4138" y="1353"/>
                </a:lnTo>
                <a:lnTo>
                  <a:pt x="4102" y="1328"/>
                </a:lnTo>
                <a:lnTo>
                  <a:pt x="4066" y="1305"/>
                </a:lnTo>
                <a:lnTo>
                  <a:pt x="4030" y="1286"/>
                </a:lnTo>
                <a:lnTo>
                  <a:pt x="3995" y="1269"/>
                </a:lnTo>
                <a:lnTo>
                  <a:pt x="3961" y="1255"/>
                </a:lnTo>
                <a:lnTo>
                  <a:pt x="3926" y="1243"/>
                </a:lnTo>
                <a:lnTo>
                  <a:pt x="3892" y="1236"/>
                </a:lnTo>
                <a:lnTo>
                  <a:pt x="3858" y="1229"/>
                </a:lnTo>
                <a:lnTo>
                  <a:pt x="3825" y="1224"/>
                </a:lnTo>
                <a:lnTo>
                  <a:pt x="3793" y="1223"/>
                </a:lnTo>
                <a:lnTo>
                  <a:pt x="3761" y="1222"/>
                </a:lnTo>
                <a:lnTo>
                  <a:pt x="3731" y="1224"/>
                </a:lnTo>
                <a:lnTo>
                  <a:pt x="3700" y="1227"/>
                </a:lnTo>
                <a:lnTo>
                  <a:pt x="3670" y="1232"/>
                </a:lnTo>
                <a:lnTo>
                  <a:pt x="3641" y="1238"/>
                </a:lnTo>
                <a:lnTo>
                  <a:pt x="3613" y="1245"/>
                </a:lnTo>
                <a:lnTo>
                  <a:pt x="3586" y="1254"/>
                </a:lnTo>
                <a:lnTo>
                  <a:pt x="3560" y="1263"/>
                </a:lnTo>
                <a:lnTo>
                  <a:pt x="3535" y="1273"/>
                </a:lnTo>
                <a:lnTo>
                  <a:pt x="3510" y="1284"/>
                </a:lnTo>
                <a:lnTo>
                  <a:pt x="3487" y="1296"/>
                </a:lnTo>
                <a:lnTo>
                  <a:pt x="3464" y="1307"/>
                </a:lnTo>
                <a:lnTo>
                  <a:pt x="3444" y="1320"/>
                </a:lnTo>
                <a:lnTo>
                  <a:pt x="3405" y="1344"/>
                </a:lnTo>
                <a:lnTo>
                  <a:pt x="3371" y="1370"/>
                </a:lnTo>
                <a:lnTo>
                  <a:pt x="3343" y="1392"/>
                </a:lnTo>
                <a:lnTo>
                  <a:pt x="3321" y="1412"/>
                </a:lnTo>
                <a:lnTo>
                  <a:pt x="3280" y="1428"/>
                </a:lnTo>
                <a:lnTo>
                  <a:pt x="3242" y="1439"/>
                </a:lnTo>
                <a:lnTo>
                  <a:pt x="3206" y="1448"/>
                </a:lnTo>
                <a:lnTo>
                  <a:pt x="3171" y="1453"/>
                </a:lnTo>
                <a:lnTo>
                  <a:pt x="3139" y="1457"/>
                </a:lnTo>
                <a:lnTo>
                  <a:pt x="3108" y="1457"/>
                </a:lnTo>
                <a:lnTo>
                  <a:pt x="3079" y="1456"/>
                </a:lnTo>
                <a:lnTo>
                  <a:pt x="3052" y="1452"/>
                </a:lnTo>
                <a:lnTo>
                  <a:pt x="3028" y="1446"/>
                </a:lnTo>
                <a:lnTo>
                  <a:pt x="3004" y="1438"/>
                </a:lnTo>
                <a:lnTo>
                  <a:pt x="2982" y="1428"/>
                </a:lnTo>
                <a:lnTo>
                  <a:pt x="2963" y="1416"/>
                </a:lnTo>
                <a:lnTo>
                  <a:pt x="2945" y="1403"/>
                </a:lnTo>
                <a:lnTo>
                  <a:pt x="2928" y="1389"/>
                </a:lnTo>
                <a:lnTo>
                  <a:pt x="2913" y="1374"/>
                </a:lnTo>
                <a:lnTo>
                  <a:pt x="2900" y="1357"/>
                </a:lnTo>
                <a:lnTo>
                  <a:pt x="2900" y="1730"/>
                </a:lnTo>
                <a:close/>
                <a:moveTo>
                  <a:pt x="2900" y="1073"/>
                </a:moveTo>
                <a:lnTo>
                  <a:pt x="2900" y="469"/>
                </a:lnTo>
                <a:lnTo>
                  <a:pt x="2915" y="469"/>
                </a:lnTo>
                <a:lnTo>
                  <a:pt x="2931" y="469"/>
                </a:lnTo>
                <a:lnTo>
                  <a:pt x="2947" y="469"/>
                </a:lnTo>
                <a:lnTo>
                  <a:pt x="2964" y="470"/>
                </a:lnTo>
                <a:lnTo>
                  <a:pt x="2980" y="473"/>
                </a:lnTo>
                <a:lnTo>
                  <a:pt x="2998" y="477"/>
                </a:lnTo>
                <a:lnTo>
                  <a:pt x="3015" y="480"/>
                </a:lnTo>
                <a:lnTo>
                  <a:pt x="3032" y="486"/>
                </a:lnTo>
                <a:lnTo>
                  <a:pt x="3048" y="492"/>
                </a:lnTo>
                <a:lnTo>
                  <a:pt x="3065" y="498"/>
                </a:lnTo>
                <a:lnTo>
                  <a:pt x="3082" y="506"/>
                </a:lnTo>
                <a:lnTo>
                  <a:pt x="3097" y="515"/>
                </a:lnTo>
                <a:lnTo>
                  <a:pt x="3112" y="524"/>
                </a:lnTo>
                <a:lnTo>
                  <a:pt x="3128" y="534"/>
                </a:lnTo>
                <a:lnTo>
                  <a:pt x="3142" y="546"/>
                </a:lnTo>
                <a:lnTo>
                  <a:pt x="3155" y="558"/>
                </a:lnTo>
                <a:lnTo>
                  <a:pt x="3166" y="571"/>
                </a:lnTo>
                <a:lnTo>
                  <a:pt x="3176" y="585"/>
                </a:lnTo>
                <a:lnTo>
                  <a:pt x="3187" y="601"/>
                </a:lnTo>
                <a:lnTo>
                  <a:pt x="3195" y="616"/>
                </a:lnTo>
                <a:lnTo>
                  <a:pt x="3202" y="634"/>
                </a:lnTo>
                <a:lnTo>
                  <a:pt x="3208" y="652"/>
                </a:lnTo>
                <a:lnTo>
                  <a:pt x="3212" y="670"/>
                </a:lnTo>
                <a:lnTo>
                  <a:pt x="3215" y="690"/>
                </a:lnTo>
                <a:lnTo>
                  <a:pt x="3215" y="711"/>
                </a:lnTo>
                <a:lnTo>
                  <a:pt x="3213" y="733"/>
                </a:lnTo>
                <a:lnTo>
                  <a:pt x="3211" y="756"/>
                </a:lnTo>
                <a:lnTo>
                  <a:pt x="3204" y="780"/>
                </a:lnTo>
                <a:lnTo>
                  <a:pt x="3198" y="804"/>
                </a:lnTo>
                <a:lnTo>
                  <a:pt x="3188" y="830"/>
                </a:lnTo>
                <a:lnTo>
                  <a:pt x="3175" y="857"/>
                </a:lnTo>
                <a:lnTo>
                  <a:pt x="3161" y="885"/>
                </a:lnTo>
                <a:lnTo>
                  <a:pt x="3189" y="886"/>
                </a:lnTo>
                <a:lnTo>
                  <a:pt x="3208" y="887"/>
                </a:lnTo>
                <a:lnTo>
                  <a:pt x="3230" y="890"/>
                </a:lnTo>
                <a:lnTo>
                  <a:pt x="3253" y="895"/>
                </a:lnTo>
                <a:lnTo>
                  <a:pt x="3277" y="902"/>
                </a:lnTo>
                <a:lnTo>
                  <a:pt x="3303" y="911"/>
                </a:lnTo>
                <a:lnTo>
                  <a:pt x="3316" y="917"/>
                </a:lnTo>
                <a:lnTo>
                  <a:pt x="3327" y="923"/>
                </a:lnTo>
                <a:lnTo>
                  <a:pt x="3340" y="931"/>
                </a:lnTo>
                <a:lnTo>
                  <a:pt x="3352" y="940"/>
                </a:lnTo>
                <a:lnTo>
                  <a:pt x="3363" y="950"/>
                </a:lnTo>
                <a:lnTo>
                  <a:pt x="3373" y="960"/>
                </a:lnTo>
                <a:lnTo>
                  <a:pt x="3384" y="973"/>
                </a:lnTo>
                <a:lnTo>
                  <a:pt x="3394" y="986"/>
                </a:lnTo>
                <a:lnTo>
                  <a:pt x="3403" y="1000"/>
                </a:lnTo>
                <a:lnTo>
                  <a:pt x="3411" y="1017"/>
                </a:lnTo>
                <a:lnTo>
                  <a:pt x="3418" y="1035"/>
                </a:lnTo>
                <a:lnTo>
                  <a:pt x="3425" y="1054"/>
                </a:lnTo>
                <a:lnTo>
                  <a:pt x="3430" y="1074"/>
                </a:lnTo>
                <a:lnTo>
                  <a:pt x="3434" y="1096"/>
                </a:lnTo>
                <a:lnTo>
                  <a:pt x="3436" y="1120"/>
                </a:lnTo>
                <a:lnTo>
                  <a:pt x="3439" y="1146"/>
                </a:lnTo>
                <a:lnTo>
                  <a:pt x="3439" y="1173"/>
                </a:lnTo>
                <a:lnTo>
                  <a:pt x="3437" y="1202"/>
                </a:lnTo>
                <a:lnTo>
                  <a:pt x="3432" y="1218"/>
                </a:lnTo>
                <a:lnTo>
                  <a:pt x="3426" y="1233"/>
                </a:lnTo>
                <a:lnTo>
                  <a:pt x="3418" y="1248"/>
                </a:lnTo>
                <a:lnTo>
                  <a:pt x="3408" y="1264"/>
                </a:lnTo>
                <a:lnTo>
                  <a:pt x="3395" y="1279"/>
                </a:lnTo>
                <a:lnTo>
                  <a:pt x="3382" y="1293"/>
                </a:lnTo>
                <a:lnTo>
                  <a:pt x="3367" y="1307"/>
                </a:lnTo>
                <a:lnTo>
                  <a:pt x="3350" y="1320"/>
                </a:lnTo>
                <a:lnTo>
                  <a:pt x="3334" y="1333"/>
                </a:lnTo>
                <a:lnTo>
                  <a:pt x="3315" y="1344"/>
                </a:lnTo>
                <a:lnTo>
                  <a:pt x="3295" y="1356"/>
                </a:lnTo>
                <a:lnTo>
                  <a:pt x="3276" y="1366"/>
                </a:lnTo>
                <a:lnTo>
                  <a:pt x="3254" y="1374"/>
                </a:lnTo>
                <a:lnTo>
                  <a:pt x="3234" y="1382"/>
                </a:lnTo>
                <a:lnTo>
                  <a:pt x="3212" y="1388"/>
                </a:lnTo>
                <a:lnTo>
                  <a:pt x="3190" y="1393"/>
                </a:lnTo>
                <a:lnTo>
                  <a:pt x="3169" y="1397"/>
                </a:lnTo>
                <a:lnTo>
                  <a:pt x="3147" y="1398"/>
                </a:lnTo>
                <a:lnTo>
                  <a:pt x="3125" y="1400"/>
                </a:lnTo>
                <a:lnTo>
                  <a:pt x="3105" y="1398"/>
                </a:lnTo>
                <a:lnTo>
                  <a:pt x="3084" y="1394"/>
                </a:lnTo>
                <a:lnTo>
                  <a:pt x="3064" y="1389"/>
                </a:lnTo>
                <a:lnTo>
                  <a:pt x="3044" y="1382"/>
                </a:lnTo>
                <a:lnTo>
                  <a:pt x="3027" y="1373"/>
                </a:lnTo>
                <a:lnTo>
                  <a:pt x="3010" y="1361"/>
                </a:lnTo>
                <a:lnTo>
                  <a:pt x="2993" y="1347"/>
                </a:lnTo>
                <a:lnTo>
                  <a:pt x="2979" y="1330"/>
                </a:lnTo>
                <a:lnTo>
                  <a:pt x="2966" y="1312"/>
                </a:lnTo>
                <a:lnTo>
                  <a:pt x="2955" y="1291"/>
                </a:lnTo>
                <a:lnTo>
                  <a:pt x="2945" y="1266"/>
                </a:lnTo>
                <a:lnTo>
                  <a:pt x="2937" y="1240"/>
                </a:lnTo>
                <a:lnTo>
                  <a:pt x="2932" y="1210"/>
                </a:lnTo>
                <a:lnTo>
                  <a:pt x="2929" y="1193"/>
                </a:lnTo>
                <a:lnTo>
                  <a:pt x="2929" y="1177"/>
                </a:lnTo>
                <a:lnTo>
                  <a:pt x="2932" y="1161"/>
                </a:lnTo>
                <a:lnTo>
                  <a:pt x="2937" y="1147"/>
                </a:lnTo>
                <a:lnTo>
                  <a:pt x="2943" y="1135"/>
                </a:lnTo>
                <a:lnTo>
                  <a:pt x="2951" y="1122"/>
                </a:lnTo>
                <a:lnTo>
                  <a:pt x="2960" y="1110"/>
                </a:lnTo>
                <a:lnTo>
                  <a:pt x="2970" y="1100"/>
                </a:lnTo>
                <a:lnTo>
                  <a:pt x="2982" y="1091"/>
                </a:lnTo>
                <a:lnTo>
                  <a:pt x="2995" y="1082"/>
                </a:lnTo>
                <a:lnTo>
                  <a:pt x="3007" y="1074"/>
                </a:lnTo>
                <a:lnTo>
                  <a:pt x="3021" y="1069"/>
                </a:lnTo>
                <a:lnTo>
                  <a:pt x="3036" y="1064"/>
                </a:lnTo>
                <a:lnTo>
                  <a:pt x="3050" y="1060"/>
                </a:lnTo>
                <a:lnTo>
                  <a:pt x="3065" y="1058"/>
                </a:lnTo>
                <a:lnTo>
                  <a:pt x="3079" y="1056"/>
                </a:lnTo>
                <a:lnTo>
                  <a:pt x="3094" y="1056"/>
                </a:lnTo>
                <a:lnTo>
                  <a:pt x="3108" y="1058"/>
                </a:lnTo>
                <a:lnTo>
                  <a:pt x="3123" y="1062"/>
                </a:lnTo>
                <a:lnTo>
                  <a:pt x="3135" y="1065"/>
                </a:lnTo>
                <a:lnTo>
                  <a:pt x="3148" y="1071"/>
                </a:lnTo>
                <a:lnTo>
                  <a:pt x="3160" y="1078"/>
                </a:lnTo>
                <a:lnTo>
                  <a:pt x="3170" y="1087"/>
                </a:lnTo>
                <a:lnTo>
                  <a:pt x="3179" y="1096"/>
                </a:lnTo>
                <a:lnTo>
                  <a:pt x="3187" y="1109"/>
                </a:lnTo>
                <a:lnTo>
                  <a:pt x="3192" y="1122"/>
                </a:lnTo>
                <a:lnTo>
                  <a:pt x="3197" y="1136"/>
                </a:lnTo>
                <a:lnTo>
                  <a:pt x="3198" y="1152"/>
                </a:lnTo>
                <a:lnTo>
                  <a:pt x="3199" y="1172"/>
                </a:lnTo>
                <a:lnTo>
                  <a:pt x="3197" y="1191"/>
                </a:lnTo>
                <a:lnTo>
                  <a:pt x="3193" y="1213"/>
                </a:lnTo>
                <a:lnTo>
                  <a:pt x="3185" y="1236"/>
                </a:lnTo>
                <a:lnTo>
                  <a:pt x="3201" y="1233"/>
                </a:lnTo>
                <a:lnTo>
                  <a:pt x="3215" y="1228"/>
                </a:lnTo>
                <a:lnTo>
                  <a:pt x="3226" y="1220"/>
                </a:lnTo>
                <a:lnTo>
                  <a:pt x="3235" y="1213"/>
                </a:lnTo>
                <a:lnTo>
                  <a:pt x="3242" y="1204"/>
                </a:lnTo>
                <a:lnTo>
                  <a:pt x="3247" y="1192"/>
                </a:lnTo>
                <a:lnTo>
                  <a:pt x="3251" y="1181"/>
                </a:lnTo>
                <a:lnTo>
                  <a:pt x="3252" y="1168"/>
                </a:lnTo>
                <a:lnTo>
                  <a:pt x="3252" y="1155"/>
                </a:lnTo>
                <a:lnTo>
                  <a:pt x="3249" y="1142"/>
                </a:lnTo>
                <a:lnTo>
                  <a:pt x="3245" y="1128"/>
                </a:lnTo>
                <a:lnTo>
                  <a:pt x="3240" y="1114"/>
                </a:lnTo>
                <a:lnTo>
                  <a:pt x="3233" y="1100"/>
                </a:lnTo>
                <a:lnTo>
                  <a:pt x="3225" y="1086"/>
                </a:lnTo>
                <a:lnTo>
                  <a:pt x="3215" y="1073"/>
                </a:lnTo>
                <a:lnTo>
                  <a:pt x="3204" y="1060"/>
                </a:lnTo>
                <a:lnTo>
                  <a:pt x="3192" y="1049"/>
                </a:lnTo>
                <a:lnTo>
                  <a:pt x="3178" y="1037"/>
                </a:lnTo>
                <a:lnTo>
                  <a:pt x="3163" y="1027"/>
                </a:lnTo>
                <a:lnTo>
                  <a:pt x="3147" y="1018"/>
                </a:lnTo>
                <a:lnTo>
                  <a:pt x="3130" y="1012"/>
                </a:lnTo>
                <a:lnTo>
                  <a:pt x="3114" y="1005"/>
                </a:lnTo>
                <a:lnTo>
                  <a:pt x="3094" y="1001"/>
                </a:lnTo>
                <a:lnTo>
                  <a:pt x="3075" y="999"/>
                </a:lnTo>
                <a:lnTo>
                  <a:pt x="3055" y="999"/>
                </a:lnTo>
                <a:lnTo>
                  <a:pt x="3034" y="1001"/>
                </a:lnTo>
                <a:lnTo>
                  <a:pt x="3012" y="1007"/>
                </a:lnTo>
                <a:lnTo>
                  <a:pt x="2991" y="1014"/>
                </a:lnTo>
                <a:lnTo>
                  <a:pt x="2969" y="1023"/>
                </a:lnTo>
                <a:lnTo>
                  <a:pt x="2946" y="1037"/>
                </a:lnTo>
                <a:lnTo>
                  <a:pt x="2923" y="1053"/>
                </a:lnTo>
                <a:lnTo>
                  <a:pt x="2900" y="1073"/>
                </a:lnTo>
                <a:close/>
                <a:moveTo>
                  <a:pt x="2900" y="2002"/>
                </a:moveTo>
                <a:lnTo>
                  <a:pt x="2900" y="1798"/>
                </a:lnTo>
                <a:lnTo>
                  <a:pt x="2928" y="1795"/>
                </a:lnTo>
                <a:lnTo>
                  <a:pt x="2955" y="1793"/>
                </a:lnTo>
                <a:lnTo>
                  <a:pt x="3007" y="1785"/>
                </a:lnTo>
                <a:lnTo>
                  <a:pt x="3056" y="1776"/>
                </a:lnTo>
                <a:lnTo>
                  <a:pt x="3099" y="1764"/>
                </a:lnTo>
                <a:lnTo>
                  <a:pt x="3138" y="1752"/>
                </a:lnTo>
                <a:lnTo>
                  <a:pt x="3170" y="1739"/>
                </a:lnTo>
                <a:lnTo>
                  <a:pt x="3183" y="1732"/>
                </a:lnTo>
                <a:lnTo>
                  <a:pt x="3194" y="1726"/>
                </a:lnTo>
                <a:lnTo>
                  <a:pt x="3204" y="1718"/>
                </a:lnTo>
                <a:lnTo>
                  <a:pt x="3212" y="1712"/>
                </a:lnTo>
                <a:lnTo>
                  <a:pt x="3266" y="1667"/>
                </a:lnTo>
                <a:lnTo>
                  <a:pt x="3318" y="1625"/>
                </a:lnTo>
                <a:lnTo>
                  <a:pt x="3370" y="1588"/>
                </a:lnTo>
                <a:lnTo>
                  <a:pt x="3418" y="1556"/>
                </a:lnTo>
                <a:lnTo>
                  <a:pt x="3466" y="1528"/>
                </a:lnTo>
                <a:lnTo>
                  <a:pt x="3512" y="1503"/>
                </a:lnTo>
                <a:lnTo>
                  <a:pt x="3555" y="1481"/>
                </a:lnTo>
                <a:lnTo>
                  <a:pt x="3597" y="1465"/>
                </a:lnTo>
                <a:lnTo>
                  <a:pt x="3637" y="1452"/>
                </a:lnTo>
                <a:lnTo>
                  <a:pt x="3675" y="1442"/>
                </a:lnTo>
                <a:lnTo>
                  <a:pt x="3713" y="1435"/>
                </a:lnTo>
                <a:lnTo>
                  <a:pt x="3747" y="1433"/>
                </a:lnTo>
                <a:lnTo>
                  <a:pt x="3779" y="1433"/>
                </a:lnTo>
                <a:lnTo>
                  <a:pt x="3811" y="1435"/>
                </a:lnTo>
                <a:lnTo>
                  <a:pt x="3839" y="1440"/>
                </a:lnTo>
                <a:lnTo>
                  <a:pt x="3867" y="1449"/>
                </a:lnTo>
                <a:lnTo>
                  <a:pt x="3893" y="1457"/>
                </a:lnTo>
                <a:lnTo>
                  <a:pt x="3919" y="1467"/>
                </a:lnTo>
                <a:lnTo>
                  <a:pt x="3943" y="1478"/>
                </a:lnTo>
                <a:lnTo>
                  <a:pt x="3965" y="1488"/>
                </a:lnTo>
                <a:lnTo>
                  <a:pt x="3988" y="1501"/>
                </a:lnTo>
                <a:lnTo>
                  <a:pt x="4010" y="1513"/>
                </a:lnTo>
                <a:lnTo>
                  <a:pt x="4050" y="1542"/>
                </a:lnTo>
                <a:lnTo>
                  <a:pt x="4091" y="1571"/>
                </a:lnTo>
                <a:lnTo>
                  <a:pt x="4132" y="1602"/>
                </a:lnTo>
                <a:lnTo>
                  <a:pt x="4175" y="1634"/>
                </a:lnTo>
                <a:lnTo>
                  <a:pt x="4221" y="1665"/>
                </a:lnTo>
                <a:lnTo>
                  <a:pt x="4244" y="1680"/>
                </a:lnTo>
                <a:lnTo>
                  <a:pt x="4269" y="1694"/>
                </a:lnTo>
                <a:lnTo>
                  <a:pt x="4296" y="1709"/>
                </a:lnTo>
                <a:lnTo>
                  <a:pt x="4323" y="1722"/>
                </a:lnTo>
                <a:lnTo>
                  <a:pt x="4353" y="1736"/>
                </a:lnTo>
                <a:lnTo>
                  <a:pt x="4383" y="1748"/>
                </a:lnTo>
                <a:lnTo>
                  <a:pt x="4417" y="1759"/>
                </a:lnTo>
                <a:lnTo>
                  <a:pt x="4451" y="1769"/>
                </a:lnTo>
                <a:lnTo>
                  <a:pt x="4488" y="1780"/>
                </a:lnTo>
                <a:lnTo>
                  <a:pt x="4527" y="1787"/>
                </a:lnTo>
                <a:lnTo>
                  <a:pt x="4569" y="1795"/>
                </a:lnTo>
                <a:lnTo>
                  <a:pt x="4612" y="1800"/>
                </a:lnTo>
                <a:lnTo>
                  <a:pt x="4660" y="1804"/>
                </a:lnTo>
                <a:lnTo>
                  <a:pt x="4710" y="1808"/>
                </a:lnTo>
                <a:lnTo>
                  <a:pt x="4762" y="1808"/>
                </a:lnTo>
                <a:lnTo>
                  <a:pt x="4817" y="1808"/>
                </a:lnTo>
                <a:lnTo>
                  <a:pt x="4794" y="1821"/>
                </a:lnTo>
                <a:lnTo>
                  <a:pt x="4770" y="1833"/>
                </a:lnTo>
                <a:lnTo>
                  <a:pt x="4745" y="1844"/>
                </a:lnTo>
                <a:lnTo>
                  <a:pt x="4720" y="1853"/>
                </a:lnTo>
                <a:lnTo>
                  <a:pt x="4694" y="1860"/>
                </a:lnTo>
                <a:lnTo>
                  <a:pt x="4669" y="1867"/>
                </a:lnTo>
                <a:lnTo>
                  <a:pt x="4642" y="1873"/>
                </a:lnTo>
                <a:lnTo>
                  <a:pt x="4615" y="1877"/>
                </a:lnTo>
                <a:lnTo>
                  <a:pt x="4588" y="1880"/>
                </a:lnTo>
                <a:lnTo>
                  <a:pt x="4561" y="1882"/>
                </a:lnTo>
                <a:lnTo>
                  <a:pt x="4534" y="1883"/>
                </a:lnTo>
                <a:lnTo>
                  <a:pt x="4507" y="1883"/>
                </a:lnTo>
                <a:lnTo>
                  <a:pt x="4481" y="1882"/>
                </a:lnTo>
                <a:lnTo>
                  <a:pt x="4455" y="1881"/>
                </a:lnTo>
                <a:lnTo>
                  <a:pt x="4404" y="1876"/>
                </a:lnTo>
                <a:lnTo>
                  <a:pt x="4354" y="1868"/>
                </a:lnTo>
                <a:lnTo>
                  <a:pt x="4308" y="1859"/>
                </a:lnTo>
                <a:lnTo>
                  <a:pt x="4266" y="1848"/>
                </a:lnTo>
                <a:lnTo>
                  <a:pt x="4227" y="1836"/>
                </a:lnTo>
                <a:lnTo>
                  <a:pt x="4195" y="1823"/>
                </a:lnTo>
                <a:lnTo>
                  <a:pt x="4167" y="1810"/>
                </a:lnTo>
                <a:lnTo>
                  <a:pt x="4146" y="1798"/>
                </a:lnTo>
                <a:lnTo>
                  <a:pt x="4138" y="1791"/>
                </a:lnTo>
                <a:lnTo>
                  <a:pt x="4132" y="1786"/>
                </a:lnTo>
                <a:lnTo>
                  <a:pt x="4102" y="1766"/>
                </a:lnTo>
                <a:lnTo>
                  <a:pt x="4072" y="1748"/>
                </a:lnTo>
                <a:lnTo>
                  <a:pt x="4043" y="1731"/>
                </a:lnTo>
                <a:lnTo>
                  <a:pt x="4015" y="1717"/>
                </a:lnTo>
                <a:lnTo>
                  <a:pt x="3986" y="1704"/>
                </a:lnTo>
                <a:lnTo>
                  <a:pt x="3960" y="1693"/>
                </a:lnTo>
                <a:lnTo>
                  <a:pt x="3934" y="1682"/>
                </a:lnTo>
                <a:lnTo>
                  <a:pt x="3908" y="1673"/>
                </a:lnTo>
                <a:lnTo>
                  <a:pt x="3883" y="1667"/>
                </a:lnTo>
                <a:lnTo>
                  <a:pt x="3858" y="1662"/>
                </a:lnTo>
                <a:lnTo>
                  <a:pt x="3835" y="1657"/>
                </a:lnTo>
                <a:lnTo>
                  <a:pt x="3812" y="1654"/>
                </a:lnTo>
                <a:lnTo>
                  <a:pt x="3789" y="1652"/>
                </a:lnTo>
                <a:lnTo>
                  <a:pt x="3768" y="1650"/>
                </a:lnTo>
                <a:lnTo>
                  <a:pt x="3747" y="1650"/>
                </a:lnTo>
                <a:lnTo>
                  <a:pt x="3727" y="1652"/>
                </a:lnTo>
                <a:lnTo>
                  <a:pt x="3707" y="1654"/>
                </a:lnTo>
                <a:lnTo>
                  <a:pt x="3688" y="1657"/>
                </a:lnTo>
                <a:lnTo>
                  <a:pt x="3670" y="1659"/>
                </a:lnTo>
                <a:lnTo>
                  <a:pt x="3652" y="1665"/>
                </a:lnTo>
                <a:lnTo>
                  <a:pt x="3619" y="1673"/>
                </a:lnTo>
                <a:lnTo>
                  <a:pt x="3590" y="1686"/>
                </a:lnTo>
                <a:lnTo>
                  <a:pt x="3563" y="1699"/>
                </a:lnTo>
                <a:lnTo>
                  <a:pt x="3539" y="1713"/>
                </a:lnTo>
                <a:lnTo>
                  <a:pt x="3518" y="1727"/>
                </a:lnTo>
                <a:lnTo>
                  <a:pt x="3500" y="1741"/>
                </a:lnTo>
                <a:lnTo>
                  <a:pt x="3466" y="1769"/>
                </a:lnTo>
                <a:lnTo>
                  <a:pt x="3444" y="1785"/>
                </a:lnTo>
                <a:lnTo>
                  <a:pt x="3419" y="1801"/>
                </a:lnTo>
                <a:lnTo>
                  <a:pt x="3393" y="1819"/>
                </a:lnTo>
                <a:lnTo>
                  <a:pt x="3363" y="1837"/>
                </a:lnTo>
                <a:lnTo>
                  <a:pt x="3331" y="1855"/>
                </a:lnTo>
                <a:lnTo>
                  <a:pt x="3295" y="1873"/>
                </a:lnTo>
                <a:lnTo>
                  <a:pt x="3257" y="1892"/>
                </a:lnTo>
                <a:lnTo>
                  <a:pt x="3216" y="1910"/>
                </a:lnTo>
                <a:lnTo>
                  <a:pt x="3171" y="1927"/>
                </a:lnTo>
                <a:lnTo>
                  <a:pt x="3124" y="1945"/>
                </a:lnTo>
                <a:lnTo>
                  <a:pt x="3073" y="1960"/>
                </a:lnTo>
                <a:lnTo>
                  <a:pt x="3018" y="1976"/>
                </a:lnTo>
                <a:lnTo>
                  <a:pt x="2960" y="1990"/>
                </a:lnTo>
                <a:lnTo>
                  <a:pt x="2900" y="2002"/>
                </a:lnTo>
                <a:close/>
                <a:moveTo>
                  <a:pt x="404" y="1054"/>
                </a:moveTo>
                <a:lnTo>
                  <a:pt x="404" y="1054"/>
                </a:lnTo>
                <a:lnTo>
                  <a:pt x="369" y="1047"/>
                </a:lnTo>
                <a:lnTo>
                  <a:pt x="336" y="1042"/>
                </a:lnTo>
                <a:lnTo>
                  <a:pt x="304" y="1039"/>
                </a:lnTo>
                <a:lnTo>
                  <a:pt x="275" y="1039"/>
                </a:lnTo>
                <a:lnTo>
                  <a:pt x="245" y="1040"/>
                </a:lnTo>
                <a:lnTo>
                  <a:pt x="218" y="1044"/>
                </a:lnTo>
                <a:lnTo>
                  <a:pt x="191" y="1049"/>
                </a:lnTo>
                <a:lnTo>
                  <a:pt x="167" y="1056"/>
                </a:lnTo>
                <a:lnTo>
                  <a:pt x="145" y="1065"/>
                </a:lnTo>
                <a:lnTo>
                  <a:pt x="124" y="1077"/>
                </a:lnTo>
                <a:lnTo>
                  <a:pt x="104" y="1088"/>
                </a:lnTo>
                <a:lnTo>
                  <a:pt x="87" y="1101"/>
                </a:lnTo>
                <a:lnTo>
                  <a:pt x="70" y="1117"/>
                </a:lnTo>
                <a:lnTo>
                  <a:pt x="56" y="1132"/>
                </a:lnTo>
                <a:lnTo>
                  <a:pt x="42" y="1149"/>
                </a:lnTo>
                <a:lnTo>
                  <a:pt x="32" y="1167"/>
                </a:lnTo>
                <a:lnTo>
                  <a:pt x="21" y="1184"/>
                </a:lnTo>
                <a:lnTo>
                  <a:pt x="14" y="1204"/>
                </a:lnTo>
                <a:lnTo>
                  <a:pt x="7" y="1223"/>
                </a:lnTo>
                <a:lnTo>
                  <a:pt x="3" y="1243"/>
                </a:lnTo>
                <a:lnTo>
                  <a:pt x="1" y="1264"/>
                </a:lnTo>
                <a:lnTo>
                  <a:pt x="0" y="1284"/>
                </a:lnTo>
                <a:lnTo>
                  <a:pt x="1" y="1305"/>
                </a:lnTo>
                <a:lnTo>
                  <a:pt x="3" y="1325"/>
                </a:lnTo>
                <a:lnTo>
                  <a:pt x="8" y="1346"/>
                </a:lnTo>
                <a:lnTo>
                  <a:pt x="15" y="1365"/>
                </a:lnTo>
                <a:lnTo>
                  <a:pt x="23" y="1385"/>
                </a:lnTo>
                <a:lnTo>
                  <a:pt x="33" y="1405"/>
                </a:lnTo>
                <a:lnTo>
                  <a:pt x="46" y="1424"/>
                </a:lnTo>
                <a:lnTo>
                  <a:pt x="60" y="1442"/>
                </a:lnTo>
                <a:lnTo>
                  <a:pt x="76" y="1458"/>
                </a:lnTo>
                <a:lnTo>
                  <a:pt x="94" y="1475"/>
                </a:lnTo>
                <a:lnTo>
                  <a:pt x="78" y="1506"/>
                </a:lnTo>
                <a:lnTo>
                  <a:pt x="64" y="1535"/>
                </a:lnTo>
                <a:lnTo>
                  <a:pt x="51" y="1565"/>
                </a:lnTo>
                <a:lnTo>
                  <a:pt x="40" y="1593"/>
                </a:lnTo>
                <a:lnTo>
                  <a:pt x="33" y="1621"/>
                </a:lnTo>
                <a:lnTo>
                  <a:pt x="26" y="1649"/>
                </a:lnTo>
                <a:lnTo>
                  <a:pt x="21" y="1675"/>
                </a:lnTo>
                <a:lnTo>
                  <a:pt x="17" y="1702"/>
                </a:lnTo>
                <a:lnTo>
                  <a:pt x="16" y="1727"/>
                </a:lnTo>
                <a:lnTo>
                  <a:pt x="16" y="1752"/>
                </a:lnTo>
                <a:lnTo>
                  <a:pt x="17" y="1775"/>
                </a:lnTo>
                <a:lnTo>
                  <a:pt x="20" y="1799"/>
                </a:lnTo>
                <a:lnTo>
                  <a:pt x="25" y="1821"/>
                </a:lnTo>
                <a:lnTo>
                  <a:pt x="30" y="1842"/>
                </a:lnTo>
                <a:lnTo>
                  <a:pt x="38" y="1864"/>
                </a:lnTo>
                <a:lnTo>
                  <a:pt x="46" y="1883"/>
                </a:lnTo>
                <a:lnTo>
                  <a:pt x="55" y="1904"/>
                </a:lnTo>
                <a:lnTo>
                  <a:pt x="65" y="1922"/>
                </a:lnTo>
                <a:lnTo>
                  <a:pt x="76" y="1940"/>
                </a:lnTo>
                <a:lnTo>
                  <a:pt x="89" y="1958"/>
                </a:lnTo>
                <a:lnTo>
                  <a:pt x="103" y="1973"/>
                </a:lnTo>
                <a:lnTo>
                  <a:pt x="117" y="1988"/>
                </a:lnTo>
                <a:lnTo>
                  <a:pt x="133" y="2004"/>
                </a:lnTo>
                <a:lnTo>
                  <a:pt x="148" y="2018"/>
                </a:lnTo>
                <a:lnTo>
                  <a:pt x="165" y="2031"/>
                </a:lnTo>
                <a:lnTo>
                  <a:pt x="183" y="2042"/>
                </a:lnTo>
                <a:lnTo>
                  <a:pt x="200" y="2054"/>
                </a:lnTo>
                <a:lnTo>
                  <a:pt x="218" y="2064"/>
                </a:lnTo>
                <a:lnTo>
                  <a:pt x="238" y="2074"/>
                </a:lnTo>
                <a:lnTo>
                  <a:pt x="258" y="2083"/>
                </a:lnTo>
                <a:lnTo>
                  <a:pt x="277" y="2091"/>
                </a:lnTo>
                <a:lnTo>
                  <a:pt x="298" y="2097"/>
                </a:lnTo>
                <a:lnTo>
                  <a:pt x="318" y="2104"/>
                </a:lnTo>
                <a:lnTo>
                  <a:pt x="339" y="2109"/>
                </a:lnTo>
                <a:lnTo>
                  <a:pt x="359" y="2113"/>
                </a:lnTo>
                <a:lnTo>
                  <a:pt x="380" y="2115"/>
                </a:lnTo>
                <a:lnTo>
                  <a:pt x="401" y="2118"/>
                </a:lnTo>
                <a:lnTo>
                  <a:pt x="422" y="2119"/>
                </a:lnTo>
                <a:lnTo>
                  <a:pt x="442" y="2119"/>
                </a:lnTo>
                <a:lnTo>
                  <a:pt x="464" y="2119"/>
                </a:lnTo>
                <a:lnTo>
                  <a:pt x="485" y="2116"/>
                </a:lnTo>
                <a:lnTo>
                  <a:pt x="504" y="2114"/>
                </a:lnTo>
                <a:lnTo>
                  <a:pt x="524" y="2110"/>
                </a:lnTo>
                <a:lnTo>
                  <a:pt x="543" y="2105"/>
                </a:lnTo>
                <a:lnTo>
                  <a:pt x="563" y="2100"/>
                </a:lnTo>
                <a:lnTo>
                  <a:pt x="582" y="2093"/>
                </a:lnTo>
                <a:lnTo>
                  <a:pt x="600" y="2084"/>
                </a:lnTo>
                <a:lnTo>
                  <a:pt x="618" y="2075"/>
                </a:lnTo>
                <a:lnTo>
                  <a:pt x="634" y="2066"/>
                </a:lnTo>
                <a:lnTo>
                  <a:pt x="651" y="2055"/>
                </a:lnTo>
                <a:lnTo>
                  <a:pt x="666" y="2042"/>
                </a:lnTo>
                <a:lnTo>
                  <a:pt x="682" y="2029"/>
                </a:lnTo>
                <a:lnTo>
                  <a:pt x="696" y="2015"/>
                </a:lnTo>
                <a:lnTo>
                  <a:pt x="709" y="2000"/>
                </a:lnTo>
                <a:lnTo>
                  <a:pt x="720" y="1983"/>
                </a:lnTo>
                <a:lnTo>
                  <a:pt x="732" y="1965"/>
                </a:lnTo>
                <a:lnTo>
                  <a:pt x="741" y="1946"/>
                </a:lnTo>
                <a:lnTo>
                  <a:pt x="750" y="1926"/>
                </a:lnTo>
                <a:lnTo>
                  <a:pt x="757" y="1905"/>
                </a:lnTo>
                <a:lnTo>
                  <a:pt x="764" y="1882"/>
                </a:lnTo>
                <a:lnTo>
                  <a:pt x="769" y="1859"/>
                </a:lnTo>
                <a:lnTo>
                  <a:pt x="771" y="1833"/>
                </a:lnTo>
                <a:lnTo>
                  <a:pt x="774" y="1808"/>
                </a:lnTo>
                <a:lnTo>
                  <a:pt x="774" y="1781"/>
                </a:lnTo>
                <a:lnTo>
                  <a:pt x="765" y="1752"/>
                </a:lnTo>
                <a:lnTo>
                  <a:pt x="753" y="1726"/>
                </a:lnTo>
                <a:lnTo>
                  <a:pt x="742" y="1703"/>
                </a:lnTo>
                <a:lnTo>
                  <a:pt x="729" y="1684"/>
                </a:lnTo>
                <a:lnTo>
                  <a:pt x="716" y="1665"/>
                </a:lnTo>
                <a:lnTo>
                  <a:pt x="702" y="1649"/>
                </a:lnTo>
                <a:lnTo>
                  <a:pt x="687" y="1636"/>
                </a:lnTo>
                <a:lnTo>
                  <a:pt x="673" y="1625"/>
                </a:lnTo>
                <a:lnTo>
                  <a:pt x="657" y="1616"/>
                </a:lnTo>
                <a:lnTo>
                  <a:pt x="642" y="1609"/>
                </a:lnTo>
                <a:lnTo>
                  <a:pt x="625" y="1604"/>
                </a:lnTo>
                <a:lnTo>
                  <a:pt x="610" y="1601"/>
                </a:lnTo>
                <a:lnTo>
                  <a:pt x="595" y="1599"/>
                </a:lnTo>
                <a:lnTo>
                  <a:pt x="578" y="1599"/>
                </a:lnTo>
                <a:lnTo>
                  <a:pt x="563" y="1601"/>
                </a:lnTo>
                <a:lnTo>
                  <a:pt x="549" y="1604"/>
                </a:lnTo>
                <a:lnTo>
                  <a:pt x="533" y="1608"/>
                </a:lnTo>
                <a:lnTo>
                  <a:pt x="519" y="1615"/>
                </a:lnTo>
                <a:lnTo>
                  <a:pt x="505" y="1621"/>
                </a:lnTo>
                <a:lnTo>
                  <a:pt x="492" y="1630"/>
                </a:lnTo>
                <a:lnTo>
                  <a:pt x="479" y="1639"/>
                </a:lnTo>
                <a:lnTo>
                  <a:pt x="468" y="1649"/>
                </a:lnTo>
                <a:lnTo>
                  <a:pt x="458" y="1659"/>
                </a:lnTo>
                <a:lnTo>
                  <a:pt x="449" y="1671"/>
                </a:lnTo>
                <a:lnTo>
                  <a:pt x="440" y="1684"/>
                </a:lnTo>
                <a:lnTo>
                  <a:pt x="433" y="1697"/>
                </a:lnTo>
                <a:lnTo>
                  <a:pt x="427" y="1711"/>
                </a:lnTo>
                <a:lnTo>
                  <a:pt x="423" y="1725"/>
                </a:lnTo>
                <a:lnTo>
                  <a:pt x="419" y="1739"/>
                </a:lnTo>
                <a:lnTo>
                  <a:pt x="418" y="1753"/>
                </a:lnTo>
                <a:lnTo>
                  <a:pt x="419" y="1768"/>
                </a:lnTo>
                <a:lnTo>
                  <a:pt x="421" y="1782"/>
                </a:lnTo>
                <a:lnTo>
                  <a:pt x="415" y="1769"/>
                </a:lnTo>
                <a:lnTo>
                  <a:pt x="412" y="1757"/>
                </a:lnTo>
                <a:lnTo>
                  <a:pt x="409" y="1744"/>
                </a:lnTo>
                <a:lnTo>
                  <a:pt x="407" y="1731"/>
                </a:lnTo>
                <a:lnTo>
                  <a:pt x="405" y="1720"/>
                </a:lnTo>
                <a:lnTo>
                  <a:pt x="405" y="1708"/>
                </a:lnTo>
                <a:lnTo>
                  <a:pt x="405" y="1697"/>
                </a:lnTo>
                <a:lnTo>
                  <a:pt x="408" y="1685"/>
                </a:lnTo>
                <a:lnTo>
                  <a:pt x="409" y="1675"/>
                </a:lnTo>
                <a:lnTo>
                  <a:pt x="412" y="1665"/>
                </a:lnTo>
                <a:lnTo>
                  <a:pt x="415" y="1654"/>
                </a:lnTo>
                <a:lnTo>
                  <a:pt x="421" y="1644"/>
                </a:lnTo>
                <a:lnTo>
                  <a:pt x="431" y="1625"/>
                </a:lnTo>
                <a:lnTo>
                  <a:pt x="444" y="1607"/>
                </a:lnTo>
                <a:lnTo>
                  <a:pt x="459" y="1592"/>
                </a:lnTo>
                <a:lnTo>
                  <a:pt x="477" y="1576"/>
                </a:lnTo>
                <a:lnTo>
                  <a:pt x="497" y="1562"/>
                </a:lnTo>
                <a:lnTo>
                  <a:pt x="518" y="1548"/>
                </a:lnTo>
                <a:lnTo>
                  <a:pt x="541" y="1536"/>
                </a:lnTo>
                <a:lnTo>
                  <a:pt x="565" y="1526"/>
                </a:lnTo>
                <a:lnTo>
                  <a:pt x="591" y="1517"/>
                </a:lnTo>
                <a:lnTo>
                  <a:pt x="618" y="1508"/>
                </a:lnTo>
                <a:lnTo>
                  <a:pt x="645" y="1502"/>
                </a:lnTo>
                <a:lnTo>
                  <a:pt x="673" y="1496"/>
                </a:lnTo>
                <a:lnTo>
                  <a:pt x="701" y="1492"/>
                </a:lnTo>
                <a:lnTo>
                  <a:pt x="729" y="1488"/>
                </a:lnTo>
                <a:lnTo>
                  <a:pt x="757" y="1485"/>
                </a:lnTo>
                <a:lnTo>
                  <a:pt x="785" y="1485"/>
                </a:lnTo>
                <a:lnTo>
                  <a:pt x="812" y="1485"/>
                </a:lnTo>
                <a:lnTo>
                  <a:pt x="839" y="1487"/>
                </a:lnTo>
                <a:lnTo>
                  <a:pt x="865" y="1489"/>
                </a:lnTo>
                <a:lnTo>
                  <a:pt x="889" y="1493"/>
                </a:lnTo>
                <a:lnTo>
                  <a:pt x="913" y="1498"/>
                </a:lnTo>
                <a:lnTo>
                  <a:pt x="935" y="1504"/>
                </a:lnTo>
                <a:lnTo>
                  <a:pt x="956" y="1511"/>
                </a:lnTo>
                <a:lnTo>
                  <a:pt x="974" y="1520"/>
                </a:lnTo>
                <a:lnTo>
                  <a:pt x="990" y="1530"/>
                </a:lnTo>
                <a:lnTo>
                  <a:pt x="1004" y="1540"/>
                </a:lnTo>
                <a:lnTo>
                  <a:pt x="1027" y="1551"/>
                </a:lnTo>
                <a:lnTo>
                  <a:pt x="1049" y="1561"/>
                </a:lnTo>
                <a:lnTo>
                  <a:pt x="1072" y="1574"/>
                </a:lnTo>
                <a:lnTo>
                  <a:pt x="1093" y="1585"/>
                </a:lnTo>
                <a:lnTo>
                  <a:pt x="1114" y="1598"/>
                </a:lnTo>
                <a:lnTo>
                  <a:pt x="1135" y="1612"/>
                </a:lnTo>
                <a:lnTo>
                  <a:pt x="1174" y="1641"/>
                </a:lnTo>
                <a:lnTo>
                  <a:pt x="1212" y="1672"/>
                </a:lnTo>
                <a:lnTo>
                  <a:pt x="1247" y="1704"/>
                </a:lnTo>
                <a:lnTo>
                  <a:pt x="1281" y="1736"/>
                </a:lnTo>
                <a:lnTo>
                  <a:pt x="1313" y="1768"/>
                </a:lnTo>
                <a:lnTo>
                  <a:pt x="1342" y="1799"/>
                </a:lnTo>
                <a:lnTo>
                  <a:pt x="1369" y="1828"/>
                </a:lnTo>
                <a:lnTo>
                  <a:pt x="1416" y="1881"/>
                </a:lnTo>
                <a:lnTo>
                  <a:pt x="1437" y="1903"/>
                </a:lnTo>
                <a:lnTo>
                  <a:pt x="1455" y="1922"/>
                </a:lnTo>
                <a:lnTo>
                  <a:pt x="1470" y="1935"/>
                </a:lnTo>
                <a:lnTo>
                  <a:pt x="1477" y="1940"/>
                </a:lnTo>
                <a:lnTo>
                  <a:pt x="1483" y="1944"/>
                </a:lnTo>
                <a:lnTo>
                  <a:pt x="1503" y="1965"/>
                </a:lnTo>
                <a:lnTo>
                  <a:pt x="1526" y="1985"/>
                </a:lnTo>
                <a:lnTo>
                  <a:pt x="1551" y="2004"/>
                </a:lnTo>
                <a:lnTo>
                  <a:pt x="1576" y="2020"/>
                </a:lnTo>
                <a:lnTo>
                  <a:pt x="1603" y="2036"/>
                </a:lnTo>
                <a:lnTo>
                  <a:pt x="1633" y="2050"/>
                </a:lnTo>
                <a:lnTo>
                  <a:pt x="1662" y="2063"/>
                </a:lnTo>
                <a:lnTo>
                  <a:pt x="1693" y="2074"/>
                </a:lnTo>
                <a:lnTo>
                  <a:pt x="1725" y="2084"/>
                </a:lnTo>
                <a:lnTo>
                  <a:pt x="1757" y="2093"/>
                </a:lnTo>
                <a:lnTo>
                  <a:pt x="1790" y="2101"/>
                </a:lnTo>
                <a:lnTo>
                  <a:pt x="1825" y="2109"/>
                </a:lnTo>
                <a:lnTo>
                  <a:pt x="1858" y="2114"/>
                </a:lnTo>
                <a:lnTo>
                  <a:pt x="1893" y="2119"/>
                </a:lnTo>
                <a:lnTo>
                  <a:pt x="1927" y="2123"/>
                </a:lnTo>
                <a:lnTo>
                  <a:pt x="1960" y="2127"/>
                </a:lnTo>
                <a:lnTo>
                  <a:pt x="2029" y="2130"/>
                </a:lnTo>
                <a:lnTo>
                  <a:pt x="2095" y="2132"/>
                </a:lnTo>
                <a:lnTo>
                  <a:pt x="2159" y="2130"/>
                </a:lnTo>
                <a:lnTo>
                  <a:pt x="2218" y="2128"/>
                </a:lnTo>
                <a:lnTo>
                  <a:pt x="2273" y="2123"/>
                </a:lnTo>
                <a:lnTo>
                  <a:pt x="2320" y="2118"/>
                </a:lnTo>
                <a:lnTo>
                  <a:pt x="2361" y="2110"/>
                </a:lnTo>
                <a:lnTo>
                  <a:pt x="2394" y="2104"/>
                </a:lnTo>
                <a:lnTo>
                  <a:pt x="2325" y="2098"/>
                </a:lnTo>
                <a:lnTo>
                  <a:pt x="2259" y="2092"/>
                </a:lnTo>
                <a:lnTo>
                  <a:pt x="2196" y="2083"/>
                </a:lnTo>
                <a:lnTo>
                  <a:pt x="2136" y="2073"/>
                </a:lnTo>
                <a:lnTo>
                  <a:pt x="2079" y="2060"/>
                </a:lnTo>
                <a:lnTo>
                  <a:pt x="2026" y="2046"/>
                </a:lnTo>
                <a:lnTo>
                  <a:pt x="1974" y="2029"/>
                </a:lnTo>
                <a:lnTo>
                  <a:pt x="1927" y="2013"/>
                </a:lnTo>
                <a:lnTo>
                  <a:pt x="1881" y="1995"/>
                </a:lnTo>
                <a:lnTo>
                  <a:pt x="1839" y="1974"/>
                </a:lnTo>
                <a:lnTo>
                  <a:pt x="1799" y="1954"/>
                </a:lnTo>
                <a:lnTo>
                  <a:pt x="1761" y="1932"/>
                </a:lnTo>
                <a:lnTo>
                  <a:pt x="1726" y="1910"/>
                </a:lnTo>
                <a:lnTo>
                  <a:pt x="1693" y="1886"/>
                </a:lnTo>
                <a:lnTo>
                  <a:pt x="1662" y="1863"/>
                </a:lnTo>
                <a:lnTo>
                  <a:pt x="1634" y="1839"/>
                </a:lnTo>
                <a:lnTo>
                  <a:pt x="1607" y="1813"/>
                </a:lnTo>
                <a:lnTo>
                  <a:pt x="1583" y="1787"/>
                </a:lnTo>
                <a:lnTo>
                  <a:pt x="1560" y="1763"/>
                </a:lnTo>
                <a:lnTo>
                  <a:pt x="1538" y="1737"/>
                </a:lnTo>
                <a:lnTo>
                  <a:pt x="1519" y="1712"/>
                </a:lnTo>
                <a:lnTo>
                  <a:pt x="1501" y="1686"/>
                </a:lnTo>
                <a:lnTo>
                  <a:pt x="1484" y="1661"/>
                </a:lnTo>
                <a:lnTo>
                  <a:pt x="1469" y="1636"/>
                </a:lnTo>
                <a:lnTo>
                  <a:pt x="1456" y="1612"/>
                </a:lnTo>
                <a:lnTo>
                  <a:pt x="1443" y="1589"/>
                </a:lnTo>
                <a:lnTo>
                  <a:pt x="1422" y="1544"/>
                </a:lnTo>
                <a:lnTo>
                  <a:pt x="1402" y="1502"/>
                </a:lnTo>
                <a:lnTo>
                  <a:pt x="1387" y="1466"/>
                </a:lnTo>
                <a:lnTo>
                  <a:pt x="1364" y="1469"/>
                </a:lnTo>
                <a:lnTo>
                  <a:pt x="1341" y="1470"/>
                </a:lnTo>
                <a:lnTo>
                  <a:pt x="1318" y="1471"/>
                </a:lnTo>
                <a:lnTo>
                  <a:pt x="1297" y="1471"/>
                </a:lnTo>
                <a:lnTo>
                  <a:pt x="1277" y="1470"/>
                </a:lnTo>
                <a:lnTo>
                  <a:pt x="1259" y="1469"/>
                </a:lnTo>
                <a:lnTo>
                  <a:pt x="1241" y="1466"/>
                </a:lnTo>
                <a:lnTo>
                  <a:pt x="1224" y="1462"/>
                </a:lnTo>
                <a:lnTo>
                  <a:pt x="1208" y="1458"/>
                </a:lnTo>
                <a:lnTo>
                  <a:pt x="1194" y="1453"/>
                </a:lnTo>
                <a:lnTo>
                  <a:pt x="1180" y="1447"/>
                </a:lnTo>
                <a:lnTo>
                  <a:pt x="1167" y="1440"/>
                </a:lnTo>
                <a:lnTo>
                  <a:pt x="1154" y="1434"/>
                </a:lnTo>
                <a:lnTo>
                  <a:pt x="1142" y="1426"/>
                </a:lnTo>
                <a:lnTo>
                  <a:pt x="1132" y="1417"/>
                </a:lnTo>
                <a:lnTo>
                  <a:pt x="1123" y="1408"/>
                </a:lnTo>
                <a:lnTo>
                  <a:pt x="1114" y="1400"/>
                </a:lnTo>
                <a:lnTo>
                  <a:pt x="1107" y="1389"/>
                </a:lnTo>
                <a:lnTo>
                  <a:pt x="1099" y="1379"/>
                </a:lnTo>
                <a:lnTo>
                  <a:pt x="1094" y="1369"/>
                </a:lnTo>
                <a:lnTo>
                  <a:pt x="1087" y="1357"/>
                </a:lnTo>
                <a:lnTo>
                  <a:pt x="1084" y="1346"/>
                </a:lnTo>
                <a:lnTo>
                  <a:pt x="1078" y="1334"/>
                </a:lnTo>
                <a:lnTo>
                  <a:pt x="1076" y="1321"/>
                </a:lnTo>
                <a:lnTo>
                  <a:pt x="1071" y="1297"/>
                </a:lnTo>
                <a:lnTo>
                  <a:pt x="1070" y="1270"/>
                </a:lnTo>
                <a:lnTo>
                  <a:pt x="1070" y="1245"/>
                </a:lnTo>
                <a:lnTo>
                  <a:pt x="1073" y="1218"/>
                </a:lnTo>
                <a:lnTo>
                  <a:pt x="1078" y="1191"/>
                </a:lnTo>
                <a:lnTo>
                  <a:pt x="1086" y="1164"/>
                </a:lnTo>
                <a:lnTo>
                  <a:pt x="1095" y="1137"/>
                </a:lnTo>
                <a:lnTo>
                  <a:pt x="1107" y="1111"/>
                </a:lnTo>
                <a:lnTo>
                  <a:pt x="1119" y="1087"/>
                </a:lnTo>
                <a:lnTo>
                  <a:pt x="1134" y="1064"/>
                </a:lnTo>
                <a:lnTo>
                  <a:pt x="1149" y="1042"/>
                </a:lnTo>
                <a:lnTo>
                  <a:pt x="1166" y="1022"/>
                </a:lnTo>
                <a:lnTo>
                  <a:pt x="1183" y="1004"/>
                </a:lnTo>
                <a:lnTo>
                  <a:pt x="1203" y="987"/>
                </a:lnTo>
                <a:lnTo>
                  <a:pt x="1223" y="973"/>
                </a:lnTo>
                <a:lnTo>
                  <a:pt x="1244" y="963"/>
                </a:lnTo>
                <a:lnTo>
                  <a:pt x="1254" y="958"/>
                </a:lnTo>
                <a:lnTo>
                  <a:pt x="1264" y="955"/>
                </a:lnTo>
                <a:lnTo>
                  <a:pt x="1274" y="951"/>
                </a:lnTo>
                <a:lnTo>
                  <a:pt x="1286" y="950"/>
                </a:lnTo>
                <a:lnTo>
                  <a:pt x="1296" y="949"/>
                </a:lnTo>
                <a:lnTo>
                  <a:pt x="1308" y="949"/>
                </a:lnTo>
                <a:lnTo>
                  <a:pt x="1318" y="949"/>
                </a:lnTo>
                <a:lnTo>
                  <a:pt x="1329" y="951"/>
                </a:lnTo>
                <a:lnTo>
                  <a:pt x="1341" y="930"/>
                </a:lnTo>
                <a:lnTo>
                  <a:pt x="1352" y="909"/>
                </a:lnTo>
                <a:lnTo>
                  <a:pt x="1364" y="890"/>
                </a:lnTo>
                <a:lnTo>
                  <a:pt x="1377" y="872"/>
                </a:lnTo>
                <a:lnTo>
                  <a:pt x="1390" y="855"/>
                </a:lnTo>
                <a:lnTo>
                  <a:pt x="1402" y="840"/>
                </a:lnTo>
                <a:lnTo>
                  <a:pt x="1415" y="825"/>
                </a:lnTo>
                <a:lnTo>
                  <a:pt x="1428" y="811"/>
                </a:lnTo>
                <a:lnTo>
                  <a:pt x="1442" y="798"/>
                </a:lnTo>
                <a:lnTo>
                  <a:pt x="1455" y="785"/>
                </a:lnTo>
                <a:lnTo>
                  <a:pt x="1469" y="775"/>
                </a:lnTo>
                <a:lnTo>
                  <a:pt x="1483" y="765"/>
                </a:lnTo>
                <a:lnTo>
                  <a:pt x="1497" y="754"/>
                </a:lnTo>
                <a:lnTo>
                  <a:pt x="1511" y="745"/>
                </a:lnTo>
                <a:lnTo>
                  <a:pt x="1539" y="731"/>
                </a:lnTo>
                <a:lnTo>
                  <a:pt x="1569" y="720"/>
                </a:lnTo>
                <a:lnTo>
                  <a:pt x="1597" y="711"/>
                </a:lnTo>
                <a:lnTo>
                  <a:pt x="1626" y="704"/>
                </a:lnTo>
                <a:lnTo>
                  <a:pt x="1654" y="702"/>
                </a:lnTo>
                <a:lnTo>
                  <a:pt x="1684" y="701"/>
                </a:lnTo>
                <a:lnTo>
                  <a:pt x="1712" y="702"/>
                </a:lnTo>
                <a:lnTo>
                  <a:pt x="1740" y="706"/>
                </a:lnTo>
                <a:lnTo>
                  <a:pt x="1767" y="712"/>
                </a:lnTo>
                <a:lnTo>
                  <a:pt x="1794" y="718"/>
                </a:lnTo>
                <a:lnTo>
                  <a:pt x="1820" y="729"/>
                </a:lnTo>
                <a:lnTo>
                  <a:pt x="1845" y="739"/>
                </a:lnTo>
                <a:lnTo>
                  <a:pt x="1868" y="750"/>
                </a:lnTo>
                <a:lnTo>
                  <a:pt x="1891" y="763"/>
                </a:lnTo>
                <a:lnTo>
                  <a:pt x="1913" y="777"/>
                </a:lnTo>
                <a:lnTo>
                  <a:pt x="1932" y="791"/>
                </a:lnTo>
                <a:lnTo>
                  <a:pt x="1951" y="807"/>
                </a:lnTo>
                <a:lnTo>
                  <a:pt x="1968" y="823"/>
                </a:lnTo>
                <a:lnTo>
                  <a:pt x="1982" y="839"/>
                </a:lnTo>
                <a:lnTo>
                  <a:pt x="1995" y="855"/>
                </a:lnTo>
                <a:lnTo>
                  <a:pt x="2006" y="872"/>
                </a:lnTo>
                <a:lnTo>
                  <a:pt x="2015" y="887"/>
                </a:lnTo>
                <a:lnTo>
                  <a:pt x="2022" y="903"/>
                </a:lnTo>
                <a:lnTo>
                  <a:pt x="2027" y="918"/>
                </a:lnTo>
                <a:lnTo>
                  <a:pt x="2028" y="932"/>
                </a:lnTo>
                <a:lnTo>
                  <a:pt x="2059" y="922"/>
                </a:lnTo>
                <a:lnTo>
                  <a:pt x="2088" y="914"/>
                </a:lnTo>
                <a:lnTo>
                  <a:pt x="2119" y="909"/>
                </a:lnTo>
                <a:lnTo>
                  <a:pt x="2147" y="907"/>
                </a:lnTo>
                <a:lnTo>
                  <a:pt x="2177" y="907"/>
                </a:lnTo>
                <a:lnTo>
                  <a:pt x="2205" y="909"/>
                </a:lnTo>
                <a:lnTo>
                  <a:pt x="2232" y="913"/>
                </a:lnTo>
                <a:lnTo>
                  <a:pt x="2259" y="921"/>
                </a:lnTo>
                <a:lnTo>
                  <a:pt x="2284" y="928"/>
                </a:lnTo>
                <a:lnTo>
                  <a:pt x="2309" y="940"/>
                </a:lnTo>
                <a:lnTo>
                  <a:pt x="2333" y="951"/>
                </a:lnTo>
                <a:lnTo>
                  <a:pt x="2356" y="966"/>
                </a:lnTo>
                <a:lnTo>
                  <a:pt x="2379" y="981"/>
                </a:lnTo>
                <a:lnTo>
                  <a:pt x="2401" y="996"/>
                </a:lnTo>
                <a:lnTo>
                  <a:pt x="2421" y="1014"/>
                </a:lnTo>
                <a:lnTo>
                  <a:pt x="2440" y="1033"/>
                </a:lnTo>
                <a:lnTo>
                  <a:pt x="2458" y="1053"/>
                </a:lnTo>
                <a:lnTo>
                  <a:pt x="2475" y="1072"/>
                </a:lnTo>
                <a:lnTo>
                  <a:pt x="2490" y="1094"/>
                </a:lnTo>
                <a:lnTo>
                  <a:pt x="2506" y="1114"/>
                </a:lnTo>
                <a:lnTo>
                  <a:pt x="2518" y="1136"/>
                </a:lnTo>
                <a:lnTo>
                  <a:pt x="2531" y="1158"/>
                </a:lnTo>
                <a:lnTo>
                  <a:pt x="2541" y="1178"/>
                </a:lnTo>
                <a:lnTo>
                  <a:pt x="2550" y="1200"/>
                </a:lnTo>
                <a:lnTo>
                  <a:pt x="2558" y="1222"/>
                </a:lnTo>
                <a:lnTo>
                  <a:pt x="2564" y="1242"/>
                </a:lnTo>
                <a:lnTo>
                  <a:pt x="2568" y="1263"/>
                </a:lnTo>
                <a:lnTo>
                  <a:pt x="2572" y="1282"/>
                </a:lnTo>
                <a:lnTo>
                  <a:pt x="2573" y="1301"/>
                </a:lnTo>
                <a:lnTo>
                  <a:pt x="2572" y="1319"/>
                </a:lnTo>
                <a:lnTo>
                  <a:pt x="2571" y="1336"/>
                </a:lnTo>
                <a:lnTo>
                  <a:pt x="2567" y="1351"/>
                </a:lnTo>
                <a:lnTo>
                  <a:pt x="2557" y="1380"/>
                </a:lnTo>
                <a:lnTo>
                  <a:pt x="2548" y="1406"/>
                </a:lnTo>
                <a:lnTo>
                  <a:pt x="2538" y="1430"/>
                </a:lnTo>
                <a:lnTo>
                  <a:pt x="2527" y="1453"/>
                </a:lnTo>
                <a:lnTo>
                  <a:pt x="2517" y="1474"/>
                </a:lnTo>
                <a:lnTo>
                  <a:pt x="2507" y="1492"/>
                </a:lnTo>
                <a:lnTo>
                  <a:pt x="2497" y="1508"/>
                </a:lnTo>
                <a:lnTo>
                  <a:pt x="2488" y="1522"/>
                </a:lnTo>
                <a:lnTo>
                  <a:pt x="2479" y="1535"/>
                </a:lnTo>
                <a:lnTo>
                  <a:pt x="2468" y="1547"/>
                </a:lnTo>
                <a:lnTo>
                  <a:pt x="2452" y="1563"/>
                </a:lnTo>
                <a:lnTo>
                  <a:pt x="2438" y="1575"/>
                </a:lnTo>
                <a:lnTo>
                  <a:pt x="2426" y="1581"/>
                </a:lnTo>
                <a:lnTo>
                  <a:pt x="2447" y="1604"/>
                </a:lnTo>
                <a:lnTo>
                  <a:pt x="2470" y="1625"/>
                </a:lnTo>
                <a:lnTo>
                  <a:pt x="2494" y="1644"/>
                </a:lnTo>
                <a:lnTo>
                  <a:pt x="2520" y="1659"/>
                </a:lnTo>
                <a:lnTo>
                  <a:pt x="2547" y="1675"/>
                </a:lnTo>
                <a:lnTo>
                  <a:pt x="2576" y="1688"/>
                </a:lnTo>
                <a:lnTo>
                  <a:pt x="2605" y="1698"/>
                </a:lnTo>
                <a:lnTo>
                  <a:pt x="2637" y="1708"/>
                </a:lnTo>
                <a:lnTo>
                  <a:pt x="2668" y="1716"/>
                </a:lnTo>
                <a:lnTo>
                  <a:pt x="2701" y="1722"/>
                </a:lnTo>
                <a:lnTo>
                  <a:pt x="2733" y="1726"/>
                </a:lnTo>
                <a:lnTo>
                  <a:pt x="2767" y="1730"/>
                </a:lnTo>
                <a:lnTo>
                  <a:pt x="2800" y="1731"/>
                </a:lnTo>
                <a:lnTo>
                  <a:pt x="2833" y="1732"/>
                </a:lnTo>
                <a:lnTo>
                  <a:pt x="2867" y="1732"/>
                </a:lnTo>
                <a:lnTo>
                  <a:pt x="2900" y="1730"/>
                </a:lnTo>
                <a:lnTo>
                  <a:pt x="2900" y="1357"/>
                </a:lnTo>
                <a:lnTo>
                  <a:pt x="2888" y="1341"/>
                </a:lnTo>
                <a:lnTo>
                  <a:pt x="2878" y="1323"/>
                </a:lnTo>
                <a:lnTo>
                  <a:pt x="2870" y="1304"/>
                </a:lnTo>
                <a:lnTo>
                  <a:pt x="2863" y="1286"/>
                </a:lnTo>
                <a:lnTo>
                  <a:pt x="2858" y="1266"/>
                </a:lnTo>
                <a:lnTo>
                  <a:pt x="2854" y="1247"/>
                </a:lnTo>
                <a:lnTo>
                  <a:pt x="2851" y="1228"/>
                </a:lnTo>
                <a:lnTo>
                  <a:pt x="2850" y="1209"/>
                </a:lnTo>
                <a:lnTo>
                  <a:pt x="2851" y="1191"/>
                </a:lnTo>
                <a:lnTo>
                  <a:pt x="2852" y="1173"/>
                </a:lnTo>
                <a:lnTo>
                  <a:pt x="2855" y="1155"/>
                </a:lnTo>
                <a:lnTo>
                  <a:pt x="2860" y="1138"/>
                </a:lnTo>
                <a:lnTo>
                  <a:pt x="2865" y="1122"/>
                </a:lnTo>
                <a:lnTo>
                  <a:pt x="2873" y="1106"/>
                </a:lnTo>
                <a:lnTo>
                  <a:pt x="2881" y="1094"/>
                </a:lnTo>
                <a:lnTo>
                  <a:pt x="2891" y="1081"/>
                </a:lnTo>
                <a:lnTo>
                  <a:pt x="2900" y="1073"/>
                </a:lnTo>
                <a:lnTo>
                  <a:pt x="2900" y="469"/>
                </a:lnTo>
                <a:lnTo>
                  <a:pt x="2877" y="473"/>
                </a:lnTo>
                <a:lnTo>
                  <a:pt x="2856" y="477"/>
                </a:lnTo>
                <a:lnTo>
                  <a:pt x="2837" y="484"/>
                </a:lnTo>
                <a:lnTo>
                  <a:pt x="2829" y="488"/>
                </a:lnTo>
                <a:lnTo>
                  <a:pt x="2822" y="492"/>
                </a:lnTo>
                <a:lnTo>
                  <a:pt x="2810" y="473"/>
                </a:lnTo>
                <a:lnTo>
                  <a:pt x="2797" y="455"/>
                </a:lnTo>
                <a:lnTo>
                  <a:pt x="2785" y="439"/>
                </a:lnTo>
                <a:lnTo>
                  <a:pt x="2772" y="424"/>
                </a:lnTo>
                <a:lnTo>
                  <a:pt x="2759" y="413"/>
                </a:lnTo>
                <a:lnTo>
                  <a:pt x="2745" y="401"/>
                </a:lnTo>
                <a:lnTo>
                  <a:pt x="2732" y="391"/>
                </a:lnTo>
                <a:lnTo>
                  <a:pt x="2718" y="383"/>
                </a:lnTo>
                <a:lnTo>
                  <a:pt x="2705" y="377"/>
                </a:lnTo>
                <a:lnTo>
                  <a:pt x="2691" y="372"/>
                </a:lnTo>
                <a:lnTo>
                  <a:pt x="2677" y="368"/>
                </a:lnTo>
                <a:lnTo>
                  <a:pt x="2664" y="365"/>
                </a:lnTo>
                <a:lnTo>
                  <a:pt x="2652" y="364"/>
                </a:lnTo>
                <a:lnTo>
                  <a:pt x="2639" y="363"/>
                </a:lnTo>
                <a:lnTo>
                  <a:pt x="2626" y="364"/>
                </a:lnTo>
                <a:lnTo>
                  <a:pt x="2613" y="366"/>
                </a:lnTo>
                <a:lnTo>
                  <a:pt x="2600" y="369"/>
                </a:lnTo>
                <a:lnTo>
                  <a:pt x="2589" y="373"/>
                </a:lnTo>
                <a:lnTo>
                  <a:pt x="2577" y="378"/>
                </a:lnTo>
                <a:lnTo>
                  <a:pt x="2566" y="384"/>
                </a:lnTo>
                <a:lnTo>
                  <a:pt x="2556" y="391"/>
                </a:lnTo>
                <a:lnTo>
                  <a:pt x="2545" y="398"/>
                </a:lnTo>
                <a:lnTo>
                  <a:pt x="2536" y="406"/>
                </a:lnTo>
                <a:lnTo>
                  <a:pt x="2527" y="415"/>
                </a:lnTo>
                <a:lnTo>
                  <a:pt x="2518" y="424"/>
                </a:lnTo>
                <a:lnTo>
                  <a:pt x="2512" y="434"/>
                </a:lnTo>
                <a:lnTo>
                  <a:pt x="2504" y="445"/>
                </a:lnTo>
                <a:lnTo>
                  <a:pt x="2499" y="456"/>
                </a:lnTo>
                <a:lnTo>
                  <a:pt x="2493" y="466"/>
                </a:lnTo>
                <a:lnTo>
                  <a:pt x="2489" y="478"/>
                </a:lnTo>
                <a:lnTo>
                  <a:pt x="2485" y="491"/>
                </a:lnTo>
                <a:lnTo>
                  <a:pt x="2484" y="502"/>
                </a:lnTo>
                <a:lnTo>
                  <a:pt x="2480" y="541"/>
                </a:lnTo>
                <a:lnTo>
                  <a:pt x="2475" y="576"/>
                </a:lnTo>
                <a:lnTo>
                  <a:pt x="2468" y="610"/>
                </a:lnTo>
                <a:lnTo>
                  <a:pt x="2458" y="639"/>
                </a:lnTo>
                <a:lnTo>
                  <a:pt x="2447" y="666"/>
                </a:lnTo>
                <a:lnTo>
                  <a:pt x="2434" y="690"/>
                </a:lnTo>
                <a:lnTo>
                  <a:pt x="2420" y="712"/>
                </a:lnTo>
                <a:lnTo>
                  <a:pt x="2403" y="731"/>
                </a:lnTo>
                <a:lnTo>
                  <a:pt x="2385" y="749"/>
                </a:lnTo>
                <a:lnTo>
                  <a:pt x="2367" y="763"/>
                </a:lnTo>
                <a:lnTo>
                  <a:pt x="2347" y="776"/>
                </a:lnTo>
                <a:lnTo>
                  <a:pt x="2328" y="786"/>
                </a:lnTo>
                <a:lnTo>
                  <a:pt x="2306" y="795"/>
                </a:lnTo>
                <a:lnTo>
                  <a:pt x="2284" y="802"/>
                </a:lnTo>
                <a:lnTo>
                  <a:pt x="2262" y="806"/>
                </a:lnTo>
                <a:lnTo>
                  <a:pt x="2241" y="809"/>
                </a:lnTo>
                <a:lnTo>
                  <a:pt x="2219" y="811"/>
                </a:lnTo>
                <a:lnTo>
                  <a:pt x="2197" y="811"/>
                </a:lnTo>
                <a:lnTo>
                  <a:pt x="2175" y="808"/>
                </a:lnTo>
                <a:lnTo>
                  <a:pt x="2154" y="806"/>
                </a:lnTo>
                <a:lnTo>
                  <a:pt x="2133" y="800"/>
                </a:lnTo>
                <a:lnTo>
                  <a:pt x="2114" y="795"/>
                </a:lnTo>
                <a:lnTo>
                  <a:pt x="2095" y="789"/>
                </a:lnTo>
                <a:lnTo>
                  <a:pt x="2077" y="781"/>
                </a:lnTo>
                <a:lnTo>
                  <a:pt x="2060" y="772"/>
                </a:lnTo>
                <a:lnTo>
                  <a:pt x="2045" y="763"/>
                </a:lnTo>
                <a:lnTo>
                  <a:pt x="2031" y="753"/>
                </a:lnTo>
                <a:lnTo>
                  <a:pt x="2019" y="742"/>
                </a:lnTo>
                <a:lnTo>
                  <a:pt x="2009" y="730"/>
                </a:lnTo>
                <a:lnTo>
                  <a:pt x="2001" y="718"/>
                </a:lnTo>
                <a:lnTo>
                  <a:pt x="1995" y="707"/>
                </a:lnTo>
                <a:lnTo>
                  <a:pt x="1991" y="694"/>
                </a:lnTo>
                <a:lnTo>
                  <a:pt x="1985" y="671"/>
                </a:lnTo>
                <a:lnTo>
                  <a:pt x="1978" y="649"/>
                </a:lnTo>
                <a:lnTo>
                  <a:pt x="1974" y="630"/>
                </a:lnTo>
                <a:lnTo>
                  <a:pt x="1972" y="611"/>
                </a:lnTo>
                <a:lnTo>
                  <a:pt x="1971" y="592"/>
                </a:lnTo>
                <a:lnTo>
                  <a:pt x="1972" y="575"/>
                </a:lnTo>
                <a:lnTo>
                  <a:pt x="1973" y="560"/>
                </a:lnTo>
                <a:lnTo>
                  <a:pt x="1976" y="544"/>
                </a:lnTo>
                <a:lnTo>
                  <a:pt x="1978" y="530"/>
                </a:lnTo>
                <a:lnTo>
                  <a:pt x="1983" y="516"/>
                </a:lnTo>
                <a:lnTo>
                  <a:pt x="1989" y="505"/>
                </a:lnTo>
                <a:lnTo>
                  <a:pt x="1995" y="493"/>
                </a:lnTo>
                <a:lnTo>
                  <a:pt x="2001" y="482"/>
                </a:lnTo>
                <a:lnTo>
                  <a:pt x="2009" y="473"/>
                </a:lnTo>
                <a:lnTo>
                  <a:pt x="2018" y="464"/>
                </a:lnTo>
                <a:lnTo>
                  <a:pt x="2026" y="455"/>
                </a:lnTo>
                <a:lnTo>
                  <a:pt x="2035" y="448"/>
                </a:lnTo>
                <a:lnTo>
                  <a:pt x="2045" y="441"/>
                </a:lnTo>
                <a:lnTo>
                  <a:pt x="2064" y="429"/>
                </a:lnTo>
                <a:lnTo>
                  <a:pt x="2083" y="420"/>
                </a:lnTo>
                <a:lnTo>
                  <a:pt x="2102" y="414"/>
                </a:lnTo>
                <a:lnTo>
                  <a:pt x="2120" y="410"/>
                </a:lnTo>
                <a:lnTo>
                  <a:pt x="2137" y="407"/>
                </a:lnTo>
                <a:lnTo>
                  <a:pt x="2150" y="406"/>
                </a:lnTo>
                <a:lnTo>
                  <a:pt x="2161" y="406"/>
                </a:lnTo>
                <a:lnTo>
                  <a:pt x="2134" y="423"/>
                </a:lnTo>
                <a:lnTo>
                  <a:pt x="2111" y="438"/>
                </a:lnTo>
                <a:lnTo>
                  <a:pt x="2091" y="455"/>
                </a:lnTo>
                <a:lnTo>
                  <a:pt x="2073" y="471"/>
                </a:lnTo>
                <a:lnTo>
                  <a:pt x="2058" y="488"/>
                </a:lnTo>
                <a:lnTo>
                  <a:pt x="2046" y="505"/>
                </a:lnTo>
                <a:lnTo>
                  <a:pt x="2036" y="520"/>
                </a:lnTo>
                <a:lnTo>
                  <a:pt x="2028" y="537"/>
                </a:lnTo>
                <a:lnTo>
                  <a:pt x="2023" y="553"/>
                </a:lnTo>
                <a:lnTo>
                  <a:pt x="2019" y="569"/>
                </a:lnTo>
                <a:lnTo>
                  <a:pt x="2019" y="585"/>
                </a:lnTo>
                <a:lnTo>
                  <a:pt x="2019" y="601"/>
                </a:lnTo>
                <a:lnTo>
                  <a:pt x="2022" y="615"/>
                </a:lnTo>
                <a:lnTo>
                  <a:pt x="2027" y="630"/>
                </a:lnTo>
                <a:lnTo>
                  <a:pt x="2032" y="644"/>
                </a:lnTo>
                <a:lnTo>
                  <a:pt x="2040" y="657"/>
                </a:lnTo>
                <a:lnTo>
                  <a:pt x="2049" y="670"/>
                </a:lnTo>
                <a:lnTo>
                  <a:pt x="2059" y="681"/>
                </a:lnTo>
                <a:lnTo>
                  <a:pt x="2069" y="693"/>
                </a:lnTo>
                <a:lnTo>
                  <a:pt x="2082" y="704"/>
                </a:lnTo>
                <a:lnTo>
                  <a:pt x="2095" y="713"/>
                </a:lnTo>
                <a:lnTo>
                  <a:pt x="2109" y="722"/>
                </a:lnTo>
                <a:lnTo>
                  <a:pt x="2123" y="730"/>
                </a:lnTo>
                <a:lnTo>
                  <a:pt x="2138" y="736"/>
                </a:lnTo>
                <a:lnTo>
                  <a:pt x="2154" y="743"/>
                </a:lnTo>
                <a:lnTo>
                  <a:pt x="2169" y="747"/>
                </a:lnTo>
                <a:lnTo>
                  <a:pt x="2184" y="750"/>
                </a:lnTo>
                <a:lnTo>
                  <a:pt x="2201" y="752"/>
                </a:lnTo>
                <a:lnTo>
                  <a:pt x="2216" y="753"/>
                </a:lnTo>
                <a:lnTo>
                  <a:pt x="2232" y="752"/>
                </a:lnTo>
                <a:lnTo>
                  <a:pt x="2248" y="750"/>
                </a:lnTo>
                <a:lnTo>
                  <a:pt x="2262" y="747"/>
                </a:lnTo>
                <a:lnTo>
                  <a:pt x="2280" y="738"/>
                </a:lnTo>
                <a:lnTo>
                  <a:pt x="2298" y="729"/>
                </a:lnTo>
                <a:lnTo>
                  <a:pt x="2314" y="720"/>
                </a:lnTo>
                <a:lnTo>
                  <a:pt x="2328" y="710"/>
                </a:lnTo>
                <a:lnTo>
                  <a:pt x="2342" y="698"/>
                </a:lnTo>
                <a:lnTo>
                  <a:pt x="2355" y="686"/>
                </a:lnTo>
                <a:lnTo>
                  <a:pt x="2366" y="675"/>
                </a:lnTo>
                <a:lnTo>
                  <a:pt x="2376" y="663"/>
                </a:lnTo>
                <a:lnTo>
                  <a:pt x="2387" y="651"/>
                </a:lnTo>
                <a:lnTo>
                  <a:pt x="2396" y="638"/>
                </a:lnTo>
                <a:lnTo>
                  <a:pt x="2403" y="625"/>
                </a:lnTo>
                <a:lnTo>
                  <a:pt x="2411" y="611"/>
                </a:lnTo>
                <a:lnTo>
                  <a:pt x="2416" y="598"/>
                </a:lnTo>
                <a:lnTo>
                  <a:pt x="2421" y="584"/>
                </a:lnTo>
                <a:lnTo>
                  <a:pt x="2426" y="570"/>
                </a:lnTo>
                <a:lnTo>
                  <a:pt x="2430" y="556"/>
                </a:lnTo>
                <a:lnTo>
                  <a:pt x="2433" y="541"/>
                </a:lnTo>
                <a:lnTo>
                  <a:pt x="2434" y="526"/>
                </a:lnTo>
                <a:lnTo>
                  <a:pt x="2436" y="497"/>
                </a:lnTo>
                <a:lnTo>
                  <a:pt x="2435" y="466"/>
                </a:lnTo>
                <a:lnTo>
                  <a:pt x="2431" y="437"/>
                </a:lnTo>
                <a:lnTo>
                  <a:pt x="2425" y="407"/>
                </a:lnTo>
                <a:lnTo>
                  <a:pt x="2416" y="379"/>
                </a:lnTo>
                <a:lnTo>
                  <a:pt x="2404" y="351"/>
                </a:lnTo>
                <a:lnTo>
                  <a:pt x="2392" y="323"/>
                </a:lnTo>
                <a:lnTo>
                  <a:pt x="2376" y="297"/>
                </a:lnTo>
                <a:lnTo>
                  <a:pt x="2358" y="272"/>
                </a:lnTo>
                <a:lnTo>
                  <a:pt x="2340" y="249"/>
                </a:lnTo>
                <a:lnTo>
                  <a:pt x="2320" y="228"/>
                </a:lnTo>
                <a:lnTo>
                  <a:pt x="2298" y="209"/>
                </a:lnTo>
                <a:lnTo>
                  <a:pt x="2277" y="191"/>
                </a:lnTo>
                <a:lnTo>
                  <a:pt x="2252" y="177"/>
                </a:lnTo>
                <a:lnTo>
                  <a:pt x="2228" y="165"/>
                </a:lnTo>
                <a:lnTo>
                  <a:pt x="2216" y="160"/>
                </a:lnTo>
                <a:lnTo>
                  <a:pt x="2204" y="157"/>
                </a:lnTo>
                <a:lnTo>
                  <a:pt x="2191" y="153"/>
                </a:lnTo>
                <a:lnTo>
                  <a:pt x="2178" y="151"/>
                </a:lnTo>
                <a:lnTo>
                  <a:pt x="2164" y="149"/>
                </a:lnTo>
                <a:lnTo>
                  <a:pt x="2151" y="149"/>
                </a:lnTo>
                <a:lnTo>
                  <a:pt x="2138" y="149"/>
                </a:lnTo>
                <a:lnTo>
                  <a:pt x="2125" y="150"/>
                </a:lnTo>
                <a:lnTo>
                  <a:pt x="2111" y="153"/>
                </a:lnTo>
                <a:lnTo>
                  <a:pt x="2099" y="155"/>
                </a:lnTo>
                <a:lnTo>
                  <a:pt x="2086" y="159"/>
                </a:lnTo>
                <a:lnTo>
                  <a:pt x="2073" y="164"/>
                </a:lnTo>
                <a:lnTo>
                  <a:pt x="2060" y="171"/>
                </a:lnTo>
                <a:lnTo>
                  <a:pt x="2046" y="178"/>
                </a:lnTo>
                <a:lnTo>
                  <a:pt x="2033" y="187"/>
                </a:lnTo>
                <a:lnTo>
                  <a:pt x="2021" y="196"/>
                </a:lnTo>
                <a:lnTo>
                  <a:pt x="2001" y="177"/>
                </a:lnTo>
                <a:lnTo>
                  <a:pt x="1982" y="159"/>
                </a:lnTo>
                <a:lnTo>
                  <a:pt x="1962" y="142"/>
                </a:lnTo>
                <a:lnTo>
                  <a:pt x="1942" y="126"/>
                </a:lnTo>
                <a:lnTo>
                  <a:pt x="1923" y="110"/>
                </a:lnTo>
                <a:lnTo>
                  <a:pt x="1904" y="98"/>
                </a:lnTo>
                <a:lnTo>
                  <a:pt x="1885" y="85"/>
                </a:lnTo>
                <a:lnTo>
                  <a:pt x="1866" y="73"/>
                </a:lnTo>
                <a:lnTo>
                  <a:pt x="1846" y="62"/>
                </a:lnTo>
                <a:lnTo>
                  <a:pt x="1827" y="52"/>
                </a:lnTo>
                <a:lnTo>
                  <a:pt x="1809" y="44"/>
                </a:lnTo>
                <a:lnTo>
                  <a:pt x="1790" y="35"/>
                </a:lnTo>
                <a:lnTo>
                  <a:pt x="1754" y="22"/>
                </a:lnTo>
                <a:lnTo>
                  <a:pt x="1718" y="12"/>
                </a:lnTo>
                <a:lnTo>
                  <a:pt x="1684" y="5"/>
                </a:lnTo>
                <a:lnTo>
                  <a:pt x="1649" y="2"/>
                </a:lnTo>
                <a:lnTo>
                  <a:pt x="1616" y="0"/>
                </a:lnTo>
                <a:lnTo>
                  <a:pt x="1584" y="3"/>
                </a:lnTo>
                <a:lnTo>
                  <a:pt x="1552" y="7"/>
                </a:lnTo>
                <a:lnTo>
                  <a:pt x="1523" y="13"/>
                </a:lnTo>
                <a:lnTo>
                  <a:pt x="1493" y="21"/>
                </a:lnTo>
                <a:lnTo>
                  <a:pt x="1465" y="31"/>
                </a:lnTo>
                <a:lnTo>
                  <a:pt x="1439" y="43"/>
                </a:lnTo>
                <a:lnTo>
                  <a:pt x="1414" y="55"/>
                </a:lnTo>
                <a:lnTo>
                  <a:pt x="1391" y="69"/>
                </a:lnTo>
                <a:lnTo>
                  <a:pt x="1368" y="85"/>
                </a:lnTo>
                <a:lnTo>
                  <a:pt x="1347" y="101"/>
                </a:lnTo>
                <a:lnTo>
                  <a:pt x="1329" y="118"/>
                </a:lnTo>
                <a:lnTo>
                  <a:pt x="1311" y="135"/>
                </a:lnTo>
                <a:lnTo>
                  <a:pt x="1296" y="153"/>
                </a:lnTo>
                <a:lnTo>
                  <a:pt x="1282" y="171"/>
                </a:lnTo>
                <a:lnTo>
                  <a:pt x="1270" y="187"/>
                </a:lnTo>
                <a:lnTo>
                  <a:pt x="1260" y="204"/>
                </a:lnTo>
                <a:lnTo>
                  <a:pt x="1253" y="221"/>
                </a:lnTo>
                <a:lnTo>
                  <a:pt x="1247" y="236"/>
                </a:lnTo>
                <a:lnTo>
                  <a:pt x="1244" y="251"/>
                </a:lnTo>
                <a:lnTo>
                  <a:pt x="1242" y="264"/>
                </a:lnTo>
                <a:lnTo>
                  <a:pt x="1242" y="277"/>
                </a:lnTo>
                <a:lnTo>
                  <a:pt x="1209" y="263"/>
                </a:lnTo>
                <a:lnTo>
                  <a:pt x="1177" y="253"/>
                </a:lnTo>
                <a:lnTo>
                  <a:pt x="1145" y="245"/>
                </a:lnTo>
                <a:lnTo>
                  <a:pt x="1113" y="241"/>
                </a:lnTo>
                <a:lnTo>
                  <a:pt x="1084" y="238"/>
                </a:lnTo>
                <a:lnTo>
                  <a:pt x="1054" y="240"/>
                </a:lnTo>
                <a:lnTo>
                  <a:pt x="1026" y="242"/>
                </a:lnTo>
                <a:lnTo>
                  <a:pt x="998" y="247"/>
                </a:lnTo>
                <a:lnTo>
                  <a:pt x="972" y="255"/>
                </a:lnTo>
                <a:lnTo>
                  <a:pt x="947" y="264"/>
                </a:lnTo>
                <a:lnTo>
                  <a:pt x="922" y="274"/>
                </a:lnTo>
                <a:lnTo>
                  <a:pt x="901" y="286"/>
                </a:lnTo>
                <a:lnTo>
                  <a:pt x="879" y="300"/>
                </a:lnTo>
                <a:lnTo>
                  <a:pt x="858" y="314"/>
                </a:lnTo>
                <a:lnTo>
                  <a:pt x="839" y="329"/>
                </a:lnTo>
                <a:lnTo>
                  <a:pt x="821" y="346"/>
                </a:lnTo>
                <a:lnTo>
                  <a:pt x="805" y="364"/>
                </a:lnTo>
                <a:lnTo>
                  <a:pt x="789" y="382"/>
                </a:lnTo>
                <a:lnTo>
                  <a:pt x="775" y="400"/>
                </a:lnTo>
                <a:lnTo>
                  <a:pt x="764" y="418"/>
                </a:lnTo>
                <a:lnTo>
                  <a:pt x="752" y="437"/>
                </a:lnTo>
                <a:lnTo>
                  <a:pt x="743" y="455"/>
                </a:lnTo>
                <a:lnTo>
                  <a:pt x="735" y="473"/>
                </a:lnTo>
                <a:lnTo>
                  <a:pt x="729" y="491"/>
                </a:lnTo>
                <a:lnTo>
                  <a:pt x="724" y="507"/>
                </a:lnTo>
                <a:lnTo>
                  <a:pt x="721" y="524"/>
                </a:lnTo>
                <a:lnTo>
                  <a:pt x="720" y="539"/>
                </a:lnTo>
                <a:lnTo>
                  <a:pt x="721" y="555"/>
                </a:lnTo>
                <a:lnTo>
                  <a:pt x="723" y="567"/>
                </a:lnTo>
                <a:lnTo>
                  <a:pt x="727" y="579"/>
                </a:lnTo>
                <a:lnTo>
                  <a:pt x="733" y="589"/>
                </a:lnTo>
                <a:lnTo>
                  <a:pt x="741" y="597"/>
                </a:lnTo>
                <a:lnTo>
                  <a:pt x="716" y="608"/>
                </a:lnTo>
                <a:lnTo>
                  <a:pt x="693" y="619"/>
                </a:lnTo>
                <a:lnTo>
                  <a:pt x="673" y="630"/>
                </a:lnTo>
                <a:lnTo>
                  <a:pt x="652" y="642"/>
                </a:lnTo>
                <a:lnTo>
                  <a:pt x="633" y="653"/>
                </a:lnTo>
                <a:lnTo>
                  <a:pt x="615" y="665"/>
                </a:lnTo>
                <a:lnTo>
                  <a:pt x="600" y="678"/>
                </a:lnTo>
                <a:lnTo>
                  <a:pt x="584" y="690"/>
                </a:lnTo>
                <a:lnTo>
                  <a:pt x="570" y="703"/>
                </a:lnTo>
                <a:lnTo>
                  <a:pt x="558" y="716"/>
                </a:lnTo>
                <a:lnTo>
                  <a:pt x="545" y="730"/>
                </a:lnTo>
                <a:lnTo>
                  <a:pt x="535" y="743"/>
                </a:lnTo>
                <a:lnTo>
                  <a:pt x="526" y="757"/>
                </a:lnTo>
                <a:lnTo>
                  <a:pt x="517" y="770"/>
                </a:lnTo>
                <a:lnTo>
                  <a:pt x="509" y="784"/>
                </a:lnTo>
                <a:lnTo>
                  <a:pt x="503" y="798"/>
                </a:lnTo>
                <a:lnTo>
                  <a:pt x="497" y="812"/>
                </a:lnTo>
                <a:lnTo>
                  <a:pt x="492" y="826"/>
                </a:lnTo>
                <a:lnTo>
                  <a:pt x="490" y="840"/>
                </a:lnTo>
                <a:lnTo>
                  <a:pt x="487" y="854"/>
                </a:lnTo>
                <a:lnTo>
                  <a:pt x="485" y="868"/>
                </a:lnTo>
                <a:lnTo>
                  <a:pt x="485" y="882"/>
                </a:lnTo>
                <a:lnTo>
                  <a:pt x="483" y="896"/>
                </a:lnTo>
                <a:lnTo>
                  <a:pt x="485" y="909"/>
                </a:lnTo>
                <a:lnTo>
                  <a:pt x="486" y="923"/>
                </a:lnTo>
                <a:lnTo>
                  <a:pt x="488" y="936"/>
                </a:lnTo>
                <a:lnTo>
                  <a:pt x="496" y="963"/>
                </a:lnTo>
                <a:lnTo>
                  <a:pt x="505" y="989"/>
                </a:lnTo>
                <a:lnTo>
                  <a:pt x="518" y="1013"/>
                </a:lnTo>
                <a:lnTo>
                  <a:pt x="533" y="1036"/>
                </a:lnTo>
                <a:lnTo>
                  <a:pt x="550" y="1058"/>
                </a:lnTo>
                <a:lnTo>
                  <a:pt x="569" y="1077"/>
                </a:lnTo>
                <a:lnTo>
                  <a:pt x="590" y="1095"/>
                </a:lnTo>
                <a:lnTo>
                  <a:pt x="613" y="1111"/>
                </a:lnTo>
                <a:lnTo>
                  <a:pt x="637" y="1126"/>
                </a:lnTo>
                <a:lnTo>
                  <a:pt x="663" y="1137"/>
                </a:lnTo>
                <a:lnTo>
                  <a:pt x="689" y="1146"/>
                </a:lnTo>
                <a:lnTo>
                  <a:pt x="716" y="1151"/>
                </a:lnTo>
                <a:lnTo>
                  <a:pt x="730" y="1154"/>
                </a:lnTo>
                <a:lnTo>
                  <a:pt x="744" y="1155"/>
                </a:lnTo>
                <a:lnTo>
                  <a:pt x="760" y="1155"/>
                </a:lnTo>
                <a:lnTo>
                  <a:pt x="774" y="1155"/>
                </a:lnTo>
                <a:lnTo>
                  <a:pt x="788" y="1154"/>
                </a:lnTo>
                <a:lnTo>
                  <a:pt x="803" y="1151"/>
                </a:lnTo>
                <a:lnTo>
                  <a:pt x="817" y="1149"/>
                </a:lnTo>
                <a:lnTo>
                  <a:pt x="833" y="1145"/>
                </a:lnTo>
                <a:lnTo>
                  <a:pt x="847" y="1140"/>
                </a:lnTo>
                <a:lnTo>
                  <a:pt x="862" y="1133"/>
                </a:lnTo>
                <a:lnTo>
                  <a:pt x="876" y="1127"/>
                </a:lnTo>
                <a:lnTo>
                  <a:pt x="890" y="1119"/>
                </a:lnTo>
                <a:lnTo>
                  <a:pt x="906" y="1110"/>
                </a:lnTo>
                <a:lnTo>
                  <a:pt x="920" y="1101"/>
                </a:lnTo>
                <a:lnTo>
                  <a:pt x="933" y="1091"/>
                </a:lnTo>
                <a:lnTo>
                  <a:pt x="945" y="1081"/>
                </a:lnTo>
                <a:lnTo>
                  <a:pt x="957" y="1071"/>
                </a:lnTo>
                <a:lnTo>
                  <a:pt x="967" y="1059"/>
                </a:lnTo>
                <a:lnTo>
                  <a:pt x="977" y="1046"/>
                </a:lnTo>
                <a:lnTo>
                  <a:pt x="986" y="1033"/>
                </a:lnTo>
                <a:lnTo>
                  <a:pt x="994" y="1021"/>
                </a:lnTo>
                <a:lnTo>
                  <a:pt x="1000" y="1007"/>
                </a:lnTo>
                <a:lnTo>
                  <a:pt x="1006" y="994"/>
                </a:lnTo>
                <a:lnTo>
                  <a:pt x="1011" y="980"/>
                </a:lnTo>
                <a:lnTo>
                  <a:pt x="1014" y="966"/>
                </a:lnTo>
                <a:lnTo>
                  <a:pt x="1017" y="950"/>
                </a:lnTo>
                <a:lnTo>
                  <a:pt x="1018" y="936"/>
                </a:lnTo>
                <a:lnTo>
                  <a:pt x="1018" y="922"/>
                </a:lnTo>
                <a:lnTo>
                  <a:pt x="1017" y="908"/>
                </a:lnTo>
                <a:lnTo>
                  <a:pt x="1016" y="894"/>
                </a:lnTo>
                <a:lnTo>
                  <a:pt x="1012" y="880"/>
                </a:lnTo>
                <a:lnTo>
                  <a:pt x="1008" y="867"/>
                </a:lnTo>
                <a:lnTo>
                  <a:pt x="1002" y="854"/>
                </a:lnTo>
                <a:lnTo>
                  <a:pt x="995" y="841"/>
                </a:lnTo>
                <a:lnTo>
                  <a:pt x="986" y="829"/>
                </a:lnTo>
                <a:lnTo>
                  <a:pt x="977" y="817"/>
                </a:lnTo>
                <a:lnTo>
                  <a:pt x="967" y="807"/>
                </a:lnTo>
                <a:lnTo>
                  <a:pt x="954" y="797"/>
                </a:lnTo>
                <a:lnTo>
                  <a:pt x="940" y="788"/>
                </a:lnTo>
                <a:lnTo>
                  <a:pt x="926" y="779"/>
                </a:lnTo>
                <a:lnTo>
                  <a:pt x="910" y="771"/>
                </a:lnTo>
                <a:lnTo>
                  <a:pt x="892" y="765"/>
                </a:lnTo>
                <a:lnTo>
                  <a:pt x="872" y="759"/>
                </a:lnTo>
                <a:lnTo>
                  <a:pt x="852" y="754"/>
                </a:lnTo>
                <a:lnTo>
                  <a:pt x="830" y="752"/>
                </a:lnTo>
                <a:lnTo>
                  <a:pt x="806" y="749"/>
                </a:lnTo>
                <a:lnTo>
                  <a:pt x="839" y="742"/>
                </a:lnTo>
                <a:lnTo>
                  <a:pt x="869" y="736"/>
                </a:lnTo>
                <a:lnTo>
                  <a:pt x="897" y="735"/>
                </a:lnTo>
                <a:lnTo>
                  <a:pt x="921" y="736"/>
                </a:lnTo>
                <a:lnTo>
                  <a:pt x="944" y="740"/>
                </a:lnTo>
                <a:lnTo>
                  <a:pt x="965" y="745"/>
                </a:lnTo>
                <a:lnTo>
                  <a:pt x="982" y="754"/>
                </a:lnTo>
                <a:lnTo>
                  <a:pt x="999" y="765"/>
                </a:lnTo>
                <a:lnTo>
                  <a:pt x="1013" y="777"/>
                </a:lnTo>
                <a:lnTo>
                  <a:pt x="1025" y="791"/>
                </a:lnTo>
                <a:lnTo>
                  <a:pt x="1035" y="807"/>
                </a:lnTo>
                <a:lnTo>
                  <a:pt x="1044" y="823"/>
                </a:lnTo>
                <a:lnTo>
                  <a:pt x="1050" y="841"/>
                </a:lnTo>
                <a:lnTo>
                  <a:pt x="1055" y="861"/>
                </a:lnTo>
                <a:lnTo>
                  <a:pt x="1058" y="880"/>
                </a:lnTo>
                <a:lnTo>
                  <a:pt x="1061" y="900"/>
                </a:lnTo>
                <a:lnTo>
                  <a:pt x="1061" y="921"/>
                </a:lnTo>
                <a:lnTo>
                  <a:pt x="1061" y="943"/>
                </a:lnTo>
                <a:lnTo>
                  <a:pt x="1058" y="963"/>
                </a:lnTo>
                <a:lnTo>
                  <a:pt x="1054" y="983"/>
                </a:lnTo>
                <a:lnTo>
                  <a:pt x="1050" y="1004"/>
                </a:lnTo>
                <a:lnTo>
                  <a:pt x="1044" y="1023"/>
                </a:lnTo>
                <a:lnTo>
                  <a:pt x="1038" y="1042"/>
                </a:lnTo>
                <a:lnTo>
                  <a:pt x="1030" y="1060"/>
                </a:lnTo>
                <a:lnTo>
                  <a:pt x="1022" y="1077"/>
                </a:lnTo>
                <a:lnTo>
                  <a:pt x="1013" y="1092"/>
                </a:lnTo>
                <a:lnTo>
                  <a:pt x="1003" y="1106"/>
                </a:lnTo>
                <a:lnTo>
                  <a:pt x="993" y="1119"/>
                </a:lnTo>
                <a:lnTo>
                  <a:pt x="982" y="1129"/>
                </a:lnTo>
                <a:lnTo>
                  <a:pt x="971" y="1137"/>
                </a:lnTo>
                <a:lnTo>
                  <a:pt x="959" y="1143"/>
                </a:lnTo>
                <a:lnTo>
                  <a:pt x="948" y="1147"/>
                </a:lnTo>
                <a:lnTo>
                  <a:pt x="911" y="1160"/>
                </a:lnTo>
                <a:lnTo>
                  <a:pt x="875" y="1172"/>
                </a:lnTo>
                <a:lnTo>
                  <a:pt x="842" y="1181"/>
                </a:lnTo>
                <a:lnTo>
                  <a:pt x="810" y="1188"/>
                </a:lnTo>
                <a:lnTo>
                  <a:pt x="780" y="1195"/>
                </a:lnTo>
                <a:lnTo>
                  <a:pt x="752" y="1199"/>
                </a:lnTo>
                <a:lnTo>
                  <a:pt x="725" y="1201"/>
                </a:lnTo>
                <a:lnTo>
                  <a:pt x="701" y="1202"/>
                </a:lnTo>
                <a:lnTo>
                  <a:pt x="677" y="1202"/>
                </a:lnTo>
                <a:lnTo>
                  <a:pt x="655" y="1201"/>
                </a:lnTo>
                <a:lnTo>
                  <a:pt x="634" y="1199"/>
                </a:lnTo>
                <a:lnTo>
                  <a:pt x="615" y="1196"/>
                </a:lnTo>
                <a:lnTo>
                  <a:pt x="597" y="1191"/>
                </a:lnTo>
                <a:lnTo>
                  <a:pt x="581" y="1186"/>
                </a:lnTo>
                <a:lnTo>
                  <a:pt x="565" y="1179"/>
                </a:lnTo>
                <a:lnTo>
                  <a:pt x="551" y="1173"/>
                </a:lnTo>
                <a:lnTo>
                  <a:pt x="537" y="1165"/>
                </a:lnTo>
                <a:lnTo>
                  <a:pt x="524" y="1158"/>
                </a:lnTo>
                <a:lnTo>
                  <a:pt x="501" y="1141"/>
                </a:lnTo>
                <a:lnTo>
                  <a:pt x="481" y="1123"/>
                </a:lnTo>
                <a:lnTo>
                  <a:pt x="463" y="1106"/>
                </a:lnTo>
                <a:lnTo>
                  <a:pt x="432" y="1076"/>
                </a:lnTo>
                <a:lnTo>
                  <a:pt x="418" y="1063"/>
                </a:lnTo>
                <a:lnTo>
                  <a:pt x="412" y="1059"/>
                </a:lnTo>
                <a:lnTo>
                  <a:pt x="404" y="1054"/>
                </a:lnTo>
                <a:close/>
                <a:moveTo>
                  <a:pt x="2900" y="1798"/>
                </a:moveTo>
                <a:lnTo>
                  <a:pt x="2900" y="2002"/>
                </a:lnTo>
                <a:lnTo>
                  <a:pt x="2858" y="2009"/>
                </a:lnTo>
                <a:lnTo>
                  <a:pt x="2813" y="2015"/>
                </a:lnTo>
                <a:lnTo>
                  <a:pt x="2768" y="2022"/>
                </a:lnTo>
                <a:lnTo>
                  <a:pt x="2721" y="2027"/>
                </a:lnTo>
                <a:lnTo>
                  <a:pt x="2672" y="2031"/>
                </a:lnTo>
                <a:lnTo>
                  <a:pt x="2622" y="2033"/>
                </a:lnTo>
                <a:lnTo>
                  <a:pt x="2570" y="2036"/>
                </a:lnTo>
                <a:lnTo>
                  <a:pt x="2517" y="2036"/>
                </a:lnTo>
                <a:lnTo>
                  <a:pt x="2424" y="2029"/>
                </a:lnTo>
                <a:lnTo>
                  <a:pt x="2333" y="2022"/>
                </a:lnTo>
                <a:lnTo>
                  <a:pt x="2289" y="2017"/>
                </a:lnTo>
                <a:lnTo>
                  <a:pt x="2246" y="2011"/>
                </a:lnTo>
                <a:lnTo>
                  <a:pt x="2202" y="2005"/>
                </a:lnTo>
                <a:lnTo>
                  <a:pt x="2160" y="1997"/>
                </a:lnTo>
                <a:lnTo>
                  <a:pt x="2118" y="1988"/>
                </a:lnTo>
                <a:lnTo>
                  <a:pt x="2077" y="1979"/>
                </a:lnTo>
                <a:lnTo>
                  <a:pt x="2037" y="1969"/>
                </a:lnTo>
                <a:lnTo>
                  <a:pt x="1997" y="1958"/>
                </a:lnTo>
                <a:lnTo>
                  <a:pt x="1959" y="1945"/>
                </a:lnTo>
                <a:lnTo>
                  <a:pt x="1922" y="1931"/>
                </a:lnTo>
                <a:lnTo>
                  <a:pt x="1885" y="1914"/>
                </a:lnTo>
                <a:lnTo>
                  <a:pt x="1849" y="1897"/>
                </a:lnTo>
                <a:lnTo>
                  <a:pt x="1814" y="1880"/>
                </a:lnTo>
                <a:lnTo>
                  <a:pt x="1780" y="1859"/>
                </a:lnTo>
                <a:lnTo>
                  <a:pt x="1748" y="1837"/>
                </a:lnTo>
                <a:lnTo>
                  <a:pt x="1716" y="1813"/>
                </a:lnTo>
                <a:lnTo>
                  <a:pt x="1685" y="1787"/>
                </a:lnTo>
                <a:lnTo>
                  <a:pt x="1654" y="1761"/>
                </a:lnTo>
                <a:lnTo>
                  <a:pt x="1626" y="1731"/>
                </a:lnTo>
                <a:lnTo>
                  <a:pt x="1598" y="1699"/>
                </a:lnTo>
                <a:lnTo>
                  <a:pt x="1573" y="1666"/>
                </a:lnTo>
                <a:lnTo>
                  <a:pt x="1547" y="1630"/>
                </a:lnTo>
                <a:lnTo>
                  <a:pt x="1523" y="1592"/>
                </a:lnTo>
                <a:lnTo>
                  <a:pt x="1501" y="1552"/>
                </a:lnTo>
                <a:lnTo>
                  <a:pt x="1479" y="1508"/>
                </a:lnTo>
                <a:lnTo>
                  <a:pt x="1459" y="1464"/>
                </a:lnTo>
                <a:lnTo>
                  <a:pt x="1439" y="1415"/>
                </a:lnTo>
                <a:lnTo>
                  <a:pt x="1423" y="1365"/>
                </a:lnTo>
                <a:lnTo>
                  <a:pt x="1390" y="1380"/>
                </a:lnTo>
                <a:lnTo>
                  <a:pt x="1360" y="1393"/>
                </a:lnTo>
                <a:lnTo>
                  <a:pt x="1332" y="1402"/>
                </a:lnTo>
                <a:lnTo>
                  <a:pt x="1319" y="1405"/>
                </a:lnTo>
                <a:lnTo>
                  <a:pt x="1306" y="1407"/>
                </a:lnTo>
                <a:lnTo>
                  <a:pt x="1294" y="1407"/>
                </a:lnTo>
                <a:lnTo>
                  <a:pt x="1282" y="1408"/>
                </a:lnTo>
                <a:lnTo>
                  <a:pt x="1270" y="1407"/>
                </a:lnTo>
                <a:lnTo>
                  <a:pt x="1260" y="1406"/>
                </a:lnTo>
                <a:lnTo>
                  <a:pt x="1250" y="1405"/>
                </a:lnTo>
                <a:lnTo>
                  <a:pt x="1240" y="1402"/>
                </a:lnTo>
                <a:lnTo>
                  <a:pt x="1231" y="1398"/>
                </a:lnTo>
                <a:lnTo>
                  <a:pt x="1222" y="1394"/>
                </a:lnTo>
                <a:lnTo>
                  <a:pt x="1214" y="1389"/>
                </a:lnTo>
                <a:lnTo>
                  <a:pt x="1206" y="1384"/>
                </a:lnTo>
                <a:lnTo>
                  <a:pt x="1192" y="1373"/>
                </a:lnTo>
                <a:lnTo>
                  <a:pt x="1181" y="1359"/>
                </a:lnTo>
                <a:lnTo>
                  <a:pt x="1171" y="1343"/>
                </a:lnTo>
                <a:lnTo>
                  <a:pt x="1163" y="1325"/>
                </a:lnTo>
                <a:lnTo>
                  <a:pt x="1157" y="1306"/>
                </a:lnTo>
                <a:lnTo>
                  <a:pt x="1153" y="1287"/>
                </a:lnTo>
                <a:lnTo>
                  <a:pt x="1150" y="1266"/>
                </a:lnTo>
                <a:lnTo>
                  <a:pt x="1150" y="1245"/>
                </a:lnTo>
                <a:lnTo>
                  <a:pt x="1151" y="1223"/>
                </a:lnTo>
                <a:lnTo>
                  <a:pt x="1155" y="1201"/>
                </a:lnTo>
                <a:lnTo>
                  <a:pt x="1160" y="1179"/>
                </a:lnTo>
                <a:lnTo>
                  <a:pt x="1167" y="1159"/>
                </a:lnTo>
                <a:lnTo>
                  <a:pt x="1176" y="1138"/>
                </a:lnTo>
                <a:lnTo>
                  <a:pt x="1187" y="1118"/>
                </a:lnTo>
                <a:lnTo>
                  <a:pt x="1200" y="1099"/>
                </a:lnTo>
                <a:lnTo>
                  <a:pt x="1214" y="1081"/>
                </a:lnTo>
                <a:lnTo>
                  <a:pt x="1231" y="1064"/>
                </a:lnTo>
                <a:lnTo>
                  <a:pt x="1249" y="1050"/>
                </a:lnTo>
                <a:lnTo>
                  <a:pt x="1269" y="1037"/>
                </a:lnTo>
                <a:lnTo>
                  <a:pt x="1290" y="1027"/>
                </a:lnTo>
                <a:lnTo>
                  <a:pt x="1314" y="1019"/>
                </a:lnTo>
                <a:lnTo>
                  <a:pt x="1326" y="1015"/>
                </a:lnTo>
                <a:lnTo>
                  <a:pt x="1340" y="1013"/>
                </a:lnTo>
                <a:lnTo>
                  <a:pt x="1352" y="1012"/>
                </a:lnTo>
                <a:lnTo>
                  <a:pt x="1366" y="1010"/>
                </a:lnTo>
                <a:lnTo>
                  <a:pt x="1388" y="972"/>
                </a:lnTo>
                <a:lnTo>
                  <a:pt x="1413" y="937"/>
                </a:lnTo>
                <a:lnTo>
                  <a:pt x="1437" y="908"/>
                </a:lnTo>
                <a:lnTo>
                  <a:pt x="1461" y="881"/>
                </a:lnTo>
                <a:lnTo>
                  <a:pt x="1487" y="858"/>
                </a:lnTo>
                <a:lnTo>
                  <a:pt x="1512" y="838"/>
                </a:lnTo>
                <a:lnTo>
                  <a:pt x="1539" y="821"/>
                </a:lnTo>
                <a:lnTo>
                  <a:pt x="1566" y="808"/>
                </a:lnTo>
                <a:lnTo>
                  <a:pt x="1592" y="798"/>
                </a:lnTo>
                <a:lnTo>
                  <a:pt x="1619" y="790"/>
                </a:lnTo>
                <a:lnTo>
                  <a:pt x="1645" y="785"/>
                </a:lnTo>
                <a:lnTo>
                  <a:pt x="1671" y="783"/>
                </a:lnTo>
                <a:lnTo>
                  <a:pt x="1697" y="783"/>
                </a:lnTo>
                <a:lnTo>
                  <a:pt x="1722" y="785"/>
                </a:lnTo>
                <a:lnTo>
                  <a:pt x="1748" y="789"/>
                </a:lnTo>
                <a:lnTo>
                  <a:pt x="1772" y="794"/>
                </a:lnTo>
                <a:lnTo>
                  <a:pt x="1797" y="802"/>
                </a:lnTo>
                <a:lnTo>
                  <a:pt x="1820" y="811"/>
                </a:lnTo>
                <a:lnTo>
                  <a:pt x="1841" y="821"/>
                </a:lnTo>
                <a:lnTo>
                  <a:pt x="1862" y="834"/>
                </a:lnTo>
                <a:lnTo>
                  <a:pt x="1882" y="845"/>
                </a:lnTo>
                <a:lnTo>
                  <a:pt x="1901" y="859"/>
                </a:lnTo>
                <a:lnTo>
                  <a:pt x="1918" y="873"/>
                </a:lnTo>
                <a:lnTo>
                  <a:pt x="1935" y="889"/>
                </a:lnTo>
                <a:lnTo>
                  <a:pt x="1950" y="904"/>
                </a:lnTo>
                <a:lnTo>
                  <a:pt x="1963" y="919"/>
                </a:lnTo>
                <a:lnTo>
                  <a:pt x="1974" y="935"/>
                </a:lnTo>
                <a:lnTo>
                  <a:pt x="1983" y="951"/>
                </a:lnTo>
                <a:lnTo>
                  <a:pt x="1991" y="967"/>
                </a:lnTo>
                <a:lnTo>
                  <a:pt x="1997" y="981"/>
                </a:lnTo>
                <a:lnTo>
                  <a:pt x="2000" y="996"/>
                </a:lnTo>
                <a:lnTo>
                  <a:pt x="2001" y="1010"/>
                </a:lnTo>
                <a:lnTo>
                  <a:pt x="2021" y="1003"/>
                </a:lnTo>
                <a:lnTo>
                  <a:pt x="2040" y="996"/>
                </a:lnTo>
                <a:lnTo>
                  <a:pt x="2058" y="991"/>
                </a:lnTo>
                <a:lnTo>
                  <a:pt x="2076" y="987"/>
                </a:lnTo>
                <a:lnTo>
                  <a:pt x="2093" y="983"/>
                </a:lnTo>
                <a:lnTo>
                  <a:pt x="2110" y="981"/>
                </a:lnTo>
                <a:lnTo>
                  <a:pt x="2127" y="980"/>
                </a:lnTo>
                <a:lnTo>
                  <a:pt x="2143" y="978"/>
                </a:lnTo>
                <a:lnTo>
                  <a:pt x="2175" y="980"/>
                </a:lnTo>
                <a:lnTo>
                  <a:pt x="2206" y="982"/>
                </a:lnTo>
                <a:lnTo>
                  <a:pt x="2234" y="989"/>
                </a:lnTo>
                <a:lnTo>
                  <a:pt x="2262" y="996"/>
                </a:lnTo>
                <a:lnTo>
                  <a:pt x="2288" y="1008"/>
                </a:lnTo>
                <a:lnTo>
                  <a:pt x="2312" y="1021"/>
                </a:lnTo>
                <a:lnTo>
                  <a:pt x="2335" y="1036"/>
                </a:lnTo>
                <a:lnTo>
                  <a:pt x="2357" y="1053"/>
                </a:lnTo>
                <a:lnTo>
                  <a:pt x="2378" y="1071"/>
                </a:lnTo>
                <a:lnTo>
                  <a:pt x="2396" y="1090"/>
                </a:lnTo>
                <a:lnTo>
                  <a:pt x="2413" y="1111"/>
                </a:lnTo>
                <a:lnTo>
                  <a:pt x="2429" y="1133"/>
                </a:lnTo>
                <a:lnTo>
                  <a:pt x="2443" y="1155"/>
                </a:lnTo>
                <a:lnTo>
                  <a:pt x="2454" y="1179"/>
                </a:lnTo>
                <a:lnTo>
                  <a:pt x="2466" y="1202"/>
                </a:lnTo>
                <a:lnTo>
                  <a:pt x="2475" y="1227"/>
                </a:lnTo>
                <a:lnTo>
                  <a:pt x="2483" y="1250"/>
                </a:lnTo>
                <a:lnTo>
                  <a:pt x="2489" y="1274"/>
                </a:lnTo>
                <a:lnTo>
                  <a:pt x="2493" y="1297"/>
                </a:lnTo>
                <a:lnTo>
                  <a:pt x="2495" y="1320"/>
                </a:lnTo>
                <a:lnTo>
                  <a:pt x="2497" y="1343"/>
                </a:lnTo>
                <a:lnTo>
                  <a:pt x="2497" y="1364"/>
                </a:lnTo>
                <a:lnTo>
                  <a:pt x="2494" y="1384"/>
                </a:lnTo>
                <a:lnTo>
                  <a:pt x="2490" y="1403"/>
                </a:lnTo>
                <a:lnTo>
                  <a:pt x="2485" y="1420"/>
                </a:lnTo>
                <a:lnTo>
                  <a:pt x="2479" y="1437"/>
                </a:lnTo>
                <a:lnTo>
                  <a:pt x="2470" y="1449"/>
                </a:lnTo>
                <a:lnTo>
                  <a:pt x="2460" y="1462"/>
                </a:lnTo>
                <a:lnTo>
                  <a:pt x="2436" y="1487"/>
                </a:lnTo>
                <a:lnTo>
                  <a:pt x="2413" y="1507"/>
                </a:lnTo>
                <a:lnTo>
                  <a:pt x="2393" y="1525"/>
                </a:lnTo>
                <a:lnTo>
                  <a:pt x="2371" y="1540"/>
                </a:lnTo>
                <a:lnTo>
                  <a:pt x="2351" y="1553"/>
                </a:lnTo>
                <a:lnTo>
                  <a:pt x="2332" y="1562"/>
                </a:lnTo>
                <a:lnTo>
                  <a:pt x="2312" y="1569"/>
                </a:lnTo>
                <a:lnTo>
                  <a:pt x="2294" y="1572"/>
                </a:lnTo>
                <a:lnTo>
                  <a:pt x="2277" y="1575"/>
                </a:lnTo>
                <a:lnTo>
                  <a:pt x="2260" y="1575"/>
                </a:lnTo>
                <a:lnTo>
                  <a:pt x="2245" y="1572"/>
                </a:lnTo>
                <a:lnTo>
                  <a:pt x="2229" y="1570"/>
                </a:lnTo>
                <a:lnTo>
                  <a:pt x="2215" y="1563"/>
                </a:lnTo>
                <a:lnTo>
                  <a:pt x="2201" y="1557"/>
                </a:lnTo>
                <a:lnTo>
                  <a:pt x="2188" y="1548"/>
                </a:lnTo>
                <a:lnTo>
                  <a:pt x="2177" y="1539"/>
                </a:lnTo>
                <a:lnTo>
                  <a:pt x="2166" y="1529"/>
                </a:lnTo>
                <a:lnTo>
                  <a:pt x="2156" y="1517"/>
                </a:lnTo>
                <a:lnTo>
                  <a:pt x="2147" y="1506"/>
                </a:lnTo>
                <a:lnTo>
                  <a:pt x="2140" y="1493"/>
                </a:lnTo>
                <a:lnTo>
                  <a:pt x="2132" y="1480"/>
                </a:lnTo>
                <a:lnTo>
                  <a:pt x="2127" y="1467"/>
                </a:lnTo>
                <a:lnTo>
                  <a:pt x="2122" y="1453"/>
                </a:lnTo>
                <a:lnTo>
                  <a:pt x="2118" y="1440"/>
                </a:lnTo>
                <a:lnTo>
                  <a:pt x="2115" y="1428"/>
                </a:lnTo>
                <a:lnTo>
                  <a:pt x="2113" y="1415"/>
                </a:lnTo>
                <a:lnTo>
                  <a:pt x="2113" y="1403"/>
                </a:lnTo>
                <a:lnTo>
                  <a:pt x="2113" y="1392"/>
                </a:lnTo>
                <a:lnTo>
                  <a:pt x="2115" y="1382"/>
                </a:lnTo>
                <a:lnTo>
                  <a:pt x="2118" y="1373"/>
                </a:lnTo>
                <a:lnTo>
                  <a:pt x="2122" y="1364"/>
                </a:lnTo>
                <a:lnTo>
                  <a:pt x="2128" y="1357"/>
                </a:lnTo>
                <a:lnTo>
                  <a:pt x="2136" y="1344"/>
                </a:lnTo>
                <a:lnTo>
                  <a:pt x="2145" y="1333"/>
                </a:lnTo>
                <a:lnTo>
                  <a:pt x="2154" y="1323"/>
                </a:lnTo>
                <a:lnTo>
                  <a:pt x="2164" y="1314"/>
                </a:lnTo>
                <a:lnTo>
                  <a:pt x="2173" y="1307"/>
                </a:lnTo>
                <a:lnTo>
                  <a:pt x="2182" y="1301"/>
                </a:lnTo>
                <a:lnTo>
                  <a:pt x="2191" y="1297"/>
                </a:lnTo>
                <a:lnTo>
                  <a:pt x="2200" y="1295"/>
                </a:lnTo>
                <a:lnTo>
                  <a:pt x="2210" y="1293"/>
                </a:lnTo>
                <a:lnTo>
                  <a:pt x="2219" y="1292"/>
                </a:lnTo>
                <a:lnTo>
                  <a:pt x="2228" y="1292"/>
                </a:lnTo>
                <a:lnTo>
                  <a:pt x="2236" y="1293"/>
                </a:lnTo>
                <a:lnTo>
                  <a:pt x="2245" y="1296"/>
                </a:lnTo>
                <a:lnTo>
                  <a:pt x="2253" y="1300"/>
                </a:lnTo>
                <a:lnTo>
                  <a:pt x="2269" y="1307"/>
                </a:lnTo>
                <a:lnTo>
                  <a:pt x="2283" y="1319"/>
                </a:lnTo>
                <a:lnTo>
                  <a:pt x="2296" y="1330"/>
                </a:lnTo>
                <a:lnTo>
                  <a:pt x="2307" y="1344"/>
                </a:lnTo>
                <a:lnTo>
                  <a:pt x="2315" y="1360"/>
                </a:lnTo>
                <a:lnTo>
                  <a:pt x="2321" y="1374"/>
                </a:lnTo>
                <a:lnTo>
                  <a:pt x="2325" y="1388"/>
                </a:lnTo>
                <a:lnTo>
                  <a:pt x="2325" y="1396"/>
                </a:lnTo>
                <a:lnTo>
                  <a:pt x="2325" y="1402"/>
                </a:lnTo>
                <a:lnTo>
                  <a:pt x="2325" y="1407"/>
                </a:lnTo>
                <a:lnTo>
                  <a:pt x="2323" y="1414"/>
                </a:lnTo>
                <a:lnTo>
                  <a:pt x="2329" y="1401"/>
                </a:lnTo>
                <a:lnTo>
                  <a:pt x="2334" y="1389"/>
                </a:lnTo>
                <a:lnTo>
                  <a:pt x="2338" y="1376"/>
                </a:lnTo>
                <a:lnTo>
                  <a:pt x="2340" y="1365"/>
                </a:lnTo>
                <a:lnTo>
                  <a:pt x="2342" y="1353"/>
                </a:lnTo>
                <a:lnTo>
                  <a:pt x="2340" y="1343"/>
                </a:lnTo>
                <a:lnTo>
                  <a:pt x="2339" y="1332"/>
                </a:lnTo>
                <a:lnTo>
                  <a:pt x="2337" y="1321"/>
                </a:lnTo>
                <a:lnTo>
                  <a:pt x="2334" y="1311"/>
                </a:lnTo>
                <a:lnTo>
                  <a:pt x="2329" y="1301"/>
                </a:lnTo>
                <a:lnTo>
                  <a:pt x="2324" y="1292"/>
                </a:lnTo>
                <a:lnTo>
                  <a:pt x="2317" y="1283"/>
                </a:lnTo>
                <a:lnTo>
                  <a:pt x="2311" y="1274"/>
                </a:lnTo>
                <a:lnTo>
                  <a:pt x="2303" y="1266"/>
                </a:lnTo>
                <a:lnTo>
                  <a:pt x="2296" y="1259"/>
                </a:lnTo>
                <a:lnTo>
                  <a:pt x="2287" y="1252"/>
                </a:lnTo>
                <a:lnTo>
                  <a:pt x="2278" y="1246"/>
                </a:lnTo>
                <a:lnTo>
                  <a:pt x="2269" y="1241"/>
                </a:lnTo>
                <a:lnTo>
                  <a:pt x="2248" y="1232"/>
                </a:lnTo>
                <a:lnTo>
                  <a:pt x="2238" y="1228"/>
                </a:lnTo>
                <a:lnTo>
                  <a:pt x="2227" y="1225"/>
                </a:lnTo>
                <a:lnTo>
                  <a:pt x="2216" y="1224"/>
                </a:lnTo>
                <a:lnTo>
                  <a:pt x="2206" y="1223"/>
                </a:lnTo>
                <a:lnTo>
                  <a:pt x="2195" y="1223"/>
                </a:lnTo>
                <a:lnTo>
                  <a:pt x="2184" y="1224"/>
                </a:lnTo>
                <a:lnTo>
                  <a:pt x="2174" y="1225"/>
                </a:lnTo>
                <a:lnTo>
                  <a:pt x="2164" y="1228"/>
                </a:lnTo>
                <a:lnTo>
                  <a:pt x="2154" y="1232"/>
                </a:lnTo>
                <a:lnTo>
                  <a:pt x="2145" y="1237"/>
                </a:lnTo>
                <a:lnTo>
                  <a:pt x="2136" y="1242"/>
                </a:lnTo>
                <a:lnTo>
                  <a:pt x="2127" y="1250"/>
                </a:lnTo>
                <a:lnTo>
                  <a:pt x="2105" y="1272"/>
                </a:lnTo>
                <a:lnTo>
                  <a:pt x="2085" y="1292"/>
                </a:lnTo>
                <a:lnTo>
                  <a:pt x="2069" y="1314"/>
                </a:lnTo>
                <a:lnTo>
                  <a:pt x="2055" y="1336"/>
                </a:lnTo>
                <a:lnTo>
                  <a:pt x="2045" y="1357"/>
                </a:lnTo>
                <a:lnTo>
                  <a:pt x="2037" y="1378"/>
                </a:lnTo>
                <a:lnTo>
                  <a:pt x="2031" y="1398"/>
                </a:lnTo>
                <a:lnTo>
                  <a:pt x="2028" y="1419"/>
                </a:lnTo>
                <a:lnTo>
                  <a:pt x="2028" y="1439"/>
                </a:lnTo>
                <a:lnTo>
                  <a:pt x="2029" y="1458"/>
                </a:lnTo>
                <a:lnTo>
                  <a:pt x="2033" y="1478"/>
                </a:lnTo>
                <a:lnTo>
                  <a:pt x="2038" y="1496"/>
                </a:lnTo>
                <a:lnTo>
                  <a:pt x="2046" y="1513"/>
                </a:lnTo>
                <a:lnTo>
                  <a:pt x="2056" y="1530"/>
                </a:lnTo>
                <a:lnTo>
                  <a:pt x="2067" y="1545"/>
                </a:lnTo>
                <a:lnTo>
                  <a:pt x="2079" y="1561"/>
                </a:lnTo>
                <a:lnTo>
                  <a:pt x="2092" y="1575"/>
                </a:lnTo>
                <a:lnTo>
                  <a:pt x="2108" y="1588"/>
                </a:lnTo>
                <a:lnTo>
                  <a:pt x="2124" y="1601"/>
                </a:lnTo>
                <a:lnTo>
                  <a:pt x="2141" y="1611"/>
                </a:lnTo>
                <a:lnTo>
                  <a:pt x="2159" y="1621"/>
                </a:lnTo>
                <a:lnTo>
                  <a:pt x="2178" y="1630"/>
                </a:lnTo>
                <a:lnTo>
                  <a:pt x="2197" y="1636"/>
                </a:lnTo>
                <a:lnTo>
                  <a:pt x="2218" y="1643"/>
                </a:lnTo>
                <a:lnTo>
                  <a:pt x="2237" y="1647"/>
                </a:lnTo>
                <a:lnTo>
                  <a:pt x="2259" y="1650"/>
                </a:lnTo>
                <a:lnTo>
                  <a:pt x="2279" y="1652"/>
                </a:lnTo>
                <a:lnTo>
                  <a:pt x="2300" y="1650"/>
                </a:lnTo>
                <a:lnTo>
                  <a:pt x="2320" y="1649"/>
                </a:lnTo>
                <a:lnTo>
                  <a:pt x="2340" y="1645"/>
                </a:lnTo>
                <a:lnTo>
                  <a:pt x="2361" y="1639"/>
                </a:lnTo>
                <a:lnTo>
                  <a:pt x="2380" y="1631"/>
                </a:lnTo>
                <a:lnTo>
                  <a:pt x="2407" y="1657"/>
                </a:lnTo>
                <a:lnTo>
                  <a:pt x="2434" y="1680"/>
                </a:lnTo>
                <a:lnTo>
                  <a:pt x="2463" y="1700"/>
                </a:lnTo>
                <a:lnTo>
                  <a:pt x="2494" y="1720"/>
                </a:lnTo>
                <a:lnTo>
                  <a:pt x="2525" y="1736"/>
                </a:lnTo>
                <a:lnTo>
                  <a:pt x="2558" y="1750"/>
                </a:lnTo>
                <a:lnTo>
                  <a:pt x="2591" y="1762"/>
                </a:lnTo>
                <a:lnTo>
                  <a:pt x="2625" y="1772"/>
                </a:lnTo>
                <a:lnTo>
                  <a:pt x="2659" y="1781"/>
                </a:lnTo>
                <a:lnTo>
                  <a:pt x="2694" y="1787"/>
                </a:lnTo>
                <a:lnTo>
                  <a:pt x="2728" y="1793"/>
                </a:lnTo>
                <a:lnTo>
                  <a:pt x="2763" y="1796"/>
                </a:lnTo>
                <a:lnTo>
                  <a:pt x="2797" y="1799"/>
                </a:lnTo>
                <a:lnTo>
                  <a:pt x="2832" y="1799"/>
                </a:lnTo>
                <a:lnTo>
                  <a:pt x="2867" y="1799"/>
                </a:lnTo>
                <a:lnTo>
                  <a:pt x="2900" y="1798"/>
                </a:lnTo>
                <a:close/>
              </a:path>
            </a:pathLst>
          </a:custGeom>
          <a:solidFill>
            <a:schemeClr val="bg1">
              <a:lumMod val="95000"/>
              <a:alpha val="1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47" name="KSO_Shape"/>
          <p:cNvSpPr/>
          <p:nvPr/>
        </p:nvSpPr>
        <p:spPr>
          <a:xfrm>
            <a:off x="8488800" y="-167760"/>
            <a:ext cx="3157920" cy="1397520"/>
          </a:xfrm>
          <a:custGeom>
            <a:avLst/>
            <a:gdLst>
              <a:gd name="textAreaLeft" fmla="*/ 0 w 3157920"/>
              <a:gd name="textAreaRight" fmla="*/ 3158280 w 3157920"/>
              <a:gd name="textAreaTop" fmla="*/ 0 h 1397520"/>
              <a:gd name="textAreaBottom" fmla="*/ 1397880 h 1397520"/>
            </a:gdLst>
            <a:ahLst/>
            <a:rect l="textAreaLeft" t="textAreaTop" r="textAreaRight" b="textAreaBottom"/>
            <a:pathLst>
              <a:path w="4817" h="2132">
                <a:moveTo>
                  <a:pt x="2900" y="1730"/>
                </a:moveTo>
                <a:lnTo>
                  <a:pt x="2900" y="1730"/>
                </a:lnTo>
                <a:lnTo>
                  <a:pt x="2928" y="1729"/>
                </a:lnTo>
                <a:lnTo>
                  <a:pt x="2957" y="1725"/>
                </a:lnTo>
                <a:lnTo>
                  <a:pt x="2986" y="1721"/>
                </a:lnTo>
                <a:lnTo>
                  <a:pt x="3012" y="1717"/>
                </a:lnTo>
                <a:lnTo>
                  <a:pt x="3038" y="1712"/>
                </a:lnTo>
                <a:lnTo>
                  <a:pt x="3064" y="1705"/>
                </a:lnTo>
                <a:lnTo>
                  <a:pt x="3087" y="1699"/>
                </a:lnTo>
                <a:lnTo>
                  <a:pt x="3110" y="1693"/>
                </a:lnTo>
                <a:lnTo>
                  <a:pt x="3130" y="1685"/>
                </a:lnTo>
                <a:lnTo>
                  <a:pt x="3149" y="1677"/>
                </a:lnTo>
                <a:lnTo>
                  <a:pt x="3167" y="1670"/>
                </a:lnTo>
                <a:lnTo>
                  <a:pt x="3183" y="1661"/>
                </a:lnTo>
                <a:lnTo>
                  <a:pt x="3197" y="1653"/>
                </a:lnTo>
                <a:lnTo>
                  <a:pt x="3208" y="1644"/>
                </a:lnTo>
                <a:lnTo>
                  <a:pt x="3217" y="1635"/>
                </a:lnTo>
                <a:lnTo>
                  <a:pt x="3224" y="1626"/>
                </a:lnTo>
                <a:lnTo>
                  <a:pt x="3253" y="1601"/>
                </a:lnTo>
                <a:lnTo>
                  <a:pt x="3284" y="1576"/>
                </a:lnTo>
                <a:lnTo>
                  <a:pt x="3313" y="1553"/>
                </a:lnTo>
                <a:lnTo>
                  <a:pt x="3341" y="1531"/>
                </a:lnTo>
                <a:lnTo>
                  <a:pt x="3371" y="1512"/>
                </a:lnTo>
                <a:lnTo>
                  <a:pt x="3399" y="1494"/>
                </a:lnTo>
                <a:lnTo>
                  <a:pt x="3427" y="1478"/>
                </a:lnTo>
                <a:lnTo>
                  <a:pt x="3455" y="1462"/>
                </a:lnTo>
                <a:lnTo>
                  <a:pt x="3482" y="1448"/>
                </a:lnTo>
                <a:lnTo>
                  <a:pt x="3509" y="1435"/>
                </a:lnTo>
                <a:lnTo>
                  <a:pt x="3536" y="1425"/>
                </a:lnTo>
                <a:lnTo>
                  <a:pt x="3562" y="1415"/>
                </a:lnTo>
                <a:lnTo>
                  <a:pt x="3587" y="1406"/>
                </a:lnTo>
                <a:lnTo>
                  <a:pt x="3613" y="1400"/>
                </a:lnTo>
                <a:lnTo>
                  <a:pt x="3637" y="1393"/>
                </a:lnTo>
                <a:lnTo>
                  <a:pt x="3661" y="1388"/>
                </a:lnTo>
                <a:lnTo>
                  <a:pt x="3684" y="1384"/>
                </a:lnTo>
                <a:lnTo>
                  <a:pt x="3707" y="1382"/>
                </a:lnTo>
                <a:lnTo>
                  <a:pt x="3731" y="1379"/>
                </a:lnTo>
                <a:lnTo>
                  <a:pt x="3752" y="1378"/>
                </a:lnTo>
                <a:lnTo>
                  <a:pt x="3774" y="1378"/>
                </a:lnTo>
                <a:lnTo>
                  <a:pt x="3794" y="1379"/>
                </a:lnTo>
                <a:lnTo>
                  <a:pt x="3815" y="1380"/>
                </a:lnTo>
                <a:lnTo>
                  <a:pt x="3834" y="1383"/>
                </a:lnTo>
                <a:lnTo>
                  <a:pt x="3852" y="1387"/>
                </a:lnTo>
                <a:lnTo>
                  <a:pt x="3870" y="1391"/>
                </a:lnTo>
                <a:lnTo>
                  <a:pt x="3888" y="1396"/>
                </a:lnTo>
                <a:lnTo>
                  <a:pt x="3905" y="1401"/>
                </a:lnTo>
                <a:lnTo>
                  <a:pt x="3920" y="1406"/>
                </a:lnTo>
                <a:lnTo>
                  <a:pt x="3935" y="1412"/>
                </a:lnTo>
                <a:lnTo>
                  <a:pt x="3949" y="1420"/>
                </a:lnTo>
                <a:lnTo>
                  <a:pt x="3962" y="1428"/>
                </a:lnTo>
                <a:lnTo>
                  <a:pt x="4020" y="1464"/>
                </a:lnTo>
                <a:lnTo>
                  <a:pt x="4071" y="1497"/>
                </a:lnTo>
                <a:lnTo>
                  <a:pt x="4161" y="1557"/>
                </a:lnTo>
                <a:lnTo>
                  <a:pt x="4237" y="1609"/>
                </a:lnTo>
                <a:lnTo>
                  <a:pt x="4272" y="1634"/>
                </a:lnTo>
                <a:lnTo>
                  <a:pt x="4308" y="1654"/>
                </a:lnTo>
                <a:lnTo>
                  <a:pt x="4342" y="1675"/>
                </a:lnTo>
                <a:lnTo>
                  <a:pt x="4378" y="1691"/>
                </a:lnTo>
                <a:lnTo>
                  <a:pt x="4414" y="1708"/>
                </a:lnTo>
                <a:lnTo>
                  <a:pt x="4454" y="1722"/>
                </a:lnTo>
                <a:lnTo>
                  <a:pt x="4496" y="1734"/>
                </a:lnTo>
                <a:lnTo>
                  <a:pt x="4542" y="1744"/>
                </a:lnTo>
                <a:lnTo>
                  <a:pt x="4593" y="1753"/>
                </a:lnTo>
                <a:lnTo>
                  <a:pt x="4649" y="1759"/>
                </a:lnTo>
                <a:lnTo>
                  <a:pt x="4582" y="1718"/>
                </a:lnTo>
                <a:lnTo>
                  <a:pt x="4524" y="1681"/>
                </a:lnTo>
                <a:lnTo>
                  <a:pt x="4473" y="1649"/>
                </a:lnTo>
                <a:lnTo>
                  <a:pt x="4431" y="1620"/>
                </a:lnTo>
                <a:lnTo>
                  <a:pt x="4395" y="1594"/>
                </a:lnTo>
                <a:lnTo>
                  <a:pt x="4363" y="1571"/>
                </a:lnTo>
                <a:lnTo>
                  <a:pt x="4337" y="1549"/>
                </a:lnTo>
                <a:lnTo>
                  <a:pt x="4315" y="1530"/>
                </a:lnTo>
                <a:lnTo>
                  <a:pt x="4296" y="1512"/>
                </a:lnTo>
                <a:lnTo>
                  <a:pt x="4278" y="1496"/>
                </a:lnTo>
                <a:lnTo>
                  <a:pt x="4248" y="1461"/>
                </a:lnTo>
                <a:lnTo>
                  <a:pt x="4214" y="1425"/>
                </a:lnTo>
                <a:lnTo>
                  <a:pt x="4195" y="1405"/>
                </a:lnTo>
                <a:lnTo>
                  <a:pt x="4173" y="1383"/>
                </a:lnTo>
                <a:lnTo>
                  <a:pt x="4138" y="1353"/>
                </a:lnTo>
                <a:lnTo>
                  <a:pt x="4102" y="1328"/>
                </a:lnTo>
                <a:lnTo>
                  <a:pt x="4066" y="1305"/>
                </a:lnTo>
                <a:lnTo>
                  <a:pt x="4030" y="1286"/>
                </a:lnTo>
                <a:lnTo>
                  <a:pt x="3995" y="1269"/>
                </a:lnTo>
                <a:lnTo>
                  <a:pt x="3961" y="1255"/>
                </a:lnTo>
                <a:lnTo>
                  <a:pt x="3926" y="1243"/>
                </a:lnTo>
                <a:lnTo>
                  <a:pt x="3892" y="1236"/>
                </a:lnTo>
                <a:lnTo>
                  <a:pt x="3858" y="1229"/>
                </a:lnTo>
                <a:lnTo>
                  <a:pt x="3825" y="1224"/>
                </a:lnTo>
                <a:lnTo>
                  <a:pt x="3793" y="1223"/>
                </a:lnTo>
                <a:lnTo>
                  <a:pt x="3761" y="1222"/>
                </a:lnTo>
                <a:lnTo>
                  <a:pt x="3731" y="1224"/>
                </a:lnTo>
                <a:lnTo>
                  <a:pt x="3700" y="1227"/>
                </a:lnTo>
                <a:lnTo>
                  <a:pt x="3670" y="1232"/>
                </a:lnTo>
                <a:lnTo>
                  <a:pt x="3641" y="1238"/>
                </a:lnTo>
                <a:lnTo>
                  <a:pt x="3613" y="1245"/>
                </a:lnTo>
                <a:lnTo>
                  <a:pt x="3586" y="1254"/>
                </a:lnTo>
                <a:lnTo>
                  <a:pt x="3560" y="1263"/>
                </a:lnTo>
                <a:lnTo>
                  <a:pt x="3535" y="1273"/>
                </a:lnTo>
                <a:lnTo>
                  <a:pt x="3510" y="1284"/>
                </a:lnTo>
                <a:lnTo>
                  <a:pt x="3487" y="1296"/>
                </a:lnTo>
                <a:lnTo>
                  <a:pt x="3464" y="1307"/>
                </a:lnTo>
                <a:lnTo>
                  <a:pt x="3444" y="1320"/>
                </a:lnTo>
                <a:lnTo>
                  <a:pt x="3405" y="1344"/>
                </a:lnTo>
                <a:lnTo>
                  <a:pt x="3371" y="1370"/>
                </a:lnTo>
                <a:lnTo>
                  <a:pt x="3343" y="1392"/>
                </a:lnTo>
                <a:lnTo>
                  <a:pt x="3321" y="1412"/>
                </a:lnTo>
                <a:lnTo>
                  <a:pt x="3280" y="1428"/>
                </a:lnTo>
                <a:lnTo>
                  <a:pt x="3242" y="1439"/>
                </a:lnTo>
                <a:lnTo>
                  <a:pt x="3206" y="1448"/>
                </a:lnTo>
                <a:lnTo>
                  <a:pt x="3171" y="1453"/>
                </a:lnTo>
                <a:lnTo>
                  <a:pt x="3139" y="1457"/>
                </a:lnTo>
                <a:lnTo>
                  <a:pt x="3108" y="1457"/>
                </a:lnTo>
                <a:lnTo>
                  <a:pt x="3079" y="1456"/>
                </a:lnTo>
                <a:lnTo>
                  <a:pt x="3052" y="1452"/>
                </a:lnTo>
                <a:lnTo>
                  <a:pt x="3028" y="1446"/>
                </a:lnTo>
                <a:lnTo>
                  <a:pt x="3004" y="1438"/>
                </a:lnTo>
                <a:lnTo>
                  <a:pt x="2982" y="1428"/>
                </a:lnTo>
                <a:lnTo>
                  <a:pt x="2963" y="1416"/>
                </a:lnTo>
                <a:lnTo>
                  <a:pt x="2945" y="1403"/>
                </a:lnTo>
                <a:lnTo>
                  <a:pt x="2928" y="1389"/>
                </a:lnTo>
                <a:lnTo>
                  <a:pt x="2913" y="1374"/>
                </a:lnTo>
                <a:lnTo>
                  <a:pt x="2900" y="1357"/>
                </a:lnTo>
                <a:lnTo>
                  <a:pt x="2900" y="1730"/>
                </a:lnTo>
                <a:close/>
                <a:moveTo>
                  <a:pt x="2900" y="1073"/>
                </a:moveTo>
                <a:lnTo>
                  <a:pt x="2900" y="469"/>
                </a:lnTo>
                <a:lnTo>
                  <a:pt x="2915" y="469"/>
                </a:lnTo>
                <a:lnTo>
                  <a:pt x="2931" y="469"/>
                </a:lnTo>
                <a:lnTo>
                  <a:pt x="2947" y="469"/>
                </a:lnTo>
                <a:lnTo>
                  <a:pt x="2964" y="470"/>
                </a:lnTo>
                <a:lnTo>
                  <a:pt x="2980" y="473"/>
                </a:lnTo>
                <a:lnTo>
                  <a:pt x="2998" y="477"/>
                </a:lnTo>
                <a:lnTo>
                  <a:pt x="3015" y="480"/>
                </a:lnTo>
                <a:lnTo>
                  <a:pt x="3032" y="486"/>
                </a:lnTo>
                <a:lnTo>
                  <a:pt x="3048" y="492"/>
                </a:lnTo>
                <a:lnTo>
                  <a:pt x="3065" y="498"/>
                </a:lnTo>
                <a:lnTo>
                  <a:pt x="3082" y="506"/>
                </a:lnTo>
                <a:lnTo>
                  <a:pt x="3097" y="515"/>
                </a:lnTo>
                <a:lnTo>
                  <a:pt x="3112" y="524"/>
                </a:lnTo>
                <a:lnTo>
                  <a:pt x="3128" y="534"/>
                </a:lnTo>
                <a:lnTo>
                  <a:pt x="3142" y="546"/>
                </a:lnTo>
                <a:lnTo>
                  <a:pt x="3155" y="558"/>
                </a:lnTo>
                <a:lnTo>
                  <a:pt x="3166" y="571"/>
                </a:lnTo>
                <a:lnTo>
                  <a:pt x="3176" y="585"/>
                </a:lnTo>
                <a:lnTo>
                  <a:pt x="3187" y="601"/>
                </a:lnTo>
                <a:lnTo>
                  <a:pt x="3195" y="616"/>
                </a:lnTo>
                <a:lnTo>
                  <a:pt x="3202" y="634"/>
                </a:lnTo>
                <a:lnTo>
                  <a:pt x="3208" y="652"/>
                </a:lnTo>
                <a:lnTo>
                  <a:pt x="3212" y="670"/>
                </a:lnTo>
                <a:lnTo>
                  <a:pt x="3215" y="690"/>
                </a:lnTo>
                <a:lnTo>
                  <a:pt x="3215" y="711"/>
                </a:lnTo>
                <a:lnTo>
                  <a:pt x="3213" y="733"/>
                </a:lnTo>
                <a:lnTo>
                  <a:pt x="3211" y="756"/>
                </a:lnTo>
                <a:lnTo>
                  <a:pt x="3204" y="780"/>
                </a:lnTo>
                <a:lnTo>
                  <a:pt x="3198" y="804"/>
                </a:lnTo>
                <a:lnTo>
                  <a:pt x="3188" y="830"/>
                </a:lnTo>
                <a:lnTo>
                  <a:pt x="3175" y="857"/>
                </a:lnTo>
                <a:lnTo>
                  <a:pt x="3161" y="885"/>
                </a:lnTo>
                <a:lnTo>
                  <a:pt x="3189" y="886"/>
                </a:lnTo>
                <a:lnTo>
                  <a:pt x="3208" y="887"/>
                </a:lnTo>
                <a:lnTo>
                  <a:pt x="3230" y="890"/>
                </a:lnTo>
                <a:lnTo>
                  <a:pt x="3253" y="895"/>
                </a:lnTo>
                <a:lnTo>
                  <a:pt x="3277" y="902"/>
                </a:lnTo>
                <a:lnTo>
                  <a:pt x="3303" y="911"/>
                </a:lnTo>
                <a:lnTo>
                  <a:pt x="3316" y="917"/>
                </a:lnTo>
                <a:lnTo>
                  <a:pt x="3327" y="923"/>
                </a:lnTo>
                <a:lnTo>
                  <a:pt x="3340" y="931"/>
                </a:lnTo>
                <a:lnTo>
                  <a:pt x="3352" y="940"/>
                </a:lnTo>
                <a:lnTo>
                  <a:pt x="3363" y="950"/>
                </a:lnTo>
                <a:lnTo>
                  <a:pt x="3373" y="960"/>
                </a:lnTo>
                <a:lnTo>
                  <a:pt x="3384" y="973"/>
                </a:lnTo>
                <a:lnTo>
                  <a:pt x="3394" y="986"/>
                </a:lnTo>
                <a:lnTo>
                  <a:pt x="3403" y="1000"/>
                </a:lnTo>
                <a:lnTo>
                  <a:pt x="3411" y="1017"/>
                </a:lnTo>
                <a:lnTo>
                  <a:pt x="3418" y="1035"/>
                </a:lnTo>
                <a:lnTo>
                  <a:pt x="3425" y="1054"/>
                </a:lnTo>
                <a:lnTo>
                  <a:pt x="3430" y="1074"/>
                </a:lnTo>
                <a:lnTo>
                  <a:pt x="3434" y="1096"/>
                </a:lnTo>
                <a:lnTo>
                  <a:pt x="3436" y="1120"/>
                </a:lnTo>
                <a:lnTo>
                  <a:pt x="3439" y="1146"/>
                </a:lnTo>
                <a:lnTo>
                  <a:pt x="3439" y="1173"/>
                </a:lnTo>
                <a:lnTo>
                  <a:pt x="3437" y="1202"/>
                </a:lnTo>
                <a:lnTo>
                  <a:pt x="3432" y="1218"/>
                </a:lnTo>
                <a:lnTo>
                  <a:pt x="3426" y="1233"/>
                </a:lnTo>
                <a:lnTo>
                  <a:pt x="3418" y="1248"/>
                </a:lnTo>
                <a:lnTo>
                  <a:pt x="3408" y="1264"/>
                </a:lnTo>
                <a:lnTo>
                  <a:pt x="3395" y="1279"/>
                </a:lnTo>
                <a:lnTo>
                  <a:pt x="3382" y="1293"/>
                </a:lnTo>
                <a:lnTo>
                  <a:pt x="3367" y="1307"/>
                </a:lnTo>
                <a:lnTo>
                  <a:pt x="3350" y="1320"/>
                </a:lnTo>
                <a:lnTo>
                  <a:pt x="3334" y="1333"/>
                </a:lnTo>
                <a:lnTo>
                  <a:pt x="3315" y="1344"/>
                </a:lnTo>
                <a:lnTo>
                  <a:pt x="3295" y="1356"/>
                </a:lnTo>
                <a:lnTo>
                  <a:pt x="3276" y="1366"/>
                </a:lnTo>
                <a:lnTo>
                  <a:pt x="3254" y="1374"/>
                </a:lnTo>
                <a:lnTo>
                  <a:pt x="3234" y="1382"/>
                </a:lnTo>
                <a:lnTo>
                  <a:pt x="3212" y="1388"/>
                </a:lnTo>
                <a:lnTo>
                  <a:pt x="3190" y="1393"/>
                </a:lnTo>
                <a:lnTo>
                  <a:pt x="3169" y="1397"/>
                </a:lnTo>
                <a:lnTo>
                  <a:pt x="3147" y="1398"/>
                </a:lnTo>
                <a:lnTo>
                  <a:pt x="3125" y="1400"/>
                </a:lnTo>
                <a:lnTo>
                  <a:pt x="3105" y="1398"/>
                </a:lnTo>
                <a:lnTo>
                  <a:pt x="3084" y="1394"/>
                </a:lnTo>
                <a:lnTo>
                  <a:pt x="3064" y="1389"/>
                </a:lnTo>
                <a:lnTo>
                  <a:pt x="3044" y="1382"/>
                </a:lnTo>
                <a:lnTo>
                  <a:pt x="3027" y="1373"/>
                </a:lnTo>
                <a:lnTo>
                  <a:pt x="3010" y="1361"/>
                </a:lnTo>
                <a:lnTo>
                  <a:pt x="2993" y="1347"/>
                </a:lnTo>
                <a:lnTo>
                  <a:pt x="2979" y="1330"/>
                </a:lnTo>
                <a:lnTo>
                  <a:pt x="2966" y="1312"/>
                </a:lnTo>
                <a:lnTo>
                  <a:pt x="2955" y="1291"/>
                </a:lnTo>
                <a:lnTo>
                  <a:pt x="2945" y="1266"/>
                </a:lnTo>
                <a:lnTo>
                  <a:pt x="2937" y="1240"/>
                </a:lnTo>
                <a:lnTo>
                  <a:pt x="2932" y="1210"/>
                </a:lnTo>
                <a:lnTo>
                  <a:pt x="2929" y="1193"/>
                </a:lnTo>
                <a:lnTo>
                  <a:pt x="2929" y="1177"/>
                </a:lnTo>
                <a:lnTo>
                  <a:pt x="2932" y="1161"/>
                </a:lnTo>
                <a:lnTo>
                  <a:pt x="2937" y="1147"/>
                </a:lnTo>
                <a:lnTo>
                  <a:pt x="2943" y="1135"/>
                </a:lnTo>
                <a:lnTo>
                  <a:pt x="2951" y="1122"/>
                </a:lnTo>
                <a:lnTo>
                  <a:pt x="2960" y="1110"/>
                </a:lnTo>
                <a:lnTo>
                  <a:pt x="2970" y="1100"/>
                </a:lnTo>
                <a:lnTo>
                  <a:pt x="2982" y="1091"/>
                </a:lnTo>
                <a:lnTo>
                  <a:pt x="2995" y="1082"/>
                </a:lnTo>
                <a:lnTo>
                  <a:pt x="3007" y="1074"/>
                </a:lnTo>
                <a:lnTo>
                  <a:pt x="3021" y="1069"/>
                </a:lnTo>
                <a:lnTo>
                  <a:pt x="3036" y="1064"/>
                </a:lnTo>
                <a:lnTo>
                  <a:pt x="3050" y="1060"/>
                </a:lnTo>
                <a:lnTo>
                  <a:pt x="3065" y="1058"/>
                </a:lnTo>
                <a:lnTo>
                  <a:pt x="3079" y="1056"/>
                </a:lnTo>
                <a:lnTo>
                  <a:pt x="3094" y="1056"/>
                </a:lnTo>
                <a:lnTo>
                  <a:pt x="3108" y="1058"/>
                </a:lnTo>
                <a:lnTo>
                  <a:pt x="3123" y="1062"/>
                </a:lnTo>
                <a:lnTo>
                  <a:pt x="3135" y="1065"/>
                </a:lnTo>
                <a:lnTo>
                  <a:pt x="3148" y="1071"/>
                </a:lnTo>
                <a:lnTo>
                  <a:pt x="3160" y="1078"/>
                </a:lnTo>
                <a:lnTo>
                  <a:pt x="3170" y="1087"/>
                </a:lnTo>
                <a:lnTo>
                  <a:pt x="3179" y="1096"/>
                </a:lnTo>
                <a:lnTo>
                  <a:pt x="3187" y="1109"/>
                </a:lnTo>
                <a:lnTo>
                  <a:pt x="3192" y="1122"/>
                </a:lnTo>
                <a:lnTo>
                  <a:pt x="3197" y="1136"/>
                </a:lnTo>
                <a:lnTo>
                  <a:pt x="3198" y="1152"/>
                </a:lnTo>
                <a:lnTo>
                  <a:pt x="3199" y="1172"/>
                </a:lnTo>
                <a:lnTo>
                  <a:pt x="3197" y="1191"/>
                </a:lnTo>
                <a:lnTo>
                  <a:pt x="3193" y="1213"/>
                </a:lnTo>
                <a:lnTo>
                  <a:pt x="3185" y="1236"/>
                </a:lnTo>
                <a:lnTo>
                  <a:pt x="3201" y="1233"/>
                </a:lnTo>
                <a:lnTo>
                  <a:pt x="3215" y="1228"/>
                </a:lnTo>
                <a:lnTo>
                  <a:pt x="3226" y="1220"/>
                </a:lnTo>
                <a:lnTo>
                  <a:pt x="3235" y="1213"/>
                </a:lnTo>
                <a:lnTo>
                  <a:pt x="3242" y="1204"/>
                </a:lnTo>
                <a:lnTo>
                  <a:pt x="3247" y="1192"/>
                </a:lnTo>
                <a:lnTo>
                  <a:pt x="3251" y="1181"/>
                </a:lnTo>
                <a:lnTo>
                  <a:pt x="3252" y="1168"/>
                </a:lnTo>
                <a:lnTo>
                  <a:pt x="3252" y="1155"/>
                </a:lnTo>
                <a:lnTo>
                  <a:pt x="3249" y="1142"/>
                </a:lnTo>
                <a:lnTo>
                  <a:pt x="3245" y="1128"/>
                </a:lnTo>
                <a:lnTo>
                  <a:pt x="3240" y="1114"/>
                </a:lnTo>
                <a:lnTo>
                  <a:pt x="3233" y="1100"/>
                </a:lnTo>
                <a:lnTo>
                  <a:pt x="3225" y="1086"/>
                </a:lnTo>
                <a:lnTo>
                  <a:pt x="3215" y="1073"/>
                </a:lnTo>
                <a:lnTo>
                  <a:pt x="3204" y="1060"/>
                </a:lnTo>
                <a:lnTo>
                  <a:pt x="3192" y="1049"/>
                </a:lnTo>
                <a:lnTo>
                  <a:pt x="3178" y="1037"/>
                </a:lnTo>
                <a:lnTo>
                  <a:pt x="3163" y="1027"/>
                </a:lnTo>
                <a:lnTo>
                  <a:pt x="3147" y="1018"/>
                </a:lnTo>
                <a:lnTo>
                  <a:pt x="3130" y="1012"/>
                </a:lnTo>
                <a:lnTo>
                  <a:pt x="3114" y="1005"/>
                </a:lnTo>
                <a:lnTo>
                  <a:pt x="3094" y="1001"/>
                </a:lnTo>
                <a:lnTo>
                  <a:pt x="3075" y="999"/>
                </a:lnTo>
                <a:lnTo>
                  <a:pt x="3055" y="999"/>
                </a:lnTo>
                <a:lnTo>
                  <a:pt x="3034" y="1001"/>
                </a:lnTo>
                <a:lnTo>
                  <a:pt x="3012" y="1007"/>
                </a:lnTo>
                <a:lnTo>
                  <a:pt x="2991" y="1014"/>
                </a:lnTo>
                <a:lnTo>
                  <a:pt x="2969" y="1023"/>
                </a:lnTo>
                <a:lnTo>
                  <a:pt x="2946" y="1037"/>
                </a:lnTo>
                <a:lnTo>
                  <a:pt x="2923" y="1053"/>
                </a:lnTo>
                <a:lnTo>
                  <a:pt x="2900" y="1073"/>
                </a:lnTo>
                <a:close/>
                <a:moveTo>
                  <a:pt x="2900" y="2002"/>
                </a:moveTo>
                <a:lnTo>
                  <a:pt x="2900" y="1798"/>
                </a:lnTo>
                <a:lnTo>
                  <a:pt x="2928" y="1795"/>
                </a:lnTo>
                <a:lnTo>
                  <a:pt x="2955" y="1793"/>
                </a:lnTo>
                <a:lnTo>
                  <a:pt x="3007" y="1785"/>
                </a:lnTo>
                <a:lnTo>
                  <a:pt x="3056" y="1776"/>
                </a:lnTo>
                <a:lnTo>
                  <a:pt x="3099" y="1764"/>
                </a:lnTo>
                <a:lnTo>
                  <a:pt x="3138" y="1752"/>
                </a:lnTo>
                <a:lnTo>
                  <a:pt x="3170" y="1739"/>
                </a:lnTo>
                <a:lnTo>
                  <a:pt x="3183" y="1732"/>
                </a:lnTo>
                <a:lnTo>
                  <a:pt x="3194" y="1726"/>
                </a:lnTo>
                <a:lnTo>
                  <a:pt x="3204" y="1718"/>
                </a:lnTo>
                <a:lnTo>
                  <a:pt x="3212" y="1712"/>
                </a:lnTo>
                <a:lnTo>
                  <a:pt x="3266" y="1667"/>
                </a:lnTo>
                <a:lnTo>
                  <a:pt x="3318" y="1625"/>
                </a:lnTo>
                <a:lnTo>
                  <a:pt x="3370" y="1588"/>
                </a:lnTo>
                <a:lnTo>
                  <a:pt x="3418" y="1556"/>
                </a:lnTo>
                <a:lnTo>
                  <a:pt x="3466" y="1528"/>
                </a:lnTo>
                <a:lnTo>
                  <a:pt x="3512" y="1503"/>
                </a:lnTo>
                <a:lnTo>
                  <a:pt x="3555" y="1481"/>
                </a:lnTo>
                <a:lnTo>
                  <a:pt x="3597" y="1465"/>
                </a:lnTo>
                <a:lnTo>
                  <a:pt x="3637" y="1452"/>
                </a:lnTo>
                <a:lnTo>
                  <a:pt x="3675" y="1442"/>
                </a:lnTo>
                <a:lnTo>
                  <a:pt x="3713" y="1435"/>
                </a:lnTo>
                <a:lnTo>
                  <a:pt x="3747" y="1433"/>
                </a:lnTo>
                <a:lnTo>
                  <a:pt x="3779" y="1433"/>
                </a:lnTo>
                <a:lnTo>
                  <a:pt x="3811" y="1435"/>
                </a:lnTo>
                <a:lnTo>
                  <a:pt x="3839" y="1440"/>
                </a:lnTo>
                <a:lnTo>
                  <a:pt x="3867" y="1449"/>
                </a:lnTo>
                <a:lnTo>
                  <a:pt x="3893" y="1457"/>
                </a:lnTo>
                <a:lnTo>
                  <a:pt x="3919" y="1467"/>
                </a:lnTo>
                <a:lnTo>
                  <a:pt x="3943" y="1478"/>
                </a:lnTo>
                <a:lnTo>
                  <a:pt x="3965" y="1488"/>
                </a:lnTo>
                <a:lnTo>
                  <a:pt x="3988" y="1501"/>
                </a:lnTo>
                <a:lnTo>
                  <a:pt x="4010" y="1513"/>
                </a:lnTo>
                <a:lnTo>
                  <a:pt x="4050" y="1542"/>
                </a:lnTo>
                <a:lnTo>
                  <a:pt x="4091" y="1571"/>
                </a:lnTo>
                <a:lnTo>
                  <a:pt x="4132" y="1602"/>
                </a:lnTo>
                <a:lnTo>
                  <a:pt x="4175" y="1634"/>
                </a:lnTo>
                <a:lnTo>
                  <a:pt x="4221" y="1665"/>
                </a:lnTo>
                <a:lnTo>
                  <a:pt x="4244" y="1680"/>
                </a:lnTo>
                <a:lnTo>
                  <a:pt x="4269" y="1694"/>
                </a:lnTo>
                <a:lnTo>
                  <a:pt x="4296" y="1709"/>
                </a:lnTo>
                <a:lnTo>
                  <a:pt x="4323" y="1722"/>
                </a:lnTo>
                <a:lnTo>
                  <a:pt x="4353" y="1736"/>
                </a:lnTo>
                <a:lnTo>
                  <a:pt x="4383" y="1748"/>
                </a:lnTo>
                <a:lnTo>
                  <a:pt x="4417" y="1759"/>
                </a:lnTo>
                <a:lnTo>
                  <a:pt x="4451" y="1769"/>
                </a:lnTo>
                <a:lnTo>
                  <a:pt x="4488" y="1780"/>
                </a:lnTo>
                <a:lnTo>
                  <a:pt x="4527" y="1787"/>
                </a:lnTo>
                <a:lnTo>
                  <a:pt x="4569" y="1795"/>
                </a:lnTo>
                <a:lnTo>
                  <a:pt x="4612" y="1800"/>
                </a:lnTo>
                <a:lnTo>
                  <a:pt x="4660" y="1804"/>
                </a:lnTo>
                <a:lnTo>
                  <a:pt x="4710" y="1808"/>
                </a:lnTo>
                <a:lnTo>
                  <a:pt x="4762" y="1808"/>
                </a:lnTo>
                <a:lnTo>
                  <a:pt x="4817" y="1808"/>
                </a:lnTo>
                <a:lnTo>
                  <a:pt x="4794" y="1821"/>
                </a:lnTo>
                <a:lnTo>
                  <a:pt x="4770" y="1833"/>
                </a:lnTo>
                <a:lnTo>
                  <a:pt x="4745" y="1844"/>
                </a:lnTo>
                <a:lnTo>
                  <a:pt x="4720" y="1853"/>
                </a:lnTo>
                <a:lnTo>
                  <a:pt x="4694" y="1860"/>
                </a:lnTo>
                <a:lnTo>
                  <a:pt x="4669" y="1867"/>
                </a:lnTo>
                <a:lnTo>
                  <a:pt x="4642" y="1873"/>
                </a:lnTo>
                <a:lnTo>
                  <a:pt x="4615" y="1877"/>
                </a:lnTo>
                <a:lnTo>
                  <a:pt x="4588" y="1880"/>
                </a:lnTo>
                <a:lnTo>
                  <a:pt x="4561" y="1882"/>
                </a:lnTo>
                <a:lnTo>
                  <a:pt x="4534" y="1883"/>
                </a:lnTo>
                <a:lnTo>
                  <a:pt x="4507" y="1883"/>
                </a:lnTo>
                <a:lnTo>
                  <a:pt x="4481" y="1882"/>
                </a:lnTo>
                <a:lnTo>
                  <a:pt x="4455" y="1881"/>
                </a:lnTo>
                <a:lnTo>
                  <a:pt x="4404" y="1876"/>
                </a:lnTo>
                <a:lnTo>
                  <a:pt x="4354" y="1868"/>
                </a:lnTo>
                <a:lnTo>
                  <a:pt x="4308" y="1859"/>
                </a:lnTo>
                <a:lnTo>
                  <a:pt x="4266" y="1848"/>
                </a:lnTo>
                <a:lnTo>
                  <a:pt x="4227" y="1836"/>
                </a:lnTo>
                <a:lnTo>
                  <a:pt x="4195" y="1823"/>
                </a:lnTo>
                <a:lnTo>
                  <a:pt x="4167" y="1810"/>
                </a:lnTo>
                <a:lnTo>
                  <a:pt x="4146" y="1798"/>
                </a:lnTo>
                <a:lnTo>
                  <a:pt x="4138" y="1791"/>
                </a:lnTo>
                <a:lnTo>
                  <a:pt x="4132" y="1786"/>
                </a:lnTo>
                <a:lnTo>
                  <a:pt x="4102" y="1766"/>
                </a:lnTo>
                <a:lnTo>
                  <a:pt x="4072" y="1748"/>
                </a:lnTo>
                <a:lnTo>
                  <a:pt x="4043" y="1731"/>
                </a:lnTo>
                <a:lnTo>
                  <a:pt x="4015" y="1717"/>
                </a:lnTo>
                <a:lnTo>
                  <a:pt x="3986" y="1704"/>
                </a:lnTo>
                <a:lnTo>
                  <a:pt x="3960" y="1693"/>
                </a:lnTo>
                <a:lnTo>
                  <a:pt x="3934" y="1682"/>
                </a:lnTo>
                <a:lnTo>
                  <a:pt x="3908" y="1673"/>
                </a:lnTo>
                <a:lnTo>
                  <a:pt x="3883" y="1667"/>
                </a:lnTo>
                <a:lnTo>
                  <a:pt x="3858" y="1662"/>
                </a:lnTo>
                <a:lnTo>
                  <a:pt x="3835" y="1657"/>
                </a:lnTo>
                <a:lnTo>
                  <a:pt x="3812" y="1654"/>
                </a:lnTo>
                <a:lnTo>
                  <a:pt x="3789" y="1652"/>
                </a:lnTo>
                <a:lnTo>
                  <a:pt x="3768" y="1650"/>
                </a:lnTo>
                <a:lnTo>
                  <a:pt x="3747" y="1650"/>
                </a:lnTo>
                <a:lnTo>
                  <a:pt x="3727" y="1652"/>
                </a:lnTo>
                <a:lnTo>
                  <a:pt x="3707" y="1654"/>
                </a:lnTo>
                <a:lnTo>
                  <a:pt x="3688" y="1657"/>
                </a:lnTo>
                <a:lnTo>
                  <a:pt x="3670" y="1659"/>
                </a:lnTo>
                <a:lnTo>
                  <a:pt x="3652" y="1665"/>
                </a:lnTo>
                <a:lnTo>
                  <a:pt x="3619" y="1673"/>
                </a:lnTo>
                <a:lnTo>
                  <a:pt x="3590" y="1686"/>
                </a:lnTo>
                <a:lnTo>
                  <a:pt x="3563" y="1699"/>
                </a:lnTo>
                <a:lnTo>
                  <a:pt x="3539" y="1713"/>
                </a:lnTo>
                <a:lnTo>
                  <a:pt x="3518" y="1727"/>
                </a:lnTo>
                <a:lnTo>
                  <a:pt x="3500" y="1741"/>
                </a:lnTo>
                <a:lnTo>
                  <a:pt x="3466" y="1769"/>
                </a:lnTo>
                <a:lnTo>
                  <a:pt x="3444" y="1785"/>
                </a:lnTo>
                <a:lnTo>
                  <a:pt x="3419" y="1801"/>
                </a:lnTo>
                <a:lnTo>
                  <a:pt x="3393" y="1819"/>
                </a:lnTo>
                <a:lnTo>
                  <a:pt x="3363" y="1837"/>
                </a:lnTo>
                <a:lnTo>
                  <a:pt x="3331" y="1855"/>
                </a:lnTo>
                <a:lnTo>
                  <a:pt x="3295" y="1873"/>
                </a:lnTo>
                <a:lnTo>
                  <a:pt x="3257" y="1892"/>
                </a:lnTo>
                <a:lnTo>
                  <a:pt x="3216" y="1910"/>
                </a:lnTo>
                <a:lnTo>
                  <a:pt x="3171" y="1927"/>
                </a:lnTo>
                <a:lnTo>
                  <a:pt x="3124" y="1945"/>
                </a:lnTo>
                <a:lnTo>
                  <a:pt x="3073" y="1960"/>
                </a:lnTo>
                <a:lnTo>
                  <a:pt x="3018" y="1976"/>
                </a:lnTo>
                <a:lnTo>
                  <a:pt x="2960" y="1990"/>
                </a:lnTo>
                <a:lnTo>
                  <a:pt x="2900" y="2002"/>
                </a:lnTo>
                <a:close/>
                <a:moveTo>
                  <a:pt x="404" y="1054"/>
                </a:moveTo>
                <a:lnTo>
                  <a:pt x="404" y="1054"/>
                </a:lnTo>
                <a:lnTo>
                  <a:pt x="369" y="1047"/>
                </a:lnTo>
                <a:lnTo>
                  <a:pt x="336" y="1042"/>
                </a:lnTo>
                <a:lnTo>
                  <a:pt x="304" y="1039"/>
                </a:lnTo>
                <a:lnTo>
                  <a:pt x="275" y="1039"/>
                </a:lnTo>
                <a:lnTo>
                  <a:pt x="245" y="1040"/>
                </a:lnTo>
                <a:lnTo>
                  <a:pt x="218" y="1044"/>
                </a:lnTo>
                <a:lnTo>
                  <a:pt x="191" y="1049"/>
                </a:lnTo>
                <a:lnTo>
                  <a:pt x="167" y="1056"/>
                </a:lnTo>
                <a:lnTo>
                  <a:pt x="145" y="1065"/>
                </a:lnTo>
                <a:lnTo>
                  <a:pt x="124" y="1077"/>
                </a:lnTo>
                <a:lnTo>
                  <a:pt x="104" y="1088"/>
                </a:lnTo>
                <a:lnTo>
                  <a:pt x="87" y="1101"/>
                </a:lnTo>
                <a:lnTo>
                  <a:pt x="70" y="1117"/>
                </a:lnTo>
                <a:lnTo>
                  <a:pt x="56" y="1132"/>
                </a:lnTo>
                <a:lnTo>
                  <a:pt x="42" y="1149"/>
                </a:lnTo>
                <a:lnTo>
                  <a:pt x="32" y="1167"/>
                </a:lnTo>
                <a:lnTo>
                  <a:pt x="21" y="1184"/>
                </a:lnTo>
                <a:lnTo>
                  <a:pt x="14" y="1204"/>
                </a:lnTo>
                <a:lnTo>
                  <a:pt x="7" y="1223"/>
                </a:lnTo>
                <a:lnTo>
                  <a:pt x="3" y="1243"/>
                </a:lnTo>
                <a:lnTo>
                  <a:pt x="1" y="1264"/>
                </a:lnTo>
                <a:lnTo>
                  <a:pt x="0" y="1284"/>
                </a:lnTo>
                <a:lnTo>
                  <a:pt x="1" y="1305"/>
                </a:lnTo>
                <a:lnTo>
                  <a:pt x="3" y="1325"/>
                </a:lnTo>
                <a:lnTo>
                  <a:pt x="8" y="1346"/>
                </a:lnTo>
                <a:lnTo>
                  <a:pt x="15" y="1365"/>
                </a:lnTo>
                <a:lnTo>
                  <a:pt x="23" y="1385"/>
                </a:lnTo>
                <a:lnTo>
                  <a:pt x="33" y="1405"/>
                </a:lnTo>
                <a:lnTo>
                  <a:pt x="46" y="1424"/>
                </a:lnTo>
                <a:lnTo>
                  <a:pt x="60" y="1442"/>
                </a:lnTo>
                <a:lnTo>
                  <a:pt x="76" y="1458"/>
                </a:lnTo>
                <a:lnTo>
                  <a:pt x="94" y="1475"/>
                </a:lnTo>
                <a:lnTo>
                  <a:pt x="78" y="1506"/>
                </a:lnTo>
                <a:lnTo>
                  <a:pt x="64" y="1535"/>
                </a:lnTo>
                <a:lnTo>
                  <a:pt x="51" y="1565"/>
                </a:lnTo>
                <a:lnTo>
                  <a:pt x="40" y="1593"/>
                </a:lnTo>
                <a:lnTo>
                  <a:pt x="33" y="1621"/>
                </a:lnTo>
                <a:lnTo>
                  <a:pt x="26" y="1649"/>
                </a:lnTo>
                <a:lnTo>
                  <a:pt x="21" y="1675"/>
                </a:lnTo>
                <a:lnTo>
                  <a:pt x="17" y="1702"/>
                </a:lnTo>
                <a:lnTo>
                  <a:pt x="16" y="1727"/>
                </a:lnTo>
                <a:lnTo>
                  <a:pt x="16" y="1752"/>
                </a:lnTo>
                <a:lnTo>
                  <a:pt x="17" y="1775"/>
                </a:lnTo>
                <a:lnTo>
                  <a:pt x="20" y="1799"/>
                </a:lnTo>
                <a:lnTo>
                  <a:pt x="25" y="1821"/>
                </a:lnTo>
                <a:lnTo>
                  <a:pt x="30" y="1842"/>
                </a:lnTo>
                <a:lnTo>
                  <a:pt x="38" y="1864"/>
                </a:lnTo>
                <a:lnTo>
                  <a:pt x="46" y="1883"/>
                </a:lnTo>
                <a:lnTo>
                  <a:pt x="55" y="1904"/>
                </a:lnTo>
                <a:lnTo>
                  <a:pt x="65" y="1922"/>
                </a:lnTo>
                <a:lnTo>
                  <a:pt x="76" y="1940"/>
                </a:lnTo>
                <a:lnTo>
                  <a:pt x="89" y="1958"/>
                </a:lnTo>
                <a:lnTo>
                  <a:pt x="103" y="1973"/>
                </a:lnTo>
                <a:lnTo>
                  <a:pt x="117" y="1988"/>
                </a:lnTo>
                <a:lnTo>
                  <a:pt x="133" y="2004"/>
                </a:lnTo>
                <a:lnTo>
                  <a:pt x="148" y="2018"/>
                </a:lnTo>
                <a:lnTo>
                  <a:pt x="165" y="2031"/>
                </a:lnTo>
                <a:lnTo>
                  <a:pt x="183" y="2042"/>
                </a:lnTo>
                <a:lnTo>
                  <a:pt x="200" y="2054"/>
                </a:lnTo>
                <a:lnTo>
                  <a:pt x="218" y="2064"/>
                </a:lnTo>
                <a:lnTo>
                  <a:pt x="238" y="2074"/>
                </a:lnTo>
                <a:lnTo>
                  <a:pt x="258" y="2083"/>
                </a:lnTo>
                <a:lnTo>
                  <a:pt x="277" y="2091"/>
                </a:lnTo>
                <a:lnTo>
                  <a:pt x="298" y="2097"/>
                </a:lnTo>
                <a:lnTo>
                  <a:pt x="318" y="2104"/>
                </a:lnTo>
                <a:lnTo>
                  <a:pt x="339" y="2109"/>
                </a:lnTo>
                <a:lnTo>
                  <a:pt x="359" y="2113"/>
                </a:lnTo>
                <a:lnTo>
                  <a:pt x="380" y="2115"/>
                </a:lnTo>
                <a:lnTo>
                  <a:pt x="401" y="2118"/>
                </a:lnTo>
                <a:lnTo>
                  <a:pt x="422" y="2119"/>
                </a:lnTo>
                <a:lnTo>
                  <a:pt x="442" y="2119"/>
                </a:lnTo>
                <a:lnTo>
                  <a:pt x="464" y="2119"/>
                </a:lnTo>
                <a:lnTo>
                  <a:pt x="485" y="2116"/>
                </a:lnTo>
                <a:lnTo>
                  <a:pt x="504" y="2114"/>
                </a:lnTo>
                <a:lnTo>
                  <a:pt x="524" y="2110"/>
                </a:lnTo>
                <a:lnTo>
                  <a:pt x="543" y="2105"/>
                </a:lnTo>
                <a:lnTo>
                  <a:pt x="563" y="2100"/>
                </a:lnTo>
                <a:lnTo>
                  <a:pt x="582" y="2093"/>
                </a:lnTo>
                <a:lnTo>
                  <a:pt x="600" y="2084"/>
                </a:lnTo>
                <a:lnTo>
                  <a:pt x="618" y="2075"/>
                </a:lnTo>
                <a:lnTo>
                  <a:pt x="634" y="2066"/>
                </a:lnTo>
                <a:lnTo>
                  <a:pt x="651" y="2055"/>
                </a:lnTo>
                <a:lnTo>
                  <a:pt x="666" y="2042"/>
                </a:lnTo>
                <a:lnTo>
                  <a:pt x="682" y="2029"/>
                </a:lnTo>
                <a:lnTo>
                  <a:pt x="696" y="2015"/>
                </a:lnTo>
                <a:lnTo>
                  <a:pt x="709" y="2000"/>
                </a:lnTo>
                <a:lnTo>
                  <a:pt x="720" y="1983"/>
                </a:lnTo>
                <a:lnTo>
                  <a:pt x="732" y="1965"/>
                </a:lnTo>
                <a:lnTo>
                  <a:pt x="741" y="1946"/>
                </a:lnTo>
                <a:lnTo>
                  <a:pt x="750" y="1926"/>
                </a:lnTo>
                <a:lnTo>
                  <a:pt x="757" y="1905"/>
                </a:lnTo>
                <a:lnTo>
                  <a:pt x="764" y="1882"/>
                </a:lnTo>
                <a:lnTo>
                  <a:pt x="769" y="1859"/>
                </a:lnTo>
                <a:lnTo>
                  <a:pt x="771" y="1833"/>
                </a:lnTo>
                <a:lnTo>
                  <a:pt x="774" y="1808"/>
                </a:lnTo>
                <a:lnTo>
                  <a:pt x="774" y="1781"/>
                </a:lnTo>
                <a:lnTo>
                  <a:pt x="765" y="1752"/>
                </a:lnTo>
                <a:lnTo>
                  <a:pt x="753" y="1726"/>
                </a:lnTo>
                <a:lnTo>
                  <a:pt x="742" y="1703"/>
                </a:lnTo>
                <a:lnTo>
                  <a:pt x="729" y="1684"/>
                </a:lnTo>
                <a:lnTo>
                  <a:pt x="716" y="1665"/>
                </a:lnTo>
                <a:lnTo>
                  <a:pt x="702" y="1649"/>
                </a:lnTo>
                <a:lnTo>
                  <a:pt x="687" y="1636"/>
                </a:lnTo>
                <a:lnTo>
                  <a:pt x="673" y="1625"/>
                </a:lnTo>
                <a:lnTo>
                  <a:pt x="657" y="1616"/>
                </a:lnTo>
                <a:lnTo>
                  <a:pt x="642" y="1609"/>
                </a:lnTo>
                <a:lnTo>
                  <a:pt x="625" y="1604"/>
                </a:lnTo>
                <a:lnTo>
                  <a:pt x="610" y="1601"/>
                </a:lnTo>
                <a:lnTo>
                  <a:pt x="595" y="1599"/>
                </a:lnTo>
                <a:lnTo>
                  <a:pt x="578" y="1599"/>
                </a:lnTo>
                <a:lnTo>
                  <a:pt x="563" y="1601"/>
                </a:lnTo>
                <a:lnTo>
                  <a:pt x="549" y="1604"/>
                </a:lnTo>
                <a:lnTo>
                  <a:pt x="533" y="1608"/>
                </a:lnTo>
                <a:lnTo>
                  <a:pt x="519" y="1615"/>
                </a:lnTo>
                <a:lnTo>
                  <a:pt x="505" y="1621"/>
                </a:lnTo>
                <a:lnTo>
                  <a:pt x="492" y="1630"/>
                </a:lnTo>
                <a:lnTo>
                  <a:pt x="479" y="1639"/>
                </a:lnTo>
                <a:lnTo>
                  <a:pt x="468" y="1649"/>
                </a:lnTo>
                <a:lnTo>
                  <a:pt x="458" y="1659"/>
                </a:lnTo>
                <a:lnTo>
                  <a:pt x="449" y="1671"/>
                </a:lnTo>
                <a:lnTo>
                  <a:pt x="440" y="1684"/>
                </a:lnTo>
                <a:lnTo>
                  <a:pt x="433" y="1697"/>
                </a:lnTo>
                <a:lnTo>
                  <a:pt x="427" y="1711"/>
                </a:lnTo>
                <a:lnTo>
                  <a:pt x="423" y="1725"/>
                </a:lnTo>
                <a:lnTo>
                  <a:pt x="419" y="1739"/>
                </a:lnTo>
                <a:lnTo>
                  <a:pt x="418" y="1753"/>
                </a:lnTo>
                <a:lnTo>
                  <a:pt x="419" y="1768"/>
                </a:lnTo>
                <a:lnTo>
                  <a:pt x="421" y="1782"/>
                </a:lnTo>
                <a:lnTo>
                  <a:pt x="415" y="1769"/>
                </a:lnTo>
                <a:lnTo>
                  <a:pt x="412" y="1757"/>
                </a:lnTo>
                <a:lnTo>
                  <a:pt x="409" y="1744"/>
                </a:lnTo>
                <a:lnTo>
                  <a:pt x="407" y="1731"/>
                </a:lnTo>
                <a:lnTo>
                  <a:pt x="405" y="1720"/>
                </a:lnTo>
                <a:lnTo>
                  <a:pt x="405" y="1708"/>
                </a:lnTo>
                <a:lnTo>
                  <a:pt x="405" y="1697"/>
                </a:lnTo>
                <a:lnTo>
                  <a:pt x="408" y="1685"/>
                </a:lnTo>
                <a:lnTo>
                  <a:pt x="409" y="1675"/>
                </a:lnTo>
                <a:lnTo>
                  <a:pt x="412" y="1665"/>
                </a:lnTo>
                <a:lnTo>
                  <a:pt x="415" y="1654"/>
                </a:lnTo>
                <a:lnTo>
                  <a:pt x="421" y="1644"/>
                </a:lnTo>
                <a:lnTo>
                  <a:pt x="431" y="1625"/>
                </a:lnTo>
                <a:lnTo>
                  <a:pt x="444" y="1607"/>
                </a:lnTo>
                <a:lnTo>
                  <a:pt x="459" y="1592"/>
                </a:lnTo>
                <a:lnTo>
                  <a:pt x="477" y="1576"/>
                </a:lnTo>
                <a:lnTo>
                  <a:pt x="497" y="1562"/>
                </a:lnTo>
                <a:lnTo>
                  <a:pt x="518" y="1548"/>
                </a:lnTo>
                <a:lnTo>
                  <a:pt x="541" y="1536"/>
                </a:lnTo>
                <a:lnTo>
                  <a:pt x="565" y="1526"/>
                </a:lnTo>
                <a:lnTo>
                  <a:pt x="591" y="1517"/>
                </a:lnTo>
                <a:lnTo>
                  <a:pt x="618" y="1508"/>
                </a:lnTo>
                <a:lnTo>
                  <a:pt x="645" y="1502"/>
                </a:lnTo>
                <a:lnTo>
                  <a:pt x="673" y="1496"/>
                </a:lnTo>
                <a:lnTo>
                  <a:pt x="701" y="1492"/>
                </a:lnTo>
                <a:lnTo>
                  <a:pt x="729" y="1488"/>
                </a:lnTo>
                <a:lnTo>
                  <a:pt x="757" y="1485"/>
                </a:lnTo>
                <a:lnTo>
                  <a:pt x="785" y="1485"/>
                </a:lnTo>
                <a:lnTo>
                  <a:pt x="812" y="1485"/>
                </a:lnTo>
                <a:lnTo>
                  <a:pt x="839" y="1487"/>
                </a:lnTo>
                <a:lnTo>
                  <a:pt x="865" y="1489"/>
                </a:lnTo>
                <a:lnTo>
                  <a:pt x="889" y="1493"/>
                </a:lnTo>
                <a:lnTo>
                  <a:pt x="913" y="1498"/>
                </a:lnTo>
                <a:lnTo>
                  <a:pt x="935" y="1504"/>
                </a:lnTo>
                <a:lnTo>
                  <a:pt x="956" y="1511"/>
                </a:lnTo>
                <a:lnTo>
                  <a:pt x="974" y="1520"/>
                </a:lnTo>
                <a:lnTo>
                  <a:pt x="990" y="1530"/>
                </a:lnTo>
                <a:lnTo>
                  <a:pt x="1004" y="1540"/>
                </a:lnTo>
                <a:lnTo>
                  <a:pt x="1027" y="1551"/>
                </a:lnTo>
                <a:lnTo>
                  <a:pt x="1049" y="1561"/>
                </a:lnTo>
                <a:lnTo>
                  <a:pt x="1072" y="1574"/>
                </a:lnTo>
                <a:lnTo>
                  <a:pt x="1093" y="1585"/>
                </a:lnTo>
                <a:lnTo>
                  <a:pt x="1114" y="1598"/>
                </a:lnTo>
                <a:lnTo>
                  <a:pt x="1135" y="1612"/>
                </a:lnTo>
                <a:lnTo>
                  <a:pt x="1174" y="1641"/>
                </a:lnTo>
                <a:lnTo>
                  <a:pt x="1212" y="1672"/>
                </a:lnTo>
                <a:lnTo>
                  <a:pt x="1247" y="1704"/>
                </a:lnTo>
                <a:lnTo>
                  <a:pt x="1281" y="1736"/>
                </a:lnTo>
                <a:lnTo>
                  <a:pt x="1313" y="1768"/>
                </a:lnTo>
                <a:lnTo>
                  <a:pt x="1342" y="1799"/>
                </a:lnTo>
                <a:lnTo>
                  <a:pt x="1369" y="1828"/>
                </a:lnTo>
                <a:lnTo>
                  <a:pt x="1416" y="1881"/>
                </a:lnTo>
                <a:lnTo>
                  <a:pt x="1437" y="1903"/>
                </a:lnTo>
                <a:lnTo>
                  <a:pt x="1455" y="1922"/>
                </a:lnTo>
                <a:lnTo>
                  <a:pt x="1470" y="1935"/>
                </a:lnTo>
                <a:lnTo>
                  <a:pt x="1477" y="1940"/>
                </a:lnTo>
                <a:lnTo>
                  <a:pt x="1483" y="1944"/>
                </a:lnTo>
                <a:lnTo>
                  <a:pt x="1503" y="1965"/>
                </a:lnTo>
                <a:lnTo>
                  <a:pt x="1526" y="1985"/>
                </a:lnTo>
                <a:lnTo>
                  <a:pt x="1551" y="2004"/>
                </a:lnTo>
                <a:lnTo>
                  <a:pt x="1576" y="2020"/>
                </a:lnTo>
                <a:lnTo>
                  <a:pt x="1603" y="2036"/>
                </a:lnTo>
                <a:lnTo>
                  <a:pt x="1633" y="2050"/>
                </a:lnTo>
                <a:lnTo>
                  <a:pt x="1662" y="2063"/>
                </a:lnTo>
                <a:lnTo>
                  <a:pt x="1693" y="2074"/>
                </a:lnTo>
                <a:lnTo>
                  <a:pt x="1725" y="2084"/>
                </a:lnTo>
                <a:lnTo>
                  <a:pt x="1757" y="2093"/>
                </a:lnTo>
                <a:lnTo>
                  <a:pt x="1790" y="2101"/>
                </a:lnTo>
                <a:lnTo>
                  <a:pt x="1825" y="2109"/>
                </a:lnTo>
                <a:lnTo>
                  <a:pt x="1858" y="2114"/>
                </a:lnTo>
                <a:lnTo>
                  <a:pt x="1893" y="2119"/>
                </a:lnTo>
                <a:lnTo>
                  <a:pt x="1927" y="2123"/>
                </a:lnTo>
                <a:lnTo>
                  <a:pt x="1960" y="2127"/>
                </a:lnTo>
                <a:lnTo>
                  <a:pt x="2029" y="2130"/>
                </a:lnTo>
                <a:lnTo>
                  <a:pt x="2095" y="2132"/>
                </a:lnTo>
                <a:lnTo>
                  <a:pt x="2159" y="2130"/>
                </a:lnTo>
                <a:lnTo>
                  <a:pt x="2218" y="2128"/>
                </a:lnTo>
                <a:lnTo>
                  <a:pt x="2273" y="2123"/>
                </a:lnTo>
                <a:lnTo>
                  <a:pt x="2320" y="2118"/>
                </a:lnTo>
                <a:lnTo>
                  <a:pt x="2361" y="2110"/>
                </a:lnTo>
                <a:lnTo>
                  <a:pt x="2394" y="2104"/>
                </a:lnTo>
                <a:lnTo>
                  <a:pt x="2325" y="2098"/>
                </a:lnTo>
                <a:lnTo>
                  <a:pt x="2259" y="2092"/>
                </a:lnTo>
                <a:lnTo>
                  <a:pt x="2196" y="2083"/>
                </a:lnTo>
                <a:lnTo>
                  <a:pt x="2136" y="2073"/>
                </a:lnTo>
                <a:lnTo>
                  <a:pt x="2079" y="2060"/>
                </a:lnTo>
                <a:lnTo>
                  <a:pt x="2026" y="2046"/>
                </a:lnTo>
                <a:lnTo>
                  <a:pt x="1974" y="2029"/>
                </a:lnTo>
                <a:lnTo>
                  <a:pt x="1927" y="2013"/>
                </a:lnTo>
                <a:lnTo>
                  <a:pt x="1881" y="1995"/>
                </a:lnTo>
                <a:lnTo>
                  <a:pt x="1839" y="1974"/>
                </a:lnTo>
                <a:lnTo>
                  <a:pt x="1799" y="1954"/>
                </a:lnTo>
                <a:lnTo>
                  <a:pt x="1761" y="1932"/>
                </a:lnTo>
                <a:lnTo>
                  <a:pt x="1726" y="1910"/>
                </a:lnTo>
                <a:lnTo>
                  <a:pt x="1693" y="1886"/>
                </a:lnTo>
                <a:lnTo>
                  <a:pt x="1662" y="1863"/>
                </a:lnTo>
                <a:lnTo>
                  <a:pt x="1634" y="1839"/>
                </a:lnTo>
                <a:lnTo>
                  <a:pt x="1607" y="1813"/>
                </a:lnTo>
                <a:lnTo>
                  <a:pt x="1583" y="1787"/>
                </a:lnTo>
                <a:lnTo>
                  <a:pt x="1560" y="1763"/>
                </a:lnTo>
                <a:lnTo>
                  <a:pt x="1538" y="1737"/>
                </a:lnTo>
                <a:lnTo>
                  <a:pt x="1519" y="1712"/>
                </a:lnTo>
                <a:lnTo>
                  <a:pt x="1501" y="1686"/>
                </a:lnTo>
                <a:lnTo>
                  <a:pt x="1484" y="1661"/>
                </a:lnTo>
                <a:lnTo>
                  <a:pt x="1469" y="1636"/>
                </a:lnTo>
                <a:lnTo>
                  <a:pt x="1456" y="1612"/>
                </a:lnTo>
                <a:lnTo>
                  <a:pt x="1443" y="1589"/>
                </a:lnTo>
                <a:lnTo>
                  <a:pt x="1422" y="1544"/>
                </a:lnTo>
                <a:lnTo>
                  <a:pt x="1402" y="1502"/>
                </a:lnTo>
                <a:lnTo>
                  <a:pt x="1387" y="1466"/>
                </a:lnTo>
                <a:lnTo>
                  <a:pt x="1364" y="1469"/>
                </a:lnTo>
                <a:lnTo>
                  <a:pt x="1341" y="1470"/>
                </a:lnTo>
                <a:lnTo>
                  <a:pt x="1318" y="1471"/>
                </a:lnTo>
                <a:lnTo>
                  <a:pt x="1297" y="1471"/>
                </a:lnTo>
                <a:lnTo>
                  <a:pt x="1277" y="1470"/>
                </a:lnTo>
                <a:lnTo>
                  <a:pt x="1259" y="1469"/>
                </a:lnTo>
                <a:lnTo>
                  <a:pt x="1241" y="1466"/>
                </a:lnTo>
                <a:lnTo>
                  <a:pt x="1224" y="1462"/>
                </a:lnTo>
                <a:lnTo>
                  <a:pt x="1208" y="1458"/>
                </a:lnTo>
                <a:lnTo>
                  <a:pt x="1194" y="1453"/>
                </a:lnTo>
                <a:lnTo>
                  <a:pt x="1180" y="1447"/>
                </a:lnTo>
                <a:lnTo>
                  <a:pt x="1167" y="1440"/>
                </a:lnTo>
                <a:lnTo>
                  <a:pt x="1154" y="1434"/>
                </a:lnTo>
                <a:lnTo>
                  <a:pt x="1142" y="1426"/>
                </a:lnTo>
                <a:lnTo>
                  <a:pt x="1132" y="1417"/>
                </a:lnTo>
                <a:lnTo>
                  <a:pt x="1123" y="1408"/>
                </a:lnTo>
                <a:lnTo>
                  <a:pt x="1114" y="1400"/>
                </a:lnTo>
                <a:lnTo>
                  <a:pt x="1107" y="1389"/>
                </a:lnTo>
                <a:lnTo>
                  <a:pt x="1099" y="1379"/>
                </a:lnTo>
                <a:lnTo>
                  <a:pt x="1094" y="1369"/>
                </a:lnTo>
                <a:lnTo>
                  <a:pt x="1087" y="1357"/>
                </a:lnTo>
                <a:lnTo>
                  <a:pt x="1084" y="1346"/>
                </a:lnTo>
                <a:lnTo>
                  <a:pt x="1078" y="1334"/>
                </a:lnTo>
                <a:lnTo>
                  <a:pt x="1076" y="1321"/>
                </a:lnTo>
                <a:lnTo>
                  <a:pt x="1071" y="1297"/>
                </a:lnTo>
                <a:lnTo>
                  <a:pt x="1070" y="1270"/>
                </a:lnTo>
                <a:lnTo>
                  <a:pt x="1070" y="1245"/>
                </a:lnTo>
                <a:lnTo>
                  <a:pt x="1073" y="1218"/>
                </a:lnTo>
                <a:lnTo>
                  <a:pt x="1078" y="1191"/>
                </a:lnTo>
                <a:lnTo>
                  <a:pt x="1086" y="1164"/>
                </a:lnTo>
                <a:lnTo>
                  <a:pt x="1095" y="1137"/>
                </a:lnTo>
                <a:lnTo>
                  <a:pt x="1107" y="1111"/>
                </a:lnTo>
                <a:lnTo>
                  <a:pt x="1119" y="1087"/>
                </a:lnTo>
                <a:lnTo>
                  <a:pt x="1134" y="1064"/>
                </a:lnTo>
                <a:lnTo>
                  <a:pt x="1149" y="1042"/>
                </a:lnTo>
                <a:lnTo>
                  <a:pt x="1166" y="1022"/>
                </a:lnTo>
                <a:lnTo>
                  <a:pt x="1183" y="1004"/>
                </a:lnTo>
                <a:lnTo>
                  <a:pt x="1203" y="987"/>
                </a:lnTo>
                <a:lnTo>
                  <a:pt x="1223" y="973"/>
                </a:lnTo>
                <a:lnTo>
                  <a:pt x="1244" y="963"/>
                </a:lnTo>
                <a:lnTo>
                  <a:pt x="1254" y="958"/>
                </a:lnTo>
                <a:lnTo>
                  <a:pt x="1264" y="955"/>
                </a:lnTo>
                <a:lnTo>
                  <a:pt x="1274" y="951"/>
                </a:lnTo>
                <a:lnTo>
                  <a:pt x="1286" y="950"/>
                </a:lnTo>
                <a:lnTo>
                  <a:pt x="1296" y="949"/>
                </a:lnTo>
                <a:lnTo>
                  <a:pt x="1308" y="949"/>
                </a:lnTo>
                <a:lnTo>
                  <a:pt x="1318" y="949"/>
                </a:lnTo>
                <a:lnTo>
                  <a:pt x="1329" y="951"/>
                </a:lnTo>
                <a:lnTo>
                  <a:pt x="1341" y="930"/>
                </a:lnTo>
                <a:lnTo>
                  <a:pt x="1352" y="909"/>
                </a:lnTo>
                <a:lnTo>
                  <a:pt x="1364" y="890"/>
                </a:lnTo>
                <a:lnTo>
                  <a:pt x="1377" y="872"/>
                </a:lnTo>
                <a:lnTo>
                  <a:pt x="1390" y="855"/>
                </a:lnTo>
                <a:lnTo>
                  <a:pt x="1402" y="840"/>
                </a:lnTo>
                <a:lnTo>
                  <a:pt x="1415" y="825"/>
                </a:lnTo>
                <a:lnTo>
                  <a:pt x="1428" y="811"/>
                </a:lnTo>
                <a:lnTo>
                  <a:pt x="1442" y="798"/>
                </a:lnTo>
                <a:lnTo>
                  <a:pt x="1455" y="785"/>
                </a:lnTo>
                <a:lnTo>
                  <a:pt x="1469" y="775"/>
                </a:lnTo>
                <a:lnTo>
                  <a:pt x="1483" y="765"/>
                </a:lnTo>
                <a:lnTo>
                  <a:pt x="1497" y="754"/>
                </a:lnTo>
                <a:lnTo>
                  <a:pt x="1511" y="745"/>
                </a:lnTo>
                <a:lnTo>
                  <a:pt x="1539" y="731"/>
                </a:lnTo>
                <a:lnTo>
                  <a:pt x="1569" y="720"/>
                </a:lnTo>
                <a:lnTo>
                  <a:pt x="1597" y="711"/>
                </a:lnTo>
                <a:lnTo>
                  <a:pt x="1626" y="704"/>
                </a:lnTo>
                <a:lnTo>
                  <a:pt x="1654" y="702"/>
                </a:lnTo>
                <a:lnTo>
                  <a:pt x="1684" y="701"/>
                </a:lnTo>
                <a:lnTo>
                  <a:pt x="1712" y="702"/>
                </a:lnTo>
                <a:lnTo>
                  <a:pt x="1740" y="706"/>
                </a:lnTo>
                <a:lnTo>
                  <a:pt x="1767" y="712"/>
                </a:lnTo>
                <a:lnTo>
                  <a:pt x="1794" y="718"/>
                </a:lnTo>
                <a:lnTo>
                  <a:pt x="1820" y="729"/>
                </a:lnTo>
                <a:lnTo>
                  <a:pt x="1845" y="739"/>
                </a:lnTo>
                <a:lnTo>
                  <a:pt x="1868" y="750"/>
                </a:lnTo>
                <a:lnTo>
                  <a:pt x="1891" y="763"/>
                </a:lnTo>
                <a:lnTo>
                  <a:pt x="1913" y="777"/>
                </a:lnTo>
                <a:lnTo>
                  <a:pt x="1932" y="791"/>
                </a:lnTo>
                <a:lnTo>
                  <a:pt x="1951" y="807"/>
                </a:lnTo>
                <a:lnTo>
                  <a:pt x="1968" y="823"/>
                </a:lnTo>
                <a:lnTo>
                  <a:pt x="1982" y="839"/>
                </a:lnTo>
                <a:lnTo>
                  <a:pt x="1995" y="855"/>
                </a:lnTo>
                <a:lnTo>
                  <a:pt x="2006" y="872"/>
                </a:lnTo>
                <a:lnTo>
                  <a:pt x="2015" y="887"/>
                </a:lnTo>
                <a:lnTo>
                  <a:pt x="2022" y="903"/>
                </a:lnTo>
                <a:lnTo>
                  <a:pt x="2027" y="918"/>
                </a:lnTo>
                <a:lnTo>
                  <a:pt x="2028" y="932"/>
                </a:lnTo>
                <a:lnTo>
                  <a:pt x="2059" y="922"/>
                </a:lnTo>
                <a:lnTo>
                  <a:pt x="2088" y="914"/>
                </a:lnTo>
                <a:lnTo>
                  <a:pt x="2119" y="909"/>
                </a:lnTo>
                <a:lnTo>
                  <a:pt x="2147" y="907"/>
                </a:lnTo>
                <a:lnTo>
                  <a:pt x="2177" y="907"/>
                </a:lnTo>
                <a:lnTo>
                  <a:pt x="2205" y="909"/>
                </a:lnTo>
                <a:lnTo>
                  <a:pt x="2232" y="913"/>
                </a:lnTo>
                <a:lnTo>
                  <a:pt x="2259" y="921"/>
                </a:lnTo>
                <a:lnTo>
                  <a:pt x="2284" y="928"/>
                </a:lnTo>
                <a:lnTo>
                  <a:pt x="2309" y="940"/>
                </a:lnTo>
                <a:lnTo>
                  <a:pt x="2333" y="951"/>
                </a:lnTo>
                <a:lnTo>
                  <a:pt x="2356" y="966"/>
                </a:lnTo>
                <a:lnTo>
                  <a:pt x="2379" y="981"/>
                </a:lnTo>
                <a:lnTo>
                  <a:pt x="2401" y="996"/>
                </a:lnTo>
                <a:lnTo>
                  <a:pt x="2421" y="1014"/>
                </a:lnTo>
                <a:lnTo>
                  <a:pt x="2440" y="1033"/>
                </a:lnTo>
                <a:lnTo>
                  <a:pt x="2458" y="1053"/>
                </a:lnTo>
                <a:lnTo>
                  <a:pt x="2475" y="1072"/>
                </a:lnTo>
                <a:lnTo>
                  <a:pt x="2490" y="1094"/>
                </a:lnTo>
                <a:lnTo>
                  <a:pt x="2506" y="1114"/>
                </a:lnTo>
                <a:lnTo>
                  <a:pt x="2518" y="1136"/>
                </a:lnTo>
                <a:lnTo>
                  <a:pt x="2531" y="1158"/>
                </a:lnTo>
                <a:lnTo>
                  <a:pt x="2541" y="1178"/>
                </a:lnTo>
                <a:lnTo>
                  <a:pt x="2550" y="1200"/>
                </a:lnTo>
                <a:lnTo>
                  <a:pt x="2558" y="1222"/>
                </a:lnTo>
                <a:lnTo>
                  <a:pt x="2564" y="1242"/>
                </a:lnTo>
                <a:lnTo>
                  <a:pt x="2568" y="1263"/>
                </a:lnTo>
                <a:lnTo>
                  <a:pt x="2572" y="1282"/>
                </a:lnTo>
                <a:lnTo>
                  <a:pt x="2573" y="1301"/>
                </a:lnTo>
                <a:lnTo>
                  <a:pt x="2572" y="1319"/>
                </a:lnTo>
                <a:lnTo>
                  <a:pt x="2571" y="1336"/>
                </a:lnTo>
                <a:lnTo>
                  <a:pt x="2567" y="1351"/>
                </a:lnTo>
                <a:lnTo>
                  <a:pt x="2557" y="1380"/>
                </a:lnTo>
                <a:lnTo>
                  <a:pt x="2548" y="1406"/>
                </a:lnTo>
                <a:lnTo>
                  <a:pt x="2538" y="1430"/>
                </a:lnTo>
                <a:lnTo>
                  <a:pt x="2527" y="1453"/>
                </a:lnTo>
                <a:lnTo>
                  <a:pt x="2517" y="1474"/>
                </a:lnTo>
                <a:lnTo>
                  <a:pt x="2507" y="1492"/>
                </a:lnTo>
                <a:lnTo>
                  <a:pt x="2497" y="1508"/>
                </a:lnTo>
                <a:lnTo>
                  <a:pt x="2488" y="1522"/>
                </a:lnTo>
                <a:lnTo>
                  <a:pt x="2479" y="1535"/>
                </a:lnTo>
                <a:lnTo>
                  <a:pt x="2468" y="1547"/>
                </a:lnTo>
                <a:lnTo>
                  <a:pt x="2452" y="1563"/>
                </a:lnTo>
                <a:lnTo>
                  <a:pt x="2438" y="1575"/>
                </a:lnTo>
                <a:lnTo>
                  <a:pt x="2426" y="1581"/>
                </a:lnTo>
                <a:lnTo>
                  <a:pt x="2447" y="1604"/>
                </a:lnTo>
                <a:lnTo>
                  <a:pt x="2470" y="1625"/>
                </a:lnTo>
                <a:lnTo>
                  <a:pt x="2494" y="1644"/>
                </a:lnTo>
                <a:lnTo>
                  <a:pt x="2520" y="1659"/>
                </a:lnTo>
                <a:lnTo>
                  <a:pt x="2547" y="1675"/>
                </a:lnTo>
                <a:lnTo>
                  <a:pt x="2576" y="1688"/>
                </a:lnTo>
                <a:lnTo>
                  <a:pt x="2605" y="1698"/>
                </a:lnTo>
                <a:lnTo>
                  <a:pt x="2637" y="1708"/>
                </a:lnTo>
                <a:lnTo>
                  <a:pt x="2668" y="1716"/>
                </a:lnTo>
                <a:lnTo>
                  <a:pt x="2701" y="1722"/>
                </a:lnTo>
                <a:lnTo>
                  <a:pt x="2733" y="1726"/>
                </a:lnTo>
                <a:lnTo>
                  <a:pt x="2767" y="1730"/>
                </a:lnTo>
                <a:lnTo>
                  <a:pt x="2800" y="1731"/>
                </a:lnTo>
                <a:lnTo>
                  <a:pt x="2833" y="1732"/>
                </a:lnTo>
                <a:lnTo>
                  <a:pt x="2867" y="1732"/>
                </a:lnTo>
                <a:lnTo>
                  <a:pt x="2900" y="1730"/>
                </a:lnTo>
                <a:lnTo>
                  <a:pt x="2900" y="1357"/>
                </a:lnTo>
                <a:lnTo>
                  <a:pt x="2888" y="1341"/>
                </a:lnTo>
                <a:lnTo>
                  <a:pt x="2878" y="1323"/>
                </a:lnTo>
                <a:lnTo>
                  <a:pt x="2870" y="1304"/>
                </a:lnTo>
                <a:lnTo>
                  <a:pt x="2863" y="1286"/>
                </a:lnTo>
                <a:lnTo>
                  <a:pt x="2858" y="1266"/>
                </a:lnTo>
                <a:lnTo>
                  <a:pt x="2854" y="1247"/>
                </a:lnTo>
                <a:lnTo>
                  <a:pt x="2851" y="1228"/>
                </a:lnTo>
                <a:lnTo>
                  <a:pt x="2850" y="1209"/>
                </a:lnTo>
                <a:lnTo>
                  <a:pt x="2851" y="1191"/>
                </a:lnTo>
                <a:lnTo>
                  <a:pt x="2852" y="1173"/>
                </a:lnTo>
                <a:lnTo>
                  <a:pt x="2855" y="1155"/>
                </a:lnTo>
                <a:lnTo>
                  <a:pt x="2860" y="1138"/>
                </a:lnTo>
                <a:lnTo>
                  <a:pt x="2865" y="1122"/>
                </a:lnTo>
                <a:lnTo>
                  <a:pt x="2873" y="1106"/>
                </a:lnTo>
                <a:lnTo>
                  <a:pt x="2881" y="1094"/>
                </a:lnTo>
                <a:lnTo>
                  <a:pt x="2891" y="1081"/>
                </a:lnTo>
                <a:lnTo>
                  <a:pt x="2900" y="1073"/>
                </a:lnTo>
                <a:lnTo>
                  <a:pt x="2900" y="469"/>
                </a:lnTo>
                <a:lnTo>
                  <a:pt x="2877" y="473"/>
                </a:lnTo>
                <a:lnTo>
                  <a:pt x="2856" y="477"/>
                </a:lnTo>
                <a:lnTo>
                  <a:pt x="2837" y="484"/>
                </a:lnTo>
                <a:lnTo>
                  <a:pt x="2829" y="488"/>
                </a:lnTo>
                <a:lnTo>
                  <a:pt x="2822" y="492"/>
                </a:lnTo>
                <a:lnTo>
                  <a:pt x="2810" y="473"/>
                </a:lnTo>
                <a:lnTo>
                  <a:pt x="2797" y="455"/>
                </a:lnTo>
                <a:lnTo>
                  <a:pt x="2785" y="439"/>
                </a:lnTo>
                <a:lnTo>
                  <a:pt x="2772" y="424"/>
                </a:lnTo>
                <a:lnTo>
                  <a:pt x="2759" y="413"/>
                </a:lnTo>
                <a:lnTo>
                  <a:pt x="2745" y="401"/>
                </a:lnTo>
                <a:lnTo>
                  <a:pt x="2732" y="391"/>
                </a:lnTo>
                <a:lnTo>
                  <a:pt x="2718" y="383"/>
                </a:lnTo>
                <a:lnTo>
                  <a:pt x="2705" y="377"/>
                </a:lnTo>
                <a:lnTo>
                  <a:pt x="2691" y="372"/>
                </a:lnTo>
                <a:lnTo>
                  <a:pt x="2677" y="368"/>
                </a:lnTo>
                <a:lnTo>
                  <a:pt x="2664" y="365"/>
                </a:lnTo>
                <a:lnTo>
                  <a:pt x="2652" y="364"/>
                </a:lnTo>
                <a:lnTo>
                  <a:pt x="2639" y="363"/>
                </a:lnTo>
                <a:lnTo>
                  <a:pt x="2626" y="364"/>
                </a:lnTo>
                <a:lnTo>
                  <a:pt x="2613" y="366"/>
                </a:lnTo>
                <a:lnTo>
                  <a:pt x="2600" y="369"/>
                </a:lnTo>
                <a:lnTo>
                  <a:pt x="2589" y="373"/>
                </a:lnTo>
                <a:lnTo>
                  <a:pt x="2577" y="378"/>
                </a:lnTo>
                <a:lnTo>
                  <a:pt x="2566" y="384"/>
                </a:lnTo>
                <a:lnTo>
                  <a:pt x="2556" y="391"/>
                </a:lnTo>
                <a:lnTo>
                  <a:pt x="2545" y="398"/>
                </a:lnTo>
                <a:lnTo>
                  <a:pt x="2536" y="406"/>
                </a:lnTo>
                <a:lnTo>
                  <a:pt x="2527" y="415"/>
                </a:lnTo>
                <a:lnTo>
                  <a:pt x="2518" y="424"/>
                </a:lnTo>
                <a:lnTo>
                  <a:pt x="2512" y="434"/>
                </a:lnTo>
                <a:lnTo>
                  <a:pt x="2504" y="445"/>
                </a:lnTo>
                <a:lnTo>
                  <a:pt x="2499" y="456"/>
                </a:lnTo>
                <a:lnTo>
                  <a:pt x="2493" y="466"/>
                </a:lnTo>
                <a:lnTo>
                  <a:pt x="2489" y="478"/>
                </a:lnTo>
                <a:lnTo>
                  <a:pt x="2485" y="491"/>
                </a:lnTo>
                <a:lnTo>
                  <a:pt x="2484" y="502"/>
                </a:lnTo>
                <a:lnTo>
                  <a:pt x="2480" y="541"/>
                </a:lnTo>
                <a:lnTo>
                  <a:pt x="2475" y="576"/>
                </a:lnTo>
                <a:lnTo>
                  <a:pt x="2468" y="610"/>
                </a:lnTo>
                <a:lnTo>
                  <a:pt x="2458" y="639"/>
                </a:lnTo>
                <a:lnTo>
                  <a:pt x="2447" y="666"/>
                </a:lnTo>
                <a:lnTo>
                  <a:pt x="2434" y="690"/>
                </a:lnTo>
                <a:lnTo>
                  <a:pt x="2420" y="712"/>
                </a:lnTo>
                <a:lnTo>
                  <a:pt x="2403" y="731"/>
                </a:lnTo>
                <a:lnTo>
                  <a:pt x="2385" y="749"/>
                </a:lnTo>
                <a:lnTo>
                  <a:pt x="2367" y="763"/>
                </a:lnTo>
                <a:lnTo>
                  <a:pt x="2347" y="776"/>
                </a:lnTo>
                <a:lnTo>
                  <a:pt x="2328" y="786"/>
                </a:lnTo>
                <a:lnTo>
                  <a:pt x="2306" y="795"/>
                </a:lnTo>
                <a:lnTo>
                  <a:pt x="2284" y="802"/>
                </a:lnTo>
                <a:lnTo>
                  <a:pt x="2262" y="806"/>
                </a:lnTo>
                <a:lnTo>
                  <a:pt x="2241" y="809"/>
                </a:lnTo>
                <a:lnTo>
                  <a:pt x="2219" y="811"/>
                </a:lnTo>
                <a:lnTo>
                  <a:pt x="2197" y="811"/>
                </a:lnTo>
                <a:lnTo>
                  <a:pt x="2175" y="808"/>
                </a:lnTo>
                <a:lnTo>
                  <a:pt x="2154" y="806"/>
                </a:lnTo>
                <a:lnTo>
                  <a:pt x="2133" y="800"/>
                </a:lnTo>
                <a:lnTo>
                  <a:pt x="2114" y="795"/>
                </a:lnTo>
                <a:lnTo>
                  <a:pt x="2095" y="789"/>
                </a:lnTo>
                <a:lnTo>
                  <a:pt x="2077" y="781"/>
                </a:lnTo>
                <a:lnTo>
                  <a:pt x="2060" y="772"/>
                </a:lnTo>
                <a:lnTo>
                  <a:pt x="2045" y="763"/>
                </a:lnTo>
                <a:lnTo>
                  <a:pt x="2031" y="753"/>
                </a:lnTo>
                <a:lnTo>
                  <a:pt x="2019" y="742"/>
                </a:lnTo>
                <a:lnTo>
                  <a:pt x="2009" y="730"/>
                </a:lnTo>
                <a:lnTo>
                  <a:pt x="2001" y="718"/>
                </a:lnTo>
                <a:lnTo>
                  <a:pt x="1995" y="707"/>
                </a:lnTo>
                <a:lnTo>
                  <a:pt x="1991" y="694"/>
                </a:lnTo>
                <a:lnTo>
                  <a:pt x="1985" y="671"/>
                </a:lnTo>
                <a:lnTo>
                  <a:pt x="1978" y="649"/>
                </a:lnTo>
                <a:lnTo>
                  <a:pt x="1974" y="630"/>
                </a:lnTo>
                <a:lnTo>
                  <a:pt x="1972" y="611"/>
                </a:lnTo>
                <a:lnTo>
                  <a:pt x="1971" y="592"/>
                </a:lnTo>
                <a:lnTo>
                  <a:pt x="1972" y="575"/>
                </a:lnTo>
                <a:lnTo>
                  <a:pt x="1973" y="560"/>
                </a:lnTo>
                <a:lnTo>
                  <a:pt x="1976" y="544"/>
                </a:lnTo>
                <a:lnTo>
                  <a:pt x="1978" y="530"/>
                </a:lnTo>
                <a:lnTo>
                  <a:pt x="1983" y="516"/>
                </a:lnTo>
                <a:lnTo>
                  <a:pt x="1989" y="505"/>
                </a:lnTo>
                <a:lnTo>
                  <a:pt x="1995" y="493"/>
                </a:lnTo>
                <a:lnTo>
                  <a:pt x="2001" y="482"/>
                </a:lnTo>
                <a:lnTo>
                  <a:pt x="2009" y="473"/>
                </a:lnTo>
                <a:lnTo>
                  <a:pt x="2018" y="464"/>
                </a:lnTo>
                <a:lnTo>
                  <a:pt x="2026" y="455"/>
                </a:lnTo>
                <a:lnTo>
                  <a:pt x="2035" y="448"/>
                </a:lnTo>
                <a:lnTo>
                  <a:pt x="2045" y="441"/>
                </a:lnTo>
                <a:lnTo>
                  <a:pt x="2064" y="429"/>
                </a:lnTo>
                <a:lnTo>
                  <a:pt x="2083" y="420"/>
                </a:lnTo>
                <a:lnTo>
                  <a:pt x="2102" y="414"/>
                </a:lnTo>
                <a:lnTo>
                  <a:pt x="2120" y="410"/>
                </a:lnTo>
                <a:lnTo>
                  <a:pt x="2137" y="407"/>
                </a:lnTo>
                <a:lnTo>
                  <a:pt x="2150" y="406"/>
                </a:lnTo>
                <a:lnTo>
                  <a:pt x="2161" y="406"/>
                </a:lnTo>
                <a:lnTo>
                  <a:pt x="2134" y="423"/>
                </a:lnTo>
                <a:lnTo>
                  <a:pt x="2111" y="438"/>
                </a:lnTo>
                <a:lnTo>
                  <a:pt x="2091" y="455"/>
                </a:lnTo>
                <a:lnTo>
                  <a:pt x="2073" y="471"/>
                </a:lnTo>
                <a:lnTo>
                  <a:pt x="2058" y="488"/>
                </a:lnTo>
                <a:lnTo>
                  <a:pt x="2046" y="505"/>
                </a:lnTo>
                <a:lnTo>
                  <a:pt x="2036" y="520"/>
                </a:lnTo>
                <a:lnTo>
                  <a:pt x="2028" y="537"/>
                </a:lnTo>
                <a:lnTo>
                  <a:pt x="2023" y="553"/>
                </a:lnTo>
                <a:lnTo>
                  <a:pt x="2019" y="569"/>
                </a:lnTo>
                <a:lnTo>
                  <a:pt x="2019" y="585"/>
                </a:lnTo>
                <a:lnTo>
                  <a:pt x="2019" y="601"/>
                </a:lnTo>
                <a:lnTo>
                  <a:pt x="2022" y="615"/>
                </a:lnTo>
                <a:lnTo>
                  <a:pt x="2027" y="630"/>
                </a:lnTo>
                <a:lnTo>
                  <a:pt x="2032" y="644"/>
                </a:lnTo>
                <a:lnTo>
                  <a:pt x="2040" y="657"/>
                </a:lnTo>
                <a:lnTo>
                  <a:pt x="2049" y="670"/>
                </a:lnTo>
                <a:lnTo>
                  <a:pt x="2059" y="681"/>
                </a:lnTo>
                <a:lnTo>
                  <a:pt x="2069" y="693"/>
                </a:lnTo>
                <a:lnTo>
                  <a:pt x="2082" y="704"/>
                </a:lnTo>
                <a:lnTo>
                  <a:pt x="2095" y="713"/>
                </a:lnTo>
                <a:lnTo>
                  <a:pt x="2109" y="722"/>
                </a:lnTo>
                <a:lnTo>
                  <a:pt x="2123" y="730"/>
                </a:lnTo>
                <a:lnTo>
                  <a:pt x="2138" y="736"/>
                </a:lnTo>
                <a:lnTo>
                  <a:pt x="2154" y="743"/>
                </a:lnTo>
                <a:lnTo>
                  <a:pt x="2169" y="747"/>
                </a:lnTo>
                <a:lnTo>
                  <a:pt x="2184" y="750"/>
                </a:lnTo>
                <a:lnTo>
                  <a:pt x="2201" y="752"/>
                </a:lnTo>
                <a:lnTo>
                  <a:pt x="2216" y="753"/>
                </a:lnTo>
                <a:lnTo>
                  <a:pt x="2232" y="752"/>
                </a:lnTo>
                <a:lnTo>
                  <a:pt x="2248" y="750"/>
                </a:lnTo>
                <a:lnTo>
                  <a:pt x="2262" y="747"/>
                </a:lnTo>
                <a:lnTo>
                  <a:pt x="2280" y="738"/>
                </a:lnTo>
                <a:lnTo>
                  <a:pt x="2298" y="729"/>
                </a:lnTo>
                <a:lnTo>
                  <a:pt x="2314" y="720"/>
                </a:lnTo>
                <a:lnTo>
                  <a:pt x="2328" y="710"/>
                </a:lnTo>
                <a:lnTo>
                  <a:pt x="2342" y="698"/>
                </a:lnTo>
                <a:lnTo>
                  <a:pt x="2355" y="686"/>
                </a:lnTo>
                <a:lnTo>
                  <a:pt x="2366" y="675"/>
                </a:lnTo>
                <a:lnTo>
                  <a:pt x="2376" y="663"/>
                </a:lnTo>
                <a:lnTo>
                  <a:pt x="2387" y="651"/>
                </a:lnTo>
                <a:lnTo>
                  <a:pt x="2396" y="638"/>
                </a:lnTo>
                <a:lnTo>
                  <a:pt x="2403" y="625"/>
                </a:lnTo>
                <a:lnTo>
                  <a:pt x="2411" y="611"/>
                </a:lnTo>
                <a:lnTo>
                  <a:pt x="2416" y="598"/>
                </a:lnTo>
                <a:lnTo>
                  <a:pt x="2421" y="584"/>
                </a:lnTo>
                <a:lnTo>
                  <a:pt x="2426" y="570"/>
                </a:lnTo>
                <a:lnTo>
                  <a:pt x="2430" y="556"/>
                </a:lnTo>
                <a:lnTo>
                  <a:pt x="2433" y="541"/>
                </a:lnTo>
                <a:lnTo>
                  <a:pt x="2434" y="526"/>
                </a:lnTo>
                <a:lnTo>
                  <a:pt x="2436" y="497"/>
                </a:lnTo>
                <a:lnTo>
                  <a:pt x="2435" y="466"/>
                </a:lnTo>
                <a:lnTo>
                  <a:pt x="2431" y="437"/>
                </a:lnTo>
                <a:lnTo>
                  <a:pt x="2425" y="407"/>
                </a:lnTo>
                <a:lnTo>
                  <a:pt x="2416" y="379"/>
                </a:lnTo>
                <a:lnTo>
                  <a:pt x="2404" y="351"/>
                </a:lnTo>
                <a:lnTo>
                  <a:pt x="2392" y="323"/>
                </a:lnTo>
                <a:lnTo>
                  <a:pt x="2376" y="297"/>
                </a:lnTo>
                <a:lnTo>
                  <a:pt x="2358" y="272"/>
                </a:lnTo>
                <a:lnTo>
                  <a:pt x="2340" y="249"/>
                </a:lnTo>
                <a:lnTo>
                  <a:pt x="2320" y="228"/>
                </a:lnTo>
                <a:lnTo>
                  <a:pt x="2298" y="209"/>
                </a:lnTo>
                <a:lnTo>
                  <a:pt x="2277" y="191"/>
                </a:lnTo>
                <a:lnTo>
                  <a:pt x="2252" y="177"/>
                </a:lnTo>
                <a:lnTo>
                  <a:pt x="2228" y="165"/>
                </a:lnTo>
                <a:lnTo>
                  <a:pt x="2216" y="160"/>
                </a:lnTo>
                <a:lnTo>
                  <a:pt x="2204" y="157"/>
                </a:lnTo>
                <a:lnTo>
                  <a:pt x="2191" y="153"/>
                </a:lnTo>
                <a:lnTo>
                  <a:pt x="2178" y="151"/>
                </a:lnTo>
                <a:lnTo>
                  <a:pt x="2164" y="149"/>
                </a:lnTo>
                <a:lnTo>
                  <a:pt x="2151" y="149"/>
                </a:lnTo>
                <a:lnTo>
                  <a:pt x="2138" y="149"/>
                </a:lnTo>
                <a:lnTo>
                  <a:pt x="2125" y="150"/>
                </a:lnTo>
                <a:lnTo>
                  <a:pt x="2111" y="153"/>
                </a:lnTo>
                <a:lnTo>
                  <a:pt x="2099" y="155"/>
                </a:lnTo>
                <a:lnTo>
                  <a:pt x="2086" y="159"/>
                </a:lnTo>
                <a:lnTo>
                  <a:pt x="2073" y="164"/>
                </a:lnTo>
                <a:lnTo>
                  <a:pt x="2060" y="171"/>
                </a:lnTo>
                <a:lnTo>
                  <a:pt x="2046" y="178"/>
                </a:lnTo>
                <a:lnTo>
                  <a:pt x="2033" y="187"/>
                </a:lnTo>
                <a:lnTo>
                  <a:pt x="2021" y="196"/>
                </a:lnTo>
                <a:lnTo>
                  <a:pt x="2001" y="177"/>
                </a:lnTo>
                <a:lnTo>
                  <a:pt x="1982" y="159"/>
                </a:lnTo>
                <a:lnTo>
                  <a:pt x="1962" y="142"/>
                </a:lnTo>
                <a:lnTo>
                  <a:pt x="1942" y="126"/>
                </a:lnTo>
                <a:lnTo>
                  <a:pt x="1923" y="110"/>
                </a:lnTo>
                <a:lnTo>
                  <a:pt x="1904" y="98"/>
                </a:lnTo>
                <a:lnTo>
                  <a:pt x="1885" y="85"/>
                </a:lnTo>
                <a:lnTo>
                  <a:pt x="1866" y="73"/>
                </a:lnTo>
                <a:lnTo>
                  <a:pt x="1846" y="62"/>
                </a:lnTo>
                <a:lnTo>
                  <a:pt x="1827" y="52"/>
                </a:lnTo>
                <a:lnTo>
                  <a:pt x="1809" y="44"/>
                </a:lnTo>
                <a:lnTo>
                  <a:pt x="1790" y="35"/>
                </a:lnTo>
                <a:lnTo>
                  <a:pt x="1754" y="22"/>
                </a:lnTo>
                <a:lnTo>
                  <a:pt x="1718" y="12"/>
                </a:lnTo>
                <a:lnTo>
                  <a:pt x="1684" y="5"/>
                </a:lnTo>
                <a:lnTo>
                  <a:pt x="1649" y="2"/>
                </a:lnTo>
                <a:lnTo>
                  <a:pt x="1616" y="0"/>
                </a:lnTo>
                <a:lnTo>
                  <a:pt x="1584" y="3"/>
                </a:lnTo>
                <a:lnTo>
                  <a:pt x="1552" y="7"/>
                </a:lnTo>
                <a:lnTo>
                  <a:pt x="1523" y="13"/>
                </a:lnTo>
                <a:lnTo>
                  <a:pt x="1493" y="21"/>
                </a:lnTo>
                <a:lnTo>
                  <a:pt x="1465" y="31"/>
                </a:lnTo>
                <a:lnTo>
                  <a:pt x="1439" y="43"/>
                </a:lnTo>
                <a:lnTo>
                  <a:pt x="1414" y="55"/>
                </a:lnTo>
                <a:lnTo>
                  <a:pt x="1391" y="69"/>
                </a:lnTo>
                <a:lnTo>
                  <a:pt x="1368" y="85"/>
                </a:lnTo>
                <a:lnTo>
                  <a:pt x="1347" y="101"/>
                </a:lnTo>
                <a:lnTo>
                  <a:pt x="1329" y="118"/>
                </a:lnTo>
                <a:lnTo>
                  <a:pt x="1311" y="135"/>
                </a:lnTo>
                <a:lnTo>
                  <a:pt x="1296" y="153"/>
                </a:lnTo>
                <a:lnTo>
                  <a:pt x="1282" y="171"/>
                </a:lnTo>
                <a:lnTo>
                  <a:pt x="1270" y="187"/>
                </a:lnTo>
                <a:lnTo>
                  <a:pt x="1260" y="204"/>
                </a:lnTo>
                <a:lnTo>
                  <a:pt x="1253" y="221"/>
                </a:lnTo>
                <a:lnTo>
                  <a:pt x="1247" y="236"/>
                </a:lnTo>
                <a:lnTo>
                  <a:pt x="1244" y="251"/>
                </a:lnTo>
                <a:lnTo>
                  <a:pt x="1242" y="264"/>
                </a:lnTo>
                <a:lnTo>
                  <a:pt x="1242" y="277"/>
                </a:lnTo>
                <a:lnTo>
                  <a:pt x="1209" y="263"/>
                </a:lnTo>
                <a:lnTo>
                  <a:pt x="1177" y="253"/>
                </a:lnTo>
                <a:lnTo>
                  <a:pt x="1145" y="245"/>
                </a:lnTo>
                <a:lnTo>
                  <a:pt x="1113" y="241"/>
                </a:lnTo>
                <a:lnTo>
                  <a:pt x="1084" y="238"/>
                </a:lnTo>
                <a:lnTo>
                  <a:pt x="1054" y="240"/>
                </a:lnTo>
                <a:lnTo>
                  <a:pt x="1026" y="242"/>
                </a:lnTo>
                <a:lnTo>
                  <a:pt x="998" y="247"/>
                </a:lnTo>
                <a:lnTo>
                  <a:pt x="972" y="255"/>
                </a:lnTo>
                <a:lnTo>
                  <a:pt x="947" y="264"/>
                </a:lnTo>
                <a:lnTo>
                  <a:pt x="922" y="274"/>
                </a:lnTo>
                <a:lnTo>
                  <a:pt x="901" y="286"/>
                </a:lnTo>
                <a:lnTo>
                  <a:pt x="879" y="300"/>
                </a:lnTo>
                <a:lnTo>
                  <a:pt x="858" y="314"/>
                </a:lnTo>
                <a:lnTo>
                  <a:pt x="839" y="329"/>
                </a:lnTo>
                <a:lnTo>
                  <a:pt x="821" y="346"/>
                </a:lnTo>
                <a:lnTo>
                  <a:pt x="805" y="364"/>
                </a:lnTo>
                <a:lnTo>
                  <a:pt x="789" y="382"/>
                </a:lnTo>
                <a:lnTo>
                  <a:pt x="775" y="400"/>
                </a:lnTo>
                <a:lnTo>
                  <a:pt x="764" y="418"/>
                </a:lnTo>
                <a:lnTo>
                  <a:pt x="752" y="437"/>
                </a:lnTo>
                <a:lnTo>
                  <a:pt x="743" y="455"/>
                </a:lnTo>
                <a:lnTo>
                  <a:pt x="735" y="473"/>
                </a:lnTo>
                <a:lnTo>
                  <a:pt x="729" y="491"/>
                </a:lnTo>
                <a:lnTo>
                  <a:pt x="724" y="507"/>
                </a:lnTo>
                <a:lnTo>
                  <a:pt x="721" y="524"/>
                </a:lnTo>
                <a:lnTo>
                  <a:pt x="720" y="539"/>
                </a:lnTo>
                <a:lnTo>
                  <a:pt x="721" y="555"/>
                </a:lnTo>
                <a:lnTo>
                  <a:pt x="723" y="567"/>
                </a:lnTo>
                <a:lnTo>
                  <a:pt x="727" y="579"/>
                </a:lnTo>
                <a:lnTo>
                  <a:pt x="733" y="589"/>
                </a:lnTo>
                <a:lnTo>
                  <a:pt x="741" y="597"/>
                </a:lnTo>
                <a:lnTo>
                  <a:pt x="716" y="608"/>
                </a:lnTo>
                <a:lnTo>
                  <a:pt x="693" y="619"/>
                </a:lnTo>
                <a:lnTo>
                  <a:pt x="673" y="630"/>
                </a:lnTo>
                <a:lnTo>
                  <a:pt x="652" y="642"/>
                </a:lnTo>
                <a:lnTo>
                  <a:pt x="633" y="653"/>
                </a:lnTo>
                <a:lnTo>
                  <a:pt x="615" y="665"/>
                </a:lnTo>
                <a:lnTo>
                  <a:pt x="600" y="678"/>
                </a:lnTo>
                <a:lnTo>
                  <a:pt x="584" y="690"/>
                </a:lnTo>
                <a:lnTo>
                  <a:pt x="570" y="703"/>
                </a:lnTo>
                <a:lnTo>
                  <a:pt x="558" y="716"/>
                </a:lnTo>
                <a:lnTo>
                  <a:pt x="545" y="730"/>
                </a:lnTo>
                <a:lnTo>
                  <a:pt x="535" y="743"/>
                </a:lnTo>
                <a:lnTo>
                  <a:pt x="526" y="757"/>
                </a:lnTo>
                <a:lnTo>
                  <a:pt x="517" y="770"/>
                </a:lnTo>
                <a:lnTo>
                  <a:pt x="509" y="784"/>
                </a:lnTo>
                <a:lnTo>
                  <a:pt x="503" y="798"/>
                </a:lnTo>
                <a:lnTo>
                  <a:pt x="497" y="812"/>
                </a:lnTo>
                <a:lnTo>
                  <a:pt x="492" y="826"/>
                </a:lnTo>
                <a:lnTo>
                  <a:pt x="490" y="840"/>
                </a:lnTo>
                <a:lnTo>
                  <a:pt x="487" y="854"/>
                </a:lnTo>
                <a:lnTo>
                  <a:pt x="485" y="868"/>
                </a:lnTo>
                <a:lnTo>
                  <a:pt x="485" y="882"/>
                </a:lnTo>
                <a:lnTo>
                  <a:pt x="483" y="896"/>
                </a:lnTo>
                <a:lnTo>
                  <a:pt x="485" y="909"/>
                </a:lnTo>
                <a:lnTo>
                  <a:pt x="486" y="923"/>
                </a:lnTo>
                <a:lnTo>
                  <a:pt x="488" y="936"/>
                </a:lnTo>
                <a:lnTo>
                  <a:pt x="496" y="963"/>
                </a:lnTo>
                <a:lnTo>
                  <a:pt x="505" y="989"/>
                </a:lnTo>
                <a:lnTo>
                  <a:pt x="518" y="1013"/>
                </a:lnTo>
                <a:lnTo>
                  <a:pt x="533" y="1036"/>
                </a:lnTo>
                <a:lnTo>
                  <a:pt x="550" y="1058"/>
                </a:lnTo>
                <a:lnTo>
                  <a:pt x="569" y="1077"/>
                </a:lnTo>
                <a:lnTo>
                  <a:pt x="590" y="1095"/>
                </a:lnTo>
                <a:lnTo>
                  <a:pt x="613" y="1111"/>
                </a:lnTo>
                <a:lnTo>
                  <a:pt x="637" y="1126"/>
                </a:lnTo>
                <a:lnTo>
                  <a:pt x="663" y="1137"/>
                </a:lnTo>
                <a:lnTo>
                  <a:pt x="689" y="1146"/>
                </a:lnTo>
                <a:lnTo>
                  <a:pt x="716" y="1151"/>
                </a:lnTo>
                <a:lnTo>
                  <a:pt x="730" y="1154"/>
                </a:lnTo>
                <a:lnTo>
                  <a:pt x="744" y="1155"/>
                </a:lnTo>
                <a:lnTo>
                  <a:pt x="760" y="1155"/>
                </a:lnTo>
                <a:lnTo>
                  <a:pt x="774" y="1155"/>
                </a:lnTo>
                <a:lnTo>
                  <a:pt x="788" y="1154"/>
                </a:lnTo>
                <a:lnTo>
                  <a:pt x="803" y="1151"/>
                </a:lnTo>
                <a:lnTo>
                  <a:pt x="817" y="1149"/>
                </a:lnTo>
                <a:lnTo>
                  <a:pt x="833" y="1145"/>
                </a:lnTo>
                <a:lnTo>
                  <a:pt x="847" y="1140"/>
                </a:lnTo>
                <a:lnTo>
                  <a:pt x="862" y="1133"/>
                </a:lnTo>
                <a:lnTo>
                  <a:pt x="876" y="1127"/>
                </a:lnTo>
                <a:lnTo>
                  <a:pt x="890" y="1119"/>
                </a:lnTo>
                <a:lnTo>
                  <a:pt x="906" y="1110"/>
                </a:lnTo>
                <a:lnTo>
                  <a:pt x="920" y="1101"/>
                </a:lnTo>
                <a:lnTo>
                  <a:pt x="933" y="1091"/>
                </a:lnTo>
                <a:lnTo>
                  <a:pt x="945" y="1081"/>
                </a:lnTo>
                <a:lnTo>
                  <a:pt x="957" y="1071"/>
                </a:lnTo>
                <a:lnTo>
                  <a:pt x="967" y="1059"/>
                </a:lnTo>
                <a:lnTo>
                  <a:pt x="977" y="1046"/>
                </a:lnTo>
                <a:lnTo>
                  <a:pt x="986" y="1033"/>
                </a:lnTo>
                <a:lnTo>
                  <a:pt x="994" y="1021"/>
                </a:lnTo>
                <a:lnTo>
                  <a:pt x="1000" y="1007"/>
                </a:lnTo>
                <a:lnTo>
                  <a:pt x="1006" y="994"/>
                </a:lnTo>
                <a:lnTo>
                  <a:pt x="1011" y="980"/>
                </a:lnTo>
                <a:lnTo>
                  <a:pt x="1014" y="966"/>
                </a:lnTo>
                <a:lnTo>
                  <a:pt x="1017" y="950"/>
                </a:lnTo>
                <a:lnTo>
                  <a:pt x="1018" y="936"/>
                </a:lnTo>
                <a:lnTo>
                  <a:pt x="1018" y="922"/>
                </a:lnTo>
                <a:lnTo>
                  <a:pt x="1017" y="908"/>
                </a:lnTo>
                <a:lnTo>
                  <a:pt x="1016" y="894"/>
                </a:lnTo>
                <a:lnTo>
                  <a:pt x="1012" y="880"/>
                </a:lnTo>
                <a:lnTo>
                  <a:pt x="1008" y="867"/>
                </a:lnTo>
                <a:lnTo>
                  <a:pt x="1002" y="854"/>
                </a:lnTo>
                <a:lnTo>
                  <a:pt x="995" y="841"/>
                </a:lnTo>
                <a:lnTo>
                  <a:pt x="986" y="829"/>
                </a:lnTo>
                <a:lnTo>
                  <a:pt x="977" y="817"/>
                </a:lnTo>
                <a:lnTo>
                  <a:pt x="967" y="807"/>
                </a:lnTo>
                <a:lnTo>
                  <a:pt x="954" y="797"/>
                </a:lnTo>
                <a:lnTo>
                  <a:pt x="940" y="788"/>
                </a:lnTo>
                <a:lnTo>
                  <a:pt x="926" y="779"/>
                </a:lnTo>
                <a:lnTo>
                  <a:pt x="910" y="771"/>
                </a:lnTo>
                <a:lnTo>
                  <a:pt x="892" y="765"/>
                </a:lnTo>
                <a:lnTo>
                  <a:pt x="872" y="759"/>
                </a:lnTo>
                <a:lnTo>
                  <a:pt x="852" y="754"/>
                </a:lnTo>
                <a:lnTo>
                  <a:pt x="830" y="752"/>
                </a:lnTo>
                <a:lnTo>
                  <a:pt x="806" y="749"/>
                </a:lnTo>
                <a:lnTo>
                  <a:pt x="839" y="742"/>
                </a:lnTo>
                <a:lnTo>
                  <a:pt x="869" y="736"/>
                </a:lnTo>
                <a:lnTo>
                  <a:pt x="897" y="735"/>
                </a:lnTo>
                <a:lnTo>
                  <a:pt x="921" y="736"/>
                </a:lnTo>
                <a:lnTo>
                  <a:pt x="944" y="740"/>
                </a:lnTo>
                <a:lnTo>
                  <a:pt x="965" y="745"/>
                </a:lnTo>
                <a:lnTo>
                  <a:pt x="982" y="754"/>
                </a:lnTo>
                <a:lnTo>
                  <a:pt x="999" y="765"/>
                </a:lnTo>
                <a:lnTo>
                  <a:pt x="1013" y="777"/>
                </a:lnTo>
                <a:lnTo>
                  <a:pt x="1025" y="791"/>
                </a:lnTo>
                <a:lnTo>
                  <a:pt x="1035" y="807"/>
                </a:lnTo>
                <a:lnTo>
                  <a:pt x="1044" y="823"/>
                </a:lnTo>
                <a:lnTo>
                  <a:pt x="1050" y="841"/>
                </a:lnTo>
                <a:lnTo>
                  <a:pt x="1055" y="861"/>
                </a:lnTo>
                <a:lnTo>
                  <a:pt x="1058" y="880"/>
                </a:lnTo>
                <a:lnTo>
                  <a:pt x="1061" y="900"/>
                </a:lnTo>
                <a:lnTo>
                  <a:pt x="1061" y="921"/>
                </a:lnTo>
                <a:lnTo>
                  <a:pt x="1061" y="943"/>
                </a:lnTo>
                <a:lnTo>
                  <a:pt x="1058" y="963"/>
                </a:lnTo>
                <a:lnTo>
                  <a:pt x="1054" y="983"/>
                </a:lnTo>
                <a:lnTo>
                  <a:pt x="1050" y="1004"/>
                </a:lnTo>
                <a:lnTo>
                  <a:pt x="1044" y="1023"/>
                </a:lnTo>
                <a:lnTo>
                  <a:pt x="1038" y="1042"/>
                </a:lnTo>
                <a:lnTo>
                  <a:pt x="1030" y="1060"/>
                </a:lnTo>
                <a:lnTo>
                  <a:pt x="1022" y="1077"/>
                </a:lnTo>
                <a:lnTo>
                  <a:pt x="1013" y="1092"/>
                </a:lnTo>
                <a:lnTo>
                  <a:pt x="1003" y="1106"/>
                </a:lnTo>
                <a:lnTo>
                  <a:pt x="993" y="1119"/>
                </a:lnTo>
                <a:lnTo>
                  <a:pt x="982" y="1129"/>
                </a:lnTo>
                <a:lnTo>
                  <a:pt x="971" y="1137"/>
                </a:lnTo>
                <a:lnTo>
                  <a:pt x="959" y="1143"/>
                </a:lnTo>
                <a:lnTo>
                  <a:pt x="948" y="1147"/>
                </a:lnTo>
                <a:lnTo>
                  <a:pt x="911" y="1160"/>
                </a:lnTo>
                <a:lnTo>
                  <a:pt x="875" y="1172"/>
                </a:lnTo>
                <a:lnTo>
                  <a:pt x="842" y="1181"/>
                </a:lnTo>
                <a:lnTo>
                  <a:pt x="810" y="1188"/>
                </a:lnTo>
                <a:lnTo>
                  <a:pt x="780" y="1195"/>
                </a:lnTo>
                <a:lnTo>
                  <a:pt x="752" y="1199"/>
                </a:lnTo>
                <a:lnTo>
                  <a:pt x="725" y="1201"/>
                </a:lnTo>
                <a:lnTo>
                  <a:pt x="701" y="1202"/>
                </a:lnTo>
                <a:lnTo>
                  <a:pt x="677" y="1202"/>
                </a:lnTo>
                <a:lnTo>
                  <a:pt x="655" y="1201"/>
                </a:lnTo>
                <a:lnTo>
                  <a:pt x="634" y="1199"/>
                </a:lnTo>
                <a:lnTo>
                  <a:pt x="615" y="1196"/>
                </a:lnTo>
                <a:lnTo>
                  <a:pt x="597" y="1191"/>
                </a:lnTo>
                <a:lnTo>
                  <a:pt x="581" y="1186"/>
                </a:lnTo>
                <a:lnTo>
                  <a:pt x="565" y="1179"/>
                </a:lnTo>
                <a:lnTo>
                  <a:pt x="551" y="1173"/>
                </a:lnTo>
                <a:lnTo>
                  <a:pt x="537" y="1165"/>
                </a:lnTo>
                <a:lnTo>
                  <a:pt x="524" y="1158"/>
                </a:lnTo>
                <a:lnTo>
                  <a:pt x="501" y="1141"/>
                </a:lnTo>
                <a:lnTo>
                  <a:pt x="481" y="1123"/>
                </a:lnTo>
                <a:lnTo>
                  <a:pt x="463" y="1106"/>
                </a:lnTo>
                <a:lnTo>
                  <a:pt x="432" y="1076"/>
                </a:lnTo>
                <a:lnTo>
                  <a:pt x="418" y="1063"/>
                </a:lnTo>
                <a:lnTo>
                  <a:pt x="412" y="1059"/>
                </a:lnTo>
                <a:lnTo>
                  <a:pt x="404" y="1054"/>
                </a:lnTo>
                <a:close/>
                <a:moveTo>
                  <a:pt x="2900" y="1798"/>
                </a:moveTo>
                <a:lnTo>
                  <a:pt x="2900" y="2002"/>
                </a:lnTo>
                <a:lnTo>
                  <a:pt x="2858" y="2009"/>
                </a:lnTo>
                <a:lnTo>
                  <a:pt x="2813" y="2015"/>
                </a:lnTo>
                <a:lnTo>
                  <a:pt x="2768" y="2022"/>
                </a:lnTo>
                <a:lnTo>
                  <a:pt x="2721" y="2027"/>
                </a:lnTo>
                <a:lnTo>
                  <a:pt x="2672" y="2031"/>
                </a:lnTo>
                <a:lnTo>
                  <a:pt x="2622" y="2033"/>
                </a:lnTo>
                <a:lnTo>
                  <a:pt x="2570" y="2036"/>
                </a:lnTo>
                <a:lnTo>
                  <a:pt x="2517" y="2036"/>
                </a:lnTo>
                <a:lnTo>
                  <a:pt x="2424" y="2029"/>
                </a:lnTo>
                <a:lnTo>
                  <a:pt x="2333" y="2022"/>
                </a:lnTo>
                <a:lnTo>
                  <a:pt x="2289" y="2017"/>
                </a:lnTo>
                <a:lnTo>
                  <a:pt x="2246" y="2011"/>
                </a:lnTo>
                <a:lnTo>
                  <a:pt x="2202" y="2005"/>
                </a:lnTo>
                <a:lnTo>
                  <a:pt x="2160" y="1997"/>
                </a:lnTo>
                <a:lnTo>
                  <a:pt x="2118" y="1988"/>
                </a:lnTo>
                <a:lnTo>
                  <a:pt x="2077" y="1979"/>
                </a:lnTo>
                <a:lnTo>
                  <a:pt x="2037" y="1969"/>
                </a:lnTo>
                <a:lnTo>
                  <a:pt x="1997" y="1958"/>
                </a:lnTo>
                <a:lnTo>
                  <a:pt x="1959" y="1945"/>
                </a:lnTo>
                <a:lnTo>
                  <a:pt x="1922" y="1931"/>
                </a:lnTo>
                <a:lnTo>
                  <a:pt x="1885" y="1914"/>
                </a:lnTo>
                <a:lnTo>
                  <a:pt x="1849" y="1897"/>
                </a:lnTo>
                <a:lnTo>
                  <a:pt x="1814" y="1880"/>
                </a:lnTo>
                <a:lnTo>
                  <a:pt x="1780" y="1859"/>
                </a:lnTo>
                <a:lnTo>
                  <a:pt x="1748" y="1837"/>
                </a:lnTo>
                <a:lnTo>
                  <a:pt x="1716" y="1813"/>
                </a:lnTo>
                <a:lnTo>
                  <a:pt x="1685" y="1787"/>
                </a:lnTo>
                <a:lnTo>
                  <a:pt x="1654" y="1761"/>
                </a:lnTo>
                <a:lnTo>
                  <a:pt x="1626" y="1731"/>
                </a:lnTo>
                <a:lnTo>
                  <a:pt x="1598" y="1699"/>
                </a:lnTo>
                <a:lnTo>
                  <a:pt x="1573" y="1666"/>
                </a:lnTo>
                <a:lnTo>
                  <a:pt x="1547" y="1630"/>
                </a:lnTo>
                <a:lnTo>
                  <a:pt x="1523" y="1592"/>
                </a:lnTo>
                <a:lnTo>
                  <a:pt x="1501" y="1552"/>
                </a:lnTo>
                <a:lnTo>
                  <a:pt x="1479" y="1508"/>
                </a:lnTo>
                <a:lnTo>
                  <a:pt x="1459" y="1464"/>
                </a:lnTo>
                <a:lnTo>
                  <a:pt x="1439" y="1415"/>
                </a:lnTo>
                <a:lnTo>
                  <a:pt x="1423" y="1365"/>
                </a:lnTo>
                <a:lnTo>
                  <a:pt x="1390" y="1380"/>
                </a:lnTo>
                <a:lnTo>
                  <a:pt x="1360" y="1393"/>
                </a:lnTo>
                <a:lnTo>
                  <a:pt x="1332" y="1402"/>
                </a:lnTo>
                <a:lnTo>
                  <a:pt x="1319" y="1405"/>
                </a:lnTo>
                <a:lnTo>
                  <a:pt x="1306" y="1407"/>
                </a:lnTo>
                <a:lnTo>
                  <a:pt x="1294" y="1407"/>
                </a:lnTo>
                <a:lnTo>
                  <a:pt x="1282" y="1408"/>
                </a:lnTo>
                <a:lnTo>
                  <a:pt x="1270" y="1407"/>
                </a:lnTo>
                <a:lnTo>
                  <a:pt x="1260" y="1406"/>
                </a:lnTo>
                <a:lnTo>
                  <a:pt x="1250" y="1405"/>
                </a:lnTo>
                <a:lnTo>
                  <a:pt x="1240" y="1402"/>
                </a:lnTo>
                <a:lnTo>
                  <a:pt x="1231" y="1398"/>
                </a:lnTo>
                <a:lnTo>
                  <a:pt x="1222" y="1394"/>
                </a:lnTo>
                <a:lnTo>
                  <a:pt x="1214" y="1389"/>
                </a:lnTo>
                <a:lnTo>
                  <a:pt x="1206" y="1384"/>
                </a:lnTo>
                <a:lnTo>
                  <a:pt x="1192" y="1373"/>
                </a:lnTo>
                <a:lnTo>
                  <a:pt x="1181" y="1359"/>
                </a:lnTo>
                <a:lnTo>
                  <a:pt x="1171" y="1343"/>
                </a:lnTo>
                <a:lnTo>
                  <a:pt x="1163" y="1325"/>
                </a:lnTo>
                <a:lnTo>
                  <a:pt x="1157" y="1306"/>
                </a:lnTo>
                <a:lnTo>
                  <a:pt x="1153" y="1287"/>
                </a:lnTo>
                <a:lnTo>
                  <a:pt x="1150" y="1266"/>
                </a:lnTo>
                <a:lnTo>
                  <a:pt x="1150" y="1245"/>
                </a:lnTo>
                <a:lnTo>
                  <a:pt x="1151" y="1223"/>
                </a:lnTo>
                <a:lnTo>
                  <a:pt x="1155" y="1201"/>
                </a:lnTo>
                <a:lnTo>
                  <a:pt x="1160" y="1179"/>
                </a:lnTo>
                <a:lnTo>
                  <a:pt x="1167" y="1159"/>
                </a:lnTo>
                <a:lnTo>
                  <a:pt x="1176" y="1138"/>
                </a:lnTo>
                <a:lnTo>
                  <a:pt x="1187" y="1118"/>
                </a:lnTo>
                <a:lnTo>
                  <a:pt x="1200" y="1099"/>
                </a:lnTo>
                <a:lnTo>
                  <a:pt x="1214" y="1081"/>
                </a:lnTo>
                <a:lnTo>
                  <a:pt x="1231" y="1064"/>
                </a:lnTo>
                <a:lnTo>
                  <a:pt x="1249" y="1050"/>
                </a:lnTo>
                <a:lnTo>
                  <a:pt x="1269" y="1037"/>
                </a:lnTo>
                <a:lnTo>
                  <a:pt x="1290" y="1027"/>
                </a:lnTo>
                <a:lnTo>
                  <a:pt x="1314" y="1019"/>
                </a:lnTo>
                <a:lnTo>
                  <a:pt x="1326" y="1015"/>
                </a:lnTo>
                <a:lnTo>
                  <a:pt x="1340" y="1013"/>
                </a:lnTo>
                <a:lnTo>
                  <a:pt x="1352" y="1012"/>
                </a:lnTo>
                <a:lnTo>
                  <a:pt x="1366" y="1010"/>
                </a:lnTo>
                <a:lnTo>
                  <a:pt x="1388" y="972"/>
                </a:lnTo>
                <a:lnTo>
                  <a:pt x="1413" y="937"/>
                </a:lnTo>
                <a:lnTo>
                  <a:pt x="1437" y="908"/>
                </a:lnTo>
                <a:lnTo>
                  <a:pt x="1461" y="881"/>
                </a:lnTo>
                <a:lnTo>
                  <a:pt x="1487" y="858"/>
                </a:lnTo>
                <a:lnTo>
                  <a:pt x="1512" y="838"/>
                </a:lnTo>
                <a:lnTo>
                  <a:pt x="1539" y="821"/>
                </a:lnTo>
                <a:lnTo>
                  <a:pt x="1566" y="808"/>
                </a:lnTo>
                <a:lnTo>
                  <a:pt x="1592" y="798"/>
                </a:lnTo>
                <a:lnTo>
                  <a:pt x="1619" y="790"/>
                </a:lnTo>
                <a:lnTo>
                  <a:pt x="1645" y="785"/>
                </a:lnTo>
                <a:lnTo>
                  <a:pt x="1671" y="783"/>
                </a:lnTo>
                <a:lnTo>
                  <a:pt x="1697" y="783"/>
                </a:lnTo>
                <a:lnTo>
                  <a:pt x="1722" y="785"/>
                </a:lnTo>
                <a:lnTo>
                  <a:pt x="1748" y="789"/>
                </a:lnTo>
                <a:lnTo>
                  <a:pt x="1772" y="794"/>
                </a:lnTo>
                <a:lnTo>
                  <a:pt x="1797" y="802"/>
                </a:lnTo>
                <a:lnTo>
                  <a:pt x="1820" y="811"/>
                </a:lnTo>
                <a:lnTo>
                  <a:pt x="1841" y="821"/>
                </a:lnTo>
                <a:lnTo>
                  <a:pt x="1862" y="834"/>
                </a:lnTo>
                <a:lnTo>
                  <a:pt x="1882" y="845"/>
                </a:lnTo>
                <a:lnTo>
                  <a:pt x="1901" y="859"/>
                </a:lnTo>
                <a:lnTo>
                  <a:pt x="1918" y="873"/>
                </a:lnTo>
                <a:lnTo>
                  <a:pt x="1935" y="889"/>
                </a:lnTo>
                <a:lnTo>
                  <a:pt x="1950" y="904"/>
                </a:lnTo>
                <a:lnTo>
                  <a:pt x="1963" y="919"/>
                </a:lnTo>
                <a:lnTo>
                  <a:pt x="1974" y="935"/>
                </a:lnTo>
                <a:lnTo>
                  <a:pt x="1983" y="951"/>
                </a:lnTo>
                <a:lnTo>
                  <a:pt x="1991" y="967"/>
                </a:lnTo>
                <a:lnTo>
                  <a:pt x="1997" y="981"/>
                </a:lnTo>
                <a:lnTo>
                  <a:pt x="2000" y="996"/>
                </a:lnTo>
                <a:lnTo>
                  <a:pt x="2001" y="1010"/>
                </a:lnTo>
                <a:lnTo>
                  <a:pt x="2021" y="1003"/>
                </a:lnTo>
                <a:lnTo>
                  <a:pt x="2040" y="996"/>
                </a:lnTo>
                <a:lnTo>
                  <a:pt x="2058" y="991"/>
                </a:lnTo>
                <a:lnTo>
                  <a:pt x="2076" y="987"/>
                </a:lnTo>
                <a:lnTo>
                  <a:pt x="2093" y="983"/>
                </a:lnTo>
                <a:lnTo>
                  <a:pt x="2110" y="981"/>
                </a:lnTo>
                <a:lnTo>
                  <a:pt x="2127" y="980"/>
                </a:lnTo>
                <a:lnTo>
                  <a:pt x="2143" y="978"/>
                </a:lnTo>
                <a:lnTo>
                  <a:pt x="2175" y="980"/>
                </a:lnTo>
                <a:lnTo>
                  <a:pt x="2206" y="982"/>
                </a:lnTo>
                <a:lnTo>
                  <a:pt x="2234" y="989"/>
                </a:lnTo>
                <a:lnTo>
                  <a:pt x="2262" y="996"/>
                </a:lnTo>
                <a:lnTo>
                  <a:pt x="2288" y="1008"/>
                </a:lnTo>
                <a:lnTo>
                  <a:pt x="2312" y="1021"/>
                </a:lnTo>
                <a:lnTo>
                  <a:pt x="2335" y="1036"/>
                </a:lnTo>
                <a:lnTo>
                  <a:pt x="2357" y="1053"/>
                </a:lnTo>
                <a:lnTo>
                  <a:pt x="2378" y="1071"/>
                </a:lnTo>
                <a:lnTo>
                  <a:pt x="2396" y="1090"/>
                </a:lnTo>
                <a:lnTo>
                  <a:pt x="2413" y="1111"/>
                </a:lnTo>
                <a:lnTo>
                  <a:pt x="2429" y="1133"/>
                </a:lnTo>
                <a:lnTo>
                  <a:pt x="2443" y="1155"/>
                </a:lnTo>
                <a:lnTo>
                  <a:pt x="2454" y="1179"/>
                </a:lnTo>
                <a:lnTo>
                  <a:pt x="2466" y="1202"/>
                </a:lnTo>
                <a:lnTo>
                  <a:pt x="2475" y="1227"/>
                </a:lnTo>
                <a:lnTo>
                  <a:pt x="2483" y="1250"/>
                </a:lnTo>
                <a:lnTo>
                  <a:pt x="2489" y="1274"/>
                </a:lnTo>
                <a:lnTo>
                  <a:pt x="2493" y="1297"/>
                </a:lnTo>
                <a:lnTo>
                  <a:pt x="2495" y="1320"/>
                </a:lnTo>
                <a:lnTo>
                  <a:pt x="2497" y="1343"/>
                </a:lnTo>
                <a:lnTo>
                  <a:pt x="2497" y="1364"/>
                </a:lnTo>
                <a:lnTo>
                  <a:pt x="2494" y="1384"/>
                </a:lnTo>
                <a:lnTo>
                  <a:pt x="2490" y="1403"/>
                </a:lnTo>
                <a:lnTo>
                  <a:pt x="2485" y="1420"/>
                </a:lnTo>
                <a:lnTo>
                  <a:pt x="2479" y="1437"/>
                </a:lnTo>
                <a:lnTo>
                  <a:pt x="2470" y="1449"/>
                </a:lnTo>
                <a:lnTo>
                  <a:pt x="2460" y="1462"/>
                </a:lnTo>
                <a:lnTo>
                  <a:pt x="2436" y="1487"/>
                </a:lnTo>
                <a:lnTo>
                  <a:pt x="2413" y="1507"/>
                </a:lnTo>
                <a:lnTo>
                  <a:pt x="2393" y="1525"/>
                </a:lnTo>
                <a:lnTo>
                  <a:pt x="2371" y="1540"/>
                </a:lnTo>
                <a:lnTo>
                  <a:pt x="2351" y="1553"/>
                </a:lnTo>
                <a:lnTo>
                  <a:pt x="2332" y="1562"/>
                </a:lnTo>
                <a:lnTo>
                  <a:pt x="2312" y="1569"/>
                </a:lnTo>
                <a:lnTo>
                  <a:pt x="2294" y="1572"/>
                </a:lnTo>
                <a:lnTo>
                  <a:pt x="2277" y="1575"/>
                </a:lnTo>
                <a:lnTo>
                  <a:pt x="2260" y="1575"/>
                </a:lnTo>
                <a:lnTo>
                  <a:pt x="2245" y="1572"/>
                </a:lnTo>
                <a:lnTo>
                  <a:pt x="2229" y="1570"/>
                </a:lnTo>
                <a:lnTo>
                  <a:pt x="2215" y="1563"/>
                </a:lnTo>
                <a:lnTo>
                  <a:pt x="2201" y="1557"/>
                </a:lnTo>
                <a:lnTo>
                  <a:pt x="2188" y="1548"/>
                </a:lnTo>
                <a:lnTo>
                  <a:pt x="2177" y="1539"/>
                </a:lnTo>
                <a:lnTo>
                  <a:pt x="2166" y="1529"/>
                </a:lnTo>
                <a:lnTo>
                  <a:pt x="2156" y="1517"/>
                </a:lnTo>
                <a:lnTo>
                  <a:pt x="2147" y="1506"/>
                </a:lnTo>
                <a:lnTo>
                  <a:pt x="2140" y="1493"/>
                </a:lnTo>
                <a:lnTo>
                  <a:pt x="2132" y="1480"/>
                </a:lnTo>
                <a:lnTo>
                  <a:pt x="2127" y="1467"/>
                </a:lnTo>
                <a:lnTo>
                  <a:pt x="2122" y="1453"/>
                </a:lnTo>
                <a:lnTo>
                  <a:pt x="2118" y="1440"/>
                </a:lnTo>
                <a:lnTo>
                  <a:pt x="2115" y="1428"/>
                </a:lnTo>
                <a:lnTo>
                  <a:pt x="2113" y="1415"/>
                </a:lnTo>
                <a:lnTo>
                  <a:pt x="2113" y="1403"/>
                </a:lnTo>
                <a:lnTo>
                  <a:pt x="2113" y="1392"/>
                </a:lnTo>
                <a:lnTo>
                  <a:pt x="2115" y="1382"/>
                </a:lnTo>
                <a:lnTo>
                  <a:pt x="2118" y="1373"/>
                </a:lnTo>
                <a:lnTo>
                  <a:pt x="2122" y="1364"/>
                </a:lnTo>
                <a:lnTo>
                  <a:pt x="2128" y="1357"/>
                </a:lnTo>
                <a:lnTo>
                  <a:pt x="2136" y="1344"/>
                </a:lnTo>
                <a:lnTo>
                  <a:pt x="2145" y="1333"/>
                </a:lnTo>
                <a:lnTo>
                  <a:pt x="2154" y="1323"/>
                </a:lnTo>
                <a:lnTo>
                  <a:pt x="2164" y="1314"/>
                </a:lnTo>
                <a:lnTo>
                  <a:pt x="2173" y="1307"/>
                </a:lnTo>
                <a:lnTo>
                  <a:pt x="2182" y="1301"/>
                </a:lnTo>
                <a:lnTo>
                  <a:pt x="2191" y="1297"/>
                </a:lnTo>
                <a:lnTo>
                  <a:pt x="2200" y="1295"/>
                </a:lnTo>
                <a:lnTo>
                  <a:pt x="2210" y="1293"/>
                </a:lnTo>
                <a:lnTo>
                  <a:pt x="2219" y="1292"/>
                </a:lnTo>
                <a:lnTo>
                  <a:pt x="2228" y="1292"/>
                </a:lnTo>
                <a:lnTo>
                  <a:pt x="2236" y="1293"/>
                </a:lnTo>
                <a:lnTo>
                  <a:pt x="2245" y="1296"/>
                </a:lnTo>
                <a:lnTo>
                  <a:pt x="2253" y="1300"/>
                </a:lnTo>
                <a:lnTo>
                  <a:pt x="2269" y="1307"/>
                </a:lnTo>
                <a:lnTo>
                  <a:pt x="2283" y="1319"/>
                </a:lnTo>
                <a:lnTo>
                  <a:pt x="2296" y="1330"/>
                </a:lnTo>
                <a:lnTo>
                  <a:pt x="2307" y="1344"/>
                </a:lnTo>
                <a:lnTo>
                  <a:pt x="2315" y="1360"/>
                </a:lnTo>
                <a:lnTo>
                  <a:pt x="2321" y="1374"/>
                </a:lnTo>
                <a:lnTo>
                  <a:pt x="2325" y="1388"/>
                </a:lnTo>
                <a:lnTo>
                  <a:pt x="2325" y="1396"/>
                </a:lnTo>
                <a:lnTo>
                  <a:pt x="2325" y="1402"/>
                </a:lnTo>
                <a:lnTo>
                  <a:pt x="2325" y="1407"/>
                </a:lnTo>
                <a:lnTo>
                  <a:pt x="2323" y="1414"/>
                </a:lnTo>
                <a:lnTo>
                  <a:pt x="2329" y="1401"/>
                </a:lnTo>
                <a:lnTo>
                  <a:pt x="2334" y="1389"/>
                </a:lnTo>
                <a:lnTo>
                  <a:pt x="2338" y="1376"/>
                </a:lnTo>
                <a:lnTo>
                  <a:pt x="2340" y="1365"/>
                </a:lnTo>
                <a:lnTo>
                  <a:pt x="2342" y="1353"/>
                </a:lnTo>
                <a:lnTo>
                  <a:pt x="2340" y="1343"/>
                </a:lnTo>
                <a:lnTo>
                  <a:pt x="2339" y="1332"/>
                </a:lnTo>
                <a:lnTo>
                  <a:pt x="2337" y="1321"/>
                </a:lnTo>
                <a:lnTo>
                  <a:pt x="2334" y="1311"/>
                </a:lnTo>
                <a:lnTo>
                  <a:pt x="2329" y="1301"/>
                </a:lnTo>
                <a:lnTo>
                  <a:pt x="2324" y="1292"/>
                </a:lnTo>
                <a:lnTo>
                  <a:pt x="2317" y="1283"/>
                </a:lnTo>
                <a:lnTo>
                  <a:pt x="2311" y="1274"/>
                </a:lnTo>
                <a:lnTo>
                  <a:pt x="2303" y="1266"/>
                </a:lnTo>
                <a:lnTo>
                  <a:pt x="2296" y="1259"/>
                </a:lnTo>
                <a:lnTo>
                  <a:pt x="2287" y="1252"/>
                </a:lnTo>
                <a:lnTo>
                  <a:pt x="2278" y="1246"/>
                </a:lnTo>
                <a:lnTo>
                  <a:pt x="2269" y="1241"/>
                </a:lnTo>
                <a:lnTo>
                  <a:pt x="2248" y="1232"/>
                </a:lnTo>
                <a:lnTo>
                  <a:pt x="2238" y="1228"/>
                </a:lnTo>
                <a:lnTo>
                  <a:pt x="2227" y="1225"/>
                </a:lnTo>
                <a:lnTo>
                  <a:pt x="2216" y="1224"/>
                </a:lnTo>
                <a:lnTo>
                  <a:pt x="2206" y="1223"/>
                </a:lnTo>
                <a:lnTo>
                  <a:pt x="2195" y="1223"/>
                </a:lnTo>
                <a:lnTo>
                  <a:pt x="2184" y="1224"/>
                </a:lnTo>
                <a:lnTo>
                  <a:pt x="2174" y="1225"/>
                </a:lnTo>
                <a:lnTo>
                  <a:pt x="2164" y="1228"/>
                </a:lnTo>
                <a:lnTo>
                  <a:pt x="2154" y="1232"/>
                </a:lnTo>
                <a:lnTo>
                  <a:pt x="2145" y="1237"/>
                </a:lnTo>
                <a:lnTo>
                  <a:pt x="2136" y="1242"/>
                </a:lnTo>
                <a:lnTo>
                  <a:pt x="2127" y="1250"/>
                </a:lnTo>
                <a:lnTo>
                  <a:pt x="2105" y="1272"/>
                </a:lnTo>
                <a:lnTo>
                  <a:pt x="2085" y="1292"/>
                </a:lnTo>
                <a:lnTo>
                  <a:pt x="2069" y="1314"/>
                </a:lnTo>
                <a:lnTo>
                  <a:pt x="2055" y="1336"/>
                </a:lnTo>
                <a:lnTo>
                  <a:pt x="2045" y="1357"/>
                </a:lnTo>
                <a:lnTo>
                  <a:pt x="2037" y="1378"/>
                </a:lnTo>
                <a:lnTo>
                  <a:pt x="2031" y="1398"/>
                </a:lnTo>
                <a:lnTo>
                  <a:pt x="2028" y="1419"/>
                </a:lnTo>
                <a:lnTo>
                  <a:pt x="2028" y="1439"/>
                </a:lnTo>
                <a:lnTo>
                  <a:pt x="2029" y="1458"/>
                </a:lnTo>
                <a:lnTo>
                  <a:pt x="2033" y="1478"/>
                </a:lnTo>
                <a:lnTo>
                  <a:pt x="2038" y="1496"/>
                </a:lnTo>
                <a:lnTo>
                  <a:pt x="2046" y="1513"/>
                </a:lnTo>
                <a:lnTo>
                  <a:pt x="2056" y="1530"/>
                </a:lnTo>
                <a:lnTo>
                  <a:pt x="2067" y="1545"/>
                </a:lnTo>
                <a:lnTo>
                  <a:pt x="2079" y="1561"/>
                </a:lnTo>
                <a:lnTo>
                  <a:pt x="2092" y="1575"/>
                </a:lnTo>
                <a:lnTo>
                  <a:pt x="2108" y="1588"/>
                </a:lnTo>
                <a:lnTo>
                  <a:pt x="2124" y="1601"/>
                </a:lnTo>
                <a:lnTo>
                  <a:pt x="2141" y="1611"/>
                </a:lnTo>
                <a:lnTo>
                  <a:pt x="2159" y="1621"/>
                </a:lnTo>
                <a:lnTo>
                  <a:pt x="2178" y="1630"/>
                </a:lnTo>
                <a:lnTo>
                  <a:pt x="2197" y="1636"/>
                </a:lnTo>
                <a:lnTo>
                  <a:pt x="2218" y="1643"/>
                </a:lnTo>
                <a:lnTo>
                  <a:pt x="2237" y="1647"/>
                </a:lnTo>
                <a:lnTo>
                  <a:pt x="2259" y="1650"/>
                </a:lnTo>
                <a:lnTo>
                  <a:pt x="2279" y="1652"/>
                </a:lnTo>
                <a:lnTo>
                  <a:pt x="2300" y="1650"/>
                </a:lnTo>
                <a:lnTo>
                  <a:pt x="2320" y="1649"/>
                </a:lnTo>
                <a:lnTo>
                  <a:pt x="2340" y="1645"/>
                </a:lnTo>
                <a:lnTo>
                  <a:pt x="2361" y="1639"/>
                </a:lnTo>
                <a:lnTo>
                  <a:pt x="2380" y="1631"/>
                </a:lnTo>
                <a:lnTo>
                  <a:pt x="2407" y="1657"/>
                </a:lnTo>
                <a:lnTo>
                  <a:pt x="2434" y="1680"/>
                </a:lnTo>
                <a:lnTo>
                  <a:pt x="2463" y="1700"/>
                </a:lnTo>
                <a:lnTo>
                  <a:pt x="2494" y="1720"/>
                </a:lnTo>
                <a:lnTo>
                  <a:pt x="2525" y="1736"/>
                </a:lnTo>
                <a:lnTo>
                  <a:pt x="2558" y="1750"/>
                </a:lnTo>
                <a:lnTo>
                  <a:pt x="2591" y="1762"/>
                </a:lnTo>
                <a:lnTo>
                  <a:pt x="2625" y="1772"/>
                </a:lnTo>
                <a:lnTo>
                  <a:pt x="2659" y="1781"/>
                </a:lnTo>
                <a:lnTo>
                  <a:pt x="2694" y="1787"/>
                </a:lnTo>
                <a:lnTo>
                  <a:pt x="2728" y="1793"/>
                </a:lnTo>
                <a:lnTo>
                  <a:pt x="2763" y="1796"/>
                </a:lnTo>
                <a:lnTo>
                  <a:pt x="2797" y="1799"/>
                </a:lnTo>
                <a:lnTo>
                  <a:pt x="2832" y="1799"/>
                </a:lnTo>
                <a:lnTo>
                  <a:pt x="2867" y="1799"/>
                </a:lnTo>
                <a:lnTo>
                  <a:pt x="2900" y="1798"/>
                </a:lnTo>
                <a:close/>
              </a:path>
            </a:pathLst>
          </a:custGeom>
          <a:solidFill>
            <a:schemeClr val="bg1">
              <a:lumMod val="95000"/>
              <a:alpha val="1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48" name="KSO_Shape"/>
          <p:cNvSpPr/>
          <p:nvPr/>
        </p:nvSpPr>
        <p:spPr>
          <a:xfrm>
            <a:off x="5509080" y="-1041840"/>
            <a:ext cx="3157920" cy="1397520"/>
          </a:xfrm>
          <a:custGeom>
            <a:avLst/>
            <a:gdLst>
              <a:gd name="textAreaLeft" fmla="*/ 0 w 3157920"/>
              <a:gd name="textAreaRight" fmla="*/ 3158280 w 3157920"/>
              <a:gd name="textAreaTop" fmla="*/ 0 h 1397520"/>
              <a:gd name="textAreaBottom" fmla="*/ 1397880 h 1397520"/>
            </a:gdLst>
            <a:ahLst/>
            <a:rect l="textAreaLeft" t="textAreaTop" r="textAreaRight" b="textAreaBottom"/>
            <a:pathLst>
              <a:path w="4817" h="2132">
                <a:moveTo>
                  <a:pt x="2900" y="1730"/>
                </a:moveTo>
                <a:lnTo>
                  <a:pt x="2900" y="1730"/>
                </a:lnTo>
                <a:lnTo>
                  <a:pt x="2928" y="1729"/>
                </a:lnTo>
                <a:lnTo>
                  <a:pt x="2957" y="1725"/>
                </a:lnTo>
                <a:lnTo>
                  <a:pt x="2986" y="1721"/>
                </a:lnTo>
                <a:lnTo>
                  <a:pt x="3012" y="1717"/>
                </a:lnTo>
                <a:lnTo>
                  <a:pt x="3038" y="1712"/>
                </a:lnTo>
                <a:lnTo>
                  <a:pt x="3064" y="1705"/>
                </a:lnTo>
                <a:lnTo>
                  <a:pt x="3087" y="1699"/>
                </a:lnTo>
                <a:lnTo>
                  <a:pt x="3110" y="1693"/>
                </a:lnTo>
                <a:lnTo>
                  <a:pt x="3130" y="1685"/>
                </a:lnTo>
                <a:lnTo>
                  <a:pt x="3149" y="1677"/>
                </a:lnTo>
                <a:lnTo>
                  <a:pt x="3167" y="1670"/>
                </a:lnTo>
                <a:lnTo>
                  <a:pt x="3183" y="1661"/>
                </a:lnTo>
                <a:lnTo>
                  <a:pt x="3197" y="1653"/>
                </a:lnTo>
                <a:lnTo>
                  <a:pt x="3208" y="1644"/>
                </a:lnTo>
                <a:lnTo>
                  <a:pt x="3217" y="1635"/>
                </a:lnTo>
                <a:lnTo>
                  <a:pt x="3224" y="1626"/>
                </a:lnTo>
                <a:lnTo>
                  <a:pt x="3253" y="1601"/>
                </a:lnTo>
                <a:lnTo>
                  <a:pt x="3284" y="1576"/>
                </a:lnTo>
                <a:lnTo>
                  <a:pt x="3313" y="1553"/>
                </a:lnTo>
                <a:lnTo>
                  <a:pt x="3341" y="1531"/>
                </a:lnTo>
                <a:lnTo>
                  <a:pt x="3371" y="1512"/>
                </a:lnTo>
                <a:lnTo>
                  <a:pt x="3399" y="1494"/>
                </a:lnTo>
                <a:lnTo>
                  <a:pt x="3427" y="1478"/>
                </a:lnTo>
                <a:lnTo>
                  <a:pt x="3455" y="1462"/>
                </a:lnTo>
                <a:lnTo>
                  <a:pt x="3482" y="1448"/>
                </a:lnTo>
                <a:lnTo>
                  <a:pt x="3509" y="1435"/>
                </a:lnTo>
                <a:lnTo>
                  <a:pt x="3536" y="1425"/>
                </a:lnTo>
                <a:lnTo>
                  <a:pt x="3562" y="1415"/>
                </a:lnTo>
                <a:lnTo>
                  <a:pt x="3587" y="1406"/>
                </a:lnTo>
                <a:lnTo>
                  <a:pt x="3613" y="1400"/>
                </a:lnTo>
                <a:lnTo>
                  <a:pt x="3637" y="1393"/>
                </a:lnTo>
                <a:lnTo>
                  <a:pt x="3661" y="1388"/>
                </a:lnTo>
                <a:lnTo>
                  <a:pt x="3684" y="1384"/>
                </a:lnTo>
                <a:lnTo>
                  <a:pt x="3707" y="1382"/>
                </a:lnTo>
                <a:lnTo>
                  <a:pt x="3731" y="1379"/>
                </a:lnTo>
                <a:lnTo>
                  <a:pt x="3752" y="1378"/>
                </a:lnTo>
                <a:lnTo>
                  <a:pt x="3774" y="1378"/>
                </a:lnTo>
                <a:lnTo>
                  <a:pt x="3794" y="1379"/>
                </a:lnTo>
                <a:lnTo>
                  <a:pt x="3815" y="1380"/>
                </a:lnTo>
                <a:lnTo>
                  <a:pt x="3834" y="1383"/>
                </a:lnTo>
                <a:lnTo>
                  <a:pt x="3852" y="1387"/>
                </a:lnTo>
                <a:lnTo>
                  <a:pt x="3870" y="1391"/>
                </a:lnTo>
                <a:lnTo>
                  <a:pt x="3888" y="1396"/>
                </a:lnTo>
                <a:lnTo>
                  <a:pt x="3905" y="1401"/>
                </a:lnTo>
                <a:lnTo>
                  <a:pt x="3920" y="1406"/>
                </a:lnTo>
                <a:lnTo>
                  <a:pt x="3935" y="1412"/>
                </a:lnTo>
                <a:lnTo>
                  <a:pt x="3949" y="1420"/>
                </a:lnTo>
                <a:lnTo>
                  <a:pt x="3962" y="1428"/>
                </a:lnTo>
                <a:lnTo>
                  <a:pt x="4020" y="1464"/>
                </a:lnTo>
                <a:lnTo>
                  <a:pt x="4071" y="1497"/>
                </a:lnTo>
                <a:lnTo>
                  <a:pt x="4161" y="1557"/>
                </a:lnTo>
                <a:lnTo>
                  <a:pt x="4237" y="1609"/>
                </a:lnTo>
                <a:lnTo>
                  <a:pt x="4272" y="1634"/>
                </a:lnTo>
                <a:lnTo>
                  <a:pt x="4308" y="1654"/>
                </a:lnTo>
                <a:lnTo>
                  <a:pt x="4342" y="1675"/>
                </a:lnTo>
                <a:lnTo>
                  <a:pt x="4378" y="1691"/>
                </a:lnTo>
                <a:lnTo>
                  <a:pt x="4414" y="1708"/>
                </a:lnTo>
                <a:lnTo>
                  <a:pt x="4454" y="1722"/>
                </a:lnTo>
                <a:lnTo>
                  <a:pt x="4496" y="1734"/>
                </a:lnTo>
                <a:lnTo>
                  <a:pt x="4542" y="1744"/>
                </a:lnTo>
                <a:lnTo>
                  <a:pt x="4593" y="1753"/>
                </a:lnTo>
                <a:lnTo>
                  <a:pt x="4649" y="1759"/>
                </a:lnTo>
                <a:lnTo>
                  <a:pt x="4582" y="1718"/>
                </a:lnTo>
                <a:lnTo>
                  <a:pt x="4524" y="1681"/>
                </a:lnTo>
                <a:lnTo>
                  <a:pt x="4473" y="1649"/>
                </a:lnTo>
                <a:lnTo>
                  <a:pt x="4431" y="1620"/>
                </a:lnTo>
                <a:lnTo>
                  <a:pt x="4395" y="1594"/>
                </a:lnTo>
                <a:lnTo>
                  <a:pt x="4363" y="1571"/>
                </a:lnTo>
                <a:lnTo>
                  <a:pt x="4337" y="1549"/>
                </a:lnTo>
                <a:lnTo>
                  <a:pt x="4315" y="1530"/>
                </a:lnTo>
                <a:lnTo>
                  <a:pt x="4296" y="1512"/>
                </a:lnTo>
                <a:lnTo>
                  <a:pt x="4278" y="1496"/>
                </a:lnTo>
                <a:lnTo>
                  <a:pt x="4248" y="1461"/>
                </a:lnTo>
                <a:lnTo>
                  <a:pt x="4214" y="1425"/>
                </a:lnTo>
                <a:lnTo>
                  <a:pt x="4195" y="1405"/>
                </a:lnTo>
                <a:lnTo>
                  <a:pt x="4173" y="1383"/>
                </a:lnTo>
                <a:lnTo>
                  <a:pt x="4138" y="1353"/>
                </a:lnTo>
                <a:lnTo>
                  <a:pt x="4102" y="1328"/>
                </a:lnTo>
                <a:lnTo>
                  <a:pt x="4066" y="1305"/>
                </a:lnTo>
                <a:lnTo>
                  <a:pt x="4030" y="1286"/>
                </a:lnTo>
                <a:lnTo>
                  <a:pt x="3995" y="1269"/>
                </a:lnTo>
                <a:lnTo>
                  <a:pt x="3961" y="1255"/>
                </a:lnTo>
                <a:lnTo>
                  <a:pt x="3926" y="1243"/>
                </a:lnTo>
                <a:lnTo>
                  <a:pt x="3892" y="1236"/>
                </a:lnTo>
                <a:lnTo>
                  <a:pt x="3858" y="1229"/>
                </a:lnTo>
                <a:lnTo>
                  <a:pt x="3825" y="1224"/>
                </a:lnTo>
                <a:lnTo>
                  <a:pt x="3793" y="1223"/>
                </a:lnTo>
                <a:lnTo>
                  <a:pt x="3761" y="1222"/>
                </a:lnTo>
                <a:lnTo>
                  <a:pt x="3731" y="1224"/>
                </a:lnTo>
                <a:lnTo>
                  <a:pt x="3700" y="1227"/>
                </a:lnTo>
                <a:lnTo>
                  <a:pt x="3670" y="1232"/>
                </a:lnTo>
                <a:lnTo>
                  <a:pt x="3641" y="1238"/>
                </a:lnTo>
                <a:lnTo>
                  <a:pt x="3613" y="1245"/>
                </a:lnTo>
                <a:lnTo>
                  <a:pt x="3586" y="1254"/>
                </a:lnTo>
                <a:lnTo>
                  <a:pt x="3560" y="1263"/>
                </a:lnTo>
                <a:lnTo>
                  <a:pt x="3535" y="1273"/>
                </a:lnTo>
                <a:lnTo>
                  <a:pt x="3510" y="1284"/>
                </a:lnTo>
                <a:lnTo>
                  <a:pt x="3487" y="1296"/>
                </a:lnTo>
                <a:lnTo>
                  <a:pt x="3464" y="1307"/>
                </a:lnTo>
                <a:lnTo>
                  <a:pt x="3444" y="1320"/>
                </a:lnTo>
                <a:lnTo>
                  <a:pt x="3405" y="1344"/>
                </a:lnTo>
                <a:lnTo>
                  <a:pt x="3371" y="1370"/>
                </a:lnTo>
                <a:lnTo>
                  <a:pt x="3343" y="1392"/>
                </a:lnTo>
                <a:lnTo>
                  <a:pt x="3321" y="1412"/>
                </a:lnTo>
                <a:lnTo>
                  <a:pt x="3280" y="1428"/>
                </a:lnTo>
                <a:lnTo>
                  <a:pt x="3242" y="1439"/>
                </a:lnTo>
                <a:lnTo>
                  <a:pt x="3206" y="1448"/>
                </a:lnTo>
                <a:lnTo>
                  <a:pt x="3171" y="1453"/>
                </a:lnTo>
                <a:lnTo>
                  <a:pt x="3139" y="1457"/>
                </a:lnTo>
                <a:lnTo>
                  <a:pt x="3108" y="1457"/>
                </a:lnTo>
                <a:lnTo>
                  <a:pt x="3079" y="1456"/>
                </a:lnTo>
                <a:lnTo>
                  <a:pt x="3052" y="1452"/>
                </a:lnTo>
                <a:lnTo>
                  <a:pt x="3028" y="1446"/>
                </a:lnTo>
                <a:lnTo>
                  <a:pt x="3004" y="1438"/>
                </a:lnTo>
                <a:lnTo>
                  <a:pt x="2982" y="1428"/>
                </a:lnTo>
                <a:lnTo>
                  <a:pt x="2963" y="1416"/>
                </a:lnTo>
                <a:lnTo>
                  <a:pt x="2945" y="1403"/>
                </a:lnTo>
                <a:lnTo>
                  <a:pt x="2928" y="1389"/>
                </a:lnTo>
                <a:lnTo>
                  <a:pt x="2913" y="1374"/>
                </a:lnTo>
                <a:lnTo>
                  <a:pt x="2900" y="1357"/>
                </a:lnTo>
                <a:lnTo>
                  <a:pt x="2900" y="1730"/>
                </a:lnTo>
                <a:close/>
                <a:moveTo>
                  <a:pt x="2900" y="1073"/>
                </a:moveTo>
                <a:lnTo>
                  <a:pt x="2900" y="469"/>
                </a:lnTo>
                <a:lnTo>
                  <a:pt x="2915" y="469"/>
                </a:lnTo>
                <a:lnTo>
                  <a:pt x="2931" y="469"/>
                </a:lnTo>
                <a:lnTo>
                  <a:pt x="2947" y="469"/>
                </a:lnTo>
                <a:lnTo>
                  <a:pt x="2964" y="470"/>
                </a:lnTo>
                <a:lnTo>
                  <a:pt x="2980" y="473"/>
                </a:lnTo>
                <a:lnTo>
                  <a:pt x="2998" y="477"/>
                </a:lnTo>
                <a:lnTo>
                  <a:pt x="3015" y="480"/>
                </a:lnTo>
                <a:lnTo>
                  <a:pt x="3032" y="486"/>
                </a:lnTo>
                <a:lnTo>
                  <a:pt x="3048" y="492"/>
                </a:lnTo>
                <a:lnTo>
                  <a:pt x="3065" y="498"/>
                </a:lnTo>
                <a:lnTo>
                  <a:pt x="3082" y="506"/>
                </a:lnTo>
                <a:lnTo>
                  <a:pt x="3097" y="515"/>
                </a:lnTo>
                <a:lnTo>
                  <a:pt x="3112" y="524"/>
                </a:lnTo>
                <a:lnTo>
                  <a:pt x="3128" y="534"/>
                </a:lnTo>
                <a:lnTo>
                  <a:pt x="3142" y="546"/>
                </a:lnTo>
                <a:lnTo>
                  <a:pt x="3155" y="558"/>
                </a:lnTo>
                <a:lnTo>
                  <a:pt x="3166" y="571"/>
                </a:lnTo>
                <a:lnTo>
                  <a:pt x="3176" y="585"/>
                </a:lnTo>
                <a:lnTo>
                  <a:pt x="3187" y="601"/>
                </a:lnTo>
                <a:lnTo>
                  <a:pt x="3195" y="616"/>
                </a:lnTo>
                <a:lnTo>
                  <a:pt x="3202" y="634"/>
                </a:lnTo>
                <a:lnTo>
                  <a:pt x="3208" y="652"/>
                </a:lnTo>
                <a:lnTo>
                  <a:pt x="3212" y="670"/>
                </a:lnTo>
                <a:lnTo>
                  <a:pt x="3215" y="690"/>
                </a:lnTo>
                <a:lnTo>
                  <a:pt x="3215" y="711"/>
                </a:lnTo>
                <a:lnTo>
                  <a:pt x="3213" y="733"/>
                </a:lnTo>
                <a:lnTo>
                  <a:pt x="3211" y="756"/>
                </a:lnTo>
                <a:lnTo>
                  <a:pt x="3204" y="780"/>
                </a:lnTo>
                <a:lnTo>
                  <a:pt x="3198" y="804"/>
                </a:lnTo>
                <a:lnTo>
                  <a:pt x="3188" y="830"/>
                </a:lnTo>
                <a:lnTo>
                  <a:pt x="3175" y="857"/>
                </a:lnTo>
                <a:lnTo>
                  <a:pt x="3161" y="885"/>
                </a:lnTo>
                <a:lnTo>
                  <a:pt x="3189" y="886"/>
                </a:lnTo>
                <a:lnTo>
                  <a:pt x="3208" y="887"/>
                </a:lnTo>
                <a:lnTo>
                  <a:pt x="3230" y="890"/>
                </a:lnTo>
                <a:lnTo>
                  <a:pt x="3253" y="895"/>
                </a:lnTo>
                <a:lnTo>
                  <a:pt x="3277" y="902"/>
                </a:lnTo>
                <a:lnTo>
                  <a:pt x="3303" y="911"/>
                </a:lnTo>
                <a:lnTo>
                  <a:pt x="3316" y="917"/>
                </a:lnTo>
                <a:lnTo>
                  <a:pt x="3327" y="923"/>
                </a:lnTo>
                <a:lnTo>
                  <a:pt x="3340" y="931"/>
                </a:lnTo>
                <a:lnTo>
                  <a:pt x="3352" y="940"/>
                </a:lnTo>
                <a:lnTo>
                  <a:pt x="3363" y="950"/>
                </a:lnTo>
                <a:lnTo>
                  <a:pt x="3373" y="960"/>
                </a:lnTo>
                <a:lnTo>
                  <a:pt x="3384" y="973"/>
                </a:lnTo>
                <a:lnTo>
                  <a:pt x="3394" y="986"/>
                </a:lnTo>
                <a:lnTo>
                  <a:pt x="3403" y="1000"/>
                </a:lnTo>
                <a:lnTo>
                  <a:pt x="3411" y="1017"/>
                </a:lnTo>
                <a:lnTo>
                  <a:pt x="3418" y="1035"/>
                </a:lnTo>
                <a:lnTo>
                  <a:pt x="3425" y="1054"/>
                </a:lnTo>
                <a:lnTo>
                  <a:pt x="3430" y="1074"/>
                </a:lnTo>
                <a:lnTo>
                  <a:pt x="3434" y="1096"/>
                </a:lnTo>
                <a:lnTo>
                  <a:pt x="3436" y="1120"/>
                </a:lnTo>
                <a:lnTo>
                  <a:pt x="3439" y="1146"/>
                </a:lnTo>
                <a:lnTo>
                  <a:pt x="3439" y="1173"/>
                </a:lnTo>
                <a:lnTo>
                  <a:pt x="3437" y="1202"/>
                </a:lnTo>
                <a:lnTo>
                  <a:pt x="3432" y="1218"/>
                </a:lnTo>
                <a:lnTo>
                  <a:pt x="3426" y="1233"/>
                </a:lnTo>
                <a:lnTo>
                  <a:pt x="3418" y="1248"/>
                </a:lnTo>
                <a:lnTo>
                  <a:pt x="3408" y="1264"/>
                </a:lnTo>
                <a:lnTo>
                  <a:pt x="3395" y="1279"/>
                </a:lnTo>
                <a:lnTo>
                  <a:pt x="3382" y="1293"/>
                </a:lnTo>
                <a:lnTo>
                  <a:pt x="3367" y="1307"/>
                </a:lnTo>
                <a:lnTo>
                  <a:pt x="3350" y="1320"/>
                </a:lnTo>
                <a:lnTo>
                  <a:pt x="3334" y="1333"/>
                </a:lnTo>
                <a:lnTo>
                  <a:pt x="3315" y="1344"/>
                </a:lnTo>
                <a:lnTo>
                  <a:pt x="3295" y="1356"/>
                </a:lnTo>
                <a:lnTo>
                  <a:pt x="3276" y="1366"/>
                </a:lnTo>
                <a:lnTo>
                  <a:pt x="3254" y="1374"/>
                </a:lnTo>
                <a:lnTo>
                  <a:pt x="3234" y="1382"/>
                </a:lnTo>
                <a:lnTo>
                  <a:pt x="3212" y="1388"/>
                </a:lnTo>
                <a:lnTo>
                  <a:pt x="3190" y="1393"/>
                </a:lnTo>
                <a:lnTo>
                  <a:pt x="3169" y="1397"/>
                </a:lnTo>
                <a:lnTo>
                  <a:pt x="3147" y="1398"/>
                </a:lnTo>
                <a:lnTo>
                  <a:pt x="3125" y="1400"/>
                </a:lnTo>
                <a:lnTo>
                  <a:pt x="3105" y="1398"/>
                </a:lnTo>
                <a:lnTo>
                  <a:pt x="3084" y="1394"/>
                </a:lnTo>
                <a:lnTo>
                  <a:pt x="3064" y="1389"/>
                </a:lnTo>
                <a:lnTo>
                  <a:pt x="3044" y="1382"/>
                </a:lnTo>
                <a:lnTo>
                  <a:pt x="3027" y="1373"/>
                </a:lnTo>
                <a:lnTo>
                  <a:pt x="3010" y="1361"/>
                </a:lnTo>
                <a:lnTo>
                  <a:pt x="2993" y="1347"/>
                </a:lnTo>
                <a:lnTo>
                  <a:pt x="2979" y="1330"/>
                </a:lnTo>
                <a:lnTo>
                  <a:pt x="2966" y="1312"/>
                </a:lnTo>
                <a:lnTo>
                  <a:pt x="2955" y="1291"/>
                </a:lnTo>
                <a:lnTo>
                  <a:pt x="2945" y="1266"/>
                </a:lnTo>
                <a:lnTo>
                  <a:pt x="2937" y="1240"/>
                </a:lnTo>
                <a:lnTo>
                  <a:pt x="2932" y="1210"/>
                </a:lnTo>
                <a:lnTo>
                  <a:pt x="2929" y="1193"/>
                </a:lnTo>
                <a:lnTo>
                  <a:pt x="2929" y="1177"/>
                </a:lnTo>
                <a:lnTo>
                  <a:pt x="2932" y="1161"/>
                </a:lnTo>
                <a:lnTo>
                  <a:pt x="2937" y="1147"/>
                </a:lnTo>
                <a:lnTo>
                  <a:pt x="2943" y="1135"/>
                </a:lnTo>
                <a:lnTo>
                  <a:pt x="2951" y="1122"/>
                </a:lnTo>
                <a:lnTo>
                  <a:pt x="2960" y="1110"/>
                </a:lnTo>
                <a:lnTo>
                  <a:pt x="2970" y="1100"/>
                </a:lnTo>
                <a:lnTo>
                  <a:pt x="2982" y="1091"/>
                </a:lnTo>
                <a:lnTo>
                  <a:pt x="2995" y="1082"/>
                </a:lnTo>
                <a:lnTo>
                  <a:pt x="3007" y="1074"/>
                </a:lnTo>
                <a:lnTo>
                  <a:pt x="3021" y="1069"/>
                </a:lnTo>
                <a:lnTo>
                  <a:pt x="3036" y="1064"/>
                </a:lnTo>
                <a:lnTo>
                  <a:pt x="3050" y="1060"/>
                </a:lnTo>
                <a:lnTo>
                  <a:pt x="3065" y="1058"/>
                </a:lnTo>
                <a:lnTo>
                  <a:pt x="3079" y="1056"/>
                </a:lnTo>
                <a:lnTo>
                  <a:pt x="3094" y="1056"/>
                </a:lnTo>
                <a:lnTo>
                  <a:pt x="3108" y="1058"/>
                </a:lnTo>
                <a:lnTo>
                  <a:pt x="3123" y="1062"/>
                </a:lnTo>
                <a:lnTo>
                  <a:pt x="3135" y="1065"/>
                </a:lnTo>
                <a:lnTo>
                  <a:pt x="3148" y="1071"/>
                </a:lnTo>
                <a:lnTo>
                  <a:pt x="3160" y="1078"/>
                </a:lnTo>
                <a:lnTo>
                  <a:pt x="3170" y="1087"/>
                </a:lnTo>
                <a:lnTo>
                  <a:pt x="3179" y="1096"/>
                </a:lnTo>
                <a:lnTo>
                  <a:pt x="3187" y="1109"/>
                </a:lnTo>
                <a:lnTo>
                  <a:pt x="3192" y="1122"/>
                </a:lnTo>
                <a:lnTo>
                  <a:pt x="3197" y="1136"/>
                </a:lnTo>
                <a:lnTo>
                  <a:pt x="3198" y="1152"/>
                </a:lnTo>
                <a:lnTo>
                  <a:pt x="3199" y="1172"/>
                </a:lnTo>
                <a:lnTo>
                  <a:pt x="3197" y="1191"/>
                </a:lnTo>
                <a:lnTo>
                  <a:pt x="3193" y="1213"/>
                </a:lnTo>
                <a:lnTo>
                  <a:pt x="3185" y="1236"/>
                </a:lnTo>
                <a:lnTo>
                  <a:pt x="3201" y="1233"/>
                </a:lnTo>
                <a:lnTo>
                  <a:pt x="3215" y="1228"/>
                </a:lnTo>
                <a:lnTo>
                  <a:pt x="3226" y="1220"/>
                </a:lnTo>
                <a:lnTo>
                  <a:pt x="3235" y="1213"/>
                </a:lnTo>
                <a:lnTo>
                  <a:pt x="3242" y="1204"/>
                </a:lnTo>
                <a:lnTo>
                  <a:pt x="3247" y="1192"/>
                </a:lnTo>
                <a:lnTo>
                  <a:pt x="3251" y="1181"/>
                </a:lnTo>
                <a:lnTo>
                  <a:pt x="3252" y="1168"/>
                </a:lnTo>
                <a:lnTo>
                  <a:pt x="3252" y="1155"/>
                </a:lnTo>
                <a:lnTo>
                  <a:pt x="3249" y="1142"/>
                </a:lnTo>
                <a:lnTo>
                  <a:pt x="3245" y="1128"/>
                </a:lnTo>
                <a:lnTo>
                  <a:pt x="3240" y="1114"/>
                </a:lnTo>
                <a:lnTo>
                  <a:pt x="3233" y="1100"/>
                </a:lnTo>
                <a:lnTo>
                  <a:pt x="3225" y="1086"/>
                </a:lnTo>
                <a:lnTo>
                  <a:pt x="3215" y="1073"/>
                </a:lnTo>
                <a:lnTo>
                  <a:pt x="3204" y="1060"/>
                </a:lnTo>
                <a:lnTo>
                  <a:pt x="3192" y="1049"/>
                </a:lnTo>
                <a:lnTo>
                  <a:pt x="3178" y="1037"/>
                </a:lnTo>
                <a:lnTo>
                  <a:pt x="3163" y="1027"/>
                </a:lnTo>
                <a:lnTo>
                  <a:pt x="3147" y="1018"/>
                </a:lnTo>
                <a:lnTo>
                  <a:pt x="3130" y="1012"/>
                </a:lnTo>
                <a:lnTo>
                  <a:pt x="3114" y="1005"/>
                </a:lnTo>
                <a:lnTo>
                  <a:pt x="3094" y="1001"/>
                </a:lnTo>
                <a:lnTo>
                  <a:pt x="3075" y="999"/>
                </a:lnTo>
                <a:lnTo>
                  <a:pt x="3055" y="999"/>
                </a:lnTo>
                <a:lnTo>
                  <a:pt x="3034" y="1001"/>
                </a:lnTo>
                <a:lnTo>
                  <a:pt x="3012" y="1007"/>
                </a:lnTo>
                <a:lnTo>
                  <a:pt x="2991" y="1014"/>
                </a:lnTo>
                <a:lnTo>
                  <a:pt x="2969" y="1023"/>
                </a:lnTo>
                <a:lnTo>
                  <a:pt x="2946" y="1037"/>
                </a:lnTo>
                <a:lnTo>
                  <a:pt x="2923" y="1053"/>
                </a:lnTo>
                <a:lnTo>
                  <a:pt x="2900" y="1073"/>
                </a:lnTo>
                <a:close/>
                <a:moveTo>
                  <a:pt x="2900" y="2002"/>
                </a:moveTo>
                <a:lnTo>
                  <a:pt x="2900" y="1798"/>
                </a:lnTo>
                <a:lnTo>
                  <a:pt x="2928" y="1795"/>
                </a:lnTo>
                <a:lnTo>
                  <a:pt x="2955" y="1793"/>
                </a:lnTo>
                <a:lnTo>
                  <a:pt x="3007" y="1785"/>
                </a:lnTo>
                <a:lnTo>
                  <a:pt x="3056" y="1776"/>
                </a:lnTo>
                <a:lnTo>
                  <a:pt x="3099" y="1764"/>
                </a:lnTo>
                <a:lnTo>
                  <a:pt x="3138" y="1752"/>
                </a:lnTo>
                <a:lnTo>
                  <a:pt x="3170" y="1739"/>
                </a:lnTo>
                <a:lnTo>
                  <a:pt x="3183" y="1732"/>
                </a:lnTo>
                <a:lnTo>
                  <a:pt x="3194" y="1726"/>
                </a:lnTo>
                <a:lnTo>
                  <a:pt x="3204" y="1718"/>
                </a:lnTo>
                <a:lnTo>
                  <a:pt x="3212" y="1712"/>
                </a:lnTo>
                <a:lnTo>
                  <a:pt x="3266" y="1667"/>
                </a:lnTo>
                <a:lnTo>
                  <a:pt x="3318" y="1625"/>
                </a:lnTo>
                <a:lnTo>
                  <a:pt x="3370" y="1588"/>
                </a:lnTo>
                <a:lnTo>
                  <a:pt x="3418" y="1556"/>
                </a:lnTo>
                <a:lnTo>
                  <a:pt x="3466" y="1528"/>
                </a:lnTo>
                <a:lnTo>
                  <a:pt x="3512" y="1503"/>
                </a:lnTo>
                <a:lnTo>
                  <a:pt x="3555" y="1481"/>
                </a:lnTo>
                <a:lnTo>
                  <a:pt x="3597" y="1465"/>
                </a:lnTo>
                <a:lnTo>
                  <a:pt x="3637" y="1452"/>
                </a:lnTo>
                <a:lnTo>
                  <a:pt x="3675" y="1442"/>
                </a:lnTo>
                <a:lnTo>
                  <a:pt x="3713" y="1435"/>
                </a:lnTo>
                <a:lnTo>
                  <a:pt x="3747" y="1433"/>
                </a:lnTo>
                <a:lnTo>
                  <a:pt x="3779" y="1433"/>
                </a:lnTo>
                <a:lnTo>
                  <a:pt x="3811" y="1435"/>
                </a:lnTo>
                <a:lnTo>
                  <a:pt x="3839" y="1440"/>
                </a:lnTo>
                <a:lnTo>
                  <a:pt x="3867" y="1449"/>
                </a:lnTo>
                <a:lnTo>
                  <a:pt x="3893" y="1457"/>
                </a:lnTo>
                <a:lnTo>
                  <a:pt x="3919" y="1467"/>
                </a:lnTo>
                <a:lnTo>
                  <a:pt x="3943" y="1478"/>
                </a:lnTo>
                <a:lnTo>
                  <a:pt x="3965" y="1488"/>
                </a:lnTo>
                <a:lnTo>
                  <a:pt x="3988" y="1501"/>
                </a:lnTo>
                <a:lnTo>
                  <a:pt x="4010" y="1513"/>
                </a:lnTo>
                <a:lnTo>
                  <a:pt x="4050" y="1542"/>
                </a:lnTo>
                <a:lnTo>
                  <a:pt x="4091" y="1571"/>
                </a:lnTo>
                <a:lnTo>
                  <a:pt x="4132" y="1602"/>
                </a:lnTo>
                <a:lnTo>
                  <a:pt x="4175" y="1634"/>
                </a:lnTo>
                <a:lnTo>
                  <a:pt x="4221" y="1665"/>
                </a:lnTo>
                <a:lnTo>
                  <a:pt x="4244" y="1680"/>
                </a:lnTo>
                <a:lnTo>
                  <a:pt x="4269" y="1694"/>
                </a:lnTo>
                <a:lnTo>
                  <a:pt x="4296" y="1709"/>
                </a:lnTo>
                <a:lnTo>
                  <a:pt x="4323" y="1722"/>
                </a:lnTo>
                <a:lnTo>
                  <a:pt x="4353" y="1736"/>
                </a:lnTo>
                <a:lnTo>
                  <a:pt x="4383" y="1748"/>
                </a:lnTo>
                <a:lnTo>
                  <a:pt x="4417" y="1759"/>
                </a:lnTo>
                <a:lnTo>
                  <a:pt x="4451" y="1769"/>
                </a:lnTo>
                <a:lnTo>
                  <a:pt x="4488" y="1780"/>
                </a:lnTo>
                <a:lnTo>
                  <a:pt x="4527" y="1787"/>
                </a:lnTo>
                <a:lnTo>
                  <a:pt x="4569" y="1795"/>
                </a:lnTo>
                <a:lnTo>
                  <a:pt x="4612" y="1800"/>
                </a:lnTo>
                <a:lnTo>
                  <a:pt x="4660" y="1804"/>
                </a:lnTo>
                <a:lnTo>
                  <a:pt x="4710" y="1808"/>
                </a:lnTo>
                <a:lnTo>
                  <a:pt x="4762" y="1808"/>
                </a:lnTo>
                <a:lnTo>
                  <a:pt x="4817" y="1808"/>
                </a:lnTo>
                <a:lnTo>
                  <a:pt x="4794" y="1821"/>
                </a:lnTo>
                <a:lnTo>
                  <a:pt x="4770" y="1833"/>
                </a:lnTo>
                <a:lnTo>
                  <a:pt x="4745" y="1844"/>
                </a:lnTo>
                <a:lnTo>
                  <a:pt x="4720" y="1853"/>
                </a:lnTo>
                <a:lnTo>
                  <a:pt x="4694" y="1860"/>
                </a:lnTo>
                <a:lnTo>
                  <a:pt x="4669" y="1867"/>
                </a:lnTo>
                <a:lnTo>
                  <a:pt x="4642" y="1873"/>
                </a:lnTo>
                <a:lnTo>
                  <a:pt x="4615" y="1877"/>
                </a:lnTo>
                <a:lnTo>
                  <a:pt x="4588" y="1880"/>
                </a:lnTo>
                <a:lnTo>
                  <a:pt x="4561" y="1882"/>
                </a:lnTo>
                <a:lnTo>
                  <a:pt x="4534" y="1883"/>
                </a:lnTo>
                <a:lnTo>
                  <a:pt x="4507" y="1883"/>
                </a:lnTo>
                <a:lnTo>
                  <a:pt x="4481" y="1882"/>
                </a:lnTo>
                <a:lnTo>
                  <a:pt x="4455" y="1881"/>
                </a:lnTo>
                <a:lnTo>
                  <a:pt x="4404" y="1876"/>
                </a:lnTo>
                <a:lnTo>
                  <a:pt x="4354" y="1868"/>
                </a:lnTo>
                <a:lnTo>
                  <a:pt x="4308" y="1859"/>
                </a:lnTo>
                <a:lnTo>
                  <a:pt x="4266" y="1848"/>
                </a:lnTo>
                <a:lnTo>
                  <a:pt x="4227" y="1836"/>
                </a:lnTo>
                <a:lnTo>
                  <a:pt x="4195" y="1823"/>
                </a:lnTo>
                <a:lnTo>
                  <a:pt x="4167" y="1810"/>
                </a:lnTo>
                <a:lnTo>
                  <a:pt x="4146" y="1798"/>
                </a:lnTo>
                <a:lnTo>
                  <a:pt x="4138" y="1791"/>
                </a:lnTo>
                <a:lnTo>
                  <a:pt x="4132" y="1786"/>
                </a:lnTo>
                <a:lnTo>
                  <a:pt x="4102" y="1766"/>
                </a:lnTo>
                <a:lnTo>
                  <a:pt x="4072" y="1748"/>
                </a:lnTo>
                <a:lnTo>
                  <a:pt x="4043" y="1731"/>
                </a:lnTo>
                <a:lnTo>
                  <a:pt x="4015" y="1717"/>
                </a:lnTo>
                <a:lnTo>
                  <a:pt x="3986" y="1704"/>
                </a:lnTo>
                <a:lnTo>
                  <a:pt x="3960" y="1693"/>
                </a:lnTo>
                <a:lnTo>
                  <a:pt x="3934" y="1682"/>
                </a:lnTo>
                <a:lnTo>
                  <a:pt x="3908" y="1673"/>
                </a:lnTo>
                <a:lnTo>
                  <a:pt x="3883" y="1667"/>
                </a:lnTo>
                <a:lnTo>
                  <a:pt x="3858" y="1662"/>
                </a:lnTo>
                <a:lnTo>
                  <a:pt x="3835" y="1657"/>
                </a:lnTo>
                <a:lnTo>
                  <a:pt x="3812" y="1654"/>
                </a:lnTo>
                <a:lnTo>
                  <a:pt x="3789" y="1652"/>
                </a:lnTo>
                <a:lnTo>
                  <a:pt x="3768" y="1650"/>
                </a:lnTo>
                <a:lnTo>
                  <a:pt x="3747" y="1650"/>
                </a:lnTo>
                <a:lnTo>
                  <a:pt x="3727" y="1652"/>
                </a:lnTo>
                <a:lnTo>
                  <a:pt x="3707" y="1654"/>
                </a:lnTo>
                <a:lnTo>
                  <a:pt x="3688" y="1657"/>
                </a:lnTo>
                <a:lnTo>
                  <a:pt x="3670" y="1659"/>
                </a:lnTo>
                <a:lnTo>
                  <a:pt x="3652" y="1665"/>
                </a:lnTo>
                <a:lnTo>
                  <a:pt x="3619" y="1673"/>
                </a:lnTo>
                <a:lnTo>
                  <a:pt x="3590" y="1686"/>
                </a:lnTo>
                <a:lnTo>
                  <a:pt x="3563" y="1699"/>
                </a:lnTo>
                <a:lnTo>
                  <a:pt x="3539" y="1713"/>
                </a:lnTo>
                <a:lnTo>
                  <a:pt x="3518" y="1727"/>
                </a:lnTo>
                <a:lnTo>
                  <a:pt x="3500" y="1741"/>
                </a:lnTo>
                <a:lnTo>
                  <a:pt x="3466" y="1769"/>
                </a:lnTo>
                <a:lnTo>
                  <a:pt x="3444" y="1785"/>
                </a:lnTo>
                <a:lnTo>
                  <a:pt x="3419" y="1801"/>
                </a:lnTo>
                <a:lnTo>
                  <a:pt x="3393" y="1819"/>
                </a:lnTo>
                <a:lnTo>
                  <a:pt x="3363" y="1837"/>
                </a:lnTo>
                <a:lnTo>
                  <a:pt x="3331" y="1855"/>
                </a:lnTo>
                <a:lnTo>
                  <a:pt x="3295" y="1873"/>
                </a:lnTo>
                <a:lnTo>
                  <a:pt x="3257" y="1892"/>
                </a:lnTo>
                <a:lnTo>
                  <a:pt x="3216" y="1910"/>
                </a:lnTo>
                <a:lnTo>
                  <a:pt x="3171" y="1927"/>
                </a:lnTo>
                <a:lnTo>
                  <a:pt x="3124" y="1945"/>
                </a:lnTo>
                <a:lnTo>
                  <a:pt x="3073" y="1960"/>
                </a:lnTo>
                <a:lnTo>
                  <a:pt x="3018" y="1976"/>
                </a:lnTo>
                <a:lnTo>
                  <a:pt x="2960" y="1990"/>
                </a:lnTo>
                <a:lnTo>
                  <a:pt x="2900" y="2002"/>
                </a:lnTo>
                <a:close/>
                <a:moveTo>
                  <a:pt x="404" y="1054"/>
                </a:moveTo>
                <a:lnTo>
                  <a:pt x="404" y="1054"/>
                </a:lnTo>
                <a:lnTo>
                  <a:pt x="369" y="1047"/>
                </a:lnTo>
                <a:lnTo>
                  <a:pt x="336" y="1042"/>
                </a:lnTo>
                <a:lnTo>
                  <a:pt x="304" y="1039"/>
                </a:lnTo>
                <a:lnTo>
                  <a:pt x="275" y="1039"/>
                </a:lnTo>
                <a:lnTo>
                  <a:pt x="245" y="1040"/>
                </a:lnTo>
                <a:lnTo>
                  <a:pt x="218" y="1044"/>
                </a:lnTo>
                <a:lnTo>
                  <a:pt x="191" y="1049"/>
                </a:lnTo>
                <a:lnTo>
                  <a:pt x="167" y="1056"/>
                </a:lnTo>
                <a:lnTo>
                  <a:pt x="145" y="1065"/>
                </a:lnTo>
                <a:lnTo>
                  <a:pt x="124" y="1077"/>
                </a:lnTo>
                <a:lnTo>
                  <a:pt x="104" y="1088"/>
                </a:lnTo>
                <a:lnTo>
                  <a:pt x="87" y="1101"/>
                </a:lnTo>
                <a:lnTo>
                  <a:pt x="70" y="1117"/>
                </a:lnTo>
                <a:lnTo>
                  <a:pt x="56" y="1132"/>
                </a:lnTo>
                <a:lnTo>
                  <a:pt x="42" y="1149"/>
                </a:lnTo>
                <a:lnTo>
                  <a:pt x="32" y="1167"/>
                </a:lnTo>
                <a:lnTo>
                  <a:pt x="21" y="1184"/>
                </a:lnTo>
                <a:lnTo>
                  <a:pt x="14" y="1204"/>
                </a:lnTo>
                <a:lnTo>
                  <a:pt x="7" y="1223"/>
                </a:lnTo>
                <a:lnTo>
                  <a:pt x="3" y="1243"/>
                </a:lnTo>
                <a:lnTo>
                  <a:pt x="1" y="1264"/>
                </a:lnTo>
                <a:lnTo>
                  <a:pt x="0" y="1284"/>
                </a:lnTo>
                <a:lnTo>
                  <a:pt x="1" y="1305"/>
                </a:lnTo>
                <a:lnTo>
                  <a:pt x="3" y="1325"/>
                </a:lnTo>
                <a:lnTo>
                  <a:pt x="8" y="1346"/>
                </a:lnTo>
                <a:lnTo>
                  <a:pt x="15" y="1365"/>
                </a:lnTo>
                <a:lnTo>
                  <a:pt x="23" y="1385"/>
                </a:lnTo>
                <a:lnTo>
                  <a:pt x="33" y="1405"/>
                </a:lnTo>
                <a:lnTo>
                  <a:pt x="46" y="1424"/>
                </a:lnTo>
                <a:lnTo>
                  <a:pt x="60" y="1442"/>
                </a:lnTo>
                <a:lnTo>
                  <a:pt x="76" y="1458"/>
                </a:lnTo>
                <a:lnTo>
                  <a:pt x="94" y="1475"/>
                </a:lnTo>
                <a:lnTo>
                  <a:pt x="78" y="1506"/>
                </a:lnTo>
                <a:lnTo>
                  <a:pt x="64" y="1535"/>
                </a:lnTo>
                <a:lnTo>
                  <a:pt x="51" y="1565"/>
                </a:lnTo>
                <a:lnTo>
                  <a:pt x="40" y="1593"/>
                </a:lnTo>
                <a:lnTo>
                  <a:pt x="33" y="1621"/>
                </a:lnTo>
                <a:lnTo>
                  <a:pt x="26" y="1649"/>
                </a:lnTo>
                <a:lnTo>
                  <a:pt x="21" y="1675"/>
                </a:lnTo>
                <a:lnTo>
                  <a:pt x="17" y="1702"/>
                </a:lnTo>
                <a:lnTo>
                  <a:pt x="16" y="1727"/>
                </a:lnTo>
                <a:lnTo>
                  <a:pt x="16" y="1752"/>
                </a:lnTo>
                <a:lnTo>
                  <a:pt x="17" y="1775"/>
                </a:lnTo>
                <a:lnTo>
                  <a:pt x="20" y="1799"/>
                </a:lnTo>
                <a:lnTo>
                  <a:pt x="25" y="1821"/>
                </a:lnTo>
                <a:lnTo>
                  <a:pt x="30" y="1842"/>
                </a:lnTo>
                <a:lnTo>
                  <a:pt x="38" y="1864"/>
                </a:lnTo>
                <a:lnTo>
                  <a:pt x="46" y="1883"/>
                </a:lnTo>
                <a:lnTo>
                  <a:pt x="55" y="1904"/>
                </a:lnTo>
                <a:lnTo>
                  <a:pt x="65" y="1922"/>
                </a:lnTo>
                <a:lnTo>
                  <a:pt x="76" y="1940"/>
                </a:lnTo>
                <a:lnTo>
                  <a:pt x="89" y="1958"/>
                </a:lnTo>
                <a:lnTo>
                  <a:pt x="103" y="1973"/>
                </a:lnTo>
                <a:lnTo>
                  <a:pt x="117" y="1988"/>
                </a:lnTo>
                <a:lnTo>
                  <a:pt x="133" y="2004"/>
                </a:lnTo>
                <a:lnTo>
                  <a:pt x="148" y="2018"/>
                </a:lnTo>
                <a:lnTo>
                  <a:pt x="165" y="2031"/>
                </a:lnTo>
                <a:lnTo>
                  <a:pt x="183" y="2042"/>
                </a:lnTo>
                <a:lnTo>
                  <a:pt x="200" y="2054"/>
                </a:lnTo>
                <a:lnTo>
                  <a:pt x="218" y="2064"/>
                </a:lnTo>
                <a:lnTo>
                  <a:pt x="238" y="2074"/>
                </a:lnTo>
                <a:lnTo>
                  <a:pt x="258" y="2083"/>
                </a:lnTo>
                <a:lnTo>
                  <a:pt x="277" y="2091"/>
                </a:lnTo>
                <a:lnTo>
                  <a:pt x="298" y="2097"/>
                </a:lnTo>
                <a:lnTo>
                  <a:pt x="318" y="2104"/>
                </a:lnTo>
                <a:lnTo>
                  <a:pt x="339" y="2109"/>
                </a:lnTo>
                <a:lnTo>
                  <a:pt x="359" y="2113"/>
                </a:lnTo>
                <a:lnTo>
                  <a:pt x="380" y="2115"/>
                </a:lnTo>
                <a:lnTo>
                  <a:pt x="401" y="2118"/>
                </a:lnTo>
                <a:lnTo>
                  <a:pt x="422" y="2119"/>
                </a:lnTo>
                <a:lnTo>
                  <a:pt x="442" y="2119"/>
                </a:lnTo>
                <a:lnTo>
                  <a:pt x="464" y="2119"/>
                </a:lnTo>
                <a:lnTo>
                  <a:pt x="485" y="2116"/>
                </a:lnTo>
                <a:lnTo>
                  <a:pt x="504" y="2114"/>
                </a:lnTo>
                <a:lnTo>
                  <a:pt x="524" y="2110"/>
                </a:lnTo>
                <a:lnTo>
                  <a:pt x="543" y="2105"/>
                </a:lnTo>
                <a:lnTo>
                  <a:pt x="563" y="2100"/>
                </a:lnTo>
                <a:lnTo>
                  <a:pt x="582" y="2093"/>
                </a:lnTo>
                <a:lnTo>
                  <a:pt x="600" y="2084"/>
                </a:lnTo>
                <a:lnTo>
                  <a:pt x="618" y="2075"/>
                </a:lnTo>
                <a:lnTo>
                  <a:pt x="634" y="2066"/>
                </a:lnTo>
                <a:lnTo>
                  <a:pt x="651" y="2055"/>
                </a:lnTo>
                <a:lnTo>
                  <a:pt x="666" y="2042"/>
                </a:lnTo>
                <a:lnTo>
                  <a:pt x="682" y="2029"/>
                </a:lnTo>
                <a:lnTo>
                  <a:pt x="696" y="2015"/>
                </a:lnTo>
                <a:lnTo>
                  <a:pt x="709" y="2000"/>
                </a:lnTo>
                <a:lnTo>
                  <a:pt x="720" y="1983"/>
                </a:lnTo>
                <a:lnTo>
                  <a:pt x="732" y="1965"/>
                </a:lnTo>
                <a:lnTo>
                  <a:pt x="741" y="1946"/>
                </a:lnTo>
                <a:lnTo>
                  <a:pt x="750" y="1926"/>
                </a:lnTo>
                <a:lnTo>
                  <a:pt x="757" y="1905"/>
                </a:lnTo>
                <a:lnTo>
                  <a:pt x="764" y="1882"/>
                </a:lnTo>
                <a:lnTo>
                  <a:pt x="769" y="1859"/>
                </a:lnTo>
                <a:lnTo>
                  <a:pt x="771" y="1833"/>
                </a:lnTo>
                <a:lnTo>
                  <a:pt x="774" y="1808"/>
                </a:lnTo>
                <a:lnTo>
                  <a:pt x="774" y="1781"/>
                </a:lnTo>
                <a:lnTo>
                  <a:pt x="765" y="1752"/>
                </a:lnTo>
                <a:lnTo>
                  <a:pt x="753" y="1726"/>
                </a:lnTo>
                <a:lnTo>
                  <a:pt x="742" y="1703"/>
                </a:lnTo>
                <a:lnTo>
                  <a:pt x="729" y="1684"/>
                </a:lnTo>
                <a:lnTo>
                  <a:pt x="716" y="1665"/>
                </a:lnTo>
                <a:lnTo>
                  <a:pt x="702" y="1649"/>
                </a:lnTo>
                <a:lnTo>
                  <a:pt x="687" y="1636"/>
                </a:lnTo>
                <a:lnTo>
                  <a:pt x="673" y="1625"/>
                </a:lnTo>
                <a:lnTo>
                  <a:pt x="657" y="1616"/>
                </a:lnTo>
                <a:lnTo>
                  <a:pt x="642" y="1609"/>
                </a:lnTo>
                <a:lnTo>
                  <a:pt x="625" y="1604"/>
                </a:lnTo>
                <a:lnTo>
                  <a:pt x="610" y="1601"/>
                </a:lnTo>
                <a:lnTo>
                  <a:pt x="595" y="1599"/>
                </a:lnTo>
                <a:lnTo>
                  <a:pt x="578" y="1599"/>
                </a:lnTo>
                <a:lnTo>
                  <a:pt x="563" y="1601"/>
                </a:lnTo>
                <a:lnTo>
                  <a:pt x="549" y="1604"/>
                </a:lnTo>
                <a:lnTo>
                  <a:pt x="533" y="1608"/>
                </a:lnTo>
                <a:lnTo>
                  <a:pt x="519" y="1615"/>
                </a:lnTo>
                <a:lnTo>
                  <a:pt x="505" y="1621"/>
                </a:lnTo>
                <a:lnTo>
                  <a:pt x="492" y="1630"/>
                </a:lnTo>
                <a:lnTo>
                  <a:pt x="479" y="1639"/>
                </a:lnTo>
                <a:lnTo>
                  <a:pt x="468" y="1649"/>
                </a:lnTo>
                <a:lnTo>
                  <a:pt x="458" y="1659"/>
                </a:lnTo>
                <a:lnTo>
                  <a:pt x="449" y="1671"/>
                </a:lnTo>
                <a:lnTo>
                  <a:pt x="440" y="1684"/>
                </a:lnTo>
                <a:lnTo>
                  <a:pt x="433" y="1697"/>
                </a:lnTo>
                <a:lnTo>
                  <a:pt x="427" y="1711"/>
                </a:lnTo>
                <a:lnTo>
                  <a:pt x="423" y="1725"/>
                </a:lnTo>
                <a:lnTo>
                  <a:pt x="419" y="1739"/>
                </a:lnTo>
                <a:lnTo>
                  <a:pt x="418" y="1753"/>
                </a:lnTo>
                <a:lnTo>
                  <a:pt x="419" y="1768"/>
                </a:lnTo>
                <a:lnTo>
                  <a:pt x="421" y="1782"/>
                </a:lnTo>
                <a:lnTo>
                  <a:pt x="415" y="1769"/>
                </a:lnTo>
                <a:lnTo>
                  <a:pt x="412" y="1757"/>
                </a:lnTo>
                <a:lnTo>
                  <a:pt x="409" y="1744"/>
                </a:lnTo>
                <a:lnTo>
                  <a:pt x="407" y="1731"/>
                </a:lnTo>
                <a:lnTo>
                  <a:pt x="405" y="1720"/>
                </a:lnTo>
                <a:lnTo>
                  <a:pt x="405" y="1708"/>
                </a:lnTo>
                <a:lnTo>
                  <a:pt x="405" y="1697"/>
                </a:lnTo>
                <a:lnTo>
                  <a:pt x="408" y="1685"/>
                </a:lnTo>
                <a:lnTo>
                  <a:pt x="409" y="1675"/>
                </a:lnTo>
                <a:lnTo>
                  <a:pt x="412" y="1665"/>
                </a:lnTo>
                <a:lnTo>
                  <a:pt x="415" y="1654"/>
                </a:lnTo>
                <a:lnTo>
                  <a:pt x="421" y="1644"/>
                </a:lnTo>
                <a:lnTo>
                  <a:pt x="431" y="1625"/>
                </a:lnTo>
                <a:lnTo>
                  <a:pt x="444" y="1607"/>
                </a:lnTo>
                <a:lnTo>
                  <a:pt x="459" y="1592"/>
                </a:lnTo>
                <a:lnTo>
                  <a:pt x="477" y="1576"/>
                </a:lnTo>
                <a:lnTo>
                  <a:pt x="497" y="1562"/>
                </a:lnTo>
                <a:lnTo>
                  <a:pt x="518" y="1548"/>
                </a:lnTo>
                <a:lnTo>
                  <a:pt x="541" y="1536"/>
                </a:lnTo>
                <a:lnTo>
                  <a:pt x="565" y="1526"/>
                </a:lnTo>
                <a:lnTo>
                  <a:pt x="591" y="1517"/>
                </a:lnTo>
                <a:lnTo>
                  <a:pt x="618" y="1508"/>
                </a:lnTo>
                <a:lnTo>
                  <a:pt x="645" y="1502"/>
                </a:lnTo>
                <a:lnTo>
                  <a:pt x="673" y="1496"/>
                </a:lnTo>
                <a:lnTo>
                  <a:pt x="701" y="1492"/>
                </a:lnTo>
                <a:lnTo>
                  <a:pt x="729" y="1488"/>
                </a:lnTo>
                <a:lnTo>
                  <a:pt x="757" y="1485"/>
                </a:lnTo>
                <a:lnTo>
                  <a:pt x="785" y="1485"/>
                </a:lnTo>
                <a:lnTo>
                  <a:pt x="812" y="1485"/>
                </a:lnTo>
                <a:lnTo>
                  <a:pt x="839" y="1487"/>
                </a:lnTo>
                <a:lnTo>
                  <a:pt x="865" y="1489"/>
                </a:lnTo>
                <a:lnTo>
                  <a:pt x="889" y="1493"/>
                </a:lnTo>
                <a:lnTo>
                  <a:pt x="913" y="1498"/>
                </a:lnTo>
                <a:lnTo>
                  <a:pt x="935" y="1504"/>
                </a:lnTo>
                <a:lnTo>
                  <a:pt x="956" y="1511"/>
                </a:lnTo>
                <a:lnTo>
                  <a:pt x="974" y="1520"/>
                </a:lnTo>
                <a:lnTo>
                  <a:pt x="990" y="1530"/>
                </a:lnTo>
                <a:lnTo>
                  <a:pt x="1004" y="1540"/>
                </a:lnTo>
                <a:lnTo>
                  <a:pt x="1027" y="1551"/>
                </a:lnTo>
                <a:lnTo>
                  <a:pt x="1049" y="1561"/>
                </a:lnTo>
                <a:lnTo>
                  <a:pt x="1072" y="1574"/>
                </a:lnTo>
                <a:lnTo>
                  <a:pt x="1093" y="1585"/>
                </a:lnTo>
                <a:lnTo>
                  <a:pt x="1114" y="1598"/>
                </a:lnTo>
                <a:lnTo>
                  <a:pt x="1135" y="1612"/>
                </a:lnTo>
                <a:lnTo>
                  <a:pt x="1174" y="1641"/>
                </a:lnTo>
                <a:lnTo>
                  <a:pt x="1212" y="1672"/>
                </a:lnTo>
                <a:lnTo>
                  <a:pt x="1247" y="1704"/>
                </a:lnTo>
                <a:lnTo>
                  <a:pt x="1281" y="1736"/>
                </a:lnTo>
                <a:lnTo>
                  <a:pt x="1313" y="1768"/>
                </a:lnTo>
                <a:lnTo>
                  <a:pt x="1342" y="1799"/>
                </a:lnTo>
                <a:lnTo>
                  <a:pt x="1369" y="1828"/>
                </a:lnTo>
                <a:lnTo>
                  <a:pt x="1416" y="1881"/>
                </a:lnTo>
                <a:lnTo>
                  <a:pt x="1437" y="1903"/>
                </a:lnTo>
                <a:lnTo>
                  <a:pt x="1455" y="1922"/>
                </a:lnTo>
                <a:lnTo>
                  <a:pt x="1470" y="1935"/>
                </a:lnTo>
                <a:lnTo>
                  <a:pt x="1477" y="1940"/>
                </a:lnTo>
                <a:lnTo>
                  <a:pt x="1483" y="1944"/>
                </a:lnTo>
                <a:lnTo>
                  <a:pt x="1503" y="1965"/>
                </a:lnTo>
                <a:lnTo>
                  <a:pt x="1526" y="1985"/>
                </a:lnTo>
                <a:lnTo>
                  <a:pt x="1551" y="2004"/>
                </a:lnTo>
                <a:lnTo>
                  <a:pt x="1576" y="2020"/>
                </a:lnTo>
                <a:lnTo>
                  <a:pt x="1603" y="2036"/>
                </a:lnTo>
                <a:lnTo>
                  <a:pt x="1633" y="2050"/>
                </a:lnTo>
                <a:lnTo>
                  <a:pt x="1662" y="2063"/>
                </a:lnTo>
                <a:lnTo>
                  <a:pt x="1693" y="2074"/>
                </a:lnTo>
                <a:lnTo>
                  <a:pt x="1725" y="2084"/>
                </a:lnTo>
                <a:lnTo>
                  <a:pt x="1757" y="2093"/>
                </a:lnTo>
                <a:lnTo>
                  <a:pt x="1790" y="2101"/>
                </a:lnTo>
                <a:lnTo>
                  <a:pt x="1825" y="2109"/>
                </a:lnTo>
                <a:lnTo>
                  <a:pt x="1858" y="2114"/>
                </a:lnTo>
                <a:lnTo>
                  <a:pt x="1893" y="2119"/>
                </a:lnTo>
                <a:lnTo>
                  <a:pt x="1927" y="2123"/>
                </a:lnTo>
                <a:lnTo>
                  <a:pt x="1960" y="2127"/>
                </a:lnTo>
                <a:lnTo>
                  <a:pt x="2029" y="2130"/>
                </a:lnTo>
                <a:lnTo>
                  <a:pt x="2095" y="2132"/>
                </a:lnTo>
                <a:lnTo>
                  <a:pt x="2159" y="2130"/>
                </a:lnTo>
                <a:lnTo>
                  <a:pt x="2218" y="2128"/>
                </a:lnTo>
                <a:lnTo>
                  <a:pt x="2273" y="2123"/>
                </a:lnTo>
                <a:lnTo>
                  <a:pt x="2320" y="2118"/>
                </a:lnTo>
                <a:lnTo>
                  <a:pt x="2361" y="2110"/>
                </a:lnTo>
                <a:lnTo>
                  <a:pt x="2394" y="2104"/>
                </a:lnTo>
                <a:lnTo>
                  <a:pt x="2325" y="2098"/>
                </a:lnTo>
                <a:lnTo>
                  <a:pt x="2259" y="2092"/>
                </a:lnTo>
                <a:lnTo>
                  <a:pt x="2196" y="2083"/>
                </a:lnTo>
                <a:lnTo>
                  <a:pt x="2136" y="2073"/>
                </a:lnTo>
                <a:lnTo>
                  <a:pt x="2079" y="2060"/>
                </a:lnTo>
                <a:lnTo>
                  <a:pt x="2026" y="2046"/>
                </a:lnTo>
                <a:lnTo>
                  <a:pt x="1974" y="2029"/>
                </a:lnTo>
                <a:lnTo>
                  <a:pt x="1927" y="2013"/>
                </a:lnTo>
                <a:lnTo>
                  <a:pt x="1881" y="1995"/>
                </a:lnTo>
                <a:lnTo>
                  <a:pt x="1839" y="1974"/>
                </a:lnTo>
                <a:lnTo>
                  <a:pt x="1799" y="1954"/>
                </a:lnTo>
                <a:lnTo>
                  <a:pt x="1761" y="1932"/>
                </a:lnTo>
                <a:lnTo>
                  <a:pt x="1726" y="1910"/>
                </a:lnTo>
                <a:lnTo>
                  <a:pt x="1693" y="1886"/>
                </a:lnTo>
                <a:lnTo>
                  <a:pt x="1662" y="1863"/>
                </a:lnTo>
                <a:lnTo>
                  <a:pt x="1634" y="1839"/>
                </a:lnTo>
                <a:lnTo>
                  <a:pt x="1607" y="1813"/>
                </a:lnTo>
                <a:lnTo>
                  <a:pt x="1583" y="1787"/>
                </a:lnTo>
                <a:lnTo>
                  <a:pt x="1560" y="1763"/>
                </a:lnTo>
                <a:lnTo>
                  <a:pt x="1538" y="1737"/>
                </a:lnTo>
                <a:lnTo>
                  <a:pt x="1519" y="1712"/>
                </a:lnTo>
                <a:lnTo>
                  <a:pt x="1501" y="1686"/>
                </a:lnTo>
                <a:lnTo>
                  <a:pt x="1484" y="1661"/>
                </a:lnTo>
                <a:lnTo>
                  <a:pt x="1469" y="1636"/>
                </a:lnTo>
                <a:lnTo>
                  <a:pt x="1456" y="1612"/>
                </a:lnTo>
                <a:lnTo>
                  <a:pt x="1443" y="1589"/>
                </a:lnTo>
                <a:lnTo>
                  <a:pt x="1422" y="1544"/>
                </a:lnTo>
                <a:lnTo>
                  <a:pt x="1402" y="1502"/>
                </a:lnTo>
                <a:lnTo>
                  <a:pt x="1387" y="1466"/>
                </a:lnTo>
                <a:lnTo>
                  <a:pt x="1364" y="1469"/>
                </a:lnTo>
                <a:lnTo>
                  <a:pt x="1341" y="1470"/>
                </a:lnTo>
                <a:lnTo>
                  <a:pt x="1318" y="1471"/>
                </a:lnTo>
                <a:lnTo>
                  <a:pt x="1297" y="1471"/>
                </a:lnTo>
                <a:lnTo>
                  <a:pt x="1277" y="1470"/>
                </a:lnTo>
                <a:lnTo>
                  <a:pt x="1259" y="1469"/>
                </a:lnTo>
                <a:lnTo>
                  <a:pt x="1241" y="1466"/>
                </a:lnTo>
                <a:lnTo>
                  <a:pt x="1224" y="1462"/>
                </a:lnTo>
                <a:lnTo>
                  <a:pt x="1208" y="1458"/>
                </a:lnTo>
                <a:lnTo>
                  <a:pt x="1194" y="1453"/>
                </a:lnTo>
                <a:lnTo>
                  <a:pt x="1180" y="1447"/>
                </a:lnTo>
                <a:lnTo>
                  <a:pt x="1167" y="1440"/>
                </a:lnTo>
                <a:lnTo>
                  <a:pt x="1154" y="1434"/>
                </a:lnTo>
                <a:lnTo>
                  <a:pt x="1142" y="1426"/>
                </a:lnTo>
                <a:lnTo>
                  <a:pt x="1132" y="1417"/>
                </a:lnTo>
                <a:lnTo>
                  <a:pt x="1123" y="1408"/>
                </a:lnTo>
                <a:lnTo>
                  <a:pt x="1114" y="1400"/>
                </a:lnTo>
                <a:lnTo>
                  <a:pt x="1107" y="1389"/>
                </a:lnTo>
                <a:lnTo>
                  <a:pt x="1099" y="1379"/>
                </a:lnTo>
                <a:lnTo>
                  <a:pt x="1094" y="1369"/>
                </a:lnTo>
                <a:lnTo>
                  <a:pt x="1087" y="1357"/>
                </a:lnTo>
                <a:lnTo>
                  <a:pt x="1084" y="1346"/>
                </a:lnTo>
                <a:lnTo>
                  <a:pt x="1078" y="1334"/>
                </a:lnTo>
                <a:lnTo>
                  <a:pt x="1076" y="1321"/>
                </a:lnTo>
                <a:lnTo>
                  <a:pt x="1071" y="1297"/>
                </a:lnTo>
                <a:lnTo>
                  <a:pt x="1070" y="1270"/>
                </a:lnTo>
                <a:lnTo>
                  <a:pt x="1070" y="1245"/>
                </a:lnTo>
                <a:lnTo>
                  <a:pt x="1073" y="1218"/>
                </a:lnTo>
                <a:lnTo>
                  <a:pt x="1078" y="1191"/>
                </a:lnTo>
                <a:lnTo>
                  <a:pt x="1086" y="1164"/>
                </a:lnTo>
                <a:lnTo>
                  <a:pt x="1095" y="1137"/>
                </a:lnTo>
                <a:lnTo>
                  <a:pt x="1107" y="1111"/>
                </a:lnTo>
                <a:lnTo>
                  <a:pt x="1119" y="1087"/>
                </a:lnTo>
                <a:lnTo>
                  <a:pt x="1134" y="1064"/>
                </a:lnTo>
                <a:lnTo>
                  <a:pt x="1149" y="1042"/>
                </a:lnTo>
                <a:lnTo>
                  <a:pt x="1166" y="1022"/>
                </a:lnTo>
                <a:lnTo>
                  <a:pt x="1183" y="1004"/>
                </a:lnTo>
                <a:lnTo>
                  <a:pt x="1203" y="987"/>
                </a:lnTo>
                <a:lnTo>
                  <a:pt x="1223" y="973"/>
                </a:lnTo>
                <a:lnTo>
                  <a:pt x="1244" y="963"/>
                </a:lnTo>
                <a:lnTo>
                  <a:pt x="1254" y="958"/>
                </a:lnTo>
                <a:lnTo>
                  <a:pt x="1264" y="955"/>
                </a:lnTo>
                <a:lnTo>
                  <a:pt x="1274" y="951"/>
                </a:lnTo>
                <a:lnTo>
                  <a:pt x="1286" y="950"/>
                </a:lnTo>
                <a:lnTo>
                  <a:pt x="1296" y="949"/>
                </a:lnTo>
                <a:lnTo>
                  <a:pt x="1308" y="949"/>
                </a:lnTo>
                <a:lnTo>
                  <a:pt x="1318" y="949"/>
                </a:lnTo>
                <a:lnTo>
                  <a:pt x="1329" y="951"/>
                </a:lnTo>
                <a:lnTo>
                  <a:pt x="1341" y="930"/>
                </a:lnTo>
                <a:lnTo>
                  <a:pt x="1352" y="909"/>
                </a:lnTo>
                <a:lnTo>
                  <a:pt x="1364" y="890"/>
                </a:lnTo>
                <a:lnTo>
                  <a:pt x="1377" y="872"/>
                </a:lnTo>
                <a:lnTo>
                  <a:pt x="1390" y="855"/>
                </a:lnTo>
                <a:lnTo>
                  <a:pt x="1402" y="840"/>
                </a:lnTo>
                <a:lnTo>
                  <a:pt x="1415" y="825"/>
                </a:lnTo>
                <a:lnTo>
                  <a:pt x="1428" y="811"/>
                </a:lnTo>
                <a:lnTo>
                  <a:pt x="1442" y="798"/>
                </a:lnTo>
                <a:lnTo>
                  <a:pt x="1455" y="785"/>
                </a:lnTo>
                <a:lnTo>
                  <a:pt x="1469" y="775"/>
                </a:lnTo>
                <a:lnTo>
                  <a:pt x="1483" y="765"/>
                </a:lnTo>
                <a:lnTo>
                  <a:pt x="1497" y="754"/>
                </a:lnTo>
                <a:lnTo>
                  <a:pt x="1511" y="745"/>
                </a:lnTo>
                <a:lnTo>
                  <a:pt x="1539" y="731"/>
                </a:lnTo>
                <a:lnTo>
                  <a:pt x="1569" y="720"/>
                </a:lnTo>
                <a:lnTo>
                  <a:pt x="1597" y="711"/>
                </a:lnTo>
                <a:lnTo>
                  <a:pt x="1626" y="704"/>
                </a:lnTo>
                <a:lnTo>
                  <a:pt x="1654" y="702"/>
                </a:lnTo>
                <a:lnTo>
                  <a:pt x="1684" y="701"/>
                </a:lnTo>
                <a:lnTo>
                  <a:pt x="1712" y="702"/>
                </a:lnTo>
                <a:lnTo>
                  <a:pt x="1740" y="706"/>
                </a:lnTo>
                <a:lnTo>
                  <a:pt x="1767" y="712"/>
                </a:lnTo>
                <a:lnTo>
                  <a:pt x="1794" y="718"/>
                </a:lnTo>
                <a:lnTo>
                  <a:pt x="1820" y="729"/>
                </a:lnTo>
                <a:lnTo>
                  <a:pt x="1845" y="739"/>
                </a:lnTo>
                <a:lnTo>
                  <a:pt x="1868" y="750"/>
                </a:lnTo>
                <a:lnTo>
                  <a:pt x="1891" y="763"/>
                </a:lnTo>
                <a:lnTo>
                  <a:pt x="1913" y="777"/>
                </a:lnTo>
                <a:lnTo>
                  <a:pt x="1932" y="791"/>
                </a:lnTo>
                <a:lnTo>
                  <a:pt x="1951" y="807"/>
                </a:lnTo>
                <a:lnTo>
                  <a:pt x="1968" y="823"/>
                </a:lnTo>
                <a:lnTo>
                  <a:pt x="1982" y="839"/>
                </a:lnTo>
                <a:lnTo>
                  <a:pt x="1995" y="855"/>
                </a:lnTo>
                <a:lnTo>
                  <a:pt x="2006" y="872"/>
                </a:lnTo>
                <a:lnTo>
                  <a:pt x="2015" y="887"/>
                </a:lnTo>
                <a:lnTo>
                  <a:pt x="2022" y="903"/>
                </a:lnTo>
                <a:lnTo>
                  <a:pt x="2027" y="918"/>
                </a:lnTo>
                <a:lnTo>
                  <a:pt x="2028" y="932"/>
                </a:lnTo>
                <a:lnTo>
                  <a:pt x="2059" y="922"/>
                </a:lnTo>
                <a:lnTo>
                  <a:pt x="2088" y="914"/>
                </a:lnTo>
                <a:lnTo>
                  <a:pt x="2119" y="909"/>
                </a:lnTo>
                <a:lnTo>
                  <a:pt x="2147" y="907"/>
                </a:lnTo>
                <a:lnTo>
                  <a:pt x="2177" y="907"/>
                </a:lnTo>
                <a:lnTo>
                  <a:pt x="2205" y="909"/>
                </a:lnTo>
                <a:lnTo>
                  <a:pt x="2232" y="913"/>
                </a:lnTo>
                <a:lnTo>
                  <a:pt x="2259" y="921"/>
                </a:lnTo>
                <a:lnTo>
                  <a:pt x="2284" y="928"/>
                </a:lnTo>
                <a:lnTo>
                  <a:pt x="2309" y="940"/>
                </a:lnTo>
                <a:lnTo>
                  <a:pt x="2333" y="951"/>
                </a:lnTo>
                <a:lnTo>
                  <a:pt x="2356" y="966"/>
                </a:lnTo>
                <a:lnTo>
                  <a:pt x="2379" y="981"/>
                </a:lnTo>
                <a:lnTo>
                  <a:pt x="2401" y="996"/>
                </a:lnTo>
                <a:lnTo>
                  <a:pt x="2421" y="1014"/>
                </a:lnTo>
                <a:lnTo>
                  <a:pt x="2440" y="1033"/>
                </a:lnTo>
                <a:lnTo>
                  <a:pt x="2458" y="1053"/>
                </a:lnTo>
                <a:lnTo>
                  <a:pt x="2475" y="1072"/>
                </a:lnTo>
                <a:lnTo>
                  <a:pt x="2490" y="1094"/>
                </a:lnTo>
                <a:lnTo>
                  <a:pt x="2506" y="1114"/>
                </a:lnTo>
                <a:lnTo>
                  <a:pt x="2518" y="1136"/>
                </a:lnTo>
                <a:lnTo>
                  <a:pt x="2531" y="1158"/>
                </a:lnTo>
                <a:lnTo>
                  <a:pt x="2541" y="1178"/>
                </a:lnTo>
                <a:lnTo>
                  <a:pt x="2550" y="1200"/>
                </a:lnTo>
                <a:lnTo>
                  <a:pt x="2558" y="1222"/>
                </a:lnTo>
                <a:lnTo>
                  <a:pt x="2564" y="1242"/>
                </a:lnTo>
                <a:lnTo>
                  <a:pt x="2568" y="1263"/>
                </a:lnTo>
                <a:lnTo>
                  <a:pt x="2572" y="1282"/>
                </a:lnTo>
                <a:lnTo>
                  <a:pt x="2573" y="1301"/>
                </a:lnTo>
                <a:lnTo>
                  <a:pt x="2572" y="1319"/>
                </a:lnTo>
                <a:lnTo>
                  <a:pt x="2571" y="1336"/>
                </a:lnTo>
                <a:lnTo>
                  <a:pt x="2567" y="1351"/>
                </a:lnTo>
                <a:lnTo>
                  <a:pt x="2557" y="1380"/>
                </a:lnTo>
                <a:lnTo>
                  <a:pt x="2548" y="1406"/>
                </a:lnTo>
                <a:lnTo>
                  <a:pt x="2538" y="1430"/>
                </a:lnTo>
                <a:lnTo>
                  <a:pt x="2527" y="1453"/>
                </a:lnTo>
                <a:lnTo>
                  <a:pt x="2517" y="1474"/>
                </a:lnTo>
                <a:lnTo>
                  <a:pt x="2507" y="1492"/>
                </a:lnTo>
                <a:lnTo>
                  <a:pt x="2497" y="1508"/>
                </a:lnTo>
                <a:lnTo>
                  <a:pt x="2488" y="1522"/>
                </a:lnTo>
                <a:lnTo>
                  <a:pt x="2479" y="1535"/>
                </a:lnTo>
                <a:lnTo>
                  <a:pt x="2468" y="1547"/>
                </a:lnTo>
                <a:lnTo>
                  <a:pt x="2452" y="1563"/>
                </a:lnTo>
                <a:lnTo>
                  <a:pt x="2438" y="1575"/>
                </a:lnTo>
                <a:lnTo>
                  <a:pt x="2426" y="1581"/>
                </a:lnTo>
                <a:lnTo>
                  <a:pt x="2447" y="1604"/>
                </a:lnTo>
                <a:lnTo>
                  <a:pt x="2470" y="1625"/>
                </a:lnTo>
                <a:lnTo>
                  <a:pt x="2494" y="1644"/>
                </a:lnTo>
                <a:lnTo>
                  <a:pt x="2520" y="1659"/>
                </a:lnTo>
                <a:lnTo>
                  <a:pt x="2547" y="1675"/>
                </a:lnTo>
                <a:lnTo>
                  <a:pt x="2576" y="1688"/>
                </a:lnTo>
                <a:lnTo>
                  <a:pt x="2605" y="1698"/>
                </a:lnTo>
                <a:lnTo>
                  <a:pt x="2637" y="1708"/>
                </a:lnTo>
                <a:lnTo>
                  <a:pt x="2668" y="1716"/>
                </a:lnTo>
                <a:lnTo>
                  <a:pt x="2701" y="1722"/>
                </a:lnTo>
                <a:lnTo>
                  <a:pt x="2733" y="1726"/>
                </a:lnTo>
                <a:lnTo>
                  <a:pt x="2767" y="1730"/>
                </a:lnTo>
                <a:lnTo>
                  <a:pt x="2800" y="1731"/>
                </a:lnTo>
                <a:lnTo>
                  <a:pt x="2833" y="1732"/>
                </a:lnTo>
                <a:lnTo>
                  <a:pt x="2867" y="1732"/>
                </a:lnTo>
                <a:lnTo>
                  <a:pt x="2900" y="1730"/>
                </a:lnTo>
                <a:lnTo>
                  <a:pt x="2900" y="1357"/>
                </a:lnTo>
                <a:lnTo>
                  <a:pt x="2888" y="1341"/>
                </a:lnTo>
                <a:lnTo>
                  <a:pt x="2878" y="1323"/>
                </a:lnTo>
                <a:lnTo>
                  <a:pt x="2870" y="1304"/>
                </a:lnTo>
                <a:lnTo>
                  <a:pt x="2863" y="1286"/>
                </a:lnTo>
                <a:lnTo>
                  <a:pt x="2858" y="1266"/>
                </a:lnTo>
                <a:lnTo>
                  <a:pt x="2854" y="1247"/>
                </a:lnTo>
                <a:lnTo>
                  <a:pt x="2851" y="1228"/>
                </a:lnTo>
                <a:lnTo>
                  <a:pt x="2850" y="1209"/>
                </a:lnTo>
                <a:lnTo>
                  <a:pt x="2851" y="1191"/>
                </a:lnTo>
                <a:lnTo>
                  <a:pt x="2852" y="1173"/>
                </a:lnTo>
                <a:lnTo>
                  <a:pt x="2855" y="1155"/>
                </a:lnTo>
                <a:lnTo>
                  <a:pt x="2860" y="1138"/>
                </a:lnTo>
                <a:lnTo>
                  <a:pt x="2865" y="1122"/>
                </a:lnTo>
                <a:lnTo>
                  <a:pt x="2873" y="1106"/>
                </a:lnTo>
                <a:lnTo>
                  <a:pt x="2881" y="1094"/>
                </a:lnTo>
                <a:lnTo>
                  <a:pt x="2891" y="1081"/>
                </a:lnTo>
                <a:lnTo>
                  <a:pt x="2900" y="1073"/>
                </a:lnTo>
                <a:lnTo>
                  <a:pt x="2900" y="469"/>
                </a:lnTo>
                <a:lnTo>
                  <a:pt x="2877" y="473"/>
                </a:lnTo>
                <a:lnTo>
                  <a:pt x="2856" y="477"/>
                </a:lnTo>
                <a:lnTo>
                  <a:pt x="2837" y="484"/>
                </a:lnTo>
                <a:lnTo>
                  <a:pt x="2829" y="488"/>
                </a:lnTo>
                <a:lnTo>
                  <a:pt x="2822" y="492"/>
                </a:lnTo>
                <a:lnTo>
                  <a:pt x="2810" y="473"/>
                </a:lnTo>
                <a:lnTo>
                  <a:pt x="2797" y="455"/>
                </a:lnTo>
                <a:lnTo>
                  <a:pt x="2785" y="439"/>
                </a:lnTo>
                <a:lnTo>
                  <a:pt x="2772" y="424"/>
                </a:lnTo>
                <a:lnTo>
                  <a:pt x="2759" y="413"/>
                </a:lnTo>
                <a:lnTo>
                  <a:pt x="2745" y="401"/>
                </a:lnTo>
                <a:lnTo>
                  <a:pt x="2732" y="391"/>
                </a:lnTo>
                <a:lnTo>
                  <a:pt x="2718" y="383"/>
                </a:lnTo>
                <a:lnTo>
                  <a:pt x="2705" y="377"/>
                </a:lnTo>
                <a:lnTo>
                  <a:pt x="2691" y="372"/>
                </a:lnTo>
                <a:lnTo>
                  <a:pt x="2677" y="368"/>
                </a:lnTo>
                <a:lnTo>
                  <a:pt x="2664" y="365"/>
                </a:lnTo>
                <a:lnTo>
                  <a:pt x="2652" y="364"/>
                </a:lnTo>
                <a:lnTo>
                  <a:pt x="2639" y="363"/>
                </a:lnTo>
                <a:lnTo>
                  <a:pt x="2626" y="364"/>
                </a:lnTo>
                <a:lnTo>
                  <a:pt x="2613" y="366"/>
                </a:lnTo>
                <a:lnTo>
                  <a:pt x="2600" y="369"/>
                </a:lnTo>
                <a:lnTo>
                  <a:pt x="2589" y="373"/>
                </a:lnTo>
                <a:lnTo>
                  <a:pt x="2577" y="378"/>
                </a:lnTo>
                <a:lnTo>
                  <a:pt x="2566" y="384"/>
                </a:lnTo>
                <a:lnTo>
                  <a:pt x="2556" y="391"/>
                </a:lnTo>
                <a:lnTo>
                  <a:pt x="2545" y="398"/>
                </a:lnTo>
                <a:lnTo>
                  <a:pt x="2536" y="406"/>
                </a:lnTo>
                <a:lnTo>
                  <a:pt x="2527" y="415"/>
                </a:lnTo>
                <a:lnTo>
                  <a:pt x="2518" y="424"/>
                </a:lnTo>
                <a:lnTo>
                  <a:pt x="2512" y="434"/>
                </a:lnTo>
                <a:lnTo>
                  <a:pt x="2504" y="445"/>
                </a:lnTo>
                <a:lnTo>
                  <a:pt x="2499" y="456"/>
                </a:lnTo>
                <a:lnTo>
                  <a:pt x="2493" y="466"/>
                </a:lnTo>
                <a:lnTo>
                  <a:pt x="2489" y="478"/>
                </a:lnTo>
                <a:lnTo>
                  <a:pt x="2485" y="491"/>
                </a:lnTo>
                <a:lnTo>
                  <a:pt x="2484" y="502"/>
                </a:lnTo>
                <a:lnTo>
                  <a:pt x="2480" y="541"/>
                </a:lnTo>
                <a:lnTo>
                  <a:pt x="2475" y="576"/>
                </a:lnTo>
                <a:lnTo>
                  <a:pt x="2468" y="610"/>
                </a:lnTo>
                <a:lnTo>
                  <a:pt x="2458" y="639"/>
                </a:lnTo>
                <a:lnTo>
                  <a:pt x="2447" y="666"/>
                </a:lnTo>
                <a:lnTo>
                  <a:pt x="2434" y="690"/>
                </a:lnTo>
                <a:lnTo>
                  <a:pt x="2420" y="712"/>
                </a:lnTo>
                <a:lnTo>
                  <a:pt x="2403" y="731"/>
                </a:lnTo>
                <a:lnTo>
                  <a:pt x="2385" y="749"/>
                </a:lnTo>
                <a:lnTo>
                  <a:pt x="2367" y="763"/>
                </a:lnTo>
                <a:lnTo>
                  <a:pt x="2347" y="776"/>
                </a:lnTo>
                <a:lnTo>
                  <a:pt x="2328" y="786"/>
                </a:lnTo>
                <a:lnTo>
                  <a:pt x="2306" y="795"/>
                </a:lnTo>
                <a:lnTo>
                  <a:pt x="2284" y="802"/>
                </a:lnTo>
                <a:lnTo>
                  <a:pt x="2262" y="806"/>
                </a:lnTo>
                <a:lnTo>
                  <a:pt x="2241" y="809"/>
                </a:lnTo>
                <a:lnTo>
                  <a:pt x="2219" y="811"/>
                </a:lnTo>
                <a:lnTo>
                  <a:pt x="2197" y="811"/>
                </a:lnTo>
                <a:lnTo>
                  <a:pt x="2175" y="808"/>
                </a:lnTo>
                <a:lnTo>
                  <a:pt x="2154" y="806"/>
                </a:lnTo>
                <a:lnTo>
                  <a:pt x="2133" y="800"/>
                </a:lnTo>
                <a:lnTo>
                  <a:pt x="2114" y="795"/>
                </a:lnTo>
                <a:lnTo>
                  <a:pt x="2095" y="789"/>
                </a:lnTo>
                <a:lnTo>
                  <a:pt x="2077" y="781"/>
                </a:lnTo>
                <a:lnTo>
                  <a:pt x="2060" y="772"/>
                </a:lnTo>
                <a:lnTo>
                  <a:pt x="2045" y="763"/>
                </a:lnTo>
                <a:lnTo>
                  <a:pt x="2031" y="753"/>
                </a:lnTo>
                <a:lnTo>
                  <a:pt x="2019" y="742"/>
                </a:lnTo>
                <a:lnTo>
                  <a:pt x="2009" y="730"/>
                </a:lnTo>
                <a:lnTo>
                  <a:pt x="2001" y="718"/>
                </a:lnTo>
                <a:lnTo>
                  <a:pt x="1995" y="707"/>
                </a:lnTo>
                <a:lnTo>
                  <a:pt x="1991" y="694"/>
                </a:lnTo>
                <a:lnTo>
                  <a:pt x="1985" y="671"/>
                </a:lnTo>
                <a:lnTo>
                  <a:pt x="1978" y="649"/>
                </a:lnTo>
                <a:lnTo>
                  <a:pt x="1974" y="630"/>
                </a:lnTo>
                <a:lnTo>
                  <a:pt x="1972" y="611"/>
                </a:lnTo>
                <a:lnTo>
                  <a:pt x="1971" y="592"/>
                </a:lnTo>
                <a:lnTo>
                  <a:pt x="1972" y="575"/>
                </a:lnTo>
                <a:lnTo>
                  <a:pt x="1973" y="560"/>
                </a:lnTo>
                <a:lnTo>
                  <a:pt x="1976" y="544"/>
                </a:lnTo>
                <a:lnTo>
                  <a:pt x="1978" y="530"/>
                </a:lnTo>
                <a:lnTo>
                  <a:pt x="1983" y="516"/>
                </a:lnTo>
                <a:lnTo>
                  <a:pt x="1989" y="505"/>
                </a:lnTo>
                <a:lnTo>
                  <a:pt x="1995" y="493"/>
                </a:lnTo>
                <a:lnTo>
                  <a:pt x="2001" y="482"/>
                </a:lnTo>
                <a:lnTo>
                  <a:pt x="2009" y="473"/>
                </a:lnTo>
                <a:lnTo>
                  <a:pt x="2018" y="464"/>
                </a:lnTo>
                <a:lnTo>
                  <a:pt x="2026" y="455"/>
                </a:lnTo>
                <a:lnTo>
                  <a:pt x="2035" y="448"/>
                </a:lnTo>
                <a:lnTo>
                  <a:pt x="2045" y="441"/>
                </a:lnTo>
                <a:lnTo>
                  <a:pt x="2064" y="429"/>
                </a:lnTo>
                <a:lnTo>
                  <a:pt x="2083" y="420"/>
                </a:lnTo>
                <a:lnTo>
                  <a:pt x="2102" y="414"/>
                </a:lnTo>
                <a:lnTo>
                  <a:pt x="2120" y="410"/>
                </a:lnTo>
                <a:lnTo>
                  <a:pt x="2137" y="407"/>
                </a:lnTo>
                <a:lnTo>
                  <a:pt x="2150" y="406"/>
                </a:lnTo>
                <a:lnTo>
                  <a:pt x="2161" y="406"/>
                </a:lnTo>
                <a:lnTo>
                  <a:pt x="2134" y="423"/>
                </a:lnTo>
                <a:lnTo>
                  <a:pt x="2111" y="438"/>
                </a:lnTo>
                <a:lnTo>
                  <a:pt x="2091" y="455"/>
                </a:lnTo>
                <a:lnTo>
                  <a:pt x="2073" y="471"/>
                </a:lnTo>
                <a:lnTo>
                  <a:pt x="2058" y="488"/>
                </a:lnTo>
                <a:lnTo>
                  <a:pt x="2046" y="505"/>
                </a:lnTo>
                <a:lnTo>
                  <a:pt x="2036" y="520"/>
                </a:lnTo>
                <a:lnTo>
                  <a:pt x="2028" y="537"/>
                </a:lnTo>
                <a:lnTo>
                  <a:pt x="2023" y="553"/>
                </a:lnTo>
                <a:lnTo>
                  <a:pt x="2019" y="569"/>
                </a:lnTo>
                <a:lnTo>
                  <a:pt x="2019" y="585"/>
                </a:lnTo>
                <a:lnTo>
                  <a:pt x="2019" y="601"/>
                </a:lnTo>
                <a:lnTo>
                  <a:pt x="2022" y="615"/>
                </a:lnTo>
                <a:lnTo>
                  <a:pt x="2027" y="630"/>
                </a:lnTo>
                <a:lnTo>
                  <a:pt x="2032" y="644"/>
                </a:lnTo>
                <a:lnTo>
                  <a:pt x="2040" y="657"/>
                </a:lnTo>
                <a:lnTo>
                  <a:pt x="2049" y="670"/>
                </a:lnTo>
                <a:lnTo>
                  <a:pt x="2059" y="681"/>
                </a:lnTo>
                <a:lnTo>
                  <a:pt x="2069" y="693"/>
                </a:lnTo>
                <a:lnTo>
                  <a:pt x="2082" y="704"/>
                </a:lnTo>
                <a:lnTo>
                  <a:pt x="2095" y="713"/>
                </a:lnTo>
                <a:lnTo>
                  <a:pt x="2109" y="722"/>
                </a:lnTo>
                <a:lnTo>
                  <a:pt x="2123" y="730"/>
                </a:lnTo>
                <a:lnTo>
                  <a:pt x="2138" y="736"/>
                </a:lnTo>
                <a:lnTo>
                  <a:pt x="2154" y="743"/>
                </a:lnTo>
                <a:lnTo>
                  <a:pt x="2169" y="747"/>
                </a:lnTo>
                <a:lnTo>
                  <a:pt x="2184" y="750"/>
                </a:lnTo>
                <a:lnTo>
                  <a:pt x="2201" y="752"/>
                </a:lnTo>
                <a:lnTo>
                  <a:pt x="2216" y="753"/>
                </a:lnTo>
                <a:lnTo>
                  <a:pt x="2232" y="752"/>
                </a:lnTo>
                <a:lnTo>
                  <a:pt x="2248" y="750"/>
                </a:lnTo>
                <a:lnTo>
                  <a:pt x="2262" y="747"/>
                </a:lnTo>
                <a:lnTo>
                  <a:pt x="2280" y="738"/>
                </a:lnTo>
                <a:lnTo>
                  <a:pt x="2298" y="729"/>
                </a:lnTo>
                <a:lnTo>
                  <a:pt x="2314" y="720"/>
                </a:lnTo>
                <a:lnTo>
                  <a:pt x="2328" y="710"/>
                </a:lnTo>
                <a:lnTo>
                  <a:pt x="2342" y="698"/>
                </a:lnTo>
                <a:lnTo>
                  <a:pt x="2355" y="686"/>
                </a:lnTo>
                <a:lnTo>
                  <a:pt x="2366" y="675"/>
                </a:lnTo>
                <a:lnTo>
                  <a:pt x="2376" y="663"/>
                </a:lnTo>
                <a:lnTo>
                  <a:pt x="2387" y="651"/>
                </a:lnTo>
                <a:lnTo>
                  <a:pt x="2396" y="638"/>
                </a:lnTo>
                <a:lnTo>
                  <a:pt x="2403" y="625"/>
                </a:lnTo>
                <a:lnTo>
                  <a:pt x="2411" y="611"/>
                </a:lnTo>
                <a:lnTo>
                  <a:pt x="2416" y="598"/>
                </a:lnTo>
                <a:lnTo>
                  <a:pt x="2421" y="584"/>
                </a:lnTo>
                <a:lnTo>
                  <a:pt x="2426" y="570"/>
                </a:lnTo>
                <a:lnTo>
                  <a:pt x="2430" y="556"/>
                </a:lnTo>
                <a:lnTo>
                  <a:pt x="2433" y="541"/>
                </a:lnTo>
                <a:lnTo>
                  <a:pt x="2434" y="526"/>
                </a:lnTo>
                <a:lnTo>
                  <a:pt x="2436" y="497"/>
                </a:lnTo>
                <a:lnTo>
                  <a:pt x="2435" y="466"/>
                </a:lnTo>
                <a:lnTo>
                  <a:pt x="2431" y="437"/>
                </a:lnTo>
                <a:lnTo>
                  <a:pt x="2425" y="407"/>
                </a:lnTo>
                <a:lnTo>
                  <a:pt x="2416" y="379"/>
                </a:lnTo>
                <a:lnTo>
                  <a:pt x="2404" y="351"/>
                </a:lnTo>
                <a:lnTo>
                  <a:pt x="2392" y="323"/>
                </a:lnTo>
                <a:lnTo>
                  <a:pt x="2376" y="297"/>
                </a:lnTo>
                <a:lnTo>
                  <a:pt x="2358" y="272"/>
                </a:lnTo>
                <a:lnTo>
                  <a:pt x="2340" y="249"/>
                </a:lnTo>
                <a:lnTo>
                  <a:pt x="2320" y="228"/>
                </a:lnTo>
                <a:lnTo>
                  <a:pt x="2298" y="209"/>
                </a:lnTo>
                <a:lnTo>
                  <a:pt x="2277" y="191"/>
                </a:lnTo>
                <a:lnTo>
                  <a:pt x="2252" y="177"/>
                </a:lnTo>
                <a:lnTo>
                  <a:pt x="2228" y="165"/>
                </a:lnTo>
                <a:lnTo>
                  <a:pt x="2216" y="160"/>
                </a:lnTo>
                <a:lnTo>
                  <a:pt x="2204" y="157"/>
                </a:lnTo>
                <a:lnTo>
                  <a:pt x="2191" y="153"/>
                </a:lnTo>
                <a:lnTo>
                  <a:pt x="2178" y="151"/>
                </a:lnTo>
                <a:lnTo>
                  <a:pt x="2164" y="149"/>
                </a:lnTo>
                <a:lnTo>
                  <a:pt x="2151" y="149"/>
                </a:lnTo>
                <a:lnTo>
                  <a:pt x="2138" y="149"/>
                </a:lnTo>
                <a:lnTo>
                  <a:pt x="2125" y="150"/>
                </a:lnTo>
                <a:lnTo>
                  <a:pt x="2111" y="153"/>
                </a:lnTo>
                <a:lnTo>
                  <a:pt x="2099" y="155"/>
                </a:lnTo>
                <a:lnTo>
                  <a:pt x="2086" y="159"/>
                </a:lnTo>
                <a:lnTo>
                  <a:pt x="2073" y="164"/>
                </a:lnTo>
                <a:lnTo>
                  <a:pt x="2060" y="171"/>
                </a:lnTo>
                <a:lnTo>
                  <a:pt x="2046" y="178"/>
                </a:lnTo>
                <a:lnTo>
                  <a:pt x="2033" y="187"/>
                </a:lnTo>
                <a:lnTo>
                  <a:pt x="2021" y="196"/>
                </a:lnTo>
                <a:lnTo>
                  <a:pt x="2001" y="177"/>
                </a:lnTo>
                <a:lnTo>
                  <a:pt x="1982" y="159"/>
                </a:lnTo>
                <a:lnTo>
                  <a:pt x="1962" y="142"/>
                </a:lnTo>
                <a:lnTo>
                  <a:pt x="1942" y="126"/>
                </a:lnTo>
                <a:lnTo>
                  <a:pt x="1923" y="110"/>
                </a:lnTo>
                <a:lnTo>
                  <a:pt x="1904" y="98"/>
                </a:lnTo>
                <a:lnTo>
                  <a:pt x="1885" y="85"/>
                </a:lnTo>
                <a:lnTo>
                  <a:pt x="1866" y="73"/>
                </a:lnTo>
                <a:lnTo>
                  <a:pt x="1846" y="62"/>
                </a:lnTo>
                <a:lnTo>
                  <a:pt x="1827" y="52"/>
                </a:lnTo>
                <a:lnTo>
                  <a:pt x="1809" y="44"/>
                </a:lnTo>
                <a:lnTo>
                  <a:pt x="1790" y="35"/>
                </a:lnTo>
                <a:lnTo>
                  <a:pt x="1754" y="22"/>
                </a:lnTo>
                <a:lnTo>
                  <a:pt x="1718" y="12"/>
                </a:lnTo>
                <a:lnTo>
                  <a:pt x="1684" y="5"/>
                </a:lnTo>
                <a:lnTo>
                  <a:pt x="1649" y="2"/>
                </a:lnTo>
                <a:lnTo>
                  <a:pt x="1616" y="0"/>
                </a:lnTo>
                <a:lnTo>
                  <a:pt x="1584" y="3"/>
                </a:lnTo>
                <a:lnTo>
                  <a:pt x="1552" y="7"/>
                </a:lnTo>
                <a:lnTo>
                  <a:pt x="1523" y="13"/>
                </a:lnTo>
                <a:lnTo>
                  <a:pt x="1493" y="21"/>
                </a:lnTo>
                <a:lnTo>
                  <a:pt x="1465" y="31"/>
                </a:lnTo>
                <a:lnTo>
                  <a:pt x="1439" y="43"/>
                </a:lnTo>
                <a:lnTo>
                  <a:pt x="1414" y="55"/>
                </a:lnTo>
                <a:lnTo>
                  <a:pt x="1391" y="69"/>
                </a:lnTo>
                <a:lnTo>
                  <a:pt x="1368" y="85"/>
                </a:lnTo>
                <a:lnTo>
                  <a:pt x="1347" y="101"/>
                </a:lnTo>
                <a:lnTo>
                  <a:pt x="1329" y="118"/>
                </a:lnTo>
                <a:lnTo>
                  <a:pt x="1311" y="135"/>
                </a:lnTo>
                <a:lnTo>
                  <a:pt x="1296" y="153"/>
                </a:lnTo>
                <a:lnTo>
                  <a:pt x="1282" y="171"/>
                </a:lnTo>
                <a:lnTo>
                  <a:pt x="1270" y="187"/>
                </a:lnTo>
                <a:lnTo>
                  <a:pt x="1260" y="204"/>
                </a:lnTo>
                <a:lnTo>
                  <a:pt x="1253" y="221"/>
                </a:lnTo>
                <a:lnTo>
                  <a:pt x="1247" y="236"/>
                </a:lnTo>
                <a:lnTo>
                  <a:pt x="1244" y="251"/>
                </a:lnTo>
                <a:lnTo>
                  <a:pt x="1242" y="264"/>
                </a:lnTo>
                <a:lnTo>
                  <a:pt x="1242" y="277"/>
                </a:lnTo>
                <a:lnTo>
                  <a:pt x="1209" y="263"/>
                </a:lnTo>
                <a:lnTo>
                  <a:pt x="1177" y="253"/>
                </a:lnTo>
                <a:lnTo>
                  <a:pt x="1145" y="245"/>
                </a:lnTo>
                <a:lnTo>
                  <a:pt x="1113" y="241"/>
                </a:lnTo>
                <a:lnTo>
                  <a:pt x="1084" y="238"/>
                </a:lnTo>
                <a:lnTo>
                  <a:pt x="1054" y="240"/>
                </a:lnTo>
                <a:lnTo>
                  <a:pt x="1026" y="242"/>
                </a:lnTo>
                <a:lnTo>
                  <a:pt x="998" y="247"/>
                </a:lnTo>
                <a:lnTo>
                  <a:pt x="972" y="255"/>
                </a:lnTo>
                <a:lnTo>
                  <a:pt x="947" y="264"/>
                </a:lnTo>
                <a:lnTo>
                  <a:pt x="922" y="274"/>
                </a:lnTo>
                <a:lnTo>
                  <a:pt x="901" y="286"/>
                </a:lnTo>
                <a:lnTo>
                  <a:pt x="879" y="300"/>
                </a:lnTo>
                <a:lnTo>
                  <a:pt x="858" y="314"/>
                </a:lnTo>
                <a:lnTo>
                  <a:pt x="839" y="329"/>
                </a:lnTo>
                <a:lnTo>
                  <a:pt x="821" y="346"/>
                </a:lnTo>
                <a:lnTo>
                  <a:pt x="805" y="364"/>
                </a:lnTo>
                <a:lnTo>
                  <a:pt x="789" y="382"/>
                </a:lnTo>
                <a:lnTo>
                  <a:pt x="775" y="400"/>
                </a:lnTo>
                <a:lnTo>
                  <a:pt x="764" y="418"/>
                </a:lnTo>
                <a:lnTo>
                  <a:pt x="752" y="437"/>
                </a:lnTo>
                <a:lnTo>
                  <a:pt x="743" y="455"/>
                </a:lnTo>
                <a:lnTo>
                  <a:pt x="735" y="473"/>
                </a:lnTo>
                <a:lnTo>
                  <a:pt x="729" y="491"/>
                </a:lnTo>
                <a:lnTo>
                  <a:pt x="724" y="507"/>
                </a:lnTo>
                <a:lnTo>
                  <a:pt x="721" y="524"/>
                </a:lnTo>
                <a:lnTo>
                  <a:pt x="720" y="539"/>
                </a:lnTo>
                <a:lnTo>
                  <a:pt x="721" y="555"/>
                </a:lnTo>
                <a:lnTo>
                  <a:pt x="723" y="567"/>
                </a:lnTo>
                <a:lnTo>
                  <a:pt x="727" y="579"/>
                </a:lnTo>
                <a:lnTo>
                  <a:pt x="733" y="589"/>
                </a:lnTo>
                <a:lnTo>
                  <a:pt x="741" y="597"/>
                </a:lnTo>
                <a:lnTo>
                  <a:pt x="716" y="608"/>
                </a:lnTo>
                <a:lnTo>
                  <a:pt x="693" y="619"/>
                </a:lnTo>
                <a:lnTo>
                  <a:pt x="673" y="630"/>
                </a:lnTo>
                <a:lnTo>
                  <a:pt x="652" y="642"/>
                </a:lnTo>
                <a:lnTo>
                  <a:pt x="633" y="653"/>
                </a:lnTo>
                <a:lnTo>
                  <a:pt x="615" y="665"/>
                </a:lnTo>
                <a:lnTo>
                  <a:pt x="600" y="678"/>
                </a:lnTo>
                <a:lnTo>
                  <a:pt x="584" y="690"/>
                </a:lnTo>
                <a:lnTo>
                  <a:pt x="570" y="703"/>
                </a:lnTo>
                <a:lnTo>
                  <a:pt x="558" y="716"/>
                </a:lnTo>
                <a:lnTo>
                  <a:pt x="545" y="730"/>
                </a:lnTo>
                <a:lnTo>
                  <a:pt x="535" y="743"/>
                </a:lnTo>
                <a:lnTo>
                  <a:pt x="526" y="757"/>
                </a:lnTo>
                <a:lnTo>
                  <a:pt x="517" y="770"/>
                </a:lnTo>
                <a:lnTo>
                  <a:pt x="509" y="784"/>
                </a:lnTo>
                <a:lnTo>
                  <a:pt x="503" y="798"/>
                </a:lnTo>
                <a:lnTo>
                  <a:pt x="497" y="812"/>
                </a:lnTo>
                <a:lnTo>
                  <a:pt x="492" y="826"/>
                </a:lnTo>
                <a:lnTo>
                  <a:pt x="490" y="840"/>
                </a:lnTo>
                <a:lnTo>
                  <a:pt x="487" y="854"/>
                </a:lnTo>
                <a:lnTo>
                  <a:pt x="485" y="868"/>
                </a:lnTo>
                <a:lnTo>
                  <a:pt x="485" y="882"/>
                </a:lnTo>
                <a:lnTo>
                  <a:pt x="483" y="896"/>
                </a:lnTo>
                <a:lnTo>
                  <a:pt x="485" y="909"/>
                </a:lnTo>
                <a:lnTo>
                  <a:pt x="486" y="923"/>
                </a:lnTo>
                <a:lnTo>
                  <a:pt x="488" y="936"/>
                </a:lnTo>
                <a:lnTo>
                  <a:pt x="496" y="963"/>
                </a:lnTo>
                <a:lnTo>
                  <a:pt x="505" y="989"/>
                </a:lnTo>
                <a:lnTo>
                  <a:pt x="518" y="1013"/>
                </a:lnTo>
                <a:lnTo>
                  <a:pt x="533" y="1036"/>
                </a:lnTo>
                <a:lnTo>
                  <a:pt x="550" y="1058"/>
                </a:lnTo>
                <a:lnTo>
                  <a:pt x="569" y="1077"/>
                </a:lnTo>
                <a:lnTo>
                  <a:pt x="590" y="1095"/>
                </a:lnTo>
                <a:lnTo>
                  <a:pt x="613" y="1111"/>
                </a:lnTo>
                <a:lnTo>
                  <a:pt x="637" y="1126"/>
                </a:lnTo>
                <a:lnTo>
                  <a:pt x="663" y="1137"/>
                </a:lnTo>
                <a:lnTo>
                  <a:pt x="689" y="1146"/>
                </a:lnTo>
                <a:lnTo>
                  <a:pt x="716" y="1151"/>
                </a:lnTo>
                <a:lnTo>
                  <a:pt x="730" y="1154"/>
                </a:lnTo>
                <a:lnTo>
                  <a:pt x="744" y="1155"/>
                </a:lnTo>
                <a:lnTo>
                  <a:pt x="760" y="1155"/>
                </a:lnTo>
                <a:lnTo>
                  <a:pt x="774" y="1155"/>
                </a:lnTo>
                <a:lnTo>
                  <a:pt x="788" y="1154"/>
                </a:lnTo>
                <a:lnTo>
                  <a:pt x="803" y="1151"/>
                </a:lnTo>
                <a:lnTo>
                  <a:pt x="817" y="1149"/>
                </a:lnTo>
                <a:lnTo>
                  <a:pt x="833" y="1145"/>
                </a:lnTo>
                <a:lnTo>
                  <a:pt x="847" y="1140"/>
                </a:lnTo>
                <a:lnTo>
                  <a:pt x="862" y="1133"/>
                </a:lnTo>
                <a:lnTo>
                  <a:pt x="876" y="1127"/>
                </a:lnTo>
                <a:lnTo>
                  <a:pt x="890" y="1119"/>
                </a:lnTo>
                <a:lnTo>
                  <a:pt x="906" y="1110"/>
                </a:lnTo>
                <a:lnTo>
                  <a:pt x="920" y="1101"/>
                </a:lnTo>
                <a:lnTo>
                  <a:pt x="933" y="1091"/>
                </a:lnTo>
                <a:lnTo>
                  <a:pt x="945" y="1081"/>
                </a:lnTo>
                <a:lnTo>
                  <a:pt x="957" y="1071"/>
                </a:lnTo>
                <a:lnTo>
                  <a:pt x="967" y="1059"/>
                </a:lnTo>
                <a:lnTo>
                  <a:pt x="977" y="1046"/>
                </a:lnTo>
                <a:lnTo>
                  <a:pt x="986" y="1033"/>
                </a:lnTo>
                <a:lnTo>
                  <a:pt x="994" y="1021"/>
                </a:lnTo>
                <a:lnTo>
                  <a:pt x="1000" y="1007"/>
                </a:lnTo>
                <a:lnTo>
                  <a:pt x="1006" y="994"/>
                </a:lnTo>
                <a:lnTo>
                  <a:pt x="1011" y="980"/>
                </a:lnTo>
                <a:lnTo>
                  <a:pt x="1014" y="966"/>
                </a:lnTo>
                <a:lnTo>
                  <a:pt x="1017" y="950"/>
                </a:lnTo>
                <a:lnTo>
                  <a:pt x="1018" y="936"/>
                </a:lnTo>
                <a:lnTo>
                  <a:pt x="1018" y="922"/>
                </a:lnTo>
                <a:lnTo>
                  <a:pt x="1017" y="908"/>
                </a:lnTo>
                <a:lnTo>
                  <a:pt x="1016" y="894"/>
                </a:lnTo>
                <a:lnTo>
                  <a:pt x="1012" y="880"/>
                </a:lnTo>
                <a:lnTo>
                  <a:pt x="1008" y="867"/>
                </a:lnTo>
                <a:lnTo>
                  <a:pt x="1002" y="854"/>
                </a:lnTo>
                <a:lnTo>
                  <a:pt x="995" y="841"/>
                </a:lnTo>
                <a:lnTo>
                  <a:pt x="986" y="829"/>
                </a:lnTo>
                <a:lnTo>
                  <a:pt x="977" y="817"/>
                </a:lnTo>
                <a:lnTo>
                  <a:pt x="967" y="807"/>
                </a:lnTo>
                <a:lnTo>
                  <a:pt x="954" y="797"/>
                </a:lnTo>
                <a:lnTo>
                  <a:pt x="940" y="788"/>
                </a:lnTo>
                <a:lnTo>
                  <a:pt x="926" y="779"/>
                </a:lnTo>
                <a:lnTo>
                  <a:pt x="910" y="771"/>
                </a:lnTo>
                <a:lnTo>
                  <a:pt x="892" y="765"/>
                </a:lnTo>
                <a:lnTo>
                  <a:pt x="872" y="759"/>
                </a:lnTo>
                <a:lnTo>
                  <a:pt x="852" y="754"/>
                </a:lnTo>
                <a:lnTo>
                  <a:pt x="830" y="752"/>
                </a:lnTo>
                <a:lnTo>
                  <a:pt x="806" y="749"/>
                </a:lnTo>
                <a:lnTo>
                  <a:pt x="839" y="742"/>
                </a:lnTo>
                <a:lnTo>
                  <a:pt x="869" y="736"/>
                </a:lnTo>
                <a:lnTo>
                  <a:pt x="897" y="735"/>
                </a:lnTo>
                <a:lnTo>
                  <a:pt x="921" y="736"/>
                </a:lnTo>
                <a:lnTo>
                  <a:pt x="944" y="740"/>
                </a:lnTo>
                <a:lnTo>
                  <a:pt x="965" y="745"/>
                </a:lnTo>
                <a:lnTo>
                  <a:pt x="982" y="754"/>
                </a:lnTo>
                <a:lnTo>
                  <a:pt x="999" y="765"/>
                </a:lnTo>
                <a:lnTo>
                  <a:pt x="1013" y="777"/>
                </a:lnTo>
                <a:lnTo>
                  <a:pt x="1025" y="791"/>
                </a:lnTo>
                <a:lnTo>
                  <a:pt x="1035" y="807"/>
                </a:lnTo>
                <a:lnTo>
                  <a:pt x="1044" y="823"/>
                </a:lnTo>
                <a:lnTo>
                  <a:pt x="1050" y="841"/>
                </a:lnTo>
                <a:lnTo>
                  <a:pt x="1055" y="861"/>
                </a:lnTo>
                <a:lnTo>
                  <a:pt x="1058" y="880"/>
                </a:lnTo>
                <a:lnTo>
                  <a:pt x="1061" y="900"/>
                </a:lnTo>
                <a:lnTo>
                  <a:pt x="1061" y="921"/>
                </a:lnTo>
                <a:lnTo>
                  <a:pt x="1061" y="943"/>
                </a:lnTo>
                <a:lnTo>
                  <a:pt x="1058" y="963"/>
                </a:lnTo>
                <a:lnTo>
                  <a:pt x="1054" y="983"/>
                </a:lnTo>
                <a:lnTo>
                  <a:pt x="1050" y="1004"/>
                </a:lnTo>
                <a:lnTo>
                  <a:pt x="1044" y="1023"/>
                </a:lnTo>
                <a:lnTo>
                  <a:pt x="1038" y="1042"/>
                </a:lnTo>
                <a:lnTo>
                  <a:pt x="1030" y="1060"/>
                </a:lnTo>
                <a:lnTo>
                  <a:pt x="1022" y="1077"/>
                </a:lnTo>
                <a:lnTo>
                  <a:pt x="1013" y="1092"/>
                </a:lnTo>
                <a:lnTo>
                  <a:pt x="1003" y="1106"/>
                </a:lnTo>
                <a:lnTo>
                  <a:pt x="993" y="1119"/>
                </a:lnTo>
                <a:lnTo>
                  <a:pt x="982" y="1129"/>
                </a:lnTo>
                <a:lnTo>
                  <a:pt x="971" y="1137"/>
                </a:lnTo>
                <a:lnTo>
                  <a:pt x="959" y="1143"/>
                </a:lnTo>
                <a:lnTo>
                  <a:pt x="948" y="1147"/>
                </a:lnTo>
                <a:lnTo>
                  <a:pt x="911" y="1160"/>
                </a:lnTo>
                <a:lnTo>
                  <a:pt x="875" y="1172"/>
                </a:lnTo>
                <a:lnTo>
                  <a:pt x="842" y="1181"/>
                </a:lnTo>
                <a:lnTo>
                  <a:pt x="810" y="1188"/>
                </a:lnTo>
                <a:lnTo>
                  <a:pt x="780" y="1195"/>
                </a:lnTo>
                <a:lnTo>
                  <a:pt x="752" y="1199"/>
                </a:lnTo>
                <a:lnTo>
                  <a:pt x="725" y="1201"/>
                </a:lnTo>
                <a:lnTo>
                  <a:pt x="701" y="1202"/>
                </a:lnTo>
                <a:lnTo>
                  <a:pt x="677" y="1202"/>
                </a:lnTo>
                <a:lnTo>
                  <a:pt x="655" y="1201"/>
                </a:lnTo>
                <a:lnTo>
                  <a:pt x="634" y="1199"/>
                </a:lnTo>
                <a:lnTo>
                  <a:pt x="615" y="1196"/>
                </a:lnTo>
                <a:lnTo>
                  <a:pt x="597" y="1191"/>
                </a:lnTo>
                <a:lnTo>
                  <a:pt x="581" y="1186"/>
                </a:lnTo>
                <a:lnTo>
                  <a:pt x="565" y="1179"/>
                </a:lnTo>
                <a:lnTo>
                  <a:pt x="551" y="1173"/>
                </a:lnTo>
                <a:lnTo>
                  <a:pt x="537" y="1165"/>
                </a:lnTo>
                <a:lnTo>
                  <a:pt x="524" y="1158"/>
                </a:lnTo>
                <a:lnTo>
                  <a:pt x="501" y="1141"/>
                </a:lnTo>
                <a:lnTo>
                  <a:pt x="481" y="1123"/>
                </a:lnTo>
                <a:lnTo>
                  <a:pt x="463" y="1106"/>
                </a:lnTo>
                <a:lnTo>
                  <a:pt x="432" y="1076"/>
                </a:lnTo>
                <a:lnTo>
                  <a:pt x="418" y="1063"/>
                </a:lnTo>
                <a:lnTo>
                  <a:pt x="412" y="1059"/>
                </a:lnTo>
                <a:lnTo>
                  <a:pt x="404" y="1054"/>
                </a:lnTo>
                <a:close/>
                <a:moveTo>
                  <a:pt x="2900" y="1798"/>
                </a:moveTo>
                <a:lnTo>
                  <a:pt x="2900" y="2002"/>
                </a:lnTo>
                <a:lnTo>
                  <a:pt x="2858" y="2009"/>
                </a:lnTo>
                <a:lnTo>
                  <a:pt x="2813" y="2015"/>
                </a:lnTo>
                <a:lnTo>
                  <a:pt x="2768" y="2022"/>
                </a:lnTo>
                <a:lnTo>
                  <a:pt x="2721" y="2027"/>
                </a:lnTo>
                <a:lnTo>
                  <a:pt x="2672" y="2031"/>
                </a:lnTo>
                <a:lnTo>
                  <a:pt x="2622" y="2033"/>
                </a:lnTo>
                <a:lnTo>
                  <a:pt x="2570" y="2036"/>
                </a:lnTo>
                <a:lnTo>
                  <a:pt x="2517" y="2036"/>
                </a:lnTo>
                <a:lnTo>
                  <a:pt x="2424" y="2029"/>
                </a:lnTo>
                <a:lnTo>
                  <a:pt x="2333" y="2022"/>
                </a:lnTo>
                <a:lnTo>
                  <a:pt x="2289" y="2017"/>
                </a:lnTo>
                <a:lnTo>
                  <a:pt x="2246" y="2011"/>
                </a:lnTo>
                <a:lnTo>
                  <a:pt x="2202" y="2005"/>
                </a:lnTo>
                <a:lnTo>
                  <a:pt x="2160" y="1997"/>
                </a:lnTo>
                <a:lnTo>
                  <a:pt x="2118" y="1988"/>
                </a:lnTo>
                <a:lnTo>
                  <a:pt x="2077" y="1979"/>
                </a:lnTo>
                <a:lnTo>
                  <a:pt x="2037" y="1969"/>
                </a:lnTo>
                <a:lnTo>
                  <a:pt x="1997" y="1958"/>
                </a:lnTo>
                <a:lnTo>
                  <a:pt x="1959" y="1945"/>
                </a:lnTo>
                <a:lnTo>
                  <a:pt x="1922" y="1931"/>
                </a:lnTo>
                <a:lnTo>
                  <a:pt x="1885" y="1914"/>
                </a:lnTo>
                <a:lnTo>
                  <a:pt x="1849" y="1897"/>
                </a:lnTo>
                <a:lnTo>
                  <a:pt x="1814" y="1880"/>
                </a:lnTo>
                <a:lnTo>
                  <a:pt x="1780" y="1859"/>
                </a:lnTo>
                <a:lnTo>
                  <a:pt x="1748" y="1837"/>
                </a:lnTo>
                <a:lnTo>
                  <a:pt x="1716" y="1813"/>
                </a:lnTo>
                <a:lnTo>
                  <a:pt x="1685" y="1787"/>
                </a:lnTo>
                <a:lnTo>
                  <a:pt x="1654" y="1761"/>
                </a:lnTo>
                <a:lnTo>
                  <a:pt x="1626" y="1731"/>
                </a:lnTo>
                <a:lnTo>
                  <a:pt x="1598" y="1699"/>
                </a:lnTo>
                <a:lnTo>
                  <a:pt x="1573" y="1666"/>
                </a:lnTo>
                <a:lnTo>
                  <a:pt x="1547" y="1630"/>
                </a:lnTo>
                <a:lnTo>
                  <a:pt x="1523" y="1592"/>
                </a:lnTo>
                <a:lnTo>
                  <a:pt x="1501" y="1552"/>
                </a:lnTo>
                <a:lnTo>
                  <a:pt x="1479" y="1508"/>
                </a:lnTo>
                <a:lnTo>
                  <a:pt x="1459" y="1464"/>
                </a:lnTo>
                <a:lnTo>
                  <a:pt x="1439" y="1415"/>
                </a:lnTo>
                <a:lnTo>
                  <a:pt x="1423" y="1365"/>
                </a:lnTo>
                <a:lnTo>
                  <a:pt x="1390" y="1380"/>
                </a:lnTo>
                <a:lnTo>
                  <a:pt x="1360" y="1393"/>
                </a:lnTo>
                <a:lnTo>
                  <a:pt x="1332" y="1402"/>
                </a:lnTo>
                <a:lnTo>
                  <a:pt x="1319" y="1405"/>
                </a:lnTo>
                <a:lnTo>
                  <a:pt x="1306" y="1407"/>
                </a:lnTo>
                <a:lnTo>
                  <a:pt x="1294" y="1407"/>
                </a:lnTo>
                <a:lnTo>
                  <a:pt x="1282" y="1408"/>
                </a:lnTo>
                <a:lnTo>
                  <a:pt x="1270" y="1407"/>
                </a:lnTo>
                <a:lnTo>
                  <a:pt x="1260" y="1406"/>
                </a:lnTo>
                <a:lnTo>
                  <a:pt x="1250" y="1405"/>
                </a:lnTo>
                <a:lnTo>
                  <a:pt x="1240" y="1402"/>
                </a:lnTo>
                <a:lnTo>
                  <a:pt x="1231" y="1398"/>
                </a:lnTo>
                <a:lnTo>
                  <a:pt x="1222" y="1394"/>
                </a:lnTo>
                <a:lnTo>
                  <a:pt x="1214" y="1389"/>
                </a:lnTo>
                <a:lnTo>
                  <a:pt x="1206" y="1384"/>
                </a:lnTo>
                <a:lnTo>
                  <a:pt x="1192" y="1373"/>
                </a:lnTo>
                <a:lnTo>
                  <a:pt x="1181" y="1359"/>
                </a:lnTo>
                <a:lnTo>
                  <a:pt x="1171" y="1343"/>
                </a:lnTo>
                <a:lnTo>
                  <a:pt x="1163" y="1325"/>
                </a:lnTo>
                <a:lnTo>
                  <a:pt x="1157" y="1306"/>
                </a:lnTo>
                <a:lnTo>
                  <a:pt x="1153" y="1287"/>
                </a:lnTo>
                <a:lnTo>
                  <a:pt x="1150" y="1266"/>
                </a:lnTo>
                <a:lnTo>
                  <a:pt x="1150" y="1245"/>
                </a:lnTo>
                <a:lnTo>
                  <a:pt x="1151" y="1223"/>
                </a:lnTo>
                <a:lnTo>
                  <a:pt x="1155" y="1201"/>
                </a:lnTo>
                <a:lnTo>
                  <a:pt x="1160" y="1179"/>
                </a:lnTo>
                <a:lnTo>
                  <a:pt x="1167" y="1159"/>
                </a:lnTo>
                <a:lnTo>
                  <a:pt x="1176" y="1138"/>
                </a:lnTo>
                <a:lnTo>
                  <a:pt x="1187" y="1118"/>
                </a:lnTo>
                <a:lnTo>
                  <a:pt x="1200" y="1099"/>
                </a:lnTo>
                <a:lnTo>
                  <a:pt x="1214" y="1081"/>
                </a:lnTo>
                <a:lnTo>
                  <a:pt x="1231" y="1064"/>
                </a:lnTo>
                <a:lnTo>
                  <a:pt x="1249" y="1050"/>
                </a:lnTo>
                <a:lnTo>
                  <a:pt x="1269" y="1037"/>
                </a:lnTo>
                <a:lnTo>
                  <a:pt x="1290" y="1027"/>
                </a:lnTo>
                <a:lnTo>
                  <a:pt x="1314" y="1019"/>
                </a:lnTo>
                <a:lnTo>
                  <a:pt x="1326" y="1015"/>
                </a:lnTo>
                <a:lnTo>
                  <a:pt x="1340" y="1013"/>
                </a:lnTo>
                <a:lnTo>
                  <a:pt x="1352" y="1012"/>
                </a:lnTo>
                <a:lnTo>
                  <a:pt x="1366" y="1010"/>
                </a:lnTo>
                <a:lnTo>
                  <a:pt x="1388" y="972"/>
                </a:lnTo>
                <a:lnTo>
                  <a:pt x="1413" y="937"/>
                </a:lnTo>
                <a:lnTo>
                  <a:pt x="1437" y="908"/>
                </a:lnTo>
                <a:lnTo>
                  <a:pt x="1461" y="881"/>
                </a:lnTo>
                <a:lnTo>
                  <a:pt x="1487" y="858"/>
                </a:lnTo>
                <a:lnTo>
                  <a:pt x="1512" y="838"/>
                </a:lnTo>
                <a:lnTo>
                  <a:pt x="1539" y="821"/>
                </a:lnTo>
                <a:lnTo>
                  <a:pt x="1566" y="808"/>
                </a:lnTo>
                <a:lnTo>
                  <a:pt x="1592" y="798"/>
                </a:lnTo>
                <a:lnTo>
                  <a:pt x="1619" y="790"/>
                </a:lnTo>
                <a:lnTo>
                  <a:pt x="1645" y="785"/>
                </a:lnTo>
                <a:lnTo>
                  <a:pt x="1671" y="783"/>
                </a:lnTo>
                <a:lnTo>
                  <a:pt x="1697" y="783"/>
                </a:lnTo>
                <a:lnTo>
                  <a:pt x="1722" y="785"/>
                </a:lnTo>
                <a:lnTo>
                  <a:pt x="1748" y="789"/>
                </a:lnTo>
                <a:lnTo>
                  <a:pt x="1772" y="794"/>
                </a:lnTo>
                <a:lnTo>
                  <a:pt x="1797" y="802"/>
                </a:lnTo>
                <a:lnTo>
                  <a:pt x="1820" y="811"/>
                </a:lnTo>
                <a:lnTo>
                  <a:pt x="1841" y="821"/>
                </a:lnTo>
                <a:lnTo>
                  <a:pt x="1862" y="834"/>
                </a:lnTo>
                <a:lnTo>
                  <a:pt x="1882" y="845"/>
                </a:lnTo>
                <a:lnTo>
                  <a:pt x="1901" y="859"/>
                </a:lnTo>
                <a:lnTo>
                  <a:pt x="1918" y="873"/>
                </a:lnTo>
                <a:lnTo>
                  <a:pt x="1935" y="889"/>
                </a:lnTo>
                <a:lnTo>
                  <a:pt x="1950" y="904"/>
                </a:lnTo>
                <a:lnTo>
                  <a:pt x="1963" y="919"/>
                </a:lnTo>
                <a:lnTo>
                  <a:pt x="1974" y="935"/>
                </a:lnTo>
                <a:lnTo>
                  <a:pt x="1983" y="951"/>
                </a:lnTo>
                <a:lnTo>
                  <a:pt x="1991" y="967"/>
                </a:lnTo>
                <a:lnTo>
                  <a:pt x="1997" y="981"/>
                </a:lnTo>
                <a:lnTo>
                  <a:pt x="2000" y="996"/>
                </a:lnTo>
                <a:lnTo>
                  <a:pt x="2001" y="1010"/>
                </a:lnTo>
                <a:lnTo>
                  <a:pt x="2021" y="1003"/>
                </a:lnTo>
                <a:lnTo>
                  <a:pt x="2040" y="996"/>
                </a:lnTo>
                <a:lnTo>
                  <a:pt x="2058" y="991"/>
                </a:lnTo>
                <a:lnTo>
                  <a:pt x="2076" y="987"/>
                </a:lnTo>
                <a:lnTo>
                  <a:pt x="2093" y="983"/>
                </a:lnTo>
                <a:lnTo>
                  <a:pt x="2110" y="981"/>
                </a:lnTo>
                <a:lnTo>
                  <a:pt x="2127" y="980"/>
                </a:lnTo>
                <a:lnTo>
                  <a:pt x="2143" y="978"/>
                </a:lnTo>
                <a:lnTo>
                  <a:pt x="2175" y="980"/>
                </a:lnTo>
                <a:lnTo>
                  <a:pt x="2206" y="982"/>
                </a:lnTo>
                <a:lnTo>
                  <a:pt x="2234" y="989"/>
                </a:lnTo>
                <a:lnTo>
                  <a:pt x="2262" y="996"/>
                </a:lnTo>
                <a:lnTo>
                  <a:pt x="2288" y="1008"/>
                </a:lnTo>
                <a:lnTo>
                  <a:pt x="2312" y="1021"/>
                </a:lnTo>
                <a:lnTo>
                  <a:pt x="2335" y="1036"/>
                </a:lnTo>
                <a:lnTo>
                  <a:pt x="2357" y="1053"/>
                </a:lnTo>
                <a:lnTo>
                  <a:pt x="2378" y="1071"/>
                </a:lnTo>
                <a:lnTo>
                  <a:pt x="2396" y="1090"/>
                </a:lnTo>
                <a:lnTo>
                  <a:pt x="2413" y="1111"/>
                </a:lnTo>
                <a:lnTo>
                  <a:pt x="2429" y="1133"/>
                </a:lnTo>
                <a:lnTo>
                  <a:pt x="2443" y="1155"/>
                </a:lnTo>
                <a:lnTo>
                  <a:pt x="2454" y="1179"/>
                </a:lnTo>
                <a:lnTo>
                  <a:pt x="2466" y="1202"/>
                </a:lnTo>
                <a:lnTo>
                  <a:pt x="2475" y="1227"/>
                </a:lnTo>
                <a:lnTo>
                  <a:pt x="2483" y="1250"/>
                </a:lnTo>
                <a:lnTo>
                  <a:pt x="2489" y="1274"/>
                </a:lnTo>
                <a:lnTo>
                  <a:pt x="2493" y="1297"/>
                </a:lnTo>
                <a:lnTo>
                  <a:pt x="2495" y="1320"/>
                </a:lnTo>
                <a:lnTo>
                  <a:pt x="2497" y="1343"/>
                </a:lnTo>
                <a:lnTo>
                  <a:pt x="2497" y="1364"/>
                </a:lnTo>
                <a:lnTo>
                  <a:pt x="2494" y="1384"/>
                </a:lnTo>
                <a:lnTo>
                  <a:pt x="2490" y="1403"/>
                </a:lnTo>
                <a:lnTo>
                  <a:pt x="2485" y="1420"/>
                </a:lnTo>
                <a:lnTo>
                  <a:pt x="2479" y="1437"/>
                </a:lnTo>
                <a:lnTo>
                  <a:pt x="2470" y="1449"/>
                </a:lnTo>
                <a:lnTo>
                  <a:pt x="2460" y="1462"/>
                </a:lnTo>
                <a:lnTo>
                  <a:pt x="2436" y="1487"/>
                </a:lnTo>
                <a:lnTo>
                  <a:pt x="2413" y="1507"/>
                </a:lnTo>
                <a:lnTo>
                  <a:pt x="2393" y="1525"/>
                </a:lnTo>
                <a:lnTo>
                  <a:pt x="2371" y="1540"/>
                </a:lnTo>
                <a:lnTo>
                  <a:pt x="2351" y="1553"/>
                </a:lnTo>
                <a:lnTo>
                  <a:pt x="2332" y="1562"/>
                </a:lnTo>
                <a:lnTo>
                  <a:pt x="2312" y="1569"/>
                </a:lnTo>
                <a:lnTo>
                  <a:pt x="2294" y="1572"/>
                </a:lnTo>
                <a:lnTo>
                  <a:pt x="2277" y="1575"/>
                </a:lnTo>
                <a:lnTo>
                  <a:pt x="2260" y="1575"/>
                </a:lnTo>
                <a:lnTo>
                  <a:pt x="2245" y="1572"/>
                </a:lnTo>
                <a:lnTo>
                  <a:pt x="2229" y="1570"/>
                </a:lnTo>
                <a:lnTo>
                  <a:pt x="2215" y="1563"/>
                </a:lnTo>
                <a:lnTo>
                  <a:pt x="2201" y="1557"/>
                </a:lnTo>
                <a:lnTo>
                  <a:pt x="2188" y="1548"/>
                </a:lnTo>
                <a:lnTo>
                  <a:pt x="2177" y="1539"/>
                </a:lnTo>
                <a:lnTo>
                  <a:pt x="2166" y="1529"/>
                </a:lnTo>
                <a:lnTo>
                  <a:pt x="2156" y="1517"/>
                </a:lnTo>
                <a:lnTo>
                  <a:pt x="2147" y="1506"/>
                </a:lnTo>
                <a:lnTo>
                  <a:pt x="2140" y="1493"/>
                </a:lnTo>
                <a:lnTo>
                  <a:pt x="2132" y="1480"/>
                </a:lnTo>
                <a:lnTo>
                  <a:pt x="2127" y="1467"/>
                </a:lnTo>
                <a:lnTo>
                  <a:pt x="2122" y="1453"/>
                </a:lnTo>
                <a:lnTo>
                  <a:pt x="2118" y="1440"/>
                </a:lnTo>
                <a:lnTo>
                  <a:pt x="2115" y="1428"/>
                </a:lnTo>
                <a:lnTo>
                  <a:pt x="2113" y="1415"/>
                </a:lnTo>
                <a:lnTo>
                  <a:pt x="2113" y="1403"/>
                </a:lnTo>
                <a:lnTo>
                  <a:pt x="2113" y="1392"/>
                </a:lnTo>
                <a:lnTo>
                  <a:pt x="2115" y="1382"/>
                </a:lnTo>
                <a:lnTo>
                  <a:pt x="2118" y="1373"/>
                </a:lnTo>
                <a:lnTo>
                  <a:pt x="2122" y="1364"/>
                </a:lnTo>
                <a:lnTo>
                  <a:pt x="2128" y="1357"/>
                </a:lnTo>
                <a:lnTo>
                  <a:pt x="2136" y="1344"/>
                </a:lnTo>
                <a:lnTo>
                  <a:pt x="2145" y="1333"/>
                </a:lnTo>
                <a:lnTo>
                  <a:pt x="2154" y="1323"/>
                </a:lnTo>
                <a:lnTo>
                  <a:pt x="2164" y="1314"/>
                </a:lnTo>
                <a:lnTo>
                  <a:pt x="2173" y="1307"/>
                </a:lnTo>
                <a:lnTo>
                  <a:pt x="2182" y="1301"/>
                </a:lnTo>
                <a:lnTo>
                  <a:pt x="2191" y="1297"/>
                </a:lnTo>
                <a:lnTo>
                  <a:pt x="2200" y="1295"/>
                </a:lnTo>
                <a:lnTo>
                  <a:pt x="2210" y="1293"/>
                </a:lnTo>
                <a:lnTo>
                  <a:pt x="2219" y="1292"/>
                </a:lnTo>
                <a:lnTo>
                  <a:pt x="2228" y="1292"/>
                </a:lnTo>
                <a:lnTo>
                  <a:pt x="2236" y="1293"/>
                </a:lnTo>
                <a:lnTo>
                  <a:pt x="2245" y="1296"/>
                </a:lnTo>
                <a:lnTo>
                  <a:pt x="2253" y="1300"/>
                </a:lnTo>
                <a:lnTo>
                  <a:pt x="2269" y="1307"/>
                </a:lnTo>
                <a:lnTo>
                  <a:pt x="2283" y="1319"/>
                </a:lnTo>
                <a:lnTo>
                  <a:pt x="2296" y="1330"/>
                </a:lnTo>
                <a:lnTo>
                  <a:pt x="2307" y="1344"/>
                </a:lnTo>
                <a:lnTo>
                  <a:pt x="2315" y="1360"/>
                </a:lnTo>
                <a:lnTo>
                  <a:pt x="2321" y="1374"/>
                </a:lnTo>
                <a:lnTo>
                  <a:pt x="2325" y="1388"/>
                </a:lnTo>
                <a:lnTo>
                  <a:pt x="2325" y="1396"/>
                </a:lnTo>
                <a:lnTo>
                  <a:pt x="2325" y="1402"/>
                </a:lnTo>
                <a:lnTo>
                  <a:pt x="2325" y="1407"/>
                </a:lnTo>
                <a:lnTo>
                  <a:pt x="2323" y="1414"/>
                </a:lnTo>
                <a:lnTo>
                  <a:pt x="2329" y="1401"/>
                </a:lnTo>
                <a:lnTo>
                  <a:pt x="2334" y="1389"/>
                </a:lnTo>
                <a:lnTo>
                  <a:pt x="2338" y="1376"/>
                </a:lnTo>
                <a:lnTo>
                  <a:pt x="2340" y="1365"/>
                </a:lnTo>
                <a:lnTo>
                  <a:pt x="2342" y="1353"/>
                </a:lnTo>
                <a:lnTo>
                  <a:pt x="2340" y="1343"/>
                </a:lnTo>
                <a:lnTo>
                  <a:pt x="2339" y="1332"/>
                </a:lnTo>
                <a:lnTo>
                  <a:pt x="2337" y="1321"/>
                </a:lnTo>
                <a:lnTo>
                  <a:pt x="2334" y="1311"/>
                </a:lnTo>
                <a:lnTo>
                  <a:pt x="2329" y="1301"/>
                </a:lnTo>
                <a:lnTo>
                  <a:pt x="2324" y="1292"/>
                </a:lnTo>
                <a:lnTo>
                  <a:pt x="2317" y="1283"/>
                </a:lnTo>
                <a:lnTo>
                  <a:pt x="2311" y="1274"/>
                </a:lnTo>
                <a:lnTo>
                  <a:pt x="2303" y="1266"/>
                </a:lnTo>
                <a:lnTo>
                  <a:pt x="2296" y="1259"/>
                </a:lnTo>
                <a:lnTo>
                  <a:pt x="2287" y="1252"/>
                </a:lnTo>
                <a:lnTo>
                  <a:pt x="2278" y="1246"/>
                </a:lnTo>
                <a:lnTo>
                  <a:pt x="2269" y="1241"/>
                </a:lnTo>
                <a:lnTo>
                  <a:pt x="2248" y="1232"/>
                </a:lnTo>
                <a:lnTo>
                  <a:pt x="2238" y="1228"/>
                </a:lnTo>
                <a:lnTo>
                  <a:pt x="2227" y="1225"/>
                </a:lnTo>
                <a:lnTo>
                  <a:pt x="2216" y="1224"/>
                </a:lnTo>
                <a:lnTo>
                  <a:pt x="2206" y="1223"/>
                </a:lnTo>
                <a:lnTo>
                  <a:pt x="2195" y="1223"/>
                </a:lnTo>
                <a:lnTo>
                  <a:pt x="2184" y="1224"/>
                </a:lnTo>
                <a:lnTo>
                  <a:pt x="2174" y="1225"/>
                </a:lnTo>
                <a:lnTo>
                  <a:pt x="2164" y="1228"/>
                </a:lnTo>
                <a:lnTo>
                  <a:pt x="2154" y="1232"/>
                </a:lnTo>
                <a:lnTo>
                  <a:pt x="2145" y="1237"/>
                </a:lnTo>
                <a:lnTo>
                  <a:pt x="2136" y="1242"/>
                </a:lnTo>
                <a:lnTo>
                  <a:pt x="2127" y="1250"/>
                </a:lnTo>
                <a:lnTo>
                  <a:pt x="2105" y="1272"/>
                </a:lnTo>
                <a:lnTo>
                  <a:pt x="2085" y="1292"/>
                </a:lnTo>
                <a:lnTo>
                  <a:pt x="2069" y="1314"/>
                </a:lnTo>
                <a:lnTo>
                  <a:pt x="2055" y="1336"/>
                </a:lnTo>
                <a:lnTo>
                  <a:pt x="2045" y="1357"/>
                </a:lnTo>
                <a:lnTo>
                  <a:pt x="2037" y="1378"/>
                </a:lnTo>
                <a:lnTo>
                  <a:pt x="2031" y="1398"/>
                </a:lnTo>
                <a:lnTo>
                  <a:pt x="2028" y="1419"/>
                </a:lnTo>
                <a:lnTo>
                  <a:pt x="2028" y="1439"/>
                </a:lnTo>
                <a:lnTo>
                  <a:pt x="2029" y="1458"/>
                </a:lnTo>
                <a:lnTo>
                  <a:pt x="2033" y="1478"/>
                </a:lnTo>
                <a:lnTo>
                  <a:pt x="2038" y="1496"/>
                </a:lnTo>
                <a:lnTo>
                  <a:pt x="2046" y="1513"/>
                </a:lnTo>
                <a:lnTo>
                  <a:pt x="2056" y="1530"/>
                </a:lnTo>
                <a:lnTo>
                  <a:pt x="2067" y="1545"/>
                </a:lnTo>
                <a:lnTo>
                  <a:pt x="2079" y="1561"/>
                </a:lnTo>
                <a:lnTo>
                  <a:pt x="2092" y="1575"/>
                </a:lnTo>
                <a:lnTo>
                  <a:pt x="2108" y="1588"/>
                </a:lnTo>
                <a:lnTo>
                  <a:pt x="2124" y="1601"/>
                </a:lnTo>
                <a:lnTo>
                  <a:pt x="2141" y="1611"/>
                </a:lnTo>
                <a:lnTo>
                  <a:pt x="2159" y="1621"/>
                </a:lnTo>
                <a:lnTo>
                  <a:pt x="2178" y="1630"/>
                </a:lnTo>
                <a:lnTo>
                  <a:pt x="2197" y="1636"/>
                </a:lnTo>
                <a:lnTo>
                  <a:pt x="2218" y="1643"/>
                </a:lnTo>
                <a:lnTo>
                  <a:pt x="2237" y="1647"/>
                </a:lnTo>
                <a:lnTo>
                  <a:pt x="2259" y="1650"/>
                </a:lnTo>
                <a:lnTo>
                  <a:pt x="2279" y="1652"/>
                </a:lnTo>
                <a:lnTo>
                  <a:pt x="2300" y="1650"/>
                </a:lnTo>
                <a:lnTo>
                  <a:pt x="2320" y="1649"/>
                </a:lnTo>
                <a:lnTo>
                  <a:pt x="2340" y="1645"/>
                </a:lnTo>
                <a:lnTo>
                  <a:pt x="2361" y="1639"/>
                </a:lnTo>
                <a:lnTo>
                  <a:pt x="2380" y="1631"/>
                </a:lnTo>
                <a:lnTo>
                  <a:pt x="2407" y="1657"/>
                </a:lnTo>
                <a:lnTo>
                  <a:pt x="2434" y="1680"/>
                </a:lnTo>
                <a:lnTo>
                  <a:pt x="2463" y="1700"/>
                </a:lnTo>
                <a:lnTo>
                  <a:pt x="2494" y="1720"/>
                </a:lnTo>
                <a:lnTo>
                  <a:pt x="2525" y="1736"/>
                </a:lnTo>
                <a:lnTo>
                  <a:pt x="2558" y="1750"/>
                </a:lnTo>
                <a:lnTo>
                  <a:pt x="2591" y="1762"/>
                </a:lnTo>
                <a:lnTo>
                  <a:pt x="2625" y="1772"/>
                </a:lnTo>
                <a:lnTo>
                  <a:pt x="2659" y="1781"/>
                </a:lnTo>
                <a:lnTo>
                  <a:pt x="2694" y="1787"/>
                </a:lnTo>
                <a:lnTo>
                  <a:pt x="2728" y="1793"/>
                </a:lnTo>
                <a:lnTo>
                  <a:pt x="2763" y="1796"/>
                </a:lnTo>
                <a:lnTo>
                  <a:pt x="2797" y="1799"/>
                </a:lnTo>
                <a:lnTo>
                  <a:pt x="2832" y="1799"/>
                </a:lnTo>
                <a:lnTo>
                  <a:pt x="2867" y="1799"/>
                </a:lnTo>
                <a:lnTo>
                  <a:pt x="2900" y="1798"/>
                </a:lnTo>
                <a:close/>
              </a:path>
            </a:pathLst>
          </a:custGeom>
          <a:solidFill>
            <a:schemeClr val="bg1">
              <a:lumMod val="95000"/>
              <a:alpha val="1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49" name="KSO_Shape"/>
          <p:cNvSpPr/>
          <p:nvPr/>
        </p:nvSpPr>
        <p:spPr>
          <a:xfrm>
            <a:off x="3221640" y="824400"/>
            <a:ext cx="940680" cy="416160"/>
          </a:xfrm>
          <a:custGeom>
            <a:avLst/>
            <a:gdLst>
              <a:gd name="textAreaLeft" fmla="*/ 0 w 940680"/>
              <a:gd name="textAreaRight" fmla="*/ 941040 w 9406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4817" h="2132">
                <a:moveTo>
                  <a:pt x="2900" y="1730"/>
                </a:moveTo>
                <a:lnTo>
                  <a:pt x="2900" y="1730"/>
                </a:lnTo>
                <a:lnTo>
                  <a:pt x="2928" y="1729"/>
                </a:lnTo>
                <a:lnTo>
                  <a:pt x="2957" y="1725"/>
                </a:lnTo>
                <a:lnTo>
                  <a:pt x="2986" y="1721"/>
                </a:lnTo>
                <a:lnTo>
                  <a:pt x="3012" y="1717"/>
                </a:lnTo>
                <a:lnTo>
                  <a:pt x="3038" y="1712"/>
                </a:lnTo>
                <a:lnTo>
                  <a:pt x="3064" y="1705"/>
                </a:lnTo>
                <a:lnTo>
                  <a:pt x="3087" y="1699"/>
                </a:lnTo>
                <a:lnTo>
                  <a:pt x="3110" y="1693"/>
                </a:lnTo>
                <a:lnTo>
                  <a:pt x="3130" y="1685"/>
                </a:lnTo>
                <a:lnTo>
                  <a:pt x="3149" y="1677"/>
                </a:lnTo>
                <a:lnTo>
                  <a:pt x="3167" y="1670"/>
                </a:lnTo>
                <a:lnTo>
                  <a:pt x="3183" y="1661"/>
                </a:lnTo>
                <a:lnTo>
                  <a:pt x="3197" y="1653"/>
                </a:lnTo>
                <a:lnTo>
                  <a:pt x="3208" y="1644"/>
                </a:lnTo>
                <a:lnTo>
                  <a:pt x="3217" y="1635"/>
                </a:lnTo>
                <a:lnTo>
                  <a:pt x="3224" y="1626"/>
                </a:lnTo>
                <a:lnTo>
                  <a:pt x="3253" y="1601"/>
                </a:lnTo>
                <a:lnTo>
                  <a:pt x="3284" y="1576"/>
                </a:lnTo>
                <a:lnTo>
                  <a:pt x="3313" y="1553"/>
                </a:lnTo>
                <a:lnTo>
                  <a:pt x="3341" y="1531"/>
                </a:lnTo>
                <a:lnTo>
                  <a:pt x="3371" y="1512"/>
                </a:lnTo>
                <a:lnTo>
                  <a:pt x="3399" y="1494"/>
                </a:lnTo>
                <a:lnTo>
                  <a:pt x="3427" y="1478"/>
                </a:lnTo>
                <a:lnTo>
                  <a:pt x="3455" y="1462"/>
                </a:lnTo>
                <a:lnTo>
                  <a:pt x="3482" y="1448"/>
                </a:lnTo>
                <a:lnTo>
                  <a:pt x="3509" y="1435"/>
                </a:lnTo>
                <a:lnTo>
                  <a:pt x="3536" y="1425"/>
                </a:lnTo>
                <a:lnTo>
                  <a:pt x="3562" y="1415"/>
                </a:lnTo>
                <a:lnTo>
                  <a:pt x="3587" y="1406"/>
                </a:lnTo>
                <a:lnTo>
                  <a:pt x="3613" y="1400"/>
                </a:lnTo>
                <a:lnTo>
                  <a:pt x="3637" y="1393"/>
                </a:lnTo>
                <a:lnTo>
                  <a:pt x="3661" y="1388"/>
                </a:lnTo>
                <a:lnTo>
                  <a:pt x="3684" y="1384"/>
                </a:lnTo>
                <a:lnTo>
                  <a:pt x="3707" y="1382"/>
                </a:lnTo>
                <a:lnTo>
                  <a:pt x="3731" y="1379"/>
                </a:lnTo>
                <a:lnTo>
                  <a:pt x="3752" y="1378"/>
                </a:lnTo>
                <a:lnTo>
                  <a:pt x="3774" y="1378"/>
                </a:lnTo>
                <a:lnTo>
                  <a:pt x="3794" y="1379"/>
                </a:lnTo>
                <a:lnTo>
                  <a:pt x="3815" y="1380"/>
                </a:lnTo>
                <a:lnTo>
                  <a:pt x="3834" y="1383"/>
                </a:lnTo>
                <a:lnTo>
                  <a:pt x="3852" y="1387"/>
                </a:lnTo>
                <a:lnTo>
                  <a:pt x="3870" y="1391"/>
                </a:lnTo>
                <a:lnTo>
                  <a:pt x="3888" y="1396"/>
                </a:lnTo>
                <a:lnTo>
                  <a:pt x="3905" y="1401"/>
                </a:lnTo>
                <a:lnTo>
                  <a:pt x="3920" y="1406"/>
                </a:lnTo>
                <a:lnTo>
                  <a:pt x="3935" y="1412"/>
                </a:lnTo>
                <a:lnTo>
                  <a:pt x="3949" y="1420"/>
                </a:lnTo>
                <a:lnTo>
                  <a:pt x="3962" y="1428"/>
                </a:lnTo>
                <a:lnTo>
                  <a:pt x="4020" y="1464"/>
                </a:lnTo>
                <a:lnTo>
                  <a:pt x="4071" y="1497"/>
                </a:lnTo>
                <a:lnTo>
                  <a:pt x="4161" y="1557"/>
                </a:lnTo>
                <a:lnTo>
                  <a:pt x="4237" y="1609"/>
                </a:lnTo>
                <a:lnTo>
                  <a:pt x="4272" y="1634"/>
                </a:lnTo>
                <a:lnTo>
                  <a:pt x="4308" y="1654"/>
                </a:lnTo>
                <a:lnTo>
                  <a:pt x="4342" y="1675"/>
                </a:lnTo>
                <a:lnTo>
                  <a:pt x="4378" y="1691"/>
                </a:lnTo>
                <a:lnTo>
                  <a:pt x="4414" y="1708"/>
                </a:lnTo>
                <a:lnTo>
                  <a:pt x="4454" y="1722"/>
                </a:lnTo>
                <a:lnTo>
                  <a:pt x="4496" y="1734"/>
                </a:lnTo>
                <a:lnTo>
                  <a:pt x="4542" y="1744"/>
                </a:lnTo>
                <a:lnTo>
                  <a:pt x="4593" y="1753"/>
                </a:lnTo>
                <a:lnTo>
                  <a:pt x="4649" y="1759"/>
                </a:lnTo>
                <a:lnTo>
                  <a:pt x="4582" y="1718"/>
                </a:lnTo>
                <a:lnTo>
                  <a:pt x="4524" y="1681"/>
                </a:lnTo>
                <a:lnTo>
                  <a:pt x="4473" y="1649"/>
                </a:lnTo>
                <a:lnTo>
                  <a:pt x="4431" y="1620"/>
                </a:lnTo>
                <a:lnTo>
                  <a:pt x="4395" y="1594"/>
                </a:lnTo>
                <a:lnTo>
                  <a:pt x="4363" y="1571"/>
                </a:lnTo>
                <a:lnTo>
                  <a:pt x="4337" y="1549"/>
                </a:lnTo>
                <a:lnTo>
                  <a:pt x="4315" y="1530"/>
                </a:lnTo>
                <a:lnTo>
                  <a:pt x="4296" y="1512"/>
                </a:lnTo>
                <a:lnTo>
                  <a:pt x="4278" y="1496"/>
                </a:lnTo>
                <a:lnTo>
                  <a:pt x="4248" y="1461"/>
                </a:lnTo>
                <a:lnTo>
                  <a:pt x="4214" y="1425"/>
                </a:lnTo>
                <a:lnTo>
                  <a:pt x="4195" y="1405"/>
                </a:lnTo>
                <a:lnTo>
                  <a:pt x="4173" y="1383"/>
                </a:lnTo>
                <a:lnTo>
                  <a:pt x="4138" y="1353"/>
                </a:lnTo>
                <a:lnTo>
                  <a:pt x="4102" y="1328"/>
                </a:lnTo>
                <a:lnTo>
                  <a:pt x="4066" y="1305"/>
                </a:lnTo>
                <a:lnTo>
                  <a:pt x="4030" y="1286"/>
                </a:lnTo>
                <a:lnTo>
                  <a:pt x="3995" y="1269"/>
                </a:lnTo>
                <a:lnTo>
                  <a:pt x="3961" y="1255"/>
                </a:lnTo>
                <a:lnTo>
                  <a:pt x="3926" y="1243"/>
                </a:lnTo>
                <a:lnTo>
                  <a:pt x="3892" y="1236"/>
                </a:lnTo>
                <a:lnTo>
                  <a:pt x="3858" y="1229"/>
                </a:lnTo>
                <a:lnTo>
                  <a:pt x="3825" y="1224"/>
                </a:lnTo>
                <a:lnTo>
                  <a:pt x="3793" y="1223"/>
                </a:lnTo>
                <a:lnTo>
                  <a:pt x="3761" y="1222"/>
                </a:lnTo>
                <a:lnTo>
                  <a:pt x="3731" y="1224"/>
                </a:lnTo>
                <a:lnTo>
                  <a:pt x="3700" y="1227"/>
                </a:lnTo>
                <a:lnTo>
                  <a:pt x="3670" y="1232"/>
                </a:lnTo>
                <a:lnTo>
                  <a:pt x="3641" y="1238"/>
                </a:lnTo>
                <a:lnTo>
                  <a:pt x="3613" y="1245"/>
                </a:lnTo>
                <a:lnTo>
                  <a:pt x="3586" y="1254"/>
                </a:lnTo>
                <a:lnTo>
                  <a:pt x="3560" y="1263"/>
                </a:lnTo>
                <a:lnTo>
                  <a:pt x="3535" y="1273"/>
                </a:lnTo>
                <a:lnTo>
                  <a:pt x="3510" y="1284"/>
                </a:lnTo>
                <a:lnTo>
                  <a:pt x="3487" y="1296"/>
                </a:lnTo>
                <a:lnTo>
                  <a:pt x="3464" y="1307"/>
                </a:lnTo>
                <a:lnTo>
                  <a:pt x="3444" y="1320"/>
                </a:lnTo>
                <a:lnTo>
                  <a:pt x="3405" y="1344"/>
                </a:lnTo>
                <a:lnTo>
                  <a:pt x="3371" y="1370"/>
                </a:lnTo>
                <a:lnTo>
                  <a:pt x="3343" y="1392"/>
                </a:lnTo>
                <a:lnTo>
                  <a:pt x="3321" y="1412"/>
                </a:lnTo>
                <a:lnTo>
                  <a:pt x="3280" y="1428"/>
                </a:lnTo>
                <a:lnTo>
                  <a:pt x="3242" y="1439"/>
                </a:lnTo>
                <a:lnTo>
                  <a:pt x="3206" y="1448"/>
                </a:lnTo>
                <a:lnTo>
                  <a:pt x="3171" y="1453"/>
                </a:lnTo>
                <a:lnTo>
                  <a:pt x="3139" y="1457"/>
                </a:lnTo>
                <a:lnTo>
                  <a:pt x="3108" y="1457"/>
                </a:lnTo>
                <a:lnTo>
                  <a:pt x="3079" y="1456"/>
                </a:lnTo>
                <a:lnTo>
                  <a:pt x="3052" y="1452"/>
                </a:lnTo>
                <a:lnTo>
                  <a:pt x="3028" y="1446"/>
                </a:lnTo>
                <a:lnTo>
                  <a:pt x="3004" y="1438"/>
                </a:lnTo>
                <a:lnTo>
                  <a:pt x="2982" y="1428"/>
                </a:lnTo>
                <a:lnTo>
                  <a:pt x="2963" y="1416"/>
                </a:lnTo>
                <a:lnTo>
                  <a:pt x="2945" y="1403"/>
                </a:lnTo>
                <a:lnTo>
                  <a:pt x="2928" y="1389"/>
                </a:lnTo>
                <a:lnTo>
                  <a:pt x="2913" y="1374"/>
                </a:lnTo>
                <a:lnTo>
                  <a:pt x="2900" y="1357"/>
                </a:lnTo>
                <a:lnTo>
                  <a:pt x="2900" y="1730"/>
                </a:lnTo>
                <a:close/>
                <a:moveTo>
                  <a:pt x="2900" y="1073"/>
                </a:moveTo>
                <a:lnTo>
                  <a:pt x="2900" y="469"/>
                </a:lnTo>
                <a:lnTo>
                  <a:pt x="2915" y="469"/>
                </a:lnTo>
                <a:lnTo>
                  <a:pt x="2931" y="469"/>
                </a:lnTo>
                <a:lnTo>
                  <a:pt x="2947" y="469"/>
                </a:lnTo>
                <a:lnTo>
                  <a:pt x="2964" y="470"/>
                </a:lnTo>
                <a:lnTo>
                  <a:pt x="2980" y="473"/>
                </a:lnTo>
                <a:lnTo>
                  <a:pt x="2998" y="477"/>
                </a:lnTo>
                <a:lnTo>
                  <a:pt x="3015" y="480"/>
                </a:lnTo>
                <a:lnTo>
                  <a:pt x="3032" y="486"/>
                </a:lnTo>
                <a:lnTo>
                  <a:pt x="3048" y="492"/>
                </a:lnTo>
                <a:lnTo>
                  <a:pt x="3065" y="498"/>
                </a:lnTo>
                <a:lnTo>
                  <a:pt x="3082" y="506"/>
                </a:lnTo>
                <a:lnTo>
                  <a:pt x="3097" y="515"/>
                </a:lnTo>
                <a:lnTo>
                  <a:pt x="3112" y="524"/>
                </a:lnTo>
                <a:lnTo>
                  <a:pt x="3128" y="534"/>
                </a:lnTo>
                <a:lnTo>
                  <a:pt x="3142" y="546"/>
                </a:lnTo>
                <a:lnTo>
                  <a:pt x="3155" y="558"/>
                </a:lnTo>
                <a:lnTo>
                  <a:pt x="3166" y="571"/>
                </a:lnTo>
                <a:lnTo>
                  <a:pt x="3176" y="585"/>
                </a:lnTo>
                <a:lnTo>
                  <a:pt x="3187" y="601"/>
                </a:lnTo>
                <a:lnTo>
                  <a:pt x="3195" y="616"/>
                </a:lnTo>
                <a:lnTo>
                  <a:pt x="3202" y="634"/>
                </a:lnTo>
                <a:lnTo>
                  <a:pt x="3208" y="652"/>
                </a:lnTo>
                <a:lnTo>
                  <a:pt x="3212" y="670"/>
                </a:lnTo>
                <a:lnTo>
                  <a:pt x="3215" y="690"/>
                </a:lnTo>
                <a:lnTo>
                  <a:pt x="3215" y="711"/>
                </a:lnTo>
                <a:lnTo>
                  <a:pt x="3213" y="733"/>
                </a:lnTo>
                <a:lnTo>
                  <a:pt x="3211" y="756"/>
                </a:lnTo>
                <a:lnTo>
                  <a:pt x="3204" y="780"/>
                </a:lnTo>
                <a:lnTo>
                  <a:pt x="3198" y="804"/>
                </a:lnTo>
                <a:lnTo>
                  <a:pt x="3188" y="830"/>
                </a:lnTo>
                <a:lnTo>
                  <a:pt x="3175" y="857"/>
                </a:lnTo>
                <a:lnTo>
                  <a:pt x="3161" y="885"/>
                </a:lnTo>
                <a:lnTo>
                  <a:pt x="3189" y="886"/>
                </a:lnTo>
                <a:lnTo>
                  <a:pt x="3208" y="887"/>
                </a:lnTo>
                <a:lnTo>
                  <a:pt x="3230" y="890"/>
                </a:lnTo>
                <a:lnTo>
                  <a:pt x="3253" y="895"/>
                </a:lnTo>
                <a:lnTo>
                  <a:pt x="3277" y="902"/>
                </a:lnTo>
                <a:lnTo>
                  <a:pt x="3303" y="911"/>
                </a:lnTo>
                <a:lnTo>
                  <a:pt x="3316" y="917"/>
                </a:lnTo>
                <a:lnTo>
                  <a:pt x="3327" y="923"/>
                </a:lnTo>
                <a:lnTo>
                  <a:pt x="3340" y="931"/>
                </a:lnTo>
                <a:lnTo>
                  <a:pt x="3352" y="940"/>
                </a:lnTo>
                <a:lnTo>
                  <a:pt x="3363" y="950"/>
                </a:lnTo>
                <a:lnTo>
                  <a:pt x="3373" y="960"/>
                </a:lnTo>
                <a:lnTo>
                  <a:pt x="3384" y="973"/>
                </a:lnTo>
                <a:lnTo>
                  <a:pt x="3394" y="986"/>
                </a:lnTo>
                <a:lnTo>
                  <a:pt x="3403" y="1000"/>
                </a:lnTo>
                <a:lnTo>
                  <a:pt x="3411" y="1017"/>
                </a:lnTo>
                <a:lnTo>
                  <a:pt x="3418" y="1035"/>
                </a:lnTo>
                <a:lnTo>
                  <a:pt x="3425" y="1054"/>
                </a:lnTo>
                <a:lnTo>
                  <a:pt x="3430" y="1074"/>
                </a:lnTo>
                <a:lnTo>
                  <a:pt x="3434" y="1096"/>
                </a:lnTo>
                <a:lnTo>
                  <a:pt x="3436" y="1120"/>
                </a:lnTo>
                <a:lnTo>
                  <a:pt x="3439" y="1146"/>
                </a:lnTo>
                <a:lnTo>
                  <a:pt x="3439" y="1173"/>
                </a:lnTo>
                <a:lnTo>
                  <a:pt x="3437" y="1202"/>
                </a:lnTo>
                <a:lnTo>
                  <a:pt x="3432" y="1218"/>
                </a:lnTo>
                <a:lnTo>
                  <a:pt x="3426" y="1233"/>
                </a:lnTo>
                <a:lnTo>
                  <a:pt x="3418" y="1248"/>
                </a:lnTo>
                <a:lnTo>
                  <a:pt x="3408" y="1264"/>
                </a:lnTo>
                <a:lnTo>
                  <a:pt x="3395" y="1279"/>
                </a:lnTo>
                <a:lnTo>
                  <a:pt x="3382" y="1293"/>
                </a:lnTo>
                <a:lnTo>
                  <a:pt x="3367" y="1307"/>
                </a:lnTo>
                <a:lnTo>
                  <a:pt x="3350" y="1320"/>
                </a:lnTo>
                <a:lnTo>
                  <a:pt x="3334" y="1333"/>
                </a:lnTo>
                <a:lnTo>
                  <a:pt x="3315" y="1344"/>
                </a:lnTo>
                <a:lnTo>
                  <a:pt x="3295" y="1356"/>
                </a:lnTo>
                <a:lnTo>
                  <a:pt x="3276" y="1366"/>
                </a:lnTo>
                <a:lnTo>
                  <a:pt x="3254" y="1374"/>
                </a:lnTo>
                <a:lnTo>
                  <a:pt x="3234" y="1382"/>
                </a:lnTo>
                <a:lnTo>
                  <a:pt x="3212" y="1388"/>
                </a:lnTo>
                <a:lnTo>
                  <a:pt x="3190" y="1393"/>
                </a:lnTo>
                <a:lnTo>
                  <a:pt x="3169" y="1397"/>
                </a:lnTo>
                <a:lnTo>
                  <a:pt x="3147" y="1398"/>
                </a:lnTo>
                <a:lnTo>
                  <a:pt x="3125" y="1400"/>
                </a:lnTo>
                <a:lnTo>
                  <a:pt x="3105" y="1398"/>
                </a:lnTo>
                <a:lnTo>
                  <a:pt x="3084" y="1394"/>
                </a:lnTo>
                <a:lnTo>
                  <a:pt x="3064" y="1389"/>
                </a:lnTo>
                <a:lnTo>
                  <a:pt x="3044" y="1382"/>
                </a:lnTo>
                <a:lnTo>
                  <a:pt x="3027" y="1373"/>
                </a:lnTo>
                <a:lnTo>
                  <a:pt x="3010" y="1361"/>
                </a:lnTo>
                <a:lnTo>
                  <a:pt x="2993" y="1347"/>
                </a:lnTo>
                <a:lnTo>
                  <a:pt x="2979" y="1330"/>
                </a:lnTo>
                <a:lnTo>
                  <a:pt x="2966" y="1312"/>
                </a:lnTo>
                <a:lnTo>
                  <a:pt x="2955" y="1291"/>
                </a:lnTo>
                <a:lnTo>
                  <a:pt x="2945" y="1266"/>
                </a:lnTo>
                <a:lnTo>
                  <a:pt x="2937" y="1240"/>
                </a:lnTo>
                <a:lnTo>
                  <a:pt x="2932" y="1210"/>
                </a:lnTo>
                <a:lnTo>
                  <a:pt x="2929" y="1193"/>
                </a:lnTo>
                <a:lnTo>
                  <a:pt x="2929" y="1177"/>
                </a:lnTo>
                <a:lnTo>
                  <a:pt x="2932" y="1161"/>
                </a:lnTo>
                <a:lnTo>
                  <a:pt x="2937" y="1147"/>
                </a:lnTo>
                <a:lnTo>
                  <a:pt x="2943" y="1135"/>
                </a:lnTo>
                <a:lnTo>
                  <a:pt x="2951" y="1122"/>
                </a:lnTo>
                <a:lnTo>
                  <a:pt x="2960" y="1110"/>
                </a:lnTo>
                <a:lnTo>
                  <a:pt x="2970" y="1100"/>
                </a:lnTo>
                <a:lnTo>
                  <a:pt x="2982" y="1091"/>
                </a:lnTo>
                <a:lnTo>
                  <a:pt x="2995" y="1082"/>
                </a:lnTo>
                <a:lnTo>
                  <a:pt x="3007" y="1074"/>
                </a:lnTo>
                <a:lnTo>
                  <a:pt x="3021" y="1069"/>
                </a:lnTo>
                <a:lnTo>
                  <a:pt x="3036" y="1064"/>
                </a:lnTo>
                <a:lnTo>
                  <a:pt x="3050" y="1060"/>
                </a:lnTo>
                <a:lnTo>
                  <a:pt x="3065" y="1058"/>
                </a:lnTo>
                <a:lnTo>
                  <a:pt x="3079" y="1056"/>
                </a:lnTo>
                <a:lnTo>
                  <a:pt x="3094" y="1056"/>
                </a:lnTo>
                <a:lnTo>
                  <a:pt x="3108" y="1058"/>
                </a:lnTo>
                <a:lnTo>
                  <a:pt x="3123" y="1062"/>
                </a:lnTo>
                <a:lnTo>
                  <a:pt x="3135" y="1065"/>
                </a:lnTo>
                <a:lnTo>
                  <a:pt x="3148" y="1071"/>
                </a:lnTo>
                <a:lnTo>
                  <a:pt x="3160" y="1078"/>
                </a:lnTo>
                <a:lnTo>
                  <a:pt x="3170" y="1087"/>
                </a:lnTo>
                <a:lnTo>
                  <a:pt x="3179" y="1096"/>
                </a:lnTo>
                <a:lnTo>
                  <a:pt x="3187" y="1109"/>
                </a:lnTo>
                <a:lnTo>
                  <a:pt x="3192" y="1122"/>
                </a:lnTo>
                <a:lnTo>
                  <a:pt x="3197" y="1136"/>
                </a:lnTo>
                <a:lnTo>
                  <a:pt x="3198" y="1152"/>
                </a:lnTo>
                <a:lnTo>
                  <a:pt x="3199" y="1172"/>
                </a:lnTo>
                <a:lnTo>
                  <a:pt x="3197" y="1191"/>
                </a:lnTo>
                <a:lnTo>
                  <a:pt x="3193" y="1213"/>
                </a:lnTo>
                <a:lnTo>
                  <a:pt x="3185" y="1236"/>
                </a:lnTo>
                <a:lnTo>
                  <a:pt x="3201" y="1233"/>
                </a:lnTo>
                <a:lnTo>
                  <a:pt x="3215" y="1228"/>
                </a:lnTo>
                <a:lnTo>
                  <a:pt x="3226" y="1220"/>
                </a:lnTo>
                <a:lnTo>
                  <a:pt x="3235" y="1213"/>
                </a:lnTo>
                <a:lnTo>
                  <a:pt x="3242" y="1204"/>
                </a:lnTo>
                <a:lnTo>
                  <a:pt x="3247" y="1192"/>
                </a:lnTo>
                <a:lnTo>
                  <a:pt x="3251" y="1181"/>
                </a:lnTo>
                <a:lnTo>
                  <a:pt x="3252" y="1168"/>
                </a:lnTo>
                <a:lnTo>
                  <a:pt x="3252" y="1155"/>
                </a:lnTo>
                <a:lnTo>
                  <a:pt x="3249" y="1142"/>
                </a:lnTo>
                <a:lnTo>
                  <a:pt x="3245" y="1128"/>
                </a:lnTo>
                <a:lnTo>
                  <a:pt x="3240" y="1114"/>
                </a:lnTo>
                <a:lnTo>
                  <a:pt x="3233" y="1100"/>
                </a:lnTo>
                <a:lnTo>
                  <a:pt x="3225" y="1086"/>
                </a:lnTo>
                <a:lnTo>
                  <a:pt x="3215" y="1073"/>
                </a:lnTo>
                <a:lnTo>
                  <a:pt x="3204" y="1060"/>
                </a:lnTo>
                <a:lnTo>
                  <a:pt x="3192" y="1049"/>
                </a:lnTo>
                <a:lnTo>
                  <a:pt x="3178" y="1037"/>
                </a:lnTo>
                <a:lnTo>
                  <a:pt x="3163" y="1027"/>
                </a:lnTo>
                <a:lnTo>
                  <a:pt x="3147" y="1018"/>
                </a:lnTo>
                <a:lnTo>
                  <a:pt x="3130" y="1012"/>
                </a:lnTo>
                <a:lnTo>
                  <a:pt x="3114" y="1005"/>
                </a:lnTo>
                <a:lnTo>
                  <a:pt x="3094" y="1001"/>
                </a:lnTo>
                <a:lnTo>
                  <a:pt x="3075" y="999"/>
                </a:lnTo>
                <a:lnTo>
                  <a:pt x="3055" y="999"/>
                </a:lnTo>
                <a:lnTo>
                  <a:pt x="3034" y="1001"/>
                </a:lnTo>
                <a:lnTo>
                  <a:pt x="3012" y="1007"/>
                </a:lnTo>
                <a:lnTo>
                  <a:pt x="2991" y="1014"/>
                </a:lnTo>
                <a:lnTo>
                  <a:pt x="2969" y="1023"/>
                </a:lnTo>
                <a:lnTo>
                  <a:pt x="2946" y="1037"/>
                </a:lnTo>
                <a:lnTo>
                  <a:pt x="2923" y="1053"/>
                </a:lnTo>
                <a:lnTo>
                  <a:pt x="2900" y="1073"/>
                </a:lnTo>
                <a:close/>
                <a:moveTo>
                  <a:pt x="2900" y="2002"/>
                </a:moveTo>
                <a:lnTo>
                  <a:pt x="2900" y="1798"/>
                </a:lnTo>
                <a:lnTo>
                  <a:pt x="2928" y="1795"/>
                </a:lnTo>
                <a:lnTo>
                  <a:pt x="2955" y="1793"/>
                </a:lnTo>
                <a:lnTo>
                  <a:pt x="3007" y="1785"/>
                </a:lnTo>
                <a:lnTo>
                  <a:pt x="3056" y="1776"/>
                </a:lnTo>
                <a:lnTo>
                  <a:pt x="3099" y="1764"/>
                </a:lnTo>
                <a:lnTo>
                  <a:pt x="3138" y="1752"/>
                </a:lnTo>
                <a:lnTo>
                  <a:pt x="3170" y="1739"/>
                </a:lnTo>
                <a:lnTo>
                  <a:pt x="3183" y="1732"/>
                </a:lnTo>
                <a:lnTo>
                  <a:pt x="3194" y="1726"/>
                </a:lnTo>
                <a:lnTo>
                  <a:pt x="3204" y="1718"/>
                </a:lnTo>
                <a:lnTo>
                  <a:pt x="3212" y="1712"/>
                </a:lnTo>
                <a:lnTo>
                  <a:pt x="3266" y="1667"/>
                </a:lnTo>
                <a:lnTo>
                  <a:pt x="3318" y="1625"/>
                </a:lnTo>
                <a:lnTo>
                  <a:pt x="3370" y="1588"/>
                </a:lnTo>
                <a:lnTo>
                  <a:pt x="3418" y="1556"/>
                </a:lnTo>
                <a:lnTo>
                  <a:pt x="3466" y="1528"/>
                </a:lnTo>
                <a:lnTo>
                  <a:pt x="3512" y="1503"/>
                </a:lnTo>
                <a:lnTo>
                  <a:pt x="3555" y="1481"/>
                </a:lnTo>
                <a:lnTo>
                  <a:pt x="3597" y="1465"/>
                </a:lnTo>
                <a:lnTo>
                  <a:pt x="3637" y="1452"/>
                </a:lnTo>
                <a:lnTo>
                  <a:pt x="3675" y="1442"/>
                </a:lnTo>
                <a:lnTo>
                  <a:pt x="3713" y="1435"/>
                </a:lnTo>
                <a:lnTo>
                  <a:pt x="3747" y="1433"/>
                </a:lnTo>
                <a:lnTo>
                  <a:pt x="3779" y="1433"/>
                </a:lnTo>
                <a:lnTo>
                  <a:pt x="3811" y="1435"/>
                </a:lnTo>
                <a:lnTo>
                  <a:pt x="3839" y="1440"/>
                </a:lnTo>
                <a:lnTo>
                  <a:pt x="3867" y="1449"/>
                </a:lnTo>
                <a:lnTo>
                  <a:pt x="3893" y="1457"/>
                </a:lnTo>
                <a:lnTo>
                  <a:pt x="3919" y="1467"/>
                </a:lnTo>
                <a:lnTo>
                  <a:pt x="3943" y="1478"/>
                </a:lnTo>
                <a:lnTo>
                  <a:pt x="3965" y="1488"/>
                </a:lnTo>
                <a:lnTo>
                  <a:pt x="3988" y="1501"/>
                </a:lnTo>
                <a:lnTo>
                  <a:pt x="4010" y="1513"/>
                </a:lnTo>
                <a:lnTo>
                  <a:pt x="4050" y="1542"/>
                </a:lnTo>
                <a:lnTo>
                  <a:pt x="4091" y="1571"/>
                </a:lnTo>
                <a:lnTo>
                  <a:pt x="4132" y="1602"/>
                </a:lnTo>
                <a:lnTo>
                  <a:pt x="4175" y="1634"/>
                </a:lnTo>
                <a:lnTo>
                  <a:pt x="4221" y="1665"/>
                </a:lnTo>
                <a:lnTo>
                  <a:pt x="4244" y="1680"/>
                </a:lnTo>
                <a:lnTo>
                  <a:pt x="4269" y="1694"/>
                </a:lnTo>
                <a:lnTo>
                  <a:pt x="4296" y="1709"/>
                </a:lnTo>
                <a:lnTo>
                  <a:pt x="4323" y="1722"/>
                </a:lnTo>
                <a:lnTo>
                  <a:pt x="4353" y="1736"/>
                </a:lnTo>
                <a:lnTo>
                  <a:pt x="4383" y="1748"/>
                </a:lnTo>
                <a:lnTo>
                  <a:pt x="4417" y="1759"/>
                </a:lnTo>
                <a:lnTo>
                  <a:pt x="4451" y="1769"/>
                </a:lnTo>
                <a:lnTo>
                  <a:pt x="4488" y="1780"/>
                </a:lnTo>
                <a:lnTo>
                  <a:pt x="4527" y="1787"/>
                </a:lnTo>
                <a:lnTo>
                  <a:pt x="4569" y="1795"/>
                </a:lnTo>
                <a:lnTo>
                  <a:pt x="4612" y="1800"/>
                </a:lnTo>
                <a:lnTo>
                  <a:pt x="4660" y="1804"/>
                </a:lnTo>
                <a:lnTo>
                  <a:pt x="4710" y="1808"/>
                </a:lnTo>
                <a:lnTo>
                  <a:pt x="4762" y="1808"/>
                </a:lnTo>
                <a:lnTo>
                  <a:pt x="4817" y="1808"/>
                </a:lnTo>
                <a:lnTo>
                  <a:pt x="4794" y="1821"/>
                </a:lnTo>
                <a:lnTo>
                  <a:pt x="4770" y="1833"/>
                </a:lnTo>
                <a:lnTo>
                  <a:pt x="4745" y="1844"/>
                </a:lnTo>
                <a:lnTo>
                  <a:pt x="4720" y="1853"/>
                </a:lnTo>
                <a:lnTo>
                  <a:pt x="4694" y="1860"/>
                </a:lnTo>
                <a:lnTo>
                  <a:pt x="4669" y="1867"/>
                </a:lnTo>
                <a:lnTo>
                  <a:pt x="4642" y="1873"/>
                </a:lnTo>
                <a:lnTo>
                  <a:pt x="4615" y="1877"/>
                </a:lnTo>
                <a:lnTo>
                  <a:pt x="4588" y="1880"/>
                </a:lnTo>
                <a:lnTo>
                  <a:pt x="4561" y="1882"/>
                </a:lnTo>
                <a:lnTo>
                  <a:pt x="4534" y="1883"/>
                </a:lnTo>
                <a:lnTo>
                  <a:pt x="4507" y="1883"/>
                </a:lnTo>
                <a:lnTo>
                  <a:pt x="4481" y="1882"/>
                </a:lnTo>
                <a:lnTo>
                  <a:pt x="4455" y="1881"/>
                </a:lnTo>
                <a:lnTo>
                  <a:pt x="4404" y="1876"/>
                </a:lnTo>
                <a:lnTo>
                  <a:pt x="4354" y="1868"/>
                </a:lnTo>
                <a:lnTo>
                  <a:pt x="4308" y="1859"/>
                </a:lnTo>
                <a:lnTo>
                  <a:pt x="4266" y="1848"/>
                </a:lnTo>
                <a:lnTo>
                  <a:pt x="4227" y="1836"/>
                </a:lnTo>
                <a:lnTo>
                  <a:pt x="4195" y="1823"/>
                </a:lnTo>
                <a:lnTo>
                  <a:pt x="4167" y="1810"/>
                </a:lnTo>
                <a:lnTo>
                  <a:pt x="4146" y="1798"/>
                </a:lnTo>
                <a:lnTo>
                  <a:pt x="4138" y="1791"/>
                </a:lnTo>
                <a:lnTo>
                  <a:pt x="4132" y="1786"/>
                </a:lnTo>
                <a:lnTo>
                  <a:pt x="4102" y="1766"/>
                </a:lnTo>
                <a:lnTo>
                  <a:pt x="4072" y="1748"/>
                </a:lnTo>
                <a:lnTo>
                  <a:pt x="4043" y="1731"/>
                </a:lnTo>
                <a:lnTo>
                  <a:pt x="4015" y="1717"/>
                </a:lnTo>
                <a:lnTo>
                  <a:pt x="3986" y="1704"/>
                </a:lnTo>
                <a:lnTo>
                  <a:pt x="3960" y="1693"/>
                </a:lnTo>
                <a:lnTo>
                  <a:pt x="3934" y="1682"/>
                </a:lnTo>
                <a:lnTo>
                  <a:pt x="3908" y="1673"/>
                </a:lnTo>
                <a:lnTo>
                  <a:pt x="3883" y="1667"/>
                </a:lnTo>
                <a:lnTo>
                  <a:pt x="3858" y="1662"/>
                </a:lnTo>
                <a:lnTo>
                  <a:pt x="3835" y="1657"/>
                </a:lnTo>
                <a:lnTo>
                  <a:pt x="3812" y="1654"/>
                </a:lnTo>
                <a:lnTo>
                  <a:pt x="3789" y="1652"/>
                </a:lnTo>
                <a:lnTo>
                  <a:pt x="3768" y="1650"/>
                </a:lnTo>
                <a:lnTo>
                  <a:pt x="3747" y="1650"/>
                </a:lnTo>
                <a:lnTo>
                  <a:pt x="3727" y="1652"/>
                </a:lnTo>
                <a:lnTo>
                  <a:pt x="3707" y="1654"/>
                </a:lnTo>
                <a:lnTo>
                  <a:pt x="3688" y="1657"/>
                </a:lnTo>
                <a:lnTo>
                  <a:pt x="3670" y="1659"/>
                </a:lnTo>
                <a:lnTo>
                  <a:pt x="3652" y="1665"/>
                </a:lnTo>
                <a:lnTo>
                  <a:pt x="3619" y="1673"/>
                </a:lnTo>
                <a:lnTo>
                  <a:pt x="3590" y="1686"/>
                </a:lnTo>
                <a:lnTo>
                  <a:pt x="3563" y="1699"/>
                </a:lnTo>
                <a:lnTo>
                  <a:pt x="3539" y="1713"/>
                </a:lnTo>
                <a:lnTo>
                  <a:pt x="3518" y="1727"/>
                </a:lnTo>
                <a:lnTo>
                  <a:pt x="3500" y="1741"/>
                </a:lnTo>
                <a:lnTo>
                  <a:pt x="3466" y="1769"/>
                </a:lnTo>
                <a:lnTo>
                  <a:pt x="3444" y="1785"/>
                </a:lnTo>
                <a:lnTo>
                  <a:pt x="3419" y="1801"/>
                </a:lnTo>
                <a:lnTo>
                  <a:pt x="3393" y="1819"/>
                </a:lnTo>
                <a:lnTo>
                  <a:pt x="3363" y="1837"/>
                </a:lnTo>
                <a:lnTo>
                  <a:pt x="3331" y="1855"/>
                </a:lnTo>
                <a:lnTo>
                  <a:pt x="3295" y="1873"/>
                </a:lnTo>
                <a:lnTo>
                  <a:pt x="3257" y="1892"/>
                </a:lnTo>
                <a:lnTo>
                  <a:pt x="3216" y="1910"/>
                </a:lnTo>
                <a:lnTo>
                  <a:pt x="3171" y="1927"/>
                </a:lnTo>
                <a:lnTo>
                  <a:pt x="3124" y="1945"/>
                </a:lnTo>
                <a:lnTo>
                  <a:pt x="3073" y="1960"/>
                </a:lnTo>
                <a:lnTo>
                  <a:pt x="3018" y="1976"/>
                </a:lnTo>
                <a:lnTo>
                  <a:pt x="2960" y="1990"/>
                </a:lnTo>
                <a:lnTo>
                  <a:pt x="2900" y="2002"/>
                </a:lnTo>
                <a:close/>
                <a:moveTo>
                  <a:pt x="404" y="1054"/>
                </a:moveTo>
                <a:lnTo>
                  <a:pt x="404" y="1054"/>
                </a:lnTo>
                <a:lnTo>
                  <a:pt x="369" y="1047"/>
                </a:lnTo>
                <a:lnTo>
                  <a:pt x="336" y="1042"/>
                </a:lnTo>
                <a:lnTo>
                  <a:pt x="304" y="1039"/>
                </a:lnTo>
                <a:lnTo>
                  <a:pt x="275" y="1039"/>
                </a:lnTo>
                <a:lnTo>
                  <a:pt x="245" y="1040"/>
                </a:lnTo>
                <a:lnTo>
                  <a:pt x="218" y="1044"/>
                </a:lnTo>
                <a:lnTo>
                  <a:pt x="191" y="1049"/>
                </a:lnTo>
                <a:lnTo>
                  <a:pt x="167" y="1056"/>
                </a:lnTo>
                <a:lnTo>
                  <a:pt x="145" y="1065"/>
                </a:lnTo>
                <a:lnTo>
                  <a:pt x="124" y="1077"/>
                </a:lnTo>
                <a:lnTo>
                  <a:pt x="104" y="1088"/>
                </a:lnTo>
                <a:lnTo>
                  <a:pt x="87" y="1101"/>
                </a:lnTo>
                <a:lnTo>
                  <a:pt x="70" y="1117"/>
                </a:lnTo>
                <a:lnTo>
                  <a:pt x="56" y="1132"/>
                </a:lnTo>
                <a:lnTo>
                  <a:pt x="42" y="1149"/>
                </a:lnTo>
                <a:lnTo>
                  <a:pt x="32" y="1167"/>
                </a:lnTo>
                <a:lnTo>
                  <a:pt x="21" y="1184"/>
                </a:lnTo>
                <a:lnTo>
                  <a:pt x="14" y="1204"/>
                </a:lnTo>
                <a:lnTo>
                  <a:pt x="7" y="1223"/>
                </a:lnTo>
                <a:lnTo>
                  <a:pt x="3" y="1243"/>
                </a:lnTo>
                <a:lnTo>
                  <a:pt x="1" y="1264"/>
                </a:lnTo>
                <a:lnTo>
                  <a:pt x="0" y="1284"/>
                </a:lnTo>
                <a:lnTo>
                  <a:pt x="1" y="1305"/>
                </a:lnTo>
                <a:lnTo>
                  <a:pt x="3" y="1325"/>
                </a:lnTo>
                <a:lnTo>
                  <a:pt x="8" y="1346"/>
                </a:lnTo>
                <a:lnTo>
                  <a:pt x="15" y="1365"/>
                </a:lnTo>
                <a:lnTo>
                  <a:pt x="23" y="1385"/>
                </a:lnTo>
                <a:lnTo>
                  <a:pt x="33" y="1405"/>
                </a:lnTo>
                <a:lnTo>
                  <a:pt x="46" y="1424"/>
                </a:lnTo>
                <a:lnTo>
                  <a:pt x="60" y="1442"/>
                </a:lnTo>
                <a:lnTo>
                  <a:pt x="76" y="1458"/>
                </a:lnTo>
                <a:lnTo>
                  <a:pt x="94" y="1475"/>
                </a:lnTo>
                <a:lnTo>
                  <a:pt x="78" y="1506"/>
                </a:lnTo>
                <a:lnTo>
                  <a:pt x="64" y="1535"/>
                </a:lnTo>
                <a:lnTo>
                  <a:pt x="51" y="1565"/>
                </a:lnTo>
                <a:lnTo>
                  <a:pt x="40" y="1593"/>
                </a:lnTo>
                <a:lnTo>
                  <a:pt x="33" y="1621"/>
                </a:lnTo>
                <a:lnTo>
                  <a:pt x="26" y="1649"/>
                </a:lnTo>
                <a:lnTo>
                  <a:pt x="21" y="1675"/>
                </a:lnTo>
                <a:lnTo>
                  <a:pt x="17" y="1702"/>
                </a:lnTo>
                <a:lnTo>
                  <a:pt x="16" y="1727"/>
                </a:lnTo>
                <a:lnTo>
                  <a:pt x="16" y="1752"/>
                </a:lnTo>
                <a:lnTo>
                  <a:pt x="17" y="1775"/>
                </a:lnTo>
                <a:lnTo>
                  <a:pt x="20" y="1799"/>
                </a:lnTo>
                <a:lnTo>
                  <a:pt x="25" y="1821"/>
                </a:lnTo>
                <a:lnTo>
                  <a:pt x="30" y="1842"/>
                </a:lnTo>
                <a:lnTo>
                  <a:pt x="38" y="1864"/>
                </a:lnTo>
                <a:lnTo>
                  <a:pt x="46" y="1883"/>
                </a:lnTo>
                <a:lnTo>
                  <a:pt x="55" y="1904"/>
                </a:lnTo>
                <a:lnTo>
                  <a:pt x="65" y="1922"/>
                </a:lnTo>
                <a:lnTo>
                  <a:pt x="76" y="1940"/>
                </a:lnTo>
                <a:lnTo>
                  <a:pt x="89" y="1958"/>
                </a:lnTo>
                <a:lnTo>
                  <a:pt x="103" y="1973"/>
                </a:lnTo>
                <a:lnTo>
                  <a:pt x="117" y="1988"/>
                </a:lnTo>
                <a:lnTo>
                  <a:pt x="133" y="2004"/>
                </a:lnTo>
                <a:lnTo>
                  <a:pt x="148" y="2018"/>
                </a:lnTo>
                <a:lnTo>
                  <a:pt x="165" y="2031"/>
                </a:lnTo>
                <a:lnTo>
                  <a:pt x="183" y="2042"/>
                </a:lnTo>
                <a:lnTo>
                  <a:pt x="200" y="2054"/>
                </a:lnTo>
                <a:lnTo>
                  <a:pt x="218" y="2064"/>
                </a:lnTo>
                <a:lnTo>
                  <a:pt x="238" y="2074"/>
                </a:lnTo>
                <a:lnTo>
                  <a:pt x="258" y="2083"/>
                </a:lnTo>
                <a:lnTo>
                  <a:pt x="277" y="2091"/>
                </a:lnTo>
                <a:lnTo>
                  <a:pt x="298" y="2097"/>
                </a:lnTo>
                <a:lnTo>
                  <a:pt x="318" y="2104"/>
                </a:lnTo>
                <a:lnTo>
                  <a:pt x="339" y="2109"/>
                </a:lnTo>
                <a:lnTo>
                  <a:pt x="359" y="2113"/>
                </a:lnTo>
                <a:lnTo>
                  <a:pt x="380" y="2115"/>
                </a:lnTo>
                <a:lnTo>
                  <a:pt x="401" y="2118"/>
                </a:lnTo>
                <a:lnTo>
                  <a:pt x="422" y="2119"/>
                </a:lnTo>
                <a:lnTo>
                  <a:pt x="442" y="2119"/>
                </a:lnTo>
                <a:lnTo>
                  <a:pt x="464" y="2119"/>
                </a:lnTo>
                <a:lnTo>
                  <a:pt x="485" y="2116"/>
                </a:lnTo>
                <a:lnTo>
                  <a:pt x="504" y="2114"/>
                </a:lnTo>
                <a:lnTo>
                  <a:pt x="524" y="2110"/>
                </a:lnTo>
                <a:lnTo>
                  <a:pt x="543" y="2105"/>
                </a:lnTo>
                <a:lnTo>
                  <a:pt x="563" y="2100"/>
                </a:lnTo>
                <a:lnTo>
                  <a:pt x="582" y="2093"/>
                </a:lnTo>
                <a:lnTo>
                  <a:pt x="600" y="2084"/>
                </a:lnTo>
                <a:lnTo>
                  <a:pt x="618" y="2075"/>
                </a:lnTo>
                <a:lnTo>
                  <a:pt x="634" y="2066"/>
                </a:lnTo>
                <a:lnTo>
                  <a:pt x="651" y="2055"/>
                </a:lnTo>
                <a:lnTo>
                  <a:pt x="666" y="2042"/>
                </a:lnTo>
                <a:lnTo>
                  <a:pt x="682" y="2029"/>
                </a:lnTo>
                <a:lnTo>
                  <a:pt x="696" y="2015"/>
                </a:lnTo>
                <a:lnTo>
                  <a:pt x="709" y="2000"/>
                </a:lnTo>
                <a:lnTo>
                  <a:pt x="720" y="1983"/>
                </a:lnTo>
                <a:lnTo>
                  <a:pt x="732" y="1965"/>
                </a:lnTo>
                <a:lnTo>
                  <a:pt x="741" y="1946"/>
                </a:lnTo>
                <a:lnTo>
                  <a:pt x="750" y="1926"/>
                </a:lnTo>
                <a:lnTo>
                  <a:pt x="757" y="1905"/>
                </a:lnTo>
                <a:lnTo>
                  <a:pt x="764" y="1882"/>
                </a:lnTo>
                <a:lnTo>
                  <a:pt x="769" y="1859"/>
                </a:lnTo>
                <a:lnTo>
                  <a:pt x="771" y="1833"/>
                </a:lnTo>
                <a:lnTo>
                  <a:pt x="774" y="1808"/>
                </a:lnTo>
                <a:lnTo>
                  <a:pt x="774" y="1781"/>
                </a:lnTo>
                <a:lnTo>
                  <a:pt x="765" y="1752"/>
                </a:lnTo>
                <a:lnTo>
                  <a:pt x="753" y="1726"/>
                </a:lnTo>
                <a:lnTo>
                  <a:pt x="742" y="1703"/>
                </a:lnTo>
                <a:lnTo>
                  <a:pt x="729" y="1684"/>
                </a:lnTo>
                <a:lnTo>
                  <a:pt x="716" y="1665"/>
                </a:lnTo>
                <a:lnTo>
                  <a:pt x="702" y="1649"/>
                </a:lnTo>
                <a:lnTo>
                  <a:pt x="687" y="1636"/>
                </a:lnTo>
                <a:lnTo>
                  <a:pt x="673" y="1625"/>
                </a:lnTo>
                <a:lnTo>
                  <a:pt x="657" y="1616"/>
                </a:lnTo>
                <a:lnTo>
                  <a:pt x="642" y="1609"/>
                </a:lnTo>
                <a:lnTo>
                  <a:pt x="625" y="1604"/>
                </a:lnTo>
                <a:lnTo>
                  <a:pt x="610" y="1601"/>
                </a:lnTo>
                <a:lnTo>
                  <a:pt x="595" y="1599"/>
                </a:lnTo>
                <a:lnTo>
                  <a:pt x="578" y="1599"/>
                </a:lnTo>
                <a:lnTo>
                  <a:pt x="563" y="1601"/>
                </a:lnTo>
                <a:lnTo>
                  <a:pt x="549" y="1604"/>
                </a:lnTo>
                <a:lnTo>
                  <a:pt x="533" y="1608"/>
                </a:lnTo>
                <a:lnTo>
                  <a:pt x="519" y="1615"/>
                </a:lnTo>
                <a:lnTo>
                  <a:pt x="505" y="1621"/>
                </a:lnTo>
                <a:lnTo>
                  <a:pt x="492" y="1630"/>
                </a:lnTo>
                <a:lnTo>
                  <a:pt x="479" y="1639"/>
                </a:lnTo>
                <a:lnTo>
                  <a:pt x="468" y="1649"/>
                </a:lnTo>
                <a:lnTo>
                  <a:pt x="458" y="1659"/>
                </a:lnTo>
                <a:lnTo>
                  <a:pt x="449" y="1671"/>
                </a:lnTo>
                <a:lnTo>
                  <a:pt x="440" y="1684"/>
                </a:lnTo>
                <a:lnTo>
                  <a:pt x="433" y="1697"/>
                </a:lnTo>
                <a:lnTo>
                  <a:pt x="427" y="1711"/>
                </a:lnTo>
                <a:lnTo>
                  <a:pt x="423" y="1725"/>
                </a:lnTo>
                <a:lnTo>
                  <a:pt x="419" y="1739"/>
                </a:lnTo>
                <a:lnTo>
                  <a:pt x="418" y="1753"/>
                </a:lnTo>
                <a:lnTo>
                  <a:pt x="419" y="1768"/>
                </a:lnTo>
                <a:lnTo>
                  <a:pt x="421" y="1782"/>
                </a:lnTo>
                <a:lnTo>
                  <a:pt x="415" y="1769"/>
                </a:lnTo>
                <a:lnTo>
                  <a:pt x="412" y="1757"/>
                </a:lnTo>
                <a:lnTo>
                  <a:pt x="409" y="1744"/>
                </a:lnTo>
                <a:lnTo>
                  <a:pt x="407" y="1731"/>
                </a:lnTo>
                <a:lnTo>
                  <a:pt x="405" y="1720"/>
                </a:lnTo>
                <a:lnTo>
                  <a:pt x="405" y="1708"/>
                </a:lnTo>
                <a:lnTo>
                  <a:pt x="405" y="1697"/>
                </a:lnTo>
                <a:lnTo>
                  <a:pt x="408" y="1685"/>
                </a:lnTo>
                <a:lnTo>
                  <a:pt x="409" y="1675"/>
                </a:lnTo>
                <a:lnTo>
                  <a:pt x="412" y="1665"/>
                </a:lnTo>
                <a:lnTo>
                  <a:pt x="415" y="1654"/>
                </a:lnTo>
                <a:lnTo>
                  <a:pt x="421" y="1644"/>
                </a:lnTo>
                <a:lnTo>
                  <a:pt x="431" y="1625"/>
                </a:lnTo>
                <a:lnTo>
                  <a:pt x="444" y="1607"/>
                </a:lnTo>
                <a:lnTo>
                  <a:pt x="459" y="1592"/>
                </a:lnTo>
                <a:lnTo>
                  <a:pt x="477" y="1576"/>
                </a:lnTo>
                <a:lnTo>
                  <a:pt x="497" y="1562"/>
                </a:lnTo>
                <a:lnTo>
                  <a:pt x="518" y="1548"/>
                </a:lnTo>
                <a:lnTo>
                  <a:pt x="541" y="1536"/>
                </a:lnTo>
                <a:lnTo>
                  <a:pt x="565" y="1526"/>
                </a:lnTo>
                <a:lnTo>
                  <a:pt x="591" y="1517"/>
                </a:lnTo>
                <a:lnTo>
                  <a:pt x="618" y="1508"/>
                </a:lnTo>
                <a:lnTo>
                  <a:pt x="645" y="1502"/>
                </a:lnTo>
                <a:lnTo>
                  <a:pt x="673" y="1496"/>
                </a:lnTo>
                <a:lnTo>
                  <a:pt x="701" y="1492"/>
                </a:lnTo>
                <a:lnTo>
                  <a:pt x="729" y="1488"/>
                </a:lnTo>
                <a:lnTo>
                  <a:pt x="757" y="1485"/>
                </a:lnTo>
                <a:lnTo>
                  <a:pt x="785" y="1485"/>
                </a:lnTo>
                <a:lnTo>
                  <a:pt x="812" y="1485"/>
                </a:lnTo>
                <a:lnTo>
                  <a:pt x="839" y="1487"/>
                </a:lnTo>
                <a:lnTo>
                  <a:pt x="865" y="1489"/>
                </a:lnTo>
                <a:lnTo>
                  <a:pt x="889" y="1493"/>
                </a:lnTo>
                <a:lnTo>
                  <a:pt x="913" y="1498"/>
                </a:lnTo>
                <a:lnTo>
                  <a:pt x="935" y="1504"/>
                </a:lnTo>
                <a:lnTo>
                  <a:pt x="956" y="1511"/>
                </a:lnTo>
                <a:lnTo>
                  <a:pt x="974" y="1520"/>
                </a:lnTo>
                <a:lnTo>
                  <a:pt x="990" y="1530"/>
                </a:lnTo>
                <a:lnTo>
                  <a:pt x="1004" y="1540"/>
                </a:lnTo>
                <a:lnTo>
                  <a:pt x="1027" y="1551"/>
                </a:lnTo>
                <a:lnTo>
                  <a:pt x="1049" y="1561"/>
                </a:lnTo>
                <a:lnTo>
                  <a:pt x="1072" y="1574"/>
                </a:lnTo>
                <a:lnTo>
                  <a:pt x="1093" y="1585"/>
                </a:lnTo>
                <a:lnTo>
                  <a:pt x="1114" y="1598"/>
                </a:lnTo>
                <a:lnTo>
                  <a:pt x="1135" y="1612"/>
                </a:lnTo>
                <a:lnTo>
                  <a:pt x="1174" y="1641"/>
                </a:lnTo>
                <a:lnTo>
                  <a:pt x="1212" y="1672"/>
                </a:lnTo>
                <a:lnTo>
                  <a:pt x="1247" y="1704"/>
                </a:lnTo>
                <a:lnTo>
                  <a:pt x="1281" y="1736"/>
                </a:lnTo>
                <a:lnTo>
                  <a:pt x="1313" y="1768"/>
                </a:lnTo>
                <a:lnTo>
                  <a:pt x="1342" y="1799"/>
                </a:lnTo>
                <a:lnTo>
                  <a:pt x="1369" y="1828"/>
                </a:lnTo>
                <a:lnTo>
                  <a:pt x="1416" y="1881"/>
                </a:lnTo>
                <a:lnTo>
                  <a:pt x="1437" y="1903"/>
                </a:lnTo>
                <a:lnTo>
                  <a:pt x="1455" y="1922"/>
                </a:lnTo>
                <a:lnTo>
                  <a:pt x="1470" y="1935"/>
                </a:lnTo>
                <a:lnTo>
                  <a:pt x="1477" y="1940"/>
                </a:lnTo>
                <a:lnTo>
                  <a:pt x="1483" y="1944"/>
                </a:lnTo>
                <a:lnTo>
                  <a:pt x="1503" y="1965"/>
                </a:lnTo>
                <a:lnTo>
                  <a:pt x="1526" y="1985"/>
                </a:lnTo>
                <a:lnTo>
                  <a:pt x="1551" y="2004"/>
                </a:lnTo>
                <a:lnTo>
                  <a:pt x="1576" y="2020"/>
                </a:lnTo>
                <a:lnTo>
                  <a:pt x="1603" y="2036"/>
                </a:lnTo>
                <a:lnTo>
                  <a:pt x="1633" y="2050"/>
                </a:lnTo>
                <a:lnTo>
                  <a:pt x="1662" y="2063"/>
                </a:lnTo>
                <a:lnTo>
                  <a:pt x="1693" y="2074"/>
                </a:lnTo>
                <a:lnTo>
                  <a:pt x="1725" y="2084"/>
                </a:lnTo>
                <a:lnTo>
                  <a:pt x="1757" y="2093"/>
                </a:lnTo>
                <a:lnTo>
                  <a:pt x="1790" y="2101"/>
                </a:lnTo>
                <a:lnTo>
                  <a:pt x="1825" y="2109"/>
                </a:lnTo>
                <a:lnTo>
                  <a:pt x="1858" y="2114"/>
                </a:lnTo>
                <a:lnTo>
                  <a:pt x="1893" y="2119"/>
                </a:lnTo>
                <a:lnTo>
                  <a:pt x="1927" y="2123"/>
                </a:lnTo>
                <a:lnTo>
                  <a:pt x="1960" y="2127"/>
                </a:lnTo>
                <a:lnTo>
                  <a:pt x="2029" y="2130"/>
                </a:lnTo>
                <a:lnTo>
                  <a:pt x="2095" y="2132"/>
                </a:lnTo>
                <a:lnTo>
                  <a:pt x="2159" y="2130"/>
                </a:lnTo>
                <a:lnTo>
                  <a:pt x="2218" y="2128"/>
                </a:lnTo>
                <a:lnTo>
                  <a:pt x="2273" y="2123"/>
                </a:lnTo>
                <a:lnTo>
                  <a:pt x="2320" y="2118"/>
                </a:lnTo>
                <a:lnTo>
                  <a:pt x="2361" y="2110"/>
                </a:lnTo>
                <a:lnTo>
                  <a:pt x="2394" y="2104"/>
                </a:lnTo>
                <a:lnTo>
                  <a:pt x="2325" y="2098"/>
                </a:lnTo>
                <a:lnTo>
                  <a:pt x="2259" y="2092"/>
                </a:lnTo>
                <a:lnTo>
                  <a:pt x="2196" y="2083"/>
                </a:lnTo>
                <a:lnTo>
                  <a:pt x="2136" y="2073"/>
                </a:lnTo>
                <a:lnTo>
                  <a:pt x="2079" y="2060"/>
                </a:lnTo>
                <a:lnTo>
                  <a:pt x="2026" y="2046"/>
                </a:lnTo>
                <a:lnTo>
                  <a:pt x="1974" y="2029"/>
                </a:lnTo>
                <a:lnTo>
                  <a:pt x="1927" y="2013"/>
                </a:lnTo>
                <a:lnTo>
                  <a:pt x="1881" y="1995"/>
                </a:lnTo>
                <a:lnTo>
                  <a:pt x="1839" y="1974"/>
                </a:lnTo>
                <a:lnTo>
                  <a:pt x="1799" y="1954"/>
                </a:lnTo>
                <a:lnTo>
                  <a:pt x="1761" y="1932"/>
                </a:lnTo>
                <a:lnTo>
                  <a:pt x="1726" y="1910"/>
                </a:lnTo>
                <a:lnTo>
                  <a:pt x="1693" y="1886"/>
                </a:lnTo>
                <a:lnTo>
                  <a:pt x="1662" y="1863"/>
                </a:lnTo>
                <a:lnTo>
                  <a:pt x="1634" y="1839"/>
                </a:lnTo>
                <a:lnTo>
                  <a:pt x="1607" y="1813"/>
                </a:lnTo>
                <a:lnTo>
                  <a:pt x="1583" y="1787"/>
                </a:lnTo>
                <a:lnTo>
                  <a:pt x="1560" y="1763"/>
                </a:lnTo>
                <a:lnTo>
                  <a:pt x="1538" y="1737"/>
                </a:lnTo>
                <a:lnTo>
                  <a:pt x="1519" y="1712"/>
                </a:lnTo>
                <a:lnTo>
                  <a:pt x="1501" y="1686"/>
                </a:lnTo>
                <a:lnTo>
                  <a:pt x="1484" y="1661"/>
                </a:lnTo>
                <a:lnTo>
                  <a:pt x="1469" y="1636"/>
                </a:lnTo>
                <a:lnTo>
                  <a:pt x="1456" y="1612"/>
                </a:lnTo>
                <a:lnTo>
                  <a:pt x="1443" y="1589"/>
                </a:lnTo>
                <a:lnTo>
                  <a:pt x="1422" y="1544"/>
                </a:lnTo>
                <a:lnTo>
                  <a:pt x="1402" y="1502"/>
                </a:lnTo>
                <a:lnTo>
                  <a:pt x="1387" y="1466"/>
                </a:lnTo>
                <a:lnTo>
                  <a:pt x="1364" y="1469"/>
                </a:lnTo>
                <a:lnTo>
                  <a:pt x="1341" y="1470"/>
                </a:lnTo>
                <a:lnTo>
                  <a:pt x="1318" y="1471"/>
                </a:lnTo>
                <a:lnTo>
                  <a:pt x="1297" y="1471"/>
                </a:lnTo>
                <a:lnTo>
                  <a:pt x="1277" y="1470"/>
                </a:lnTo>
                <a:lnTo>
                  <a:pt x="1259" y="1469"/>
                </a:lnTo>
                <a:lnTo>
                  <a:pt x="1241" y="1466"/>
                </a:lnTo>
                <a:lnTo>
                  <a:pt x="1224" y="1462"/>
                </a:lnTo>
                <a:lnTo>
                  <a:pt x="1208" y="1458"/>
                </a:lnTo>
                <a:lnTo>
                  <a:pt x="1194" y="1453"/>
                </a:lnTo>
                <a:lnTo>
                  <a:pt x="1180" y="1447"/>
                </a:lnTo>
                <a:lnTo>
                  <a:pt x="1167" y="1440"/>
                </a:lnTo>
                <a:lnTo>
                  <a:pt x="1154" y="1434"/>
                </a:lnTo>
                <a:lnTo>
                  <a:pt x="1142" y="1426"/>
                </a:lnTo>
                <a:lnTo>
                  <a:pt x="1132" y="1417"/>
                </a:lnTo>
                <a:lnTo>
                  <a:pt x="1123" y="1408"/>
                </a:lnTo>
                <a:lnTo>
                  <a:pt x="1114" y="1400"/>
                </a:lnTo>
                <a:lnTo>
                  <a:pt x="1107" y="1389"/>
                </a:lnTo>
                <a:lnTo>
                  <a:pt x="1099" y="1379"/>
                </a:lnTo>
                <a:lnTo>
                  <a:pt x="1094" y="1369"/>
                </a:lnTo>
                <a:lnTo>
                  <a:pt x="1087" y="1357"/>
                </a:lnTo>
                <a:lnTo>
                  <a:pt x="1084" y="1346"/>
                </a:lnTo>
                <a:lnTo>
                  <a:pt x="1078" y="1334"/>
                </a:lnTo>
                <a:lnTo>
                  <a:pt x="1076" y="1321"/>
                </a:lnTo>
                <a:lnTo>
                  <a:pt x="1071" y="1297"/>
                </a:lnTo>
                <a:lnTo>
                  <a:pt x="1070" y="1270"/>
                </a:lnTo>
                <a:lnTo>
                  <a:pt x="1070" y="1245"/>
                </a:lnTo>
                <a:lnTo>
                  <a:pt x="1073" y="1218"/>
                </a:lnTo>
                <a:lnTo>
                  <a:pt x="1078" y="1191"/>
                </a:lnTo>
                <a:lnTo>
                  <a:pt x="1086" y="1164"/>
                </a:lnTo>
                <a:lnTo>
                  <a:pt x="1095" y="1137"/>
                </a:lnTo>
                <a:lnTo>
                  <a:pt x="1107" y="1111"/>
                </a:lnTo>
                <a:lnTo>
                  <a:pt x="1119" y="1087"/>
                </a:lnTo>
                <a:lnTo>
                  <a:pt x="1134" y="1064"/>
                </a:lnTo>
                <a:lnTo>
                  <a:pt x="1149" y="1042"/>
                </a:lnTo>
                <a:lnTo>
                  <a:pt x="1166" y="1022"/>
                </a:lnTo>
                <a:lnTo>
                  <a:pt x="1183" y="1004"/>
                </a:lnTo>
                <a:lnTo>
                  <a:pt x="1203" y="987"/>
                </a:lnTo>
                <a:lnTo>
                  <a:pt x="1223" y="973"/>
                </a:lnTo>
                <a:lnTo>
                  <a:pt x="1244" y="963"/>
                </a:lnTo>
                <a:lnTo>
                  <a:pt x="1254" y="958"/>
                </a:lnTo>
                <a:lnTo>
                  <a:pt x="1264" y="955"/>
                </a:lnTo>
                <a:lnTo>
                  <a:pt x="1274" y="951"/>
                </a:lnTo>
                <a:lnTo>
                  <a:pt x="1286" y="950"/>
                </a:lnTo>
                <a:lnTo>
                  <a:pt x="1296" y="949"/>
                </a:lnTo>
                <a:lnTo>
                  <a:pt x="1308" y="949"/>
                </a:lnTo>
                <a:lnTo>
                  <a:pt x="1318" y="949"/>
                </a:lnTo>
                <a:lnTo>
                  <a:pt x="1329" y="951"/>
                </a:lnTo>
                <a:lnTo>
                  <a:pt x="1341" y="930"/>
                </a:lnTo>
                <a:lnTo>
                  <a:pt x="1352" y="909"/>
                </a:lnTo>
                <a:lnTo>
                  <a:pt x="1364" y="890"/>
                </a:lnTo>
                <a:lnTo>
                  <a:pt x="1377" y="872"/>
                </a:lnTo>
                <a:lnTo>
                  <a:pt x="1390" y="855"/>
                </a:lnTo>
                <a:lnTo>
                  <a:pt x="1402" y="840"/>
                </a:lnTo>
                <a:lnTo>
                  <a:pt x="1415" y="825"/>
                </a:lnTo>
                <a:lnTo>
                  <a:pt x="1428" y="811"/>
                </a:lnTo>
                <a:lnTo>
                  <a:pt x="1442" y="798"/>
                </a:lnTo>
                <a:lnTo>
                  <a:pt x="1455" y="785"/>
                </a:lnTo>
                <a:lnTo>
                  <a:pt x="1469" y="775"/>
                </a:lnTo>
                <a:lnTo>
                  <a:pt x="1483" y="765"/>
                </a:lnTo>
                <a:lnTo>
                  <a:pt x="1497" y="754"/>
                </a:lnTo>
                <a:lnTo>
                  <a:pt x="1511" y="745"/>
                </a:lnTo>
                <a:lnTo>
                  <a:pt x="1539" y="731"/>
                </a:lnTo>
                <a:lnTo>
                  <a:pt x="1569" y="720"/>
                </a:lnTo>
                <a:lnTo>
                  <a:pt x="1597" y="711"/>
                </a:lnTo>
                <a:lnTo>
                  <a:pt x="1626" y="704"/>
                </a:lnTo>
                <a:lnTo>
                  <a:pt x="1654" y="702"/>
                </a:lnTo>
                <a:lnTo>
                  <a:pt x="1684" y="701"/>
                </a:lnTo>
                <a:lnTo>
                  <a:pt x="1712" y="702"/>
                </a:lnTo>
                <a:lnTo>
                  <a:pt x="1740" y="706"/>
                </a:lnTo>
                <a:lnTo>
                  <a:pt x="1767" y="712"/>
                </a:lnTo>
                <a:lnTo>
                  <a:pt x="1794" y="718"/>
                </a:lnTo>
                <a:lnTo>
                  <a:pt x="1820" y="729"/>
                </a:lnTo>
                <a:lnTo>
                  <a:pt x="1845" y="739"/>
                </a:lnTo>
                <a:lnTo>
                  <a:pt x="1868" y="750"/>
                </a:lnTo>
                <a:lnTo>
                  <a:pt x="1891" y="763"/>
                </a:lnTo>
                <a:lnTo>
                  <a:pt x="1913" y="777"/>
                </a:lnTo>
                <a:lnTo>
                  <a:pt x="1932" y="791"/>
                </a:lnTo>
                <a:lnTo>
                  <a:pt x="1951" y="807"/>
                </a:lnTo>
                <a:lnTo>
                  <a:pt x="1968" y="823"/>
                </a:lnTo>
                <a:lnTo>
                  <a:pt x="1982" y="839"/>
                </a:lnTo>
                <a:lnTo>
                  <a:pt x="1995" y="855"/>
                </a:lnTo>
                <a:lnTo>
                  <a:pt x="2006" y="872"/>
                </a:lnTo>
                <a:lnTo>
                  <a:pt x="2015" y="887"/>
                </a:lnTo>
                <a:lnTo>
                  <a:pt x="2022" y="903"/>
                </a:lnTo>
                <a:lnTo>
                  <a:pt x="2027" y="918"/>
                </a:lnTo>
                <a:lnTo>
                  <a:pt x="2028" y="932"/>
                </a:lnTo>
                <a:lnTo>
                  <a:pt x="2059" y="922"/>
                </a:lnTo>
                <a:lnTo>
                  <a:pt x="2088" y="914"/>
                </a:lnTo>
                <a:lnTo>
                  <a:pt x="2119" y="909"/>
                </a:lnTo>
                <a:lnTo>
                  <a:pt x="2147" y="907"/>
                </a:lnTo>
                <a:lnTo>
                  <a:pt x="2177" y="907"/>
                </a:lnTo>
                <a:lnTo>
                  <a:pt x="2205" y="909"/>
                </a:lnTo>
                <a:lnTo>
                  <a:pt x="2232" y="913"/>
                </a:lnTo>
                <a:lnTo>
                  <a:pt x="2259" y="921"/>
                </a:lnTo>
                <a:lnTo>
                  <a:pt x="2284" y="928"/>
                </a:lnTo>
                <a:lnTo>
                  <a:pt x="2309" y="940"/>
                </a:lnTo>
                <a:lnTo>
                  <a:pt x="2333" y="951"/>
                </a:lnTo>
                <a:lnTo>
                  <a:pt x="2356" y="966"/>
                </a:lnTo>
                <a:lnTo>
                  <a:pt x="2379" y="981"/>
                </a:lnTo>
                <a:lnTo>
                  <a:pt x="2401" y="996"/>
                </a:lnTo>
                <a:lnTo>
                  <a:pt x="2421" y="1014"/>
                </a:lnTo>
                <a:lnTo>
                  <a:pt x="2440" y="1033"/>
                </a:lnTo>
                <a:lnTo>
                  <a:pt x="2458" y="1053"/>
                </a:lnTo>
                <a:lnTo>
                  <a:pt x="2475" y="1072"/>
                </a:lnTo>
                <a:lnTo>
                  <a:pt x="2490" y="1094"/>
                </a:lnTo>
                <a:lnTo>
                  <a:pt x="2506" y="1114"/>
                </a:lnTo>
                <a:lnTo>
                  <a:pt x="2518" y="1136"/>
                </a:lnTo>
                <a:lnTo>
                  <a:pt x="2531" y="1158"/>
                </a:lnTo>
                <a:lnTo>
                  <a:pt x="2541" y="1178"/>
                </a:lnTo>
                <a:lnTo>
                  <a:pt x="2550" y="1200"/>
                </a:lnTo>
                <a:lnTo>
                  <a:pt x="2558" y="1222"/>
                </a:lnTo>
                <a:lnTo>
                  <a:pt x="2564" y="1242"/>
                </a:lnTo>
                <a:lnTo>
                  <a:pt x="2568" y="1263"/>
                </a:lnTo>
                <a:lnTo>
                  <a:pt x="2572" y="1282"/>
                </a:lnTo>
                <a:lnTo>
                  <a:pt x="2573" y="1301"/>
                </a:lnTo>
                <a:lnTo>
                  <a:pt x="2572" y="1319"/>
                </a:lnTo>
                <a:lnTo>
                  <a:pt x="2571" y="1336"/>
                </a:lnTo>
                <a:lnTo>
                  <a:pt x="2567" y="1351"/>
                </a:lnTo>
                <a:lnTo>
                  <a:pt x="2557" y="1380"/>
                </a:lnTo>
                <a:lnTo>
                  <a:pt x="2548" y="1406"/>
                </a:lnTo>
                <a:lnTo>
                  <a:pt x="2538" y="1430"/>
                </a:lnTo>
                <a:lnTo>
                  <a:pt x="2527" y="1453"/>
                </a:lnTo>
                <a:lnTo>
                  <a:pt x="2517" y="1474"/>
                </a:lnTo>
                <a:lnTo>
                  <a:pt x="2507" y="1492"/>
                </a:lnTo>
                <a:lnTo>
                  <a:pt x="2497" y="1508"/>
                </a:lnTo>
                <a:lnTo>
                  <a:pt x="2488" y="1522"/>
                </a:lnTo>
                <a:lnTo>
                  <a:pt x="2479" y="1535"/>
                </a:lnTo>
                <a:lnTo>
                  <a:pt x="2468" y="1547"/>
                </a:lnTo>
                <a:lnTo>
                  <a:pt x="2452" y="1563"/>
                </a:lnTo>
                <a:lnTo>
                  <a:pt x="2438" y="1575"/>
                </a:lnTo>
                <a:lnTo>
                  <a:pt x="2426" y="1581"/>
                </a:lnTo>
                <a:lnTo>
                  <a:pt x="2447" y="1604"/>
                </a:lnTo>
                <a:lnTo>
                  <a:pt x="2470" y="1625"/>
                </a:lnTo>
                <a:lnTo>
                  <a:pt x="2494" y="1644"/>
                </a:lnTo>
                <a:lnTo>
                  <a:pt x="2520" y="1659"/>
                </a:lnTo>
                <a:lnTo>
                  <a:pt x="2547" y="1675"/>
                </a:lnTo>
                <a:lnTo>
                  <a:pt x="2576" y="1688"/>
                </a:lnTo>
                <a:lnTo>
                  <a:pt x="2605" y="1698"/>
                </a:lnTo>
                <a:lnTo>
                  <a:pt x="2637" y="1708"/>
                </a:lnTo>
                <a:lnTo>
                  <a:pt x="2668" y="1716"/>
                </a:lnTo>
                <a:lnTo>
                  <a:pt x="2701" y="1722"/>
                </a:lnTo>
                <a:lnTo>
                  <a:pt x="2733" y="1726"/>
                </a:lnTo>
                <a:lnTo>
                  <a:pt x="2767" y="1730"/>
                </a:lnTo>
                <a:lnTo>
                  <a:pt x="2800" y="1731"/>
                </a:lnTo>
                <a:lnTo>
                  <a:pt x="2833" y="1732"/>
                </a:lnTo>
                <a:lnTo>
                  <a:pt x="2867" y="1732"/>
                </a:lnTo>
                <a:lnTo>
                  <a:pt x="2900" y="1730"/>
                </a:lnTo>
                <a:lnTo>
                  <a:pt x="2900" y="1357"/>
                </a:lnTo>
                <a:lnTo>
                  <a:pt x="2888" y="1341"/>
                </a:lnTo>
                <a:lnTo>
                  <a:pt x="2878" y="1323"/>
                </a:lnTo>
                <a:lnTo>
                  <a:pt x="2870" y="1304"/>
                </a:lnTo>
                <a:lnTo>
                  <a:pt x="2863" y="1286"/>
                </a:lnTo>
                <a:lnTo>
                  <a:pt x="2858" y="1266"/>
                </a:lnTo>
                <a:lnTo>
                  <a:pt x="2854" y="1247"/>
                </a:lnTo>
                <a:lnTo>
                  <a:pt x="2851" y="1228"/>
                </a:lnTo>
                <a:lnTo>
                  <a:pt x="2850" y="1209"/>
                </a:lnTo>
                <a:lnTo>
                  <a:pt x="2851" y="1191"/>
                </a:lnTo>
                <a:lnTo>
                  <a:pt x="2852" y="1173"/>
                </a:lnTo>
                <a:lnTo>
                  <a:pt x="2855" y="1155"/>
                </a:lnTo>
                <a:lnTo>
                  <a:pt x="2860" y="1138"/>
                </a:lnTo>
                <a:lnTo>
                  <a:pt x="2865" y="1122"/>
                </a:lnTo>
                <a:lnTo>
                  <a:pt x="2873" y="1106"/>
                </a:lnTo>
                <a:lnTo>
                  <a:pt x="2881" y="1094"/>
                </a:lnTo>
                <a:lnTo>
                  <a:pt x="2891" y="1081"/>
                </a:lnTo>
                <a:lnTo>
                  <a:pt x="2900" y="1073"/>
                </a:lnTo>
                <a:lnTo>
                  <a:pt x="2900" y="469"/>
                </a:lnTo>
                <a:lnTo>
                  <a:pt x="2877" y="473"/>
                </a:lnTo>
                <a:lnTo>
                  <a:pt x="2856" y="477"/>
                </a:lnTo>
                <a:lnTo>
                  <a:pt x="2837" y="484"/>
                </a:lnTo>
                <a:lnTo>
                  <a:pt x="2829" y="488"/>
                </a:lnTo>
                <a:lnTo>
                  <a:pt x="2822" y="492"/>
                </a:lnTo>
                <a:lnTo>
                  <a:pt x="2810" y="473"/>
                </a:lnTo>
                <a:lnTo>
                  <a:pt x="2797" y="455"/>
                </a:lnTo>
                <a:lnTo>
                  <a:pt x="2785" y="439"/>
                </a:lnTo>
                <a:lnTo>
                  <a:pt x="2772" y="424"/>
                </a:lnTo>
                <a:lnTo>
                  <a:pt x="2759" y="413"/>
                </a:lnTo>
                <a:lnTo>
                  <a:pt x="2745" y="401"/>
                </a:lnTo>
                <a:lnTo>
                  <a:pt x="2732" y="391"/>
                </a:lnTo>
                <a:lnTo>
                  <a:pt x="2718" y="383"/>
                </a:lnTo>
                <a:lnTo>
                  <a:pt x="2705" y="377"/>
                </a:lnTo>
                <a:lnTo>
                  <a:pt x="2691" y="372"/>
                </a:lnTo>
                <a:lnTo>
                  <a:pt x="2677" y="368"/>
                </a:lnTo>
                <a:lnTo>
                  <a:pt x="2664" y="365"/>
                </a:lnTo>
                <a:lnTo>
                  <a:pt x="2652" y="364"/>
                </a:lnTo>
                <a:lnTo>
                  <a:pt x="2639" y="363"/>
                </a:lnTo>
                <a:lnTo>
                  <a:pt x="2626" y="364"/>
                </a:lnTo>
                <a:lnTo>
                  <a:pt x="2613" y="366"/>
                </a:lnTo>
                <a:lnTo>
                  <a:pt x="2600" y="369"/>
                </a:lnTo>
                <a:lnTo>
                  <a:pt x="2589" y="373"/>
                </a:lnTo>
                <a:lnTo>
                  <a:pt x="2577" y="378"/>
                </a:lnTo>
                <a:lnTo>
                  <a:pt x="2566" y="384"/>
                </a:lnTo>
                <a:lnTo>
                  <a:pt x="2556" y="391"/>
                </a:lnTo>
                <a:lnTo>
                  <a:pt x="2545" y="398"/>
                </a:lnTo>
                <a:lnTo>
                  <a:pt x="2536" y="406"/>
                </a:lnTo>
                <a:lnTo>
                  <a:pt x="2527" y="415"/>
                </a:lnTo>
                <a:lnTo>
                  <a:pt x="2518" y="424"/>
                </a:lnTo>
                <a:lnTo>
                  <a:pt x="2512" y="434"/>
                </a:lnTo>
                <a:lnTo>
                  <a:pt x="2504" y="445"/>
                </a:lnTo>
                <a:lnTo>
                  <a:pt x="2499" y="456"/>
                </a:lnTo>
                <a:lnTo>
                  <a:pt x="2493" y="466"/>
                </a:lnTo>
                <a:lnTo>
                  <a:pt x="2489" y="478"/>
                </a:lnTo>
                <a:lnTo>
                  <a:pt x="2485" y="491"/>
                </a:lnTo>
                <a:lnTo>
                  <a:pt x="2484" y="502"/>
                </a:lnTo>
                <a:lnTo>
                  <a:pt x="2480" y="541"/>
                </a:lnTo>
                <a:lnTo>
                  <a:pt x="2475" y="576"/>
                </a:lnTo>
                <a:lnTo>
                  <a:pt x="2468" y="610"/>
                </a:lnTo>
                <a:lnTo>
                  <a:pt x="2458" y="639"/>
                </a:lnTo>
                <a:lnTo>
                  <a:pt x="2447" y="666"/>
                </a:lnTo>
                <a:lnTo>
                  <a:pt x="2434" y="690"/>
                </a:lnTo>
                <a:lnTo>
                  <a:pt x="2420" y="712"/>
                </a:lnTo>
                <a:lnTo>
                  <a:pt x="2403" y="731"/>
                </a:lnTo>
                <a:lnTo>
                  <a:pt x="2385" y="749"/>
                </a:lnTo>
                <a:lnTo>
                  <a:pt x="2367" y="763"/>
                </a:lnTo>
                <a:lnTo>
                  <a:pt x="2347" y="776"/>
                </a:lnTo>
                <a:lnTo>
                  <a:pt x="2328" y="786"/>
                </a:lnTo>
                <a:lnTo>
                  <a:pt x="2306" y="795"/>
                </a:lnTo>
                <a:lnTo>
                  <a:pt x="2284" y="802"/>
                </a:lnTo>
                <a:lnTo>
                  <a:pt x="2262" y="806"/>
                </a:lnTo>
                <a:lnTo>
                  <a:pt x="2241" y="809"/>
                </a:lnTo>
                <a:lnTo>
                  <a:pt x="2219" y="811"/>
                </a:lnTo>
                <a:lnTo>
                  <a:pt x="2197" y="811"/>
                </a:lnTo>
                <a:lnTo>
                  <a:pt x="2175" y="808"/>
                </a:lnTo>
                <a:lnTo>
                  <a:pt x="2154" y="806"/>
                </a:lnTo>
                <a:lnTo>
                  <a:pt x="2133" y="800"/>
                </a:lnTo>
                <a:lnTo>
                  <a:pt x="2114" y="795"/>
                </a:lnTo>
                <a:lnTo>
                  <a:pt x="2095" y="789"/>
                </a:lnTo>
                <a:lnTo>
                  <a:pt x="2077" y="781"/>
                </a:lnTo>
                <a:lnTo>
                  <a:pt x="2060" y="772"/>
                </a:lnTo>
                <a:lnTo>
                  <a:pt x="2045" y="763"/>
                </a:lnTo>
                <a:lnTo>
                  <a:pt x="2031" y="753"/>
                </a:lnTo>
                <a:lnTo>
                  <a:pt x="2019" y="742"/>
                </a:lnTo>
                <a:lnTo>
                  <a:pt x="2009" y="730"/>
                </a:lnTo>
                <a:lnTo>
                  <a:pt x="2001" y="718"/>
                </a:lnTo>
                <a:lnTo>
                  <a:pt x="1995" y="707"/>
                </a:lnTo>
                <a:lnTo>
                  <a:pt x="1991" y="694"/>
                </a:lnTo>
                <a:lnTo>
                  <a:pt x="1985" y="671"/>
                </a:lnTo>
                <a:lnTo>
                  <a:pt x="1978" y="649"/>
                </a:lnTo>
                <a:lnTo>
                  <a:pt x="1974" y="630"/>
                </a:lnTo>
                <a:lnTo>
                  <a:pt x="1972" y="611"/>
                </a:lnTo>
                <a:lnTo>
                  <a:pt x="1971" y="592"/>
                </a:lnTo>
                <a:lnTo>
                  <a:pt x="1972" y="575"/>
                </a:lnTo>
                <a:lnTo>
                  <a:pt x="1973" y="560"/>
                </a:lnTo>
                <a:lnTo>
                  <a:pt x="1976" y="544"/>
                </a:lnTo>
                <a:lnTo>
                  <a:pt x="1978" y="530"/>
                </a:lnTo>
                <a:lnTo>
                  <a:pt x="1983" y="516"/>
                </a:lnTo>
                <a:lnTo>
                  <a:pt x="1989" y="505"/>
                </a:lnTo>
                <a:lnTo>
                  <a:pt x="1995" y="493"/>
                </a:lnTo>
                <a:lnTo>
                  <a:pt x="2001" y="482"/>
                </a:lnTo>
                <a:lnTo>
                  <a:pt x="2009" y="473"/>
                </a:lnTo>
                <a:lnTo>
                  <a:pt x="2018" y="464"/>
                </a:lnTo>
                <a:lnTo>
                  <a:pt x="2026" y="455"/>
                </a:lnTo>
                <a:lnTo>
                  <a:pt x="2035" y="448"/>
                </a:lnTo>
                <a:lnTo>
                  <a:pt x="2045" y="441"/>
                </a:lnTo>
                <a:lnTo>
                  <a:pt x="2064" y="429"/>
                </a:lnTo>
                <a:lnTo>
                  <a:pt x="2083" y="420"/>
                </a:lnTo>
                <a:lnTo>
                  <a:pt x="2102" y="414"/>
                </a:lnTo>
                <a:lnTo>
                  <a:pt x="2120" y="410"/>
                </a:lnTo>
                <a:lnTo>
                  <a:pt x="2137" y="407"/>
                </a:lnTo>
                <a:lnTo>
                  <a:pt x="2150" y="406"/>
                </a:lnTo>
                <a:lnTo>
                  <a:pt x="2161" y="406"/>
                </a:lnTo>
                <a:lnTo>
                  <a:pt x="2134" y="423"/>
                </a:lnTo>
                <a:lnTo>
                  <a:pt x="2111" y="438"/>
                </a:lnTo>
                <a:lnTo>
                  <a:pt x="2091" y="455"/>
                </a:lnTo>
                <a:lnTo>
                  <a:pt x="2073" y="471"/>
                </a:lnTo>
                <a:lnTo>
                  <a:pt x="2058" y="488"/>
                </a:lnTo>
                <a:lnTo>
                  <a:pt x="2046" y="505"/>
                </a:lnTo>
                <a:lnTo>
                  <a:pt x="2036" y="520"/>
                </a:lnTo>
                <a:lnTo>
                  <a:pt x="2028" y="537"/>
                </a:lnTo>
                <a:lnTo>
                  <a:pt x="2023" y="553"/>
                </a:lnTo>
                <a:lnTo>
                  <a:pt x="2019" y="569"/>
                </a:lnTo>
                <a:lnTo>
                  <a:pt x="2019" y="585"/>
                </a:lnTo>
                <a:lnTo>
                  <a:pt x="2019" y="601"/>
                </a:lnTo>
                <a:lnTo>
                  <a:pt x="2022" y="615"/>
                </a:lnTo>
                <a:lnTo>
                  <a:pt x="2027" y="630"/>
                </a:lnTo>
                <a:lnTo>
                  <a:pt x="2032" y="644"/>
                </a:lnTo>
                <a:lnTo>
                  <a:pt x="2040" y="657"/>
                </a:lnTo>
                <a:lnTo>
                  <a:pt x="2049" y="670"/>
                </a:lnTo>
                <a:lnTo>
                  <a:pt x="2059" y="681"/>
                </a:lnTo>
                <a:lnTo>
                  <a:pt x="2069" y="693"/>
                </a:lnTo>
                <a:lnTo>
                  <a:pt x="2082" y="704"/>
                </a:lnTo>
                <a:lnTo>
                  <a:pt x="2095" y="713"/>
                </a:lnTo>
                <a:lnTo>
                  <a:pt x="2109" y="722"/>
                </a:lnTo>
                <a:lnTo>
                  <a:pt x="2123" y="730"/>
                </a:lnTo>
                <a:lnTo>
                  <a:pt x="2138" y="736"/>
                </a:lnTo>
                <a:lnTo>
                  <a:pt x="2154" y="743"/>
                </a:lnTo>
                <a:lnTo>
                  <a:pt x="2169" y="747"/>
                </a:lnTo>
                <a:lnTo>
                  <a:pt x="2184" y="750"/>
                </a:lnTo>
                <a:lnTo>
                  <a:pt x="2201" y="752"/>
                </a:lnTo>
                <a:lnTo>
                  <a:pt x="2216" y="753"/>
                </a:lnTo>
                <a:lnTo>
                  <a:pt x="2232" y="752"/>
                </a:lnTo>
                <a:lnTo>
                  <a:pt x="2248" y="750"/>
                </a:lnTo>
                <a:lnTo>
                  <a:pt x="2262" y="747"/>
                </a:lnTo>
                <a:lnTo>
                  <a:pt x="2280" y="738"/>
                </a:lnTo>
                <a:lnTo>
                  <a:pt x="2298" y="729"/>
                </a:lnTo>
                <a:lnTo>
                  <a:pt x="2314" y="720"/>
                </a:lnTo>
                <a:lnTo>
                  <a:pt x="2328" y="710"/>
                </a:lnTo>
                <a:lnTo>
                  <a:pt x="2342" y="698"/>
                </a:lnTo>
                <a:lnTo>
                  <a:pt x="2355" y="686"/>
                </a:lnTo>
                <a:lnTo>
                  <a:pt x="2366" y="675"/>
                </a:lnTo>
                <a:lnTo>
                  <a:pt x="2376" y="663"/>
                </a:lnTo>
                <a:lnTo>
                  <a:pt x="2387" y="651"/>
                </a:lnTo>
                <a:lnTo>
                  <a:pt x="2396" y="638"/>
                </a:lnTo>
                <a:lnTo>
                  <a:pt x="2403" y="625"/>
                </a:lnTo>
                <a:lnTo>
                  <a:pt x="2411" y="611"/>
                </a:lnTo>
                <a:lnTo>
                  <a:pt x="2416" y="598"/>
                </a:lnTo>
                <a:lnTo>
                  <a:pt x="2421" y="584"/>
                </a:lnTo>
                <a:lnTo>
                  <a:pt x="2426" y="570"/>
                </a:lnTo>
                <a:lnTo>
                  <a:pt x="2430" y="556"/>
                </a:lnTo>
                <a:lnTo>
                  <a:pt x="2433" y="541"/>
                </a:lnTo>
                <a:lnTo>
                  <a:pt x="2434" y="526"/>
                </a:lnTo>
                <a:lnTo>
                  <a:pt x="2436" y="497"/>
                </a:lnTo>
                <a:lnTo>
                  <a:pt x="2435" y="466"/>
                </a:lnTo>
                <a:lnTo>
                  <a:pt x="2431" y="437"/>
                </a:lnTo>
                <a:lnTo>
                  <a:pt x="2425" y="407"/>
                </a:lnTo>
                <a:lnTo>
                  <a:pt x="2416" y="379"/>
                </a:lnTo>
                <a:lnTo>
                  <a:pt x="2404" y="351"/>
                </a:lnTo>
                <a:lnTo>
                  <a:pt x="2392" y="323"/>
                </a:lnTo>
                <a:lnTo>
                  <a:pt x="2376" y="297"/>
                </a:lnTo>
                <a:lnTo>
                  <a:pt x="2358" y="272"/>
                </a:lnTo>
                <a:lnTo>
                  <a:pt x="2340" y="249"/>
                </a:lnTo>
                <a:lnTo>
                  <a:pt x="2320" y="228"/>
                </a:lnTo>
                <a:lnTo>
                  <a:pt x="2298" y="209"/>
                </a:lnTo>
                <a:lnTo>
                  <a:pt x="2277" y="191"/>
                </a:lnTo>
                <a:lnTo>
                  <a:pt x="2252" y="177"/>
                </a:lnTo>
                <a:lnTo>
                  <a:pt x="2228" y="165"/>
                </a:lnTo>
                <a:lnTo>
                  <a:pt x="2216" y="160"/>
                </a:lnTo>
                <a:lnTo>
                  <a:pt x="2204" y="157"/>
                </a:lnTo>
                <a:lnTo>
                  <a:pt x="2191" y="153"/>
                </a:lnTo>
                <a:lnTo>
                  <a:pt x="2178" y="151"/>
                </a:lnTo>
                <a:lnTo>
                  <a:pt x="2164" y="149"/>
                </a:lnTo>
                <a:lnTo>
                  <a:pt x="2151" y="149"/>
                </a:lnTo>
                <a:lnTo>
                  <a:pt x="2138" y="149"/>
                </a:lnTo>
                <a:lnTo>
                  <a:pt x="2125" y="150"/>
                </a:lnTo>
                <a:lnTo>
                  <a:pt x="2111" y="153"/>
                </a:lnTo>
                <a:lnTo>
                  <a:pt x="2099" y="155"/>
                </a:lnTo>
                <a:lnTo>
                  <a:pt x="2086" y="159"/>
                </a:lnTo>
                <a:lnTo>
                  <a:pt x="2073" y="164"/>
                </a:lnTo>
                <a:lnTo>
                  <a:pt x="2060" y="171"/>
                </a:lnTo>
                <a:lnTo>
                  <a:pt x="2046" y="178"/>
                </a:lnTo>
                <a:lnTo>
                  <a:pt x="2033" y="187"/>
                </a:lnTo>
                <a:lnTo>
                  <a:pt x="2021" y="196"/>
                </a:lnTo>
                <a:lnTo>
                  <a:pt x="2001" y="177"/>
                </a:lnTo>
                <a:lnTo>
                  <a:pt x="1982" y="159"/>
                </a:lnTo>
                <a:lnTo>
                  <a:pt x="1962" y="142"/>
                </a:lnTo>
                <a:lnTo>
                  <a:pt x="1942" y="126"/>
                </a:lnTo>
                <a:lnTo>
                  <a:pt x="1923" y="110"/>
                </a:lnTo>
                <a:lnTo>
                  <a:pt x="1904" y="98"/>
                </a:lnTo>
                <a:lnTo>
                  <a:pt x="1885" y="85"/>
                </a:lnTo>
                <a:lnTo>
                  <a:pt x="1866" y="73"/>
                </a:lnTo>
                <a:lnTo>
                  <a:pt x="1846" y="62"/>
                </a:lnTo>
                <a:lnTo>
                  <a:pt x="1827" y="52"/>
                </a:lnTo>
                <a:lnTo>
                  <a:pt x="1809" y="44"/>
                </a:lnTo>
                <a:lnTo>
                  <a:pt x="1790" y="35"/>
                </a:lnTo>
                <a:lnTo>
                  <a:pt x="1754" y="22"/>
                </a:lnTo>
                <a:lnTo>
                  <a:pt x="1718" y="12"/>
                </a:lnTo>
                <a:lnTo>
                  <a:pt x="1684" y="5"/>
                </a:lnTo>
                <a:lnTo>
                  <a:pt x="1649" y="2"/>
                </a:lnTo>
                <a:lnTo>
                  <a:pt x="1616" y="0"/>
                </a:lnTo>
                <a:lnTo>
                  <a:pt x="1584" y="3"/>
                </a:lnTo>
                <a:lnTo>
                  <a:pt x="1552" y="7"/>
                </a:lnTo>
                <a:lnTo>
                  <a:pt x="1523" y="13"/>
                </a:lnTo>
                <a:lnTo>
                  <a:pt x="1493" y="21"/>
                </a:lnTo>
                <a:lnTo>
                  <a:pt x="1465" y="31"/>
                </a:lnTo>
                <a:lnTo>
                  <a:pt x="1439" y="43"/>
                </a:lnTo>
                <a:lnTo>
                  <a:pt x="1414" y="55"/>
                </a:lnTo>
                <a:lnTo>
                  <a:pt x="1391" y="69"/>
                </a:lnTo>
                <a:lnTo>
                  <a:pt x="1368" y="85"/>
                </a:lnTo>
                <a:lnTo>
                  <a:pt x="1347" y="101"/>
                </a:lnTo>
                <a:lnTo>
                  <a:pt x="1329" y="118"/>
                </a:lnTo>
                <a:lnTo>
                  <a:pt x="1311" y="135"/>
                </a:lnTo>
                <a:lnTo>
                  <a:pt x="1296" y="153"/>
                </a:lnTo>
                <a:lnTo>
                  <a:pt x="1282" y="171"/>
                </a:lnTo>
                <a:lnTo>
                  <a:pt x="1270" y="187"/>
                </a:lnTo>
                <a:lnTo>
                  <a:pt x="1260" y="204"/>
                </a:lnTo>
                <a:lnTo>
                  <a:pt x="1253" y="221"/>
                </a:lnTo>
                <a:lnTo>
                  <a:pt x="1247" y="236"/>
                </a:lnTo>
                <a:lnTo>
                  <a:pt x="1244" y="251"/>
                </a:lnTo>
                <a:lnTo>
                  <a:pt x="1242" y="264"/>
                </a:lnTo>
                <a:lnTo>
                  <a:pt x="1242" y="277"/>
                </a:lnTo>
                <a:lnTo>
                  <a:pt x="1209" y="263"/>
                </a:lnTo>
                <a:lnTo>
                  <a:pt x="1177" y="253"/>
                </a:lnTo>
                <a:lnTo>
                  <a:pt x="1145" y="245"/>
                </a:lnTo>
                <a:lnTo>
                  <a:pt x="1113" y="241"/>
                </a:lnTo>
                <a:lnTo>
                  <a:pt x="1084" y="238"/>
                </a:lnTo>
                <a:lnTo>
                  <a:pt x="1054" y="240"/>
                </a:lnTo>
                <a:lnTo>
                  <a:pt x="1026" y="242"/>
                </a:lnTo>
                <a:lnTo>
                  <a:pt x="998" y="247"/>
                </a:lnTo>
                <a:lnTo>
                  <a:pt x="972" y="255"/>
                </a:lnTo>
                <a:lnTo>
                  <a:pt x="947" y="264"/>
                </a:lnTo>
                <a:lnTo>
                  <a:pt x="922" y="274"/>
                </a:lnTo>
                <a:lnTo>
                  <a:pt x="901" y="286"/>
                </a:lnTo>
                <a:lnTo>
                  <a:pt x="879" y="300"/>
                </a:lnTo>
                <a:lnTo>
                  <a:pt x="858" y="314"/>
                </a:lnTo>
                <a:lnTo>
                  <a:pt x="839" y="329"/>
                </a:lnTo>
                <a:lnTo>
                  <a:pt x="821" y="346"/>
                </a:lnTo>
                <a:lnTo>
                  <a:pt x="805" y="364"/>
                </a:lnTo>
                <a:lnTo>
                  <a:pt x="789" y="382"/>
                </a:lnTo>
                <a:lnTo>
                  <a:pt x="775" y="400"/>
                </a:lnTo>
                <a:lnTo>
                  <a:pt x="764" y="418"/>
                </a:lnTo>
                <a:lnTo>
                  <a:pt x="752" y="437"/>
                </a:lnTo>
                <a:lnTo>
                  <a:pt x="743" y="455"/>
                </a:lnTo>
                <a:lnTo>
                  <a:pt x="735" y="473"/>
                </a:lnTo>
                <a:lnTo>
                  <a:pt x="729" y="491"/>
                </a:lnTo>
                <a:lnTo>
                  <a:pt x="724" y="507"/>
                </a:lnTo>
                <a:lnTo>
                  <a:pt x="721" y="524"/>
                </a:lnTo>
                <a:lnTo>
                  <a:pt x="720" y="539"/>
                </a:lnTo>
                <a:lnTo>
                  <a:pt x="721" y="555"/>
                </a:lnTo>
                <a:lnTo>
                  <a:pt x="723" y="567"/>
                </a:lnTo>
                <a:lnTo>
                  <a:pt x="727" y="579"/>
                </a:lnTo>
                <a:lnTo>
                  <a:pt x="733" y="589"/>
                </a:lnTo>
                <a:lnTo>
                  <a:pt x="741" y="597"/>
                </a:lnTo>
                <a:lnTo>
                  <a:pt x="716" y="608"/>
                </a:lnTo>
                <a:lnTo>
                  <a:pt x="693" y="619"/>
                </a:lnTo>
                <a:lnTo>
                  <a:pt x="673" y="630"/>
                </a:lnTo>
                <a:lnTo>
                  <a:pt x="652" y="642"/>
                </a:lnTo>
                <a:lnTo>
                  <a:pt x="633" y="653"/>
                </a:lnTo>
                <a:lnTo>
                  <a:pt x="615" y="665"/>
                </a:lnTo>
                <a:lnTo>
                  <a:pt x="600" y="678"/>
                </a:lnTo>
                <a:lnTo>
                  <a:pt x="584" y="690"/>
                </a:lnTo>
                <a:lnTo>
                  <a:pt x="570" y="703"/>
                </a:lnTo>
                <a:lnTo>
                  <a:pt x="558" y="716"/>
                </a:lnTo>
                <a:lnTo>
                  <a:pt x="545" y="730"/>
                </a:lnTo>
                <a:lnTo>
                  <a:pt x="535" y="743"/>
                </a:lnTo>
                <a:lnTo>
                  <a:pt x="526" y="757"/>
                </a:lnTo>
                <a:lnTo>
                  <a:pt x="517" y="770"/>
                </a:lnTo>
                <a:lnTo>
                  <a:pt x="509" y="784"/>
                </a:lnTo>
                <a:lnTo>
                  <a:pt x="503" y="798"/>
                </a:lnTo>
                <a:lnTo>
                  <a:pt x="497" y="812"/>
                </a:lnTo>
                <a:lnTo>
                  <a:pt x="492" y="826"/>
                </a:lnTo>
                <a:lnTo>
                  <a:pt x="490" y="840"/>
                </a:lnTo>
                <a:lnTo>
                  <a:pt x="487" y="854"/>
                </a:lnTo>
                <a:lnTo>
                  <a:pt x="485" y="868"/>
                </a:lnTo>
                <a:lnTo>
                  <a:pt x="485" y="882"/>
                </a:lnTo>
                <a:lnTo>
                  <a:pt x="483" y="896"/>
                </a:lnTo>
                <a:lnTo>
                  <a:pt x="485" y="909"/>
                </a:lnTo>
                <a:lnTo>
                  <a:pt x="486" y="923"/>
                </a:lnTo>
                <a:lnTo>
                  <a:pt x="488" y="936"/>
                </a:lnTo>
                <a:lnTo>
                  <a:pt x="496" y="963"/>
                </a:lnTo>
                <a:lnTo>
                  <a:pt x="505" y="989"/>
                </a:lnTo>
                <a:lnTo>
                  <a:pt x="518" y="1013"/>
                </a:lnTo>
                <a:lnTo>
                  <a:pt x="533" y="1036"/>
                </a:lnTo>
                <a:lnTo>
                  <a:pt x="550" y="1058"/>
                </a:lnTo>
                <a:lnTo>
                  <a:pt x="569" y="1077"/>
                </a:lnTo>
                <a:lnTo>
                  <a:pt x="590" y="1095"/>
                </a:lnTo>
                <a:lnTo>
                  <a:pt x="613" y="1111"/>
                </a:lnTo>
                <a:lnTo>
                  <a:pt x="637" y="1126"/>
                </a:lnTo>
                <a:lnTo>
                  <a:pt x="663" y="1137"/>
                </a:lnTo>
                <a:lnTo>
                  <a:pt x="689" y="1146"/>
                </a:lnTo>
                <a:lnTo>
                  <a:pt x="716" y="1151"/>
                </a:lnTo>
                <a:lnTo>
                  <a:pt x="730" y="1154"/>
                </a:lnTo>
                <a:lnTo>
                  <a:pt x="744" y="1155"/>
                </a:lnTo>
                <a:lnTo>
                  <a:pt x="760" y="1155"/>
                </a:lnTo>
                <a:lnTo>
                  <a:pt x="774" y="1155"/>
                </a:lnTo>
                <a:lnTo>
                  <a:pt x="788" y="1154"/>
                </a:lnTo>
                <a:lnTo>
                  <a:pt x="803" y="1151"/>
                </a:lnTo>
                <a:lnTo>
                  <a:pt x="817" y="1149"/>
                </a:lnTo>
                <a:lnTo>
                  <a:pt x="833" y="1145"/>
                </a:lnTo>
                <a:lnTo>
                  <a:pt x="847" y="1140"/>
                </a:lnTo>
                <a:lnTo>
                  <a:pt x="862" y="1133"/>
                </a:lnTo>
                <a:lnTo>
                  <a:pt x="876" y="1127"/>
                </a:lnTo>
                <a:lnTo>
                  <a:pt x="890" y="1119"/>
                </a:lnTo>
                <a:lnTo>
                  <a:pt x="906" y="1110"/>
                </a:lnTo>
                <a:lnTo>
                  <a:pt x="920" y="1101"/>
                </a:lnTo>
                <a:lnTo>
                  <a:pt x="933" y="1091"/>
                </a:lnTo>
                <a:lnTo>
                  <a:pt x="945" y="1081"/>
                </a:lnTo>
                <a:lnTo>
                  <a:pt x="957" y="1071"/>
                </a:lnTo>
                <a:lnTo>
                  <a:pt x="967" y="1059"/>
                </a:lnTo>
                <a:lnTo>
                  <a:pt x="977" y="1046"/>
                </a:lnTo>
                <a:lnTo>
                  <a:pt x="986" y="1033"/>
                </a:lnTo>
                <a:lnTo>
                  <a:pt x="994" y="1021"/>
                </a:lnTo>
                <a:lnTo>
                  <a:pt x="1000" y="1007"/>
                </a:lnTo>
                <a:lnTo>
                  <a:pt x="1006" y="994"/>
                </a:lnTo>
                <a:lnTo>
                  <a:pt x="1011" y="980"/>
                </a:lnTo>
                <a:lnTo>
                  <a:pt x="1014" y="966"/>
                </a:lnTo>
                <a:lnTo>
                  <a:pt x="1017" y="950"/>
                </a:lnTo>
                <a:lnTo>
                  <a:pt x="1018" y="936"/>
                </a:lnTo>
                <a:lnTo>
                  <a:pt x="1018" y="922"/>
                </a:lnTo>
                <a:lnTo>
                  <a:pt x="1017" y="908"/>
                </a:lnTo>
                <a:lnTo>
                  <a:pt x="1016" y="894"/>
                </a:lnTo>
                <a:lnTo>
                  <a:pt x="1012" y="880"/>
                </a:lnTo>
                <a:lnTo>
                  <a:pt x="1008" y="867"/>
                </a:lnTo>
                <a:lnTo>
                  <a:pt x="1002" y="854"/>
                </a:lnTo>
                <a:lnTo>
                  <a:pt x="995" y="841"/>
                </a:lnTo>
                <a:lnTo>
                  <a:pt x="986" y="829"/>
                </a:lnTo>
                <a:lnTo>
                  <a:pt x="977" y="817"/>
                </a:lnTo>
                <a:lnTo>
                  <a:pt x="967" y="807"/>
                </a:lnTo>
                <a:lnTo>
                  <a:pt x="954" y="797"/>
                </a:lnTo>
                <a:lnTo>
                  <a:pt x="940" y="788"/>
                </a:lnTo>
                <a:lnTo>
                  <a:pt x="926" y="779"/>
                </a:lnTo>
                <a:lnTo>
                  <a:pt x="910" y="771"/>
                </a:lnTo>
                <a:lnTo>
                  <a:pt x="892" y="765"/>
                </a:lnTo>
                <a:lnTo>
                  <a:pt x="872" y="759"/>
                </a:lnTo>
                <a:lnTo>
                  <a:pt x="852" y="754"/>
                </a:lnTo>
                <a:lnTo>
                  <a:pt x="830" y="752"/>
                </a:lnTo>
                <a:lnTo>
                  <a:pt x="806" y="749"/>
                </a:lnTo>
                <a:lnTo>
                  <a:pt x="839" y="742"/>
                </a:lnTo>
                <a:lnTo>
                  <a:pt x="869" y="736"/>
                </a:lnTo>
                <a:lnTo>
                  <a:pt x="897" y="735"/>
                </a:lnTo>
                <a:lnTo>
                  <a:pt x="921" y="736"/>
                </a:lnTo>
                <a:lnTo>
                  <a:pt x="944" y="740"/>
                </a:lnTo>
                <a:lnTo>
                  <a:pt x="965" y="745"/>
                </a:lnTo>
                <a:lnTo>
                  <a:pt x="982" y="754"/>
                </a:lnTo>
                <a:lnTo>
                  <a:pt x="999" y="765"/>
                </a:lnTo>
                <a:lnTo>
                  <a:pt x="1013" y="777"/>
                </a:lnTo>
                <a:lnTo>
                  <a:pt x="1025" y="791"/>
                </a:lnTo>
                <a:lnTo>
                  <a:pt x="1035" y="807"/>
                </a:lnTo>
                <a:lnTo>
                  <a:pt x="1044" y="823"/>
                </a:lnTo>
                <a:lnTo>
                  <a:pt x="1050" y="841"/>
                </a:lnTo>
                <a:lnTo>
                  <a:pt x="1055" y="861"/>
                </a:lnTo>
                <a:lnTo>
                  <a:pt x="1058" y="880"/>
                </a:lnTo>
                <a:lnTo>
                  <a:pt x="1061" y="900"/>
                </a:lnTo>
                <a:lnTo>
                  <a:pt x="1061" y="921"/>
                </a:lnTo>
                <a:lnTo>
                  <a:pt x="1061" y="943"/>
                </a:lnTo>
                <a:lnTo>
                  <a:pt x="1058" y="963"/>
                </a:lnTo>
                <a:lnTo>
                  <a:pt x="1054" y="983"/>
                </a:lnTo>
                <a:lnTo>
                  <a:pt x="1050" y="1004"/>
                </a:lnTo>
                <a:lnTo>
                  <a:pt x="1044" y="1023"/>
                </a:lnTo>
                <a:lnTo>
                  <a:pt x="1038" y="1042"/>
                </a:lnTo>
                <a:lnTo>
                  <a:pt x="1030" y="1060"/>
                </a:lnTo>
                <a:lnTo>
                  <a:pt x="1022" y="1077"/>
                </a:lnTo>
                <a:lnTo>
                  <a:pt x="1013" y="1092"/>
                </a:lnTo>
                <a:lnTo>
                  <a:pt x="1003" y="1106"/>
                </a:lnTo>
                <a:lnTo>
                  <a:pt x="993" y="1119"/>
                </a:lnTo>
                <a:lnTo>
                  <a:pt x="982" y="1129"/>
                </a:lnTo>
                <a:lnTo>
                  <a:pt x="971" y="1137"/>
                </a:lnTo>
                <a:lnTo>
                  <a:pt x="959" y="1143"/>
                </a:lnTo>
                <a:lnTo>
                  <a:pt x="948" y="1147"/>
                </a:lnTo>
                <a:lnTo>
                  <a:pt x="911" y="1160"/>
                </a:lnTo>
                <a:lnTo>
                  <a:pt x="875" y="1172"/>
                </a:lnTo>
                <a:lnTo>
                  <a:pt x="842" y="1181"/>
                </a:lnTo>
                <a:lnTo>
                  <a:pt x="810" y="1188"/>
                </a:lnTo>
                <a:lnTo>
                  <a:pt x="780" y="1195"/>
                </a:lnTo>
                <a:lnTo>
                  <a:pt x="752" y="1199"/>
                </a:lnTo>
                <a:lnTo>
                  <a:pt x="725" y="1201"/>
                </a:lnTo>
                <a:lnTo>
                  <a:pt x="701" y="1202"/>
                </a:lnTo>
                <a:lnTo>
                  <a:pt x="677" y="1202"/>
                </a:lnTo>
                <a:lnTo>
                  <a:pt x="655" y="1201"/>
                </a:lnTo>
                <a:lnTo>
                  <a:pt x="634" y="1199"/>
                </a:lnTo>
                <a:lnTo>
                  <a:pt x="615" y="1196"/>
                </a:lnTo>
                <a:lnTo>
                  <a:pt x="597" y="1191"/>
                </a:lnTo>
                <a:lnTo>
                  <a:pt x="581" y="1186"/>
                </a:lnTo>
                <a:lnTo>
                  <a:pt x="565" y="1179"/>
                </a:lnTo>
                <a:lnTo>
                  <a:pt x="551" y="1173"/>
                </a:lnTo>
                <a:lnTo>
                  <a:pt x="537" y="1165"/>
                </a:lnTo>
                <a:lnTo>
                  <a:pt x="524" y="1158"/>
                </a:lnTo>
                <a:lnTo>
                  <a:pt x="501" y="1141"/>
                </a:lnTo>
                <a:lnTo>
                  <a:pt x="481" y="1123"/>
                </a:lnTo>
                <a:lnTo>
                  <a:pt x="463" y="1106"/>
                </a:lnTo>
                <a:lnTo>
                  <a:pt x="432" y="1076"/>
                </a:lnTo>
                <a:lnTo>
                  <a:pt x="418" y="1063"/>
                </a:lnTo>
                <a:lnTo>
                  <a:pt x="412" y="1059"/>
                </a:lnTo>
                <a:lnTo>
                  <a:pt x="404" y="1054"/>
                </a:lnTo>
                <a:close/>
                <a:moveTo>
                  <a:pt x="2900" y="1798"/>
                </a:moveTo>
                <a:lnTo>
                  <a:pt x="2900" y="2002"/>
                </a:lnTo>
                <a:lnTo>
                  <a:pt x="2858" y="2009"/>
                </a:lnTo>
                <a:lnTo>
                  <a:pt x="2813" y="2015"/>
                </a:lnTo>
                <a:lnTo>
                  <a:pt x="2768" y="2022"/>
                </a:lnTo>
                <a:lnTo>
                  <a:pt x="2721" y="2027"/>
                </a:lnTo>
                <a:lnTo>
                  <a:pt x="2672" y="2031"/>
                </a:lnTo>
                <a:lnTo>
                  <a:pt x="2622" y="2033"/>
                </a:lnTo>
                <a:lnTo>
                  <a:pt x="2570" y="2036"/>
                </a:lnTo>
                <a:lnTo>
                  <a:pt x="2517" y="2036"/>
                </a:lnTo>
                <a:lnTo>
                  <a:pt x="2424" y="2029"/>
                </a:lnTo>
                <a:lnTo>
                  <a:pt x="2333" y="2022"/>
                </a:lnTo>
                <a:lnTo>
                  <a:pt x="2289" y="2017"/>
                </a:lnTo>
                <a:lnTo>
                  <a:pt x="2246" y="2011"/>
                </a:lnTo>
                <a:lnTo>
                  <a:pt x="2202" y="2005"/>
                </a:lnTo>
                <a:lnTo>
                  <a:pt x="2160" y="1997"/>
                </a:lnTo>
                <a:lnTo>
                  <a:pt x="2118" y="1988"/>
                </a:lnTo>
                <a:lnTo>
                  <a:pt x="2077" y="1979"/>
                </a:lnTo>
                <a:lnTo>
                  <a:pt x="2037" y="1969"/>
                </a:lnTo>
                <a:lnTo>
                  <a:pt x="1997" y="1958"/>
                </a:lnTo>
                <a:lnTo>
                  <a:pt x="1959" y="1945"/>
                </a:lnTo>
                <a:lnTo>
                  <a:pt x="1922" y="1931"/>
                </a:lnTo>
                <a:lnTo>
                  <a:pt x="1885" y="1914"/>
                </a:lnTo>
                <a:lnTo>
                  <a:pt x="1849" y="1897"/>
                </a:lnTo>
                <a:lnTo>
                  <a:pt x="1814" y="1880"/>
                </a:lnTo>
                <a:lnTo>
                  <a:pt x="1780" y="1859"/>
                </a:lnTo>
                <a:lnTo>
                  <a:pt x="1748" y="1837"/>
                </a:lnTo>
                <a:lnTo>
                  <a:pt x="1716" y="1813"/>
                </a:lnTo>
                <a:lnTo>
                  <a:pt x="1685" y="1787"/>
                </a:lnTo>
                <a:lnTo>
                  <a:pt x="1654" y="1761"/>
                </a:lnTo>
                <a:lnTo>
                  <a:pt x="1626" y="1731"/>
                </a:lnTo>
                <a:lnTo>
                  <a:pt x="1598" y="1699"/>
                </a:lnTo>
                <a:lnTo>
                  <a:pt x="1573" y="1666"/>
                </a:lnTo>
                <a:lnTo>
                  <a:pt x="1547" y="1630"/>
                </a:lnTo>
                <a:lnTo>
                  <a:pt x="1523" y="1592"/>
                </a:lnTo>
                <a:lnTo>
                  <a:pt x="1501" y="1552"/>
                </a:lnTo>
                <a:lnTo>
                  <a:pt x="1479" y="1508"/>
                </a:lnTo>
                <a:lnTo>
                  <a:pt x="1459" y="1464"/>
                </a:lnTo>
                <a:lnTo>
                  <a:pt x="1439" y="1415"/>
                </a:lnTo>
                <a:lnTo>
                  <a:pt x="1423" y="1365"/>
                </a:lnTo>
                <a:lnTo>
                  <a:pt x="1390" y="1380"/>
                </a:lnTo>
                <a:lnTo>
                  <a:pt x="1360" y="1393"/>
                </a:lnTo>
                <a:lnTo>
                  <a:pt x="1332" y="1402"/>
                </a:lnTo>
                <a:lnTo>
                  <a:pt x="1319" y="1405"/>
                </a:lnTo>
                <a:lnTo>
                  <a:pt x="1306" y="1407"/>
                </a:lnTo>
                <a:lnTo>
                  <a:pt x="1294" y="1407"/>
                </a:lnTo>
                <a:lnTo>
                  <a:pt x="1282" y="1408"/>
                </a:lnTo>
                <a:lnTo>
                  <a:pt x="1270" y="1407"/>
                </a:lnTo>
                <a:lnTo>
                  <a:pt x="1260" y="1406"/>
                </a:lnTo>
                <a:lnTo>
                  <a:pt x="1250" y="1405"/>
                </a:lnTo>
                <a:lnTo>
                  <a:pt x="1240" y="1402"/>
                </a:lnTo>
                <a:lnTo>
                  <a:pt x="1231" y="1398"/>
                </a:lnTo>
                <a:lnTo>
                  <a:pt x="1222" y="1394"/>
                </a:lnTo>
                <a:lnTo>
                  <a:pt x="1214" y="1389"/>
                </a:lnTo>
                <a:lnTo>
                  <a:pt x="1206" y="1384"/>
                </a:lnTo>
                <a:lnTo>
                  <a:pt x="1192" y="1373"/>
                </a:lnTo>
                <a:lnTo>
                  <a:pt x="1181" y="1359"/>
                </a:lnTo>
                <a:lnTo>
                  <a:pt x="1171" y="1343"/>
                </a:lnTo>
                <a:lnTo>
                  <a:pt x="1163" y="1325"/>
                </a:lnTo>
                <a:lnTo>
                  <a:pt x="1157" y="1306"/>
                </a:lnTo>
                <a:lnTo>
                  <a:pt x="1153" y="1287"/>
                </a:lnTo>
                <a:lnTo>
                  <a:pt x="1150" y="1266"/>
                </a:lnTo>
                <a:lnTo>
                  <a:pt x="1150" y="1245"/>
                </a:lnTo>
                <a:lnTo>
                  <a:pt x="1151" y="1223"/>
                </a:lnTo>
                <a:lnTo>
                  <a:pt x="1155" y="1201"/>
                </a:lnTo>
                <a:lnTo>
                  <a:pt x="1160" y="1179"/>
                </a:lnTo>
                <a:lnTo>
                  <a:pt x="1167" y="1159"/>
                </a:lnTo>
                <a:lnTo>
                  <a:pt x="1176" y="1138"/>
                </a:lnTo>
                <a:lnTo>
                  <a:pt x="1187" y="1118"/>
                </a:lnTo>
                <a:lnTo>
                  <a:pt x="1200" y="1099"/>
                </a:lnTo>
                <a:lnTo>
                  <a:pt x="1214" y="1081"/>
                </a:lnTo>
                <a:lnTo>
                  <a:pt x="1231" y="1064"/>
                </a:lnTo>
                <a:lnTo>
                  <a:pt x="1249" y="1050"/>
                </a:lnTo>
                <a:lnTo>
                  <a:pt x="1269" y="1037"/>
                </a:lnTo>
                <a:lnTo>
                  <a:pt x="1290" y="1027"/>
                </a:lnTo>
                <a:lnTo>
                  <a:pt x="1314" y="1019"/>
                </a:lnTo>
                <a:lnTo>
                  <a:pt x="1326" y="1015"/>
                </a:lnTo>
                <a:lnTo>
                  <a:pt x="1340" y="1013"/>
                </a:lnTo>
                <a:lnTo>
                  <a:pt x="1352" y="1012"/>
                </a:lnTo>
                <a:lnTo>
                  <a:pt x="1366" y="1010"/>
                </a:lnTo>
                <a:lnTo>
                  <a:pt x="1388" y="972"/>
                </a:lnTo>
                <a:lnTo>
                  <a:pt x="1413" y="937"/>
                </a:lnTo>
                <a:lnTo>
                  <a:pt x="1437" y="908"/>
                </a:lnTo>
                <a:lnTo>
                  <a:pt x="1461" y="881"/>
                </a:lnTo>
                <a:lnTo>
                  <a:pt x="1487" y="858"/>
                </a:lnTo>
                <a:lnTo>
                  <a:pt x="1512" y="838"/>
                </a:lnTo>
                <a:lnTo>
                  <a:pt x="1539" y="821"/>
                </a:lnTo>
                <a:lnTo>
                  <a:pt x="1566" y="808"/>
                </a:lnTo>
                <a:lnTo>
                  <a:pt x="1592" y="798"/>
                </a:lnTo>
                <a:lnTo>
                  <a:pt x="1619" y="790"/>
                </a:lnTo>
                <a:lnTo>
                  <a:pt x="1645" y="785"/>
                </a:lnTo>
                <a:lnTo>
                  <a:pt x="1671" y="783"/>
                </a:lnTo>
                <a:lnTo>
                  <a:pt x="1697" y="783"/>
                </a:lnTo>
                <a:lnTo>
                  <a:pt x="1722" y="785"/>
                </a:lnTo>
                <a:lnTo>
                  <a:pt x="1748" y="789"/>
                </a:lnTo>
                <a:lnTo>
                  <a:pt x="1772" y="794"/>
                </a:lnTo>
                <a:lnTo>
                  <a:pt x="1797" y="802"/>
                </a:lnTo>
                <a:lnTo>
                  <a:pt x="1820" y="811"/>
                </a:lnTo>
                <a:lnTo>
                  <a:pt x="1841" y="821"/>
                </a:lnTo>
                <a:lnTo>
                  <a:pt x="1862" y="834"/>
                </a:lnTo>
                <a:lnTo>
                  <a:pt x="1882" y="845"/>
                </a:lnTo>
                <a:lnTo>
                  <a:pt x="1901" y="859"/>
                </a:lnTo>
                <a:lnTo>
                  <a:pt x="1918" y="873"/>
                </a:lnTo>
                <a:lnTo>
                  <a:pt x="1935" y="889"/>
                </a:lnTo>
                <a:lnTo>
                  <a:pt x="1950" y="904"/>
                </a:lnTo>
                <a:lnTo>
                  <a:pt x="1963" y="919"/>
                </a:lnTo>
                <a:lnTo>
                  <a:pt x="1974" y="935"/>
                </a:lnTo>
                <a:lnTo>
                  <a:pt x="1983" y="951"/>
                </a:lnTo>
                <a:lnTo>
                  <a:pt x="1991" y="967"/>
                </a:lnTo>
                <a:lnTo>
                  <a:pt x="1997" y="981"/>
                </a:lnTo>
                <a:lnTo>
                  <a:pt x="2000" y="996"/>
                </a:lnTo>
                <a:lnTo>
                  <a:pt x="2001" y="1010"/>
                </a:lnTo>
                <a:lnTo>
                  <a:pt x="2021" y="1003"/>
                </a:lnTo>
                <a:lnTo>
                  <a:pt x="2040" y="996"/>
                </a:lnTo>
                <a:lnTo>
                  <a:pt x="2058" y="991"/>
                </a:lnTo>
                <a:lnTo>
                  <a:pt x="2076" y="987"/>
                </a:lnTo>
                <a:lnTo>
                  <a:pt x="2093" y="983"/>
                </a:lnTo>
                <a:lnTo>
                  <a:pt x="2110" y="981"/>
                </a:lnTo>
                <a:lnTo>
                  <a:pt x="2127" y="980"/>
                </a:lnTo>
                <a:lnTo>
                  <a:pt x="2143" y="978"/>
                </a:lnTo>
                <a:lnTo>
                  <a:pt x="2175" y="980"/>
                </a:lnTo>
                <a:lnTo>
                  <a:pt x="2206" y="982"/>
                </a:lnTo>
                <a:lnTo>
                  <a:pt x="2234" y="989"/>
                </a:lnTo>
                <a:lnTo>
                  <a:pt x="2262" y="996"/>
                </a:lnTo>
                <a:lnTo>
                  <a:pt x="2288" y="1008"/>
                </a:lnTo>
                <a:lnTo>
                  <a:pt x="2312" y="1021"/>
                </a:lnTo>
                <a:lnTo>
                  <a:pt x="2335" y="1036"/>
                </a:lnTo>
                <a:lnTo>
                  <a:pt x="2357" y="1053"/>
                </a:lnTo>
                <a:lnTo>
                  <a:pt x="2378" y="1071"/>
                </a:lnTo>
                <a:lnTo>
                  <a:pt x="2396" y="1090"/>
                </a:lnTo>
                <a:lnTo>
                  <a:pt x="2413" y="1111"/>
                </a:lnTo>
                <a:lnTo>
                  <a:pt x="2429" y="1133"/>
                </a:lnTo>
                <a:lnTo>
                  <a:pt x="2443" y="1155"/>
                </a:lnTo>
                <a:lnTo>
                  <a:pt x="2454" y="1179"/>
                </a:lnTo>
                <a:lnTo>
                  <a:pt x="2466" y="1202"/>
                </a:lnTo>
                <a:lnTo>
                  <a:pt x="2475" y="1227"/>
                </a:lnTo>
                <a:lnTo>
                  <a:pt x="2483" y="1250"/>
                </a:lnTo>
                <a:lnTo>
                  <a:pt x="2489" y="1274"/>
                </a:lnTo>
                <a:lnTo>
                  <a:pt x="2493" y="1297"/>
                </a:lnTo>
                <a:lnTo>
                  <a:pt x="2495" y="1320"/>
                </a:lnTo>
                <a:lnTo>
                  <a:pt x="2497" y="1343"/>
                </a:lnTo>
                <a:lnTo>
                  <a:pt x="2497" y="1364"/>
                </a:lnTo>
                <a:lnTo>
                  <a:pt x="2494" y="1384"/>
                </a:lnTo>
                <a:lnTo>
                  <a:pt x="2490" y="1403"/>
                </a:lnTo>
                <a:lnTo>
                  <a:pt x="2485" y="1420"/>
                </a:lnTo>
                <a:lnTo>
                  <a:pt x="2479" y="1437"/>
                </a:lnTo>
                <a:lnTo>
                  <a:pt x="2470" y="1449"/>
                </a:lnTo>
                <a:lnTo>
                  <a:pt x="2460" y="1462"/>
                </a:lnTo>
                <a:lnTo>
                  <a:pt x="2436" y="1487"/>
                </a:lnTo>
                <a:lnTo>
                  <a:pt x="2413" y="1507"/>
                </a:lnTo>
                <a:lnTo>
                  <a:pt x="2393" y="1525"/>
                </a:lnTo>
                <a:lnTo>
                  <a:pt x="2371" y="1540"/>
                </a:lnTo>
                <a:lnTo>
                  <a:pt x="2351" y="1553"/>
                </a:lnTo>
                <a:lnTo>
                  <a:pt x="2332" y="1562"/>
                </a:lnTo>
                <a:lnTo>
                  <a:pt x="2312" y="1569"/>
                </a:lnTo>
                <a:lnTo>
                  <a:pt x="2294" y="1572"/>
                </a:lnTo>
                <a:lnTo>
                  <a:pt x="2277" y="1575"/>
                </a:lnTo>
                <a:lnTo>
                  <a:pt x="2260" y="1575"/>
                </a:lnTo>
                <a:lnTo>
                  <a:pt x="2245" y="1572"/>
                </a:lnTo>
                <a:lnTo>
                  <a:pt x="2229" y="1570"/>
                </a:lnTo>
                <a:lnTo>
                  <a:pt x="2215" y="1563"/>
                </a:lnTo>
                <a:lnTo>
                  <a:pt x="2201" y="1557"/>
                </a:lnTo>
                <a:lnTo>
                  <a:pt x="2188" y="1548"/>
                </a:lnTo>
                <a:lnTo>
                  <a:pt x="2177" y="1539"/>
                </a:lnTo>
                <a:lnTo>
                  <a:pt x="2166" y="1529"/>
                </a:lnTo>
                <a:lnTo>
                  <a:pt x="2156" y="1517"/>
                </a:lnTo>
                <a:lnTo>
                  <a:pt x="2147" y="1506"/>
                </a:lnTo>
                <a:lnTo>
                  <a:pt x="2140" y="1493"/>
                </a:lnTo>
                <a:lnTo>
                  <a:pt x="2132" y="1480"/>
                </a:lnTo>
                <a:lnTo>
                  <a:pt x="2127" y="1467"/>
                </a:lnTo>
                <a:lnTo>
                  <a:pt x="2122" y="1453"/>
                </a:lnTo>
                <a:lnTo>
                  <a:pt x="2118" y="1440"/>
                </a:lnTo>
                <a:lnTo>
                  <a:pt x="2115" y="1428"/>
                </a:lnTo>
                <a:lnTo>
                  <a:pt x="2113" y="1415"/>
                </a:lnTo>
                <a:lnTo>
                  <a:pt x="2113" y="1403"/>
                </a:lnTo>
                <a:lnTo>
                  <a:pt x="2113" y="1392"/>
                </a:lnTo>
                <a:lnTo>
                  <a:pt x="2115" y="1382"/>
                </a:lnTo>
                <a:lnTo>
                  <a:pt x="2118" y="1373"/>
                </a:lnTo>
                <a:lnTo>
                  <a:pt x="2122" y="1364"/>
                </a:lnTo>
                <a:lnTo>
                  <a:pt x="2128" y="1357"/>
                </a:lnTo>
                <a:lnTo>
                  <a:pt x="2136" y="1344"/>
                </a:lnTo>
                <a:lnTo>
                  <a:pt x="2145" y="1333"/>
                </a:lnTo>
                <a:lnTo>
                  <a:pt x="2154" y="1323"/>
                </a:lnTo>
                <a:lnTo>
                  <a:pt x="2164" y="1314"/>
                </a:lnTo>
                <a:lnTo>
                  <a:pt x="2173" y="1307"/>
                </a:lnTo>
                <a:lnTo>
                  <a:pt x="2182" y="1301"/>
                </a:lnTo>
                <a:lnTo>
                  <a:pt x="2191" y="1297"/>
                </a:lnTo>
                <a:lnTo>
                  <a:pt x="2200" y="1295"/>
                </a:lnTo>
                <a:lnTo>
                  <a:pt x="2210" y="1293"/>
                </a:lnTo>
                <a:lnTo>
                  <a:pt x="2219" y="1292"/>
                </a:lnTo>
                <a:lnTo>
                  <a:pt x="2228" y="1292"/>
                </a:lnTo>
                <a:lnTo>
                  <a:pt x="2236" y="1293"/>
                </a:lnTo>
                <a:lnTo>
                  <a:pt x="2245" y="1296"/>
                </a:lnTo>
                <a:lnTo>
                  <a:pt x="2253" y="1300"/>
                </a:lnTo>
                <a:lnTo>
                  <a:pt x="2269" y="1307"/>
                </a:lnTo>
                <a:lnTo>
                  <a:pt x="2283" y="1319"/>
                </a:lnTo>
                <a:lnTo>
                  <a:pt x="2296" y="1330"/>
                </a:lnTo>
                <a:lnTo>
                  <a:pt x="2307" y="1344"/>
                </a:lnTo>
                <a:lnTo>
                  <a:pt x="2315" y="1360"/>
                </a:lnTo>
                <a:lnTo>
                  <a:pt x="2321" y="1374"/>
                </a:lnTo>
                <a:lnTo>
                  <a:pt x="2325" y="1388"/>
                </a:lnTo>
                <a:lnTo>
                  <a:pt x="2325" y="1396"/>
                </a:lnTo>
                <a:lnTo>
                  <a:pt x="2325" y="1402"/>
                </a:lnTo>
                <a:lnTo>
                  <a:pt x="2325" y="1407"/>
                </a:lnTo>
                <a:lnTo>
                  <a:pt x="2323" y="1414"/>
                </a:lnTo>
                <a:lnTo>
                  <a:pt x="2329" y="1401"/>
                </a:lnTo>
                <a:lnTo>
                  <a:pt x="2334" y="1389"/>
                </a:lnTo>
                <a:lnTo>
                  <a:pt x="2338" y="1376"/>
                </a:lnTo>
                <a:lnTo>
                  <a:pt x="2340" y="1365"/>
                </a:lnTo>
                <a:lnTo>
                  <a:pt x="2342" y="1353"/>
                </a:lnTo>
                <a:lnTo>
                  <a:pt x="2340" y="1343"/>
                </a:lnTo>
                <a:lnTo>
                  <a:pt x="2339" y="1332"/>
                </a:lnTo>
                <a:lnTo>
                  <a:pt x="2337" y="1321"/>
                </a:lnTo>
                <a:lnTo>
                  <a:pt x="2334" y="1311"/>
                </a:lnTo>
                <a:lnTo>
                  <a:pt x="2329" y="1301"/>
                </a:lnTo>
                <a:lnTo>
                  <a:pt x="2324" y="1292"/>
                </a:lnTo>
                <a:lnTo>
                  <a:pt x="2317" y="1283"/>
                </a:lnTo>
                <a:lnTo>
                  <a:pt x="2311" y="1274"/>
                </a:lnTo>
                <a:lnTo>
                  <a:pt x="2303" y="1266"/>
                </a:lnTo>
                <a:lnTo>
                  <a:pt x="2296" y="1259"/>
                </a:lnTo>
                <a:lnTo>
                  <a:pt x="2287" y="1252"/>
                </a:lnTo>
                <a:lnTo>
                  <a:pt x="2278" y="1246"/>
                </a:lnTo>
                <a:lnTo>
                  <a:pt x="2269" y="1241"/>
                </a:lnTo>
                <a:lnTo>
                  <a:pt x="2248" y="1232"/>
                </a:lnTo>
                <a:lnTo>
                  <a:pt x="2238" y="1228"/>
                </a:lnTo>
                <a:lnTo>
                  <a:pt x="2227" y="1225"/>
                </a:lnTo>
                <a:lnTo>
                  <a:pt x="2216" y="1224"/>
                </a:lnTo>
                <a:lnTo>
                  <a:pt x="2206" y="1223"/>
                </a:lnTo>
                <a:lnTo>
                  <a:pt x="2195" y="1223"/>
                </a:lnTo>
                <a:lnTo>
                  <a:pt x="2184" y="1224"/>
                </a:lnTo>
                <a:lnTo>
                  <a:pt x="2174" y="1225"/>
                </a:lnTo>
                <a:lnTo>
                  <a:pt x="2164" y="1228"/>
                </a:lnTo>
                <a:lnTo>
                  <a:pt x="2154" y="1232"/>
                </a:lnTo>
                <a:lnTo>
                  <a:pt x="2145" y="1237"/>
                </a:lnTo>
                <a:lnTo>
                  <a:pt x="2136" y="1242"/>
                </a:lnTo>
                <a:lnTo>
                  <a:pt x="2127" y="1250"/>
                </a:lnTo>
                <a:lnTo>
                  <a:pt x="2105" y="1272"/>
                </a:lnTo>
                <a:lnTo>
                  <a:pt x="2085" y="1292"/>
                </a:lnTo>
                <a:lnTo>
                  <a:pt x="2069" y="1314"/>
                </a:lnTo>
                <a:lnTo>
                  <a:pt x="2055" y="1336"/>
                </a:lnTo>
                <a:lnTo>
                  <a:pt x="2045" y="1357"/>
                </a:lnTo>
                <a:lnTo>
                  <a:pt x="2037" y="1378"/>
                </a:lnTo>
                <a:lnTo>
                  <a:pt x="2031" y="1398"/>
                </a:lnTo>
                <a:lnTo>
                  <a:pt x="2028" y="1419"/>
                </a:lnTo>
                <a:lnTo>
                  <a:pt x="2028" y="1439"/>
                </a:lnTo>
                <a:lnTo>
                  <a:pt x="2029" y="1458"/>
                </a:lnTo>
                <a:lnTo>
                  <a:pt x="2033" y="1478"/>
                </a:lnTo>
                <a:lnTo>
                  <a:pt x="2038" y="1496"/>
                </a:lnTo>
                <a:lnTo>
                  <a:pt x="2046" y="1513"/>
                </a:lnTo>
                <a:lnTo>
                  <a:pt x="2056" y="1530"/>
                </a:lnTo>
                <a:lnTo>
                  <a:pt x="2067" y="1545"/>
                </a:lnTo>
                <a:lnTo>
                  <a:pt x="2079" y="1561"/>
                </a:lnTo>
                <a:lnTo>
                  <a:pt x="2092" y="1575"/>
                </a:lnTo>
                <a:lnTo>
                  <a:pt x="2108" y="1588"/>
                </a:lnTo>
                <a:lnTo>
                  <a:pt x="2124" y="1601"/>
                </a:lnTo>
                <a:lnTo>
                  <a:pt x="2141" y="1611"/>
                </a:lnTo>
                <a:lnTo>
                  <a:pt x="2159" y="1621"/>
                </a:lnTo>
                <a:lnTo>
                  <a:pt x="2178" y="1630"/>
                </a:lnTo>
                <a:lnTo>
                  <a:pt x="2197" y="1636"/>
                </a:lnTo>
                <a:lnTo>
                  <a:pt x="2218" y="1643"/>
                </a:lnTo>
                <a:lnTo>
                  <a:pt x="2237" y="1647"/>
                </a:lnTo>
                <a:lnTo>
                  <a:pt x="2259" y="1650"/>
                </a:lnTo>
                <a:lnTo>
                  <a:pt x="2279" y="1652"/>
                </a:lnTo>
                <a:lnTo>
                  <a:pt x="2300" y="1650"/>
                </a:lnTo>
                <a:lnTo>
                  <a:pt x="2320" y="1649"/>
                </a:lnTo>
                <a:lnTo>
                  <a:pt x="2340" y="1645"/>
                </a:lnTo>
                <a:lnTo>
                  <a:pt x="2361" y="1639"/>
                </a:lnTo>
                <a:lnTo>
                  <a:pt x="2380" y="1631"/>
                </a:lnTo>
                <a:lnTo>
                  <a:pt x="2407" y="1657"/>
                </a:lnTo>
                <a:lnTo>
                  <a:pt x="2434" y="1680"/>
                </a:lnTo>
                <a:lnTo>
                  <a:pt x="2463" y="1700"/>
                </a:lnTo>
                <a:lnTo>
                  <a:pt x="2494" y="1720"/>
                </a:lnTo>
                <a:lnTo>
                  <a:pt x="2525" y="1736"/>
                </a:lnTo>
                <a:lnTo>
                  <a:pt x="2558" y="1750"/>
                </a:lnTo>
                <a:lnTo>
                  <a:pt x="2591" y="1762"/>
                </a:lnTo>
                <a:lnTo>
                  <a:pt x="2625" y="1772"/>
                </a:lnTo>
                <a:lnTo>
                  <a:pt x="2659" y="1781"/>
                </a:lnTo>
                <a:lnTo>
                  <a:pt x="2694" y="1787"/>
                </a:lnTo>
                <a:lnTo>
                  <a:pt x="2728" y="1793"/>
                </a:lnTo>
                <a:lnTo>
                  <a:pt x="2763" y="1796"/>
                </a:lnTo>
                <a:lnTo>
                  <a:pt x="2797" y="1799"/>
                </a:lnTo>
                <a:lnTo>
                  <a:pt x="2832" y="1799"/>
                </a:lnTo>
                <a:lnTo>
                  <a:pt x="2867" y="1799"/>
                </a:lnTo>
                <a:lnTo>
                  <a:pt x="2900" y="1798"/>
                </a:lnTo>
                <a:close/>
              </a:path>
            </a:pathLst>
          </a:custGeom>
          <a:solidFill>
            <a:schemeClr val="bg1">
              <a:lumMod val="95000"/>
              <a:alpha val="1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50" name="KSO_Shape"/>
          <p:cNvSpPr/>
          <p:nvPr/>
        </p:nvSpPr>
        <p:spPr>
          <a:xfrm>
            <a:off x="3985200" y="217080"/>
            <a:ext cx="940680" cy="416160"/>
          </a:xfrm>
          <a:custGeom>
            <a:avLst/>
            <a:gdLst>
              <a:gd name="textAreaLeft" fmla="*/ 0 w 940680"/>
              <a:gd name="textAreaRight" fmla="*/ 941040 w 9406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4817" h="2132">
                <a:moveTo>
                  <a:pt x="2900" y="1730"/>
                </a:moveTo>
                <a:lnTo>
                  <a:pt x="2900" y="1730"/>
                </a:lnTo>
                <a:lnTo>
                  <a:pt x="2928" y="1729"/>
                </a:lnTo>
                <a:lnTo>
                  <a:pt x="2957" y="1725"/>
                </a:lnTo>
                <a:lnTo>
                  <a:pt x="2986" y="1721"/>
                </a:lnTo>
                <a:lnTo>
                  <a:pt x="3012" y="1717"/>
                </a:lnTo>
                <a:lnTo>
                  <a:pt x="3038" y="1712"/>
                </a:lnTo>
                <a:lnTo>
                  <a:pt x="3064" y="1705"/>
                </a:lnTo>
                <a:lnTo>
                  <a:pt x="3087" y="1699"/>
                </a:lnTo>
                <a:lnTo>
                  <a:pt x="3110" y="1693"/>
                </a:lnTo>
                <a:lnTo>
                  <a:pt x="3130" y="1685"/>
                </a:lnTo>
                <a:lnTo>
                  <a:pt x="3149" y="1677"/>
                </a:lnTo>
                <a:lnTo>
                  <a:pt x="3167" y="1670"/>
                </a:lnTo>
                <a:lnTo>
                  <a:pt x="3183" y="1661"/>
                </a:lnTo>
                <a:lnTo>
                  <a:pt x="3197" y="1653"/>
                </a:lnTo>
                <a:lnTo>
                  <a:pt x="3208" y="1644"/>
                </a:lnTo>
                <a:lnTo>
                  <a:pt x="3217" y="1635"/>
                </a:lnTo>
                <a:lnTo>
                  <a:pt x="3224" y="1626"/>
                </a:lnTo>
                <a:lnTo>
                  <a:pt x="3253" y="1601"/>
                </a:lnTo>
                <a:lnTo>
                  <a:pt x="3284" y="1576"/>
                </a:lnTo>
                <a:lnTo>
                  <a:pt x="3313" y="1553"/>
                </a:lnTo>
                <a:lnTo>
                  <a:pt x="3341" y="1531"/>
                </a:lnTo>
                <a:lnTo>
                  <a:pt x="3371" y="1512"/>
                </a:lnTo>
                <a:lnTo>
                  <a:pt x="3399" y="1494"/>
                </a:lnTo>
                <a:lnTo>
                  <a:pt x="3427" y="1478"/>
                </a:lnTo>
                <a:lnTo>
                  <a:pt x="3455" y="1462"/>
                </a:lnTo>
                <a:lnTo>
                  <a:pt x="3482" y="1448"/>
                </a:lnTo>
                <a:lnTo>
                  <a:pt x="3509" y="1435"/>
                </a:lnTo>
                <a:lnTo>
                  <a:pt x="3536" y="1425"/>
                </a:lnTo>
                <a:lnTo>
                  <a:pt x="3562" y="1415"/>
                </a:lnTo>
                <a:lnTo>
                  <a:pt x="3587" y="1406"/>
                </a:lnTo>
                <a:lnTo>
                  <a:pt x="3613" y="1400"/>
                </a:lnTo>
                <a:lnTo>
                  <a:pt x="3637" y="1393"/>
                </a:lnTo>
                <a:lnTo>
                  <a:pt x="3661" y="1388"/>
                </a:lnTo>
                <a:lnTo>
                  <a:pt x="3684" y="1384"/>
                </a:lnTo>
                <a:lnTo>
                  <a:pt x="3707" y="1382"/>
                </a:lnTo>
                <a:lnTo>
                  <a:pt x="3731" y="1379"/>
                </a:lnTo>
                <a:lnTo>
                  <a:pt x="3752" y="1378"/>
                </a:lnTo>
                <a:lnTo>
                  <a:pt x="3774" y="1378"/>
                </a:lnTo>
                <a:lnTo>
                  <a:pt x="3794" y="1379"/>
                </a:lnTo>
                <a:lnTo>
                  <a:pt x="3815" y="1380"/>
                </a:lnTo>
                <a:lnTo>
                  <a:pt x="3834" y="1383"/>
                </a:lnTo>
                <a:lnTo>
                  <a:pt x="3852" y="1387"/>
                </a:lnTo>
                <a:lnTo>
                  <a:pt x="3870" y="1391"/>
                </a:lnTo>
                <a:lnTo>
                  <a:pt x="3888" y="1396"/>
                </a:lnTo>
                <a:lnTo>
                  <a:pt x="3905" y="1401"/>
                </a:lnTo>
                <a:lnTo>
                  <a:pt x="3920" y="1406"/>
                </a:lnTo>
                <a:lnTo>
                  <a:pt x="3935" y="1412"/>
                </a:lnTo>
                <a:lnTo>
                  <a:pt x="3949" y="1420"/>
                </a:lnTo>
                <a:lnTo>
                  <a:pt x="3962" y="1428"/>
                </a:lnTo>
                <a:lnTo>
                  <a:pt x="4020" y="1464"/>
                </a:lnTo>
                <a:lnTo>
                  <a:pt x="4071" y="1497"/>
                </a:lnTo>
                <a:lnTo>
                  <a:pt x="4161" y="1557"/>
                </a:lnTo>
                <a:lnTo>
                  <a:pt x="4237" y="1609"/>
                </a:lnTo>
                <a:lnTo>
                  <a:pt x="4272" y="1634"/>
                </a:lnTo>
                <a:lnTo>
                  <a:pt x="4308" y="1654"/>
                </a:lnTo>
                <a:lnTo>
                  <a:pt x="4342" y="1675"/>
                </a:lnTo>
                <a:lnTo>
                  <a:pt x="4378" y="1691"/>
                </a:lnTo>
                <a:lnTo>
                  <a:pt x="4414" y="1708"/>
                </a:lnTo>
                <a:lnTo>
                  <a:pt x="4454" y="1722"/>
                </a:lnTo>
                <a:lnTo>
                  <a:pt x="4496" y="1734"/>
                </a:lnTo>
                <a:lnTo>
                  <a:pt x="4542" y="1744"/>
                </a:lnTo>
                <a:lnTo>
                  <a:pt x="4593" y="1753"/>
                </a:lnTo>
                <a:lnTo>
                  <a:pt x="4649" y="1759"/>
                </a:lnTo>
                <a:lnTo>
                  <a:pt x="4582" y="1718"/>
                </a:lnTo>
                <a:lnTo>
                  <a:pt x="4524" y="1681"/>
                </a:lnTo>
                <a:lnTo>
                  <a:pt x="4473" y="1649"/>
                </a:lnTo>
                <a:lnTo>
                  <a:pt x="4431" y="1620"/>
                </a:lnTo>
                <a:lnTo>
                  <a:pt x="4395" y="1594"/>
                </a:lnTo>
                <a:lnTo>
                  <a:pt x="4363" y="1571"/>
                </a:lnTo>
                <a:lnTo>
                  <a:pt x="4337" y="1549"/>
                </a:lnTo>
                <a:lnTo>
                  <a:pt x="4315" y="1530"/>
                </a:lnTo>
                <a:lnTo>
                  <a:pt x="4296" y="1512"/>
                </a:lnTo>
                <a:lnTo>
                  <a:pt x="4278" y="1496"/>
                </a:lnTo>
                <a:lnTo>
                  <a:pt x="4248" y="1461"/>
                </a:lnTo>
                <a:lnTo>
                  <a:pt x="4214" y="1425"/>
                </a:lnTo>
                <a:lnTo>
                  <a:pt x="4195" y="1405"/>
                </a:lnTo>
                <a:lnTo>
                  <a:pt x="4173" y="1383"/>
                </a:lnTo>
                <a:lnTo>
                  <a:pt x="4138" y="1353"/>
                </a:lnTo>
                <a:lnTo>
                  <a:pt x="4102" y="1328"/>
                </a:lnTo>
                <a:lnTo>
                  <a:pt x="4066" y="1305"/>
                </a:lnTo>
                <a:lnTo>
                  <a:pt x="4030" y="1286"/>
                </a:lnTo>
                <a:lnTo>
                  <a:pt x="3995" y="1269"/>
                </a:lnTo>
                <a:lnTo>
                  <a:pt x="3961" y="1255"/>
                </a:lnTo>
                <a:lnTo>
                  <a:pt x="3926" y="1243"/>
                </a:lnTo>
                <a:lnTo>
                  <a:pt x="3892" y="1236"/>
                </a:lnTo>
                <a:lnTo>
                  <a:pt x="3858" y="1229"/>
                </a:lnTo>
                <a:lnTo>
                  <a:pt x="3825" y="1224"/>
                </a:lnTo>
                <a:lnTo>
                  <a:pt x="3793" y="1223"/>
                </a:lnTo>
                <a:lnTo>
                  <a:pt x="3761" y="1222"/>
                </a:lnTo>
                <a:lnTo>
                  <a:pt x="3731" y="1224"/>
                </a:lnTo>
                <a:lnTo>
                  <a:pt x="3700" y="1227"/>
                </a:lnTo>
                <a:lnTo>
                  <a:pt x="3670" y="1232"/>
                </a:lnTo>
                <a:lnTo>
                  <a:pt x="3641" y="1238"/>
                </a:lnTo>
                <a:lnTo>
                  <a:pt x="3613" y="1245"/>
                </a:lnTo>
                <a:lnTo>
                  <a:pt x="3586" y="1254"/>
                </a:lnTo>
                <a:lnTo>
                  <a:pt x="3560" y="1263"/>
                </a:lnTo>
                <a:lnTo>
                  <a:pt x="3535" y="1273"/>
                </a:lnTo>
                <a:lnTo>
                  <a:pt x="3510" y="1284"/>
                </a:lnTo>
                <a:lnTo>
                  <a:pt x="3487" y="1296"/>
                </a:lnTo>
                <a:lnTo>
                  <a:pt x="3464" y="1307"/>
                </a:lnTo>
                <a:lnTo>
                  <a:pt x="3444" y="1320"/>
                </a:lnTo>
                <a:lnTo>
                  <a:pt x="3405" y="1344"/>
                </a:lnTo>
                <a:lnTo>
                  <a:pt x="3371" y="1370"/>
                </a:lnTo>
                <a:lnTo>
                  <a:pt x="3343" y="1392"/>
                </a:lnTo>
                <a:lnTo>
                  <a:pt x="3321" y="1412"/>
                </a:lnTo>
                <a:lnTo>
                  <a:pt x="3280" y="1428"/>
                </a:lnTo>
                <a:lnTo>
                  <a:pt x="3242" y="1439"/>
                </a:lnTo>
                <a:lnTo>
                  <a:pt x="3206" y="1448"/>
                </a:lnTo>
                <a:lnTo>
                  <a:pt x="3171" y="1453"/>
                </a:lnTo>
                <a:lnTo>
                  <a:pt x="3139" y="1457"/>
                </a:lnTo>
                <a:lnTo>
                  <a:pt x="3108" y="1457"/>
                </a:lnTo>
                <a:lnTo>
                  <a:pt x="3079" y="1456"/>
                </a:lnTo>
                <a:lnTo>
                  <a:pt x="3052" y="1452"/>
                </a:lnTo>
                <a:lnTo>
                  <a:pt x="3028" y="1446"/>
                </a:lnTo>
                <a:lnTo>
                  <a:pt x="3004" y="1438"/>
                </a:lnTo>
                <a:lnTo>
                  <a:pt x="2982" y="1428"/>
                </a:lnTo>
                <a:lnTo>
                  <a:pt x="2963" y="1416"/>
                </a:lnTo>
                <a:lnTo>
                  <a:pt x="2945" y="1403"/>
                </a:lnTo>
                <a:lnTo>
                  <a:pt x="2928" y="1389"/>
                </a:lnTo>
                <a:lnTo>
                  <a:pt x="2913" y="1374"/>
                </a:lnTo>
                <a:lnTo>
                  <a:pt x="2900" y="1357"/>
                </a:lnTo>
                <a:lnTo>
                  <a:pt x="2900" y="1730"/>
                </a:lnTo>
                <a:close/>
                <a:moveTo>
                  <a:pt x="2900" y="1073"/>
                </a:moveTo>
                <a:lnTo>
                  <a:pt x="2900" y="469"/>
                </a:lnTo>
                <a:lnTo>
                  <a:pt x="2915" y="469"/>
                </a:lnTo>
                <a:lnTo>
                  <a:pt x="2931" y="469"/>
                </a:lnTo>
                <a:lnTo>
                  <a:pt x="2947" y="469"/>
                </a:lnTo>
                <a:lnTo>
                  <a:pt x="2964" y="470"/>
                </a:lnTo>
                <a:lnTo>
                  <a:pt x="2980" y="473"/>
                </a:lnTo>
                <a:lnTo>
                  <a:pt x="2998" y="477"/>
                </a:lnTo>
                <a:lnTo>
                  <a:pt x="3015" y="480"/>
                </a:lnTo>
                <a:lnTo>
                  <a:pt x="3032" y="486"/>
                </a:lnTo>
                <a:lnTo>
                  <a:pt x="3048" y="492"/>
                </a:lnTo>
                <a:lnTo>
                  <a:pt x="3065" y="498"/>
                </a:lnTo>
                <a:lnTo>
                  <a:pt x="3082" y="506"/>
                </a:lnTo>
                <a:lnTo>
                  <a:pt x="3097" y="515"/>
                </a:lnTo>
                <a:lnTo>
                  <a:pt x="3112" y="524"/>
                </a:lnTo>
                <a:lnTo>
                  <a:pt x="3128" y="534"/>
                </a:lnTo>
                <a:lnTo>
                  <a:pt x="3142" y="546"/>
                </a:lnTo>
                <a:lnTo>
                  <a:pt x="3155" y="558"/>
                </a:lnTo>
                <a:lnTo>
                  <a:pt x="3166" y="571"/>
                </a:lnTo>
                <a:lnTo>
                  <a:pt x="3176" y="585"/>
                </a:lnTo>
                <a:lnTo>
                  <a:pt x="3187" y="601"/>
                </a:lnTo>
                <a:lnTo>
                  <a:pt x="3195" y="616"/>
                </a:lnTo>
                <a:lnTo>
                  <a:pt x="3202" y="634"/>
                </a:lnTo>
                <a:lnTo>
                  <a:pt x="3208" y="652"/>
                </a:lnTo>
                <a:lnTo>
                  <a:pt x="3212" y="670"/>
                </a:lnTo>
                <a:lnTo>
                  <a:pt x="3215" y="690"/>
                </a:lnTo>
                <a:lnTo>
                  <a:pt x="3215" y="711"/>
                </a:lnTo>
                <a:lnTo>
                  <a:pt x="3213" y="733"/>
                </a:lnTo>
                <a:lnTo>
                  <a:pt x="3211" y="756"/>
                </a:lnTo>
                <a:lnTo>
                  <a:pt x="3204" y="780"/>
                </a:lnTo>
                <a:lnTo>
                  <a:pt x="3198" y="804"/>
                </a:lnTo>
                <a:lnTo>
                  <a:pt x="3188" y="830"/>
                </a:lnTo>
                <a:lnTo>
                  <a:pt x="3175" y="857"/>
                </a:lnTo>
                <a:lnTo>
                  <a:pt x="3161" y="885"/>
                </a:lnTo>
                <a:lnTo>
                  <a:pt x="3189" y="886"/>
                </a:lnTo>
                <a:lnTo>
                  <a:pt x="3208" y="887"/>
                </a:lnTo>
                <a:lnTo>
                  <a:pt x="3230" y="890"/>
                </a:lnTo>
                <a:lnTo>
                  <a:pt x="3253" y="895"/>
                </a:lnTo>
                <a:lnTo>
                  <a:pt x="3277" y="902"/>
                </a:lnTo>
                <a:lnTo>
                  <a:pt x="3303" y="911"/>
                </a:lnTo>
                <a:lnTo>
                  <a:pt x="3316" y="917"/>
                </a:lnTo>
                <a:lnTo>
                  <a:pt x="3327" y="923"/>
                </a:lnTo>
                <a:lnTo>
                  <a:pt x="3340" y="931"/>
                </a:lnTo>
                <a:lnTo>
                  <a:pt x="3352" y="940"/>
                </a:lnTo>
                <a:lnTo>
                  <a:pt x="3363" y="950"/>
                </a:lnTo>
                <a:lnTo>
                  <a:pt x="3373" y="960"/>
                </a:lnTo>
                <a:lnTo>
                  <a:pt x="3384" y="973"/>
                </a:lnTo>
                <a:lnTo>
                  <a:pt x="3394" y="986"/>
                </a:lnTo>
                <a:lnTo>
                  <a:pt x="3403" y="1000"/>
                </a:lnTo>
                <a:lnTo>
                  <a:pt x="3411" y="1017"/>
                </a:lnTo>
                <a:lnTo>
                  <a:pt x="3418" y="1035"/>
                </a:lnTo>
                <a:lnTo>
                  <a:pt x="3425" y="1054"/>
                </a:lnTo>
                <a:lnTo>
                  <a:pt x="3430" y="1074"/>
                </a:lnTo>
                <a:lnTo>
                  <a:pt x="3434" y="1096"/>
                </a:lnTo>
                <a:lnTo>
                  <a:pt x="3436" y="1120"/>
                </a:lnTo>
                <a:lnTo>
                  <a:pt x="3439" y="1146"/>
                </a:lnTo>
                <a:lnTo>
                  <a:pt x="3439" y="1173"/>
                </a:lnTo>
                <a:lnTo>
                  <a:pt x="3437" y="1202"/>
                </a:lnTo>
                <a:lnTo>
                  <a:pt x="3432" y="1218"/>
                </a:lnTo>
                <a:lnTo>
                  <a:pt x="3426" y="1233"/>
                </a:lnTo>
                <a:lnTo>
                  <a:pt x="3418" y="1248"/>
                </a:lnTo>
                <a:lnTo>
                  <a:pt x="3408" y="1264"/>
                </a:lnTo>
                <a:lnTo>
                  <a:pt x="3395" y="1279"/>
                </a:lnTo>
                <a:lnTo>
                  <a:pt x="3382" y="1293"/>
                </a:lnTo>
                <a:lnTo>
                  <a:pt x="3367" y="1307"/>
                </a:lnTo>
                <a:lnTo>
                  <a:pt x="3350" y="1320"/>
                </a:lnTo>
                <a:lnTo>
                  <a:pt x="3334" y="1333"/>
                </a:lnTo>
                <a:lnTo>
                  <a:pt x="3315" y="1344"/>
                </a:lnTo>
                <a:lnTo>
                  <a:pt x="3295" y="1356"/>
                </a:lnTo>
                <a:lnTo>
                  <a:pt x="3276" y="1366"/>
                </a:lnTo>
                <a:lnTo>
                  <a:pt x="3254" y="1374"/>
                </a:lnTo>
                <a:lnTo>
                  <a:pt x="3234" y="1382"/>
                </a:lnTo>
                <a:lnTo>
                  <a:pt x="3212" y="1388"/>
                </a:lnTo>
                <a:lnTo>
                  <a:pt x="3190" y="1393"/>
                </a:lnTo>
                <a:lnTo>
                  <a:pt x="3169" y="1397"/>
                </a:lnTo>
                <a:lnTo>
                  <a:pt x="3147" y="1398"/>
                </a:lnTo>
                <a:lnTo>
                  <a:pt x="3125" y="1400"/>
                </a:lnTo>
                <a:lnTo>
                  <a:pt x="3105" y="1398"/>
                </a:lnTo>
                <a:lnTo>
                  <a:pt x="3084" y="1394"/>
                </a:lnTo>
                <a:lnTo>
                  <a:pt x="3064" y="1389"/>
                </a:lnTo>
                <a:lnTo>
                  <a:pt x="3044" y="1382"/>
                </a:lnTo>
                <a:lnTo>
                  <a:pt x="3027" y="1373"/>
                </a:lnTo>
                <a:lnTo>
                  <a:pt x="3010" y="1361"/>
                </a:lnTo>
                <a:lnTo>
                  <a:pt x="2993" y="1347"/>
                </a:lnTo>
                <a:lnTo>
                  <a:pt x="2979" y="1330"/>
                </a:lnTo>
                <a:lnTo>
                  <a:pt x="2966" y="1312"/>
                </a:lnTo>
                <a:lnTo>
                  <a:pt x="2955" y="1291"/>
                </a:lnTo>
                <a:lnTo>
                  <a:pt x="2945" y="1266"/>
                </a:lnTo>
                <a:lnTo>
                  <a:pt x="2937" y="1240"/>
                </a:lnTo>
                <a:lnTo>
                  <a:pt x="2932" y="1210"/>
                </a:lnTo>
                <a:lnTo>
                  <a:pt x="2929" y="1193"/>
                </a:lnTo>
                <a:lnTo>
                  <a:pt x="2929" y="1177"/>
                </a:lnTo>
                <a:lnTo>
                  <a:pt x="2932" y="1161"/>
                </a:lnTo>
                <a:lnTo>
                  <a:pt x="2937" y="1147"/>
                </a:lnTo>
                <a:lnTo>
                  <a:pt x="2943" y="1135"/>
                </a:lnTo>
                <a:lnTo>
                  <a:pt x="2951" y="1122"/>
                </a:lnTo>
                <a:lnTo>
                  <a:pt x="2960" y="1110"/>
                </a:lnTo>
                <a:lnTo>
                  <a:pt x="2970" y="1100"/>
                </a:lnTo>
                <a:lnTo>
                  <a:pt x="2982" y="1091"/>
                </a:lnTo>
                <a:lnTo>
                  <a:pt x="2995" y="1082"/>
                </a:lnTo>
                <a:lnTo>
                  <a:pt x="3007" y="1074"/>
                </a:lnTo>
                <a:lnTo>
                  <a:pt x="3021" y="1069"/>
                </a:lnTo>
                <a:lnTo>
                  <a:pt x="3036" y="1064"/>
                </a:lnTo>
                <a:lnTo>
                  <a:pt x="3050" y="1060"/>
                </a:lnTo>
                <a:lnTo>
                  <a:pt x="3065" y="1058"/>
                </a:lnTo>
                <a:lnTo>
                  <a:pt x="3079" y="1056"/>
                </a:lnTo>
                <a:lnTo>
                  <a:pt x="3094" y="1056"/>
                </a:lnTo>
                <a:lnTo>
                  <a:pt x="3108" y="1058"/>
                </a:lnTo>
                <a:lnTo>
                  <a:pt x="3123" y="1062"/>
                </a:lnTo>
                <a:lnTo>
                  <a:pt x="3135" y="1065"/>
                </a:lnTo>
                <a:lnTo>
                  <a:pt x="3148" y="1071"/>
                </a:lnTo>
                <a:lnTo>
                  <a:pt x="3160" y="1078"/>
                </a:lnTo>
                <a:lnTo>
                  <a:pt x="3170" y="1087"/>
                </a:lnTo>
                <a:lnTo>
                  <a:pt x="3179" y="1096"/>
                </a:lnTo>
                <a:lnTo>
                  <a:pt x="3187" y="1109"/>
                </a:lnTo>
                <a:lnTo>
                  <a:pt x="3192" y="1122"/>
                </a:lnTo>
                <a:lnTo>
                  <a:pt x="3197" y="1136"/>
                </a:lnTo>
                <a:lnTo>
                  <a:pt x="3198" y="1152"/>
                </a:lnTo>
                <a:lnTo>
                  <a:pt x="3199" y="1172"/>
                </a:lnTo>
                <a:lnTo>
                  <a:pt x="3197" y="1191"/>
                </a:lnTo>
                <a:lnTo>
                  <a:pt x="3193" y="1213"/>
                </a:lnTo>
                <a:lnTo>
                  <a:pt x="3185" y="1236"/>
                </a:lnTo>
                <a:lnTo>
                  <a:pt x="3201" y="1233"/>
                </a:lnTo>
                <a:lnTo>
                  <a:pt x="3215" y="1228"/>
                </a:lnTo>
                <a:lnTo>
                  <a:pt x="3226" y="1220"/>
                </a:lnTo>
                <a:lnTo>
                  <a:pt x="3235" y="1213"/>
                </a:lnTo>
                <a:lnTo>
                  <a:pt x="3242" y="1204"/>
                </a:lnTo>
                <a:lnTo>
                  <a:pt x="3247" y="1192"/>
                </a:lnTo>
                <a:lnTo>
                  <a:pt x="3251" y="1181"/>
                </a:lnTo>
                <a:lnTo>
                  <a:pt x="3252" y="1168"/>
                </a:lnTo>
                <a:lnTo>
                  <a:pt x="3252" y="1155"/>
                </a:lnTo>
                <a:lnTo>
                  <a:pt x="3249" y="1142"/>
                </a:lnTo>
                <a:lnTo>
                  <a:pt x="3245" y="1128"/>
                </a:lnTo>
                <a:lnTo>
                  <a:pt x="3240" y="1114"/>
                </a:lnTo>
                <a:lnTo>
                  <a:pt x="3233" y="1100"/>
                </a:lnTo>
                <a:lnTo>
                  <a:pt x="3225" y="1086"/>
                </a:lnTo>
                <a:lnTo>
                  <a:pt x="3215" y="1073"/>
                </a:lnTo>
                <a:lnTo>
                  <a:pt x="3204" y="1060"/>
                </a:lnTo>
                <a:lnTo>
                  <a:pt x="3192" y="1049"/>
                </a:lnTo>
                <a:lnTo>
                  <a:pt x="3178" y="1037"/>
                </a:lnTo>
                <a:lnTo>
                  <a:pt x="3163" y="1027"/>
                </a:lnTo>
                <a:lnTo>
                  <a:pt x="3147" y="1018"/>
                </a:lnTo>
                <a:lnTo>
                  <a:pt x="3130" y="1012"/>
                </a:lnTo>
                <a:lnTo>
                  <a:pt x="3114" y="1005"/>
                </a:lnTo>
                <a:lnTo>
                  <a:pt x="3094" y="1001"/>
                </a:lnTo>
                <a:lnTo>
                  <a:pt x="3075" y="999"/>
                </a:lnTo>
                <a:lnTo>
                  <a:pt x="3055" y="999"/>
                </a:lnTo>
                <a:lnTo>
                  <a:pt x="3034" y="1001"/>
                </a:lnTo>
                <a:lnTo>
                  <a:pt x="3012" y="1007"/>
                </a:lnTo>
                <a:lnTo>
                  <a:pt x="2991" y="1014"/>
                </a:lnTo>
                <a:lnTo>
                  <a:pt x="2969" y="1023"/>
                </a:lnTo>
                <a:lnTo>
                  <a:pt x="2946" y="1037"/>
                </a:lnTo>
                <a:lnTo>
                  <a:pt x="2923" y="1053"/>
                </a:lnTo>
                <a:lnTo>
                  <a:pt x="2900" y="1073"/>
                </a:lnTo>
                <a:close/>
                <a:moveTo>
                  <a:pt x="2900" y="2002"/>
                </a:moveTo>
                <a:lnTo>
                  <a:pt x="2900" y="1798"/>
                </a:lnTo>
                <a:lnTo>
                  <a:pt x="2928" y="1795"/>
                </a:lnTo>
                <a:lnTo>
                  <a:pt x="2955" y="1793"/>
                </a:lnTo>
                <a:lnTo>
                  <a:pt x="3007" y="1785"/>
                </a:lnTo>
                <a:lnTo>
                  <a:pt x="3056" y="1776"/>
                </a:lnTo>
                <a:lnTo>
                  <a:pt x="3099" y="1764"/>
                </a:lnTo>
                <a:lnTo>
                  <a:pt x="3138" y="1752"/>
                </a:lnTo>
                <a:lnTo>
                  <a:pt x="3170" y="1739"/>
                </a:lnTo>
                <a:lnTo>
                  <a:pt x="3183" y="1732"/>
                </a:lnTo>
                <a:lnTo>
                  <a:pt x="3194" y="1726"/>
                </a:lnTo>
                <a:lnTo>
                  <a:pt x="3204" y="1718"/>
                </a:lnTo>
                <a:lnTo>
                  <a:pt x="3212" y="1712"/>
                </a:lnTo>
                <a:lnTo>
                  <a:pt x="3266" y="1667"/>
                </a:lnTo>
                <a:lnTo>
                  <a:pt x="3318" y="1625"/>
                </a:lnTo>
                <a:lnTo>
                  <a:pt x="3370" y="1588"/>
                </a:lnTo>
                <a:lnTo>
                  <a:pt x="3418" y="1556"/>
                </a:lnTo>
                <a:lnTo>
                  <a:pt x="3466" y="1528"/>
                </a:lnTo>
                <a:lnTo>
                  <a:pt x="3512" y="1503"/>
                </a:lnTo>
                <a:lnTo>
                  <a:pt x="3555" y="1481"/>
                </a:lnTo>
                <a:lnTo>
                  <a:pt x="3597" y="1465"/>
                </a:lnTo>
                <a:lnTo>
                  <a:pt x="3637" y="1452"/>
                </a:lnTo>
                <a:lnTo>
                  <a:pt x="3675" y="1442"/>
                </a:lnTo>
                <a:lnTo>
                  <a:pt x="3713" y="1435"/>
                </a:lnTo>
                <a:lnTo>
                  <a:pt x="3747" y="1433"/>
                </a:lnTo>
                <a:lnTo>
                  <a:pt x="3779" y="1433"/>
                </a:lnTo>
                <a:lnTo>
                  <a:pt x="3811" y="1435"/>
                </a:lnTo>
                <a:lnTo>
                  <a:pt x="3839" y="1440"/>
                </a:lnTo>
                <a:lnTo>
                  <a:pt x="3867" y="1449"/>
                </a:lnTo>
                <a:lnTo>
                  <a:pt x="3893" y="1457"/>
                </a:lnTo>
                <a:lnTo>
                  <a:pt x="3919" y="1467"/>
                </a:lnTo>
                <a:lnTo>
                  <a:pt x="3943" y="1478"/>
                </a:lnTo>
                <a:lnTo>
                  <a:pt x="3965" y="1488"/>
                </a:lnTo>
                <a:lnTo>
                  <a:pt x="3988" y="1501"/>
                </a:lnTo>
                <a:lnTo>
                  <a:pt x="4010" y="1513"/>
                </a:lnTo>
                <a:lnTo>
                  <a:pt x="4050" y="1542"/>
                </a:lnTo>
                <a:lnTo>
                  <a:pt x="4091" y="1571"/>
                </a:lnTo>
                <a:lnTo>
                  <a:pt x="4132" y="1602"/>
                </a:lnTo>
                <a:lnTo>
                  <a:pt x="4175" y="1634"/>
                </a:lnTo>
                <a:lnTo>
                  <a:pt x="4221" y="1665"/>
                </a:lnTo>
                <a:lnTo>
                  <a:pt x="4244" y="1680"/>
                </a:lnTo>
                <a:lnTo>
                  <a:pt x="4269" y="1694"/>
                </a:lnTo>
                <a:lnTo>
                  <a:pt x="4296" y="1709"/>
                </a:lnTo>
                <a:lnTo>
                  <a:pt x="4323" y="1722"/>
                </a:lnTo>
                <a:lnTo>
                  <a:pt x="4353" y="1736"/>
                </a:lnTo>
                <a:lnTo>
                  <a:pt x="4383" y="1748"/>
                </a:lnTo>
                <a:lnTo>
                  <a:pt x="4417" y="1759"/>
                </a:lnTo>
                <a:lnTo>
                  <a:pt x="4451" y="1769"/>
                </a:lnTo>
                <a:lnTo>
                  <a:pt x="4488" y="1780"/>
                </a:lnTo>
                <a:lnTo>
                  <a:pt x="4527" y="1787"/>
                </a:lnTo>
                <a:lnTo>
                  <a:pt x="4569" y="1795"/>
                </a:lnTo>
                <a:lnTo>
                  <a:pt x="4612" y="1800"/>
                </a:lnTo>
                <a:lnTo>
                  <a:pt x="4660" y="1804"/>
                </a:lnTo>
                <a:lnTo>
                  <a:pt x="4710" y="1808"/>
                </a:lnTo>
                <a:lnTo>
                  <a:pt x="4762" y="1808"/>
                </a:lnTo>
                <a:lnTo>
                  <a:pt x="4817" y="1808"/>
                </a:lnTo>
                <a:lnTo>
                  <a:pt x="4794" y="1821"/>
                </a:lnTo>
                <a:lnTo>
                  <a:pt x="4770" y="1833"/>
                </a:lnTo>
                <a:lnTo>
                  <a:pt x="4745" y="1844"/>
                </a:lnTo>
                <a:lnTo>
                  <a:pt x="4720" y="1853"/>
                </a:lnTo>
                <a:lnTo>
                  <a:pt x="4694" y="1860"/>
                </a:lnTo>
                <a:lnTo>
                  <a:pt x="4669" y="1867"/>
                </a:lnTo>
                <a:lnTo>
                  <a:pt x="4642" y="1873"/>
                </a:lnTo>
                <a:lnTo>
                  <a:pt x="4615" y="1877"/>
                </a:lnTo>
                <a:lnTo>
                  <a:pt x="4588" y="1880"/>
                </a:lnTo>
                <a:lnTo>
                  <a:pt x="4561" y="1882"/>
                </a:lnTo>
                <a:lnTo>
                  <a:pt x="4534" y="1883"/>
                </a:lnTo>
                <a:lnTo>
                  <a:pt x="4507" y="1883"/>
                </a:lnTo>
                <a:lnTo>
                  <a:pt x="4481" y="1882"/>
                </a:lnTo>
                <a:lnTo>
                  <a:pt x="4455" y="1881"/>
                </a:lnTo>
                <a:lnTo>
                  <a:pt x="4404" y="1876"/>
                </a:lnTo>
                <a:lnTo>
                  <a:pt x="4354" y="1868"/>
                </a:lnTo>
                <a:lnTo>
                  <a:pt x="4308" y="1859"/>
                </a:lnTo>
                <a:lnTo>
                  <a:pt x="4266" y="1848"/>
                </a:lnTo>
                <a:lnTo>
                  <a:pt x="4227" y="1836"/>
                </a:lnTo>
                <a:lnTo>
                  <a:pt x="4195" y="1823"/>
                </a:lnTo>
                <a:lnTo>
                  <a:pt x="4167" y="1810"/>
                </a:lnTo>
                <a:lnTo>
                  <a:pt x="4146" y="1798"/>
                </a:lnTo>
                <a:lnTo>
                  <a:pt x="4138" y="1791"/>
                </a:lnTo>
                <a:lnTo>
                  <a:pt x="4132" y="1786"/>
                </a:lnTo>
                <a:lnTo>
                  <a:pt x="4102" y="1766"/>
                </a:lnTo>
                <a:lnTo>
                  <a:pt x="4072" y="1748"/>
                </a:lnTo>
                <a:lnTo>
                  <a:pt x="4043" y="1731"/>
                </a:lnTo>
                <a:lnTo>
                  <a:pt x="4015" y="1717"/>
                </a:lnTo>
                <a:lnTo>
                  <a:pt x="3986" y="1704"/>
                </a:lnTo>
                <a:lnTo>
                  <a:pt x="3960" y="1693"/>
                </a:lnTo>
                <a:lnTo>
                  <a:pt x="3934" y="1682"/>
                </a:lnTo>
                <a:lnTo>
                  <a:pt x="3908" y="1673"/>
                </a:lnTo>
                <a:lnTo>
                  <a:pt x="3883" y="1667"/>
                </a:lnTo>
                <a:lnTo>
                  <a:pt x="3858" y="1662"/>
                </a:lnTo>
                <a:lnTo>
                  <a:pt x="3835" y="1657"/>
                </a:lnTo>
                <a:lnTo>
                  <a:pt x="3812" y="1654"/>
                </a:lnTo>
                <a:lnTo>
                  <a:pt x="3789" y="1652"/>
                </a:lnTo>
                <a:lnTo>
                  <a:pt x="3768" y="1650"/>
                </a:lnTo>
                <a:lnTo>
                  <a:pt x="3747" y="1650"/>
                </a:lnTo>
                <a:lnTo>
                  <a:pt x="3727" y="1652"/>
                </a:lnTo>
                <a:lnTo>
                  <a:pt x="3707" y="1654"/>
                </a:lnTo>
                <a:lnTo>
                  <a:pt x="3688" y="1657"/>
                </a:lnTo>
                <a:lnTo>
                  <a:pt x="3670" y="1659"/>
                </a:lnTo>
                <a:lnTo>
                  <a:pt x="3652" y="1665"/>
                </a:lnTo>
                <a:lnTo>
                  <a:pt x="3619" y="1673"/>
                </a:lnTo>
                <a:lnTo>
                  <a:pt x="3590" y="1686"/>
                </a:lnTo>
                <a:lnTo>
                  <a:pt x="3563" y="1699"/>
                </a:lnTo>
                <a:lnTo>
                  <a:pt x="3539" y="1713"/>
                </a:lnTo>
                <a:lnTo>
                  <a:pt x="3518" y="1727"/>
                </a:lnTo>
                <a:lnTo>
                  <a:pt x="3500" y="1741"/>
                </a:lnTo>
                <a:lnTo>
                  <a:pt x="3466" y="1769"/>
                </a:lnTo>
                <a:lnTo>
                  <a:pt x="3444" y="1785"/>
                </a:lnTo>
                <a:lnTo>
                  <a:pt x="3419" y="1801"/>
                </a:lnTo>
                <a:lnTo>
                  <a:pt x="3393" y="1819"/>
                </a:lnTo>
                <a:lnTo>
                  <a:pt x="3363" y="1837"/>
                </a:lnTo>
                <a:lnTo>
                  <a:pt x="3331" y="1855"/>
                </a:lnTo>
                <a:lnTo>
                  <a:pt x="3295" y="1873"/>
                </a:lnTo>
                <a:lnTo>
                  <a:pt x="3257" y="1892"/>
                </a:lnTo>
                <a:lnTo>
                  <a:pt x="3216" y="1910"/>
                </a:lnTo>
                <a:lnTo>
                  <a:pt x="3171" y="1927"/>
                </a:lnTo>
                <a:lnTo>
                  <a:pt x="3124" y="1945"/>
                </a:lnTo>
                <a:lnTo>
                  <a:pt x="3073" y="1960"/>
                </a:lnTo>
                <a:lnTo>
                  <a:pt x="3018" y="1976"/>
                </a:lnTo>
                <a:lnTo>
                  <a:pt x="2960" y="1990"/>
                </a:lnTo>
                <a:lnTo>
                  <a:pt x="2900" y="2002"/>
                </a:lnTo>
                <a:close/>
                <a:moveTo>
                  <a:pt x="404" y="1054"/>
                </a:moveTo>
                <a:lnTo>
                  <a:pt x="404" y="1054"/>
                </a:lnTo>
                <a:lnTo>
                  <a:pt x="369" y="1047"/>
                </a:lnTo>
                <a:lnTo>
                  <a:pt x="336" y="1042"/>
                </a:lnTo>
                <a:lnTo>
                  <a:pt x="304" y="1039"/>
                </a:lnTo>
                <a:lnTo>
                  <a:pt x="275" y="1039"/>
                </a:lnTo>
                <a:lnTo>
                  <a:pt x="245" y="1040"/>
                </a:lnTo>
                <a:lnTo>
                  <a:pt x="218" y="1044"/>
                </a:lnTo>
                <a:lnTo>
                  <a:pt x="191" y="1049"/>
                </a:lnTo>
                <a:lnTo>
                  <a:pt x="167" y="1056"/>
                </a:lnTo>
                <a:lnTo>
                  <a:pt x="145" y="1065"/>
                </a:lnTo>
                <a:lnTo>
                  <a:pt x="124" y="1077"/>
                </a:lnTo>
                <a:lnTo>
                  <a:pt x="104" y="1088"/>
                </a:lnTo>
                <a:lnTo>
                  <a:pt x="87" y="1101"/>
                </a:lnTo>
                <a:lnTo>
                  <a:pt x="70" y="1117"/>
                </a:lnTo>
                <a:lnTo>
                  <a:pt x="56" y="1132"/>
                </a:lnTo>
                <a:lnTo>
                  <a:pt x="42" y="1149"/>
                </a:lnTo>
                <a:lnTo>
                  <a:pt x="32" y="1167"/>
                </a:lnTo>
                <a:lnTo>
                  <a:pt x="21" y="1184"/>
                </a:lnTo>
                <a:lnTo>
                  <a:pt x="14" y="1204"/>
                </a:lnTo>
                <a:lnTo>
                  <a:pt x="7" y="1223"/>
                </a:lnTo>
                <a:lnTo>
                  <a:pt x="3" y="1243"/>
                </a:lnTo>
                <a:lnTo>
                  <a:pt x="1" y="1264"/>
                </a:lnTo>
                <a:lnTo>
                  <a:pt x="0" y="1284"/>
                </a:lnTo>
                <a:lnTo>
                  <a:pt x="1" y="1305"/>
                </a:lnTo>
                <a:lnTo>
                  <a:pt x="3" y="1325"/>
                </a:lnTo>
                <a:lnTo>
                  <a:pt x="8" y="1346"/>
                </a:lnTo>
                <a:lnTo>
                  <a:pt x="15" y="1365"/>
                </a:lnTo>
                <a:lnTo>
                  <a:pt x="23" y="1385"/>
                </a:lnTo>
                <a:lnTo>
                  <a:pt x="33" y="1405"/>
                </a:lnTo>
                <a:lnTo>
                  <a:pt x="46" y="1424"/>
                </a:lnTo>
                <a:lnTo>
                  <a:pt x="60" y="1442"/>
                </a:lnTo>
                <a:lnTo>
                  <a:pt x="76" y="1458"/>
                </a:lnTo>
                <a:lnTo>
                  <a:pt x="94" y="1475"/>
                </a:lnTo>
                <a:lnTo>
                  <a:pt x="78" y="1506"/>
                </a:lnTo>
                <a:lnTo>
                  <a:pt x="64" y="1535"/>
                </a:lnTo>
                <a:lnTo>
                  <a:pt x="51" y="1565"/>
                </a:lnTo>
                <a:lnTo>
                  <a:pt x="40" y="1593"/>
                </a:lnTo>
                <a:lnTo>
                  <a:pt x="33" y="1621"/>
                </a:lnTo>
                <a:lnTo>
                  <a:pt x="26" y="1649"/>
                </a:lnTo>
                <a:lnTo>
                  <a:pt x="21" y="1675"/>
                </a:lnTo>
                <a:lnTo>
                  <a:pt x="17" y="1702"/>
                </a:lnTo>
                <a:lnTo>
                  <a:pt x="16" y="1727"/>
                </a:lnTo>
                <a:lnTo>
                  <a:pt x="16" y="1752"/>
                </a:lnTo>
                <a:lnTo>
                  <a:pt x="17" y="1775"/>
                </a:lnTo>
                <a:lnTo>
                  <a:pt x="20" y="1799"/>
                </a:lnTo>
                <a:lnTo>
                  <a:pt x="25" y="1821"/>
                </a:lnTo>
                <a:lnTo>
                  <a:pt x="30" y="1842"/>
                </a:lnTo>
                <a:lnTo>
                  <a:pt x="38" y="1864"/>
                </a:lnTo>
                <a:lnTo>
                  <a:pt x="46" y="1883"/>
                </a:lnTo>
                <a:lnTo>
                  <a:pt x="55" y="1904"/>
                </a:lnTo>
                <a:lnTo>
                  <a:pt x="65" y="1922"/>
                </a:lnTo>
                <a:lnTo>
                  <a:pt x="76" y="1940"/>
                </a:lnTo>
                <a:lnTo>
                  <a:pt x="89" y="1958"/>
                </a:lnTo>
                <a:lnTo>
                  <a:pt x="103" y="1973"/>
                </a:lnTo>
                <a:lnTo>
                  <a:pt x="117" y="1988"/>
                </a:lnTo>
                <a:lnTo>
                  <a:pt x="133" y="2004"/>
                </a:lnTo>
                <a:lnTo>
                  <a:pt x="148" y="2018"/>
                </a:lnTo>
                <a:lnTo>
                  <a:pt x="165" y="2031"/>
                </a:lnTo>
                <a:lnTo>
                  <a:pt x="183" y="2042"/>
                </a:lnTo>
                <a:lnTo>
                  <a:pt x="200" y="2054"/>
                </a:lnTo>
                <a:lnTo>
                  <a:pt x="218" y="2064"/>
                </a:lnTo>
                <a:lnTo>
                  <a:pt x="238" y="2074"/>
                </a:lnTo>
                <a:lnTo>
                  <a:pt x="258" y="2083"/>
                </a:lnTo>
                <a:lnTo>
                  <a:pt x="277" y="2091"/>
                </a:lnTo>
                <a:lnTo>
                  <a:pt x="298" y="2097"/>
                </a:lnTo>
                <a:lnTo>
                  <a:pt x="318" y="2104"/>
                </a:lnTo>
                <a:lnTo>
                  <a:pt x="339" y="2109"/>
                </a:lnTo>
                <a:lnTo>
                  <a:pt x="359" y="2113"/>
                </a:lnTo>
                <a:lnTo>
                  <a:pt x="380" y="2115"/>
                </a:lnTo>
                <a:lnTo>
                  <a:pt x="401" y="2118"/>
                </a:lnTo>
                <a:lnTo>
                  <a:pt x="422" y="2119"/>
                </a:lnTo>
                <a:lnTo>
                  <a:pt x="442" y="2119"/>
                </a:lnTo>
                <a:lnTo>
                  <a:pt x="464" y="2119"/>
                </a:lnTo>
                <a:lnTo>
                  <a:pt x="485" y="2116"/>
                </a:lnTo>
                <a:lnTo>
                  <a:pt x="504" y="2114"/>
                </a:lnTo>
                <a:lnTo>
                  <a:pt x="524" y="2110"/>
                </a:lnTo>
                <a:lnTo>
                  <a:pt x="543" y="2105"/>
                </a:lnTo>
                <a:lnTo>
                  <a:pt x="563" y="2100"/>
                </a:lnTo>
                <a:lnTo>
                  <a:pt x="582" y="2093"/>
                </a:lnTo>
                <a:lnTo>
                  <a:pt x="600" y="2084"/>
                </a:lnTo>
                <a:lnTo>
                  <a:pt x="618" y="2075"/>
                </a:lnTo>
                <a:lnTo>
                  <a:pt x="634" y="2066"/>
                </a:lnTo>
                <a:lnTo>
                  <a:pt x="651" y="2055"/>
                </a:lnTo>
                <a:lnTo>
                  <a:pt x="666" y="2042"/>
                </a:lnTo>
                <a:lnTo>
                  <a:pt x="682" y="2029"/>
                </a:lnTo>
                <a:lnTo>
                  <a:pt x="696" y="2015"/>
                </a:lnTo>
                <a:lnTo>
                  <a:pt x="709" y="2000"/>
                </a:lnTo>
                <a:lnTo>
                  <a:pt x="720" y="1983"/>
                </a:lnTo>
                <a:lnTo>
                  <a:pt x="732" y="1965"/>
                </a:lnTo>
                <a:lnTo>
                  <a:pt x="741" y="1946"/>
                </a:lnTo>
                <a:lnTo>
                  <a:pt x="750" y="1926"/>
                </a:lnTo>
                <a:lnTo>
                  <a:pt x="757" y="1905"/>
                </a:lnTo>
                <a:lnTo>
                  <a:pt x="764" y="1882"/>
                </a:lnTo>
                <a:lnTo>
                  <a:pt x="769" y="1859"/>
                </a:lnTo>
                <a:lnTo>
                  <a:pt x="771" y="1833"/>
                </a:lnTo>
                <a:lnTo>
                  <a:pt x="774" y="1808"/>
                </a:lnTo>
                <a:lnTo>
                  <a:pt x="774" y="1781"/>
                </a:lnTo>
                <a:lnTo>
                  <a:pt x="765" y="1752"/>
                </a:lnTo>
                <a:lnTo>
                  <a:pt x="753" y="1726"/>
                </a:lnTo>
                <a:lnTo>
                  <a:pt x="742" y="1703"/>
                </a:lnTo>
                <a:lnTo>
                  <a:pt x="729" y="1684"/>
                </a:lnTo>
                <a:lnTo>
                  <a:pt x="716" y="1665"/>
                </a:lnTo>
                <a:lnTo>
                  <a:pt x="702" y="1649"/>
                </a:lnTo>
                <a:lnTo>
                  <a:pt x="687" y="1636"/>
                </a:lnTo>
                <a:lnTo>
                  <a:pt x="673" y="1625"/>
                </a:lnTo>
                <a:lnTo>
                  <a:pt x="657" y="1616"/>
                </a:lnTo>
                <a:lnTo>
                  <a:pt x="642" y="1609"/>
                </a:lnTo>
                <a:lnTo>
                  <a:pt x="625" y="1604"/>
                </a:lnTo>
                <a:lnTo>
                  <a:pt x="610" y="1601"/>
                </a:lnTo>
                <a:lnTo>
                  <a:pt x="595" y="1599"/>
                </a:lnTo>
                <a:lnTo>
                  <a:pt x="578" y="1599"/>
                </a:lnTo>
                <a:lnTo>
                  <a:pt x="563" y="1601"/>
                </a:lnTo>
                <a:lnTo>
                  <a:pt x="549" y="1604"/>
                </a:lnTo>
                <a:lnTo>
                  <a:pt x="533" y="1608"/>
                </a:lnTo>
                <a:lnTo>
                  <a:pt x="519" y="1615"/>
                </a:lnTo>
                <a:lnTo>
                  <a:pt x="505" y="1621"/>
                </a:lnTo>
                <a:lnTo>
                  <a:pt x="492" y="1630"/>
                </a:lnTo>
                <a:lnTo>
                  <a:pt x="479" y="1639"/>
                </a:lnTo>
                <a:lnTo>
                  <a:pt x="468" y="1649"/>
                </a:lnTo>
                <a:lnTo>
                  <a:pt x="458" y="1659"/>
                </a:lnTo>
                <a:lnTo>
                  <a:pt x="449" y="1671"/>
                </a:lnTo>
                <a:lnTo>
                  <a:pt x="440" y="1684"/>
                </a:lnTo>
                <a:lnTo>
                  <a:pt x="433" y="1697"/>
                </a:lnTo>
                <a:lnTo>
                  <a:pt x="427" y="1711"/>
                </a:lnTo>
                <a:lnTo>
                  <a:pt x="423" y="1725"/>
                </a:lnTo>
                <a:lnTo>
                  <a:pt x="419" y="1739"/>
                </a:lnTo>
                <a:lnTo>
                  <a:pt x="418" y="1753"/>
                </a:lnTo>
                <a:lnTo>
                  <a:pt x="419" y="1768"/>
                </a:lnTo>
                <a:lnTo>
                  <a:pt x="421" y="1782"/>
                </a:lnTo>
                <a:lnTo>
                  <a:pt x="415" y="1769"/>
                </a:lnTo>
                <a:lnTo>
                  <a:pt x="412" y="1757"/>
                </a:lnTo>
                <a:lnTo>
                  <a:pt x="409" y="1744"/>
                </a:lnTo>
                <a:lnTo>
                  <a:pt x="407" y="1731"/>
                </a:lnTo>
                <a:lnTo>
                  <a:pt x="405" y="1720"/>
                </a:lnTo>
                <a:lnTo>
                  <a:pt x="405" y="1708"/>
                </a:lnTo>
                <a:lnTo>
                  <a:pt x="405" y="1697"/>
                </a:lnTo>
                <a:lnTo>
                  <a:pt x="408" y="1685"/>
                </a:lnTo>
                <a:lnTo>
                  <a:pt x="409" y="1675"/>
                </a:lnTo>
                <a:lnTo>
                  <a:pt x="412" y="1665"/>
                </a:lnTo>
                <a:lnTo>
                  <a:pt x="415" y="1654"/>
                </a:lnTo>
                <a:lnTo>
                  <a:pt x="421" y="1644"/>
                </a:lnTo>
                <a:lnTo>
                  <a:pt x="431" y="1625"/>
                </a:lnTo>
                <a:lnTo>
                  <a:pt x="444" y="1607"/>
                </a:lnTo>
                <a:lnTo>
                  <a:pt x="459" y="1592"/>
                </a:lnTo>
                <a:lnTo>
                  <a:pt x="477" y="1576"/>
                </a:lnTo>
                <a:lnTo>
                  <a:pt x="497" y="1562"/>
                </a:lnTo>
                <a:lnTo>
                  <a:pt x="518" y="1548"/>
                </a:lnTo>
                <a:lnTo>
                  <a:pt x="541" y="1536"/>
                </a:lnTo>
                <a:lnTo>
                  <a:pt x="565" y="1526"/>
                </a:lnTo>
                <a:lnTo>
                  <a:pt x="591" y="1517"/>
                </a:lnTo>
                <a:lnTo>
                  <a:pt x="618" y="1508"/>
                </a:lnTo>
                <a:lnTo>
                  <a:pt x="645" y="1502"/>
                </a:lnTo>
                <a:lnTo>
                  <a:pt x="673" y="1496"/>
                </a:lnTo>
                <a:lnTo>
                  <a:pt x="701" y="1492"/>
                </a:lnTo>
                <a:lnTo>
                  <a:pt x="729" y="1488"/>
                </a:lnTo>
                <a:lnTo>
                  <a:pt x="757" y="1485"/>
                </a:lnTo>
                <a:lnTo>
                  <a:pt x="785" y="1485"/>
                </a:lnTo>
                <a:lnTo>
                  <a:pt x="812" y="1485"/>
                </a:lnTo>
                <a:lnTo>
                  <a:pt x="839" y="1487"/>
                </a:lnTo>
                <a:lnTo>
                  <a:pt x="865" y="1489"/>
                </a:lnTo>
                <a:lnTo>
                  <a:pt x="889" y="1493"/>
                </a:lnTo>
                <a:lnTo>
                  <a:pt x="913" y="1498"/>
                </a:lnTo>
                <a:lnTo>
                  <a:pt x="935" y="1504"/>
                </a:lnTo>
                <a:lnTo>
                  <a:pt x="956" y="1511"/>
                </a:lnTo>
                <a:lnTo>
                  <a:pt x="974" y="1520"/>
                </a:lnTo>
                <a:lnTo>
                  <a:pt x="990" y="1530"/>
                </a:lnTo>
                <a:lnTo>
                  <a:pt x="1004" y="1540"/>
                </a:lnTo>
                <a:lnTo>
                  <a:pt x="1027" y="1551"/>
                </a:lnTo>
                <a:lnTo>
                  <a:pt x="1049" y="1561"/>
                </a:lnTo>
                <a:lnTo>
                  <a:pt x="1072" y="1574"/>
                </a:lnTo>
                <a:lnTo>
                  <a:pt x="1093" y="1585"/>
                </a:lnTo>
                <a:lnTo>
                  <a:pt x="1114" y="1598"/>
                </a:lnTo>
                <a:lnTo>
                  <a:pt x="1135" y="1612"/>
                </a:lnTo>
                <a:lnTo>
                  <a:pt x="1174" y="1641"/>
                </a:lnTo>
                <a:lnTo>
                  <a:pt x="1212" y="1672"/>
                </a:lnTo>
                <a:lnTo>
                  <a:pt x="1247" y="1704"/>
                </a:lnTo>
                <a:lnTo>
                  <a:pt x="1281" y="1736"/>
                </a:lnTo>
                <a:lnTo>
                  <a:pt x="1313" y="1768"/>
                </a:lnTo>
                <a:lnTo>
                  <a:pt x="1342" y="1799"/>
                </a:lnTo>
                <a:lnTo>
                  <a:pt x="1369" y="1828"/>
                </a:lnTo>
                <a:lnTo>
                  <a:pt x="1416" y="1881"/>
                </a:lnTo>
                <a:lnTo>
                  <a:pt x="1437" y="1903"/>
                </a:lnTo>
                <a:lnTo>
                  <a:pt x="1455" y="1922"/>
                </a:lnTo>
                <a:lnTo>
                  <a:pt x="1470" y="1935"/>
                </a:lnTo>
                <a:lnTo>
                  <a:pt x="1477" y="1940"/>
                </a:lnTo>
                <a:lnTo>
                  <a:pt x="1483" y="1944"/>
                </a:lnTo>
                <a:lnTo>
                  <a:pt x="1503" y="1965"/>
                </a:lnTo>
                <a:lnTo>
                  <a:pt x="1526" y="1985"/>
                </a:lnTo>
                <a:lnTo>
                  <a:pt x="1551" y="2004"/>
                </a:lnTo>
                <a:lnTo>
                  <a:pt x="1576" y="2020"/>
                </a:lnTo>
                <a:lnTo>
                  <a:pt x="1603" y="2036"/>
                </a:lnTo>
                <a:lnTo>
                  <a:pt x="1633" y="2050"/>
                </a:lnTo>
                <a:lnTo>
                  <a:pt x="1662" y="2063"/>
                </a:lnTo>
                <a:lnTo>
                  <a:pt x="1693" y="2074"/>
                </a:lnTo>
                <a:lnTo>
                  <a:pt x="1725" y="2084"/>
                </a:lnTo>
                <a:lnTo>
                  <a:pt x="1757" y="2093"/>
                </a:lnTo>
                <a:lnTo>
                  <a:pt x="1790" y="2101"/>
                </a:lnTo>
                <a:lnTo>
                  <a:pt x="1825" y="2109"/>
                </a:lnTo>
                <a:lnTo>
                  <a:pt x="1858" y="2114"/>
                </a:lnTo>
                <a:lnTo>
                  <a:pt x="1893" y="2119"/>
                </a:lnTo>
                <a:lnTo>
                  <a:pt x="1927" y="2123"/>
                </a:lnTo>
                <a:lnTo>
                  <a:pt x="1960" y="2127"/>
                </a:lnTo>
                <a:lnTo>
                  <a:pt x="2029" y="2130"/>
                </a:lnTo>
                <a:lnTo>
                  <a:pt x="2095" y="2132"/>
                </a:lnTo>
                <a:lnTo>
                  <a:pt x="2159" y="2130"/>
                </a:lnTo>
                <a:lnTo>
                  <a:pt x="2218" y="2128"/>
                </a:lnTo>
                <a:lnTo>
                  <a:pt x="2273" y="2123"/>
                </a:lnTo>
                <a:lnTo>
                  <a:pt x="2320" y="2118"/>
                </a:lnTo>
                <a:lnTo>
                  <a:pt x="2361" y="2110"/>
                </a:lnTo>
                <a:lnTo>
                  <a:pt x="2394" y="2104"/>
                </a:lnTo>
                <a:lnTo>
                  <a:pt x="2325" y="2098"/>
                </a:lnTo>
                <a:lnTo>
                  <a:pt x="2259" y="2092"/>
                </a:lnTo>
                <a:lnTo>
                  <a:pt x="2196" y="2083"/>
                </a:lnTo>
                <a:lnTo>
                  <a:pt x="2136" y="2073"/>
                </a:lnTo>
                <a:lnTo>
                  <a:pt x="2079" y="2060"/>
                </a:lnTo>
                <a:lnTo>
                  <a:pt x="2026" y="2046"/>
                </a:lnTo>
                <a:lnTo>
                  <a:pt x="1974" y="2029"/>
                </a:lnTo>
                <a:lnTo>
                  <a:pt x="1927" y="2013"/>
                </a:lnTo>
                <a:lnTo>
                  <a:pt x="1881" y="1995"/>
                </a:lnTo>
                <a:lnTo>
                  <a:pt x="1839" y="1974"/>
                </a:lnTo>
                <a:lnTo>
                  <a:pt x="1799" y="1954"/>
                </a:lnTo>
                <a:lnTo>
                  <a:pt x="1761" y="1932"/>
                </a:lnTo>
                <a:lnTo>
                  <a:pt x="1726" y="1910"/>
                </a:lnTo>
                <a:lnTo>
                  <a:pt x="1693" y="1886"/>
                </a:lnTo>
                <a:lnTo>
                  <a:pt x="1662" y="1863"/>
                </a:lnTo>
                <a:lnTo>
                  <a:pt x="1634" y="1839"/>
                </a:lnTo>
                <a:lnTo>
                  <a:pt x="1607" y="1813"/>
                </a:lnTo>
                <a:lnTo>
                  <a:pt x="1583" y="1787"/>
                </a:lnTo>
                <a:lnTo>
                  <a:pt x="1560" y="1763"/>
                </a:lnTo>
                <a:lnTo>
                  <a:pt x="1538" y="1737"/>
                </a:lnTo>
                <a:lnTo>
                  <a:pt x="1519" y="1712"/>
                </a:lnTo>
                <a:lnTo>
                  <a:pt x="1501" y="1686"/>
                </a:lnTo>
                <a:lnTo>
                  <a:pt x="1484" y="1661"/>
                </a:lnTo>
                <a:lnTo>
                  <a:pt x="1469" y="1636"/>
                </a:lnTo>
                <a:lnTo>
                  <a:pt x="1456" y="1612"/>
                </a:lnTo>
                <a:lnTo>
                  <a:pt x="1443" y="1589"/>
                </a:lnTo>
                <a:lnTo>
                  <a:pt x="1422" y="1544"/>
                </a:lnTo>
                <a:lnTo>
                  <a:pt x="1402" y="1502"/>
                </a:lnTo>
                <a:lnTo>
                  <a:pt x="1387" y="1466"/>
                </a:lnTo>
                <a:lnTo>
                  <a:pt x="1364" y="1469"/>
                </a:lnTo>
                <a:lnTo>
                  <a:pt x="1341" y="1470"/>
                </a:lnTo>
                <a:lnTo>
                  <a:pt x="1318" y="1471"/>
                </a:lnTo>
                <a:lnTo>
                  <a:pt x="1297" y="1471"/>
                </a:lnTo>
                <a:lnTo>
                  <a:pt x="1277" y="1470"/>
                </a:lnTo>
                <a:lnTo>
                  <a:pt x="1259" y="1469"/>
                </a:lnTo>
                <a:lnTo>
                  <a:pt x="1241" y="1466"/>
                </a:lnTo>
                <a:lnTo>
                  <a:pt x="1224" y="1462"/>
                </a:lnTo>
                <a:lnTo>
                  <a:pt x="1208" y="1458"/>
                </a:lnTo>
                <a:lnTo>
                  <a:pt x="1194" y="1453"/>
                </a:lnTo>
                <a:lnTo>
                  <a:pt x="1180" y="1447"/>
                </a:lnTo>
                <a:lnTo>
                  <a:pt x="1167" y="1440"/>
                </a:lnTo>
                <a:lnTo>
                  <a:pt x="1154" y="1434"/>
                </a:lnTo>
                <a:lnTo>
                  <a:pt x="1142" y="1426"/>
                </a:lnTo>
                <a:lnTo>
                  <a:pt x="1132" y="1417"/>
                </a:lnTo>
                <a:lnTo>
                  <a:pt x="1123" y="1408"/>
                </a:lnTo>
                <a:lnTo>
                  <a:pt x="1114" y="1400"/>
                </a:lnTo>
                <a:lnTo>
                  <a:pt x="1107" y="1389"/>
                </a:lnTo>
                <a:lnTo>
                  <a:pt x="1099" y="1379"/>
                </a:lnTo>
                <a:lnTo>
                  <a:pt x="1094" y="1369"/>
                </a:lnTo>
                <a:lnTo>
                  <a:pt x="1087" y="1357"/>
                </a:lnTo>
                <a:lnTo>
                  <a:pt x="1084" y="1346"/>
                </a:lnTo>
                <a:lnTo>
                  <a:pt x="1078" y="1334"/>
                </a:lnTo>
                <a:lnTo>
                  <a:pt x="1076" y="1321"/>
                </a:lnTo>
                <a:lnTo>
                  <a:pt x="1071" y="1297"/>
                </a:lnTo>
                <a:lnTo>
                  <a:pt x="1070" y="1270"/>
                </a:lnTo>
                <a:lnTo>
                  <a:pt x="1070" y="1245"/>
                </a:lnTo>
                <a:lnTo>
                  <a:pt x="1073" y="1218"/>
                </a:lnTo>
                <a:lnTo>
                  <a:pt x="1078" y="1191"/>
                </a:lnTo>
                <a:lnTo>
                  <a:pt x="1086" y="1164"/>
                </a:lnTo>
                <a:lnTo>
                  <a:pt x="1095" y="1137"/>
                </a:lnTo>
                <a:lnTo>
                  <a:pt x="1107" y="1111"/>
                </a:lnTo>
                <a:lnTo>
                  <a:pt x="1119" y="1087"/>
                </a:lnTo>
                <a:lnTo>
                  <a:pt x="1134" y="1064"/>
                </a:lnTo>
                <a:lnTo>
                  <a:pt x="1149" y="1042"/>
                </a:lnTo>
                <a:lnTo>
                  <a:pt x="1166" y="1022"/>
                </a:lnTo>
                <a:lnTo>
                  <a:pt x="1183" y="1004"/>
                </a:lnTo>
                <a:lnTo>
                  <a:pt x="1203" y="987"/>
                </a:lnTo>
                <a:lnTo>
                  <a:pt x="1223" y="973"/>
                </a:lnTo>
                <a:lnTo>
                  <a:pt x="1244" y="963"/>
                </a:lnTo>
                <a:lnTo>
                  <a:pt x="1254" y="958"/>
                </a:lnTo>
                <a:lnTo>
                  <a:pt x="1264" y="955"/>
                </a:lnTo>
                <a:lnTo>
                  <a:pt x="1274" y="951"/>
                </a:lnTo>
                <a:lnTo>
                  <a:pt x="1286" y="950"/>
                </a:lnTo>
                <a:lnTo>
                  <a:pt x="1296" y="949"/>
                </a:lnTo>
                <a:lnTo>
                  <a:pt x="1308" y="949"/>
                </a:lnTo>
                <a:lnTo>
                  <a:pt x="1318" y="949"/>
                </a:lnTo>
                <a:lnTo>
                  <a:pt x="1329" y="951"/>
                </a:lnTo>
                <a:lnTo>
                  <a:pt x="1341" y="930"/>
                </a:lnTo>
                <a:lnTo>
                  <a:pt x="1352" y="909"/>
                </a:lnTo>
                <a:lnTo>
                  <a:pt x="1364" y="890"/>
                </a:lnTo>
                <a:lnTo>
                  <a:pt x="1377" y="872"/>
                </a:lnTo>
                <a:lnTo>
                  <a:pt x="1390" y="855"/>
                </a:lnTo>
                <a:lnTo>
                  <a:pt x="1402" y="840"/>
                </a:lnTo>
                <a:lnTo>
                  <a:pt x="1415" y="825"/>
                </a:lnTo>
                <a:lnTo>
                  <a:pt x="1428" y="811"/>
                </a:lnTo>
                <a:lnTo>
                  <a:pt x="1442" y="798"/>
                </a:lnTo>
                <a:lnTo>
                  <a:pt x="1455" y="785"/>
                </a:lnTo>
                <a:lnTo>
                  <a:pt x="1469" y="775"/>
                </a:lnTo>
                <a:lnTo>
                  <a:pt x="1483" y="765"/>
                </a:lnTo>
                <a:lnTo>
                  <a:pt x="1497" y="754"/>
                </a:lnTo>
                <a:lnTo>
                  <a:pt x="1511" y="745"/>
                </a:lnTo>
                <a:lnTo>
                  <a:pt x="1539" y="731"/>
                </a:lnTo>
                <a:lnTo>
                  <a:pt x="1569" y="720"/>
                </a:lnTo>
                <a:lnTo>
                  <a:pt x="1597" y="711"/>
                </a:lnTo>
                <a:lnTo>
                  <a:pt x="1626" y="704"/>
                </a:lnTo>
                <a:lnTo>
                  <a:pt x="1654" y="702"/>
                </a:lnTo>
                <a:lnTo>
                  <a:pt x="1684" y="701"/>
                </a:lnTo>
                <a:lnTo>
                  <a:pt x="1712" y="702"/>
                </a:lnTo>
                <a:lnTo>
                  <a:pt x="1740" y="706"/>
                </a:lnTo>
                <a:lnTo>
                  <a:pt x="1767" y="712"/>
                </a:lnTo>
                <a:lnTo>
                  <a:pt x="1794" y="718"/>
                </a:lnTo>
                <a:lnTo>
                  <a:pt x="1820" y="729"/>
                </a:lnTo>
                <a:lnTo>
                  <a:pt x="1845" y="739"/>
                </a:lnTo>
                <a:lnTo>
                  <a:pt x="1868" y="750"/>
                </a:lnTo>
                <a:lnTo>
                  <a:pt x="1891" y="763"/>
                </a:lnTo>
                <a:lnTo>
                  <a:pt x="1913" y="777"/>
                </a:lnTo>
                <a:lnTo>
                  <a:pt x="1932" y="791"/>
                </a:lnTo>
                <a:lnTo>
                  <a:pt x="1951" y="807"/>
                </a:lnTo>
                <a:lnTo>
                  <a:pt x="1968" y="823"/>
                </a:lnTo>
                <a:lnTo>
                  <a:pt x="1982" y="839"/>
                </a:lnTo>
                <a:lnTo>
                  <a:pt x="1995" y="855"/>
                </a:lnTo>
                <a:lnTo>
                  <a:pt x="2006" y="872"/>
                </a:lnTo>
                <a:lnTo>
                  <a:pt x="2015" y="887"/>
                </a:lnTo>
                <a:lnTo>
                  <a:pt x="2022" y="903"/>
                </a:lnTo>
                <a:lnTo>
                  <a:pt x="2027" y="918"/>
                </a:lnTo>
                <a:lnTo>
                  <a:pt x="2028" y="932"/>
                </a:lnTo>
                <a:lnTo>
                  <a:pt x="2059" y="922"/>
                </a:lnTo>
                <a:lnTo>
                  <a:pt x="2088" y="914"/>
                </a:lnTo>
                <a:lnTo>
                  <a:pt x="2119" y="909"/>
                </a:lnTo>
                <a:lnTo>
                  <a:pt x="2147" y="907"/>
                </a:lnTo>
                <a:lnTo>
                  <a:pt x="2177" y="907"/>
                </a:lnTo>
                <a:lnTo>
                  <a:pt x="2205" y="909"/>
                </a:lnTo>
                <a:lnTo>
                  <a:pt x="2232" y="913"/>
                </a:lnTo>
                <a:lnTo>
                  <a:pt x="2259" y="921"/>
                </a:lnTo>
                <a:lnTo>
                  <a:pt x="2284" y="928"/>
                </a:lnTo>
                <a:lnTo>
                  <a:pt x="2309" y="940"/>
                </a:lnTo>
                <a:lnTo>
                  <a:pt x="2333" y="951"/>
                </a:lnTo>
                <a:lnTo>
                  <a:pt x="2356" y="966"/>
                </a:lnTo>
                <a:lnTo>
                  <a:pt x="2379" y="981"/>
                </a:lnTo>
                <a:lnTo>
                  <a:pt x="2401" y="996"/>
                </a:lnTo>
                <a:lnTo>
                  <a:pt x="2421" y="1014"/>
                </a:lnTo>
                <a:lnTo>
                  <a:pt x="2440" y="1033"/>
                </a:lnTo>
                <a:lnTo>
                  <a:pt x="2458" y="1053"/>
                </a:lnTo>
                <a:lnTo>
                  <a:pt x="2475" y="1072"/>
                </a:lnTo>
                <a:lnTo>
                  <a:pt x="2490" y="1094"/>
                </a:lnTo>
                <a:lnTo>
                  <a:pt x="2506" y="1114"/>
                </a:lnTo>
                <a:lnTo>
                  <a:pt x="2518" y="1136"/>
                </a:lnTo>
                <a:lnTo>
                  <a:pt x="2531" y="1158"/>
                </a:lnTo>
                <a:lnTo>
                  <a:pt x="2541" y="1178"/>
                </a:lnTo>
                <a:lnTo>
                  <a:pt x="2550" y="1200"/>
                </a:lnTo>
                <a:lnTo>
                  <a:pt x="2558" y="1222"/>
                </a:lnTo>
                <a:lnTo>
                  <a:pt x="2564" y="1242"/>
                </a:lnTo>
                <a:lnTo>
                  <a:pt x="2568" y="1263"/>
                </a:lnTo>
                <a:lnTo>
                  <a:pt x="2572" y="1282"/>
                </a:lnTo>
                <a:lnTo>
                  <a:pt x="2573" y="1301"/>
                </a:lnTo>
                <a:lnTo>
                  <a:pt x="2572" y="1319"/>
                </a:lnTo>
                <a:lnTo>
                  <a:pt x="2571" y="1336"/>
                </a:lnTo>
                <a:lnTo>
                  <a:pt x="2567" y="1351"/>
                </a:lnTo>
                <a:lnTo>
                  <a:pt x="2557" y="1380"/>
                </a:lnTo>
                <a:lnTo>
                  <a:pt x="2548" y="1406"/>
                </a:lnTo>
                <a:lnTo>
                  <a:pt x="2538" y="1430"/>
                </a:lnTo>
                <a:lnTo>
                  <a:pt x="2527" y="1453"/>
                </a:lnTo>
                <a:lnTo>
                  <a:pt x="2517" y="1474"/>
                </a:lnTo>
                <a:lnTo>
                  <a:pt x="2507" y="1492"/>
                </a:lnTo>
                <a:lnTo>
                  <a:pt x="2497" y="1508"/>
                </a:lnTo>
                <a:lnTo>
                  <a:pt x="2488" y="1522"/>
                </a:lnTo>
                <a:lnTo>
                  <a:pt x="2479" y="1535"/>
                </a:lnTo>
                <a:lnTo>
                  <a:pt x="2468" y="1547"/>
                </a:lnTo>
                <a:lnTo>
                  <a:pt x="2452" y="1563"/>
                </a:lnTo>
                <a:lnTo>
                  <a:pt x="2438" y="1575"/>
                </a:lnTo>
                <a:lnTo>
                  <a:pt x="2426" y="1581"/>
                </a:lnTo>
                <a:lnTo>
                  <a:pt x="2447" y="1604"/>
                </a:lnTo>
                <a:lnTo>
                  <a:pt x="2470" y="1625"/>
                </a:lnTo>
                <a:lnTo>
                  <a:pt x="2494" y="1644"/>
                </a:lnTo>
                <a:lnTo>
                  <a:pt x="2520" y="1659"/>
                </a:lnTo>
                <a:lnTo>
                  <a:pt x="2547" y="1675"/>
                </a:lnTo>
                <a:lnTo>
                  <a:pt x="2576" y="1688"/>
                </a:lnTo>
                <a:lnTo>
                  <a:pt x="2605" y="1698"/>
                </a:lnTo>
                <a:lnTo>
                  <a:pt x="2637" y="1708"/>
                </a:lnTo>
                <a:lnTo>
                  <a:pt x="2668" y="1716"/>
                </a:lnTo>
                <a:lnTo>
                  <a:pt x="2701" y="1722"/>
                </a:lnTo>
                <a:lnTo>
                  <a:pt x="2733" y="1726"/>
                </a:lnTo>
                <a:lnTo>
                  <a:pt x="2767" y="1730"/>
                </a:lnTo>
                <a:lnTo>
                  <a:pt x="2800" y="1731"/>
                </a:lnTo>
                <a:lnTo>
                  <a:pt x="2833" y="1732"/>
                </a:lnTo>
                <a:lnTo>
                  <a:pt x="2867" y="1732"/>
                </a:lnTo>
                <a:lnTo>
                  <a:pt x="2900" y="1730"/>
                </a:lnTo>
                <a:lnTo>
                  <a:pt x="2900" y="1357"/>
                </a:lnTo>
                <a:lnTo>
                  <a:pt x="2888" y="1341"/>
                </a:lnTo>
                <a:lnTo>
                  <a:pt x="2878" y="1323"/>
                </a:lnTo>
                <a:lnTo>
                  <a:pt x="2870" y="1304"/>
                </a:lnTo>
                <a:lnTo>
                  <a:pt x="2863" y="1286"/>
                </a:lnTo>
                <a:lnTo>
                  <a:pt x="2858" y="1266"/>
                </a:lnTo>
                <a:lnTo>
                  <a:pt x="2854" y="1247"/>
                </a:lnTo>
                <a:lnTo>
                  <a:pt x="2851" y="1228"/>
                </a:lnTo>
                <a:lnTo>
                  <a:pt x="2850" y="1209"/>
                </a:lnTo>
                <a:lnTo>
                  <a:pt x="2851" y="1191"/>
                </a:lnTo>
                <a:lnTo>
                  <a:pt x="2852" y="1173"/>
                </a:lnTo>
                <a:lnTo>
                  <a:pt x="2855" y="1155"/>
                </a:lnTo>
                <a:lnTo>
                  <a:pt x="2860" y="1138"/>
                </a:lnTo>
                <a:lnTo>
                  <a:pt x="2865" y="1122"/>
                </a:lnTo>
                <a:lnTo>
                  <a:pt x="2873" y="1106"/>
                </a:lnTo>
                <a:lnTo>
                  <a:pt x="2881" y="1094"/>
                </a:lnTo>
                <a:lnTo>
                  <a:pt x="2891" y="1081"/>
                </a:lnTo>
                <a:lnTo>
                  <a:pt x="2900" y="1073"/>
                </a:lnTo>
                <a:lnTo>
                  <a:pt x="2900" y="469"/>
                </a:lnTo>
                <a:lnTo>
                  <a:pt x="2877" y="473"/>
                </a:lnTo>
                <a:lnTo>
                  <a:pt x="2856" y="477"/>
                </a:lnTo>
                <a:lnTo>
                  <a:pt x="2837" y="484"/>
                </a:lnTo>
                <a:lnTo>
                  <a:pt x="2829" y="488"/>
                </a:lnTo>
                <a:lnTo>
                  <a:pt x="2822" y="492"/>
                </a:lnTo>
                <a:lnTo>
                  <a:pt x="2810" y="473"/>
                </a:lnTo>
                <a:lnTo>
                  <a:pt x="2797" y="455"/>
                </a:lnTo>
                <a:lnTo>
                  <a:pt x="2785" y="439"/>
                </a:lnTo>
                <a:lnTo>
                  <a:pt x="2772" y="424"/>
                </a:lnTo>
                <a:lnTo>
                  <a:pt x="2759" y="413"/>
                </a:lnTo>
                <a:lnTo>
                  <a:pt x="2745" y="401"/>
                </a:lnTo>
                <a:lnTo>
                  <a:pt x="2732" y="391"/>
                </a:lnTo>
                <a:lnTo>
                  <a:pt x="2718" y="383"/>
                </a:lnTo>
                <a:lnTo>
                  <a:pt x="2705" y="377"/>
                </a:lnTo>
                <a:lnTo>
                  <a:pt x="2691" y="372"/>
                </a:lnTo>
                <a:lnTo>
                  <a:pt x="2677" y="368"/>
                </a:lnTo>
                <a:lnTo>
                  <a:pt x="2664" y="365"/>
                </a:lnTo>
                <a:lnTo>
                  <a:pt x="2652" y="364"/>
                </a:lnTo>
                <a:lnTo>
                  <a:pt x="2639" y="363"/>
                </a:lnTo>
                <a:lnTo>
                  <a:pt x="2626" y="364"/>
                </a:lnTo>
                <a:lnTo>
                  <a:pt x="2613" y="366"/>
                </a:lnTo>
                <a:lnTo>
                  <a:pt x="2600" y="369"/>
                </a:lnTo>
                <a:lnTo>
                  <a:pt x="2589" y="373"/>
                </a:lnTo>
                <a:lnTo>
                  <a:pt x="2577" y="378"/>
                </a:lnTo>
                <a:lnTo>
                  <a:pt x="2566" y="384"/>
                </a:lnTo>
                <a:lnTo>
                  <a:pt x="2556" y="391"/>
                </a:lnTo>
                <a:lnTo>
                  <a:pt x="2545" y="398"/>
                </a:lnTo>
                <a:lnTo>
                  <a:pt x="2536" y="406"/>
                </a:lnTo>
                <a:lnTo>
                  <a:pt x="2527" y="415"/>
                </a:lnTo>
                <a:lnTo>
                  <a:pt x="2518" y="424"/>
                </a:lnTo>
                <a:lnTo>
                  <a:pt x="2512" y="434"/>
                </a:lnTo>
                <a:lnTo>
                  <a:pt x="2504" y="445"/>
                </a:lnTo>
                <a:lnTo>
                  <a:pt x="2499" y="456"/>
                </a:lnTo>
                <a:lnTo>
                  <a:pt x="2493" y="466"/>
                </a:lnTo>
                <a:lnTo>
                  <a:pt x="2489" y="478"/>
                </a:lnTo>
                <a:lnTo>
                  <a:pt x="2485" y="491"/>
                </a:lnTo>
                <a:lnTo>
                  <a:pt x="2484" y="502"/>
                </a:lnTo>
                <a:lnTo>
                  <a:pt x="2480" y="541"/>
                </a:lnTo>
                <a:lnTo>
                  <a:pt x="2475" y="576"/>
                </a:lnTo>
                <a:lnTo>
                  <a:pt x="2468" y="610"/>
                </a:lnTo>
                <a:lnTo>
                  <a:pt x="2458" y="639"/>
                </a:lnTo>
                <a:lnTo>
                  <a:pt x="2447" y="666"/>
                </a:lnTo>
                <a:lnTo>
                  <a:pt x="2434" y="690"/>
                </a:lnTo>
                <a:lnTo>
                  <a:pt x="2420" y="712"/>
                </a:lnTo>
                <a:lnTo>
                  <a:pt x="2403" y="731"/>
                </a:lnTo>
                <a:lnTo>
                  <a:pt x="2385" y="749"/>
                </a:lnTo>
                <a:lnTo>
                  <a:pt x="2367" y="763"/>
                </a:lnTo>
                <a:lnTo>
                  <a:pt x="2347" y="776"/>
                </a:lnTo>
                <a:lnTo>
                  <a:pt x="2328" y="786"/>
                </a:lnTo>
                <a:lnTo>
                  <a:pt x="2306" y="795"/>
                </a:lnTo>
                <a:lnTo>
                  <a:pt x="2284" y="802"/>
                </a:lnTo>
                <a:lnTo>
                  <a:pt x="2262" y="806"/>
                </a:lnTo>
                <a:lnTo>
                  <a:pt x="2241" y="809"/>
                </a:lnTo>
                <a:lnTo>
                  <a:pt x="2219" y="811"/>
                </a:lnTo>
                <a:lnTo>
                  <a:pt x="2197" y="811"/>
                </a:lnTo>
                <a:lnTo>
                  <a:pt x="2175" y="808"/>
                </a:lnTo>
                <a:lnTo>
                  <a:pt x="2154" y="806"/>
                </a:lnTo>
                <a:lnTo>
                  <a:pt x="2133" y="800"/>
                </a:lnTo>
                <a:lnTo>
                  <a:pt x="2114" y="795"/>
                </a:lnTo>
                <a:lnTo>
                  <a:pt x="2095" y="789"/>
                </a:lnTo>
                <a:lnTo>
                  <a:pt x="2077" y="781"/>
                </a:lnTo>
                <a:lnTo>
                  <a:pt x="2060" y="772"/>
                </a:lnTo>
                <a:lnTo>
                  <a:pt x="2045" y="763"/>
                </a:lnTo>
                <a:lnTo>
                  <a:pt x="2031" y="753"/>
                </a:lnTo>
                <a:lnTo>
                  <a:pt x="2019" y="742"/>
                </a:lnTo>
                <a:lnTo>
                  <a:pt x="2009" y="730"/>
                </a:lnTo>
                <a:lnTo>
                  <a:pt x="2001" y="718"/>
                </a:lnTo>
                <a:lnTo>
                  <a:pt x="1995" y="707"/>
                </a:lnTo>
                <a:lnTo>
                  <a:pt x="1991" y="694"/>
                </a:lnTo>
                <a:lnTo>
                  <a:pt x="1985" y="671"/>
                </a:lnTo>
                <a:lnTo>
                  <a:pt x="1978" y="649"/>
                </a:lnTo>
                <a:lnTo>
                  <a:pt x="1974" y="630"/>
                </a:lnTo>
                <a:lnTo>
                  <a:pt x="1972" y="611"/>
                </a:lnTo>
                <a:lnTo>
                  <a:pt x="1971" y="592"/>
                </a:lnTo>
                <a:lnTo>
                  <a:pt x="1972" y="575"/>
                </a:lnTo>
                <a:lnTo>
                  <a:pt x="1973" y="560"/>
                </a:lnTo>
                <a:lnTo>
                  <a:pt x="1976" y="544"/>
                </a:lnTo>
                <a:lnTo>
                  <a:pt x="1978" y="530"/>
                </a:lnTo>
                <a:lnTo>
                  <a:pt x="1983" y="516"/>
                </a:lnTo>
                <a:lnTo>
                  <a:pt x="1989" y="505"/>
                </a:lnTo>
                <a:lnTo>
                  <a:pt x="1995" y="493"/>
                </a:lnTo>
                <a:lnTo>
                  <a:pt x="2001" y="482"/>
                </a:lnTo>
                <a:lnTo>
                  <a:pt x="2009" y="473"/>
                </a:lnTo>
                <a:lnTo>
                  <a:pt x="2018" y="464"/>
                </a:lnTo>
                <a:lnTo>
                  <a:pt x="2026" y="455"/>
                </a:lnTo>
                <a:lnTo>
                  <a:pt x="2035" y="448"/>
                </a:lnTo>
                <a:lnTo>
                  <a:pt x="2045" y="441"/>
                </a:lnTo>
                <a:lnTo>
                  <a:pt x="2064" y="429"/>
                </a:lnTo>
                <a:lnTo>
                  <a:pt x="2083" y="420"/>
                </a:lnTo>
                <a:lnTo>
                  <a:pt x="2102" y="414"/>
                </a:lnTo>
                <a:lnTo>
                  <a:pt x="2120" y="410"/>
                </a:lnTo>
                <a:lnTo>
                  <a:pt x="2137" y="407"/>
                </a:lnTo>
                <a:lnTo>
                  <a:pt x="2150" y="406"/>
                </a:lnTo>
                <a:lnTo>
                  <a:pt x="2161" y="406"/>
                </a:lnTo>
                <a:lnTo>
                  <a:pt x="2134" y="423"/>
                </a:lnTo>
                <a:lnTo>
                  <a:pt x="2111" y="438"/>
                </a:lnTo>
                <a:lnTo>
                  <a:pt x="2091" y="455"/>
                </a:lnTo>
                <a:lnTo>
                  <a:pt x="2073" y="471"/>
                </a:lnTo>
                <a:lnTo>
                  <a:pt x="2058" y="488"/>
                </a:lnTo>
                <a:lnTo>
                  <a:pt x="2046" y="505"/>
                </a:lnTo>
                <a:lnTo>
                  <a:pt x="2036" y="520"/>
                </a:lnTo>
                <a:lnTo>
                  <a:pt x="2028" y="537"/>
                </a:lnTo>
                <a:lnTo>
                  <a:pt x="2023" y="553"/>
                </a:lnTo>
                <a:lnTo>
                  <a:pt x="2019" y="569"/>
                </a:lnTo>
                <a:lnTo>
                  <a:pt x="2019" y="585"/>
                </a:lnTo>
                <a:lnTo>
                  <a:pt x="2019" y="601"/>
                </a:lnTo>
                <a:lnTo>
                  <a:pt x="2022" y="615"/>
                </a:lnTo>
                <a:lnTo>
                  <a:pt x="2027" y="630"/>
                </a:lnTo>
                <a:lnTo>
                  <a:pt x="2032" y="644"/>
                </a:lnTo>
                <a:lnTo>
                  <a:pt x="2040" y="657"/>
                </a:lnTo>
                <a:lnTo>
                  <a:pt x="2049" y="670"/>
                </a:lnTo>
                <a:lnTo>
                  <a:pt x="2059" y="681"/>
                </a:lnTo>
                <a:lnTo>
                  <a:pt x="2069" y="693"/>
                </a:lnTo>
                <a:lnTo>
                  <a:pt x="2082" y="704"/>
                </a:lnTo>
                <a:lnTo>
                  <a:pt x="2095" y="713"/>
                </a:lnTo>
                <a:lnTo>
                  <a:pt x="2109" y="722"/>
                </a:lnTo>
                <a:lnTo>
                  <a:pt x="2123" y="730"/>
                </a:lnTo>
                <a:lnTo>
                  <a:pt x="2138" y="736"/>
                </a:lnTo>
                <a:lnTo>
                  <a:pt x="2154" y="743"/>
                </a:lnTo>
                <a:lnTo>
                  <a:pt x="2169" y="747"/>
                </a:lnTo>
                <a:lnTo>
                  <a:pt x="2184" y="750"/>
                </a:lnTo>
                <a:lnTo>
                  <a:pt x="2201" y="752"/>
                </a:lnTo>
                <a:lnTo>
                  <a:pt x="2216" y="753"/>
                </a:lnTo>
                <a:lnTo>
                  <a:pt x="2232" y="752"/>
                </a:lnTo>
                <a:lnTo>
                  <a:pt x="2248" y="750"/>
                </a:lnTo>
                <a:lnTo>
                  <a:pt x="2262" y="747"/>
                </a:lnTo>
                <a:lnTo>
                  <a:pt x="2280" y="738"/>
                </a:lnTo>
                <a:lnTo>
                  <a:pt x="2298" y="729"/>
                </a:lnTo>
                <a:lnTo>
                  <a:pt x="2314" y="720"/>
                </a:lnTo>
                <a:lnTo>
                  <a:pt x="2328" y="710"/>
                </a:lnTo>
                <a:lnTo>
                  <a:pt x="2342" y="698"/>
                </a:lnTo>
                <a:lnTo>
                  <a:pt x="2355" y="686"/>
                </a:lnTo>
                <a:lnTo>
                  <a:pt x="2366" y="675"/>
                </a:lnTo>
                <a:lnTo>
                  <a:pt x="2376" y="663"/>
                </a:lnTo>
                <a:lnTo>
                  <a:pt x="2387" y="651"/>
                </a:lnTo>
                <a:lnTo>
                  <a:pt x="2396" y="638"/>
                </a:lnTo>
                <a:lnTo>
                  <a:pt x="2403" y="625"/>
                </a:lnTo>
                <a:lnTo>
                  <a:pt x="2411" y="611"/>
                </a:lnTo>
                <a:lnTo>
                  <a:pt x="2416" y="598"/>
                </a:lnTo>
                <a:lnTo>
                  <a:pt x="2421" y="584"/>
                </a:lnTo>
                <a:lnTo>
                  <a:pt x="2426" y="570"/>
                </a:lnTo>
                <a:lnTo>
                  <a:pt x="2430" y="556"/>
                </a:lnTo>
                <a:lnTo>
                  <a:pt x="2433" y="541"/>
                </a:lnTo>
                <a:lnTo>
                  <a:pt x="2434" y="526"/>
                </a:lnTo>
                <a:lnTo>
                  <a:pt x="2436" y="497"/>
                </a:lnTo>
                <a:lnTo>
                  <a:pt x="2435" y="466"/>
                </a:lnTo>
                <a:lnTo>
                  <a:pt x="2431" y="437"/>
                </a:lnTo>
                <a:lnTo>
                  <a:pt x="2425" y="407"/>
                </a:lnTo>
                <a:lnTo>
                  <a:pt x="2416" y="379"/>
                </a:lnTo>
                <a:lnTo>
                  <a:pt x="2404" y="351"/>
                </a:lnTo>
                <a:lnTo>
                  <a:pt x="2392" y="323"/>
                </a:lnTo>
                <a:lnTo>
                  <a:pt x="2376" y="297"/>
                </a:lnTo>
                <a:lnTo>
                  <a:pt x="2358" y="272"/>
                </a:lnTo>
                <a:lnTo>
                  <a:pt x="2340" y="249"/>
                </a:lnTo>
                <a:lnTo>
                  <a:pt x="2320" y="228"/>
                </a:lnTo>
                <a:lnTo>
                  <a:pt x="2298" y="209"/>
                </a:lnTo>
                <a:lnTo>
                  <a:pt x="2277" y="191"/>
                </a:lnTo>
                <a:lnTo>
                  <a:pt x="2252" y="177"/>
                </a:lnTo>
                <a:lnTo>
                  <a:pt x="2228" y="165"/>
                </a:lnTo>
                <a:lnTo>
                  <a:pt x="2216" y="160"/>
                </a:lnTo>
                <a:lnTo>
                  <a:pt x="2204" y="157"/>
                </a:lnTo>
                <a:lnTo>
                  <a:pt x="2191" y="153"/>
                </a:lnTo>
                <a:lnTo>
                  <a:pt x="2178" y="151"/>
                </a:lnTo>
                <a:lnTo>
                  <a:pt x="2164" y="149"/>
                </a:lnTo>
                <a:lnTo>
                  <a:pt x="2151" y="149"/>
                </a:lnTo>
                <a:lnTo>
                  <a:pt x="2138" y="149"/>
                </a:lnTo>
                <a:lnTo>
                  <a:pt x="2125" y="150"/>
                </a:lnTo>
                <a:lnTo>
                  <a:pt x="2111" y="153"/>
                </a:lnTo>
                <a:lnTo>
                  <a:pt x="2099" y="155"/>
                </a:lnTo>
                <a:lnTo>
                  <a:pt x="2086" y="159"/>
                </a:lnTo>
                <a:lnTo>
                  <a:pt x="2073" y="164"/>
                </a:lnTo>
                <a:lnTo>
                  <a:pt x="2060" y="171"/>
                </a:lnTo>
                <a:lnTo>
                  <a:pt x="2046" y="178"/>
                </a:lnTo>
                <a:lnTo>
                  <a:pt x="2033" y="187"/>
                </a:lnTo>
                <a:lnTo>
                  <a:pt x="2021" y="196"/>
                </a:lnTo>
                <a:lnTo>
                  <a:pt x="2001" y="177"/>
                </a:lnTo>
                <a:lnTo>
                  <a:pt x="1982" y="159"/>
                </a:lnTo>
                <a:lnTo>
                  <a:pt x="1962" y="142"/>
                </a:lnTo>
                <a:lnTo>
                  <a:pt x="1942" y="126"/>
                </a:lnTo>
                <a:lnTo>
                  <a:pt x="1923" y="110"/>
                </a:lnTo>
                <a:lnTo>
                  <a:pt x="1904" y="98"/>
                </a:lnTo>
                <a:lnTo>
                  <a:pt x="1885" y="85"/>
                </a:lnTo>
                <a:lnTo>
                  <a:pt x="1866" y="73"/>
                </a:lnTo>
                <a:lnTo>
                  <a:pt x="1846" y="62"/>
                </a:lnTo>
                <a:lnTo>
                  <a:pt x="1827" y="52"/>
                </a:lnTo>
                <a:lnTo>
                  <a:pt x="1809" y="44"/>
                </a:lnTo>
                <a:lnTo>
                  <a:pt x="1790" y="35"/>
                </a:lnTo>
                <a:lnTo>
                  <a:pt x="1754" y="22"/>
                </a:lnTo>
                <a:lnTo>
                  <a:pt x="1718" y="12"/>
                </a:lnTo>
                <a:lnTo>
                  <a:pt x="1684" y="5"/>
                </a:lnTo>
                <a:lnTo>
                  <a:pt x="1649" y="2"/>
                </a:lnTo>
                <a:lnTo>
                  <a:pt x="1616" y="0"/>
                </a:lnTo>
                <a:lnTo>
                  <a:pt x="1584" y="3"/>
                </a:lnTo>
                <a:lnTo>
                  <a:pt x="1552" y="7"/>
                </a:lnTo>
                <a:lnTo>
                  <a:pt x="1523" y="13"/>
                </a:lnTo>
                <a:lnTo>
                  <a:pt x="1493" y="21"/>
                </a:lnTo>
                <a:lnTo>
                  <a:pt x="1465" y="31"/>
                </a:lnTo>
                <a:lnTo>
                  <a:pt x="1439" y="43"/>
                </a:lnTo>
                <a:lnTo>
                  <a:pt x="1414" y="55"/>
                </a:lnTo>
                <a:lnTo>
                  <a:pt x="1391" y="69"/>
                </a:lnTo>
                <a:lnTo>
                  <a:pt x="1368" y="85"/>
                </a:lnTo>
                <a:lnTo>
                  <a:pt x="1347" y="101"/>
                </a:lnTo>
                <a:lnTo>
                  <a:pt x="1329" y="118"/>
                </a:lnTo>
                <a:lnTo>
                  <a:pt x="1311" y="135"/>
                </a:lnTo>
                <a:lnTo>
                  <a:pt x="1296" y="153"/>
                </a:lnTo>
                <a:lnTo>
                  <a:pt x="1282" y="171"/>
                </a:lnTo>
                <a:lnTo>
                  <a:pt x="1270" y="187"/>
                </a:lnTo>
                <a:lnTo>
                  <a:pt x="1260" y="204"/>
                </a:lnTo>
                <a:lnTo>
                  <a:pt x="1253" y="221"/>
                </a:lnTo>
                <a:lnTo>
                  <a:pt x="1247" y="236"/>
                </a:lnTo>
                <a:lnTo>
                  <a:pt x="1244" y="251"/>
                </a:lnTo>
                <a:lnTo>
                  <a:pt x="1242" y="264"/>
                </a:lnTo>
                <a:lnTo>
                  <a:pt x="1242" y="277"/>
                </a:lnTo>
                <a:lnTo>
                  <a:pt x="1209" y="263"/>
                </a:lnTo>
                <a:lnTo>
                  <a:pt x="1177" y="253"/>
                </a:lnTo>
                <a:lnTo>
                  <a:pt x="1145" y="245"/>
                </a:lnTo>
                <a:lnTo>
                  <a:pt x="1113" y="241"/>
                </a:lnTo>
                <a:lnTo>
                  <a:pt x="1084" y="238"/>
                </a:lnTo>
                <a:lnTo>
                  <a:pt x="1054" y="240"/>
                </a:lnTo>
                <a:lnTo>
                  <a:pt x="1026" y="242"/>
                </a:lnTo>
                <a:lnTo>
                  <a:pt x="998" y="247"/>
                </a:lnTo>
                <a:lnTo>
                  <a:pt x="972" y="255"/>
                </a:lnTo>
                <a:lnTo>
                  <a:pt x="947" y="264"/>
                </a:lnTo>
                <a:lnTo>
                  <a:pt x="922" y="274"/>
                </a:lnTo>
                <a:lnTo>
                  <a:pt x="901" y="286"/>
                </a:lnTo>
                <a:lnTo>
                  <a:pt x="879" y="300"/>
                </a:lnTo>
                <a:lnTo>
                  <a:pt x="858" y="314"/>
                </a:lnTo>
                <a:lnTo>
                  <a:pt x="839" y="329"/>
                </a:lnTo>
                <a:lnTo>
                  <a:pt x="821" y="346"/>
                </a:lnTo>
                <a:lnTo>
                  <a:pt x="805" y="364"/>
                </a:lnTo>
                <a:lnTo>
                  <a:pt x="789" y="382"/>
                </a:lnTo>
                <a:lnTo>
                  <a:pt x="775" y="400"/>
                </a:lnTo>
                <a:lnTo>
                  <a:pt x="764" y="418"/>
                </a:lnTo>
                <a:lnTo>
                  <a:pt x="752" y="437"/>
                </a:lnTo>
                <a:lnTo>
                  <a:pt x="743" y="455"/>
                </a:lnTo>
                <a:lnTo>
                  <a:pt x="735" y="473"/>
                </a:lnTo>
                <a:lnTo>
                  <a:pt x="729" y="491"/>
                </a:lnTo>
                <a:lnTo>
                  <a:pt x="724" y="507"/>
                </a:lnTo>
                <a:lnTo>
                  <a:pt x="721" y="524"/>
                </a:lnTo>
                <a:lnTo>
                  <a:pt x="720" y="539"/>
                </a:lnTo>
                <a:lnTo>
                  <a:pt x="721" y="555"/>
                </a:lnTo>
                <a:lnTo>
                  <a:pt x="723" y="567"/>
                </a:lnTo>
                <a:lnTo>
                  <a:pt x="727" y="579"/>
                </a:lnTo>
                <a:lnTo>
                  <a:pt x="733" y="589"/>
                </a:lnTo>
                <a:lnTo>
                  <a:pt x="741" y="597"/>
                </a:lnTo>
                <a:lnTo>
                  <a:pt x="716" y="608"/>
                </a:lnTo>
                <a:lnTo>
                  <a:pt x="693" y="619"/>
                </a:lnTo>
                <a:lnTo>
                  <a:pt x="673" y="630"/>
                </a:lnTo>
                <a:lnTo>
                  <a:pt x="652" y="642"/>
                </a:lnTo>
                <a:lnTo>
                  <a:pt x="633" y="653"/>
                </a:lnTo>
                <a:lnTo>
                  <a:pt x="615" y="665"/>
                </a:lnTo>
                <a:lnTo>
                  <a:pt x="600" y="678"/>
                </a:lnTo>
                <a:lnTo>
                  <a:pt x="584" y="690"/>
                </a:lnTo>
                <a:lnTo>
                  <a:pt x="570" y="703"/>
                </a:lnTo>
                <a:lnTo>
                  <a:pt x="558" y="716"/>
                </a:lnTo>
                <a:lnTo>
                  <a:pt x="545" y="730"/>
                </a:lnTo>
                <a:lnTo>
                  <a:pt x="535" y="743"/>
                </a:lnTo>
                <a:lnTo>
                  <a:pt x="526" y="757"/>
                </a:lnTo>
                <a:lnTo>
                  <a:pt x="517" y="770"/>
                </a:lnTo>
                <a:lnTo>
                  <a:pt x="509" y="784"/>
                </a:lnTo>
                <a:lnTo>
                  <a:pt x="503" y="798"/>
                </a:lnTo>
                <a:lnTo>
                  <a:pt x="497" y="812"/>
                </a:lnTo>
                <a:lnTo>
                  <a:pt x="492" y="826"/>
                </a:lnTo>
                <a:lnTo>
                  <a:pt x="490" y="840"/>
                </a:lnTo>
                <a:lnTo>
                  <a:pt x="487" y="854"/>
                </a:lnTo>
                <a:lnTo>
                  <a:pt x="485" y="868"/>
                </a:lnTo>
                <a:lnTo>
                  <a:pt x="485" y="882"/>
                </a:lnTo>
                <a:lnTo>
                  <a:pt x="483" y="896"/>
                </a:lnTo>
                <a:lnTo>
                  <a:pt x="485" y="909"/>
                </a:lnTo>
                <a:lnTo>
                  <a:pt x="486" y="923"/>
                </a:lnTo>
                <a:lnTo>
                  <a:pt x="488" y="936"/>
                </a:lnTo>
                <a:lnTo>
                  <a:pt x="496" y="963"/>
                </a:lnTo>
                <a:lnTo>
                  <a:pt x="505" y="989"/>
                </a:lnTo>
                <a:lnTo>
                  <a:pt x="518" y="1013"/>
                </a:lnTo>
                <a:lnTo>
                  <a:pt x="533" y="1036"/>
                </a:lnTo>
                <a:lnTo>
                  <a:pt x="550" y="1058"/>
                </a:lnTo>
                <a:lnTo>
                  <a:pt x="569" y="1077"/>
                </a:lnTo>
                <a:lnTo>
                  <a:pt x="590" y="1095"/>
                </a:lnTo>
                <a:lnTo>
                  <a:pt x="613" y="1111"/>
                </a:lnTo>
                <a:lnTo>
                  <a:pt x="637" y="1126"/>
                </a:lnTo>
                <a:lnTo>
                  <a:pt x="663" y="1137"/>
                </a:lnTo>
                <a:lnTo>
                  <a:pt x="689" y="1146"/>
                </a:lnTo>
                <a:lnTo>
                  <a:pt x="716" y="1151"/>
                </a:lnTo>
                <a:lnTo>
                  <a:pt x="730" y="1154"/>
                </a:lnTo>
                <a:lnTo>
                  <a:pt x="744" y="1155"/>
                </a:lnTo>
                <a:lnTo>
                  <a:pt x="760" y="1155"/>
                </a:lnTo>
                <a:lnTo>
                  <a:pt x="774" y="1155"/>
                </a:lnTo>
                <a:lnTo>
                  <a:pt x="788" y="1154"/>
                </a:lnTo>
                <a:lnTo>
                  <a:pt x="803" y="1151"/>
                </a:lnTo>
                <a:lnTo>
                  <a:pt x="817" y="1149"/>
                </a:lnTo>
                <a:lnTo>
                  <a:pt x="833" y="1145"/>
                </a:lnTo>
                <a:lnTo>
                  <a:pt x="847" y="1140"/>
                </a:lnTo>
                <a:lnTo>
                  <a:pt x="862" y="1133"/>
                </a:lnTo>
                <a:lnTo>
                  <a:pt x="876" y="1127"/>
                </a:lnTo>
                <a:lnTo>
                  <a:pt x="890" y="1119"/>
                </a:lnTo>
                <a:lnTo>
                  <a:pt x="906" y="1110"/>
                </a:lnTo>
                <a:lnTo>
                  <a:pt x="920" y="1101"/>
                </a:lnTo>
                <a:lnTo>
                  <a:pt x="933" y="1091"/>
                </a:lnTo>
                <a:lnTo>
                  <a:pt x="945" y="1081"/>
                </a:lnTo>
                <a:lnTo>
                  <a:pt x="957" y="1071"/>
                </a:lnTo>
                <a:lnTo>
                  <a:pt x="967" y="1059"/>
                </a:lnTo>
                <a:lnTo>
                  <a:pt x="977" y="1046"/>
                </a:lnTo>
                <a:lnTo>
                  <a:pt x="986" y="1033"/>
                </a:lnTo>
                <a:lnTo>
                  <a:pt x="994" y="1021"/>
                </a:lnTo>
                <a:lnTo>
                  <a:pt x="1000" y="1007"/>
                </a:lnTo>
                <a:lnTo>
                  <a:pt x="1006" y="994"/>
                </a:lnTo>
                <a:lnTo>
                  <a:pt x="1011" y="980"/>
                </a:lnTo>
                <a:lnTo>
                  <a:pt x="1014" y="966"/>
                </a:lnTo>
                <a:lnTo>
                  <a:pt x="1017" y="950"/>
                </a:lnTo>
                <a:lnTo>
                  <a:pt x="1018" y="936"/>
                </a:lnTo>
                <a:lnTo>
                  <a:pt x="1018" y="922"/>
                </a:lnTo>
                <a:lnTo>
                  <a:pt x="1017" y="908"/>
                </a:lnTo>
                <a:lnTo>
                  <a:pt x="1016" y="894"/>
                </a:lnTo>
                <a:lnTo>
                  <a:pt x="1012" y="880"/>
                </a:lnTo>
                <a:lnTo>
                  <a:pt x="1008" y="867"/>
                </a:lnTo>
                <a:lnTo>
                  <a:pt x="1002" y="854"/>
                </a:lnTo>
                <a:lnTo>
                  <a:pt x="995" y="841"/>
                </a:lnTo>
                <a:lnTo>
                  <a:pt x="986" y="829"/>
                </a:lnTo>
                <a:lnTo>
                  <a:pt x="977" y="817"/>
                </a:lnTo>
                <a:lnTo>
                  <a:pt x="967" y="807"/>
                </a:lnTo>
                <a:lnTo>
                  <a:pt x="954" y="797"/>
                </a:lnTo>
                <a:lnTo>
                  <a:pt x="940" y="788"/>
                </a:lnTo>
                <a:lnTo>
                  <a:pt x="926" y="779"/>
                </a:lnTo>
                <a:lnTo>
                  <a:pt x="910" y="771"/>
                </a:lnTo>
                <a:lnTo>
                  <a:pt x="892" y="765"/>
                </a:lnTo>
                <a:lnTo>
                  <a:pt x="872" y="759"/>
                </a:lnTo>
                <a:lnTo>
                  <a:pt x="852" y="754"/>
                </a:lnTo>
                <a:lnTo>
                  <a:pt x="830" y="752"/>
                </a:lnTo>
                <a:lnTo>
                  <a:pt x="806" y="749"/>
                </a:lnTo>
                <a:lnTo>
                  <a:pt x="839" y="742"/>
                </a:lnTo>
                <a:lnTo>
                  <a:pt x="869" y="736"/>
                </a:lnTo>
                <a:lnTo>
                  <a:pt x="897" y="735"/>
                </a:lnTo>
                <a:lnTo>
                  <a:pt x="921" y="736"/>
                </a:lnTo>
                <a:lnTo>
                  <a:pt x="944" y="740"/>
                </a:lnTo>
                <a:lnTo>
                  <a:pt x="965" y="745"/>
                </a:lnTo>
                <a:lnTo>
                  <a:pt x="982" y="754"/>
                </a:lnTo>
                <a:lnTo>
                  <a:pt x="999" y="765"/>
                </a:lnTo>
                <a:lnTo>
                  <a:pt x="1013" y="777"/>
                </a:lnTo>
                <a:lnTo>
                  <a:pt x="1025" y="791"/>
                </a:lnTo>
                <a:lnTo>
                  <a:pt x="1035" y="807"/>
                </a:lnTo>
                <a:lnTo>
                  <a:pt x="1044" y="823"/>
                </a:lnTo>
                <a:lnTo>
                  <a:pt x="1050" y="841"/>
                </a:lnTo>
                <a:lnTo>
                  <a:pt x="1055" y="861"/>
                </a:lnTo>
                <a:lnTo>
                  <a:pt x="1058" y="880"/>
                </a:lnTo>
                <a:lnTo>
                  <a:pt x="1061" y="900"/>
                </a:lnTo>
                <a:lnTo>
                  <a:pt x="1061" y="921"/>
                </a:lnTo>
                <a:lnTo>
                  <a:pt x="1061" y="943"/>
                </a:lnTo>
                <a:lnTo>
                  <a:pt x="1058" y="963"/>
                </a:lnTo>
                <a:lnTo>
                  <a:pt x="1054" y="983"/>
                </a:lnTo>
                <a:lnTo>
                  <a:pt x="1050" y="1004"/>
                </a:lnTo>
                <a:lnTo>
                  <a:pt x="1044" y="1023"/>
                </a:lnTo>
                <a:lnTo>
                  <a:pt x="1038" y="1042"/>
                </a:lnTo>
                <a:lnTo>
                  <a:pt x="1030" y="1060"/>
                </a:lnTo>
                <a:lnTo>
                  <a:pt x="1022" y="1077"/>
                </a:lnTo>
                <a:lnTo>
                  <a:pt x="1013" y="1092"/>
                </a:lnTo>
                <a:lnTo>
                  <a:pt x="1003" y="1106"/>
                </a:lnTo>
                <a:lnTo>
                  <a:pt x="993" y="1119"/>
                </a:lnTo>
                <a:lnTo>
                  <a:pt x="982" y="1129"/>
                </a:lnTo>
                <a:lnTo>
                  <a:pt x="971" y="1137"/>
                </a:lnTo>
                <a:lnTo>
                  <a:pt x="959" y="1143"/>
                </a:lnTo>
                <a:lnTo>
                  <a:pt x="948" y="1147"/>
                </a:lnTo>
                <a:lnTo>
                  <a:pt x="911" y="1160"/>
                </a:lnTo>
                <a:lnTo>
                  <a:pt x="875" y="1172"/>
                </a:lnTo>
                <a:lnTo>
                  <a:pt x="842" y="1181"/>
                </a:lnTo>
                <a:lnTo>
                  <a:pt x="810" y="1188"/>
                </a:lnTo>
                <a:lnTo>
                  <a:pt x="780" y="1195"/>
                </a:lnTo>
                <a:lnTo>
                  <a:pt x="752" y="1199"/>
                </a:lnTo>
                <a:lnTo>
                  <a:pt x="725" y="1201"/>
                </a:lnTo>
                <a:lnTo>
                  <a:pt x="701" y="1202"/>
                </a:lnTo>
                <a:lnTo>
                  <a:pt x="677" y="1202"/>
                </a:lnTo>
                <a:lnTo>
                  <a:pt x="655" y="1201"/>
                </a:lnTo>
                <a:lnTo>
                  <a:pt x="634" y="1199"/>
                </a:lnTo>
                <a:lnTo>
                  <a:pt x="615" y="1196"/>
                </a:lnTo>
                <a:lnTo>
                  <a:pt x="597" y="1191"/>
                </a:lnTo>
                <a:lnTo>
                  <a:pt x="581" y="1186"/>
                </a:lnTo>
                <a:lnTo>
                  <a:pt x="565" y="1179"/>
                </a:lnTo>
                <a:lnTo>
                  <a:pt x="551" y="1173"/>
                </a:lnTo>
                <a:lnTo>
                  <a:pt x="537" y="1165"/>
                </a:lnTo>
                <a:lnTo>
                  <a:pt x="524" y="1158"/>
                </a:lnTo>
                <a:lnTo>
                  <a:pt x="501" y="1141"/>
                </a:lnTo>
                <a:lnTo>
                  <a:pt x="481" y="1123"/>
                </a:lnTo>
                <a:lnTo>
                  <a:pt x="463" y="1106"/>
                </a:lnTo>
                <a:lnTo>
                  <a:pt x="432" y="1076"/>
                </a:lnTo>
                <a:lnTo>
                  <a:pt x="418" y="1063"/>
                </a:lnTo>
                <a:lnTo>
                  <a:pt x="412" y="1059"/>
                </a:lnTo>
                <a:lnTo>
                  <a:pt x="404" y="1054"/>
                </a:lnTo>
                <a:close/>
                <a:moveTo>
                  <a:pt x="2900" y="1798"/>
                </a:moveTo>
                <a:lnTo>
                  <a:pt x="2900" y="2002"/>
                </a:lnTo>
                <a:lnTo>
                  <a:pt x="2858" y="2009"/>
                </a:lnTo>
                <a:lnTo>
                  <a:pt x="2813" y="2015"/>
                </a:lnTo>
                <a:lnTo>
                  <a:pt x="2768" y="2022"/>
                </a:lnTo>
                <a:lnTo>
                  <a:pt x="2721" y="2027"/>
                </a:lnTo>
                <a:lnTo>
                  <a:pt x="2672" y="2031"/>
                </a:lnTo>
                <a:lnTo>
                  <a:pt x="2622" y="2033"/>
                </a:lnTo>
                <a:lnTo>
                  <a:pt x="2570" y="2036"/>
                </a:lnTo>
                <a:lnTo>
                  <a:pt x="2517" y="2036"/>
                </a:lnTo>
                <a:lnTo>
                  <a:pt x="2424" y="2029"/>
                </a:lnTo>
                <a:lnTo>
                  <a:pt x="2333" y="2022"/>
                </a:lnTo>
                <a:lnTo>
                  <a:pt x="2289" y="2017"/>
                </a:lnTo>
                <a:lnTo>
                  <a:pt x="2246" y="2011"/>
                </a:lnTo>
                <a:lnTo>
                  <a:pt x="2202" y="2005"/>
                </a:lnTo>
                <a:lnTo>
                  <a:pt x="2160" y="1997"/>
                </a:lnTo>
                <a:lnTo>
                  <a:pt x="2118" y="1988"/>
                </a:lnTo>
                <a:lnTo>
                  <a:pt x="2077" y="1979"/>
                </a:lnTo>
                <a:lnTo>
                  <a:pt x="2037" y="1969"/>
                </a:lnTo>
                <a:lnTo>
                  <a:pt x="1997" y="1958"/>
                </a:lnTo>
                <a:lnTo>
                  <a:pt x="1959" y="1945"/>
                </a:lnTo>
                <a:lnTo>
                  <a:pt x="1922" y="1931"/>
                </a:lnTo>
                <a:lnTo>
                  <a:pt x="1885" y="1914"/>
                </a:lnTo>
                <a:lnTo>
                  <a:pt x="1849" y="1897"/>
                </a:lnTo>
                <a:lnTo>
                  <a:pt x="1814" y="1880"/>
                </a:lnTo>
                <a:lnTo>
                  <a:pt x="1780" y="1859"/>
                </a:lnTo>
                <a:lnTo>
                  <a:pt x="1748" y="1837"/>
                </a:lnTo>
                <a:lnTo>
                  <a:pt x="1716" y="1813"/>
                </a:lnTo>
                <a:lnTo>
                  <a:pt x="1685" y="1787"/>
                </a:lnTo>
                <a:lnTo>
                  <a:pt x="1654" y="1761"/>
                </a:lnTo>
                <a:lnTo>
                  <a:pt x="1626" y="1731"/>
                </a:lnTo>
                <a:lnTo>
                  <a:pt x="1598" y="1699"/>
                </a:lnTo>
                <a:lnTo>
                  <a:pt x="1573" y="1666"/>
                </a:lnTo>
                <a:lnTo>
                  <a:pt x="1547" y="1630"/>
                </a:lnTo>
                <a:lnTo>
                  <a:pt x="1523" y="1592"/>
                </a:lnTo>
                <a:lnTo>
                  <a:pt x="1501" y="1552"/>
                </a:lnTo>
                <a:lnTo>
                  <a:pt x="1479" y="1508"/>
                </a:lnTo>
                <a:lnTo>
                  <a:pt x="1459" y="1464"/>
                </a:lnTo>
                <a:lnTo>
                  <a:pt x="1439" y="1415"/>
                </a:lnTo>
                <a:lnTo>
                  <a:pt x="1423" y="1365"/>
                </a:lnTo>
                <a:lnTo>
                  <a:pt x="1390" y="1380"/>
                </a:lnTo>
                <a:lnTo>
                  <a:pt x="1360" y="1393"/>
                </a:lnTo>
                <a:lnTo>
                  <a:pt x="1332" y="1402"/>
                </a:lnTo>
                <a:lnTo>
                  <a:pt x="1319" y="1405"/>
                </a:lnTo>
                <a:lnTo>
                  <a:pt x="1306" y="1407"/>
                </a:lnTo>
                <a:lnTo>
                  <a:pt x="1294" y="1407"/>
                </a:lnTo>
                <a:lnTo>
                  <a:pt x="1282" y="1408"/>
                </a:lnTo>
                <a:lnTo>
                  <a:pt x="1270" y="1407"/>
                </a:lnTo>
                <a:lnTo>
                  <a:pt x="1260" y="1406"/>
                </a:lnTo>
                <a:lnTo>
                  <a:pt x="1250" y="1405"/>
                </a:lnTo>
                <a:lnTo>
                  <a:pt x="1240" y="1402"/>
                </a:lnTo>
                <a:lnTo>
                  <a:pt x="1231" y="1398"/>
                </a:lnTo>
                <a:lnTo>
                  <a:pt x="1222" y="1394"/>
                </a:lnTo>
                <a:lnTo>
                  <a:pt x="1214" y="1389"/>
                </a:lnTo>
                <a:lnTo>
                  <a:pt x="1206" y="1384"/>
                </a:lnTo>
                <a:lnTo>
                  <a:pt x="1192" y="1373"/>
                </a:lnTo>
                <a:lnTo>
                  <a:pt x="1181" y="1359"/>
                </a:lnTo>
                <a:lnTo>
                  <a:pt x="1171" y="1343"/>
                </a:lnTo>
                <a:lnTo>
                  <a:pt x="1163" y="1325"/>
                </a:lnTo>
                <a:lnTo>
                  <a:pt x="1157" y="1306"/>
                </a:lnTo>
                <a:lnTo>
                  <a:pt x="1153" y="1287"/>
                </a:lnTo>
                <a:lnTo>
                  <a:pt x="1150" y="1266"/>
                </a:lnTo>
                <a:lnTo>
                  <a:pt x="1150" y="1245"/>
                </a:lnTo>
                <a:lnTo>
                  <a:pt x="1151" y="1223"/>
                </a:lnTo>
                <a:lnTo>
                  <a:pt x="1155" y="1201"/>
                </a:lnTo>
                <a:lnTo>
                  <a:pt x="1160" y="1179"/>
                </a:lnTo>
                <a:lnTo>
                  <a:pt x="1167" y="1159"/>
                </a:lnTo>
                <a:lnTo>
                  <a:pt x="1176" y="1138"/>
                </a:lnTo>
                <a:lnTo>
                  <a:pt x="1187" y="1118"/>
                </a:lnTo>
                <a:lnTo>
                  <a:pt x="1200" y="1099"/>
                </a:lnTo>
                <a:lnTo>
                  <a:pt x="1214" y="1081"/>
                </a:lnTo>
                <a:lnTo>
                  <a:pt x="1231" y="1064"/>
                </a:lnTo>
                <a:lnTo>
                  <a:pt x="1249" y="1050"/>
                </a:lnTo>
                <a:lnTo>
                  <a:pt x="1269" y="1037"/>
                </a:lnTo>
                <a:lnTo>
                  <a:pt x="1290" y="1027"/>
                </a:lnTo>
                <a:lnTo>
                  <a:pt x="1314" y="1019"/>
                </a:lnTo>
                <a:lnTo>
                  <a:pt x="1326" y="1015"/>
                </a:lnTo>
                <a:lnTo>
                  <a:pt x="1340" y="1013"/>
                </a:lnTo>
                <a:lnTo>
                  <a:pt x="1352" y="1012"/>
                </a:lnTo>
                <a:lnTo>
                  <a:pt x="1366" y="1010"/>
                </a:lnTo>
                <a:lnTo>
                  <a:pt x="1388" y="972"/>
                </a:lnTo>
                <a:lnTo>
                  <a:pt x="1413" y="937"/>
                </a:lnTo>
                <a:lnTo>
                  <a:pt x="1437" y="908"/>
                </a:lnTo>
                <a:lnTo>
                  <a:pt x="1461" y="881"/>
                </a:lnTo>
                <a:lnTo>
                  <a:pt x="1487" y="858"/>
                </a:lnTo>
                <a:lnTo>
                  <a:pt x="1512" y="838"/>
                </a:lnTo>
                <a:lnTo>
                  <a:pt x="1539" y="821"/>
                </a:lnTo>
                <a:lnTo>
                  <a:pt x="1566" y="808"/>
                </a:lnTo>
                <a:lnTo>
                  <a:pt x="1592" y="798"/>
                </a:lnTo>
                <a:lnTo>
                  <a:pt x="1619" y="790"/>
                </a:lnTo>
                <a:lnTo>
                  <a:pt x="1645" y="785"/>
                </a:lnTo>
                <a:lnTo>
                  <a:pt x="1671" y="783"/>
                </a:lnTo>
                <a:lnTo>
                  <a:pt x="1697" y="783"/>
                </a:lnTo>
                <a:lnTo>
                  <a:pt x="1722" y="785"/>
                </a:lnTo>
                <a:lnTo>
                  <a:pt x="1748" y="789"/>
                </a:lnTo>
                <a:lnTo>
                  <a:pt x="1772" y="794"/>
                </a:lnTo>
                <a:lnTo>
                  <a:pt x="1797" y="802"/>
                </a:lnTo>
                <a:lnTo>
                  <a:pt x="1820" y="811"/>
                </a:lnTo>
                <a:lnTo>
                  <a:pt x="1841" y="821"/>
                </a:lnTo>
                <a:lnTo>
                  <a:pt x="1862" y="834"/>
                </a:lnTo>
                <a:lnTo>
                  <a:pt x="1882" y="845"/>
                </a:lnTo>
                <a:lnTo>
                  <a:pt x="1901" y="859"/>
                </a:lnTo>
                <a:lnTo>
                  <a:pt x="1918" y="873"/>
                </a:lnTo>
                <a:lnTo>
                  <a:pt x="1935" y="889"/>
                </a:lnTo>
                <a:lnTo>
                  <a:pt x="1950" y="904"/>
                </a:lnTo>
                <a:lnTo>
                  <a:pt x="1963" y="919"/>
                </a:lnTo>
                <a:lnTo>
                  <a:pt x="1974" y="935"/>
                </a:lnTo>
                <a:lnTo>
                  <a:pt x="1983" y="951"/>
                </a:lnTo>
                <a:lnTo>
                  <a:pt x="1991" y="967"/>
                </a:lnTo>
                <a:lnTo>
                  <a:pt x="1997" y="981"/>
                </a:lnTo>
                <a:lnTo>
                  <a:pt x="2000" y="996"/>
                </a:lnTo>
                <a:lnTo>
                  <a:pt x="2001" y="1010"/>
                </a:lnTo>
                <a:lnTo>
                  <a:pt x="2021" y="1003"/>
                </a:lnTo>
                <a:lnTo>
                  <a:pt x="2040" y="996"/>
                </a:lnTo>
                <a:lnTo>
                  <a:pt x="2058" y="991"/>
                </a:lnTo>
                <a:lnTo>
                  <a:pt x="2076" y="987"/>
                </a:lnTo>
                <a:lnTo>
                  <a:pt x="2093" y="983"/>
                </a:lnTo>
                <a:lnTo>
                  <a:pt x="2110" y="981"/>
                </a:lnTo>
                <a:lnTo>
                  <a:pt x="2127" y="980"/>
                </a:lnTo>
                <a:lnTo>
                  <a:pt x="2143" y="978"/>
                </a:lnTo>
                <a:lnTo>
                  <a:pt x="2175" y="980"/>
                </a:lnTo>
                <a:lnTo>
                  <a:pt x="2206" y="982"/>
                </a:lnTo>
                <a:lnTo>
                  <a:pt x="2234" y="989"/>
                </a:lnTo>
                <a:lnTo>
                  <a:pt x="2262" y="996"/>
                </a:lnTo>
                <a:lnTo>
                  <a:pt x="2288" y="1008"/>
                </a:lnTo>
                <a:lnTo>
                  <a:pt x="2312" y="1021"/>
                </a:lnTo>
                <a:lnTo>
                  <a:pt x="2335" y="1036"/>
                </a:lnTo>
                <a:lnTo>
                  <a:pt x="2357" y="1053"/>
                </a:lnTo>
                <a:lnTo>
                  <a:pt x="2378" y="1071"/>
                </a:lnTo>
                <a:lnTo>
                  <a:pt x="2396" y="1090"/>
                </a:lnTo>
                <a:lnTo>
                  <a:pt x="2413" y="1111"/>
                </a:lnTo>
                <a:lnTo>
                  <a:pt x="2429" y="1133"/>
                </a:lnTo>
                <a:lnTo>
                  <a:pt x="2443" y="1155"/>
                </a:lnTo>
                <a:lnTo>
                  <a:pt x="2454" y="1179"/>
                </a:lnTo>
                <a:lnTo>
                  <a:pt x="2466" y="1202"/>
                </a:lnTo>
                <a:lnTo>
                  <a:pt x="2475" y="1227"/>
                </a:lnTo>
                <a:lnTo>
                  <a:pt x="2483" y="1250"/>
                </a:lnTo>
                <a:lnTo>
                  <a:pt x="2489" y="1274"/>
                </a:lnTo>
                <a:lnTo>
                  <a:pt x="2493" y="1297"/>
                </a:lnTo>
                <a:lnTo>
                  <a:pt x="2495" y="1320"/>
                </a:lnTo>
                <a:lnTo>
                  <a:pt x="2497" y="1343"/>
                </a:lnTo>
                <a:lnTo>
                  <a:pt x="2497" y="1364"/>
                </a:lnTo>
                <a:lnTo>
                  <a:pt x="2494" y="1384"/>
                </a:lnTo>
                <a:lnTo>
                  <a:pt x="2490" y="1403"/>
                </a:lnTo>
                <a:lnTo>
                  <a:pt x="2485" y="1420"/>
                </a:lnTo>
                <a:lnTo>
                  <a:pt x="2479" y="1437"/>
                </a:lnTo>
                <a:lnTo>
                  <a:pt x="2470" y="1449"/>
                </a:lnTo>
                <a:lnTo>
                  <a:pt x="2460" y="1462"/>
                </a:lnTo>
                <a:lnTo>
                  <a:pt x="2436" y="1487"/>
                </a:lnTo>
                <a:lnTo>
                  <a:pt x="2413" y="1507"/>
                </a:lnTo>
                <a:lnTo>
                  <a:pt x="2393" y="1525"/>
                </a:lnTo>
                <a:lnTo>
                  <a:pt x="2371" y="1540"/>
                </a:lnTo>
                <a:lnTo>
                  <a:pt x="2351" y="1553"/>
                </a:lnTo>
                <a:lnTo>
                  <a:pt x="2332" y="1562"/>
                </a:lnTo>
                <a:lnTo>
                  <a:pt x="2312" y="1569"/>
                </a:lnTo>
                <a:lnTo>
                  <a:pt x="2294" y="1572"/>
                </a:lnTo>
                <a:lnTo>
                  <a:pt x="2277" y="1575"/>
                </a:lnTo>
                <a:lnTo>
                  <a:pt x="2260" y="1575"/>
                </a:lnTo>
                <a:lnTo>
                  <a:pt x="2245" y="1572"/>
                </a:lnTo>
                <a:lnTo>
                  <a:pt x="2229" y="1570"/>
                </a:lnTo>
                <a:lnTo>
                  <a:pt x="2215" y="1563"/>
                </a:lnTo>
                <a:lnTo>
                  <a:pt x="2201" y="1557"/>
                </a:lnTo>
                <a:lnTo>
                  <a:pt x="2188" y="1548"/>
                </a:lnTo>
                <a:lnTo>
                  <a:pt x="2177" y="1539"/>
                </a:lnTo>
                <a:lnTo>
                  <a:pt x="2166" y="1529"/>
                </a:lnTo>
                <a:lnTo>
                  <a:pt x="2156" y="1517"/>
                </a:lnTo>
                <a:lnTo>
                  <a:pt x="2147" y="1506"/>
                </a:lnTo>
                <a:lnTo>
                  <a:pt x="2140" y="1493"/>
                </a:lnTo>
                <a:lnTo>
                  <a:pt x="2132" y="1480"/>
                </a:lnTo>
                <a:lnTo>
                  <a:pt x="2127" y="1467"/>
                </a:lnTo>
                <a:lnTo>
                  <a:pt x="2122" y="1453"/>
                </a:lnTo>
                <a:lnTo>
                  <a:pt x="2118" y="1440"/>
                </a:lnTo>
                <a:lnTo>
                  <a:pt x="2115" y="1428"/>
                </a:lnTo>
                <a:lnTo>
                  <a:pt x="2113" y="1415"/>
                </a:lnTo>
                <a:lnTo>
                  <a:pt x="2113" y="1403"/>
                </a:lnTo>
                <a:lnTo>
                  <a:pt x="2113" y="1392"/>
                </a:lnTo>
                <a:lnTo>
                  <a:pt x="2115" y="1382"/>
                </a:lnTo>
                <a:lnTo>
                  <a:pt x="2118" y="1373"/>
                </a:lnTo>
                <a:lnTo>
                  <a:pt x="2122" y="1364"/>
                </a:lnTo>
                <a:lnTo>
                  <a:pt x="2128" y="1357"/>
                </a:lnTo>
                <a:lnTo>
                  <a:pt x="2136" y="1344"/>
                </a:lnTo>
                <a:lnTo>
                  <a:pt x="2145" y="1333"/>
                </a:lnTo>
                <a:lnTo>
                  <a:pt x="2154" y="1323"/>
                </a:lnTo>
                <a:lnTo>
                  <a:pt x="2164" y="1314"/>
                </a:lnTo>
                <a:lnTo>
                  <a:pt x="2173" y="1307"/>
                </a:lnTo>
                <a:lnTo>
                  <a:pt x="2182" y="1301"/>
                </a:lnTo>
                <a:lnTo>
                  <a:pt x="2191" y="1297"/>
                </a:lnTo>
                <a:lnTo>
                  <a:pt x="2200" y="1295"/>
                </a:lnTo>
                <a:lnTo>
                  <a:pt x="2210" y="1293"/>
                </a:lnTo>
                <a:lnTo>
                  <a:pt x="2219" y="1292"/>
                </a:lnTo>
                <a:lnTo>
                  <a:pt x="2228" y="1292"/>
                </a:lnTo>
                <a:lnTo>
                  <a:pt x="2236" y="1293"/>
                </a:lnTo>
                <a:lnTo>
                  <a:pt x="2245" y="1296"/>
                </a:lnTo>
                <a:lnTo>
                  <a:pt x="2253" y="1300"/>
                </a:lnTo>
                <a:lnTo>
                  <a:pt x="2269" y="1307"/>
                </a:lnTo>
                <a:lnTo>
                  <a:pt x="2283" y="1319"/>
                </a:lnTo>
                <a:lnTo>
                  <a:pt x="2296" y="1330"/>
                </a:lnTo>
                <a:lnTo>
                  <a:pt x="2307" y="1344"/>
                </a:lnTo>
                <a:lnTo>
                  <a:pt x="2315" y="1360"/>
                </a:lnTo>
                <a:lnTo>
                  <a:pt x="2321" y="1374"/>
                </a:lnTo>
                <a:lnTo>
                  <a:pt x="2325" y="1388"/>
                </a:lnTo>
                <a:lnTo>
                  <a:pt x="2325" y="1396"/>
                </a:lnTo>
                <a:lnTo>
                  <a:pt x="2325" y="1402"/>
                </a:lnTo>
                <a:lnTo>
                  <a:pt x="2325" y="1407"/>
                </a:lnTo>
                <a:lnTo>
                  <a:pt x="2323" y="1414"/>
                </a:lnTo>
                <a:lnTo>
                  <a:pt x="2329" y="1401"/>
                </a:lnTo>
                <a:lnTo>
                  <a:pt x="2334" y="1389"/>
                </a:lnTo>
                <a:lnTo>
                  <a:pt x="2338" y="1376"/>
                </a:lnTo>
                <a:lnTo>
                  <a:pt x="2340" y="1365"/>
                </a:lnTo>
                <a:lnTo>
                  <a:pt x="2342" y="1353"/>
                </a:lnTo>
                <a:lnTo>
                  <a:pt x="2340" y="1343"/>
                </a:lnTo>
                <a:lnTo>
                  <a:pt x="2339" y="1332"/>
                </a:lnTo>
                <a:lnTo>
                  <a:pt x="2337" y="1321"/>
                </a:lnTo>
                <a:lnTo>
                  <a:pt x="2334" y="1311"/>
                </a:lnTo>
                <a:lnTo>
                  <a:pt x="2329" y="1301"/>
                </a:lnTo>
                <a:lnTo>
                  <a:pt x="2324" y="1292"/>
                </a:lnTo>
                <a:lnTo>
                  <a:pt x="2317" y="1283"/>
                </a:lnTo>
                <a:lnTo>
                  <a:pt x="2311" y="1274"/>
                </a:lnTo>
                <a:lnTo>
                  <a:pt x="2303" y="1266"/>
                </a:lnTo>
                <a:lnTo>
                  <a:pt x="2296" y="1259"/>
                </a:lnTo>
                <a:lnTo>
                  <a:pt x="2287" y="1252"/>
                </a:lnTo>
                <a:lnTo>
                  <a:pt x="2278" y="1246"/>
                </a:lnTo>
                <a:lnTo>
                  <a:pt x="2269" y="1241"/>
                </a:lnTo>
                <a:lnTo>
                  <a:pt x="2248" y="1232"/>
                </a:lnTo>
                <a:lnTo>
                  <a:pt x="2238" y="1228"/>
                </a:lnTo>
                <a:lnTo>
                  <a:pt x="2227" y="1225"/>
                </a:lnTo>
                <a:lnTo>
                  <a:pt x="2216" y="1224"/>
                </a:lnTo>
                <a:lnTo>
                  <a:pt x="2206" y="1223"/>
                </a:lnTo>
                <a:lnTo>
                  <a:pt x="2195" y="1223"/>
                </a:lnTo>
                <a:lnTo>
                  <a:pt x="2184" y="1224"/>
                </a:lnTo>
                <a:lnTo>
                  <a:pt x="2174" y="1225"/>
                </a:lnTo>
                <a:lnTo>
                  <a:pt x="2164" y="1228"/>
                </a:lnTo>
                <a:lnTo>
                  <a:pt x="2154" y="1232"/>
                </a:lnTo>
                <a:lnTo>
                  <a:pt x="2145" y="1237"/>
                </a:lnTo>
                <a:lnTo>
                  <a:pt x="2136" y="1242"/>
                </a:lnTo>
                <a:lnTo>
                  <a:pt x="2127" y="1250"/>
                </a:lnTo>
                <a:lnTo>
                  <a:pt x="2105" y="1272"/>
                </a:lnTo>
                <a:lnTo>
                  <a:pt x="2085" y="1292"/>
                </a:lnTo>
                <a:lnTo>
                  <a:pt x="2069" y="1314"/>
                </a:lnTo>
                <a:lnTo>
                  <a:pt x="2055" y="1336"/>
                </a:lnTo>
                <a:lnTo>
                  <a:pt x="2045" y="1357"/>
                </a:lnTo>
                <a:lnTo>
                  <a:pt x="2037" y="1378"/>
                </a:lnTo>
                <a:lnTo>
                  <a:pt x="2031" y="1398"/>
                </a:lnTo>
                <a:lnTo>
                  <a:pt x="2028" y="1419"/>
                </a:lnTo>
                <a:lnTo>
                  <a:pt x="2028" y="1439"/>
                </a:lnTo>
                <a:lnTo>
                  <a:pt x="2029" y="1458"/>
                </a:lnTo>
                <a:lnTo>
                  <a:pt x="2033" y="1478"/>
                </a:lnTo>
                <a:lnTo>
                  <a:pt x="2038" y="1496"/>
                </a:lnTo>
                <a:lnTo>
                  <a:pt x="2046" y="1513"/>
                </a:lnTo>
                <a:lnTo>
                  <a:pt x="2056" y="1530"/>
                </a:lnTo>
                <a:lnTo>
                  <a:pt x="2067" y="1545"/>
                </a:lnTo>
                <a:lnTo>
                  <a:pt x="2079" y="1561"/>
                </a:lnTo>
                <a:lnTo>
                  <a:pt x="2092" y="1575"/>
                </a:lnTo>
                <a:lnTo>
                  <a:pt x="2108" y="1588"/>
                </a:lnTo>
                <a:lnTo>
                  <a:pt x="2124" y="1601"/>
                </a:lnTo>
                <a:lnTo>
                  <a:pt x="2141" y="1611"/>
                </a:lnTo>
                <a:lnTo>
                  <a:pt x="2159" y="1621"/>
                </a:lnTo>
                <a:lnTo>
                  <a:pt x="2178" y="1630"/>
                </a:lnTo>
                <a:lnTo>
                  <a:pt x="2197" y="1636"/>
                </a:lnTo>
                <a:lnTo>
                  <a:pt x="2218" y="1643"/>
                </a:lnTo>
                <a:lnTo>
                  <a:pt x="2237" y="1647"/>
                </a:lnTo>
                <a:lnTo>
                  <a:pt x="2259" y="1650"/>
                </a:lnTo>
                <a:lnTo>
                  <a:pt x="2279" y="1652"/>
                </a:lnTo>
                <a:lnTo>
                  <a:pt x="2300" y="1650"/>
                </a:lnTo>
                <a:lnTo>
                  <a:pt x="2320" y="1649"/>
                </a:lnTo>
                <a:lnTo>
                  <a:pt x="2340" y="1645"/>
                </a:lnTo>
                <a:lnTo>
                  <a:pt x="2361" y="1639"/>
                </a:lnTo>
                <a:lnTo>
                  <a:pt x="2380" y="1631"/>
                </a:lnTo>
                <a:lnTo>
                  <a:pt x="2407" y="1657"/>
                </a:lnTo>
                <a:lnTo>
                  <a:pt x="2434" y="1680"/>
                </a:lnTo>
                <a:lnTo>
                  <a:pt x="2463" y="1700"/>
                </a:lnTo>
                <a:lnTo>
                  <a:pt x="2494" y="1720"/>
                </a:lnTo>
                <a:lnTo>
                  <a:pt x="2525" y="1736"/>
                </a:lnTo>
                <a:lnTo>
                  <a:pt x="2558" y="1750"/>
                </a:lnTo>
                <a:lnTo>
                  <a:pt x="2591" y="1762"/>
                </a:lnTo>
                <a:lnTo>
                  <a:pt x="2625" y="1772"/>
                </a:lnTo>
                <a:lnTo>
                  <a:pt x="2659" y="1781"/>
                </a:lnTo>
                <a:lnTo>
                  <a:pt x="2694" y="1787"/>
                </a:lnTo>
                <a:lnTo>
                  <a:pt x="2728" y="1793"/>
                </a:lnTo>
                <a:lnTo>
                  <a:pt x="2763" y="1796"/>
                </a:lnTo>
                <a:lnTo>
                  <a:pt x="2797" y="1799"/>
                </a:lnTo>
                <a:lnTo>
                  <a:pt x="2832" y="1799"/>
                </a:lnTo>
                <a:lnTo>
                  <a:pt x="2867" y="1799"/>
                </a:lnTo>
                <a:lnTo>
                  <a:pt x="2900" y="1798"/>
                </a:lnTo>
                <a:close/>
              </a:path>
            </a:pathLst>
          </a:custGeom>
          <a:solidFill>
            <a:schemeClr val="bg1">
              <a:lumMod val="95000"/>
              <a:alpha val="1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3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3c4395">
              <a:alpha val="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316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grpSp>
        <p:nvGrpSpPr>
          <p:cNvPr id="317" name="组合 33"/>
          <p:cNvGrpSpPr/>
          <p:nvPr/>
        </p:nvGrpSpPr>
        <p:grpSpPr>
          <a:xfrm>
            <a:off x="-1142640" y="-3822120"/>
            <a:ext cx="14477400" cy="14501520"/>
            <a:chOff x="-1142640" y="-3822120"/>
            <a:chExt cx="14477400" cy="14501520"/>
          </a:xfrm>
        </p:grpSpPr>
        <p:sp>
          <p:nvSpPr>
            <p:cNvPr id="318" name="等腰三角形 3"/>
            <p:cNvSpPr/>
            <p:nvPr/>
          </p:nvSpPr>
          <p:spPr>
            <a:xfrm flipV="1" rot="16200000">
              <a:off x="2683440" y="-13676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19" name="等腰三角形 4"/>
            <p:cNvSpPr/>
            <p:nvPr/>
          </p:nvSpPr>
          <p:spPr>
            <a:xfrm flipV="1" rot="16920000">
              <a:off x="2735640" y="-1863720"/>
              <a:ext cx="2054160" cy="959328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20" name="等腰三角形 5"/>
            <p:cNvSpPr/>
            <p:nvPr/>
          </p:nvSpPr>
          <p:spPr>
            <a:xfrm flipV="1" rot="17640000">
              <a:off x="2889360" y="-233820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21" name="等腰三角形 6"/>
            <p:cNvSpPr/>
            <p:nvPr/>
          </p:nvSpPr>
          <p:spPr>
            <a:xfrm flipV="1" rot="18360000">
              <a:off x="3138840" y="-277020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22" name="等腰三角形 7"/>
            <p:cNvSpPr/>
            <p:nvPr/>
          </p:nvSpPr>
          <p:spPr>
            <a:xfrm flipV="1" rot="19080000">
              <a:off x="3472560" y="-31406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23" name="等腰三角形 8"/>
            <p:cNvSpPr/>
            <p:nvPr/>
          </p:nvSpPr>
          <p:spPr>
            <a:xfrm flipV="1" rot="19800000">
              <a:off x="3876120" y="-3434760"/>
              <a:ext cx="2054160" cy="959400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24" name="等腰三角形 9"/>
            <p:cNvSpPr/>
            <p:nvPr/>
          </p:nvSpPr>
          <p:spPr>
            <a:xfrm flipV="1" rot="20520000">
              <a:off x="4331520" y="-363672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25" name="等腰三角形 10"/>
            <p:cNvSpPr/>
            <p:nvPr/>
          </p:nvSpPr>
          <p:spPr>
            <a:xfrm flipV="1" rot="21240000">
              <a:off x="4819320" y="-374112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26" name="等腰三角形 11"/>
            <p:cNvSpPr/>
            <p:nvPr/>
          </p:nvSpPr>
          <p:spPr>
            <a:xfrm flipV="1" rot="360000">
              <a:off x="5317920" y="-374112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27" name="等腰三角形 12"/>
            <p:cNvSpPr/>
            <p:nvPr/>
          </p:nvSpPr>
          <p:spPr>
            <a:xfrm flipV="1" rot="1080000">
              <a:off x="5805720" y="-3636720"/>
              <a:ext cx="2054160" cy="959328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28" name="等腰三角形 13"/>
            <p:cNvSpPr/>
            <p:nvPr/>
          </p:nvSpPr>
          <p:spPr>
            <a:xfrm flipV="1" rot="1800000">
              <a:off x="6261480" y="-343368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29" name="等腰三角形 14"/>
            <p:cNvSpPr/>
            <p:nvPr/>
          </p:nvSpPr>
          <p:spPr>
            <a:xfrm flipV="1" rot="2520000">
              <a:off x="6665040" y="-31406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30" name="等腰三角形 15"/>
            <p:cNvSpPr/>
            <p:nvPr/>
          </p:nvSpPr>
          <p:spPr>
            <a:xfrm flipV="1" rot="3240000">
              <a:off x="6998400" y="-27698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31" name="等腰三角形 16"/>
            <p:cNvSpPr/>
            <p:nvPr/>
          </p:nvSpPr>
          <p:spPr>
            <a:xfrm flipV="1" rot="3960000">
              <a:off x="7247520" y="-23378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32" name="等腰三角形 17"/>
            <p:cNvSpPr/>
            <p:nvPr/>
          </p:nvSpPr>
          <p:spPr>
            <a:xfrm flipV="1" rot="4680000">
              <a:off x="7401960" y="-186336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33" name="等腰三角形 18"/>
            <p:cNvSpPr/>
            <p:nvPr/>
          </p:nvSpPr>
          <p:spPr>
            <a:xfrm flipV="1" rot="5400000">
              <a:off x="7454160" y="-13676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34" name="等腰三角形 19"/>
            <p:cNvSpPr/>
            <p:nvPr/>
          </p:nvSpPr>
          <p:spPr>
            <a:xfrm flipV="1" rot="6120000">
              <a:off x="7401600" y="-871920"/>
              <a:ext cx="2054160" cy="959328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35" name="等腰三角形 20"/>
            <p:cNvSpPr/>
            <p:nvPr/>
          </p:nvSpPr>
          <p:spPr>
            <a:xfrm flipV="1" rot="6840000">
              <a:off x="7247880" y="-39708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36" name="等腰三角形 21"/>
            <p:cNvSpPr/>
            <p:nvPr/>
          </p:nvSpPr>
          <p:spPr>
            <a:xfrm flipV="1" rot="7560000">
              <a:off x="6998400" y="3456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37" name="等腰三角形 22"/>
            <p:cNvSpPr/>
            <p:nvPr/>
          </p:nvSpPr>
          <p:spPr>
            <a:xfrm flipV="1" rot="8280000">
              <a:off x="6665040" y="40500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38" name="等腰三角形 23"/>
            <p:cNvSpPr/>
            <p:nvPr/>
          </p:nvSpPr>
          <p:spPr>
            <a:xfrm flipV="1" rot="9000000">
              <a:off x="6261480" y="698040"/>
              <a:ext cx="2054160" cy="959400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39" name="等腰三角形 24"/>
            <p:cNvSpPr/>
            <p:nvPr/>
          </p:nvSpPr>
          <p:spPr>
            <a:xfrm flipV="1" rot="9720000">
              <a:off x="5806080" y="90108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40" name="等腰三角形 25"/>
            <p:cNvSpPr/>
            <p:nvPr/>
          </p:nvSpPr>
          <p:spPr>
            <a:xfrm flipV="1" rot="10440000">
              <a:off x="5318280" y="10040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41" name="等腰三角形 26"/>
            <p:cNvSpPr/>
            <p:nvPr/>
          </p:nvSpPr>
          <p:spPr>
            <a:xfrm flipV="1" rot="11160000">
              <a:off x="4819320" y="10040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42" name="等腰三角形 27"/>
            <p:cNvSpPr/>
            <p:nvPr/>
          </p:nvSpPr>
          <p:spPr>
            <a:xfrm flipV="1" rot="11880000">
              <a:off x="4331880" y="900720"/>
              <a:ext cx="2054160" cy="959328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43" name="等腰三角形 28"/>
            <p:cNvSpPr/>
            <p:nvPr/>
          </p:nvSpPr>
          <p:spPr>
            <a:xfrm flipV="1" rot="12600000">
              <a:off x="3876120" y="6980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44" name="等腰三角形 29"/>
            <p:cNvSpPr/>
            <p:nvPr/>
          </p:nvSpPr>
          <p:spPr>
            <a:xfrm flipV="1" rot="13320000">
              <a:off x="3472560" y="40500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45" name="等腰三角形 30"/>
            <p:cNvSpPr/>
            <p:nvPr/>
          </p:nvSpPr>
          <p:spPr>
            <a:xfrm flipV="1" rot="14040000">
              <a:off x="3139200" y="3420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46" name="等腰三角形 31"/>
            <p:cNvSpPr/>
            <p:nvPr/>
          </p:nvSpPr>
          <p:spPr>
            <a:xfrm flipV="1" rot="14760000">
              <a:off x="2889720" y="-3974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47" name="等腰三角形 32"/>
            <p:cNvSpPr/>
            <p:nvPr/>
          </p:nvSpPr>
          <p:spPr>
            <a:xfrm flipV="1" rot="15480000">
              <a:off x="2735640" y="-87192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</p:grpSp>
      <p:sp>
        <p:nvSpPr>
          <p:cNvPr id="348" name="椭圆 35"/>
          <p:cNvSpPr/>
          <p:nvPr/>
        </p:nvSpPr>
        <p:spPr>
          <a:xfrm>
            <a:off x="2721600" y="54360"/>
            <a:ext cx="6748920" cy="6748920"/>
          </a:xfrm>
          <a:prstGeom prst="ellipse">
            <a:avLst/>
          </a:prstGeom>
          <a:solidFill>
            <a:schemeClr val="bg1">
              <a:alpha val="1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349" name="椭圆 34"/>
          <p:cNvSpPr/>
          <p:nvPr/>
        </p:nvSpPr>
        <p:spPr>
          <a:xfrm>
            <a:off x="2994120" y="327240"/>
            <a:ext cx="6203160" cy="6203160"/>
          </a:xfrm>
          <a:prstGeom prst="ellipse">
            <a:avLst/>
          </a:prstGeom>
          <a:noFill/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grpSp>
        <p:nvGrpSpPr>
          <p:cNvPr id="350" name="组合 2"/>
          <p:cNvGrpSpPr/>
          <p:nvPr/>
        </p:nvGrpSpPr>
        <p:grpSpPr>
          <a:xfrm>
            <a:off x="5550840" y="2883960"/>
            <a:ext cx="1090080" cy="1090080"/>
            <a:chOff x="5550840" y="2883960"/>
            <a:chExt cx="1090080" cy="1090080"/>
          </a:xfrm>
        </p:grpSpPr>
        <p:sp>
          <p:nvSpPr>
            <p:cNvPr id="351" name="椭圆 47"/>
            <p:cNvSpPr/>
            <p:nvPr/>
          </p:nvSpPr>
          <p:spPr>
            <a:xfrm>
              <a:off x="5550840" y="2883960"/>
              <a:ext cx="1090080" cy="1090080"/>
            </a:xfrm>
            <a:prstGeom prst="ellipse">
              <a:avLst/>
            </a:prstGeom>
            <a:solidFill>
              <a:srgbClr val="3c4395"/>
            </a:solidFill>
            <a:ln>
              <a:solidFill>
                <a:srgbClr val="0f1024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52" name="任意多边形 49"/>
            <p:cNvSpPr/>
            <p:nvPr/>
          </p:nvSpPr>
          <p:spPr>
            <a:xfrm>
              <a:off x="5559480" y="2883960"/>
              <a:ext cx="1072800" cy="920520"/>
            </a:xfrm>
            <a:custGeom>
              <a:avLst/>
              <a:gdLst>
                <a:gd name="textAreaLeft" fmla="*/ 0 w 1072800"/>
                <a:gd name="textAreaRight" fmla="*/ 1073160 w 107280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1073300" h="920879">
                  <a:moveTo>
                    <a:pt x="536650" y="0"/>
                  </a:moveTo>
                  <a:cubicBezTo>
                    <a:pt x="800114" y="0"/>
                    <a:pt x="1019930" y="186883"/>
                    <a:pt x="1070768" y="435319"/>
                  </a:cubicBezTo>
                  <a:lnTo>
                    <a:pt x="1073300" y="460440"/>
                  </a:lnTo>
                  <a:lnTo>
                    <a:pt x="1070768" y="485561"/>
                  </a:lnTo>
                  <a:cubicBezTo>
                    <a:pt x="1019930" y="733996"/>
                    <a:pt x="800114" y="920879"/>
                    <a:pt x="536650" y="920879"/>
                  </a:cubicBezTo>
                  <a:cubicBezTo>
                    <a:pt x="273186" y="920879"/>
                    <a:pt x="53370" y="733996"/>
                    <a:pt x="2532" y="485561"/>
                  </a:cubicBezTo>
                  <a:lnTo>
                    <a:pt x="0" y="460440"/>
                  </a:lnTo>
                  <a:lnTo>
                    <a:pt x="2532" y="435319"/>
                  </a:lnTo>
                  <a:cubicBezTo>
                    <a:pt x="53370" y="186883"/>
                    <a:pt x="273186" y="0"/>
                    <a:pt x="536650" y="0"/>
                  </a:cubicBezTo>
                  <a:close/>
                </a:path>
              </a:pathLst>
            </a:custGeom>
            <a:solidFill>
              <a:schemeClr val="bg1">
                <a:lumMod val="95000"/>
                <a:alpha val="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grpSp>
          <p:nvGrpSpPr>
            <p:cNvPr id="353" name="组合 43"/>
            <p:cNvGrpSpPr/>
            <p:nvPr/>
          </p:nvGrpSpPr>
          <p:grpSpPr>
            <a:xfrm>
              <a:off x="5804640" y="3152880"/>
              <a:ext cx="593280" cy="382680"/>
              <a:chOff x="5804640" y="3152880"/>
              <a:chExt cx="593280" cy="382680"/>
            </a:xfrm>
          </p:grpSpPr>
          <p:sp>
            <p:nvSpPr>
              <p:cNvPr id="354" name="同侧圆角矩形 1"/>
              <p:cNvSpPr/>
              <p:nvPr/>
            </p:nvSpPr>
            <p:spPr>
              <a:xfrm>
                <a:off x="6200280" y="3152880"/>
                <a:ext cx="195840" cy="191160"/>
              </a:xfrm>
              <a:custGeom>
                <a:avLst/>
                <a:gdLst>
                  <a:gd name="textAreaLeft" fmla="*/ 0 w 195840"/>
                  <a:gd name="textAreaRight" fmla="*/ 196200 w 1958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1428871" h="1393644">
                    <a:moveTo>
                      <a:pt x="35228" y="0"/>
                    </a:moveTo>
                    <a:lnTo>
                      <a:pt x="1428871" y="1393644"/>
                    </a:lnTo>
                    <a:lnTo>
                      <a:pt x="0" y="1393644"/>
                    </a:lnTo>
                    <a:lnTo>
                      <a:pt x="0" y="85044"/>
                    </a:lnTo>
                    <a:cubicBezTo>
                      <a:pt x="0" y="51832"/>
                      <a:pt x="13462" y="21764"/>
                      <a:pt x="35228" y="0"/>
                    </a:cubicBezTo>
                    <a:close/>
                  </a:path>
                </a:pathLst>
              </a:custGeom>
              <a:noFill/>
              <a:ln w="28575">
                <a:solidFill>
                  <a:srgbClr val="ffffff">
                    <a:lumMod val="9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  <p:sp>
            <p:nvSpPr>
              <p:cNvPr id="355" name="同侧圆角矩形 1"/>
              <p:cNvSpPr/>
              <p:nvPr/>
            </p:nvSpPr>
            <p:spPr>
              <a:xfrm>
                <a:off x="5804640" y="3345840"/>
                <a:ext cx="593280" cy="189720"/>
              </a:xfrm>
              <a:custGeom>
                <a:avLst/>
                <a:gdLst>
                  <a:gd name="textAreaLeft" fmla="*/ 0 w 593280"/>
                  <a:gd name="textAreaRight" fmla="*/ 593640 w 59328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4320000" h="1382517">
                    <a:moveTo>
                      <a:pt x="0" y="0"/>
                    </a:moveTo>
                    <a:lnTo>
                      <a:pt x="1440000" y="3"/>
                    </a:lnTo>
                    <a:lnTo>
                      <a:pt x="2880000" y="3"/>
                    </a:lnTo>
                    <a:lnTo>
                      <a:pt x="4320000" y="1"/>
                    </a:lnTo>
                    <a:lnTo>
                      <a:pt x="4320000" y="3"/>
                    </a:lnTo>
                    <a:lnTo>
                      <a:pt x="4320000" y="1382517"/>
                    </a:lnTo>
                    <a:cubicBezTo>
                      <a:pt x="3628682" y="1208768"/>
                      <a:pt x="2905026" y="1117273"/>
                      <a:pt x="2160000" y="1117273"/>
                    </a:cubicBezTo>
                    <a:cubicBezTo>
                      <a:pt x="1414974" y="1117273"/>
                      <a:pt x="691319" y="1208768"/>
                      <a:pt x="0" y="1382517"/>
                    </a:cubicBez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575">
                <a:solidFill>
                  <a:srgbClr val="ffffff">
                    <a:lumMod val="9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  <p:sp>
            <p:nvSpPr>
              <p:cNvPr id="356" name="同侧圆角矩形 1"/>
              <p:cNvSpPr/>
              <p:nvPr/>
            </p:nvSpPr>
            <p:spPr>
              <a:xfrm>
                <a:off x="5806080" y="3152880"/>
                <a:ext cx="195840" cy="191160"/>
              </a:xfrm>
              <a:custGeom>
                <a:avLst/>
                <a:gdLst>
                  <a:gd name="textAreaLeft" fmla="*/ 0 w 195840"/>
                  <a:gd name="textAreaRight" fmla="*/ 196200 w 19584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1428872" h="1393645">
                    <a:moveTo>
                      <a:pt x="1393644" y="0"/>
                    </a:moveTo>
                    <a:cubicBezTo>
                      <a:pt x="1415410" y="21764"/>
                      <a:pt x="1428872" y="51833"/>
                      <a:pt x="1428872" y="85045"/>
                    </a:cubicBezTo>
                    <a:lnTo>
                      <a:pt x="1428872" y="1393645"/>
                    </a:lnTo>
                    <a:lnTo>
                      <a:pt x="0" y="1393645"/>
                    </a:lnTo>
                    <a:close/>
                  </a:path>
                </a:pathLst>
              </a:custGeom>
              <a:noFill/>
              <a:ln w="28575">
                <a:solidFill>
                  <a:srgbClr val="ffffff">
                    <a:lumMod val="9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</p:grpSp>
      </p:grp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5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eaf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358" name="文本框 3"/>
          <p:cNvSpPr/>
          <p:nvPr/>
        </p:nvSpPr>
        <p:spPr>
          <a:xfrm>
            <a:off x="644400" y="3719880"/>
            <a:ext cx="11068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f1024"/>
                </a:solidFill>
                <a:latin typeface="微软雅黑 Light"/>
                <a:ea typeface="微软雅黑 Light"/>
              </a:rPr>
              <a:t>凹铭设计</a:t>
            </a:r>
            <a:r>
              <a:rPr b="1" lang="en-US" sz="2400" spc="-1" strike="noStrike">
                <a:solidFill>
                  <a:srgbClr val="4283ec"/>
                </a:solidFill>
                <a:latin typeface="微软雅黑 Light"/>
                <a:ea typeface="微软雅黑 Light"/>
              </a:rPr>
              <a:t>|</a:t>
            </a:r>
            <a:r>
              <a:rPr b="1" lang="zh-CN" sz="2400" spc="-1" strike="noStrike">
                <a:solidFill>
                  <a:srgbClr val="0f1024"/>
                </a:solidFill>
                <a:latin typeface="微软雅黑 Light"/>
                <a:ea typeface="微软雅黑 Light"/>
              </a:rPr>
              <a:t>遇上有趣的小伙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1" descr=""/>
          <p:cNvPicPr/>
          <p:nvPr/>
        </p:nvPicPr>
        <p:blipFill>
          <a:blip r:embed="rId1"/>
          <a:stretch/>
        </p:blipFill>
        <p:spPr>
          <a:xfrm>
            <a:off x="-43200" y="1749240"/>
            <a:ext cx="12278160" cy="26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"/>
          <p:cNvPicPr/>
          <p:nvPr/>
        </p:nvPicPr>
        <p:blipFill>
          <a:blip r:embed="rId1"/>
          <a:stretch/>
        </p:blipFill>
        <p:spPr>
          <a:xfrm>
            <a:off x="4191480" y="251640"/>
            <a:ext cx="3589200" cy="5056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469400" y="5495760"/>
            <a:ext cx="325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ca08"/>
                </a:solidFill>
                <a:latin typeface="方正兰亭超细黑简体"/>
                <a:ea typeface="方正兰亭超细黑简体"/>
              </a:rPr>
              <a:t>为自己做一个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" name="直接连接符 6"/>
          <p:cNvCxnSpPr/>
          <p:nvPr/>
        </p:nvCxnSpPr>
        <p:spPr>
          <a:xfrm>
            <a:off x="3480480" y="6089760"/>
            <a:ext cx="5230800" cy="360"/>
          </a:xfrm>
          <a:prstGeom prst="straightConnector1">
            <a:avLst/>
          </a:prstGeom>
          <a:ln w="9525">
            <a:solidFill>
              <a:srgbClr val="ffca08"/>
            </a:solidFill>
          </a:ln>
        </p:spPr>
      </p:cxnSp>
    </p:spTree>
  </p:cSld>
  <mc:AlternateContent>
    <mc:Choice Requires="p14">
      <p:transition spd="slow" p14:dur="2000">
        <p15:prstTrans prst="fallOver"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椭圆 1"/>
          <p:cNvSpPr/>
          <p:nvPr/>
        </p:nvSpPr>
        <p:spPr>
          <a:xfrm>
            <a:off x="5154840" y="1377720"/>
            <a:ext cx="1883880" cy="3103200"/>
          </a:xfrm>
          <a:prstGeom prst="ellipse">
            <a:avLst/>
          </a:prstGeom>
          <a:solidFill>
            <a:srgbClr val="ffca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56" name="同侧圆角矩形 1"/>
          <p:cNvSpPr/>
          <p:nvPr/>
        </p:nvSpPr>
        <p:spPr>
          <a:xfrm>
            <a:off x="5482080" y="2450520"/>
            <a:ext cx="1229760" cy="793440"/>
          </a:xfrm>
          <a:custGeom>
            <a:avLst/>
            <a:gdLst>
              <a:gd name="textAreaLeft" fmla="*/ 0 w 1229760"/>
              <a:gd name="textAreaRight" fmla="*/ 1230120 w 122976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4320000" h="2787290">
                <a:moveTo>
                  <a:pt x="1404772" y="0"/>
                </a:moveTo>
                <a:cubicBezTo>
                  <a:pt x="1426538" y="21764"/>
                  <a:pt x="1440000" y="51833"/>
                  <a:pt x="1440000" y="85045"/>
                </a:cubicBezTo>
                <a:lnTo>
                  <a:pt x="1440000" y="1404776"/>
                </a:lnTo>
                <a:lnTo>
                  <a:pt x="2880000" y="1404776"/>
                </a:lnTo>
                <a:lnTo>
                  <a:pt x="2880000" y="85045"/>
                </a:lnTo>
                <a:cubicBezTo>
                  <a:pt x="2880000" y="51833"/>
                  <a:pt x="2893462" y="21765"/>
                  <a:pt x="2915228" y="1"/>
                </a:cubicBezTo>
                <a:lnTo>
                  <a:pt x="4320000" y="1404774"/>
                </a:lnTo>
                <a:lnTo>
                  <a:pt x="4320000" y="1404776"/>
                </a:lnTo>
                <a:lnTo>
                  <a:pt x="4320000" y="2787290"/>
                </a:lnTo>
                <a:cubicBezTo>
                  <a:pt x="3628682" y="2613541"/>
                  <a:pt x="2905026" y="2522046"/>
                  <a:pt x="2160000" y="2522046"/>
                </a:cubicBezTo>
                <a:cubicBezTo>
                  <a:pt x="1414974" y="2522046"/>
                  <a:pt x="691319" y="2613541"/>
                  <a:pt x="0" y="2787290"/>
                </a:cubicBezTo>
                <a:lnTo>
                  <a:pt x="0" y="1404776"/>
                </a:lnTo>
                <a:lnTo>
                  <a:pt x="0" y="1404773"/>
                </a:lnTo>
                <a:close/>
              </a:path>
            </a:pathLst>
          </a:custGeom>
          <a:solidFill>
            <a:srgbClr val="0f10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347800" y="3251520"/>
            <a:ext cx="1497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f1024"/>
                </a:solidFill>
                <a:latin typeface="方正兰亭超细黑简体"/>
                <a:ea typeface="方正兰亭超细黑简体"/>
              </a:rPr>
              <a:t>凹铭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任意多边形 2"/>
          <p:cNvSpPr/>
          <p:nvPr/>
        </p:nvSpPr>
        <p:spPr>
          <a:xfrm>
            <a:off x="5772600" y="1362960"/>
            <a:ext cx="427320" cy="516240"/>
          </a:xfrm>
          <a:custGeom>
            <a:avLst/>
            <a:gdLst>
              <a:gd name="textAreaLeft" fmla="*/ 0 w 427320"/>
              <a:gd name="textAreaRight" fmla="*/ 427680 w 42732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880110" h="1062990">
                <a:moveTo>
                  <a:pt x="274320" y="262890"/>
                </a:moveTo>
                <a:lnTo>
                  <a:pt x="0" y="628650"/>
                </a:lnTo>
                <a:lnTo>
                  <a:pt x="331470" y="582930"/>
                </a:lnTo>
                <a:lnTo>
                  <a:pt x="182880" y="857250"/>
                </a:lnTo>
                <a:lnTo>
                  <a:pt x="434340" y="914400"/>
                </a:lnTo>
                <a:lnTo>
                  <a:pt x="548640" y="754380"/>
                </a:lnTo>
                <a:lnTo>
                  <a:pt x="822960" y="1062990"/>
                </a:lnTo>
                <a:lnTo>
                  <a:pt x="811530" y="731520"/>
                </a:lnTo>
                <a:lnTo>
                  <a:pt x="525780" y="640080"/>
                </a:lnTo>
                <a:lnTo>
                  <a:pt x="628650" y="411480"/>
                </a:lnTo>
                <a:lnTo>
                  <a:pt x="880110" y="0"/>
                </a:lnTo>
                <a:lnTo>
                  <a:pt x="617220" y="0"/>
                </a:lnTo>
                <a:lnTo>
                  <a:pt x="571500" y="194310"/>
                </a:lnTo>
                <a:lnTo>
                  <a:pt x="274320" y="262890"/>
                </a:lnTo>
                <a:close/>
              </a:path>
            </a:pathLst>
          </a:custGeom>
          <a:solidFill>
            <a:srgbClr val="0f10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59" name="任意多边形 9"/>
          <p:cNvSpPr/>
          <p:nvPr/>
        </p:nvSpPr>
        <p:spPr>
          <a:xfrm flipH="1">
            <a:off x="5927400" y="1581840"/>
            <a:ext cx="427320" cy="516240"/>
          </a:xfrm>
          <a:custGeom>
            <a:avLst/>
            <a:gdLst>
              <a:gd name="textAreaLeft" fmla="*/ -360 w 427320"/>
              <a:gd name="textAreaRight" fmla="*/ 427320 w 42732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880110" h="1062990">
                <a:moveTo>
                  <a:pt x="274320" y="262890"/>
                </a:moveTo>
                <a:lnTo>
                  <a:pt x="0" y="628650"/>
                </a:lnTo>
                <a:lnTo>
                  <a:pt x="331470" y="582930"/>
                </a:lnTo>
                <a:lnTo>
                  <a:pt x="182880" y="857250"/>
                </a:lnTo>
                <a:lnTo>
                  <a:pt x="434340" y="914400"/>
                </a:lnTo>
                <a:lnTo>
                  <a:pt x="548640" y="754380"/>
                </a:lnTo>
                <a:lnTo>
                  <a:pt x="822960" y="1062990"/>
                </a:lnTo>
                <a:lnTo>
                  <a:pt x="811530" y="731520"/>
                </a:lnTo>
                <a:lnTo>
                  <a:pt x="525780" y="640080"/>
                </a:lnTo>
                <a:lnTo>
                  <a:pt x="628650" y="411480"/>
                </a:lnTo>
                <a:lnTo>
                  <a:pt x="880110" y="0"/>
                </a:lnTo>
                <a:lnTo>
                  <a:pt x="617220" y="0"/>
                </a:lnTo>
                <a:lnTo>
                  <a:pt x="571500" y="194310"/>
                </a:lnTo>
                <a:lnTo>
                  <a:pt x="274320" y="262890"/>
                </a:lnTo>
                <a:close/>
              </a:path>
            </a:pathLst>
          </a:custGeom>
          <a:solidFill>
            <a:srgbClr val="0f10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469400" y="5495760"/>
            <a:ext cx="325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ca08"/>
                </a:solidFill>
                <a:latin typeface="方正兰亭超细黑简体"/>
                <a:ea typeface="方正兰亭超细黑简体"/>
              </a:rPr>
              <a:t>说不定某天就破壳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" name="直接连接符 11"/>
          <p:cNvCxnSpPr/>
          <p:nvPr/>
        </p:nvCxnSpPr>
        <p:spPr>
          <a:xfrm>
            <a:off x="3480480" y="6089760"/>
            <a:ext cx="5230800" cy="360"/>
          </a:xfrm>
          <a:prstGeom prst="straightConnector1">
            <a:avLst/>
          </a:prstGeom>
          <a:ln w="9525">
            <a:solidFill>
              <a:srgbClr val="ffca08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3c439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63" name="圆角矩形 3"/>
          <p:cNvSpPr/>
          <p:nvPr/>
        </p:nvSpPr>
        <p:spPr>
          <a:xfrm>
            <a:off x="816840" y="730440"/>
            <a:ext cx="10558080" cy="5397120"/>
          </a:xfrm>
          <a:prstGeom prst="roundRect">
            <a:avLst>
              <a:gd name="adj" fmla="val 1343"/>
            </a:avLst>
          </a:prstGeom>
          <a:solidFill>
            <a:srgbClr val="181a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cxnSp>
        <p:nvCxnSpPr>
          <p:cNvPr id="64" name="直接连接符 8"/>
          <p:cNvCxnSpPr/>
          <p:nvPr/>
        </p:nvCxnSpPr>
        <p:spPr>
          <a:xfrm>
            <a:off x="2172960" y="2535120"/>
            <a:ext cx="360" cy="2244960"/>
          </a:xfrm>
          <a:prstGeom prst="straightConnector1">
            <a:avLst/>
          </a:prstGeom>
          <a:ln w="12700">
            <a:solidFill>
              <a:srgbClr val="6b6768"/>
            </a:solidFill>
          </a:ln>
        </p:spPr>
      </p:cxnSp>
      <p:sp>
        <p:nvSpPr>
          <p:cNvPr id="65" name="椭圆 9"/>
          <p:cNvSpPr/>
          <p:nvPr/>
        </p:nvSpPr>
        <p:spPr>
          <a:xfrm>
            <a:off x="2040840" y="3270240"/>
            <a:ext cx="264240" cy="264240"/>
          </a:xfrm>
          <a:prstGeom prst="ellipse">
            <a:avLst/>
          </a:prstGeom>
          <a:solidFill>
            <a:srgbClr val="3c439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grpSp>
        <p:nvGrpSpPr>
          <p:cNvPr id="66" name="组合 6"/>
          <p:cNvGrpSpPr/>
          <p:nvPr/>
        </p:nvGrpSpPr>
        <p:grpSpPr>
          <a:xfrm>
            <a:off x="1553400" y="1506600"/>
            <a:ext cx="1239120" cy="1239120"/>
            <a:chOff x="1553400" y="1506600"/>
            <a:chExt cx="1239120" cy="1239120"/>
          </a:xfrm>
        </p:grpSpPr>
        <p:sp>
          <p:nvSpPr>
            <p:cNvPr id="67" name="椭圆 4"/>
            <p:cNvSpPr/>
            <p:nvPr/>
          </p:nvSpPr>
          <p:spPr>
            <a:xfrm>
              <a:off x="1553400" y="1506600"/>
              <a:ext cx="1239120" cy="1239120"/>
            </a:xfrm>
            <a:prstGeom prst="ellipse">
              <a:avLst/>
            </a:prstGeom>
            <a:solidFill>
              <a:srgbClr val="6b676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68" name="椭圆 5"/>
            <p:cNvSpPr/>
            <p:nvPr/>
          </p:nvSpPr>
          <p:spPr>
            <a:xfrm>
              <a:off x="1621440" y="1574640"/>
              <a:ext cx="1103400" cy="1103400"/>
            </a:xfrm>
            <a:prstGeom prst="ellipse">
              <a:avLst/>
            </a:prstGeom>
            <a:solidFill>
              <a:srgbClr val="23e9c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</p:grpSp>
      <p:sp>
        <p:nvSpPr>
          <p:cNvPr id="69" name="椭圆 10"/>
          <p:cNvSpPr/>
          <p:nvPr/>
        </p:nvSpPr>
        <p:spPr>
          <a:xfrm>
            <a:off x="2040840" y="3912120"/>
            <a:ext cx="264240" cy="264240"/>
          </a:xfrm>
          <a:prstGeom prst="ellipse">
            <a:avLst/>
          </a:prstGeom>
          <a:solidFill>
            <a:srgbClr val="3c439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70" name="椭圆 11"/>
          <p:cNvSpPr/>
          <p:nvPr/>
        </p:nvSpPr>
        <p:spPr>
          <a:xfrm>
            <a:off x="2040840" y="4554360"/>
            <a:ext cx="264240" cy="264240"/>
          </a:xfrm>
          <a:prstGeom prst="ellipse">
            <a:avLst/>
          </a:prstGeom>
          <a:solidFill>
            <a:srgbClr val="3c439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71" name="同侧圆角矩形 1"/>
          <p:cNvSpPr/>
          <p:nvPr/>
        </p:nvSpPr>
        <p:spPr>
          <a:xfrm>
            <a:off x="1921680" y="1827000"/>
            <a:ext cx="500400" cy="322560"/>
          </a:xfrm>
          <a:custGeom>
            <a:avLst/>
            <a:gdLst>
              <a:gd name="textAreaLeft" fmla="*/ 0 w 500400"/>
              <a:gd name="textAreaRight" fmla="*/ 500760 w 50040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4320000" h="2787290">
                <a:moveTo>
                  <a:pt x="1404772" y="0"/>
                </a:moveTo>
                <a:cubicBezTo>
                  <a:pt x="1426538" y="21764"/>
                  <a:pt x="1440000" y="51833"/>
                  <a:pt x="1440000" y="85045"/>
                </a:cubicBezTo>
                <a:lnTo>
                  <a:pt x="1440000" y="1404776"/>
                </a:lnTo>
                <a:lnTo>
                  <a:pt x="2880000" y="1404776"/>
                </a:lnTo>
                <a:lnTo>
                  <a:pt x="2880000" y="85045"/>
                </a:lnTo>
                <a:cubicBezTo>
                  <a:pt x="2880000" y="51833"/>
                  <a:pt x="2893462" y="21765"/>
                  <a:pt x="2915228" y="1"/>
                </a:cubicBezTo>
                <a:lnTo>
                  <a:pt x="4320000" y="1404774"/>
                </a:lnTo>
                <a:lnTo>
                  <a:pt x="4320000" y="1404776"/>
                </a:lnTo>
                <a:lnTo>
                  <a:pt x="4320000" y="2787290"/>
                </a:lnTo>
                <a:cubicBezTo>
                  <a:pt x="3628682" y="2613541"/>
                  <a:pt x="2905026" y="2522046"/>
                  <a:pt x="2160000" y="2522046"/>
                </a:cubicBezTo>
                <a:cubicBezTo>
                  <a:pt x="1414974" y="2522046"/>
                  <a:pt x="691319" y="2613541"/>
                  <a:pt x="0" y="2787290"/>
                </a:cubicBezTo>
                <a:lnTo>
                  <a:pt x="0" y="1404776"/>
                </a:lnTo>
                <a:lnTo>
                  <a:pt x="0" y="1404773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927440" y="2139120"/>
            <a:ext cx="497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50" spc="-1" strike="noStrike">
                <a:solidFill>
                  <a:srgbClr val="6b6768"/>
                </a:solidFill>
                <a:latin typeface="方正兰亭超细黑简体"/>
                <a:ea typeface="方正兰亭超细黑简体"/>
              </a:rPr>
              <a:t>凹铭</a:t>
            </a:r>
            <a:r>
              <a:rPr b="0" lang="zh-CN" sz="1050" spc="-1" strike="noStrike">
                <a:solidFill>
                  <a:srgbClr val="6b6768"/>
                </a:solidFill>
                <a:latin typeface="方正兰亭超细黑简体"/>
                <a:ea typeface="方正兰亭超细黑简体"/>
              </a:rPr>
              <a:t>设计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400480" y="3206520"/>
            <a:ext cx="325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微信朋友圈少刷一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2400480" y="3857040"/>
            <a:ext cx="325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QQ</a:t>
            </a:r>
            <a:r>
              <a:rPr b="1" lang="zh-CN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弹窗稍微关闭一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2400480" y="4507200"/>
            <a:ext cx="325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想运动就出门跑</a:t>
            </a:r>
            <a:r>
              <a:rPr b="1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10</a:t>
            </a:r>
            <a:r>
              <a:rPr b="1" lang="zh-CN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公里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22"/>
          <p:cNvGrpSpPr/>
          <p:nvPr/>
        </p:nvGrpSpPr>
        <p:grpSpPr>
          <a:xfrm>
            <a:off x="2964240" y="1660320"/>
            <a:ext cx="4094280" cy="926640"/>
            <a:chOff x="2964240" y="1660320"/>
            <a:chExt cx="4094280" cy="926640"/>
          </a:xfrm>
        </p:grpSpPr>
        <p:sp>
          <p:nvSpPr>
            <p:cNvPr id="77" name="TextBox 5"/>
            <p:cNvSpPr/>
            <p:nvPr/>
          </p:nvSpPr>
          <p:spPr>
            <a:xfrm>
              <a:off x="2964240" y="1660320"/>
              <a:ext cx="2331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凹铭设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5"/>
            <p:cNvSpPr/>
            <p:nvPr/>
          </p:nvSpPr>
          <p:spPr>
            <a:xfrm>
              <a:off x="2964240" y="2253960"/>
              <a:ext cx="40942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6b6768"/>
                  </a:solidFill>
                  <a:latin typeface="微软雅黑 Light"/>
                  <a:ea typeface="微软雅黑 Light"/>
                </a:rPr>
                <a:t>让每天保持新鲜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KSO_Shape"/>
          <p:cNvGrpSpPr/>
          <p:nvPr/>
        </p:nvGrpSpPr>
        <p:grpSpPr>
          <a:xfrm>
            <a:off x="8164440" y="3443400"/>
            <a:ext cx="2866680" cy="2369880"/>
            <a:chOff x="8164440" y="3443400"/>
            <a:chExt cx="2866680" cy="2369880"/>
          </a:xfrm>
        </p:grpSpPr>
        <p:sp>
          <p:nvSpPr>
            <p:cNvPr id="80" name="内蒙古"/>
            <p:cNvSpPr/>
            <p:nvPr/>
          </p:nvSpPr>
          <p:spPr>
            <a:xfrm>
              <a:off x="9368640" y="3470400"/>
              <a:ext cx="1255680" cy="107136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81" name="甘肃"/>
            <p:cNvSpPr/>
            <p:nvPr/>
          </p:nvSpPr>
          <p:spPr>
            <a:xfrm>
              <a:off x="9127080" y="4195080"/>
              <a:ext cx="802440" cy="679320"/>
            </a:xfrm>
            <a:custGeom>
              <a:avLst/>
              <a:gdLst>
                <a:gd name="textAreaLeft" fmla="*/ 0 w 802440"/>
                <a:gd name="textAreaRight" fmla="*/ 802800 w 8024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82" name="宁夏"/>
            <p:cNvSpPr/>
            <p:nvPr/>
          </p:nvSpPr>
          <p:spPr>
            <a:xfrm>
              <a:off x="9697320" y="4431240"/>
              <a:ext cx="161640" cy="267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83" name="新疆"/>
            <p:cNvSpPr/>
            <p:nvPr/>
          </p:nvSpPr>
          <p:spPr>
            <a:xfrm>
              <a:off x="8164440" y="3727080"/>
              <a:ext cx="1147320" cy="86724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84" name="青海"/>
            <p:cNvSpPr/>
            <p:nvPr/>
          </p:nvSpPr>
          <p:spPr>
            <a:xfrm>
              <a:off x="8908920" y="4408200"/>
              <a:ext cx="713880" cy="5119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85" name="四川"/>
            <p:cNvSpPr/>
            <p:nvPr/>
          </p:nvSpPr>
          <p:spPr>
            <a:xfrm>
              <a:off x="9318960" y="4767480"/>
              <a:ext cx="617400" cy="54180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86" name="西藏"/>
            <p:cNvSpPr/>
            <p:nvPr/>
          </p:nvSpPr>
          <p:spPr>
            <a:xfrm>
              <a:off x="8292960" y="4547520"/>
              <a:ext cx="1105200" cy="672480"/>
            </a:xfrm>
            <a:custGeom>
              <a:avLst/>
              <a:gdLst>
                <a:gd name="textAreaLeft" fmla="*/ 0 w 1105200"/>
                <a:gd name="textAreaRight" fmla="*/ 1105560 w 1105200"/>
                <a:gd name="textAreaTop" fmla="*/ 0 h 672480"/>
                <a:gd name="textAreaBottom" fmla="*/ 672840 h 67248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87" name="云南"/>
            <p:cNvSpPr/>
            <p:nvPr/>
          </p:nvSpPr>
          <p:spPr>
            <a:xfrm>
              <a:off x="9299880" y="5106960"/>
              <a:ext cx="499680" cy="520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88" name="贵州"/>
            <p:cNvSpPr/>
            <p:nvPr/>
          </p:nvSpPr>
          <p:spPr>
            <a:xfrm>
              <a:off x="9658440" y="5100120"/>
              <a:ext cx="337680" cy="29232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89" name="广西"/>
            <p:cNvSpPr/>
            <p:nvPr/>
          </p:nvSpPr>
          <p:spPr>
            <a:xfrm>
              <a:off x="9713520" y="5279760"/>
              <a:ext cx="441360" cy="3358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90" name="重庆"/>
            <p:cNvSpPr/>
            <p:nvPr/>
          </p:nvSpPr>
          <p:spPr>
            <a:xfrm>
              <a:off x="9774360" y="4909680"/>
              <a:ext cx="249480" cy="2534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91" name="陕西"/>
            <p:cNvSpPr/>
            <p:nvPr/>
          </p:nvSpPr>
          <p:spPr>
            <a:xfrm>
              <a:off x="9774360" y="4417560"/>
              <a:ext cx="284760" cy="50796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92" name="山西"/>
            <p:cNvSpPr/>
            <p:nvPr/>
          </p:nvSpPr>
          <p:spPr>
            <a:xfrm>
              <a:off x="10021320" y="4321800"/>
              <a:ext cx="189360" cy="41724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93" name="湖南"/>
            <p:cNvSpPr/>
            <p:nvPr/>
          </p:nvSpPr>
          <p:spPr>
            <a:xfrm>
              <a:off x="9971640" y="5033520"/>
              <a:ext cx="302400" cy="35136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94" name="湖北"/>
            <p:cNvSpPr/>
            <p:nvPr/>
          </p:nvSpPr>
          <p:spPr>
            <a:xfrm>
              <a:off x="9936720" y="4831200"/>
              <a:ext cx="429480" cy="268920"/>
            </a:xfrm>
            <a:custGeom>
              <a:avLst/>
              <a:gdLst>
                <a:gd name="textAreaLeft" fmla="*/ 0 w 429480"/>
                <a:gd name="textAreaRight" fmla="*/ 429840 w 42948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95" name="广东"/>
            <p:cNvSpPr/>
            <p:nvPr/>
          </p:nvSpPr>
          <p:spPr>
            <a:xfrm>
              <a:off x="10031400" y="5325840"/>
              <a:ext cx="446760" cy="3535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96" name="江西"/>
            <p:cNvSpPr/>
            <p:nvPr/>
          </p:nvSpPr>
          <p:spPr>
            <a:xfrm>
              <a:off x="10243080" y="5019120"/>
              <a:ext cx="267120" cy="36432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97" name="福建"/>
            <p:cNvSpPr/>
            <p:nvPr/>
          </p:nvSpPr>
          <p:spPr>
            <a:xfrm>
              <a:off x="10382400" y="5116320"/>
              <a:ext cx="247320" cy="3024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98" name="浙江"/>
            <p:cNvSpPr/>
            <p:nvPr/>
          </p:nvSpPr>
          <p:spPr>
            <a:xfrm>
              <a:off x="10493280" y="4924440"/>
              <a:ext cx="212040" cy="24588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99" name="安徽"/>
            <p:cNvSpPr/>
            <p:nvPr/>
          </p:nvSpPr>
          <p:spPr>
            <a:xfrm>
              <a:off x="10285200" y="4710960"/>
              <a:ext cx="268920" cy="32904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00" name="天津"/>
            <p:cNvSpPr/>
            <p:nvPr/>
          </p:nvSpPr>
          <p:spPr>
            <a:xfrm>
              <a:off x="10338120" y="4331160"/>
              <a:ext cx="69840" cy="101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01" name="北京"/>
            <p:cNvSpPr/>
            <p:nvPr/>
          </p:nvSpPr>
          <p:spPr>
            <a:xfrm>
              <a:off x="10267560" y="4285080"/>
              <a:ext cx="92880" cy="997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02" name="辽宁"/>
            <p:cNvSpPr/>
            <p:nvPr/>
          </p:nvSpPr>
          <p:spPr>
            <a:xfrm>
              <a:off x="10425960" y="4086360"/>
              <a:ext cx="330840" cy="31464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03" name="吉林"/>
            <p:cNvSpPr/>
            <p:nvPr/>
          </p:nvSpPr>
          <p:spPr>
            <a:xfrm>
              <a:off x="10500120" y="3895920"/>
              <a:ext cx="471240" cy="3200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04" name="黑龙江"/>
            <p:cNvSpPr/>
            <p:nvPr/>
          </p:nvSpPr>
          <p:spPr>
            <a:xfrm>
              <a:off x="10400040" y="3443400"/>
              <a:ext cx="631080" cy="573840"/>
            </a:xfrm>
            <a:custGeom>
              <a:avLst/>
              <a:gdLst>
                <a:gd name="textAreaLeft" fmla="*/ 0 w 631080"/>
                <a:gd name="textAreaRight" fmla="*/ 631440 w 63108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05" name="山东"/>
            <p:cNvSpPr/>
            <p:nvPr/>
          </p:nvSpPr>
          <p:spPr>
            <a:xfrm>
              <a:off x="10274400" y="4473360"/>
              <a:ext cx="381960" cy="2397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06" name="上海"/>
            <p:cNvSpPr/>
            <p:nvPr/>
          </p:nvSpPr>
          <p:spPr>
            <a:xfrm>
              <a:off x="10631520" y="4871520"/>
              <a:ext cx="60120" cy="52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07" name="江苏"/>
            <p:cNvSpPr/>
            <p:nvPr/>
          </p:nvSpPr>
          <p:spPr>
            <a:xfrm>
              <a:off x="10351800" y="4668840"/>
              <a:ext cx="333000" cy="256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08" name="河北"/>
            <p:cNvSpPr/>
            <p:nvPr/>
          </p:nvSpPr>
          <p:spPr>
            <a:xfrm>
              <a:off x="10178280" y="4177440"/>
              <a:ext cx="309240" cy="44136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09" name="河南"/>
            <p:cNvSpPr/>
            <p:nvPr/>
          </p:nvSpPr>
          <p:spPr>
            <a:xfrm>
              <a:off x="10036800" y="4601880"/>
              <a:ext cx="325440" cy="3222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10" name="台湾"/>
            <p:cNvSpPr/>
            <p:nvPr/>
          </p:nvSpPr>
          <p:spPr>
            <a:xfrm>
              <a:off x="10649160" y="5290560"/>
              <a:ext cx="92880" cy="225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  <p:sp>
          <p:nvSpPr>
            <p:cNvPr id="111" name="海南"/>
            <p:cNvSpPr/>
            <p:nvPr/>
          </p:nvSpPr>
          <p:spPr>
            <a:xfrm>
              <a:off x="9963360" y="5690520"/>
              <a:ext cx="140400" cy="1227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6b67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</a:endParaRPr>
            </a:p>
          </p:txBody>
        </p:sp>
      </p:grpSp>
      <p:sp>
        <p:nvSpPr>
          <p:cNvPr id="112" name="TextBox 5"/>
          <p:cNvSpPr/>
          <p:nvPr/>
        </p:nvSpPr>
        <p:spPr>
          <a:xfrm>
            <a:off x="8125200" y="4394160"/>
            <a:ext cx="299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6b6768">
                    <a:alpha val="60000"/>
                  </a:srgbClr>
                </a:solidFill>
                <a:latin typeface="微软雅黑 Light"/>
                <a:ea typeface="微软雅黑 Light"/>
              </a:rPr>
              <a:t>中国那么大，你不该在</a:t>
            </a:r>
            <a:r>
              <a:rPr b="1" lang="en-US" sz="1600" spc="-1" strike="noStrike">
                <a:solidFill>
                  <a:srgbClr val="6b6768">
                    <a:alpha val="60000"/>
                  </a:srgbClr>
                </a:solidFill>
                <a:latin typeface="微软雅黑 Light"/>
                <a:ea typeface="微软雅黑 Light"/>
              </a:rPr>
              <a:t>110</a:t>
            </a:r>
            <a:r>
              <a:rPr b="1" lang="zh-CN" sz="1600" spc="-1" strike="noStrike">
                <a:solidFill>
                  <a:srgbClr val="6b6768">
                    <a:alpha val="60000"/>
                  </a:srgbClr>
                </a:solidFill>
                <a:latin typeface="微软雅黑 Light"/>
                <a:ea typeface="微软雅黑 Light"/>
              </a:rPr>
              <a:t>平米的房子里过</a:t>
            </a:r>
            <a:r>
              <a:rPr b="1" lang="en-US" sz="1600" spc="-1" strike="noStrike">
                <a:solidFill>
                  <a:srgbClr val="6b6768">
                    <a:alpha val="60000"/>
                  </a:srgbClr>
                </a:solidFill>
                <a:latin typeface="微软雅黑 Light"/>
                <a:ea typeface="微软雅黑 Light"/>
              </a:rPr>
              <a:t>60</a:t>
            </a:r>
            <a:r>
              <a:rPr b="1" lang="zh-CN" sz="1600" spc="-1" strike="noStrike">
                <a:solidFill>
                  <a:srgbClr val="6b6768">
                    <a:alpha val="60000"/>
                  </a:srgbClr>
                </a:solidFill>
                <a:latin typeface="微软雅黑 Light"/>
                <a:ea typeface="微软雅黑 Light"/>
              </a:rPr>
              <a:t>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KSO_Shape"/>
          <p:cNvSpPr/>
          <p:nvPr/>
        </p:nvSpPr>
        <p:spPr>
          <a:xfrm>
            <a:off x="2120040" y="3346200"/>
            <a:ext cx="120600" cy="112320"/>
          </a:xfrm>
          <a:custGeom>
            <a:avLst/>
            <a:gdLst>
              <a:gd name="textAreaLeft" fmla="*/ 0 w 120600"/>
              <a:gd name="textAreaRight" fmla="*/ 120960 w 12060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969654" h="903534">
                <a:moveTo>
                  <a:pt x="813088" y="487443"/>
                </a:moveTo>
                <a:cubicBezTo>
                  <a:pt x="793206" y="487443"/>
                  <a:pt x="777088" y="503561"/>
                  <a:pt x="777088" y="523443"/>
                </a:cubicBezTo>
                <a:cubicBezTo>
                  <a:pt x="777088" y="543325"/>
                  <a:pt x="793206" y="559443"/>
                  <a:pt x="813088" y="559443"/>
                </a:cubicBezTo>
                <a:cubicBezTo>
                  <a:pt x="832970" y="559443"/>
                  <a:pt x="849088" y="543325"/>
                  <a:pt x="849088" y="523443"/>
                </a:cubicBezTo>
                <a:cubicBezTo>
                  <a:pt x="849088" y="503561"/>
                  <a:pt x="832970" y="487443"/>
                  <a:pt x="813088" y="487443"/>
                </a:cubicBezTo>
                <a:close/>
                <a:moveTo>
                  <a:pt x="606961" y="487443"/>
                </a:moveTo>
                <a:cubicBezTo>
                  <a:pt x="587079" y="487443"/>
                  <a:pt x="570961" y="503561"/>
                  <a:pt x="570961" y="523443"/>
                </a:cubicBezTo>
                <a:cubicBezTo>
                  <a:pt x="570961" y="543325"/>
                  <a:pt x="587079" y="559443"/>
                  <a:pt x="606961" y="559443"/>
                </a:cubicBezTo>
                <a:cubicBezTo>
                  <a:pt x="626843" y="559443"/>
                  <a:pt x="642961" y="543325"/>
                  <a:pt x="642961" y="523443"/>
                </a:cubicBezTo>
                <a:cubicBezTo>
                  <a:pt x="642961" y="503561"/>
                  <a:pt x="626843" y="487443"/>
                  <a:pt x="606961" y="487443"/>
                </a:cubicBezTo>
                <a:close/>
                <a:moveTo>
                  <a:pt x="691345" y="336511"/>
                </a:moveTo>
                <a:cubicBezTo>
                  <a:pt x="769490" y="335080"/>
                  <a:pt x="847112" y="364668"/>
                  <a:pt x="901758" y="422110"/>
                </a:cubicBezTo>
                <a:cubicBezTo>
                  <a:pt x="999759" y="525126"/>
                  <a:pt x="990612" y="681640"/>
                  <a:pt x="881173" y="774306"/>
                </a:cubicBezTo>
                <a:lnTo>
                  <a:pt x="905846" y="903534"/>
                </a:lnTo>
                <a:lnTo>
                  <a:pt x="792422" y="824563"/>
                </a:lnTo>
                <a:cubicBezTo>
                  <a:pt x="666952" y="867914"/>
                  <a:pt x="525982" y="820668"/>
                  <a:pt x="459770" y="713074"/>
                </a:cubicBezTo>
                <a:cubicBezTo>
                  <a:pt x="386891" y="594648"/>
                  <a:pt x="429055" y="444146"/>
                  <a:pt x="554971" y="373268"/>
                </a:cubicBezTo>
                <a:cubicBezTo>
                  <a:pt x="597384" y="349394"/>
                  <a:pt x="644458" y="337369"/>
                  <a:pt x="691345" y="336511"/>
                </a:cubicBezTo>
                <a:close/>
                <a:moveTo>
                  <a:pt x="547874" y="187267"/>
                </a:moveTo>
                <a:cubicBezTo>
                  <a:pt x="518051" y="187267"/>
                  <a:pt x="493874" y="211444"/>
                  <a:pt x="493874" y="241267"/>
                </a:cubicBezTo>
                <a:cubicBezTo>
                  <a:pt x="493874" y="271090"/>
                  <a:pt x="518051" y="295267"/>
                  <a:pt x="547874" y="295267"/>
                </a:cubicBezTo>
                <a:cubicBezTo>
                  <a:pt x="577697" y="295267"/>
                  <a:pt x="601874" y="271090"/>
                  <a:pt x="601874" y="241267"/>
                </a:cubicBezTo>
                <a:cubicBezTo>
                  <a:pt x="601874" y="211444"/>
                  <a:pt x="577697" y="187267"/>
                  <a:pt x="547874" y="187267"/>
                </a:cubicBezTo>
                <a:close/>
                <a:moveTo>
                  <a:pt x="294449" y="187267"/>
                </a:moveTo>
                <a:cubicBezTo>
                  <a:pt x="264626" y="187267"/>
                  <a:pt x="240449" y="211444"/>
                  <a:pt x="240449" y="241267"/>
                </a:cubicBezTo>
                <a:cubicBezTo>
                  <a:pt x="240449" y="271090"/>
                  <a:pt x="264626" y="295267"/>
                  <a:pt x="294449" y="295267"/>
                </a:cubicBezTo>
                <a:cubicBezTo>
                  <a:pt x="324272" y="295267"/>
                  <a:pt x="348449" y="271090"/>
                  <a:pt x="348449" y="241267"/>
                </a:cubicBezTo>
                <a:cubicBezTo>
                  <a:pt x="348449" y="211444"/>
                  <a:pt x="324272" y="187267"/>
                  <a:pt x="294449" y="187267"/>
                </a:cubicBezTo>
                <a:close/>
                <a:moveTo>
                  <a:pt x="408549" y="168"/>
                </a:moveTo>
                <a:cubicBezTo>
                  <a:pt x="456533" y="-1113"/>
                  <a:pt x="505397" y="4870"/>
                  <a:pt x="553141" y="18800"/>
                </a:cubicBezTo>
                <a:cubicBezTo>
                  <a:pt x="730896" y="70663"/>
                  <a:pt x="843952" y="217556"/>
                  <a:pt x="840274" y="375462"/>
                </a:cubicBezTo>
                <a:cubicBezTo>
                  <a:pt x="754752" y="310337"/>
                  <a:pt x="632797" y="302687"/>
                  <a:pt x="535419" y="357502"/>
                </a:cubicBezTo>
                <a:cubicBezTo>
                  <a:pt x="409503" y="428380"/>
                  <a:pt x="367339" y="578882"/>
                  <a:pt x="440218" y="697308"/>
                </a:cubicBezTo>
                <a:cubicBezTo>
                  <a:pt x="450352" y="713775"/>
                  <a:pt x="462237" y="728829"/>
                  <a:pt x="478397" y="739559"/>
                </a:cubicBezTo>
                <a:cubicBezTo>
                  <a:pt x="442192" y="745523"/>
                  <a:pt x="404623" y="745773"/>
                  <a:pt x="366675" y="741395"/>
                </a:cubicBezTo>
                <a:lnTo>
                  <a:pt x="245711" y="837584"/>
                </a:lnTo>
                <a:lnTo>
                  <a:pt x="214226" y="696474"/>
                </a:lnTo>
                <a:cubicBezTo>
                  <a:pt x="11680" y="595442"/>
                  <a:pt x="-59861" y="368389"/>
                  <a:pt x="54436" y="189343"/>
                </a:cubicBezTo>
                <a:cubicBezTo>
                  <a:pt x="128564" y="73222"/>
                  <a:pt x="264598" y="4010"/>
                  <a:pt x="408549" y="168"/>
                </a:cubicBezTo>
                <a:close/>
              </a:path>
            </a:pathLst>
          </a:custGeom>
          <a:solidFill>
            <a:srgbClr val="6b6768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114" name="KSO_Shape"/>
          <p:cNvSpPr/>
          <p:nvPr/>
        </p:nvSpPr>
        <p:spPr>
          <a:xfrm>
            <a:off x="2124720" y="4005720"/>
            <a:ext cx="110880" cy="101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2284089" h="2079602">
                <a:moveTo>
                  <a:pt x="86815" y="1071782"/>
                </a:moveTo>
                <a:lnTo>
                  <a:pt x="88113" y="1072322"/>
                </a:lnTo>
                <a:lnTo>
                  <a:pt x="87547" y="1073116"/>
                </a:lnTo>
                <a:close/>
                <a:moveTo>
                  <a:pt x="1788507" y="635242"/>
                </a:moveTo>
                <a:lnTo>
                  <a:pt x="1788786" y="635715"/>
                </a:lnTo>
                <a:lnTo>
                  <a:pt x="1787932" y="635786"/>
                </a:lnTo>
                <a:close/>
                <a:moveTo>
                  <a:pt x="569538" y="592800"/>
                </a:moveTo>
                <a:cubicBezTo>
                  <a:pt x="668960" y="592800"/>
                  <a:pt x="749558" y="673398"/>
                  <a:pt x="749558" y="772820"/>
                </a:cubicBezTo>
                <a:cubicBezTo>
                  <a:pt x="749558" y="872242"/>
                  <a:pt x="668960" y="952840"/>
                  <a:pt x="569538" y="952840"/>
                </a:cubicBezTo>
                <a:cubicBezTo>
                  <a:pt x="527872" y="952840"/>
                  <a:pt x="489512" y="938685"/>
                  <a:pt x="460796" y="912621"/>
                </a:cubicBezTo>
                <a:cubicBezTo>
                  <a:pt x="160953" y="1199491"/>
                  <a:pt x="32382" y="1622905"/>
                  <a:pt x="123061" y="2029688"/>
                </a:cubicBezTo>
                <a:lnTo>
                  <a:pt x="122792" y="2030674"/>
                </a:lnTo>
                <a:lnTo>
                  <a:pt x="122422" y="2030846"/>
                </a:lnTo>
                <a:cubicBezTo>
                  <a:pt x="128206" y="2047921"/>
                  <a:pt x="121912" y="2063921"/>
                  <a:pt x="108319" y="2072242"/>
                </a:cubicBezTo>
                <a:lnTo>
                  <a:pt x="93617" y="2078368"/>
                </a:lnTo>
                <a:cubicBezTo>
                  <a:pt x="78806" y="2082076"/>
                  <a:pt x="61999" y="2077403"/>
                  <a:pt x="49824" y="2064742"/>
                </a:cubicBezTo>
                <a:lnTo>
                  <a:pt x="48258" y="2065474"/>
                </a:lnTo>
                <a:cubicBezTo>
                  <a:pt x="46175" y="2062722"/>
                  <a:pt x="43765" y="2060412"/>
                  <a:pt x="41206" y="2058388"/>
                </a:cubicBezTo>
                <a:lnTo>
                  <a:pt x="34720" y="2047096"/>
                </a:lnTo>
                <a:lnTo>
                  <a:pt x="29758" y="2036793"/>
                </a:lnTo>
                <a:lnTo>
                  <a:pt x="31015" y="2036666"/>
                </a:lnTo>
                <a:cubicBezTo>
                  <a:pt x="-62810" y="1599721"/>
                  <a:pt x="78484" y="1146303"/>
                  <a:pt x="402804" y="840118"/>
                </a:cubicBezTo>
                <a:cubicBezTo>
                  <a:pt x="394149" y="819400"/>
                  <a:pt x="389518" y="796651"/>
                  <a:pt x="389518" y="772820"/>
                </a:cubicBezTo>
                <a:cubicBezTo>
                  <a:pt x="389518" y="673398"/>
                  <a:pt x="470116" y="592800"/>
                  <a:pt x="569538" y="592800"/>
                </a:cubicBezTo>
                <a:close/>
                <a:moveTo>
                  <a:pt x="568738" y="204473"/>
                </a:moveTo>
                <a:cubicBezTo>
                  <a:pt x="882635" y="204683"/>
                  <a:pt x="1136929" y="459316"/>
                  <a:pt x="1136718" y="773212"/>
                </a:cubicBezTo>
                <a:cubicBezTo>
                  <a:pt x="1136509" y="1087108"/>
                  <a:pt x="881877" y="1341401"/>
                  <a:pt x="567981" y="1341192"/>
                </a:cubicBezTo>
                <a:cubicBezTo>
                  <a:pt x="515830" y="1341157"/>
                  <a:pt x="465323" y="1334100"/>
                  <a:pt x="418388" y="1317655"/>
                </a:cubicBezTo>
                <a:lnTo>
                  <a:pt x="417956" y="1319386"/>
                </a:lnTo>
                <a:cubicBezTo>
                  <a:pt x="417638" y="1319460"/>
                  <a:pt x="417352" y="1319392"/>
                  <a:pt x="417065" y="1319320"/>
                </a:cubicBezTo>
                <a:lnTo>
                  <a:pt x="411259" y="1315754"/>
                </a:lnTo>
                <a:lnTo>
                  <a:pt x="403881" y="1313786"/>
                </a:lnTo>
                <a:lnTo>
                  <a:pt x="397389" y="1307474"/>
                </a:lnTo>
                <a:lnTo>
                  <a:pt x="397466" y="1307280"/>
                </a:lnTo>
                <a:cubicBezTo>
                  <a:pt x="386426" y="1300408"/>
                  <a:pt x="380901" y="1288764"/>
                  <a:pt x="382056" y="1276919"/>
                </a:cubicBezTo>
                <a:lnTo>
                  <a:pt x="385152" y="1264503"/>
                </a:lnTo>
                <a:cubicBezTo>
                  <a:pt x="392324" y="1247126"/>
                  <a:pt x="413982" y="1238019"/>
                  <a:pt x="435969" y="1243501"/>
                </a:cubicBezTo>
                <a:lnTo>
                  <a:pt x="436787" y="1243861"/>
                </a:lnTo>
                <a:lnTo>
                  <a:pt x="436371" y="1245530"/>
                </a:lnTo>
                <a:cubicBezTo>
                  <a:pt x="438704" y="1243635"/>
                  <a:pt x="440910" y="1244132"/>
                  <a:pt x="443287" y="1244881"/>
                </a:cubicBezTo>
                <a:cubicBezTo>
                  <a:pt x="482765" y="1257317"/>
                  <a:pt x="524743" y="1262958"/>
                  <a:pt x="568032" y="1262985"/>
                </a:cubicBezTo>
                <a:cubicBezTo>
                  <a:pt x="838737" y="1263167"/>
                  <a:pt x="1058333" y="1043864"/>
                  <a:pt x="1058513" y="773160"/>
                </a:cubicBezTo>
                <a:cubicBezTo>
                  <a:pt x="1058694" y="502455"/>
                  <a:pt x="839390" y="282860"/>
                  <a:pt x="568686" y="282679"/>
                </a:cubicBezTo>
                <a:cubicBezTo>
                  <a:pt x="297982" y="282499"/>
                  <a:pt x="78387" y="501802"/>
                  <a:pt x="78206" y="772506"/>
                </a:cubicBezTo>
                <a:cubicBezTo>
                  <a:pt x="78151" y="855495"/>
                  <a:pt x="98723" y="933681"/>
                  <a:pt x="137242" y="1001052"/>
                </a:cubicBezTo>
                <a:lnTo>
                  <a:pt x="136711" y="1001518"/>
                </a:lnTo>
                <a:cubicBezTo>
                  <a:pt x="151076" y="1018274"/>
                  <a:pt x="152475" y="1041066"/>
                  <a:pt x="140479" y="1055055"/>
                </a:cubicBezTo>
                <a:lnTo>
                  <a:pt x="130816" y="1063444"/>
                </a:lnTo>
                <a:cubicBezTo>
                  <a:pt x="115403" y="1073277"/>
                  <a:pt x="93261" y="1068839"/>
                  <a:pt x="78796" y="1052472"/>
                </a:cubicBezTo>
                <a:lnTo>
                  <a:pt x="77048" y="1054008"/>
                </a:lnTo>
                <a:cubicBezTo>
                  <a:pt x="27228" y="971942"/>
                  <a:pt x="-68" y="875382"/>
                  <a:pt x="0" y="772454"/>
                </a:cubicBezTo>
                <a:cubicBezTo>
                  <a:pt x="209" y="458557"/>
                  <a:pt x="254842" y="204264"/>
                  <a:pt x="568738" y="204473"/>
                </a:cubicBezTo>
                <a:close/>
                <a:moveTo>
                  <a:pt x="1744110" y="193576"/>
                </a:moveTo>
                <a:cubicBezTo>
                  <a:pt x="1813698" y="193576"/>
                  <a:pt x="1870110" y="249988"/>
                  <a:pt x="1870110" y="319576"/>
                </a:cubicBezTo>
                <a:cubicBezTo>
                  <a:pt x="1870110" y="364088"/>
                  <a:pt x="1847030" y="403208"/>
                  <a:pt x="1810937" y="423685"/>
                </a:cubicBezTo>
                <a:cubicBezTo>
                  <a:pt x="1876006" y="638245"/>
                  <a:pt x="2050455" y="802592"/>
                  <a:pt x="2267371" y="853783"/>
                </a:cubicBezTo>
                <a:lnTo>
                  <a:pt x="2267774" y="854132"/>
                </a:lnTo>
                <a:lnTo>
                  <a:pt x="2267775" y="854344"/>
                </a:lnTo>
                <a:cubicBezTo>
                  <a:pt x="2277024" y="855501"/>
                  <a:pt x="2283147" y="862058"/>
                  <a:pt x="2284089" y="870289"/>
                </a:cubicBezTo>
                <a:lnTo>
                  <a:pt x="2283762" y="878542"/>
                </a:lnTo>
                <a:cubicBezTo>
                  <a:pt x="2282280" y="886298"/>
                  <a:pt x="2276441" y="893093"/>
                  <a:pt x="2267869" y="895919"/>
                </a:cubicBezTo>
                <a:lnTo>
                  <a:pt x="2267872" y="896816"/>
                </a:lnTo>
                <a:cubicBezTo>
                  <a:pt x="2266131" y="897167"/>
                  <a:pt x="2264526" y="897771"/>
                  <a:pt x="2263022" y="898508"/>
                </a:cubicBezTo>
                <a:lnTo>
                  <a:pt x="2256327" y="898986"/>
                </a:lnTo>
                <a:lnTo>
                  <a:pt x="2250426" y="898975"/>
                </a:lnTo>
                <a:lnTo>
                  <a:pt x="2250640" y="898359"/>
                </a:lnTo>
                <a:cubicBezTo>
                  <a:pt x="2021208" y="842323"/>
                  <a:pt x="1836902" y="668133"/>
                  <a:pt x="1766709" y="441014"/>
                </a:cubicBezTo>
                <a:cubicBezTo>
                  <a:pt x="1759690" y="444854"/>
                  <a:pt x="1751984" y="445576"/>
                  <a:pt x="1744110" y="445576"/>
                </a:cubicBezTo>
                <a:cubicBezTo>
                  <a:pt x="1674522" y="445576"/>
                  <a:pt x="1618110" y="389164"/>
                  <a:pt x="1618110" y="319576"/>
                </a:cubicBezTo>
                <a:cubicBezTo>
                  <a:pt x="1618110" y="249988"/>
                  <a:pt x="1674522" y="193576"/>
                  <a:pt x="1744110" y="193576"/>
                </a:cubicBezTo>
                <a:close/>
                <a:moveTo>
                  <a:pt x="1750820" y="59"/>
                </a:moveTo>
                <a:cubicBezTo>
                  <a:pt x="1792352" y="864"/>
                  <a:pt x="1834412" y="9826"/>
                  <a:pt x="1874735" y="27812"/>
                </a:cubicBezTo>
                <a:cubicBezTo>
                  <a:pt x="2036029" y="99753"/>
                  <a:pt x="2108463" y="288828"/>
                  <a:pt x="2036521" y="450121"/>
                </a:cubicBezTo>
                <a:cubicBezTo>
                  <a:pt x="2024569" y="476919"/>
                  <a:pt x="2009383" y="501264"/>
                  <a:pt x="1990190" y="521625"/>
                </a:cubicBezTo>
                <a:lnTo>
                  <a:pt x="1990981" y="522243"/>
                </a:lnTo>
                <a:cubicBezTo>
                  <a:pt x="1990946" y="522424"/>
                  <a:pt x="1990845" y="522555"/>
                  <a:pt x="1990743" y="522686"/>
                </a:cubicBezTo>
                <a:lnTo>
                  <a:pt x="1987581" y="524854"/>
                </a:lnTo>
                <a:lnTo>
                  <a:pt x="1984881" y="528197"/>
                </a:lnTo>
                <a:lnTo>
                  <a:pt x="1980151" y="530089"/>
                </a:lnTo>
                <a:lnTo>
                  <a:pt x="1980069" y="530005"/>
                </a:lnTo>
                <a:cubicBezTo>
                  <a:pt x="1974010" y="534107"/>
                  <a:pt x="1966761" y="534282"/>
                  <a:pt x="1960937" y="530978"/>
                </a:cubicBezTo>
                <a:lnTo>
                  <a:pt x="1955264" y="526545"/>
                </a:lnTo>
                <a:cubicBezTo>
                  <a:pt x="1947973" y="518882"/>
                  <a:pt x="1948249" y="505665"/>
                  <a:pt x="1956098" y="495619"/>
                </a:cubicBezTo>
                <a:lnTo>
                  <a:pt x="1956471" y="495281"/>
                </a:lnTo>
                <a:lnTo>
                  <a:pt x="1957233" y="495877"/>
                </a:lnTo>
                <a:cubicBezTo>
                  <a:pt x="1956793" y="494244"/>
                  <a:pt x="1957553" y="493224"/>
                  <a:pt x="1958482" y="492173"/>
                </a:cubicBezTo>
                <a:cubicBezTo>
                  <a:pt x="1973908" y="474728"/>
                  <a:pt x="1986414" y="454442"/>
                  <a:pt x="1996335" y="432198"/>
                </a:cubicBezTo>
                <a:cubicBezTo>
                  <a:pt x="2058378" y="293098"/>
                  <a:pt x="1995911" y="130039"/>
                  <a:pt x="1856811" y="67997"/>
                </a:cubicBezTo>
                <a:cubicBezTo>
                  <a:pt x="1717711" y="5955"/>
                  <a:pt x="1554653" y="68422"/>
                  <a:pt x="1492610" y="207522"/>
                </a:cubicBezTo>
                <a:cubicBezTo>
                  <a:pt x="1430568" y="346622"/>
                  <a:pt x="1493036" y="509680"/>
                  <a:pt x="1632135" y="571722"/>
                </a:cubicBezTo>
                <a:cubicBezTo>
                  <a:pt x="1674779" y="590742"/>
                  <a:pt x="1719674" y="598061"/>
                  <a:pt x="1763118" y="593680"/>
                </a:cubicBezTo>
                <a:lnTo>
                  <a:pt x="1763235" y="594059"/>
                </a:lnTo>
                <a:cubicBezTo>
                  <a:pt x="1775135" y="590511"/>
                  <a:pt x="1787171" y="595008"/>
                  <a:pt x="1791616" y="604375"/>
                </a:cubicBezTo>
                <a:lnTo>
                  <a:pt x="1793716" y="611261"/>
                </a:lnTo>
                <a:cubicBezTo>
                  <a:pt x="1795243" y="621434"/>
                  <a:pt x="1787895" y="631799"/>
                  <a:pt x="1776172" y="635489"/>
                </a:cubicBezTo>
                <a:lnTo>
                  <a:pt x="1776562" y="636738"/>
                </a:lnTo>
                <a:cubicBezTo>
                  <a:pt x="1722979" y="643565"/>
                  <a:pt x="1667101" y="635498"/>
                  <a:pt x="1614211" y="611908"/>
                </a:cubicBezTo>
                <a:cubicBezTo>
                  <a:pt x="1452917" y="539967"/>
                  <a:pt x="1380483" y="350892"/>
                  <a:pt x="1452425" y="189598"/>
                </a:cubicBezTo>
                <a:cubicBezTo>
                  <a:pt x="1506381" y="68628"/>
                  <a:pt x="1626225" y="-2359"/>
                  <a:pt x="1750820" y="59"/>
                </a:cubicBezTo>
                <a:close/>
              </a:path>
            </a:pathLst>
          </a:custGeom>
          <a:solidFill>
            <a:srgbClr val="6b6768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sp>
        <p:nvSpPr>
          <p:cNvPr id="115" name="KSO_Shape"/>
          <p:cNvSpPr/>
          <p:nvPr/>
        </p:nvSpPr>
        <p:spPr>
          <a:xfrm>
            <a:off x="2108520" y="4631040"/>
            <a:ext cx="127440" cy="105480"/>
          </a:xfrm>
          <a:custGeom>
            <a:avLst/>
            <a:gdLst>
              <a:gd name="textAreaLeft" fmla="*/ 0 w 127440"/>
              <a:gd name="textAreaRight" fmla="*/ 127800 w 127440"/>
              <a:gd name="textAreaTop" fmla="*/ 0 h 105480"/>
              <a:gd name="textAreaBottom" fmla="*/ 105840 h 105480"/>
            </a:gdLst>
            <a:ahLst/>
            <a:rect l="textAreaLeft" t="textAreaTop" r="textAreaRight" b="textAreaBottom"/>
            <a:pathLst>
              <a:path w="1466850" h="1217612">
                <a:moveTo>
                  <a:pt x="1165225" y="696262"/>
                </a:moveTo>
                <a:lnTo>
                  <a:pt x="1153838" y="696527"/>
                </a:lnTo>
                <a:lnTo>
                  <a:pt x="1142981" y="697587"/>
                </a:lnTo>
                <a:lnTo>
                  <a:pt x="1131858" y="698913"/>
                </a:lnTo>
                <a:lnTo>
                  <a:pt x="1121001" y="701033"/>
                </a:lnTo>
                <a:lnTo>
                  <a:pt x="1110408" y="703153"/>
                </a:lnTo>
                <a:lnTo>
                  <a:pt x="1100081" y="706334"/>
                </a:lnTo>
                <a:lnTo>
                  <a:pt x="1089753" y="709780"/>
                </a:lnTo>
                <a:lnTo>
                  <a:pt x="1079690" y="713755"/>
                </a:lnTo>
                <a:lnTo>
                  <a:pt x="1070421" y="717996"/>
                </a:lnTo>
                <a:lnTo>
                  <a:pt x="1060623" y="723032"/>
                </a:lnTo>
                <a:lnTo>
                  <a:pt x="1051355" y="728068"/>
                </a:lnTo>
                <a:lnTo>
                  <a:pt x="1042616" y="733899"/>
                </a:lnTo>
                <a:lnTo>
                  <a:pt x="1034142" y="739995"/>
                </a:lnTo>
                <a:lnTo>
                  <a:pt x="1025667" y="746356"/>
                </a:lnTo>
                <a:lnTo>
                  <a:pt x="1017723" y="753248"/>
                </a:lnTo>
                <a:lnTo>
                  <a:pt x="1010308" y="760669"/>
                </a:lnTo>
                <a:lnTo>
                  <a:pt x="1002893" y="768355"/>
                </a:lnTo>
                <a:lnTo>
                  <a:pt x="996008" y="776042"/>
                </a:lnTo>
                <a:lnTo>
                  <a:pt x="989388" y="784523"/>
                </a:lnTo>
                <a:lnTo>
                  <a:pt x="983562" y="793005"/>
                </a:lnTo>
                <a:lnTo>
                  <a:pt x="977736" y="802016"/>
                </a:lnTo>
                <a:lnTo>
                  <a:pt x="972704" y="811293"/>
                </a:lnTo>
                <a:lnTo>
                  <a:pt x="967673" y="820835"/>
                </a:lnTo>
                <a:lnTo>
                  <a:pt x="963171" y="830642"/>
                </a:lnTo>
                <a:lnTo>
                  <a:pt x="959464" y="840183"/>
                </a:lnTo>
                <a:lnTo>
                  <a:pt x="955756" y="850520"/>
                </a:lnTo>
                <a:lnTo>
                  <a:pt x="952843" y="860857"/>
                </a:lnTo>
                <a:lnTo>
                  <a:pt x="950460" y="871724"/>
                </a:lnTo>
                <a:lnTo>
                  <a:pt x="948606" y="882326"/>
                </a:lnTo>
                <a:lnTo>
                  <a:pt x="947282" y="893458"/>
                </a:lnTo>
                <a:lnTo>
                  <a:pt x="946223" y="904590"/>
                </a:lnTo>
                <a:lnTo>
                  <a:pt x="945958" y="915722"/>
                </a:lnTo>
                <a:lnTo>
                  <a:pt x="946223" y="927119"/>
                </a:lnTo>
                <a:lnTo>
                  <a:pt x="947282" y="938251"/>
                </a:lnTo>
                <a:lnTo>
                  <a:pt x="948606" y="949118"/>
                </a:lnTo>
                <a:lnTo>
                  <a:pt x="950460" y="959985"/>
                </a:lnTo>
                <a:lnTo>
                  <a:pt x="952843" y="970587"/>
                </a:lnTo>
                <a:lnTo>
                  <a:pt x="955756" y="980924"/>
                </a:lnTo>
                <a:lnTo>
                  <a:pt x="959464" y="991261"/>
                </a:lnTo>
                <a:lnTo>
                  <a:pt x="963171" y="1001333"/>
                </a:lnTo>
                <a:lnTo>
                  <a:pt x="967673" y="1011140"/>
                </a:lnTo>
                <a:lnTo>
                  <a:pt x="972704" y="1020416"/>
                </a:lnTo>
                <a:lnTo>
                  <a:pt x="977736" y="1029693"/>
                </a:lnTo>
                <a:lnTo>
                  <a:pt x="983562" y="1038440"/>
                </a:lnTo>
                <a:lnTo>
                  <a:pt x="989388" y="1047186"/>
                </a:lnTo>
                <a:lnTo>
                  <a:pt x="996008" y="1055403"/>
                </a:lnTo>
                <a:lnTo>
                  <a:pt x="1002893" y="1063354"/>
                </a:lnTo>
                <a:lnTo>
                  <a:pt x="1010308" y="1071041"/>
                </a:lnTo>
                <a:lnTo>
                  <a:pt x="1017723" y="1078197"/>
                </a:lnTo>
                <a:lnTo>
                  <a:pt x="1025667" y="1085088"/>
                </a:lnTo>
                <a:lnTo>
                  <a:pt x="1034142" y="1091714"/>
                </a:lnTo>
                <a:lnTo>
                  <a:pt x="1042616" y="1098075"/>
                </a:lnTo>
                <a:lnTo>
                  <a:pt x="1051355" y="1103641"/>
                </a:lnTo>
                <a:lnTo>
                  <a:pt x="1060623" y="1108942"/>
                </a:lnTo>
                <a:lnTo>
                  <a:pt x="1070421" y="1113713"/>
                </a:lnTo>
                <a:lnTo>
                  <a:pt x="1079690" y="1117954"/>
                </a:lnTo>
                <a:lnTo>
                  <a:pt x="1089753" y="1121930"/>
                </a:lnTo>
                <a:lnTo>
                  <a:pt x="1100081" y="1125375"/>
                </a:lnTo>
                <a:lnTo>
                  <a:pt x="1110408" y="1128291"/>
                </a:lnTo>
                <a:lnTo>
                  <a:pt x="1121001" y="1130941"/>
                </a:lnTo>
                <a:lnTo>
                  <a:pt x="1131858" y="1132797"/>
                </a:lnTo>
                <a:lnTo>
                  <a:pt x="1142981" y="1134387"/>
                </a:lnTo>
                <a:lnTo>
                  <a:pt x="1153838" y="1135182"/>
                </a:lnTo>
                <a:lnTo>
                  <a:pt x="1165225" y="1135447"/>
                </a:lnTo>
                <a:lnTo>
                  <a:pt x="1176347" y="1135182"/>
                </a:lnTo>
                <a:lnTo>
                  <a:pt x="1187470" y="1134387"/>
                </a:lnTo>
                <a:lnTo>
                  <a:pt x="1198592" y="1132797"/>
                </a:lnTo>
                <a:lnTo>
                  <a:pt x="1209185" y="1130941"/>
                </a:lnTo>
                <a:lnTo>
                  <a:pt x="1219777" y="1128291"/>
                </a:lnTo>
                <a:lnTo>
                  <a:pt x="1230370" y="1125375"/>
                </a:lnTo>
                <a:lnTo>
                  <a:pt x="1240433" y="1121930"/>
                </a:lnTo>
                <a:lnTo>
                  <a:pt x="1250496" y="1117954"/>
                </a:lnTo>
                <a:lnTo>
                  <a:pt x="1260029" y="1113713"/>
                </a:lnTo>
                <a:lnTo>
                  <a:pt x="1269563" y="1108942"/>
                </a:lnTo>
                <a:lnTo>
                  <a:pt x="1278831" y="1103641"/>
                </a:lnTo>
                <a:lnTo>
                  <a:pt x="1287835" y="1098075"/>
                </a:lnTo>
                <a:lnTo>
                  <a:pt x="1296309" y="1091714"/>
                </a:lnTo>
                <a:lnTo>
                  <a:pt x="1304783" y="1085088"/>
                </a:lnTo>
                <a:lnTo>
                  <a:pt x="1312463" y="1078197"/>
                </a:lnTo>
                <a:lnTo>
                  <a:pt x="1320142" y="1071041"/>
                </a:lnTo>
                <a:lnTo>
                  <a:pt x="1327557" y="1063354"/>
                </a:lnTo>
                <a:lnTo>
                  <a:pt x="1334442" y="1055403"/>
                </a:lnTo>
                <a:lnTo>
                  <a:pt x="1341063" y="1047186"/>
                </a:lnTo>
                <a:lnTo>
                  <a:pt x="1346889" y="1038440"/>
                </a:lnTo>
                <a:lnTo>
                  <a:pt x="1352715" y="1029693"/>
                </a:lnTo>
                <a:lnTo>
                  <a:pt x="1357746" y="1020416"/>
                </a:lnTo>
                <a:lnTo>
                  <a:pt x="1362778" y="1011140"/>
                </a:lnTo>
                <a:lnTo>
                  <a:pt x="1367280" y="1001333"/>
                </a:lnTo>
                <a:lnTo>
                  <a:pt x="1371252" y="991261"/>
                </a:lnTo>
                <a:lnTo>
                  <a:pt x="1374694" y="980924"/>
                </a:lnTo>
                <a:lnTo>
                  <a:pt x="1377607" y="970587"/>
                </a:lnTo>
                <a:lnTo>
                  <a:pt x="1380256" y="959985"/>
                </a:lnTo>
                <a:lnTo>
                  <a:pt x="1381844" y="949118"/>
                </a:lnTo>
                <a:lnTo>
                  <a:pt x="1383433" y="938251"/>
                </a:lnTo>
                <a:lnTo>
                  <a:pt x="1384228" y="927119"/>
                </a:lnTo>
                <a:lnTo>
                  <a:pt x="1384493" y="915722"/>
                </a:lnTo>
                <a:lnTo>
                  <a:pt x="1384228" y="904590"/>
                </a:lnTo>
                <a:lnTo>
                  <a:pt x="1383433" y="893458"/>
                </a:lnTo>
                <a:lnTo>
                  <a:pt x="1381844" y="882326"/>
                </a:lnTo>
                <a:lnTo>
                  <a:pt x="1380256" y="871724"/>
                </a:lnTo>
                <a:lnTo>
                  <a:pt x="1377607" y="860857"/>
                </a:lnTo>
                <a:lnTo>
                  <a:pt x="1374694" y="850520"/>
                </a:lnTo>
                <a:lnTo>
                  <a:pt x="1371252" y="840183"/>
                </a:lnTo>
                <a:lnTo>
                  <a:pt x="1367280" y="830642"/>
                </a:lnTo>
                <a:lnTo>
                  <a:pt x="1362778" y="820835"/>
                </a:lnTo>
                <a:lnTo>
                  <a:pt x="1357746" y="811293"/>
                </a:lnTo>
                <a:lnTo>
                  <a:pt x="1352715" y="802016"/>
                </a:lnTo>
                <a:lnTo>
                  <a:pt x="1346889" y="793005"/>
                </a:lnTo>
                <a:lnTo>
                  <a:pt x="1341063" y="784523"/>
                </a:lnTo>
                <a:lnTo>
                  <a:pt x="1334442" y="776042"/>
                </a:lnTo>
                <a:lnTo>
                  <a:pt x="1327557" y="768355"/>
                </a:lnTo>
                <a:lnTo>
                  <a:pt x="1320142" y="760669"/>
                </a:lnTo>
                <a:lnTo>
                  <a:pt x="1312463" y="753248"/>
                </a:lnTo>
                <a:lnTo>
                  <a:pt x="1304783" y="746356"/>
                </a:lnTo>
                <a:lnTo>
                  <a:pt x="1296309" y="739995"/>
                </a:lnTo>
                <a:lnTo>
                  <a:pt x="1287835" y="733899"/>
                </a:lnTo>
                <a:lnTo>
                  <a:pt x="1278831" y="728068"/>
                </a:lnTo>
                <a:lnTo>
                  <a:pt x="1269563" y="723032"/>
                </a:lnTo>
                <a:lnTo>
                  <a:pt x="1260029" y="717996"/>
                </a:lnTo>
                <a:lnTo>
                  <a:pt x="1250496" y="713755"/>
                </a:lnTo>
                <a:lnTo>
                  <a:pt x="1240433" y="709780"/>
                </a:lnTo>
                <a:lnTo>
                  <a:pt x="1230370" y="706334"/>
                </a:lnTo>
                <a:lnTo>
                  <a:pt x="1219777" y="703153"/>
                </a:lnTo>
                <a:lnTo>
                  <a:pt x="1209185" y="701033"/>
                </a:lnTo>
                <a:lnTo>
                  <a:pt x="1198592" y="698913"/>
                </a:lnTo>
                <a:lnTo>
                  <a:pt x="1187470" y="697587"/>
                </a:lnTo>
                <a:lnTo>
                  <a:pt x="1176347" y="696527"/>
                </a:lnTo>
                <a:lnTo>
                  <a:pt x="1165225" y="696262"/>
                </a:lnTo>
                <a:close/>
                <a:moveTo>
                  <a:pt x="300700" y="696262"/>
                </a:moveTo>
                <a:lnTo>
                  <a:pt x="289338" y="696527"/>
                </a:lnTo>
                <a:lnTo>
                  <a:pt x="278504" y="697587"/>
                </a:lnTo>
                <a:lnTo>
                  <a:pt x="267406" y="698913"/>
                </a:lnTo>
                <a:lnTo>
                  <a:pt x="256572" y="701033"/>
                </a:lnTo>
                <a:lnTo>
                  <a:pt x="246003" y="703418"/>
                </a:lnTo>
                <a:lnTo>
                  <a:pt x="235698" y="706334"/>
                </a:lnTo>
                <a:lnTo>
                  <a:pt x="225393" y="709780"/>
                </a:lnTo>
                <a:lnTo>
                  <a:pt x="215616" y="713755"/>
                </a:lnTo>
                <a:lnTo>
                  <a:pt x="206104" y="717996"/>
                </a:lnTo>
                <a:lnTo>
                  <a:pt x="196591" y="723032"/>
                </a:lnTo>
                <a:lnTo>
                  <a:pt x="187343" y="728068"/>
                </a:lnTo>
                <a:lnTo>
                  <a:pt x="178623" y="733899"/>
                </a:lnTo>
                <a:lnTo>
                  <a:pt x="169903" y="739995"/>
                </a:lnTo>
                <a:lnTo>
                  <a:pt x="161448" y="746621"/>
                </a:lnTo>
                <a:lnTo>
                  <a:pt x="153785" y="753513"/>
                </a:lnTo>
                <a:lnTo>
                  <a:pt x="146122" y="760669"/>
                </a:lnTo>
                <a:lnTo>
                  <a:pt x="138988" y="768355"/>
                </a:lnTo>
                <a:lnTo>
                  <a:pt x="132118" y="776572"/>
                </a:lnTo>
                <a:lnTo>
                  <a:pt x="125512" y="784523"/>
                </a:lnTo>
                <a:lnTo>
                  <a:pt x="119170" y="793270"/>
                </a:lnTo>
                <a:lnTo>
                  <a:pt x="113621" y="802282"/>
                </a:lnTo>
                <a:lnTo>
                  <a:pt x="108337" y="811293"/>
                </a:lnTo>
                <a:lnTo>
                  <a:pt x="103580" y="820835"/>
                </a:lnTo>
                <a:lnTo>
                  <a:pt x="99353" y="830642"/>
                </a:lnTo>
                <a:lnTo>
                  <a:pt x="95389" y="840448"/>
                </a:lnTo>
                <a:lnTo>
                  <a:pt x="91954" y="850520"/>
                </a:lnTo>
                <a:lnTo>
                  <a:pt x="89047" y="861122"/>
                </a:lnTo>
                <a:lnTo>
                  <a:pt x="86405" y="871724"/>
                </a:lnTo>
                <a:lnTo>
                  <a:pt x="84555" y="882326"/>
                </a:lnTo>
                <a:lnTo>
                  <a:pt x="82970" y="893458"/>
                </a:lnTo>
                <a:lnTo>
                  <a:pt x="82177" y="904590"/>
                </a:lnTo>
                <a:lnTo>
                  <a:pt x="81913" y="915722"/>
                </a:lnTo>
                <a:lnTo>
                  <a:pt x="82177" y="927119"/>
                </a:lnTo>
                <a:lnTo>
                  <a:pt x="82970" y="938251"/>
                </a:lnTo>
                <a:lnTo>
                  <a:pt x="84555" y="949118"/>
                </a:lnTo>
                <a:lnTo>
                  <a:pt x="86405" y="959985"/>
                </a:lnTo>
                <a:lnTo>
                  <a:pt x="89047" y="970587"/>
                </a:lnTo>
                <a:lnTo>
                  <a:pt x="91954" y="980924"/>
                </a:lnTo>
                <a:lnTo>
                  <a:pt x="95389" y="991261"/>
                </a:lnTo>
                <a:lnTo>
                  <a:pt x="99353" y="1001333"/>
                </a:lnTo>
                <a:lnTo>
                  <a:pt x="103580" y="1011140"/>
                </a:lnTo>
                <a:lnTo>
                  <a:pt x="108337" y="1020416"/>
                </a:lnTo>
                <a:lnTo>
                  <a:pt x="113621" y="1029693"/>
                </a:lnTo>
                <a:lnTo>
                  <a:pt x="119170" y="1038440"/>
                </a:lnTo>
                <a:lnTo>
                  <a:pt x="125512" y="1047186"/>
                </a:lnTo>
                <a:lnTo>
                  <a:pt x="132118" y="1055403"/>
                </a:lnTo>
                <a:lnTo>
                  <a:pt x="138988" y="1063354"/>
                </a:lnTo>
                <a:lnTo>
                  <a:pt x="146122" y="1071041"/>
                </a:lnTo>
                <a:lnTo>
                  <a:pt x="153785" y="1078197"/>
                </a:lnTo>
                <a:lnTo>
                  <a:pt x="161448" y="1085088"/>
                </a:lnTo>
                <a:lnTo>
                  <a:pt x="169903" y="1091714"/>
                </a:lnTo>
                <a:lnTo>
                  <a:pt x="178359" y="1097810"/>
                </a:lnTo>
                <a:lnTo>
                  <a:pt x="187343" y="1103376"/>
                </a:lnTo>
                <a:lnTo>
                  <a:pt x="196591" y="1108942"/>
                </a:lnTo>
                <a:lnTo>
                  <a:pt x="206104" y="1113713"/>
                </a:lnTo>
                <a:lnTo>
                  <a:pt x="215616" y="1117954"/>
                </a:lnTo>
                <a:lnTo>
                  <a:pt x="225393" y="1121930"/>
                </a:lnTo>
                <a:lnTo>
                  <a:pt x="235698" y="1125375"/>
                </a:lnTo>
                <a:lnTo>
                  <a:pt x="246003" y="1128291"/>
                </a:lnTo>
                <a:lnTo>
                  <a:pt x="256572" y="1130941"/>
                </a:lnTo>
                <a:lnTo>
                  <a:pt x="267406" y="1132797"/>
                </a:lnTo>
                <a:lnTo>
                  <a:pt x="278504" y="1134387"/>
                </a:lnTo>
                <a:lnTo>
                  <a:pt x="289338" y="1135182"/>
                </a:lnTo>
                <a:lnTo>
                  <a:pt x="300700" y="1135447"/>
                </a:lnTo>
                <a:lnTo>
                  <a:pt x="311797" y="1135182"/>
                </a:lnTo>
                <a:lnTo>
                  <a:pt x="322895" y="1134387"/>
                </a:lnTo>
                <a:lnTo>
                  <a:pt x="333993" y="1132797"/>
                </a:lnTo>
                <a:lnTo>
                  <a:pt x="344827" y="1130941"/>
                </a:lnTo>
                <a:lnTo>
                  <a:pt x="355396" y="1128291"/>
                </a:lnTo>
                <a:lnTo>
                  <a:pt x="365701" y="1125375"/>
                </a:lnTo>
                <a:lnTo>
                  <a:pt x="376007" y="1121930"/>
                </a:lnTo>
                <a:lnTo>
                  <a:pt x="386048" y="1117954"/>
                </a:lnTo>
                <a:lnTo>
                  <a:pt x="395560" y="1113713"/>
                </a:lnTo>
                <a:lnTo>
                  <a:pt x="405072" y="1108942"/>
                </a:lnTo>
                <a:lnTo>
                  <a:pt x="414056" y="1103376"/>
                </a:lnTo>
                <a:lnTo>
                  <a:pt x="423040" y="1097810"/>
                </a:lnTo>
                <a:lnTo>
                  <a:pt x="431496" y="1091714"/>
                </a:lnTo>
                <a:lnTo>
                  <a:pt x="439951" y="1085088"/>
                </a:lnTo>
                <a:lnTo>
                  <a:pt x="447878" y="1078197"/>
                </a:lnTo>
                <a:lnTo>
                  <a:pt x="455541" y="1071041"/>
                </a:lnTo>
                <a:lnTo>
                  <a:pt x="462676" y="1063354"/>
                </a:lnTo>
                <a:lnTo>
                  <a:pt x="469546" y="1055403"/>
                </a:lnTo>
                <a:lnTo>
                  <a:pt x="476152" y="1047186"/>
                </a:lnTo>
                <a:lnTo>
                  <a:pt x="482229" y="1038440"/>
                </a:lnTo>
                <a:lnTo>
                  <a:pt x="488042" y="1029693"/>
                </a:lnTo>
                <a:lnTo>
                  <a:pt x="493063" y="1020416"/>
                </a:lnTo>
                <a:lnTo>
                  <a:pt x="498083" y="1011140"/>
                </a:lnTo>
                <a:lnTo>
                  <a:pt x="502311" y="1001333"/>
                </a:lnTo>
                <a:lnTo>
                  <a:pt x="506274" y="991261"/>
                </a:lnTo>
                <a:lnTo>
                  <a:pt x="509709" y="980924"/>
                </a:lnTo>
                <a:lnTo>
                  <a:pt x="512880" y="970587"/>
                </a:lnTo>
                <a:lnTo>
                  <a:pt x="515258" y="959985"/>
                </a:lnTo>
                <a:lnTo>
                  <a:pt x="517108" y="949118"/>
                </a:lnTo>
                <a:lnTo>
                  <a:pt x="518693" y="938251"/>
                </a:lnTo>
                <a:lnTo>
                  <a:pt x="519486" y="927119"/>
                </a:lnTo>
                <a:lnTo>
                  <a:pt x="519750" y="915722"/>
                </a:lnTo>
                <a:lnTo>
                  <a:pt x="519486" y="904590"/>
                </a:lnTo>
                <a:lnTo>
                  <a:pt x="518693" y="893458"/>
                </a:lnTo>
                <a:lnTo>
                  <a:pt x="517108" y="882326"/>
                </a:lnTo>
                <a:lnTo>
                  <a:pt x="515258" y="871724"/>
                </a:lnTo>
                <a:lnTo>
                  <a:pt x="512880" y="861122"/>
                </a:lnTo>
                <a:lnTo>
                  <a:pt x="509709" y="850520"/>
                </a:lnTo>
                <a:lnTo>
                  <a:pt x="506274" y="840448"/>
                </a:lnTo>
                <a:lnTo>
                  <a:pt x="502311" y="830642"/>
                </a:lnTo>
                <a:lnTo>
                  <a:pt x="498083" y="820835"/>
                </a:lnTo>
                <a:lnTo>
                  <a:pt x="493063" y="811293"/>
                </a:lnTo>
                <a:lnTo>
                  <a:pt x="487778" y="802282"/>
                </a:lnTo>
                <a:lnTo>
                  <a:pt x="481965" y="793270"/>
                </a:lnTo>
                <a:lnTo>
                  <a:pt x="476152" y="784523"/>
                </a:lnTo>
                <a:lnTo>
                  <a:pt x="469546" y="776572"/>
                </a:lnTo>
                <a:lnTo>
                  <a:pt x="462676" y="768355"/>
                </a:lnTo>
                <a:lnTo>
                  <a:pt x="455541" y="760669"/>
                </a:lnTo>
                <a:lnTo>
                  <a:pt x="447878" y="753513"/>
                </a:lnTo>
                <a:lnTo>
                  <a:pt x="439951" y="746621"/>
                </a:lnTo>
                <a:lnTo>
                  <a:pt x="431496" y="739995"/>
                </a:lnTo>
                <a:lnTo>
                  <a:pt x="423040" y="733899"/>
                </a:lnTo>
                <a:lnTo>
                  <a:pt x="414056" y="728068"/>
                </a:lnTo>
                <a:lnTo>
                  <a:pt x="405072" y="723032"/>
                </a:lnTo>
                <a:lnTo>
                  <a:pt x="395560" y="717996"/>
                </a:lnTo>
                <a:lnTo>
                  <a:pt x="386048" y="713755"/>
                </a:lnTo>
                <a:lnTo>
                  <a:pt x="376007" y="709780"/>
                </a:lnTo>
                <a:lnTo>
                  <a:pt x="365701" y="706334"/>
                </a:lnTo>
                <a:lnTo>
                  <a:pt x="355396" y="703418"/>
                </a:lnTo>
                <a:lnTo>
                  <a:pt x="344563" y="701033"/>
                </a:lnTo>
                <a:lnTo>
                  <a:pt x="333993" y="698913"/>
                </a:lnTo>
                <a:lnTo>
                  <a:pt x="322895" y="697587"/>
                </a:lnTo>
                <a:lnTo>
                  <a:pt x="311797" y="696527"/>
                </a:lnTo>
                <a:lnTo>
                  <a:pt x="300700" y="696262"/>
                </a:lnTo>
                <a:close/>
                <a:moveTo>
                  <a:pt x="1157546" y="614362"/>
                </a:moveTo>
                <a:lnTo>
                  <a:pt x="1165490" y="614362"/>
                </a:lnTo>
                <a:lnTo>
                  <a:pt x="1173170" y="614362"/>
                </a:lnTo>
                <a:lnTo>
                  <a:pt x="1180849" y="614627"/>
                </a:lnTo>
                <a:lnTo>
                  <a:pt x="1188794" y="615157"/>
                </a:lnTo>
                <a:lnTo>
                  <a:pt x="1196209" y="615687"/>
                </a:lnTo>
                <a:lnTo>
                  <a:pt x="1203888" y="616483"/>
                </a:lnTo>
                <a:lnTo>
                  <a:pt x="1211303" y="617808"/>
                </a:lnTo>
                <a:lnTo>
                  <a:pt x="1218718" y="618868"/>
                </a:lnTo>
                <a:lnTo>
                  <a:pt x="1226133" y="620193"/>
                </a:lnTo>
                <a:lnTo>
                  <a:pt x="1233283" y="622049"/>
                </a:lnTo>
                <a:lnTo>
                  <a:pt x="1240698" y="623639"/>
                </a:lnTo>
                <a:lnTo>
                  <a:pt x="1247848" y="625759"/>
                </a:lnTo>
                <a:lnTo>
                  <a:pt x="1254998" y="627615"/>
                </a:lnTo>
                <a:lnTo>
                  <a:pt x="1261883" y="630000"/>
                </a:lnTo>
                <a:lnTo>
                  <a:pt x="1269033" y="632386"/>
                </a:lnTo>
                <a:lnTo>
                  <a:pt x="1275918" y="635036"/>
                </a:lnTo>
                <a:lnTo>
                  <a:pt x="1282803" y="637687"/>
                </a:lnTo>
                <a:lnTo>
                  <a:pt x="1289159" y="640867"/>
                </a:lnTo>
                <a:lnTo>
                  <a:pt x="1295779" y="643783"/>
                </a:lnTo>
                <a:lnTo>
                  <a:pt x="1302400" y="647228"/>
                </a:lnTo>
                <a:lnTo>
                  <a:pt x="1309020" y="650674"/>
                </a:lnTo>
                <a:lnTo>
                  <a:pt x="1315376" y="654119"/>
                </a:lnTo>
                <a:lnTo>
                  <a:pt x="1321466" y="657830"/>
                </a:lnTo>
                <a:lnTo>
                  <a:pt x="1327557" y="661806"/>
                </a:lnTo>
                <a:lnTo>
                  <a:pt x="1333913" y="665517"/>
                </a:lnTo>
                <a:lnTo>
                  <a:pt x="1339474" y="669757"/>
                </a:lnTo>
                <a:lnTo>
                  <a:pt x="1345565" y="673998"/>
                </a:lnTo>
                <a:lnTo>
                  <a:pt x="1351391" y="678239"/>
                </a:lnTo>
                <a:lnTo>
                  <a:pt x="1356952" y="683010"/>
                </a:lnTo>
                <a:lnTo>
                  <a:pt x="1362513" y="687516"/>
                </a:lnTo>
                <a:lnTo>
                  <a:pt x="1367809" y="692286"/>
                </a:lnTo>
                <a:lnTo>
                  <a:pt x="1373370" y="697587"/>
                </a:lnTo>
                <a:lnTo>
                  <a:pt x="1378402" y="702358"/>
                </a:lnTo>
                <a:lnTo>
                  <a:pt x="1383433" y="707394"/>
                </a:lnTo>
                <a:lnTo>
                  <a:pt x="1388465" y="712960"/>
                </a:lnTo>
                <a:lnTo>
                  <a:pt x="1392967" y="718261"/>
                </a:lnTo>
                <a:lnTo>
                  <a:pt x="1397998" y="723827"/>
                </a:lnTo>
                <a:lnTo>
                  <a:pt x="1402500" y="729658"/>
                </a:lnTo>
                <a:lnTo>
                  <a:pt x="1406737" y="735224"/>
                </a:lnTo>
                <a:lnTo>
                  <a:pt x="1410974" y="741055"/>
                </a:lnTo>
                <a:lnTo>
                  <a:pt x="1414946" y="746886"/>
                </a:lnTo>
                <a:lnTo>
                  <a:pt x="1418919" y="752983"/>
                </a:lnTo>
                <a:lnTo>
                  <a:pt x="1423156" y="759344"/>
                </a:lnTo>
                <a:lnTo>
                  <a:pt x="1426863" y="765705"/>
                </a:lnTo>
                <a:lnTo>
                  <a:pt x="1430306" y="771801"/>
                </a:lnTo>
                <a:lnTo>
                  <a:pt x="1433483" y="778427"/>
                </a:lnTo>
                <a:lnTo>
                  <a:pt x="1436926" y="785053"/>
                </a:lnTo>
                <a:lnTo>
                  <a:pt x="1439839" y="791680"/>
                </a:lnTo>
                <a:lnTo>
                  <a:pt x="1443017" y="798306"/>
                </a:lnTo>
                <a:lnTo>
                  <a:pt x="1445665" y="804932"/>
                </a:lnTo>
                <a:lnTo>
                  <a:pt x="1448578" y="811823"/>
                </a:lnTo>
                <a:lnTo>
                  <a:pt x="1450696" y="818980"/>
                </a:lnTo>
                <a:lnTo>
                  <a:pt x="1453080" y="825871"/>
                </a:lnTo>
                <a:lnTo>
                  <a:pt x="1455463" y="833027"/>
                </a:lnTo>
                <a:lnTo>
                  <a:pt x="1457052" y="840183"/>
                </a:lnTo>
                <a:lnTo>
                  <a:pt x="1459171" y="847605"/>
                </a:lnTo>
                <a:lnTo>
                  <a:pt x="1460495" y="854761"/>
                </a:lnTo>
                <a:lnTo>
                  <a:pt x="1461819" y="862182"/>
                </a:lnTo>
                <a:lnTo>
                  <a:pt x="1463143" y="869604"/>
                </a:lnTo>
                <a:lnTo>
                  <a:pt x="1464202" y="877555"/>
                </a:lnTo>
                <a:lnTo>
                  <a:pt x="1464997" y="884977"/>
                </a:lnTo>
                <a:lnTo>
                  <a:pt x="1465791" y="892663"/>
                </a:lnTo>
                <a:lnTo>
                  <a:pt x="1466321" y="900349"/>
                </a:lnTo>
                <a:lnTo>
                  <a:pt x="1466585" y="908036"/>
                </a:lnTo>
                <a:lnTo>
                  <a:pt x="1466850" y="915722"/>
                </a:lnTo>
                <a:lnTo>
                  <a:pt x="1466585" y="923674"/>
                </a:lnTo>
                <a:lnTo>
                  <a:pt x="1466321" y="931625"/>
                </a:lnTo>
                <a:lnTo>
                  <a:pt x="1465791" y="939046"/>
                </a:lnTo>
                <a:lnTo>
                  <a:pt x="1464997" y="946733"/>
                </a:lnTo>
                <a:lnTo>
                  <a:pt x="1464202" y="954419"/>
                </a:lnTo>
                <a:lnTo>
                  <a:pt x="1463143" y="961841"/>
                </a:lnTo>
                <a:lnTo>
                  <a:pt x="1461819" y="969262"/>
                </a:lnTo>
                <a:lnTo>
                  <a:pt x="1460495" y="976683"/>
                </a:lnTo>
                <a:lnTo>
                  <a:pt x="1459171" y="984105"/>
                </a:lnTo>
                <a:lnTo>
                  <a:pt x="1457052" y="991261"/>
                </a:lnTo>
                <a:lnTo>
                  <a:pt x="1455463" y="998417"/>
                </a:lnTo>
                <a:lnTo>
                  <a:pt x="1453080" y="1005574"/>
                </a:lnTo>
                <a:lnTo>
                  <a:pt x="1450696" y="1012730"/>
                </a:lnTo>
                <a:lnTo>
                  <a:pt x="1448578" y="1019621"/>
                </a:lnTo>
                <a:lnTo>
                  <a:pt x="1445665" y="1026512"/>
                </a:lnTo>
                <a:lnTo>
                  <a:pt x="1443017" y="1033404"/>
                </a:lnTo>
                <a:lnTo>
                  <a:pt x="1439839" y="1040295"/>
                </a:lnTo>
                <a:lnTo>
                  <a:pt x="1436926" y="1046921"/>
                </a:lnTo>
                <a:lnTo>
                  <a:pt x="1433483" y="1053282"/>
                </a:lnTo>
                <a:lnTo>
                  <a:pt x="1430306" y="1059643"/>
                </a:lnTo>
                <a:lnTo>
                  <a:pt x="1426863" y="1066270"/>
                </a:lnTo>
                <a:lnTo>
                  <a:pt x="1423156" y="1072631"/>
                </a:lnTo>
                <a:lnTo>
                  <a:pt x="1418919" y="1078462"/>
                </a:lnTo>
                <a:lnTo>
                  <a:pt x="1414946" y="1084558"/>
                </a:lnTo>
                <a:lnTo>
                  <a:pt x="1410974" y="1090654"/>
                </a:lnTo>
                <a:lnTo>
                  <a:pt x="1406737" y="1096485"/>
                </a:lnTo>
                <a:lnTo>
                  <a:pt x="1402500" y="1102316"/>
                </a:lnTo>
                <a:lnTo>
                  <a:pt x="1397998" y="1107882"/>
                </a:lnTo>
                <a:lnTo>
                  <a:pt x="1392967" y="1113448"/>
                </a:lnTo>
                <a:lnTo>
                  <a:pt x="1388465" y="1118749"/>
                </a:lnTo>
                <a:lnTo>
                  <a:pt x="1383433" y="1124050"/>
                </a:lnTo>
                <a:lnTo>
                  <a:pt x="1378402" y="1129086"/>
                </a:lnTo>
                <a:lnTo>
                  <a:pt x="1373370" y="1134387"/>
                </a:lnTo>
                <a:lnTo>
                  <a:pt x="1367809" y="1139158"/>
                </a:lnTo>
                <a:lnTo>
                  <a:pt x="1362513" y="1143929"/>
                </a:lnTo>
                <a:lnTo>
                  <a:pt x="1356952" y="1148965"/>
                </a:lnTo>
                <a:lnTo>
                  <a:pt x="1351391" y="1153205"/>
                </a:lnTo>
                <a:lnTo>
                  <a:pt x="1345565" y="1157711"/>
                </a:lnTo>
                <a:lnTo>
                  <a:pt x="1339474" y="1161952"/>
                </a:lnTo>
                <a:lnTo>
                  <a:pt x="1333913" y="1166193"/>
                </a:lnTo>
                <a:lnTo>
                  <a:pt x="1327557" y="1170169"/>
                </a:lnTo>
                <a:lnTo>
                  <a:pt x="1321466" y="1174144"/>
                </a:lnTo>
                <a:lnTo>
                  <a:pt x="1315376" y="1177855"/>
                </a:lnTo>
                <a:lnTo>
                  <a:pt x="1309020" y="1181301"/>
                </a:lnTo>
                <a:lnTo>
                  <a:pt x="1302400" y="1184746"/>
                </a:lnTo>
                <a:lnTo>
                  <a:pt x="1295779" y="1187927"/>
                </a:lnTo>
                <a:lnTo>
                  <a:pt x="1289159" y="1190842"/>
                </a:lnTo>
                <a:lnTo>
                  <a:pt x="1282803" y="1193758"/>
                </a:lnTo>
                <a:lnTo>
                  <a:pt x="1275918" y="1196673"/>
                </a:lnTo>
                <a:lnTo>
                  <a:pt x="1269033" y="1199324"/>
                </a:lnTo>
                <a:lnTo>
                  <a:pt x="1261883" y="1201974"/>
                </a:lnTo>
                <a:lnTo>
                  <a:pt x="1254998" y="1204095"/>
                </a:lnTo>
                <a:lnTo>
                  <a:pt x="1247848" y="1206215"/>
                </a:lnTo>
                <a:lnTo>
                  <a:pt x="1240698" y="1208070"/>
                </a:lnTo>
                <a:lnTo>
                  <a:pt x="1233283" y="1209926"/>
                </a:lnTo>
                <a:lnTo>
                  <a:pt x="1226133" y="1211516"/>
                </a:lnTo>
                <a:lnTo>
                  <a:pt x="1218718" y="1213106"/>
                </a:lnTo>
                <a:lnTo>
                  <a:pt x="1211303" y="1214167"/>
                </a:lnTo>
                <a:lnTo>
                  <a:pt x="1203888" y="1215227"/>
                </a:lnTo>
                <a:lnTo>
                  <a:pt x="1196209" y="1216022"/>
                </a:lnTo>
                <a:lnTo>
                  <a:pt x="1188794" y="1216817"/>
                </a:lnTo>
                <a:lnTo>
                  <a:pt x="1180849" y="1217347"/>
                </a:lnTo>
                <a:lnTo>
                  <a:pt x="1173170" y="1217612"/>
                </a:lnTo>
                <a:lnTo>
                  <a:pt x="1165490" y="1217612"/>
                </a:lnTo>
                <a:lnTo>
                  <a:pt x="1157546" y="1217612"/>
                </a:lnTo>
                <a:lnTo>
                  <a:pt x="1149866" y="1217347"/>
                </a:lnTo>
                <a:lnTo>
                  <a:pt x="1142186" y="1216817"/>
                </a:lnTo>
                <a:lnTo>
                  <a:pt x="1134771" y="1216022"/>
                </a:lnTo>
                <a:lnTo>
                  <a:pt x="1126827" y="1215227"/>
                </a:lnTo>
                <a:lnTo>
                  <a:pt x="1119412" y="1214167"/>
                </a:lnTo>
                <a:lnTo>
                  <a:pt x="1111997" y="1213106"/>
                </a:lnTo>
                <a:lnTo>
                  <a:pt x="1104582" y="1211516"/>
                </a:lnTo>
                <a:lnTo>
                  <a:pt x="1097168" y="1209926"/>
                </a:lnTo>
                <a:lnTo>
                  <a:pt x="1090018" y="1208070"/>
                </a:lnTo>
                <a:lnTo>
                  <a:pt x="1082868" y="1206215"/>
                </a:lnTo>
                <a:lnTo>
                  <a:pt x="1075718" y="1204095"/>
                </a:lnTo>
                <a:lnTo>
                  <a:pt x="1068568" y="1201974"/>
                </a:lnTo>
                <a:lnTo>
                  <a:pt x="1061682" y="1199324"/>
                </a:lnTo>
                <a:lnTo>
                  <a:pt x="1054797" y="1196673"/>
                </a:lnTo>
                <a:lnTo>
                  <a:pt x="1048177" y="1193758"/>
                </a:lnTo>
                <a:lnTo>
                  <a:pt x="1041292" y="1190842"/>
                </a:lnTo>
                <a:lnTo>
                  <a:pt x="1034671" y="1187927"/>
                </a:lnTo>
                <a:lnTo>
                  <a:pt x="1028051" y="1184746"/>
                </a:lnTo>
                <a:lnTo>
                  <a:pt x="1021695" y="1181301"/>
                </a:lnTo>
                <a:lnTo>
                  <a:pt x="1015075" y="1177855"/>
                </a:lnTo>
                <a:lnTo>
                  <a:pt x="1009249" y="1174144"/>
                </a:lnTo>
                <a:lnTo>
                  <a:pt x="1002893" y="1170169"/>
                </a:lnTo>
                <a:lnTo>
                  <a:pt x="996803" y="1166193"/>
                </a:lnTo>
                <a:lnTo>
                  <a:pt x="990977" y="1161952"/>
                </a:lnTo>
                <a:lnTo>
                  <a:pt x="984886" y="1157711"/>
                </a:lnTo>
                <a:lnTo>
                  <a:pt x="979060" y="1153205"/>
                </a:lnTo>
                <a:lnTo>
                  <a:pt x="973499" y="1148965"/>
                </a:lnTo>
                <a:lnTo>
                  <a:pt x="967938" y="1143929"/>
                </a:lnTo>
                <a:lnTo>
                  <a:pt x="962641" y="1139158"/>
                </a:lnTo>
                <a:lnTo>
                  <a:pt x="957345" y="1134387"/>
                </a:lnTo>
                <a:lnTo>
                  <a:pt x="952049" y="1129351"/>
                </a:lnTo>
                <a:lnTo>
                  <a:pt x="947282" y="1124050"/>
                </a:lnTo>
                <a:lnTo>
                  <a:pt x="941986" y="1118749"/>
                </a:lnTo>
                <a:lnTo>
                  <a:pt x="937484" y="1113448"/>
                </a:lnTo>
                <a:lnTo>
                  <a:pt x="932452" y="1107882"/>
                </a:lnTo>
                <a:lnTo>
                  <a:pt x="927950" y="1102316"/>
                </a:lnTo>
                <a:lnTo>
                  <a:pt x="923713" y="1096485"/>
                </a:lnTo>
                <a:lnTo>
                  <a:pt x="919476" y="1090654"/>
                </a:lnTo>
                <a:lnTo>
                  <a:pt x="915504" y="1084558"/>
                </a:lnTo>
                <a:lnTo>
                  <a:pt x="911532" y="1078462"/>
                </a:lnTo>
                <a:lnTo>
                  <a:pt x="907560" y="1072631"/>
                </a:lnTo>
                <a:lnTo>
                  <a:pt x="903587" y="1066270"/>
                </a:lnTo>
                <a:lnTo>
                  <a:pt x="900410" y="1059643"/>
                </a:lnTo>
                <a:lnTo>
                  <a:pt x="896967" y="1053282"/>
                </a:lnTo>
                <a:lnTo>
                  <a:pt x="893524" y="1046921"/>
                </a:lnTo>
                <a:lnTo>
                  <a:pt x="890347" y="1040295"/>
                </a:lnTo>
                <a:lnTo>
                  <a:pt x="887434" y="1033404"/>
                </a:lnTo>
                <a:lnTo>
                  <a:pt x="884521" y="1026512"/>
                </a:lnTo>
                <a:lnTo>
                  <a:pt x="881873" y="1019621"/>
                </a:lnTo>
                <a:lnTo>
                  <a:pt x="879754" y="1012730"/>
                </a:lnTo>
                <a:lnTo>
                  <a:pt x="877371" y="1005574"/>
                </a:lnTo>
                <a:lnTo>
                  <a:pt x="875252" y="998417"/>
                </a:lnTo>
                <a:lnTo>
                  <a:pt x="873134" y="991261"/>
                </a:lnTo>
                <a:lnTo>
                  <a:pt x="871545" y="984105"/>
                </a:lnTo>
                <a:lnTo>
                  <a:pt x="869956" y="976683"/>
                </a:lnTo>
                <a:lnTo>
                  <a:pt x="868632" y="969262"/>
                </a:lnTo>
                <a:lnTo>
                  <a:pt x="867043" y="961841"/>
                </a:lnTo>
                <a:lnTo>
                  <a:pt x="866248" y="954419"/>
                </a:lnTo>
                <a:lnTo>
                  <a:pt x="865454" y="946733"/>
                </a:lnTo>
                <a:lnTo>
                  <a:pt x="864660" y="939311"/>
                </a:lnTo>
                <a:lnTo>
                  <a:pt x="864395" y="931625"/>
                </a:lnTo>
                <a:lnTo>
                  <a:pt x="863600" y="923674"/>
                </a:lnTo>
                <a:lnTo>
                  <a:pt x="863600" y="915722"/>
                </a:lnTo>
                <a:lnTo>
                  <a:pt x="863600" y="908036"/>
                </a:lnTo>
                <a:lnTo>
                  <a:pt x="864395" y="900349"/>
                </a:lnTo>
                <a:lnTo>
                  <a:pt x="864660" y="892663"/>
                </a:lnTo>
                <a:lnTo>
                  <a:pt x="865454" y="884977"/>
                </a:lnTo>
                <a:lnTo>
                  <a:pt x="866248" y="877555"/>
                </a:lnTo>
                <a:lnTo>
                  <a:pt x="867043" y="869604"/>
                </a:lnTo>
                <a:lnTo>
                  <a:pt x="868632" y="862182"/>
                </a:lnTo>
                <a:lnTo>
                  <a:pt x="869956" y="854761"/>
                </a:lnTo>
                <a:lnTo>
                  <a:pt x="871545" y="847605"/>
                </a:lnTo>
                <a:lnTo>
                  <a:pt x="873134" y="840183"/>
                </a:lnTo>
                <a:lnTo>
                  <a:pt x="875252" y="833027"/>
                </a:lnTo>
                <a:lnTo>
                  <a:pt x="877371" y="825871"/>
                </a:lnTo>
                <a:lnTo>
                  <a:pt x="879754" y="818980"/>
                </a:lnTo>
                <a:lnTo>
                  <a:pt x="881873" y="811823"/>
                </a:lnTo>
                <a:lnTo>
                  <a:pt x="884521" y="804932"/>
                </a:lnTo>
                <a:lnTo>
                  <a:pt x="887434" y="798306"/>
                </a:lnTo>
                <a:lnTo>
                  <a:pt x="890347" y="791680"/>
                </a:lnTo>
                <a:lnTo>
                  <a:pt x="893524" y="785053"/>
                </a:lnTo>
                <a:lnTo>
                  <a:pt x="896967" y="778427"/>
                </a:lnTo>
                <a:lnTo>
                  <a:pt x="900410" y="771801"/>
                </a:lnTo>
                <a:lnTo>
                  <a:pt x="903587" y="765705"/>
                </a:lnTo>
                <a:lnTo>
                  <a:pt x="907560" y="759344"/>
                </a:lnTo>
                <a:lnTo>
                  <a:pt x="911532" y="752983"/>
                </a:lnTo>
                <a:lnTo>
                  <a:pt x="915504" y="746886"/>
                </a:lnTo>
                <a:lnTo>
                  <a:pt x="919476" y="741055"/>
                </a:lnTo>
                <a:lnTo>
                  <a:pt x="923713" y="735224"/>
                </a:lnTo>
                <a:lnTo>
                  <a:pt x="927950" y="729658"/>
                </a:lnTo>
                <a:lnTo>
                  <a:pt x="932452" y="723827"/>
                </a:lnTo>
                <a:lnTo>
                  <a:pt x="937484" y="718261"/>
                </a:lnTo>
                <a:lnTo>
                  <a:pt x="941986" y="712960"/>
                </a:lnTo>
                <a:lnTo>
                  <a:pt x="947282" y="707394"/>
                </a:lnTo>
                <a:lnTo>
                  <a:pt x="952049" y="702358"/>
                </a:lnTo>
                <a:lnTo>
                  <a:pt x="957345" y="697587"/>
                </a:lnTo>
                <a:lnTo>
                  <a:pt x="962641" y="692286"/>
                </a:lnTo>
                <a:lnTo>
                  <a:pt x="967938" y="687781"/>
                </a:lnTo>
                <a:lnTo>
                  <a:pt x="973499" y="683010"/>
                </a:lnTo>
                <a:lnTo>
                  <a:pt x="979060" y="678239"/>
                </a:lnTo>
                <a:lnTo>
                  <a:pt x="984886" y="673998"/>
                </a:lnTo>
                <a:lnTo>
                  <a:pt x="990977" y="669757"/>
                </a:lnTo>
                <a:lnTo>
                  <a:pt x="996803" y="665782"/>
                </a:lnTo>
                <a:lnTo>
                  <a:pt x="1002893" y="661806"/>
                </a:lnTo>
                <a:lnTo>
                  <a:pt x="1009249" y="657830"/>
                </a:lnTo>
                <a:lnTo>
                  <a:pt x="1015075" y="654119"/>
                </a:lnTo>
                <a:lnTo>
                  <a:pt x="1021695" y="650674"/>
                </a:lnTo>
                <a:lnTo>
                  <a:pt x="1028051" y="647228"/>
                </a:lnTo>
                <a:lnTo>
                  <a:pt x="1034671" y="643783"/>
                </a:lnTo>
                <a:lnTo>
                  <a:pt x="1041292" y="640867"/>
                </a:lnTo>
                <a:lnTo>
                  <a:pt x="1048177" y="637687"/>
                </a:lnTo>
                <a:lnTo>
                  <a:pt x="1054797" y="635036"/>
                </a:lnTo>
                <a:lnTo>
                  <a:pt x="1061682" y="632386"/>
                </a:lnTo>
                <a:lnTo>
                  <a:pt x="1068568" y="630000"/>
                </a:lnTo>
                <a:lnTo>
                  <a:pt x="1075718" y="627615"/>
                </a:lnTo>
                <a:lnTo>
                  <a:pt x="1082868" y="625759"/>
                </a:lnTo>
                <a:lnTo>
                  <a:pt x="1090018" y="623639"/>
                </a:lnTo>
                <a:lnTo>
                  <a:pt x="1097168" y="622049"/>
                </a:lnTo>
                <a:lnTo>
                  <a:pt x="1104582" y="620193"/>
                </a:lnTo>
                <a:lnTo>
                  <a:pt x="1111997" y="618868"/>
                </a:lnTo>
                <a:lnTo>
                  <a:pt x="1119412" y="617808"/>
                </a:lnTo>
                <a:lnTo>
                  <a:pt x="1126827" y="616483"/>
                </a:lnTo>
                <a:lnTo>
                  <a:pt x="1134771" y="615687"/>
                </a:lnTo>
                <a:lnTo>
                  <a:pt x="1142186" y="615157"/>
                </a:lnTo>
                <a:lnTo>
                  <a:pt x="1149866" y="614627"/>
                </a:lnTo>
                <a:lnTo>
                  <a:pt x="1157546" y="614362"/>
                </a:lnTo>
                <a:close/>
                <a:moveTo>
                  <a:pt x="292773" y="614362"/>
                </a:moveTo>
                <a:lnTo>
                  <a:pt x="300700" y="614362"/>
                </a:lnTo>
                <a:lnTo>
                  <a:pt x="308362" y="614362"/>
                </a:lnTo>
                <a:lnTo>
                  <a:pt x="316025" y="614627"/>
                </a:lnTo>
                <a:lnTo>
                  <a:pt x="323688" y="615157"/>
                </a:lnTo>
                <a:lnTo>
                  <a:pt x="331351" y="615687"/>
                </a:lnTo>
                <a:lnTo>
                  <a:pt x="339014" y="616483"/>
                </a:lnTo>
                <a:lnTo>
                  <a:pt x="346412" y="617808"/>
                </a:lnTo>
                <a:lnTo>
                  <a:pt x="354075" y="618868"/>
                </a:lnTo>
                <a:lnTo>
                  <a:pt x="361209" y="620193"/>
                </a:lnTo>
                <a:lnTo>
                  <a:pt x="368608" y="622049"/>
                </a:lnTo>
                <a:lnTo>
                  <a:pt x="375742" y="623639"/>
                </a:lnTo>
                <a:lnTo>
                  <a:pt x="383141" y="625759"/>
                </a:lnTo>
                <a:lnTo>
                  <a:pt x="390275" y="627615"/>
                </a:lnTo>
                <a:lnTo>
                  <a:pt x="397145" y="630000"/>
                </a:lnTo>
                <a:lnTo>
                  <a:pt x="404280" y="632386"/>
                </a:lnTo>
                <a:lnTo>
                  <a:pt x="411150" y="635036"/>
                </a:lnTo>
                <a:lnTo>
                  <a:pt x="418020" y="637687"/>
                </a:lnTo>
                <a:lnTo>
                  <a:pt x="424362" y="640867"/>
                </a:lnTo>
                <a:lnTo>
                  <a:pt x="430967" y="643783"/>
                </a:lnTo>
                <a:lnTo>
                  <a:pt x="437573" y="647228"/>
                </a:lnTo>
                <a:lnTo>
                  <a:pt x="444179" y="650674"/>
                </a:lnTo>
                <a:lnTo>
                  <a:pt x="450521" y="654119"/>
                </a:lnTo>
                <a:lnTo>
                  <a:pt x="456598" y="657830"/>
                </a:lnTo>
                <a:lnTo>
                  <a:pt x="462940" y="661806"/>
                </a:lnTo>
                <a:lnTo>
                  <a:pt x="469017" y="665782"/>
                </a:lnTo>
                <a:lnTo>
                  <a:pt x="474830" y="669757"/>
                </a:lnTo>
                <a:lnTo>
                  <a:pt x="480644" y="673998"/>
                </a:lnTo>
                <a:lnTo>
                  <a:pt x="486457" y="678239"/>
                </a:lnTo>
                <a:lnTo>
                  <a:pt x="492006" y="683010"/>
                </a:lnTo>
                <a:lnTo>
                  <a:pt x="497555" y="687781"/>
                </a:lnTo>
                <a:lnTo>
                  <a:pt x="502839" y="692286"/>
                </a:lnTo>
                <a:lnTo>
                  <a:pt x="508388" y="697587"/>
                </a:lnTo>
                <a:lnTo>
                  <a:pt x="513409" y="702358"/>
                </a:lnTo>
                <a:lnTo>
                  <a:pt x="518693" y="707394"/>
                </a:lnTo>
                <a:lnTo>
                  <a:pt x="523450" y="712960"/>
                </a:lnTo>
                <a:lnTo>
                  <a:pt x="528206" y="718261"/>
                </a:lnTo>
                <a:lnTo>
                  <a:pt x="532698" y="723827"/>
                </a:lnTo>
                <a:lnTo>
                  <a:pt x="537454" y="729658"/>
                </a:lnTo>
                <a:lnTo>
                  <a:pt x="541682" y="735224"/>
                </a:lnTo>
                <a:lnTo>
                  <a:pt x="545910" y="741055"/>
                </a:lnTo>
                <a:lnTo>
                  <a:pt x="550137" y="746886"/>
                </a:lnTo>
                <a:lnTo>
                  <a:pt x="554101" y="753248"/>
                </a:lnTo>
                <a:lnTo>
                  <a:pt x="557800" y="759344"/>
                </a:lnTo>
                <a:lnTo>
                  <a:pt x="561500" y="765705"/>
                </a:lnTo>
                <a:lnTo>
                  <a:pt x="565463" y="771801"/>
                </a:lnTo>
                <a:lnTo>
                  <a:pt x="568634" y="778427"/>
                </a:lnTo>
                <a:lnTo>
                  <a:pt x="571805" y="785053"/>
                </a:lnTo>
                <a:lnTo>
                  <a:pt x="574975" y="791680"/>
                </a:lnTo>
                <a:lnTo>
                  <a:pt x="577882" y="798306"/>
                </a:lnTo>
                <a:lnTo>
                  <a:pt x="580789" y="804932"/>
                </a:lnTo>
                <a:lnTo>
                  <a:pt x="583431" y="811823"/>
                </a:lnTo>
                <a:lnTo>
                  <a:pt x="585809" y="818980"/>
                </a:lnTo>
                <a:lnTo>
                  <a:pt x="588187" y="825871"/>
                </a:lnTo>
                <a:lnTo>
                  <a:pt x="590037" y="833027"/>
                </a:lnTo>
                <a:lnTo>
                  <a:pt x="592151" y="840183"/>
                </a:lnTo>
                <a:lnTo>
                  <a:pt x="593736" y="847605"/>
                </a:lnTo>
                <a:lnTo>
                  <a:pt x="595586" y="855026"/>
                </a:lnTo>
                <a:lnTo>
                  <a:pt x="596907" y="862182"/>
                </a:lnTo>
                <a:lnTo>
                  <a:pt x="598228" y="869604"/>
                </a:lnTo>
                <a:lnTo>
                  <a:pt x="599285" y="877555"/>
                </a:lnTo>
                <a:lnTo>
                  <a:pt x="600078" y="884977"/>
                </a:lnTo>
                <a:lnTo>
                  <a:pt x="600606" y="892663"/>
                </a:lnTo>
                <a:lnTo>
                  <a:pt x="601135" y="900349"/>
                </a:lnTo>
                <a:lnTo>
                  <a:pt x="601663" y="908036"/>
                </a:lnTo>
                <a:lnTo>
                  <a:pt x="601663" y="915722"/>
                </a:lnTo>
                <a:lnTo>
                  <a:pt x="601663" y="923409"/>
                </a:lnTo>
                <a:lnTo>
                  <a:pt x="601135" y="931625"/>
                </a:lnTo>
                <a:lnTo>
                  <a:pt x="600606" y="939046"/>
                </a:lnTo>
                <a:lnTo>
                  <a:pt x="600078" y="946733"/>
                </a:lnTo>
                <a:lnTo>
                  <a:pt x="599285" y="954419"/>
                </a:lnTo>
                <a:lnTo>
                  <a:pt x="598228" y="961841"/>
                </a:lnTo>
                <a:lnTo>
                  <a:pt x="596907" y="969262"/>
                </a:lnTo>
                <a:lnTo>
                  <a:pt x="595586" y="976683"/>
                </a:lnTo>
                <a:lnTo>
                  <a:pt x="593736" y="984105"/>
                </a:lnTo>
                <a:lnTo>
                  <a:pt x="592151" y="991261"/>
                </a:lnTo>
                <a:lnTo>
                  <a:pt x="590037" y="998417"/>
                </a:lnTo>
                <a:lnTo>
                  <a:pt x="588187" y="1005574"/>
                </a:lnTo>
                <a:lnTo>
                  <a:pt x="585809" y="1012730"/>
                </a:lnTo>
                <a:lnTo>
                  <a:pt x="583431" y="1019621"/>
                </a:lnTo>
                <a:lnTo>
                  <a:pt x="580789" y="1026512"/>
                </a:lnTo>
                <a:lnTo>
                  <a:pt x="577882" y="1033404"/>
                </a:lnTo>
                <a:lnTo>
                  <a:pt x="574975" y="1040295"/>
                </a:lnTo>
                <a:lnTo>
                  <a:pt x="571805" y="1046921"/>
                </a:lnTo>
                <a:lnTo>
                  <a:pt x="568634" y="1053282"/>
                </a:lnTo>
                <a:lnTo>
                  <a:pt x="565463" y="1059643"/>
                </a:lnTo>
                <a:lnTo>
                  <a:pt x="561500" y="1066270"/>
                </a:lnTo>
                <a:lnTo>
                  <a:pt x="557800" y="1072631"/>
                </a:lnTo>
                <a:lnTo>
                  <a:pt x="554101" y="1078462"/>
                </a:lnTo>
                <a:lnTo>
                  <a:pt x="550137" y="1084558"/>
                </a:lnTo>
                <a:lnTo>
                  <a:pt x="545910" y="1090654"/>
                </a:lnTo>
                <a:lnTo>
                  <a:pt x="541682" y="1096485"/>
                </a:lnTo>
                <a:lnTo>
                  <a:pt x="537454" y="1102316"/>
                </a:lnTo>
                <a:lnTo>
                  <a:pt x="532698" y="1107882"/>
                </a:lnTo>
                <a:lnTo>
                  <a:pt x="528206" y="1113448"/>
                </a:lnTo>
                <a:lnTo>
                  <a:pt x="523450" y="1118749"/>
                </a:lnTo>
                <a:lnTo>
                  <a:pt x="518693" y="1124050"/>
                </a:lnTo>
                <a:lnTo>
                  <a:pt x="513409" y="1129086"/>
                </a:lnTo>
                <a:lnTo>
                  <a:pt x="508388" y="1134387"/>
                </a:lnTo>
                <a:lnTo>
                  <a:pt x="502839" y="1139158"/>
                </a:lnTo>
                <a:lnTo>
                  <a:pt x="497555" y="1143929"/>
                </a:lnTo>
                <a:lnTo>
                  <a:pt x="492006" y="1148965"/>
                </a:lnTo>
                <a:lnTo>
                  <a:pt x="486457" y="1153205"/>
                </a:lnTo>
                <a:lnTo>
                  <a:pt x="480644" y="1157711"/>
                </a:lnTo>
                <a:lnTo>
                  <a:pt x="474830" y="1161952"/>
                </a:lnTo>
                <a:lnTo>
                  <a:pt x="469017" y="1166193"/>
                </a:lnTo>
                <a:lnTo>
                  <a:pt x="462940" y="1170169"/>
                </a:lnTo>
                <a:lnTo>
                  <a:pt x="456598" y="1174144"/>
                </a:lnTo>
                <a:lnTo>
                  <a:pt x="450521" y="1177855"/>
                </a:lnTo>
                <a:lnTo>
                  <a:pt x="444179" y="1181301"/>
                </a:lnTo>
                <a:lnTo>
                  <a:pt x="437573" y="1184746"/>
                </a:lnTo>
                <a:lnTo>
                  <a:pt x="430967" y="1187927"/>
                </a:lnTo>
                <a:lnTo>
                  <a:pt x="424362" y="1190842"/>
                </a:lnTo>
                <a:lnTo>
                  <a:pt x="418020" y="1193758"/>
                </a:lnTo>
                <a:lnTo>
                  <a:pt x="411150" y="1196673"/>
                </a:lnTo>
                <a:lnTo>
                  <a:pt x="404280" y="1199324"/>
                </a:lnTo>
                <a:lnTo>
                  <a:pt x="397145" y="1201974"/>
                </a:lnTo>
                <a:lnTo>
                  <a:pt x="390275" y="1204095"/>
                </a:lnTo>
                <a:lnTo>
                  <a:pt x="383141" y="1206215"/>
                </a:lnTo>
                <a:lnTo>
                  <a:pt x="375742" y="1208070"/>
                </a:lnTo>
                <a:lnTo>
                  <a:pt x="368608" y="1209926"/>
                </a:lnTo>
                <a:lnTo>
                  <a:pt x="361209" y="1211516"/>
                </a:lnTo>
                <a:lnTo>
                  <a:pt x="354075" y="1213106"/>
                </a:lnTo>
                <a:lnTo>
                  <a:pt x="346412" y="1214167"/>
                </a:lnTo>
                <a:lnTo>
                  <a:pt x="339014" y="1215227"/>
                </a:lnTo>
                <a:lnTo>
                  <a:pt x="331351" y="1216022"/>
                </a:lnTo>
                <a:lnTo>
                  <a:pt x="323688" y="1216817"/>
                </a:lnTo>
                <a:lnTo>
                  <a:pt x="316025" y="1217347"/>
                </a:lnTo>
                <a:lnTo>
                  <a:pt x="308362" y="1217612"/>
                </a:lnTo>
                <a:lnTo>
                  <a:pt x="300700" y="1217612"/>
                </a:lnTo>
                <a:lnTo>
                  <a:pt x="292773" y="1217612"/>
                </a:lnTo>
                <a:lnTo>
                  <a:pt x="285110" y="1217347"/>
                </a:lnTo>
                <a:lnTo>
                  <a:pt x="277447" y="1216817"/>
                </a:lnTo>
                <a:lnTo>
                  <a:pt x="269784" y="1216022"/>
                </a:lnTo>
                <a:lnTo>
                  <a:pt x="262386" y="1215227"/>
                </a:lnTo>
                <a:lnTo>
                  <a:pt x="254723" y="1214167"/>
                </a:lnTo>
                <a:lnTo>
                  <a:pt x="247324" y="1213106"/>
                </a:lnTo>
                <a:lnTo>
                  <a:pt x="240190" y="1211516"/>
                </a:lnTo>
                <a:lnTo>
                  <a:pt x="232791" y="1209926"/>
                </a:lnTo>
                <a:lnTo>
                  <a:pt x="225657" y="1208070"/>
                </a:lnTo>
                <a:lnTo>
                  <a:pt x="218258" y="1206215"/>
                </a:lnTo>
                <a:lnTo>
                  <a:pt x="211388" y="1204095"/>
                </a:lnTo>
                <a:lnTo>
                  <a:pt x="204254" y="1201974"/>
                </a:lnTo>
                <a:lnTo>
                  <a:pt x="197384" y="1199324"/>
                </a:lnTo>
                <a:lnTo>
                  <a:pt x="190514" y="1196673"/>
                </a:lnTo>
                <a:lnTo>
                  <a:pt x="183644" y="1193758"/>
                </a:lnTo>
                <a:lnTo>
                  <a:pt x="177038" y="1190842"/>
                </a:lnTo>
                <a:lnTo>
                  <a:pt x="170432" y="1187927"/>
                </a:lnTo>
                <a:lnTo>
                  <a:pt x="163826" y="1184746"/>
                </a:lnTo>
                <a:lnTo>
                  <a:pt x="157484" y="1181301"/>
                </a:lnTo>
                <a:lnTo>
                  <a:pt x="150878" y="1177855"/>
                </a:lnTo>
                <a:lnTo>
                  <a:pt x="145065" y="1174144"/>
                </a:lnTo>
                <a:lnTo>
                  <a:pt x="138724" y="1170169"/>
                </a:lnTo>
                <a:lnTo>
                  <a:pt x="132646" y="1166193"/>
                </a:lnTo>
                <a:lnTo>
                  <a:pt x="126833" y="1161952"/>
                </a:lnTo>
                <a:lnTo>
                  <a:pt x="120756" y="1157711"/>
                </a:lnTo>
                <a:lnTo>
                  <a:pt x="114942" y="1153205"/>
                </a:lnTo>
                <a:lnTo>
                  <a:pt x="109658" y="1148965"/>
                </a:lnTo>
                <a:lnTo>
                  <a:pt x="103845" y="1143929"/>
                </a:lnTo>
                <a:lnTo>
                  <a:pt x="98560" y="1139158"/>
                </a:lnTo>
                <a:lnTo>
                  <a:pt x="93275" y="1134387"/>
                </a:lnTo>
                <a:lnTo>
                  <a:pt x="88255" y="1129086"/>
                </a:lnTo>
                <a:lnTo>
                  <a:pt x="82970" y="1124050"/>
                </a:lnTo>
                <a:lnTo>
                  <a:pt x="78214" y="1118749"/>
                </a:lnTo>
                <a:lnTo>
                  <a:pt x="73458" y="1113448"/>
                </a:lnTo>
                <a:lnTo>
                  <a:pt x="68701" y="1107882"/>
                </a:lnTo>
                <a:lnTo>
                  <a:pt x="64209" y="1102316"/>
                </a:lnTo>
                <a:lnTo>
                  <a:pt x="59717" y="1096485"/>
                </a:lnTo>
                <a:lnTo>
                  <a:pt x="55490" y="1090654"/>
                </a:lnTo>
                <a:lnTo>
                  <a:pt x="51526" y="1084558"/>
                </a:lnTo>
                <a:lnTo>
                  <a:pt x="47563" y="1078462"/>
                </a:lnTo>
                <a:lnTo>
                  <a:pt x="43335" y="1072631"/>
                </a:lnTo>
                <a:lnTo>
                  <a:pt x="39635" y="1066270"/>
                </a:lnTo>
                <a:lnTo>
                  <a:pt x="36200" y="1059643"/>
                </a:lnTo>
                <a:lnTo>
                  <a:pt x="32765" y="1053282"/>
                </a:lnTo>
                <a:lnTo>
                  <a:pt x="29859" y="1046921"/>
                </a:lnTo>
                <a:lnTo>
                  <a:pt x="26688" y="1040295"/>
                </a:lnTo>
                <a:lnTo>
                  <a:pt x="23781" y="1033404"/>
                </a:lnTo>
                <a:lnTo>
                  <a:pt x="20875" y="1026512"/>
                </a:lnTo>
                <a:lnTo>
                  <a:pt x="18232" y="1019621"/>
                </a:lnTo>
                <a:lnTo>
                  <a:pt x="15854" y="1012730"/>
                </a:lnTo>
                <a:lnTo>
                  <a:pt x="13476" y="1005574"/>
                </a:lnTo>
                <a:lnTo>
                  <a:pt x="11627" y="998417"/>
                </a:lnTo>
                <a:lnTo>
                  <a:pt x="9513" y="991261"/>
                </a:lnTo>
                <a:lnTo>
                  <a:pt x="7663" y="984105"/>
                </a:lnTo>
                <a:lnTo>
                  <a:pt x="6078" y="976683"/>
                </a:lnTo>
                <a:lnTo>
                  <a:pt x="4756" y="969262"/>
                </a:lnTo>
                <a:lnTo>
                  <a:pt x="3435" y="961841"/>
                </a:lnTo>
                <a:lnTo>
                  <a:pt x="2378" y="954419"/>
                </a:lnTo>
                <a:lnTo>
                  <a:pt x="1586" y="946733"/>
                </a:lnTo>
                <a:lnTo>
                  <a:pt x="1057" y="939046"/>
                </a:lnTo>
                <a:lnTo>
                  <a:pt x="264" y="931625"/>
                </a:lnTo>
                <a:lnTo>
                  <a:pt x="0" y="923409"/>
                </a:lnTo>
                <a:lnTo>
                  <a:pt x="0" y="915722"/>
                </a:lnTo>
                <a:lnTo>
                  <a:pt x="0" y="908036"/>
                </a:lnTo>
                <a:lnTo>
                  <a:pt x="264" y="900349"/>
                </a:lnTo>
                <a:lnTo>
                  <a:pt x="1057" y="892663"/>
                </a:lnTo>
                <a:lnTo>
                  <a:pt x="1586" y="884977"/>
                </a:lnTo>
                <a:lnTo>
                  <a:pt x="2378" y="877555"/>
                </a:lnTo>
                <a:lnTo>
                  <a:pt x="3435" y="869869"/>
                </a:lnTo>
                <a:lnTo>
                  <a:pt x="4756" y="862182"/>
                </a:lnTo>
                <a:lnTo>
                  <a:pt x="6078" y="855026"/>
                </a:lnTo>
                <a:lnTo>
                  <a:pt x="7663" y="847605"/>
                </a:lnTo>
                <a:lnTo>
                  <a:pt x="9513" y="840448"/>
                </a:lnTo>
                <a:lnTo>
                  <a:pt x="11627" y="833027"/>
                </a:lnTo>
                <a:lnTo>
                  <a:pt x="13476" y="825871"/>
                </a:lnTo>
                <a:lnTo>
                  <a:pt x="15854" y="818980"/>
                </a:lnTo>
                <a:lnTo>
                  <a:pt x="18232" y="811823"/>
                </a:lnTo>
                <a:lnTo>
                  <a:pt x="20875" y="804932"/>
                </a:lnTo>
                <a:lnTo>
                  <a:pt x="23781" y="798571"/>
                </a:lnTo>
                <a:lnTo>
                  <a:pt x="26688" y="791680"/>
                </a:lnTo>
                <a:lnTo>
                  <a:pt x="29859" y="785053"/>
                </a:lnTo>
                <a:lnTo>
                  <a:pt x="32765" y="778427"/>
                </a:lnTo>
                <a:lnTo>
                  <a:pt x="36200" y="771801"/>
                </a:lnTo>
                <a:lnTo>
                  <a:pt x="39635" y="765705"/>
                </a:lnTo>
                <a:lnTo>
                  <a:pt x="43335" y="759344"/>
                </a:lnTo>
                <a:lnTo>
                  <a:pt x="47563" y="753248"/>
                </a:lnTo>
                <a:lnTo>
                  <a:pt x="51526" y="746886"/>
                </a:lnTo>
                <a:lnTo>
                  <a:pt x="55490" y="741055"/>
                </a:lnTo>
                <a:lnTo>
                  <a:pt x="59717" y="735224"/>
                </a:lnTo>
                <a:lnTo>
                  <a:pt x="64209" y="729658"/>
                </a:lnTo>
                <a:lnTo>
                  <a:pt x="68701" y="723827"/>
                </a:lnTo>
                <a:lnTo>
                  <a:pt x="73458" y="718261"/>
                </a:lnTo>
                <a:lnTo>
                  <a:pt x="78214" y="712960"/>
                </a:lnTo>
                <a:lnTo>
                  <a:pt x="82970" y="707394"/>
                </a:lnTo>
                <a:lnTo>
                  <a:pt x="88255" y="702358"/>
                </a:lnTo>
                <a:lnTo>
                  <a:pt x="93275" y="697587"/>
                </a:lnTo>
                <a:lnTo>
                  <a:pt x="98560" y="692286"/>
                </a:lnTo>
                <a:lnTo>
                  <a:pt x="103845" y="687781"/>
                </a:lnTo>
                <a:lnTo>
                  <a:pt x="109658" y="683010"/>
                </a:lnTo>
                <a:lnTo>
                  <a:pt x="114942" y="678239"/>
                </a:lnTo>
                <a:lnTo>
                  <a:pt x="120756" y="673998"/>
                </a:lnTo>
                <a:lnTo>
                  <a:pt x="126833" y="669757"/>
                </a:lnTo>
                <a:lnTo>
                  <a:pt x="132646" y="665782"/>
                </a:lnTo>
                <a:lnTo>
                  <a:pt x="138724" y="661806"/>
                </a:lnTo>
                <a:lnTo>
                  <a:pt x="145065" y="657830"/>
                </a:lnTo>
                <a:lnTo>
                  <a:pt x="150878" y="654119"/>
                </a:lnTo>
                <a:lnTo>
                  <a:pt x="157484" y="650674"/>
                </a:lnTo>
                <a:lnTo>
                  <a:pt x="163826" y="647228"/>
                </a:lnTo>
                <a:lnTo>
                  <a:pt x="170432" y="643783"/>
                </a:lnTo>
                <a:lnTo>
                  <a:pt x="177038" y="640867"/>
                </a:lnTo>
                <a:lnTo>
                  <a:pt x="183644" y="637687"/>
                </a:lnTo>
                <a:lnTo>
                  <a:pt x="190514" y="635036"/>
                </a:lnTo>
                <a:lnTo>
                  <a:pt x="197384" y="632651"/>
                </a:lnTo>
                <a:lnTo>
                  <a:pt x="204254" y="630000"/>
                </a:lnTo>
                <a:lnTo>
                  <a:pt x="211388" y="627615"/>
                </a:lnTo>
                <a:lnTo>
                  <a:pt x="218258" y="625759"/>
                </a:lnTo>
                <a:lnTo>
                  <a:pt x="225657" y="623639"/>
                </a:lnTo>
                <a:lnTo>
                  <a:pt x="232791" y="622049"/>
                </a:lnTo>
                <a:lnTo>
                  <a:pt x="240190" y="620193"/>
                </a:lnTo>
                <a:lnTo>
                  <a:pt x="247324" y="618868"/>
                </a:lnTo>
                <a:lnTo>
                  <a:pt x="254723" y="617808"/>
                </a:lnTo>
                <a:lnTo>
                  <a:pt x="262386" y="616483"/>
                </a:lnTo>
                <a:lnTo>
                  <a:pt x="269784" y="615687"/>
                </a:lnTo>
                <a:lnTo>
                  <a:pt x="277447" y="615157"/>
                </a:lnTo>
                <a:lnTo>
                  <a:pt x="285110" y="614627"/>
                </a:lnTo>
                <a:lnTo>
                  <a:pt x="292773" y="614362"/>
                </a:lnTo>
                <a:close/>
                <a:moveTo>
                  <a:pt x="693935" y="169862"/>
                </a:moveTo>
                <a:lnTo>
                  <a:pt x="697371" y="169862"/>
                </a:lnTo>
                <a:lnTo>
                  <a:pt x="702657" y="169862"/>
                </a:lnTo>
                <a:lnTo>
                  <a:pt x="704243" y="170126"/>
                </a:lnTo>
                <a:lnTo>
                  <a:pt x="708736" y="170126"/>
                </a:lnTo>
                <a:lnTo>
                  <a:pt x="713229" y="170391"/>
                </a:lnTo>
                <a:lnTo>
                  <a:pt x="717458" y="170920"/>
                </a:lnTo>
                <a:lnTo>
                  <a:pt x="721423" y="171979"/>
                </a:lnTo>
                <a:lnTo>
                  <a:pt x="725387" y="172772"/>
                </a:lnTo>
                <a:lnTo>
                  <a:pt x="729352" y="173831"/>
                </a:lnTo>
                <a:lnTo>
                  <a:pt x="732788" y="175154"/>
                </a:lnTo>
                <a:lnTo>
                  <a:pt x="736488" y="176741"/>
                </a:lnTo>
                <a:lnTo>
                  <a:pt x="743096" y="179916"/>
                </a:lnTo>
                <a:lnTo>
                  <a:pt x="749439" y="183620"/>
                </a:lnTo>
                <a:lnTo>
                  <a:pt x="754725" y="187324"/>
                </a:lnTo>
                <a:lnTo>
                  <a:pt x="760011" y="191293"/>
                </a:lnTo>
                <a:lnTo>
                  <a:pt x="764240" y="195262"/>
                </a:lnTo>
                <a:lnTo>
                  <a:pt x="768205" y="199231"/>
                </a:lnTo>
                <a:lnTo>
                  <a:pt x="771376" y="202670"/>
                </a:lnTo>
                <a:lnTo>
                  <a:pt x="773755" y="206110"/>
                </a:lnTo>
                <a:lnTo>
                  <a:pt x="777720" y="210872"/>
                </a:lnTo>
                <a:lnTo>
                  <a:pt x="778777" y="212724"/>
                </a:lnTo>
                <a:lnTo>
                  <a:pt x="900093" y="402960"/>
                </a:lnTo>
                <a:lnTo>
                  <a:pt x="1084050" y="402695"/>
                </a:lnTo>
                <a:lnTo>
                  <a:pt x="1089865" y="402960"/>
                </a:lnTo>
                <a:lnTo>
                  <a:pt x="1095680" y="403489"/>
                </a:lnTo>
                <a:lnTo>
                  <a:pt x="1100701" y="404547"/>
                </a:lnTo>
                <a:lnTo>
                  <a:pt x="1105723" y="406400"/>
                </a:lnTo>
                <a:lnTo>
                  <a:pt x="1110216" y="408252"/>
                </a:lnTo>
                <a:lnTo>
                  <a:pt x="1114181" y="410633"/>
                </a:lnTo>
                <a:lnTo>
                  <a:pt x="1117881" y="413279"/>
                </a:lnTo>
                <a:lnTo>
                  <a:pt x="1121317" y="415925"/>
                </a:lnTo>
                <a:lnTo>
                  <a:pt x="1124225" y="419100"/>
                </a:lnTo>
                <a:lnTo>
                  <a:pt x="1126868" y="422539"/>
                </a:lnTo>
                <a:lnTo>
                  <a:pt x="1128718" y="425979"/>
                </a:lnTo>
                <a:lnTo>
                  <a:pt x="1130568" y="429947"/>
                </a:lnTo>
                <a:lnTo>
                  <a:pt x="1131889" y="433652"/>
                </a:lnTo>
                <a:lnTo>
                  <a:pt x="1132682" y="437620"/>
                </a:lnTo>
                <a:lnTo>
                  <a:pt x="1133211" y="441589"/>
                </a:lnTo>
                <a:lnTo>
                  <a:pt x="1133475" y="445822"/>
                </a:lnTo>
                <a:lnTo>
                  <a:pt x="1133211" y="449791"/>
                </a:lnTo>
                <a:lnTo>
                  <a:pt x="1132682" y="453760"/>
                </a:lnTo>
                <a:lnTo>
                  <a:pt x="1131889" y="457729"/>
                </a:lnTo>
                <a:lnTo>
                  <a:pt x="1130568" y="461697"/>
                </a:lnTo>
                <a:lnTo>
                  <a:pt x="1128718" y="465402"/>
                </a:lnTo>
                <a:lnTo>
                  <a:pt x="1126868" y="468841"/>
                </a:lnTo>
                <a:lnTo>
                  <a:pt x="1124225" y="472281"/>
                </a:lnTo>
                <a:lnTo>
                  <a:pt x="1121317" y="475456"/>
                </a:lnTo>
                <a:lnTo>
                  <a:pt x="1117881" y="478366"/>
                </a:lnTo>
                <a:lnTo>
                  <a:pt x="1114181" y="480747"/>
                </a:lnTo>
                <a:lnTo>
                  <a:pt x="1110216" y="483393"/>
                </a:lnTo>
                <a:lnTo>
                  <a:pt x="1105723" y="485245"/>
                </a:lnTo>
                <a:lnTo>
                  <a:pt x="1100701" y="486833"/>
                </a:lnTo>
                <a:lnTo>
                  <a:pt x="1095680" y="487891"/>
                </a:lnTo>
                <a:lnTo>
                  <a:pt x="1089865" y="488950"/>
                </a:lnTo>
                <a:lnTo>
                  <a:pt x="1084050" y="488950"/>
                </a:lnTo>
                <a:lnTo>
                  <a:pt x="870755" y="488950"/>
                </a:lnTo>
                <a:lnTo>
                  <a:pt x="867848" y="488950"/>
                </a:lnTo>
                <a:lnTo>
                  <a:pt x="864676" y="488950"/>
                </a:lnTo>
                <a:lnTo>
                  <a:pt x="861769" y="488156"/>
                </a:lnTo>
                <a:lnTo>
                  <a:pt x="858597" y="487627"/>
                </a:lnTo>
                <a:lnTo>
                  <a:pt x="855426" y="486833"/>
                </a:lnTo>
                <a:lnTo>
                  <a:pt x="852518" y="485775"/>
                </a:lnTo>
                <a:lnTo>
                  <a:pt x="849347" y="484187"/>
                </a:lnTo>
                <a:lnTo>
                  <a:pt x="846704" y="482864"/>
                </a:lnTo>
                <a:lnTo>
                  <a:pt x="843532" y="481012"/>
                </a:lnTo>
                <a:lnTo>
                  <a:pt x="840625" y="478895"/>
                </a:lnTo>
                <a:lnTo>
                  <a:pt x="837717" y="476514"/>
                </a:lnTo>
                <a:lnTo>
                  <a:pt x="834810" y="474397"/>
                </a:lnTo>
                <a:lnTo>
                  <a:pt x="832431" y="471487"/>
                </a:lnTo>
                <a:lnTo>
                  <a:pt x="829788" y="468312"/>
                </a:lnTo>
                <a:lnTo>
                  <a:pt x="827145" y="464872"/>
                </a:lnTo>
                <a:lnTo>
                  <a:pt x="825030" y="461433"/>
                </a:lnTo>
                <a:lnTo>
                  <a:pt x="753139" y="348985"/>
                </a:lnTo>
                <a:lnTo>
                  <a:pt x="605392" y="495564"/>
                </a:lnTo>
                <a:lnTo>
                  <a:pt x="742567" y="568060"/>
                </a:lnTo>
                <a:lnTo>
                  <a:pt x="747325" y="570441"/>
                </a:lnTo>
                <a:lnTo>
                  <a:pt x="752082" y="573352"/>
                </a:lnTo>
                <a:lnTo>
                  <a:pt x="756575" y="575997"/>
                </a:lnTo>
                <a:lnTo>
                  <a:pt x="760804" y="579172"/>
                </a:lnTo>
                <a:lnTo>
                  <a:pt x="764504" y="581818"/>
                </a:lnTo>
                <a:lnTo>
                  <a:pt x="767940" y="584993"/>
                </a:lnTo>
                <a:lnTo>
                  <a:pt x="770848" y="588168"/>
                </a:lnTo>
                <a:lnTo>
                  <a:pt x="773491" y="591343"/>
                </a:lnTo>
                <a:lnTo>
                  <a:pt x="776134" y="594518"/>
                </a:lnTo>
                <a:lnTo>
                  <a:pt x="778513" y="597693"/>
                </a:lnTo>
                <a:lnTo>
                  <a:pt x="780363" y="600868"/>
                </a:lnTo>
                <a:lnTo>
                  <a:pt x="782477" y="604043"/>
                </a:lnTo>
                <a:lnTo>
                  <a:pt x="783799" y="607483"/>
                </a:lnTo>
                <a:lnTo>
                  <a:pt x="785385" y="610129"/>
                </a:lnTo>
                <a:lnTo>
                  <a:pt x="787499" y="616479"/>
                </a:lnTo>
                <a:lnTo>
                  <a:pt x="789085" y="622300"/>
                </a:lnTo>
                <a:lnTo>
                  <a:pt x="790142" y="627327"/>
                </a:lnTo>
                <a:lnTo>
                  <a:pt x="790671" y="632090"/>
                </a:lnTo>
                <a:lnTo>
                  <a:pt x="790671" y="636588"/>
                </a:lnTo>
                <a:lnTo>
                  <a:pt x="790671" y="640027"/>
                </a:lnTo>
                <a:lnTo>
                  <a:pt x="790671" y="642408"/>
                </a:lnTo>
                <a:lnTo>
                  <a:pt x="790406" y="644525"/>
                </a:lnTo>
                <a:lnTo>
                  <a:pt x="790406" y="955411"/>
                </a:lnTo>
                <a:lnTo>
                  <a:pt x="790142" y="962025"/>
                </a:lnTo>
                <a:lnTo>
                  <a:pt x="789085" y="968375"/>
                </a:lnTo>
                <a:lnTo>
                  <a:pt x="787499" y="974196"/>
                </a:lnTo>
                <a:lnTo>
                  <a:pt x="785385" y="980281"/>
                </a:lnTo>
                <a:lnTo>
                  <a:pt x="782742" y="985838"/>
                </a:lnTo>
                <a:lnTo>
                  <a:pt x="779570" y="991129"/>
                </a:lnTo>
                <a:lnTo>
                  <a:pt x="775870" y="995892"/>
                </a:lnTo>
                <a:lnTo>
                  <a:pt x="771641" y="1000654"/>
                </a:lnTo>
                <a:lnTo>
                  <a:pt x="767148" y="1004623"/>
                </a:lnTo>
                <a:lnTo>
                  <a:pt x="762126" y="1008327"/>
                </a:lnTo>
                <a:lnTo>
                  <a:pt x="757104" y="1011502"/>
                </a:lnTo>
                <a:lnTo>
                  <a:pt x="751289" y="1014413"/>
                </a:lnTo>
                <a:lnTo>
                  <a:pt x="745739" y="1016265"/>
                </a:lnTo>
                <a:lnTo>
                  <a:pt x="739395" y="1018117"/>
                </a:lnTo>
                <a:lnTo>
                  <a:pt x="733052" y="1018911"/>
                </a:lnTo>
                <a:lnTo>
                  <a:pt x="726444" y="1019175"/>
                </a:lnTo>
                <a:lnTo>
                  <a:pt x="720365" y="1018911"/>
                </a:lnTo>
                <a:lnTo>
                  <a:pt x="714022" y="1018117"/>
                </a:lnTo>
                <a:lnTo>
                  <a:pt x="707679" y="1016265"/>
                </a:lnTo>
                <a:lnTo>
                  <a:pt x="701864" y="1014413"/>
                </a:lnTo>
                <a:lnTo>
                  <a:pt x="696314" y="1011502"/>
                </a:lnTo>
                <a:lnTo>
                  <a:pt x="691027" y="1008327"/>
                </a:lnTo>
                <a:lnTo>
                  <a:pt x="686270" y="1004623"/>
                </a:lnTo>
                <a:lnTo>
                  <a:pt x="681777" y="1000654"/>
                </a:lnTo>
                <a:lnTo>
                  <a:pt x="677548" y="995892"/>
                </a:lnTo>
                <a:lnTo>
                  <a:pt x="674112" y="991129"/>
                </a:lnTo>
                <a:lnTo>
                  <a:pt x="670940" y="985838"/>
                </a:lnTo>
                <a:lnTo>
                  <a:pt x="668033" y="980281"/>
                </a:lnTo>
                <a:lnTo>
                  <a:pt x="665918" y="974196"/>
                </a:lnTo>
                <a:lnTo>
                  <a:pt x="664333" y="968375"/>
                </a:lnTo>
                <a:lnTo>
                  <a:pt x="663540" y="962025"/>
                </a:lnTo>
                <a:lnTo>
                  <a:pt x="663275" y="955411"/>
                </a:lnTo>
                <a:lnTo>
                  <a:pt x="663275" y="706438"/>
                </a:lnTo>
                <a:lnTo>
                  <a:pt x="425665" y="574145"/>
                </a:lnTo>
                <a:lnTo>
                  <a:pt x="420114" y="570970"/>
                </a:lnTo>
                <a:lnTo>
                  <a:pt x="415357" y="567531"/>
                </a:lnTo>
                <a:lnTo>
                  <a:pt x="410335" y="563827"/>
                </a:lnTo>
                <a:lnTo>
                  <a:pt x="405842" y="559858"/>
                </a:lnTo>
                <a:lnTo>
                  <a:pt x="401877" y="555624"/>
                </a:lnTo>
                <a:lnTo>
                  <a:pt x="397912" y="550862"/>
                </a:lnTo>
                <a:lnTo>
                  <a:pt x="394212" y="545835"/>
                </a:lnTo>
                <a:lnTo>
                  <a:pt x="391041" y="541072"/>
                </a:lnTo>
                <a:lnTo>
                  <a:pt x="387869" y="535781"/>
                </a:lnTo>
                <a:lnTo>
                  <a:pt x="385226" y="530225"/>
                </a:lnTo>
                <a:lnTo>
                  <a:pt x="383111" y="524404"/>
                </a:lnTo>
                <a:lnTo>
                  <a:pt x="381261" y="518583"/>
                </a:lnTo>
                <a:lnTo>
                  <a:pt x="379940" y="512497"/>
                </a:lnTo>
                <a:lnTo>
                  <a:pt x="378882" y="506147"/>
                </a:lnTo>
                <a:lnTo>
                  <a:pt x="378090" y="500062"/>
                </a:lnTo>
                <a:lnTo>
                  <a:pt x="377825" y="493712"/>
                </a:lnTo>
                <a:lnTo>
                  <a:pt x="377825" y="489214"/>
                </a:lnTo>
                <a:lnTo>
                  <a:pt x="378090" y="484716"/>
                </a:lnTo>
                <a:lnTo>
                  <a:pt x="378882" y="480218"/>
                </a:lnTo>
                <a:lnTo>
                  <a:pt x="379411" y="475985"/>
                </a:lnTo>
                <a:lnTo>
                  <a:pt x="380204" y="472016"/>
                </a:lnTo>
                <a:lnTo>
                  <a:pt x="381261" y="467783"/>
                </a:lnTo>
                <a:lnTo>
                  <a:pt x="382583" y="463814"/>
                </a:lnTo>
                <a:lnTo>
                  <a:pt x="383904" y="459581"/>
                </a:lnTo>
                <a:lnTo>
                  <a:pt x="385754" y="455877"/>
                </a:lnTo>
                <a:lnTo>
                  <a:pt x="387340" y="451908"/>
                </a:lnTo>
                <a:lnTo>
                  <a:pt x="389455" y="448204"/>
                </a:lnTo>
                <a:lnTo>
                  <a:pt x="391569" y="444764"/>
                </a:lnTo>
                <a:lnTo>
                  <a:pt x="393684" y="441325"/>
                </a:lnTo>
                <a:lnTo>
                  <a:pt x="396062" y="437885"/>
                </a:lnTo>
                <a:lnTo>
                  <a:pt x="398705" y="434975"/>
                </a:lnTo>
                <a:lnTo>
                  <a:pt x="401613" y="431800"/>
                </a:lnTo>
                <a:lnTo>
                  <a:pt x="634995" y="197643"/>
                </a:lnTo>
                <a:lnTo>
                  <a:pt x="637638" y="194733"/>
                </a:lnTo>
                <a:lnTo>
                  <a:pt x="640281" y="191822"/>
                </a:lnTo>
                <a:lnTo>
                  <a:pt x="643188" y="189176"/>
                </a:lnTo>
                <a:lnTo>
                  <a:pt x="646096" y="187060"/>
                </a:lnTo>
                <a:lnTo>
                  <a:pt x="652175" y="183091"/>
                </a:lnTo>
                <a:lnTo>
                  <a:pt x="657725" y="179651"/>
                </a:lnTo>
                <a:lnTo>
                  <a:pt x="663804" y="176741"/>
                </a:lnTo>
                <a:lnTo>
                  <a:pt x="669354" y="174360"/>
                </a:lnTo>
                <a:lnTo>
                  <a:pt x="675169" y="172772"/>
                </a:lnTo>
                <a:lnTo>
                  <a:pt x="680191" y="171449"/>
                </a:lnTo>
                <a:lnTo>
                  <a:pt x="685477" y="170656"/>
                </a:lnTo>
                <a:lnTo>
                  <a:pt x="689970" y="170126"/>
                </a:lnTo>
                <a:lnTo>
                  <a:pt x="693935" y="169862"/>
                </a:lnTo>
                <a:close/>
                <a:moveTo>
                  <a:pt x="860175" y="0"/>
                </a:moveTo>
                <a:lnTo>
                  <a:pt x="865982" y="0"/>
                </a:lnTo>
                <a:lnTo>
                  <a:pt x="871789" y="0"/>
                </a:lnTo>
                <a:lnTo>
                  <a:pt x="877332" y="529"/>
                </a:lnTo>
                <a:lnTo>
                  <a:pt x="882875" y="1058"/>
                </a:lnTo>
                <a:lnTo>
                  <a:pt x="888154" y="1852"/>
                </a:lnTo>
                <a:lnTo>
                  <a:pt x="893697" y="3439"/>
                </a:lnTo>
                <a:lnTo>
                  <a:pt x="898712" y="4762"/>
                </a:lnTo>
                <a:lnTo>
                  <a:pt x="903991" y="6614"/>
                </a:lnTo>
                <a:lnTo>
                  <a:pt x="909006" y="8467"/>
                </a:lnTo>
                <a:lnTo>
                  <a:pt x="913757" y="10848"/>
                </a:lnTo>
                <a:lnTo>
                  <a:pt x="918772" y="13229"/>
                </a:lnTo>
                <a:lnTo>
                  <a:pt x="923259" y="15875"/>
                </a:lnTo>
                <a:lnTo>
                  <a:pt x="927746" y="18785"/>
                </a:lnTo>
                <a:lnTo>
                  <a:pt x="931969" y="21960"/>
                </a:lnTo>
                <a:lnTo>
                  <a:pt x="936193" y="25135"/>
                </a:lnTo>
                <a:lnTo>
                  <a:pt x="940152" y="28575"/>
                </a:lnTo>
                <a:lnTo>
                  <a:pt x="944111" y="32279"/>
                </a:lnTo>
                <a:lnTo>
                  <a:pt x="947807" y="35983"/>
                </a:lnTo>
                <a:lnTo>
                  <a:pt x="951238" y="40217"/>
                </a:lnTo>
                <a:lnTo>
                  <a:pt x="954405" y="44185"/>
                </a:lnTo>
                <a:lnTo>
                  <a:pt x="957573" y="48419"/>
                </a:lnTo>
                <a:lnTo>
                  <a:pt x="960212" y="53181"/>
                </a:lnTo>
                <a:lnTo>
                  <a:pt x="963116" y="57679"/>
                </a:lnTo>
                <a:lnTo>
                  <a:pt x="965491" y="62442"/>
                </a:lnTo>
                <a:lnTo>
                  <a:pt x="967603" y="67469"/>
                </a:lnTo>
                <a:lnTo>
                  <a:pt x="969714" y="72496"/>
                </a:lnTo>
                <a:lnTo>
                  <a:pt x="971298" y="77523"/>
                </a:lnTo>
                <a:lnTo>
                  <a:pt x="972882" y="82815"/>
                </a:lnTo>
                <a:lnTo>
                  <a:pt x="973938" y="88106"/>
                </a:lnTo>
                <a:lnTo>
                  <a:pt x="974993" y="93663"/>
                </a:lnTo>
                <a:lnTo>
                  <a:pt x="975785" y="98954"/>
                </a:lnTo>
                <a:lnTo>
                  <a:pt x="976313" y="104775"/>
                </a:lnTo>
                <a:lnTo>
                  <a:pt x="976313" y="110596"/>
                </a:lnTo>
                <a:lnTo>
                  <a:pt x="976313" y="116152"/>
                </a:lnTo>
                <a:lnTo>
                  <a:pt x="975785" y="121708"/>
                </a:lnTo>
                <a:lnTo>
                  <a:pt x="974993" y="127265"/>
                </a:lnTo>
                <a:lnTo>
                  <a:pt x="973938" y="132821"/>
                </a:lnTo>
                <a:lnTo>
                  <a:pt x="972882" y="137848"/>
                </a:lnTo>
                <a:lnTo>
                  <a:pt x="971298" y="143404"/>
                </a:lnTo>
                <a:lnTo>
                  <a:pt x="969714" y="148431"/>
                </a:lnTo>
                <a:lnTo>
                  <a:pt x="967603" y="153194"/>
                </a:lnTo>
                <a:lnTo>
                  <a:pt x="965491" y="158221"/>
                </a:lnTo>
                <a:lnTo>
                  <a:pt x="963116" y="162984"/>
                </a:lnTo>
                <a:lnTo>
                  <a:pt x="960212" y="167481"/>
                </a:lnTo>
                <a:lnTo>
                  <a:pt x="957573" y="172244"/>
                </a:lnTo>
                <a:lnTo>
                  <a:pt x="954405" y="176477"/>
                </a:lnTo>
                <a:lnTo>
                  <a:pt x="951238" y="180446"/>
                </a:lnTo>
                <a:lnTo>
                  <a:pt x="947807" y="184415"/>
                </a:lnTo>
                <a:lnTo>
                  <a:pt x="944111" y="188384"/>
                </a:lnTo>
                <a:lnTo>
                  <a:pt x="940152" y="192088"/>
                </a:lnTo>
                <a:lnTo>
                  <a:pt x="936193" y="195527"/>
                </a:lnTo>
                <a:lnTo>
                  <a:pt x="931969" y="198702"/>
                </a:lnTo>
                <a:lnTo>
                  <a:pt x="927746" y="201877"/>
                </a:lnTo>
                <a:lnTo>
                  <a:pt x="923259" y="204788"/>
                </a:lnTo>
                <a:lnTo>
                  <a:pt x="918772" y="207169"/>
                </a:lnTo>
                <a:lnTo>
                  <a:pt x="913757" y="209815"/>
                </a:lnTo>
                <a:lnTo>
                  <a:pt x="909006" y="211932"/>
                </a:lnTo>
                <a:lnTo>
                  <a:pt x="903991" y="213784"/>
                </a:lnTo>
                <a:lnTo>
                  <a:pt x="898712" y="215636"/>
                </a:lnTo>
                <a:lnTo>
                  <a:pt x="893697" y="217223"/>
                </a:lnTo>
                <a:lnTo>
                  <a:pt x="888154" y="218546"/>
                </a:lnTo>
                <a:lnTo>
                  <a:pt x="882875" y="219340"/>
                </a:lnTo>
                <a:lnTo>
                  <a:pt x="877332" y="220134"/>
                </a:lnTo>
                <a:lnTo>
                  <a:pt x="871789" y="220398"/>
                </a:lnTo>
                <a:lnTo>
                  <a:pt x="865982" y="220663"/>
                </a:lnTo>
                <a:lnTo>
                  <a:pt x="860175" y="220398"/>
                </a:lnTo>
                <a:lnTo>
                  <a:pt x="854896" y="220134"/>
                </a:lnTo>
                <a:lnTo>
                  <a:pt x="849089" y="219340"/>
                </a:lnTo>
                <a:lnTo>
                  <a:pt x="843810" y="218546"/>
                </a:lnTo>
                <a:lnTo>
                  <a:pt x="838531" y="217223"/>
                </a:lnTo>
                <a:lnTo>
                  <a:pt x="833252" y="215636"/>
                </a:lnTo>
                <a:lnTo>
                  <a:pt x="828237" y="213784"/>
                </a:lnTo>
                <a:lnTo>
                  <a:pt x="823222" y="211932"/>
                </a:lnTo>
                <a:lnTo>
                  <a:pt x="818471" y="209815"/>
                </a:lnTo>
                <a:lnTo>
                  <a:pt x="813456" y="207169"/>
                </a:lnTo>
                <a:lnTo>
                  <a:pt x="808968" y="204788"/>
                </a:lnTo>
                <a:lnTo>
                  <a:pt x="804481" y="201877"/>
                </a:lnTo>
                <a:lnTo>
                  <a:pt x="800258" y="198702"/>
                </a:lnTo>
                <a:lnTo>
                  <a:pt x="796035" y="195527"/>
                </a:lnTo>
                <a:lnTo>
                  <a:pt x="791812" y="192088"/>
                </a:lnTo>
                <a:lnTo>
                  <a:pt x="788116" y="188384"/>
                </a:lnTo>
                <a:lnTo>
                  <a:pt x="784421" y="184415"/>
                </a:lnTo>
                <a:lnTo>
                  <a:pt x="780990" y="180446"/>
                </a:lnTo>
                <a:lnTo>
                  <a:pt x="777822" y="176477"/>
                </a:lnTo>
                <a:lnTo>
                  <a:pt x="774919" y="172244"/>
                </a:lnTo>
                <a:lnTo>
                  <a:pt x="771751" y="167481"/>
                </a:lnTo>
                <a:lnTo>
                  <a:pt x="769112" y="162984"/>
                </a:lnTo>
                <a:lnTo>
                  <a:pt x="766736" y="158221"/>
                </a:lnTo>
                <a:lnTo>
                  <a:pt x="764625" y="153194"/>
                </a:lnTo>
                <a:lnTo>
                  <a:pt x="762513" y="148431"/>
                </a:lnTo>
                <a:lnTo>
                  <a:pt x="760929" y="143404"/>
                </a:lnTo>
                <a:lnTo>
                  <a:pt x="759346" y="137848"/>
                </a:lnTo>
                <a:lnTo>
                  <a:pt x="758026" y="132821"/>
                </a:lnTo>
                <a:lnTo>
                  <a:pt x="757234" y="127265"/>
                </a:lnTo>
                <a:lnTo>
                  <a:pt x="756442" y="121708"/>
                </a:lnTo>
                <a:lnTo>
                  <a:pt x="755914" y="116152"/>
                </a:lnTo>
                <a:lnTo>
                  <a:pt x="755650" y="110596"/>
                </a:lnTo>
                <a:lnTo>
                  <a:pt x="755914" y="104775"/>
                </a:lnTo>
                <a:lnTo>
                  <a:pt x="756442" y="98954"/>
                </a:lnTo>
                <a:lnTo>
                  <a:pt x="757234" y="93663"/>
                </a:lnTo>
                <a:lnTo>
                  <a:pt x="758026" y="88106"/>
                </a:lnTo>
                <a:lnTo>
                  <a:pt x="759082" y="82815"/>
                </a:lnTo>
                <a:lnTo>
                  <a:pt x="760929" y="77523"/>
                </a:lnTo>
                <a:lnTo>
                  <a:pt x="762513" y="72496"/>
                </a:lnTo>
                <a:lnTo>
                  <a:pt x="764625" y="67469"/>
                </a:lnTo>
                <a:lnTo>
                  <a:pt x="766472" y="62442"/>
                </a:lnTo>
                <a:lnTo>
                  <a:pt x="769112" y="57679"/>
                </a:lnTo>
                <a:lnTo>
                  <a:pt x="771751" y="53181"/>
                </a:lnTo>
                <a:lnTo>
                  <a:pt x="774655" y="48419"/>
                </a:lnTo>
                <a:lnTo>
                  <a:pt x="777822" y="44185"/>
                </a:lnTo>
                <a:lnTo>
                  <a:pt x="780990" y="40217"/>
                </a:lnTo>
                <a:lnTo>
                  <a:pt x="784421" y="36248"/>
                </a:lnTo>
                <a:lnTo>
                  <a:pt x="788116" y="32279"/>
                </a:lnTo>
                <a:lnTo>
                  <a:pt x="791812" y="28575"/>
                </a:lnTo>
                <a:lnTo>
                  <a:pt x="796035" y="25135"/>
                </a:lnTo>
                <a:lnTo>
                  <a:pt x="800258" y="21960"/>
                </a:lnTo>
                <a:lnTo>
                  <a:pt x="804481" y="18785"/>
                </a:lnTo>
                <a:lnTo>
                  <a:pt x="808968" y="15875"/>
                </a:lnTo>
                <a:lnTo>
                  <a:pt x="813456" y="13229"/>
                </a:lnTo>
                <a:lnTo>
                  <a:pt x="818471" y="10848"/>
                </a:lnTo>
                <a:lnTo>
                  <a:pt x="823222" y="8467"/>
                </a:lnTo>
                <a:lnTo>
                  <a:pt x="828237" y="6614"/>
                </a:lnTo>
                <a:lnTo>
                  <a:pt x="833252" y="4762"/>
                </a:lnTo>
                <a:lnTo>
                  <a:pt x="838531" y="3439"/>
                </a:lnTo>
                <a:lnTo>
                  <a:pt x="843810" y="1852"/>
                </a:lnTo>
                <a:lnTo>
                  <a:pt x="849089" y="1058"/>
                </a:lnTo>
                <a:lnTo>
                  <a:pt x="854896" y="529"/>
                </a:lnTo>
                <a:lnTo>
                  <a:pt x="860175" y="0"/>
                </a:lnTo>
                <a:close/>
              </a:path>
            </a:pathLst>
          </a:custGeom>
          <a:solidFill>
            <a:srgbClr val="6b6768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</a:endParaRPr>
          </a:p>
        </p:txBody>
      </p:sp>
      <p:cxnSp>
        <p:nvCxnSpPr>
          <p:cNvPr id="116" name="直接连接符 60"/>
          <p:cNvCxnSpPr/>
          <p:nvPr/>
        </p:nvCxnSpPr>
        <p:spPr>
          <a:xfrm>
            <a:off x="816480" y="6128640"/>
            <a:ext cx="10558800" cy="360"/>
          </a:xfrm>
          <a:prstGeom prst="straightConnector1">
            <a:avLst/>
          </a:prstGeom>
          <a:ln w="9525">
            <a:solidFill>
              <a:srgbClr val="23e9ce"/>
            </a:solidFill>
          </a:ln>
        </p:spPr>
      </p:cxnSp>
      <p:cxnSp>
        <p:nvCxnSpPr>
          <p:cNvPr id="117" name="直接连接符 63"/>
          <p:cNvCxnSpPr/>
          <p:nvPr/>
        </p:nvCxnSpPr>
        <p:spPr>
          <a:xfrm>
            <a:off x="816480" y="730800"/>
            <a:ext cx="10558800" cy="360"/>
          </a:xfrm>
          <a:prstGeom prst="straightConnector1">
            <a:avLst/>
          </a:prstGeom>
          <a:ln w="9525">
            <a:solidFill>
              <a:srgbClr val="23e9c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4648320" y="5495760"/>
            <a:ext cx="325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ca08"/>
                </a:solidFill>
                <a:latin typeface="方正兰亭超细黑简体"/>
                <a:ea typeface="方正兰亭超细黑简体"/>
              </a:rPr>
              <a:t>听说，二胎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9" name="直接连接符 11"/>
          <p:cNvCxnSpPr/>
          <p:nvPr/>
        </p:nvCxnSpPr>
        <p:spPr>
          <a:xfrm>
            <a:off x="3480480" y="6089760"/>
            <a:ext cx="5230800" cy="360"/>
          </a:xfrm>
          <a:prstGeom prst="straightConnector1">
            <a:avLst/>
          </a:prstGeom>
          <a:ln w="9525">
            <a:solidFill>
              <a:srgbClr val="ffca08"/>
            </a:solidFill>
          </a:ln>
        </p:spPr>
      </p:cxnSp>
      <p:sp>
        <p:nvSpPr>
          <p:cNvPr id="120" name="椭圆 1"/>
          <p:cNvSpPr/>
          <p:nvPr/>
        </p:nvSpPr>
        <p:spPr>
          <a:xfrm flipV="1">
            <a:off x="4384080" y="1774080"/>
            <a:ext cx="1883880" cy="3103200"/>
          </a:xfrm>
          <a:prstGeom prst="ellipse">
            <a:avLst/>
          </a:prstGeom>
          <a:solidFill>
            <a:srgbClr val="ffca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1" name="椭圆 8"/>
          <p:cNvSpPr/>
          <p:nvPr/>
        </p:nvSpPr>
        <p:spPr>
          <a:xfrm flipV="1" rot="19074600">
            <a:off x="6397560" y="1542600"/>
            <a:ext cx="1883880" cy="3103200"/>
          </a:xfrm>
          <a:prstGeom prst="ellipse">
            <a:avLst/>
          </a:prstGeom>
          <a:solidFill>
            <a:srgbClr val="ffca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cxnSp>
        <p:nvCxnSpPr>
          <p:cNvPr id="122" name="直接连接符 4"/>
          <p:cNvCxnSpPr/>
          <p:nvPr/>
        </p:nvCxnSpPr>
        <p:spPr>
          <a:xfrm>
            <a:off x="6095880" y="0"/>
            <a:ext cx="360" cy="2818800"/>
          </a:xfrm>
          <a:prstGeom prst="straightConnector1">
            <a:avLst/>
          </a:prstGeom>
          <a:ln w="9525">
            <a:solidFill>
              <a:srgbClr val="ffca08"/>
            </a:solidFill>
          </a:ln>
        </p:spPr>
      </p:cxnSp>
      <p:sp>
        <p:nvSpPr>
          <p:cNvPr id="123" name="椭圆 13"/>
          <p:cNvSpPr/>
          <p:nvPr/>
        </p:nvSpPr>
        <p:spPr>
          <a:xfrm flipV="1">
            <a:off x="4448520" y="1880280"/>
            <a:ext cx="1755000" cy="2890800"/>
          </a:xfrm>
          <a:prstGeom prst="ellipse">
            <a:avLst/>
          </a:prstGeom>
          <a:pattFill prst="wdUpDiag">
            <a:fgClr>
              <a:srgbClr val="262626"/>
            </a:fgClr>
            <a:bgClr>
              <a:srgbClr val="ffca08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4" name="椭圆 15"/>
          <p:cNvSpPr/>
          <p:nvPr/>
        </p:nvSpPr>
        <p:spPr>
          <a:xfrm flipV="1" rot="19074600">
            <a:off x="6485400" y="1686240"/>
            <a:ext cx="1709280" cy="2815200"/>
          </a:xfrm>
          <a:prstGeom prst="ellipse">
            <a:avLst/>
          </a:prstGeom>
          <a:pattFill prst="wdUpDiag">
            <a:fgClr>
              <a:srgbClr val="262626"/>
            </a:fgClr>
            <a:bgClr>
              <a:srgbClr val="ffca08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5" name="椭圆 14"/>
          <p:cNvSpPr/>
          <p:nvPr/>
        </p:nvSpPr>
        <p:spPr>
          <a:xfrm flipV="1" rot="19074600">
            <a:off x="6485400" y="1686240"/>
            <a:ext cx="1709280" cy="2815200"/>
          </a:xfrm>
          <a:prstGeom prst="ellipse">
            <a:avLst/>
          </a:prstGeom>
          <a:solidFill>
            <a:schemeClr val="bg1"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6" name="椭圆 16"/>
          <p:cNvSpPr/>
          <p:nvPr/>
        </p:nvSpPr>
        <p:spPr>
          <a:xfrm flipV="1">
            <a:off x="4448520" y="1880280"/>
            <a:ext cx="1755000" cy="2890800"/>
          </a:xfrm>
          <a:prstGeom prst="ellipse">
            <a:avLst/>
          </a:prstGeom>
          <a:solidFill>
            <a:schemeClr val="bg1"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095800" y="6138360"/>
            <a:ext cx="2278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ca08"/>
                </a:solidFill>
                <a:latin typeface="方正兰亭超细黑简体"/>
                <a:ea typeface="方正兰亭超细黑简体"/>
              </a:rPr>
              <a:t>可跟我有毛的关系么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组合 20"/>
          <p:cNvGrpSpPr/>
          <p:nvPr/>
        </p:nvGrpSpPr>
        <p:grpSpPr>
          <a:xfrm>
            <a:off x="4693680" y="2466000"/>
            <a:ext cx="1184040" cy="422640"/>
            <a:chOff x="4693680" y="2466000"/>
            <a:chExt cx="1184040" cy="422640"/>
          </a:xfrm>
        </p:grpSpPr>
        <p:sp>
          <p:nvSpPr>
            <p:cNvPr id="129" name="等腰三角形 18"/>
            <p:cNvSpPr/>
            <p:nvPr/>
          </p:nvSpPr>
          <p:spPr>
            <a:xfrm rot="5648400">
              <a:off x="4805640" y="2387160"/>
              <a:ext cx="378720" cy="577080"/>
            </a:xfrm>
            <a:prstGeom prst="triangle">
              <a:avLst>
                <a:gd name="adj" fmla="val 50000"/>
              </a:avLst>
            </a:prstGeom>
            <a:solidFill>
              <a:srgbClr val="3c43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130" name="等腰三角形 19"/>
            <p:cNvSpPr/>
            <p:nvPr/>
          </p:nvSpPr>
          <p:spPr>
            <a:xfrm rot="16095000">
              <a:off x="5394240" y="2401920"/>
              <a:ext cx="378720" cy="577080"/>
            </a:xfrm>
            <a:prstGeom prst="triangle">
              <a:avLst>
                <a:gd name="adj" fmla="val 50000"/>
              </a:avLst>
            </a:prstGeom>
            <a:solidFill>
              <a:srgbClr val="3c43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</p:grpSp>
      <p:grpSp>
        <p:nvGrpSpPr>
          <p:cNvPr id="131" name="组合 21"/>
          <p:cNvGrpSpPr/>
          <p:nvPr/>
        </p:nvGrpSpPr>
        <p:grpSpPr>
          <a:xfrm>
            <a:off x="6264360" y="1995840"/>
            <a:ext cx="1177200" cy="965520"/>
            <a:chOff x="6264360" y="1995840"/>
            <a:chExt cx="1177200" cy="965520"/>
          </a:xfrm>
        </p:grpSpPr>
        <p:sp>
          <p:nvSpPr>
            <p:cNvPr id="132" name="等腰三角形 22"/>
            <p:cNvSpPr/>
            <p:nvPr/>
          </p:nvSpPr>
          <p:spPr>
            <a:xfrm rot="3524400">
              <a:off x="6419520" y="2361240"/>
              <a:ext cx="378720" cy="577080"/>
            </a:xfrm>
            <a:prstGeom prst="triangle">
              <a:avLst>
                <a:gd name="adj" fmla="val 50000"/>
              </a:avLst>
            </a:prstGeom>
            <a:solidFill>
              <a:srgbClr val="3c43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133" name="等腰三角形 23"/>
            <p:cNvSpPr/>
            <p:nvPr/>
          </p:nvSpPr>
          <p:spPr>
            <a:xfrm rot="13971000">
              <a:off x="6907680" y="2032560"/>
              <a:ext cx="378720" cy="577080"/>
            </a:xfrm>
            <a:prstGeom prst="triangle">
              <a:avLst>
                <a:gd name="adj" fmla="val 50000"/>
              </a:avLst>
            </a:prstGeom>
            <a:solidFill>
              <a:srgbClr val="3c43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4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2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pattFill prst="wdUpDiag">
            <a:fgClr>
              <a:srgbClr val="ffffff"/>
            </a:fgClr>
            <a:bgClr>
              <a:srgbClr val="e2f0d9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MosiaicBubbles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6370560"/>
            <a:ext cx="12193200" cy="487080"/>
          </a:xfrm>
          <a:prstGeom prst="rect">
            <a:avLst/>
          </a:prstGeom>
          <a:ln w="0">
            <a:noFill/>
          </a:ln>
        </p:spPr>
      </p:pic>
      <p:sp>
        <p:nvSpPr>
          <p:cNvPr id="136" name="矩形 7"/>
          <p:cNvSpPr/>
          <p:nvPr/>
        </p:nvSpPr>
        <p:spPr>
          <a:xfrm>
            <a:off x="4680" y="6370560"/>
            <a:ext cx="12191760" cy="231480"/>
          </a:xfrm>
          <a:prstGeom prst="rect">
            <a:avLst/>
          </a:prstGeom>
          <a:pattFill prst="wdDnDiag">
            <a:fgClr>
              <a:srgbClr val="0d0d0d"/>
            </a:fgClr>
            <a:bgClr>
              <a:srgbClr val="262626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cxnSp>
        <p:nvCxnSpPr>
          <p:cNvPr id="137" name="直接连接符 30"/>
          <p:cNvCxnSpPr/>
          <p:nvPr/>
        </p:nvCxnSpPr>
        <p:spPr>
          <a:xfrm>
            <a:off x="889200" y="788760"/>
            <a:ext cx="10558800" cy="360"/>
          </a:xfrm>
          <a:prstGeom prst="straightConnector1">
            <a:avLst/>
          </a:prstGeom>
          <a:ln w="9525">
            <a:solidFill>
              <a:srgbClr val="0f1024"/>
            </a:solidFill>
          </a:ln>
        </p:spPr>
      </p:cxnSp>
      <p:sp>
        <p:nvSpPr>
          <p:cNvPr id="138" name="TextBox 31"/>
          <p:cNvSpPr/>
          <p:nvPr/>
        </p:nvSpPr>
        <p:spPr>
          <a:xfrm>
            <a:off x="5806800" y="964800"/>
            <a:ext cx="2640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6b6768"/>
                </a:solidFill>
                <a:latin typeface="微软雅黑 Light"/>
                <a:ea typeface="微软雅黑 Light"/>
              </a:rPr>
              <a:t>   </a:t>
            </a:r>
            <a:r>
              <a:rPr b="0" lang="zh-CN" sz="2800" spc="-1" strike="noStrike">
                <a:solidFill>
                  <a:srgbClr val="6b6768"/>
                </a:solidFill>
                <a:latin typeface="微软雅黑 Light"/>
                <a:ea typeface="微软雅黑 Light"/>
              </a:rPr>
              <a:t>快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4"/>
          <p:cNvSpPr/>
          <p:nvPr/>
        </p:nvSpPr>
        <p:spPr>
          <a:xfrm>
            <a:off x="3898440" y="361800"/>
            <a:ext cx="435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b6768"/>
                </a:solidFill>
                <a:latin typeface="微软雅黑 Light"/>
                <a:ea typeface="微软雅黑 Light"/>
              </a:rPr>
              <a:t>你的节日礼物准备好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42"/>
          <p:cNvCxnSpPr/>
          <p:nvPr/>
        </p:nvCxnSpPr>
        <p:spPr>
          <a:xfrm>
            <a:off x="889200" y="1988640"/>
            <a:ext cx="10558800" cy="360"/>
          </a:xfrm>
          <a:prstGeom prst="straightConnector1">
            <a:avLst/>
          </a:prstGeom>
          <a:ln w="9525">
            <a:solidFill>
              <a:srgbClr val="0f1024"/>
            </a:solidFill>
          </a:ln>
        </p:spPr>
      </p:cxnSp>
      <p:sp>
        <p:nvSpPr>
          <p:cNvPr id="141" name="圆角矩形 37"/>
          <p:cNvSpPr/>
          <p:nvPr/>
        </p:nvSpPr>
        <p:spPr>
          <a:xfrm>
            <a:off x="6100920" y="1556640"/>
            <a:ext cx="2055240" cy="418320"/>
          </a:xfrm>
          <a:prstGeom prst="roundRect">
            <a:avLst>
              <a:gd name="adj" fmla="val 6906"/>
            </a:avLst>
          </a:prstGeom>
          <a:solidFill>
            <a:srgbClr val="ffca08"/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TextBox 43"/>
          <p:cNvSpPr/>
          <p:nvPr/>
        </p:nvSpPr>
        <p:spPr>
          <a:xfrm>
            <a:off x="6038640" y="1581480"/>
            <a:ext cx="217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6b6768"/>
                </a:solidFill>
                <a:latin typeface="微软雅黑 Light"/>
                <a:ea typeface="微软雅黑 Light"/>
              </a:rPr>
              <a:t>凹铭设计      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39"/>
          <p:cNvSpPr/>
          <p:nvPr/>
        </p:nvSpPr>
        <p:spPr>
          <a:xfrm flipV="1">
            <a:off x="3781080" y="2165400"/>
            <a:ext cx="4629600" cy="3657240"/>
          </a:xfrm>
          <a:prstGeom prst="triangle">
            <a:avLst>
              <a:gd name="adj" fmla="val 50000"/>
            </a:avLst>
          </a:prstGeom>
          <a:noFill/>
          <a:ln w="9525">
            <a:solidFill>
              <a:srgbClr val="0f1024"/>
            </a:solidFill>
            <a:prstDash val="sysDot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等腰三角形 48"/>
          <p:cNvSpPr/>
          <p:nvPr/>
        </p:nvSpPr>
        <p:spPr>
          <a:xfrm>
            <a:off x="6343200" y="2166480"/>
            <a:ext cx="4629600" cy="3657240"/>
          </a:xfrm>
          <a:prstGeom prst="triangle">
            <a:avLst>
              <a:gd name="adj" fmla="val 50000"/>
            </a:avLst>
          </a:prstGeom>
          <a:noFill/>
          <a:ln w="9525">
            <a:solidFill>
              <a:srgbClr val="0f1024"/>
            </a:solidFill>
            <a:prstDash val="sysDot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等腰三角形 49"/>
          <p:cNvSpPr/>
          <p:nvPr/>
        </p:nvSpPr>
        <p:spPr>
          <a:xfrm>
            <a:off x="1176840" y="2166480"/>
            <a:ext cx="4629600" cy="3657240"/>
          </a:xfrm>
          <a:prstGeom prst="triangle">
            <a:avLst>
              <a:gd name="adj" fmla="val 50000"/>
            </a:avLst>
          </a:prstGeom>
          <a:noFill/>
          <a:ln w="9525">
            <a:solidFill>
              <a:srgbClr val="0f1024"/>
            </a:solidFill>
            <a:prstDash val="sysDot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等腰三角形 50"/>
          <p:cNvSpPr/>
          <p:nvPr/>
        </p:nvSpPr>
        <p:spPr>
          <a:xfrm flipV="1">
            <a:off x="-1425240" y="2165400"/>
            <a:ext cx="4629600" cy="3657240"/>
          </a:xfrm>
          <a:prstGeom prst="triangle">
            <a:avLst>
              <a:gd name="adj" fmla="val 50000"/>
            </a:avLst>
          </a:prstGeom>
          <a:noFill/>
          <a:ln w="9525">
            <a:solidFill>
              <a:srgbClr val="0f1024"/>
            </a:solidFill>
            <a:prstDash val="sysDot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等腰三角形 51"/>
          <p:cNvSpPr/>
          <p:nvPr/>
        </p:nvSpPr>
        <p:spPr>
          <a:xfrm flipV="1">
            <a:off x="8924040" y="2165400"/>
            <a:ext cx="4629600" cy="3657240"/>
          </a:xfrm>
          <a:prstGeom prst="triangle">
            <a:avLst>
              <a:gd name="adj" fmla="val 50000"/>
            </a:avLst>
          </a:prstGeom>
          <a:noFill/>
          <a:ln w="9525">
            <a:solidFill>
              <a:srgbClr val="0f1024"/>
            </a:solidFill>
            <a:prstDash val="sysDot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椭圆 40"/>
          <p:cNvSpPr/>
          <p:nvPr/>
        </p:nvSpPr>
        <p:spPr>
          <a:xfrm>
            <a:off x="10299600" y="4931640"/>
            <a:ext cx="1878480" cy="1390680"/>
          </a:xfrm>
          <a:prstGeom prst="ellipse">
            <a:avLst/>
          </a:prstGeom>
          <a:pattFill prst="wdUpDiag">
            <a:fgClr>
              <a:srgbClr val="ffffff"/>
            </a:fgClr>
            <a:bgClr>
              <a:srgbClr val="e2f0d9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grpSp>
        <p:nvGrpSpPr>
          <p:cNvPr id="149" name="组合 25"/>
          <p:cNvGrpSpPr/>
          <p:nvPr/>
        </p:nvGrpSpPr>
        <p:grpSpPr>
          <a:xfrm>
            <a:off x="10518120" y="4886640"/>
            <a:ext cx="1525680" cy="1525680"/>
            <a:chOff x="10518120" y="4886640"/>
            <a:chExt cx="1525680" cy="1525680"/>
          </a:xfrm>
        </p:grpSpPr>
        <p:pic>
          <p:nvPicPr>
            <p:cNvPr id="150" name="Picture 4" descr="http://att.x2.hiapk.com/forum/month_1112/1112311108fef6d052845a9358.png"/>
            <p:cNvPicPr/>
            <p:nvPr/>
          </p:nvPicPr>
          <p:blipFill>
            <a:blip r:embed="rId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artisticPlasticWrap/>
                      </a14:imgEffect>
                    </a14:imgLayer>
                  </a14:imgProps>
                </a:ext>
              </a:extLst>
            </a:blip>
            <a:srcRect l="5858" t="23522" r="5858" b="23522"/>
            <a:stretch/>
          </p:blipFill>
          <p:spPr>
            <a:xfrm flipH="1">
              <a:off x="10518120" y="4886640"/>
              <a:ext cx="1525680" cy="152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组合 24"/>
            <p:cNvGrpSpPr/>
            <p:nvPr/>
          </p:nvGrpSpPr>
          <p:grpSpPr>
            <a:xfrm>
              <a:off x="11140560" y="5352840"/>
              <a:ext cx="412200" cy="60120"/>
              <a:chOff x="11140560" y="5352840"/>
              <a:chExt cx="412200" cy="60120"/>
            </a:xfrm>
          </p:grpSpPr>
          <p:sp>
            <p:nvSpPr>
              <p:cNvPr id="152" name="任意多边形 22"/>
              <p:cNvSpPr/>
              <p:nvPr/>
            </p:nvSpPr>
            <p:spPr>
              <a:xfrm flipH="1">
                <a:off x="11140560" y="5383080"/>
                <a:ext cx="241920" cy="29880"/>
              </a:xfrm>
              <a:custGeom>
                <a:avLst/>
                <a:gdLst>
                  <a:gd name="textAreaLeft" fmla="*/ 360 w 241920"/>
                  <a:gd name="textAreaRight" fmla="*/ 242640 w 2419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40501" h="80063">
                    <a:moveTo>
                      <a:pt x="0" y="0"/>
                    </a:moveTo>
                    <a:cubicBezTo>
                      <a:pt x="100429" y="18611"/>
                      <a:pt x="200859" y="37222"/>
                      <a:pt x="307609" y="50566"/>
                    </a:cubicBezTo>
                    <a:cubicBezTo>
                      <a:pt x="414359" y="63910"/>
                      <a:pt x="527430" y="71986"/>
                      <a:pt x="640501" y="80063"/>
                    </a:cubicBezTo>
                  </a:path>
                </a:pathLst>
              </a:custGeom>
              <a:solidFill>
                <a:srgbClr val="181a3b"/>
              </a:solidFill>
              <a:ln w="28575">
                <a:solidFill>
                  <a:srgbClr val="181a3b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3" name="任意多边形 23"/>
              <p:cNvSpPr/>
              <p:nvPr/>
            </p:nvSpPr>
            <p:spPr>
              <a:xfrm flipH="1">
                <a:off x="11438280" y="5352840"/>
                <a:ext cx="114480" cy="2340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303395" h="63208">
                    <a:moveTo>
                      <a:pt x="0" y="0"/>
                    </a:moveTo>
                    <a:cubicBezTo>
                      <a:pt x="54779" y="15801"/>
                      <a:pt x="109559" y="31603"/>
                      <a:pt x="160125" y="42138"/>
                    </a:cubicBezTo>
                    <a:cubicBezTo>
                      <a:pt x="210691" y="52673"/>
                      <a:pt x="257043" y="57940"/>
                      <a:pt x="303395" y="63208"/>
                    </a:cubicBezTo>
                  </a:path>
                </a:pathLst>
              </a:custGeom>
              <a:noFill/>
              <a:ln w="28575">
                <a:solidFill>
                  <a:srgbClr val="181a3b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1240" bIns="-21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54" name="组合 8"/>
          <p:cNvGrpSpPr/>
          <p:nvPr/>
        </p:nvGrpSpPr>
        <p:grpSpPr>
          <a:xfrm>
            <a:off x="-96840" y="5993280"/>
            <a:ext cx="12385440" cy="384120"/>
            <a:chOff x="-96840" y="5993280"/>
            <a:chExt cx="12385440" cy="384120"/>
          </a:xfrm>
        </p:grpSpPr>
        <p:grpSp>
          <p:nvGrpSpPr>
            <p:cNvPr id="155" name="组合 1"/>
            <p:cNvGrpSpPr/>
            <p:nvPr/>
          </p:nvGrpSpPr>
          <p:grpSpPr>
            <a:xfrm>
              <a:off x="-96840" y="5993280"/>
              <a:ext cx="4847760" cy="384120"/>
              <a:chOff x="-96840" y="5993280"/>
              <a:chExt cx="4847760" cy="384120"/>
            </a:xfrm>
          </p:grpSpPr>
          <p:sp>
            <p:nvSpPr>
              <p:cNvPr id="156" name="Freeform 9"/>
              <p:cNvSpPr/>
              <p:nvPr/>
            </p:nvSpPr>
            <p:spPr>
              <a:xfrm>
                <a:off x="94932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7" name="Freeform 9"/>
              <p:cNvSpPr/>
              <p:nvPr/>
            </p:nvSpPr>
            <p:spPr>
              <a:xfrm flipH="1">
                <a:off x="-96840" y="5993280"/>
                <a:ext cx="1049760" cy="384120"/>
              </a:xfrm>
              <a:custGeom>
                <a:avLst/>
                <a:gdLst>
                  <a:gd name="textAreaLeft" fmla="*/ 360 w 1049760"/>
                  <a:gd name="textAreaRight" fmla="*/ 105048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8" name="Freeform 9"/>
              <p:cNvSpPr/>
              <p:nvPr/>
            </p:nvSpPr>
            <p:spPr>
              <a:xfrm>
                <a:off x="179820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9" name="Freeform 9"/>
              <p:cNvSpPr/>
              <p:nvPr/>
            </p:nvSpPr>
            <p:spPr>
              <a:xfrm>
                <a:off x="277200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0116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61" name="组合 9"/>
            <p:cNvGrpSpPr/>
            <p:nvPr/>
          </p:nvGrpSpPr>
          <p:grpSpPr>
            <a:xfrm>
              <a:off x="4572000" y="5993280"/>
              <a:ext cx="4847760" cy="384120"/>
              <a:chOff x="4572000" y="5993280"/>
              <a:chExt cx="4847760" cy="384120"/>
            </a:xfrm>
          </p:grpSpPr>
          <p:sp>
            <p:nvSpPr>
              <p:cNvPr id="162" name="Freeform 9"/>
              <p:cNvSpPr/>
              <p:nvPr/>
            </p:nvSpPr>
            <p:spPr>
              <a:xfrm>
                <a:off x="561816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3" name="Freeform 9"/>
              <p:cNvSpPr/>
              <p:nvPr/>
            </p:nvSpPr>
            <p:spPr>
              <a:xfrm flipH="1">
                <a:off x="4572000" y="5993280"/>
                <a:ext cx="1049760" cy="384120"/>
              </a:xfrm>
              <a:custGeom>
                <a:avLst/>
                <a:gdLst>
                  <a:gd name="textAreaLeft" fmla="*/ 360 w 1049760"/>
                  <a:gd name="textAreaRight" fmla="*/ 105048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4" name="Freeform 9"/>
              <p:cNvSpPr/>
              <p:nvPr/>
            </p:nvSpPr>
            <p:spPr>
              <a:xfrm>
                <a:off x="646704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5" name="Freeform 9"/>
              <p:cNvSpPr/>
              <p:nvPr/>
            </p:nvSpPr>
            <p:spPr>
              <a:xfrm>
                <a:off x="744084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6" name="Freeform 9"/>
              <p:cNvSpPr/>
              <p:nvPr/>
            </p:nvSpPr>
            <p:spPr>
              <a:xfrm>
                <a:off x="837000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67" name="组合 15"/>
            <p:cNvGrpSpPr/>
            <p:nvPr/>
          </p:nvGrpSpPr>
          <p:grpSpPr>
            <a:xfrm>
              <a:off x="7440840" y="5993280"/>
              <a:ext cx="4847760" cy="384120"/>
              <a:chOff x="7440840" y="5993280"/>
              <a:chExt cx="4847760" cy="384120"/>
            </a:xfrm>
          </p:grpSpPr>
          <p:sp>
            <p:nvSpPr>
              <p:cNvPr id="168" name="Freeform 9"/>
              <p:cNvSpPr/>
              <p:nvPr/>
            </p:nvSpPr>
            <p:spPr>
              <a:xfrm>
                <a:off x="848700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 flipH="1">
                <a:off x="7440840" y="5993280"/>
                <a:ext cx="1049760" cy="384120"/>
              </a:xfrm>
              <a:custGeom>
                <a:avLst/>
                <a:gdLst>
                  <a:gd name="textAreaLeft" fmla="*/ 360 w 1049760"/>
                  <a:gd name="textAreaRight" fmla="*/ 105048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70" name="Freeform 9"/>
              <p:cNvSpPr/>
              <p:nvPr/>
            </p:nvSpPr>
            <p:spPr>
              <a:xfrm>
                <a:off x="933588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71" name="Freeform 9"/>
              <p:cNvSpPr/>
              <p:nvPr/>
            </p:nvSpPr>
            <p:spPr>
              <a:xfrm>
                <a:off x="1030968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>
                <a:off x="11238840" y="5993280"/>
                <a:ext cx="1049760" cy="384120"/>
              </a:xfrm>
              <a:custGeom>
                <a:avLst/>
                <a:gdLst>
                  <a:gd name="textAreaLeft" fmla="*/ 0 w 1049760"/>
                  <a:gd name="textAreaRight" fmla="*/ 1050120 w 1049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68" h="111">
                    <a:moveTo>
                      <a:pt x="253" y="55"/>
                    </a:moveTo>
                    <a:cubicBezTo>
                      <a:pt x="253" y="55"/>
                      <a:pt x="251" y="19"/>
                      <a:pt x="235" y="4"/>
                    </a:cubicBezTo>
                    <a:cubicBezTo>
                      <a:pt x="235" y="4"/>
                      <a:pt x="240" y="35"/>
                      <a:pt x="235" y="53"/>
                    </a:cubicBezTo>
                    <a:cubicBezTo>
                      <a:pt x="235" y="53"/>
                      <a:pt x="220" y="34"/>
                      <a:pt x="220" y="10"/>
                    </a:cubicBezTo>
                    <a:cubicBezTo>
                      <a:pt x="220" y="10"/>
                      <a:pt x="210" y="30"/>
                      <a:pt x="210" y="49"/>
                    </a:cubicBezTo>
                    <a:cubicBezTo>
                      <a:pt x="210" y="49"/>
                      <a:pt x="205" y="20"/>
                      <a:pt x="193" y="7"/>
                    </a:cubicBezTo>
                    <a:cubicBezTo>
                      <a:pt x="193" y="7"/>
                      <a:pt x="193" y="30"/>
                      <a:pt x="188" y="43"/>
                    </a:cubicBezTo>
                    <a:cubicBezTo>
                      <a:pt x="188" y="43"/>
                      <a:pt x="173" y="21"/>
                      <a:pt x="178" y="0"/>
                    </a:cubicBezTo>
                    <a:cubicBezTo>
                      <a:pt x="178" y="0"/>
                      <a:pt x="160" y="18"/>
                      <a:pt x="165" y="41"/>
                    </a:cubicBezTo>
                    <a:cubicBezTo>
                      <a:pt x="165" y="41"/>
                      <a:pt x="154" y="19"/>
                      <a:pt x="157" y="2"/>
                    </a:cubicBezTo>
                    <a:cubicBezTo>
                      <a:pt x="157" y="2"/>
                      <a:pt x="142" y="18"/>
                      <a:pt x="144" y="39"/>
                    </a:cubicBezTo>
                    <a:cubicBezTo>
                      <a:pt x="144" y="39"/>
                      <a:pt x="141" y="16"/>
                      <a:pt x="122" y="5"/>
                    </a:cubicBezTo>
                    <a:cubicBezTo>
                      <a:pt x="122" y="5"/>
                      <a:pt x="131" y="22"/>
                      <a:pt x="122" y="45"/>
                    </a:cubicBezTo>
                    <a:cubicBezTo>
                      <a:pt x="122" y="45"/>
                      <a:pt x="106" y="21"/>
                      <a:pt x="108" y="7"/>
                    </a:cubicBezTo>
                    <a:cubicBezTo>
                      <a:pt x="108" y="7"/>
                      <a:pt x="100" y="17"/>
                      <a:pt x="100" y="28"/>
                    </a:cubicBezTo>
                    <a:cubicBezTo>
                      <a:pt x="98" y="21"/>
                      <a:pt x="94" y="10"/>
                      <a:pt x="83" y="3"/>
                    </a:cubicBezTo>
                    <a:cubicBezTo>
                      <a:pt x="83" y="3"/>
                      <a:pt x="95" y="29"/>
                      <a:pt x="80" y="47"/>
                    </a:cubicBezTo>
                    <a:cubicBezTo>
                      <a:pt x="80" y="47"/>
                      <a:pt x="66" y="37"/>
                      <a:pt x="69" y="18"/>
                    </a:cubicBezTo>
                    <a:cubicBezTo>
                      <a:pt x="69" y="18"/>
                      <a:pt x="56" y="33"/>
                      <a:pt x="61" y="53"/>
                    </a:cubicBezTo>
                    <a:cubicBezTo>
                      <a:pt x="61" y="53"/>
                      <a:pt x="43" y="37"/>
                      <a:pt x="51" y="7"/>
                    </a:cubicBezTo>
                    <a:cubicBezTo>
                      <a:pt x="51" y="7"/>
                      <a:pt x="36" y="18"/>
                      <a:pt x="37" y="41"/>
                    </a:cubicBezTo>
                    <a:cubicBezTo>
                      <a:pt x="35" y="33"/>
                      <a:pt x="30" y="21"/>
                      <a:pt x="19" y="13"/>
                    </a:cubicBezTo>
                    <a:cubicBezTo>
                      <a:pt x="19" y="13"/>
                      <a:pt x="25" y="27"/>
                      <a:pt x="22" y="44"/>
                    </a:cubicBezTo>
                    <a:cubicBezTo>
                      <a:pt x="22" y="44"/>
                      <a:pt x="18" y="23"/>
                      <a:pt x="0" y="13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262" y="111"/>
                      <a:pt x="262" y="111"/>
                      <a:pt x="262" y="111"/>
                    </a:cubicBezTo>
                    <a:cubicBezTo>
                      <a:pt x="262" y="73"/>
                      <a:pt x="264" y="45"/>
                      <a:pt x="268" y="30"/>
                    </a:cubicBezTo>
                    <a:cubicBezTo>
                      <a:pt x="268" y="30"/>
                      <a:pt x="259" y="38"/>
                      <a:pt x="253" y="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48235"/>
                  </a:gs>
                  <a:gs pos="50000">
                    <a:srgbClr val="385623"/>
                  </a:gs>
                  <a:gs pos="100000">
                    <a:srgbClr val="5482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73" name="TextBox 44"/>
          <p:cNvSpPr/>
          <p:nvPr/>
        </p:nvSpPr>
        <p:spPr>
          <a:xfrm>
            <a:off x="27000" y="2433240"/>
            <a:ext cx="2299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5e66ff">
                    <a:alpha val="15000"/>
                  </a:srgbClr>
                </a:solidFill>
                <a:latin typeface="方正静蕾简体"/>
                <a:ea typeface="方正静蕾简体"/>
              </a:rPr>
              <a:t>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5"/>
          <p:cNvSpPr/>
          <p:nvPr/>
        </p:nvSpPr>
        <p:spPr>
          <a:xfrm>
            <a:off x="2345760" y="3889800"/>
            <a:ext cx="2299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5e66ff">
                    <a:alpha val="15000"/>
                  </a:srgbClr>
                </a:solidFill>
                <a:latin typeface="方正静蕾简体"/>
                <a:ea typeface="方正静蕾简体"/>
              </a:rPr>
              <a:t>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4993200" y="2433240"/>
            <a:ext cx="2299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5e66ff">
                    <a:alpha val="15000"/>
                  </a:srgbClr>
                </a:solidFill>
                <a:latin typeface="方正静蕾简体"/>
                <a:ea typeface="方正静蕾简体"/>
              </a:rPr>
              <a:t>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7"/>
          <p:cNvSpPr/>
          <p:nvPr/>
        </p:nvSpPr>
        <p:spPr>
          <a:xfrm>
            <a:off x="7508160" y="3889800"/>
            <a:ext cx="2299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5e66ff">
                    <a:alpha val="15000"/>
                  </a:srgbClr>
                </a:solidFill>
                <a:latin typeface="方正静蕾简体"/>
                <a:ea typeface="方正静蕾简体"/>
              </a:rPr>
              <a:t>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2"/>
          <p:cNvSpPr/>
          <p:nvPr/>
        </p:nvSpPr>
        <p:spPr>
          <a:xfrm>
            <a:off x="9969480" y="2433240"/>
            <a:ext cx="2299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5e66ff">
                    <a:alpha val="15000"/>
                  </a:srgbClr>
                </a:solidFill>
                <a:latin typeface="方正静蕾简体"/>
                <a:ea typeface="方正静蕾简体"/>
              </a:rPr>
              <a:t>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6" descr=""/>
          <p:cNvPicPr/>
          <p:nvPr/>
        </p:nvPicPr>
        <p:blipFill>
          <a:blip r:embed="rId5"/>
          <a:stretch/>
        </p:blipFill>
        <p:spPr>
          <a:xfrm>
            <a:off x="3301920" y="580320"/>
            <a:ext cx="32918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eaf0f0"/>
          </a:solidFill>
          <a:ln w="57150">
            <a:solidFill>
              <a:srgbClr val="0f1024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1122480" y="1430280"/>
            <a:ext cx="1408680" cy="3997440"/>
          </a:xfrm>
          <a:prstGeom prst="rect">
            <a:avLst/>
          </a:prstGeom>
          <a:solidFill>
            <a:srgbClr val="181a3b">
              <a:alpha val="10000"/>
            </a:srgbClr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" name="矩形 36"/>
          <p:cNvSpPr/>
          <p:nvPr/>
        </p:nvSpPr>
        <p:spPr>
          <a:xfrm>
            <a:off x="2531880" y="1430280"/>
            <a:ext cx="1467000" cy="3997440"/>
          </a:xfrm>
          <a:prstGeom prst="rect">
            <a:avLst/>
          </a:prstGeom>
          <a:solidFill>
            <a:srgbClr val="181a3b">
              <a:alpha val="5000"/>
            </a:srgbClr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2" name="矩形 37"/>
          <p:cNvSpPr/>
          <p:nvPr/>
        </p:nvSpPr>
        <p:spPr>
          <a:xfrm>
            <a:off x="3999240" y="1430280"/>
            <a:ext cx="1437840" cy="3997440"/>
          </a:xfrm>
          <a:prstGeom prst="rect">
            <a:avLst/>
          </a:prstGeom>
          <a:solidFill>
            <a:srgbClr val="181a3b">
              <a:alpha val="10000"/>
            </a:srgbClr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3" name="矩形 38"/>
          <p:cNvSpPr/>
          <p:nvPr/>
        </p:nvSpPr>
        <p:spPr>
          <a:xfrm>
            <a:off x="5437440" y="1430280"/>
            <a:ext cx="1437840" cy="3997440"/>
          </a:xfrm>
          <a:prstGeom prst="rect">
            <a:avLst/>
          </a:prstGeom>
          <a:solidFill>
            <a:srgbClr val="181a3b">
              <a:alpha val="5000"/>
            </a:srgbClr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4" name="矩形 39"/>
          <p:cNvSpPr/>
          <p:nvPr/>
        </p:nvSpPr>
        <p:spPr>
          <a:xfrm>
            <a:off x="6875640" y="1430280"/>
            <a:ext cx="1437840" cy="3997440"/>
          </a:xfrm>
          <a:prstGeom prst="rect">
            <a:avLst/>
          </a:prstGeom>
          <a:solidFill>
            <a:srgbClr val="181a3b">
              <a:alpha val="10000"/>
            </a:srgbClr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5" name="矩形 40"/>
          <p:cNvSpPr/>
          <p:nvPr/>
        </p:nvSpPr>
        <p:spPr>
          <a:xfrm>
            <a:off x="8313840" y="1430280"/>
            <a:ext cx="1346040" cy="3997440"/>
          </a:xfrm>
          <a:prstGeom prst="rect">
            <a:avLst/>
          </a:prstGeom>
          <a:solidFill>
            <a:srgbClr val="181a3b">
              <a:alpha val="5000"/>
            </a:srgbClr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6" name="矩形 41"/>
          <p:cNvSpPr/>
          <p:nvPr/>
        </p:nvSpPr>
        <p:spPr>
          <a:xfrm>
            <a:off x="9660240" y="1430280"/>
            <a:ext cx="1408680" cy="3997440"/>
          </a:xfrm>
          <a:prstGeom prst="rect">
            <a:avLst/>
          </a:prstGeom>
          <a:solidFill>
            <a:srgbClr val="181a3b">
              <a:alpha val="10000"/>
            </a:srgbClr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1122480" y="1430280"/>
            <a:ext cx="9946440" cy="3997440"/>
          </a:xfrm>
          <a:prstGeom prst="rect">
            <a:avLst/>
          </a:prstGeom>
          <a:noFill/>
          <a:ln w="19050">
            <a:solidFill>
              <a:srgbClr val="0f1024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8" name="组合 18"/>
          <p:cNvGrpSpPr/>
          <p:nvPr/>
        </p:nvGrpSpPr>
        <p:grpSpPr>
          <a:xfrm>
            <a:off x="921240" y="1259280"/>
            <a:ext cx="10349280" cy="4339440"/>
            <a:chOff x="921240" y="1259280"/>
            <a:chExt cx="10349280" cy="4339440"/>
          </a:xfrm>
        </p:grpSpPr>
        <p:grpSp>
          <p:nvGrpSpPr>
            <p:cNvPr id="189" name="组合 17"/>
            <p:cNvGrpSpPr/>
            <p:nvPr/>
          </p:nvGrpSpPr>
          <p:grpSpPr>
            <a:xfrm>
              <a:off x="921240" y="1259280"/>
              <a:ext cx="1609920" cy="4339080"/>
              <a:chOff x="921240" y="1259280"/>
              <a:chExt cx="1609920" cy="4339080"/>
            </a:xfrm>
          </p:grpSpPr>
          <p:grpSp>
            <p:nvGrpSpPr>
              <p:cNvPr id="190" name="组合 6"/>
              <p:cNvGrpSpPr/>
              <p:nvPr/>
            </p:nvGrpSpPr>
            <p:grpSpPr>
              <a:xfrm>
                <a:off x="921240" y="1259280"/>
                <a:ext cx="1609920" cy="1366560"/>
                <a:chOff x="921240" y="1259280"/>
                <a:chExt cx="1609920" cy="1366560"/>
              </a:xfrm>
            </p:grpSpPr>
            <p:sp>
              <p:nvSpPr>
                <p:cNvPr id="191" name="矩形 4"/>
                <p:cNvSpPr/>
                <p:nvPr/>
              </p:nvSpPr>
              <p:spPr>
                <a:xfrm>
                  <a:off x="921240" y="1259280"/>
                  <a:ext cx="1609920" cy="341280"/>
                </a:xfrm>
                <a:prstGeom prst="rect">
                  <a:avLst/>
                </a:prstGeom>
                <a:solidFill>
                  <a:srgbClr val="181a3b"/>
                </a:solidFill>
                <a:ln w="57150">
                  <a:noFill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92" name="矩形 5"/>
                <p:cNvSpPr/>
                <p:nvPr/>
              </p:nvSpPr>
              <p:spPr>
                <a:xfrm rot="5400000">
                  <a:off x="439560" y="1741320"/>
                  <a:ext cx="1366560" cy="402120"/>
                </a:xfrm>
                <a:prstGeom prst="rect">
                  <a:avLst/>
                </a:prstGeom>
                <a:solidFill>
                  <a:srgbClr val="181a3b"/>
                </a:solidFill>
                <a:ln w="57150">
                  <a:noFill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93" name="组合 10"/>
              <p:cNvGrpSpPr/>
              <p:nvPr/>
            </p:nvGrpSpPr>
            <p:grpSpPr>
              <a:xfrm>
                <a:off x="921240" y="4231800"/>
                <a:ext cx="1609920" cy="1366560"/>
                <a:chOff x="921240" y="4231800"/>
                <a:chExt cx="1609920" cy="1366560"/>
              </a:xfrm>
            </p:grpSpPr>
            <p:sp>
              <p:nvSpPr>
                <p:cNvPr id="194" name="矩形 11"/>
                <p:cNvSpPr/>
                <p:nvPr/>
              </p:nvSpPr>
              <p:spPr>
                <a:xfrm flipV="1">
                  <a:off x="921240" y="5257080"/>
                  <a:ext cx="1609920" cy="341280"/>
                </a:xfrm>
                <a:prstGeom prst="rect">
                  <a:avLst/>
                </a:prstGeom>
                <a:solidFill>
                  <a:srgbClr val="181a3b"/>
                </a:solidFill>
                <a:ln w="57150">
                  <a:noFill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95" name="矩形 12"/>
                <p:cNvSpPr/>
                <p:nvPr/>
              </p:nvSpPr>
              <p:spPr>
                <a:xfrm flipV="1" rot="16200000">
                  <a:off x="439560" y="4713840"/>
                  <a:ext cx="1366560" cy="402120"/>
                </a:xfrm>
                <a:prstGeom prst="rect">
                  <a:avLst/>
                </a:prstGeom>
                <a:solidFill>
                  <a:srgbClr val="181a3b"/>
                </a:solidFill>
                <a:ln w="57150">
                  <a:noFill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96" name="组合 16"/>
            <p:cNvGrpSpPr/>
            <p:nvPr/>
          </p:nvGrpSpPr>
          <p:grpSpPr>
            <a:xfrm>
              <a:off x="9660240" y="1259280"/>
              <a:ext cx="1610280" cy="4339440"/>
              <a:chOff x="9660240" y="1259280"/>
              <a:chExt cx="1610280" cy="4339440"/>
            </a:xfrm>
          </p:grpSpPr>
          <p:grpSp>
            <p:nvGrpSpPr>
              <p:cNvPr id="197" name="组合 7"/>
              <p:cNvGrpSpPr/>
              <p:nvPr/>
            </p:nvGrpSpPr>
            <p:grpSpPr>
              <a:xfrm>
                <a:off x="9660240" y="1259280"/>
                <a:ext cx="1609920" cy="1366560"/>
                <a:chOff x="9660240" y="1259280"/>
                <a:chExt cx="1609920" cy="1366560"/>
              </a:xfrm>
            </p:grpSpPr>
            <p:sp>
              <p:nvSpPr>
                <p:cNvPr id="198" name="矩形 8"/>
                <p:cNvSpPr/>
                <p:nvPr/>
              </p:nvSpPr>
              <p:spPr>
                <a:xfrm flipH="1">
                  <a:off x="9660240" y="1259280"/>
                  <a:ext cx="1609920" cy="341280"/>
                </a:xfrm>
                <a:prstGeom prst="rect">
                  <a:avLst/>
                </a:prstGeom>
                <a:solidFill>
                  <a:srgbClr val="181a3b"/>
                </a:solidFill>
                <a:ln w="57150">
                  <a:noFill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99" name="矩形 9"/>
                <p:cNvSpPr/>
                <p:nvPr/>
              </p:nvSpPr>
              <p:spPr>
                <a:xfrm flipH="1" rot="16200000">
                  <a:off x="10385280" y="1741320"/>
                  <a:ext cx="1366560" cy="402120"/>
                </a:xfrm>
                <a:prstGeom prst="rect">
                  <a:avLst/>
                </a:prstGeom>
                <a:solidFill>
                  <a:srgbClr val="181a3b"/>
                </a:solidFill>
                <a:ln w="57150">
                  <a:noFill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00" name="组合 13"/>
              <p:cNvGrpSpPr/>
              <p:nvPr/>
            </p:nvGrpSpPr>
            <p:grpSpPr>
              <a:xfrm>
                <a:off x="9660600" y="4232160"/>
                <a:ext cx="1609920" cy="1366560"/>
                <a:chOff x="9660600" y="4232160"/>
                <a:chExt cx="1609920" cy="1366560"/>
              </a:xfrm>
            </p:grpSpPr>
            <p:sp>
              <p:nvSpPr>
                <p:cNvPr id="201" name="矩形 14"/>
                <p:cNvSpPr/>
                <p:nvPr/>
              </p:nvSpPr>
              <p:spPr>
                <a:xfrm rot="10800000">
                  <a:off x="9660600" y="5257440"/>
                  <a:ext cx="1609920" cy="341280"/>
                </a:xfrm>
                <a:prstGeom prst="rect">
                  <a:avLst/>
                </a:prstGeom>
                <a:solidFill>
                  <a:srgbClr val="181a3b"/>
                </a:solidFill>
                <a:ln w="57150">
                  <a:noFill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02" name="矩形 15"/>
                <p:cNvSpPr/>
                <p:nvPr/>
              </p:nvSpPr>
              <p:spPr>
                <a:xfrm rot="16200000">
                  <a:off x="10385640" y="4714200"/>
                  <a:ext cx="1366560" cy="402120"/>
                </a:xfrm>
                <a:prstGeom prst="rect">
                  <a:avLst/>
                </a:prstGeom>
                <a:solidFill>
                  <a:srgbClr val="181a3b"/>
                </a:solidFill>
                <a:ln w="57150">
                  <a:noFill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</p:grpSp>
      <p:sp>
        <p:nvSpPr>
          <p:cNvPr id="203" name="TextBox 20"/>
          <p:cNvSpPr/>
          <p:nvPr/>
        </p:nvSpPr>
        <p:spPr>
          <a:xfrm>
            <a:off x="4287960" y="2587320"/>
            <a:ext cx="3615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3c4395">
                    <a:alpha val="90000"/>
                  </a:srgbClr>
                </a:solidFill>
                <a:latin typeface="华康俪金黑W8(P)"/>
                <a:ea typeface="华康俪金黑W8(P)"/>
              </a:rPr>
              <a:t>关键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1"/>
          <p:cNvSpPr/>
          <p:nvPr/>
        </p:nvSpPr>
        <p:spPr>
          <a:xfrm>
            <a:off x="4367880" y="2329200"/>
            <a:ext cx="3535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f1024">
                    <a:alpha val="90000"/>
                  </a:srgbClr>
                </a:solidFill>
                <a:latin typeface="华康俪金黑W8(P)"/>
                <a:ea typeface="华康俪金黑W8(P)"/>
              </a:rPr>
              <a:t>逗逼文案遇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连接符 23"/>
          <p:cNvCxnSpPr/>
          <p:nvPr/>
        </p:nvCxnSpPr>
        <p:spPr>
          <a:xfrm>
            <a:off x="4367520" y="3979800"/>
            <a:ext cx="3536640" cy="36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sp>
        <p:nvSpPr>
          <p:cNvPr id="206" name="矩形 25"/>
          <p:cNvSpPr/>
          <p:nvPr/>
        </p:nvSpPr>
        <p:spPr>
          <a:xfrm>
            <a:off x="4367880" y="3907800"/>
            <a:ext cx="539640" cy="143640"/>
          </a:xfrm>
          <a:prstGeom prst="rect">
            <a:avLst/>
          </a:prstGeom>
          <a:solidFill>
            <a:srgbClr val="181a3b"/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矩形 26"/>
          <p:cNvSpPr/>
          <p:nvPr/>
        </p:nvSpPr>
        <p:spPr>
          <a:xfrm>
            <a:off x="7364160" y="3907800"/>
            <a:ext cx="539640" cy="143640"/>
          </a:xfrm>
          <a:prstGeom prst="rect">
            <a:avLst/>
          </a:prstGeom>
          <a:solidFill>
            <a:srgbClr val="181a3b"/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08" name="图片 44" descr=""/>
          <p:cNvPicPr/>
          <p:nvPr/>
        </p:nvPicPr>
        <p:blipFill>
          <a:blip r:embed="rId1"/>
          <a:stretch/>
        </p:blipFill>
        <p:spPr>
          <a:xfrm flipH="1">
            <a:off x="5664240" y="56624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700200" y="62499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eaf0f0"/>
          </a:solidFill>
          <a:ln w="57150">
            <a:solidFill>
              <a:srgbClr val="0f1024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1" name="图片 74" descr=""/>
          <p:cNvPicPr/>
          <p:nvPr/>
        </p:nvPicPr>
        <p:blipFill>
          <a:blip r:embed="rId1"/>
          <a:stretch/>
        </p:blipFill>
        <p:spPr>
          <a:xfrm flipH="1">
            <a:off x="5598000" y="5097240"/>
            <a:ext cx="863640" cy="863640"/>
          </a:xfrm>
          <a:prstGeom prst="rect">
            <a:avLst/>
          </a:prstGeom>
          <a:ln w="0">
            <a:noFill/>
          </a:ln>
        </p:spPr>
      </p:pic>
      <p:cxnSp>
        <p:nvCxnSpPr>
          <p:cNvPr id="212" name="直接连接符 5"/>
          <p:cNvCxnSpPr>
            <a:endCxn id="213" idx="0"/>
          </p:cNvCxnSpPr>
          <p:nvPr/>
        </p:nvCxnSpPr>
        <p:spPr>
          <a:xfrm>
            <a:off x="3179160" y="2030400"/>
            <a:ext cx="360" cy="172152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14" name="直接连接符 6"/>
          <p:cNvCxnSpPr/>
          <p:nvPr/>
        </p:nvCxnSpPr>
        <p:spPr>
          <a:xfrm>
            <a:off x="353304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15" name="直接连接符 7"/>
          <p:cNvCxnSpPr/>
          <p:nvPr/>
        </p:nvCxnSpPr>
        <p:spPr>
          <a:xfrm>
            <a:off x="388728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16" name="直接连接符 8"/>
          <p:cNvCxnSpPr/>
          <p:nvPr/>
        </p:nvCxnSpPr>
        <p:spPr>
          <a:xfrm>
            <a:off x="424116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17" name="直接连接符 9"/>
          <p:cNvCxnSpPr/>
          <p:nvPr/>
        </p:nvCxnSpPr>
        <p:spPr>
          <a:xfrm>
            <a:off x="459540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18" name="直接连接符 10"/>
          <p:cNvCxnSpPr/>
          <p:nvPr/>
        </p:nvCxnSpPr>
        <p:spPr>
          <a:xfrm>
            <a:off x="494964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19" name="直接连接符 11"/>
          <p:cNvCxnSpPr/>
          <p:nvPr/>
        </p:nvCxnSpPr>
        <p:spPr>
          <a:xfrm>
            <a:off x="530352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20" name="直接连接符 12"/>
          <p:cNvCxnSpPr/>
          <p:nvPr/>
        </p:nvCxnSpPr>
        <p:spPr>
          <a:xfrm>
            <a:off x="565776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21" name="直接连接符 13"/>
          <p:cNvCxnSpPr/>
          <p:nvPr/>
        </p:nvCxnSpPr>
        <p:spPr>
          <a:xfrm>
            <a:off x="601200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22" name="直接连接符 14"/>
          <p:cNvCxnSpPr/>
          <p:nvPr/>
        </p:nvCxnSpPr>
        <p:spPr>
          <a:xfrm>
            <a:off x="636588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23" name="直接连接符 15"/>
          <p:cNvCxnSpPr/>
          <p:nvPr/>
        </p:nvCxnSpPr>
        <p:spPr>
          <a:xfrm>
            <a:off x="672012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24" name="直接连接符 16"/>
          <p:cNvCxnSpPr/>
          <p:nvPr/>
        </p:nvCxnSpPr>
        <p:spPr>
          <a:xfrm>
            <a:off x="707400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25" name="直接连接符 17"/>
          <p:cNvCxnSpPr/>
          <p:nvPr/>
        </p:nvCxnSpPr>
        <p:spPr>
          <a:xfrm>
            <a:off x="742824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26" name="直接连接符 18"/>
          <p:cNvCxnSpPr/>
          <p:nvPr/>
        </p:nvCxnSpPr>
        <p:spPr>
          <a:xfrm>
            <a:off x="778248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sp>
        <p:nvSpPr>
          <p:cNvPr id="227" name="直角三角形 20"/>
          <p:cNvSpPr/>
          <p:nvPr/>
        </p:nvSpPr>
        <p:spPr>
          <a:xfrm flipH="1" flipV="1">
            <a:off x="3179160" y="2029680"/>
            <a:ext cx="4616640" cy="1115640"/>
          </a:xfrm>
          <a:prstGeom prst="rtTriangle">
            <a:avLst/>
          </a:prstGeom>
          <a:solidFill>
            <a:srgbClr val="181a3b"/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直角三角形 21"/>
          <p:cNvSpPr/>
          <p:nvPr/>
        </p:nvSpPr>
        <p:spPr>
          <a:xfrm>
            <a:off x="3179160" y="3751560"/>
            <a:ext cx="4602960" cy="1115640"/>
          </a:xfrm>
          <a:prstGeom prst="rtTriangle">
            <a:avLst/>
          </a:prstGeom>
          <a:solidFill>
            <a:srgbClr val="181a3b"/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8" name="直接连接符 27"/>
          <p:cNvCxnSpPr/>
          <p:nvPr/>
        </p:nvCxnSpPr>
        <p:spPr>
          <a:xfrm>
            <a:off x="1238580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29" name="直接连接符 28"/>
          <p:cNvCxnSpPr/>
          <p:nvPr/>
        </p:nvCxnSpPr>
        <p:spPr>
          <a:xfrm>
            <a:off x="1203156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30" name="直接连接符 29"/>
          <p:cNvCxnSpPr/>
          <p:nvPr/>
        </p:nvCxnSpPr>
        <p:spPr>
          <a:xfrm>
            <a:off x="1167768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31" name="直接连接符 30"/>
          <p:cNvCxnSpPr/>
          <p:nvPr/>
        </p:nvCxnSpPr>
        <p:spPr>
          <a:xfrm>
            <a:off x="1132344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32" name="直接连接符 31"/>
          <p:cNvCxnSpPr/>
          <p:nvPr/>
        </p:nvCxnSpPr>
        <p:spPr>
          <a:xfrm>
            <a:off x="1096920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33" name="直接连接符 32"/>
          <p:cNvCxnSpPr/>
          <p:nvPr/>
        </p:nvCxnSpPr>
        <p:spPr>
          <a:xfrm>
            <a:off x="1061532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34" name="直接连接符 33"/>
          <p:cNvCxnSpPr/>
          <p:nvPr/>
        </p:nvCxnSpPr>
        <p:spPr>
          <a:xfrm>
            <a:off x="1026108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35" name="直接连接符 34"/>
          <p:cNvCxnSpPr/>
          <p:nvPr/>
        </p:nvCxnSpPr>
        <p:spPr>
          <a:xfrm>
            <a:off x="990720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36" name="直接连接符 35"/>
          <p:cNvCxnSpPr/>
          <p:nvPr/>
        </p:nvCxnSpPr>
        <p:spPr>
          <a:xfrm>
            <a:off x="955296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37" name="直接连接符 36"/>
          <p:cNvCxnSpPr/>
          <p:nvPr/>
        </p:nvCxnSpPr>
        <p:spPr>
          <a:xfrm>
            <a:off x="919872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38" name="直接连接符 37"/>
          <p:cNvCxnSpPr/>
          <p:nvPr/>
        </p:nvCxnSpPr>
        <p:spPr>
          <a:xfrm>
            <a:off x="884484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39" name="直接连接符 38"/>
          <p:cNvCxnSpPr/>
          <p:nvPr/>
        </p:nvCxnSpPr>
        <p:spPr>
          <a:xfrm>
            <a:off x="849060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40" name="直接连接符 39"/>
          <p:cNvCxnSpPr/>
          <p:nvPr/>
        </p:nvCxnSpPr>
        <p:spPr>
          <a:xfrm>
            <a:off x="813636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41" name="直接连接符 40"/>
          <p:cNvCxnSpPr/>
          <p:nvPr/>
        </p:nvCxnSpPr>
        <p:spPr>
          <a:xfrm>
            <a:off x="778248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sp>
        <p:nvSpPr>
          <p:cNvPr id="242" name="直角三角形 25"/>
          <p:cNvSpPr/>
          <p:nvPr/>
        </p:nvSpPr>
        <p:spPr>
          <a:xfrm flipV="1">
            <a:off x="7769160" y="2029320"/>
            <a:ext cx="4616640" cy="1115640"/>
          </a:xfrm>
          <a:prstGeom prst="rtTriangle">
            <a:avLst/>
          </a:prstGeom>
          <a:solidFill>
            <a:srgbClr val="181a3b"/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直角三角形 26"/>
          <p:cNvSpPr/>
          <p:nvPr/>
        </p:nvSpPr>
        <p:spPr>
          <a:xfrm flipH="1">
            <a:off x="7782480" y="3751560"/>
            <a:ext cx="4602960" cy="1115640"/>
          </a:xfrm>
          <a:prstGeom prst="rtTriangle">
            <a:avLst/>
          </a:prstGeom>
          <a:solidFill>
            <a:srgbClr val="181a3b"/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44" name="直接连接符 45"/>
          <p:cNvCxnSpPr>
            <a:endCxn id="213" idx="0"/>
          </p:cNvCxnSpPr>
          <p:nvPr/>
        </p:nvCxnSpPr>
        <p:spPr>
          <a:xfrm>
            <a:off x="3174480" y="2030400"/>
            <a:ext cx="5040" cy="172152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45" name="直接连接符 46"/>
          <p:cNvCxnSpPr/>
          <p:nvPr/>
        </p:nvCxnSpPr>
        <p:spPr>
          <a:xfrm>
            <a:off x="282024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46" name="直接连接符 47"/>
          <p:cNvCxnSpPr/>
          <p:nvPr/>
        </p:nvCxnSpPr>
        <p:spPr>
          <a:xfrm>
            <a:off x="246636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47" name="直接连接符 48"/>
          <p:cNvCxnSpPr/>
          <p:nvPr/>
        </p:nvCxnSpPr>
        <p:spPr>
          <a:xfrm>
            <a:off x="211212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48" name="直接连接符 49"/>
          <p:cNvCxnSpPr/>
          <p:nvPr/>
        </p:nvCxnSpPr>
        <p:spPr>
          <a:xfrm>
            <a:off x="175824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49" name="直接连接符 50"/>
          <p:cNvCxnSpPr/>
          <p:nvPr/>
        </p:nvCxnSpPr>
        <p:spPr>
          <a:xfrm>
            <a:off x="140400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50" name="直接连接符 51"/>
          <p:cNvCxnSpPr/>
          <p:nvPr/>
        </p:nvCxnSpPr>
        <p:spPr>
          <a:xfrm>
            <a:off x="104976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51" name="直接连接符 52"/>
          <p:cNvCxnSpPr/>
          <p:nvPr/>
        </p:nvCxnSpPr>
        <p:spPr>
          <a:xfrm>
            <a:off x="69588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52" name="直接连接符 53"/>
          <p:cNvCxnSpPr/>
          <p:nvPr/>
        </p:nvCxnSpPr>
        <p:spPr>
          <a:xfrm>
            <a:off x="34164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53" name="直接连接符 54"/>
          <p:cNvCxnSpPr/>
          <p:nvPr/>
        </p:nvCxnSpPr>
        <p:spPr>
          <a:xfrm>
            <a:off x="-1224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54" name="直接连接符 55"/>
          <p:cNvCxnSpPr/>
          <p:nvPr/>
        </p:nvCxnSpPr>
        <p:spPr>
          <a:xfrm>
            <a:off x="-36612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55" name="直接连接符 56"/>
          <p:cNvCxnSpPr/>
          <p:nvPr/>
        </p:nvCxnSpPr>
        <p:spPr>
          <a:xfrm>
            <a:off x="-72036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56" name="直接连接符 57"/>
          <p:cNvCxnSpPr/>
          <p:nvPr/>
        </p:nvCxnSpPr>
        <p:spPr>
          <a:xfrm>
            <a:off x="-107424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57" name="直接连接符 58"/>
          <p:cNvCxnSpPr/>
          <p:nvPr/>
        </p:nvCxnSpPr>
        <p:spPr>
          <a:xfrm>
            <a:off x="-1428480" y="2030400"/>
            <a:ext cx="360" cy="279720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sp>
        <p:nvSpPr>
          <p:cNvPr id="258" name="直角三角形 43"/>
          <p:cNvSpPr/>
          <p:nvPr/>
        </p:nvSpPr>
        <p:spPr>
          <a:xfrm flipV="1">
            <a:off x="-1442160" y="2029320"/>
            <a:ext cx="4616640" cy="1115640"/>
          </a:xfrm>
          <a:prstGeom prst="rtTriangle">
            <a:avLst/>
          </a:prstGeom>
          <a:solidFill>
            <a:srgbClr val="181a3b"/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直角三角形 44"/>
          <p:cNvSpPr/>
          <p:nvPr/>
        </p:nvSpPr>
        <p:spPr>
          <a:xfrm flipH="1">
            <a:off x="-1428840" y="3751560"/>
            <a:ext cx="4602960" cy="1115640"/>
          </a:xfrm>
          <a:prstGeom prst="rtTriangle">
            <a:avLst/>
          </a:prstGeom>
          <a:solidFill>
            <a:srgbClr val="181a3b"/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60" name="直接连接符 62"/>
          <p:cNvCxnSpPr/>
          <p:nvPr/>
        </p:nvCxnSpPr>
        <p:spPr>
          <a:xfrm flipH="1">
            <a:off x="-720360" y="1871280"/>
            <a:ext cx="13226400" cy="36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61" name="直接连接符 65"/>
          <p:cNvCxnSpPr/>
          <p:nvPr/>
        </p:nvCxnSpPr>
        <p:spPr>
          <a:xfrm flipH="1">
            <a:off x="-720360" y="5044680"/>
            <a:ext cx="13226400" cy="36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62" name="直接连接符 66"/>
          <p:cNvCxnSpPr/>
          <p:nvPr/>
        </p:nvCxnSpPr>
        <p:spPr>
          <a:xfrm flipH="1">
            <a:off x="-720360" y="5139000"/>
            <a:ext cx="13226400" cy="36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cxnSp>
        <p:nvCxnSpPr>
          <p:cNvPr id="263" name="直接连接符 67"/>
          <p:cNvCxnSpPr/>
          <p:nvPr/>
        </p:nvCxnSpPr>
        <p:spPr>
          <a:xfrm flipH="1">
            <a:off x="-720360" y="1736640"/>
            <a:ext cx="13226400" cy="360"/>
          </a:xfrm>
          <a:prstGeom prst="straightConnector1">
            <a:avLst/>
          </a:prstGeom>
          <a:ln w="19050">
            <a:solidFill>
              <a:srgbClr val="0f1024"/>
            </a:solidFill>
          </a:ln>
        </p:spPr>
      </p:cxnSp>
      <p:sp>
        <p:nvSpPr>
          <p:cNvPr id="264" name="矩形 70"/>
          <p:cNvSpPr/>
          <p:nvPr/>
        </p:nvSpPr>
        <p:spPr>
          <a:xfrm>
            <a:off x="4241520" y="2030400"/>
            <a:ext cx="3527280" cy="2836800"/>
          </a:xfrm>
          <a:prstGeom prst="rect">
            <a:avLst/>
          </a:prstGeom>
          <a:solidFill>
            <a:srgbClr val="ffca08"/>
          </a:solidFill>
          <a:ln w="57150"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5" name="TextBox 68"/>
          <p:cNvSpPr/>
          <p:nvPr/>
        </p:nvSpPr>
        <p:spPr>
          <a:xfrm>
            <a:off x="5016240" y="2538360"/>
            <a:ext cx="215892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en-US" sz="2000" spc="-1" strike="noStrike">
                <a:solidFill>
                  <a:srgbClr val="3c4395"/>
                </a:solidFill>
                <a:latin typeface="微软雅黑 Light"/>
                <a:ea typeface="微软雅黑 Light"/>
              </a:rPr>
              <a:t>   </a:t>
            </a:r>
            <a:r>
              <a:rPr b="0" lang="zh-CN" sz="2000" spc="-1" strike="noStrike">
                <a:solidFill>
                  <a:srgbClr val="3c4395"/>
                </a:solidFill>
                <a:latin typeface="微软雅黑 Light"/>
                <a:ea typeface="微软雅黑 Light"/>
              </a:rPr>
              <a:t>路有上坡，也有下坡；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en-US" sz="2000" spc="-1" strike="noStrike">
                <a:solidFill>
                  <a:srgbClr val="3c4395"/>
                </a:solidFill>
                <a:latin typeface="微软雅黑 Light"/>
                <a:ea typeface="微软雅黑 Light"/>
              </a:rPr>
              <a:t>   </a:t>
            </a:r>
            <a:r>
              <a:rPr b="0" lang="zh-CN" sz="2000" spc="-1" strike="noStrike">
                <a:solidFill>
                  <a:srgbClr val="3c4395"/>
                </a:solidFill>
                <a:latin typeface="微软雅黑 Light"/>
                <a:ea typeface="微软雅黑 Light"/>
              </a:rPr>
              <a:t>人有胖时，也有瘦时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1" lang="zh-CN" sz="2000" spc="-1" strike="noStrike">
                <a:solidFill>
                  <a:srgbClr val="3c4395"/>
                </a:solidFill>
                <a:latin typeface="微软雅黑 Light"/>
                <a:ea typeface="微软雅黑 Light"/>
              </a:rPr>
              <a:t>凹铭设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zh-CN" sz="2000" spc="-1" strike="noStrike">
                <a:solidFill>
                  <a:srgbClr val="3c4395"/>
                </a:solidFill>
                <a:latin typeface="微软雅黑 Light"/>
                <a:ea typeface="微软雅黑 Light"/>
              </a:rPr>
              <a:t>和你一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</a:pPr>
            <a:r>
              <a:rPr b="0" lang="zh-CN" sz="2000" spc="-1" strike="noStrike">
                <a:solidFill>
                  <a:srgbClr val="3c4395"/>
                </a:solidFill>
                <a:latin typeface="微软雅黑 Light"/>
                <a:ea typeface="微软雅黑 Light"/>
              </a:rPr>
              <a:t>走在路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1"/>
          <p:cNvSpPr/>
          <p:nvPr/>
        </p:nvSpPr>
        <p:spPr>
          <a:xfrm>
            <a:off x="2466360" y="-16459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静蕾简体"/>
              <a:ea typeface="方正静蕾简体"/>
            </a:endParaRPr>
          </a:p>
        </p:txBody>
      </p:sp>
      <p:sp>
        <p:nvSpPr>
          <p:cNvPr id="267" name="矩形 72"/>
          <p:cNvSpPr/>
          <p:nvPr/>
        </p:nvSpPr>
        <p:spPr>
          <a:xfrm>
            <a:off x="5055480" y="4375080"/>
            <a:ext cx="191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3c4395"/>
                </a:solidFill>
                <a:latin typeface="方正静蕾简体"/>
                <a:ea typeface="方正静蕾简体"/>
              </a:rPr>
              <a:t>——</a:t>
            </a:r>
            <a:r>
              <a:rPr b="0" lang="en-US" sz="1800" spc="-1" strike="noStrike">
                <a:solidFill>
                  <a:srgbClr val="3c4395"/>
                </a:solidFill>
                <a:latin typeface="方正静蕾简体"/>
                <a:ea typeface="方正静蕾简体"/>
              </a:rPr>
              <a:t>#</a:t>
            </a:r>
            <a:r>
              <a:rPr b="0" lang="zh-CN" sz="1800" spc="-1" strike="noStrike">
                <a:solidFill>
                  <a:srgbClr val="3c4395"/>
                </a:solidFill>
                <a:latin typeface="方正静蕾简体"/>
                <a:ea typeface="方正静蕾简体"/>
              </a:rPr>
              <a:t>萧牧梵</a:t>
            </a:r>
            <a:r>
              <a:rPr b="0" lang="en-US" sz="1800" spc="-1" strike="noStrike">
                <a:solidFill>
                  <a:srgbClr val="3c4395"/>
                </a:solidFill>
                <a:latin typeface="方正静蕾简体"/>
                <a:ea typeface="方正静蕾简体"/>
              </a:rPr>
              <a:t>#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3"/>
          <p:cNvSpPr/>
          <p:nvPr/>
        </p:nvSpPr>
        <p:spPr>
          <a:xfrm>
            <a:off x="4663800" y="2170800"/>
            <a:ext cx="269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3c4395"/>
                </a:solidFill>
                <a:latin typeface="方正静蕾简体"/>
                <a:ea typeface="方正静蕾简体"/>
              </a:rPr>
              <a:t>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3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3c4395">
              <a:alpha val="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270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grpSp>
        <p:nvGrpSpPr>
          <p:cNvPr id="271" name="组合 33"/>
          <p:cNvGrpSpPr/>
          <p:nvPr/>
        </p:nvGrpSpPr>
        <p:grpSpPr>
          <a:xfrm>
            <a:off x="-1142640" y="-3822120"/>
            <a:ext cx="14477400" cy="14501520"/>
            <a:chOff x="-1142640" y="-3822120"/>
            <a:chExt cx="14477400" cy="14501520"/>
          </a:xfrm>
        </p:grpSpPr>
        <p:sp>
          <p:nvSpPr>
            <p:cNvPr id="272" name="等腰三角形 3"/>
            <p:cNvSpPr/>
            <p:nvPr/>
          </p:nvSpPr>
          <p:spPr>
            <a:xfrm flipV="1" rot="16200000">
              <a:off x="2683440" y="-13676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73" name="等腰三角形 4"/>
            <p:cNvSpPr/>
            <p:nvPr/>
          </p:nvSpPr>
          <p:spPr>
            <a:xfrm flipV="1" rot="16920000">
              <a:off x="2735640" y="-1863720"/>
              <a:ext cx="2054160" cy="959328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74" name="等腰三角形 5"/>
            <p:cNvSpPr/>
            <p:nvPr/>
          </p:nvSpPr>
          <p:spPr>
            <a:xfrm flipV="1" rot="17640000">
              <a:off x="2889360" y="-233820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75" name="等腰三角形 6"/>
            <p:cNvSpPr/>
            <p:nvPr/>
          </p:nvSpPr>
          <p:spPr>
            <a:xfrm flipV="1" rot="18360000">
              <a:off x="3138840" y="-277020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76" name="等腰三角形 7"/>
            <p:cNvSpPr/>
            <p:nvPr/>
          </p:nvSpPr>
          <p:spPr>
            <a:xfrm flipV="1" rot="19080000">
              <a:off x="3472560" y="-31406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77" name="等腰三角形 8"/>
            <p:cNvSpPr/>
            <p:nvPr/>
          </p:nvSpPr>
          <p:spPr>
            <a:xfrm flipV="1" rot="19800000">
              <a:off x="3876120" y="-3434760"/>
              <a:ext cx="2054160" cy="959400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78" name="等腰三角形 9"/>
            <p:cNvSpPr/>
            <p:nvPr/>
          </p:nvSpPr>
          <p:spPr>
            <a:xfrm flipV="1" rot="20520000">
              <a:off x="4331520" y="-363672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79" name="等腰三角形 10"/>
            <p:cNvSpPr/>
            <p:nvPr/>
          </p:nvSpPr>
          <p:spPr>
            <a:xfrm flipV="1" rot="21240000">
              <a:off x="4819320" y="-374112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80" name="等腰三角形 11"/>
            <p:cNvSpPr/>
            <p:nvPr/>
          </p:nvSpPr>
          <p:spPr>
            <a:xfrm flipV="1" rot="360000">
              <a:off x="5317920" y="-374112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81" name="等腰三角形 12"/>
            <p:cNvSpPr/>
            <p:nvPr/>
          </p:nvSpPr>
          <p:spPr>
            <a:xfrm flipV="1" rot="1080000">
              <a:off x="5805720" y="-3636720"/>
              <a:ext cx="2054160" cy="959328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82" name="等腰三角形 13"/>
            <p:cNvSpPr/>
            <p:nvPr/>
          </p:nvSpPr>
          <p:spPr>
            <a:xfrm flipV="1" rot="1800000">
              <a:off x="6261480" y="-343368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83" name="等腰三角形 14"/>
            <p:cNvSpPr/>
            <p:nvPr/>
          </p:nvSpPr>
          <p:spPr>
            <a:xfrm flipV="1" rot="2520000">
              <a:off x="6665040" y="-31406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84" name="等腰三角形 15"/>
            <p:cNvSpPr/>
            <p:nvPr/>
          </p:nvSpPr>
          <p:spPr>
            <a:xfrm flipV="1" rot="3240000">
              <a:off x="6998400" y="-27698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85" name="等腰三角形 16"/>
            <p:cNvSpPr/>
            <p:nvPr/>
          </p:nvSpPr>
          <p:spPr>
            <a:xfrm flipV="1" rot="3960000">
              <a:off x="7247520" y="-23378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86" name="等腰三角形 17"/>
            <p:cNvSpPr/>
            <p:nvPr/>
          </p:nvSpPr>
          <p:spPr>
            <a:xfrm flipV="1" rot="4680000">
              <a:off x="7401960" y="-186336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87" name="等腰三角形 18"/>
            <p:cNvSpPr/>
            <p:nvPr/>
          </p:nvSpPr>
          <p:spPr>
            <a:xfrm flipV="1" rot="5400000">
              <a:off x="7454160" y="-13676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88" name="等腰三角形 19"/>
            <p:cNvSpPr/>
            <p:nvPr/>
          </p:nvSpPr>
          <p:spPr>
            <a:xfrm flipV="1" rot="6120000">
              <a:off x="7401600" y="-871920"/>
              <a:ext cx="2054160" cy="959328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89" name="等腰三角形 20"/>
            <p:cNvSpPr/>
            <p:nvPr/>
          </p:nvSpPr>
          <p:spPr>
            <a:xfrm flipV="1" rot="6840000">
              <a:off x="7247880" y="-39708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90" name="等腰三角形 21"/>
            <p:cNvSpPr/>
            <p:nvPr/>
          </p:nvSpPr>
          <p:spPr>
            <a:xfrm flipV="1" rot="7560000">
              <a:off x="6998400" y="3456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91" name="等腰三角形 22"/>
            <p:cNvSpPr/>
            <p:nvPr/>
          </p:nvSpPr>
          <p:spPr>
            <a:xfrm flipV="1" rot="8280000">
              <a:off x="6665040" y="40500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92" name="等腰三角形 23"/>
            <p:cNvSpPr/>
            <p:nvPr/>
          </p:nvSpPr>
          <p:spPr>
            <a:xfrm flipV="1" rot="9000000">
              <a:off x="6261480" y="698040"/>
              <a:ext cx="2054160" cy="959400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93" name="等腰三角形 24"/>
            <p:cNvSpPr/>
            <p:nvPr/>
          </p:nvSpPr>
          <p:spPr>
            <a:xfrm flipV="1" rot="9720000">
              <a:off x="5806080" y="90108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94" name="等腰三角形 25"/>
            <p:cNvSpPr/>
            <p:nvPr/>
          </p:nvSpPr>
          <p:spPr>
            <a:xfrm flipV="1" rot="10440000">
              <a:off x="5318280" y="10040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95" name="等腰三角形 26"/>
            <p:cNvSpPr/>
            <p:nvPr/>
          </p:nvSpPr>
          <p:spPr>
            <a:xfrm flipV="1" rot="11160000">
              <a:off x="4819320" y="10040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96" name="等腰三角形 27"/>
            <p:cNvSpPr/>
            <p:nvPr/>
          </p:nvSpPr>
          <p:spPr>
            <a:xfrm flipV="1" rot="11880000">
              <a:off x="4331880" y="900720"/>
              <a:ext cx="2054160" cy="959328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97" name="等腰三角形 28"/>
            <p:cNvSpPr/>
            <p:nvPr/>
          </p:nvSpPr>
          <p:spPr>
            <a:xfrm flipV="1" rot="12600000">
              <a:off x="3876120" y="6980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98" name="等腰三角形 29"/>
            <p:cNvSpPr/>
            <p:nvPr/>
          </p:nvSpPr>
          <p:spPr>
            <a:xfrm flipV="1" rot="13320000">
              <a:off x="3472560" y="40500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299" name="等腰三角形 30"/>
            <p:cNvSpPr/>
            <p:nvPr/>
          </p:nvSpPr>
          <p:spPr>
            <a:xfrm flipV="1" rot="14040000">
              <a:off x="3139200" y="3420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00" name="等腰三角形 31"/>
            <p:cNvSpPr/>
            <p:nvPr/>
          </p:nvSpPr>
          <p:spPr>
            <a:xfrm flipV="1" rot="14760000">
              <a:off x="2889720" y="-39744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01" name="等腰三角形 32"/>
            <p:cNvSpPr/>
            <p:nvPr/>
          </p:nvSpPr>
          <p:spPr>
            <a:xfrm flipV="1" rot="15480000">
              <a:off x="2735640" y="-871920"/>
              <a:ext cx="2054160" cy="9593640"/>
            </a:xfrm>
            <a:prstGeom prst="triangle">
              <a:avLst>
                <a:gd name="adj" fmla="val 50000"/>
              </a:avLst>
            </a:prstGeom>
            <a:noFill/>
            <a:ln w="38100">
              <a:solidFill>
                <a:srgbClr val="000000">
                  <a:lumMod val="85000"/>
                  <a:lumOff val="15000"/>
                  <a:alpha val="4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</p:grpSp>
      <p:sp>
        <p:nvSpPr>
          <p:cNvPr id="302" name="椭圆 35"/>
          <p:cNvSpPr/>
          <p:nvPr/>
        </p:nvSpPr>
        <p:spPr>
          <a:xfrm>
            <a:off x="2721600" y="54360"/>
            <a:ext cx="6748920" cy="6748920"/>
          </a:xfrm>
          <a:prstGeom prst="ellipse">
            <a:avLst/>
          </a:prstGeom>
          <a:solidFill>
            <a:schemeClr val="bg1">
              <a:alpha val="1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303" name="椭圆 34"/>
          <p:cNvSpPr/>
          <p:nvPr/>
        </p:nvSpPr>
        <p:spPr>
          <a:xfrm>
            <a:off x="2994120" y="327240"/>
            <a:ext cx="6203160" cy="6203160"/>
          </a:xfrm>
          <a:prstGeom prst="ellipse">
            <a:avLst/>
          </a:prstGeom>
          <a:noFill/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304" name="文本框 42"/>
          <p:cNvSpPr/>
          <p:nvPr/>
        </p:nvSpPr>
        <p:spPr>
          <a:xfrm>
            <a:off x="4165560" y="1310040"/>
            <a:ext cx="3860280" cy="4237560"/>
          </a:xfrm>
          <a:custGeom>
            <a:avLst/>
            <a:gdLst>
              <a:gd name="textAreaLeft" fmla="*/ 0 w 3860280"/>
              <a:gd name="textAreaRight" fmla="*/ 3860640 w 3860280"/>
              <a:gd name="textAreaTop" fmla="*/ 0 h 4237560"/>
              <a:gd name="textAreaBottom" fmla="*/ 4237920 h 4237560"/>
            </a:gdLst>
            <a:ahLst/>
            <a:rect l="textAreaLeft" t="textAreaTop" r="textAreaRight" b="textAreaBottom"/>
            <a:pathLst>
              <a:path w="3502712" h="3844802">
                <a:moveTo>
                  <a:pt x="639561" y="0"/>
                </a:moveTo>
                <a:lnTo>
                  <a:pt x="3502712" y="0"/>
                </a:lnTo>
                <a:lnTo>
                  <a:pt x="3502712" y="676744"/>
                </a:lnTo>
                <a:lnTo>
                  <a:pt x="2166575" y="676744"/>
                </a:lnTo>
                <a:lnTo>
                  <a:pt x="2035192" y="1187402"/>
                </a:lnTo>
                <a:cubicBezTo>
                  <a:pt x="2458261" y="1215496"/>
                  <a:pt x="2781760" y="1339855"/>
                  <a:pt x="3005689" y="1560479"/>
                </a:cubicBezTo>
                <a:cubicBezTo>
                  <a:pt x="3229618" y="1781102"/>
                  <a:pt x="3341582" y="2069896"/>
                  <a:pt x="3341582" y="2426861"/>
                </a:cubicBezTo>
                <a:cubicBezTo>
                  <a:pt x="3341582" y="2840014"/>
                  <a:pt x="3189955" y="3179626"/>
                  <a:pt x="2886701" y="3445696"/>
                </a:cubicBezTo>
                <a:cubicBezTo>
                  <a:pt x="2583446" y="3711767"/>
                  <a:pt x="2194669" y="3844802"/>
                  <a:pt x="1720370" y="3844802"/>
                </a:cubicBezTo>
                <a:cubicBezTo>
                  <a:pt x="1312175" y="3844802"/>
                  <a:pt x="942816" y="3757214"/>
                  <a:pt x="612293" y="3582037"/>
                </a:cubicBezTo>
                <a:cubicBezTo>
                  <a:pt x="281771" y="3406860"/>
                  <a:pt x="77673" y="3165578"/>
                  <a:pt x="0" y="2858192"/>
                </a:cubicBezTo>
                <a:lnTo>
                  <a:pt x="29747" y="2823488"/>
                </a:lnTo>
                <a:cubicBezTo>
                  <a:pt x="299123" y="3006928"/>
                  <a:pt x="585025" y="3098648"/>
                  <a:pt x="887453" y="3098648"/>
                </a:cubicBezTo>
                <a:cubicBezTo>
                  <a:pt x="1115514" y="3098648"/>
                  <a:pt x="1300606" y="3048656"/>
                  <a:pt x="1442731" y="2948673"/>
                </a:cubicBezTo>
                <a:cubicBezTo>
                  <a:pt x="1584855" y="2848690"/>
                  <a:pt x="1655918" y="2720199"/>
                  <a:pt x="1655918" y="2563201"/>
                </a:cubicBezTo>
                <a:cubicBezTo>
                  <a:pt x="1655918" y="2242595"/>
                  <a:pt x="1384890" y="2082291"/>
                  <a:pt x="842833" y="2082291"/>
                </a:cubicBezTo>
                <a:cubicBezTo>
                  <a:pt x="542057" y="2082291"/>
                  <a:pt x="301602" y="2145090"/>
                  <a:pt x="121467" y="2270689"/>
                </a:cubicBezTo>
                <a:lnTo>
                  <a:pt x="81805" y="223846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 algn="ctr">
              <a:lnSpc>
                <a:spcPct val="100000"/>
              </a:lnSpc>
            </a:pPr>
            <a:endParaRPr b="0" lang="en-US" sz="40000" spc="-1" strike="noStrike">
              <a:solidFill>
                <a:srgbClr val="181a3b"/>
              </a:solidFill>
              <a:latin typeface="Gill Sans Ultra Bold"/>
              <a:ea typeface="微软雅黑 Light"/>
            </a:endParaRPr>
          </a:p>
        </p:txBody>
      </p:sp>
      <p:sp>
        <p:nvSpPr>
          <p:cNvPr id="305" name="文本框 38"/>
          <p:cNvSpPr/>
          <p:nvPr/>
        </p:nvSpPr>
        <p:spPr>
          <a:xfrm>
            <a:off x="4345920" y="1435320"/>
            <a:ext cx="3502440" cy="3844440"/>
          </a:xfrm>
          <a:custGeom>
            <a:avLst/>
            <a:gdLst>
              <a:gd name="textAreaLeft" fmla="*/ 0 w 3502440"/>
              <a:gd name="textAreaRight" fmla="*/ 3502800 w 3502440"/>
              <a:gd name="textAreaTop" fmla="*/ 0 h 3844440"/>
              <a:gd name="textAreaBottom" fmla="*/ 3844800 h 3844440"/>
            </a:gdLst>
            <a:ahLst/>
            <a:rect l="textAreaLeft" t="textAreaTop" r="textAreaRight" b="textAreaBottom"/>
            <a:pathLst>
              <a:path w="3502712" h="3844802">
                <a:moveTo>
                  <a:pt x="639561" y="0"/>
                </a:moveTo>
                <a:lnTo>
                  <a:pt x="3502712" y="0"/>
                </a:lnTo>
                <a:lnTo>
                  <a:pt x="3502712" y="676744"/>
                </a:lnTo>
                <a:lnTo>
                  <a:pt x="2166575" y="676744"/>
                </a:lnTo>
                <a:lnTo>
                  <a:pt x="2035192" y="1187402"/>
                </a:lnTo>
                <a:cubicBezTo>
                  <a:pt x="2458261" y="1215496"/>
                  <a:pt x="2781760" y="1339855"/>
                  <a:pt x="3005689" y="1560479"/>
                </a:cubicBezTo>
                <a:cubicBezTo>
                  <a:pt x="3229618" y="1781102"/>
                  <a:pt x="3341582" y="2069896"/>
                  <a:pt x="3341582" y="2426861"/>
                </a:cubicBezTo>
                <a:cubicBezTo>
                  <a:pt x="3341582" y="2840014"/>
                  <a:pt x="3189955" y="3179626"/>
                  <a:pt x="2886701" y="3445696"/>
                </a:cubicBezTo>
                <a:cubicBezTo>
                  <a:pt x="2583446" y="3711767"/>
                  <a:pt x="2194669" y="3844802"/>
                  <a:pt x="1720370" y="3844802"/>
                </a:cubicBezTo>
                <a:cubicBezTo>
                  <a:pt x="1312175" y="3844802"/>
                  <a:pt x="942816" y="3757214"/>
                  <a:pt x="612293" y="3582037"/>
                </a:cubicBezTo>
                <a:cubicBezTo>
                  <a:pt x="281771" y="3406860"/>
                  <a:pt x="77673" y="3165578"/>
                  <a:pt x="0" y="2858192"/>
                </a:cubicBezTo>
                <a:lnTo>
                  <a:pt x="29747" y="2823488"/>
                </a:lnTo>
                <a:cubicBezTo>
                  <a:pt x="299123" y="3006928"/>
                  <a:pt x="585025" y="3098648"/>
                  <a:pt x="887453" y="3098648"/>
                </a:cubicBezTo>
                <a:cubicBezTo>
                  <a:pt x="1115514" y="3098648"/>
                  <a:pt x="1300606" y="3048656"/>
                  <a:pt x="1442731" y="2948673"/>
                </a:cubicBezTo>
                <a:cubicBezTo>
                  <a:pt x="1584855" y="2848690"/>
                  <a:pt x="1655918" y="2720199"/>
                  <a:pt x="1655918" y="2563201"/>
                </a:cubicBezTo>
                <a:cubicBezTo>
                  <a:pt x="1655918" y="2242595"/>
                  <a:pt x="1384890" y="2082291"/>
                  <a:pt x="842833" y="2082291"/>
                </a:cubicBezTo>
                <a:cubicBezTo>
                  <a:pt x="542057" y="2082291"/>
                  <a:pt x="301602" y="2145090"/>
                  <a:pt x="121467" y="2270689"/>
                </a:cubicBezTo>
                <a:lnTo>
                  <a:pt x="81805" y="2238463"/>
                </a:lnTo>
                <a:close/>
              </a:path>
            </a:pathLst>
          </a:custGeom>
          <a:solidFill>
            <a:srgbClr val="5f67ff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 algn="ctr">
              <a:lnSpc>
                <a:spcPct val="100000"/>
              </a:lnSpc>
            </a:pPr>
            <a:endParaRPr b="0" lang="en-US" sz="40000" spc="-1" strike="noStrike">
              <a:solidFill>
                <a:srgbClr val="181a3b"/>
              </a:solidFill>
              <a:latin typeface="Gill Sans Ultra Bold"/>
              <a:ea typeface="微软雅黑 Light"/>
            </a:endParaRPr>
          </a:p>
        </p:txBody>
      </p:sp>
      <p:sp>
        <p:nvSpPr>
          <p:cNvPr id="306" name="文本框 39"/>
          <p:cNvSpPr/>
          <p:nvPr/>
        </p:nvSpPr>
        <p:spPr>
          <a:xfrm>
            <a:off x="4521240" y="1700280"/>
            <a:ext cx="3149280" cy="3456720"/>
          </a:xfrm>
          <a:custGeom>
            <a:avLst/>
            <a:gdLst>
              <a:gd name="textAreaLeft" fmla="*/ 0 w 3149280"/>
              <a:gd name="textAreaRight" fmla="*/ 3149640 w 3149280"/>
              <a:gd name="textAreaTop" fmla="*/ 0 h 3456720"/>
              <a:gd name="textAreaBottom" fmla="*/ 3457080 h 3456720"/>
            </a:gdLst>
            <a:ahLst/>
            <a:rect l="textAreaLeft" t="textAreaTop" r="textAreaRight" b="textAreaBottom"/>
            <a:pathLst>
              <a:path w="3502712" h="3844802">
                <a:moveTo>
                  <a:pt x="639561" y="0"/>
                </a:moveTo>
                <a:lnTo>
                  <a:pt x="3502712" y="0"/>
                </a:lnTo>
                <a:lnTo>
                  <a:pt x="3502712" y="676744"/>
                </a:lnTo>
                <a:lnTo>
                  <a:pt x="2166575" y="676744"/>
                </a:lnTo>
                <a:lnTo>
                  <a:pt x="2035192" y="1187402"/>
                </a:lnTo>
                <a:cubicBezTo>
                  <a:pt x="2458261" y="1215496"/>
                  <a:pt x="2781760" y="1339855"/>
                  <a:pt x="3005689" y="1560479"/>
                </a:cubicBezTo>
                <a:cubicBezTo>
                  <a:pt x="3229618" y="1781102"/>
                  <a:pt x="3341582" y="2069896"/>
                  <a:pt x="3341582" y="2426861"/>
                </a:cubicBezTo>
                <a:cubicBezTo>
                  <a:pt x="3341582" y="2840014"/>
                  <a:pt x="3189955" y="3179626"/>
                  <a:pt x="2886701" y="3445696"/>
                </a:cubicBezTo>
                <a:cubicBezTo>
                  <a:pt x="2583446" y="3711767"/>
                  <a:pt x="2194669" y="3844802"/>
                  <a:pt x="1720370" y="3844802"/>
                </a:cubicBezTo>
                <a:cubicBezTo>
                  <a:pt x="1312175" y="3844802"/>
                  <a:pt x="942816" y="3757214"/>
                  <a:pt x="612293" y="3582037"/>
                </a:cubicBezTo>
                <a:cubicBezTo>
                  <a:pt x="281771" y="3406860"/>
                  <a:pt x="77673" y="3165578"/>
                  <a:pt x="0" y="2858192"/>
                </a:cubicBezTo>
                <a:lnTo>
                  <a:pt x="29747" y="2823488"/>
                </a:lnTo>
                <a:cubicBezTo>
                  <a:pt x="299123" y="3006928"/>
                  <a:pt x="585025" y="3098648"/>
                  <a:pt x="887453" y="3098648"/>
                </a:cubicBezTo>
                <a:cubicBezTo>
                  <a:pt x="1115514" y="3098648"/>
                  <a:pt x="1300606" y="3048656"/>
                  <a:pt x="1442731" y="2948673"/>
                </a:cubicBezTo>
                <a:cubicBezTo>
                  <a:pt x="1584855" y="2848690"/>
                  <a:pt x="1655918" y="2720199"/>
                  <a:pt x="1655918" y="2563201"/>
                </a:cubicBezTo>
                <a:cubicBezTo>
                  <a:pt x="1655918" y="2242595"/>
                  <a:pt x="1384890" y="2082291"/>
                  <a:pt x="842833" y="2082291"/>
                </a:cubicBezTo>
                <a:cubicBezTo>
                  <a:pt x="542057" y="2082291"/>
                  <a:pt x="301602" y="2145090"/>
                  <a:pt x="121467" y="2270689"/>
                </a:cubicBezTo>
                <a:lnTo>
                  <a:pt x="81805" y="2238463"/>
                </a:lnTo>
                <a:close/>
              </a:path>
            </a:pathLst>
          </a:custGeom>
          <a:solidFill>
            <a:srgbClr val="fdbf02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 algn="ctr">
              <a:lnSpc>
                <a:spcPct val="100000"/>
              </a:lnSpc>
            </a:pPr>
            <a:endParaRPr b="0" lang="en-US" sz="40000" spc="-1" strike="noStrike">
              <a:solidFill>
                <a:srgbClr val="181a3b"/>
              </a:solidFill>
              <a:latin typeface="Gill Sans Ultra Bold"/>
              <a:ea typeface="微软雅黑 Light"/>
            </a:endParaRPr>
          </a:p>
        </p:txBody>
      </p:sp>
      <p:sp>
        <p:nvSpPr>
          <p:cNvPr id="307" name="文本框 40"/>
          <p:cNvSpPr/>
          <p:nvPr/>
        </p:nvSpPr>
        <p:spPr>
          <a:xfrm>
            <a:off x="4719240" y="1917720"/>
            <a:ext cx="2753280" cy="3022200"/>
          </a:xfrm>
          <a:custGeom>
            <a:avLst/>
            <a:gdLst>
              <a:gd name="textAreaLeft" fmla="*/ 0 w 2753280"/>
              <a:gd name="textAreaRight" fmla="*/ 2753640 w 2753280"/>
              <a:gd name="textAreaTop" fmla="*/ 0 h 3022200"/>
              <a:gd name="textAreaBottom" fmla="*/ 3022560 h 3022200"/>
            </a:gdLst>
            <a:ahLst/>
            <a:rect l="textAreaLeft" t="textAreaTop" r="textAreaRight" b="textAreaBottom"/>
            <a:pathLst>
              <a:path w="3502712" h="3844802">
                <a:moveTo>
                  <a:pt x="639561" y="0"/>
                </a:moveTo>
                <a:lnTo>
                  <a:pt x="3502712" y="0"/>
                </a:lnTo>
                <a:lnTo>
                  <a:pt x="3502712" y="676744"/>
                </a:lnTo>
                <a:lnTo>
                  <a:pt x="2166575" y="676744"/>
                </a:lnTo>
                <a:lnTo>
                  <a:pt x="2035192" y="1187402"/>
                </a:lnTo>
                <a:cubicBezTo>
                  <a:pt x="2458261" y="1215496"/>
                  <a:pt x="2781760" y="1339855"/>
                  <a:pt x="3005689" y="1560479"/>
                </a:cubicBezTo>
                <a:cubicBezTo>
                  <a:pt x="3229618" y="1781102"/>
                  <a:pt x="3341582" y="2069896"/>
                  <a:pt x="3341582" y="2426861"/>
                </a:cubicBezTo>
                <a:cubicBezTo>
                  <a:pt x="3341582" y="2840014"/>
                  <a:pt x="3189955" y="3179626"/>
                  <a:pt x="2886701" y="3445696"/>
                </a:cubicBezTo>
                <a:cubicBezTo>
                  <a:pt x="2583446" y="3711767"/>
                  <a:pt x="2194669" y="3844802"/>
                  <a:pt x="1720370" y="3844802"/>
                </a:cubicBezTo>
                <a:cubicBezTo>
                  <a:pt x="1312175" y="3844802"/>
                  <a:pt x="942816" y="3757214"/>
                  <a:pt x="612293" y="3582037"/>
                </a:cubicBezTo>
                <a:cubicBezTo>
                  <a:pt x="281771" y="3406860"/>
                  <a:pt x="77673" y="3165578"/>
                  <a:pt x="0" y="2858192"/>
                </a:cubicBezTo>
                <a:lnTo>
                  <a:pt x="29747" y="2823488"/>
                </a:lnTo>
                <a:cubicBezTo>
                  <a:pt x="299123" y="3006928"/>
                  <a:pt x="585025" y="3098648"/>
                  <a:pt x="887453" y="3098648"/>
                </a:cubicBezTo>
                <a:cubicBezTo>
                  <a:pt x="1115514" y="3098648"/>
                  <a:pt x="1300606" y="3048656"/>
                  <a:pt x="1442731" y="2948673"/>
                </a:cubicBezTo>
                <a:cubicBezTo>
                  <a:pt x="1584855" y="2848690"/>
                  <a:pt x="1655918" y="2720199"/>
                  <a:pt x="1655918" y="2563201"/>
                </a:cubicBezTo>
                <a:cubicBezTo>
                  <a:pt x="1655918" y="2242595"/>
                  <a:pt x="1384890" y="2082291"/>
                  <a:pt x="842833" y="2082291"/>
                </a:cubicBezTo>
                <a:cubicBezTo>
                  <a:pt x="542057" y="2082291"/>
                  <a:pt x="301602" y="2145090"/>
                  <a:pt x="121467" y="2270689"/>
                </a:cubicBezTo>
                <a:lnTo>
                  <a:pt x="81805" y="2238463"/>
                </a:lnTo>
                <a:close/>
              </a:path>
            </a:pathLst>
          </a:custGeom>
          <a:solidFill>
            <a:srgbClr val="0f1024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 algn="ctr">
              <a:lnSpc>
                <a:spcPct val="100000"/>
              </a:lnSpc>
            </a:pPr>
            <a:endParaRPr b="0" lang="en-US" sz="40000" spc="-1" strike="noStrike">
              <a:solidFill>
                <a:srgbClr val="181a3b"/>
              </a:solidFill>
              <a:latin typeface="Gill Sans Ultra Bold"/>
              <a:ea typeface="微软雅黑 Light"/>
            </a:endParaRPr>
          </a:p>
        </p:txBody>
      </p:sp>
      <p:sp>
        <p:nvSpPr>
          <p:cNvPr id="308" name="文本框 41"/>
          <p:cNvSpPr/>
          <p:nvPr/>
        </p:nvSpPr>
        <p:spPr>
          <a:xfrm>
            <a:off x="4938840" y="2158920"/>
            <a:ext cx="2313720" cy="2539800"/>
          </a:xfrm>
          <a:custGeom>
            <a:avLst/>
            <a:gdLst>
              <a:gd name="textAreaLeft" fmla="*/ 0 w 2313720"/>
              <a:gd name="textAreaRight" fmla="*/ 2314080 w 2313720"/>
              <a:gd name="textAreaTop" fmla="*/ 0 h 2539800"/>
              <a:gd name="textAreaBottom" fmla="*/ 2540160 h 2539800"/>
            </a:gdLst>
            <a:ahLst/>
            <a:rect l="textAreaLeft" t="textAreaTop" r="textAreaRight" b="textAreaBottom"/>
            <a:pathLst>
              <a:path w="3502712" h="3844802">
                <a:moveTo>
                  <a:pt x="639561" y="0"/>
                </a:moveTo>
                <a:lnTo>
                  <a:pt x="3502712" y="0"/>
                </a:lnTo>
                <a:lnTo>
                  <a:pt x="3502712" y="676744"/>
                </a:lnTo>
                <a:lnTo>
                  <a:pt x="2166575" y="676744"/>
                </a:lnTo>
                <a:lnTo>
                  <a:pt x="2035192" y="1187402"/>
                </a:lnTo>
                <a:cubicBezTo>
                  <a:pt x="2458261" y="1215496"/>
                  <a:pt x="2781760" y="1339855"/>
                  <a:pt x="3005689" y="1560479"/>
                </a:cubicBezTo>
                <a:cubicBezTo>
                  <a:pt x="3229618" y="1781102"/>
                  <a:pt x="3341582" y="2069896"/>
                  <a:pt x="3341582" y="2426861"/>
                </a:cubicBezTo>
                <a:cubicBezTo>
                  <a:pt x="3341582" y="2840014"/>
                  <a:pt x="3189955" y="3179626"/>
                  <a:pt x="2886701" y="3445696"/>
                </a:cubicBezTo>
                <a:cubicBezTo>
                  <a:pt x="2583446" y="3711767"/>
                  <a:pt x="2194669" y="3844802"/>
                  <a:pt x="1720370" y="3844802"/>
                </a:cubicBezTo>
                <a:cubicBezTo>
                  <a:pt x="1312175" y="3844802"/>
                  <a:pt x="942816" y="3757214"/>
                  <a:pt x="612293" y="3582037"/>
                </a:cubicBezTo>
                <a:cubicBezTo>
                  <a:pt x="281771" y="3406860"/>
                  <a:pt x="77673" y="3165578"/>
                  <a:pt x="0" y="2858192"/>
                </a:cubicBezTo>
                <a:lnTo>
                  <a:pt x="29747" y="2823488"/>
                </a:lnTo>
                <a:cubicBezTo>
                  <a:pt x="299123" y="3006928"/>
                  <a:pt x="585025" y="3098648"/>
                  <a:pt x="887453" y="3098648"/>
                </a:cubicBezTo>
                <a:cubicBezTo>
                  <a:pt x="1115514" y="3098648"/>
                  <a:pt x="1300606" y="3048656"/>
                  <a:pt x="1442731" y="2948673"/>
                </a:cubicBezTo>
                <a:cubicBezTo>
                  <a:pt x="1584855" y="2848690"/>
                  <a:pt x="1655918" y="2720199"/>
                  <a:pt x="1655918" y="2563201"/>
                </a:cubicBezTo>
                <a:cubicBezTo>
                  <a:pt x="1655918" y="2242595"/>
                  <a:pt x="1384890" y="2082291"/>
                  <a:pt x="842833" y="2082291"/>
                </a:cubicBezTo>
                <a:cubicBezTo>
                  <a:pt x="542057" y="2082291"/>
                  <a:pt x="301602" y="2145090"/>
                  <a:pt x="121467" y="2270689"/>
                </a:cubicBezTo>
                <a:lnTo>
                  <a:pt x="81805" y="2238463"/>
                </a:lnTo>
                <a:close/>
              </a:path>
            </a:pathLst>
          </a:custGeom>
          <a:solidFill>
            <a:schemeClr val="accent1">
              <a:lumMod val="75000"/>
            </a:schemeClr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 algn="ctr">
              <a:lnSpc>
                <a:spcPct val="100000"/>
              </a:lnSpc>
            </a:pPr>
            <a:endParaRPr b="0" lang="en-US" sz="40000" spc="-1" strike="noStrike">
              <a:solidFill>
                <a:srgbClr val="181a3b"/>
              </a:solidFill>
              <a:latin typeface="Gill Sans Ultra Bold"/>
              <a:ea typeface="微软雅黑 Light"/>
            </a:endParaRPr>
          </a:p>
        </p:txBody>
      </p:sp>
      <p:sp>
        <p:nvSpPr>
          <p:cNvPr id="309" name="椭圆 47"/>
          <p:cNvSpPr/>
          <p:nvPr/>
        </p:nvSpPr>
        <p:spPr>
          <a:xfrm>
            <a:off x="10856880" y="453240"/>
            <a:ext cx="1090080" cy="1090080"/>
          </a:xfrm>
          <a:prstGeom prst="ellipse">
            <a:avLst/>
          </a:prstGeom>
          <a:solidFill>
            <a:srgbClr val="3c4395"/>
          </a:solidFill>
          <a:ln>
            <a:solidFill>
              <a:srgbClr val="0f102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310" name="任意多边形 49"/>
          <p:cNvSpPr/>
          <p:nvPr/>
        </p:nvSpPr>
        <p:spPr>
          <a:xfrm>
            <a:off x="10865520" y="453240"/>
            <a:ext cx="1072800" cy="920520"/>
          </a:xfrm>
          <a:custGeom>
            <a:avLst/>
            <a:gdLst>
              <a:gd name="textAreaLeft" fmla="*/ 0 w 1072800"/>
              <a:gd name="textAreaRight" fmla="*/ 1073160 w 107280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1073300" h="920879">
                <a:moveTo>
                  <a:pt x="536650" y="0"/>
                </a:moveTo>
                <a:cubicBezTo>
                  <a:pt x="800114" y="0"/>
                  <a:pt x="1019930" y="186883"/>
                  <a:pt x="1070768" y="435319"/>
                </a:cubicBezTo>
                <a:lnTo>
                  <a:pt x="1073300" y="460440"/>
                </a:lnTo>
                <a:lnTo>
                  <a:pt x="1070768" y="485561"/>
                </a:lnTo>
                <a:cubicBezTo>
                  <a:pt x="1019930" y="733996"/>
                  <a:pt x="800114" y="920879"/>
                  <a:pt x="536650" y="920879"/>
                </a:cubicBezTo>
                <a:cubicBezTo>
                  <a:pt x="273186" y="920879"/>
                  <a:pt x="53370" y="733996"/>
                  <a:pt x="2532" y="485561"/>
                </a:cubicBezTo>
                <a:lnTo>
                  <a:pt x="0" y="460440"/>
                </a:lnTo>
                <a:lnTo>
                  <a:pt x="2532" y="435319"/>
                </a:lnTo>
                <a:cubicBezTo>
                  <a:pt x="53370" y="186883"/>
                  <a:pt x="273186" y="0"/>
                  <a:pt x="536650" y="0"/>
                </a:cubicBezTo>
                <a:close/>
              </a:path>
            </a:pathLst>
          </a:custGeom>
          <a:solidFill>
            <a:schemeClr val="bg1">
              <a:lumMod val="95000"/>
              <a:alpha val="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grpSp>
        <p:nvGrpSpPr>
          <p:cNvPr id="311" name="组合 43"/>
          <p:cNvGrpSpPr/>
          <p:nvPr/>
        </p:nvGrpSpPr>
        <p:grpSpPr>
          <a:xfrm>
            <a:off x="11110680" y="722160"/>
            <a:ext cx="593280" cy="382680"/>
            <a:chOff x="11110680" y="722160"/>
            <a:chExt cx="593280" cy="382680"/>
          </a:xfrm>
        </p:grpSpPr>
        <p:sp>
          <p:nvSpPr>
            <p:cNvPr id="312" name="同侧圆角矩形 1"/>
            <p:cNvSpPr/>
            <p:nvPr/>
          </p:nvSpPr>
          <p:spPr>
            <a:xfrm>
              <a:off x="11506320" y="722160"/>
              <a:ext cx="195840" cy="1911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428871" h="1393644">
                  <a:moveTo>
                    <a:pt x="35228" y="0"/>
                  </a:moveTo>
                  <a:lnTo>
                    <a:pt x="1428871" y="1393644"/>
                  </a:lnTo>
                  <a:lnTo>
                    <a:pt x="0" y="1393644"/>
                  </a:lnTo>
                  <a:lnTo>
                    <a:pt x="0" y="85044"/>
                  </a:lnTo>
                  <a:cubicBezTo>
                    <a:pt x="0" y="51832"/>
                    <a:pt x="13462" y="21764"/>
                    <a:pt x="35228" y="0"/>
                  </a:cubicBezTo>
                  <a:close/>
                </a:path>
              </a:pathLst>
            </a:custGeom>
            <a:noFill/>
            <a:ln w="28575">
              <a:solidFill>
                <a:srgbClr val="ffffff">
                  <a:lumMod val="9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13" name="同侧圆角矩形 1"/>
            <p:cNvSpPr/>
            <p:nvPr/>
          </p:nvSpPr>
          <p:spPr>
            <a:xfrm>
              <a:off x="11110680" y="915120"/>
              <a:ext cx="593280" cy="18972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4320000" h="1382517">
                  <a:moveTo>
                    <a:pt x="0" y="0"/>
                  </a:moveTo>
                  <a:lnTo>
                    <a:pt x="1440000" y="3"/>
                  </a:lnTo>
                  <a:lnTo>
                    <a:pt x="2880000" y="3"/>
                  </a:lnTo>
                  <a:lnTo>
                    <a:pt x="4320000" y="1"/>
                  </a:lnTo>
                  <a:lnTo>
                    <a:pt x="4320000" y="3"/>
                  </a:lnTo>
                  <a:lnTo>
                    <a:pt x="4320000" y="1382517"/>
                  </a:lnTo>
                  <a:cubicBezTo>
                    <a:pt x="3628682" y="1208768"/>
                    <a:pt x="2905026" y="1117273"/>
                    <a:pt x="2160000" y="1117273"/>
                  </a:cubicBezTo>
                  <a:cubicBezTo>
                    <a:pt x="1414974" y="1117273"/>
                    <a:pt x="691319" y="1208768"/>
                    <a:pt x="0" y="1382517"/>
                  </a:cubicBez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575">
              <a:solidFill>
                <a:srgbClr val="ffffff">
                  <a:lumMod val="9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sp>
          <p:nvSpPr>
            <p:cNvPr id="314" name="同侧圆角矩形 1"/>
            <p:cNvSpPr/>
            <p:nvPr/>
          </p:nvSpPr>
          <p:spPr>
            <a:xfrm>
              <a:off x="11112120" y="722160"/>
              <a:ext cx="195840" cy="19116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428872" h="1393645">
                  <a:moveTo>
                    <a:pt x="1393644" y="0"/>
                  </a:moveTo>
                  <a:cubicBezTo>
                    <a:pt x="1415410" y="21764"/>
                    <a:pt x="1428872" y="51833"/>
                    <a:pt x="1428872" y="85045"/>
                  </a:cubicBezTo>
                  <a:lnTo>
                    <a:pt x="1428872" y="1393645"/>
                  </a:lnTo>
                  <a:lnTo>
                    <a:pt x="0" y="1393645"/>
                  </a:lnTo>
                  <a:close/>
                </a:path>
              </a:pathLst>
            </a:custGeom>
            <a:noFill/>
            <a:ln w="28575">
              <a:solidFill>
                <a:srgbClr val="ffffff">
                  <a:lumMod val="9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  <Words>181</Words>
  <Paragraphs>33</Paragraphs>
  <Company>深圳市和有创立科技有限公司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4T15:35:50Z</dcterms:created>
  <dc:creator>One Antian</dc:creator>
  <dc:description/>
  <dc:language>en-US</dc:language>
  <cp:lastModifiedBy>王玉清</cp:lastModifiedBy>
  <dcterms:modified xsi:type="dcterms:W3CDTF">2016-02-23T02:30:34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