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AA99-2786-4C67-9F09-C4211CD88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7CEA-FA8E-432C-B394-0D497BB5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3810-E28A-4376-BA27-2E9CC3D17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A3F3-D691-4855-81B8-8EF98E1F7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A507-7C83-4FBC-B0B0-25862E5A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352C-873E-412C-8822-F68E5BD6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5A7A-EAEA-44F8-88A4-0A5D8853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80D2-1569-4F76-9A99-42440053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B816-90AB-4A26-B054-05D9D23A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C23A-2C84-438B-A30D-150407F8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AB44-7C36-4F15-9C2C-970CA575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1F7E-B67B-4E29-8DBE-B229B274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C30A-A315-43ED-AF84-98E982F27E4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9B4E-C9B0-4E8C-8A3F-55E4C5585E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71616560CF874D6CB3BF2D79E8ACF953"/>
          <p:cNvPicPr/>
          <p:nvPr/>
        </p:nvPicPr>
        <p:blipFill>
          <a:blip r:embed="rId1"/>
          <a:stretch/>
        </p:blipFill>
        <p:spPr>
          <a:xfrm>
            <a:off x="2014560" y="606600"/>
            <a:ext cx="5114880" cy="5644800"/>
          </a:xfrm>
          <a:prstGeom prst="rect">
            <a:avLst/>
          </a:prstGeom>
          <a:ln w="0">
            <a:noFill/>
          </a:ln>
        </p:spPr>
      </p:pic>
      <p:sp>
        <p:nvSpPr>
          <p:cNvPr id="42" name="矩形 1"/>
          <p:cNvSpPr/>
          <p:nvPr/>
        </p:nvSpPr>
        <p:spPr>
          <a:xfrm>
            <a:off x="2697480" y="0"/>
            <a:ext cx="40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之成功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6407BD1826D78E543EBB14E47D35D9DA"/>
          <p:cNvPicPr/>
          <p:nvPr/>
        </p:nvPicPr>
        <p:blipFill>
          <a:blip r:embed="rId1"/>
          <a:stretch/>
        </p:blipFill>
        <p:spPr>
          <a:xfrm>
            <a:off x="1193760" y="92160"/>
            <a:ext cx="666756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7DA2CCC68666C54E9C1963AE88BFC919"/>
          <p:cNvPicPr/>
          <p:nvPr/>
        </p:nvPicPr>
        <p:blipFill>
          <a:blip r:embed="rId1"/>
          <a:stretch/>
        </p:blipFill>
        <p:spPr>
          <a:xfrm>
            <a:off x="1947960" y="39600"/>
            <a:ext cx="475272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pc</dc:creator>
  <dc:description/>
  <cp:keywords/>
  <dc:language>en-US</dc:language>
  <cp:lastModifiedBy>a</cp:lastModifiedBy>
  <dcterms:modified xsi:type="dcterms:W3CDTF">2015-07-20T12:00:36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