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35A-5091-44E3-A620-96C8072A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2F6-B5EB-4DA9-B068-63CDB4B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A07-9794-4BBF-8B0C-1F947049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E6B-4516-498C-9ADA-12F772D1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658C-E7D5-4ED2-BBE5-D27A859C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797-0901-4FA3-8265-C104289A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BAAF-6B8E-40D0-8EFA-308A0CB7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EC3D-008E-4DD2-92BF-4F7167B0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35F-22DC-45CB-A141-8847E12A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7D7-1717-4F38-AD07-0D647D6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C3BC-2E1C-4A61-BEDC-8AD16BD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37D-457A-4AFA-8410-2D4BAA6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E0AE-F712-4FDE-A750-E0B79F0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72D-1A0D-4A7B-B651-BB6109E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FC94-B3C0-4805-8F94-EA20F59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A00-1DCD-4F36-9034-6AA72054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104C-438A-4EC6-907D-4A1208C2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4DD-E585-451B-ABD6-643FF1D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BE6-1F81-4964-8B48-A77DCEB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07A-C163-4A51-BFC3-C870D53D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7BB-58A3-436F-8901-7AC8F395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B70-E07B-42E4-9798-46E5D6E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C74-4ABF-4262-9B2D-FA93763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BA0-00E6-4DEA-A615-80FD293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5597F0-E7C7-48A7-BE7D-B94C3EA515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9A4F51-D382-4015-B717-80BFC5D532E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640" y="553320"/>
            <a:ext cx="849096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七彩线条公司工作汇报</a:t>
            </a:r>
            <a:r>
              <a:rPr b="0" lang="en-US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汉真广标"/>
                <a:ea typeface="汉真广标"/>
              </a:rPr>
              <a:t>商务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43160" y="1380960"/>
            <a:ext cx="5014440" cy="61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简洁的商务演示工作汇报</a:t>
            </a:r>
            <a:r>
              <a:rPr b="1" lang="en-US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88800" y="53535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2129400" y="1149840"/>
            <a:ext cx="5190480" cy="3565440"/>
            <a:chOff x="2129400" y="1149840"/>
            <a:chExt cx="5190480" cy="3565440"/>
          </a:xfrm>
        </p:grpSpPr>
        <p:grpSp>
          <p:nvGrpSpPr>
            <p:cNvPr id="88" name="Group 5"/>
            <p:cNvGrpSpPr/>
            <p:nvPr/>
          </p:nvGrpSpPr>
          <p:grpSpPr>
            <a:xfrm>
              <a:off x="2129400" y="1149840"/>
              <a:ext cx="5190480" cy="864720"/>
              <a:chOff x="2129400" y="1149840"/>
              <a:chExt cx="5190480" cy="864720"/>
            </a:xfrm>
          </p:grpSpPr>
          <p:pic>
            <p:nvPicPr>
              <p:cNvPr id="89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29400" y="1149840"/>
                <a:ext cx="5190480" cy="86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7"/>
              <p:cNvSpPr/>
              <p:nvPr/>
            </p:nvSpPr>
            <p:spPr>
              <a:xfrm>
                <a:off x="2282400" y="1294560"/>
                <a:ext cx="4741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pic>
          <p:nvPicPr>
            <p:cNvPr id="91" name="Picture 49" descr="그림자"/>
            <p:cNvPicPr/>
            <p:nvPr/>
          </p:nvPicPr>
          <p:blipFill>
            <a:blip r:embed="rId3"/>
            <a:stretch/>
          </p:blipFill>
          <p:spPr>
            <a:xfrm>
              <a:off x="2811600" y="1182600"/>
              <a:ext cx="4264560" cy="7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50"/>
            <p:cNvSpPr/>
            <p:nvPr/>
          </p:nvSpPr>
          <p:spPr>
            <a:xfrm>
              <a:off x="2923920" y="1287360"/>
              <a:ext cx="4032720" cy="42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ffffff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1"/>
            <p:cNvSpPr/>
            <p:nvPr/>
          </p:nvSpPr>
          <p:spPr>
            <a:xfrm>
              <a:off x="3055680" y="1309680"/>
              <a:ext cx="3775680" cy="19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95760" bIns="-50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  <a:ea typeface="Gulim"/>
              </a:endParaRPr>
            </a:p>
          </p:txBody>
        </p:sp>
        <p:sp>
          <p:nvSpPr>
            <p:cNvPr id="94" name="TextBox 47"/>
            <p:cNvSpPr/>
            <p:nvPr/>
          </p:nvSpPr>
          <p:spPr>
            <a:xfrm>
              <a:off x="2359080" y="122472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2"/>
            <p:cNvGrpSpPr/>
            <p:nvPr/>
          </p:nvGrpSpPr>
          <p:grpSpPr>
            <a:xfrm>
              <a:off x="2129400" y="1823760"/>
              <a:ext cx="5190480" cy="869760"/>
              <a:chOff x="2129400" y="1823760"/>
              <a:chExt cx="5190480" cy="869760"/>
            </a:xfrm>
          </p:grpSpPr>
          <p:pic>
            <p:nvPicPr>
              <p:cNvPr id="96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129400" y="182376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4"/>
              <p:cNvSpPr/>
              <p:nvPr/>
            </p:nvSpPr>
            <p:spPr>
              <a:xfrm>
                <a:off x="2282400" y="1969920"/>
                <a:ext cx="4741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98" name="Group 15"/>
            <p:cNvGrpSpPr/>
            <p:nvPr/>
          </p:nvGrpSpPr>
          <p:grpSpPr>
            <a:xfrm>
              <a:off x="2811600" y="1857960"/>
              <a:ext cx="4264560" cy="702360"/>
              <a:chOff x="2811600" y="1857960"/>
              <a:chExt cx="4264560" cy="702360"/>
            </a:xfrm>
          </p:grpSpPr>
          <p:pic>
            <p:nvPicPr>
              <p:cNvPr id="99" name="Picture 49" descr="그림자"/>
              <p:cNvPicPr/>
              <p:nvPr/>
            </p:nvPicPr>
            <p:blipFill>
              <a:blip r:embed="rId5"/>
              <a:stretch/>
            </p:blipFill>
            <p:spPr>
              <a:xfrm>
                <a:off x="2811600" y="1857960"/>
                <a:ext cx="4264560" cy="70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AutoShape 50"/>
              <p:cNvSpPr/>
              <p:nvPr/>
            </p:nvSpPr>
            <p:spPr>
              <a:xfrm>
                <a:off x="2923200" y="1963080"/>
                <a:ext cx="4034520" cy="41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51"/>
              <p:cNvSpPr/>
              <p:nvPr/>
            </p:nvSpPr>
            <p:spPr>
              <a:xfrm>
                <a:off x="3054600" y="1986120"/>
                <a:ext cx="3777120" cy="19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400" bIns="-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02" name="TextBox 53"/>
            <p:cNvSpPr/>
            <p:nvPr/>
          </p:nvSpPr>
          <p:spPr>
            <a:xfrm>
              <a:off x="2359080" y="190008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2129400" y="2497680"/>
              <a:ext cx="5190480" cy="869760"/>
              <a:chOff x="2129400" y="2497680"/>
              <a:chExt cx="5190480" cy="869760"/>
            </a:xfrm>
          </p:grpSpPr>
          <p:pic>
            <p:nvPicPr>
              <p:cNvPr id="104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9400" y="249768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22"/>
              <p:cNvSpPr/>
              <p:nvPr/>
            </p:nvSpPr>
            <p:spPr>
              <a:xfrm>
                <a:off x="2282400" y="264492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2811600" y="2533320"/>
              <a:ext cx="4264560" cy="701280"/>
              <a:chOff x="2811600" y="2533320"/>
              <a:chExt cx="4264560" cy="701280"/>
            </a:xfrm>
          </p:grpSpPr>
          <p:pic>
            <p:nvPicPr>
              <p:cNvPr id="107" name="Picture 49" descr="그림자"/>
              <p:cNvPicPr/>
              <p:nvPr/>
            </p:nvPicPr>
            <p:blipFill>
              <a:blip r:embed="rId7"/>
              <a:stretch/>
            </p:blipFill>
            <p:spPr>
              <a:xfrm>
                <a:off x="2811600" y="253332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AutoShape 50"/>
              <p:cNvSpPr/>
              <p:nvPr/>
            </p:nvSpPr>
            <p:spPr>
              <a:xfrm>
                <a:off x="2923200" y="2638080"/>
                <a:ext cx="4034520" cy="42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51"/>
              <p:cNvSpPr/>
              <p:nvPr/>
            </p:nvSpPr>
            <p:spPr>
              <a:xfrm>
                <a:off x="3054600" y="266112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10" name="TextBox 59"/>
            <p:cNvSpPr/>
            <p:nvPr/>
          </p:nvSpPr>
          <p:spPr>
            <a:xfrm>
              <a:off x="2359080" y="2575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8"/>
            <p:cNvGrpSpPr/>
            <p:nvPr/>
          </p:nvGrpSpPr>
          <p:grpSpPr>
            <a:xfrm>
              <a:off x="2129400" y="3171600"/>
              <a:ext cx="5190480" cy="869760"/>
              <a:chOff x="2129400" y="3171600"/>
              <a:chExt cx="5190480" cy="869760"/>
            </a:xfrm>
          </p:grpSpPr>
          <p:pic>
            <p:nvPicPr>
              <p:cNvPr id="112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9400" y="3171600"/>
                <a:ext cx="519048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0"/>
              <p:cNvSpPr/>
              <p:nvPr/>
            </p:nvSpPr>
            <p:spPr>
              <a:xfrm>
                <a:off x="2282400" y="332028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14" name="Group 31"/>
            <p:cNvGrpSpPr/>
            <p:nvPr/>
          </p:nvGrpSpPr>
          <p:grpSpPr>
            <a:xfrm>
              <a:off x="2811600" y="3208680"/>
              <a:ext cx="4264560" cy="701280"/>
              <a:chOff x="2811600" y="3208680"/>
              <a:chExt cx="4264560" cy="701280"/>
            </a:xfrm>
          </p:grpSpPr>
          <p:pic>
            <p:nvPicPr>
              <p:cNvPr id="115" name="Picture 49" descr="그림자"/>
              <p:cNvPicPr/>
              <p:nvPr/>
            </p:nvPicPr>
            <p:blipFill>
              <a:blip r:embed="rId9"/>
              <a:stretch/>
            </p:blipFill>
            <p:spPr>
              <a:xfrm>
                <a:off x="2811600" y="320868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AutoShape 50"/>
              <p:cNvSpPr/>
              <p:nvPr/>
            </p:nvSpPr>
            <p:spPr>
              <a:xfrm>
                <a:off x="2923200" y="3313440"/>
                <a:ext cx="4034520" cy="42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51"/>
              <p:cNvSpPr/>
              <p:nvPr/>
            </p:nvSpPr>
            <p:spPr>
              <a:xfrm>
                <a:off x="3054600" y="333648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18" name="TextBox 65"/>
            <p:cNvSpPr/>
            <p:nvPr/>
          </p:nvSpPr>
          <p:spPr>
            <a:xfrm>
              <a:off x="2359080" y="325044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6"/>
            <p:cNvGrpSpPr/>
            <p:nvPr/>
          </p:nvGrpSpPr>
          <p:grpSpPr>
            <a:xfrm>
              <a:off x="2129400" y="3850560"/>
              <a:ext cx="5190480" cy="864720"/>
              <a:chOff x="2129400" y="3850560"/>
              <a:chExt cx="5190480" cy="864720"/>
            </a:xfrm>
          </p:grpSpPr>
          <p:pic>
            <p:nvPicPr>
              <p:cNvPr id="120" name="AutoShape 8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29400" y="3850560"/>
                <a:ext cx="5190480" cy="86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38"/>
              <p:cNvSpPr/>
              <p:nvPr/>
            </p:nvSpPr>
            <p:spPr>
              <a:xfrm>
                <a:off x="2282400" y="3995640"/>
                <a:ext cx="4742280" cy="41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  <a:ea typeface="Malgun Gothic"/>
                </a:endParaRPr>
              </a:p>
            </p:txBody>
          </p:sp>
        </p:grpSp>
        <p:grpSp>
          <p:nvGrpSpPr>
            <p:cNvPr id="122" name="Group 39"/>
            <p:cNvGrpSpPr/>
            <p:nvPr/>
          </p:nvGrpSpPr>
          <p:grpSpPr>
            <a:xfrm>
              <a:off x="2811600" y="3884040"/>
              <a:ext cx="4264560" cy="701280"/>
              <a:chOff x="2811600" y="3884040"/>
              <a:chExt cx="4264560" cy="701280"/>
            </a:xfrm>
          </p:grpSpPr>
          <p:pic>
            <p:nvPicPr>
              <p:cNvPr id="123" name="Picture 49" descr="그림자"/>
              <p:cNvPicPr/>
              <p:nvPr/>
            </p:nvPicPr>
            <p:blipFill>
              <a:blip r:embed="rId11"/>
              <a:stretch/>
            </p:blipFill>
            <p:spPr>
              <a:xfrm>
                <a:off x="2811600" y="3884040"/>
                <a:ext cx="426456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AutoShape 50"/>
              <p:cNvSpPr/>
              <p:nvPr/>
            </p:nvSpPr>
            <p:spPr>
              <a:xfrm>
                <a:off x="2923200" y="3988800"/>
                <a:ext cx="4034520" cy="42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51"/>
              <p:cNvSpPr/>
              <p:nvPr/>
            </p:nvSpPr>
            <p:spPr>
              <a:xfrm>
                <a:off x="3054600" y="4011840"/>
                <a:ext cx="3777120" cy="19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5040" bIns="-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  <a:ea typeface="Gulim"/>
                </a:endParaRPr>
              </a:p>
            </p:txBody>
          </p:sp>
        </p:grpSp>
        <p:sp>
          <p:nvSpPr>
            <p:cNvPr id="126" name="TextBox 71"/>
            <p:cNvSpPr/>
            <p:nvPr/>
          </p:nvSpPr>
          <p:spPr>
            <a:xfrm>
              <a:off x="2359080" y="3925800"/>
              <a:ext cx="43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lidan\Desktop\tj1.png"/>
          <p:cNvPicPr/>
          <p:nvPr/>
        </p:nvPicPr>
        <p:blipFill>
          <a:blip r:embed="rId2"/>
          <a:stretch/>
        </p:blipFill>
        <p:spPr>
          <a:xfrm>
            <a:off x="500040" y="965160"/>
            <a:ext cx="3284280" cy="317772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12"/>
          <p:cNvSpPr/>
          <p:nvPr/>
        </p:nvSpPr>
        <p:spPr>
          <a:xfrm>
            <a:off x="4214880" y="1139760"/>
            <a:ext cx="450036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Calibri"/>
              <a:buAutoNum type="arabicPeriod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数据说明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862920" y="226368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932840" y="362124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3061440" y="1214280"/>
            <a:ext cx="490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3146400" y="3478320"/>
            <a:ext cx="400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lidan\Desktop\dit.png"/>
          <p:cNvPicPr/>
          <p:nvPr/>
        </p:nvPicPr>
        <p:blipFill>
          <a:blip r:embed="rId2"/>
          <a:stretch/>
        </p:blipFill>
        <p:spPr>
          <a:xfrm>
            <a:off x="428760" y="1143000"/>
            <a:ext cx="5721120" cy="307152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3" descr="C:\Users\lidan\Desktop\num.png"/>
          <p:cNvPicPr/>
          <p:nvPr/>
        </p:nvPicPr>
        <p:blipFill>
          <a:blip r:embed="rId3"/>
          <a:stretch/>
        </p:blipFill>
        <p:spPr>
          <a:xfrm>
            <a:off x="7929720" y="1143000"/>
            <a:ext cx="645840" cy="339696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10"/>
          <p:cNvSpPr/>
          <p:nvPr/>
        </p:nvSpPr>
        <p:spPr>
          <a:xfrm>
            <a:off x="8043480" y="12463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8051400" y="17017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8043480" y="213840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8059320" y="255888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8045280" y="301140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8051400" y="3436920"/>
            <a:ext cx="41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5129640" y="14382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2915280" y="315288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1510200" y="32796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1803960" y="14382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653040" y="250812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5336280" y="3819600"/>
            <a:ext cx="336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5405400" y="2647800"/>
            <a:ext cx="2012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lidan\Desktop\sj2.png"/>
          <p:cNvPicPr/>
          <p:nvPr/>
        </p:nvPicPr>
        <p:blipFill>
          <a:blip r:embed="rId2"/>
          <a:stretch/>
        </p:blipFill>
        <p:spPr>
          <a:xfrm>
            <a:off x="571680" y="1143000"/>
            <a:ext cx="3863520" cy="26730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3" descr="C:\Users\lidan\Desktop\sj1.png"/>
          <p:cNvPicPr/>
          <p:nvPr/>
        </p:nvPicPr>
        <p:blipFill>
          <a:blip r:embed="rId3"/>
          <a:stretch/>
        </p:blipFill>
        <p:spPr>
          <a:xfrm>
            <a:off x="4786200" y="1158840"/>
            <a:ext cx="3863520" cy="267300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27"/>
          <p:cNvSpPr/>
          <p:nvPr/>
        </p:nvSpPr>
        <p:spPr>
          <a:xfrm>
            <a:off x="2320920" y="128592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走势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59040" y="128592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走势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6564240" y="130176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948a54"/>
                </a:solidFill>
                <a:latin typeface="微软雅黑"/>
                <a:ea typeface="微软雅黑"/>
              </a:rPr>
              <a:t>走势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7908840" y="12938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走势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67640" y="51379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1360" y="157320"/>
            <a:ext cx="1828440" cy="2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5405400" y="2647800"/>
            <a:ext cx="2012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lidan\Desktop\abc.png"/>
          <p:cNvPicPr/>
          <p:nvPr/>
        </p:nvPicPr>
        <p:blipFill>
          <a:blip r:embed="rId2"/>
          <a:stretch/>
        </p:blipFill>
        <p:spPr>
          <a:xfrm>
            <a:off x="279360" y="2982960"/>
            <a:ext cx="3220560" cy="1231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C:\Users\lidan\Desktop\sh4.png"/>
          <p:cNvPicPr/>
          <p:nvPr/>
        </p:nvPicPr>
        <p:blipFill>
          <a:blip r:embed="rId3"/>
          <a:stretch/>
        </p:blipFill>
        <p:spPr>
          <a:xfrm>
            <a:off x="3429000" y="642960"/>
            <a:ext cx="3404880" cy="354924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C:\Users\lidan\Desktop\sj5.png"/>
          <p:cNvPicPr/>
          <p:nvPr/>
        </p:nvPicPr>
        <p:blipFill>
          <a:blip r:embed="rId4"/>
          <a:stretch/>
        </p:blipFill>
        <p:spPr>
          <a:xfrm>
            <a:off x="6715080" y="2643120"/>
            <a:ext cx="2047680" cy="206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63920" y="674640"/>
            <a:ext cx="54226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143160" y="1380960"/>
            <a:ext cx="5014440" cy="61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工作报告</a:t>
            </a:r>
            <a:r>
              <a:rPr b="1" lang="en-US" sz="18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325440" y="3786120"/>
            <a:ext cx="360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  <Words>213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8:54:07Z</dcterms:created>
  <dc:creator>lidan</dc:creator>
  <dc:description/>
  <dc:language>en-US</dc:language>
  <cp:lastModifiedBy>a</cp:lastModifiedBy>
  <dcterms:modified xsi:type="dcterms:W3CDTF">2015-07-25T02:04:42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