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199313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4CFD-37A6-4FC1-9A0F-1C025C3F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446F-15DD-47BD-B2F7-A57951EFC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0CDC-C746-4CFC-B4F3-9E6F231F0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71C8-A42D-4C0B-AD69-1466C2D7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7647D-6777-45B6-812F-E14793E4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07ABD-6EF4-4C12-BEF1-AF31A901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65446-33C0-4AFE-9E3C-B477652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47271-DA80-4BE7-BE97-AEC0E36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D755-9EB6-4D8D-8141-985783F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90800"/>
            <a:ext cx="6479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64E4-1E2B-49C8-A33E-E66D61E8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7110B-8658-462B-BFA9-A7375F1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747F-B317-4A82-97BA-621203991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F8567-CE57-465D-A32D-AE075DD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F7F9-655D-4C01-AA3B-FD19A54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B4F89-17E1-4182-820D-8AF294F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38B6-7782-40CA-835C-135B4593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5121-1CB3-45EA-B4CA-3F7256E6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5953-F1BE-4ACD-AE18-CF968449C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F59E-73B4-45BA-A1A5-2D74E6029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5740-5759-4B52-8EF4-8A7360962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90800"/>
            <a:ext cx="6479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F84E-79FC-4F7A-B89B-3F2C17C23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C84F-BF26-403C-BD26-BABE5249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24E7-EB55-46E0-B478-A1DE2C284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EBD2-E649-4C90-B6CD-78BA79FB5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309920"/>
            <a:ext cx="1765440" cy="52416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F0833C50-D9E8-47B2-85DD-B4C0726EC94C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20516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图片1副本"/>
          <p:cNvPicPr/>
          <p:nvPr/>
        </p:nvPicPr>
        <p:blipFill>
          <a:blip r:embed="rId2"/>
          <a:stretch/>
        </p:blipFill>
        <p:spPr>
          <a:xfrm>
            <a:off x="282600" y="4238640"/>
            <a:ext cx="119232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90080"/>
            <a:ext cx="6480000" cy="800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117440"/>
            <a:ext cx="6480000" cy="3160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8000"/>
          </a:bodyPr>
          <a:p>
            <a:pPr marL="264600" indent="-264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2000" indent="-175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4800" indent="-176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362480"/>
            <a:ext cx="167940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362480"/>
            <a:ext cx="227952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362480"/>
            <a:ext cx="167940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D7F2BAAD-D010-4DD4-A6FB-CE65EB5948E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816120"/>
            <a:ext cx="720108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7" descr="m_1280887909282"/>
          <p:cNvPicPr/>
          <p:nvPr/>
        </p:nvPicPr>
        <p:blipFill>
          <a:blip r:embed="rId1"/>
          <a:stretch/>
        </p:blipFill>
        <p:spPr>
          <a:xfrm>
            <a:off x="0" y="0"/>
            <a:ext cx="7201080" cy="48182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2"/>
          <p:cNvGrpSpPr/>
          <p:nvPr/>
        </p:nvGrpSpPr>
        <p:grpSpPr>
          <a:xfrm>
            <a:off x="0" y="0"/>
            <a:ext cx="7201080" cy="4818240"/>
            <a:chOff x="0" y="0"/>
            <a:chExt cx="7201080" cy="4818240"/>
          </a:xfrm>
        </p:grpSpPr>
        <p:pic>
          <p:nvPicPr>
            <p:cNvPr id="84" name="Picture 39" descr="17126"/>
            <p:cNvPicPr/>
            <p:nvPr/>
          </p:nvPicPr>
          <p:blipFill>
            <a:blip r:embed="rId2"/>
            <a:stretch/>
          </p:blipFill>
          <p:spPr>
            <a:xfrm>
              <a:off x="0" y="96840"/>
              <a:ext cx="7201080" cy="47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8" descr="17126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201080" cy="469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40" descr="简单。爱"/>
          <p:cNvPicPr/>
          <p:nvPr/>
        </p:nvPicPr>
        <p:blipFill>
          <a:blip r:embed="rId4"/>
          <a:stretch/>
        </p:blipFill>
        <p:spPr>
          <a:xfrm>
            <a:off x="4968720" y="2251080"/>
            <a:ext cx="190188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天空之城八音盒.mp3" descr=""/>
          <p:cNvPicPr/>
          <p:nvPr/>
        </p:nvPicPr>
        <p:blipFill>
          <a:blip r:embed="rId5"/>
          <a:stretch/>
        </p:blipFill>
        <p:spPr>
          <a:xfrm>
            <a:off x="216000" y="4394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34720" y="112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爱情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50640" y="4255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0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8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爱"/>
          <p:cNvPicPr/>
          <p:nvPr/>
        </p:nvPicPr>
        <p:blipFill>
          <a:blip r:embed="rId2"/>
          <a:stretch/>
        </p:blipFill>
        <p:spPr>
          <a:xfrm>
            <a:off x="2952720" y="1674720"/>
            <a:ext cx="1587600" cy="1944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930040" y="254160"/>
            <a:ext cx="1270440" cy="84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迷你简汉真广标"/>
              </a:rPr>
              <a:t>爱。简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阳光的味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就像你身上淡淡的烟草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青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我们最美好的时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在午后的阳光中绽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牵着你的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靠在你的肩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看着天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望着远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阳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轻抚我的脸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微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带走我的忧伤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思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远方的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远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你思念的我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时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总是短暂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也平淡的继续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就是如此的简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在我们彼此的心间徜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8" descr="插图01"/>
          <p:cNvPicPr/>
          <p:nvPr/>
        </p:nvPicPr>
        <p:blipFill>
          <a:blip r:embed="rId1"/>
          <a:stretch/>
        </p:blipFill>
        <p:spPr>
          <a:xfrm>
            <a:off x="4049640" y="0"/>
            <a:ext cx="3149640" cy="4789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0" descr=""/>
          <p:cNvPicPr/>
          <p:nvPr/>
        </p:nvPicPr>
        <p:blipFill>
          <a:blip r:embed="rId2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图片1"/>
          <p:cNvPicPr/>
          <p:nvPr/>
        </p:nvPicPr>
        <p:blipFill>
          <a:blip r:embed="rId3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简单。爱"/>
          <p:cNvPicPr/>
          <p:nvPr/>
        </p:nvPicPr>
        <p:blipFill>
          <a:blip r:embed="rId4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5" descr="插图02"/>
          <p:cNvPicPr/>
          <p:nvPr/>
        </p:nvPicPr>
        <p:blipFill>
          <a:blip r:embed="rId1"/>
          <a:stretch/>
        </p:blipFill>
        <p:spPr>
          <a:xfrm>
            <a:off x="0" y="0"/>
            <a:ext cx="3421080" cy="4789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 algn="r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 algn="r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 algn="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 algn="r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 algn="r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6" descr=""/>
          <p:cNvPicPr/>
          <p:nvPr/>
        </p:nvPicPr>
        <p:blipFill>
          <a:blip r:embed="rId2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7" descr="图片1"/>
          <p:cNvPicPr/>
          <p:nvPr/>
        </p:nvPicPr>
        <p:blipFill>
          <a:blip r:embed="rId3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简单。爱"/>
          <p:cNvPicPr/>
          <p:nvPr/>
        </p:nvPicPr>
        <p:blipFill>
          <a:blip r:embed="rId4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908280" y="425520"/>
            <a:ext cx="240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1100" spc="-1" strike="noStrike" u="sng">
                <a:solidFill>
                  <a:srgbClr val="6d757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插图03"/>
          <p:cNvPicPr/>
          <p:nvPr/>
        </p:nvPicPr>
        <p:blipFill>
          <a:blip r:embed="rId2"/>
          <a:stretch/>
        </p:blipFill>
        <p:spPr>
          <a:xfrm>
            <a:off x="3676680" y="595440"/>
            <a:ext cx="3522600" cy="419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图片1"/>
          <p:cNvPicPr/>
          <p:nvPr/>
        </p:nvPicPr>
        <p:blipFill>
          <a:blip r:embed="rId4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简单。爱"/>
          <p:cNvPicPr/>
          <p:nvPr/>
        </p:nvPicPr>
        <p:blipFill>
          <a:blip r:embed="rId5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2"/>
          <p:cNvSpPr/>
          <p:nvPr/>
        </p:nvSpPr>
        <p:spPr>
          <a:xfrm>
            <a:off x="477720" y="4421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8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背影"/>
          <p:cNvPicPr/>
          <p:nvPr/>
        </p:nvPicPr>
        <p:blipFill>
          <a:blip r:embed="rId2"/>
          <a:stretch/>
        </p:blipFill>
        <p:spPr>
          <a:xfrm>
            <a:off x="1871640" y="666720"/>
            <a:ext cx="3529080" cy="347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6" descr="不是你的天使"/>
          <p:cNvPicPr/>
          <p:nvPr/>
        </p:nvPicPr>
        <p:blipFill>
          <a:blip r:embed="rId3"/>
          <a:stretch/>
        </p:blipFill>
        <p:spPr>
          <a:xfrm>
            <a:off x="720720" y="1631880"/>
            <a:ext cx="5961240" cy="1303560"/>
          </a:xfrm>
          <a:prstGeom prst="rect">
            <a:avLst/>
          </a:prstGeom>
          <a:ln w="0">
            <a:noFill/>
          </a:ln>
        </p:spPr>
      </p:pic>
    </p:spTree>
  </p:cSld>
  <p:transition advTm="4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5:03Z</dcterms:modified>
  <cp:revision>1107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