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39076-A825-4E52-AD50-F2A729E9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A7E38-1D1B-4E3E-B6F1-23B5DF19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10C25-CA1B-4488-BF51-2C909F6D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C2276-DE22-43E3-BB88-FA67480F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5E71F-76D8-4B6D-B783-96A5522F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D9C1C-B261-490D-8755-6ED2E223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A0981-2062-4A00-83F9-E709EC12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27D1D-8F17-40D4-A7E4-F3A910F2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AF47B-DA02-4015-8530-E2B73E07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F906B-54A0-479C-B5AC-4C52191E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B8FE9-4DCE-457B-8425-7383D495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E3CA7-589C-49D5-AB8F-6D235FD9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FB08A-E6CA-4BA8-A320-1C254B61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4B2CC-EC1F-416D-9291-A54EEED3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1047C-3276-4B50-83B1-0371BD8A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83A20-A8CE-435A-AA23-5A8C5633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59D0A-8DCB-43B8-AE42-DB47C95E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1963F-51F3-4A09-BDD5-AD666420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E69DE-B031-4147-926A-5F8DC743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6DAA2-E711-41B6-B656-FE491298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E0EF4-3293-410A-9298-F7D3DB95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C13C6-6D41-4294-BCE2-C89772ED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F4032-BD9A-4A20-AFFB-ADD1BA35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A81E0-3146-4813-B6C0-3A20E032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68271-46AA-4620-9246-DF86FBB0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3FFF8-C39D-4E55-9F36-CAE50A63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B56AA-C8D0-4930-9432-C1CCAFAB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01966-DE3A-4DB5-8960-DA3571E4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70342-EC77-4BA4-8074-22CB96EC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03A96-8CA6-445C-8AAA-839386B9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3866-8FA2-49E6-9D2D-4AA6A70C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2429A-C774-477F-B1F4-6440C23B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80AFC-7599-484B-8297-94DE395CD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A2368-7DFB-42DA-A7CA-F3C166C69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2EEAD-472C-4395-94F4-E336C46E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42EFE-548C-4B35-8C64-B756205A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35C2F-A732-4676-8DA0-AC5BC0E6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1E547-AEFE-4C3C-9969-56B8E5DA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97F7A-DD51-466E-B0C5-AAC716DB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23A2D-DB31-4382-AC74-F2C77F44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A6374-BC04-4AA6-812F-836B27DF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07B1-580B-4071-82B0-CB4382F7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8B7DE-9294-48E8-B7C8-A8ECEF4A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A59D1-FE2A-49EC-AA3E-6E8233FE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BD7FC-04FF-4EC9-A029-26FABCEA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01A3CA-FDDD-4AD8-8B8B-1BAA81A8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F826F-3D0C-453B-8D3A-402BFD5B5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E01A-FB42-4B86-A4F9-E406A50A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0B55-975C-4F62-92E8-97B7DC5A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E687-633F-4A19-9D24-1F4B8292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19EE-1ED7-437A-AACF-6DC1BD3F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93B6-CD0E-41EF-AD9D-220D7876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C308-E1D7-463C-84D6-E636775A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B5E4-F52B-46C6-99AD-CF22A7AD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23DE-8180-4902-8EC4-F1290C61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982-63C2-47D6-B97C-524D2269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1E6C-CF20-4218-8F56-99959845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5C8E-27F2-41ED-B777-79BFBED1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F056-0F48-4A97-8C29-F4C55AC5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5C6B-0BBA-455B-917C-F24C8785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843F-622A-4C0C-8DD3-D2E78F43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BC41-9CD8-4931-9B81-D6F6032C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C49E-B3B9-49D4-B027-4C19A6D9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31F9-1BC5-4798-83ED-1F069F40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8B88-2A58-4AFD-87F4-471951F2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DBBC-3674-4651-9184-708AB898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3B8FF-041A-4911-ABE8-6EB5DB2F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DB13-965C-4859-B47B-26B08294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C8F2-AA80-4315-B7FB-D7C97D833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AEC4E-89DA-4A25-BD85-AD47772C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62545-5085-4EA8-A583-14848F6E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D217C-DF10-4F20-9C05-E75FE451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F132F-2FD2-4E96-99C8-EB1A4713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BAC43-8065-407F-B2A2-B216A666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66067-5D5D-4FC4-A8E6-DFA3E0E5F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4A66F-BFDB-4263-BFE3-B6615070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B9328-DE0C-4397-89E1-85ABF27C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4F47A-F666-42F1-A656-98966E91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C3AE1-B92B-47DE-AAC1-A30204F2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16D0F-A109-41E7-9AEB-ED6B8D1D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D2DFC-D58E-4E0F-A13A-084B1403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6B85C-5F71-4B52-AE08-A9048195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1D869-41B6-4E40-ABD8-DB2A374A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CFB02-844D-4A51-80BA-72AE4F72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A9843-2F93-4AA8-99B7-B9E5CFC5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6F47E-498F-43BA-AC5E-1194FD9B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7DD4A-C494-480B-BCB4-C31124FC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36819-1A3C-4758-9D83-8CE0FE34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E7979-7CB7-491F-B252-918A8661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9DD46-FA77-41A4-8110-159A8057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7B494-BA1E-42D3-BECC-1494ED45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D12C8-CED8-423B-B476-C0DF1122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A48E2-8693-44E4-93F8-BEDA8DC0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0C9D3-2BA6-4C35-B367-DC176852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598F3-F6DB-4366-80A5-73283322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2EC09-C032-4C6D-9D6F-CE79CCD7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F2B55-7E3E-4B9C-AEF8-82D5CE28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2A2CD-CE2D-42F2-A544-849877FC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D3954-88B1-4C66-BF3B-75AFB54C8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D76F1-E55C-4413-B152-4A64BDE7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0E4DC-173A-4D1D-829E-B138815C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9ECF2-236A-482B-BDB8-23139CB2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FCB67-46FC-46BF-9C2F-BC80223A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8DFBC-9BAB-4B80-B2E8-50CDDAFC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FB749-E071-4924-8835-3B7C13AD9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90721-D89D-4DBB-960A-47DE847E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F221DC-476F-4A8B-894F-0D3405FD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2A26D-841C-48CE-A71B-988519E4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E5163-CFD4-4E5A-95CA-C22FD6DC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5FFC6-DF8B-437D-8E33-C4FC6568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D2BF6-DFCB-4F7E-B24E-DC939BEA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D4EF6-A732-44C2-BF89-4A3AC7A1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49274-A1C7-426D-BDEA-58EEDB4C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D50DA-F5BC-49CD-A5DB-5625BBDE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8499C4-4127-4DB0-945E-9EC2DB0C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77C6F-4CFC-4E30-BD21-D3E79E37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71ADE-743F-43E4-8F1E-9F2DB914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DBA48-D9FB-40CC-AC3C-D9B4D4AD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5D896-3ABA-43BA-86A3-165F056F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E197D-E987-439C-8ACF-FEF6D33E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7BC9A-58D6-4EEA-BF61-D471A651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FEB65-A76B-470D-A037-C9D97167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246F7-6413-4FE8-8438-9FD47FCB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4B913-9391-45D0-97BD-52537EA7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D3FD6-3080-492E-88FA-33BFF6A7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EC8AF-3FCA-4BDB-9B36-E51F5C00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DF2F9-7DAE-40E7-B54D-245A1DC1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C8512-A95B-4790-9BDB-50DBAB26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39CD3-AA43-4223-A2A2-BAEC6A45E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5E291-DD1E-4B00-86EB-74A57E0C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E7003-4F90-47A3-B984-0974A5E7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6C923-916C-4346-9688-7E16834D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6A6C-FC9B-488E-B3A8-B8AB571631C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670B-D52C-41C1-BBCB-81FE27EFE23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E288-39D5-44E9-9ED2-5F11C8D81E9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任意多边形 2"/>
          <p:cNvSpPr/>
          <p:nvPr/>
        </p:nvSpPr>
        <p:spPr>
          <a:xfrm>
            <a:off x="9360" y="765000"/>
            <a:ext cx="9171000" cy="642960"/>
          </a:xfrm>
          <a:custGeom>
            <a:avLst/>
            <a:gdLst/>
            <a:ahLst/>
            <a:rect l="l" t="t" r="r" b="b"/>
            <a:pathLst>
              <a:path w="9171160" h="642796">
                <a:moveTo>
                  <a:pt x="0" y="0"/>
                </a:moveTo>
                <a:cubicBezTo>
                  <a:pt x="193140" y="180315"/>
                  <a:pt x="386281" y="360630"/>
                  <a:pt x="516047" y="371192"/>
                </a:cubicBezTo>
                <a:cubicBezTo>
                  <a:pt x="645813" y="381754"/>
                  <a:pt x="704661" y="66392"/>
                  <a:pt x="778598" y="63374"/>
                </a:cubicBezTo>
                <a:cubicBezTo>
                  <a:pt x="852535" y="60356"/>
                  <a:pt x="882713" y="344032"/>
                  <a:pt x="959667" y="353085"/>
                </a:cubicBezTo>
                <a:cubicBezTo>
                  <a:pt x="1036621" y="362138"/>
                  <a:pt x="828391" y="89026"/>
                  <a:pt x="1240324" y="117695"/>
                </a:cubicBezTo>
                <a:cubicBezTo>
                  <a:pt x="1652257" y="146364"/>
                  <a:pt x="2605889" y="496432"/>
                  <a:pt x="3431263" y="525101"/>
                </a:cubicBezTo>
                <a:cubicBezTo>
                  <a:pt x="4256637" y="553770"/>
                  <a:pt x="5235921" y="270095"/>
                  <a:pt x="6192570" y="289711"/>
                </a:cubicBezTo>
                <a:cubicBezTo>
                  <a:pt x="7149219" y="309327"/>
                  <a:pt x="8160189" y="476061"/>
                  <a:pt x="9171160" y="642796"/>
                </a:cubicBezTo>
              </a:path>
            </a:pathLst>
          </a:custGeom>
          <a:noFill/>
          <a:ln w="12600">
            <a:solidFill>
              <a:srgbClr val="9ebf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C229-16DB-4F38-94EF-2AA4AC3DBCB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685F-6EEB-4EB7-804E-0CF0DA79CC1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4263-DAF0-4A98-B615-CA272293E10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C836-D3E3-4F56-A0D7-66D77E719C4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B64A-2ABA-475A-A952-CEF99EF08DC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F738-177F-457D-9581-2B76E1836F0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DC2D-4E38-4226-A2E8-B9DCF3EB18E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D96A-515B-4CB1-A8F2-2F4205CD792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矩形 4"/>
          <p:cNvSpPr/>
          <p:nvPr/>
        </p:nvSpPr>
        <p:spPr>
          <a:xfrm>
            <a:off x="0" y="1989000"/>
            <a:ext cx="9144000" cy="1800360"/>
          </a:xfrm>
          <a:prstGeom prst="rect">
            <a:avLst/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任意多边形 5"/>
          <p:cNvSpPr/>
          <p:nvPr/>
        </p:nvSpPr>
        <p:spPr>
          <a:xfrm>
            <a:off x="-17640" y="4076640"/>
            <a:ext cx="9152280" cy="2062080"/>
          </a:xfrm>
          <a:custGeom>
            <a:avLst/>
            <a:gdLst/>
            <a:ahLst/>
            <a:rect l="l" t="t" r="r" b="b"/>
            <a:pathLst>
              <a:path w="9153330" h="2062065">
                <a:moveTo>
                  <a:pt x="0" y="0"/>
                </a:moveTo>
                <a:cubicBezTo>
                  <a:pt x="685022" y="307910"/>
                  <a:pt x="1370045" y="615820"/>
                  <a:pt x="2136710" y="727787"/>
                </a:cubicBezTo>
                <a:cubicBezTo>
                  <a:pt x="2903375" y="839754"/>
                  <a:pt x="3833327" y="524069"/>
                  <a:pt x="4599992" y="671804"/>
                </a:cubicBezTo>
                <a:cubicBezTo>
                  <a:pt x="5366657" y="819539"/>
                  <a:pt x="5977812" y="1382486"/>
                  <a:pt x="6736702" y="1614196"/>
                </a:cubicBezTo>
                <a:cubicBezTo>
                  <a:pt x="7495592" y="1845906"/>
                  <a:pt x="8324461" y="1953985"/>
                  <a:pt x="9153330" y="2062065"/>
                </a:cubicBezTo>
              </a:path>
            </a:pathLst>
          </a:custGeom>
          <a:noFill/>
          <a:ln w="12600">
            <a:solidFill>
              <a:srgbClr val="9ebf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任意多边形 6"/>
          <p:cNvSpPr/>
          <p:nvPr/>
        </p:nvSpPr>
        <p:spPr>
          <a:xfrm>
            <a:off x="-27000" y="4505400"/>
            <a:ext cx="8863200" cy="2343240"/>
          </a:xfrm>
          <a:custGeom>
            <a:avLst/>
            <a:gdLst/>
            <a:ahLst/>
            <a:rect l="l" t="t" r="r" b="b"/>
            <a:pathLst>
              <a:path w="8864082" h="2343480">
                <a:moveTo>
                  <a:pt x="0" y="1497"/>
                </a:moveTo>
                <a:cubicBezTo>
                  <a:pt x="438539" y="484356"/>
                  <a:pt x="877078" y="967215"/>
                  <a:pt x="1688841" y="971880"/>
                </a:cubicBezTo>
                <a:cubicBezTo>
                  <a:pt x="2500604" y="976545"/>
                  <a:pt x="3674707" y="-199111"/>
                  <a:pt x="4870580" y="29489"/>
                </a:cubicBezTo>
                <a:cubicBezTo>
                  <a:pt x="6066453" y="258089"/>
                  <a:pt x="7465267" y="1300784"/>
                  <a:pt x="8864082" y="2343480"/>
                </a:cubicBezTo>
              </a:path>
            </a:pathLst>
          </a:custGeom>
          <a:noFill/>
          <a:ln w="12600">
            <a:solidFill>
              <a:srgbClr val="9ebf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Box 7"/>
          <p:cNvSpPr/>
          <p:nvPr/>
        </p:nvSpPr>
        <p:spPr>
          <a:xfrm>
            <a:off x="2799720" y="242712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清新简洁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Box 4"/>
          <p:cNvSpPr/>
          <p:nvPr/>
        </p:nvSpPr>
        <p:spPr>
          <a:xfrm>
            <a:off x="835920" y="266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ebf27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Freeform 3"/>
          <p:cNvSpPr/>
          <p:nvPr/>
        </p:nvSpPr>
        <p:spPr>
          <a:xfrm>
            <a:off x="5415120" y="2992320"/>
            <a:ext cx="1628640" cy="700200"/>
          </a:xfrm>
          <a:custGeom>
            <a:avLst/>
            <a:gdLst/>
            <a:ahLst/>
            <a:rect l="l" t="t" r="r" b="b"/>
            <a:pathLst>
              <a:path w="2061" h="1556">
                <a:moveTo>
                  <a:pt x="0" y="1544"/>
                </a:moveTo>
                <a:lnTo>
                  <a:pt x="112" y="1555"/>
                </a:lnTo>
                <a:lnTo>
                  <a:pt x="170" y="1555"/>
                </a:lnTo>
                <a:lnTo>
                  <a:pt x="237" y="1555"/>
                </a:lnTo>
                <a:lnTo>
                  <a:pt x="300" y="1551"/>
                </a:lnTo>
                <a:lnTo>
                  <a:pt x="365" y="1544"/>
                </a:lnTo>
                <a:lnTo>
                  <a:pt x="427" y="1533"/>
                </a:lnTo>
                <a:lnTo>
                  <a:pt x="484" y="1519"/>
                </a:lnTo>
                <a:lnTo>
                  <a:pt x="547" y="1501"/>
                </a:lnTo>
                <a:lnTo>
                  <a:pt x="622" y="1472"/>
                </a:lnTo>
                <a:lnTo>
                  <a:pt x="689" y="1439"/>
                </a:lnTo>
                <a:lnTo>
                  <a:pt x="754" y="1410"/>
                </a:lnTo>
                <a:lnTo>
                  <a:pt x="824" y="1371"/>
                </a:lnTo>
                <a:lnTo>
                  <a:pt x="891" y="1324"/>
                </a:lnTo>
                <a:lnTo>
                  <a:pt x="959" y="1280"/>
                </a:lnTo>
                <a:lnTo>
                  <a:pt x="1016" y="1233"/>
                </a:lnTo>
                <a:lnTo>
                  <a:pt x="1081" y="1190"/>
                </a:lnTo>
                <a:lnTo>
                  <a:pt x="1134" y="1143"/>
                </a:lnTo>
                <a:lnTo>
                  <a:pt x="1194" y="1092"/>
                </a:lnTo>
                <a:lnTo>
                  <a:pt x="1253" y="1041"/>
                </a:lnTo>
                <a:lnTo>
                  <a:pt x="1313" y="980"/>
                </a:lnTo>
                <a:lnTo>
                  <a:pt x="1366" y="929"/>
                </a:lnTo>
                <a:lnTo>
                  <a:pt x="1423" y="861"/>
                </a:lnTo>
                <a:lnTo>
                  <a:pt x="1476" y="799"/>
                </a:lnTo>
                <a:lnTo>
                  <a:pt x="1523" y="734"/>
                </a:lnTo>
                <a:lnTo>
                  <a:pt x="1566" y="665"/>
                </a:lnTo>
                <a:lnTo>
                  <a:pt x="1598" y="608"/>
                </a:lnTo>
                <a:lnTo>
                  <a:pt x="1626" y="546"/>
                </a:lnTo>
                <a:lnTo>
                  <a:pt x="2060" y="629"/>
                </a:lnTo>
                <a:lnTo>
                  <a:pt x="1993" y="586"/>
                </a:lnTo>
                <a:lnTo>
                  <a:pt x="1940" y="546"/>
                </a:lnTo>
                <a:lnTo>
                  <a:pt x="1875" y="506"/>
                </a:lnTo>
                <a:lnTo>
                  <a:pt x="1828" y="467"/>
                </a:lnTo>
                <a:lnTo>
                  <a:pt x="1785" y="427"/>
                </a:lnTo>
                <a:lnTo>
                  <a:pt x="1748" y="398"/>
                </a:lnTo>
                <a:lnTo>
                  <a:pt x="1713" y="354"/>
                </a:lnTo>
                <a:lnTo>
                  <a:pt x="1675" y="318"/>
                </a:lnTo>
                <a:lnTo>
                  <a:pt x="1638" y="275"/>
                </a:lnTo>
                <a:lnTo>
                  <a:pt x="1596" y="221"/>
                </a:lnTo>
                <a:lnTo>
                  <a:pt x="1551" y="166"/>
                </a:lnTo>
                <a:lnTo>
                  <a:pt x="1513" y="112"/>
                </a:lnTo>
                <a:lnTo>
                  <a:pt x="1473" y="51"/>
                </a:lnTo>
                <a:lnTo>
                  <a:pt x="1441" y="0"/>
                </a:lnTo>
                <a:lnTo>
                  <a:pt x="1408" y="18"/>
                </a:lnTo>
                <a:lnTo>
                  <a:pt x="1373" y="47"/>
                </a:lnTo>
                <a:lnTo>
                  <a:pt x="1338" y="72"/>
                </a:lnTo>
                <a:lnTo>
                  <a:pt x="1296" y="98"/>
                </a:lnTo>
                <a:lnTo>
                  <a:pt x="1251" y="127"/>
                </a:lnTo>
                <a:lnTo>
                  <a:pt x="1211" y="145"/>
                </a:lnTo>
                <a:lnTo>
                  <a:pt x="1174" y="163"/>
                </a:lnTo>
                <a:lnTo>
                  <a:pt x="1129" y="184"/>
                </a:lnTo>
                <a:lnTo>
                  <a:pt x="1084" y="199"/>
                </a:lnTo>
                <a:lnTo>
                  <a:pt x="1034" y="221"/>
                </a:lnTo>
                <a:lnTo>
                  <a:pt x="991" y="235"/>
                </a:lnTo>
                <a:lnTo>
                  <a:pt x="949" y="253"/>
                </a:lnTo>
                <a:lnTo>
                  <a:pt x="901" y="264"/>
                </a:lnTo>
                <a:lnTo>
                  <a:pt x="859" y="278"/>
                </a:lnTo>
                <a:lnTo>
                  <a:pt x="817" y="293"/>
                </a:lnTo>
                <a:lnTo>
                  <a:pt x="769" y="307"/>
                </a:lnTo>
                <a:lnTo>
                  <a:pt x="704" y="318"/>
                </a:lnTo>
                <a:lnTo>
                  <a:pt x="1154" y="438"/>
                </a:lnTo>
                <a:lnTo>
                  <a:pt x="1124" y="528"/>
                </a:lnTo>
                <a:lnTo>
                  <a:pt x="1089" y="597"/>
                </a:lnTo>
                <a:lnTo>
                  <a:pt x="1024" y="720"/>
                </a:lnTo>
                <a:lnTo>
                  <a:pt x="986" y="781"/>
                </a:lnTo>
                <a:lnTo>
                  <a:pt x="949" y="839"/>
                </a:lnTo>
                <a:lnTo>
                  <a:pt x="881" y="933"/>
                </a:lnTo>
                <a:lnTo>
                  <a:pt x="839" y="991"/>
                </a:lnTo>
                <a:lnTo>
                  <a:pt x="792" y="1060"/>
                </a:lnTo>
                <a:lnTo>
                  <a:pt x="747" y="1110"/>
                </a:lnTo>
                <a:lnTo>
                  <a:pt x="709" y="1154"/>
                </a:lnTo>
                <a:lnTo>
                  <a:pt x="672" y="1201"/>
                </a:lnTo>
                <a:lnTo>
                  <a:pt x="627" y="1244"/>
                </a:lnTo>
                <a:lnTo>
                  <a:pt x="577" y="1291"/>
                </a:lnTo>
                <a:lnTo>
                  <a:pt x="529" y="1324"/>
                </a:lnTo>
                <a:lnTo>
                  <a:pt x="479" y="1363"/>
                </a:lnTo>
                <a:lnTo>
                  <a:pt x="419" y="1400"/>
                </a:lnTo>
                <a:lnTo>
                  <a:pt x="365" y="1425"/>
                </a:lnTo>
                <a:lnTo>
                  <a:pt x="300" y="1450"/>
                </a:lnTo>
                <a:lnTo>
                  <a:pt x="240" y="1472"/>
                </a:lnTo>
                <a:lnTo>
                  <a:pt x="177" y="1494"/>
                </a:lnTo>
                <a:lnTo>
                  <a:pt x="107" y="1515"/>
                </a:lnTo>
                <a:lnTo>
                  <a:pt x="0" y="1544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Freeform 4"/>
          <p:cNvSpPr/>
          <p:nvPr/>
        </p:nvSpPr>
        <p:spPr>
          <a:xfrm>
            <a:off x="5319720" y="4299120"/>
            <a:ext cx="1630440" cy="674640"/>
          </a:xfrm>
          <a:custGeom>
            <a:avLst/>
            <a:gdLst/>
            <a:ahLst/>
            <a:rect l="l" t="t" r="r" b="b"/>
            <a:pathLst>
              <a:path w="2063" h="1497">
                <a:moveTo>
                  <a:pt x="0" y="11"/>
                </a:moveTo>
                <a:lnTo>
                  <a:pt x="115" y="0"/>
                </a:lnTo>
                <a:lnTo>
                  <a:pt x="170" y="0"/>
                </a:lnTo>
                <a:lnTo>
                  <a:pt x="237" y="0"/>
                </a:lnTo>
                <a:lnTo>
                  <a:pt x="302" y="7"/>
                </a:lnTo>
                <a:lnTo>
                  <a:pt x="364" y="11"/>
                </a:lnTo>
                <a:lnTo>
                  <a:pt x="429" y="22"/>
                </a:lnTo>
                <a:lnTo>
                  <a:pt x="484" y="40"/>
                </a:lnTo>
                <a:lnTo>
                  <a:pt x="549" y="54"/>
                </a:lnTo>
                <a:lnTo>
                  <a:pt x="624" y="83"/>
                </a:lnTo>
                <a:lnTo>
                  <a:pt x="691" y="116"/>
                </a:lnTo>
                <a:lnTo>
                  <a:pt x="754" y="141"/>
                </a:lnTo>
                <a:lnTo>
                  <a:pt x="826" y="181"/>
                </a:lnTo>
                <a:lnTo>
                  <a:pt x="894" y="224"/>
                </a:lnTo>
                <a:lnTo>
                  <a:pt x="961" y="267"/>
                </a:lnTo>
                <a:lnTo>
                  <a:pt x="1016" y="311"/>
                </a:lnTo>
                <a:lnTo>
                  <a:pt x="1081" y="354"/>
                </a:lnTo>
                <a:lnTo>
                  <a:pt x="1136" y="397"/>
                </a:lnTo>
                <a:lnTo>
                  <a:pt x="1196" y="444"/>
                </a:lnTo>
                <a:lnTo>
                  <a:pt x="1256" y="495"/>
                </a:lnTo>
                <a:lnTo>
                  <a:pt x="1316" y="553"/>
                </a:lnTo>
                <a:lnTo>
                  <a:pt x="1368" y="603"/>
                </a:lnTo>
                <a:lnTo>
                  <a:pt x="1423" y="669"/>
                </a:lnTo>
                <a:lnTo>
                  <a:pt x="1475" y="726"/>
                </a:lnTo>
                <a:lnTo>
                  <a:pt x="1525" y="788"/>
                </a:lnTo>
                <a:lnTo>
                  <a:pt x="1565" y="853"/>
                </a:lnTo>
                <a:lnTo>
                  <a:pt x="1600" y="911"/>
                </a:lnTo>
                <a:lnTo>
                  <a:pt x="1625" y="968"/>
                </a:lnTo>
                <a:lnTo>
                  <a:pt x="2062" y="889"/>
                </a:lnTo>
                <a:lnTo>
                  <a:pt x="2000" y="932"/>
                </a:lnTo>
                <a:lnTo>
                  <a:pt x="1930" y="976"/>
                </a:lnTo>
                <a:lnTo>
                  <a:pt x="1872" y="1012"/>
                </a:lnTo>
                <a:lnTo>
                  <a:pt x="1830" y="1041"/>
                </a:lnTo>
                <a:lnTo>
                  <a:pt x="1782" y="1077"/>
                </a:lnTo>
                <a:lnTo>
                  <a:pt x="1745" y="1109"/>
                </a:lnTo>
                <a:lnTo>
                  <a:pt x="1710" y="1145"/>
                </a:lnTo>
                <a:lnTo>
                  <a:pt x="1673" y="1189"/>
                </a:lnTo>
                <a:lnTo>
                  <a:pt x="1638" y="1229"/>
                </a:lnTo>
                <a:lnTo>
                  <a:pt x="1595" y="1283"/>
                </a:lnTo>
                <a:lnTo>
                  <a:pt x="1555" y="1337"/>
                </a:lnTo>
                <a:lnTo>
                  <a:pt x="1518" y="1384"/>
                </a:lnTo>
                <a:lnTo>
                  <a:pt x="1475" y="1445"/>
                </a:lnTo>
                <a:lnTo>
                  <a:pt x="1443" y="1496"/>
                </a:lnTo>
                <a:lnTo>
                  <a:pt x="1408" y="1474"/>
                </a:lnTo>
                <a:lnTo>
                  <a:pt x="1375" y="1445"/>
                </a:lnTo>
                <a:lnTo>
                  <a:pt x="1338" y="1424"/>
                </a:lnTo>
                <a:lnTo>
                  <a:pt x="1296" y="1398"/>
                </a:lnTo>
                <a:lnTo>
                  <a:pt x="1253" y="1373"/>
                </a:lnTo>
                <a:lnTo>
                  <a:pt x="1213" y="1351"/>
                </a:lnTo>
                <a:lnTo>
                  <a:pt x="1173" y="1337"/>
                </a:lnTo>
                <a:lnTo>
                  <a:pt x="1131" y="1315"/>
                </a:lnTo>
                <a:lnTo>
                  <a:pt x="1083" y="1301"/>
                </a:lnTo>
                <a:lnTo>
                  <a:pt x="1036" y="1283"/>
                </a:lnTo>
                <a:lnTo>
                  <a:pt x="991" y="1265"/>
                </a:lnTo>
                <a:lnTo>
                  <a:pt x="949" y="1250"/>
                </a:lnTo>
                <a:lnTo>
                  <a:pt x="904" y="1239"/>
                </a:lnTo>
                <a:lnTo>
                  <a:pt x="859" y="1225"/>
                </a:lnTo>
                <a:lnTo>
                  <a:pt x="819" y="1211"/>
                </a:lnTo>
                <a:lnTo>
                  <a:pt x="769" y="1196"/>
                </a:lnTo>
                <a:lnTo>
                  <a:pt x="704" y="1185"/>
                </a:lnTo>
                <a:lnTo>
                  <a:pt x="1153" y="1073"/>
                </a:lnTo>
                <a:lnTo>
                  <a:pt x="1123" y="986"/>
                </a:lnTo>
                <a:lnTo>
                  <a:pt x="1088" y="921"/>
                </a:lnTo>
                <a:lnTo>
                  <a:pt x="1024" y="799"/>
                </a:lnTo>
                <a:lnTo>
                  <a:pt x="986" y="744"/>
                </a:lnTo>
                <a:lnTo>
                  <a:pt x="949" y="690"/>
                </a:lnTo>
                <a:lnTo>
                  <a:pt x="881" y="596"/>
                </a:lnTo>
                <a:lnTo>
                  <a:pt x="841" y="542"/>
                </a:lnTo>
                <a:lnTo>
                  <a:pt x="791" y="477"/>
                </a:lnTo>
                <a:lnTo>
                  <a:pt x="746" y="430"/>
                </a:lnTo>
                <a:lnTo>
                  <a:pt x="709" y="387"/>
                </a:lnTo>
                <a:lnTo>
                  <a:pt x="672" y="343"/>
                </a:lnTo>
                <a:lnTo>
                  <a:pt x="627" y="300"/>
                </a:lnTo>
                <a:lnTo>
                  <a:pt x="579" y="257"/>
                </a:lnTo>
                <a:lnTo>
                  <a:pt x="529" y="224"/>
                </a:lnTo>
                <a:lnTo>
                  <a:pt x="482" y="184"/>
                </a:lnTo>
                <a:lnTo>
                  <a:pt x="422" y="152"/>
                </a:lnTo>
                <a:lnTo>
                  <a:pt x="364" y="126"/>
                </a:lnTo>
                <a:lnTo>
                  <a:pt x="302" y="105"/>
                </a:lnTo>
                <a:lnTo>
                  <a:pt x="242" y="83"/>
                </a:lnTo>
                <a:lnTo>
                  <a:pt x="177" y="61"/>
                </a:lnTo>
                <a:lnTo>
                  <a:pt x="110" y="43"/>
                </a:lnTo>
                <a:lnTo>
                  <a:pt x="0" y="11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reeform 5"/>
          <p:cNvSpPr/>
          <p:nvPr/>
        </p:nvSpPr>
        <p:spPr>
          <a:xfrm>
            <a:off x="2517840" y="4246560"/>
            <a:ext cx="1628640" cy="701640"/>
          </a:xfrm>
          <a:custGeom>
            <a:avLst/>
            <a:gdLst/>
            <a:ahLst/>
            <a:rect l="l" t="t" r="r" b="b"/>
            <a:pathLst>
              <a:path w="2063" h="1556">
                <a:moveTo>
                  <a:pt x="2062" y="11"/>
                </a:moveTo>
                <a:lnTo>
                  <a:pt x="1947" y="0"/>
                </a:lnTo>
                <a:lnTo>
                  <a:pt x="1892" y="0"/>
                </a:lnTo>
                <a:lnTo>
                  <a:pt x="1825" y="0"/>
                </a:lnTo>
                <a:lnTo>
                  <a:pt x="1760" y="7"/>
                </a:lnTo>
                <a:lnTo>
                  <a:pt x="1698" y="11"/>
                </a:lnTo>
                <a:lnTo>
                  <a:pt x="1633" y="22"/>
                </a:lnTo>
                <a:lnTo>
                  <a:pt x="1578" y="40"/>
                </a:lnTo>
                <a:lnTo>
                  <a:pt x="1513" y="58"/>
                </a:lnTo>
                <a:lnTo>
                  <a:pt x="1438" y="83"/>
                </a:lnTo>
                <a:lnTo>
                  <a:pt x="1371" y="119"/>
                </a:lnTo>
                <a:lnTo>
                  <a:pt x="1308" y="148"/>
                </a:lnTo>
                <a:lnTo>
                  <a:pt x="1236" y="188"/>
                </a:lnTo>
                <a:lnTo>
                  <a:pt x="1168" y="231"/>
                </a:lnTo>
                <a:lnTo>
                  <a:pt x="1101" y="278"/>
                </a:lnTo>
                <a:lnTo>
                  <a:pt x="1046" y="322"/>
                </a:lnTo>
                <a:lnTo>
                  <a:pt x="981" y="369"/>
                </a:lnTo>
                <a:lnTo>
                  <a:pt x="926" y="412"/>
                </a:lnTo>
                <a:lnTo>
                  <a:pt x="866" y="463"/>
                </a:lnTo>
                <a:lnTo>
                  <a:pt x="806" y="514"/>
                </a:lnTo>
                <a:lnTo>
                  <a:pt x="746" y="579"/>
                </a:lnTo>
                <a:lnTo>
                  <a:pt x="694" y="629"/>
                </a:lnTo>
                <a:lnTo>
                  <a:pt x="639" y="698"/>
                </a:lnTo>
                <a:lnTo>
                  <a:pt x="587" y="759"/>
                </a:lnTo>
                <a:lnTo>
                  <a:pt x="537" y="825"/>
                </a:lnTo>
                <a:lnTo>
                  <a:pt x="497" y="893"/>
                </a:lnTo>
                <a:lnTo>
                  <a:pt x="462" y="947"/>
                </a:lnTo>
                <a:lnTo>
                  <a:pt x="437" y="1013"/>
                </a:lnTo>
                <a:lnTo>
                  <a:pt x="0" y="929"/>
                </a:lnTo>
                <a:lnTo>
                  <a:pt x="70" y="973"/>
                </a:lnTo>
                <a:lnTo>
                  <a:pt x="122" y="1013"/>
                </a:lnTo>
                <a:lnTo>
                  <a:pt x="185" y="1052"/>
                </a:lnTo>
                <a:lnTo>
                  <a:pt x="232" y="1092"/>
                </a:lnTo>
                <a:lnTo>
                  <a:pt x="275" y="1128"/>
                </a:lnTo>
                <a:lnTo>
                  <a:pt x="312" y="1157"/>
                </a:lnTo>
                <a:lnTo>
                  <a:pt x="349" y="1201"/>
                </a:lnTo>
                <a:lnTo>
                  <a:pt x="384" y="1240"/>
                </a:lnTo>
                <a:lnTo>
                  <a:pt x="424" y="1284"/>
                </a:lnTo>
                <a:lnTo>
                  <a:pt x="467" y="1338"/>
                </a:lnTo>
                <a:lnTo>
                  <a:pt x="512" y="1392"/>
                </a:lnTo>
                <a:lnTo>
                  <a:pt x="549" y="1447"/>
                </a:lnTo>
                <a:lnTo>
                  <a:pt x="589" y="1504"/>
                </a:lnTo>
                <a:lnTo>
                  <a:pt x="619" y="1555"/>
                </a:lnTo>
                <a:lnTo>
                  <a:pt x="654" y="1537"/>
                </a:lnTo>
                <a:lnTo>
                  <a:pt x="687" y="1508"/>
                </a:lnTo>
                <a:lnTo>
                  <a:pt x="724" y="1486"/>
                </a:lnTo>
                <a:lnTo>
                  <a:pt x="766" y="1457"/>
                </a:lnTo>
                <a:lnTo>
                  <a:pt x="809" y="1432"/>
                </a:lnTo>
                <a:lnTo>
                  <a:pt x="849" y="1410"/>
                </a:lnTo>
                <a:lnTo>
                  <a:pt x="889" y="1396"/>
                </a:lnTo>
                <a:lnTo>
                  <a:pt x="931" y="1374"/>
                </a:lnTo>
                <a:lnTo>
                  <a:pt x="979" y="1356"/>
                </a:lnTo>
                <a:lnTo>
                  <a:pt x="1026" y="1338"/>
                </a:lnTo>
                <a:lnTo>
                  <a:pt x="1071" y="1320"/>
                </a:lnTo>
                <a:lnTo>
                  <a:pt x="1113" y="1305"/>
                </a:lnTo>
                <a:lnTo>
                  <a:pt x="1158" y="1291"/>
                </a:lnTo>
                <a:lnTo>
                  <a:pt x="1203" y="1277"/>
                </a:lnTo>
                <a:lnTo>
                  <a:pt x="1243" y="1266"/>
                </a:lnTo>
                <a:lnTo>
                  <a:pt x="1293" y="1248"/>
                </a:lnTo>
                <a:lnTo>
                  <a:pt x="1356" y="1237"/>
                </a:lnTo>
                <a:lnTo>
                  <a:pt x="909" y="1117"/>
                </a:lnTo>
                <a:lnTo>
                  <a:pt x="939" y="1027"/>
                </a:lnTo>
                <a:lnTo>
                  <a:pt x="974" y="962"/>
                </a:lnTo>
                <a:lnTo>
                  <a:pt x="1038" y="835"/>
                </a:lnTo>
                <a:lnTo>
                  <a:pt x="1076" y="774"/>
                </a:lnTo>
                <a:lnTo>
                  <a:pt x="1113" y="720"/>
                </a:lnTo>
                <a:lnTo>
                  <a:pt x="1181" y="622"/>
                </a:lnTo>
                <a:lnTo>
                  <a:pt x="1221" y="568"/>
                </a:lnTo>
                <a:lnTo>
                  <a:pt x="1271" y="499"/>
                </a:lnTo>
                <a:lnTo>
                  <a:pt x="1316" y="448"/>
                </a:lnTo>
                <a:lnTo>
                  <a:pt x="1353" y="401"/>
                </a:lnTo>
                <a:lnTo>
                  <a:pt x="1390" y="358"/>
                </a:lnTo>
                <a:lnTo>
                  <a:pt x="1435" y="311"/>
                </a:lnTo>
                <a:lnTo>
                  <a:pt x="1483" y="268"/>
                </a:lnTo>
                <a:lnTo>
                  <a:pt x="1533" y="231"/>
                </a:lnTo>
                <a:lnTo>
                  <a:pt x="1580" y="192"/>
                </a:lnTo>
                <a:lnTo>
                  <a:pt x="1640" y="159"/>
                </a:lnTo>
                <a:lnTo>
                  <a:pt x="1698" y="130"/>
                </a:lnTo>
                <a:lnTo>
                  <a:pt x="1760" y="108"/>
                </a:lnTo>
                <a:lnTo>
                  <a:pt x="1820" y="83"/>
                </a:lnTo>
                <a:lnTo>
                  <a:pt x="1885" y="61"/>
                </a:lnTo>
                <a:lnTo>
                  <a:pt x="1952" y="43"/>
                </a:lnTo>
                <a:lnTo>
                  <a:pt x="2062" y="11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reeform 6"/>
          <p:cNvSpPr/>
          <p:nvPr/>
        </p:nvSpPr>
        <p:spPr>
          <a:xfrm>
            <a:off x="2521080" y="2981160"/>
            <a:ext cx="1630080" cy="675000"/>
          </a:xfrm>
          <a:custGeom>
            <a:avLst/>
            <a:gdLst/>
            <a:ahLst/>
            <a:rect l="l" t="t" r="r" b="b"/>
            <a:pathLst>
              <a:path w="2061" h="1497">
                <a:moveTo>
                  <a:pt x="2060" y="1482"/>
                </a:moveTo>
                <a:lnTo>
                  <a:pt x="1945" y="1496"/>
                </a:lnTo>
                <a:lnTo>
                  <a:pt x="1890" y="1496"/>
                </a:lnTo>
                <a:lnTo>
                  <a:pt x="1823" y="1496"/>
                </a:lnTo>
                <a:lnTo>
                  <a:pt x="1760" y="1489"/>
                </a:lnTo>
                <a:lnTo>
                  <a:pt x="1695" y="1482"/>
                </a:lnTo>
                <a:lnTo>
                  <a:pt x="1633" y="1471"/>
                </a:lnTo>
                <a:lnTo>
                  <a:pt x="1576" y="1456"/>
                </a:lnTo>
                <a:lnTo>
                  <a:pt x="1513" y="1442"/>
                </a:lnTo>
                <a:lnTo>
                  <a:pt x="1438" y="1413"/>
                </a:lnTo>
                <a:lnTo>
                  <a:pt x="1371" y="1380"/>
                </a:lnTo>
                <a:lnTo>
                  <a:pt x="1306" y="1355"/>
                </a:lnTo>
                <a:lnTo>
                  <a:pt x="1236" y="1315"/>
                </a:lnTo>
                <a:lnTo>
                  <a:pt x="1169" y="1272"/>
                </a:lnTo>
                <a:lnTo>
                  <a:pt x="1101" y="1229"/>
                </a:lnTo>
                <a:lnTo>
                  <a:pt x="1044" y="1185"/>
                </a:lnTo>
                <a:lnTo>
                  <a:pt x="981" y="1142"/>
                </a:lnTo>
                <a:lnTo>
                  <a:pt x="926" y="1099"/>
                </a:lnTo>
                <a:lnTo>
                  <a:pt x="866" y="1052"/>
                </a:lnTo>
                <a:lnTo>
                  <a:pt x="807" y="1001"/>
                </a:lnTo>
                <a:lnTo>
                  <a:pt x="747" y="943"/>
                </a:lnTo>
                <a:lnTo>
                  <a:pt x="694" y="893"/>
                </a:lnTo>
                <a:lnTo>
                  <a:pt x="637" y="827"/>
                </a:lnTo>
                <a:lnTo>
                  <a:pt x="584" y="770"/>
                </a:lnTo>
                <a:lnTo>
                  <a:pt x="537" y="708"/>
                </a:lnTo>
                <a:lnTo>
                  <a:pt x="494" y="643"/>
                </a:lnTo>
                <a:lnTo>
                  <a:pt x="462" y="585"/>
                </a:lnTo>
                <a:lnTo>
                  <a:pt x="434" y="528"/>
                </a:lnTo>
                <a:lnTo>
                  <a:pt x="0" y="611"/>
                </a:lnTo>
                <a:lnTo>
                  <a:pt x="60" y="564"/>
                </a:lnTo>
                <a:lnTo>
                  <a:pt x="132" y="520"/>
                </a:lnTo>
                <a:lnTo>
                  <a:pt x="187" y="484"/>
                </a:lnTo>
                <a:lnTo>
                  <a:pt x="232" y="455"/>
                </a:lnTo>
                <a:lnTo>
                  <a:pt x="277" y="419"/>
                </a:lnTo>
                <a:lnTo>
                  <a:pt x="315" y="387"/>
                </a:lnTo>
                <a:lnTo>
                  <a:pt x="352" y="351"/>
                </a:lnTo>
                <a:lnTo>
                  <a:pt x="385" y="307"/>
                </a:lnTo>
                <a:lnTo>
                  <a:pt x="422" y="267"/>
                </a:lnTo>
                <a:lnTo>
                  <a:pt x="464" y="213"/>
                </a:lnTo>
                <a:lnTo>
                  <a:pt x="507" y="159"/>
                </a:lnTo>
                <a:lnTo>
                  <a:pt x="544" y="112"/>
                </a:lnTo>
                <a:lnTo>
                  <a:pt x="587" y="54"/>
                </a:lnTo>
                <a:lnTo>
                  <a:pt x="619" y="0"/>
                </a:lnTo>
                <a:lnTo>
                  <a:pt x="652" y="22"/>
                </a:lnTo>
                <a:lnTo>
                  <a:pt x="687" y="51"/>
                </a:lnTo>
                <a:lnTo>
                  <a:pt x="722" y="72"/>
                </a:lnTo>
                <a:lnTo>
                  <a:pt x="764" y="98"/>
                </a:lnTo>
                <a:lnTo>
                  <a:pt x="809" y="123"/>
                </a:lnTo>
                <a:lnTo>
                  <a:pt x="849" y="145"/>
                </a:lnTo>
                <a:lnTo>
                  <a:pt x="886" y="159"/>
                </a:lnTo>
                <a:lnTo>
                  <a:pt x="931" y="181"/>
                </a:lnTo>
                <a:lnTo>
                  <a:pt x="979" y="195"/>
                </a:lnTo>
                <a:lnTo>
                  <a:pt x="1026" y="213"/>
                </a:lnTo>
                <a:lnTo>
                  <a:pt x="1069" y="231"/>
                </a:lnTo>
                <a:lnTo>
                  <a:pt x="1111" y="246"/>
                </a:lnTo>
                <a:lnTo>
                  <a:pt x="1159" y="257"/>
                </a:lnTo>
                <a:lnTo>
                  <a:pt x="1201" y="271"/>
                </a:lnTo>
                <a:lnTo>
                  <a:pt x="1243" y="285"/>
                </a:lnTo>
                <a:lnTo>
                  <a:pt x="1291" y="300"/>
                </a:lnTo>
                <a:lnTo>
                  <a:pt x="1358" y="311"/>
                </a:lnTo>
                <a:lnTo>
                  <a:pt x="906" y="423"/>
                </a:lnTo>
                <a:lnTo>
                  <a:pt x="936" y="510"/>
                </a:lnTo>
                <a:lnTo>
                  <a:pt x="974" y="575"/>
                </a:lnTo>
                <a:lnTo>
                  <a:pt x="1036" y="697"/>
                </a:lnTo>
                <a:lnTo>
                  <a:pt x="1074" y="752"/>
                </a:lnTo>
                <a:lnTo>
                  <a:pt x="1111" y="806"/>
                </a:lnTo>
                <a:lnTo>
                  <a:pt x="1179" y="900"/>
                </a:lnTo>
                <a:lnTo>
                  <a:pt x="1221" y="954"/>
                </a:lnTo>
                <a:lnTo>
                  <a:pt x="1268" y="1019"/>
                </a:lnTo>
                <a:lnTo>
                  <a:pt x="1313" y="1066"/>
                </a:lnTo>
                <a:lnTo>
                  <a:pt x="1351" y="1109"/>
                </a:lnTo>
                <a:lnTo>
                  <a:pt x="1388" y="1153"/>
                </a:lnTo>
                <a:lnTo>
                  <a:pt x="1433" y="1196"/>
                </a:lnTo>
                <a:lnTo>
                  <a:pt x="1483" y="1239"/>
                </a:lnTo>
                <a:lnTo>
                  <a:pt x="1531" y="1272"/>
                </a:lnTo>
                <a:lnTo>
                  <a:pt x="1581" y="1312"/>
                </a:lnTo>
                <a:lnTo>
                  <a:pt x="1641" y="1344"/>
                </a:lnTo>
                <a:lnTo>
                  <a:pt x="1695" y="1370"/>
                </a:lnTo>
                <a:lnTo>
                  <a:pt x="1760" y="1391"/>
                </a:lnTo>
                <a:lnTo>
                  <a:pt x="1820" y="1413"/>
                </a:lnTo>
                <a:lnTo>
                  <a:pt x="1883" y="1435"/>
                </a:lnTo>
                <a:lnTo>
                  <a:pt x="1950" y="1453"/>
                </a:lnTo>
                <a:lnTo>
                  <a:pt x="2060" y="1482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3139920" y="3021120"/>
            <a:ext cx="3189600" cy="1812960"/>
          </a:xfrm>
          <a:prstGeom prst="octagon">
            <a:avLst>
              <a:gd name="adj" fmla="val 2928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AutoShape 8"/>
          <p:cNvSpPr/>
          <p:nvPr/>
        </p:nvSpPr>
        <p:spPr>
          <a:xfrm>
            <a:off x="1598760" y="1989000"/>
            <a:ext cx="2847960" cy="865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AutoShape 9"/>
          <p:cNvSpPr/>
          <p:nvPr/>
        </p:nvSpPr>
        <p:spPr>
          <a:xfrm>
            <a:off x="4943520" y="1989000"/>
            <a:ext cx="2847960" cy="865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AutoShape 10"/>
          <p:cNvSpPr/>
          <p:nvPr/>
        </p:nvSpPr>
        <p:spPr>
          <a:xfrm>
            <a:off x="1598760" y="5083200"/>
            <a:ext cx="2847960" cy="865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AutoShape 11"/>
          <p:cNvSpPr/>
          <p:nvPr/>
        </p:nvSpPr>
        <p:spPr>
          <a:xfrm>
            <a:off x="4943520" y="5083200"/>
            <a:ext cx="2847960" cy="865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Box 15"/>
          <p:cNvSpPr/>
          <p:nvPr/>
        </p:nvSpPr>
        <p:spPr>
          <a:xfrm>
            <a:off x="2626560" y="222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Box 16"/>
          <p:cNvSpPr/>
          <p:nvPr/>
        </p:nvSpPr>
        <p:spPr>
          <a:xfrm>
            <a:off x="5971680" y="222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17"/>
          <p:cNvSpPr/>
          <p:nvPr/>
        </p:nvSpPr>
        <p:spPr>
          <a:xfrm>
            <a:off x="5949360" y="5315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18"/>
          <p:cNvSpPr/>
          <p:nvPr/>
        </p:nvSpPr>
        <p:spPr>
          <a:xfrm>
            <a:off x="2626560" y="5315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19"/>
          <p:cNvSpPr/>
          <p:nvPr/>
        </p:nvSpPr>
        <p:spPr>
          <a:xfrm>
            <a:off x="4338720" y="3741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AutoShape 3"/>
          <p:cNvSpPr/>
          <p:nvPr/>
        </p:nvSpPr>
        <p:spPr>
          <a:xfrm>
            <a:off x="1401840" y="2060640"/>
            <a:ext cx="3763800" cy="398448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2684520" y="2119320"/>
            <a:ext cx="2954160" cy="568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1901880" y="2225520"/>
            <a:ext cx="716040" cy="376560"/>
          </a:xfrm>
          <a:prstGeom prst="rightArrow">
            <a:avLst>
              <a:gd name="adj1" fmla="val 50000"/>
              <a:gd name="adj2" fmla="val 6415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3422520" y="2890800"/>
            <a:ext cx="2954520" cy="5698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7"/>
          <p:cNvSpPr/>
          <p:nvPr/>
        </p:nvSpPr>
        <p:spPr>
          <a:xfrm>
            <a:off x="4124160" y="3608280"/>
            <a:ext cx="2955960" cy="5698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8"/>
          <p:cNvSpPr/>
          <p:nvPr/>
        </p:nvSpPr>
        <p:spPr>
          <a:xfrm>
            <a:off x="4815000" y="4349880"/>
            <a:ext cx="2954160" cy="5698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"/>
          <p:cNvSpPr/>
          <p:nvPr/>
        </p:nvSpPr>
        <p:spPr>
          <a:xfrm>
            <a:off x="5505480" y="5089680"/>
            <a:ext cx="2954160" cy="568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"/>
          <p:cNvSpPr/>
          <p:nvPr/>
        </p:nvSpPr>
        <p:spPr>
          <a:xfrm>
            <a:off x="2612880" y="2987640"/>
            <a:ext cx="723960" cy="380880"/>
          </a:xfrm>
          <a:prstGeom prst="rightArrow">
            <a:avLst>
              <a:gd name="adj1" fmla="val 50000"/>
              <a:gd name="adj2" fmla="val 6452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AutoShape 11"/>
          <p:cNvSpPr/>
          <p:nvPr/>
        </p:nvSpPr>
        <p:spPr>
          <a:xfrm>
            <a:off x="3314880" y="3703680"/>
            <a:ext cx="723600" cy="382680"/>
          </a:xfrm>
          <a:prstGeom prst="rightArrow">
            <a:avLst>
              <a:gd name="adj1" fmla="val 50000"/>
              <a:gd name="adj2" fmla="val 6415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AutoShape 12"/>
          <p:cNvSpPr/>
          <p:nvPr/>
        </p:nvSpPr>
        <p:spPr>
          <a:xfrm>
            <a:off x="4002120" y="4444920"/>
            <a:ext cx="725400" cy="379440"/>
          </a:xfrm>
          <a:prstGeom prst="rightArrow">
            <a:avLst>
              <a:gd name="adj1" fmla="val 50000"/>
              <a:gd name="adj2" fmla="val 64398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AutoShape 13"/>
          <p:cNvSpPr/>
          <p:nvPr/>
        </p:nvSpPr>
        <p:spPr>
          <a:xfrm>
            <a:off x="4702320" y="5184720"/>
            <a:ext cx="712800" cy="376200"/>
          </a:xfrm>
          <a:prstGeom prst="rightArrow">
            <a:avLst>
              <a:gd name="adj1" fmla="val 50000"/>
              <a:gd name="adj2" fmla="val 64184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7"/>
          <p:cNvSpPr/>
          <p:nvPr/>
        </p:nvSpPr>
        <p:spPr>
          <a:xfrm>
            <a:off x="3522600" y="2219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16"/>
          <p:cNvSpPr/>
          <p:nvPr/>
        </p:nvSpPr>
        <p:spPr>
          <a:xfrm>
            <a:off x="4963320" y="3718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17"/>
          <p:cNvSpPr/>
          <p:nvPr/>
        </p:nvSpPr>
        <p:spPr>
          <a:xfrm>
            <a:off x="6440400" y="5191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18"/>
          <p:cNvSpPr/>
          <p:nvPr/>
        </p:nvSpPr>
        <p:spPr>
          <a:xfrm>
            <a:off x="4378320" y="29718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19"/>
          <p:cNvSpPr/>
          <p:nvPr/>
        </p:nvSpPr>
        <p:spPr>
          <a:xfrm>
            <a:off x="5653080" y="44467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20"/>
          <p:cNvSpPr/>
          <p:nvPr/>
        </p:nvSpPr>
        <p:spPr>
          <a:xfrm>
            <a:off x="1973880" y="4640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Box 21"/>
          <p:cNvSpPr/>
          <p:nvPr/>
        </p:nvSpPr>
        <p:spPr>
          <a:xfrm>
            <a:off x="835920" y="266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ebf27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矩形 4"/>
          <p:cNvSpPr/>
          <p:nvPr/>
        </p:nvSpPr>
        <p:spPr>
          <a:xfrm>
            <a:off x="0" y="1989000"/>
            <a:ext cx="9144000" cy="1800360"/>
          </a:xfrm>
          <a:prstGeom prst="rect">
            <a:avLst/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任意多边形 5"/>
          <p:cNvSpPr/>
          <p:nvPr/>
        </p:nvSpPr>
        <p:spPr>
          <a:xfrm>
            <a:off x="-17640" y="4076640"/>
            <a:ext cx="9152280" cy="2062080"/>
          </a:xfrm>
          <a:custGeom>
            <a:avLst/>
            <a:gdLst/>
            <a:ahLst/>
            <a:rect l="l" t="t" r="r" b="b"/>
            <a:pathLst>
              <a:path w="9153330" h="2062065">
                <a:moveTo>
                  <a:pt x="0" y="0"/>
                </a:moveTo>
                <a:cubicBezTo>
                  <a:pt x="685022" y="307910"/>
                  <a:pt x="1370045" y="615820"/>
                  <a:pt x="2136710" y="727787"/>
                </a:cubicBezTo>
                <a:cubicBezTo>
                  <a:pt x="2903375" y="839754"/>
                  <a:pt x="3833327" y="524069"/>
                  <a:pt x="4599992" y="671804"/>
                </a:cubicBezTo>
                <a:cubicBezTo>
                  <a:pt x="5366657" y="819539"/>
                  <a:pt x="5977812" y="1382486"/>
                  <a:pt x="6736702" y="1614196"/>
                </a:cubicBezTo>
                <a:cubicBezTo>
                  <a:pt x="7495592" y="1845906"/>
                  <a:pt x="8324461" y="1953985"/>
                  <a:pt x="9153330" y="2062065"/>
                </a:cubicBezTo>
              </a:path>
            </a:pathLst>
          </a:custGeom>
          <a:noFill/>
          <a:ln w="12600">
            <a:solidFill>
              <a:srgbClr val="9ebf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任意多边形 6"/>
          <p:cNvSpPr/>
          <p:nvPr/>
        </p:nvSpPr>
        <p:spPr>
          <a:xfrm>
            <a:off x="-27000" y="4505400"/>
            <a:ext cx="8863200" cy="2343240"/>
          </a:xfrm>
          <a:custGeom>
            <a:avLst/>
            <a:gdLst/>
            <a:ahLst/>
            <a:rect l="l" t="t" r="r" b="b"/>
            <a:pathLst>
              <a:path w="8864082" h="2343480">
                <a:moveTo>
                  <a:pt x="0" y="1497"/>
                </a:moveTo>
                <a:cubicBezTo>
                  <a:pt x="438539" y="484356"/>
                  <a:pt x="877078" y="967215"/>
                  <a:pt x="1688841" y="971880"/>
                </a:cubicBezTo>
                <a:cubicBezTo>
                  <a:pt x="2500604" y="976545"/>
                  <a:pt x="3674707" y="-199111"/>
                  <a:pt x="4870580" y="29489"/>
                </a:cubicBezTo>
                <a:cubicBezTo>
                  <a:pt x="6066453" y="258089"/>
                  <a:pt x="7465267" y="1300784"/>
                  <a:pt x="8864082" y="2343480"/>
                </a:cubicBezTo>
              </a:path>
            </a:pathLst>
          </a:custGeom>
          <a:noFill/>
          <a:ln w="12600">
            <a:solidFill>
              <a:srgbClr val="9ebf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7"/>
          <p:cNvSpPr/>
          <p:nvPr/>
        </p:nvSpPr>
        <p:spPr>
          <a:xfrm>
            <a:off x="3764160" y="242712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欣赏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9"/>
          <p:cNvSpPr/>
          <p:nvPr/>
        </p:nvSpPr>
        <p:spPr>
          <a:xfrm>
            <a:off x="6180840" y="415296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ebf27"/>
                </a:solidFill>
                <a:latin typeface="微软雅黑"/>
                <a:ea typeface="微软雅黑"/>
              </a:rPr>
              <a:t>第一</a:t>
            </a:r>
            <a:r>
              <a:rPr b="0" lang="en-US" sz="2000" spc="-1" strike="noStrike">
                <a:solidFill>
                  <a:srgbClr val="9ebf27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9ebf27"/>
                </a:solidFill>
                <a:latin typeface="微软雅黑"/>
                <a:ea typeface="微软雅黑"/>
              </a:rPr>
              <a:t>模板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TextBox 10"/>
          <p:cNvSpPr/>
          <p:nvPr/>
        </p:nvSpPr>
        <p:spPr>
          <a:xfrm>
            <a:off x="5961240" y="4468680"/>
            <a:ext cx="19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bf27"/>
                </a:solidFill>
                <a:latin typeface="微软雅黑"/>
                <a:ea typeface="微软雅黑"/>
              </a:rPr>
              <a:t>www.1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09:16:50Z</dcterms:created>
  <dc:creator>PPT STORE</dc:creator>
  <dc:description>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嫩绿 轻快 简洁 商务 PPT模板</cp:keywords>
  <dc:language>en-US</dc:language>
  <cp:lastModifiedBy>a</cp:lastModifiedBy>
  <cp:lastPrinted>1899-12-30T00:00:00Z</cp:lastPrinted>
  <dcterms:modified xsi:type="dcterms:W3CDTF">2015-07-25T01:49:50Z</dcterms:modified>
  <cp:revision>9</cp:revision>
  <dc:subject>商务PPT模板</dc:subject>
  <dc:title>嫩绿轻快简洁商务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