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1E7-309D-4C4C-8451-8A6E54C6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6A4-E3EA-4BA9-9E92-FC971F47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40E-16A2-49FA-87A2-4552C732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418-BA3F-4289-8E96-4EA7C2EF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656-0A47-4189-9FED-1624E01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621-8F71-4CDD-8DB5-3051C8B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4F1-D118-4078-ADF2-0AF3FAEE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AD1-E51B-4469-9EAC-8C51B1D5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60D-4559-42A8-93E5-926877B5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002-9162-4E5D-BED0-377C3CF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06C-EE4D-49E0-80DC-F25A498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FA9-3A50-4771-AF70-86CFD80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D4B-2CD2-4982-B4C5-46E0C230B02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2B26-B2B9-4FE6-909B-430D928D552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160720" cy="3241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2"/>
          <a:stretch/>
        </p:blipFill>
        <p:spPr>
          <a:xfrm>
            <a:off x="2843280" y="692280"/>
            <a:ext cx="2122560" cy="5395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"/>
          <p:cNvPicPr/>
          <p:nvPr/>
        </p:nvPicPr>
        <p:blipFill>
          <a:blip r:embed="rId3"/>
          <a:stretch/>
        </p:blipFill>
        <p:spPr>
          <a:xfrm>
            <a:off x="3564000" y="4076640"/>
            <a:ext cx="3990960" cy="261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tdz\桌面\未标题-1 拷贝.png"/>
          <p:cNvPicPr/>
          <p:nvPr/>
        </p:nvPicPr>
        <p:blipFill>
          <a:blip r:embed="rId4"/>
          <a:stretch/>
        </p:blipFill>
        <p:spPr>
          <a:xfrm>
            <a:off x="179280" y="2475000"/>
            <a:ext cx="2916360" cy="4201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048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F12-1AD8-48F2-9040-DA41425EB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27:31Z</dcterms:modified>
  <cp:revision>9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