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280-E07B-4227-97E6-AD72F54C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1F0-A68F-45BB-B628-23430BB3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160-3FB4-4CEB-B9ED-D0A1F965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F50-6E29-4C3E-8A51-EC680090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1649-977B-49D2-951F-59E80190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300F-66A5-418A-8ADB-B2C1D123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E41E-8C0B-4C83-A9D0-04D71C93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942D-8356-422C-9142-5134C6DD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61FF-34BC-44CD-845B-A42E7E00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2748-2ABD-4EF6-B893-E67360AD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FBD1-8732-4B60-BFAB-F5D38F2D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899-9C5A-489E-87DF-6E0A7D19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E87F-6D31-46AE-A842-434FAF11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0C42-1524-4E22-9F92-D153B805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6D29-BC2C-46FB-A648-8F4B9AA1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7237-CEC9-412E-8E0C-34693680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F42B-43B6-4264-9616-1BD2C07B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CEA-8B35-43B7-85FC-23E15D4B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C69-F413-466F-B7D7-75FB9872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BEA-2B5F-4C1D-AB17-399FA247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B51-75B7-4DA1-BF70-CCB63238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F55-80A4-49A6-9ED1-7373013A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FC9-A8A4-4836-8059-DC87AF23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92B6-28D5-46A3-B68E-B914DD9A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8A0B-EF17-48C4-A370-43EEE2075A9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262C-2955-48EC-82C8-35AAB9E1DDB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480400" y="77004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  <a:ea typeface="宋体"/>
              </a:rPr>
              <a:t>OWER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Anklepants"/>
                <a:ea typeface="宋体"/>
              </a:rPr>
              <a:t>OIN</a:t>
            </a:r>
            <a:r>
              <a:rPr b="1" lang="en-US" sz="4800" spc="-1" strike="noStrike">
                <a:solidFill>
                  <a:srgbClr val="ff0000"/>
                </a:solidFill>
                <a:latin typeface="Anklepants"/>
                <a:ea typeface="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121480" y="13446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人物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41200" y="5305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93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95" name="Group 12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96" name="Group 13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97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8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102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" name="Group 23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107" name="Group 24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108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9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113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" name="Group 34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18" name="Group 35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19" name="Group 36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20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1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25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" name="Group 46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30" name="Group 47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31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52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36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0" name="Group 57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141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9966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59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43" name="Group 60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44" name="Group 61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45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66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50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" name="Group 71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55" name="Group 72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56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7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161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" name="Group 82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67" name="Group 84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68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89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73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94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78" name="Group 95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79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0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84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8" name="Group 105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89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996633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07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91" name="Group 108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92" name="Group 109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93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114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98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Group 119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03" name="Group 120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04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125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09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3" name="Group 130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214" name="Group 131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215" name="Group 132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216" name="Group 133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217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Group 138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222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6" name="Group 143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227" name="Group 144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228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" name="Group 149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233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7" name="Group 154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238" name="Group 155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239" name="Group 156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240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Group 161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45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" name="Group 166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50" name="Group 167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51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2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56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0" name="Group 177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61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6633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79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63" name="Group 180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64" name="Group 181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65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186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70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" name="Group 191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275" name="Group 192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276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197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281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5" name="Group 202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6" name="Group 203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7" name="Group 204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8" name="Group 205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89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210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4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8" name="Group 215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299" name="Group 216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300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221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305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9" name="Group 226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10" name="Group 227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11" name="Group 228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2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233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7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1" name="Group 238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322" name="Group 239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323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Group 244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328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2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52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336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a50021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254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338" name="Group 255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339" name="Group 256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340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261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45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" name="Group 266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50" name="Group 267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51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Group 272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56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0" name="Group 277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61" name="Group 278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62" name="Group 279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63" name="Group 280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4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285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69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3" name="Group 290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74" name="Group 291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5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296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80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4" name="Group 301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85" name="Group 302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86" name="Group 303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7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Group 308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92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Group 313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97" name="Group 314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8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319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03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7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2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24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6633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6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27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9966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8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18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30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21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33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a50021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WordArt 4"/>
          <p:cNvSpPr txBox="1"/>
          <p:nvPr/>
        </p:nvSpPr>
        <p:spPr>
          <a:xfrm>
            <a:off x="3244680" y="73332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44" name="WordArt 5"/>
          <p:cNvSpPr txBox="1"/>
          <p:nvPr/>
        </p:nvSpPr>
        <p:spPr>
          <a:xfrm>
            <a:off x="3722760" y="144792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5Z</dcterms:created>
  <dc:creator>北京锐得幻演广告有限公司</dc:creator>
  <dc:description/>
  <cp:keywords/>
  <dc:language>en-US</dc:language>
  <cp:lastModifiedBy>a</cp:lastModifiedBy>
  <dcterms:modified xsi:type="dcterms:W3CDTF">2015-07-25T01:55:23Z</dcterms:modified>
  <cp:revision>353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