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865-D24A-4E37-AED1-8919F875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0F3-F61C-49C9-B794-DB9AE32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5DC-3F8A-4EF4-A8C2-5208F73E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2F0-1680-42A9-952B-60350361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E7C-8EE6-43E4-A215-C52A7BBA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3FE-7A31-4267-A615-489BFE5E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459-38E2-4062-981B-3D216490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6A7-8C09-422D-BEF6-7CEB230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445-C1C4-4FCC-945D-E0FD11D4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151-8E7D-48E8-B7C8-3BBCF74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A8F-A0BD-44B8-86C9-19131DC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0E8-6CEC-46D4-96E7-BB17254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95E-B41E-4685-97C2-029E7184CD5D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885960" y="134784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沙发台灯金融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495360" y="5153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2268360" y="1655640"/>
            <a:ext cx="4638960" cy="478080"/>
            <a:chOff x="2268360" y="1655640"/>
            <a:chExt cx="4638960" cy="478080"/>
          </a:xfrm>
        </p:grpSpPr>
        <p:grpSp>
          <p:nvGrpSpPr>
            <p:cNvPr id="85" name="Group 4"/>
            <p:cNvGrpSpPr/>
            <p:nvPr/>
          </p:nvGrpSpPr>
          <p:grpSpPr>
            <a:xfrm>
              <a:off x="2268360" y="1655640"/>
              <a:ext cx="4638960" cy="478080"/>
              <a:chOff x="2268360" y="1655640"/>
              <a:chExt cx="4638960" cy="478080"/>
            </a:xfrm>
          </p:grpSpPr>
          <p:pic>
            <p:nvPicPr>
              <p:cNvPr id="86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65564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6"/>
              <p:cNvSpPr/>
              <p:nvPr/>
            </p:nvSpPr>
            <p:spPr>
              <a:xfrm>
                <a:off x="2356920" y="1705320"/>
                <a:ext cx="44686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7"/>
            <p:cNvGrpSpPr/>
            <p:nvPr/>
          </p:nvGrpSpPr>
          <p:grpSpPr>
            <a:xfrm>
              <a:off x="2268360" y="1679400"/>
              <a:ext cx="4638960" cy="397080"/>
              <a:chOff x="2268360" y="1679400"/>
              <a:chExt cx="4638960" cy="397080"/>
            </a:xfrm>
          </p:grpSpPr>
          <p:pic>
            <p:nvPicPr>
              <p:cNvPr id="8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68360" y="1679400"/>
                <a:ext cx="4638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9"/>
              <p:cNvSpPr/>
              <p:nvPr/>
            </p:nvSpPr>
            <p:spPr>
              <a:xfrm>
                <a:off x="2350080" y="1755720"/>
                <a:ext cx="4482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10"/>
          <p:cNvGrpSpPr/>
          <p:nvPr/>
        </p:nvGrpSpPr>
        <p:grpSpPr>
          <a:xfrm>
            <a:off x="2268360" y="2382840"/>
            <a:ext cx="4638960" cy="477720"/>
            <a:chOff x="2268360" y="2382840"/>
            <a:chExt cx="4638960" cy="477720"/>
          </a:xfrm>
        </p:grpSpPr>
        <p:grpSp>
          <p:nvGrpSpPr>
            <p:cNvPr id="92" name="Group 11"/>
            <p:cNvGrpSpPr/>
            <p:nvPr/>
          </p:nvGrpSpPr>
          <p:grpSpPr>
            <a:xfrm>
              <a:off x="2268360" y="2382840"/>
              <a:ext cx="4638960" cy="477720"/>
              <a:chOff x="2268360" y="2382840"/>
              <a:chExt cx="4638960" cy="477720"/>
            </a:xfrm>
          </p:grpSpPr>
          <p:pic>
            <p:nvPicPr>
              <p:cNvPr id="9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238284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 Box 13"/>
              <p:cNvSpPr/>
              <p:nvPr/>
            </p:nvSpPr>
            <p:spPr>
              <a:xfrm>
                <a:off x="2356920" y="243396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4"/>
            <p:cNvGrpSpPr/>
            <p:nvPr/>
          </p:nvGrpSpPr>
          <p:grpSpPr>
            <a:xfrm>
              <a:off x="2268360" y="2406600"/>
              <a:ext cx="4638960" cy="401400"/>
              <a:chOff x="2268360" y="2406600"/>
              <a:chExt cx="4638960" cy="401400"/>
            </a:xfrm>
          </p:grpSpPr>
          <p:pic>
            <p:nvPicPr>
              <p:cNvPr id="96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8360" y="240660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16"/>
              <p:cNvSpPr/>
              <p:nvPr/>
            </p:nvSpPr>
            <p:spPr>
              <a:xfrm>
                <a:off x="2350080" y="248400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7"/>
          <p:cNvGrpSpPr/>
          <p:nvPr/>
        </p:nvGrpSpPr>
        <p:grpSpPr>
          <a:xfrm>
            <a:off x="2268360" y="3111480"/>
            <a:ext cx="4638960" cy="476280"/>
            <a:chOff x="2268360" y="3111480"/>
            <a:chExt cx="4638960" cy="476280"/>
          </a:xfrm>
        </p:grpSpPr>
        <p:grpSp>
          <p:nvGrpSpPr>
            <p:cNvPr id="99" name="Group 18"/>
            <p:cNvGrpSpPr/>
            <p:nvPr/>
          </p:nvGrpSpPr>
          <p:grpSpPr>
            <a:xfrm>
              <a:off x="2268360" y="3111480"/>
              <a:ext cx="4638960" cy="476280"/>
              <a:chOff x="2268360" y="3111480"/>
              <a:chExt cx="4638960" cy="476280"/>
            </a:xfrm>
          </p:grpSpPr>
          <p:pic>
            <p:nvPicPr>
              <p:cNvPr id="100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68360" y="311148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20"/>
              <p:cNvSpPr/>
              <p:nvPr/>
            </p:nvSpPr>
            <p:spPr>
              <a:xfrm>
                <a:off x="2356920" y="3164400"/>
                <a:ext cx="44690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21"/>
            <p:cNvGrpSpPr/>
            <p:nvPr/>
          </p:nvGrpSpPr>
          <p:grpSpPr>
            <a:xfrm>
              <a:off x="2268360" y="3134880"/>
              <a:ext cx="4638960" cy="396360"/>
              <a:chOff x="2268360" y="3134880"/>
              <a:chExt cx="4638960" cy="39636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68360" y="3134880"/>
                <a:ext cx="4638960" cy="3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23"/>
              <p:cNvSpPr/>
              <p:nvPr/>
            </p:nvSpPr>
            <p:spPr>
              <a:xfrm>
                <a:off x="2350080" y="3213720"/>
                <a:ext cx="4482360" cy="2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24"/>
          <p:cNvGrpSpPr/>
          <p:nvPr/>
        </p:nvGrpSpPr>
        <p:grpSpPr>
          <a:xfrm>
            <a:off x="2268360" y="3838680"/>
            <a:ext cx="4638960" cy="477720"/>
            <a:chOff x="2268360" y="3838680"/>
            <a:chExt cx="4638960" cy="477720"/>
          </a:xfrm>
        </p:grpSpPr>
        <p:grpSp>
          <p:nvGrpSpPr>
            <p:cNvPr id="106" name="Group 25"/>
            <p:cNvGrpSpPr/>
            <p:nvPr/>
          </p:nvGrpSpPr>
          <p:grpSpPr>
            <a:xfrm>
              <a:off x="2268360" y="3838680"/>
              <a:ext cx="4638960" cy="477720"/>
              <a:chOff x="2268360" y="3838680"/>
              <a:chExt cx="4638960" cy="477720"/>
            </a:xfrm>
          </p:grpSpPr>
          <p:pic>
            <p:nvPicPr>
              <p:cNvPr id="107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68360" y="383868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27"/>
              <p:cNvSpPr/>
              <p:nvPr/>
            </p:nvSpPr>
            <p:spPr>
              <a:xfrm>
                <a:off x="2356920" y="388872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8"/>
            <p:cNvGrpSpPr/>
            <p:nvPr/>
          </p:nvGrpSpPr>
          <p:grpSpPr>
            <a:xfrm>
              <a:off x="2268360" y="3862440"/>
              <a:ext cx="4638960" cy="396720"/>
              <a:chOff x="2268360" y="3862440"/>
              <a:chExt cx="4638960" cy="396720"/>
            </a:xfrm>
          </p:grpSpPr>
          <p:pic>
            <p:nvPicPr>
              <p:cNvPr id="110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68360" y="386244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 Box 30"/>
              <p:cNvSpPr/>
              <p:nvPr/>
            </p:nvSpPr>
            <p:spPr>
              <a:xfrm>
                <a:off x="2350080" y="393912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2297160" y="2379600"/>
            <a:ext cx="4638600" cy="478080"/>
            <a:chOff x="2297160" y="2379600"/>
            <a:chExt cx="4638600" cy="478080"/>
          </a:xfrm>
        </p:grpSpPr>
        <p:grpSp>
          <p:nvGrpSpPr>
            <p:cNvPr id="114" name="Group 4"/>
            <p:cNvGrpSpPr/>
            <p:nvPr/>
          </p:nvGrpSpPr>
          <p:grpSpPr>
            <a:xfrm>
              <a:off x="2297160" y="2379600"/>
              <a:ext cx="4638600" cy="478080"/>
              <a:chOff x="2297160" y="2379600"/>
              <a:chExt cx="4638600" cy="478080"/>
            </a:xfrm>
          </p:grpSpPr>
          <p:pic>
            <p:nvPicPr>
              <p:cNvPr id="11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97160" y="2379600"/>
                <a:ext cx="463860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6"/>
              <p:cNvSpPr/>
              <p:nvPr/>
            </p:nvSpPr>
            <p:spPr>
              <a:xfrm>
                <a:off x="2383920" y="2432520"/>
                <a:ext cx="4468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7"/>
            <p:cNvGrpSpPr/>
            <p:nvPr/>
          </p:nvGrpSpPr>
          <p:grpSpPr>
            <a:xfrm>
              <a:off x="2297160" y="2403000"/>
              <a:ext cx="4638600" cy="397800"/>
              <a:chOff x="2297160" y="2403000"/>
              <a:chExt cx="4638600" cy="39780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7160" y="2403000"/>
                <a:ext cx="4638600" cy="3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9"/>
              <p:cNvSpPr/>
              <p:nvPr/>
            </p:nvSpPr>
            <p:spPr>
              <a:xfrm>
                <a:off x="2377080" y="2482200"/>
                <a:ext cx="448200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001880" y="1860480"/>
            <a:ext cx="7037280" cy="2203560"/>
            <a:chOff x="1001880" y="1860480"/>
            <a:chExt cx="7037280" cy="2203560"/>
          </a:xfrm>
        </p:grpSpPr>
        <p:grpSp>
          <p:nvGrpSpPr>
            <p:cNvPr id="121" name="Group 3"/>
            <p:cNvGrpSpPr/>
            <p:nvPr/>
          </p:nvGrpSpPr>
          <p:grpSpPr>
            <a:xfrm>
              <a:off x="1001880" y="1860480"/>
              <a:ext cx="7037280" cy="2203560"/>
              <a:chOff x="1001880" y="1860480"/>
              <a:chExt cx="7037280" cy="2203560"/>
            </a:xfrm>
          </p:grpSpPr>
          <p:grpSp>
            <p:nvGrpSpPr>
              <p:cNvPr id="122" name="Group 4"/>
              <p:cNvGrpSpPr/>
              <p:nvPr/>
            </p:nvGrpSpPr>
            <p:grpSpPr>
              <a:xfrm>
                <a:off x="1001880" y="1860480"/>
                <a:ext cx="7037280" cy="2203560"/>
                <a:chOff x="1001880" y="1860480"/>
                <a:chExt cx="7037280" cy="2203560"/>
              </a:xfrm>
            </p:grpSpPr>
            <p:pic>
              <p:nvPicPr>
                <p:cNvPr id="12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1880" y="1860480"/>
                  <a:ext cx="7037280" cy="220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Text Box 6"/>
                <p:cNvSpPr/>
                <p:nvPr/>
              </p:nvSpPr>
              <p:spPr>
                <a:xfrm>
                  <a:off x="1085040" y="1916640"/>
                  <a:ext cx="6877440" cy="20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7"/>
              <p:cNvGrpSpPr/>
              <p:nvPr/>
            </p:nvGrpSpPr>
            <p:grpSpPr>
              <a:xfrm>
                <a:off x="1007640" y="1969200"/>
                <a:ext cx="7025400" cy="1974240"/>
                <a:chOff x="1007640" y="1969200"/>
                <a:chExt cx="7025400" cy="1974240"/>
              </a:xfrm>
            </p:grpSpPr>
            <p:pic>
              <p:nvPicPr>
                <p:cNvPr id="12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07640" y="1969200"/>
                  <a:ext cx="7025400" cy="19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Text Box 9"/>
                <p:cNvSpPr/>
                <p:nvPr/>
              </p:nvSpPr>
              <p:spPr>
                <a:xfrm>
                  <a:off x="1087200" y="2025000"/>
                  <a:ext cx="6872040" cy="18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 Box 11"/>
            <p:cNvSpPr/>
            <p:nvPr/>
          </p:nvSpPr>
          <p:spPr>
            <a:xfrm>
              <a:off x="1383120" y="2269080"/>
              <a:ext cx="63255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72880" y="5240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3855960" y="2365200"/>
            <a:ext cx="1441440" cy="1432080"/>
            <a:chOff x="3855960" y="2365200"/>
            <a:chExt cx="1441440" cy="1432080"/>
          </a:xfrm>
        </p:grpSpPr>
        <p:grpSp>
          <p:nvGrpSpPr>
            <p:cNvPr id="132" name="Group 3"/>
            <p:cNvGrpSpPr/>
            <p:nvPr/>
          </p:nvGrpSpPr>
          <p:grpSpPr>
            <a:xfrm>
              <a:off x="3855960" y="2365200"/>
              <a:ext cx="1441440" cy="1432080"/>
              <a:chOff x="3855960" y="2365200"/>
              <a:chExt cx="1441440" cy="1432080"/>
            </a:xfrm>
          </p:grpSpPr>
          <p:grpSp>
            <p:nvGrpSpPr>
              <p:cNvPr id="133" name="Group 4"/>
              <p:cNvGrpSpPr/>
              <p:nvPr/>
            </p:nvGrpSpPr>
            <p:grpSpPr>
              <a:xfrm>
                <a:off x="3855960" y="2365200"/>
                <a:ext cx="1441440" cy="1432080"/>
                <a:chOff x="3855960" y="2365200"/>
                <a:chExt cx="1441440" cy="1432080"/>
              </a:xfrm>
            </p:grpSpPr>
            <p:pic>
              <p:nvPicPr>
                <p:cNvPr id="134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55960" y="2365200"/>
                  <a:ext cx="1441440" cy="14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Text Box 6"/>
                <p:cNvSpPr/>
                <p:nvPr/>
              </p:nvSpPr>
              <p:spPr>
                <a:xfrm>
                  <a:off x="4109400" y="2595960"/>
                  <a:ext cx="937800" cy="92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"/>
              <p:cNvGrpSpPr/>
              <p:nvPr/>
            </p:nvGrpSpPr>
            <p:grpSpPr>
              <a:xfrm>
                <a:off x="3906360" y="2409480"/>
                <a:ext cx="1262160" cy="1248480"/>
                <a:chOff x="3906360" y="2409480"/>
                <a:chExt cx="1262160" cy="1248480"/>
              </a:xfrm>
            </p:grpSpPr>
            <p:pic>
              <p:nvPicPr>
                <p:cNvPr id="137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06360" y="2409480"/>
                  <a:ext cx="1262160" cy="124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Text Box 9"/>
                <p:cNvSpPr/>
                <p:nvPr/>
              </p:nvSpPr>
              <p:spPr>
                <a:xfrm>
                  <a:off x="4135680" y="2612520"/>
                  <a:ext cx="808200" cy="79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Text Box 18"/>
            <p:cNvSpPr/>
            <p:nvPr/>
          </p:nvSpPr>
          <p:spPr>
            <a:xfrm>
              <a:off x="3927600" y="2739240"/>
              <a:ext cx="114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1930320" y="1438200"/>
            <a:ext cx="2666160" cy="1218600"/>
            <a:chOff x="1930320" y="1438200"/>
            <a:chExt cx="2666160" cy="1218600"/>
          </a:xfrm>
        </p:grpSpPr>
        <p:grpSp>
          <p:nvGrpSpPr>
            <p:cNvPr id="141" name="Group 12"/>
            <p:cNvGrpSpPr/>
            <p:nvPr/>
          </p:nvGrpSpPr>
          <p:grpSpPr>
            <a:xfrm>
              <a:off x="1930320" y="1438200"/>
              <a:ext cx="2666160" cy="1218600"/>
              <a:chOff x="1930320" y="1438200"/>
              <a:chExt cx="2666160" cy="1218600"/>
            </a:xfrm>
          </p:grpSpPr>
          <p:grpSp>
            <p:nvGrpSpPr>
              <p:cNvPr id="142" name="Group 13"/>
              <p:cNvGrpSpPr/>
              <p:nvPr/>
            </p:nvGrpSpPr>
            <p:grpSpPr>
              <a:xfrm>
                <a:off x="1930320" y="1438200"/>
                <a:ext cx="2666160" cy="1218600"/>
                <a:chOff x="1930320" y="1438200"/>
                <a:chExt cx="2666160" cy="1218600"/>
              </a:xfrm>
            </p:grpSpPr>
            <p:sp>
              <p:nvSpPr>
                <p:cNvPr id="143" name="AutoShape 73"/>
                <p:cNvSpPr/>
                <p:nvPr/>
              </p:nvSpPr>
              <p:spPr>
                <a:xfrm rot="2700000">
                  <a:off x="3637800" y="1589400"/>
                  <a:ext cx="730440" cy="9475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圆角矩形 14"/>
                <p:cNvSpPr/>
                <p:nvPr/>
              </p:nvSpPr>
              <p:spPr>
                <a:xfrm>
                  <a:off x="1930320" y="1438200"/>
                  <a:ext cx="1760400" cy="666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6"/>
              <p:cNvGrpSpPr/>
              <p:nvPr/>
            </p:nvGrpSpPr>
            <p:grpSpPr>
              <a:xfrm>
                <a:off x="3375000" y="1438200"/>
                <a:ext cx="672840" cy="668160"/>
                <a:chOff x="3375000" y="1438200"/>
                <a:chExt cx="672840" cy="668160"/>
              </a:xfrm>
            </p:grpSpPr>
            <p:grpSp>
              <p:nvGrpSpPr>
                <p:cNvPr id="146" name="Group 17"/>
                <p:cNvGrpSpPr/>
                <p:nvPr/>
              </p:nvGrpSpPr>
              <p:grpSpPr>
                <a:xfrm>
                  <a:off x="3375000" y="1438200"/>
                  <a:ext cx="672840" cy="668160"/>
                  <a:chOff x="3375000" y="1438200"/>
                  <a:chExt cx="672840" cy="668160"/>
                </a:xfrm>
              </p:grpSpPr>
              <p:pic>
                <p:nvPicPr>
                  <p:cNvPr id="147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75000" y="143820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" name="Text Box 19"/>
                  <p:cNvSpPr/>
                  <p:nvPr/>
                </p:nvSpPr>
                <p:spPr>
                  <a:xfrm>
                    <a:off x="3512520" y="1555200"/>
                    <a:ext cx="40104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20"/>
                <p:cNvGrpSpPr/>
                <p:nvPr/>
              </p:nvGrpSpPr>
              <p:grpSpPr>
                <a:xfrm>
                  <a:off x="3390120" y="1453320"/>
                  <a:ext cx="595800" cy="591840"/>
                  <a:chOff x="3390120" y="1453320"/>
                  <a:chExt cx="595800" cy="591840"/>
                </a:xfrm>
              </p:grpSpPr>
              <p:pic>
                <p:nvPicPr>
                  <p:cNvPr id="150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0120" y="1453320"/>
                    <a:ext cx="59580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" name="Text Box 22"/>
                  <p:cNvSpPr/>
                  <p:nvPr/>
                </p:nvSpPr>
                <p:spPr>
                  <a:xfrm>
                    <a:off x="3518640" y="1559520"/>
                    <a:ext cx="342720" cy="33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2" name="Text Box 18"/>
            <p:cNvSpPr/>
            <p:nvPr/>
          </p:nvSpPr>
          <p:spPr>
            <a:xfrm>
              <a:off x="1947960" y="1622520"/>
              <a:ext cx="14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3497400" y="1615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4628520" y="1442880"/>
            <a:ext cx="2569320" cy="1297800"/>
            <a:chOff x="4628520" y="1442880"/>
            <a:chExt cx="2569320" cy="1297800"/>
          </a:xfrm>
        </p:grpSpPr>
        <p:grpSp>
          <p:nvGrpSpPr>
            <p:cNvPr id="155" name="Group 26"/>
            <p:cNvGrpSpPr/>
            <p:nvPr/>
          </p:nvGrpSpPr>
          <p:grpSpPr>
            <a:xfrm>
              <a:off x="4628520" y="1442880"/>
              <a:ext cx="2569320" cy="1297800"/>
              <a:chOff x="4628520" y="1442880"/>
              <a:chExt cx="2569320" cy="1297800"/>
            </a:xfrm>
          </p:grpSpPr>
          <p:grpSp>
            <p:nvGrpSpPr>
              <p:cNvPr id="156" name="Group 27"/>
              <p:cNvGrpSpPr/>
              <p:nvPr/>
            </p:nvGrpSpPr>
            <p:grpSpPr>
              <a:xfrm>
                <a:off x="4628520" y="1442880"/>
                <a:ext cx="2569320" cy="1297800"/>
                <a:chOff x="4628520" y="1442880"/>
                <a:chExt cx="2569320" cy="1297800"/>
              </a:xfrm>
            </p:grpSpPr>
            <p:grpSp>
              <p:nvGrpSpPr>
                <p:cNvPr id="157" name="Group 28"/>
                <p:cNvGrpSpPr/>
                <p:nvPr/>
              </p:nvGrpSpPr>
              <p:grpSpPr>
                <a:xfrm>
                  <a:off x="4628520" y="1442880"/>
                  <a:ext cx="2569320" cy="1297800"/>
                  <a:chOff x="4628520" y="1442880"/>
                  <a:chExt cx="2569320" cy="1297800"/>
                </a:xfrm>
              </p:grpSpPr>
              <p:sp>
                <p:nvSpPr>
                  <p:cNvPr id="158" name="AutoShape 67"/>
                  <p:cNvSpPr/>
                  <p:nvPr/>
                </p:nvSpPr>
                <p:spPr>
                  <a:xfrm flipH="1" rot="18900000">
                    <a:off x="4830120" y="1681200"/>
                    <a:ext cx="807480" cy="9068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圆角矩形 54"/>
                  <p:cNvSpPr/>
                  <p:nvPr/>
                </p:nvSpPr>
                <p:spPr>
                  <a:xfrm>
                    <a:off x="5511960" y="1442880"/>
                    <a:ext cx="1685880" cy="7372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31"/>
                <p:cNvGrpSpPr/>
                <p:nvPr/>
              </p:nvGrpSpPr>
              <p:grpSpPr>
                <a:xfrm>
                  <a:off x="5082480" y="1442880"/>
                  <a:ext cx="672480" cy="667800"/>
                  <a:chOff x="5082480" y="1442880"/>
                  <a:chExt cx="672480" cy="667800"/>
                </a:xfrm>
              </p:grpSpPr>
              <p:grpSp>
                <p:nvGrpSpPr>
                  <p:cNvPr id="161" name="Group 32"/>
                  <p:cNvGrpSpPr/>
                  <p:nvPr/>
                </p:nvGrpSpPr>
                <p:grpSpPr>
                  <a:xfrm>
                    <a:off x="5082480" y="1442880"/>
                    <a:ext cx="672480" cy="667800"/>
                    <a:chOff x="5082480" y="1442880"/>
                    <a:chExt cx="672480" cy="667800"/>
                  </a:xfrm>
                </p:grpSpPr>
                <p:pic>
                  <p:nvPicPr>
                    <p:cNvPr id="162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82480" y="1442880"/>
                      <a:ext cx="67248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3" name="Text Box 34"/>
                    <p:cNvSpPr/>
                    <p:nvPr/>
                  </p:nvSpPr>
                  <p:spPr>
                    <a:xfrm>
                      <a:off x="5220720" y="1558800"/>
                      <a:ext cx="400320" cy="39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Group 35"/>
                  <p:cNvGrpSpPr/>
                  <p:nvPr/>
                </p:nvGrpSpPr>
                <p:grpSpPr>
                  <a:xfrm>
                    <a:off x="5097600" y="1458000"/>
                    <a:ext cx="595440" cy="591480"/>
                    <a:chOff x="5097600" y="1458000"/>
                    <a:chExt cx="595440" cy="591480"/>
                  </a:xfrm>
                </p:grpSpPr>
                <p:pic>
                  <p:nvPicPr>
                    <p:cNvPr id="165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97600" y="1458000"/>
                      <a:ext cx="595440" cy="59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6" name="Text Box 37"/>
                    <p:cNvSpPr/>
                    <p:nvPr/>
                  </p:nvSpPr>
                  <p:spPr>
                    <a:xfrm>
                      <a:off x="5225760" y="1562760"/>
                      <a:ext cx="343080" cy="338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7" name="Rectangle 26"/>
              <p:cNvSpPr/>
              <p:nvPr/>
            </p:nvSpPr>
            <p:spPr>
              <a:xfrm>
                <a:off x="5215320" y="1620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18"/>
            <p:cNvSpPr/>
            <p:nvPr/>
          </p:nvSpPr>
          <p:spPr>
            <a:xfrm>
              <a:off x="5740560" y="1627200"/>
              <a:ext cx="14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0"/>
          <p:cNvGrpSpPr/>
          <p:nvPr/>
        </p:nvGrpSpPr>
        <p:grpSpPr>
          <a:xfrm>
            <a:off x="5340240" y="2546280"/>
            <a:ext cx="2527560" cy="941400"/>
            <a:chOff x="5340240" y="2546280"/>
            <a:chExt cx="2527560" cy="941400"/>
          </a:xfrm>
        </p:grpSpPr>
        <p:grpSp>
          <p:nvGrpSpPr>
            <p:cNvPr id="170" name="Group 41"/>
            <p:cNvGrpSpPr/>
            <p:nvPr/>
          </p:nvGrpSpPr>
          <p:grpSpPr>
            <a:xfrm>
              <a:off x="5340240" y="2546280"/>
              <a:ext cx="2527560" cy="941400"/>
              <a:chOff x="5340240" y="2546280"/>
              <a:chExt cx="2527560" cy="941400"/>
            </a:xfrm>
          </p:grpSpPr>
          <p:grpSp>
            <p:nvGrpSpPr>
              <p:cNvPr id="171" name="Group 42"/>
              <p:cNvGrpSpPr/>
              <p:nvPr/>
            </p:nvGrpSpPr>
            <p:grpSpPr>
              <a:xfrm>
                <a:off x="5340240" y="2546280"/>
                <a:ext cx="2527560" cy="941400"/>
                <a:chOff x="5340240" y="2546280"/>
                <a:chExt cx="2527560" cy="941400"/>
              </a:xfrm>
            </p:grpSpPr>
            <p:grpSp>
              <p:nvGrpSpPr>
                <p:cNvPr id="172" name="Group 43"/>
                <p:cNvGrpSpPr/>
                <p:nvPr/>
              </p:nvGrpSpPr>
              <p:grpSpPr>
                <a:xfrm>
                  <a:off x="5340240" y="2546280"/>
                  <a:ext cx="2527560" cy="941400"/>
                  <a:chOff x="5340240" y="2546280"/>
                  <a:chExt cx="2527560" cy="941400"/>
                </a:xfrm>
              </p:grpSpPr>
              <p:sp>
                <p:nvSpPr>
                  <p:cNvPr id="173" name="AutoShape 49"/>
                  <p:cNvSpPr/>
                  <p:nvPr/>
                </p:nvSpPr>
                <p:spPr>
                  <a:xfrm flipH="1">
                    <a:off x="5340240" y="2546280"/>
                    <a:ext cx="736560" cy="94140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圆角矩形 47"/>
                  <p:cNvSpPr/>
                  <p:nvPr/>
                </p:nvSpPr>
                <p:spPr>
                  <a:xfrm>
                    <a:off x="6107040" y="2680920"/>
                    <a:ext cx="1760760" cy="6717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46"/>
                <p:cNvGrpSpPr/>
                <p:nvPr/>
              </p:nvGrpSpPr>
              <p:grpSpPr>
                <a:xfrm>
                  <a:off x="5761440" y="2682720"/>
                  <a:ext cx="672840" cy="668160"/>
                  <a:chOff x="5761440" y="2682720"/>
                  <a:chExt cx="672840" cy="668160"/>
                </a:xfrm>
              </p:grpSpPr>
              <p:grpSp>
                <p:nvGrpSpPr>
                  <p:cNvPr id="176" name="Group 47"/>
                  <p:cNvGrpSpPr/>
                  <p:nvPr/>
                </p:nvGrpSpPr>
                <p:grpSpPr>
                  <a:xfrm>
                    <a:off x="5761440" y="2682720"/>
                    <a:ext cx="672840" cy="668160"/>
                    <a:chOff x="5761440" y="2682720"/>
                    <a:chExt cx="672840" cy="668160"/>
                  </a:xfrm>
                </p:grpSpPr>
                <p:pic>
                  <p:nvPicPr>
                    <p:cNvPr id="177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61440" y="2682720"/>
                      <a:ext cx="672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Text Box 49"/>
                    <p:cNvSpPr/>
                    <p:nvPr/>
                  </p:nvSpPr>
                  <p:spPr>
                    <a:xfrm>
                      <a:off x="5900400" y="2799720"/>
                      <a:ext cx="397800" cy="392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Group 50"/>
                  <p:cNvGrpSpPr/>
                  <p:nvPr/>
                </p:nvGrpSpPr>
                <p:grpSpPr>
                  <a:xfrm>
                    <a:off x="5781600" y="2697840"/>
                    <a:ext cx="586440" cy="587160"/>
                    <a:chOff x="5781600" y="2697840"/>
                    <a:chExt cx="586440" cy="587160"/>
                  </a:xfrm>
                </p:grpSpPr>
                <p:pic>
                  <p:nvPicPr>
                    <p:cNvPr id="180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1600" y="2697840"/>
                      <a:ext cx="58644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1" name="Text Box 52"/>
                    <p:cNvSpPr/>
                    <p:nvPr/>
                  </p:nvSpPr>
                  <p:spPr>
                    <a:xfrm>
                      <a:off x="5906520" y="2803680"/>
                      <a:ext cx="340200" cy="336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2" name="Rectangle 26"/>
              <p:cNvSpPr/>
              <p:nvPr/>
            </p:nvSpPr>
            <p:spPr>
              <a:xfrm>
                <a:off x="5883840" y="2849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18"/>
            <p:cNvSpPr/>
            <p:nvPr/>
          </p:nvSpPr>
          <p:spPr>
            <a:xfrm>
              <a:off x="6382800" y="28674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55"/>
          <p:cNvGrpSpPr/>
          <p:nvPr/>
        </p:nvGrpSpPr>
        <p:grpSpPr>
          <a:xfrm>
            <a:off x="1271520" y="2546280"/>
            <a:ext cx="2538360" cy="941400"/>
            <a:chOff x="1271520" y="2546280"/>
            <a:chExt cx="2538360" cy="941400"/>
          </a:xfrm>
        </p:grpSpPr>
        <p:grpSp>
          <p:nvGrpSpPr>
            <p:cNvPr id="185" name="Group 56"/>
            <p:cNvGrpSpPr/>
            <p:nvPr/>
          </p:nvGrpSpPr>
          <p:grpSpPr>
            <a:xfrm>
              <a:off x="1271520" y="2546280"/>
              <a:ext cx="2538360" cy="941400"/>
              <a:chOff x="1271520" y="2546280"/>
              <a:chExt cx="2538360" cy="941400"/>
            </a:xfrm>
          </p:grpSpPr>
          <p:grpSp>
            <p:nvGrpSpPr>
              <p:cNvPr id="186" name="Group 57"/>
              <p:cNvGrpSpPr/>
              <p:nvPr/>
            </p:nvGrpSpPr>
            <p:grpSpPr>
              <a:xfrm>
                <a:off x="1271520" y="2546280"/>
                <a:ext cx="2538360" cy="941400"/>
                <a:chOff x="1271520" y="2546280"/>
                <a:chExt cx="2538360" cy="941400"/>
              </a:xfrm>
            </p:grpSpPr>
            <p:sp>
              <p:nvSpPr>
                <p:cNvPr id="187" name="AutoShape 71"/>
                <p:cNvSpPr/>
                <p:nvPr/>
              </p:nvSpPr>
              <p:spPr>
                <a:xfrm>
                  <a:off x="3073320" y="2546280"/>
                  <a:ext cx="736560" cy="9414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圆角矩形 21"/>
                <p:cNvSpPr/>
                <p:nvPr/>
              </p:nvSpPr>
              <p:spPr>
                <a:xfrm>
                  <a:off x="1271520" y="2680920"/>
                  <a:ext cx="1760400" cy="6717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60"/>
              <p:cNvGrpSpPr/>
              <p:nvPr/>
            </p:nvGrpSpPr>
            <p:grpSpPr>
              <a:xfrm>
                <a:off x="2716560" y="2682720"/>
                <a:ext cx="672840" cy="668160"/>
                <a:chOff x="2716560" y="2682720"/>
                <a:chExt cx="672840" cy="668160"/>
              </a:xfrm>
            </p:grpSpPr>
            <p:grpSp>
              <p:nvGrpSpPr>
                <p:cNvPr id="190" name="Group 61"/>
                <p:cNvGrpSpPr/>
                <p:nvPr/>
              </p:nvGrpSpPr>
              <p:grpSpPr>
                <a:xfrm>
                  <a:off x="2716560" y="2682720"/>
                  <a:ext cx="672840" cy="668160"/>
                  <a:chOff x="2716560" y="2682720"/>
                  <a:chExt cx="672840" cy="668160"/>
                </a:xfrm>
              </p:grpSpPr>
              <p:pic>
                <p:nvPicPr>
                  <p:cNvPr id="191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16560" y="2682720"/>
                    <a:ext cx="672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2" name="Text Box 63"/>
                  <p:cNvSpPr/>
                  <p:nvPr/>
                </p:nvSpPr>
                <p:spPr>
                  <a:xfrm>
                    <a:off x="2854080" y="2799720"/>
                    <a:ext cx="401040" cy="39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64"/>
                <p:cNvGrpSpPr/>
                <p:nvPr/>
              </p:nvGrpSpPr>
              <p:grpSpPr>
                <a:xfrm>
                  <a:off x="2731680" y="2702880"/>
                  <a:ext cx="595800" cy="582120"/>
                  <a:chOff x="2731680" y="2702880"/>
                  <a:chExt cx="595800" cy="582120"/>
                </a:xfrm>
              </p:grpSpPr>
              <p:pic>
                <p:nvPicPr>
                  <p:cNvPr id="194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31680" y="2702880"/>
                    <a:ext cx="595800" cy="5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" name="Text Box 66"/>
                  <p:cNvSpPr/>
                  <p:nvPr/>
                </p:nvSpPr>
                <p:spPr>
                  <a:xfrm>
                    <a:off x="2860200" y="2803680"/>
                    <a:ext cx="34272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" name="Text Box 18"/>
            <p:cNvSpPr/>
            <p:nvPr/>
          </p:nvSpPr>
          <p:spPr>
            <a:xfrm>
              <a:off x="1319400" y="2867400"/>
              <a:ext cx="145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2838960" y="2849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69"/>
          <p:cNvGrpSpPr/>
          <p:nvPr/>
        </p:nvGrpSpPr>
        <p:grpSpPr>
          <a:xfrm>
            <a:off x="1901880" y="3422160"/>
            <a:ext cx="2617560" cy="1286280"/>
            <a:chOff x="1901880" y="3422160"/>
            <a:chExt cx="2617560" cy="1286280"/>
          </a:xfrm>
        </p:grpSpPr>
        <p:grpSp>
          <p:nvGrpSpPr>
            <p:cNvPr id="199" name="Group 70"/>
            <p:cNvGrpSpPr/>
            <p:nvPr/>
          </p:nvGrpSpPr>
          <p:grpSpPr>
            <a:xfrm>
              <a:off x="1930680" y="3422160"/>
              <a:ext cx="2588760" cy="1286280"/>
              <a:chOff x="1930680" y="3422160"/>
              <a:chExt cx="2588760" cy="1286280"/>
            </a:xfrm>
          </p:grpSpPr>
          <p:grpSp>
            <p:nvGrpSpPr>
              <p:cNvPr id="200" name="Group 71"/>
              <p:cNvGrpSpPr/>
              <p:nvPr/>
            </p:nvGrpSpPr>
            <p:grpSpPr>
              <a:xfrm>
                <a:off x="1930680" y="3422160"/>
                <a:ext cx="2588760" cy="1286280"/>
                <a:chOff x="1930680" y="3422160"/>
                <a:chExt cx="2588760" cy="1286280"/>
              </a:xfrm>
            </p:grpSpPr>
            <p:sp>
              <p:nvSpPr>
                <p:cNvPr id="201" name="AutoShape 75"/>
                <p:cNvSpPr/>
                <p:nvPr/>
              </p:nvSpPr>
              <p:spPr>
                <a:xfrm rot="18900000">
                  <a:off x="3447360" y="3627000"/>
                  <a:ext cx="918000" cy="815760"/>
                </a:xfrm>
                <a:prstGeom prst="rightArrow">
                  <a:avLst>
                    <a:gd name="adj1" fmla="val 70389"/>
                    <a:gd name="adj2" fmla="val 7392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圆角矩形 31"/>
                <p:cNvSpPr/>
                <p:nvPr/>
              </p:nvSpPr>
              <p:spPr>
                <a:xfrm>
                  <a:off x="1930680" y="3965040"/>
                  <a:ext cx="1683000" cy="7434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74"/>
              <p:cNvGrpSpPr/>
              <p:nvPr/>
            </p:nvGrpSpPr>
            <p:grpSpPr>
              <a:xfrm>
                <a:off x="3374640" y="4041360"/>
                <a:ext cx="672480" cy="667080"/>
                <a:chOff x="3374640" y="4041360"/>
                <a:chExt cx="672480" cy="667080"/>
              </a:xfrm>
            </p:grpSpPr>
            <p:grpSp>
              <p:nvGrpSpPr>
                <p:cNvPr id="204" name="Group 75"/>
                <p:cNvGrpSpPr/>
                <p:nvPr/>
              </p:nvGrpSpPr>
              <p:grpSpPr>
                <a:xfrm>
                  <a:off x="3374640" y="4041360"/>
                  <a:ext cx="672480" cy="667080"/>
                  <a:chOff x="3374640" y="4041360"/>
                  <a:chExt cx="672480" cy="667080"/>
                </a:xfrm>
              </p:grpSpPr>
              <p:pic>
                <p:nvPicPr>
                  <p:cNvPr id="205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74640" y="4041360"/>
                    <a:ext cx="67248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" name="Text Box 77"/>
                  <p:cNvSpPr/>
                  <p:nvPr/>
                </p:nvSpPr>
                <p:spPr>
                  <a:xfrm>
                    <a:off x="3511800" y="4158360"/>
                    <a:ext cx="400320" cy="39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78"/>
                <p:cNvGrpSpPr/>
                <p:nvPr/>
              </p:nvGrpSpPr>
              <p:grpSpPr>
                <a:xfrm>
                  <a:off x="3389760" y="4061520"/>
                  <a:ext cx="595440" cy="585720"/>
                  <a:chOff x="3389760" y="4061520"/>
                  <a:chExt cx="595440" cy="585720"/>
                </a:xfrm>
              </p:grpSpPr>
              <p:pic>
                <p:nvPicPr>
                  <p:cNvPr id="208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89760" y="4061520"/>
                    <a:ext cx="595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9" name="Text Box 80"/>
                  <p:cNvSpPr/>
                  <p:nvPr/>
                </p:nvSpPr>
                <p:spPr>
                  <a:xfrm>
                    <a:off x="3517200" y="4162680"/>
                    <a:ext cx="3430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" name="Text Box 18"/>
            <p:cNvSpPr/>
            <p:nvPr/>
          </p:nvSpPr>
          <p:spPr>
            <a:xfrm>
              <a:off x="1901880" y="4225320"/>
              <a:ext cx="144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3497400" y="42080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83"/>
          <p:cNvGrpSpPr/>
          <p:nvPr/>
        </p:nvGrpSpPr>
        <p:grpSpPr>
          <a:xfrm>
            <a:off x="4555440" y="3490200"/>
            <a:ext cx="2642400" cy="1199160"/>
            <a:chOff x="4555440" y="3490200"/>
            <a:chExt cx="2642400" cy="1199160"/>
          </a:xfrm>
        </p:grpSpPr>
        <p:grpSp>
          <p:nvGrpSpPr>
            <p:cNvPr id="213" name="Group 84"/>
            <p:cNvGrpSpPr/>
            <p:nvPr/>
          </p:nvGrpSpPr>
          <p:grpSpPr>
            <a:xfrm>
              <a:off x="4555440" y="3490200"/>
              <a:ext cx="2642400" cy="1199160"/>
              <a:chOff x="4555440" y="3490200"/>
              <a:chExt cx="2642400" cy="1199160"/>
            </a:xfrm>
          </p:grpSpPr>
          <p:grpSp>
            <p:nvGrpSpPr>
              <p:cNvPr id="214" name="Group 85"/>
              <p:cNvGrpSpPr/>
              <p:nvPr/>
            </p:nvGrpSpPr>
            <p:grpSpPr>
              <a:xfrm>
                <a:off x="4555440" y="3490200"/>
                <a:ext cx="2642400" cy="1199160"/>
                <a:chOff x="4555440" y="3490200"/>
                <a:chExt cx="2642400" cy="1199160"/>
              </a:xfrm>
            </p:grpSpPr>
            <p:grpSp>
              <p:nvGrpSpPr>
                <p:cNvPr id="215" name="Group 86"/>
                <p:cNvGrpSpPr/>
                <p:nvPr/>
              </p:nvGrpSpPr>
              <p:grpSpPr>
                <a:xfrm>
                  <a:off x="4555440" y="3490200"/>
                  <a:ext cx="2642400" cy="1199160"/>
                  <a:chOff x="4555440" y="3490200"/>
                  <a:chExt cx="2642400" cy="1199160"/>
                </a:xfrm>
              </p:grpSpPr>
              <p:sp>
                <p:nvSpPr>
                  <p:cNvPr id="216" name="AutoShape 69"/>
                  <p:cNvSpPr/>
                  <p:nvPr/>
                </p:nvSpPr>
                <p:spPr>
                  <a:xfrm flipH="1" rot="2700000">
                    <a:off x="4675320" y="3717720"/>
                    <a:ext cx="946800" cy="731880"/>
                  </a:xfrm>
                  <a:prstGeom prst="rightArrow">
                    <a:avLst>
                      <a:gd name="adj1" fmla="val 70389"/>
                      <a:gd name="adj2" fmla="val 8354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圆角矩形 38"/>
                  <p:cNvSpPr/>
                  <p:nvPr/>
                </p:nvSpPr>
                <p:spPr>
                  <a:xfrm>
                    <a:off x="5439240" y="4021200"/>
                    <a:ext cx="1758600" cy="66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89"/>
                <p:cNvGrpSpPr/>
                <p:nvPr/>
              </p:nvGrpSpPr>
              <p:grpSpPr>
                <a:xfrm>
                  <a:off x="5083200" y="4022280"/>
                  <a:ext cx="672120" cy="667080"/>
                  <a:chOff x="5083200" y="4022280"/>
                  <a:chExt cx="672120" cy="667080"/>
                </a:xfrm>
              </p:grpSpPr>
              <p:grpSp>
                <p:nvGrpSpPr>
                  <p:cNvPr id="219" name="Group 90"/>
                  <p:cNvGrpSpPr/>
                  <p:nvPr/>
                </p:nvGrpSpPr>
                <p:grpSpPr>
                  <a:xfrm>
                    <a:off x="5083200" y="4022280"/>
                    <a:ext cx="672120" cy="667080"/>
                    <a:chOff x="5083200" y="4022280"/>
                    <a:chExt cx="672120" cy="667080"/>
                  </a:xfrm>
                </p:grpSpPr>
                <p:pic>
                  <p:nvPicPr>
                    <p:cNvPr id="220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83200" y="4022280"/>
                      <a:ext cx="6721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1" name="Text Box 92"/>
                    <p:cNvSpPr/>
                    <p:nvPr/>
                  </p:nvSpPr>
                  <p:spPr>
                    <a:xfrm>
                      <a:off x="5221440" y="4138560"/>
                      <a:ext cx="400320" cy="39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93"/>
                  <p:cNvGrpSpPr/>
                  <p:nvPr/>
                </p:nvGrpSpPr>
                <p:grpSpPr>
                  <a:xfrm>
                    <a:off x="5098320" y="4037400"/>
                    <a:ext cx="595440" cy="590760"/>
                    <a:chOff x="5098320" y="4037400"/>
                    <a:chExt cx="595440" cy="590760"/>
                  </a:xfrm>
                </p:grpSpPr>
                <p:pic>
                  <p:nvPicPr>
                    <p:cNvPr id="223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98320" y="4037400"/>
                      <a:ext cx="595440" cy="5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24" name="Text Box 95"/>
                    <p:cNvSpPr/>
                    <p:nvPr/>
                  </p:nvSpPr>
                  <p:spPr>
                    <a:xfrm>
                      <a:off x="5227560" y="4142160"/>
                      <a:ext cx="342000" cy="338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25" name="Rectangle 26"/>
              <p:cNvSpPr/>
              <p:nvPr/>
            </p:nvSpPr>
            <p:spPr>
              <a:xfrm>
                <a:off x="5205240" y="4188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18"/>
            <p:cNvSpPr/>
            <p:nvPr/>
          </p:nvSpPr>
          <p:spPr>
            <a:xfrm>
              <a:off x="5645880" y="4206600"/>
              <a:ext cx="15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979560" y="1185840"/>
            <a:ext cx="7408800" cy="3800520"/>
            <a:chOff x="979560" y="1185840"/>
            <a:chExt cx="7408800" cy="3800520"/>
          </a:xfrm>
        </p:grpSpPr>
        <p:grpSp>
          <p:nvGrpSpPr>
            <p:cNvPr id="229" name="Group 3"/>
            <p:cNvGrpSpPr/>
            <p:nvPr/>
          </p:nvGrpSpPr>
          <p:grpSpPr>
            <a:xfrm>
              <a:off x="979560" y="1491840"/>
              <a:ext cx="7408800" cy="3494520"/>
              <a:chOff x="979560" y="1491840"/>
              <a:chExt cx="7408800" cy="3494520"/>
            </a:xfrm>
          </p:grpSpPr>
          <p:grpSp>
            <p:nvGrpSpPr>
              <p:cNvPr id="230" name="Group 4"/>
              <p:cNvGrpSpPr/>
              <p:nvPr/>
            </p:nvGrpSpPr>
            <p:grpSpPr>
              <a:xfrm>
                <a:off x="979560" y="1491840"/>
                <a:ext cx="7408800" cy="3494520"/>
                <a:chOff x="979560" y="1491840"/>
                <a:chExt cx="7408800" cy="3494520"/>
              </a:xfrm>
            </p:grpSpPr>
            <p:sp>
              <p:nvSpPr>
                <p:cNvPr id="231" name="AutoShape 5"/>
                <p:cNvSpPr/>
                <p:nvPr/>
              </p:nvSpPr>
              <p:spPr>
                <a:xfrm>
                  <a:off x="979560" y="1491840"/>
                  <a:ext cx="7408800" cy="3494520"/>
                </a:xfrm>
                <a:prstGeom prst="roundRect">
                  <a:avLst>
                    <a:gd name="adj" fmla="val 3231"/>
                  </a:avLst>
                </a:prstGeom>
                <a:noFill/>
                <a:ln w="25560">
                  <a:solidFill>
                    <a:srgbClr val="26262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9"/>
                <p:cNvSpPr/>
                <p:nvPr/>
              </p:nvSpPr>
              <p:spPr>
                <a:xfrm>
                  <a:off x="1101240" y="1596600"/>
                  <a:ext cx="7165440" cy="3285000"/>
                </a:xfrm>
                <a:prstGeom prst="roundRect">
                  <a:avLst>
                    <a:gd name="adj" fmla="val 3486"/>
                  </a:avLst>
                </a:prstGeom>
                <a:solidFill>
                  <a:srgbClr val="ffffff">
                    <a:alpha val="5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7"/>
              <p:cNvGrpSpPr/>
              <p:nvPr/>
            </p:nvGrpSpPr>
            <p:grpSpPr>
              <a:xfrm>
                <a:off x="1406160" y="2072880"/>
                <a:ext cx="6475680" cy="2644200"/>
                <a:chOff x="1406160" y="2072880"/>
                <a:chExt cx="6475680" cy="2644200"/>
              </a:xfrm>
            </p:grpSpPr>
            <p:sp>
              <p:nvSpPr>
                <p:cNvPr id="234" name="Line 11"/>
                <p:cNvSpPr/>
                <p:nvPr/>
              </p:nvSpPr>
              <p:spPr>
                <a:xfrm>
                  <a:off x="3013920" y="24649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"/>
                <p:cNvSpPr/>
                <p:nvPr/>
              </p:nvSpPr>
              <p:spPr>
                <a:xfrm>
                  <a:off x="4674960" y="2464920"/>
                  <a:ext cx="144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3"/>
                <p:cNvSpPr/>
                <p:nvPr/>
              </p:nvSpPr>
              <p:spPr>
                <a:xfrm>
                  <a:off x="6324840" y="2464920"/>
                  <a:ext cx="2880" cy="1901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56"/>
                <p:cNvSpPr/>
                <p:nvPr/>
              </p:nvSpPr>
              <p:spPr>
                <a:xfrm>
                  <a:off x="189864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7"/>
                <p:cNvSpPr/>
                <p:nvPr/>
              </p:nvSpPr>
              <p:spPr>
                <a:xfrm>
                  <a:off x="355788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58"/>
                <p:cNvSpPr/>
                <p:nvPr/>
              </p:nvSpPr>
              <p:spPr>
                <a:xfrm>
                  <a:off x="522000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59"/>
                <p:cNvSpPr/>
                <p:nvPr/>
              </p:nvSpPr>
              <p:spPr>
                <a:xfrm>
                  <a:off x="6888600" y="44100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添加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25"/>
                <p:cNvSpPr/>
                <p:nvPr/>
              </p:nvSpPr>
              <p:spPr>
                <a:xfrm>
                  <a:off x="1707840" y="4251240"/>
                  <a:ext cx="479160" cy="12060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6"/>
                <p:cNvSpPr/>
                <p:nvPr/>
              </p:nvSpPr>
              <p:spPr>
                <a:xfrm>
                  <a:off x="3362040" y="3976560"/>
                  <a:ext cx="476280" cy="39528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27"/>
                <p:cNvSpPr/>
                <p:nvPr/>
              </p:nvSpPr>
              <p:spPr>
                <a:xfrm>
                  <a:off x="5022720" y="3589200"/>
                  <a:ext cx="479160" cy="78264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28"/>
                <p:cNvSpPr/>
                <p:nvPr/>
              </p:nvSpPr>
              <p:spPr>
                <a:xfrm>
                  <a:off x="6674040" y="3473280"/>
                  <a:ext cx="477720" cy="898560"/>
                </a:xfrm>
                <a:prstGeom prst="rect">
                  <a:avLst/>
                </a:prstGeom>
                <a:solidFill>
                  <a:srgbClr val="262626">
                    <a:alpha val="7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29"/>
                <p:cNvSpPr/>
                <p:nvPr/>
              </p:nvSpPr>
              <p:spPr>
                <a:xfrm>
                  <a:off x="2187360" y="3395880"/>
                  <a:ext cx="465840" cy="97488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AutoShape 30"/>
                <p:cNvSpPr/>
                <p:nvPr/>
              </p:nvSpPr>
              <p:spPr>
                <a:xfrm>
                  <a:off x="3837600" y="3549600"/>
                  <a:ext cx="479160" cy="82116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31"/>
                <p:cNvSpPr/>
                <p:nvPr/>
              </p:nvSpPr>
              <p:spPr>
                <a:xfrm>
                  <a:off x="5511240" y="3077640"/>
                  <a:ext cx="465840" cy="129312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32"/>
                <p:cNvSpPr/>
                <p:nvPr/>
              </p:nvSpPr>
              <p:spPr>
                <a:xfrm>
                  <a:off x="7151760" y="3312720"/>
                  <a:ext cx="468720" cy="1058040"/>
                </a:xfrm>
                <a:prstGeom prst="rect">
                  <a:avLst/>
                </a:prstGeom>
                <a:solidFill>
                  <a:srgbClr val="00b0f0">
                    <a:alpha val="74000"/>
                  </a:srgbClr>
                </a:solidFill>
                <a:ln w="1260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56"/>
                <p:cNvSpPr/>
                <p:nvPr/>
              </p:nvSpPr>
              <p:spPr>
                <a:xfrm>
                  <a:off x="2230560" y="31348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56"/>
                <p:cNvSpPr/>
                <p:nvPr/>
              </p:nvSpPr>
              <p:spPr>
                <a:xfrm>
                  <a:off x="1762200" y="3992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56"/>
                <p:cNvSpPr/>
                <p:nvPr/>
              </p:nvSpPr>
              <p:spPr>
                <a:xfrm>
                  <a:off x="3673440" y="3274560"/>
                  <a:ext cx="79992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56"/>
                <p:cNvSpPr/>
                <p:nvPr/>
              </p:nvSpPr>
              <p:spPr>
                <a:xfrm>
                  <a:off x="3409920" y="3709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56"/>
                <p:cNvSpPr/>
                <p:nvPr/>
              </p:nvSpPr>
              <p:spPr>
                <a:xfrm>
                  <a:off x="5387760" y="2782440"/>
                  <a:ext cx="7236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56"/>
                <p:cNvSpPr/>
                <p:nvPr/>
              </p:nvSpPr>
              <p:spPr>
                <a:xfrm>
                  <a:off x="5056560" y="332568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Text Box 56"/>
                <p:cNvSpPr/>
                <p:nvPr/>
              </p:nvSpPr>
              <p:spPr>
                <a:xfrm>
                  <a:off x="7121520" y="3063600"/>
                  <a:ext cx="62388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56"/>
                <p:cNvSpPr/>
                <p:nvPr/>
              </p:nvSpPr>
              <p:spPr>
                <a:xfrm>
                  <a:off x="6715440" y="32079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2f4d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"/>
                <p:cNvSpPr/>
                <p:nvPr/>
              </p:nvSpPr>
              <p:spPr>
                <a:xfrm>
                  <a:off x="1415160" y="2072880"/>
                  <a:ext cx="0" cy="229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8"/>
                <p:cNvSpPr/>
                <p:nvPr/>
              </p:nvSpPr>
              <p:spPr>
                <a:xfrm>
                  <a:off x="1406160" y="4366440"/>
                  <a:ext cx="6475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33"/>
            <p:cNvGrpSpPr/>
            <p:nvPr/>
          </p:nvGrpSpPr>
          <p:grpSpPr>
            <a:xfrm>
              <a:off x="1657440" y="1185840"/>
              <a:ext cx="6100920" cy="534240"/>
              <a:chOff x="1657440" y="1185840"/>
              <a:chExt cx="6100920" cy="534240"/>
            </a:xfrm>
          </p:grpSpPr>
          <p:grpSp>
            <p:nvGrpSpPr>
              <p:cNvPr id="260" name="Group 34"/>
              <p:cNvGrpSpPr/>
              <p:nvPr/>
            </p:nvGrpSpPr>
            <p:grpSpPr>
              <a:xfrm>
                <a:off x="1657440" y="1185840"/>
                <a:ext cx="6100920" cy="534240"/>
                <a:chOff x="1657440" y="1185840"/>
                <a:chExt cx="6100920" cy="534240"/>
              </a:xfrm>
            </p:grpSpPr>
            <p:grpSp>
              <p:nvGrpSpPr>
                <p:cNvPr id="261" name="Group 35"/>
                <p:cNvGrpSpPr/>
                <p:nvPr/>
              </p:nvGrpSpPr>
              <p:grpSpPr>
                <a:xfrm>
                  <a:off x="1657440" y="1185840"/>
                  <a:ext cx="6100920" cy="534240"/>
                  <a:chOff x="1657440" y="1185840"/>
                  <a:chExt cx="6100920" cy="534240"/>
                </a:xfrm>
              </p:grpSpPr>
              <p:pic>
                <p:nvPicPr>
                  <p:cNvPr id="262" name="AutoShape 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57440" y="1185840"/>
                    <a:ext cx="6100920" cy="5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3" name="Text Box 37"/>
                  <p:cNvSpPr/>
                  <p:nvPr/>
                </p:nvSpPr>
                <p:spPr>
                  <a:xfrm>
                    <a:off x="1747800" y="1238760"/>
                    <a:ext cx="5923440" cy="38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38"/>
                <p:cNvGrpSpPr/>
                <p:nvPr/>
              </p:nvGrpSpPr>
              <p:grpSpPr>
                <a:xfrm>
                  <a:off x="1657440" y="1249560"/>
                  <a:ext cx="6095160" cy="406800"/>
                  <a:chOff x="1657440" y="1249560"/>
                  <a:chExt cx="6095160" cy="406800"/>
                </a:xfrm>
              </p:grpSpPr>
              <p:pic>
                <p:nvPicPr>
                  <p:cNvPr id="265" name="AutoShap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249560"/>
                    <a:ext cx="6095160" cy="4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6" name="Text Box 40"/>
                  <p:cNvSpPr/>
                  <p:nvPr/>
                </p:nvSpPr>
                <p:spPr>
                  <a:xfrm>
                    <a:off x="1740240" y="1297440"/>
                    <a:ext cx="5936760" cy="27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7" name="Rectangle 13"/>
              <p:cNvSpPr/>
              <p:nvPr/>
            </p:nvSpPr>
            <p:spPr>
              <a:xfrm>
                <a:off x="4206240" y="12639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7" descr="C:\Documents and Settings\Administrator\My Documents\My Pictures\2009219211523391_2.jpg"/>
          <p:cNvPicPr/>
          <p:nvPr/>
        </p:nvPicPr>
        <p:blipFill>
          <a:blip r:embed="rId1"/>
          <a:stretch/>
        </p:blipFill>
        <p:spPr>
          <a:xfrm>
            <a:off x="347760" y="1249200"/>
            <a:ext cx="5430600" cy="406116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3"/>
          <p:cNvGrpSpPr/>
          <p:nvPr/>
        </p:nvGrpSpPr>
        <p:grpSpPr>
          <a:xfrm>
            <a:off x="5892840" y="1536840"/>
            <a:ext cx="2413080" cy="2997000"/>
            <a:chOff x="5892840" y="1536840"/>
            <a:chExt cx="2413080" cy="2997000"/>
          </a:xfrm>
        </p:grpSpPr>
        <p:grpSp>
          <p:nvGrpSpPr>
            <p:cNvPr id="271" name="Group 4"/>
            <p:cNvGrpSpPr/>
            <p:nvPr/>
          </p:nvGrpSpPr>
          <p:grpSpPr>
            <a:xfrm>
              <a:off x="5892840" y="1536840"/>
              <a:ext cx="2413080" cy="2997000"/>
              <a:chOff x="5892840" y="1536840"/>
              <a:chExt cx="2413080" cy="2997000"/>
            </a:xfrm>
          </p:grpSpPr>
          <p:grpSp>
            <p:nvGrpSpPr>
              <p:cNvPr id="272" name="Group 5"/>
              <p:cNvGrpSpPr/>
              <p:nvPr/>
            </p:nvGrpSpPr>
            <p:grpSpPr>
              <a:xfrm>
                <a:off x="5892840" y="1536840"/>
                <a:ext cx="2413080" cy="2997000"/>
                <a:chOff x="5892840" y="1536840"/>
                <a:chExt cx="2413080" cy="2997000"/>
              </a:xfrm>
            </p:grpSpPr>
            <p:pic>
              <p:nvPicPr>
                <p:cNvPr id="273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92840" y="1536840"/>
                  <a:ext cx="2413080" cy="299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Text Box 7"/>
                <p:cNvSpPr/>
                <p:nvPr/>
              </p:nvSpPr>
              <p:spPr>
                <a:xfrm>
                  <a:off x="5970960" y="1594440"/>
                  <a:ext cx="2257920" cy="283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8"/>
              <p:cNvGrpSpPr/>
              <p:nvPr/>
            </p:nvGrpSpPr>
            <p:grpSpPr>
              <a:xfrm>
                <a:off x="5892840" y="1600920"/>
                <a:ext cx="2407320" cy="2863080"/>
                <a:chOff x="5892840" y="1600920"/>
                <a:chExt cx="2407320" cy="2863080"/>
              </a:xfrm>
            </p:grpSpPr>
            <p:pic>
              <p:nvPicPr>
                <p:cNvPr id="276" name="AutoShap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92840" y="1600920"/>
                  <a:ext cx="2407320" cy="286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Text Box 10"/>
                <p:cNvSpPr/>
                <p:nvPr/>
              </p:nvSpPr>
              <p:spPr>
                <a:xfrm>
                  <a:off x="5973480" y="1657080"/>
                  <a:ext cx="2252520" cy="269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Text Box 11"/>
            <p:cNvSpPr/>
            <p:nvPr/>
          </p:nvSpPr>
          <p:spPr>
            <a:xfrm>
              <a:off x="6062400" y="1889280"/>
              <a:ext cx="20908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4"/>
          <p:cNvSpPr/>
          <p:nvPr/>
        </p:nvSpPr>
        <p:spPr>
          <a:xfrm>
            <a:off x="6369120" y="2844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331560" y="5141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595440" y="3875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89000" y="2095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0:29Z</dcterms:created>
  <dc:creator>番茄花园</dc:creator>
  <dc:description/>
  <cp:keywords/>
  <dc:language>en-US</dc:language>
  <cp:lastModifiedBy>王玉清</cp:lastModifiedBy>
  <cp:lastPrinted>1899-12-30T00:00:00Z</cp:lastPrinted>
  <dcterms:modified xsi:type="dcterms:W3CDTF">2016-02-15T04:48:4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