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BCDA-40B6-4B78-B3E3-38F148D04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0BDD-FD8F-4763-B5DD-20B943B34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FED0-E755-4288-805B-A2D584B5E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697B-9EE1-4808-80CE-BDD15D107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9100-25A1-4BCD-8CDB-B96EA423E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D2F2-28D1-47EA-BF5C-4E11060FD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D63E-48A5-4FE2-84D4-C1964831D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F3B0-942C-4B16-A337-2262D6FB8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5A49-1687-49CA-8914-234D07BA2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0A9D-4F10-425F-A8BE-C1CCB7F41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1F71-3EBF-4956-AA5B-3744CF2B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9AFD-0E09-4921-9507-B271B7613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02463-7FD3-4222-9C56-78B7D83427C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8"/>
          <p:cNvSpPr/>
          <p:nvPr/>
        </p:nvSpPr>
        <p:spPr>
          <a:xfrm>
            <a:off x="414072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5"/>
          <p:cNvSpPr/>
          <p:nvPr/>
        </p:nvSpPr>
        <p:spPr>
          <a:xfrm>
            <a:off x="499788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5"/>
          <p:cNvSpPr/>
          <p:nvPr/>
        </p:nvSpPr>
        <p:spPr>
          <a:xfrm>
            <a:off x="285480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5"/>
          <p:cNvSpPr/>
          <p:nvPr/>
        </p:nvSpPr>
        <p:spPr>
          <a:xfrm>
            <a:off x="592668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05480" y="260280"/>
            <a:ext cx="354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水果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素材模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335484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4"/>
          <p:cNvSpPr/>
          <p:nvPr/>
        </p:nvSpPr>
        <p:spPr>
          <a:xfrm>
            <a:off x="335484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342612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7"/>
          <p:cNvSpPr/>
          <p:nvPr/>
        </p:nvSpPr>
        <p:spPr>
          <a:xfrm>
            <a:off x="349776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6785280" y="291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6"/>
          <p:cNvSpPr/>
          <p:nvPr/>
        </p:nvSpPr>
        <p:spPr>
          <a:xfrm>
            <a:off x="192600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8"/>
          <p:cNvSpPr/>
          <p:nvPr/>
        </p:nvSpPr>
        <p:spPr>
          <a:xfrm>
            <a:off x="421200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242604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535500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55640" y="1628640"/>
            <a:ext cx="443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免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/>
          <p:cNvSpPr/>
          <p:nvPr/>
        </p:nvSpPr>
        <p:spPr>
          <a:xfrm>
            <a:off x="585504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4640760" y="1571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221184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5"/>
          <p:cNvSpPr/>
          <p:nvPr/>
        </p:nvSpPr>
        <p:spPr>
          <a:xfrm>
            <a:off x="435492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6"/>
          <p:cNvSpPr/>
          <p:nvPr/>
        </p:nvSpPr>
        <p:spPr>
          <a:xfrm>
            <a:off x="271188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5"/>
          <p:cNvSpPr/>
          <p:nvPr/>
        </p:nvSpPr>
        <p:spPr>
          <a:xfrm>
            <a:off x="606960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5"/>
          <p:cNvSpPr/>
          <p:nvPr/>
        </p:nvSpPr>
        <p:spPr>
          <a:xfrm>
            <a:off x="356904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6"/>
          <p:cNvSpPr/>
          <p:nvPr/>
        </p:nvSpPr>
        <p:spPr>
          <a:xfrm>
            <a:off x="535500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3B0C-03DC-44C1-9554-32B2CC4F61A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6:37:33Z</dcterms:modified>
  <cp:revision>7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