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A3A4-D6C3-4D88-B848-D23EEEAB8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8D5F-E97F-4A39-9A54-CCA4ACD62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0B71-5924-4C93-8381-32E43BDA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3AAB-0C5B-457A-A00D-F6F79C350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AC0-661D-4707-B5F6-AF20DEE4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2760-6E23-433F-9A1C-65B68FA4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E748-4A61-4BD5-82AF-CCB44A87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6C15-455C-4D8C-846F-43EAB39A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D7A9-6DB1-483C-A5FC-75013494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A510-8245-4D62-9C70-F1AEF5D1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C49-4EA7-417C-9B51-416EF95C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6E9E-3ADB-4A54-8024-AA3783B5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91067-448D-4600-91C2-AC556B36B4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395280" y="549360"/>
            <a:ext cx="907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图放大镜金融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20"/>
          <p:cNvGrpSpPr/>
          <p:nvPr/>
        </p:nvGrpSpPr>
        <p:grpSpPr>
          <a:xfrm>
            <a:off x="928080" y="1779480"/>
            <a:ext cx="7194600" cy="3364200"/>
            <a:chOff x="928080" y="1779480"/>
            <a:chExt cx="7194600" cy="3364200"/>
          </a:xfrm>
        </p:grpSpPr>
        <p:pic>
          <p:nvPicPr>
            <p:cNvPr id="49" name="Picture 3" descr=""/>
            <p:cNvPicPr/>
            <p:nvPr/>
          </p:nvPicPr>
          <p:blipFill>
            <a:blip r:embed="rId2"/>
            <a:srcRect l="2775" t="0" r="7215" b="57688"/>
            <a:stretch/>
          </p:blipFill>
          <p:spPr>
            <a:xfrm flipH="1" rot="10800000">
              <a:off x="1475280" y="1781640"/>
              <a:ext cx="6026400" cy="13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3" descr=""/>
            <p:cNvPicPr/>
            <p:nvPr/>
          </p:nvPicPr>
          <p:blipFill>
            <a:blip r:embed="rId3"/>
            <a:srcRect l="2775" t="0" r="7215" b="57688"/>
            <a:stretch/>
          </p:blipFill>
          <p:spPr>
            <a:xfrm flipH="1" rot="10800000">
              <a:off x="928080" y="2324160"/>
              <a:ext cx="7194600" cy="16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梯形 10"/>
            <p:cNvSpPr/>
            <p:nvPr/>
          </p:nvSpPr>
          <p:spPr>
            <a:xfrm>
              <a:off x="5264280" y="1779480"/>
              <a:ext cx="1687320" cy="544320"/>
            </a:xfrm>
            <a:custGeom>
              <a:avLst/>
              <a:gdLst/>
              <a:ahLst/>
              <a:rect l="l" t="t" r="r" b="b"/>
              <a:pathLst>
                <a:path w="872098" h="368608">
                  <a:moveTo>
                    <a:pt x="0" y="0"/>
                  </a:moveTo>
                  <a:lnTo>
                    <a:pt x="386770" y="0"/>
                  </a:lnTo>
                  <a:lnTo>
                    <a:pt x="866850" y="365224"/>
                  </a:lnTo>
                  <a:lnTo>
                    <a:pt x="872098" y="368608"/>
                  </a:lnTo>
                  <a:lnTo>
                    <a:pt x="290477" y="3686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b141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梯形 10"/>
            <p:cNvSpPr/>
            <p:nvPr/>
          </p:nvSpPr>
          <p:spPr>
            <a:xfrm>
              <a:off x="3870360" y="1779480"/>
              <a:ext cx="2647800" cy="546120"/>
            </a:xfrm>
            <a:custGeom>
              <a:avLst/>
              <a:gdLst/>
              <a:ahLst/>
              <a:rect l="l" t="t" r="r" b="b"/>
              <a:pathLst>
                <a:path w="1368152" h="368908">
                  <a:moveTo>
                    <a:pt x="0" y="0"/>
                  </a:moveTo>
                  <a:lnTo>
                    <a:pt x="722527" y="1"/>
                  </a:lnTo>
                  <a:lnTo>
                    <a:pt x="1012968" y="368564"/>
                  </a:lnTo>
                  <a:lnTo>
                    <a:pt x="1356379" y="368564"/>
                  </a:lnTo>
                  <a:lnTo>
                    <a:pt x="1368152" y="368908"/>
                  </a:lnTo>
                  <a:lnTo>
                    <a:pt x="434260" y="368670"/>
                  </a:lnTo>
                  <a:lnTo>
                    <a:pt x="434260" y="366402"/>
                  </a:lnTo>
                  <a:lnTo>
                    <a:pt x="336977" y="2"/>
                  </a:lnTo>
                  <a:lnTo>
                    <a:pt x="1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2222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梯形 10"/>
            <p:cNvSpPr/>
            <p:nvPr/>
          </p:nvSpPr>
          <p:spPr>
            <a:xfrm>
              <a:off x="3602160" y="1779480"/>
              <a:ext cx="1112760" cy="544320"/>
            </a:xfrm>
            <a:custGeom>
              <a:avLst/>
              <a:gdLst/>
              <a:ahLst/>
              <a:rect l="l" t="t" r="r" b="b"/>
              <a:pathLst>
                <a:path w="575180" h="368773">
                  <a:moveTo>
                    <a:pt x="88693" y="0"/>
                  </a:moveTo>
                  <a:lnTo>
                    <a:pt x="477897" y="1"/>
                  </a:lnTo>
                  <a:lnTo>
                    <a:pt x="575180" y="366401"/>
                  </a:lnTo>
                  <a:lnTo>
                    <a:pt x="575180" y="368773"/>
                  </a:lnTo>
                  <a:lnTo>
                    <a:pt x="0" y="368618"/>
                  </a:lnTo>
                  <a:cubicBezTo>
                    <a:pt x="30966" y="245745"/>
                    <a:pt x="57727" y="122873"/>
                    <a:pt x="88693" y="0"/>
                  </a:cubicBezTo>
                  <a:close/>
                </a:path>
              </a:pathLst>
            </a:custGeom>
            <a:solidFill>
              <a:srgbClr val="62b141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7"/>
            <p:cNvSpPr/>
            <p:nvPr/>
          </p:nvSpPr>
          <p:spPr>
            <a:xfrm>
              <a:off x="2487600" y="2323800"/>
              <a:ext cx="1114200" cy="2819880"/>
            </a:xfrm>
            <a:custGeom>
              <a:avLst/>
              <a:gdLst/>
              <a:ahLst/>
              <a:rect l="l" t="t" r="r" b="b"/>
              <a:pathLst>
                <a:path w="576064" h="2304193">
                  <a:moveTo>
                    <a:pt x="0" y="0"/>
                  </a:moveTo>
                  <a:lnTo>
                    <a:pt x="576064" y="0"/>
                  </a:lnTo>
                  <a:lnTo>
                    <a:pt x="576064" y="2016193"/>
                  </a:lnTo>
                  <a:lnTo>
                    <a:pt x="576064" y="2016224"/>
                  </a:lnTo>
                  <a:lnTo>
                    <a:pt x="576033" y="2016224"/>
                  </a:lnTo>
                  <a:lnTo>
                    <a:pt x="288064" y="2304193"/>
                  </a:lnTo>
                  <a:lnTo>
                    <a:pt x="95" y="2016224"/>
                  </a:lnTo>
                  <a:lnTo>
                    <a:pt x="0" y="2016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222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梯形 10"/>
            <p:cNvSpPr/>
            <p:nvPr/>
          </p:nvSpPr>
          <p:spPr>
            <a:xfrm>
              <a:off x="2486160" y="1779480"/>
              <a:ext cx="1299960" cy="544320"/>
            </a:xfrm>
            <a:custGeom>
              <a:avLst/>
              <a:gdLst/>
              <a:ahLst/>
              <a:rect l="l" t="t" r="r" b="b"/>
              <a:pathLst>
                <a:path w="671564" h="368563">
                  <a:moveTo>
                    <a:pt x="284875" y="0"/>
                  </a:moveTo>
                  <a:lnTo>
                    <a:pt x="311844" y="0"/>
                  </a:lnTo>
                  <a:lnTo>
                    <a:pt x="311844" y="2"/>
                  </a:lnTo>
                  <a:lnTo>
                    <a:pt x="671564" y="2"/>
                  </a:lnTo>
                  <a:lnTo>
                    <a:pt x="671564" y="904"/>
                  </a:lnTo>
                  <a:lnTo>
                    <a:pt x="669469" y="904"/>
                  </a:lnTo>
                  <a:lnTo>
                    <a:pt x="576814" y="368563"/>
                  </a:lnTo>
                  <a:lnTo>
                    <a:pt x="0" y="368468"/>
                  </a:lnTo>
                  <a:lnTo>
                    <a:pt x="284875" y="0"/>
                  </a:lnTo>
                  <a:close/>
                </a:path>
              </a:pathLst>
            </a:custGeom>
            <a:solidFill>
              <a:srgbClr val="c12222">
                <a:alpha val="5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7"/>
            <p:cNvSpPr/>
            <p:nvPr/>
          </p:nvSpPr>
          <p:spPr>
            <a:xfrm>
              <a:off x="3602160" y="2323800"/>
              <a:ext cx="1114200" cy="2349720"/>
            </a:xfrm>
            <a:custGeom>
              <a:avLst/>
              <a:gdLst/>
              <a:ahLst/>
              <a:rect l="l" t="t" r="r" b="b"/>
              <a:pathLst>
                <a:path w="576064" h="2304193">
                  <a:moveTo>
                    <a:pt x="0" y="0"/>
                  </a:moveTo>
                  <a:lnTo>
                    <a:pt x="576064" y="0"/>
                  </a:lnTo>
                  <a:lnTo>
                    <a:pt x="576064" y="2016193"/>
                  </a:lnTo>
                  <a:lnTo>
                    <a:pt x="576064" y="2016224"/>
                  </a:lnTo>
                  <a:lnTo>
                    <a:pt x="576033" y="2016224"/>
                  </a:lnTo>
                  <a:lnTo>
                    <a:pt x="288064" y="2304193"/>
                  </a:lnTo>
                  <a:lnTo>
                    <a:pt x="95" y="2016224"/>
                  </a:lnTo>
                  <a:lnTo>
                    <a:pt x="0" y="2016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b141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7"/>
            <p:cNvSpPr/>
            <p:nvPr/>
          </p:nvSpPr>
          <p:spPr>
            <a:xfrm>
              <a:off x="4716720" y="2323800"/>
              <a:ext cx="1114200" cy="1879920"/>
            </a:xfrm>
            <a:custGeom>
              <a:avLst/>
              <a:gdLst/>
              <a:ahLst/>
              <a:rect l="l" t="t" r="r" b="b"/>
              <a:pathLst>
                <a:path w="576064" h="2304193">
                  <a:moveTo>
                    <a:pt x="0" y="0"/>
                  </a:moveTo>
                  <a:lnTo>
                    <a:pt x="576064" y="0"/>
                  </a:lnTo>
                  <a:lnTo>
                    <a:pt x="576064" y="2016193"/>
                  </a:lnTo>
                  <a:lnTo>
                    <a:pt x="576064" y="2016224"/>
                  </a:lnTo>
                  <a:lnTo>
                    <a:pt x="576033" y="2016224"/>
                  </a:lnTo>
                  <a:lnTo>
                    <a:pt x="288064" y="2304193"/>
                  </a:lnTo>
                  <a:lnTo>
                    <a:pt x="95" y="2016224"/>
                  </a:lnTo>
                  <a:lnTo>
                    <a:pt x="0" y="2016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2222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7"/>
            <p:cNvSpPr/>
            <p:nvPr/>
          </p:nvSpPr>
          <p:spPr>
            <a:xfrm>
              <a:off x="5830920" y="2323800"/>
              <a:ext cx="1116000" cy="1409760"/>
            </a:xfrm>
            <a:custGeom>
              <a:avLst/>
              <a:gdLst/>
              <a:ahLst/>
              <a:rect l="l" t="t" r="r" b="b"/>
              <a:pathLst>
                <a:path w="576064" h="2304193">
                  <a:moveTo>
                    <a:pt x="0" y="0"/>
                  </a:moveTo>
                  <a:lnTo>
                    <a:pt x="576064" y="0"/>
                  </a:lnTo>
                  <a:lnTo>
                    <a:pt x="576064" y="2016193"/>
                  </a:lnTo>
                  <a:lnTo>
                    <a:pt x="576064" y="2016224"/>
                  </a:lnTo>
                  <a:lnTo>
                    <a:pt x="576033" y="2016224"/>
                  </a:lnTo>
                  <a:lnTo>
                    <a:pt x="288064" y="2304193"/>
                  </a:lnTo>
                  <a:lnTo>
                    <a:pt x="95" y="2016224"/>
                  </a:lnTo>
                  <a:lnTo>
                    <a:pt x="0" y="20162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2b141"/>
            </a:solidFill>
            <a:ln w="0">
              <a:noFill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矩形 13"/>
          <p:cNvSpPr/>
          <p:nvPr/>
        </p:nvSpPr>
        <p:spPr>
          <a:xfrm>
            <a:off x="2857680" y="264312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13"/>
          <p:cNvSpPr/>
          <p:nvPr/>
        </p:nvSpPr>
        <p:spPr>
          <a:xfrm>
            <a:off x="4071960" y="264312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13"/>
          <p:cNvSpPr/>
          <p:nvPr/>
        </p:nvSpPr>
        <p:spPr>
          <a:xfrm>
            <a:off x="5072040" y="2428920"/>
            <a:ext cx="214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6215040" y="2357280"/>
            <a:ext cx="2142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16"/>
          <p:cNvSpPr/>
          <p:nvPr/>
        </p:nvSpPr>
        <p:spPr>
          <a:xfrm rot="20104200">
            <a:off x="898560" y="5289480"/>
            <a:ext cx="7153200" cy="1238400"/>
          </a:xfrm>
          <a:custGeom>
            <a:avLst/>
            <a:gdLst/>
            <a:ahLst/>
            <a:rect l="l" t="t" r="r" b="b"/>
            <a:pathLst>
              <a:path w="7152904" h="1238810">
                <a:moveTo>
                  <a:pt x="6139125" y="0"/>
                </a:moveTo>
                <a:lnTo>
                  <a:pt x="7152904" y="1227282"/>
                </a:lnTo>
                <a:lnTo>
                  <a:pt x="2656707" y="1238810"/>
                </a:lnTo>
                <a:lnTo>
                  <a:pt x="0" y="4088"/>
                </a:lnTo>
                <a:lnTo>
                  <a:pt x="6139125" y="0"/>
                </a:lnTo>
                <a:close/>
              </a:path>
            </a:pathLst>
          </a:custGeom>
          <a:solidFill>
            <a:srgbClr val="c1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6"/>
          <p:cNvSpPr/>
          <p:nvPr/>
        </p:nvSpPr>
        <p:spPr>
          <a:xfrm rot="20104200">
            <a:off x="-514080" y="3470040"/>
            <a:ext cx="5494320" cy="1226880"/>
          </a:xfrm>
          <a:custGeom>
            <a:avLst/>
            <a:gdLst/>
            <a:ahLst/>
            <a:rect l="l" t="t" r="r" b="b"/>
            <a:pathLst>
              <a:path w="5494499" h="1227282">
                <a:moveTo>
                  <a:pt x="4480720" y="0"/>
                </a:moveTo>
                <a:lnTo>
                  <a:pt x="5494499" y="1227282"/>
                </a:lnTo>
                <a:lnTo>
                  <a:pt x="0" y="1227282"/>
                </a:lnTo>
                <a:lnTo>
                  <a:pt x="570387" y="0"/>
                </a:lnTo>
                <a:lnTo>
                  <a:pt x="4480720" y="0"/>
                </a:lnTo>
                <a:close/>
              </a:path>
            </a:pathLst>
          </a:custGeom>
          <a:solidFill>
            <a:srgbClr val="c1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立方体 12" descr=""/>
          <p:cNvPicPr/>
          <p:nvPr/>
        </p:nvPicPr>
        <p:blipFill>
          <a:blip r:embed="rId1"/>
          <a:stretch/>
        </p:blipFill>
        <p:spPr>
          <a:xfrm>
            <a:off x="3548160" y="749160"/>
            <a:ext cx="1809720" cy="2981520"/>
          </a:xfrm>
          <a:prstGeom prst="rect">
            <a:avLst/>
          </a:prstGeom>
          <a:ln w="0">
            <a:noFill/>
          </a:ln>
        </p:spPr>
      </p:pic>
      <p:pic>
        <p:nvPicPr>
          <p:cNvPr id="66" name="立方体 13" descr=""/>
          <p:cNvPicPr/>
          <p:nvPr/>
        </p:nvPicPr>
        <p:blipFill>
          <a:blip r:embed="rId2"/>
          <a:stretch/>
        </p:blipFill>
        <p:spPr>
          <a:xfrm>
            <a:off x="5048280" y="1457280"/>
            <a:ext cx="1828800" cy="3005280"/>
          </a:xfrm>
          <a:prstGeom prst="rect">
            <a:avLst/>
          </a:prstGeom>
          <a:ln w="0">
            <a:noFill/>
          </a:ln>
        </p:spPr>
      </p:pic>
      <p:pic>
        <p:nvPicPr>
          <p:cNvPr id="67" name="立方体 14" descr=""/>
          <p:cNvPicPr/>
          <p:nvPr/>
        </p:nvPicPr>
        <p:blipFill>
          <a:blip r:embed="rId3"/>
          <a:stretch/>
        </p:blipFill>
        <p:spPr>
          <a:xfrm>
            <a:off x="6559560" y="2189160"/>
            <a:ext cx="1809720" cy="2979720"/>
          </a:xfrm>
          <a:prstGeom prst="rect">
            <a:avLst/>
          </a:prstGeom>
          <a:ln w="0">
            <a:noFill/>
          </a:ln>
        </p:spPr>
      </p:pic>
      <p:sp>
        <p:nvSpPr>
          <p:cNvPr id="68" name="矩形 2"/>
          <p:cNvSpPr/>
          <p:nvPr/>
        </p:nvSpPr>
        <p:spPr>
          <a:xfrm>
            <a:off x="6516720" y="2708280"/>
            <a:ext cx="1849320" cy="971640"/>
          </a:xfrm>
          <a:custGeom>
            <a:avLst/>
            <a:gdLst/>
            <a:ahLst/>
            <a:rect l="l" t="t" r="r" b="b"/>
            <a:pathLst>
              <a:path w="1850304" h="970682">
                <a:moveTo>
                  <a:pt x="0" y="0"/>
                </a:moveTo>
                <a:lnTo>
                  <a:pt x="1850304" y="400833"/>
                </a:lnTo>
                <a:lnTo>
                  <a:pt x="1424419" y="945630"/>
                </a:lnTo>
                <a:lnTo>
                  <a:pt x="50104" y="97068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2"/>
          <p:cNvSpPr/>
          <p:nvPr/>
        </p:nvSpPr>
        <p:spPr>
          <a:xfrm>
            <a:off x="5038560" y="1989000"/>
            <a:ext cx="1849680" cy="970200"/>
          </a:xfrm>
          <a:custGeom>
            <a:avLst/>
            <a:gdLst/>
            <a:ahLst/>
            <a:rect l="l" t="t" r="r" b="b"/>
            <a:pathLst>
              <a:path w="1850304" h="970682">
                <a:moveTo>
                  <a:pt x="0" y="0"/>
                </a:moveTo>
                <a:lnTo>
                  <a:pt x="1850304" y="400833"/>
                </a:lnTo>
                <a:lnTo>
                  <a:pt x="1424419" y="945630"/>
                </a:lnTo>
                <a:lnTo>
                  <a:pt x="50104" y="97068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"/>
          <p:cNvSpPr/>
          <p:nvPr/>
        </p:nvSpPr>
        <p:spPr>
          <a:xfrm>
            <a:off x="3525840" y="1270080"/>
            <a:ext cx="1851120" cy="971640"/>
          </a:xfrm>
          <a:custGeom>
            <a:avLst/>
            <a:gdLst/>
            <a:ahLst/>
            <a:rect l="l" t="t" r="r" b="b"/>
            <a:pathLst>
              <a:path w="1850304" h="970682">
                <a:moveTo>
                  <a:pt x="0" y="0"/>
                </a:moveTo>
                <a:lnTo>
                  <a:pt x="1850304" y="400833"/>
                </a:lnTo>
                <a:lnTo>
                  <a:pt x="1424419" y="945630"/>
                </a:lnTo>
                <a:lnTo>
                  <a:pt x="50104" y="970682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3535200" y="1314360"/>
            <a:ext cx="1381320" cy="2193840"/>
          </a:xfrm>
          <a:custGeom>
            <a:avLst/>
            <a:gdLst/>
            <a:ahLst/>
            <a:rect l="l" t="t" r="r" b="b"/>
            <a:pathLst>
              <a:path w="1380678" h="2194670">
                <a:moveTo>
                  <a:pt x="0" y="0"/>
                </a:moveTo>
                <a:lnTo>
                  <a:pt x="1380678" y="2194670"/>
                </a:lnTo>
                <a:lnTo>
                  <a:pt x="12525" y="149321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3375a">
                  <a:alpha val="38039"/>
                </a:srgbClr>
              </a:gs>
              <a:gs pos="100000">
                <a:srgbClr val="e2649d">
                  <a:alpha val="43137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5038560" y="2004840"/>
            <a:ext cx="1381320" cy="2194200"/>
          </a:xfrm>
          <a:custGeom>
            <a:avLst/>
            <a:gdLst/>
            <a:ahLst/>
            <a:rect l="l" t="t" r="r" b="b"/>
            <a:pathLst>
              <a:path w="1380678" h="2194670">
                <a:moveTo>
                  <a:pt x="0" y="0"/>
                </a:moveTo>
                <a:lnTo>
                  <a:pt x="1380678" y="2194670"/>
                </a:lnTo>
                <a:lnTo>
                  <a:pt x="12525" y="149321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d8d8d">
                  <a:alpha val="54117"/>
                </a:srgbClr>
              </a:gs>
              <a:gs pos="100000">
                <a:srgbClr val="f2f2f2">
                  <a:alpha val="35294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6"/>
          <p:cNvSpPr/>
          <p:nvPr/>
        </p:nvSpPr>
        <p:spPr>
          <a:xfrm rot="20104200">
            <a:off x="-441360" y="4509720"/>
            <a:ext cx="7016760" cy="1243080"/>
          </a:xfrm>
          <a:custGeom>
            <a:avLst/>
            <a:gdLst/>
            <a:ahLst/>
            <a:rect l="l" t="t" r="r" b="b"/>
            <a:pathLst>
              <a:path w="7017069" h="1243348">
                <a:moveTo>
                  <a:pt x="6003290" y="0"/>
                </a:moveTo>
                <a:lnTo>
                  <a:pt x="7017069" y="1227282"/>
                </a:lnTo>
                <a:lnTo>
                  <a:pt x="750786" y="1243348"/>
                </a:lnTo>
                <a:lnTo>
                  <a:pt x="0" y="894416"/>
                </a:lnTo>
                <a:lnTo>
                  <a:pt x="413955" y="3722"/>
                </a:lnTo>
                <a:lnTo>
                  <a:pt x="6003290" y="0"/>
                </a:lnTo>
                <a:close/>
              </a:path>
            </a:pathLst>
          </a:custGeom>
          <a:solidFill>
            <a:srgbClr val="62b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235476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4"/>
          <p:cNvSpPr/>
          <p:nvPr/>
        </p:nvSpPr>
        <p:spPr>
          <a:xfrm>
            <a:off x="3854880" y="5929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5"/>
          <p:cNvSpPr/>
          <p:nvPr/>
        </p:nvSpPr>
        <p:spPr>
          <a:xfrm>
            <a:off x="20689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3022560" y="1319040"/>
            <a:ext cx="3751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3000240" y="1341360"/>
            <a:ext cx="1876680" cy="204804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048040"/>
              <a:gd name="textAreaBottom" fmla="*/ 2048400 h 2048040"/>
            </a:gdLst>
            <a:ahLst/>
            <a:rect l="textAreaLeft" t="textAreaTop" r="textAreaRight" b="textAreaBottom"/>
            <a:pathLst>
              <a:path w="1021" h="1115">
                <a:moveTo>
                  <a:pt x="1021" y="1115"/>
                </a:moveTo>
                <a:lnTo>
                  <a:pt x="1021" y="0"/>
                </a:lnTo>
                <a:lnTo>
                  <a:pt x="516" y="387"/>
                </a:lnTo>
                <a:lnTo>
                  <a:pt x="0" y="763"/>
                </a:lnTo>
                <a:lnTo>
                  <a:pt x="1021" y="1115"/>
                </a:lnTo>
                <a:close/>
              </a:path>
            </a:pathLst>
          </a:custGeom>
          <a:solidFill>
            <a:srgbClr val="62b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6"/>
          <p:cNvSpPr/>
          <p:nvPr/>
        </p:nvSpPr>
        <p:spPr>
          <a:xfrm>
            <a:off x="4876920" y="1341360"/>
            <a:ext cx="1896840" cy="2048040"/>
          </a:xfrm>
          <a:custGeom>
            <a:avLst/>
            <a:gdLst>
              <a:gd name="textAreaLeft" fmla="*/ 0 w 1896840"/>
              <a:gd name="textAreaRight" fmla="*/ 1897200 w 1896840"/>
              <a:gd name="textAreaTop" fmla="*/ 0 h 2048040"/>
              <a:gd name="textAreaBottom" fmla="*/ 2048400 h 2048040"/>
            </a:gdLst>
            <a:ahLst/>
            <a:rect l="textAreaLeft" t="textAreaTop" r="textAreaRight" b="textAreaBottom"/>
            <a:pathLst>
              <a:path w="1033" h="1115">
                <a:moveTo>
                  <a:pt x="0" y="0"/>
                </a:moveTo>
                <a:lnTo>
                  <a:pt x="0" y="1115"/>
                </a:lnTo>
                <a:lnTo>
                  <a:pt x="1033" y="763"/>
                </a:lnTo>
                <a:lnTo>
                  <a:pt x="517" y="387"/>
                </a:lnTo>
                <a:lnTo>
                  <a:pt x="0" y="0"/>
                </a:lnTo>
                <a:close/>
              </a:path>
            </a:pathLst>
          </a:custGeom>
          <a:solidFill>
            <a:srgbClr val="c1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7"/>
          <p:cNvSpPr/>
          <p:nvPr/>
        </p:nvSpPr>
        <p:spPr>
          <a:xfrm>
            <a:off x="4876920" y="2743200"/>
            <a:ext cx="1896840" cy="2308320"/>
          </a:xfrm>
          <a:custGeom>
            <a:avLst/>
            <a:gdLst>
              <a:gd name="textAreaLeft" fmla="*/ 0 w 1896840"/>
              <a:gd name="textAreaRight" fmla="*/ 1897200 w 1896840"/>
              <a:gd name="textAreaTop" fmla="*/ 0 h 2308320"/>
              <a:gd name="textAreaBottom" fmla="*/ 2308680 h 2308320"/>
            </a:gdLst>
            <a:ahLst/>
            <a:rect l="textAreaLeft" t="textAreaTop" r="textAreaRight" b="textAreaBottom"/>
            <a:pathLst>
              <a:path w="1033" h="1257">
                <a:moveTo>
                  <a:pt x="1033" y="0"/>
                </a:moveTo>
                <a:lnTo>
                  <a:pt x="0" y="352"/>
                </a:lnTo>
                <a:lnTo>
                  <a:pt x="646" y="1257"/>
                </a:lnTo>
                <a:lnTo>
                  <a:pt x="833" y="634"/>
                </a:lnTo>
                <a:lnTo>
                  <a:pt x="1033" y="0"/>
                </a:lnTo>
                <a:close/>
              </a:path>
            </a:pathLst>
          </a:custGeom>
          <a:solidFill>
            <a:srgbClr val="62b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8"/>
          <p:cNvSpPr/>
          <p:nvPr/>
        </p:nvSpPr>
        <p:spPr>
          <a:xfrm>
            <a:off x="3711600" y="3389400"/>
            <a:ext cx="2351160" cy="1662120"/>
          </a:xfrm>
          <a:custGeom>
            <a:avLst/>
            <a:gdLst>
              <a:gd name="textAreaLeft" fmla="*/ 0 w 2351160"/>
              <a:gd name="textAreaRight" fmla="*/ 2351520 w 2351160"/>
              <a:gd name="textAreaTop" fmla="*/ 0 h 1662120"/>
              <a:gd name="textAreaBottom" fmla="*/ 1662480 h 1662120"/>
            </a:gdLst>
            <a:ahLst/>
            <a:rect l="textAreaLeft" t="textAreaTop" r="textAreaRight" b="textAreaBottom"/>
            <a:pathLst>
              <a:path w="1280" h="905">
                <a:moveTo>
                  <a:pt x="1280" y="905"/>
                </a:moveTo>
                <a:lnTo>
                  <a:pt x="634" y="0"/>
                </a:lnTo>
                <a:lnTo>
                  <a:pt x="0" y="905"/>
                </a:lnTo>
                <a:lnTo>
                  <a:pt x="634" y="905"/>
                </a:lnTo>
                <a:lnTo>
                  <a:pt x="1280" y="905"/>
                </a:lnTo>
                <a:close/>
              </a:path>
            </a:pathLst>
          </a:custGeom>
          <a:solidFill>
            <a:srgbClr val="c1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9"/>
          <p:cNvSpPr/>
          <p:nvPr/>
        </p:nvSpPr>
        <p:spPr>
          <a:xfrm>
            <a:off x="3000240" y="2743200"/>
            <a:ext cx="1876680" cy="2308320"/>
          </a:xfrm>
          <a:custGeom>
            <a:avLst/>
            <a:gdLst/>
            <a:ahLst/>
            <a:rect l="l" t="t" r="r" b="b"/>
            <a:pathLst>
              <a:path w="1021" h="1257">
                <a:moveTo>
                  <a:pt x="387" y="1257"/>
                </a:moveTo>
                <a:lnTo>
                  <a:pt x="1021" y="352"/>
                </a:lnTo>
                <a:lnTo>
                  <a:pt x="0" y="0"/>
                </a:lnTo>
                <a:lnTo>
                  <a:pt x="199" y="634"/>
                </a:lnTo>
                <a:lnTo>
                  <a:pt x="387" y="1257"/>
                </a:lnTo>
                <a:close/>
              </a:path>
            </a:pathLst>
          </a:cu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49768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3"/>
          <p:cNvSpPr/>
          <p:nvPr/>
        </p:nvSpPr>
        <p:spPr>
          <a:xfrm>
            <a:off x="6069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4"/>
          <p:cNvSpPr/>
          <p:nvPr/>
        </p:nvSpPr>
        <p:spPr>
          <a:xfrm>
            <a:off x="449784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3069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5"/>
          <p:cNvSpPr/>
          <p:nvPr/>
        </p:nvSpPr>
        <p:spPr>
          <a:xfrm>
            <a:off x="564084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圆角矩形 6"/>
          <p:cNvSpPr/>
          <p:nvPr/>
        </p:nvSpPr>
        <p:spPr>
          <a:xfrm>
            <a:off x="1285920" y="2592360"/>
            <a:ext cx="6638760" cy="1336680"/>
          </a:xfrm>
          <a:prstGeom prst="roundRect">
            <a:avLst>
              <a:gd name="adj" fmla="val 16667"/>
            </a:avLst>
          </a:prstGeom>
          <a:solidFill>
            <a:srgbClr val="c12222"/>
          </a:solidFill>
          <a:ln w="7632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7"/>
          <p:cNvSpPr/>
          <p:nvPr/>
        </p:nvSpPr>
        <p:spPr>
          <a:xfrm>
            <a:off x="1722600" y="2733840"/>
            <a:ext cx="1039680" cy="10396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8"/>
          <p:cNvSpPr/>
          <p:nvPr/>
        </p:nvSpPr>
        <p:spPr>
          <a:xfrm>
            <a:off x="3267000" y="2716200"/>
            <a:ext cx="1040040" cy="10414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9"/>
          <p:cNvSpPr/>
          <p:nvPr/>
        </p:nvSpPr>
        <p:spPr>
          <a:xfrm>
            <a:off x="4842000" y="2744640"/>
            <a:ext cx="1041120" cy="10414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椭圆 10"/>
          <p:cNvSpPr/>
          <p:nvPr/>
        </p:nvSpPr>
        <p:spPr>
          <a:xfrm>
            <a:off x="6332400" y="2730600"/>
            <a:ext cx="1041480" cy="104148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上箭头 11"/>
          <p:cNvSpPr/>
          <p:nvPr/>
        </p:nvSpPr>
        <p:spPr>
          <a:xfrm>
            <a:off x="2965320" y="1995480"/>
            <a:ext cx="3221280" cy="587520"/>
          </a:xfrm>
          <a:prstGeom prst="upArrow">
            <a:avLst>
              <a:gd name="adj1" fmla="val 65972"/>
              <a:gd name="adj2" fmla="val 50000"/>
            </a:avLst>
          </a:prstGeom>
          <a:solidFill>
            <a:srgbClr val="62b1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2"/>
          <p:cNvSpPr/>
          <p:nvPr/>
        </p:nvSpPr>
        <p:spPr>
          <a:xfrm>
            <a:off x="4136040" y="1566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6454800" y="3067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13"/>
          <p:cNvSpPr/>
          <p:nvPr/>
        </p:nvSpPr>
        <p:spPr>
          <a:xfrm>
            <a:off x="4930560" y="3067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3382920" y="3067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3"/>
          <p:cNvSpPr/>
          <p:nvPr/>
        </p:nvSpPr>
        <p:spPr>
          <a:xfrm>
            <a:off x="1859040" y="3067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直接连接符 6"/>
          <p:cNvSpPr/>
          <p:nvPr/>
        </p:nvSpPr>
        <p:spPr>
          <a:xfrm>
            <a:off x="3440160" y="3436920"/>
            <a:ext cx="947520" cy="0"/>
          </a:xfrm>
          <a:prstGeom prst="line">
            <a:avLst/>
          </a:prstGeom>
          <a:ln w="2844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7"/>
          <p:cNvSpPr/>
          <p:nvPr/>
        </p:nvSpPr>
        <p:spPr>
          <a:xfrm>
            <a:off x="2982960" y="4464000"/>
            <a:ext cx="1092240" cy="453960"/>
          </a:xfrm>
          <a:prstGeom prst="line">
            <a:avLst/>
          </a:prstGeom>
          <a:ln w="2844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8"/>
          <p:cNvSpPr/>
          <p:nvPr/>
        </p:nvSpPr>
        <p:spPr>
          <a:xfrm flipV="1">
            <a:off x="2913120" y="1841400"/>
            <a:ext cx="1282680" cy="703440"/>
          </a:xfrm>
          <a:prstGeom prst="line">
            <a:avLst/>
          </a:prstGeom>
          <a:ln w="2844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9"/>
          <p:cNvSpPr/>
          <p:nvPr/>
        </p:nvSpPr>
        <p:spPr>
          <a:xfrm>
            <a:off x="1143000" y="2352600"/>
            <a:ext cx="2297160" cy="2297160"/>
          </a:xfrm>
          <a:prstGeom prst="ellipse">
            <a:avLst/>
          </a:prstGeom>
          <a:solidFill>
            <a:srgbClr val="c1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"/>
          <p:cNvSpPr/>
          <p:nvPr/>
        </p:nvSpPr>
        <p:spPr>
          <a:xfrm>
            <a:off x="4183200" y="1281240"/>
            <a:ext cx="2552400" cy="433440"/>
          </a:xfrm>
          <a:prstGeom prst="pie">
            <a:avLst/>
          </a:prstGeom>
          <a:solidFill>
            <a:srgbClr val="c1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2"/>
          <p:cNvSpPr/>
          <p:nvPr/>
        </p:nvSpPr>
        <p:spPr>
          <a:xfrm>
            <a:off x="4195800" y="1714680"/>
            <a:ext cx="3894120" cy="70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8"/>
          <p:cNvSpPr/>
          <p:nvPr/>
        </p:nvSpPr>
        <p:spPr>
          <a:xfrm>
            <a:off x="4387680" y="2811600"/>
            <a:ext cx="2552760" cy="434880"/>
          </a:xfrm>
          <a:prstGeom prst="pie">
            <a:avLst/>
          </a:prstGeom>
          <a:solidFill>
            <a:srgbClr val="c1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4400640" y="3246480"/>
            <a:ext cx="3562200" cy="70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8"/>
          <p:cNvSpPr/>
          <p:nvPr/>
        </p:nvSpPr>
        <p:spPr>
          <a:xfrm>
            <a:off x="4068720" y="4292640"/>
            <a:ext cx="2552760" cy="434880"/>
          </a:xfrm>
          <a:prstGeom prst="pie">
            <a:avLst/>
          </a:prstGeom>
          <a:solidFill>
            <a:srgbClr val="c122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的小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6"/>
          <p:cNvSpPr/>
          <p:nvPr/>
        </p:nvSpPr>
        <p:spPr>
          <a:xfrm>
            <a:off x="4081320" y="4727520"/>
            <a:ext cx="3562560" cy="701640"/>
          </a:xfrm>
          <a:prstGeom prst="rect">
            <a:avLst/>
          </a:prstGeom>
          <a:solidFill>
            <a:srgbClr val="ffffff"/>
          </a:solidFill>
          <a:ln w="25560">
            <a:solidFill>
              <a:srgbClr val="62b1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4658040" y="1924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3"/>
          <p:cNvSpPr/>
          <p:nvPr/>
        </p:nvSpPr>
        <p:spPr>
          <a:xfrm>
            <a:off x="6515640" y="1911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15"/>
          <p:cNvSpPr/>
          <p:nvPr/>
        </p:nvSpPr>
        <p:spPr>
          <a:xfrm>
            <a:off x="1800720" y="3352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4800960" y="3424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3"/>
          <p:cNvSpPr/>
          <p:nvPr/>
        </p:nvSpPr>
        <p:spPr>
          <a:xfrm>
            <a:off x="6658560" y="3411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4515480" y="4924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3"/>
          <p:cNvSpPr/>
          <p:nvPr/>
        </p:nvSpPr>
        <p:spPr>
          <a:xfrm>
            <a:off x="6372720" y="491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12"/>
          <p:cNvGrpSpPr/>
          <p:nvPr/>
        </p:nvGrpSpPr>
        <p:grpSpPr>
          <a:xfrm>
            <a:off x="1571760" y="1457280"/>
            <a:ext cx="6357960" cy="3614760"/>
            <a:chOff x="1571760" y="1457280"/>
            <a:chExt cx="6357960" cy="3614760"/>
          </a:xfrm>
        </p:grpSpPr>
        <p:sp>
          <p:nvSpPr>
            <p:cNvPr id="143" name="波形 7"/>
            <p:cNvSpPr/>
            <p:nvPr/>
          </p:nvSpPr>
          <p:spPr>
            <a:xfrm>
              <a:off x="1571760" y="1457280"/>
              <a:ext cx="6357960" cy="2019240"/>
            </a:xfrm>
            <a:custGeom>
              <a:avLst/>
              <a:gdLst>
                <a:gd name="textAreaLeft" fmla="*/ 0 w 6357960"/>
                <a:gd name="textAreaRight" fmla="*/ 6358320 w 6357960"/>
                <a:gd name="textAreaTop" fmla="*/ 504720 h 2019240"/>
                <a:gd name="textAreaBottom" fmla="*/ 1514520 h 20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62b1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波形 8"/>
            <p:cNvSpPr/>
            <p:nvPr/>
          </p:nvSpPr>
          <p:spPr>
            <a:xfrm>
              <a:off x="1571760" y="3052800"/>
              <a:ext cx="6357960" cy="2019240"/>
            </a:xfrm>
            <a:custGeom>
              <a:avLst/>
              <a:gdLst>
                <a:gd name="textAreaLeft" fmla="*/ 0 w 6357960"/>
                <a:gd name="textAreaRight" fmla="*/ 6358320 w 6357960"/>
                <a:gd name="textAreaTop" fmla="*/ 504720 h 2019240"/>
                <a:gd name="textAreaBottom" fmla="*/ 1514520 h 2019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700"/>
                  </a:moveTo>
                  <a:cubicBezTo>
                    <a:pt x="7200" y="-6865"/>
                    <a:pt x="14400" y="12265"/>
                    <a:pt x="21600" y="2700"/>
                  </a:cubicBezTo>
                  <a:lnTo>
                    <a:pt x="21600" y="18900"/>
                  </a:lnTo>
                  <a:cubicBezTo>
                    <a:pt x="14400" y="28465"/>
                    <a:pt x="7200" y="9335"/>
                    <a:pt x="0" y="18900"/>
                  </a:cubicBezTo>
                  <a:close/>
                </a:path>
              </a:pathLst>
            </a:custGeom>
            <a:solidFill>
              <a:srgbClr val="c122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矩形 13"/>
          <p:cNvSpPr/>
          <p:nvPr/>
        </p:nvSpPr>
        <p:spPr>
          <a:xfrm>
            <a:off x="5783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14"/>
          <p:cNvSpPr/>
          <p:nvPr/>
        </p:nvSpPr>
        <p:spPr>
          <a:xfrm>
            <a:off x="2783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ppt宝藏</dc:creator>
  <dc:description/>
  <dc:language>en-US</dc:language>
  <cp:lastModifiedBy>王玉清</cp:lastModifiedBy>
  <dcterms:modified xsi:type="dcterms:W3CDTF">2016-02-15T04:06:01Z</dcterms:modified>
  <cp:revision>287</cp:revision>
  <dc:subject/>
  <dc:title>www.pptbz.com</dc:title>
</cp:coreProperties>
</file>