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1B78-19EB-461E-897E-D9E73DFB9B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A0B1-C765-44F3-947E-227D3A374F98}" type="slidenum"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675A-FFCB-44DF-8938-D2EBDAC61269}" type="slidenum"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506F-C917-4FD2-859B-FD0B17A56B2C}" type="slidenum"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0400-8138-4496-884F-5293BA3D28CD}" type="slidenum"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DC64-9C28-48C0-9998-1B52AA7A4779}" type="slidenum"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11E0-F734-4AFA-8816-47A5111DC293}" type="slidenum"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5764-1BC5-42F0-827F-C8D88E3F10E6}" type="slidenum"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6937-9975-499E-BE9D-2A07FB2EC0E4}" type="slidenum"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AC94-7F1F-4D9D-AFF7-D53F45EB49B7}" type="slidenum"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BA1-55FB-4DA4-A1FE-398B33BB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8238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9240" y="4193280"/>
            <a:ext cx="8238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7E3-A6D0-4827-8D43-C6B686DA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4096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19240" y="419328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40960" y="419328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218-5B26-43FC-81F4-D8B76BF3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05280" y="236232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0960" y="236232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19240" y="419328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05280" y="419328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90960" y="419328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68F-AD1D-40A1-9EDB-0CE9827C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19240" y="2362320"/>
            <a:ext cx="82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8238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020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40960" y="2362320"/>
            <a:ext cx="4020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19240" y="761760"/>
            <a:ext cx="4371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40960" y="2362320"/>
            <a:ext cx="4020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9240" y="419328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19240" y="2362320"/>
            <a:ext cx="82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549-4CAD-4E9E-AA4F-CC18DA62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020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4096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40960" y="419328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4096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9240" y="4193280"/>
            <a:ext cx="8238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8238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19240" y="4193280"/>
            <a:ext cx="8238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4096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19240" y="419328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440960" y="419328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05280" y="236232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90960" y="236232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19240" y="419328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05280" y="419328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790960" y="4193280"/>
            <a:ext cx="2652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8238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8E1-17A2-402D-A0A1-DC10A148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020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40960" y="2362320"/>
            <a:ext cx="4020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260-9924-4507-891D-6D44F110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8A8-FD5A-430E-8296-4545FA82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9240" y="761760"/>
            <a:ext cx="4371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022-E605-4A96-B890-2019420B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0960" y="2362320"/>
            <a:ext cx="4020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19240" y="419328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1AF-D5BB-45A0-8470-E3E8F6D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020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4096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40960" y="419328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FD6-9EDB-4BB7-AE11-7383553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0960" y="2362320"/>
            <a:ext cx="40204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240" y="4193280"/>
            <a:ext cx="8238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433-3587-41A9-85CA-C83F3433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838080"/>
            <a:ext cx="4572000" cy="9907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9240" y="2362320"/>
            <a:ext cx="8238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de9a9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46B3-0881-47A5-A86D-0D563EBEB7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3" descr="corp3girl"/>
          <p:cNvPicPr/>
          <p:nvPr/>
        </p:nvPicPr>
        <p:blipFill>
          <a:blip r:embed="rId2"/>
          <a:srcRect l="0" t="12887" r="0" b="71147"/>
          <a:stretch/>
        </p:blipFill>
        <p:spPr>
          <a:xfrm>
            <a:off x="0" y="0"/>
            <a:ext cx="4591080" cy="838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corp3building"/>
          <p:cNvPicPr/>
          <p:nvPr/>
        </p:nvPicPr>
        <p:blipFill>
          <a:blip r:embed="rId3"/>
          <a:srcRect l="0" t="22430" r="0" b="50159"/>
          <a:stretch/>
        </p:blipFill>
        <p:spPr>
          <a:xfrm>
            <a:off x="4586400" y="0"/>
            <a:ext cx="457200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Line 15"/>
          <p:cNvSpPr/>
          <p:nvPr/>
        </p:nvSpPr>
        <p:spPr>
          <a:xfrm flipV="1">
            <a:off x="4572000" y="0"/>
            <a:ext cx="0" cy="838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Rectangle 17"/>
          <p:cNvSpPr/>
          <p:nvPr/>
        </p:nvSpPr>
        <p:spPr>
          <a:xfrm>
            <a:off x="4572000" y="835200"/>
            <a:ext cx="4572000" cy="993600"/>
          </a:xfrm>
          <a:prstGeom prst="rect">
            <a:avLst/>
          </a:prstGeom>
          <a:solidFill>
            <a:srgbClr val="de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" name="Line 19"/>
          <p:cNvSpPr/>
          <p:nvPr/>
        </p:nvSpPr>
        <p:spPr>
          <a:xfrm>
            <a:off x="4572000" y="0"/>
            <a:ext cx="0" cy="1828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5"/>
          <p:cNvSpPr/>
          <p:nvPr/>
        </p:nvSpPr>
        <p:spPr>
          <a:xfrm>
            <a:off x="0" y="6248520"/>
            <a:ext cx="4572000" cy="609480"/>
          </a:xfrm>
          <a:prstGeom prst="rect">
            <a:avLst/>
          </a:prstGeom>
          <a:solidFill>
            <a:srgbClr val="de9a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4572000" y="6242040"/>
            <a:ext cx="4572000" cy="609480"/>
          </a:xfrm>
          <a:prstGeom prst="rect">
            <a:avLst/>
          </a:prstGeom>
          <a:solidFill>
            <a:srgbClr val="33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de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1" name="Picture 17" descr="corp3girl"/>
          <p:cNvPicPr/>
          <p:nvPr/>
        </p:nvPicPr>
        <p:blipFill>
          <a:blip r:embed="rId2"/>
          <a:srcRect l="0" t="5629" r="0" b="7258"/>
          <a:stretch/>
        </p:blipFill>
        <p:spPr>
          <a:xfrm>
            <a:off x="0" y="1676520"/>
            <a:ext cx="459108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corp3building"/>
          <p:cNvPicPr/>
          <p:nvPr/>
        </p:nvPicPr>
        <p:blipFill>
          <a:blip r:embed="rId3"/>
          <a:stretch/>
        </p:blipFill>
        <p:spPr>
          <a:xfrm>
            <a:off x="4572000" y="1676520"/>
            <a:ext cx="4572000" cy="305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corp3person"/>
          <p:cNvPicPr/>
          <p:nvPr/>
        </p:nvPicPr>
        <p:blipFill>
          <a:blip r:embed="rId4"/>
          <a:srcRect l="0" t="16608" r="0" b="21624"/>
          <a:stretch/>
        </p:blipFill>
        <p:spPr>
          <a:xfrm>
            <a:off x="4572000" y="4724280"/>
            <a:ext cx="2819520" cy="1524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0"/>
          <p:cNvSpPr/>
          <p:nvPr/>
        </p:nvSpPr>
        <p:spPr>
          <a:xfrm>
            <a:off x="7391520" y="4724280"/>
            <a:ext cx="1752480" cy="1524240"/>
          </a:xfrm>
          <a:prstGeom prst="rect">
            <a:avLst/>
          </a:prstGeom>
          <a:solidFill>
            <a:srgbClr val="c7558e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" name="Line 23"/>
          <p:cNvSpPr/>
          <p:nvPr/>
        </p:nvSpPr>
        <p:spPr>
          <a:xfrm flipV="1">
            <a:off x="4572000" y="1676520"/>
            <a:ext cx="0" cy="457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4572000" y="4724280"/>
            <a:ext cx="4572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" name="Line 25"/>
          <p:cNvSpPr/>
          <p:nvPr/>
        </p:nvSpPr>
        <p:spPr>
          <a:xfrm>
            <a:off x="7391520" y="4724280"/>
            <a:ext cx="0" cy="1524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9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219240" y="2362320"/>
            <a:ext cx="8238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de9a9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228240" y="63244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商务场景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完整版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47960" y="632448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Presenter Nam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rIns="198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Example Bullet Point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8238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  <a:ea typeface="宋体"/>
              </a:rPr>
              <a:t>Bullet point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  <a:ea typeface="宋体"/>
              </a:rPr>
              <a:t>Bullet point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  <a:ea typeface="宋体"/>
              </a:rPr>
              <a:t>Sub Bullet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rIns="198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Colour sche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241720"/>
            <a:ext cx="9144000" cy="4616280"/>
          </a:xfrm>
          <a:prstGeom prst="rect">
            <a:avLst/>
          </a:prstGeom>
          <a:solidFill>
            <a:srgbClr val="fffffe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080808"/>
          </a:solidFill>
          <a:ln w="9360">
            <a:solidFill>
              <a:srgbClr val="de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336699"/>
          </a:solidFill>
          <a:ln w="9360">
            <a:solidFill>
              <a:srgbClr val="de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de9a9a"/>
          </a:solidFill>
          <a:ln w="9360">
            <a:solidFill>
              <a:srgbClr val="de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339999"/>
          </a:solidFill>
          <a:ln w="9360">
            <a:solidFill>
              <a:srgbClr val="de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993366"/>
          </a:solidFill>
          <a:ln w="9360">
            <a:solidFill>
              <a:srgbClr val="de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c7558e"/>
          </a:solidFill>
          <a:ln w="9360">
            <a:solidFill>
              <a:srgbClr val="de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de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de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44000" y="26827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462320" y="2560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2412000" y="26827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692880" y="2560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4777920" y="26827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5725440" y="26827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6659640" y="25606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7740720" y="25588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rIns="198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Pictur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032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0808"/>
                </a:solidFill>
                <a:latin typeface="Arial"/>
                <a:ea typeface="宋体"/>
              </a:rPr>
              <a:t>Bullet 1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0808"/>
                </a:solidFill>
                <a:latin typeface="Arial"/>
                <a:ea typeface="宋体"/>
              </a:rPr>
              <a:t>Bullet 2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1" name="Picture 4" descr="snowdrop"/>
          <p:cNvPicPr/>
          <p:nvPr/>
        </p:nvPicPr>
        <p:blipFill>
          <a:blip r:embed="rId1"/>
          <a:stretch/>
        </p:blipFill>
        <p:spPr>
          <a:xfrm>
            <a:off x="4140360" y="1916280"/>
            <a:ext cx="2093760" cy="3528720"/>
          </a:xfrm>
          <a:prstGeom prst="rect">
            <a:avLst/>
          </a:prstGeom>
          <a:ln w="38160">
            <a:solidFill>
              <a:srgbClr val="3399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rIns="198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Sample Graph (3 colou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223920" y="1973160"/>
          <a:ext cx="673236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973160"/>
                    <a:ext cx="673236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rIns="198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Example of a t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31640" y="2044800"/>
          <a:ext cx="6229440" cy="316872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45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1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1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1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1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993366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80808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19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80808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19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29"/>
          <p:cNvSpPr/>
          <p:nvPr/>
        </p:nvSpPr>
        <p:spPr>
          <a:xfrm>
            <a:off x="2232000" y="5624640"/>
            <a:ext cx="416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  <a:ea typeface="宋体"/>
              </a:rPr>
              <a:t>PowerPoint does not allow </a:t>
            </a:r>
            <a:br>
              <a:rPr sz="1800"/>
            </a:br>
            <a:r>
              <a:rPr b="0" lang="en-GB" sz="1800" spc="-1" strike="noStrike">
                <a:solidFill>
                  <a:srgbClr val="080808"/>
                </a:solidFill>
                <a:latin typeface="Arial"/>
                <a:ea typeface="宋体"/>
              </a:rPr>
              <a:t>you to have nice default tables </a:t>
            </a:r>
            <a:br>
              <a:rPr sz="1800"/>
            </a:br>
            <a:r>
              <a:rPr b="0" lang="en-GB" sz="1800" spc="-1" strike="noStrike">
                <a:solidFill>
                  <a:srgbClr val="080808"/>
                </a:solidFill>
                <a:latin typeface="Arial"/>
                <a:ea typeface="宋体"/>
              </a:rPr>
              <a:t>– but you can cut and paste this on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rIns="198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Two column bullet poi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8880" y="2362320"/>
            <a:ext cx="4041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0808"/>
                </a:solidFill>
                <a:latin typeface="Arial"/>
                <a:ea typeface="宋体"/>
              </a:rPr>
              <a:t>Bullets go in here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414680" y="2362320"/>
            <a:ext cx="4043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0808"/>
                </a:solidFill>
                <a:latin typeface="Arial"/>
                <a:ea typeface="宋体"/>
              </a:rPr>
              <a:t>And also in here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rIns="198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Examples of default sty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9240" y="2362320"/>
            <a:ext cx="4695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0808"/>
                </a:solidFill>
                <a:latin typeface="Arial"/>
                <a:ea typeface="宋体"/>
              </a:rPr>
              <a:t>Text and lines are like this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993366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de9a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c7558e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213520" y="2502000"/>
          <a:ext cx="3176280" cy="1251000"/>
        </p:xfrm>
        <a:graphic>
          <a:graphicData uri="http://schemas.openxmlformats.org/drawingml/2006/table">
            <a:tbl>
              <a:tblPr/>
              <a:tblGrid>
                <a:gridCol w="1589040"/>
                <a:gridCol w="158724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80808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21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15"/>
          <p:cNvSpPr/>
          <p:nvPr/>
        </p:nvSpPr>
        <p:spPr>
          <a:xfrm>
            <a:off x="792000" y="4568760"/>
            <a:ext cx="2232360" cy="1368360"/>
          </a:xfrm>
          <a:prstGeom prst="rect">
            <a:avLst/>
          </a:prstGeom>
          <a:solidFill>
            <a:srgbClr val="de9a9a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3672000" y="4568760"/>
            <a:ext cx="2232000" cy="1368360"/>
          </a:xfrm>
          <a:prstGeom prst="rect">
            <a:avLst/>
          </a:prstGeom>
          <a:solidFill>
            <a:srgbClr val="de9a9a"/>
          </a:solidFill>
          <a:ln w="9360">
            <a:solidFill>
              <a:srgbClr val="080808"/>
            </a:solidFill>
            <a:miter/>
          </a:ln>
          <a:effectLst>
            <a:outerShdw dist="107932" dir="27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38200" y="64198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993366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9240" y="76176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rIns="198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Example Bullet Point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76040" y="1905120"/>
            <a:ext cx="88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  <a:ea typeface="宋体"/>
              </a:rPr>
              <a:t>You are free to use these templates for your personal and </a:t>
            </a:r>
            <a:br>
              <a:rPr sz="2000"/>
            </a:br>
            <a:r>
              <a:rPr b="1" lang="en-GB" sz="2000" spc="-1" strike="noStrike">
                <a:solidFill>
                  <a:srgbClr val="080808"/>
                </a:solidFill>
                <a:latin typeface="Arial"/>
                <a:ea typeface="宋体"/>
              </a:rPr>
              <a:t>business presentations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74760" y="3573360"/>
            <a:ext cx="4116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  <a:ea typeface="宋体"/>
              </a:rPr>
              <a:t>Do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rial"/>
                <a:ea typeface="宋体"/>
              </a:rPr>
              <a:t>Use these templates for your presentations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rial"/>
                <a:ea typeface="宋体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808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691160" y="3573360"/>
            <a:ext cx="4116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  <a:ea typeface="宋体"/>
              </a:rPr>
              <a:t>Don’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80808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rial"/>
                <a:ea typeface="宋体"/>
              </a:rPr>
              <a:t>Resell or distribute these templates or include the graphics in your work for re-sale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80808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rial"/>
                <a:ea typeface="宋体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80808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rial"/>
                <a:ea typeface="宋体"/>
              </a:rPr>
              <a:t>Pass off any of our created content as your own work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90440" y="5994360"/>
            <a:ext cx="839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00160" y="2916360"/>
            <a:ext cx="881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rial"/>
                <a:ea typeface="宋体"/>
              </a:rPr>
              <a:t>We have put a lot of work into developing all these templates and retain the copyright in them.  </a:t>
            </a:r>
            <a:br>
              <a:rPr sz="1400"/>
            </a:br>
            <a:r>
              <a:rPr b="0" lang="en-GB" sz="1400" spc="-1" strike="noStrike">
                <a:solidFill>
                  <a:srgbClr val="080808"/>
                </a:solidFill>
                <a:latin typeface="Arial"/>
                <a:ea typeface="宋体"/>
              </a:rPr>
              <a:t>You can use them freely providing that you do not redistribute or sell them.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30:11Z</dcterms:created>
  <dc:creator>ppt宝藏</dc:creator>
  <dc:description/>
  <dc:language>en-US</dc:language>
  <cp:lastModifiedBy>a</cp:lastModifiedBy>
  <dcterms:modified xsi:type="dcterms:W3CDTF">2015-07-25T06:51:11Z</dcterms:modified>
  <cp:revision>6</cp:revision>
  <dc:subject/>
  <dc:title>www.pptbz.com</dc:title>
</cp:coreProperties>
</file>