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221-6C5B-453E-8041-611161D7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AE1-02A6-4384-AAD0-69A1B19C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5E3-CF74-430D-B310-7F77BA4F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AB7-BFAB-4456-937F-39CC8301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A47A-B975-487A-8F92-2841A955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CF37-1F04-4706-B9BB-62DB2F7A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BF29-9719-40A0-925A-18D9E82F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AA1E-7C53-43B4-B322-F8557CAB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3612-E9A8-4DC7-9C33-392329A2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85D3-666D-4910-B178-832E6B9B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94E8-8A36-4E76-BC63-2BCD3A8A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8E8-404A-41F3-8EA0-7C14DF8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CDDA-C43F-47C1-B995-7853796B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7840-7BD1-4EB0-B0FA-4ABA9CA8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A95B-AC29-40ED-8F7D-763045C3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12F-FD3F-4F12-A3A1-6C3F8F18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4210-0A33-4984-B580-50375E94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262-8A6B-4623-85B9-D4D7E36D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4F8-692C-4D41-8ECA-883AE49D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84B-5843-4A0A-B65D-A0D4DE2F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C70-4BFD-4A75-9939-BB38AEC5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ABA-6925-4D58-8EF9-BA00BF8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0D7-27E8-4830-8E0D-148CB0C5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A9E-CAF9-4A12-95B4-91EA840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177C66-8006-403C-B0A7-E63765495D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D77391-F07C-444B-8BD2-D9B9C178B5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268360" y="6021360"/>
            <a:ext cx="38509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  <a:ea typeface="宋体"/>
              </a:rPr>
              <a:t>2012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582920" y="817200"/>
            <a:ext cx="6287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男士金色经典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slide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5280" y="44280"/>
            <a:ext cx="33825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  <a:ea typeface="宋体"/>
              </a:rPr>
              <a:t>Cont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5976720" cy="1872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굴림"/>
              </a:rPr>
              <a:t>Lorem ipsum dolor sit amet, consectet adipiscing elit, sed diam nonummy nibh euismod tincidunt ut laoreet dolore magna aliquam erat volutp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250920" y="5300640"/>
            <a:ext cx="820872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Lorem ipsum dolor sit amet, consectet adipiscing elit, sed diam nonummy nibh euismod tincidunt ut laoreet dolore magna aliquam erat volutp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250920" y="4005360"/>
            <a:ext cx="820872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굴림"/>
              </a:rPr>
              <a:t>onsectet adipiscing elit, sed diam nonummy nibh euismod tincidunt ut laoreet dolore magna aliquam erat volutp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굴림"/>
              </a:rPr>
              <a:t>sed diam nonummy nibh euismo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굴림"/>
              </a:rPr>
              <a:t>tincidunt ut laoreet dolore magna aliquam erat volutpa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resentation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sentation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esentation</Template>
  <TotalTime>3</TotalTime>
  <Application>LibreOffice/7.4.7.2$Linux_X86_64 LibreOffice_project/40$Build-2</Application>
  <AppVersion>15.0000</AppVersion>
  <Words>103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14:08:28Z</dcterms:created>
  <dc:creator>for_yang@qq.com</dc:creator>
  <dc:description/>
  <dc:language>en-US</dc:language>
  <cp:lastModifiedBy>a</cp:lastModifiedBy>
  <dcterms:modified xsi:type="dcterms:W3CDTF">2015-07-25T07:51:22Z</dcterms:modified>
  <cp:revision>3</cp:revision>
  <dc:subject/>
  <dc:title>Name of 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