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2E8-9CBE-4778-9343-04D0AB5C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5F7-5E4A-4A71-A5BC-CE84CCF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42E-5165-4743-BEAE-6E151784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81F-5C24-4D63-A2ED-5D96B855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BD8-F66A-4819-9421-A949019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395-FAB7-41C7-B66B-C9896A99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D24-5D44-459E-AC6B-53FC70F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B1B-BF4A-4921-9458-9364F3DE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A70-3E66-4088-8198-75158F0D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5A7-D060-4EC9-8DEC-0C61778A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0DC-8E64-4DA0-B5FF-E613DA6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16A-9876-4516-A74A-6184A5E1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7F44-0718-4001-804B-B5CFC9F4B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84036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商务女士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113440" y="4869000"/>
            <a:ext cx="3851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5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36720" y="907560"/>
            <a:ext cx="3382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Conte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"/>
          <p:cNvSpPr/>
          <p:nvPr/>
        </p:nvSpPr>
        <p:spPr>
          <a:xfrm>
            <a:off x="611280" y="2349360"/>
            <a:ext cx="756108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</a:rPr>
              <a:t>Lorem ipsum dolor sit amet, consectet adipiscing elit, sed diam nonummy nibh euismod tincidunt ut laoreet dolore aliquam erat volutp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Verdana"/>
              </a:rPr>
              <a:t>Lorem ipsum dolor sit amet, consetetur sadipscing elitr, sed diam nonumy eirmod tempor invidunt ut labore et dolo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la-VA" sz="1800" spc="-1" strike="noStrike">
                <a:solidFill>
                  <a:srgbClr val="ffffff"/>
                </a:solidFill>
                <a:latin typeface="Verdana"/>
              </a:rPr>
              <a:t>Lorem ipsum dolor sit amet, consetetur sadipscing elitr, sed diam nonumy eirmod tempor invidunt ut labore et dolore magna aliquyam erat, sed diam volupt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19:00Z</dcterms:created>
  <dc:creator>ppt宝藏</dc:creator>
  <dc:description/>
  <dc:language>en-US</dc:language>
  <cp:lastModifiedBy>a</cp:lastModifiedBy>
  <dcterms:modified xsi:type="dcterms:W3CDTF">2015-07-25T07:04:46Z</dcterms:modified>
  <cp:revision>24</cp:revision>
  <dc:subject/>
  <dc:title>www.pptbz.com</dc:title>
</cp:coreProperties>
</file>