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8D4-53AB-40F8-A338-01556BA3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302-0822-49D4-93B0-8D08EA50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D6D-D572-49C0-A17B-E5CC0DA0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95B-63EA-41FC-A3BA-DF303ACC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C29E-BF69-4F78-8AAB-6320F6ED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153F-A325-4B2D-A787-7F318253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1555-B76D-4B0E-BB8E-A632AEA9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4A76-3DFC-44B2-B627-4AD2146D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A50F-C88E-4D6F-AC75-75349C70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EE62-F802-44BC-896F-2C68E473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F9BE-2AB5-45BD-A8A9-66B8DDD5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57D-D5EB-4D0F-86A8-116AD46C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2383-1449-4298-9E0A-824EE194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3C04-0E71-41DF-9094-5EB256C1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1FB7-FF46-4CF2-ACBD-BDFA0717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C939-8617-43DB-9972-1BC2D0D5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E517-E8CA-4F17-82E4-033A7B2E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06DF-FC5D-498A-A265-7ECB27C4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2149-443A-47FA-AE39-FF75EDBC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0343-C812-4D46-850A-BA390AD2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6682-2496-48BB-A31F-D87E40F9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C33A-92BE-4B74-B79B-4A3209D6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68F-34E3-4764-A83B-D265177A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C956-6CCB-4DAD-B3F8-9DF5CEA3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BB07-2D2D-4661-ADA4-31B93D27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B5E1-B22F-4508-BED0-F0A164EC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3F549-9AA1-4F5F-A6EE-6B4E24AA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98F1-D91F-44E9-BA60-DD153BB4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5475-6362-4B70-A342-38733943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093F8-3DF0-4A58-BFB9-A6C4B0D6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6EE1-408C-4724-B349-AAEF9C6B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7D9D3-3651-4F2A-B0EC-58935D87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FF26-C0BE-40EA-90D0-44458630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026-C732-4C3F-8233-75141E55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12B9E-8E58-49EB-92D2-D0545BBB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B8543-AAC8-4259-B6AC-E190A531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5434-1E75-451D-83CE-D59A0075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B1F04-9CB0-4A67-A7F6-E62DD3A7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BB32-5FA5-4021-B522-C5BEB586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50A02-C3B0-4F4D-9C1A-7ED803FA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7E418-895E-41B0-9F8E-9CC6D346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DECA2-6B9C-4DA9-A5FB-BB755F5E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E1B1A-8ADD-4A5A-B10E-79CF4DE3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2A1A8-309B-429E-8122-13C05C42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B20-EAEB-4AD2-8D4D-E0220E9B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02126-4BCC-429F-81E6-B52187F0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A16A9-6A3A-4F45-9D6E-0C83EEB8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5A9B0-BD3F-4EBF-9983-D623D731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E3137-AEDE-4B1C-AEF4-B4AABB47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C1A66-4908-49D6-8570-28B2A37D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8FAF1-295D-435A-B92B-FA02D36B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E5E74-B949-4C23-BE51-3CADA18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C5300-41E0-4BD7-99E1-06E1C4E2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60644-237F-4450-BA43-829D3847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10C2E-D308-4388-98ED-A4CA41A7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550-CAEE-4440-9EF1-C6B7BDD5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DCBF5-D4C3-444E-ABAC-1F47E36D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3BE-3052-45FF-91A2-D5C95801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1AE-A0FD-45F0-8219-2A2A9212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161-45BA-4AF4-9F65-5230EF54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1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0F08-F435-4778-A6D3-6C708980D5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720" y="620640"/>
            <a:ext cx="533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84000" y="1557000"/>
            <a:ext cx="61930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988B-FA10-4F50-8572-B1C8BB2C88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1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D0EC-F241-46A2-8BB5-9A318ABCDC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C04A-6F33-4427-ADE5-A5D0D88709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48D3-EFDF-4962-A831-CB8FE3694E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4437000"/>
            <a:ext cx="7921800" cy="65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商务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356000" y="3503160"/>
            <a:ext cx="4175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182000" y="461880"/>
            <a:ext cx="135252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76720" y="620640"/>
            <a:ext cx="533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84000" y="1557000"/>
            <a:ext cx="61930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4965480" cy="65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7182000" y="461880"/>
            <a:ext cx="135252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09:15:32Z</dcterms:created>
  <dc:creator>ppt宝藏</dc:creator>
  <dc:description/>
  <dc:language>en-US</dc:language>
  <cp:lastModifiedBy>a</cp:lastModifiedBy>
  <cp:lastPrinted>1899-12-30T00:00:00Z</cp:lastPrinted>
  <dcterms:modified xsi:type="dcterms:W3CDTF">2015-07-25T06:12:33Z</dcterms:modified>
  <cp:revision>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