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D48AA-3F0A-4933-AB70-5B399769E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6297-3B84-4AB6-AEBF-515F1E1A2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3711749-E709-498E-A150-AF27BC8F6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98FDDE-2131-4712-97AE-A1B66F0D7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3B20CD-18A9-42F6-8070-74FFDBD6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28A561-467B-4CF0-BA4B-080045F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51E5A-472C-4612-8DE1-1E882974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0C5068-CC1F-44FA-9B7B-4FE891A1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30189A-A3F0-460F-8D0B-41884BD68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D476DE-9005-4D81-AB81-7F6F336B1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FCEEF2-C255-473B-80AE-6F04E249F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55DE98-F9BF-4FBC-9D56-8E11730FE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B297-C72C-496D-89FA-D3AF9A3DE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FB3726-B03E-450A-A588-4BF5C3D96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C05FC4-C66D-42E4-83B5-C91705C3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24BAA-C57F-469F-9D0A-4BD287CDE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D1197C-A499-4EE2-9CA7-CAD91E61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00BDD7-A7E4-4913-99F7-96FD317E2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E7E95A-AD20-4418-B60D-652BE83B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815CF-0897-4F83-AB06-CF63DFC57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F9BD1E-531B-41B7-BDF3-6367DDEF1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A5C824-3556-4E46-9157-10645A60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99EDE7-66B4-4D93-AD6B-F89EB3B402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E6EC6-91FC-45D3-8105-EA21C8770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30BC9F-EA46-4FB0-A655-2E30C2268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7C35A-70D0-4E98-ABD5-99BB57FA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F2CF4DE-28C0-47A1-A254-12006A220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F933B2-4E9B-434A-AF23-7E70ED9F4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9B384B-7339-423D-87E7-520C11AE9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BB8E18-5C59-4667-99F6-82A843BB9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9C94F3-24D5-44F4-9A56-87989C31C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0F1D5D-B01C-477E-AF31-D7291A110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A466C3-640A-499C-9388-D3DA1A485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93F21A-4065-4255-B0E7-E147F284C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F3D4-5F0F-4E75-91A4-A1381736E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A8189EB-D99D-42A2-9785-4ED74F9E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81A1F95-CE5F-4715-916C-0BDB63B12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5C5F7B-328A-4337-8F3B-E7D42C69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88072-90DE-4C56-A89B-EDBFF561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56DC8B-C5C4-4E36-91A9-8FCEC031F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DA62C-608F-4983-92B7-F15A7013C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FA3D3B2-828E-4F71-9BB3-E9A6D729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D14674D-1A18-41F6-9691-24A011E3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254004-FF14-4A73-9792-F7B6D9871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AB8D9B-3563-466D-9372-89C94691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E8865-5CA6-4AF7-A32A-3BF7B8041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D9C418-BCA9-4AFB-98AD-010E9FCD2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D053F9E-69D2-4EC8-9EC9-315352D36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40A07F-CA48-4028-B0A5-A9E02D46C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7354B8-6E13-4C56-8A73-7D1C6A4F3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BE44B-4112-455D-BBB9-CC0A67A5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54C48-3631-49D9-8C49-ACB73D5A2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C6373-B700-4D4C-9833-174B0564B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1F848-9BC4-4BBB-816F-E98940BD9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887C-B6AB-43FD-A314-B31239CB9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18FA6-EE0E-4A25-9620-34E23797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1B00-064F-4FE4-A798-BB019D5A0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1B07D-DAA6-4D0F-85D9-1219DDD4E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EA162-19C4-4ADE-80DB-35738D3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BB71-174A-462E-8DE3-3DFF8F3CC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0BAAA-E38A-4D55-8753-B3E7B901A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B1481-C684-4F6A-9C2A-D2FB0677B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E45571-D255-4574-ACD3-BBD9ECFC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0D85EF-9FFD-4691-8D15-21685997F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1BB5DB-1284-4BC1-83F8-5556E7C1E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7CB96-6E16-4DC4-82D0-89CEDA43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6A77F-DAB0-4167-9E49-232398D62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49D-A98D-408F-8B0F-956C525E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A75EB-7424-4675-A970-360DC30B1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2D6DA-20F8-45D6-BA68-D7D8D046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EA22A-829F-486C-BF0A-9A7FEBCBB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3038C-0113-4124-81D7-A961EC99F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15743E-A9B2-49E4-A042-F772565F5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B1932-D0F5-4A14-A0EF-38E98AE96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78C8E7-8D6D-49A3-8E36-2339A7423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1E9496-9757-413A-AD46-A6F04173F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2BFF44-FEF2-4C57-8BF6-D07A9B03B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D16CF-A29F-43F8-8401-D6DFFD6F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F7B8-8FE4-4CA9-89E9-4D018C63C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C6CD41-2C81-4871-A236-90FAFEBE0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CF1C2E-78AC-4D76-834C-B9B2C4A9B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AE7626-1BC3-4397-B2A4-E852FA75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4C2148-1BA5-43F4-A7A4-F998FC9E7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920F3D-10D6-4430-B4B6-A4C4738A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77E64B-937A-4253-AAC9-CA277E79F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E931AF-10DB-4B00-A998-31820D855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ACD4C9-B2A3-4FD6-AB78-FDE75A11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F9FB2-58D6-4592-8F73-0BADB03E0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F6EF2B-66CF-4DA8-A1C8-9B852F383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4598B-E2B8-4A78-973C-786C595F2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EEC9D4-31F9-4E61-B088-0577FBA3D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C79E4-8856-4C2C-8BE7-AD00FBE09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097F24-6B81-4C21-A58C-93CF1DE23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4C80C-A255-41FA-ABE9-4DBB086D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F8D0B-555E-422A-AC6C-C3C92CF15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786431-8284-453F-9ADA-4AECE031C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CBEDC-EBF3-4691-94DA-6D5F38727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23F45-7759-437F-BC77-B78BC0405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1C4D90-2C1F-4E0D-8EAA-D938F1BE6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1762D9-8B42-4B5C-8711-13E500634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0A6AC-F99A-4211-8E19-221DF8A90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237D6D-41BA-4AE1-AC97-3C2105157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3385E6-1D45-4AE3-9D2C-85E9A5106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7107F8-C445-4BC9-8B62-C7B13679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13ACEF-F721-49B8-A251-CD19694B3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72EB41-A920-4825-9CF9-F6073AF93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AE3886-7536-4BCB-84D3-934031C94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6F05C-20F4-4CC8-83F4-10AF88BCF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6333B-FFBA-4705-8946-DD72E96C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028853-0FB3-4FF0-B960-23AD018E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CF0EFB-2AAF-4937-8161-EB01A47A8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CD65-ABB8-44E4-B358-881CAC097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F37A-F976-4DF3-802D-9FDD9D7A5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4270F-7F53-4DA9-BF7E-FE881D882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C65EB-230E-45E6-8BEC-C72B276D4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424D33-C550-4D37-8E75-C1690257A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F3A580-E791-4A27-8D3D-C2D638DA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0E21F0-4663-4702-B1ED-F1CBB9A73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61C44-4185-441C-9FBE-F25AA4A04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DBD9B8-B2AA-4447-AD51-9F04B6B4D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D6CF0E-A6E2-4146-AF94-C2E040B80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DBFBBF-F862-4373-9F8F-72E39965B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CBA8A-2DA7-4592-A1B6-C0CC5E175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854C7-EB60-4E1E-8A16-D5C1CD089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35BBAF-1C3A-409D-BDC6-9132F8F21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A9B602-DD6D-4646-9FBD-3C7B176FF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779E51-FB5E-47F8-BCE3-71E45DCBD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3089FA-C86E-420C-9E15-975B198044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2A75BE-CAB7-46EC-A3BC-CCFC4C7B4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D5947A-4BD1-46E2-94A0-E57178616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035540-28D3-4D27-A838-72E94ADCC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E7E368-B10E-4346-933B-8B41ED462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218EB9-D148-403E-A12F-9781BAC41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5156-0BE0-4D49-8E21-C9647B54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B61B63-E0AA-4C22-ABA8-2128B3226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41D454-CAAC-49A1-B6CE-F6EF6747C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7DA1D9-D95E-44E0-9590-A2D7A69F3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852C5-D070-4617-994E-F51A0AD7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5A2764-0CF3-4483-8E7C-A24141D45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EE584-BB35-412B-BB1E-FD9875350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B7BFA-83D1-4AC3-9C16-27814E3FF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2B2A90-528C-4877-ABAB-D6322ACAC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FACF9A6-4B9E-4110-9AAF-2EBCAE2E7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AFCC38-07B3-4A76-A75C-3FE3A59C2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5F6E-22C9-4F85-9211-DB762F5C5B32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D1EC5-557B-4FE3-B81A-AEB8AAD60F8D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9A226-BD44-4ECA-880F-D89AE11B9C47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DF50-E737-4AB9-B102-6ABF56110977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5298-BE43-4732-8561-F48B0C57F66D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6989A-6ACF-4D62-AB0F-22E8D2CF8A06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F9EDE-3CD5-4D8E-9864-F651B26DD67C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CB22B-038E-4F74-8C48-F677483B0010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DF0D-D1B4-4676-810F-3C38C5595602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38E9-5A02-477D-AD13-D3ED22EE6E47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260AD-3553-4458-B7CD-C772F0EAD205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E9F4A-C21A-43C6-A1F2-DA0752141B61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72233-B6B6-40DC-B68E-C72B9F199480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1392-D38E-48B9-B606-45319CA9BE44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40FEA-C2F2-4E87-BB9C-026E7F0FF9F8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3EDDB-DFC8-4C8B-A726-CE85297FF24B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E05E6-A4B9-432E-A0A2-4675E7EAEFA1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8A1BE-10C8-428B-985E-F24FDB441E70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BB5CD-AD4E-43F1-A6DC-869318A20735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2D165-DA91-4855-AFF2-2916F4046624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951E5-EE70-4B3F-8F33-79661128D0A2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FBFAE-9923-4881-AADF-A5D256B033F9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206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206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206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206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3476-404F-4AC9-A96A-655DC8172A99}" type="datetime">
              <a:rPr b="0" lang="en-US" sz="1200" spc="-1" strike="noStrike">
                <a:solidFill>
                  <a:srgbClr val="39575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39575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0810D-AF4E-4F50-B04E-485C8DFB78A2}" type="slidenum">
              <a:rPr b="0" lang="zh-CN" sz="1200" spc="-1" strike="noStrike">
                <a:solidFill>
                  <a:srgbClr val="39575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WordArt 10" descr=""/>
          <p:cNvPicPr/>
          <p:nvPr/>
        </p:nvPicPr>
        <p:blipFill>
          <a:blip r:embed="rId2"/>
          <a:stretch/>
        </p:blipFill>
        <p:spPr>
          <a:xfrm>
            <a:off x="1579680" y="1407960"/>
            <a:ext cx="6308640" cy="513000"/>
          </a:xfrm>
          <a:prstGeom prst="rect">
            <a:avLst/>
          </a:prstGeom>
          <a:ln w="0">
            <a:noFill/>
          </a:ln>
        </p:spPr>
      </p:pic>
      <p:sp>
        <p:nvSpPr>
          <p:cNvPr id="493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灯片编号占位符 5"/>
          <p:cNvSpPr/>
          <p:nvPr/>
        </p:nvSpPr>
        <p:spPr>
          <a:xfrm>
            <a:off x="6553080" y="6421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3943-1153-489D-B314-87D0CA8FE355}" type="slidenum">
              <a:rPr b="0" lang="zh-CN" sz="1200" spc="-1" strike="noStrike">
                <a:solidFill>
                  <a:srgbClr val="39575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05T07:50:00Z</dcterms:created>
  <dc:creator>ppt宝藏</dc:creator>
  <dc:description/>
  <dc:language>en-US</dc:language>
  <cp:lastModifiedBy>a</cp:lastModifiedBy>
  <cp:lastPrinted>1899-12-30T00:00:00Z</cp:lastPrinted>
  <dcterms:modified xsi:type="dcterms:W3CDTF">2015-07-25T03:15:02Z</dcterms:modified>
  <cp:revision>6</cp:revision>
  <dc:subject/>
  <dc:title>www.pptbz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  <property fmtid="{D5CDD505-2E9C-101B-9397-08002B2CF9AE}" pid="3" name="_TemplateID">
    <vt:lpwstr>TC010362663</vt:lpwstr>
  </property>
</Properties>
</file>