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844-8D13-4282-AA70-03BC6536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3EF-F269-4041-BE69-61A99ADC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B11-BCFD-47FF-8255-C675982B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AD4-B3B8-47A6-BE21-71C52767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1822-93CE-47AE-AE7E-2A0B7D43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E6FC-FED7-4DE4-8B69-AF40FE51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4B9A-E9AF-4707-BF28-F591CF56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F6D9-47CA-4E03-B710-CF45962C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94A4-8143-4C4E-926C-F92D423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A62A-F3D3-4CAC-81E2-88E318D4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46F7-351D-4FC3-AB6C-5A991192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D8B-32CF-4A0C-AD3A-F1A15D8B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06BC-9CA4-4C24-8CF4-1A57054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0EB7-9398-4C0D-A823-82F9A3B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1192-5148-4A43-8EAB-93B64B52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50A2-8228-4294-B056-2A5ED28D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F28D-792F-4B08-84EF-2643CB2A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38E-E571-4C50-A5BA-F34334BF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DA2-8F99-4E3F-8F8E-159699E6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A08-6F7B-4860-83F5-DDAD5BF4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F2C-8DFC-42F4-97C7-8A26C34A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33A-24AC-40B7-848B-98F1877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7D9-0087-410D-8ECB-974C7769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B1B-3C46-416A-A967-A86431AF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D690-5F07-4517-BA9E-CC42B411073D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9556-438C-4B9B-89D0-3CE718113152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团队合作之象棋背景商务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920" y="5641920"/>
            <a:ext cx="69645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9:54:48Z</dcterms:created>
  <dc:creator>ppt宝藏</dc:creator>
  <dc:description/>
  <dc:language>en-US</dc:language>
  <cp:lastModifiedBy>a</cp:lastModifiedBy>
  <dcterms:modified xsi:type="dcterms:W3CDTF">2015-07-25T06:48:24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12052</vt:lpwstr>
  </property>
</Properties>
</file>