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F2CD-7E34-4540-8F04-CD46B248A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D17A-40FC-4841-A014-7F025C21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F82A-DFC7-45AE-AAFC-5DB08F656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3A46-7B05-4E8D-85D2-17E26D546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608C-69B6-4F19-AF21-55073F2D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03DE-D502-4963-A7C7-95F452AD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34B1-37B9-4A7C-9328-52217057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E336-5EBF-443E-8695-26BCB79B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AC28-77C5-4E4C-B915-C2EE2EAE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2425-3C45-43EE-8E3D-0CB8A034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2BA3-6B8D-4636-BE92-92917C14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C828-2E1F-4953-9638-EDA1192B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CDD1-8A26-450C-AA38-18F79D9B4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1"/>
          <p:cNvPicPr/>
          <p:nvPr/>
        </p:nvPicPr>
        <p:blipFill>
          <a:blip r:embed="rId1"/>
          <a:stretch/>
        </p:blipFill>
        <p:spPr>
          <a:xfrm>
            <a:off x="581040" y="0"/>
            <a:ext cx="7572240" cy="76201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4"/>
          <p:cNvPicPr/>
          <p:nvPr/>
        </p:nvPicPr>
        <p:blipFill>
          <a:blip r:embed="rId2"/>
          <a:srcRect l="34213" t="19002" r="53712" b="66004"/>
          <a:stretch/>
        </p:blipFill>
        <p:spPr>
          <a:xfrm>
            <a:off x="3171960" y="144792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5"/>
          <p:cNvPicPr/>
          <p:nvPr/>
        </p:nvPicPr>
        <p:blipFill>
          <a:blip r:embed="rId3"/>
          <a:srcRect l="56355" t="5000" r="25537" b="81001"/>
          <a:stretch/>
        </p:blipFill>
        <p:spPr>
          <a:xfrm>
            <a:off x="4848120" y="380880"/>
            <a:ext cx="1371600" cy="1067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6"/>
          <p:cNvPicPr/>
          <p:nvPr/>
        </p:nvPicPr>
        <p:blipFill>
          <a:blip r:embed="rId4"/>
          <a:srcRect l="47297" t="20001" r="35600" b="67003"/>
          <a:stretch/>
        </p:blipFill>
        <p:spPr>
          <a:xfrm>
            <a:off x="4162320" y="1523880"/>
            <a:ext cx="1295640" cy="990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7"/>
          <p:cNvPicPr/>
          <p:nvPr/>
        </p:nvPicPr>
        <p:blipFill>
          <a:blip r:embed="rId5"/>
          <a:srcRect l="53334" t="4001" r="14468" b="69002"/>
          <a:stretch/>
        </p:blipFill>
        <p:spPr>
          <a:xfrm>
            <a:off x="4619520" y="304920"/>
            <a:ext cx="2438640" cy="2057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8"/>
          <p:cNvPicPr/>
          <p:nvPr/>
        </p:nvPicPr>
        <p:blipFill>
          <a:blip r:embed="rId6"/>
          <a:srcRect l="53334" t="13002" r="0" b="41002"/>
          <a:stretch/>
        </p:blipFill>
        <p:spPr>
          <a:xfrm>
            <a:off x="4619520" y="990720"/>
            <a:ext cx="3533760" cy="3504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9"/>
          <p:cNvPicPr/>
          <p:nvPr/>
        </p:nvPicPr>
        <p:blipFill>
          <a:blip r:embed="rId7"/>
          <a:srcRect l="11069" t="27000" r="26542" b="26001"/>
          <a:stretch/>
        </p:blipFill>
        <p:spPr>
          <a:xfrm>
            <a:off x="1419120" y="2057400"/>
            <a:ext cx="4724640" cy="3581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10"/>
          <p:cNvPicPr/>
          <p:nvPr/>
        </p:nvPicPr>
        <p:blipFill>
          <a:blip r:embed="rId8"/>
          <a:srcRect l="48303" t="57003" r="0" b="0"/>
          <a:stretch/>
        </p:blipFill>
        <p:spPr>
          <a:xfrm>
            <a:off x="4238640" y="4343400"/>
            <a:ext cx="3914640" cy="327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2"/>
          <p:cNvPicPr/>
          <p:nvPr/>
        </p:nvPicPr>
        <p:blipFill>
          <a:blip r:embed="rId9"/>
          <a:srcRect l="7043" t="0" r="39623" b="91002"/>
          <a:stretch/>
        </p:blipFill>
        <p:spPr>
          <a:xfrm>
            <a:off x="1114560" y="0"/>
            <a:ext cx="4038480" cy="685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3"/>
          <p:cNvPicPr/>
          <p:nvPr/>
        </p:nvPicPr>
        <p:blipFill>
          <a:blip r:embed="rId10"/>
          <a:srcRect l="0" t="19002" r="73839" b="41002"/>
          <a:stretch/>
        </p:blipFill>
        <p:spPr>
          <a:xfrm>
            <a:off x="581040" y="1447920"/>
            <a:ext cx="1981080" cy="3047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" descr="蝴蝶"/>
          <p:cNvPicPr/>
          <p:nvPr/>
        </p:nvPicPr>
        <p:blipFill>
          <a:blip r:embed="rId11"/>
          <a:srcRect l="68429" t="32001" r="13458" b="59001"/>
          <a:stretch/>
        </p:blipFill>
        <p:spPr>
          <a:xfrm rot="17696400">
            <a:off x="7009920" y="838080"/>
            <a:ext cx="1371600" cy="685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" descr="蝴蝶"/>
          <p:cNvPicPr/>
          <p:nvPr/>
        </p:nvPicPr>
        <p:blipFill>
          <a:blip r:embed="rId12"/>
          <a:srcRect l="68429" t="32001" r="13458" b="59001"/>
          <a:stretch/>
        </p:blipFill>
        <p:spPr>
          <a:xfrm rot="2917200">
            <a:off x="1409400" y="4991400"/>
            <a:ext cx="106704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9" descr="蝴蝶"/>
          <p:cNvPicPr/>
          <p:nvPr/>
        </p:nvPicPr>
        <p:blipFill>
          <a:blip r:embed="rId13"/>
          <a:srcRect l="68429" t="32001" r="13458" b="59001"/>
          <a:stretch/>
        </p:blipFill>
        <p:spPr>
          <a:xfrm rot="21272400">
            <a:off x="2514240" y="5105160"/>
            <a:ext cx="1600200" cy="799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320" y="6400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73520" y="2133720"/>
            <a:ext cx="356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藤蔓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44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2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7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32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7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BB63-0556-40BE-94F6-C305DC015F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3T09:23:0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1:18:59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